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6638925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384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8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0920" y="-360"/>
            <a:ext cx="28778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1160" y="742680"/>
            <a:ext cx="5359320" cy="370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99240"/>
            <a:ext cx="2878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0920" y="9399240"/>
            <a:ext cx="28778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05B4F6D-58AC-4E05-A3C5-F6CE3A762B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CD32C24-D651-4AF1-B9D0-223B3B0CE2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EB3D5FB-2B43-49E3-9EF3-DC1836AE59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06B667D-AD9D-4AC8-BEC6-24ADF49CFB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55FE00E-BC22-4172-A8A4-B451BBD8B4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D35335F-A83F-4861-95B2-84E6E824DB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7885A46-2E5C-4575-A35E-5EBE689881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82AF864-7469-4A80-B726-E3B5ECF18F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E608023-99D3-4FB1-A858-7ABD3C3E2D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C26FE73-EE53-4FB7-BBB0-CA98546A39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A507CBA-1B64-4F3D-A0D6-844F206A99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5111FD6-E64B-4201-BADF-87EBEA4055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3D36017-8564-490F-A039-B762366B7D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BCDDD71-2641-48A7-9D5D-3354E5F3DE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30BEDB5-B18F-4C4C-89AB-E1507ED544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82DE044-67E2-4E0E-91CD-31020020CE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931E214-E416-478F-9ED5-C887CF709E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3587410-DE58-49E5-8848-A0E325A24E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092CC22-13F5-4614-9548-8709E782FE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2B641D8-3031-474D-9E8E-86355A062E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F889436-C13B-478F-AF35-398BF0CA7B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7CB08AD-7BAF-45D3-B1EE-E8BDBE1074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83125F4-804E-455B-9D92-D104EE0AA7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D2C7BD7-960D-4433-AF8C-BD5E07E8C4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8F35551-BFAD-4983-B333-938E731B73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B20A309-9ADC-4701-82B1-276193646AF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FA4AEBA-FEF3-4C3C-98EA-0DB91BD8F4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3B26327-54D4-49C7-8B7E-116425D3ED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0FF093B-B457-497D-B3EF-9DF7EFE24B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1D2-3E51-4510-8B6A-A69D7CEE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E1E-BCC7-4A29-B59D-E3E02B83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B9D-DFAB-474A-BDA1-4342AD04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2273-4C10-4353-83E5-977578ED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096-395D-4C0F-B020-FE42D889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DD6-7A36-4C1A-9556-7C5830C4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E16-917A-4F63-B73B-F4011DD0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E6E-B0F8-4829-9A7F-F4C8E37A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2BA-52F6-476F-B320-3DDE4661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CBC5-D1F7-44C7-953E-E6FE2591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059-CB2E-4817-B191-FF4FE3A5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AC7-0D9E-4597-BDC6-2F9C4B6C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6A14-37B2-4155-ACFD-147E0BABB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F3FB-9E10-49AE-88C7-565401B36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30120" y="85680"/>
            <a:ext cx="9383760" cy="914400"/>
            <a:chOff x="330120" y="85680"/>
            <a:chExt cx="9383760" cy="914400"/>
          </a:xfrm>
        </p:grpSpPr>
        <p:pic>
          <p:nvPicPr>
            <p:cNvPr id="51" name="Picture 3" descr="esc_web0"/>
            <p:cNvPicPr/>
            <p:nvPr/>
          </p:nvPicPr>
          <p:blipFill>
            <a:blip r:embed="rId1"/>
            <a:stretch/>
          </p:blipFill>
          <p:spPr>
            <a:xfrm>
              <a:off x="330120" y="85680"/>
              <a:ext cx="9907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4"/>
            <p:cNvSpPr/>
            <p:nvPr/>
          </p:nvSpPr>
          <p:spPr>
            <a:xfrm>
              <a:off x="1424160" y="404640"/>
              <a:ext cx="21808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NISTERI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HACIENDA Y ADMINISTRACIONES PÚBL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8048520" y="189000"/>
              <a:ext cx="1665360" cy="712800"/>
              <a:chOff x="8048520" y="189000"/>
              <a:chExt cx="1665360" cy="712800"/>
            </a:xfrm>
          </p:grpSpPr>
          <p:sp>
            <p:nvSpPr>
              <p:cNvPr id="54" name="Text Box 7"/>
              <p:cNvSpPr/>
              <p:nvPr/>
            </p:nvSpPr>
            <p:spPr>
              <a:xfrm>
                <a:off x="8048520" y="549360"/>
                <a:ext cx="165744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1"/>
                  </a:spcBef>
                  <a:spcAft>
                    <a:spcPts val="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IRECCIÓN GENERAL DE PRESUPUESTO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Text Box 8"/>
              <p:cNvSpPr/>
              <p:nvPr/>
            </p:nvSpPr>
            <p:spPr>
              <a:xfrm>
                <a:off x="8048520" y="189000"/>
                <a:ext cx="1665360" cy="360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7"/>
                  </a:spcBef>
                  <a:spcAft>
                    <a:spcPts val="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CRETARIA DE ESTADO  DE PRESUPUESTOS Y GASTOS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Text Box 9"/>
          <p:cNvSpPr/>
          <p:nvPr/>
        </p:nvSpPr>
        <p:spPr>
          <a:xfrm>
            <a:off x="488880" y="1628640"/>
            <a:ext cx="907272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80"/>
                </a:solidFill>
                <a:latin typeface="Arial Black"/>
              </a:rPr>
              <a:t>GESTIÓN DE LA INVERSIÓN PÚB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808080"/>
                </a:solidFill>
                <a:latin typeface="Arial Black"/>
              </a:rPr>
              <a:t>Planes de Inversión Pública y su presupues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Paloma Baquero Danca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Abril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35EF-C775-46E4-A274-C934EB704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76520" y="1197000"/>
            <a:ext cx="4211640" cy="5472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67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69" name="Picture 3" descr="esc_web0"/>
              <p:cNvPicPr/>
              <p:nvPr/>
            </p:nvPicPr>
            <p:blipFill>
              <a:blip r:embed="rId2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72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2F16-CCD9-4B4F-A576-A25A79B2C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3" descr="esc_web0"/>
          <p:cNvPicPr/>
          <p:nvPr/>
        </p:nvPicPr>
        <p:blipFill>
          <a:blip r:embed="rId1"/>
          <a:stretch/>
        </p:blipFill>
        <p:spPr>
          <a:xfrm>
            <a:off x="200160" y="0"/>
            <a:ext cx="99036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208160" y="333360"/>
            <a:ext cx="1074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NISTER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ECONOMÍA Y HACIE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8240760" y="114480"/>
            <a:ext cx="1520640" cy="901080"/>
            <a:chOff x="8240760" y="114480"/>
            <a:chExt cx="1520640" cy="901080"/>
          </a:xfrm>
        </p:grpSpPr>
        <p:sp>
          <p:nvSpPr>
            <p:cNvPr id="179" name="Text Box 6"/>
            <p:cNvSpPr/>
            <p:nvPr/>
          </p:nvSpPr>
          <p:spPr>
            <a:xfrm>
              <a:off x="8240760" y="114480"/>
              <a:ext cx="1520640" cy="273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ECRETARÍA DE ESTADO DE HACIENDA Y PRESUPUES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8240760" y="662760"/>
              <a:ext cx="1499400" cy="3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IRECCIÓN GENERAL DE PRESUPUEST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8240760" y="384840"/>
              <a:ext cx="1520640" cy="27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ECRETARIA GENERAL DE PRESUPUESTOS Y GAST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Text Box 9"/>
          <p:cNvSpPr/>
          <p:nvPr/>
        </p:nvSpPr>
        <p:spPr>
          <a:xfrm>
            <a:off x="2289240" y="333360"/>
            <a:ext cx="568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 Black"/>
              </a:rPr>
              <a:t>GESTIÓN DE LA INVERSIÓN PÚB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 Black"/>
              </a:rPr>
              <a:t>Planes de Inversión Pública y su presupues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272880" y="1844640"/>
            <a:ext cx="92170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Unicode MS"/>
              </a:rPr>
              <a:t>PLAN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76160" y="2708280"/>
            <a:ext cx="8352000" cy="23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 Unicode MS"/>
              </a:rPr>
              <a:t>A medio largo 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 Unicode MS"/>
              </a:rPr>
              <a:t>Corresponde a los Departamento Minis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 Unicode MS"/>
              </a:rPr>
              <a:t>En materia de infraestructuras fundamentalm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 Unicode MS"/>
              </a:rPr>
              <a:t>Ministerio de Fo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 Unicode MS"/>
              </a:rPr>
              <a:t>Ministerio de Agricultura, Alimentación y Medio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0E9B-B9A7-46F2-93D5-6B4E4B9FE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44520" y="1413000"/>
            <a:ext cx="928368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 Black"/>
                <a:ea typeface="Arial"/>
              </a:rPr>
              <a:t>FORMULAS PARA LA FINANCIACIÓN DE LAS INFRAESTRUC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 Black"/>
              </a:rPr>
              <a:t>FINANCIACIÓN PRESUPUEST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 Black"/>
              </a:rPr>
              <a:t>Inversión direc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Sistema Tradic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0"/>
              </a:lnSpc>
              <a:spcBef>
                <a:spcPts val="751"/>
              </a:spcBef>
              <a:buClr>
                <a:srgbClr val="00206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 Black"/>
              </a:rPr>
              <a:t>Inversión con financiación diferida</a:t>
            </a: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Abono total del precio (Método Alemá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Peaje en sobra (concesió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Colaboración Pública Privada (CPP) Regulado en Ley Contratos del Sector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0"/>
              </a:lnSpc>
              <a:spcBef>
                <a:spcPts val="751"/>
              </a:spcBef>
              <a:buClr>
                <a:srgbClr val="00206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 Black"/>
              </a:rPr>
              <a:t>Inversión indire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Convenios con otras administr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Entes Públicos Empresariales y Sociedades Mercantiles Esta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 Black"/>
              </a:rPr>
              <a:t>FINANCIACIÓN EXTRAPRESUPUEST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ts val="0"/>
              </a:lnSpc>
              <a:spcBef>
                <a:spcPts val="751"/>
              </a:spcBef>
              <a:buClr>
                <a:srgbClr val="00206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 Black"/>
              </a:rPr>
              <a:t>Sistema concesio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89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91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94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2B4C-3D74-474C-BF2E-B90FEB900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15800" y="1844640"/>
            <a:ext cx="9283680" cy="42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STEMA TRADI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Contrato clásico de obra con pago por certificaciones de ejecución (Ley de Contratos del sector Públi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La empresa contratista recibe una serie de aportaciones monetarias a cuenta durante el período de ejecución de la ob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Liquidación a la recepción de la o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Inversión financiada con cargo al capítulo 6 “Inversiones Reales” de los Presupuestos Generales del Estad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00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02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05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2C31-FA77-420D-8A09-A1D7681F8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44520" y="1125360"/>
            <a:ext cx="9283680" cy="60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BONO TOTAL DEL PRECIO (MÉTODO ALEMÁ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Equivale al contrato conocido como “Llave en mano”: precio único abonado al finalizar las o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El contratista financia la ejecución de la ob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Según la legislación española se aplica únicamente 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Infraestructuras de carreteras: 24,04 millones de eu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Infraestructuras ferroviarias: 18,03 millones de eu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Infraestructuras hidráulicas: 18,03 millones de e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Infraestructuras en la costa y medioambientales: 6,01 millones de eu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Importe limitado al 30% del importe del capítulo 6 del Departamento en el ejercicio en que se vaya a utilizar este sistema de li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Inversión financiada con cargo al capítulo 6 “Inversiones Reales” de los Presupuestos Generales del Estad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Se consigue aliviar la presión `presupuestaria en los ejercicios próximos aplazando los compromisos a ejercicios posteri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 efectos del calculo del déficit  el gasto se computa en el ejercicio en que se ejecuta la ob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11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13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16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4994-A98F-4A74-ACF2-D68D17583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44520" y="1484280"/>
            <a:ext cx="9283680" cy="24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 Black"/>
              </a:rPr>
              <a:t>ABONO TOTAL DEL PRECIO (MÉTODO ALEMÁN) (con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Utilización para financiar infraestructur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2"/>
          <p:cNvGraphicFramePr/>
          <p:nvPr/>
        </p:nvGraphicFramePr>
        <p:xfrm>
          <a:off x="1857240" y="2565360"/>
          <a:ext cx="629784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565360"/>
                    <a:ext cx="629784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3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24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26" name="Picture 3" descr="esc_web0"/>
              <p:cNvPicPr/>
              <p:nvPr/>
            </p:nvPicPr>
            <p:blipFill>
              <a:blip r:embed="rId3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29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574F-7EC6-44AD-8BC4-E1220B55C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44520" y="1341360"/>
            <a:ext cx="9283680" cy="50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STEMA CONCE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Transferencia de la gestión de la infraestructura manteniendo la titularidad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Ejecución de la obra a riesgo y ventura del contrat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Transferencia  desde los riesgos al sector privado par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Transferencia de activos al sector privado sin que implique cesión de la propie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Derecho del concesionario a percibir un preci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l que abone el usuario  por uso de la mis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xplotación zonas comer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portaciones que pudiera realizar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EAJE EN SOMB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La Administración adquiere el compromiso de abonar, durante un plazo determinado, unas tarifas de acuerdo con el uso que se haga de la infraestructu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35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37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40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04AF-C26C-4D42-AA61-CFC078F1A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351000" y="1268280"/>
            <a:ext cx="928368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REPARTO DE RIES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El activo objeto de la concesión se computará en el balance de la sociedad concesionaria si sobre dicha sociedad reca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El riesgo de </a:t>
            </a:r>
            <a:r>
              <a:rPr b="0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constr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El riesgo de </a:t>
            </a:r>
            <a:r>
              <a:rPr b="0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disponibilidad  o</a:t>
            </a: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 el riesgo de  </a:t>
            </a:r>
            <a:r>
              <a:rPr b="0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dema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CONSIDERACIÓN PRESUPUESTARIA DE LA CONC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Financiación extrapresupuestar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Abono de la tarifa por el usua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Adecuado reparto de ries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Financiación diferida con cargo al capítulo 6 de los Presupuestos Generales del Es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Abono de la tarifa por parte de la Administración conced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Adecuado reparto de ries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46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48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51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79E8-6F05-42A3-A2D4-FAFE09C86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-231840" y="1197000"/>
            <a:ext cx="9906120" cy="55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OLABORACIÓN PÚBLICO PRIVADA (CP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En España aparece regulada por primera vez en la Ley de Contratos del Sector Público (artículo 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Contratos en que una Administración Pública encarga a una entidad de derecho privado, por un periodo determinado en función de la duración de la amortización de las inversiones o de las fórmulas de financiación que se prevean, la realización de una actuación global e integrada que, además de la financiación de inversiones inmateriales, de obras o de suministros necesarios para el cumplimiento de determinados objetivos de servicio público o relacionados con actuaciones de interés general, comprenda alguna de las siguientes prestaciones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a).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La construcción, instalación o transformación de obras, equipos, sistemas, y productos o bienes complejos, así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su mantenimiento, actualización o renovación, su explotación o su gest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b).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La gestión integral del mantenimiento de instalaciones complej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c).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La fabricación de bienes y la prestación de servicios que incorporen tecnología específicamente desarrollada con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el propósito de aportar soluciones más avanzadas y económicamente más ventajosas que las existentes en el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merc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d).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prestaciones de servicios ligadas al desarrollo por la Administración del servicio público o actuación de interés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general que le haya sido encomend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Solo si otras fórmulas alternativas de contratación no permiten la satisfacción de las finalidades públic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La contraprestación a percibir por el contratista colaborador consistirá en un precio que se satisfará durante toda la duración del contrato, y que podrá estar vinculado al cumplimiento de determinados objetivos de rendimi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57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59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62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04AF-CFE1-49EC-B51A-5C2CE1169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51000" y="1268280"/>
            <a:ext cx="9283680" cy="45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ONVENIOS CON OTRAS ADMINISTRACIONES</a:t>
            </a: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 Comunidades Autónomas o Entidades Locales mediante suscripción de convenios para la financiación de infraestruc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 Entes Públicos o Privados para financiar infraestructuras en parte o en su totalid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ENTIDADES PÚBLICAS EMPRESARIALES O SOCIEDADES MERCANTILES ESTATALES.</a:t>
            </a: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DIF que invierte en LAV. Recibe además fondos de la UE y tiene autorizado endeudami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ENA y Sistema Portuario (Ente Puertos del Estado y Autoridades Portuarias). El resto de la financiación procede de tarifas, endeudamiento y fondos AE. Son autosufic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SEIASAS y Sociedades de Aguas (ACESA, ACUSUR, HIDROGUADIANA, AQUAMED…). El resto de la financiación procede de anticipos de tarifa de amortización de servicios y de fondos 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68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70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73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EAD1-48B9-4D07-992A-636690A76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89040" y="1484280"/>
            <a:ext cx="9217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Unicode MS"/>
              </a:rPr>
              <a:t>1</a:t>
            </a:r>
            <a:r>
              <a:rPr b="1" lang="en-US" sz="2400" spc="-1" strike="noStrike">
                <a:solidFill>
                  <a:srgbClr val="006600"/>
                </a:solidFill>
                <a:latin typeface="Arial Unicode MS"/>
              </a:rPr>
              <a:t>.- Importancia de la inversión pública en los Presupuestos Generales del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689040" y="2421000"/>
            <a:ext cx="921708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Unicode MS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 Unicode MS"/>
              </a:rPr>
              <a:t>.- Estructura presupuestaria</a:t>
            </a:r>
            <a:r>
              <a:rPr b="1" lang="en-US" sz="2400" spc="-1" strike="noStrike">
                <a:solidFill>
                  <a:srgbClr val="a50021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89040" y="3068640"/>
            <a:ext cx="921708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Unicode MS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 Unicode MS"/>
              </a:rPr>
              <a:t>.- Ciclo presupuestario de la inversión pública</a:t>
            </a:r>
            <a:r>
              <a:rPr b="1" lang="en-US" sz="2000" spc="-1" strike="noStrike">
                <a:solidFill>
                  <a:srgbClr val="0066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784520" y="3645000"/>
            <a:ext cx="921672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Unicode MS"/>
              </a:rPr>
              <a:t>3.1.- Planif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712880" y="4221000"/>
            <a:ext cx="921708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Unicode MS"/>
              </a:rPr>
              <a:t>3.2.- Planif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712880" y="4797360"/>
            <a:ext cx="921708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Unicode MS"/>
              </a:rPr>
              <a:t>3.3.- Seguimiento y contr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89040" y="5516640"/>
            <a:ext cx="921708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Unicode MS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 Unicode MS"/>
              </a:rPr>
              <a:t>.- Caso teó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67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69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72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0A18-78C3-49DC-823F-AFC32C8A9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344520" y="1628640"/>
            <a:ext cx="9283680" cy="41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RITERIOS SEC’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Los ingresos obtenidos deben cubrir al menos el 50% de los cos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De cumplirse este supuesto la sociedad quedará enmarcada dentro de las sociedades denominadas “no financieras” y sus activos no computaran en déficit ni en deuda públi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La sociedad debe de ser rentable, esto es, obtener benefic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Las aportaciones que realice la administración correspondiente serán tratadas como aportaciones de capital y tampoco computaran en défic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79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81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84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B4C7-D0BD-419F-B17F-98226073B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344520" y="2060640"/>
            <a:ext cx="92836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 Black"/>
              </a:rPr>
              <a:t>CONTROL Y SEGUIMIENTO DE LAS INVER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964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Control 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9640" indent="-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Black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Escenario presupuestar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964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Control DUR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9640" indent="-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Black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Sistema de información con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964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Control DESP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Seguimiento de 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90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92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95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3 Marcador de número de diapositiva"/>
          <p:cNvSpPr/>
          <p:nvPr/>
        </p:nvSpPr>
        <p:spPr>
          <a:xfrm>
            <a:off x="71136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8C19-47CF-4409-869C-F0DEA8060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22440" y="1125360"/>
            <a:ext cx="9283680" cy="56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ENUNCIADO SUPUESTO 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Créditos presupuestarios para inversiones en materia de carret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Compromisos adquiridos procedentes de licitaciones de ejercicios ant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Object 2"/>
          <p:cNvGraphicFramePr/>
          <p:nvPr/>
        </p:nvGraphicFramePr>
        <p:xfrm>
          <a:off x="0" y="2604960"/>
          <a:ext cx="9056520" cy="14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4960"/>
                    <a:ext cx="905652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3"/>
          <p:cNvGraphicFramePr/>
          <p:nvPr/>
        </p:nvGraphicFramePr>
        <p:xfrm>
          <a:off x="0" y="4724280"/>
          <a:ext cx="9217080" cy="14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24280"/>
                    <a:ext cx="9217080" cy="14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05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07" name="Picture 3" descr="esc_web0"/>
              <p:cNvPicPr/>
              <p:nvPr/>
            </p:nvPicPr>
            <p:blipFill>
              <a:blip r:embed="rId5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10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3 Marcador de número de diapositiva"/>
          <p:cNvSpPr/>
          <p:nvPr/>
        </p:nvSpPr>
        <p:spPr>
          <a:xfrm>
            <a:off x="71136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AF28-9091-4661-A569-01C47AFED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622440" y="1125360"/>
            <a:ext cx="9283680" cy="56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 Black"/>
              </a:rPr>
              <a:t>ENUNCIADO SUPUESTO PRÁCTICO (co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Tramos a licitar</a:t>
            </a: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Anualidades de ejecución de obras de carret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352520" y="1773360"/>
          <a:ext cx="7345440" cy="29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773360"/>
                    <a:ext cx="7345440" cy="29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5"/>
          <p:cNvGraphicFramePr/>
          <p:nvPr/>
        </p:nvGraphicFramePr>
        <p:xfrm>
          <a:off x="920880" y="4941720"/>
          <a:ext cx="7632720" cy="15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880" y="4941720"/>
                    <a:ext cx="763272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9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20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22" name="Picture 3" descr="esc_web0"/>
              <p:cNvPicPr/>
              <p:nvPr/>
            </p:nvPicPr>
            <p:blipFill>
              <a:blip r:embed="rId5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25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D95D-842F-4CF7-B959-CB43AC0E0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351000" y="1143000"/>
            <a:ext cx="928368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SOLUCIÓN RAZONADA SUPUESTO 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19 Grupo"/>
          <p:cNvGrpSpPr/>
          <p:nvPr/>
        </p:nvGrpSpPr>
        <p:grpSpPr>
          <a:xfrm>
            <a:off x="0" y="2852640"/>
            <a:ext cx="10209240" cy="3168720"/>
            <a:chOff x="0" y="2852640"/>
            <a:chExt cx="10209240" cy="3168720"/>
          </a:xfrm>
        </p:grpSpPr>
        <p:graphicFrame>
          <p:nvGraphicFramePr>
            <p:cNvPr id="331" name="Object 4"/>
            <p:cNvGraphicFramePr/>
            <p:nvPr/>
          </p:nvGraphicFramePr>
          <p:xfrm>
            <a:off x="0" y="2852640"/>
            <a:ext cx="5952240" cy="316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2852640"/>
                      <a:ext cx="5952240" cy="316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15 Cerrar llave"/>
            <p:cNvSpPr/>
            <p:nvPr/>
          </p:nvSpPr>
          <p:spPr>
            <a:xfrm>
              <a:off x="5105520" y="3844800"/>
              <a:ext cx="299880" cy="992160"/>
            </a:xfrm>
            <a:custGeom>
              <a:avLst/>
              <a:gdLst>
                <a:gd name="textAreaLeft" fmla="*/ 0 w 299880"/>
                <a:gd name="textAreaRight" fmla="*/ 108360 w 299880"/>
                <a:gd name="textAreaTop" fmla="*/ 10080 h 992160"/>
                <a:gd name="textAreaBottom" fmla="*/ 982080 h 9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60"/>
                    <a:pt x="10800" y="719"/>
                  </a:cubicBezTo>
                  <a:lnTo>
                    <a:pt x="10800" y="10081"/>
                  </a:lnTo>
                  <a:cubicBezTo>
                    <a:pt x="10800" y="10441"/>
                    <a:pt x="16200" y="10800"/>
                    <a:pt x="21600" y="10800"/>
                  </a:cubicBezTo>
                  <a:cubicBezTo>
                    <a:pt x="16200" y="10800"/>
                    <a:pt x="10800" y="11160"/>
                    <a:pt x="10800" y="11519"/>
                  </a:cubicBezTo>
                  <a:lnTo>
                    <a:pt x="10800" y="20881"/>
                  </a:lnTo>
                  <a:cubicBezTo>
                    <a:pt x="10800" y="2124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16 CuadroTexto"/>
            <p:cNvSpPr/>
            <p:nvPr/>
          </p:nvSpPr>
          <p:spPr>
            <a:xfrm>
              <a:off x="5629680" y="4241880"/>
              <a:ext cx="23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o método tradic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5" name="18 Conector recto de flecha"/>
            <p:cNvCxnSpPr/>
            <p:nvPr/>
          </p:nvCxnSpPr>
          <p:spPr>
            <a:xfrm>
              <a:off x="5105520" y="5135760"/>
              <a:ext cx="226080" cy="2160"/>
            </a:xfrm>
            <a:prstGeom prst="straightConnector1">
              <a:avLst/>
            </a:prstGeom>
            <a:ln w="9360">
              <a:solidFill>
                <a:srgbClr val="595959"/>
              </a:solidFill>
              <a:miter/>
              <a:tailEnd len="med" type="arrow" w="med"/>
            </a:ln>
          </p:spPr>
        </p:cxnSp>
        <p:sp>
          <p:nvSpPr>
            <p:cNvPr id="336" name="19 CuadroTexto"/>
            <p:cNvSpPr/>
            <p:nvPr/>
          </p:nvSpPr>
          <p:spPr>
            <a:xfrm>
              <a:off x="5629680" y="4937040"/>
              <a:ext cx="375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étodo tradicional y Abono Total del Pre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" name="20 Conector recto de flecha"/>
            <p:cNvCxnSpPr/>
            <p:nvPr/>
          </p:nvCxnSpPr>
          <p:spPr>
            <a:xfrm>
              <a:off x="5105520" y="5532480"/>
              <a:ext cx="226080" cy="2160"/>
            </a:xfrm>
            <a:prstGeom prst="straightConnector1">
              <a:avLst/>
            </a:prstGeom>
            <a:ln w="9360">
              <a:solidFill>
                <a:srgbClr val="595959"/>
              </a:solidFill>
              <a:miter/>
              <a:tailEnd len="med" type="arrow" w="med"/>
            </a:ln>
          </p:spPr>
        </p:cxnSp>
        <p:sp>
          <p:nvSpPr>
            <p:cNvPr id="338" name="21 CuadroTexto"/>
            <p:cNvSpPr/>
            <p:nvPr/>
          </p:nvSpPr>
          <p:spPr>
            <a:xfrm>
              <a:off x="5629680" y="5334120"/>
              <a:ext cx="457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étodo tradicional, Abono Total del Precio y Conces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22 CuadroTexto"/>
          <p:cNvSpPr/>
          <p:nvPr/>
        </p:nvSpPr>
        <p:spPr>
          <a:xfrm>
            <a:off x="488880" y="2205000"/>
            <a:ext cx="56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nálisis de las posibilidades de los distintos t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41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43" name="Picture 3" descr="esc_web0"/>
              <p:cNvPicPr/>
              <p:nvPr/>
            </p:nvPicPr>
            <p:blipFill>
              <a:blip r:embed="rId3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46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69EE-6ACB-4F17-B192-062A55476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351000" y="1143000"/>
            <a:ext cx="9283680" cy="51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 Black"/>
              </a:rPr>
              <a:t>SOLUCIÓN RAZONADA SUPUESTO PRÁCTICO (co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Object 6"/>
          <p:cNvGraphicFramePr/>
          <p:nvPr/>
        </p:nvGraphicFramePr>
        <p:xfrm>
          <a:off x="488880" y="2637000"/>
          <a:ext cx="8640720" cy="21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2637000"/>
                    <a:ext cx="8640720" cy="21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23 CuadroTexto"/>
          <p:cNvSpPr/>
          <p:nvPr/>
        </p:nvSpPr>
        <p:spPr>
          <a:xfrm>
            <a:off x="488880" y="1916280"/>
            <a:ext cx="56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ecursos disponibles para la li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55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57" name="Picture 3" descr="esc_web0"/>
              <p:cNvPicPr/>
              <p:nvPr/>
            </p:nvPicPr>
            <p:blipFill>
              <a:blip r:embed="rId3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60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5800-A297-4B43-A614-FFE1E5135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351000" y="1143000"/>
            <a:ext cx="928368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 Black"/>
              </a:rPr>
              <a:t>SOLUCIÓN RAZONADA SUPUESTO PRÁCTICO (co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Object 5"/>
          <p:cNvGraphicFramePr/>
          <p:nvPr/>
        </p:nvGraphicFramePr>
        <p:xfrm>
          <a:off x="1496880" y="4653000"/>
          <a:ext cx="6624720" cy="17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4653000"/>
                    <a:ext cx="662472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6"/>
          <p:cNvGraphicFramePr/>
          <p:nvPr/>
        </p:nvGraphicFramePr>
        <p:xfrm>
          <a:off x="1928880" y="2133720"/>
          <a:ext cx="6337080" cy="18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2133720"/>
                    <a:ext cx="63370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13 CuadroTexto"/>
          <p:cNvSpPr/>
          <p:nvPr/>
        </p:nvSpPr>
        <p:spPr>
          <a:xfrm>
            <a:off x="452520" y="1643040"/>
            <a:ext cx="778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ecursos necesarios para licitar tramos 1, 2 y 3 por sistema tradi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14 CuadroTexto"/>
          <p:cNvSpPr/>
          <p:nvPr/>
        </p:nvSpPr>
        <p:spPr>
          <a:xfrm>
            <a:off x="344520" y="4221000"/>
            <a:ext cx="77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ecursos disponibles para licitar resto de t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72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74" name="Picture 3" descr="esc_web0"/>
              <p:cNvPicPr/>
              <p:nvPr/>
            </p:nvPicPr>
            <p:blipFill>
              <a:blip r:embed="rId5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77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0E4E-79F2-4C01-A6BA-725AD2C9A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351000" y="1143000"/>
            <a:ext cx="92836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 Black"/>
              </a:rPr>
              <a:t>SOLUCIÓN RAZONADA SUPUESTO PRÁCTICO (co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Object 4"/>
          <p:cNvGraphicFramePr/>
          <p:nvPr/>
        </p:nvGraphicFramePr>
        <p:xfrm>
          <a:off x="1136520" y="2133720"/>
          <a:ext cx="696132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2133720"/>
                    <a:ext cx="69613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5"/>
          <p:cNvGraphicFramePr/>
          <p:nvPr/>
        </p:nvGraphicFramePr>
        <p:xfrm>
          <a:off x="1568520" y="3726000"/>
          <a:ext cx="6840360" cy="202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8520" y="3726000"/>
                    <a:ext cx="684036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13 CuadroTexto"/>
          <p:cNvSpPr/>
          <p:nvPr/>
        </p:nvSpPr>
        <p:spPr>
          <a:xfrm>
            <a:off x="452520" y="1643040"/>
            <a:ext cx="778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ecursos necesarios para licitar tramo 4 por sistema Abono Total del Pre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14 CuadroTexto"/>
          <p:cNvSpPr/>
          <p:nvPr/>
        </p:nvSpPr>
        <p:spPr>
          <a:xfrm>
            <a:off x="415800" y="3357720"/>
            <a:ext cx="77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ecursos disponibles para licitar resto de t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15 CuadroTexto"/>
          <p:cNvSpPr/>
          <p:nvPr/>
        </p:nvSpPr>
        <p:spPr>
          <a:xfrm>
            <a:off x="488880" y="5877000"/>
            <a:ext cx="77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Tramo 5 se licita mediante el sistema de conc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90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92" name="Picture 3" descr="esc_web0"/>
              <p:cNvPicPr/>
              <p:nvPr/>
            </p:nvPicPr>
            <p:blipFill>
              <a:blip r:embed="rId5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95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685E-30AD-444F-BCD6-7A49631E4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272880" y="1341360"/>
            <a:ext cx="928404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SOLUCIÓN RAZONADA SUPUESTO PRÁCTICO (f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Object 21"/>
          <p:cNvGraphicFramePr/>
          <p:nvPr/>
        </p:nvGraphicFramePr>
        <p:xfrm>
          <a:off x="920880" y="1916280"/>
          <a:ext cx="7848360" cy="438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916280"/>
                    <a:ext cx="7848360" cy="43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2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403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405" name="Picture 3" descr="esc_web0"/>
              <p:cNvPicPr/>
              <p:nvPr/>
            </p:nvPicPr>
            <p:blipFill>
              <a:blip r:embed="rId3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408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3648-FDAE-4FA4-AF29-85E9EAAED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44520" y="1844640"/>
            <a:ext cx="9217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Resoluci</a:t>
            </a:r>
            <a:r>
              <a:rPr b="1" lang="es-ES" sz="1800" spc="-1" strike="noStrike">
                <a:solidFill>
                  <a:srgbClr val="006600"/>
                </a:solidFill>
                <a:latin typeface="Arial Rounded MT Bold"/>
              </a:rPr>
              <a:t>ó</a:t>
            </a: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n de 19 de enero de 2009, de la Direcci</a:t>
            </a:r>
            <a:r>
              <a:rPr b="1" lang="es-ES" sz="1800" spc="-1" strike="noStrike">
                <a:solidFill>
                  <a:srgbClr val="006600"/>
                </a:solidFill>
                <a:latin typeface="Arial Rounded MT Bold"/>
              </a:rPr>
              <a:t>ó</a:t>
            </a: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n General de Presupuestos, por la que se establecen los c</a:t>
            </a:r>
            <a:r>
              <a:rPr b="1" lang="es-ES" sz="1800" spc="-1" strike="noStrike">
                <a:solidFill>
                  <a:srgbClr val="006600"/>
                </a:solidFill>
                <a:latin typeface="Arial Rounded MT Bold"/>
              </a:rPr>
              <a:t>ó</a:t>
            </a: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digos que definen la clasificaci</a:t>
            </a:r>
            <a:r>
              <a:rPr b="1" lang="es-ES" sz="1800" spc="-1" strike="noStrike">
                <a:solidFill>
                  <a:srgbClr val="006600"/>
                </a:solidFill>
                <a:latin typeface="Arial Rounded MT Bold"/>
              </a:rPr>
              <a:t>ó</a:t>
            </a: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n econ</a:t>
            </a:r>
            <a:r>
              <a:rPr b="1" lang="es-ES" sz="1800" spc="-1" strike="noStrike">
                <a:solidFill>
                  <a:srgbClr val="006600"/>
                </a:solidFill>
                <a:latin typeface="Arial Rounded MT Bold"/>
              </a:rPr>
              <a:t>ó</a:t>
            </a: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m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136520" y="3068640"/>
            <a:ext cx="83520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f5f5f"/>
                </a:solidFill>
                <a:latin typeface="Arial Unicode MS"/>
              </a:rPr>
              <a:t>El capítulo de inversiones reales comprende los gastos a realizar directamente por el Estado, organismos autónomos, agencias estatales y otros organismos públicos destinados a la creación o adquisición de bienes de capital, así como los destinados a la adquisición de bienes de naturaleza inventariable necesarios para el funcionamiento operativo de los servicios y aquellos otros gastos de naturaleza inmaterial que tengan carácter amortiz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79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81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84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95CF-C0EB-49BE-983F-934C67819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1281240" y="1125360"/>
            <a:ext cx="7343640" cy="5220000"/>
          </a:xfrm>
          <a:prstGeom prst="rect">
            <a:avLst/>
          </a:prstGeom>
          <a:ln w="0">
            <a:noFill/>
          </a:ln>
        </p:spPr>
      </p:pic>
      <p:sp>
        <p:nvSpPr>
          <p:cNvPr id="90" name="Oval 16"/>
          <p:cNvSpPr/>
          <p:nvPr/>
        </p:nvSpPr>
        <p:spPr>
          <a:xfrm>
            <a:off x="6032520" y="4149720"/>
            <a:ext cx="151272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92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94" name="Picture 3" descr="esc_web0"/>
              <p:cNvPicPr/>
              <p:nvPr/>
            </p:nvPicPr>
            <p:blipFill>
              <a:blip r:embed="rId2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97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854D-64A8-49B7-A59D-6AEE72BC4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10"/>
          <p:cNvGraphicFramePr/>
          <p:nvPr/>
        </p:nvGraphicFramePr>
        <p:xfrm>
          <a:off x="5021280" y="2917800"/>
          <a:ext cx="4703760" cy="32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1280" y="2917800"/>
                    <a:ext cx="4703760" cy="32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2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4"/>
          <p:cNvGraphicFramePr/>
          <p:nvPr/>
        </p:nvGraphicFramePr>
        <p:xfrm>
          <a:off x="-1023840" y="1773360"/>
          <a:ext cx="7200720" cy="251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23840" y="1773360"/>
                    <a:ext cx="7200720" cy="25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07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09" name="Picture 3" descr="esc_web0"/>
              <p:cNvPicPr/>
              <p:nvPr/>
            </p:nvPicPr>
            <p:blipFill>
              <a:blip r:embed="rId5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12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E0D5-56EA-4D35-9AFE-6652054C9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776160" y="1268280"/>
            <a:ext cx="8344080" cy="496260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19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21" name="Picture 3" descr="esc_web0"/>
              <p:cNvPicPr/>
              <p:nvPr/>
            </p:nvPicPr>
            <p:blipFill>
              <a:blip r:embed="rId2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24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53E1-A6FC-4153-A4E8-C2B47F4B0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esc_web0"/>
          <p:cNvPicPr/>
          <p:nvPr/>
        </p:nvPicPr>
        <p:blipFill>
          <a:blip r:embed="rId1"/>
          <a:stretch/>
        </p:blipFill>
        <p:spPr>
          <a:xfrm>
            <a:off x="330120" y="8568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403280" y="457200"/>
            <a:ext cx="1074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NISTER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ECONOMÍA Y HACIE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8240760" y="114480"/>
            <a:ext cx="1520640" cy="901080"/>
            <a:chOff x="8240760" y="114480"/>
            <a:chExt cx="1520640" cy="901080"/>
          </a:xfrm>
        </p:grpSpPr>
        <p:sp>
          <p:nvSpPr>
            <p:cNvPr id="131" name="Text Box 6"/>
            <p:cNvSpPr/>
            <p:nvPr/>
          </p:nvSpPr>
          <p:spPr>
            <a:xfrm>
              <a:off x="8240760" y="114480"/>
              <a:ext cx="1520640" cy="273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ECRETARÍA DE ESTADO DE HACIENDA Y PRESUPUES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8240760" y="662760"/>
              <a:ext cx="1499400" cy="3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IRECCIÓN GENERAL DE PRESUPUEST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8"/>
            <p:cNvSpPr/>
            <p:nvPr/>
          </p:nvSpPr>
          <p:spPr>
            <a:xfrm>
              <a:off x="8240760" y="384840"/>
              <a:ext cx="1520640" cy="27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ECRETARIA GENERAL DE PRESUPUESTOS Y GAST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Text Box 9"/>
          <p:cNvSpPr/>
          <p:nvPr/>
        </p:nvSpPr>
        <p:spPr>
          <a:xfrm>
            <a:off x="2360520" y="333360"/>
            <a:ext cx="568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 Black"/>
              </a:rPr>
              <a:t>GESTIÓN DE LA INVERSIÓN PÚB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 Black"/>
              </a:rPr>
              <a:t>Planes de Inversión Pública y su presupues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4" descr=""/>
          <p:cNvPicPr/>
          <p:nvPr/>
        </p:nvPicPr>
        <p:blipFill>
          <a:blip r:embed="rId2"/>
          <a:stretch/>
        </p:blipFill>
        <p:spPr>
          <a:xfrm>
            <a:off x="1784520" y="1413000"/>
            <a:ext cx="7056360" cy="5024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7BD1-7785-4D7F-816C-8AAAF85E2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424160" y="1197000"/>
            <a:ext cx="7704000" cy="5329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28880" y="4653000"/>
            <a:ext cx="3095640" cy="216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43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45" name="Picture 3" descr="esc_web0"/>
              <p:cNvPicPr/>
              <p:nvPr/>
            </p:nvPicPr>
            <p:blipFill>
              <a:blip r:embed="rId2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48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2DEC-DE34-4EFA-86F4-31887D402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11"/>
          <p:cNvGraphicFramePr/>
          <p:nvPr/>
        </p:nvGraphicFramePr>
        <p:xfrm>
          <a:off x="272880" y="1341360"/>
          <a:ext cx="93600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1341360"/>
                    <a:ext cx="93600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55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57" name="Picture 3" descr="esc_web0"/>
              <p:cNvPicPr/>
              <p:nvPr/>
            </p:nvPicPr>
            <p:blipFill>
              <a:blip r:embed="rId3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60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10:53:49Z</dcterms:created>
  <dc:creator>IGAE</dc:creator>
  <dc:description/>
  <dc:language>en-US</dc:language>
  <cp:lastModifiedBy>Paloma Baquero</cp:lastModifiedBy>
  <dcterms:modified xsi:type="dcterms:W3CDTF">2012-04-19T09:35:09Z</dcterms:modified>
  <cp:revision>168</cp:revision>
  <dc:subject/>
  <dc:title>Presentación de PowerPoint</dc:title>
</cp:coreProperties>
</file>