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1.wmf" ContentType="image/x-wmf"/>
  <Override PartName="/ppt/media/image19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2.wmf" ContentType="image/x-wmf"/>
  <Override PartName="/ppt/media/image4.wmf" ContentType="image/x-wmf"/>
  <Override PartName="/ppt/media/image14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5.wmf" ContentType="image/x-wmf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embeddings/oleObject2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907588" cy="6858000"/>
  <p:notesSz cx="6638925" cy="9893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38400" cy="989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87820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60920" y="-360"/>
            <a:ext cx="287784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641160" y="742680"/>
            <a:ext cx="5359320" cy="3709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85960" y="4698720"/>
            <a:ext cx="4867200" cy="44514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399240"/>
            <a:ext cx="287820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60920" y="9399240"/>
            <a:ext cx="287784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33A899AE-33DC-4905-8F34-EC890F02B7B8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7"/>
          <p:cNvSpPr/>
          <p:nvPr/>
        </p:nvSpPr>
        <p:spPr>
          <a:xfrm>
            <a:off x="3760920" y="9399600"/>
            <a:ext cx="28778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77BB6019-C038-45A3-AE6E-C620F6F080A0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641520" y="743040"/>
            <a:ext cx="5359320" cy="37098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885960" y="4698720"/>
            <a:ext cx="4867200" cy="44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3760920" y="9399600"/>
            <a:ext cx="28778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2E647D8D-2443-448F-913D-412EE167059A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641520" y="743040"/>
            <a:ext cx="5359320" cy="37098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885960" y="4698720"/>
            <a:ext cx="4867200" cy="44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3760920" y="9399600"/>
            <a:ext cx="28778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0F7A3DFB-9BCC-4530-BFDF-3B4457712378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641520" y="743040"/>
            <a:ext cx="5359320" cy="37098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885960" y="4698720"/>
            <a:ext cx="4867200" cy="44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3760920" y="9399600"/>
            <a:ext cx="28778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9C826FFF-FF8E-470E-B999-D03E1FFA598A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641520" y="743040"/>
            <a:ext cx="5359320" cy="37098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885960" y="4698720"/>
            <a:ext cx="4867200" cy="44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3760920" y="9399600"/>
            <a:ext cx="28778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512F4AD5-C731-45D7-B7BE-75FBE3B9BA49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641520" y="743040"/>
            <a:ext cx="5359320" cy="37098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885960" y="4698720"/>
            <a:ext cx="4867200" cy="44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Rectangle 7"/>
          <p:cNvSpPr/>
          <p:nvPr/>
        </p:nvSpPr>
        <p:spPr>
          <a:xfrm>
            <a:off x="3760920" y="9399600"/>
            <a:ext cx="28778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6D910A0C-AD3A-4B67-8966-899A2B192920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641520" y="743040"/>
            <a:ext cx="5359320" cy="37098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885960" y="4698720"/>
            <a:ext cx="4867200" cy="44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Rectangle 7"/>
          <p:cNvSpPr/>
          <p:nvPr/>
        </p:nvSpPr>
        <p:spPr>
          <a:xfrm>
            <a:off x="3760920" y="9399600"/>
            <a:ext cx="28778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C01D2314-F735-43DC-A9C0-0BBE1CA15F29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641520" y="743040"/>
            <a:ext cx="5359320" cy="37098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885960" y="4698720"/>
            <a:ext cx="4867200" cy="44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Rectangle 7"/>
          <p:cNvSpPr/>
          <p:nvPr/>
        </p:nvSpPr>
        <p:spPr>
          <a:xfrm>
            <a:off x="3760920" y="9399600"/>
            <a:ext cx="28778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F3193EF2-14C2-42CF-B7A4-305C47A57B40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641520" y="743040"/>
            <a:ext cx="5359320" cy="37098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885960" y="4698720"/>
            <a:ext cx="4867200" cy="44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7"/>
          <p:cNvSpPr/>
          <p:nvPr/>
        </p:nvSpPr>
        <p:spPr>
          <a:xfrm>
            <a:off x="3760920" y="9399600"/>
            <a:ext cx="28778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68675A7A-0144-4337-994D-0116C4096FB2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641520" y="743040"/>
            <a:ext cx="5359320" cy="37098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885960" y="4698720"/>
            <a:ext cx="4867200" cy="44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7"/>
          <p:cNvSpPr/>
          <p:nvPr/>
        </p:nvSpPr>
        <p:spPr>
          <a:xfrm>
            <a:off x="3760920" y="9399600"/>
            <a:ext cx="28778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B240A8F2-B91D-4B6D-A72D-57ED05AA854B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641520" y="743040"/>
            <a:ext cx="5359320" cy="37098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885960" y="4698720"/>
            <a:ext cx="4867200" cy="44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7"/>
          <p:cNvSpPr/>
          <p:nvPr/>
        </p:nvSpPr>
        <p:spPr>
          <a:xfrm>
            <a:off x="3760920" y="9399600"/>
            <a:ext cx="28778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09BE935E-08E3-4B3D-BF01-135F720B905A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641520" y="743040"/>
            <a:ext cx="5359320" cy="37098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885960" y="4698720"/>
            <a:ext cx="4867200" cy="44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7"/>
          <p:cNvSpPr/>
          <p:nvPr/>
        </p:nvSpPr>
        <p:spPr>
          <a:xfrm>
            <a:off x="3760920" y="9399600"/>
            <a:ext cx="28778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0CAA7250-204B-48A1-B1FF-7AA57B8EB9F5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641520" y="743040"/>
            <a:ext cx="5359320" cy="37098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885960" y="4698720"/>
            <a:ext cx="4867200" cy="44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7"/>
          <p:cNvSpPr/>
          <p:nvPr/>
        </p:nvSpPr>
        <p:spPr>
          <a:xfrm>
            <a:off x="3760920" y="9399600"/>
            <a:ext cx="28778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72C1B30F-06E4-4343-B8D5-006A26EAB975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641520" y="743040"/>
            <a:ext cx="5359320" cy="37098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885960" y="4698720"/>
            <a:ext cx="4867200" cy="44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7"/>
          <p:cNvSpPr/>
          <p:nvPr/>
        </p:nvSpPr>
        <p:spPr>
          <a:xfrm>
            <a:off x="3760920" y="9399600"/>
            <a:ext cx="28778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F1B0BFA2-3E60-4975-85A0-43D7DD990AC3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641520" y="743040"/>
            <a:ext cx="5359320" cy="37098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885960" y="4698720"/>
            <a:ext cx="4867200" cy="44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7"/>
          <p:cNvSpPr/>
          <p:nvPr/>
        </p:nvSpPr>
        <p:spPr>
          <a:xfrm>
            <a:off x="3760920" y="9399600"/>
            <a:ext cx="28778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5F0D11C4-03D4-43AD-8494-BB418DA20489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641520" y="743040"/>
            <a:ext cx="5359320" cy="37098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885960" y="4698720"/>
            <a:ext cx="4867200" cy="44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7"/>
          <p:cNvSpPr/>
          <p:nvPr/>
        </p:nvSpPr>
        <p:spPr>
          <a:xfrm>
            <a:off x="3760920" y="9399600"/>
            <a:ext cx="28778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95099130-A810-476E-99FC-BEFD071B99EE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641520" y="743040"/>
            <a:ext cx="5359320" cy="37098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885960" y="4698720"/>
            <a:ext cx="4867200" cy="44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Rectangle 7"/>
          <p:cNvSpPr/>
          <p:nvPr/>
        </p:nvSpPr>
        <p:spPr>
          <a:xfrm>
            <a:off x="3760920" y="9399600"/>
            <a:ext cx="28778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4EED23E0-F5C1-4FFA-A7A2-CDE3574883D4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641520" y="743040"/>
            <a:ext cx="5359320" cy="37098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885960" y="4698720"/>
            <a:ext cx="4867200" cy="44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7"/>
          <p:cNvSpPr/>
          <p:nvPr/>
        </p:nvSpPr>
        <p:spPr>
          <a:xfrm>
            <a:off x="3760920" y="9399600"/>
            <a:ext cx="28778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80AA668A-28E5-474E-83F1-CCB8865E7D5D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641520" y="743040"/>
            <a:ext cx="5359320" cy="37098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885960" y="4698720"/>
            <a:ext cx="4867200" cy="44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7"/>
          <p:cNvSpPr/>
          <p:nvPr/>
        </p:nvSpPr>
        <p:spPr>
          <a:xfrm>
            <a:off x="3760920" y="9399600"/>
            <a:ext cx="28778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0E3B5114-6B96-4B09-B264-F97FC39EB653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641520" y="743040"/>
            <a:ext cx="5359320" cy="37098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885960" y="4698720"/>
            <a:ext cx="4867200" cy="44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7"/>
          <p:cNvSpPr/>
          <p:nvPr/>
        </p:nvSpPr>
        <p:spPr>
          <a:xfrm>
            <a:off x="3760920" y="9399600"/>
            <a:ext cx="28778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400A6D57-E879-41FD-96EA-10223219A979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641520" y="743040"/>
            <a:ext cx="5359320" cy="37098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885960" y="4698720"/>
            <a:ext cx="4867200" cy="44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7"/>
          <p:cNvSpPr/>
          <p:nvPr/>
        </p:nvSpPr>
        <p:spPr>
          <a:xfrm>
            <a:off x="3760920" y="9399600"/>
            <a:ext cx="28778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996E24E4-FB7F-4576-8B52-B40847C86604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641520" y="743040"/>
            <a:ext cx="5359320" cy="37098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885960" y="4698720"/>
            <a:ext cx="4867200" cy="44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7"/>
          <p:cNvSpPr/>
          <p:nvPr/>
        </p:nvSpPr>
        <p:spPr>
          <a:xfrm>
            <a:off x="3760920" y="9399600"/>
            <a:ext cx="28778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4A7280E5-5ACC-4A22-B26A-305C91BB5ADD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641520" y="743040"/>
            <a:ext cx="5359320" cy="37098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885960" y="4698720"/>
            <a:ext cx="4867200" cy="44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7"/>
          <p:cNvSpPr/>
          <p:nvPr/>
        </p:nvSpPr>
        <p:spPr>
          <a:xfrm>
            <a:off x="3760920" y="9399600"/>
            <a:ext cx="28778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4CA7BE59-9AC1-4AE5-B456-1E2135FFC4BC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641520" y="743040"/>
            <a:ext cx="5359320" cy="37098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885960" y="4698720"/>
            <a:ext cx="4867200" cy="44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7"/>
          <p:cNvSpPr/>
          <p:nvPr/>
        </p:nvSpPr>
        <p:spPr>
          <a:xfrm>
            <a:off x="3760920" y="9399600"/>
            <a:ext cx="28778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0E2A19D3-9486-46D0-9502-60D87D7BE543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641520" y="743040"/>
            <a:ext cx="5359320" cy="37098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885960" y="4698720"/>
            <a:ext cx="4867200" cy="44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7"/>
          <p:cNvSpPr/>
          <p:nvPr/>
        </p:nvSpPr>
        <p:spPr>
          <a:xfrm>
            <a:off x="3760920" y="9399600"/>
            <a:ext cx="28778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6DCAD594-70CA-424F-A4C8-3E44E74D3974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641520" y="743040"/>
            <a:ext cx="5359320" cy="37098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885960" y="4698720"/>
            <a:ext cx="4867200" cy="44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7"/>
          <p:cNvSpPr/>
          <p:nvPr/>
        </p:nvSpPr>
        <p:spPr>
          <a:xfrm>
            <a:off x="3760920" y="9399600"/>
            <a:ext cx="28778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D64469E6-601E-4D4E-9DEC-B16B9A30A56A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641520" y="743040"/>
            <a:ext cx="5359320" cy="37098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885960" y="4698720"/>
            <a:ext cx="4867200" cy="44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7"/>
          <p:cNvSpPr/>
          <p:nvPr/>
        </p:nvSpPr>
        <p:spPr>
          <a:xfrm>
            <a:off x="3760920" y="9399600"/>
            <a:ext cx="28778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A96E2042-A5DB-4807-A960-A2EB6D18C4D0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641520" y="743040"/>
            <a:ext cx="5359320" cy="37098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885960" y="4698720"/>
            <a:ext cx="4867200" cy="44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7"/>
          <p:cNvSpPr/>
          <p:nvPr/>
        </p:nvSpPr>
        <p:spPr>
          <a:xfrm>
            <a:off x="3760920" y="9399600"/>
            <a:ext cx="28778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C91933D7-3A76-41AD-9747-72A13783AB1D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641520" y="743040"/>
            <a:ext cx="5359320" cy="37098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885960" y="4698720"/>
            <a:ext cx="4867200" cy="44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62F2D-250F-4E19-B30F-4A49590B9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64376-25F4-46FC-8A8E-51A22218E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E7B6D-DE4D-431C-BA9B-FAEFE8227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FE67C-A29A-41A5-9779-E9ADF4538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21AC1-67AA-430C-81B1-44804345A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D538E-DDA1-4AB0-8B25-C2C224F20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4FA60-1FF7-4B1B-AB4F-F2C40A4DC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FA3A6-8AF5-41C4-B602-4B7FC4A52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33372-9ED0-4EF8-B098-5CB83621B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FA1B3-333F-4CA6-A5F2-898DCF1D1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0EB08-911A-4798-93BA-16E8841DD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9D6B2-306A-42EE-934F-5C64A6771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94851-54E8-4461-91EA-2F8862E4F5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0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4.wmf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3 Marcador de número de diapositiva"/>
          <p:cNvSpPr/>
          <p:nvPr/>
        </p:nvSpPr>
        <p:spPr>
          <a:xfrm>
            <a:off x="709920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E2564-2C2C-4592-AD78-C12C595C0E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0" y="0"/>
            <a:ext cx="990612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330120" y="85680"/>
            <a:ext cx="9383760" cy="914400"/>
            <a:chOff x="330120" y="85680"/>
            <a:chExt cx="9383760" cy="914400"/>
          </a:xfrm>
        </p:grpSpPr>
        <p:pic>
          <p:nvPicPr>
            <p:cNvPr id="51" name="Picture 3" descr="esc_web0"/>
            <p:cNvPicPr/>
            <p:nvPr/>
          </p:nvPicPr>
          <p:blipFill>
            <a:blip r:embed="rId1"/>
            <a:stretch/>
          </p:blipFill>
          <p:spPr>
            <a:xfrm>
              <a:off x="330120" y="85680"/>
              <a:ext cx="99072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Text Box 4"/>
            <p:cNvSpPr/>
            <p:nvPr/>
          </p:nvSpPr>
          <p:spPr>
            <a:xfrm>
              <a:off x="1424160" y="404640"/>
              <a:ext cx="2180880" cy="45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MINISTERIO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DE HACIENDA Y ADMINISTRACIONES PÚBLICA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8048520" y="189000"/>
              <a:ext cx="1665360" cy="712800"/>
              <a:chOff x="8048520" y="189000"/>
              <a:chExt cx="1665360" cy="712800"/>
            </a:xfrm>
          </p:grpSpPr>
          <p:sp>
            <p:nvSpPr>
              <p:cNvPr id="54" name="Text Box 7"/>
              <p:cNvSpPr/>
              <p:nvPr/>
            </p:nvSpPr>
            <p:spPr>
              <a:xfrm>
                <a:off x="8048520" y="549360"/>
                <a:ext cx="1657440" cy="352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46800" bIns="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51"/>
                  </a:spcBef>
                  <a:spcAft>
                    <a:spcPts val="5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DIRECCIÓN GENERAL DE PRESUPUESTOS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Text Box 8"/>
              <p:cNvSpPr/>
              <p:nvPr/>
            </p:nvSpPr>
            <p:spPr>
              <a:xfrm>
                <a:off x="8048520" y="189000"/>
                <a:ext cx="1665360" cy="36036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46800" bIns="4680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37"/>
                  </a:spcBef>
                  <a:spcAft>
                    <a:spcPts val="37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CRETARIA DE ESTADO  DE PRESUPUESTOS Y GASTOS</a:t>
                </a:r>
                <a:r>
                  <a:rPr b="1" lang="en-US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6" name="Text Box 9"/>
          <p:cNvSpPr/>
          <p:nvPr/>
        </p:nvSpPr>
        <p:spPr>
          <a:xfrm>
            <a:off x="488880" y="1628640"/>
            <a:ext cx="9072720" cy="43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808080"/>
                </a:solidFill>
                <a:latin typeface="Arial Black"/>
              </a:rPr>
              <a:t>GESTIÓN DE LA INVERSIÓN PÚBL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808080"/>
                </a:solidFill>
                <a:latin typeface="Arial Black"/>
              </a:rPr>
              <a:t>Planes de Inversión Pública y su presupuesta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808080"/>
                </a:solidFill>
                <a:latin typeface="Arial Black"/>
              </a:rPr>
              <a:t>Paloma Baquero Dancaus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808080"/>
                </a:solidFill>
                <a:latin typeface="Arial Black"/>
              </a:rPr>
              <a:t>Abril 20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3 Marcador de número de diapositiva"/>
          <p:cNvSpPr/>
          <p:nvPr/>
        </p:nvSpPr>
        <p:spPr>
          <a:xfrm>
            <a:off x="709920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300ED-6C71-46DC-9EB6-22DC911587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2"/>
          <p:cNvSpPr/>
          <p:nvPr/>
        </p:nvSpPr>
        <p:spPr>
          <a:xfrm>
            <a:off x="0" y="0"/>
            <a:ext cx="990612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11"/>
          <p:cNvSpPr/>
          <p:nvPr/>
        </p:nvSpPr>
        <p:spPr>
          <a:xfrm>
            <a:off x="0" y="2384280"/>
            <a:ext cx="9906120" cy="3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2576520" y="1197000"/>
            <a:ext cx="4211640" cy="5472000"/>
          </a:xfrm>
          <a:prstGeom prst="rect">
            <a:avLst/>
          </a:prstGeom>
          <a:ln w="0">
            <a:noFill/>
          </a:ln>
        </p:spPr>
      </p:pic>
      <p:grpSp>
        <p:nvGrpSpPr>
          <p:cNvPr id="166" name=""/>
          <p:cNvGrpSpPr/>
          <p:nvPr/>
        </p:nvGrpSpPr>
        <p:grpSpPr>
          <a:xfrm>
            <a:off x="330120" y="85680"/>
            <a:ext cx="9383760" cy="955440"/>
            <a:chOff x="330120" y="85680"/>
            <a:chExt cx="9383760" cy="955440"/>
          </a:xfrm>
        </p:grpSpPr>
        <p:sp>
          <p:nvSpPr>
            <p:cNvPr id="167" name="Text Box 9"/>
            <p:cNvSpPr/>
            <p:nvPr/>
          </p:nvSpPr>
          <p:spPr>
            <a:xfrm>
              <a:off x="2289240" y="333360"/>
              <a:ext cx="5688000" cy="70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08080"/>
                  </a:solidFill>
                  <a:latin typeface="Arial Black"/>
                </a:rPr>
                <a:t>GESTIÓN DE LA INVERSIÓN PÚBLIC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8" name=""/>
            <p:cNvGrpSpPr/>
            <p:nvPr/>
          </p:nvGrpSpPr>
          <p:grpSpPr>
            <a:xfrm>
              <a:off x="330120" y="85680"/>
              <a:ext cx="9383760" cy="914400"/>
              <a:chOff x="330120" y="85680"/>
              <a:chExt cx="9383760" cy="914400"/>
            </a:xfrm>
          </p:grpSpPr>
          <p:pic>
            <p:nvPicPr>
              <p:cNvPr id="169" name="Picture 3" descr="esc_web0"/>
              <p:cNvPicPr/>
              <p:nvPr/>
            </p:nvPicPr>
            <p:blipFill>
              <a:blip r:embed="rId2"/>
              <a:stretch/>
            </p:blipFill>
            <p:spPr>
              <a:xfrm>
                <a:off x="330120" y="85680"/>
                <a:ext cx="990720" cy="914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0" name="Text Box 4"/>
              <p:cNvSpPr/>
              <p:nvPr/>
            </p:nvSpPr>
            <p:spPr>
              <a:xfrm>
                <a:off x="1424160" y="404640"/>
                <a:ext cx="2180880" cy="45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46800" bIns="4680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MINISTERIO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DE HACIENDA Y ADMINISTRACIONES PÚBLICA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1" name=""/>
              <p:cNvGrpSpPr/>
              <p:nvPr/>
            </p:nvGrpSpPr>
            <p:grpSpPr>
              <a:xfrm>
                <a:off x="8048520" y="189000"/>
                <a:ext cx="1665360" cy="712800"/>
                <a:chOff x="8048520" y="189000"/>
                <a:chExt cx="1665360" cy="712800"/>
              </a:xfrm>
            </p:grpSpPr>
            <p:sp>
              <p:nvSpPr>
                <p:cNvPr id="172" name="Text Box 7"/>
                <p:cNvSpPr/>
                <p:nvPr/>
              </p:nvSpPr>
              <p:spPr>
                <a:xfrm>
                  <a:off x="8048520" y="549360"/>
                  <a:ext cx="1657440" cy="3524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000" rIns="36000" tIns="46800" bIns="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51"/>
                    </a:spcBef>
                    <a:spcAft>
                      <a:spcPts val="5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DIRECCIÓN GENERAL DE PRESUPUESTOS 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Text Box 8"/>
                <p:cNvSpPr/>
                <p:nvPr/>
              </p:nvSpPr>
              <p:spPr>
                <a:xfrm>
                  <a:off x="8048520" y="189000"/>
                  <a:ext cx="1665360" cy="3603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000" rIns="36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37"/>
                    </a:spcBef>
                    <a:spcAft>
                      <a:spcPts val="37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SECRETARIA DE ESTADO  DE PRESUPUESTOS Y GASTOS</a:t>
                  </a:r>
                  <a:r>
                    <a:rPr b="1" lang="en-US" sz="6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endParaRPr b="0" lang="en-US" sz="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3 Marcador de número de diapositiva"/>
          <p:cNvSpPr/>
          <p:nvPr/>
        </p:nvSpPr>
        <p:spPr>
          <a:xfrm>
            <a:off x="709920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9B139-9821-457B-B6EF-5E83F5CC98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2"/>
          <p:cNvSpPr/>
          <p:nvPr/>
        </p:nvSpPr>
        <p:spPr>
          <a:xfrm>
            <a:off x="0" y="0"/>
            <a:ext cx="990612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Picture 3" descr="esc_web0"/>
          <p:cNvPicPr/>
          <p:nvPr/>
        </p:nvPicPr>
        <p:blipFill>
          <a:blip r:embed="rId1"/>
          <a:stretch/>
        </p:blipFill>
        <p:spPr>
          <a:xfrm>
            <a:off x="200160" y="0"/>
            <a:ext cx="990360" cy="91440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4"/>
          <p:cNvSpPr/>
          <p:nvPr/>
        </p:nvSpPr>
        <p:spPr>
          <a:xfrm>
            <a:off x="1208160" y="333360"/>
            <a:ext cx="10746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INISTERI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E ECONOMÍA Y HACIEN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" name="Group 5"/>
          <p:cNvGrpSpPr/>
          <p:nvPr/>
        </p:nvGrpSpPr>
        <p:grpSpPr>
          <a:xfrm>
            <a:off x="8240760" y="114480"/>
            <a:ext cx="1520640" cy="901080"/>
            <a:chOff x="8240760" y="114480"/>
            <a:chExt cx="1520640" cy="901080"/>
          </a:xfrm>
        </p:grpSpPr>
        <p:sp>
          <p:nvSpPr>
            <p:cNvPr id="179" name="Text Box 6"/>
            <p:cNvSpPr/>
            <p:nvPr/>
          </p:nvSpPr>
          <p:spPr>
            <a:xfrm>
              <a:off x="8240760" y="114480"/>
              <a:ext cx="1520640" cy="27396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SECRETARÍA DE ESTADO DE HACIENDA Y PRESUPUESTO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Text Box 7"/>
            <p:cNvSpPr/>
            <p:nvPr/>
          </p:nvSpPr>
          <p:spPr>
            <a:xfrm>
              <a:off x="8240760" y="662760"/>
              <a:ext cx="1499400" cy="35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DIRECCIÓN GENERAL DE PRESUPUESTOS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Text Box 8"/>
            <p:cNvSpPr/>
            <p:nvPr/>
          </p:nvSpPr>
          <p:spPr>
            <a:xfrm>
              <a:off x="8240760" y="384840"/>
              <a:ext cx="1520640" cy="2739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SECRETARIA GENERAL DE PRESUPUESTOS Y GASTOS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2" name="Text Box 9"/>
          <p:cNvSpPr/>
          <p:nvPr/>
        </p:nvSpPr>
        <p:spPr>
          <a:xfrm>
            <a:off x="2289240" y="333360"/>
            <a:ext cx="5688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808080"/>
                </a:solidFill>
                <a:latin typeface="Arial Black"/>
              </a:rPr>
              <a:t>GESTIÓN DE LA INVERSIÓN PÚBL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808080"/>
                </a:solidFill>
                <a:latin typeface="Arial Black"/>
              </a:rPr>
              <a:t>Planes de Inversión Pública y su presupuest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9"/>
          <p:cNvSpPr/>
          <p:nvPr/>
        </p:nvSpPr>
        <p:spPr>
          <a:xfrm>
            <a:off x="272880" y="1844640"/>
            <a:ext cx="9217080" cy="4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0000" rIns="90000" tIns="82800" bIns="82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Arial Unicode MS"/>
              </a:rPr>
              <a:t>PLANIFIC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9"/>
          <p:cNvSpPr/>
          <p:nvPr/>
        </p:nvSpPr>
        <p:spPr>
          <a:xfrm>
            <a:off x="776160" y="2708280"/>
            <a:ext cx="8352000" cy="238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0000" rIns="90000" tIns="82800" bIns="82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5f5f5f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 Unicode MS"/>
              </a:rPr>
              <a:t>A medio largo plaz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5f5f5f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 Unicode MS"/>
              </a:rPr>
              <a:t>Corresponde a los Departamento Ministeri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5f5f5f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 Unicode MS"/>
              </a:rPr>
              <a:t>En materia de infraestructuras fundamentalmen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125"/>
              </a:spcBef>
              <a:buClr>
                <a:srgbClr val="5f5f5f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 Unicode MS"/>
              </a:rPr>
              <a:t>Ministerio de Foment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125"/>
              </a:spcBef>
              <a:buClr>
                <a:srgbClr val="5f5f5f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 Unicode MS"/>
              </a:rPr>
              <a:t>Ministerio de Agricultura, Alimentación y Medio Ambi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3 Marcador de número de diapositiva"/>
          <p:cNvSpPr/>
          <p:nvPr/>
        </p:nvSpPr>
        <p:spPr>
          <a:xfrm>
            <a:off x="709920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59741-1759-4FCB-9D65-7A262645AF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2"/>
          <p:cNvSpPr/>
          <p:nvPr/>
        </p:nvSpPr>
        <p:spPr>
          <a:xfrm>
            <a:off x="0" y="0"/>
            <a:ext cx="990612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9"/>
          <p:cNvSpPr/>
          <p:nvPr/>
        </p:nvSpPr>
        <p:spPr>
          <a:xfrm>
            <a:off x="344520" y="1413000"/>
            <a:ext cx="9283680" cy="49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Arial Black"/>
                <a:ea typeface="Arial"/>
              </a:rPr>
              <a:t>FORMULAS PARA LA FINANCIACIÓN DE LAS INFRAESTRUCTUR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00"/>
                </a:solidFill>
                <a:latin typeface="Arial Black"/>
              </a:rPr>
              <a:t>FINANCIACIÓN PRESUPUESTA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80000"/>
              </a:lnSpc>
              <a:spcBef>
                <a:spcPts val="751"/>
              </a:spcBef>
              <a:buClr>
                <a:srgbClr val="00206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2060"/>
                </a:solidFill>
                <a:latin typeface="Arial Black"/>
              </a:rPr>
              <a:t>Inversión direct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751"/>
              </a:spcBef>
              <a:buClr>
                <a:srgbClr val="808080"/>
              </a:buClr>
              <a:buFont typeface="Arial Black"/>
              <a:buChar char="─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Arial Black"/>
              </a:rPr>
              <a:t>Sistema Tradicion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Arial Black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ts val="0"/>
              </a:lnSpc>
              <a:spcBef>
                <a:spcPts val="751"/>
              </a:spcBef>
              <a:buClr>
                <a:srgbClr val="00206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2060"/>
                </a:solidFill>
                <a:latin typeface="Arial Black"/>
              </a:rPr>
              <a:t>Inversión con financiación diferida</a:t>
            </a:r>
            <a:r>
              <a:rPr b="0" lang="en-US" sz="1200" spc="-1" strike="noStrike">
                <a:solidFill>
                  <a:srgbClr val="808080"/>
                </a:solidFill>
                <a:latin typeface="Arial Black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751"/>
              </a:spcBef>
              <a:buClr>
                <a:srgbClr val="808080"/>
              </a:buClr>
              <a:buFont typeface="Arial Black"/>
              <a:buChar char="―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Arial Black"/>
              </a:rPr>
              <a:t>Abono total del precio (Método Alemán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751"/>
              </a:spcBef>
              <a:buClr>
                <a:srgbClr val="808080"/>
              </a:buClr>
              <a:buFont typeface="Arial Black"/>
              <a:buChar char="―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Arial Black"/>
              </a:rPr>
              <a:t>Peaje en sobra (concesión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751"/>
              </a:spcBef>
              <a:buClr>
                <a:srgbClr val="808080"/>
              </a:buClr>
              <a:buFont typeface="Arial Black"/>
              <a:buChar char="―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Arial Black"/>
              </a:rPr>
              <a:t>Colaboración Pública Privada (CPP) Regulado en Ley Contratos del Sector Públi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751"/>
              </a:spcBef>
              <a:buClr>
                <a:srgbClr val="808080"/>
              </a:buClr>
              <a:buFont typeface="Arial Black"/>
              <a:buChar char="―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ts val="0"/>
              </a:lnSpc>
              <a:spcBef>
                <a:spcPts val="751"/>
              </a:spcBef>
              <a:buClr>
                <a:srgbClr val="00206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2060"/>
                </a:solidFill>
                <a:latin typeface="Arial Black"/>
              </a:rPr>
              <a:t>Inversión indirec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751"/>
              </a:spcBef>
              <a:buClr>
                <a:srgbClr val="808080"/>
              </a:buClr>
              <a:buFont typeface="Arial Black"/>
              <a:buChar char="―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Arial Black"/>
              </a:rPr>
              <a:t>Convenios con otras administracion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751"/>
              </a:spcBef>
              <a:buClr>
                <a:srgbClr val="808080"/>
              </a:buClr>
              <a:buFont typeface="Arial Black"/>
              <a:buChar char="―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Arial Black"/>
              </a:rPr>
              <a:t>Entes Públicos Empresariales y Sociedades Mercantiles Estata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00"/>
                </a:solidFill>
                <a:latin typeface="Arial Black"/>
              </a:rPr>
              <a:t>FINANCIACIÓN EXTRAPRESUPUESTA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ts val="0"/>
              </a:lnSpc>
              <a:spcBef>
                <a:spcPts val="751"/>
              </a:spcBef>
              <a:buClr>
                <a:srgbClr val="00206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2060"/>
                </a:solidFill>
                <a:latin typeface="Arial Black"/>
              </a:rPr>
              <a:t>Sistema concesional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ts val="0"/>
              </a:lnSpc>
              <a:spcBef>
                <a:spcPts val="7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330120" y="85680"/>
            <a:ext cx="9383760" cy="955440"/>
            <a:chOff x="330120" y="85680"/>
            <a:chExt cx="9383760" cy="955440"/>
          </a:xfrm>
        </p:grpSpPr>
        <p:sp>
          <p:nvSpPr>
            <p:cNvPr id="189" name="Text Box 9"/>
            <p:cNvSpPr/>
            <p:nvPr/>
          </p:nvSpPr>
          <p:spPr>
            <a:xfrm>
              <a:off x="2289240" y="333360"/>
              <a:ext cx="5688000" cy="70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08080"/>
                  </a:solidFill>
                  <a:latin typeface="Arial Black"/>
                </a:rPr>
                <a:t>GESTIÓN DE LA INVERSIÓN PÚBLIC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0" name=""/>
            <p:cNvGrpSpPr/>
            <p:nvPr/>
          </p:nvGrpSpPr>
          <p:grpSpPr>
            <a:xfrm>
              <a:off x="330120" y="85680"/>
              <a:ext cx="9383760" cy="914400"/>
              <a:chOff x="330120" y="85680"/>
              <a:chExt cx="9383760" cy="914400"/>
            </a:xfrm>
          </p:grpSpPr>
          <p:pic>
            <p:nvPicPr>
              <p:cNvPr id="191" name="Picture 3" descr="esc_web0"/>
              <p:cNvPicPr/>
              <p:nvPr/>
            </p:nvPicPr>
            <p:blipFill>
              <a:blip r:embed="rId1"/>
              <a:stretch/>
            </p:blipFill>
            <p:spPr>
              <a:xfrm>
                <a:off x="330120" y="85680"/>
                <a:ext cx="990720" cy="914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2" name="Text Box 4"/>
              <p:cNvSpPr/>
              <p:nvPr/>
            </p:nvSpPr>
            <p:spPr>
              <a:xfrm>
                <a:off x="1424160" y="404640"/>
                <a:ext cx="2180880" cy="45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46800" bIns="4680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MINISTERIO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DE HACIENDA Y ADMINISTRACIONES PÚBLICA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3" name=""/>
              <p:cNvGrpSpPr/>
              <p:nvPr/>
            </p:nvGrpSpPr>
            <p:grpSpPr>
              <a:xfrm>
                <a:off x="8048520" y="189000"/>
                <a:ext cx="1665360" cy="712800"/>
                <a:chOff x="8048520" y="189000"/>
                <a:chExt cx="1665360" cy="712800"/>
              </a:xfrm>
            </p:grpSpPr>
            <p:sp>
              <p:nvSpPr>
                <p:cNvPr id="194" name="Text Box 7"/>
                <p:cNvSpPr/>
                <p:nvPr/>
              </p:nvSpPr>
              <p:spPr>
                <a:xfrm>
                  <a:off x="8048520" y="549360"/>
                  <a:ext cx="1657440" cy="3524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000" rIns="36000" tIns="46800" bIns="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51"/>
                    </a:spcBef>
                    <a:spcAft>
                      <a:spcPts val="5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DIRECCIÓN GENERAL DE PRESUPUESTOS 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" name="Text Box 8"/>
                <p:cNvSpPr/>
                <p:nvPr/>
              </p:nvSpPr>
              <p:spPr>
                <a:xfrm>
                  <a:off x="8048520" y="189000"/>
                  <a:ext cx="1665360" cy="3603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000" rIns="36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37"/>
                    </a:spcBef>
                    <a:spcAft>
                      <a:spcPts val="37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SECRETARIA DE ESTADO  DE PRESUPUESTOS Y GASTOS</a:t>
                  </a:r>
                  <a:r>
                    <a:rPr b="1" lang="en-US" sz="6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endParaRPr b="0" lang="en-US" sz="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3 Marcador de número de diapositiva"/>
          <p:cNvSpPr/>
          <p:nvPr/>
        </p:nvSpPr>
        <p:spPr>
          <a:xfrm>
            <a:off x="709920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DCD12-6978-43BB-83ED-BCC964716E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2"/>
          <p:cNvSpPr/>
          <p:nvPr/>
        </p:nvSpPr>
        <p:spPr>
          <a:xfrm>
            <a:off x="0" y="0"/>
            <a:ext cx="990612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 Box 9"/>
          <p:cNvSpPr/>
          <p:nvPr/>
        </p:nvSpPr>
        <p:spPr>
          <a:xfrm>
            <a:off x="415800" y="1844640"/>
            <a:ext cx="9283680" cy="427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SISTEMA TRADIC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876"/>
              </a:spcBef>
              <a:buClr>
                <a:srgbClr val="80808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 Black"/>
              </a:rPr>
              <a:t>Contrato clásico de obra con pago por certificaciones de ejecución (Ley de Contratos del sector Público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876"/>
              </a:spcBef>
              <a:buClr>
                <a:srgbClr val="80808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876"/>
              </a:spcBef>
              <a:buClr>
                <a:srgbClr val="80808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 Black"/>
              </a:rPr>
              <a:t>La empresa contratista recibe una serie de aportaciones monetarias a cuenta durante el período de ejecución de la obr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876"/>
              </a:spcBef>
              <a:buClr>
                <a:srgbClr val="80808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876"/>
              </a:spcBef>
              <a:buClr>
                <a:srgbClr val="80808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 Black"/>
              </a:rPr>
              <a:t>Liquidación a la recepción de la ob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876"/>
              </a:spcBef>
              <a:buClr>
                <a:srgbClr val="80808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876"/>
              </a:spcBef>
              <a:buClr>
                <a:srgbClr val="80808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 Black"/>
              </a:rPr>
              <a:t>Inversión financiada con cargo al capítulo 6 “Inversiones Reales” de los Presupuestos Generales del Estado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330120" y="85680"/>
            <a:ext cx="9383760" cy="955440"/>
            <a:chOff x="330120" y="85680"/>
            <a:chExt cx="9383760" cy="955440"/>
          </a:xfrm>
        </p:grpSpPr>
        <p:sp>
          <p:nvSpPr>
            <p:cNvPr id="200" name="Text Box 9"/>
            <p:cNvSpPr/>
            <p:nvPr/>
          </p:nvSpPr>
          <p:spPr>
            <a:xfrm>
              <a:off x="2289240" y="333360"/>
              <a:ext cx="5688000" cy="70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08080"/>
                  </a:solidFill>
                  <a:latin typeface="Arial Black"/>
                </a:rPr>
                <a:t>GESTIÓN DE LA INVERSIÓN PÚBLIC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1" name=""/>
            <p:cNvGrpSpPr/>
            <p:nvPr/>
          </p:nvGrpSpPr>
          <p:grpSpPr>
            <a:xfrm>
              <a:off x="330120" y="85680"/>
              <a:ext cx="9383760" cy="914400"/>
              <a:chOff x="330120" y="85680"/>
              <a:chExt cx="9383760" cy="914400"/>
            </a:xfrm>
          </p:grpSpPr>
          <p:pic>
            <p:nvPicPr>
              <p:cNvPr id="202" name="Picture 3" descr="esc_web0"/>
              <p:cNvPicPr/>
              <p:nvPr/>
            </p:nvPicPr>
            <p:blipFill>
              <a:blip r:embed="rId1"/>
              <a:stretch/>
            </p:blipFill>
            <p:spPr>
              <a:xfrm>
                <a:off x="330120" y="85680"/>
                <a:ext cx="990720" cy="914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3" name="Text Box 4"/>
              <p:cNvSpPr/>
              <p:nvPr/>
            </p:nvSpPr>
            <p:spPr>
              <a:xfrm>
                <a:off x="1424160" y="404640"/>
                <a:ext cx="2180880" cy="45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46800" bIns="4680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MINISTERIO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DE HACIENDA Y ADMINISTRACIONES PÚBLICA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4" name=""/>
              <p:cNvGrpSpPr/>
              <p:nvPr/>
            </p:nvGrpSpPr>
            <p:grpSpPr>
              <a:xfrm>
                <a:off x="8048520" y="189000"/>
                <a:ext cx="1665360" cy="712800"/>
                <a:chOff x="8048520" y="189000"/>
                <a:chExt cx="1665360" cy="712800"/>
              </a:xfrm>
            </p:grpSpPr>
            <p:sp>
              <p:nvSpPr>
                <p:cNvPr id="205" name="Text Box 7"/>
                <p:cNvSpPr/>
                <p:nvPr/>
              </p:nvSpPr>
              <p:spPr>
                <a:xfrm>
                  <a:off x="8048520" y="549360"/>
                  <a:ext cx="1657440" cy="3524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000" rIns="36000" tIns="46800" bIns="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51"/>
                    </a:spcBef>
                    <a:spcAft>
                      <a:spcPts val="5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DIRECCIÓN GENERAL DE PRESUPUESTOS 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Text Box 8"/>
                <p:cNvSpPr/>
                <p:nvPr/>
              </p:nvSpPr>
              <p:spPr>
                <a:xfrm>
                  <a:off x="8048520" y="189000"/>
                  <a:ext cx="1665360" cy="3603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000" rIns="36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37"/>
                    </a:spcBef>
                    <a:spcAft>
                      <a:spcPts val="37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SECRETARIA DE ESTADO  DE PRESUPUESTOS Y GASTOS</a:t>
                  </a:r>
                  <a:r>
                    <a:rPr b="1" lang="en-US" sz="6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endParaRPr b="0" lang="en-US" sz="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3 Marcador de número de diapositiva"/>
          <p:cNvSpPr/>
          <p:nvPr/>
        </p:nvSpPr>
        <p:spPr>
          <a:xfrm>
            <a:off x="709920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08BE2-2A97-4F54-93A4-B827AA87AE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 Box 2"/>
          <p:cNvSpPr/>
          <p:nvPr/>
        </p:nvSpPr>
        <p:spPr>
          <a:xfrm>
            <a:off x="0" y="0"/>
            <a:ext cx="990612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9"/>
          <p:cNvSpPr/>
          <p:nvPr/>
        </p:nvSpPr>
        <p:spPr>
          <a:xfrm>
            <a:off x="344520" y="1125360"/>
            <a:ext cx="9283680" cy="60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ABONO TOTAL DEL PRECIO (MÉTODO ALEMÁ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876"/>
              </a:spcBef>
              <a:buClr>
                <a:srgbClr val="80808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 Black"/>
              </a:rPr>
              <a:t>Equivale al contrato conocido como “Llave en mano”: precio único abonado al finalizar las ob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876"/>
              </a:spcBef>
              <a:buClr>
                <a:srgbClr val="80808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 Black"/>
              </a:rPr>
              <a:t>El contratista financia la ejecución de la obr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876"/>
              </a:spcBef>
              <a:buClr>
                <a:srgbClr val="80808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 Black"/>
              </a:rPr>
              <a:t>Según la legislación española se aplica únicamente a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4" marL="1371600" indent="-457200" algn="just">
              <a:lnSpc>
                <a:spcPct val="100000"/>
              </a:lnSpc>
              <a:spcBef>
                <a:spcPts val="876"/>
              </a:spcBef>
              <a:buClr>
                <a:srgbClr val="80808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Infraestructuras de carreteras: 24,04 millones de euro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4" marL="1371600" indent="-457200" algn="just">
              <a:lnSpc>
                <a:spcPct val="100000"/>
              </a:lnSpc>
              <a:spcBef>
                <a:spcPts val="876"/>
              </a:spcBef>
              <a:buClr>
                <a:srgbClr val="80808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Infraestructuras ferroviarias: 18,03 millones de euro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4" marL="1371600" indent="-457200" algn="just">
              <a:lnSpc>
                <a:spcPct val="100000"/>
              </a:lnSpc>
              <a:spcBef>
                <a:spcPts val="876"/>
              </a:spcBef>
              <a:buClr>
                <a:srgbClr val="80808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Infraestructuras hidráulicas: 18,03 millones de eur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4" marL="1371600" indent="-457200" algn="just">
              <a:lnSpc>
                <a:spcPct val="100000"/>
              </a:lnSpc>
              <a:spcBef>
                <a:spcPts val="876"/>
              </a:spcBef>
              <a:buClr>
                <a:srgbClr val="80808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Infraestructuras en la costa y medioambientales: 6,01 millones de euro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876"/>
              </a:spcBef>
              <a:buClr>
                <a:srgbClr val="80808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 Black"/>
              </a:rPr>
              <a:t>Importe limitado al 30% del importe del capítulo 6 del Departamento en el ejercicio en que se vaya a utilizar este sistema de licit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876"/>
              </a:spcBef>
              <a:buClr>
                <a:srgbClr val="80808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 Black"/>
              </a:rPr>
              <a:t>Inversión financiada con cargo al capítulo 6 “Inversiones Reales” de los Presupuestos Generales del Estado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876"/>
              </a:spcBef>
              <a:buClr>
                <a:srgbClr val="80808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 Black"/>
              </a:rPr>
              <a:t>Se consigue aliviar la presión `presupuestaria en los ejercicios próximos aplazando los compromisos a ejercicios posterior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876"/>
              </a:spcBef>
              <a:buClr>
                <a:srgbClr val="80808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 Black"/>
              </a:rPr>
              <a:t>A efectos del calculo del déficit  el gasto se computa en el ejercicio en que se ejecuta la obr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876"/>
              </a:spcBef>
              <a:buClr>
                <a:srgbClr val="80808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330120" y="85680"/>
            <a:ext cx="9383760" cy="955440"/>
            <a:chOff x="330120" y="85680"/>
            <a:chExt cx="9383760" cy="955440"/>
          </a:xfrm>
        </p:grpSpPr>
        <p:sp>
          <p:nvSpPr>
            <p:cNvPr id="211" name="Text Box 9"/>
            <p:cNvSpPr/>
            <p:nvPr/>
          </p:nvSpPr>
          <p:spPr>
            <a:xfrm>
              <a:off x="2289240" y="333360"/>
              <a:ext cx="5688000" cy="70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08080"/>
                  </a:solidFill>
                  <a:latin typeface="Arial Black"/>
                </a:rPr>
                <a:t>GESTIÓN DE LA INVERSIÓN PÚBLIC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2" name=""/>
            <p:cNvGrpSpPr/>
            <p:nvPr/>
          </p:nvGrpSpPr>
          <p:grpSpPr>
            <a:xfrm>
              <a:off x="330120" y="85680"/>
              <a:ext cx="9383760" cy="914400"/>
              <a:chOff x="330120" y="85680"/>
              <a:chExt cx="9383760" cy="914400"/>
            </a:xfrm>
          </p:grpSpPr>
          <p:pic>
            <p:nvPicPr>
              <p:cNvPr id="213" name="Picture 3" descr="esc_web0"/>
              <p:cNvPicPr/>
              <p:nvPr/>
            </p:nvPicPr>
            <p:blipFill>
              <a:blip r:embed="rId1"/>
              <a:stretch/>
            </p:blipFill>
            <p:spPr>
              <a:xfrm>
                <a:off x="330120" y="85680"/>
                <a:ext cx="990720" cy="914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4" name="Text Box 4"/>
              <p:cNvSpPr/>
              <p:nvPr/>
            </p:nvSpPr>
            <p:spPr>
              <a:xfrm>
                <a:off x="1424160" y="404640"/>
                <a:ext cx="2180880" cy="45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46800" bIns="4680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MINISTERIO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DE HACIENDA Y ADMINISTRACIONES PÚBLICA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5" name=""/>
              <p:cNvGrpSpPr/>
              <p:nvPr/>
            </p:nvGrpSpPr>
            <p:grpSpPr>
              <a:xfrm>
                <a:off x="8048520" y="189000"/>
                <a:ext cx="1665360" cy="712800"/>
                <a:chOff x="8048520" y="189000"/>
                <a:chExt cx="1665360" cy="712800"/>
              </a:xfrm>
            </p:grpSpPr>
            <p:sp>
              <p:nvSpPr>
                <p:cNvPr id="216" name="Text Box 7"/>
                <p:cNvSpPr/>
                <p:nvPr/>
              </p:nvSpPr>
              <p:spPr>
                <a:xfrm>
                  <a:off x="8048520" y="549360"/>
                  <a:ext cx="1657440" cy="3524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000" rIns="36000" tIns="46800" bIns="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51"/>
                    </a:spcBef>
                    <a:spcAft>
                      <a:spcPts val="5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DIRECCIÓN GENERAL DE PRESUPUESTOS 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Text Box 8"/>
                <p:cNvSpPr/>
                <p:nvPr/>
              </p:nvSpPr>
              <p:spPr>
                <a:xfrm>
                  <a:off x="8048520" y="189000"/>
                  <a:ext cx="1665360" cy="3603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000" rIns="36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37"/>
                    </a:spcBef>
                    <a:spcAft>
                      <a:spcPts val="37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SECRETARIA DE ESTADO  DE PRESUPUESTOS Y GASTOS</a:t>
                  </a:r>
                  <a:r>
                    <a:rPr b="1" lang="en-US" sz="6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endParaRPr b="0" lang="en-US" sz="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3 Marcador de número de diapositiva"/>
          <p:cNvSpPr/>
          <p:nvPr/>
        </p:nvSpPr>
        <p:spPr>
          <a:xfrm>
            <a:off x="709920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D0591-CCDC-4F9D-BE59-DB0F3FA50A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 Box 2"/>
          <p:cNvSpPr/>
          <p:nvPr/>
        </p:nvSpPr>
        <p:spPr>
          <a:xfrm>
            <a:off x="0" y="0"/>
            <a:ext cx="990612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 Box 9"/>
          <p:cNvSpPr/>
          <p:nvPr/>
        </p:nvSpPr>
        <p:spPr>
          <a:xfrm>
            <a:off x="344520" y="1484280"/>
            <a:ext cx="9283680" cy="248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3399"/>
                </a:solidFill>
                <a:latin typeface="Arial Black"/>
              </a:rPr>
              <a:t>ABONO TOTAL DEL PRECIO (MÉTODO ALEMÁN) (cont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876"/>
              </a:spcBef>
              <a:buClr>
                <a:srgbClr val="80808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876"/>
              </a:spcBef>
              <a:buClr>
                <a:srgbClr val="80808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808080"/>
                </a:solidFill>
                <a:latin typeface="Arial Black"/>
              </a:rPr>
              <a:t>Utilización para financiar infraestructura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876"/>
              </a:spcBef>
              <a:buClr>
                <a:srgbClr val="80808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1" name="Object 2"/>
          <p:cNvGraphicFramePr/>
          <p:nvPr/>
        </p:nvGraphicFramePr>
        <p:xfrm>
          <a:off x="1857240" y="2565360"/>
          <a:ext cx="6297840" cy="386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57240" y="2565360"/>
                    <a:ext cx="6297840" cy="386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23" name=""/>
          <p:cNvGrpSpPr/>
          <p:nvPr/>
        </p:nvGrpSpPr>
        <p:grpSpPr>
          <a:xfrm>
            <a:off x="330120" y="85680"/>
            <a:ext cx="9383760" cy="955440"/>
            <a:chOff x="330120" y="85680"/>
            <a:chExt cx="9383760" cy="955440"/>
          </a:xfrm>
        </p:grpSpPr>
        <p:sp>
          <p:nvSpPr>
            <p:cNvPr id="224" name="Text Box 9"/>
            <p:cNvSpPr/>
            <p:nvPr/>
          </p:nvSpPr>
          <p:spPr>
            <a:xfrm>
              <a:off x="2289240" y="333360"/>
              <a:ext cx="5688000" cy="70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08080"/>
                  </a:solidFill>
                  <a:latin typeface="Arial Black"/>
                </a:rPr>
                <a:t>GESTIÓN DE LA INVERSIÓN PÚBLIC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5" name=""/>
            <p:cNvGrpSpPr/>
            <p:nvPr/>
          </p:nvGrpSpPr>
          <p:grpSpPr>
            <a:xfrm>
              <a:off x="330120" y="85680"/>
              <a:ext cx="9383760" cy="914400"/>
              <a:chOff x="330120" y="85680"/>
              <a:chExt cx="9383760" cy="914400"/>
            </a:xfrm>
          </p:grpSpPr>
          <p:pic>
            <p:nvPicPr>
              <p:cNvPr id="226" name="Picture 3" descr="esc_web0"/>
              <p:cNvPicPr/>
              <p:nvPr/>
            </p:nvPicPr>
            <p:blipFill>
              <a:blip r:embed="rId3"/>
              <a:stretch/>
            </p:blipFill>
            <p:spPr>
              <a:xfrm>
                <a:off x="330120" y="85680"/>
                <a:ext cx="990720" cy="914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7" name="Text Box 4"/>
              <p:cNvSpPr/>
              <p:nvPr/>
            </p:nvSpPr>
            <p:spPr>
              <a:xfrm>
                <a:off x="1424160" y="404640"/>
                <a:ext cx="2180880" cy="45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46800" bIns="4680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MINISTERIO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DE HACIENDA Y ADMINISTRACIONES PÚBLICA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28" name=""/>
              <p:cNvGrpSpPr/>
              <p:nvPr/>
            </p:nvGrpSpPr>
            <p:grpSpPr>
              <a:xfrm>
                <a:off x="8048520" y="189000"/>
                <a:ext cx="1665360" cy="712800"/>
                <a:chOff x="8048520" y="189000"/>
                <a:chExt cx="1665360" cy="712800"/>
              </a:xfrm>
            </p:grpSpPr>
            <p:sp>
              <p:nvSpPr>
                <p:cNvPr id="229" name="Text Box 7"/>
                <p:cNvSpPr/>
                <p:nvPr/>
              </p:nvSpPr>
              <p:spPr>
                <a:xfrm>
                  <a:off x="8048520" y="549360"/>
                  <a:ext cx="1657440" cy="3524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000" rIns="36000" tIns="46800" bIns="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51"/>
                    </a:spcBef>
                    <a:spcAft>
                      <a:spcPts val="5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DIRECCIÓN GENERAL DE PRESUPUESTOS 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Text Box 8"/>
                <p:cNvSpPr/>
                <p:nvPr/>
              </p:nvSpPr>
              <p:spPr>
                <a:xfrm>
                  <a:off x="8048520" y="189000"/>
                  <a:ext cx="1665360" cy="3603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000" rIns="36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37"/>
                    </a:spcBef>
                    <a:spcAft>
                      <a:spcPts val="37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SECRETARIA DE ESTADO  DE PRESUPUESTOS Y GASTOS</a:t>
                  </a:r>
                  <a:r>
                    <a:rPr b="1" lang="en-US" sz="6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endParaRPr b="0" lang="en-US" sz="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3 Marcador de número de diapositiva"/>
          <p:cNvSpPr/>
          <p:nvPr/>
        </p:nvSpPr>
        <p:spPr>
          <a:xfrm>
            <a:off x="709920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CC118-9752-4C62-A354-FB77350BB9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 Box 2"/>
          <p:cNvSpPr/>
          <p:nvPr/>
        </p:nvSpPr>
        <p:spPr>
          <a:xfrm>
            <a:off x="0" y="0"/>
            <a:ext cx="990612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Text Box 9"/>
          <p:cNvSpPr/>
          <p:nvPr/>
        </p:nvSpPr>
        <p:spPr>
          <a:xfrm>
            <a:off x="344520" y="1341360"/>
            <a:ext cx="9283680" cy="507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SISTEMA CONCES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876"/>
              </a:spcBef>
              <a:buClr>
                <a:srgbClr val="80808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 Black"/>
              </a:rPr>
              <a:t>Transferencia de la gestión de la infraestructura manteniendo la titularidad públi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876"/>
              </a:spcBef>
              <a:buClr>
                <a:srgbClr val="80808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 Black"/>
              </a:rPr>
              <a:t>Ejecución de la obra a riesgo y ventura del contratis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876"/>
              </a:spcBef>
              <a:buClr>
                <a:srgbClr val="80808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 Black"/>
              </a:rPr>
              <a:t>Característica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4" marL="1371600" indent="-457200" algn="just">
              <a:lnSpc>
                <a:spcPct val="100000"/>
              </a:lnSpc>
              <a:spcBef>
                <a:spcPts val="876"/>
              </a:spcBef>
              <a:buClr>
                <a:srgbClr val="80808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Transferencia  desde los riesgos al sector privado part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4" marL="1371600" indent="-457200" algn="just">
              <a:lnSpc>
                <a:spcPct val="100000"/>
              </a:lnSpc>
              <a:spcBef>
                <a:spcPts val="876"/>
              </a:spcBef>
              <a:buClr>
                <a:srgbClr val="80808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Transferencia de activos al sector privado sin que implique cesión de la propieda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876"/>
              </a:spcBef>
              <a:buClr>
                <a:srgbClr val="80808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 Black"/>
              </a:rPr>
              <a:t>Derecho del concesionario a percibir un precio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4" marL="1371600" indent="-457200" algn="just">
              <a:lnSpc>
                <a:spcPct val="100000"/>
              </a:lnSpc>
              <a:spcBef>
                <a:spcPts val="876"/>
              </a:spcBef>
              <a:buClr>
                <a:srgbClr val="80808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El que abone el usuario  por uso de la mism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4" marL="1371600" indent="-457200" algn="just">
              <a:lnSpc>
                <a:spcPct val="100000"/>
              </a:lnSpc>
              <a:spcBef>
                <a:spcPts val="876"/>
              </a:spcBef>
              <a:buClr>
                <a:srgbClr val="80808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Explotación zonas comercia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4" marL="1371600" indent="-457200" algn="just">
              <a:lnSpc>
                <a:spcPct val="100000"/>
              </a:lnSpc>
              <a:spcBef>
                <a:spcPts val="876"/>
              </a:spcBef>
              <a:buClr>
                <a:srgbClr val="80808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Aportaciones que pudiera realizar la Administr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4" marL="1371600" indent="-457200" algn="just">
              <a:lnSpc>
                <a:spcPct val="100000"/>
              </a:lnSpc>
              <a:spcBef>
                <a:spcPts val="876"/>
              </a:spcBef>
              <a:buClr>
                <a:srgbClr val="80808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876"/>
              </a:spcBef>
              <a:buClr>
                <a:srgbClr val="80808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 Black"/>
              </a:rPr>
              <a:t>PEAJE EN SOMBR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 algn="just">
              <a:lnSpc>
                <a:spcPct val="100000"/>
              </a:lnSpc>
              <a:spcBef>
                <a:spcPts val="876"/>
              </a:spcBef>
              <a:buClr>
                <a:srgbClr val="80808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La Administración adquiere el compromiso de abonar, durante un plazo determinado, unas tarifas de acuerdo con el uso que se haga de la infraestructur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330120" y="85680"/>
            <a:ext cx="9383760" cy="955440"/>
            <a:chOff x="330120" y="85680"/>
            <a:chExt cx="9383760" cy="955440"/>
          </a:xfrm>
        </p:grpSpPr>
        <p:sp>
          <p:nvSpPr>
            <p:cNvPr id="235" name="Text Box 9"/>
            <p:cNvSpPr/>
            <p:nvPr/>
          </p:nvSpPr>
          <p:spPr>
            <a:xfrm>
              <a:off x="2289240" y="333360"/>
              <a:ext cx="5688000" cy="70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08080"/>
                  </a:solidFill>
                  <a:latin typeface="Arial Black"/>
                </a:rPr>
                <a:t>GESTIÓN DE LA INVERSIÓN PÚBLIC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6" name=""/>
            <p:cNvGrpSpPr/>
            <p:nvPr/>
          </p:nvGrpSpPr>
          <p:grpSpPr>
            <a:xfrm>
              <a:off x="330120" y="85680"/>
              <a:ext cx="9383760" cy="914400"/>
              <a:chOff x="330120" y="85680"/>
              <a:chExt cx="9383760" cy="914400"/>
            </a:xfrm>
          </p:grpSpPr>
          <p:pic>
            <p:nvPicPr>
              <p:cNvPr id="237" name="Picture 3" descr="esc_web0"/>
              <p:cNvPicPr/>
              <p:nvPr/>
            </p:nvPicPr>
            <p:blipFill>
              <a:blip r:embed="rId1"/>
              <a:stretch/>
            </p:blipFill>
            <p:spPr>
              <a:xfrm>
                <a:off x="330120" y="85680"/>
                <a:ext cx="990720" cy="914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8" name="Text Box 4"/>
              <p:cNvSpPr/>
              <p:nvPr/>
            </p:nvSpPr>
            <p:spPr>
              <a:xfrm>
                <a:off x="1424160" y="404640"/>
                <a:ext cx="2180880" cy="45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46800" bIns="4680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MINISTERIO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DE HACIENDA Y ADMINISTRACIONES PÚBLICA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9" name=""/>
              <p:cNvGrpSpPr/>
              <p:nvPr/>
            </p:nvGrpSpPr>
            <p:grpSpPr>
              <a:xfrm>
                <a:off x="8048520" y="189000"/>
                <a:ext cx="1665360" cy="712800"/>
                <a:chOff x="8048520" y="189000"/>
                <a:chExt cx="1665360" cy="712800"/>
              </a:xfrm>
            </p:grpSpPr>
            <p:sp>
              <p:nvSpPr>
                <p:cNvPr id="240" name="Text Box 7"/>
                <p:cNvSpPr/>
                <p:nvPr/>
              </p:nvSpPr>
              <p:spPr>
                <a:xfrm>
                  <a:off x="8048520" y="549360"/>
                  <a:ext cx="1657440" cy="3524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000" rIns="36000" tIns="46800" bIns="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51"/>
                    </a:spcBef>
                    <a:spcAft>
                      <a:spcPts val="5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DIRECCIÓN GENERAL DE PRESUPUESTOS 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Text Box 8"/>
                <p:cNvSpPr/>
                <p:nvPr/>
              </p:nvSpPr>
              <p:spPr>
                <a:xfrm>
                  <a:off x="8048520" y="189000"/>
                  <a:ext cx="1665360" cy="3603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000" rIns="36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37"/>
                    </a:spcBef>
                    <a:spcAft>
                      <a:spcPts val="37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SECRETARIA DE ESTADO  DE PRESUPUESTOS Y GASTOS</a:t>
                  </a:r>
                  <a:r>
                    <a:rPr b="1" lang="en-US" sz="6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endParaRPr b="0" lang="en-US" sz="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3 Marcador de número de diapositiva"/>
          <p:cNvSpPr/>
          <p:nvPr/>
        </p:nvSpPr>
        <p:spPr>
          <a:xfrm>
            <a:off x="709920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C32EF-7D7D-43F1-B878-F0CEB10543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2"/>
          <p:cNvSpPr/>
          <p:nvPr/>
        </p:nvSpPr>
        <p:spPr>
          <a:xfrm>
            <a:off x="0" y="0"/>
            <a:ext cx="990612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 Box 9"/>
          <p:cNvSpPr/>
          <p:nvPr/>
        </p:nvSpPr>
        <p:spPr>
          <a:xfrm>
            <a:off x="351000" y="1268280"/>
            <a:ext cx="9283680" cy="567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808080"/>
                </a:solidFill>
                <a:latin typeface="Arial Black"/>
              </a:rPr>
              <a:t>REPARTO DE RIESG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876"/>
              </a:spcBef>
              <a:buClr>
                <a:srgbClr val="80808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808080"/>
                </a:solidFill>
                <a:latin typeface="Arial Black"/>
              </a:rPr>
              <a:t>El activo objeto de la concesión se computará en el balance de la sociedad concesionaria si sobre dicha sociedad recaen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 algn="just">
              <a:lnSpc>
                <a:spcPct val="100000"/>
              </a:lnSpc>
              <a:spcBef>
                <a:spcPts val="876"/>
              </a:spcBef>
              <a:buClr>
                <a:srgbClr val="80808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808080"/>
                </a:solidFill>
                <a:latin typeface="Arial"/>
                <a:ea typeface="Arial"/>
              </a:rPr>
              <a:t>El riesgo de </a:t>
            </a:r>
            <a:r>
              <a:rPr b="0" lang="es-ES" sz="1400" spc="-1" strike="noStrike">
                <a:solidFill>
                  <a:srgbClr val="002060"/>
                </a:solidFill>
                <a:latin typeface="Arial"/>
                <a:ea typeface="Arial"/>
              </a:rPr>
              <a:t>construc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 algn="just">
              <a:lnSpc>
                <a:spcPct val="100000"/>
              </a:lnSpc>
              <a:spcBef>
                <a:spcPts val="876"/>
              </a:spcBef>
              <a:buClr>
                <a:srgbClr val="80808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808080"/>
                </a:solidFill>
                <a:latin typeface="Arial"/>
                <a:ea typeface="Arial"/>
              </a:rPr>
              <a:t>El riesgo de </a:t>
            </a:r>
            <a:r>
              <a:rPr b="0" lang="es-ES" sz="1400" spc="-1" strike="noStrike">
                <a:solidFill>
                  <a:srgbClr val="002060"/>
                </a:solidFill>
                <a:latin typeface="Arial"/>
                <a:ea typeface="Arial"/>
              </a:rPr>
              <a:t>disponibilidad  o</a:t>
            </a:r>
            <a:r>
              <a:rPr b="0" lang="es-ES" sz="1400" spc="-1" strike="noStrike">
                <a:solidFill>
                  <a:srgbClr val="808080"/>
                </a:solidFill>
                <a:latin typeface="Arial"/>
                <a:ea typeface="Arial"/>
              </a:rPr>
              <a:t> el riesgo de  </a:t>
            </a:r>
            <a:r>
              <a:rPr b="0" lang="es-ES" sz="1400" spc="-1" strike="noStrike">
                <a:solidFill>
                  <a:srgbClr val="002060"/>
                </a:solidFill>
                <a:latin typeface="Arial"/>
                <a:ea typeface="Arial"/>
              </a:rPr>
              <a:t>demand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876"/>
              </a:spcBef>
              <a:buClr>
                <a:srgbClr val="80808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808080"/>
                </a:solidFill>
                <a:latin typeface="Arial Black"/>
              </a:rPr>
              <a:t>CONSIDERACIÓN PRESUPUESTARIA DE LA CONCES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751"/>
              </a:spcBef>
              <a:buClr>
                <a:srgbClr val="80808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876"/>
              </a:spcBef>
              <a:buClr>
                <a:srgbClr val="80808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808080"/>
                </a:solidFill>
                <a:latin typeface="Arial Black"/>
              </a:rPr>
              <a:t>Financiación extrapresupuestari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 algn="just">
              <a:lnSpc>
                <a:spcPct val="100000"/>
              </a:lnSpc>
              <a:spcBef>
                <a:spcPts val="876"/>
              </a:spcBef>
              <a:buClr>
                <a:srgbClr val="80808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808080"/>
                </a:solidFill>
                <a:latin typeface="Arial"/>
                <a:ea typeface="Arial"/>
              </a:rPr>
              <a:t>Abono de la tarifa por el usuari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 algn="just">
              <a:lnSpc>
                <a:spcPct val="100000"/>
              </a:lnSpc>
              <a:spcBef>
                <a:spcPts val="876"/>
              </a:spcBef>
              <a:buClr>
                <a:srgbClr val="80808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808080"/>
                </a:solidFill>
                <a:latin typeface="Arial"/>
                <a:ea typeface="Arial"/>
              </a:rPr>
              <a:t>Adecuado reparto de riesg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876"/>
              </a:spcBef>
              <a:buClr>
                <a:srgbClr val="80808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808080"/>
                </a:solidFill>
                <a:latin typeface="Arial Black"/>
              </a:rPr>
              <a:t>Financiación diferida con cargo al capítulo 6 de los Presupuestos Generales del Est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 algn="just">
              <a:lnSpc>
                <a:spcPct val="100000"/>
              </a:lnSpc>
              <a:spcBef>
                <a:spcPts val="876"/>
              </a:spcBef>
              <a:buClr>
                <a:srgbClr val="80808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808080"/>
                </a:solidFill>
                <a:latin typeface="Arial"/>
                <a:ea typeface="Arial"/>
              </a:rPr>
              <a:t>Abono de la tarifa por parte de la Administración conced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 algn="just">
              <a:lnSpc>
                <a:spcPct val="100000"/>
              </a:lnSpc>
              <a:spcBef>
                <a:spcPts val="876"/>
              </a:spcBef>
              <a:buClr>
                <a:srgbClr val="80808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808080"/>
                </a:solidFill>
                <a:latin typeface="Arial"/>
                <a:ea typeface="Arial"/>
              </a:rPr>
              <a:t>Adecuado reparto de riesg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330120" y="85680"/>
            <a:ext cx="9383760" cy="955440"/>
            <a:chOff x="330120" y="85680"/>
            <a:chExt cx="9383760" cy="955440"/>
          </a:xfrm>
        </p:grpSpPr>
        <p:sp>
          <p:nvSpPr>
            <p:cNvPr id="246" name="Text Box 9"/>
            <p:cNvSpPr/>
            <p:nvPr/>
          </p:nvSpPr>
          <p:spPr>
            <a:xfrm>
              <a:off x="2289240" y="333360"/>
              <a:ext cx="5688000" cy="70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08080"/>
                  </a:solidFill>
                  <a:latin typeface="Arial Black"/>
                </a:rPr>
                <a:t>GESTIÓN DE LA INVERSIÓN PÚBLIC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7" name=""/>
            <p:cNvGrpSpPr/>
            <p:nvPr/>
          </p:nvGrpSpPr>
          <p:grpSpPr>
            <a:xfrm>
              <a:off x="330120" y="85680"/>
              <a:ext cx="9383760" cy="914400"/>
              <a:chOff x="330120" y="85680"/>
              <a:chExt cx="9383760" cy="914400"/>
            </a:xfrm>
          </p:grpSpPr>
          <p:pic>
            <p:nvPicPr>
              <p:cNvPr id="248" name="Picture 3" descr="esc_web0"/>
              <p:cNvPicPr/>
              <p:nvPr/>
            </p:nvPicPr>
            <p:blipFill>
              <a:blip r:embed="rId1"/>
              <a:stretch/>
            </p:blipFill>
            <p:spPr>
              <a:xfrm>
                <a:off x="330120" y="85680"/>
                <a:ext cx="990720" cy="914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9" name="Text Box 4"/>
              <p:cNvSpPr/>
              <p:nvPr/>
            </p:nvSpPr>
            <p:spPr>
              <a:xfrm>
                <a:off x="1424160" y="404640"/>
                <a:ext cx="2180880" cy="45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46800" bIns="4680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MINISTERIO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DE HACIENDA Y ADMINISTRACIONES PÚBLICA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0" name=""/>
              <p:cNvGrpSpPr/>
              <p:nvPr/>
            </p:nvGrpSpPr>
            <p:grpSpPr>
              <a:xfrm>
                <a:off x="8048520" y="189000"/>
                <a:ext cx="1665360" cy="712800"/>
                <a:chOff x="8048520" y="189000"/>
                <a:chExt cx="1665360" cy="712800"/>
              </a:xfrm>
            </p:grpSpPr>
            <p:sp>
              <p:nvSpPr>
                <p:cNvPr id="251" name="Text Box 7"/>
                <p:cNvSpPr/>
                <p:nvPr/>
              </p:nvSpPr>
              <p:spPr>
                <a:xfrm>
                  <a:off x="8048520" y="549360"/>
                  <a:ext cx="1657440" cy="3524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000" rIns="36000" tIns="46800" bIns="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51"/>
                    </a:spcBef>
                    <a:spcAft>
                      <a:spcPts val="5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DIRECCIÓN GENERAL DE PRESUPUESTOS 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Text Box 8"/>
                <p:cNvSpPr/>
                <p:nvPr/>
              </p:nvSpPr>
              <p:spPr>
                <a:xfrm>
                  <a:off x="8048520" y="189000"/>
                  <a:ext cx="1665360" cy="3603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000" rIns="36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37"/>
                    </a:spcBef>
                    <a:spcAft>
                      <a:spcPts val="37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SECRETARIA DE ESTADO  DE PRESUPUESTOS Y GASTOS</a:t>
                  </a:r>
                  <a:r>
                    <a:rPr b="1" lang="en-US" sz="6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endParaRPr b="0" lang="en-US" sz="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3 Marcador de número de diapositiva"/>
          <p:cNvSpPr/>
          <p:nvPr/>
        </p:nvSpPr>
        <p:spPr>
          <a:xfrm>
            <a:off x="709920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F9762-F285-47D3-B98F-4C35603457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Text Box 2"/>
          <p:cNvSpPr/>
          <p:nvPr/>
        </p:nvSpPr>
        <p:spPr>
          <a:xfrm>
            <a:off x="0" y="0"/>
            <a:ext cx="990612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Text Box 9"/>
          <p:cNvSpPr/>
          <p:nvPr/>
        </p:nvSpPr>
        <p:spPr>
          <a:xfrm>
            <a:off x="-231840" y="1197000"/>
            <a:ext cx="9906120" cy="55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 Black"/>
              </a:rPr>
              <a:t>COLABORACIÓN PÚBLICO PRIVADA (CPP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876"/>
              </a:spcBef>
              <a:buClr>
                <a:srgbClr val="80808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 Black"/>
              </a:rPr>
              <a:t>En España aparece regulada por primera vez en la Ley de Contratos del Sector Público (artículo 11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 algn="just">
              <a:lnSpc>
                <a:spcPct val="100000"/>
              </a:lnSpc>
              <a:spcBef>
                <a:spcPts val="751"/>
              </a:spcBef>
              <a:buClr>
                <a:srgbClr val="60606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606060"/>
                </a:solidFill>
                <a:latin typeface="Arial"/>
                <a:ea typeface="Arial"/>
              </a:rPr>
              <a:t>Contratos en que una Administración Pública encarga a una entidad de derecho privado, por un periodo determinado en función de la duración de la amortización de las inversiones o de las fórmulas de financiación que se prevean, la realización de una actuación global e integrada que, además de la financiación de inversiones inmateriales, de obras o de suministros necesarios para el cumplimiento de determinados objetivos de servicio público o relacionados con actuaciones de interés general, comprenda alguna de las siguientes prestaciones.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606060"/>
                </a:solidFill>
                <a:latin typeface="Arial"/>
                <a:ea typeface="Arial"/>
              </a:rPr>
              <a:t>	</a:t>
            </a:r>
            <a:r>
              <a:rPr b="0" i="1" lang="en-US" sz="1200" spc="-1" strike="noStrike">
                <a:solidFill>
                  <a:srgbClr val="606060"/>
                </a:solidFill>
                <a:latin typeface="Arial"/>
                <a:ea typeface="Arial"/>
              </a:rPr>
              <a:t>a). </a:t>
            </a:r>
            <a:r>
              <a:rPr b="0" i="1" lang="en-US" sz="1200" spc="-1" strike="noStrike">
                <a:solidFill>
                  <a:srgbClr val="606060"/>
                </a:solidFill>
                <a:latin typeface="Arial"/>
                <a:ea typeface="Arial"/>
              </a:rPr>
              <a:t>	</a:t>
            </a:r>
            <a:r>
              <a:rPr b="0" i="1" lang="en-US" sz="1200" spc="-1" strike="noStrike">
                <a:solidFill>
                  <a:srgbClr val="606060"/>
                </a:solidFill>
                <a:latin typeface="Arial"/>
                <a:ea typeface="Arial"/>
              </a:rPr>
              <a:t>La construcción, instalación o transformación de obras, equipos, sistemas, y productos o bienes complejos, así </a:t>
            </a:r>
            <a:r>
              <a:rPr b="0" i="1" lang="en-US" sz="1200" spc="-1" strike="noStrike">
                <a:solidFill>
                  <a:srgbClr val="606060"/>
                </a:solidFill>
                <a:latin typeface="Arial"/>
                <a:ea typeface="Arial"/>
              </a:rPr>
              <a:t>	</a:t>
            </a:r>
            <a:r>
              <a:rPr b="0" i="1" lang="en-US" sz="1200" spc="-1" strike="noStrike">
                <a:solidFill>
                  <a:srgbClr val="606060"/>
                </a:solidFill>
                <a:latin typeface="Arial"/>
                <a:ea typeface="Arial"/>
              </a:rPr>
              <a:t>su mantenimiento, actualización o renovación, su explotación o su gestió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606060"/>
                </a:solidFill>
                <a:latin typeface="Arial"/>
                <a:ea typeface="Arial"/>
              </a:rPr>
              <a:t>	</a:t>
            </a:r>
            <a:r>
              <a:rPr b="0" i="1" lang="en-US" sz="1200" spc="-1" strike="noStrike">
                <a:solidFill>
                  <a:srgbClr val="606060"/>
                </a:solidFill>
                <a:latin typeface="Arial"/>
                <a:ea typeface="Arial"/>
              </a:rPr>
              <a:t>b).</a:t>
            </a:r>
            <a:r>
              <a:rPr b="0" i="1" lang="en-US" sz="1200" spc="-1" strike="noStrike">
                <a:solidFill>
                  <a:srgbClr val="606060"/>
                </a:solidFill>
                <a:latin typeface="Arial"/>
                <a:ea typeface="Arial"/>
              </a:rPr>
              <a:t>	</a:t>
            </a:r>
            <a:r>
              <a:rPr b="0" i="1" lang="en-US" sz="1200" spc="-1" strike="noStrike">
                <a:solidFill>
                  <a:srgbClr val="606060"/>
                </a:solidFill>
                <a:latin typeface="Arial"/>
                <a:ea typeface="Arial"/>
              </a:rPr>
              <a:t>La gestión integral del mantenimiento de instalaciones compleja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606060"/>
                </a:solidFill>
                <a:latin typeface="Arial"/>
                <a:ea typeface="Arial"/>
              </a:rPr>
              <a:t>	</a:t>
            </a:r>
            <a:r>
              <a:rPr b="0" i="1" lang="en-US" sz="1200" spc="-1" strike="noStrike">
                <a:solidFill>
                  <a:srgbClr val="606060"/>
                </a:solidFill>
                <a:latin typeface="Arial"/>
                <a:ea typeface="Arial"/>
              </a:rPr>
              <a:t>c).</a:t>
            </a:r>
            <a:r>
              <a:rPr b="0" i="1" lang="en-US" sz="1200" spc="-1" strike="noStrike">
                <a:solidFill>
                  <a:srgbClr val="606060"/>
                </a:solidFill>
                <a:latin typeface="Arial"/>
                <a:ea typeface="Arial"/>
              </a:rPr>
              <a:t>	</a:t>
            </a:r>
            <a:r>
              <a:rPr b="0" i="1" lang="en-US" sz="1200" spc="-1" strike="noStrike">
                <a:solidFill>
                  <a:srgbClr val="606060"/>
                </a:solidFill>
                <a:latin typeface="Arial"/>
                <a:ea typeface="Arial"/>
              </a:rPr>
              <a:t>La fabricación de bienes y la prestación de servicios que incorporen tecnología específicamente desarrollada con </a:t>
            </a:r>
            <a:r>
              <a:rPr b="0" i="1" lang="en-US" sz="1200" spc="-1" strike="noStrike">
                <a:solidFill>
                  <a:srgbClr val="606060"/>
                </a:solidFill>
                <a:latin typeface="Arial"/>
                <a:ea typeface="Arial"/>
              </a:rPr>
              <a:t>	</a:t>
            </a:r>
            <a:r>
              <a:rPr b="0" i="1" lang="en-US" sz="1200" spc="-1" strike="noStrike">
                <a:solidFill>
                  <a:srgbClr val="606060"/>
                </a:solidFill>
                <a:latin typeface="Arial"/>
                <a:ea typeface="Arial"/>
              </a:rPr>
              <a:t>el propósito de aportar soluciones más avanzadas y económicamente más ventajosas que las existentes en el </a:t>
            </a:r>
            <a:r>
              <a:rPr b="0" i="1" lang="en-US" sz="1200" spc="-1" strike="noStrike">
                <a:solidFill>
                  <a:srgbClr val="606060"/>
                </a:solidFill>
                <a:latin typeface="Arial"/>
                <a:ea typeface="Arial"/>
              </a:rPr>
              <a:t>	</a:t>
            </a:r>
            <a:r>
              <a:rPr b="0" i="1" lang="en-US" sz="1200" spc="-1" strike="noStrike">
                <a:solidFill>
                  <a:srgbClr val="606060"/>
                </a:solidFill>
                <a:latin typeface="Arial"/>
                <a:ea typeface="Arial"/>
              </a:rPr>
              <a:t>mercad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606060"/>
                </a:solidFill>
                <a:latin typeface="Arial"/>
                <a:ea typeface="Arial"/>
              </a:rPr>
              <a:t>	</a:t>
            </a:r>
            <a:r>
              <a:rPr b="0" i="1" lang="en-US" sz="1200" spc="-1" strike="noStrike">
                <a:solidFill>
                  <a:srgbClr val="606060"/>
                </a:solidFill>
                <a:latin typeface="Arial"/>
                <a:ea typeface="Arial"/>
              </a:rPr>
              <a:t>d). </a:t>
            </a:r>
            <a:r>
              <a:rPr b="0" i="1" lang="en-US" sz="1200" spc="-1" strike="noStrike">
                <a:solidFill>
                  <a:srgbClr val="606060"/>
                </a:solidFill>
                <a:latin typeface="Arial"/>
                <a:ea typeface="Arial"/>
              </a:rPr>
              <a:t>	</a:t>
            </a:r>
            <a:r>
              <a:rPr b="0" i="1" lang="en-US" sz="1200" spc="-1" strike="noStrike">
                <a:solidFill>
                  <a:srgbClr val="606060"/>
                </a:solidFill>
                <a:latin typeface="Arial"/>
                <a:ea typeface="Arial"/>
              </a:rPr>
              <a:t>prestaciones de servicios ligadas al desarrollo por la Administración del servicio público o actuación de interés </a:t>
            </a:r>
            <a:r>
              <a:rPr b="0" i="1" lang="en-US" sz="1200" spc="-1" strike="noStrike">
                <a:solidFill>
                  <a:srgbClr val="606060"/>
                </a:solidFill>
                <a:latin typeface="Arial"/>
                <a:ea typeface="Arial"/>
              </a:rPr>
              <a:t>	</a:t>
            </a:r>
            <a:r>
              <a:rPr b="0" i="1" lang="en-US" sz="1200" spc="-1" strike="noStrike">
                <a:solidFill>
                  <a:srgbClr val="606060"/>
                </a:solidFill>
                <a:latin typeface="Arial"/>
                <a:ea typeface="Arial"/>
              </a:rPr>
              <a:t>general que le haya sido encomendad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876"/>
              </a:spcBef>
              <a:buClr>
                <a:srgbClr val="80808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 Black"/>
              </a:rPr>
              <a:t>Solo si otras fórmulas alternativas de contratación no permiten la satisfacción de las finalidades pública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876"/>
              </a:spcBef>
              <a:buClr>
                <a:srgbClr val="80808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 Black"/>
              </a:rPr>
              <a:t>La contraprestación a percibir por el contratista colaborador consistirá en un precio que se satisfará durante toda la duración del contrato, y que podrá estar vinculado al cumplimiento de determinados objetivos de rendimient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30120" y="85680"/>
            <a:ext cx="9383760" cy="955440"/>
            <a:chOff x="330120" y="85680"/>
            <a:chExt cx="9383760" cy="955440"/>
          </a:xfrm>
        </p:grpSpPr>
        <p:sp>
          <p:nvSpPr>
            <p:cNvPr id="257" name="Text Box 9"/>
            <p:cNvSpPr/>
            <p:nvPr/>
          </p:nvSpPr>
          <p:spPr>
            <a:xfrm>
              <a:off x="2289240" y="333360"/>
              <a:ext cx="5688000" cy="70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08080"/>
                  </a:solidFill>
                  <a:latin typeface="Arial Black"/>
                </a:rPr>
                <a:t>GESTIÓN DE LA INVERSIÓN PÚBLIC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8" name=""/>
            <p:cNvGrpSpPr/>
            <p:nvPr/>
          </p:nvGrpSpPr>
          <p:grpSpPr>
            <a:xfrm>
              <a:off x="330120" y="85680"/>
              <a:ext cx="9383760" cy="914400"/>
              <a:chOff x="330120" y="85680"/>
              <a:chExt cx="9383760" cy="914400"/>
            </a:xfrm>
          </p:grpSpPr>
          <p:pic>
            <p:nvPicPr>
              <p:cNvPr id="259" name="Picture 3" descr="esc_web0"/>
              <p:cNvPicPr/>
              <p:nvPr/>
            </p:nvPicPr>
            <p:blipFill>
              <a:blip r:embed="rId1"/>
              <a:stretch/>
            </p:blipFill>
            <p:spPr>
              <a:xfrm>
                <a:off x="330120" y="85680"/>
                <a:ext cx="990720" cy="914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0" name="Text Box 4"/>
              <p:cNvSpPr/>
              <p:nvPr/>
            </p:nvSpPr>
            <p:spPr>
              <a:xfrm>
                <a:off x="1424160" y="404640"/>
                <a:ext cx="2180880" cy="45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46800" bIns="4680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MINISTERIO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DE HACIENDA Y ADMINISTRACIONES PÚBLICA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1" name=""/>
              <p:cNvGrpSpPr/>
              <p:nvPr/>
            </p:nvGrpSpPr>
            <p:grpSpPr>
              <a:xfrm>
                <a:off x="8048520" y="189000"/>
                <a:ext cx="1665360" cy="712800"/>
                <a:chOff x="8048520" y="189000"/>
                <a:chExt cx="1665360" cy="712800"/>
              </a:xfrm>
            </p:grpSpPr>
            <p:sp>
              <p:nvSpPr>
                <p:cNvPr id="262" name="Text Box 7"/>
                <p:cNvSpPr/>
                <p:nvPr/>
              </p:nvSpPr>
              <p:spPr>
                <a:xfrm>
                  <a:off x="8048520" y="549360"/>
                  <a:ext cx="1657440" cy="3524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000" rIns="36000" tIns="46800" bIns="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51"/>
                    </a:spcBef>
                    <a:spcAft>
                      <a:spcPts val="5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DIRECCIÓN GENERAL DE PRESUPUESTOS 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Text Box 8"/>
                <p:cNvSpPr/>
                <p:nvPr/>
              </p:nvSpPr>
              <p:spPr>
                <a:xfrm>
                  <a:off x="8048520" y="189000"/>
                  <a:ext cx="1665360" cy="3603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000" rIns="36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37"/>
                    </a:spcBef>
                    <a:spcAft>
                      <a:spcPts val="37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SECRETARIA DE ESTADO  DE PRESUPUESTOS Y GASTOS</a:t>
                  </a:r>
                  <a:r>
                    <a:rPr b="1" lang="en-US" sz="6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endParaRPr b="0" lang="en-US" sz="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3 Marcador de número de diapositiva"/>
          <p:cNvSpPr/>
          <p:nvPr/>
        </p:nvSpPr>
        <p:spPr>
          <a:xfrm>
            <a:off x="709920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5D7D3-10FE-4BB3-BDAE-D80C184806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Text Box 2"/>
          <p:cNvSpPr/>
          <p:nvPr/>
        </p:nvSpPr>
        <p:spPr>
          <a:xfrm>
            <a:off x="0" y="0"/>
            <a:ext cx="990612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Text Box 9"/>
          <p:cNvSpPr/>
          <p:nvPr/>
        </p:nvSpPr>
        <p:spPr>
          <a:xfrm>
            <a:off x="351000" y="1268280"/>
            <a:ext cx="9283680" cy="456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457200" algn="just">
              <a:lnSpc>
                <a:spcPct val="100000"/>
              </a:lnSpc>
              <a:spcBef>
                <a:spcPts val="1001"/>
              </a:spcBef>
              <a:buClr>
                <a:srgbClr val="3333cc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 Black"/>
              </a:rPr>
              <a:t>CONVENIOS CON OTRAS ADMINISTRACIONES</a:t>
            </a:r>
            <a:r>
              <a:rPr b="0" lang="en-US" sz="1600" spc="-1" strike="noStrike">
                <a:solidFill>
                  <a:srgbClr val="808080"/>
                </a:solidFill>
                <a:latin typeface="Arial Black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457200" algn="just">
              <a:lnSpc>
                <a:spcPct val="100000"/>
              </a:lnSpc>
              <a:spcBef>
                <a:spcPts val="876"/>
              </a:spcBef>
              <a:buClr>
                <a:srgbClr val="80808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457200" algn="just">
              <a:lnSpc>
                <a:spcPct val="100000"/>
              </a:lnSpc>
              <a:spcBef>
                <a:spcPts val="876"/>
              </a:spcBef>
              <a:buClr>
                <a:srgbClr val="80808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A Comunidades Autónomas o Entidades Locales mediante suscripción de convenios para la financiación de infraestructura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457200" algn="just">
              <a:lnSpc>
                <a:spcPct val="100000"/>
              </a:lnSpc>
              <a:spcBef>
                <a:spcPts val="876"/>
              </a:spcBef>
              <a:buClr>
                <a:srgbClr val="80808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A Entes Públicos o Privados para financiar infraestructuras en parte o en su totalidad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457200" algn="just">
              <a:lnSpc>
                <a:spcPct val="100000"/>
              </a:lnSpc>
              <a:spcBef>
                <a:spcPts val="876"/>
              </a:spcBef>
              <a:buClr>
                <a:srgbClr val="808080"/>
              </a:buClr>
              <a:buFont typeface="Arial Black"/>
              <a:buChar char="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457200" algn="just">
              <a:lnSpc>
                <a:spcPct val="100000"/>
              </a:lnSpc>
              <a:spcBef>
                <a:spcPts val="1001"/>
              </a:spcBef>
              <a:buClr>
                <a:srgbClr val="3333cc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 Black"/>
              </a:rPr>
              <a:t>ENTIDADES PÚBLICAS EMPRESARIALES O SOCIEDADES MERCANTILES ESTATALES.</a:t>
            </a:r>
            <a:r>
              <a:rPr b="0" lang="en-US" sz="1600" spc="-1" strike="noStrike">
                <a:solidFill>
                  <a:srgbClr val="808080"/>
                </a:solidFill>
                <a:latin typeface="Arial Black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457200" algn="just">
              <a:lnSpc>
                <a:spcPct val="100000"/>
              </a:lnSpc>
              <a:spcBef>
                <a:spcPts val="751"/>
              </a:spcBef>
              <a:buClr>
                <a:srgbClr val="80808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457200" algn="just">
              <a:lnSpc>
                <a:spcPct val="100000"/>
              </a:lnSpc>
              <a:spcBef>
                <a:spcPts val="876"/>
              </a:spcBef>
              <a:buClr>
                <a:srgbClr val="80808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ADIF que invierte en LAV. Recibe además fondos de la UE y tiene autorizado endeudamient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457200" algn="just">
              <a:lnSpc>
                <a:spcPct val="100000"/>
              </a:lnSpc>
              <a:spcBef>
                <a:spcPts val="876"/>
              </a:spcBef>
              <a:buClr>
                <a:srgbClr val="80808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AENA y Sistema Portuario (Ente Puertos del Estado y Autoridades Portuarias). El resto de la financiación procede de tarifas, endeudamiento y fondos AE. Son autosuficient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457200" algn="just">
              <a:lnSpc>
                <a:spcPct val="100000"/>
              </a:lnSpc>
              <a:spcBef>
                <a:spcPts val="876"/>
              </a:spcBef>
              <a:buClr>
                <a:srgbClr val="80808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SEIASAS y Sociedades de Aguas (ACESA, ACUSUR, HIDROGUADIANA, AQUAMED…). El resto de la financiación procede de anticipos de tarifa de amortización de servicios y de fondos U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330120" y="85680"/>
            <a:ext cx="9383760" cy="955440"/>
            <a:chOff x="330120" y="85680"/>
            <a:chExt cx="9383760" cy="955440"/>
          </a:xfrm>
        </p:grpSpPr>
        <p:sp>
          <p:nvSpPr>
            <p:cNvPr id="268" name="Text Box 9"/>
            <p:cNvSpPr/>
            <p:nvPr/>
          </p:nvSpPr>
          <p:spPr>
            <a:xfrm>
              <a:off x="2289240" y="333360"/>
              <a:ext cx="5688000" cy="70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08080"/>
                  </a:solidFill>
                  <a:latin typeface="Arial Black"/>
                </a:rPr>
                <a:t>GESTIÓN DE LA INVERSIÓN PÚBLIC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9" name=""/>
            <p:cNvGrpSpPr/>
            <p:nvPr/>
          </p:nvGrpSpPr>
          <p:grpSpPr>
            <a:xfrm>
              <a:off x="330120" y="85680"/>
              <a:ext cx="9383760" cy="914400"/>
              <a:chOff x="330120" y="85680"/>
              <a:chExt cx="9383760" cy="914400"/>
            </a:xfrm>
          </p:grpSpPr>
          <p:pic>
            <p:nvPicPr>
              <p:cNvPr id="270" name="Picture 3" descr="esc_web0"/>
              <p:cNvPicPr/>
              <p:nvPr/>
            </p:nvPicPr>
            <p:blipFill>
              <a:blip r:embed="rId1"/>
              <a:stretch/>
            </p:blipFill>
            <p:spPr>
              <a:xfrm>
                <a:off x="330120" y="85680"/>
                <a:ext cx="990720" cy="914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1" name="Text Box 4"/>
              <p:cNvSpPr/>
              <p:nvPr/>
            </p:nvSpPr>
            <p:spPr>
              <a:xfrm>
                <a:off x="1424160" y="404640"/>
                <a:ext cx="2180880" cy="45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46800" bIns="4680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MINISTERIO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DE HACIENDA Y ADMINISTRACIONES PÚBLICA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72" name=""/>
              <p:cNvGrpSpPr/>
              <p:nvPr/>
            </p:nvGrpSpPr>
            <p:grpSpPr>
              <a:xfrm>
                <a:off x="8048520" y="189000"/>
                <a:ext cx="1665360" cy="712800"/>
                <a:chOff x="8048520" y="189000"/>
                <a:chExt cx="1665360" cy="712800"/>
              </a:xfrm>
            </p:grpSpPr>
            <p:sp>
              <p:nvSpPr>
                <p:cNvPr id="273" name="Text Box 7"/>
                <p:cNvSpPr/>
                <p:nvPr/>
              </p:nvSpPr>
              <p:spPr>
                <a:xfrm>
                  <a:off x="8048520" y="549360"/>
                  <a:ext cx="1657440" cy="3524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000" rIns="36000" tIns="46800" bIns="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51"/>
                    </a:spcBef>
                    <a:spcAft>
                      <a:spcPts val="5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DIRECCIÓN GENERAL DE PRESUPUESTOS 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Text Box 8"/>
                <p:cNvSpPr/>
                <p:nvPr/>
              </p:nvSpPr>
              <p:spPr>
                <a:xfrm>
                  <a:off x="8048520" y="189000"/>
                  <a:ext cx="1665360" cy="3603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000" rIns="36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37"/>
                    </a:spcBef>
                    <a:spcAft>
                      <a:spcPts val="37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SECRETARIA DE ESTADO  DE PRESUPUESTOS Y GASTOS</a:t>
                  </a:r>
                  <a:r>
                    <a:rPr b="1" lang="en-US" sz="6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endParaRPr b="0" lang="en-US" sz="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3 Marcador de número de diapositiva"/>
          <p:cNvSpPr/>
          <p:nvPr/>
        </p:nvSpPr>
        <p:spPr>
          <a:xfrm>
            <a:off x="709920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2B7C2-4953-4AEB-A2ED-60C041FDF0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2"/>
          <p:cNvSpPr/>
          <p:nvPr/>
        </p:nvSpPr>
        <p:spPr>
          <a:xfrm>
            <a:off x="0" y="0"/>
            <a:ext cx="990612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9"/>
          <p:cNvSpPr/>
          <p:nvPr/>
        </p:nvSpPr>
        <p:spPr>
          <a:xfrm>
            <a:off x="689040" y="1484280"/>
            <a:ext cx="9217080" cy="95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0000" rIns="90000" tIns="82800" bIns="82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 Unicode MS"/>
              </a:rPr>
              <a:t>1</a:t>
            </a:r>
            <a:r>
              <a:rPr b="1" lang="en-US" sz="2400" spc="-1" strike="noStrike">
                <a:solidFill>
                  <a:srgbClr val="006600"/>
                </a:solidFill>
                <a:latin typeface="Arial Unicode MS"/>
              </a:rPr>
              <a:t>.- Importancia de la inversión pública en los Presupuestos Generales del Esta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9"/>
          <p:cNvSpPr/>
          <p:nvPr/>
        </p:nvSpPr>
        <p:spPr>
          <a:xfrm>
            <a:off x="689040" y="2421000"/>
            <a:ext cx="9217080" cy="5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0000" rIns="90000" tIns="82800" bIns="82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 Unicode MS"/>
              </a:rPr>
              <a:t>2</a:t>
            </a:r>
            <a:r>
              <a:rPr b="1" lang="en-US" sz="2400" spc="-1" strike="noStrike">
                <a:solidFill>
                  <a:srgbClr val="006600"/>
                </a:solidFill>
                <a:latin typeface="Arial Unicode MS"/>
              </a:rPr>
              <a:t>.- Estructura presupuestaria</a:t>
            </a:r>
            <a:r>
              <a:rPr b="1" lang="en-US" sz="2400" spc="-1" strike="noStrike">
                <a:solidFill>
                  <a:srgbClr val="a50021"/>
                </a:solidFill>
                <a:latin typeface="Arial Unicode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9"/>
          <p:cNvSpPr/>
          <p:nvPr/>
        </p:nvSpPr>
        <p:spPr>
          <a:xfrm>
            <a:off x="689040" y="3068640"/>
            <a:ext cx="9217080" cy="5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0000" rIns="90000" tIns="82800" bIns="82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 Unicode MS"/>
              </a:rPr>
              <a:t>3</a:t>
            </a:r>
            <a:r>
              <a:rPr b="1" lang="en-US" sz="2400" spc="-1" strike="noStrike">
                <a:solidFill>
                  <a:srgbClr val="006600"/>
                </a:solidFill>
                <a:latin typeface="Arial Unicode MS"/>
              </a:rPr>
              <a:t>.- Ciclo presupuestario de la inversión pública</a:t>
            </a:r>
            <a:r>
              <a:rPr b="1" lang="en-US" sz="2000" spc="-1" strike="noStrike">
                <a:solidFill>
                  <a:srgbClr val="006600"/>
                </a:solidFill>
                <a:latin typeface="Arial Unicode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9"/>
          <p:cNvSpPr/>
          <p:nvPr/>
        </p:nvSpPr>
        <p:spPr>
          <a:xfrm>
            <a:off x="1784520" y="3645000"/>
            <a:ext cx="9216720" cy="4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0000" rIns="90000" tIns="82800" bIns="82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Arial Unicode MS"/>
              </a:rPr>
              <a:t>3.1.- Planifica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9"/>
          <p:cNvSpPr/>
          <p:nvPr/>
        </p:nvSpPr>
        <p:spPr>
          <a:xfrm>
            <a:off x="1712880" y="4221000"/>
            <a:ext cx="9217080" cy="4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0000" rIns="90000" tIns="82800" bIns="82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Arial Unicode MS"/>
              </a:rPr>
              <a:t>3.2.- Planifica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9"/>
          <p:cNvSpPr/>
          <p:nvPr/>
        </p:nvSpPr>
        <p:spPr>
          <a:xfrm>
            <a:off x="1712880" y="4797360"/>
            <a:ext cx="9217080" cy="4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0000" rIns="90000" tIns="82800" bIns="82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Arial Unicode MS"/>
              </a:rPr>
              <a:t>3.3.- Seguimiento y contro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9"/>
          <p:cNvSpPr/>
          <p:nvPr/>
        </p:nvSpPr>
        <p:spPr>
          <a:xfrm>
            <a:off x="689040" y="5516640"/>
            <a:ext cx="9217080" cy="5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0000" rIns="90000" tIns="82800" bIns="82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 Unicode MS"/>
              </a:rPr>
              <a:t>4</a:t>
            </a:r>
            <a:r>
              <a:rPr b="1" lang="en-US" sz="2400" spc="-1" strike="noStrike">
                <a:solidFill>
                  <a:srgbClr val="006600"/>
                </a:solidFill>
                <a:latin typeface="Arial Unicode MS"/>
              </a:rPr>
              <a:t>.- Caso teóric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330120" y="85680"/>
            <a:ext cx="9383760" cy="955440"/>
            <a:chOff x="330120" y="85680"/>
            <a:chExt cx="9383760" cy="955440"/>
          </a:xfrm>
        </p:grpSpPr>
        <p:sp>
          <p:nvSpPr>
            <p:cNvPr id="67" name="Text Box 9"/>
            <p:cNvSpPr/>
            <p:nvPr/>
          </p:nvSpPr>
          <p:spPr>
            <a:xfrm>
              <a:off x="2289240" y="333360"/>
              <a:ext cx="5688000" cy="70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08080"/>
                  </a:solidFill>
                  <a:latin typeface="Arial Black"/>
                </a:rPr>
                <a:t>GESTIÓN DE LA INVERSIÓN PÚBLIC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330120" y="85680"/>
              <a:ext cx="9383760" cy="914400"/>
              <a:chOff x="330120" y="85680"/>
              <a:chExt cx="9383760" cy="914400"/>
            </a:xfrm>
          </p:grpSpPr>
          <p:pic>
            <p:nvPicPr>
              <p:cNvPr id="69" name="Picture 3" descr="esc_web0"/>
              <p:cNvPicPr/>
              <p:nvPr/>
            </p:nvPicPr>
            <p:blipFill>
              <a:blip r:embed="rId1"/>
              <a:stretch/>
            </p:blipFill>
            <p:spPr>
              <a:xfrm>
                <a:off x="330120" y="85680"/>
                <a:ext cx="990720" cy="914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" name="Text Box 4"/>
              <p:cNvSpPr/>
              <p:nvPr/>
            </p:nvSpPr>
            <p:spPr>
              <a:xfrm>
                <a:off x="1424160" y="404640"/>
                <a:ext cx="2180880" cy="45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46800" bIns="4680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MINISTERIO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DE HACIENDA Y ADMINISTRACIONES PÚBLICA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1" name=""/>
              <p:cNvGrpSpPr/>
              <p:nvPr/>
            </p:nvGrpSpPr>
            <p:grpSpPr>
              <a:xfrm>
                <a:off x="8048520" y="189000"/>
                <a:ext cx="1665360" cy="712800"/>
                <a:chOff x="8048520" y="189000"/>
                <a:chExt cx="1665360" cy="712800"/>
              </a:xfrm>
            </p:grpSpPr>
            <p:sp>
              <p:nvSpPr>
                <p:cNvPr id="72" name="Text Box 7"/>
                <p:cNvSpPr/>
                <p:nvPr/>
              </p:nvSpPr>
              <p:spPr>
                <a:xfrm>
                  <a:off x="8048520" y="549360"/>
                  <a:ext cx="1657440" cy="3524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000" rIns="36000" tIns="46800" bIns="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51"/>
                    </a:spcBef>
                    <a:spcAft>
                      <a:spcPts val="5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DIRECCIÓN GENERAL DE PRESUPUESTOS 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Text Box 8"/>
                <p:cNvSpPr/>
                <p:nvPr/>
              </p:nvSpPr>
              <p:spPr>
                <a:xfrm>
                  <a:off x="8048520" y="189000"/>
                  <a:ext cx="1665360" cy="3603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000" rIns="36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37"/>
                    </a:spcBef>
                    <a:spcAft>
                      <a:spcPts val="37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SECRETARIA DE ESTADO  DE PRESUPUESTOS Y GASTOS</a:t>
                  </a:r>
                  <a:r>
                    <a:rPr b="1" lang="en-US" sz="6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endParaRPr b="0" lang="en-US" sz="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3 Marcador de número de diapositiva"/>
          <p:cNvSpPr/>
          <p:nvPr/>
        </p:nvSpPr>
        <p:spPr>
          <a:xfrm>
            <a:off x="709920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4CFCF-964F-4FD5-B7F6-114F9FB250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Text Box 2"/>
          <p:cNvSpPr/>
          <p:nvPr/>
        </p:nvSpPr>
        <p:spPr>
          <a:xfrm>
            <a:off x="0" y="0"/>
            <a:ext cx="990612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Text Box 9"/>
          <p:cNvSpPr/>
          <p:nvPr/>
        </p:nvSpPr>
        <p:spPr>
          <a:xfrm>
            <a:off x="344520" y="1628640"/>
            <a:ext cx="9283680" cy="41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 Black"/>
              </a:rPr>
              <a:t>CRITERIOS SEC’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457200" algn="just">
              <a:lnSpc>
                <a:spcPct val="100000"/>
              </a:lnSpc>
              <a:spcBef>
                <a:spcPts val="1001"/>
              </a:spcBef>
              <a:buClr>
                <a:srgbClr val="80808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 Black"/>
              </a:rPr>
              <a:t>Los ingresos obtenidos deben cubrir al menos el 50% de los coste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457200" algn="just">
              <a:lnSpc>
                <a:spcPct val="100000"/>
              </a:lnSpc>
              <a:spcBef>
                <a:spcPts val="1001"/>
              </a:spcBef>
              <a:buClr>
                <a:srgbClr val="80808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457200" algn="just">
              <a:lnSpc>
                <a:spcPct val="100000"/>
              </a:lnSpc>
              <a:spcBef>
                <a:spcPts val="1001"/>
              </a:spcBef>
              <a:buClr>
                <a:srgbClr val="80808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  <a:ea typeface="Arial"/>
              </a:rPr>
              <a:t>De cumplirse este supuesto la sociedad quedará enmarcada dentro de las sociedades denominadas “no financieras” y sus activos no computaran en déficit ni en deuda pública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457200" algn="just">
              <a:lnSpc>
                <a:spcPct val="100000"/>
              </a:lnSpc>
              <a:spcBef>
                <a:spcPts val="1001"/>
              </a:spcBef>
              <a:buClr>
                <a:srgbClr val="80808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457200" algn="just">
              <a:lnSpc>
                <a:spcPct val="100000"/>
              </a:lnSpc>
              <a:spcBef>
                <a:spcPts val="1001"/>
              </a:spcBef>
              <a:buClr>
                <a:srgbClr val="80808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 Black"/>
              </a:rPr>
              <a:t>La sociedad debe de ser rentable, esto es, obtener beneficio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457200" algn="just">
              <a:lnSpc>
                <a:spcPct val="100000"/>
              </a:lnSpc>
              <a:spcBef>
                <a:spcPts val="1001"/>
              </a:spcBef>
              <a:buClr>
                <a:srgbClr val="80808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457200" algn="just">
              <a:lnSpc>
                <a:spcPct val="100000"/>
              </a:lnSpc>
              <a:spcBef>
                <a:spcPts val="1001"/>
              </a:spcBef>
              <a:buClr>
                <a:srgbClr val="80808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  <a:ea typeface="Arial"/>
              </a:rPr>
              <a:t>Las aportaciones que realice la administración correspondiente serán tratadas como aportaciones de capital y tampoco computaran en défici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457200" algn="just">
              <a:lnSpc>
                <a:spcPct val="100000"/>
              </a:lnSpc>
              <a:spcBef>
                <a:spcPts val="1001"/>
              </a:spcBef>
              <a:buClr>
                <a:srgbClr val="80808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330120" y="85680"/>
            <a:ext cx="9383760" cy="955440"/>
            <a:chOff x="330120" y="85680"/>
            <a:chExt cx="9383760" cy="955440"/>
          </a:xfrm>
        </p:grpSpPr>
        <p:sp>
          <p:nvSpPr>
            <p:cNvPr id="279" name="Text Box 9"/>
            <p:cNvSpPr/>
            <p:nvPr/>
          </p:nvSpPr>
          <p:spPr>
            <a:xfrm>
              <a:off x="2289240" y="333360"/>
              <a:ext cx="5688000" cy="70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08080"/>
                  </a:solidFill>
                  <a:latin typeface="Arial Black"/>
                </a:rPr>
                <a:t>GESTIÓN DE LA INVERSIÓN PÚBLIC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0" name=""/>
            <p:cNvGrpSpPr/>
            <p:nvPr/>
          </p:nvGrpSpPr>
          <p:grpSpPr>
            <a:xfrm>
              <a:off x="330120" y="85680"/>
              <a:ext cx="9383760" cy="914400"/>
              <a:chOff x="330120" y="85680"/>
              <a:chExt cx="9383760" cy="914400"/>
            </a:xfrm>
          </p:grpSpPr>
          <p:pic>
            <p:nvPicPr>
              <p:cNvPr id="281" name="Picture 3" descr="esc_web0"/>
              <p:cNvPicPr/>
              <p:nvPr/>
            </p:nvPicPr>
            <p:blipFill>
              <a:blip r:embed="rId1"/>
              <a:stretch/>
            </p:blipFill>
            <p:spPr>
              <a:xfrm>
                <a:off x="330120" y="85680"/>
                <a:ext cx="990720" cy="914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2" name="Text Box 4"/>
              <p:cNvSpPr/>
              <p:nvPr/>
            </p:nvSpPr>
            <p:spPr>
              <a:xfrm>
                <a:off x="1424160" y="404640"/>
                <a:ext cx="2180880" cy="45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46800" bIns="4680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MINISTERIO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DE HACIENDA Y ADMINISTRACIONES PÚBLICA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8048520" y="189000"/>
                <a:ext cx="1665360" cy="712800"/>
                <a:chOff x="8048520" y="189000"/>
                <a:chExt cx="1665360" cy="712800"/>
              </a:xfrm>
            </p:grpSpPr>
            <p:sp>
              <p:nvSpPr>
                <p:cNvPr id="284" name="Text Box 7"/>
                <p:cNvSpPr/>
                <p:nvPr/>
              </p:nvSpPr>
              <p:spPr>
                <a:xfrm>
                  <a:off x="8048520" y="549360"/>
                  <a:ext cx="1657440" cy="3524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000" rIns="36000" tIns="46800" bIns="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51"/>
                    </a:spcBef>
                    <a:spcAft>
                      <a:spcPts val="5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DIRECCIÓN GENERAL DE PRESUPUESTOS 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Text Box 8"/>
                <p:cNvSpPr/>
                <p:nvPr/>
              </p:nvSpPr>
              <p:spPr>
                <a:xfrm>
                  <a:off x="8048520" y="189000"/>
                  <a:ext cx="1665360" cy="3603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000" rIns="36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37"/>
                    </a:spcBef>
                    <a:spcAft>
                      <a:spcPts val="37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SECRETARIA DE ESTADO  DE PRESUPUESTOS Y GASTOS</a:t>
                  </a:r>
                  <a:r>
                    <a:rPr b="1" lang="en-US" sz="6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endParaRPr b="0" lang="en-US" sz="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p:transition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3 Marcador de número de diapositiva"/>
          <p:cNvSpPr/>
          <p:nvPr/>
        </p:nvSpPr>
        <p:spPr>
          <a:xfrm>
            <a:off x="709920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EC414-8090-4AC6-BCDE-3D74657C02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Text Box 2"/>
          <p:cNvSpPr/>
          <p:nvPr/>
        </p:nvSpPr>
        <p:spPr>
          <a:xfrm>
            <a:off x="0" y="0"/>
            <a:ext cx="990612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Text Box 9"/>
          <p:cNvSpPr/>
          <p:nvPr/>
        </p:nvSpPr>
        <p:spPr>
          <a:xfrm>
            <a:off x="344520" y="2060640"/>
            <a:ext cx="9283680" cy="43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50021"/>
                </a:solidFill>
                <a:latin typeface="Arial Black"/>
              </a:rPr>
              <a:t>CONTROL Y SEGUIMIENTO DE LAS INVERSIO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2879640" indent="-457200">
              <a:lnSpc>
                <a:spcPct val="100000"/>
              </a:lnSpc>
              <a:spcBef>
                <a:spcPts val="1001"/>
              </a:spcBef>
              <a:buClr>
                <a:srgbClr val="808080"/>
              </a:buClr>
              <a:buFont typeface="Arial Black"/>
              <a:buChar char="•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 Black"/>
              </a:rPr>
              <a:t>Control AN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2879640" indent="-45720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Font typeface="Arial Black"/>
              <a:buChar char="•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2" marL="3598920" indent="-457200">
              <a:lnSpc>
                <a:spcPct val="100000"/>
              </a:lnSpc>
              <a:spcBef>
                <a:spcPts val="1001"/>
              </a:spcBef>
              <a:buClr>
                <a:srgbClr val="808080"/>
              </a:buClr>
              <a:buFont typeface="Arial"/>
              <a:buChar char="•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  <a:ea typeface="Arial"/>
              </a:rPr>
              <a:t>Escenario presupuestario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3598920" indent="-45720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Font typeface="Arial"/>
              <a:buChar char="•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2879640" indent="-457200">
              <a:lnSpc>
                <a:spcPct val="100000"/>
              </a:lnSpc>
              <a:spcBef>
                <a:spcPts val="1001"/>
              </a:spcBef>
              <a:buClr>
                <a:srgbClr val="808080"/>
              </a:buClr>
              <a:buFont typeface="Arial Black"/>
              <a:buChar char="•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 Black"/>
              </a:rPr>
              <a:t>Control DURA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2879640" indent="-45720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Font typeface="Arial Black"/>
              <a:buChar char="•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2" marL="3598920" indent="-457200">
              <a:lnSpc>
                <a:spcPct val="100000"/>
              </a:lnSpc>
              <a:spcBef>
                <a:spcPts val="1001"/>
              </a:spcBef>
              <a:buClr>
                <a:srgbClr val="808080"/>
              </a:buClr>
              <a:buFont typeface="Arial"/>
              <a:buChar char="•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  <a:ea typeface="Arial"/>
              </a:rPr>
              <a:t>Sistema de información cont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3598920" indent="-45720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Font typeface="Arial"/>
              <a:buChar char="•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2879640" indent="-457200">
              <a:lnSpc>
                <a:spcPct val="100000"/>
              </a:lnSpc>
              <a:spcBef>
                <a:spcPts val="1001"/>
              </a:spcBef>
              <a:buClr>
                <a:srgbClr val="808080"/>
              </a:buClr>
              <a:buFont typeface="Arial Black"/>
              <a:buChar char="•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 Black"/>
              </a:rPr>
              <a:t>Control DESPU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3598920" indent="-457200">
              <a:lnSpc>
                <a:spcPct val="100000"/>
              </a:lnSpc>
              <a:spcBef>
                <a:spcPts val="1001"/>
              </a:spcBef>
              <a:buClr>
                <a:srgbClr val="808080"/>
              </a:buClr>
              <a:buFont typeface="Arial"/>
              <a:buChar char="•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  <a:ea typeface="Arial"/>
              </a:rPr>
              <a:t>Seguimiento de objetiv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3598920" indent="-45720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3598920" indent="-45720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9" name=""/>
          <p:cNvGrpSpPr/>
          <p:nvPr/>
        </p:nvGrpSpPr>
        <p:grpSpPr>
          <a:xfrm>
            <a:off x="330120" y="85680"/>
            <a:ext cx="9383760" cy="955440"/>
            <a:chOff x="330120" y="85680"/>
            <a:chExt cx="9383760" cy="955440"/>
          </a:xfrm>
        </p:grpSpPr>
        <p:sp>
          <p:nvSpPr>
            <p:cNvPr id="290" name="Text Box 9"/>
            <p:cNvSpPr/>
            <p:nvPr/>
          </p:nvSpPr>
          <p:spPr>
            <a:xfrm>
              <a:off x="2289240" y="333360"/>
              <a:ext cx="5688000" cy="70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08080"/>
                  </a:solidFill>
                  <a:latin typeface="Arial Black"/>
                </a:rPr>
                <a:t>GESTIÓN DE LA INVERSIÓN PÚBLIC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1" name=""/>
            <p:cNvGrpSpPr/>
            <p:nvPr/>
          </p:nvGrpSpPr>
          <p:grpSpPr>
            <a:xfrm>
              <a:off x="330120" y="85680"/>
              <a:ext cx="9383760" cy="914400"/>
              <a:chOff x="330120" y="85680"/>
              <a:chExt cx="9383760" cy="914400"/>
            </a:xfrm>
          </p:grpSpPr>
          <p:pic>
            <p:nvPicPr>
              <p:cNvPr id="292" name="Picture 3" descr="esc_web0"/>
              <p:cNvPicPr/>
              <p:nvPr/>
            </p:nvPicPr>
            <p:blipFill>
              <a:blip r:embed="rId1"/>
              <a:stretch/>
            </p:blipFill>
            <p:spPr>
              <a:xfrm>
                <a:off x="330120" y="85680"/>
                <a:ext cx="990720" cy="914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3" name="Text Box 4"/>
              <p:cNvSpPr/>
              <p:nvPr/>
            </p:nvSpPr>
            <p:spPr>
              <a:xfrm>
                <a:off x="1424160" y="404640"/>
                <a:ext cx="2180880" cy="45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46800" bIns="4680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MINISTERIO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DE HACIENDA Y ADMINISTRACIONES PÚBLICA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94" name=""/>
              <p:cNvGrpSpPr/>
              <p:nvPr/>
            </p:nvGrpSpPr>
            <p:grpSpPr>
              <a:xfrm>
                <a:off x="8048520" y="189000"/>
                <a:ext cx="1665360" cy="712800"/>
                <a:chOff x="8048520" y="189000"/>
                <a:chExt cx="1665360" cy="712800"/>
              </a:xfrm>
            </p:grpSpPr>
            <p:sp>
              <p:nvSpPr>
                <p:cNvPr id="295" name="Text Box 7"/>
                <p:cNvSpPr/>
                <p:nvPr/>
              </p:nvSpPr>
              <p:spPr>
                <a:xfrm>
                  <a:off x="8048520" y="549360"/>
                  <a:ext cx="1657440" cy="3524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000" rIns="36000" tIns="46800" bIns="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51"/>
                    </a:spcBef>
                    <a:spcAft>
                      <a:spcPts val="5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DIRECCIÓN GENERAL DE PRESUPUESTOS 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Text Box 8"/>
                <p:cNvSpPr/>
                <p:nvPr/>
              </p:nvSpPr>
              <p:spPr>
                <a:xfrm>
                  <a:off x="8048520" y="189000"/>
                  <a:ext cx="1665360" cy="3603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000" rIns="36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37"/>
                    </a:spcBef>
                    <a:spcAft>
                      <a:spcPts val="37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SECRETARIA DE ESTADO  DE PRESUPUESTOS Y GASTOS</a:t>
                  </a:r>
                  <a:r>
                    <a:rPr b="1" lang="en-US" sz="6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endParaRPr b="0" lang="en-US" sz="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p:transition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3 Marcador de número de diapositiva"/>
          <p:cNvSpPr/>
          <p:nvPr/>
        </p:nvSpPr>
        <p:spPr>
          <a:xfrm>
            <a:off x="7113600" y="640080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F6931-11FE-48A6-8A0B-F4217D009F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Text Box 2"/>
          <p:cNvSpPr/>
          <p:nvPr/>
        </p:nvSpPr>
        <p:spPr>
          <a:xfrm>
            <a:off x="0" y="0"/>
            <a:ext cx="990612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Text Box 9"/>
          <p:cNvSpPr/>
          <p:nvPr/>
        </p:nvSpPr>
        <p:spPr>
          <a:xfrm>
            <a:off x="622440" y="1125360"/>
            <a:ext cx="9283680" cy="56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 Black"/>
              </a:rPr>
              <a:t>ENUNCIADO SUPUESTO PRÁCT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457200"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457200"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457200"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 Black"/>
              </a:rPr>
              <a:t>Créditos presupuestarios para inversiones en materia de carreter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457200"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457200"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457200"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457200"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457200"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457200"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457200"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 Black"/>
              </a:rPr>
              <a:t>Compromisos adquiridos procedentes de licitaciones de ejercicios anterio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457200"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457200"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457200"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457200"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45720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457200" algn="just">
              <a:lnSpc>
                <a:spcPct val="100000"/>
              </a:lnSpc>
              <a:spcBef>
                <a:spcPts val="1001"/>
              </a:spcBef>
              <a:buClr>
                <a:srgbClr val="80808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0" name="Object 2"/>
          <p:cNvGraphicFramePr/>
          <p:nvPr/>
        </p:nvGraphicFramePr>
        <p:xfrm>
          <a:off x="0" y="2604960"/>
          <a:ext cx="9056520" cy="143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604960"/>
                    <a:ext cx="9056520" cy="143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2" name="Object 3"/>
          <p:cNvGraphicFramePr/>
          <p:nvPr/>
        </p:nvGraphicFramePr>
        <p:xfrm>
          <a:off x="0" y="4724280"/>
          <a:ext cx="9217080" cy="1462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3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4724280"/>
                    <a:ext cx="9217080" cy="14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04" name=""/>
          <p:cNvGrpSpPr/>
          <p:nvPr/>
        </p:nvGrpSpPr>
        <p:grpSpPr>
          <a:xfrm>
            <a:off x="330120" y="85680"/>
            <a:ext cx="9383760" cy="955440"/>
            <a:chOff x="330120" y="85680"/>
            <a:chExt cx="9383760" cy="955440"/>
          </a:xfrm>
        </p:grpSpPr>
        <p:sp>
          <p:nvSpPr>
            <p:cNvPr id="305" name="Text Box 9"/>
            <p:cNvSpPr/>
            <p:nvPr/>
          </p:nvSpPr>
          <p:spPr>
            <a:xfrm>
              <a:off x="2289240" y="333360"/>
              <a:ext cx="5688000" cy="70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08080"/>
                  </a:solidFill>
                  <a:latin typeface="Arial Black"/>
                </a:rPr>
                <a:t>GESTIÓN DE LA INVERSIÓN PÚBLIC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6" name=""/>
            <p:cNvGrpSpPr/>
            <p:nvPr/>
          </p:nvGrpSpPr>
          <p:grpSpPr>
            <a:xfrm>
              <a:off x="330120" y="85680"/>
              <a:ext cx="9383760" cy="914400"/>
              <a:chOff x="330120" y="85680"/>
              <a:chExt cx="9383760" cy="914400"/>
            </a:xfrm>
          </p:grpSpPr>
          <p:pic>
            <p:nvPicPr>
              <p:cNvPr id="307" name="Picture 3" descr="esc_web0"/>
              <p:cNvPicPr/>
              <p:nvPr/>
            </p:nvPicPr>
            <p:blipFill>
              <a:blip r:embed="rId5"/>
              <a:stretch/>
            </p:blipFill>
            <p:spPr>
              <a:xfrm>
                <a:off x="330120" y="85680"/>
                <a:ext cx="990720" cy="914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8" name="Text Box 4"/>
              <p:cNvSpPr/>
              <p:nvPr/>
            </p:nvSpPr>
            <p:spPr>
              <a:xfrm>
                <a:off x="1424160" y="404640"/>
                <a:ext cx="2180880" cy="45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46800" bIns="4680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MINISTERIO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DE HACIENDA Y ADMINISTRACIONES PÚBLICA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09" name=""/>
              <p:cNvGrpSpPr/>
              <p:nvPr/>
            </p:nvGrpSpPr>
            <p:grpSpPr>
              <a:xfrm>
                <a:off x="8048520" y="189000"/>
                <a:ext cx="1665360" cy="712800"/>
                <a:chOff x="8048520" y="189000"/>
                <a:chExt cx="1665360" cy="712800"/>
              </a:xfrm>
            </p:grpSpPr>
            <p:sp>
              <p:nvSpPr>
                <p:cNvPr id="310" name="Text Box 7"/>
                <p:cNvSpPr/>
                <p:nvPr/>
              </p:nvSpPr>
              <p:spPr>
                <a:xfrm>
                  <a:off x="8048520" y="549360"/>
                  <a:ext cx="1657440" cy="3524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000" rIns="36000" tIns="46800" bIns="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51"/>
                    </a:spcBef>
                    <a:spcAft>
                      <a:spcPts val="5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DIRECCIÓN GENERAL DE PRESUPUESTOS 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Text Box 8"/>
                <p:cNvSpPr/>
                <p:nvPr/>
              </p:nvSpPr>
              <p:spPr>
                <a:xfrm>
                  <a:off x="8048520" y="189000"/>
                  <a:ext cx="1665360" cy="3603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000" rIns="36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37"/>
                    </a:spcBef>
                    <a:spcAft>
                      <a:spcPts val="37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SECRETARIA DE ESTADO  DE PRESUPUESTOS Y GASTOS</a:t>
                  </a:r>
                  <a:r>
                    <a:rPr b="1" lang="en-US" sz="6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endParaRPr b="0" lang="en-US" sz="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p:transition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3 Marcador de número de diapositiva"/>
          <p:cNvSpPr/>
          <p:nvPr/>
        </p:nvSpPr>
        <p:spPr>
          <a:xfrm>
            <a:off x="7113600" y="640080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FCBA6-6BF8-4B2B-A5A0-AC806CC87A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Text Box 2"/>
          <p:cNvSpPr/>
          <p:nvPr/>
        </p:nvSpPr>
        <p:spPr>
          <a:xfrm>
            <a:off x="0" y="0"/>
            <a:ext cx="990612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Text Box 9"/>
          <p:cNvSpPr/>
          <p:nvPr/>
        </p:nvSpPr>
        <p:spPr>
          <a:xfrm>
            <a:off x="622440" y="1125360"/>
            <a:ext cx="9283680" cy="56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33cc"/>
                </a:solidFill>
                <a:latin typeface="Arial Black"/>
              </a:rPr>
              <a:t>ENUNCIADO SUPUESTO PRÁCTICO (con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457200"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808080"/>
                </a:solidFill>
                <a:latin typeface="Arial Black"/>
              </a:rPr>
              <a:t>Tramos a licitar</a:t>
            </a:r>
            <a:r>
              <a:rPr b="0" lang="es-ES" sz="1400" spc="-1" strike="noStrike">
                <a:solidFill>
                  <a:srgbClr val="808080"/>
                </a:solidFill>
                <a:latin typeface="Arial Black"/>
              </a:rPr>
              <a:t>	</a:t>
            </a:r>
            <a:r>
              <a:rPr b="0" lang="es-ES" sz="1400" spc="-1" strike="noStrike">
                <a:solidFill>
                  <a:srgbClr val="808080"/>
                </a:solidFill>
                <a:latin typeface="Arial Black"/>
              </a:rPr>
              <a:t>	</a:t>
            </a:r>
            <a:r>
              <a:rPr b="0" lang="es-ES" sz="1400" spc="-1" strike="noStrike">
                <a:solidFill>
                  <a:srgbClr val="808080"/>
                </a:solidFill>
                <a:latin typeface="Arial Black"/>
              </a:rPr>
              <a:t>	</a:t>
            </a:r>
            <a:r>
              <a:rPr b="0" lang="es-ES" sz="1400" spc="-1" strike="noStrike">
                <a:solidFill>
                  <a:srgbClr val="808080"/>
                </a:solidFill>
                <a:latin typeface="Arial Black"/>
              </a:rPr>
              <a:t>	</a:t>
            </a:r>
            <a:r>
              <a:rPr b="0" lang="es-ES" sz="1400" spc="-1" strike="noStrike">
                <a:solidFill>
                  <a:srgbClr val="808080"/>
                </a:solidFill>
                <a:latin typeface="Arial Black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457200"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457200"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457200"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457200"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457200"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457200"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457200"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457200"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457200"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457200"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808080"/>
                </a:solidFill>
                <a:latin typeface="Arial Black"/>
              </a:rPr>
              <a:t>Anualidades de ejecución de obras de carreter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457200"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457200"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457200"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45720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457200" algn="just">
              <a:lnSpc>
                <a:spcPct val="100000"/>
              </a:lnSpc>
              <a:spcBef>
                <a:spcPts val="1001"/>
              </a:spcBef>
              <a:buClr>
                <a:srgbClr val="80808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5" name="Object 4"/>
          <p:cNvGraphicFramePr/>
          <p:nvPr/>
        </p:nvGraphicFramePr>
        <p:xfrm>
          <a:off x="1352520" y="1773360"/>
          <a:ext cx="7345440" cy="295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52520" y="1773360"/>
                    <a:ext cx="7345440" cy="29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7" name="Object 5"/>
          <p:cNvGraphicFramePr/>
          <p:nvPr/>
        </p:nvGraphicFramePr>
        <p:xfrm>
          <a:off x="920880" y="4941720"/>
          <a:ext cx="7632720" cy="1560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18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0880" y="4941720"/>
                    <a:ext cx="7632720" cy="156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19" name=""/>
          <p:cNvGrpSpPr/>
          <p:nvPr/>
        </p:nvGrpSpPr>
        <p:grpSpPr>
          <a:xfrm>
            <a:off x="330120" y="85680"/>
            <a:ext cx="9383760" cy="955440"/>
            <a:chOff x="330120" y="85680"/>
            <a:chExt cx="9383760" cy="955440"/>
          </a:xfrm>
        </p:grpSpPr>
        <p:sp>
          <p:nvSpPr>
            <p:cNvPr id="320" name="Text Box 9"/>
            <p:cNvSpPr/>
            <p:nvPr/>
          </p:nvSpPr>
          <p:spPr>
            <a:xfrm>
              <a:off x="2289240" y="333360"/>
              <a:ext cx="5688000" cy="70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08080"/>
                  </a:solidFill>
                  <a:latin typeface="Arial Black"/>
                </a:rPr>
                <a:t>GESTIÓN DE LA INVERSIÓN PÚBLIC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1" name=""/>
            <p:cNvGrpSpPr/>
            <p:nvPr/>
          </p:nvGrpSpPr>
          <p:grpSpPr>
            <a:xfrm>
              <a:off x="330120" y="85680"/>
              <a:ext cx="9383760" cy="914400"/>
              <a:chOff x="330120" y="85680"/>
              <a:chExt cx="9383760" cy="914400"/>
            </a:xfrm>
          </p:grpSpPr>
          <p:pic>
            <p:nvPicPr>
              <p:cNvPr id="322" name="Picture 3" descr="esc_web0"/>
              <p:cNvPicPr/>
              <p:nvPr/>
            </p:nvPicPr>
            <p:blipFill>
              <a:blip r:embed="rId5"/>
              <a:stretch/>
            </p:blipFill>
            <p:spPr>
              <a:xfrm>
                <a:off x="330120" y="85680"/>
                <a:ext cx="990720" cy="914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3" name="Text Box 4"/>
              <p:cNvSpPr/>
              <p:nvPr/>
            </p:nvSpPr>
            <p:spPr>
              <a:xfrm>
                <a:off x="1424160" y="404640"/>
                <a:ext cx="2180880" cy="45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46800" bIns="4680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MINISTERIO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DE HACIENDA Y ADMINISTRACIONES PÚBLICA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24" name=""/>
              <p:cNvGrpSpPr/>
              <p:nvPr/>
            </p:nvGrpSpPr>
            <p:grpSpPr>
              <a:xfrm>
                <a:off x="8048520" y="189000"/>
                <a:ext cx="1665360" cy="712800"/>
                <a:chOff x="8048520" y="189000"/>
                <a:chExt cx="1665360" cy="712800"/>
              </a:xfrm>
            </p:grpSpPr>
            <p:sp>
              <p:nvSpPr>
                <p:cNvPr id="325" name="Text Box 7"/>
                <p:cNvSpPr/>
                <p:nvPr/>
              </p:nvSpPr>
              <p:spPr>
                <a:xfrm>
                  <a:off x="8048520" y="549360"/>
                  <a:ext cx="1657440" cy="3524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000" rIns="36000" tIns="46800" bIns="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51"/>
                    </a:spcBef>
                    <a:spcAft>
                      <a:spcPts val="5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DIRECCIÓN GENERAL DE PRESUPUESTOS 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" name="Text Box 8"/>
                <p:cNvSpPr/>
                <p:nvPr/>
              </p:nvSpPr>
              <p:spPr>
                <a:xfrm>
                  <a:off x="8048520" y="189000"/>
                  <a:ext cx="1665360" cy="3603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000" rIns="36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37"/>
                    </a:spcBef>
                    <a:spcAft>
                      <a:spcPts val="37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SECRETARIA DE ESTADO  DE PRESUPUESTOS Y GASTOS</a:t>
                  </a:r>
                  <a:r>
                    <a:rPr b="1" lang="en-US" sz="6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endParaRPr b="0" lang="en-US" sz="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p:transition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3 Marcador de número de diapositiva"/>
          <p:cNvSpPr/>
          <p:nvPr/>
        </p:nvSpPr>
        <p:spPr>
          <a:xfrm>
            <a:off x="709920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5263B-3CF2-4C7B-910D-10CF33F1A0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Text Box 2"/>
          <p:cNvSpPr/>
          <p:nvPr/>
        </p:nvSpPr>
        <p:spPr>
          <a:xfrm>
            <a:off x="0" y="0"/>
            <a:ext cx="990612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Text Box 9"/>
          <p:cNvSpPr/>
          <p:nvPr/>
        </p:nvSpPr>
        <p:spPr>
          <a:xfrm>
            <a:off x="351000" y="1143000"/>
            <a:ext cx="9283680" cy="486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 Black"/>
              </a:rPr>
              <a:t>SOLUCIÓN RAZONADA SUPUESTO PRÁCT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457200"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457200"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457200"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457200"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457200"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457200"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457200"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45720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45720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45720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45720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45720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457200" algn="just">
              <a:lnSpc>
                <a:spcPct val="100000"/>
              </a:lnSpc>
              <a:spcBef>
                <a:spcPts val="1001"/>
              </a:spcBef>
              <a:buClr>
                <a:srgbClr val="80808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0" name="19 Grupo"/>
          <p:cNvGrpSpPr/>
          <p:nvPr/>
        </p:nvGrpSpPr>
        <p:grpSpPr>
          <a:xfrm>
            <a:off x="0" y="2852640"/>
            <a:ext cx="10209240" cy="3168720"/>
            <a:chOff x="0" y="2852640"/>
            <a:chExt cx="10209240" cy="3168720"/>
          </a:xfrm>
        </p:grpSpPr>
        <p:graphicFrame>
          <p:nvGraphicFramePr>
            <p:cNvPr id="331" name="Object 4"/>
            <p:cNvGraphicFramePr/>
            <p:nvPr/>
          </p:nvGraphicFramePr>
          <p:xfrm>
            <a:off x="0" y="2852640"/>
            <a:ext cx="5952240" cy="31687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32" name="Object 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2852640"/>
                      <a:ext cx="5952240" cy="3168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33" name="15 Cerrar llave"/>
            <p:cNvSpPr/>
            <p:nvPr/>
          </p:nvSpPr>
          <p:spPr>
            <a:xfrm>
              <a:off x="5105520" y="3844800"/>
              <a:ext cx="299880" cy="992160"/>
            </a:xfrm>
            <a:custGeom>
              <a:avLst/>
              <a:gdLst>
                <a:gd name="textAreaLeft" fmla="*/ 0 w 299880"/>
                <a:gd name="textAreaRight" fmla="*/ 108360 w 299880"/>
                <a:gd name="textAreaTop" fmla="*/ 10080 h 992160"/>
                <a:gd name="textAreaBottom" fmla="*/ 982080 h 99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360"/>
                    <a:pt x="10800" y="719"/>
                  </a:cubicBezTo>
                  <a:lnTo>
                    <a:pt x="10800" y="10081"/>
                  </a:lnTo>
                  <a:cubicBezTo>
                    <a:pt x="10800" y="10441"/>
                    <a:pt x="16200" y="10800"/>
                    <a:pt x="21600" y="10800"/>
                  </a:cubicBezTo>
                  <a:cubicBezTo>
                    <a:pt x="16200" y="10800"/>
                    <a:pt x="10800" y="11160"/>
                    <a:pt x="10800" y="11519"/>
                  </a:cubicBezTo>
                  <a:lnTo>
                    <a:pt x="10800" y="20881"/>
                  </a:lnTo>
                  <a:cubicBezTo>
                    <a:pt x="10800" y="21241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16 CuadroTexto"/>
            <p:cNvSpPr/>
            <p:nvPr/>
          </p:nvSpPr>
          <p:spPr>
            <a:xfrm>
              <a:off x="5629680" y="4241880"/>
              <a:ext cx="2328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olo método tradicion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35" name="18 Conector recto de flecha"/>
            <p:cNvCxnSpPr/>
            <p:nvPr/>
          </p:nvCxnSpPr>
          <p:spPr>
            <a:xfrm>
              <a:off x="5105520" y="5135760"/>
              <a:ext cx="226080" cy="2160"/>
            </a:xfrm>
            <a:prstGeom prst="straightConnector1">
              <a:avLst/>
            </a:prstGeom>
            <a:ln w="9360">
              <a:solidFill>
                <a:srgbClr val="595959"/>
              </a:solidFill>
              <a:miter/>
              <a:tailEnd len="med" type="arrow" w="med"/>
            </a:ln>
          </p:spPr>
        </p:cxnSp>
        <p:sp>
          <p:nvSpPr>
            <p:cNvPr id="336" name="19 CuadroTexto"/>
            <p:cNvSpPr/>
            <p:nvPr/>
          </p:nvSpPr>
          <p:spPr>
            <a:xfrm>
              <a:off x="5629680" y="4937040"/>
              <a:ext cx="3753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étodo tradicional y Abono Total del Preci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37" name="20 Conector recto de flecha"/>
            <p:cNvCxnSpPr/>
            <p:nvPr/>
          </p:nvCxnSpPr>
          <p:spPr>
            <a:xfrm>
              <a:off x="5105520" y="5532480"/>
              <a:ext cx="226080" cy="2160"/>
            </a:xfrm>
            <a:prstGeom prst="straightConnector1">
              <a:avLst/>
            </a:prstGeom>
            <a:ln w="9360">
              <a:solidFill>
                <a:srgbClr val="595959"/>
              </a:solidFill>
              <a:miter/>
              <a:tailEnd len="med" type="arrow" w="med"/>
            </a:ln>
          </p:spPr>
        </p:cxnSp>
        <p:sp>
          <p:nvSpPr>
            <p:cNvPr id="338" name="21 CuadroTexto"/>
            <p:cNvSpPr/>
            <p:nvPr/>
          </p:nvSpPr>
          <p:spPr>
            <a:xfrm>
              <a:off x="5629680" y="5334120"/>
              <a:ext cx="4579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étodo tradicional, Abono Total del Precio y Concesion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9" name="22 CuadroTexto"/>
          <p:cNvSpPr/>
          <p:nvPr/>
        </p:nvSpPr>
        <p:spPr>
          <a:xfrm>
            <a:off x="488880" y="2205000"/>
            <a:ext cx="564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indent="-457200"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 Black"/>
              </a:rPr>
              <a:t>Análisis de las posibilidades de los distintos tram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0" name=""/>
          <p:cNvGrpSpPr/>
          <p:nvPr/>
        </p:nvGrpSpPr>
        <p:grpSpPr>
          <a:xfrm>
            <a:off x="330120" y="85680"/>
            <a:ext cx="9383760" cy="955440"/>
            <a:chOff x="330120" y="85680"/>
            <a:chExt cx="9383760" cy="955440"/>
          </a:xfrm>
        </p:grpSpPr>
        <p:sp>
          <p:nvSpPr>
            <p:cNvPr id="341" name="Text Box 9"/>
            <p:cNvSpPr/>
            <p:nvPr/>
          </p:nvSpPr>
          <p:spPr>
            <a:xfrm>
              <a:off x="2289240" y="333360"/>
              <a:ext cx="5688000" cy="70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08080"/>
                  </a:solidFill>
                  <a:latin typeface="Arial Black"/>
                </a:rPr>
                <a:t>GESTIÓN DE LA INVERSIÓN PÚBLIC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2" name=""/>
            <p:cNvGrpSpPr/>
            <p:nvPr/>
          </p:nvGrpSpPr>
          <p:grpSpPr>
            <a:xfrm>
              <a:off x="330120" y="85680"/>
              <a:ext cx="9383760" cy="914400"/>
              <a:chOff x="330120" y="85680"/>
              <a:chExt cx="9383760" cy="914400"/>
            </a:xfrm>
          </p:grpSpPr>
          <p:pic>
            <p:nvPicPr>
              <p:cNvPr id="343" name="Picture 3" descr="esc_web0"/>
              <p:cNvPicPr/>
              <p:nvPr/>
            </p:nvPicPr>
            <p:blipFill>
              <a:blip r:embed="rId3"/>
              <a:stretch/>
            </p:blipFill>
            <p:spPr>
              <a:xfrm>
                <a:off x="330120" y="85680"/>
                <a:ext cx="990720" cy="914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44" name="Text Box 4"/>
              <p:cNvSpPr/>
              <p:nvPr/>
            </p:nvSpPr>
            <p:spPr>
              <a:xfrm>
                <a:off x="1424160" y="404640"/>
                <a:ext cx="2180880" cy="45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46800" bIns="4680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MINISTERIO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DE HACIENDA Y ADMINISTRACIONES PÚBLICA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45" name=""/>
              <p:cNvGrpSpPr/>
              <p:nvPr/>
            </p:nvGrpSpPr>
            <p:grpSpPr>
              <a:xfrm>
                <a:off x="8048520" y="189000"/>
                <a:ext cx="1665360" cy="712800"/>
                <a:chOff x="8048520" y="189000"/>
                <a:chExt cx="1665360" cy="712800"/>
              </a:xfrm>
            </p:grpSpPr>
            <p:sp>
              <p:nvSpPr>
                <p:cNvPr id="346" name="Text Box 7"/>
                <p:cNvSpPr/>
                <p:nvPr/>
              </p:nvSpPr>
              <p:spPr>
                <a:xfrm>
                  <a:off x="8048520" y="549360"/>
                  <a:ext cx="1657440" cy="3524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000" rIns="36000" tIns="46800" bIns="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51"/>
                    </a:spcBef>
                    <a:spcAft>
                      <a:spcPts val="5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DIRECCIÓN GENERAL DE PRESUPUESTOS 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" name="Text Box 8"/>
                <p:cNvSpPr/>
                <p:nvPr/>
              </p:nvSpPr>
              <p:spPr>
                <a:xfrm>
                  <a:off x="8048520" y="189000"/>
                  <a:ext cx="1665360" cy="3603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000" rIns="36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37"/>
                    </a:spcBef>
                    <a:spcAft>
                      <a:spcPts val="37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SECRETARIA DE ESTADO  DE PRESUPUESTOS Y GASTOS</a:t>
                  </a:r>
                  <a:r>
                    <a:rPr b="1" lang="en-US" sz="6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endParaRPr b="0" lang="en-US" sz="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3 Marcador de número de diapositiva"/>
          <p:cNvSpPr/>
          <p:nvPr/>
        </p:nvSpPr>
        <p:spPr>
          <a:xfrm>
            <a:off x="709920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0E02B-EC08-424F-9D69-4F4F6D5BFC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Text Box 2"/>
          <p:cNvSpPr/>
          <p:nvPr/>
        </p:nvSpPr>
        <p:spPr>
          <a:xfrm>
            <a:off x="0" y="0"/>
            <a:ext cx="990612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Text Box 9"/>
          <p:cNvSpPr/>
          <p:nvPr/>
        </p:nvSpPr>
        <p:spPr>
          <a:xfrm>
            <a:off x="351000" y="1143000"/>
            <a:ext cx="9283680" cy="51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33cc"/>
                </a:solidFill>
                <a:latin typeface="Arial Black"/>
              </a:rPr>
              <a:t>SOLUCIÓN RAZONADA SUPUESTO PRÁCTICO (con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457200"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457200"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457200"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457200"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457200"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457200"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457200"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457200"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45720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45720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45720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45720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45720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457200" algn="just">
              <a:lnSpc>
                <a:spcPct val="100000"/>
              </a:lnSpc>
              <a:spcBef>
                <a:spcPts val="1001"/>
              </a:spcBef>
              <a:buClr>
                <a:srgbClr val="80808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1" name="Object 6"/>
          <p:cNvGraphicFramePr/>
          <p:nvPr/>
        </p:nvGraphicFramePr>
        <p:xfrm>
          <a:off x="488880" y="2637000"/>
          <a:ext cx="8640720" cy="216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2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8880" y="2637000"/>
                    <a:ext cx="8640720" cy="21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3" name="23 CuadroTexto"/>
          <p:cNvSpPr/>
          <p:nvPr/>
        </p:nvSpPr>
        <p:spPr>
          <a:xfrm>
            <a:off x="488880" y="1916280"/>
            <a:ext cx="564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indent="-457200"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 Black"/>
              </a:rPr>
              <a:t>Recursos disponibles para la licit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4" name=""/>
          <p:cNvGrpSpPr/>
          <p:nvPr/>
        </p:nvGrpSpPr>
        <p:grpSpPr>
          <a:xfrm>
            <a:off x="330120" y="85680"/>
            <a:ext cx="9383760" cy="955440"/>
            <a:chOff x="330120" y="85680"/>
            <a:chExt cx="9383760" cy="955440"/>
          </a:xfrm>
        </p:grpSpPr>
        <p:sp>
          <p:nvSpPr>
            <p:cNvPr id="355" name="Text Box 9"/>
            <p:cNvSpPr/>
            <p:nvPr/>
          </p:nvSpPr>
          <p:spPr>
            <a:xfrm>
              <a:off x="2289240" y="333360"/>
              <a:ext cx="5688000" cy="70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08080"/>
                  </a:solidFill>
                  <a:latin typeface="Arial Black"/>
                </a:rPr>
                <a:t>GESTIÓN DE LA INVERSIÓN PÚBLIC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6" name=""/>
            <p:cNvGrpSpPr/>
            <p:nvPr/>
          </p:nvGrpSpPr>
          <p:grpSpPr>
            <a:xfrm>
              <a:off x="330120" y="85680"/>
              <a:ext cx="9383760" cy="914400"/>
              <a:chOff x="330120" y="85680"/>
              <a:chExt cx="9383760" cy="914400"/>
            </a:xfrm>
          </p:grpSpPr>
          <p:pic>
            <p:nvPicPr>
              <p:cNvPr id="357" name="Picture 3" descr="esc_web0"/>
              <p:cNvPicPr/>
              <p:nvPr/>
            </p:nvPicPr>
            <p:blipFill>
              <a:blip r:embed="rId3"/>
              <a:stretch/>
            </p:blipFill>
            <p:spPr>
              <a:xfrm>
                <a:off x="330120" y="85680"/>
                <a:ext cx="990720" cy="914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8" name="Text Box 4"/>
              <p:cNvSpPr/>
              <p:nvPr/>
            </p:nvSpPr>
            <p:spPr>
              <a:xfrm>
                <a:off x="1424160" y="404640"/>
                <a:ext cx="2180880" cy="45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46800" bIns="4680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MINISTERIO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DE HACIENDA Y ADMINISTRACIONES PÚBLICA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59" name=""/>
              <p:cNvGrpSpPr/>
              <p:nvPr/>
            </p:nvGrpSpPr>
            <p:grpSpPr>
              <a:xfrm>
                <a:off x="8048520" y="189000"/>
                <a:ext cx="1665360" cy="712800"/>
                <a:chOff x="8048520" y="189000"/>
                <a:chExt cx="1665360" cy="712800"/>
              </a:xfrm>
            </p:grpSpPr>
            <p:sp>
              <p:nvSpPr>
                <p:cNvPr id="360" name="Text Box 7"/>
                <p:cNvSpPr/>
                <p:nvPr/>
              </p:nvSpPr>
              <p:spPr>
                <a:xfrm>
                  <a:off x="8048520" y="549360"/>
                  <a:ext cx="1657440" cy="3524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000" rIns="36000" tIns="46800" bIns="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51"/>
                    </a:spcBef>
                    <a:spcAft>
                      <a:spcPts val="5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DIRECCIÓN GENERAL DE PRESUPUESTOS 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Text Box 8"/>
                <p:cNvSpPr/>
                <p:nvPr/>
              </p:nvSpPr>
              <p:spPr>
                <a:xfrm>
                  <a:off x="8048520" y="189000"/>
                  <a:ext cx="1665360" cy="3603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000" rIns="36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37"/>
                    </a:spcBef>
                    <a:spcAft>
                      <a:spcPts val="37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SECRETARIA DE ESTADO  DE PRESUPUESTOS Y GASTOS</a:t>
                  </a:r>
                  <a:r>
                    <a:rPr b="1" lang="en-US" sz="6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endParaRPr b="0" lang="en-US" sz="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p:transition>
    <p:wipe dir="r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3 Marcador de número de diapositiva"/>
          <p:cNvSpPr/>
          <p:nvPr/>
        </p:nvSpPr>
        <p:spPr>
          <a:xfrm>
            <a:off x="709920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DD9D4-2606-4B8B-B81E-0F0FCAA415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Text Box 2"/>
          <p:cNvSpPr/>
          <p:nvPr/>
        </p:nvSpPr>
        <p:spPr>
          <a:xfrm>
            <a:off x="0" y="0"/>
            <a:ext cx="990612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Text Box 9"/>
          <p:cNvSpPr/>
          <p:nvPr/>
        </p:nvSpPr>
        <p:spPr>
          <a:xfrm>
            <a:off x="351000" y="1143000"/>
            <a:ext cx="9283680" cy="486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33cc"/>
                </a:solidFill>
                <a:latin typeface="Arial Black"/>
              </a:rPr>
              <a:t>SOLUCIÓN RAZONADA SUPUESTO PRÁCTICO (con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457200"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457200"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457200"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457200"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457200"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457200"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457200"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45720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45720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45720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45720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45720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457200" algn="just">
              <a:lnSpc>
                <a:spcPct val="100000"/>
              </a:lnSpc>
              <a:spcBef>
                <a:spcPts val="1001"/>
              </a:spcBef>
              <a:buClr>
                <a:srgbClr val="80808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5" name="Object 5"/>
          <p:cNvGraphicFramePr/>
          <p:nvPr/>
        </p:nvGraphicFramePr>
        <p:xfrm>
          <a:off x="1496880" y="4653000"/>
          <a:ext cx="6624720" cy="1751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96880" y="4653000"/>
                    <a:ext cx="6624720" cy="175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7" name="Object 6"/>
          <p:cNvGraphicFramePr/>
          <p:nvPr/>
        </p:nvGraphicFramePr>
        <p:xfrm>
          <a:off x="1928880" y="2133720"/>
          <a:ext cx="6337080" cy="1879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8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28880" y="2133720"/>
                    <a:ext cx="6337080" cy="187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9" name="13 CuadroTexto"/>
          <p:cNvSpPr/>
          <p:nvPr/>
        </p:nvSpPr>
        <p:spPr>
          <a:xfrm>
            <a:off x="452520" y="1643040"/>
            <a:ext cx="778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indent="-457200"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 Black"/>
              </a:rPr>
              <a:t>Recursos necesarios para licitar tramos 1, 2 y 3 por sistema tradicio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14 CuadroTexto"/>
          <p:cNvSpPr/>
          <p:nvPr/>
        </p:nvSpPr>
        <p:spPr>
          <a:xfrm>
            <a:off x="344520" y="4221000"/>
            <a:ext cx="778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indent="-457200"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 Black"/>
              </a:rPr>
              <a:t>Recursos disponibles para licitar resto de tram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1" name=""/>
          <p:cNvGrpSpPr/>
          <p:nvPr/>
        </p:nvGrpSpPr>
        <p:grpSpPr>
          <a:xfrm>
            <a:off x="330120" y="85680"/>
            <a:ext cx="9383760" cy="955440"/>
            <a:chOff x="330120" y="85680"/>
            <a:chExt cx="9383760" cy="955440"/>
          </a:xfrm>
        </p:grpSpPr>
        <p:sp>
          <p:nvSpPr>
            <p:cNvPr id="372" name="Text Box 9"/>
            <p:cNvSpPr/>
            <p:nvPr/>
          </p:nvSpPr>
          <p:spPr>
            <a:xfrm>
              <a:off x="2289240" y="333360"/>
              <a:ext cx="5688000" cy="70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08080"/>
                  </a:solidFill>
                  <a:latin typeface="Arial Black"/>
                </a:rPr>
                <a:t>GESTIÓN DE LA INVERSIÓN PÚBLIC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3" name=""/>
            <p:cNvGrpSpPr/>
            <p:nvPr/>
          </p:nvGrpSpPr>
          <p:grpSpPr>
            <a:xfrm>
              <a:off x="330120" y="85680"/>
              <a:ext cx="9383760" cy="914400"/>
              <a:chOff x="330120" y="85680"/>
              <a:chExt cx="9383760" cy="914400"/>
            </a:xfrm>
          </p:grpSpPr>
          <p:pic>
            <p:nvPicPr>
              <p:cNvPr id="374" name="Picture 3" descr="esc_web0"/>
              <p:cNvPicPr/>
              <p:nvPr/>
            </p:nvPicPr>
            <p:blipFill>
              <a:blip r:embed="rId5"/>
              <a:stretch/>
            </p:blipFill>
            <p:spPr>
              <a:xfrm>
                <a:off x="330120" y="85680"/>
                <a:ext cx="990720" cy="914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75" name="Text Box 4"/>
              <p:cNvSpPr/>
              <p:nvPr/>
            </p:nvSpPr>
            <p:spPr>
              <a:xfrm>
                <a:off x="1424160" y="404640"/>
                <a:ext cx="2180880" cy="45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46800" bIns="4680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MINISTERIO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DE HACIENDA Y ADMINISTRACIONES PÚBLICA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76" name=""/>
              <p:cNvGrpSpPr/>
              <p:nvPr/>
            </p:nvGrpSpPr>
            <p:grpSpPr>
              <a:xfrm>
                <a:off x="8048520" y="189000"/>
                <a:ext cx="1665360" cy="712800"/>
                <a:chOff x="8048520" y="189000"/>
                <a:chExt cx="1665360" cy="712800"/>
              </a:xfrm>
            </p:grpSpPr>
            <p:sp>
              <p:nvSpPr>
                <p:cNvPr id="377" name="Text Box 7"/>
                <p:cNvSpPr/>
                <p:nvPr/>
              </p:nvSpPr>
              <p:spPr>
                <a:xfrm>
                  <a:off x="8048520" y="549360"/>
                  <a:ext cx="1657440" cy="3524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000" rIns="36000" tIns="46800" bIns="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51"/>
                    </a:spcBef>
                    <a:spcAft>
                      <a:spcPts val="5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DIRECCIÓN GENERAL DE PRESUPUESTOS 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8" name="Text Box 8"/>
                <p:cNvSpPr/>
                <p:nvPr/>
              </p:nvSpPr>
              <p:spPr>
                <a:xfrm>
                  <a:off x="8048520" y="189000"/>
                  <a:ext cx="1665360" cy="3603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000" rIns="36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37"/>
                    </a:spcBef>
                    <a:spcAft>
                      <a:spcPts val="37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SECRETARIA DE ESTADO  DE PRESUPUESTOS Y GASTOS</a:t>
                  </a:r>
                  <a:r>
                    <a:rPr b="1" lang="en-US" sz="6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endParaRPr b="0" lang="en-US" sz="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p:transition>
    <p:wipe dir="r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9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9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9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9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3 Marcador de número de diapositiva"/>
          <p:cNvSpPr/>
          <p:nvPr/>
        </p:nvSpPr>
        <p:spPr>
          <a:xfrm>
            <a:off x="709920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DFCDE-E4EB-4CBA-8825-57583A1875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Text Box 2"/>
          <p:cNvSpPr/>
          <p:nvPr/>
        </p:nvSpPr>
        <p:spPr>
          <a:xfrm>
            <a:off x="0" y="0"/>
            <a:ext cx="990612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Text Box 9"/>
          <p:cNvSpPr/>
          <p:nvPr/>
        </p:nvSpPr>
        <p:spPr>
          <a:xfrm>
            <a:off x="351000" y="1143000"/>
            <a:ext cx="9283680" cy="453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33cc"/>
                </a:solidFill>
                <a:latin typeface="Arial Black"/>
              </a:rPr>
              <a:t>SOLUCIÓN RAZONADA SUPUESTO PRÁCTICO (con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457200"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457200"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457200"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457200"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457200"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457200"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45720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45720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45720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45720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45720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457200" algn="just">
              <a:lnSpc>
                <a:spcPct val="100000"/>
              </a:lnSpc>
              <a:spcBef>
                <a:spcPts val="1001"/>
              </a:spcBef>
              <a:buClr>
                <a:srgbClr val="80808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2" name="Object 4"/>
          <p:cNvGraphicFramePr/>
          <p:nvPr/>
        </p:nvGraphicFramePr>
        <p:xfrm>
          <a:off x="1136520" y="2133720"/>
          <a:ext cx="6961320" cy="110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36520" y="2133720"/>
                    <a:ext cx="6961320" cy="110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4" name="Object 5"/>
          <p:cNvGraphicFramePr/>
          <p:nvPr/>
        </p:nvGraphicFramePr>
        <p:xfrm>
          <a:off x="1568520" y="3726000"/>
          <a:ext cx="6840360" cy="2027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8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68520" y="3726000"/>
                    <a:ext cx="6840360" cy="202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6" name="13 CuadroTexto"/>
          <p:cNvSpPr/>
          <p:nvPr/>
        </p:nvSpPr>
        <p:spPr>
          <a:xfrm>
            <a:off x="452520" y="1643040"/>
            <a:ext cx="778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indent="-457200"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 Black"/>
              </a:rPr>
              <a:t>Recursos necesarios para licitar tramo 4 por sistema Abono Total del Prec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14 CuadroTexto"/>
          <p:cNvSpPr/>
          <p:nvPr/>
        </p:nvSpPr>
        <p:spPr>
          <a:xfrm>
            <a:off x="415800" y="3357720"/>
            <a:ext cx="778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indent="-457200"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 Black"/>
              </a:rPr>
              <a:t>Recursos disponibles para licitar resto de tram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15 CuadroTexto"/>
          <p:cNvSpPr/>
          <p:nvPr/>
        </p:nvSpPr>
        <p:spPr>
          <a:xfrm>
            <a:off x="488880" y="5877000"/>
            <a:ext cx="778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indent="-457200"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 Black"/>
              </a:rPr>
              <a:t>Tramo 5 se licita mediante el sistema de conces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9" name=""/>
          <p:cNvGrpSpPr/>
          <p:nvPr/>
        </p:nvGrpSpPr>
        <p:grpSpPr>
          <a:xfrm>
            <a:off x="330120" y="85680"/>
            <a:ext cx="9383760" cy="955440"/>
            <a:chOff x="330120" y="85680"/>
            <a:chExt cx="9383760" cy="955440"/>
          </a:xfrm>
        </p:grpSpPr>
        <p:sp>
          <p:nvSpPr>
            <p:cNvPr id="390" name="Text Box 9"/>
            <p:cNvSpPr/>
            <p:nvPr/>
          </p:nvSpPr>
          <p:spPr>
            <a:xfrm>
              <a:off x="2289240" y="333360"/>
              <a:ext cx="5688000" cy="70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08080"/>
                  </a:solidFill>
                  <a:latin typeface="Arial Black"/>
                </a:rPr>
                <a:t>GESTIÓN DE LA INVERSIÓN PÚBLIC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1" name=""/>
            <p:cNvGrpSpPr/>
            <p:nvPr/>
          </p:nvGrpSpPr>
          <p:grpSpPr>
            <a:xfrm>
              <a:off x="330120" y="85680"/>
              <a:ext cx="9383760" cy="914400"/>
              <a:chOff x="330120" y="85680"/>
              <a:chExt cx="9383760" cy="914400"/>
            </a:xfrm>
          </p:grpSpPr>
          <p:pic>
            <p:nvPicPr>
              <p:cNvPr id="392" name="Picture 3" descr="esc_web0"/>
              <p:cNvPicPr/>
              <p:nvPr/>
            </p:nvPicPr>
            <p:blipFill>
              <a:blip r:embed="rId5"/>
              <a:stretch/>
            </p:blipFill>
            <p:spPr>
              <a:xfrm>
                <a:off x="330120" y="85680"/>
                <a:ext cx="990720" cy="914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3" name="Text Box 4"/>
              <p:cNvSpPr/>
              <p:nvPr/>
            </p:nvSpPr>
            <p:spPr>
              <a:xfrm>
                <a:off x="1424160" y="404640"/>
                <a:ext cx="2180880" cy="45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46800" bIns="4680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MINISTERIO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DE HACIENDA Y ADMINISTRACIONES PÚBLICA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94" name=""/>
              <p:cNvGrpSpPr/>
              <p:nvPr/>
            </p:nvGrpSpPr>
            <p:grpSpPr>
              <a:xfrm>
                <a:off x="8048520" y="189000"/>
                <a:ext cx="1665360" cy="712800"/>
                <a:chOff x="8048520" y="189000"/>
                <a:chExt cx="1665360" cy="712800"/>
              </a:xfrm>
            </p:grpSpPr>
            <p:sp>
              <p:nvSpPr>
                <p:cNvPr id="395" name="Text Box 7"/>
                <p:cNvSpPr/>
                <p:nvPr/>
              </p:nvSpPr>
              <p:spPr>
                <a:xfrm>
                  <a:off x="8048520" y="549360"/>
                  <a:ext cx="1657440" cy="3524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000" rIns="36000" tIns="46800" bIns="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51"/>
                    </a:spcBef>
                    <a:spcAft>
                      <a:spcPts val="5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DIRECCIÓN GENERAL DE PRESUPUESTOS 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6" name="Text Box 8"/>
                <p:cNvSpPr/>
                <p:nvPr/>
              </p:nvSpPr>
              <p:spPr>
                <a:xfrm>
                  <a:off x="8048520" y="189000"/>
                  <a:ext cx="1665360" cy="3603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000" rIns="36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37"/>
                    </a:spcBef>
                    <a:spcAft>
                      <a:spcPts val="37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SECRETARIA DE ESTADO  DE PRESUPUESTOS Y GASTOS</a:t>
                  </a:r>
                  <a:r>
                    <a:rPr b="1" lang="en-US" sz="6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endParaRPr b="0" lang="en-US" sz="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p:transition>
    <p:wipe dir="r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9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9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9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9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3 Marcador de número de diapositiva"/>
          <p:cNvSpPr/>
          <p:nvPr/>
        </p:nvSpPr>
        <p:spPr>
          <a:xfrm>
            <a:off x="709920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27346-B2A7-49E8-8B9B-70A4B1ADD7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Text Box 2"/>
          <p:cNvSpPr/>
          <p:nvPr/>
        </p:nvSpPr>
        <p:spPr>
          <a:xfrm>
            <a:off x="0" y="0"/>
            <a:ext cx="990612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Text Box 9"/>
          <p:cNvSpPr/>
          <p:nvPr/>
        </p:nvSpPr>
        <p:spPr>
          <a:xfrm>
            <a:off x="272880" y="1341360"/>
            <a:ext cx="9284040" cy="453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 Black"/>
              </a:rPr>
              <a:t>SOLUCIÓN RAZONADA SUPUESTO PRÁCTICO (f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457200"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457200"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457200"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457200"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457200"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457200"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45720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45720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45720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45720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45720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457200" algn="just">
              <a:lnSpc>
                <a:spcPct val="100000"/>
              </a:lnSpc>
              <a:spcBef>
                <a:spcPts val="1001"/>
              </a:spcBef>
              <a:buClr>
                <a:srgbClr val="80808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00" name="Object 21"/>
          <p:cNvGraphicFramePr/>
          <p:nvPr/>
        </p:nvGraphicFramePr>
        <p:xfrm>
          <a:off x="920880" y="1916280"/>
          <a:ext cx="7848360" cy="4387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01" name="Object 2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0880" y="1916280"/>
                    <a:ext cx="7848360" cy="438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02" name=""/>
          <p:cNvGrpSpPr/>
          <p:nvPr/>
        </p:nvGrpSpPr>
        <p:grpSpPr>
          <a:xfrm>
            <a:off x="330120" y="85680"/>
            <a:ext cx="9383760" cy="955440"/>
            <a:chOff x="330120" y="85680"/>
            <a:chExt cx="9383760" cy="955440"/>
          </a:xfrm>
        </p:grpSpPr>
        <p:sp>
          <p:nvSpPr>
            <p:cNvPr id="403" name="Text Box 9"/>
            <p:cNvSpPr/>
            <p:nvPr/>
          </p:nvSpPr>
          <p:spPr>
            <a:xfrm>
              <a:off x="2289240" y="333360"/>
              <a:ext cx="5688000" cy="70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08080"/>
                  </a:solidFill>
                  <a:latin typeface="Arial Black"/>
                </a:rPr>
                <a:t>GESTIÓN DE LA INVERSIÓN PÚBLIC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4" name=""/>
            <p:cNvGrpSpPr/>
            <p:nvPr/>
          </p:nvGrpSpPr>
          <p:grpSpPr>
            <a:xfrm>
              <a:off x="330120" y="85680"/>
              <a:ext cx="9383760" cy="914400"/>
              <a:chOff x="330120" y="85680"/>
              <a:chExt cx="9383760" cy="914400"/>
            </a:xfrm>
          </p:grpSpPr>
          <p:pic>
            <p:nvPicPr>
              <p:cNvPr id="405" name="Picture 3" descr="esc_web0"/>
              <p:cNvPicPr/>
              <p:nvPr/>
            </p:nvPicPr>
            <p:blipFill>
              <a:blip r:embed="rId3"/>
              <a:stretch/>
            </p:blipFill>
            <p:spPr>
              <a:xfrm>
                <a:off x="330120" y="85680"/>
                <a:ext cx="990720" cy="914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6" name="Text Box 4"/>
              <p:cNvSpPr/>
              <p:nvPr/>
            </p:nvSpPr>
            <p:spPr>
              <a:xfrm>
                <a:off x="1424160" y="404640"/>
                <a:ext cx="2180880" cy="45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46800" bIns="4680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MINISTERIO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DE HACIENDA Y ADMINISTRACIONES PÚBLICA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07" name=""/>
              <p:cNvGrpSpPr/>
              <p:nvPr/>
            </p:nvGrpSpPr>
            <p:grpSpPr>
              <a:xfrm>
                <a:off x="8048520" y="189000"/>
                <a:ext cx="1665360" cy="712800"/>
                <a:chOff x="8048520" y="189000"/>
                <a:chExt cx="1665360" cy="712800"/>
              </a:xfrm>
            </p:grpSpPr>
            <p:sp>
              <p:nvSpPr>
                <p:cNvPr id="408" name="Text Box 7"/>
                <p:cNvSpPr/>
                <p:nvPr/>
              </p:nvSpPr>
              <p:spPr>
                <a:xfrm>
                  <a:off x="8048520" y="549360"/>
                  <a:ext cx="1657440" cy="3524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000" rIns="36000" tIns="46800" bIns="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51"/>
                    </a:spcBef>
                    <a:spcAft>
                      <a:spcPts val="5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DIRECCIÓN GENERAL DE PRESUPUESTOS 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9" name="Text Box 8"/>
                <p:cNvSpPr/>
                <p:nvPr/>
              </p:nvSpPr>
              <p:spPr>
                <a:xfrm>
                  <a:off x="8048520" y="189000"/>
                  <a:ext cx="1665360" cy="3603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000" rIns="36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37"/>
                    </a:spcBef>
                    <a:spcAft>
                      <a:spcPts val="37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SECRETARIA DE ESTADO  DE PRESUPUESTOS Y GASTOS</a:t>
                  </a:r>
                  <a:r>
                    <a:rPr b="1" lang="en-US" sz="6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endParaRPr b="0" lang="en-US" sz="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3 Marcador de número de diapositiva"/>
          <p:cNvSpPr/>
          <p:nvPr/>
        </p:nvSpPr>
        <p:spPr>
          <a:xfrm>
            <a:off x="709920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6A1C0-3B75-47A9-99CE-2100C0F700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2"/>
          <p:cNvSpPr/>
          <p:nvPr/>
        </p:nvSpPr>
        <p:spPr>
          <a:xfrm>
            <a:off x="0" y="0"/>
            <a:ext cx="990612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9"/>
          <p:cNvSpPr/>
          <p:nvPr/>
        </p:nvSpPr>
        <p:spPr>
          <a:xfrm>
            <a:off x="344520" y="1844640"/>
            <a:ext cx="921708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0000" rIns="90000" tIns="82800" bIns="82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6600"/>
                </a:solidFill>
                <a:latin typeface="Arial Unicode MS"/>
              </a:rPr>
              <a:t>Resoluci</a:t>
            </a:r>
            <a:r>
              <a:rPr b="1" lang="es-ES" sz="1800" spc="-1" strike="noStrike">
                <a:solidFill>
                  <a:srgbClr val="006600"/>
                </a:solidFill>
                <a:latin typeface="Arial Rounded MT Bold"/>
              </a:rPr>
              <a:t>ó</a:t>
            </a:r>
            <a:r>
              <a:rPr b="1" lang="es-ES" sz="1800" spc="-1" strike="noStrike">
                <a:solidFill>
                  <a:srgbClr val="006600"/>
                </a:solidFill>
                <a:latin typeface="Arial Unicode MS"/>
              </a:rPr>
              <a:t>n de 19 de enero de 2009, de la Direcci</a:t>
            </a:r>
            <a:r>
              <a:rPr b="1" lang="es-ES" sz="1800" spc="-1" strike="noStrike">
                <a:solidFill>
                  <a:srgbClr val="006600"/>
                </a:solidFill>
                <a:latin typeface="Arial Rounded MT Bold"/>
              </a:rPr>
              <a:t>ó</a:t>
            </a:r>
            <a:r>
              <a:rPr b="1" lang="es-ES" sz="1800" spc="-1" strike="noStrike">
                <a:solidFill>
                  <a:srgbClr val="006600"/>
                </a:solidFill>
                <a:latin typeface="Arial Unicode MS"/>
              </a:rPr>
              <a:t>n General de Presupuestos, por la que se establecen los c</a:t>
            </a:r>
            <a:r>
              <a:rPr b="1" lang="es-ES" sz="1800" spc="-1" strike="noStrike">
                <a:solidFill>
                  <a:srgbClr val="006600"/>
                </a:solidFill>
                <a:latin typeface="Arial Rounded MT Bold"/>
              </a:rPr>
              <a:t>ó</a:t>
            </a:r>
            <a:r>
              <a:rPr b="1" lang="es-ES" sz="1800" spc="-1" strike="noStrike">
                <a:solidFill>
                  <a:srgbClr val="006600"/>
                </a:solidFill>
                <a:latin typeface="Arial Unicode MS"/>
              </a:rPr>
              <a:t>digos que definen la clasificaci</a:t>
            </a:r>
            <a:r>
              <a:rPr b="1" lang="es-ES" sz="1800" spc="-1" strike="noStrike">
                <a:solidFill>
                  <a:srgbClr val="006600"/>
                </a:solidFill>
                <a:latin typeface="Arial Rounded MT Bold"/>
              </a:rPr>
              <a:t>ó</a:t>
            </a:r>
            <a:r>
              <a:rPr b="1" lang="es-ES" sz="1800" spc="-1" strike="noStrike">
                <a:solidFill>
                  <a:srgbClr val="006600"/>
                </a:solidFill>
                <a:latin typeface="Arial Unicode MS"/>
              </a:rPr>
              <a:t>n econ</a:t>
            </a:r>
            <a:r>
              <a:rPr b="1" lang="es-ES" sz="1800" spc="-1" strike="noStrike">
                <a:solidFill>
                  <a:srgbClr val="006600"/>
                </a:solidFill>
                <a:latin typeface="Arial Rounded MT Bold"/>
              </a:rPr>
              <a:t>ó</a:t>
            </a:r>
            <a:r>
              <a:rPr b="1" lang="es-ES" sz="1800" spc="-1" strike="noStrike">
                <a:solidFill>
                  <a:srgbClr val="006600"/>
                </a:solidFill>
                <a:latin typeface="Arial Unicode MS"/>
              </a:rPr>
              <a:t>mic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9"/>
          <p:cNvSpPr/>
          <p:nvPr/>
        </p:nvSpPr>
        <p:spPr>
          <a:xfrm>
            <a:off x="1136520" y="3068640"/>
            <a:ext cx="8352000" cy="23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0000" rIns="90000" tIns="82800" bIns="82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5f5f5f"/>
                </a:solidFill>
                <a:latin typeface="Arial Unicode MS"/>
              </a:rPr>
              <a:t>El capítulo de inversiones reales comprende los gastos a realizar directamente por el Estado, organismos autónomos, agencias estatales y otros organismos públicos destinados a la creación o adquisición de bienes de capital, así como los destinados a la adquisición de bienes de naturaleza inventariable necesarios para el funcionamiento operativo de los servicios y aquellos otros gastos de naturaleza inmaterial que tengan carácter amortizabl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330120" y="85680"/>
            <a:ext cx="9383760" cy="955440"/>
            <a:chOff x="330120" y="85680"/>
            <a:chExt cx="9383760" cy="955440"/>
          </a:xfrm>
        </p:grpSpPr>
        <p:sp>
          <p:nvSpPr>
            <p:cNvPr id="79" name="Text Box 9"/>
            <p:cNvSpPr/>
            <p:nvPr/>
          </p:nvSpPr>
          <p:spPr>
            <a:xfrm>
              <a:off x="2289240" y="333360"/>
              <a:ext cx="5688000" cy="70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08080"/>
                  </a:solidFill>
                  <a:latin typeface="Arial Black"/>
                </a:rPr>
                <a:t>GESTIÓN DE LA INVERSIÓN PÚBLIC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0" name=""/>
            <p:cNvGrpSpPr/>
            <p:nvPr/>
          </p:nvGrpSpPr>
          <p:grpSpPr>
            <a:xfrm>
              <a:off x="330120" y="85680"/>
              <a:ext cx="9383760" cy="914400"/>
              <a:chOff x="330120" y="85680"/>
              <a:chExt cx="9383760" cy="914400"/>
            </a:xfrm>
          </p:grpSpPr>
          <p:pic>
            <p:nvPicPr>
              <p:cNvPr id="81" name="Picture 3" descr="esc_web0"/>
              <p:cNvPicPr/>
              <p:nvPr/>
            </p:nvPicPr>
            <p:blipFill>
              <a:blip r:embed="rId1"/>
              <a:stretch/>
            </p:blipFill>
            <p:spPr>
              <a:xfrm>
                <a:off x="330120" y="85680"/>
                <a:ext cx="990720" cy="914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" name="Text Box 4"/>
              <p:cNvSpPr/>
              <p:nvPr/>
            </p:nvSpPr>
            <p:spPr>
              <a:xfrm>
                <a:off x="1424160" y="404640"/>
                <a:ext cx="2180880" cy="45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46800" bIns="4680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MINISTERIO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DE HACIENDA Y ADMINISTRACIONES PÚBLICA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3" name=""/>
              <p:cNvGrpSpPr/>
              <p:nvPr/>
            </p:nvGrpSpPr>
            <p:grpSpPr>
              <a:xfrm>
                <a:off x="8048520" y="189000"/>
                <a:ext cx="1665360" cy="712800"/>
                <a:chOff x="8048520" y="189000"/>
                <a:chExt cx="1665360" cy="712800"/>
              </a:xfrm>
            </p:grpSpPr>
            <p:sp>
              <p:nvSpPr>
                <p:cNvPr id="84" name="Text Box 7"/>
                <p:cNvSpPr/>
                <p:nvPr/>
              </p:nvSpPr>
              <p:spPr>
                <a:xfrm>
                  <a:off x="8048520" y="549360"/>
                  <a:ext cx="1657440" cy="3524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000" rIns="36000" tIns="46800" bIns="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51"/>
                    </a:spcBef>
                    <a:spcAft>
                      <a:spcPts val="5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DIRECCIÓN GENERAL DE PRESUPUESTOS 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" name="Text Box 8"/>
                <p:cNvSpPr/>
                <p:nvPr/>
              </p:nvSpPr>
              <p:spPr>
                <a:xfrm>
                  <a:off x="8048520" y="189000"/>
                  <a:ext cx="1665360" cy="3603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000" rIns="36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37"/>
                    </a:spcBef>
                    <a:spcAft>
                      <a:spcPts val="37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SECRETARIA DE ESTADO  DE PRESUPUESTOS Y GASTOS</a:t>
                  </a:r>
                  <a:r>
                    <a:rPr b="1" lang="en-US" sz="6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endParaRPr b="0" lang="en-US" sz="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3 Marcador de número de diapositiva"/>
          <p:cNvSpPr/>
          <p:nvPr/>
        </p:nvSpPr>
        <p:spPr>
          <a:xfrm>
            <a:off x="709920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101E9-65E1-404B-926A-F167E0903C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2"/>
          <p:cNvSpPr/>
          <p:nvPr/>
        </p:nvSpPr>
        <p:spPr>
          <a:xfrm>
            <a:off x="0" y="0"/>
            <a:ext cx="990612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12"/>
          <p:cNvSpPr/>
          <p:nvPr/>
        </p:nvSpPr>
        <p:spPr>
          <a:xfrm>
            <a:off x="0" y="2384280"/>
            <a:ext cx="9906120" cy="3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icture 15" descr=""/>
          <p:cNvPicPr/>
          <p:nvPr/>
        </p:nvPicPr>
        <p:blipFill>
          <a:blip r:embed="rId1"/>
          <a:stretch/>
        </p:blipFill>
        <p:spPr>
          <a:xfrm>
            <a:off x="1281240" y="1125360"/>
            <a:ext cx="7343640" cy="5220000"/>
          </a:xfrm>
          <a:prstGeom prst="rect">
            <a:avLst/>
          </a:prstGeom>
          <a:ln w="0">
            <a:noFill/>
          </a:ln>
        </p:spPr>
      </p:pic>
      <p:sp>
        <p:nvSpPr>
          <p:cNvPr id="90" name="Oval 16"/>
          <p:cNvSpPr/>
          <p:nvPr/>
        </p:nvSpPr>
        <p:spPr>
          <a:xfrm>
            <a:off x="6032520" y="4149720"/>
            <a:ext cx="1512720" cy="28728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330120" y="85680"/>
            <a:ext cx="9383760" cy="955440"/>
            <a:chOff x="330120" y="85680"/>
            <a:chExt cx="9383760" cy="955440"/>
          </a:xfrm>
        </p:grpSpPr>
        <p:sp>
          <p:nvSpPr>
            <p:cNvPr id="92" name="Text Box 9"/>
            <p:cNvSpPr/>
            <p:nvPr/>
          </p:nvSpPr>
          <p:spPr>
            <a:xfrm>
              <a:off x="2289240" y="333360"/>
              <a:ext cx="5688000" cy="70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08080"/>
                  </a:solidFill>
                  <a:latin typeface="Arial Black"/>
                </a:rPr>
                <a:t>GESTIÓN DE LA INVERSIÓN PÚBLIC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330120" y="85680"/>
              <a:ext cx="9383760" cy="914400"/>
              <a:chOff x="330120" y="85680"/>
              <a:chExt cx="9383760" cy="914400"/>
            </a:xfrm>
          </p:grpSpPr>
          <p:pic>
            <p:nvPicPr>
              <p:cNvPr id="94" name="Picture 3" descr="esc_web0"/>
              <p:cNvPicPr/>
              <p:nvPr/>
            </p:nvPicPr>
            <p:blipFill>
              <a:blip r:embed="rId2"/>
              <a:stretch/>
            </p:blipFill>
            <p:spPr>
              <a:xfrm>
                <a:off x="330120" y="85680"/>
                <a:ext cx="990720" cy="914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5" name="Text Box 4"/>
              <p:cNvSpPr/>
              <p:nvPr/>
            </p:nvSpPr>
            <p:spPr>
              <a:xfrm>
                <a:off x="1424160" y="404640"/>
                <a:ext cx="2180880" cy="45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46800" bIns="4680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MINISTERIO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DE HACIENDA Y ADMINISTRACIONES PÚBLICA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6" name=""/>
              <p:cNvGrpSpPr/>
              <p:nvPr/>
            </p:nvGrpSpPr>
            <p:grpSpPr>
              <a:xfrm>
                <a:off x="8048520" y="189000"/>
                <a:ext cx="1665360" cy="712800"/>
                <a:chOff x="8048520" y="189000"/>
                <a:chExt cx="1665360" cy="712800"/>
              </a:xfrm>
            </p:grpSpPr>
            <p:sp>
              <p:nvSpPr>
                <p:cNvPr id="97" name="Text Box 7"/>
                <p:cNvSpPr/>
                <p:nvPr/>
              </p:nvSpPr>
              <p:spPr>
                <a:xfrm>
                  <a:off x="8048520" y="549360"/>
                  <a:ext cx="1657440" cy="3524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000" rIns="36000" tIns="46800" bIns="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51"/>
                    </a:spcBef>
                    <a:spcAft>
                      <a:spcPts val="5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DIRECCIÓN GENERAL DE PRESUPUESTOS 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" name="Text Box 8"/>
                <p:cNvSpPr/>
                <p:nvPr/>
              </p:nvSpPr>
              <p:spPr>
                <a:xfrm>
                  <a:off x="8048520" y="189000"/>
                  <a:ext cx="1665360" cy="3603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000" rIns="36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37"/>
                    </a:spcBef>
                    <a:spcAft>
                      <a:spcPts val="37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SECRETARIA DE ESTADO  DE PRESUPUESTOS Y GASTOS</a:t>
                  </a:r>
                  <a:r>
                    <a:rPr b="1" lang="en-US" sz="6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endParaRPr b="0" lang="en-US" sz="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3 Marcador de número de diapositiva"/>
          <p:cNvSpPr/>
          <p:nvPr/>
        </p:nvSpPr>
        <p:spPr>
          <a:xfrm>
            <a:off x="709920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75274-7430-4C16-B5A3-F4A0FBDF33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2"/>
          <p:cNvSpPr/>
          <p:nvPr/>
        </p:nvSpPr>
        <p:spPr>
          <a:xfrm>
            <a:off x="0" y="0"/>
            <a:ext cx="990612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1" name="Object 10"/>
          <p:cNvGraphicFramePr/>
          <p:nvPr/>
        </p:nvGraphicFramePr>
        <p:xfrm>
          <a:off x="5021280" y="2917800"/>
          <a:ext cx="4703760" cy="3279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1280" y="2917800"/>
                    <a:ext cx="4703760" cy="327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Rectangle 12"/>
          <p:cNvSpPr/>
          <p:nvPr/>
        </p:nvSpPr>
        <p:spPr>
          <a:xfrm>
            <a:off x="0" y="2384280"/>
            <a:ext cx="9906120" cy="3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4" name="Object 14"/>
          <p:cNvGraphicFramePr/>
          <p:nvPr/>
        </p:nvGraphicFramePr>
        <p:xfrm>
          <a:off x="-1023840" y="1773360"/>
          <a:ext cx="7200720" cy="25128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05" name="Object 1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-1023840" y="1773360"/>
                    <a:ext cx="7200720" cy="251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6" name=""/>
          <p:cNvGrpSpPr/>
          <p:nvPr/>
        </p:nvGrpSpPr>
        <p:grpSpPr>
          <a:xfrm>
            <a:off x="330120" y="85680"/>
            <a:ext cx="9383760" cy="955440"/>
            <a:chOff x="330120" y="85680"/>
            <a:chExt cx="9383760" cy="955440"/>
          </a:xfrm>
        </p:grpSpPr>
        <p:sp>
          <p:nvSpPr>
            <p:cNvPr id="107" name="Text Box 9"/>
            <p:cNvSpPr/>
            <p:nvPr/>
          </p:nvSpPr>
          <p:spPr>
            <a:xfrm>
              <a:off x="2289240" y="333360"/>
              <a:ext cx="5688000" cy="70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08080"/>
                  </a:solidFill>
                  <a:latin typeface="Arial Black"/>
                </a:rPr>
                <a:t>GESTIÓN DE LA INVERSIÓN PÚBLIC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330120" y="85680"/>
              <a:ext cx="9383760" cy="914400"/>
              <a:chOff x="330120" y="85680"/>
              <a:chExt cx="9383760" cy="914400"/>
            </a:xfrm>
          </p:grpSpPr>
          <p:pic>
            <p:nvPicPr>
              <p:cNvPr id="109" name="Picture 3" descr="esc_web0"/>
              <p:cNvPicPr/>
              <p:nvPr/>
            </p:nvPicPr>
            <p:blipFill>
              <a:blip r:embed="rId5"/>
              <a:stretch/>
            </p:blipFill>
            <p:spPr>
              <a:xfrm>
                <a:off x="330120" y="85680"/>
                <a:ext cx="990720" cy="914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" name="Text Box 4"/>
              <p:cNvSpPr/>
              <p:nvPr/>
            </p:nvSpPr>
            <p:spPr>
              <a:xfrm>
                <a:off x="1424160" y="404640"/>
                <a:ext cx="2180880" cy="45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46800" bIns="4680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MINISTERIO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DE HACIENDA Y ADMINISTRACIONES PÚBLICA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1" name=""/>
              <p:cNvGrpSpPr/>
              <p:nvPr/>
            </p:nvGrpSpPr>
            <p:grpSpPr>
              <a:xfrm>
                <a:off x="8048520" y="189000"/>
                <a:ext cx="1665360" cy="712800"/>
                <a:chOff x="8048520" y="189000"/>
                <a:chExt cx="1665360" cy="712800"/>
              </a:xfrm>
            </p:grpSpPr>
            <p:sp>
              <p:nvSpPr>
                <p:cNvPr id="112" name="Text Box 7"/>
                <p:cNvSpPr/>
                <p:nvPr/>
              </p:nvSpPr>
              <p:spPr>
                <a:xfrm>
                  <a:off x="8048520" y="549360"/>
                  <a:ext cx="1657440" cy="3524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000" rIns="36000" tIns="46800" bIns="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51"/>
                    </a:spcBef>
                    <a:spcAft>
                      <a:spcPts val="5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DIRECCIÓN GENERAL DE PRESUPUESTOS 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Text Box 8"/>
                <p:cNvSpPr/>
                <p:nvPr/>
              </p:nvSpPr>
              <p:spPr>
                <a:xfrm>
                  <a:off x="8048520" y="189000"/>
                  <a:ext cx="1665360" cy="3603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000" rIns="36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37"/>
                    </a:spcBef>
                    <a:spcAft>
                      <a:spcPts val="37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SECRETARIA DE ESTADO  DE PRESUPUESTOS Y GASTOS</a:t>
                  </a:r>
                  <a:r>
                    <a:rPr b="1" lang="en-US" sz="6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endParaRPr b="0" lang="en-US" sz="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3 Marcador de número de diapositiva"/>
          <p:cNvSpPr/>
          <p:nvPr/>
        </p:nvSpPr>
        <p:spPr>
          <a:xfrm>
            <a:off x="709920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13BA4-087F-43BF-BF5E-D041700411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2"/>
          <p:cNvSpPr/>
          <p:nvPr/>
        </p:nvSpPr>
        <p:spPr>
          <a:xfrm>
            <a:off x="0" y="0"/>
            <a:ext cx="990612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11"/>
          <p:cNvSpPr/>
          <p:nvPr/>
        </p:nvSpPr>
        <p:spPr>
          <a:xfrm>
            <a:off x="0" y="2384280"/>
            <a:ext cx="9906120" cy="3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3" descr=""/>
          <p:cNvPicPr/>
          <p:nvPr/>
        </p:nvPicPr>
        <p:blipFill>
          <a:blip r:embed="rId1"/>
          <a:stretch/>
        </p:blipFill>
        <p:spPr>
          <a:xfrm>
            <a:off x="776160" y="1268280"/>
            <a:ext cx="8344080" cy="4962600"/>
          </a:xfrm>
          <a:prstGeom prst="rect">
            <a:avLst/>
          </a:prstGeom>
          <a:ln w="0">
            <a:noFill/>
          </a:ln>
        </p:spPr>
      </p:pic>
      <p:grpSp>
        <p:nvGrpSpPr>
          <p:cNvPr id="118" name=""/>
          <p:cNvGrpSpPr/>
          <p:nvPr/>
        </p:nvGrpSpPr>
        <p:grpSpPr>
          <a:xfrm>
            <a:off x="330120" y="85680"/>
            <a:ext cx="9383760" cy="955440"/>
            <a:chOff x="330120" y="85680"/>
            <a:chExt cx="9383760" cy="955440"/>
          </a:xfrm>
        </p:grpSpPr>
        <p:sp>
          <p:nvSpPr>
            <p:cNvPr id="119" name="Text Box 9"/>
            <p:cNvSpPr/>
            <p:nvPr/>
          </p:nvSpPr>
          <p:spPr>
            <a:xfrm>
              <a:off x="2289240" y="333360"/>
              <a:ext cx="5688000" cy="70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08080"/>
                  </a:solidFill>
                  <a:latin typeface="Arial Black"/>
                </a:rPr>
                <a:t>GESTIÓN DE LA INVERSIÓN PÚBLIC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330120" y="85680"/>
              <a:ext cx="9383760" cy="914400"/>
              <a:chOff x="330120" y="85680"/>
              <a:chExt cx="9383760" cy="914400"/>
            </a:xfrm>
          </p:grpSpPr>
          <p:pic>
            <p:nvPicPr>
              <p:cNvPr id="121" name="Picture 3" descr="esc_web0"/>
              <p:cNvPicPr/>
              <p:nvPr/>
            </p:nvPicPr>
            <p:blipFill>
              <a:blip r:embed="rId2"/>
              <a:stretch/>
            </p:blipFill>
            <p:spPr>
              <a:xfrm>
                <a:off x="330120" y="85680"/>
                <a:ext cx="990720" cy="914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2" name="Text Box 4"/>
              <p:cNvSpPr/>
              <p:nvPr/>
            </p:nvSpPr>
            <p:spPr>
              <a:xfrm>
                <a:off x="1424160" y="404640"/>
                <a:ext cx="2180880" cy="45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46800" bIns="4680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MINISTERIO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DE HACIENDA Y ADMINISTRACIONES PÚBLICA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3" name=""/>
              <p:cNvGrpSpPr/>
              <p:nvPr/>
            </p:nvGrpSpPr>
            <p:grpSpPr>
              <a:xfrm>
                <a:off x="8048520" y="189000"/>
                <a:ext cx="1665360" cy="712800"/>
                <a:chOff x="8048520" y="189000"/>
                <a:chExt cx="1665360" cy="712800"/>
              </a:xfrm>
            </p:grpSpPr>
            <p:sp>
              <p:nvSpPr>
                <p:cNvPr id="124" name="Text Box 7"/>
                <p:cNvSpPr/>
                <p:nvPr/>
              </p:nvSpPr>
              <p:spPr>
                <a:xfrm>
                  <a:off x="8048520" y="549360"/>
                  <a:ext cx="1657440" cy="3524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000" rIns="36000" tIns="46800" bIns="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51"/>
                    </a:spcBef>
                    <a:spcAft>
                      <a:spcPts val="5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DIRECCIÓN GENERAL DE PRESUPUESTOS 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Text Box 8"/>
                <p:cNvSpPr/>
                <p:nvPr/>
              </p:nvSpPr>
              <p:spPr>
                <a:xfrm>
                  <a:off x="8048520" y="189000"/>
                  <a:ext cx="1665360" cy="3603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000" rIns="36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37"/>
                    </a:spcBef>
                    <a:spcAft>
                      <a:spcPts val="37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SECRETARIA DE ESTADO  DE PRESUPUESTOS Y GASTOS</a:t>
                  </a:r>
                  <a:r>
                    <a:rPr b="1" lang="en-US" sz="6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endParaRPr b="0" lang="en-US" sz="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3 Marcador de número de diapositiva"/>
          <p:cNvSpPr/>
          <p:nvPr/>
        </p:nvSpPr>
        <p:spPr>
          <a:xfrm>
            <a:off x="709920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D7862-2C58-4FFF-A530-B0F3EF859F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2"/>
          <p:cNvSpPr/>
          <p:nvPr/>
        </p:nvSpPr>
        <p:spPr>
          <a:xfrm>
            <a:off x="0" y="0"/>
            <a:ext cx="990612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Picture 3" descr="esc_web0"/>
          <p:cNvPicPr/>
          <p:nvPr/>
        </p:nvPicPr>
        <p:blipFill>
          <a:blip r:embed="rId1"/>
          <a:stretch/>
        </p:blipFill>
        <p:spPr>
          <a:xfrm>
            <a:off x="330120" y="85680"/>
            <a:ext cx="990720" cy="91440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4"/>
          <p:cNvSpPr/>
          <p:nvPr/>
        </p:nvSpPr>
        <p:spPr>
          <a:xfrm>
            <a:off x="1403280" y="457200"/>
            <a:ext cx="107496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INISTERI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E ECONOMÍA Y HACIEN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" name="Group 5"/>
          <p:cNvGrpSpPr/>
          <p:nvPr/>
        </p:nvGrpSpPr>
        <p:grpSpPr>
          <a:xfrm>
            <a:off x="8240760" y="114480"/>
            <a:ext cx="1520640" cy="901080"/>
            <a:chOff x="8240760" y="114480"/>
            <a:chExt cx="1520640" cy="901080"/>
          </a:xfrm>
        </p:grpSpPr>
        <p:sp>
          <p:nvSpPr>
            <p:cNvPr id="131" name="Text Box 6"/>
            <p:cNvSpPr/>
            <p:nvPr/>
          </p:nvSpPr>
          <p:spPr>
            <a:xfrm>
              <a:off x="8240760" y="114480"/>
              <a:ext cx="1520640" cy="27396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SECRETARÍA DE ESTADO DE HACIENDA Y PRESUPUESTO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Text Box 7"/>
            <p:cNvSpPr/>
            <p:nvPr/>
          </p:nvSpPr>
          <p:spPr>
            <a:xfrm>
              <a:off x="8240760" y="662760"/>
              <a:ext cx="1499400" cy="35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DIRECCIÓN GENERAL DE PRESUPUESTOS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Text Box 8"/>
            <p:cNvSpPr/>
            <p:nvPr/>
          </p:nvSpPr>
          <p:spPr>
            <a:xfrm>
              <a:off x="8240760" y="384840"/>
              <a:ext cx="1520640" cy="2739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SECRETARIA GENERAL DE PRESUPUESTOS Y GASTOS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4" name="Text Box 9"/>
          <p:cNvSpPr/>
          <p:nvPr/>
        </p:nvSpPr>
        <p:spPr>
          <a:xfrm>
            <a:off x="2360520" y="333360"/>
            <a:ext cx="5688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808080"/>
                </a:solidFill>
                <a:latin typeface="Arial Black"/>
              </a:rPr>
              <a:t>GESTIÓN DE LA INVERSIÓN PÚBL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808080"/>
                </a:solidFill>
                <a:latin typeface="Arial Black"/>
              </a:rPr>
              <a:t>Planes de Inversión Pública y su presupuest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11"/>
          <p:cNvSpPr/>
          <p:nvPr/>
        </p:nvSpPr>
        <p:spPr>
          <a:xfrm>
            <a:off x="0" y="2384280"/>
            <a:ext cx="9906120" cy="3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Picture 14" descr=""/>
          <p:cNvPicPr/>
          <p:nvPr/>
        </p:nvPicPr>
        <p:blipFill>
          <a:blip r:embed="rId2"/>
          <a:stretch/>
        </p:blipFill>
        <p:spPr>
          <a:xfrm>
            <a:off x="1784520" y="1413000"/>
            <a:ext cx="7056360" cy="50241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3 Marcador de número de diapositiva"/>
          <p:cNvSpPr/>
          <p:nvPr/>
        </p:nvSpPr>
        <p:spPr>
          <a:xfrm>
            <a:off x="709920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0A99C-6D82-43C3-96E9-A0CC5478D8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2"/>
          <p:cNvSpPr/>
          <p:nvPr/>
        </p:nvSpPr>
        <p:spPr>
          <a:xfrm>
            <a:off x="0" y="0"/>
            <a:ext cx="990612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11"/>
          <p:cNvSpPr/>
          <p:nvPr/>
        </p:nvSpPr>
        <p:spPr>
          <a:xfrm>
            <a:off x="0" y="2384280"/>
            <a:ext cx="9906120" cy="3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Picture 2" descr=""/>
          <p:cNvPicPr/>
          <p:nvPr/>
        </p:nvPicPr>
        <p:blipFill>
          <a:blip r:embed="rId1"/>
          <a:stretch/>
        </p:blipFill>
        <p:spPr>
          <a:xfrm>
            <a:off x="1424160" y="1197000"/>
            <a:ext cx="7704000" cy="532908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1928880" y="4653000"/>
            <a:ext cx="3095640" cy="21600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330120" y="85680"/>
            <a:ext cx="9383760" cy="955440"/>
            <a:chOff x="330120" y="85680"/>
            <a:chExt cx="9383760" cy="955440"/>
          </a:xfrm>
        </p:grpSpPr>
        <p:sp>
          <p:nvSpPr>
            <p:cNvPr id="143" name="Text Box 9"/>
            <p:cNvSpPr/>
            <p:nvPr/>
          </p:nvSpPr>
          <p:spPr>
            <a:xfrm>
              <a:off x="2289240" y="333360"/>
              <a:ext cx="5688000" cy="70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08080"/>
                  </a:solidFill>
                  <a:latin typeface="Arial Black"/>
                </a:rPr>
                <a:t>GESTIÓN DE LA INVERSIÓN PÚBLIC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4" name=""/>
            <p:cNvGrpSpPr/>
            <p:nvPr/>
          </p:nvGrpSpPr>
          <p:grpSpPr>
            <a:xfrm>
              <a:off x="330120" y="85680"/>
              <a:ext cx="9383760" cy="914400"/>
              <a:chOff x="330120" y="85680"/>
              <a:chExt cx="9383760" cy="914400"/>
            </a:xfrm>
          </p:grpSpPr>
          <p:pic>
            <p:nvPicPr>
              <p:cNvPr id="145" name="Picture 3" descr="esc_web0"/>
              <p:cNvPicPr/>
              <p:nvPr/>
            </p:nvPicPr>
            <p:blipFill>
              <a:blip r:embed="rId2"/>
              <a:stretch/>
            </p:blipFill>
            <p:spPr>
              <a:xfrm>
                <a:off x="330120" y="85680"/>
                <a:ext cx="990720" cy="914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6" name="Text Box 4"/>
              <p:cNvSpPr/>
              <p:nvPr/>
            </p:nvSpPr>
            <p:spPr>
              <a:xfrm>
                <a:off x="1424160" y="404640"/>
                <a:ext cx="2180880" cy="45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46800" bIns="4680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MINISTERIO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DE HACIENDA Y ADMINISTRACIONES PÚBLICA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7" name=""/>
              <p:cNvGrpSpPr/>
              <p:nvPr/>
            </p:nvGrpSpPr>
            <p:grpSpPr>
              <a:xfrm>
                <a:off x="8048520" y="189000"/>
                <a:ext cx="1665360" cy="712800"/>
                <a:chOff x="8048520" y="189000"/>
                <a:chExt cx="1665360" cy="712800"/>
              </a:xfrm>
            </p:grpSpPr>
            <p:sp>
              <p:nvSpPr>
                <p:cNvPr id="148" name="Text Box 7"/>
                <p:cNvSpPr/>
                <p:nvPr/>
              </p:nvSpPr>
              <p:spPr>
                <a:xfrm>
                  <a:off x="8048520" y="549360"/>
                  <a:ext cx="1657440" cy="3524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000" rIns="36000" tIns="46800" bIns="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51"/>
                    </a:spcBef>
                    <a:spcAft>
                      <a:spcPts val="5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DIRECCIÓN GENERAL DE PRESUPUESTOS 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Text Box 8"/>
                <p:cNvSpPr/>
                <p:nvPr/>
              </p:nvSpPr>
              <p:spPr>
                <a:xfrm>
                  <a:off x="8048520" y="189000"/>
                  <a:ext cx="1665360" cy="3603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000" rIns="36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37"/>
                    </a:spcBef>
                    <a:spcAft>
                      <a:spcPts val="37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SECRETARIA DE ESTADO  DE PRESUPUESTOS Y GASTOS</a:t>
                  </a:r>
                  <a:r>
                    <a:rPr b="1" lang="en-US" sz="6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endParaRPr b="0" lang="en-US" sz="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3 Marcador de número de diapositiva"/>
          <p:cNvSpPr/>
          <p:nvPr/>
        </p:nvSpPr>
        <p:spPr>
          <a:xfrm>
            <a:off x="709920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CD7A2-AFDF-4CF8-8BA5-25B877EA95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2"/>
          <p:cNvSpPr/>
          <p:nvPr/>
        </p:nvSpPr>
        <p:spPr>
          <a:xfrm>
            <a:off x="0" y="0"/>
            <a:ext cx="990612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2" name="Object 11"/>
          <p:cNvGraphicFramePr/>
          <p:nvPr/>
        </p:nvGraphicFramePr>
        <p:xfrm>
          <a:off x="272880" y="1341360"/>
          <a:ext cx="9360000" cy="495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2880" y="1341360"/>
                    <a:ext cx="9360000" cy="495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4" name=""/>
          <p:cNvGrpSpPr/>
          <p:nvPr/>
        </p:nvGrpSpPr>
        <p:grpSpPr>
          <a:xfrm>
            <a:off x="330120" y="85680"/>
            <a:ext cx="9383760" cy="955440"/>
            <a:chOff x="330120" y="85680"/>
            <a:chExt cx="9383760" cy="955440"/>
          </a:xfrm>
        </p:grpSpPr>
        <p:sp>
          <p:nvSpPr>
            <p:cNvPr id="155" name="Text Box 9"/>
            <p:cNvSpPr/>
            <p:nvPr/>
          </p:nvSpPr>
          <p:spPr>
            <a:xfrm>
              <a:off x="2289240" y="333360"/>
              <a:ext cx="5688000" cy="70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08080"/>
                  </a:solidFill>
                  <a:latin typeface="Arial Black"/>
                </a:rPr>
                <a:t>GESTIÓN DE LA INVERSIÓN PÚBLIC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6" name=""/>
            <p:cNvGrpSpPr/>
            <p:nvPr/>
          </p:nvGrpSpPr>
          <p:grpSpPr>
            <a:xfrm>
              <a:off x="330120" y="85680"/>
              <a:ext cx="9383760" cy="914400"/>
              <a:chOff x="330120" y="85680"/>
              <a:chExt cx="9383760" cy="914400"/>
            </a:xfrm>
          </p:grpSpPr>
          <p:pic>
            <p:nvPicPr>
              <p:cNvPr id="157" name="Picture 3" descr="esc_web0"/>
              <p:cNvPicPr/>
              <p:nvPr/>
            </p:nvPicPr>
            <p:blipFill>
              <a:blip r:embed="rId3"/>
              <a:stretch/>
            </p:blipFill>
            <p:spPr>
              <a:xfrm>
                <a:off x="330120" y="85680"/>
                <a:ext cx="990720" cy="914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8" name="Text Box 4"/>
              <p:cNvSpPr/>
              <p:nvPr/>
            </p:nvSpPr>
            <p:spPr>
              <a:xfrm>
                <a:off x="1424160" y="404640"/>
                <a:ext cx="2180880" cy="45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46800" bIns="4680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MINISTERIO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DE HACIENDA Y ADMINISTRACIONES PÚBLICA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9" name=""/>
              <p:cNvGrpSpPr/>
              <p:nvPr/>
            </p:nvGrpSpPr>
            <p:grpSpPr>
              <a:xfrm>
                <a:off x="8048520" y="189000"/>
                <a:ext cx="1665360" cy="712800"/>
                <a:chOff x="8048520" y="189000"/>
                <a:chExt cx="1665360" cy="712800"/>
              </a:xfrm>
            </p:grpSpPr>
            <p:sp>
              <p:nvSpPr>
                <p:cNvPr id="160" name="Text Box 7"/>
                <p:cNvSpPr/>
                <p:nvPr/>
              </p:nvSpPr>
              <p:spPr>
                <a:xfrm>
                  <a:off x="8048520" y="549360"/>
                  <a:ext cx="1657440" cy="3524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000" rIns="36000" tIns="46800" bIns="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51"/>
                    </a:spcBef>
                    <a:spcAft>
                      <a:spcPts val="5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DIRECCIÓN GENERAL DE PRESUPUESTOS 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Text Box 8"/>
                <p:cNvSpPr/>
                <p:nvPr/>
              </p:nvSpPr>
              <p:spPr>
                <a:xfrm>
                  <a:off x="8048520" y="189000"/>
                  <a:ext cx="1665360" cy="3603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000" rIns="36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37"/>
                    </a:spcBef>
                    <a:spcAft>
                      <a:spcPts val="37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SECRETARIA DE ESTADO  DE PRESUPUESTOS Y GASTOS</a:t>
                  </a:r>
                  <a:r>
                    <a:rPr b="1" lang="en-US" sz="6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endParaRPr b="0" lang="en-US" sz="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08T10:53:49Z</dcterms:created>
  <dc:creator>IGAE</dc:creator>
  <dc:description/>
  <dc:language>en-US</dc:language>
  <cp:lastModifiedBy>Paloma Baquero</cp:lastModifiedBy>
  <dcterms:modified xsi:type="dcterms:W3CDTF">2012-04-19T09:35:09Z</dcterms:modified>
  <cp:revision>168</cp:revision>
  <dc:subject/>
  <dc:title>Presentación de PowerPoint</dc:title>
</cp:coreProperties>
</file>