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5A489-2DF6-42D2-8670-48085C5FA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F7C5-2C3A-4804-A995-EEA760EB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97FA9-E939-49F0-8A99-FEBE9BE9D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06D45-0CF2-416C-89DE-596B7A787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F9181-B297-44C5-A1DA-FBC3BB94A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C8281-3063-4B12-971B-CDD7FC20E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28DF7-595C-4773-AA30-31ECF994B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9F790-9955-4D63-9B50-A697C0865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14583-17A1-40FE-8CDB-6FF425AE6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CE27B-C29F-4CCC-92EA-B1F695D9D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1A76-4115-49DB-8980-D6FE0E17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5E62-30BE-4094-A997-2BEE1955A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1E05-84F1-4814-8903-8F0AE10F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8EA3D-C41A-4DF1-AAF4-D62F09D74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03BB0-CF86-4DBC-AE1F-1B935F606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6BBC1-40E7-47C2-98D2-D00BF2C1B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7168A-BB43-4ECD-9DA0-D9955FAD4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9FEE-D9CC-4BBD-AABD-8E99B2868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6BA36-6AFD-49FB-82C6-0A6225F78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7383-1B42-48F2-9E5A-254E2170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9CD2-DBE6-461B-B962-616018A05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85E0-C020-46C9-899C-42BB2495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6B11-6B55-45EC-8735-AFE4224D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521B-606C-40BD-8B9F-688650E0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1500-0245-47A3-A5A0-0258620EFCB7}"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5733-3782-4FDC-8585-BC9558A6EE3D}"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55440" y="-47520"/>
            <a:ext cx="10793160" cy="7629480"/>
          </a:xfrm>
          <a:prstGeom prst="rect">
            <a:avLst/>
          </a:prstGeom>
          <a:ln w="0">
            <a:noFill/>
          </a:ln>
        </p:spPr>
      </p:pic>
      <p:pic>
        <p:nvPicPr>
          <p:cNvPr id="92" name="Picture 2" descr=""/>
          <p:cNvPicPr/>
          <p:nvPr/>
        </p:nvPicPr>
        <p:blipFill>
          <a:blip r:embed="rId2"/>
          <a:stretch/>
        </p:blipFill>
        <p:spPr>
          <a:xfrm>
            <a:off x="709560" y="828720"/>
            <a:ext cx="3309840" cy="669960"/>
          </a:xfrm>
          <a:prstGeom prst="rect">
            <a:avLst/>
          </a:prstGeom>
          <a:ln w="0">
            <a:noFill/>
          </a:ln>
        </p:spPr>
      </p:pic>
      <p:pic>
        <p:nvPicPr>
          <p:cNvPr id="93" name="Picture 1" descr=""/>
          <p:cNvPicPr/>
          <p:nvPr/>
        </p:nvPicPr>
        <p:blipFill>
          <a:blip r:embed="rId3"/>
          <a:stretch/>
        </p:blipFill>
        <p:spPr>
          <a:xfrm>
            <a:off x="628560" y="6796080"/>
            <a:ext cx="6732720" cy="401760"/>
          </a:xfrm>
          <a:prstGeom prst="rect">
            <a:avLst/>
          </a:prstGeom>
          <a:ln w="0">
            <a:noFill/>
          </a:ln>
        </p:spPr>
      </p:pic>
      <p:sp>
        <p:nvSpPr>
          <p:cNvPr id="94" name="Text Box 16"/>
          <p:cNvSpPr/>
          <p:nvPr/>
        </p:nvSpPr>
        <p:spPr>
          <a:xfrm>
            <a:off x="628560" y="6567480"/>
            <a:ext cx="160020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Consorcio Liderado por</a:t>
            </a:r>
            <a:endParaRPr b="0" lang="en-US" sz="700" spc="-1" strike="noStrike">
              <a:solidFill>
                <a:srgbClr val="000000"/>
              </a:solidFill>
              <a:latin typeface="Arial"/>
            </a:endParaRPr>
          </a:p>
        </p:txBody>
      </p:sp>
      <p:sp>
        <p:nvSpPr>
          <p:cNvPr id="95" name="Text Box 22"/>
          <p:cNvSpPr/>
          <p:nvPr/>
        </p:nvSpPr>
        <p:spPr>
          <a:xfrm>
            <a:off x="2000160" y="6567480"/>
            <a:ext cx="22860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f7f7f"/>
                </a:solidFill>
                <a:latin typeface="Gill Sans MT"/>
                <a:ea typeface="MS Mincho"/>
              </a:rPr>
              <a:t>Socios Coordinadores</a:t>
            </a:r>
            <a:endParaRPr b="0" lang="en-US" sz="700" spc="-1" strike="noStrike">
              <a:solidFill>
                <a:srgbClr val="000000"/>
              </a:solidFill>
              <a:latin typeface="Arial"/>
            </a:endParaRPr>
          </a:p>
        </p:txBody>
      </p:sp>
      <p:sp>
        <p:nvSpPr>
          <p:cNvPr id="96" name="Text Box 28"/>
          <p:cNvSpPr/>
          <p:nvPr/>
        </p:nvSpPr>
        <p:spPr>
          <a:xfrm>
            <a:off x="2000160" y="7253280"/>
            <a:ext cx="4800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a79c2"/>
                </a:solidFill>
                <a:latin typeface="Gill Sans MT"/>
                <a:ea typeface="MS Mincho"/>
              </a:rPr>
              <a:t>Participan más de 80 Socios Operativos y Entidades Colaboradoras de Europa y América Latina</a:t>
            </a:r>
            <a:endParaRPr b="0" lang="en-US" sz="700" spc="-1" strike="noStrike">
              <a:solidFill>
                <a:srgbClr val="000000"/>
              </a:solidFill>
              <a:latin typeface="Arial"/>
            </a:endParaRPr>
          </a:p>
        </p:txBody>
      </p:sp>
      <p:sp>
        <p:nvSpPr>
          <p:cNvPr id="97" name="TextBox 21"/>
          <p:cNvSpPr/>
          <p:nvPr/>
        </p:nvSpPr>
        <p:spPr>
          <a:xfrm>
            <a:off x="628560" y="2441520"/>
            <a:ext cx="98078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RETOS DE COHESION SOCIAL </a:t>
            </a:r>
            <a:endParaRPr b="0" lang="en-US" sz="2700" spc="-1" strike="noStrike">
              <a:solidFill>
                <a:srgbClr val="000000"/>
              </a:solidFill>
              <a:latin typeface="Arial"/>
            </a:endParaRPr>
          </a:p>
          <a:p>
            <a:pP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LECCIONES DE LA PROTECCIÓN SOCIAL : </a:t>
            </a:r>
            <a:endParaRPr b="0" lang="en-US" sz="2700" spc="-1" strike="noStrike">
              <a:solidFill>
                <a:srgbClr val="000000"/>
              </a:solidFill>
              <a:latin typeface="Arial"/>
            </a:endParaRPr>
          </a:p>
          <a:p>
            <a:pPr algn="r">
              <a:lnSpc>
                <a:spcPct val="100000"/>
              </a:lnSpc>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0" lang="es-ES_tradnl" sz="2700" spc="-1" strike="noStrike">
                <a:solidFill>
                  <a:srgbClr val="139deb"/>
                </a:solidFill>
                <a:latin typeface="Gill Sans MT Light"/>
                <a:ea typeface="Gill Sans MT Light"/>
              </a:rPr>
              <a:t>Clarisa Hardy</a:t>
            </a:r>
            <a:endParaRPr b="0" lang="en-US" sz="2700" spc="-1" strike="noStrike">
              <a:solidFill>
                <a:srgbClr val="000000"/>
              </a:solidFill>
              <a:latin typeface="Arial"/>
            </a:endParaRPr>
          </a:p>
        </p:txBody>
      </p:sp>
      <p:sp>
        <p:nvSpPr>
          <p:cNvPr id="98" name="TextBox 29"/>
          <p:cNvSpPr/>
          <p:nvPr/>
        </p:nvSpPr>
        <p:spPr>
          <a:xfrm>
            <a:off x="487440" y="3906720"/>
            <a:ext cx="363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9deb"/>
                </a:solidFill>
                <a:latin typeface="Gill Sans MT Light"/>
                <a:ea typeface="Gill Sans MT Light"/>
              </a:rPr>
              <a:t>Asunción – PARAGUAY, 8 de sept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Ingresos Hogar per cápita en América Latina y Paraguay (US$ PPA)</a:t>
            </a:r>
            <a:endParaRPr b="0" lang="en-US" sz="3200" spc="-1" strike="noStrike">
              <a:solidFill>
                <a:srgbClr val="ffffff"/>
              </a:solidFill>
              <a:latin typeface="Arial"/>
            </a:endParaRPr>
          </a:p>
        </p:txBody>
      </p:sp>
      <p:pic>
        <p:nvPicPr>
          <p:cNvPr id="116" name="Marcador de contenido 4" descr=""/>
          <p:cNvPicPr/>
          <p:nvPr/>
        </p:nvPicPr>
        <p:blipFill>
          <a:blip r:embed="rId1"/>
          <a:stretch/>
        </p:blipFill>
        <p:spPr>
          <a:xfrm>
            <a:off x="2212920" y="1600200"/>
            <a:ext cx="471816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recha Salarios por Hora en América Latina y Paraguay (US$ PPA)</a:t>
            </a:r>
            <a:endParaRPr b="0" lang="en-US" sz="3200" spc="-1" strike="noStrike">
              <a:solidFill>
                <a:srgbClr val="ffffff"/>
              </a:solidFill>
              <a:latin typeface="Arial"/>
            </a:endParaRPr>
          </a:p>
        </p:txBody>
      </p:sp>
      <p:pic>
        <p:nvPicPr>
          <p:cNvPr id="118" name="Marcador de contenido 3" descr=""/>
          <p:cNvPicPr/>
          <p:nvPr/>
        </p:nvPicPr>
        <p:blipFill>
          <a:blip r:embed="rId1"/>
          <a:stretch/>
        </p:blipFill>
        <p:spPr>
          <a:xfrm>
            <a:off x="2195640" y="1600200"/>
            <a:ext cx="475272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ES: LA PEOR TRAMPA DE LOS PAÍSES DE RENTAS MEDIA</a:t>
            </a:r>
            <a:endParaRPr b="0" lang="en-US" sz="3200" spc="-1" strike="noStrike">
              <a:solidFill>
                <a:srgbClr val="ffffff"/>
              </a:solidFill>
              <a:latin typeface="Arial"/>
            </a:endParaRPr>
          </a:p>
        </p:txBody>
      </p:sp>
      <p:sp>
        <p:nvSpPr>
          <p:cNvPr id="120" name=""/>
          <p:cNvSpPr txBox="1"/>
          <p:nvPr/>
        </p:nvSpPr>
        <p:spPr>
          <a:xfrm>
            <a:off x="609480" y="1599840"/>
            <a:ext cx="7925040" cy="44197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tas desigualdades son las que explican que el crecimiento de la región no pueda lograr una superación sostenible de la pobreza y que la reducción estadística de la pobreza esté asociada a la construcción de sociedades vulnerables: con el incremento de sectores sociales que habiendo superado los umbrales de sus necesidades básicas, experimentan indefensiones propias de la precariedad económica. </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HETEROGENEIDAD DE AMÉRICA LATINA: TIPOLOGÍA DE PAÍSES</a:t>
            </a:r>
            <a:endParaRPr b="0" lang="en-US" sz="3200" spc="-1" strike="noStrike">
              <a:solidFill>
                <a:srgbClr val="ffffff"/>
              </a:solidFill>
              <a:latin typeface="Arial"/>
            </a:endParaRPr>
          </a:p>
        </p:txBody>
      </p:sp>
      <p:sp>
        <p:nvSpPr>
          <p:cNvPr id="122"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presentación de los datos agregados de América Latina, si bien exhibe de manera gruesa una realidad regional distintiva, esconde las heterogéneas situaciones de la reg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siderando los pesos relativos de los estratos sociales y sus relaciones es posible construir una tipología que identifica cuatro grupos de países que, de acuerdo al grado de extensión o accesibilidad de derechos sociales, se mueven entre la exclusión y la integración, si bien desigual.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Grupo I y el Grupo IV de países son los que están en las posiciones más extremas en la díada integración-exclusión, mientras el Grupo II y el Grupo III se ubican en situaciones intermedia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 y II</a:t>
            </a:r>
            <a:endParaRPr b="0" lang="en-US" sz="3800" spc="-1" strike="noStrike">
              <a:solidFill>
                <a:srgbClr val="ffffff"/>
              </a:solidFill>
              <a:latin typeface="Arial"/>
            </a:endParaRPr>
          </a:p>
        </p:txBody>
      </p:sp>
      <p:pic>
        <p:nvPicPr>
          <p:cNvPr id="124" name="Marcador de contenido 4" descr=""/>
          <p:cNvPicPr/>
          <p:nvPr/>
        </p:nvPicPr>
        <p:blipFill>
          <a:blip r:embed="rId1"/>
          <a:stretch/>
        </p:blipFill>
        <p:spPr>
          <a:xfrm>
            <a:off x="1766880" y="1600200"/>
            <a:ext cx="56102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TIPOLOGÍA DE PAISES AMERICA </a:t>
            </a:r>
            <a:br>
              <a:rPr sz="3800"/>
            </a:br>
            <a:r>
              <a:rPr b="1" lang="es-MX" sz="3800" spc="-1" strike="noStrike">
                <a:solidFill>
                  <a:srgbClr val="ffffff"/>
                </a:solidFill>
                <a:latin typeface="Arial"/>
              </a:rPr>
              <a:t>LATINA: GRUPO III y IV</a:t>
            </a:r>
            <a:endParaRPr b="0" lang="en-US" sz="3800" spc="-1" strike="noStrike">
              <a:solidFill>
                <a:srgbClr val="ffffff"/>
              </a:solidFill>
              <a:latin typeface="Arial"/>
            </a:endParaRPr>
          </a:p>
        </p:txBody>
      </p:sp>
      <p:pic>
        <p:nvPicPr>
          <p:cNvPr id="126" name="Marcador de contenido 4" descr=""/>
          <p:cNvPicPr/>
          <p:nvPr/>
        </p:nvPicPr>
        <p:blipFill>
          <a:blip r:embed="rId1"/>
          <a:stretch/>
        </p:blipFill>
        <p:spPr>
          <a:xfrm>
            <a:off x="906480" y="1600200"/>
            <a:ext cx="733104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MÉRICA LATINA: DE LA EXCLUSIÓN A LA INTEGRACIÓN DESIGUAL</a:t>
            </a:r>
            <a:endParaRPr b="0" lang="en-US" sz="2800" spc="-1" strike="noStrike">
              <a:solidFill>
                <a:srgbClr val="ffffff"/>
              </a:solidFill>
              <a:latin typeface="Arial"/>
            </a:endParaRPr>
          </a:p>
        </p:txBody>
      </p:sp>
      <p:sp>
        <p:nvSpPr>
          <p:cNvPr id="12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como existe en esta tipología una correspondencia entre niveles de integración-exclusión con los niveles de acceso a derechos sociales, también se advierte con nitidez la no correspondencia entre los niveles de pobreza y desigualdad, siendo dos fenómenos que cohabitan de maneras distintas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s decir, la accesibilidad a derechos sociales marca las diferencias en los distintos grupos de países que se mueven entre la exclusión y la integración, pero las brechas de ingresos entre estratos (que se agravan por condiciones de género y etarias) están presentes en mayor o menor grado en todos los país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1" lang="es-MX" sz="1800" spc="-1" strike="noStrike">
                <a:solidFill>
                  <a:srgbClr val="000000"/>
                </a:solidFill>
                <a:latin typeface="Arial"/>
              </a:rPr>
              <a:t>Cuestión que revela que en América Latina se transita de la exclusión a la integración social, pero de manera desigual y, por tanto, que el desarrollo inclusivo es un reto pendiente de todas las sociedades en los dieciocho países analizados.</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POBREZA Y DESIGUALDADES</a:t>
            </a:r>
            <a:endParaRPr b="0" lang="en-US" sz="3800" spc="-1" strike="noStrike">
              <a:solidFill>
                <a:srgbClr val="ffffff"/>
              </a:solidFill>
              <a:latin typeface="Arial"/>
            </a:endParaRPr>
          </a:p>
        </p:txBody>
      </p:sp>
      <p:sp>
        <p:nvSpPr>
          <p:cNvPr id="130" name=""/>
          <p:cNvSpPr txBox="1"/>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interesante destacar que, en aquellos países en que se da una combinación de baja pobreza y mayor magnitud de estratos medios consolidados, la desigualdad es menor que en los restantes países, como lo ejemplifican Uruguay y Argentina, los dos únicos países de América Latina en esta situ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la inversa, la combinación de muy alta pobreza y casi inexistentes sectores medios consolidados se da con altos niveles de desigualdad, como es el caso de los tres países que integran el Grupo IV de la tipología, Guatemala, Nicaragua y Honduras.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MUJERES</a:t>
            </a:r>
            <a:endParaRPr b="0" lang="en-US" sz="3800" spc="-1" strike="noStrike">
              <a:solidFill>
                <a:srgbClr val="ffffff"/>
              </a:solidFill>
              <a:latin typeface="Arial"/>
            </a:endParaRPr>
          </a:p>
        </p:txBody>
      </p:sp>
      <p:sp>
        <p:nvSpPr>
          <p:cNvPr id="132"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No obstante las diferenciaciones entre grupos de países que integran la tipología, destaca la transversalidad de las desigualdades de género que, por la manera en que se manifiesta en toda la región, pareciera responder a patrones culturales que resisten las transformaciones socioeconómicas y, por lo mismo, de más difícil remoción.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s discriminaciones de género no han sido asumidas por las políticas públicas de los países que, salvo excepciones, no consideran la atención temprana de la infancia como un rol de los Estados y siguen delegando en las madres las tareas domésticas y de crianza que restan a las mujeres del mercado laboral y de su autonomí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 INFANCIA</a:t>
            </a:r>
            <a:endParaRPr b="0" lang="en-US" sz="3600" spc="-1" strike="noStrike">
              <a:solidFill>
                <a:srgbClr val="ffffff"/>
              </a:solidFill>
              <a:latin typeface="Arial"/>
            </a:endParaRPr>
          </a:p>
        </p:txBody>
      </p:sp>
      <p:sp>
        <p:nvSpPr>
          <p:cNvPr id="134"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resultado de las desigualdades que afectan a las mujeres, los principales dañados resultan ser los niños y niñas que, entre los 0 y los 17 años de edad, son el grupo más castigado por condiciones de pobreza y segregación, limitando sus capacidades e inhibiendo oportun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ADVERTENCIA INICIAL</a:t>
            </a:r>
            <a:endParaRPr b="0" lang="en-US" sz="4200" spc="-1" strike="noStrike">
              <a:solidFill>
                <a:srgbClr val="ffffff"/>
              </a:solidFill>
              <a:latin typeface="Arial"/>
            </a:endParaRPr>
          </a:p>
        </p:txBody>
      </p:sp>
      <p:sp>
        <p:nvSpPr>
          <p:cNvPr id="100"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	</a:t>
            </a:r>
            <a:r>
              <a:rPr b="0" i="1" lang="es-CL" sz="3200" spc="-1" strike="noStrike">
                <a:solidFill>
                  <a:srgbClr val="000000"/>
                </a:solidFill>
                <a:latin typeface="Arial"/>
              </a:rPr>
              <a:t>La información empírica utilizada en </a:t>
            </a:r>
            <a:r>
              <a:rPr b="0" i="1" lang="es-CL" sz="3200" spc="-1" strike="noStrike">
                <a:solidFill>
                  <a:srgbClr val="000000"/>
                </a:solidFill>
                <a:latin typeface="Arial"/>
              </a:rPr>
              <a:t>	</a:t>
            </a:r>
            <a:r>
              <a:rPr b="0" i="1" lang="es-CL" sz="3200" spc="-1" strike="noStrike">
                <a:solidFill>
                  <a:srgbClr val="000000"/>
                </a:solidFill>
                <a:latin typeface="Arial"/>
              </a:rPr>
              <a:t>esta presentación, así como algunas </a:t>
            </a:r>
            <a:r>
              <a:rPr b="0" i="1" lang="es-CL" sz="3200" spc="-1" strike="noStrike">
                <a:solidFill>
                  <a:srgbClr val="000000"/>
                </a:solidFill>
                <a:latin typeface="Arial"/>
              </a:rPr>
              <a:t>	</a:t>
            </a:r>
            <a:r>
              <a:rPr b="0" i="1" lang="es-CL" sz="3200" spc="-1" strike="noStrike">
                <a:solidFill>
                  <a:srgbClr val="000000"/>
                </a:solidFill>
                <a:latin typeface="Arial"/>
              </a:rPr>
              <a:t>de las reflexiones que se expondrán, </a:t>
            </a:r>
            <a:r>
              <a:rPr b="0" i="1" lang="es-CL" sz="3200" spc="-1" strike="noStrike">
                <a:solidFill>
                  <a:srgbClr val="000000"/>
                </a:solidFill>
                <a:latin typeface="Arial"/>
              </a:rPr>
              <a:t>	</a:t>
            </a:r>
            <a:r>
              <a:rPr b="0" i="1" lang="es-CL" sz="3200" spc="-1" strike="noStrike">
                <a:solidFill>
                  <a:srgbClr val="000000"/>
                </a:solidFill>
                <a:latin typeface="Arial"/>
              </a:rPr>
              <a:t>tienen como fuente el libro de Clarisa </a:t>
            </a:r>
            <a:r>
              <a:rPr b="0" i="1" lang="es-CL" sz="3200" spc="-1" strike="noStrike">
                <a:solidFill>
                  <a:srgbClr val="000000"/>
                </a:solidFill>
                <a:latin typeface="Arial"/>
              </a:rPr>
              <a:t>	</a:t>
            </a:r>
            <a:r>
              <a:rPr b="0" i="1" lang="es-CL" sz="3200" spc="-1" strike="noStrike">
                <a:solidFill>
                  <a:srgbClr val="000000"/>
                </a:solidFill>
                <a:latin typeface="Arial"/>
              </a:rPr>
              <a:t>Hardy, </a:t>
            </a:r>
            <a:r>
              <a:rPr b="1" i="1" lang="es-CL" sz="3200" spc="-1" strike="noStrike">
                <a:solidFill>
                  <a:srgbClr val="000000"/>
                </a:solidFill>
                <a:latin typeface="Arial"/>
              </a:rPr>
              <a:t>Estratificación Social en </a:t>
            </a:r>
            <a:r>
              <a:rPr b="1" i="1" lang="es-CL" sz="3200" spc="-1" strike="noStrike">
                <a:solidFill>
                  <a:srgbClr val="000000"/>
                </a:solidFill>
                <a:latin typeface="Arial"/>
              </a:rPr>
              <a:t>	</a:t>
            </a:r>
            <a:r>
              <a:rPr b="1" i="1" lang="es-CL" sz="3200" spc="-1" strike="noStrike">
                <a:solidFill>
                  <a:srgbClr val="000000"/>
                </a:solidFill>
                <a:latin typeface="Arial"/>
              </a:rPr>
              <a:t>América Latina. Retos de Cohesión </a:t>
            </a:r>
            <a:r>
              <a:rPr b="1" i="1" lang="es-CL" sz="3200" spc="-1" strike="noStrike">
                <a:solidFill>
                  <a:srgbClr val="000000"/>
                </a:solidFill>
                <a:latin typeface="Arial"/>
              </a:rPr>
              <a:t>	</a:t>
            </a:r>
            <a:r>
              <a:rPr b="1" i="1" lang="es-CL" sz="3200" spc="-1" strike="noStrike">
                <a:solidFill>
                  <a:srgbClr val="000000"/>
                </a:solidFill>
                <a:latin typeface="Arial"/>
              </a:rPr>
              <a:t>Social</a:t>
            </a:r>
            <a:r>
              <a:rPr b="0" i="1" lang="es-CL" sz="3200" spc="-1" strike="noStrike">
                <a:solidFill>
                  <a:srgbClr val="000000"/>
                </a:solidFill>
                <a:latin typeface="Arial"/>
              </a:rPr>
              <a:t>. LOM Ediciones, 2014.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JÓVENES</a:t>
            </a:r>
            <a:endParaRPr b="0" lang="en-US" sz="4200" spc="-1" strike="noStrike">
              <a:solidFill>
                <a:srgbClr val="ffffff"/>
              </a:solidFill>
              <a:latin typeface="Arial"/>
            </a:endParaRPr>
          </a:p>
        </p:txBody>
      </p:sp>
      <p:sp>
        <p:nvSpPr>
          <p:cNvPr id="136" name=""/>
          <p:cNvSpPr txBox="1"/>
          <p:nvPr/>
        </p:nvSpPr>
        <p:spPr>
          <a:xfrm>
            <a:off x="610920" y="1557000"/>
            <a:ext cx="7924680" cy="44197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2000" spc="-1" strike="noStrike">
                <a:solidFill>
                  <a:srgbClr val="000000"/>
                </a:solidFill>
                <a:latin typeface="Arial"/>
              </a:rPr>
              <a:t>Se extiende un fenómeno nuevo en la juventud que, aún si es más agudo en aquellos países con mayores niveles de exclusión (Grupos III y IV), también está presente de manera importante en países con más avanzados procesos de integración social desigual (Grupos I y II).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el fenómeno de los jóvenes que ni estudian ni trabajan (conocidos como “jóvenes nini“) y que se produce no obstante el incremento de la tasa de escolaridad en todos los paíse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jóvenes nini” conforman aproximadamente un quinto de la población juvenil de América Latina y llegan a ser un cuarto de la juventud en países del Grupo I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ffffff"/>
                </a:solidFill>
                <a:latin typeface="Arial"/>
              </a:rPr>
              <a:t>DESIGUALDADES Y VEJEZ</a:t>
            </a:r>
            <a:endParaRPr b="0" lang="en-US" sz="4200" spc="-1" strike="noStrike">
              <a:solidFill>
                <a:srgbClr val="ffffff"/>
              </a:solidFill>
              <a:latin typeface="Arial"/>
            </a:endParaRPr>
          </a:p>
        </p:txBody>
      </p:sp>
      <p:sp>
        <p:nvSpPr>
          <p:cNvPr id="13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nalmente, es importante destacar el vínculo que aparece entre mayor integración social y urbanización, con los procesos de envejecimiento de las sociedades.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aíses que integran el Grupo I de la tipología (con mayores niveles de integración social y urbanización de América Latina) tienen un nivel de longevidad comparable a los países desarrollados. Le siguen cercanamente los países del Grupo II.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os cambios en los perfiles demográficos, si bien presentes como tendencia en toda América Latina y necesarios de considerar por los impactos en los sistemas de salud y de pensiones, son todavía incipientes en los países del Grupo IV y algo más avanzados en el Grupo III.</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OBREZA Y DESIGUALDADES:</a:t>
            </a:r>
            <a:br>
              <a:rPr sz="3600"/>
            </a:br>
            <a:r>
              <a:rPr b="1" lang="es-CL" sz="3600" spc="-1" strike="noStrike">
                <a:solidFill>
                  <a:srgbClr val="ffffff"/>
                </a:solidFill>
                <a:latin typeface="Arial"/>
              </a:rPr>
              <a:t>TRABAJADORES</a:t>
            </a:r>
            <a:endParaRPr b="0" lang="en-US" sz="3600" spc="-1" strike="noStrike">
              <a:solidFill>
                <a:srgbClr val="ffffff"/>
              </a:solidFill>
              <a:latin typeface="Arial"/>
            </a:endParaRPr>
          </a:p>
        </p:txBody>
      </p:sp>
      <p:sp>
        <p:nvSpPr>
          <p:cNvPr id="140" name=""/>
          <p:cNvSpPr txBox="1"/>
          <p:nvPr/>
        </p:nvSpPr>
        <p:spPr>
          <a:xfrm>
            <a:off x="609480" y="1599840"/>
            <a:ext cx="792504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obreza y las desigualdades ya no sólo son atribuibles a la falta de empleo sino a la precariedad del mismo (bajos salarios y trabajo socialmente desprotegido), cuestión que se explica en el origen social del trabajador, los menores niveles de escolaridad y la baja calidad de la educación, siendo un agravante la condición de género (mujeres) y edad (especialmente los jóv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ffffff"/>
                </a:solidFill>
                <a:latin typeface="Arial"/>
              </a:rPr>
              <a:t>¿QUE HACER EN ESTA REALIDAD SOCIAL?</a:t>
            </a:r>
            <a:endParaRPr b="0" lang="en-US" sz="4200" spc="-1" strike="noStrike">
              <a:solidFill>
                <a:srgbClr val="ffffff"/>
              </a:solidFill>
              <a:latin typeface="Arial"/>
            </a:endParaRPr>
          </a:p>
        </p:txBody>
      </p:sp>
      <p:sp>
        <p:nvSpPr>
          <p:cNvPr id="142" name=""/>
          <p:cNvSpPr txBox="1"/>
          <p:nvPr/>
        </p:nvSpPr>
        <p:spPr>
          <a:xfrm>
            <a:off x="609480" y="1599840"/>
            <a:ext cx="792504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La cohesión social </a:t>
            </a:r>
            <a:r>
              <a:rPr b="0" lang="es-CL" sz="3200" spc="-1" strike="noStrike">
                <a:solidFill>
                  <a:srgbClr val="000000"/>
                </a:solidFill>
                <a:latin typeface="Arial"/>
              </a:rPr>
              <a:t>como fundamento de una gestión moderna de la política social para avanzar en reducción de la pobreza y de las múltiples formas de la desigualda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PRÁCTICAS GERMINALES DE COHESIÓN SOCIAL</a:t>
            </a:r>
            <a:endParaRPr b="0" lang="en-US" sz="3600" spc="-1" strike="noStrike">
              <a:solidFill>
                <a:srgbClr val="ffffff"/>
              </a:solidFill>
              <a:latin typeface="Arial"/>
            </a:endParaRPr>
          </a:p>
        </p:txBody>
      </p:sp>
      <p:sp>
        <p:nvSpPr>
          <p:cNvPr id="144" name=""/>
          <p:cNvSpPr txBox="1"/>
          <p:nvPr/>
        </p:nvSpPr>
        <p:spPr>
          <a:xfrm>
            <a:off x="609480" y="1599840"/>
            <a:ext cx="7925040" cy="4419720"/>
          </a:xfrm>
          <a:prstGeom prst="rect">
            <a:avLst/>
          </a:prstGeom>
          <a:noFill/>
          <a:ln w="0">
            <a:noFill/>
          </a:ln>
        </p:spPr>
        <p:txBody>
          <a:bodyPr anchor="t">
            <a:normAutofit fontScale="98000"/>
          </a:bodyPr>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sociales asistenciales a políticas sociales con enfoque de derecho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políticas y programas transitorios a políticas sociales universalista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la focalización en la pobreza a la extensión a nuevos sectores sociales.</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quilibrio entre políticas contributivas y solidarias</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Bases Objetivas y Subjetivas para una Agenda de Cohesión Social</a:t>
            </a:r>
            <a:endParaRPr b="0" lang="en-US" sz="38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fontScale="94000"/>
          </a:bodyPr>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o sólo las realidades objetivas (nuestras sociedades estratificadas y los avances germinales de protección social), sino también subjetivas (descontento, desconfianzas, malestar) son la base para una nueva estrategia posible y necesaria en América Latina que haga de la </a:t>
            </a:r>
            <a:r>
              <a:rPr b="1" i="1" lang="es-MX" sz="1800" spc="-1" strike="noStrike">
                <a:solidFill>
                  <a:srgbClr val="000000"/>
                </a:solidFill>
                <a:latin typeface="Arial"/>
              </a:rPr>
              <a:t>desigualdad el desafío a vencer y de la cohesión social la meta a lograr</a:t>
            </a:r>
            <a:r>
              <a:rPr b="0" lang="es-MX"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n la búsqueda de cohesión social para América Latina es posible identificar tres ejes gruesos de cambios:</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a) El primer eje o reto de cohesión social</a:t>
            </a:r>
            <a:r>
              <a:rPr b="0" lang="es-MX" sz="1800" spc="-1" strike="noStrike">
                <a:solidFill>
                  <a:srgbClr val="000000"/>
                </a:solidFill>
                <a:latin typeface="Arial"/>
              </a:rPr>
              <a:t> es la construcción de un Sistema de Protección Social fundado en derechos como mecanismo para abordar las desigualdades. </a:t>
            </a: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	</a:t>
            </a:r>
            <a:r>
              <a:rPr b="0" i="1" lang="es-MX" sz="1800" spc="-1" strike="noStrike">
                <a:solidFill>
                  <a:srgbClr val="000000"/>
                </a:solidFill>
                <a:latin typeface="Arial"/>
              </a:rPr>
              <a:t>b) El segundo eje o reto de cohesión social</a:t>
            </a:r>
            <a:r>
              <a:rPr b="0" lang="es-MX" sz="1800" spc="-1" strike="noStrike">
                <a:solidFill>
                  <a:srgbClr val="000000"/>
                </a:solidFill>
                <a:latin typeface="Arial"/>
              </a:rPr>
              <a:t> es la necesidad de impulsar una agenda por la igualdad de las mujeres.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c) Y, finalmente, el tercer reto </a:t>
            </a:r>
            <a:r>
              <a:rPr b="0" lang="es-CL" sz="1800" spc="-1" strike="noStrike">
                <a:solidFill>
                  <a:srgbClr val="000000"/>
                </a:solidFill>
                <a:latin typeface="Arial"/>
              </a:rPr>
              <a:t>es el de la sustentabilidad institucional, política y fiscal de la cohesión social. </a:t>
            </a:r>
            <a:endParaRPr b="0" lang="en-US" sz="1800" spc="-1" strike="noStrike">
              <a:solidFill>
                <a:srgbClr val="000000"/>
              </a:solidFill>
              <a:latin typeface="Arial"/>
            </a:endParaRPr>
          </a:p>
          <a:p>
            <a:pPr marL="322200" indent="-3222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EJES CONSTITUTIVOS DE LA PROTECCIÓN SOCIAL</a:t>
            </a:r>
            <a:endParaRPr b="0" lang="en-US" sz="3600" spc="-1" strike="noStrike">
              <a:solidFill>
                <a:srgbClr val="ffffff"/>
              </a:solidFill>
              <a:latin typeface="Arial"/>
            </a:endParaRPr>
          </a:p>
        </p:txBody>
      </p:sp>
      <p:sp>
        <p:nvSpPr>
          <p:cNvPr id="148" name=""/>
          <p:cNvSpPr txBox="1"/>
          <p:nvPr/>
        </p:nvSpPr>
        <p:spPr>
          <a:xfrm>
            <a:off x="609480" y="1599840"/>
            <a:ext cx="792504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1) Componente de seguridad en los ingreso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2) Componente generación de capacidades y oportunidades</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DE SEGURIDAD EN LOS INGRESOS</a:t>
            </a:r>
            <a:endParaRPr b="0" lang="en-US" sz="3200" spc="-1" strike="noStrike">
              <a:solidFill>
                <a:srgbClr val="ffffff"/>
              </a:solidFill>
              <a:latin typeface="Arial"/>
            </a:endParaRPr>
          </a:p>
        </p:txBody>
      </p:sp>
      <p:sp>
        <p:nvSpPr>
          <p:cNvPr id="150" name=""/>
          <p:cNvSpPr txBox="1"/>
          <p:nvPr/>
        </p:nvSpPr>
        <p:spPr>
          <a:xfrm>
            <a:off x="609480" y="1599840"/>
            <a:ext cx="7925040" cy="4419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ar con condiciones básicas de seguridad en los ingresos para poder desplegar capacidades y aprovechar las oportunidad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n estar presentes a lo largo del ciclo vital, tanto en el período activo de los jefes de hogar y en etapa de crianza de los hijos –complementando ingresos autónomos insuficientes o paliando su ausencia- como en el período económico inactivo.</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componente si bien puede ser selectivo responde a un derecho universal de seguridad económica y debe destinarse a quienes -transitoria o permanentemente- no pueden generar autónomamente sus ingresos (diferencias y similitudes con el ingreso ciudadano europeo). </a:t>
            </a: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ende, por definición, este componente debe ser incondicionado (la condicionalidad de los PTC debe ser hacia los Estados para garantizar que destine inversiones y prestaciones que garanticen el ejercicio de los derechos soci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2"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e la sociedad garantice a todos aquellos derechos y oportunidades que permitan que cada quien desarrolle sus capacidades diferentes. Dilemas a resolv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igualdad de oportunidades o también de resultados? o ¿cómo precisar los límites entre la distribución de bienestar y derechos por méritos y los derechos por la sola condición de ciudadanía (miembros de una misma comunidad social)?: hay que considerar las situaciones de origen apuntando a establecer condiciones de igualdad de derechos que compensen las desigualdades iniciales, así como dada la desigual distribución o diferenciada dotación de capacidades, asegurar algunos resultados para garantizar el ejercicio de los derech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OMPONENTE GENERACIÓN DE CAPACIDADES Y OPORTUNIDADES</a:t>
            </a:r>
            <a:endParaRPr b="0" lang="en-US" sz="3200" spc="-1" strike="noStrike">
              <a:solidFill>
                <a:srgbClr val="ffffff"/>
              </a:solidFill>
              <a:latin typeface="Arial"/>
            </a:endParaRPr>
          </a:p>
        </p:txBody>
      </p:sp>
      <p:sp>
        <p:nvSpPr>
          <p:cNvPr id="154" name=""/>
          <p:cNvSpPr txBox="1"/>
          <p:nvPr/>
        </p:nvSpPr>
        <p:spPr>
          <a:xfrm>
            <a:off x="609480" y="1599840"/>
            <a:ext cx="7925040" cy="44197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 familiarista o no familiarista debe ser la protección social?: la adopción de un modelo no familiarista es la que puede hacer posible abordar las desigualdades que viven las mujeres y además proteger los derechos de la infancia y de una vejez protegid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ánta protección contributiva y no contributiva?: si se privilegian el aumento de la empleabilidad sin cautelar el tipo y calidad de los empleos no habrá garantía de derechos y la protección social será parcialmente compensatoria de las desigualdades pero no correctiva.</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rente al fenómeno migratoria el dilema de derechos ciudadanos garantizados con noción restrictiva de nacionalidad o de derechos humanos universa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ESTRATIFICACIÓN SOCIAL EN AMÉRICA LATINA</a:t>
            </a:r>
            <a:endParaRPr b="0" lang="en-US" sz="3800" spc="-1" strike="noStrike">
              <a:solidFill>
                <a:srgbClr val="ffffff"/>
              </a:solidFill>
              <a:latin typeface="Arial"/>
            </a:endParaRPr>
          </a:p>
        </p:txBody>
      </p:sp>
      <p:graphicFrame>
        <p:nvGraphicFramePr>
          <p:cNvPr id="102" name=""/>
          <p:cNvGraphicFramePr/>
          <p:nvPr/>
        </p:nvGraphicFramePr>
        <p:xfrm>
          <a:off x="1517760" y="1600200"/>
          <a:ext cx="6108480" cy="4419720"/>
        </p:xfrm>
        <a:graphic>
          <a:graphicData uri="http://schemas.openxmlformats.org/drawingml/2006/table">
            <a:tbl>
              <a:tblPr/>
              <a:tblGrid>
                <a:gridCol w="925560"/>
                <a:gridCol w="782640"/>
                <a:gridCol w="849240"/>
                <a:gridCol w="880920"/>
                <a:gridCol w="911160"/>
                <a:gridCol w="981360"/>
                <a:gridCol w="777600"/>
              </a:tblGrid>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extrema pobrez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pobreza moderada</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Total estratos pobr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Vulnerables</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medios con seg.económ.</a:t>
                      </a:r>
                      <a:endParaRPr b="0" lang="en-US" sz="1100" spc="-1" strike="noStrike">
                        <a:solidFill>
                          <a:srgbClr val="000000"/>
                        </a:solidFill>
                        <a:latin typeface="Arial"/>
                      </a:endParaRPr>
                    </a:p>
                  </a:txBody>
                  <a:tcPr anchor="ctr" marL="41400" marR="41400">
                    <a:lnL>
                      <a:noFill/>
                    </a:lnL>
                    <a:lnR>
                      <a:noFill/>
                    </a:lnR>
                    <a:lnT w="5760">
                      <a:solidFill>
                        <a:srgbClr val="000000"/>
                      </a:solidFill>
                    </a:lnT>
                    <a:lnB w="5760">
                      <a:solidFill>
                        <a:srgbClr val="000000"/>
                      </a:solidFill>
                    </a:lnB>
                    <a:solidFill>
                      <a:srgbClr val="ffffff"/>
                    </a:solidFill>
                  </a:tcPr>
                </a:tc>
                <a:tc rowSpan="3">
                  <a:txBody>
                    <a:bodyPr lIns="41400" rIns="41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Estratos altos</a:t>
                      </a:r>
                      <a:endParaRPr b="0" lang="en-US" sz="1100" spc="-1" strike="noStrike">
                        <a:solidFill>
                          <a:srgbClr val="000000"/>
                        </a:solidFill>
                        <a:latin typeface="Arial"/>
                      </a:endParaRPr>
                    </a:p>
                  </a:txBody>
                  <a:tcPr anchor="ctr" marL="41400" marR="41400">
                    <a:lnL>
                      <a:noFill/>
                    </a:lnL>
                    <a:lnR w="5760">
                      <a:solidFill>
                        <a:srgbClr val="000000"/>
                      </a:solidFill>
                    </a:lnR>
                    <a:lnT w="5760">
                      <a:solidFill>
                        <a:srgbClr val="000000"/>
                      </a:solidFill>
                    </a:lnT>
                    <a:lnB w="5760">
                      <a:solidFill>
                        <a:srgbClr val="000000"/>
                      </a:solidFill>
                    </a:lnB>
                    <a:solidFill>
                      <a:srgbClr val="ffffff"/>
                    </a:solidFill>
                  </a:tcPr>
                </a:tc>
              </a:tr>
              <a:tr h="167760">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ISE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25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rgentina</a:t>
                      </a:r>
                      <a:endParaRPr b="0" lang="en-US" sz="1100" spc="-1" strike="noStrike">
                        <a:solidFill>
                          <a:srgbClr val="000000"/>
                        </a:solidFill>
                        <a:latin typeface="Arial"/>
                      </a:endParaRPr>
                    </a:p>
                  </a:txBody>
                  <a:tcPr anchor="b" marL="41400" marR="41400">
                    <a:lnL w="5760">
                      <a:solidFill>
                        <a:srgbClr val="000000"/>
                      </a:solid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6</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0,8</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1,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4</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w="5760">
                      <a:solidFill>
                        <a:srgbClr val="000000"/>
                      </a:solid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oliv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Brasil</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hile</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7,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lombi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5,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Costa Ric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9,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cu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3,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3,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9</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El Salvador</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Guatema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1,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Honduras</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8</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México</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8,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Nicaragu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2,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2,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anamá</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9,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1,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6,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8,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7</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Para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8,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32,8</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40,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25,5</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ff0000"/>
                          </a:solidFill>
                          <a:latin typeface="Corbel"/>
                          <a:ea typeface="Times New Roman"/>
                        </a:rPr>
                        <a:t>1,3</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Perú</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9</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4,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0,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4,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5</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R.Dominic.</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4,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9,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33,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2,3</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1</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Uruguay</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8,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6,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60,2</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5,4</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Venezuela</a:t>
                      </a:r>
                      <a:endParaRPr b="0" lang="en-US" sz="1100" spc="-1" strike="noStrike">
                        <a:solidFill>
                          <a:srgbClr val="000000"/>
                        </a:solidFill>
                        <a:latin typeface="Arial"/>
                      </a:endParaRPr>
                    </a:p>
                  </a:txBody>
                  <a:tcPr anchor="b" marL="41400" marR="41400">
                    <a:lnL w="5760">
                      <a:solidFill>
                        <a:srgbClr val="000000"/>
                      </a:solid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2,4</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16,6</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9,0</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47,7</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23,1</a:t>
                      </a:r>
                      <a:endParaRPr b="0" lang="en-US" sz="1100" spc="-1" strike="noStrike">
                        <a:solidFill>
                          <a:srgbClr val="000000"/>
                        </a:solidFill>
                        <a:latin typeface="Arial"/>
                      </a:endParaRPr>
                    </a:p>
                  </a:txBody>
                  <a:tcPr anchor="b" marL="41400" marR="41400">
                    <a:lnL>
                      <a:noFill/>
                    </a:lnL>
                    <a:lnR>
                      <a:noFill/>
                    </a:lnR>
                    <a:lnT>
                      <a:no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orbel"/>
                          <a:ea typeface="Times New Roman"/>
                        </a:rPr>
                        <a:t>0,2</a:t>
                      </a:r>
                      <a:endParaRPr b="0" lang="en-US" sz="1100" spc="-1" strike="noStrike">
                        <a:solidFill>
                          <a:srgbClr val="000000"/>
                        </a:solidFill>
                        <a:latin typeface="Arial"/>
                      </a:endParaRPr>
                    </a:p>
                  </a:txBody>
                  <a:tcPr anchor="b" marL="41400" marR="41400">
                    <a:lnL>
                      <a:noFill/>
                    </a:lnL>
                    <a:lnR w="5760">
                      <a:solidFill>
                        <a:srgbClr val="000000"/>
                      </a:solidFill>
                    </a:lnR>
                    <a:lnT>
                      <a:noFill/>
                    </a:lnT>
                    <a:lnB>
                      <a:no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Corbel"/>
                          <a:ea typeface="Times New Roman"/>
                        </a:rPr>
                        <a:t>Am.Latina</a:t>
                      </a:r>
                      <a:endParaRPr b="0" lang="en-US" sz="1100" spc="-1" strike="noStrike">
                        <a:solidFill>
                          <a:srgbClr val="000000"/>
                        </a:solidFill>
                        <a:latin typeface="Arial"/>
                      </a:endParaRPr>
                    </a:p>
                  </a:txBody>
                  <a:tcPr anchor="b" marL="41400" marR="41400">
                    <a:lnL w="5760">
                      <a:solidFill>
                        <a:srgbClr val="000000"/>
                      </a:solid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5,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14,2</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0,1</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37,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9,9</a:t>
                      </a:r>
                      <a:endParaRPr b="0" lang="en-US" sz="1100" spc="-1" strike="noStrike">
                        <a:solidFill>
                          <a:srgbClr val="000000"/>
                        </a:solidFill>
                        <a:latin typeface="Arial"/>
                      </a:endParaRPr>
                    </a:p>
                  </a:txBody>
                  <a:tcPr anchor="b" marL="41400" marR="41400">
                    <a:lnL>
                      <a:noFill/>
                    </a:lnL>
                    <a:lnR>
                      <a:noFill/>
                    </a:lnR>
                    <a:lnT>
                      <a:noFill/>
                    </a:lnT>
                    <a:lnB w="5760">
                      <a:solidFill>
                        <a:srgbClr val="000000"/>
                      </a:solid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2,1</a:t>
                      </a:r>
                      <a:endParaRPr b="0" lang="en-US" sz="1100" spc="-1" strike="noStrike">
                        <a:solidFill>
                          <a:srgbClr val="000000"/>
                        </a:solidFill>
                        <a:latin typeface="Arial"/>
                      </a:endParaRPr>
                    </a:p>
                  </a:txBody>
                  <a:tcPr anchor="b" marL="41400" marR="41400">
                    <a:lnL>
                      <a:noFill/>
                    </a:lnL>
                    <a:lnR w="5760">
                      <a:solidFill>
                        <a:srgbClr val="000000"/>
                      </a:solidFill>
                    </a:lnR>
                    <a:lnT>
                      <a:noFill/>
                    </a:lnT>
                    <a:lnB w="5760">
                      <a:solidFill>
                        <a:srgbClr val="000000"/>
                      </a:solidFill>
                    </a:lnB>
                    <a:solidFill>
                      <a:srgbClr val="ffffff"/>
                    </a:solidFill>
                  </a:tcPr>
                </a:tc>
              </a:tr>
              <a:tr h="167760">
                <a:tc>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 </a:t>
                      </a:r>
                      <a:endParaRPr b="0" lang="en-US" sz="9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c>
                  <a:txBody>
                    <a:bodyPr lIns="41400" rIns="41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Corbel"/>
                          <a:ea typeface="Times New Roman"/>
                        </a:rPr>
                        <a:t> </a:t>
                      </a:r>
                      <a:endParaRPr b="0" lang="en-US" sz="1100" spc="-1" strike="noStrike">
                        <a:solidFill>
                          <a:srgbClr val="000000"/>
                        </a:solidFill>
                        <a:latin typeface="Arial"/>
                      </a:endParaRPr>
                    </a:p>
                  </a:txBody>
                  <a:tcPr anchor="b" marL="41400" marR="41400">
                    <a:lnL>
                      <a:noFill/>
                    </a:lnL>
                    <a:lnR>
                      <a:noFill/>
                    </a:lnR>
                    <a:lnT w="5760">
                      <a:solidFill>
                        <a:srgbClr val="000000"/>
                      </a:solidFill>
                    </a:lnT>
                    <a:lnB>
                      <a:noFill/>
                    </a:lnB>
                    <a:solidFill>
                      <a:srgbClr val="ffffff"/>
                    </a:solidFill>
                  </a:tcPr>
                </a:tc>
              </a:tr>
              <a:tr h="137520">
                <a:tc gridSpan="7">
                  <a:txBody>
                    <a:bodyPr lIns="41400" rIns="41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Corbel"/>
                          <a:ea typeface="Times New Roman"/>
                        </a:rPr>
                        <a:t>Clarisa Hardy </a:t>
                      </a:r>
                      <a:r>
                        <a:rPr b="1" i="1" lang="es-CL" sz="900" spc="-1" strike="noStrike">
                          <a:solidFill>
                            <a:srgbClr val="000000"/>
                          </a:solidFill>
                          <a:latin typeface="Corbel"/>
                          <a:ea typeface="Times New Roman"/>
                        </a:rPr>
                        <a:t>Estratificación Social en América Latina. Retos de Cohesión Social.</a:t>
                      </a:r>
                      <a:r>
                        <a:rPr b="0" i="1" lang="es-CL" sz="900" spc="-1" strike="noStrike">
                          <a:solidFill>
                            <a:srgbClr val="000000"/>
                          </a:solidFill>
                          <a:latin typeface="Corbel"/>
                          <a:ea typeface="Times New Roman"/>
                        </a:rPr>
                        <a:t> Ediciones LOM. Chile. 2014</a:t>
                      </a:r>
                      <a:endParaRPr b="0" lang="en-US" sz="900" spc="-1" strike="noStrike">
                        <a:solidFill>
                          <a:srgbClr val="000000"/>
                        </a:solidFill>
                        <a:latin typeface="Arial"/>
                      </a:endParaRPr>
                    </a:p>
                  </a:txBody>
                  <a:tcPr anchor="b" marL="41400" marR="414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Orientaciones de la Protección Social</a:t>
            </a:r>
            <a:endParaRPr b="0" lang="en-US" sz="4200" spc="-1" strike="noStrike">
              <a:solidFill>
                <a:srgbClr val="ffffff"/>
              </a:solidFill>
              <a:latin typeface="Arial"/>
            </a:endParaRPr>
          </a:p>
        </p:txBody>
      </p:sp>
      <p:sp>
        <p:nvSpPr>
          <p:cNvPr id="156" name=""/>
          <p:cNvSpPr txBox="1"/>
          <p:nvPr/>
        </p:nvSpPr>
        <p:spPr>
          <a:xfrm>
            <a:off x="539640" y="126792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pliegue universal y a lo largo del ciclo vital de políticas intersectoriales (especialmente de los ministerios de Desarrollo Social, Educación, Salud y Trabajo, así como Ministerio o Servicio de la Mujer).</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milia (en toda su diversidad) como sujeto y no como sosté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dos componentes de la protección social son indisociables pero no condicionado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iculación políticas sociales y labo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 Sistema de Protección Social fundado en derechos</a:t>
            </a:r>
            <a:endParaRPr b="0" lang="en-US" sz="3800" spc="-1" strike="noStrike">
              <a:solidFill>
                <a:srgbClr val="ffffff"/>
              </a:solidFill>
              <a:latin typeface="Arial"/>
            </a:endParaRPr>
          </a:p>
        </p:txBody>
      </p:sp>
      <p:sp>
        <p:nvSpPr>
          <p:cNvPr id="158"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s a partir de una ciudadanía titular de derechos que se pueden construir sociedades inclusivas en América Latina, atendido a que los derechos son iguales para todos y que no pueden seguir promoviéndose, como ocurre, políticas para pobres (en realidad, para parte de ellos) y políticas para el resto de la sociedad que han provocado las segregaciones que segmentan a nuestras sociedades.</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istemas de protección social que, debiendo cubrir el ciclo vital de las personas de manera integral, tienen en la actualidad evidentes espacios de indefensión que se hacen visibles, como hemos visto previamente, en la primera infancia, en la juventud, en las desprotección de los trabajadores y en la débil protección de los adultos mayores.</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ero no sólo existen etapas del ciclo vital desprotegidas, sino redes de protección social que no articulan políticas sociales y laborales, siendo las políticas sociales compensatorias, pero no reparadoras de las desigualdades que se viven en el mercado laboral. En tanto la calidad del trabajo y de las relaciones laborales esté fuera de la agenda social y no se integren en un mismo Sistema de Protección Social, no habrá condiciones para abordar las desigualdades que las políticas sociales intentan compensar parcialmente, ni podrán prosperar las dimensiones contributivas de la protección social.</a:t>
            </a:r>
            <a:endParaRPr b="0" lang="en-US" sz="1600" spc="-1" strike="noStrike">
              <a:solidFill>
                <a:srgbClr val="000000"/>
              </a:solidFill>
              <a:latin typeface="Arial"/>
            </a:endParaRPr>
          </a:p>
          <a:p>
            <a:pPr marL="343080" indent="-343080" algn="just">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II. Por una Agenda de Igualdad para las Mujeres</a:t>
            </a:r>
            <a:endParaRPr b="0" lang="en-US" sz="3800" spc="-1" strike="noStrike">
              <a:solidFill>
                <a:srgbClr val="ffffff"/>
              </a:solidFill>
              <a:latin typeface="Arial"/>
            </a:endParaRPr>
          </a:p>
        </p:txBody>
      </p:sp>
      <p:sp>
        <p:nvSpPr>
          <p:cNvPr id="160" name=""/>
          <p:cNvSpPr txBox="1"/>
          <p:nvPr/>
        </p:nvSpPr>
        <p:spPr>
          <a:xfrm>
            <a:off x="609480" y="1599840"/>
            <a:ext cx="7925040" cy="44197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s estrategias nacionales por superar las desigualdades son una parte de la solución para abordar las inequidades que afectan a las mujeres, pero insuficientes si no se enfrentan las singularidades de las desigualdades de género. Y ello pasa por romper -con iniciativas programáticas y legislativas- las desigualdades socioeconómicas, políticas y culturales que han naturalizado la subordinación de las mujeres en todos los países latinoamericanos.</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a experiencias europeas en la materia pueden ser aleccionadoras con los avances que han logrado en legislaciones de cuotas o estrategias de acciones afirmativas en las esferas de la economía y la política; con los avances en materia de protección de infancia y derechos de parentalidad que permiten la inserción laboral de las mujeres y su mayor autonomía respecto de las tareas domésticas y de crianza, entre otras. En suma, políticas de cuidado: infancia, discapacidad y vejez</a:t>
            </a:r>
            <a:endParaRPr b="0" lang="en-US" sz="2000" spc="-1" strike="noStrike">
              <a:solidFill>
                <a:srgbClr val="000000"/>
              </a:solidFill>
              <a:latin typeface="Arial"/>
            </a:endParaRPr>
          </a:p>
          <a:p>
            <a:pPr marL="332640" indent="-33264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III. Sustentabilidad Institucional, Política y Fiscal de la Cohesión Social</a:t>
            </a:r>
            <a:endParaRPr b="0" lang="en-US" sz="3200" spc="-1" strike="noStrike">
              <a:solidFill>
                <a:srgbClr val="ffffff"/>
              </a:solidFill>
              <a:latin typeface="Arial"/>
            </a:endParaRPr>
          </a:p>
        </p:txBody>
      </p:sp>
      <p:sp>
        <p:nvSpPr>
          <p:cNvPr id="162" name=""/>
          <p:cNvSpPr txBox="1"/>
          <p:nvPr/>
        </p:nvSpPr>
        <p:spPr>
          <a:xfrm>
            <a:off x="609480" y="1599840"/>
            <a:ext cx="7925040" cy="4419720"/>
          </a:xfrm>
          <a:prstGeom prst="rect">
            <a:avLst/>
          </a:prstGeom>
          <a:noFill/>
          <a:ln w="0">
            <a:noFill/>
          </a:ln>
        </p:spPr>
        <p:txBody>
          <a:bodyPr anchor="t">
            <a:normAutofit fontScale="96000"/>
          </a:bodyPr>
          <a:p>
            <a:pPr marL="585000" indent="-58500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procesos de descentralización y regionalización en América Latina son todavía insuficientes: cómo combinar adecuadamente políticas e inversiones centralizadas, con políticas e inversiones descentralizadas, especialmente en los ámbitos de la provisión de servicios, así como en actividades de fomento productivo y emprendimiento.</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lcanzar la cohesión social supone acuerdos y pactos, institucionalizados a través de normas obligatorias que terminen por construir, a partir de sus prácticas, nuevas relaciones en la sociedad y una cultura de mayor igualdad. Los debates sobre nuevas constituciones, sistemas electorales y régimen político, así como sobre asociatividad y fortalecimiento de la sociedad civil, son parte de estas tareas futuras. Asimismo, legislaciones que institucionalicen los sistemas de protección social fundados en  derechos que deben ser garantizados fiscalmente.</a:t>
            </a: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modo que hay que dar sostenibilidad fiscal a la cohesión social: </a:t>
            </a:r>
            <a:r>
              <a:rPr b="0" lang="es-US" sz="1600" spc="-1" strike="noStrike">
                <a:solidFill>
                  <a:srgbClr val="000000"/>
                </a:solidFill>
                <a:latin typeface="Arial"/>
              </a:rPr>
              <a:t>alterar la ecuación con la cual se discute la política fiscal y se diseñan las prioridades programáticas. A diferencia de lo que ocurre habitualmente en que la política fiscal define el alcance de las políticas públicas, de lo que se trata es invertir esta concepción y que los debates sobre el tipo de sociedad que se quiere determinen cuál es el marco fiscal requerido. Por lo mismo, este no es un debate técnico, sino político, de estrategias de desarrollo. </a:t>
            </a:r>
            <a:endParaRPr b="0" lang="en-US" sz="1600" spc="-1" strike="noStrike">
              <a:solidFill>
                <a:srgbClr val="000000"/>
              </a:solidFill>
              <a:latin typeface="Arial"/>
            </a:endParaRPr>
          </a:p>
          <a:p>
            <a:pPr marL="585000" indent="-58500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gn="just">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5000" indent="-58500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gn="just">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3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58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políticos de la realidad social</a:t>
            </a:r>
            <a:endParaRPr b="0" lang="en-US" sz="3600" spc="-1" strike="noStrike">
              <a:solidFill>
                <a:srgbClr val="ffffff"/>
              </a:solidFill>
              <a:latin typeface="Arial"/>
            </a:endParaRPr>
          </a:p>
        </p:txBody>
      </p:sp>
      <p:sp>
        <p:nvSpPr>
          <p:cNvPr id="16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sí como la reconstrucción  democrática ha descansado en políticas que han puesto a su centro la superación de la pobreza, la legitimidad de la democracia (de las instituciones políticas: partidos y parlamento) requiere abordar las desigual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bate sobre política fiscal y políticas sociales </a:t>
            </a:r>
            <a:endParaRPr b="0" lang="en-US" sz="3600" spc="-1" strike="noStrike">
              <a:solidFill>
                <a:srgbClr val="ffffff"/>
              </a:solidFill>
              <a:latin typeface="Arial"/>
            </a:endParaRPr>
          </a:p>
        </p:txBody>
      </p:sp>
      <p:sp>
        <p:nvSpPr>
          <p:cNvPr id="16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t>
            </a:r>
            <a:r>
              <a:rPr b="0" lang="es-ES_tradnl" sz="3200" spc="-1" strike="noStrike">
                <a:solidFill>
                  <a:srgbClr val="000000"/>
                </a:solidFill>
                <a:latin typeface="Arial"/>
              </a:rPr>
              <a:t>La política fiscal puede servir, no sólo al crecimiento económico, sino contribuir a otros objetivos de desarrollo económico y social, como combatir la pobreza, evitar exclusión social y generar mayor igualdad de oportunidades.” (OC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asgos de los ingresos fiscales en América Latina</a:t>
            </a:r>
            <a:endParaRPr b="0" lang="en-US" sz="3600" spc="-1" strike="noStrike">
              <a:solidFill>
                <a:srgbClr val="ffffff"/>
              </a:solidFill>
              <a:latin typeface="Arial"/>
            </a:endParaRPr>
          </a:p>
        </p:txBody>
      </p:sp>
      <p:sp>
        <p:nvSpPr>
          <p:cNvPr id="168"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Carga tributaria:</a:t>
            </a:r>
            <a:r>
              <a:rPr b="0" lang="es-MX" sz="1800" spc="-1" strike="noStrike">
                <a:solidFill>
                  <a:srgbClr val="000000"/>
                </a:solidFill>
                <a:latin typeface="Arial"/>
              </a:rPr>
              <a:t> en la región la carga tributaria es del 18.4% del PIB (en OCDE es del 41%) y está 3 puntos del PIB por debajo de su potencial, de acuerdo al nivel de desarrollo económico (CEPAL, 2011). En general ello  significa un gasto público total promedio del orden del 24% del PIB.</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Estructura tributaria altamente regresiva</a:t>
            </a:r>
            <a:r>
              <a:rPr b="0" lang="es-MX" sz="1800" spc="-1" strike="noStrike">
                <a:solidFill>
                  <a:srgbClr val="000000"/>
                </a:solidFill>
                <a:latin typeface="Arial"/>
              </a:rPr>
              <a:t>: a diferencia de la OCDE en que dos tercios de los ingresos tributarios corresponden a impuestos a la renta, en América Latina ello representa un t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Problemas de evasión y elusión</a:t>
            </a:r>
            <a:r>
              <a:rPr b="0" lang="es-MX" sz="1800" spc="-1" strike="noStrike">
                <a:solidFill>
                  <a:srgbClr val="000000"/>
                </a:solidFill>
                <a:latin typeface="Arial"/>
              </a:rPr>
              <a:t>. En cuanto a la evasión del IVA a nivel regional es del 28%. Y en cuanto a la renta, la evasión regional es del orden del 51.4%.</a:t>
            </a:r>
            <a:endParaRPr b="0" lang="en-US" sz="1800" spc="-1" strike="noStrike">
              <a:solidFill>
                <a:srgbClr val="000000"/>
              </a:solidFill>
              <a:latin typeface="Arial"/>
            </a:endParaRPr>
          </a:p>
          <a:p>
            <a:pPr marL="343080" indent="-343080" algn="ct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transparencia y calidad del gasto  </a:t>
            </a:r>
            <a:endParaRPr b="0" lang="en-US" sz="2800" spc="-1" strike="noStrike">
              <a:solidFill>
                <a:srgbClr val="ffffff"/>
              </a:solidFill>
              <a:latin typeface="Arial"/>
            </a:endParaRPr>
          </a:p>
        </p:txBody>
      </p:sp>
      <p:sp>
        <p:nvSpPr>
          <p:cNvPr id="170"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odos los países cuentan con mecanismos e instrumentos sobre cómo se gasta y hacia quienes se destina el gasto: instrumentos de selección y evaluaciones insuficientes para evitar la discrecionalidad y el clientelismo polític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cuando se cuenta con instrumentos y evaluaciones, su generación no es participativa y no existen mecanismos de control social y político del gasto y de su calidad: ausencia de accountability y de decisiones sobre pertinencia y releva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2"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imitada flexibilidad en la construcción de los presupuestos, por restricciones legales e inerci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casa deliberación política sobre la composición presupuestaria (desequilibrado peso de las decisiones económicas sobre decisiones sociales, laborales y polít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presupuestos y gastos</a:t>
            </a:r>
            <a:endParaRPr b="0" lang="en-US" sz="2800" spc="-1" strike="noStrike">
              <a:solidFill>
                <a:srgbClr val="ffffff"/>
              </a:solidFill>
              <a:latin typeface="Arial"/>
            </a:endParaRPr>
          </a:p>
        </p:txBody>
      </p:sp>
      <p:sp>
        <p:nvSpPr>
          <p:cNvPr id="17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gnitud del gasto es insuficiente para las necesidades requeridas, aún si el gasto social se ha elevado (de US$ 445 a US$ 917 percápita y del 12.3% al 18.4% del PIB entre 1990 y 200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no sólo insuficiente en magnitud, sino en su com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AMÉRICA LATINA: SOCIEDADES PRECARIAS E INSEGURAS</a:t>
            </a:r>
            <a:endParaRPr b="0" lang="en-US" sz="3800" spc="-1" strike="noStrike">
              <a:solidFill>
                <a:srgbClr val="ffffff"/>
              </a:solidFill>
              <a:latin typeface="Arial"/>
            </a:endParaRPr>
          </a:p>
        </p:txBody>
      </p:sp>
      <p:sp>
        <p:nvSpPr>
          <p:cNvPr id="104"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mérica Latina está reduciendo la pobreza, pero (salvo un par de países como excepción, Uruguay y Argentina) no está consolidando sectores medios, ni sociedades seguras. Más bien, estamos en presencia de sociedades precarias.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 se está creciendo y reduciendo pobreza, ¿por qué el resultado son sociedades económicamente inseguras, precari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análisis de los estratos sociales revela que la desigualdad es la que marca sus comportamientos y relacione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educación</a:t>
            </a:r>
            <a:endParaRPr b="0" lang="en-US" sz="2800" spc="-1" strike="noStrike">
              <a:solidFill>
                <a:srgbClr val="ffffff"/>
              </a:solidFill>
              <a:latin typeface="Arial"/>
            </a:endParaRPr>
          </a:p>
        </p:txBody>
      </p:sp>
      <p:sp>
        <p:nvSpPr>
          <p:cNvPr id="176"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érica Latina está muy por debajo de los estándares educativos de los países desarrollados: gasto por estudiante del orden 12.8% (la mitad de Europa y US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importantes aumentos coberturas en educación primaria, aumento segmentado en la secundaria, y muy baja en preescolar y terciari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iciencias de calidad en todos los niveles del sistema educac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asgos sobre cómo se gasta en políticas sociales: composición de los presupuestos y gastos hacia  salud y seguridad social</a:t>
            </a:r>
            <a:endParaRPr b="0" lang="en-US" sz="28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existencia de provisiones mixtas público y privada en salud y seguridad social muy segmentadas, aumentando la inequidad.</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bajos aportes fiscales, la estructura distributiva de los gastos en salud y seguridad social es también regresiva: mientras en países desarrollados el aporte privado de las familias a la salud representa el 20%, en América Latina en promedio es el 35% y con países en que llega a ser el 50%. Y en el caso de la seguridad social, altamente asociada a la precariedad laboral.</a:t>
            </a: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en ingresos fiscales</a:t>
            </a:r>
            <a:endParaRPr b="0" lang="en-US" sz="2800" spc="-1" strike="noStrike">
              <a:solidFill>
                <a:srgbClr val="ffffff"/>
              </a:solidFill>
              <a:latin typeface="Arial"/>
            </a:endParaRPr>
          </a:p>
        </p:txBody>
      </p:sp>
      <p:sp>
        <p:nvSpPr>
          <p:cNvPr id="180"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ingresos permanentes a través de impuestos y con una carga coherente con las políticas soci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 con una estructura tributaria progresiv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ucir hasta eliminar la evasión y elu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transparencia del gasto social</a:t>
            </a:r>
            <a:endParaRPr b="0" lang="en-US" sz="2800" spc="-1" strike="noStrike">
              <a:solidFill>
                <a:srgbClr val="ffffff"/>
              </a:solidFill>
              <a:latin typeface="Arial"/>
            </a:endParaRPr>
          </a:p>
        </p:txBody>
      </p:sp>
      <p:sp>
        <p:nvSpPr>
          <p:cNvPr id="182" name=""/>
          <p:cNvSpPr txBox="1"/>
          <p:nvPr/>
        </p:nvSpPr>
        <p:spPr>
          <a:xfrm>
            <a:off x="609480" y="1599840"/>
            <a:ext cx="792504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evaluaciones de pertinencia y relevancia sobre toda inversión en políticas y programas sociales, así como de los mejores mecanismos de selecció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tar con mecanismos participativos de generación de instrumentos y evaluaciones, así como con control social y político sobre dichos gastos: transparentar las evaluaciones y que sean parte de la deliberación de organizaciones sociales y parlament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os de fiscalidad para políticas sociales de cohesión social: innovaciones</a:t>
            </a:r>
            <a:endParaRPr b="0" lang="en-US" sz="2800" spc="-1" strike="noStrike">
              <a:solidFill>
                <a:srgbClr val="ffffff"/>
              </a:solidFill>
              <a:latin typeface="Arial"/>
            </a:endParaRPr>
          </a:p>
        </p:txBody>
      </p:sp>
      <p:sp>
        <p:nvSpPr>
          <p:cNvPr id="18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visar las rigidices e inercias de las estructuras presupuestari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poner un debate sobre cómo equilibrar las decisiones de políticas económicas y sociales en la estructura del gasto públic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tos de fiscalidad para políticas de cohesión social: composición</a:t>
            </a:r>
            <a:endParaRPr b="0" lang="en-US" sz="3600" spc="-1" strike="noStrike">
              <a:solidFill>
                <a:srgbClr val="ffffff"/>
              </a:solidFill>
              <a:latin typeface="Arial"/>
            </a:endParaRPr>
          </a:p>
        </p:txBody>
      </p:sp>
      <p:sp>
        <p:nvSpPr>
          <p:cNvPr id="186" name=""/>
          <p:cNvSpPr txBox="1"/>
          <p:nvPr/>
        </p:nvSpPr>
        <p:spPr>
          <a:xfrm>
            <a:off x="609480" y="1599840"/>
            <a:ext cx="7925040" cy="4419720"/>
          </a:xfrm>
          <a:prstGeom prst="rect">
            <a:avLst/>
          </a:prstGeom>
          <a:noFill/>
          <a:ln w="0">
            <a:noFill/>
          </a:ln>
        </p:spPr>
        <p:txBody>
          <a:bodyPr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breza: cuánto ampliar y acelerar coberturas, qué magnitud de transferencias monetarias a las familias de menores ingresos (dimensión seguridad en los ingresos).</a:t>
            </a: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ducación: qué magnitud del gasto para ampliar coberturas en todos los niveles educacionales y elevar la calidad, con particular preocupación por la educación preescolar y terci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Retos de fiscalidad para políticas de cohesión social: composición</a:t>
            </a:r>
            <a:endParaRPr b="0" lang="en-US" sz="4200" spc="-1" strike="noStrike">
              <a:solidFill>
                <a:srgbClr val="ffffff"/>
              </a:solidFill>
              <a:latin typeface="Arial"/>
            </a:endParaRPr>
          </a:p>
        </p:txBody>
      </p:sp>
      <p:sp>
        <p:nvSpPr>
          <p:cNvPr id="188" name=""/>
          <p:cNvSpPr txBox="1"/>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lud: qué magnitud y composición del gasto para ampliar cobertura y prestaciones de acuerdo a los nuevos perfiles demográficos y epidemiológic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guridad social: qué magnitud del gasto se requiere para ampliar la cobertura de los pilares solidarios y la magnitud de las pensiones míni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IGUALDAD MULTIDIMENSIONAL EN AMÉRICA LATINA</a:t>
            </a:r>
            <a:endParaRPr b="0" lang="en-US" sz="3200" spc="-1" strike="noStrike">
              <a:solidFill>
                <a:srgbClr val="ffffff"/>
              </a:solidFill>
              <a:latin typeface="Arial"/>
            </a:endParaRPr>
          </a:p>
        </p:txBody>
      </p:sp>
      <p:sp>
        <p:nvSpPr>
          <p:cNvPr id="106" name=""/>
          <p:cNvSpPr txBox="1"/>
          <p:nvPr/>
        </p:nvSpPr>
        <p:spPr>
          <a:xfrm>
            <a:off x="609480" y="1599840"/>
            <a:ext cx="7925040" cy="44197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sigualdades persistentes que, radicadas en la esfera laboral y en un segmentado sistema educacional que segrega a la población por sus condiciones de origen, se manifiestan en las brechas distributivas que distancian a los hogares y a los trabajadores según sus condiciones socioeconómicas, y que se agravan por condiciones de género, edad y ruralidad.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RASGOS DEL TRABAJO EN AMÉRICA LATINA Y PARAGUAY</a:t>
            </a:r>
            <a:endParaRPr b="0" lang="en-US" sz="3800" spc="-1" strike="noStrike">
              <a:solidFill>
                <a:srgbClr val="ffffff"/>
              </a:solidFill>
              <a:latin typeface="Arial"/>
            </a:endParaRPr>
          </a:p>
        </p:txBody>
      </p:sp>
      <p:pic>
        <p:nvPicPr>
          <p:cNvPr id="108" name="Marcador de contenido 4" descr=""/>
          <p:cNvPicPr/>
          <p:nvPr/>
        </p:nvPicPr>
        <p:blipFill>
          <a:blip r:embed="rId1"/>
          <a:stretch/>
        </p:blipFill>
        <p:spPr>
          <a:xfrm>
            <a:off x="609480" y="2303640"/>
            <a:ext cx="7925040" cy="30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RASGOS DEL TRABAJO EN AMÉRICA LATINA Y PARAGUAY POR GÉNERO</a:t>
            </a:r>
            <a:endParaRPr b="0" lang="en-US" sz="3200" spc="-1" strike="noStrike">
              <a:solidFill>
                <a:srgbClr val="ffffff"/>
              </a:solidFill>
              <a:latin typeface="Arial"/>
            </a:endParaRPr>
          </a:p>
        </p:txBody>
      </p:sp>
      <p:pic>
        <p:nvPicPr>
          <p:cNvPr id="110" name="Marcador de contenido 3" descr=""/>
          <p:cNvPicPr/>
          <p:nvPr/>
        </p:nvPicPr>
        <p:blipFill>
          <a:blip r:embed="rId1"/>
          <a:stretch/>
        </p:blipFill>
        <p:spPr>
          <a:xfrm>
            <a:off x="609480" y="2259000"/>
            <a:ext cx="7925040" cy="310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bertura Escolar por Estratos Sociales en América Latina y Paraguay</a:t>
            </a:r>
            <a:endParaRPr b="0" lang="en-US" sz="3200" spc="-1" strike="noStrike">
              <a:solidFill>
                <a:srgbClr val="ffffff"/>
              </a:solidFill>
              <a:latin typeface="Arial"/>
            </a:endParaRPr>
          </a:p>
        </p:txBody>
      </p:sp>
      <p:pic>
        <p:nvPicPr>
          <p:cNvPr id="112" name="Marcador de contenido 4" descr=""/>
          <p:cNvPicPr/>
          <p:nvPr/>
        </p:nvPicPr>
        <p:blipFill>
          <a:blip r:embed="rId1"/>
          <a:stretch/>
        </p:blipFill>
        <p:spPr>
          <a:xfrm>
            <a:off x="660240" y="2684520"/>
            <a:ext cx="7823520" cy="225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Arial"/>
              </a:rPr>
              <a:t>DESIGUALDADES Y CONCENTRACIÓN DEL INGRESO</a:t>
            </a:r>
            <a:endParaRPr b="0" lang="en-US" sz="38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esigualdad adquiere su mayor visibilidad en las brechas de ingresos de los hogares y en las brechas salariale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mporta destacar que, siendo ofensivamente alta la brecha entre los estratos pobres y ricos, existe una generalizada desigualdad de ingresos y salarios entre todos los estratos sociales y los estratos más ricos de los países latinoamericanos. </a:t>
            </a: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61800" indent="-96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 que revela el fenómeno de la alta concentración del ingreso en la región.</a:t>
            </a:r>
            <a:endParaRPr b="0" lang="en-US" sz="2400" spc="-1" strike="noStrike">
              <a:solidFill>
                <a:srgbClr val="000000"/>
              </a:solidFill>
              <a:latin typeface="Arial"/>
            </a:endParaRPr>
          </a:p>
          <a:p>
            <a:pPr lvl="1" marL="361800" indent="-96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5:49:27Z</dcterms:created>
  <dc:creator>clarisa</dc:creator>
  <dc:description/>
  <dc:language>en-US</dc:language>
  <cp:lastModifiedBy>Usuario</cp:lastModifiedBy>
  <dcterms:modified xsi:type="dcterms:W3CDTF">2015-09-08T02:21:02Z</dcterms:modified>
  <cp:revision>36</cp:revision>
  <dc:subject/>
  <dc:title>RETOS DE COHESIÓN SOCIAL EN AMÉRICA LATINA Clarisa Hardy</dc:title>
</cp:coreProperties>
</file>