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11AA-A5DE-459B-A1DE-1B3720B06C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41C4-4F1C-4967-A6E5-8B345C0246E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8EF-A453-431A-A4DC-8DC76830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F29-33AF-4304-ADA5-26DA67D6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0A6-27B7-415C-BFE1-DE419920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225-D72B-45F5-B789-D6276036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915-C3EC-48CB-9FE2-AA9EAB00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2D11-65E8-4146-9FDF-9FE9076D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CA9-9943-4D28-840F-416A816D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969-1E9D-4167-97CE-76F44E34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BBA-34A8-4931-8754-F89F4ECF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669-679A-442F-9879-0EB0FFEC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6B0-8575-4104-AA37-E864659D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5A2-A6D4-4CAB-9538-ACBC8781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2F82-CD2B-40D2-9592-B7E0FE7E11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04920" y="380880"/>
            <a:ext cx="8305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000" spc="-1" strike="noStrike">
                <a:solidFill>
                  <a:srgbClr val="b01000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b01000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b01000"/>
                </a:solidFill>
                <a:latin typeface="Bookman Old Style"/>
              </a:rPr>
              <a:t>Propuesta de un Modelo de Autonomía para la Defensoría Penal Pública:  Perspectivas Estratégicas de Europa y del Mundo del Derecho Consuetudinari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ookman Old Style"/>
              </a:rPr>
              <a:t>Profesor y Catedrático Alan Paterson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ookman Old Style"/>
              </a:rPr>
              <a:t>Universidad Strathclyd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ookman Old Style"/>
              </a:rPr>
              <a:t>Grupo Internacional de Asistencia Juríd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01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Opciones para la Gobernanza Institucional y la Autonom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 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 Autonomy and the Right to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6. Conclu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9280" y="1052640"/>
            <a:ext cx="8785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Opciones para la Gobernanza Institucional y la Autonomí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a)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Descentralización del servicio DPP -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Finla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b)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Remoción del Ministro de Justicia y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Creación de un Consejo con deberes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legales así como un Memorando de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Entendimiento para revisar las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operaciones del servicio D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) Consejo nombrado por el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Ministro o el sistema de Alta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Dirección Púb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i) El Consejo nombra al Defensor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Penal Público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ii) Remoción del Consejo o el DN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Autonomy and the Right to           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6. Conclu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50920" y="2708280"/>
            <a:ext cx="78501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Bookman Old Style"/>
              </a:rPr>
              <a:t>3.Autonomía y Finanzas –         Responsabilidad y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-0.00781 -0.27292 E">
                                      <p:cBhvr>
                                        <p:cTn id="10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Autonomía y Finanzas – Responsabilidad y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a) Una mayor autonomía financiera puede conllevar menorconfianzaGubernament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) Controles presupuestarios y partidas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más estrict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i) Menos gasto discre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ii) Reducción al alcance e.g.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epresentación por el interés de la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justicia; limites en el número de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recursos judiciales present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iv) Demanda de  mayor 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responsabi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Autonomía y Finanzas– Responsabilidad y cont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b)  Retención de la confianza del Gobier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) Relación de trabajo cercana tras la independenci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i) Información muy detallada y gastos proyectad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ii) No hay sorpresas desagradables en los Informes Anuales o en los casos que están siendo represent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 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4. Autonomía y el Derecho a la Representació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6. Conclu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ff0000"/>
                </a:solidFill>
                <a:latin typeface="Bookman Old Style"/>
              </a:rPr>
              <a:t>4.</a:t>
            </a:r>
            <a:r>
              <a:rPr b="1" i="1" lang="en-GB" sz="26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ff0000"/>
                </a:solidFill>
                <a:latin typeface="Bookman Old Style"/>
              </a:rPr>
              <a:t>Autonomía y el Derecho a la </a:t>
            </a:r>
            <a:r>
              <a:rPr b="1" i="1" lang="en-GB" sz="26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ff0000"/>
                </a:solidFill>
                <a:latin typeface="Bookman Old Style"/>
              </a:rPr>
              <a:t>Representació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a) Más problemas en Europa y los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países de Derecho Consuetudinario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debido a los mayores límites existentes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en los casos que le otorgan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representación– aunque puede ser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elección de un abogad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b) Limitaciones muy restringidas para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prevenir interferencias Ministeriales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en la defensa de los casos particular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c) Límites en la representación financiada 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0000"/>
                </a:solidFill>
                <a:latin typeface="Bookman Old Style"/>
              </a:rPr>
              <a:t>de recursos presentados ante las cort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o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 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 Autonomy and the Right to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5. Autonomía y Reforma Polít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6. Conclu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5. Autonomía y Reforma Polític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a) Mayor libertad para tomar parte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en los debates políticos sobre la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reforma penal y procesal para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aparecer frente a los comités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parlamentarios o para participar en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foros internacionales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b) De todas maneras, la retención de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la confianza del Gobierno promueve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cluso las agencias independientes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a utilizar la diplomacia silenciosa o  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elegir sus batallas con cuidado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 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 Autonomy and the Right to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6. Conclus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304920" y="380880"/>
            <a:ext cx="8305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4000" spc="-1" strike="noStrike">
                <a:solidFill>
                  <a:srgbClr val="b01000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b01000"/>
                </a:solidFill>
                <a:latin typeface="Bookman Old Style"/>
              </a:rPr>
              <a:t>Emerging Legal Aid Challenges and Opportunities:  Strategic perspectives  from Europ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man Old Style"/>
              </a:rPr>
              <a:t>Professor Alan Paterson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man Old Style"/>
              </a:rPr>
              <a:t>Strathclyde Univers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man Old Style"/>
              </a:rPr>
              <a:t>and Chair, International Legal Aid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01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Autonomy and the Right to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79280" y="5229360"/>
            <a:ext cx="511344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Bookman Old Style"/>
              </a:rPr>
              <a:t>6.Conclus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L 0.01632 -0.59837 E">
                                      <p:cBhvr>
                                        <p:cTn id="13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6.Conclusiones – Mensajes claves a partir  de la experiencia de otros </a:t>
            </a: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país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a)</a:t>
            </a: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funcional persuade a los gobiernos más fácilmente que la autonomía institucional PERO -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Bookman Old Style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institucional fortalece casi en todas partes la autonomía funcion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Bookman Old Style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Institucional casi siempre conlleva un precio – gobernanza, responsabilidad ( transparencia y finanzas), formulación de políticas y pres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tonomía v Responsabilidad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321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RvR achtergrond powerpoint v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8244000" y="6048360"/>
            <a:ext cx="8636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39800" indent="-282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9528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79280" y="144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6360" cy="12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Riesgo de pensamiento y trabajo aisl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4" descr="silo2"/>
          <p:cNvPicPr/>
          <p:nvPr/>
        </p:nvPicPr>
        <p:blipFill>
          <a:blip r:embed="rId2"/>
          <a:stretch/>
        </p:blipFill>
        <p:spPr>
          <a:xfrm>
            <a:off x="4356000" y="1413000"/>
            <a:ext cx="4788000" cy="467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silo"/>
          <p:cNvPicPr/>
          <p:nvPr/>
        </p:nvPicPr>
        <p:blipFill>
          <a:blip r:embed="rId3"/>
          <a:stretch/>
        </p:blipFill>
        <p:spPr>
          <a:xfrm>
            <a:off x="0" y="1413000"/>
            <a:ext cx="43560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7030a0"/>
                </a:solidFill>
                <a:latin typeface="Bookman Old Style"/>
              </a:rPr>
              <a:t>De cara al futu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177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Algunas pregunt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¿Cómo podría la Defensoría Penal autónoma  promover de mejor manera su habilidad para desarrollar de manera más efectiva la prestación de defens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Bookman Old Style"/>
              </a:rPr>
              <a:t>¿Qué condiciones para lograr la autonomía son (a) más aceptables (b) menos aceptables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ANd9GcRLv6OPt2LtXlQHfmghcu2LV66rhYwW2hShppuflAZXBOWoEn8&amp;t=1&amp;usg=___uSUXeSqOZ6igDReyEG9DwNgSds="/>
          <p:cNvPicPr/>
          <p:nvPr/>
        </p:nvPicPr>
        <p:blipFill>
          <a:blip r:embed="rId1"/>
          <a:stretch/>
        </p:blipFill>
        <p:spPr>
          <a:xfrm>
            <a:off x="2519280" y="4581360"/>
            <a:ext cx="4105440" cy="22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8000" y="31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Norte Amé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Sur Amé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igs99107\Pictures\2015-10-18 Chile 2015\Chile 2015 079.JPG"/>
          <p:cNvPicPr/>
          <p:nvPr/>
        </p:nvPicPr>
        <p:blipFill>
          <a:blip r:embed="rId1"/>
          <a:stretch/>
        </p:blipFill>
        <p:spPr>
          <a:xfrm>
            <a:off x="468360" y="112716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bo de Hor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7774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Resumen de la Present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Opciones para la Gobernanza Institucional y la Autonom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3. Autonomía y Finanzas– Responsabilidad y Control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4. Autonomía y el Derecho a la Represent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5. Autonomía y Reforma Política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6. Conclus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Options for Institutional Governance and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3. Autonomy and Finance – Accountability and Monitor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4. Autonomy and the Right to Re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5. Autonomy and Policy Reform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Bookman Old Style"/>
              </a:rPr>
              <a:t>6. Conclu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Bookman Old Style"/>
              </a:rPr>
              <a:t>Defensoría Penal Autón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0000"/>
                </a:solidFill>
                <a:latin typeface="Bookman Old Style"/>
              </a:rPr>
              <a:t>Introducción – Mensajes claves a partir de la experiencia de otros paí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a)</a:t>
            </a: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	</a:t>
            </a: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funcional persuade a los gobiernos más fácilmente que la autonomía institucional PERO -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Bookman Old Style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institucional fortalece casi en todas partes la autonomía funcion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Bookman Old Style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Bookman Old Style"/>
              </a:rPr>
              <a:t>La autonomía Institucional casi siempre conlleva un precio – gobernanza, responsabilidad ( transparencia y finanzas), formulación de políticas y pres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17:51:29Z</dcterms:created>
  <dc:creator>Temp</dc:creator>
  <dc:description/>
  <dc:language>en-US</dc:language>
  <cp:lastModifiedBy>Javiera Nazif Muñoz</cp:lastModifiedBy>
  <dcterms:modified xsi:type="dcterms:W3CDTF">2015-10-27T17:31:16Z</dcterms:modified>
  <cp:revision>55</cp:revision>
  <dc:subject/>
  <dc:title>PowerPoint Presentation</dc:title>
</cp:coreProperties>
</file>