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5D7-75F8-4AA7-B8DF-FA62667DC6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9EF8-B84F-4620-B2D0-B73C931D66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A40-1037-4F2C-8C54-D69C29BD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EAC-FFDE-4DF4-A22E-E239040F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E3A-DEF1-440D-A6A0-2567E6C2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B5F-09E5-402E-8CA8-97539527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98A-F92A-4AC6-9587-EC4CE69D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574-346C-4C75-9C0C-77912210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268-FC87-4307-BB9B-FBE5A65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F46-851C-4F8E-8F93-C2486A2A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F0E-68B0-4E5C-B40B-35E3C2B8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69B-2FA6-425A-BACD-A194A8A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1BF-A446-4541-A9CD-07063B3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767-B712-49E8-AE4A-39D32B5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8C6F-C764-44B1-982C-9FF4BCF963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380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Propuesta de un Modelo de Autonomía para la Defensoría Penal Pública:  Perspectivas Estratégicas de Europa y del Mundo del Derecho Consuetudinari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Profesor y Catedrático Alan Paters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Universidad Strathcly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Grupo Internacional de Asistencia Juríd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1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a)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Descentralización del servicio DPP -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Finl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b)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moción del Ministro de Justicia y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Creación de un Consejo con debere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legales así como un Memorando de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Entendimiento para revisar la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operaciones del servicio D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) Consejo nombrado por el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Ministro o el sistema de Alta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Dirección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) El Consejo nombra al Defensor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Penal Público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i) Remoción del Consejo o el D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Autonomy and the Right to           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2708280"/>
            <a:ext cx="78501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Bookman Old Style"/>
              </a:rPr>
              <a:t>3.Autonomía y Finanzas –         Responsabilidad y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00781 -0.27292 E"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Autonomía y Finanzas – Responsabilidad 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a) Una mayor autonomía financiera puede conllevar menorconfianzaGubernamen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) Controles presupuestarios y partida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más estrict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) Menos gasto discre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i) Reducción al alcance e.g.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epresentación por el interés de la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justicia; limites en el número de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cursos judiciales presen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v) Demanda de  mayor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Autonomía y Finanzas– Responsabilidad y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b)  Retención de la confianza del Gobi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) Relación de trabajo cercana tras la independenc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i) Información muy detallada y gastos proyectad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ii) No hay sorpresas desagradables en los Informes Anuales o en los casos que están siendo represent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4. Autonomía y el Derecho a la Represent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4.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Autonomía y el Derecho a la 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Representació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a) Más problemas en Europa y lo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países de Derecho Consuetudinario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debido a los mayores límites existente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n los casos que le otorgan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representación– aunque puede ser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lección de un abogad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b) Limitaciones muy restringidas para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prevenir interferencias Ministeriale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n la defensa de los casos particular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c) Límites en la representación financiada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de recursos presentados ante las cort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o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) Mayor libertad para tomar part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en los debates políticos sobre la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reforma penal y procesal para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parecer frente a los comités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parlamentarios o para participar en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foros internacionales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b) De todas maneras, la retención d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la confianza del Gobierno promuev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cluso las agencias independientes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 utilizar la diplomacia silenciosa o 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elegir sus batallas con cuidado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 Conclus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04920" y="380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Emerging Legal Aid Challenges and Opportunities:  Strategic perspectives  from Europ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Professor Alan Paterson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Strathclyde Un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and Chair, International Legal Aid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1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5229360"/>
            <a:ext cx="51134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Bookman Old Style"/>
              </a:rPr>
              <a:t>6.Conclu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1632 -0.59837 E">
                                      <p:cBhvr>
                                        <p:cTn id="13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Conclusiones – Mensajes claves a partir  de la experiencia de otros </a:t>
            </a: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país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a)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funcional persuade a los gobiernos más fácilmente que la autonomía institucional PERO 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fortalece casi en todas partes la autonomía funcio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casi siempre conlleva un precio – gobernanza, responsabilidad ( transparencia y finanzas), formulación de políticas y pres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tonomía v Responsabilida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321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RvR achtergrond powerpoint v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8244000" y="6048360"/>
            <a:ext cx="8636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3980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144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iesgo de pensamiento y trabajo ais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4" descr="silo2"/>
          <p:cNvPicPr/>
          <p:nvPr/>
        </p:nvPicPr>
        <p:blipFill>
          <a:blip r:embed="rId2"/>
          <a:stretch/>
        </p:blipFill>
        <p:spPr>
          <a:xfrm>
            <a:off x="4356000" y="1413000"/>
            <a:ext cx="4788000" cy="467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silo"/>
          <p:cNvPicPr/>
          <p:nvPr/>
        </p:nvPicPr>
        <p:blipFill>
          <a:blip r:embed="rId3"/>
          <a:stretch/>
        </p:blipFill>
        <p:spPr>
          <a:xfrm>
            <a:off x="0" y="1413000"/>
            <a:ext cx="4356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7030a0"/>
                </a:solidFill>
                <a:latin typeface="Bookman Old Style"/>
              </a:rPr>
              <a:t>De cara al futu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77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Algunas pregunt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¿Cómo podría la Defensoría Penal autónoma  promover de mejor manera su habilidad para desarrollar de manera más efectiva la prestación de defens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¿Qué condiciones para lograr la autonomía son (a) más aceptables (b) menos aceptables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Nd9GcRLv6OPt2LtXlQHfmghcu2LV66rhYwW2hShppuflAZXBOWoEn8&amp;t=1&amp;usg=___uSUXeSqOZ6igDReyEG9DwNgSds="/>
          <p:cNvPicPr/>
          <p:nvPr/>
        </p:nvPicPr>
        <p:blipFill>
          <a:blip r:embed="rId1"/>
          <a:stretch/>
        </p:blipFill>
        <p:spPr>
          <a:xfrm>
            <a:off x="2519280" y="4581360"/>
            <a:ext cx="410544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Norte Amé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Sur Amé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igs99107\Pictures\2015-10-18 Chile 2015\Chile 2015 079.JPG"/>
          <p:cNvPicPr/>
          <p:nvPr/>
        </p:nvPicPr>
        <p:blipFill>
          <a:blip r:embed="rId1"/>
          <a:stretch/>
        </p:blipFill>
        <p:spPr>
          <a:xfrm>
            <a:off x="468360" y="112716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bo de Hor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77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Resumen de la Pres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3. Autonomía y Finanzas– Responsabilidad y Control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4. Autonomía y el Derecho a la Represent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 Conclus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 – Mensajes claves a partir de la experiencia de otros paí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a)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funcional persuade a los gobiernos más fácilmente que la autonomía institucional PERO 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fortalece casi en todas partes la autonomía funcio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casi siempre conlleva un precio – gobernanza, responsabilidad ( transparencia y finanzas), formulación de políticas y pres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7:51:29Z</dcterms:created>
  <dc:creator>Temp</dc:creator>
  <dc:description/>
  <dc:language>en-US</dc:language>
  <cp:lastModifiedBy>Javiera Nazif Muñoz</cp:lastModifiedBy>
  <dcterms:modified xsi:type="dcterms:W3CDTF">2015-10-27T17:31:16Z</dcterms:modified>
  <cp:revision>55</cp:revision>
  <dc:subject/>
  <dc:title>PowerPoint Presentation</dc:title>
</cp:coreProperties>
</file>