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5.wmf" ContentType="image/x-wmf"/>
  <Override PartName="/ppt/media/image15.jpeg" ContentType="image/jpeg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38.jpeg" ContentType="image/jpeg"/>
  <Override PartName="/ppt/media/image17.wmf" ContentType="image/x-wmf"/>
  <Override PartName="/ppt/media/image13.wmf" ContentType="image/x-wmf"/>
  <Override PartName="/ppt/media/image10.jpeg" ContentType="image/jpeg"/>
  <Override PartName="/ppt/media/image30.wmf" ContentType="image/x-wmf"/>
  <Override PartName="/ppt/media/image32.wmf" ContentType="image/x-wmf"/>
  <Override PartName="/ppt/media/image7.wmf" ContentType="image/x-wmf"/>
  <Override PartName="/ppt/media/image33.png" ContentType="image/png"/>
  <Override PartName="/ppt/media/image8.png" ContentType="image/png"/>
  <Override PartName="/ppt/media/image35.png" ContentType="image/png"/>
  <Override PartName="/ppt/media/image36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37.png" ContentType="image/png"/>
  <Override PartName="/ppt/media/image9.wmf" ContentType="image/x-wmf"/>
  <Override PartName="/ppt/media/image39.png" ContentType="image/png"/>
  <Override PartName="/ppt/media/image6.wmf" ContentType="image/x-wmf"/>
  <Override PartName="/ppt/media/image11.png" ContentType="image/png"/>
  <Override PartName="/ppt/media/image29.wmf" ContentType="image/x-wmf"/>
  <Override PartName="/ppt/media/image31.png" ContentType="image/png"/>
  <Override PartName="/ppt/media/image14.wmf" ContentType="image/x-wmf"/>
  <Override PartName="/ppt/media/image28.wmf" ContentType="image/x-wmf"/>
  <Override PartName="/ppt/media/image3.jpeg" ContentType="image/jpeg"/>
  <Override PartName="/ppt/media/image2.png" ContentType="image/png"/>
  <Override PartName="/ppt/media/image1.jpeg" ContentType="image/jpeg"/>
  <Override PartName="/ppt/media/image26.wmf" ContentType="image/x-wmf"/>
  <Override PartName="/ppt/media/image5.wmf" ContentType="image/x-wmf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7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377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9ECB-A972-460E-A69D-2084726A074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51280" y="9377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5E09-6BBC-4330-8DBA-FC1E661AEEDE}" type="slidenum"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E5A2-0E3B-4B50-A181-D315D2E6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0462-D1B7-49E6-821C-D5444BDF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0935-8F0B-4E56-953F-766AC0E64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2FA5-7E73-4106-9E15-B4CA38567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7B33-1263-4B45-A0B1-8229AC1F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370B-A63A-401E-8786-F24F862A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8E6D-8868-41A0-A545-5871C394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2413-BB5D-4314-880F-A9EC15D5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E7D9-5D15-474F-9B3C-B2E460A8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FF28-B7C5-4801-870B-608C5A6F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6409-0C49-4993-946E-843E256C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4EA5-B839-4A35-8D84-78F69286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32C7-2E83-4C13-9BD4-347059780A19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9E32-E5D1-48AD-ACFB-FA723B14187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wmf"/><Relationship Id="rId7" Type="http://schemas.openxmlformats.org/officeDocument/2006/relationships/image" Target="../media/image18.jpeg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.png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30.wmf"/><Relationship Id="rId10" Type="http://schemas.openxmlformats.org/officeDocument/2006/relationships/image" Target="../media/image31.png"/><Relationship Id="rId11" Type="http://schemas.openxmlformats.org/officeDocument/2006/relationships/image" Target="../media/image32.wmf"/><Relationship Id="rId12" Type="http://schemas.openxmlformats.org/officeDocument/2006/relationships/image" Target="../media/image2.png"/><Relationship Id="rId13" Type="http://schemas.openxmlformats.org/officeDocument/2006/relationships/image" Target="../media/image3.jpe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://www.microsimulation.org/" TargetMode="External"/><Relationship Id="rId4" Type="http://schemas.openxmlformats.org/officeDocument/2006/relationships/hyperlink" Target="http://www.ifs.org.uk/publications/572" TargetMode="External"/><Relationship Id="rId5" Type="http://schemas.openxmlformats.org/officeDocument/2006/relationships/hyperlink" Target="http://www.iser.essex.ac.uk/research/euromod" TargetMode="External"/><Relationship Id="rId6" Type="http://schemas.openxmlformats.org/officeDocument/2006/relationships/hyperlink" Target="http://www.ief.es/" TargetMode="External"/><Relationship Id="rId7" Type="http://schemas.openxmlformats.org/officeDocument/2006/relationships/hyperlink" Target="http://www.ief.es/documentos/recursos/publicaciones/documentos_trabajo/2011_16.pdf" TargetMode="External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EDIF GRIS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-27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3 CuadroTexto"/>
          <p:cNvSpPr/>
          <p:nvPr/>
        </p:nvSpPr>
        <p:spPr>
          <a:xfrm>
            <a:off x="150840" y="2209680"/>
            <a:ext cx="885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Los datos de entrada a un modelo de microsimulación – encuestas a hog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 CuadroTexto"/>
          <p:cNvSpPr/>
          <p:nvPr/>
        </p:nvSpPr>
        <p:spPr>
          <a:xfrm>
            <a:off x="1332000" y="4427640"/>
            <a:ext cx="61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ilagros Paniagua San Martín (I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adrid, 16 de junio de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1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52" name="Picture 7" descr="logoief"/>
            <p:cNvPicPr/>
            <p:nvPr/>
          </p:nvPicPr>
          <p:blipFill>
            <a:blip r:embed="rId2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0 Imagen" descr="logo_eurosocial_rgb.jpg"/>
            <p:cNvPicPr/>
            <p:nvPr/>
          </p:nvPicPr>
          <p:blipFill>
            <a:blip r:embed="rId3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5 Grupo"/>
          <p:cNvGrpSpPr/>
          <p:nvPr/>
        </p:nvGrpSpPr>
        <p:grpSpPr>
          <a:xfrm>
            <a:off x="468360" y="5730840"/>
            <a:ext cx="8366040" cy="932040"/>
            <a:chOff x="468360" y="5730840"/>
            <a:chExt cx="8366040" cy="932040"/>
          </a:xfrm>
        </p:grpSpPr>
        <p:sp>
          <p:nvSpPr>
            <p:cNvPr id="55" name="3 Rectángulo"/>
            <p:cNvSpPr/>
            <p:nvPr/>
          </p:nvSpPr>
          <p:spPr>
            <a:xfrm>
              <a:off x="2210760" y="5951520"/>
              <a:ext cx="662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A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esoría especializada para el desarrollo de herramientas de microsimulación fis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4 Imagen" descr=""/>
            <p:cNvPicPr/>
            <p:nvPr/>
          </p:nvPicPr>
          <p:blipFill>
            <a:blip r:embed="rId4"/>
            <a:stretch/>
          </p:blipFill>
          <p:spPr>
            <a:xfrm>
              <a:off x="468360" y="5730840"/>
              <a:ext cx="1496160" cy="93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8"/>
          <p:cNvSpPr/>
          <p:nvPr/>
        </p:nvSpPr>
        <p:spPr>
          <a:xfrm>
            <a:off x="260280" y="12700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REGISTROS ADMINISTRATIVOS EN ESPAÑ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1 CuadroTexto"/>
          <p:cNvSpPr/>
          <p:nvPr/>
        </p:nvSpPr>
        <p:spPr>
          <a:xfrm>
            <a:off x="260280" y="1844640"/>
            <a:ext cx="7840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eguridad Social (MCV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gencia Tributaria (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uestra IRPF y panel de renta del 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F – AE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atas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gistro c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IG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2 Rectángulo"/>
          <p:cNvSpPr/>
          <p:nvPr/>
        </p:nvSpPr>
        <p:spPr>
          <a:xfrm>
            <a:off x="71280" y="5157720"/>
            <a:ext cx="88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  <a:ea typeface="Arial"/>
              </a:rPr>
              <a:t>http://www.ief.es/investigacion/cursos_seminarios/2006_S_internacional_estadistica.asp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8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121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260280" y="12700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ENCUESTAS EN ESPAÑ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7659720" cy="4025880"/>
          </a:xfrm>
          <a:prstGeom prst="rect">
            <a:avLst/>
          </a:prstGeom>
          <a:ln w="0">
            <a:noFill/>
          </a:ln>
        </p:spPr>
      </p:pic>
      <p:sp>
        <p:nvSpPr>
          <p:cNvPr id="125" name="11 CuadroTexto"/>
          <p:cNvSpPr/>
          <p:nvPr/>
        </p:nvSpPr>
        <p:spPr>
          <a:xfrm>
            <a:off x="306360" y="6156360"/>
            <a:ext cx="798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l sistema estadístico en Esp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8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127" name="Picture 7" descr="logoief"/>
            <p:cNvPicPr/>
            <p:nvPr/>
          </p:nvPicPr>
          <p:blipFill>
            <a:blip r:embed="rId2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0 Imagen" descr="logo_eurosocial_rgb.jpg"/>
            <p:cNvPicPr/>
            <p:nvPr/>
          </p:nvPicPr>
          <p:blipFill>
            <a:blip r:embed="rId3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260280" y="12700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ENCUESTAS EN LOS MSM DEL 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3 Rectángulo"/>
          <p:cNvSpPr/>
          <p:nvPr/>
        </p:nvSpPr>
        <p:spPr>
          <a:xfrm>
            <a:off x="714240" y="1946160"/>
            <a:ext cx="70009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a50021"/>
                </a:solidFill>
                <a:latin typeface="Times New Roman"/>
                <a:ea typeface="Arial"/>
              </a:rPr>
              <a:t>  </a:t>
            </a:r>
            <a:r>
              <a:rPr b="1" lang="es-ES_tradnl" sz="3600" spc="-1" strike="noStrike">
                <a:solidFill>
                  <a:srgbClr val="a50021"/>
                </a:solidFill>
                <a:latin typeface="Times New Roman"/>
                <a:ea typeface="Arial"/>
              </a:rPr>
              <a:t>Encuestas a hoga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  <a:ea typeface="Arial"/>
              </a:rPr>
              <a:t>Encuesta de Condiciones de Vida (EC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  <a:ea typeface="Arial"/>
              </a:rPr>
              <a:t>Encuesta Continua de Presupuestos   Familiares (EP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132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260280" y="12700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ENCUESTAS EN LOS MSM DEL 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1 CuadroTexto"/>
          <p:cNvSpPr/>
          <p:nvPr/>
        </p:nvSpPr>
        <p:spPr>
          <a:xfrm>
            <a:off x="384120" y="1951200"/>
            <a:ext cx="7488360" cy="43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CV: encuesta sobre ingresos y condiciones de vida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que incluye datos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ransversales y longitudinales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a escala nacional y europea sob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gresos y situación económica de los hogares priv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ivel y composición de la pobreza, privación material y la exclusión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mpleo y actividad. Cuidado de niñ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Jubilación, pensiones y situación económica de los           may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Vivienda (características y  costes asociad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sarrollo regional, movimientos migrato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ormación, salud y efecto de ambos sobre la condición socio-económ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137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4"/>
          <p:cNvGrpSpPr/>
          <p:nvPr/>
        </p:nvGrpSpPr>
        <p:grpSpPr>
          <a:xfrm>
            <a:off x="428760" y="1604880"/>
            <a:ext cx="7527600" cy="5208480"/>
            <a:chOff x="428760" y="1604880"/>
            <a:chExt cx="7527600" cy="5208480"/>
          </a:xfrm>
        </p:grpSpPr>
        <p:sp>
          <p:nvSpPr>
            <p:cNvPr id="140" name="Text Box 5"/>
            <p:cNvSpPr/>
            <p:nvPr/>
          </p:nvSpPr>
          <p:spPr>
            <a:xfrm>
              <a:off x="6680880" y="3023280"/>
              <a:ext cx="12754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quile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6"/>
            <p:cNvSpPr/>
            <p:nvPr/>
          </p:nvSpPr>
          <p:spPr>
            <a:xfrm>
              <a:off x="428760" y="5739840"/>
              <a:ext cx="1212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uesto sobre el patrimon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Picture 7" descr="ayuda familias"/>
            <p:cNvPicPr/>
            <p:nvPr/>
          </p:nvPicPr>
          <p:blipFill>
            <a:blip r:embed="rId1"/>
            <a:stretch/>
          </p:blipFill>
          <p:spPr>
            <a:xfrm>
              <a:off x="1194120" y="2293920"/>
              <a:ext cx="760320" cy="91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8" descr="ayuda vivienda"/>
            <p:cNvPicPr/>
            <p:nvPr/>
          </p:nvPicPr>
          <p:blipFill>
            <a:blip r:embed="rId2"/>
            <a:stretch/>
          </p:blipFill>
          <p:spPr>
            <a:xfrm>
              <a:off x="2661480" y="1604880"/>
              <a:ext cx="829080" cy="119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9" descr="transferencias hogares"/>
            <p:cNvPicPr/>
            <p:nvPr/>
          </p:nvPicPr>
          <p:blipFill>
            <a:blip r:embed="rId3"/>
            <a:stretch/>
          </p:blipFill>
          <p:spPr>
            <a:xfrm>
              <a:off x="4320360" y="5464080"/>
              <a:ext cx="816120" cy="123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10" descr="exclusion social"/>
            <p:cNvPicPr/>
            <p:nvPr/>
          </p:nvPicPr>
          <p:blipFill>
            <a:blip r:embed="rId4"/>
            <a:stretch/>
          </p:blipFill>
          <p:spPr>
            <a:xfrm>
              <a:off x="875160" y="4016880"/>
              <a:ext cx="1266120" cy="12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AutoShape 11"/>
            <p:cNvSpPr/>
            <p:nvPr/>
          </p:nvSpPr>
          <p:spPr>
            <a:xfrm>
              <a:off x="2342520" y="4085640"/>
              <a:ext cx="601920" cy="325800"/>
            </a:xfrm>
            <a:custGeom>
              <a:avLst/>
              <a:gdLst>
                <a:gd name="textAreaLeft" fmla="*/ 75240 w 601920"/>
                <a:gd name="textAreaRight" fmla="*/ 526680 w 601920"/>
                <a:gd name="textAreaTop" fmla="*/ 81360 h 325800"/>
                <a:gd name="textAreaBottom" fmla="*/ 244440 h 32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2"/>
            <p:cNvSpPr/>
            <p:nvPr/>
          </p:nvSpPr>
          <p:spPr>
            <a:xfrm>
              <a:off x="684000" y="1811520"/>
              <a:ext cx="12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yuda por familia/hij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13"/>
            <p:cNvSpPr/>
            <p:nvPr/>
          </p:nvSpPr>
          <p:spPr>
            <a:xfrm rot="4456200">
              <a:off x="2806200" y="3088080"/>
              <a:ext cx="650160" cy="301680"/>
            </a:xfrm>
            <a:custGeom>
              <a:avLst/>
              <a:gdLst>
                <a:gd name="textAreaLeft" fmla="*/ 81000 w 650160"/>
                <a:gd name="textAreaRight" fmla="*/ 569160 w 650160"/>
                <a:gd name="textAreaTop" fmla="*/ 75240 h 301680"/>
                <a:gd name="textAreaBottom" fmla="*/ 226440 h 3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4"/>
            <p:cNvSpPr/>
            <p:nvPr/>
          </p:nvSpPr>
          <p:spPr>
            <a:xfrm>
              <a:off x="1832040" y="1673640"/>
              <a:ext cx="1020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yuda neta para vivien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6744240" y="4832280"/>
              <a:ext cx="10846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ta percibida por los menores de 16 añ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3006000" y="5652000"/>
              <a:ext cx="149220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ferenc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etar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re hoga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492480" y="3327840"/>
              <a:ext cx="2041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clusion social no clasificada en otro apart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18"/>
            <p:cNvSpPr/>
            <p:nvPr/>
          </p:nvSpPr>
          <p:spPr>
            <a:xfrm rot="15856800">
              <a:off x="3669840" y="5052240"/>
              <a:ext cx="581400" cy="301680"/>
            </a:xfrm>
            <a:custGeom>
              <a:avLst/>
              <a:gdLst>
                <a:gd name="textAreaLeft" fmla="*/ 72720 w 581400"/>
                <a:gd name="textAreaRight" fmla="*/ 509040 w 581400"/>
                <a:gd name="textAreaTop" fmla="*/ 75240 h 301680"/>
                <a:gd name="textAreaBottom" fmla="*/ 226440 h 3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19"/>
            <p:cNvSpPr/>
            <p:nvPr/>
          </p:nvSpPr>
          <p:spPr>
            <a:xfrm rot="12222000">
              <a:off x="4830480" y="4568040"/>
              <a:ext cx="601920" cy="325800"/>
            </a:xfrm>
            <a:custGeom>
              <a:avLst/>
              <a:gdLst>
                <a:gd name="textAreaLeft" fmla="*/ 75240 w 601920"/>
                <a:gd name="textAreaRight" fmla="*/ 526680 w 601920"/>
                <a:gd name="textAreaTop" fmla="*/ 81360 h 325800"/>
                <a:gd name="textAreaBottom" fmla="*/ 244440 h 32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20"/>
            <p:cNvSpPr/>
            <p:nvPr/>
          </p:nvSpPr>
          <p:spPr>
            <a:xfrm rot="7477800">
              <a:off x="4881600" y="2984760"/>
              <a:ext cx="581400" cy="301680"/>
            </a:xfrm>
            <a:custGeom>
              <a:avLst/>
              <a:gdLst>
                <a:gd name="textAreaLeft" fmla="*/ 72720 w 581400"/>
                <a:gd name="textAreaRight" fmla="*/ 509040 w 581400"/>
                <a:gd name="textAreaTop" fmla="*/ 75240 h 301680"/>
                <a:gd name="textAreaBottom" fmla="*/ 226440 h 3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21" descr="intereses y ganancias"/>
            <p:cNvPicPr/>
            <p:nvPr/>
          </p:nvPicPr>
          <p:blipFill>
            <a:blip r:embed="rId5"/>
            <a:stretch/>
          </p:blipFill>
          <p:spPr>
            <a:xfrm>
              <a:off x="5468400" y="1742400"/>
              <a:ext cx="1339560" cy="10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22" descr="renta por alquiler"/>
            <p:cNvPicPr/>
            <p:nvPr/>
          </p:nvPicPr>
          <p:blipFill>
            <a:blip r:embed="rId6"/>
            <a:stretch/>
          </p:blipFill>
          <p:spPr>
            <a:xfrm>
              <a:off x="5659920" y="2982960"/>
              <a:ext cx="1084320" cy="11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AutoShape 23"/>
            <p:cNvSpPr/>
            <p:nvPr/>
          </p:nvSpPr>
          <p:spPr>
            <a:xfrm rot="9937200">
              <a:off x="4830120" y="3740400"/>
              <a:ext cx="601920" cy="325800"/>
            </a:xfrm>
            <a:custGeom>
              <a:avLst/>
              <a:gdLst>
                <a:gd name="textAreaLeft" fmla="*/ 75240 w 601920"/>
                <a:gd name="textAreaRight" fmla="*/ 526680 w 601920"/>
                <a:gd name="textAreaTop" fmla="*/ 81360 h 325800"/>
                <a:gd name="textAreaBottom" fmla="*/ 244440 h 32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24"/>
            <p:cNvSpPr/>
            <p:nvPr/>
          </p:nvSpPr>
          <p:spPr>
            <a:xfrm rot="19210200">
              <a:off x="2597400" y="4912560"/>
              <a:ext cx="601920" cy="325800"/>
            </a:xfrm>
            <a:custGeom>
              <a:avLst/>
              <a:gdLst>
                <a:gd name="textAreaLeft" fmla="*/ 75240 w 601920"/>
                <a:gd name="textAreaRight" fmla="*/ 526680 w 601920"/>
                <a:gd name="textAreaTop" fmla="*/ 81360 h 325800"/>
                <a:gd name="textAreaBottom" fmla="*/ 244440 h 32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25"/>
            <p:cNvSpPr/>
            <p:nvPr/>
          </p:nvSpPr>
          <p:spPr>
            <a:xfrm>
              <a:off x="6744240" y="2087280"/>
              <a:ext cx="1020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tas de cap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Picture 26" descr="irpf"/>
            <p:cNvPicPr/>
            <p:nvPr/>
          </p:nvPicPr>
          <p:blipFill>
            <a:blip r:embed="rId7"/>
            <a:stretch/>
          </p:blipFill>
          <p:spPr>
            <a:xfrm>
              <a:off x="3746160" y="2018160"/>
              <a:ext cx="1180080" cy="103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27"/>
            <p:cNvSpPr/>
            <p:nvPr/>
          </p:nvSpPr>
          <p:spPr>
            <a:xfrm>
              <a:off x="2853000" y="1742400"/>
              <a:ext cx="280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laracion irp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28"/>
            <p:cNvSpPr/>
            <p:nvPr/>
          </p:nvSpPr>
          <p:spPr>
            <a:xfrm rot="5650200">
              <a:off x="3895920" y="3225960"/>
              <a:ext cx="512280" cy="301680"/>
            </a:xfrm>
            <a:custGeom>
              <a:avLst/>
              <a:gdLst>
                <a:gd name="textAreaLeft" fmla="*/ 64080 w 512280"/>
                <a:gd name="textAreaRight" fmla="*/ 448560 w 512280"/>
                <a:gd name="textAreaTop" fmla="*/ 75240 h 301680"/>
                <a:gd name="textAreaBottom" fmla="*/ 226440 h 3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29" descr="j0195394"/>
            <p:cNvPicPr/>
            <p:nvPr/>
          </p:nvPicPr>
          <p:blipFill>
            <a:blip r:embed="rId8"/>
            <a:stretch/>
          </p:blipFill>
          <p:spPr>
            <a:xfrm>
              <a:off x="5596200" y="4361400"/>
              <a:ext cx="1023480" cy="220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30" descr="j0156161"/>
            <p:cNvPicPr/>
            <p:nvPr/>
          </p:nvPicPr>
          <p:blipFill>
            <a:blip r:embed="rId9"/>
            <a:stretch/>
          </p:blipFill>
          <p:spPr>
            <a:xfrm>
              <a:off x="1449360" y="5326200"/>
              <a:ext cx="1403280" cy="14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31" descr="j0110852"/>
            <p:cNvPicPr/>
            <p:nvPr/>
          </p:nvPicPr>
          <p:blipFill>
            <a:blip r:embed="rId10"/>
            <a:stretch/>
          </p:blipFill>
          <p:spPr>
            <a:xfrm>
              <a:off x="3109680" y="3700800"/>
              <a:ext cx="1465920" cy="12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34 Rectángulo"/>
          <p:cNvSpPr/>
          <p:nvPr/>
        </p:nvSpPr>
        <p:spPr>
          <a:xfrm>
            <a:off x="1639800" y="1022400"/>
            <a:ext cx="49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ECV - INGRESOS (fichero 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34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169" name="Picture 7" descr="logoief"/>
            <p:cNvPicPr/>
            <p:nvPr/>
          </p:nvPicPr>
          <p:blipFill>
            <a:blip r:embed="rId1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0 Imagen" descr="logo_eurosocial_rgb.jpg"/>
            <p:cNvPicPr/>
            <p:nvPr/>
          </p:nvPicPr>
          <p:blipFill>
            <a:blip r:embed="rId1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3"/>
          <p:cNvSpPr/>
          <p:nvPr/>
        </p:nvSpPr>
        <p:spPr>
          <a:xfrm>
            <a:off x="5929200" y="5929200"/>
            <a:ext cx="231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Prestaciones Superviv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6715080" y="2643120"/>
            <a:ext cx="13860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Prestaciones  Enferme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6"/>
          <p:cNvGrpSpPr/>
          <p:nvPr/>
        </p:nvGrpSpPr>
        <p:grpSpPr>
          <a:xfrm>
            <a:off x="525600" y="1484280"/>
            <a:ext cx="7286400" cy="5619960"/>
            <a:chOff x="525600" y="1484280"/>
            <a:chExt cx="7286400" cy="5619960"/>
          </a:xfrm>
        </p:grpSpPr>
        <p:pic>
          <p:nvPicPr>
            <p:cNvPr id="174" name="Picture 7" descr="renta monetaria"/>
            <p:cNvPicPr/>
            <p:nvPr/>
          </p:nvPicPr>
          <p:blipFill>
            <a:blip r:embed="rId1"/>
            <a:stretch/>
          </p:blipFill>
          <p:spPr>
            <a:xfrm>
              <a:off x="1011240" y="2017080"/>
              <a:ext cx="1151280" cy="129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8" descr="renta no monetaria"/>
            <p:cNvPicPr/>
            <p:nvPr/>
          </p:nvPicPr>
          <p:blipFill>
            <a:blip r:embed="rId2"/>
            <a:stretch/>
          </p:blipFill>
          <p:spPr>
            <a:xfrm>
              <a:off x="2331360" y="2017080"/>
              <a:ext cx="1122480" cy="94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9" descr="autonomos"/>
            <p:cNvPicPr/>
            <p:nvPr/>
          </p:nvPicPr>
          <p:blipFill>
            <a:blip r:embed="rId3"/>
            <a:stretch/>
          </p:blipFill>
          <p:spPr>
            <a:xfrm>
              <a:off x="4774680" y="1604520"/>
              <a:ext cx="1320120" cy="140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0" descr="prestacion desempleo"/>
            <p:cNvPicPr/>
            <p:nvPr/>
          </p:nvPicPr>
          <p:blipFill>
            <a:blip r:embed="rId4"/>
            <a:stretch/>
          </p:blipFill>
          <p:spPr>
            <a:xfrm>
              <a:off x="548640" y="3844800"/>
              <a:ext cx="1385280" cy="146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11" descr="prestacion enfermedad"/>
            <p:cNvPicPr/>
            <p:nvPr/>
          </p:nvPicPr>
          <p:blipFill>
            <a:blip r:embed="rId5"/>
            <a:stretch/>
          </p:blipFill>
          <p:spPr>
            <a:xfrm>
              <a:off x="5963040" y="3007080"/>
              <a:ext cx="1386360" cy="14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2"/>
            <p:cNvSpPr/>
            <p:nvPr/>
          </p:nvSpPr>
          <p:spPr>
            <a:xfrm>
              <a:off x="4668480" y="6259680"/>
              <a:ext cx="17168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yudas para estud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3"/>
            <p:cNvSpPr/>
            <p:nvPr/>
          </p:nvSpPr>
          <p:spPr>
            <a:xfrm>
              <a:off x="812880" y="1484280"/>
              <a:ext cx="171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ta monetaria del asalari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4"/>
            <p:cNvSpPr/>
            <p:nvPr/>
          </p:nvSpPr>
          <p:spPr>
            <a:xfrm>
              <a:off x="6029280" y="1636200"/>
              <a:ext cx="1386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eneficios o pérdidas monetarias por cuenta prop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5"/>
            <p:cNvSpPr/>
            <p:nvPr/>
          </p:nvSpPr>
          <p:spPr>
            <a:xfrm>
              <a:off x="2463840" y="1484280"/>
              <a:ext cx="211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ta no monetaria del asalari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6"/>
            <p:cNvSpPr/>
            <p:nvPr/>
          </p:nvSpPr>
          <p:spPr>
            <a:xfrm>
              <a:off x="1935360" y="6586200"/>
              <a:ext cx="290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staciones veje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7"/>
            <p:cNvSpPr/>
            <p:nvPr/>
          </p:nvSpPr>
          <p:spPr>
            <a:xfrm>
              <a:off x="614880" y="3387600"/>
              <a:ext cx="1452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staciones Desemple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8"/>
            <p:cNvSpPr/>
            <p:nvPr/>
          </p:nvSpPr>
          <p:spPr>
            <a:xfrm rot="21397800">
              <a:off x="2265480" y="3997080"/>
              <a:ext cx="622800" cy="360000"/>
            </a:xfrm>
            <a:custGeom>
              <a:avLst/>
              <a:gdLst>
                <a:gd name="textAreaLeft" fmla="*/ 77760 w 622800"/>
                <a:gd name="textAreaRight" fmla="*/ 545040 w 622800"/>
                <a:gd name="textAreaTop" fmla="*/ 90000 h 360000"/>
                <a:gd name="textAreaBottom" fmla="*/ 270000 h 36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9"/>
            <p:cNvSpPr/>
            <p:nvPr/>
          </p:nvSpPr>
          <p:spPr>
            <a:xfrm rot="1929000">
              <a:off x="2265840" y="3311640"/>
              <a:ext cx="622800" cy="360000"/>
            </a:xfrm>
            <a:custGeom>
              <a:avLst/>
              <a:gdLst>
                <a:gd name="textAreaLeft" fmla="*/ 77760 w 622800"/>
                <a:gd name="textAreaRight" fmla="*/ 545040 w 622800"/>
                <a:gd name="textAreaTop" fmla="*/ 90000 h 360000"/>
                <a:gd name="textAreaBottom" fmla="*/ 270000 h 36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20"/>
            <p:cNvSpPr/>
            <p:nvPr/>
          </p:nvSpPr>
          <p:spPr>
            <a:xfrm rot="7200000">
              <a:off x="4160160" y="3234960"/>
              <a:ext cx="615600" cy="312120"/>
            </a:xfrm>
            <a:custGeom>
              <a:avLst/>
              <a:gdLst>
                <a:gd name="textAreaLeft" fmla="*/ 76680 w 615600"/>
                <a:gd name="textAreaRight" fmla="*/ 538920 w 615600"/>
                <a:gd name="textAreaTop" fmla="*/ 78120 h 312120"/>
                <a:gd name="textAreaBottom" fmla="*/ 234360 h 31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21"/>
            <p:cNvSpPr/>
            <p:nvPr/>
          </p:nvSpPr>
          <p:spPr>
            <a:xfrm rot="10578600">
              <a:off x="4840200" y="3712680"/>
              <a:ext cx="622800" cy="360000"/>
            </a:xfrm>
            <a:custGeom>
              <a:avLst/>
              <a:gdLst>
                <a:gd name="textAreaLeft" fmla="*/ 77760 w 622800"/>
                <a:gd name="textAreaRight" fmla="*/ 545040 w 622800"/>
                <a:gd name="textAreaTop" fmla="*/ 90000 h 360000"/>
                <a:gd name="textAreaBottom" fmla="*/ 270000 h 36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22"/>
            <p:cNvSpPr/>
            <p:nvPr/>
          </p:nvSpPr>
          <p:spPr>
            <a:xfrm rot="3957000">
              <a:off x="3374640" y="3019680"/>
              <a:ext cx="337680" cy="312120"/>
            </a:xfrm>
            <a:custGeom>
              <a:avLst/>
              <a:gdLst>
                <a:gd name="textAreaLeft" fmla="*/ 42120 w 337680"/>
                <a:gd name="textAreaRight" fmla="*/ 295560 w 337680"/>
                <a:gd name="textAreaTop" fmla="*/ 78120 h 312120"/>
                <a:gd name="textAreaBottom" fmla="*/ 234360 h 31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3"/>
            <p:cNvSpPr/>
            <p:nvPr/>
          </p:nvSpPr>
          <p:spPr>
            <a:xfrm rot="19587600">
              <a:off x="2199600" y="4931280"/>
              <a:ext cx="623160" cy="360000"/>
            </a:xfrm>
            <a:custGeom>
              <a:avLst/>
              <a:gdLst>
                <a:gd name="textAreaLeft" fmla="*/ 77760 w 623160"/>
                <a:gd name="textAreaRight" fmla="*/ 545400 w 623160"/>
                <a:gd name="textAreaTop" fmla="*/ 90000 h 360000"/>
                <a:gd name="textAreaBottom" fmla="*/ 270000 h 36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24"/>
            <p:cNvSpPr/>
            <p:nvPr/>
          </p:nvSpPr>
          <p:spPr>
            <a:xfrm rot="11813400">
              <a:off x="5236560" y="4398480"/>
              <a:ext cx="622800" cy="360000"/>
            </a:xfrm>
            <a:custGeom>
              <a:avLst/>
              <a:gdLst>
                <a:gd name="textAreaLeft" fmla="*/ 77760 w 622800"/>
                <a:gd name="textAreaRight" fmla="*/ 545040 w 622800"/>
                <a:gd name="textAreaTop" fmla="*/ 90000 h 360000"/>
                <a:gd name="textAreaBottom" fmla="*/ 270000 h 36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25"/>
            <p:cNvSpPr/>
            <p:nvPr/>
          </p:nvSpPr>
          <p:spPr>
            <a:xfrm rot="16788000">
              <a:off x="3309120" y="4890240"/>
              <a:ext cx="337680" cy="312120"/>
            </a:xfrm>
            <a:custGeom>
              <a:avLst/>
              <a:gdLst>
                <a:gd name="textAreaLeft" fmla="*/ 42120 w 337680"/>
                <a:gd name="textAreaRight" fmla="*/ 295560 w 337680"/>
                <a:gd name="textAreaTop" fmla="*/ 78120 h 312120"/>
                <a:gd name="textAreaBottom" fmla="*/ 234360 h 31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26"/>
            <p:cNvSpPr/>
            <p:nvPr/>
          </p:nvSpPr>
          <p:spPr>
            <a:xfrm rot="13185600">
              <a:off x="4236480" y="4577760"/>
              <a:ext cx="452520" cy="360000"/>
            </a:xfrm>
            <a:custGeom>
              <a:avLst/>
              <a:gdLst>
                <a:gd name="textAreaLeft" fmla="*/ 56520 w 452520"/>
                <a:gd name="textAreaRight" fmla="*/ 396000 w 452520"/>
                <a:gd name="textAreaTop" fmla="*/ 90000 h 360000"/>
                <a:gd name="textAreaBottom" fmla="*/ 270000 h 36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27" descr=""/>
            <p:cNvPicPr/>
            <p:nvPr/>
          </p:nvPicPr>
          <p:blipFill>
            <a:blip r:embed="rId6"/>
            <a:stretch/>
          </p:blipFill>
          <p:spPr>
            <a:xfrm>
              <a:off x="6095160" y="4530240"/>
              <a:ext cx="1716840" cy="145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28" descr=""/>
            <p:cNvPicPr/>
            <p:nvPr/>
          </p:nvPicPr>
          <p:blipFill>
            <a:blip r:embed="rId7"/>
            <a:stretch/>
          </p:blipFill>
          <p:spPr>
            <a:xfrm>
              <a:off x="1275480" y="5596560"/>
              <a:ext cx="1134720" cy="98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29" descr="j0343525"/>
            <p:cNvPicPr/>
            <p:nvPr/>
          </p:nvPicPr>
          <p:blipFill>
            <a:blip r:embed="rId8"/>
            <a:stretch/>
          </p:blipFill>
          <p:spPr>
            <a:xfrm>
              <a:off x="2507760" y="5215680"/>
              <a:ext cx="1936440" cy="120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30" descr="j0232133"/>
            <p:cNvPicPr/>
            <p:nvPr/>
          </p:nvPicPr>
          <p:blipFill>
            <a:blip r:embed="rId9"/>
            <a:stretch/>
          </p:blipFill>
          <p:spPr>
            <a:xfrm>
              <a:off x="4510440" y="4763520"/>
              <a:ext cx="1411200" cy="16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Object 3" descr=""/>
            <p:cNvPicPr/>
            <p:nvPr/>
          </p:nvPicPr>
          <p:blipFill>
            <a:blip r:embed="rId10"/>
            <a:stretch/>
          </p:blipFill>
          <p:spPr>
            <a:xfrm>
              <a:off x="3454200" y="1941120"/>
              <a:ext cx="990360" cy="105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32" descr="j0405878"/>
            <p:cNvPicPr/>
            <p:nvPr/>
          </p:nvPicPr>
          <p:blipFill>
            <a:blip r:embed="rId11"/>
            <a:stretch/>
          </p:blipFill>
          <p:spPr>
            <a:xfrm>
              <a:off x="3189960" y="3537000"/>
              <a:ext cx="995760" cy="106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17"/>
            <p:cNvSpPr/>
            <p:nvPr/>
          </p:nvSpPr>
          <p:spPr>
            <a:xfrm>
              <a:off x="525600" y="5275800"/>
              <a:ext cx="1452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staciones Invalide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34 Rectángulo"/>
          <p:cNvSpPr/>
          <p:nvPr/>
        </p:nvSpPr>
        <p:spPr>
          <a:xfrm>
            <a:off x="1639800" y="1022400"/>
            <a:ext cx="49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ECV - INGRESOS (fichero 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36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03" name="Picture 7" descr="logoief"/>
            <p:cNvPicPr/>
            <p:nvPr/>
          </p:nvPicPr>
          <p:blipFill>
            <a:blip r:embed="rId12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0 Imagen" descr="logo_eurosocial_rgb.jpg"/>
            <p:cNvPicPr/>
            <p:nvPr/>
          </p:nvPicPr>
          <p:blipFill>
            <a:blip r:embed="rId13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34 Rectángulo"/>
          <p:cNvSpPr/>
          <p:nvPr/>
        </p:nvSpPr>
        <p:spPr>
          <a:xfrm>
            <a:off x="500040" y="1095480"/>
            <a:ext cx="836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Resultados con la ECV – Nota de prensa (gene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07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9" name="Picture 2" descr=""/>
          <p:cNvPicPr/>
          <p:nvPr/>
        </p:nvPicPr>
        <p:blipFill>
          <a:blip r:embed="rId3"/>
          <a:stretch/>
        </p:blipFill>
        <p:spPr>
          <a:xfrm>
            <a:off x="485640" y="1628640"/>
            <a:ext cx="817272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34 Rectángulo"/>
          <p:cNvSpPr/>
          <p:nvPr/>
        </p:nvSpPr>
        <p:spPr>
          <a:xfrm>
            <a:off x="500040" y="1095480"/>
            <a:ext cx="78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Resultados con la ECV – Nota de prensa (módulo 201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12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81160" y="1711440"/>
            <a:ext cx="858168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34 Rectángulo"/>
          <p:cNvSpPr/>
          <p:nvPr/>
        </p:nvSpPr>
        <p:spPr>
          <a:xfrm>
            <a:off x="1639800" y="1022400"/>
            <a:ext cx="49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Su uso para los MSM en el 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9 Rectángulo"/>
          <p:cNvSpPr/>
          <p:nvPr/>
        </p:nvSpPr>
        <p:spPr>
          <a:xfrm>
            <a:off x="500040" y="2143080"/>
            <a:ext cx="7643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U-SILC (European Statistics on Income and Living Conditions), proyecto europeo en el que se enmarca la ECV, es la base de datos de entrada de EUROMOD (microsimulador europeo de impuestos y prestaciones sociale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a ECV contiene información muy útil para simular el impuesto sobre la renta y algunas prestaciones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A ECV no tiene toda información sobre la vida laboral de las personas y sus periodos de contribución lo que impide simular con toda la precisión necesaria las prestaciones contributivas (posible matching entre ECV y MCVL en IEF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18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8"/>
          <p:cNvSpPr/>
          <p:nvPr/>
        </p:nvSpPr>
        <p:spPr>
          <a:xfrm>
            <a:off x="260280" y="12700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ENCUESTAS EN LOS MSM DEL 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1 CuadroTexto"/>
          <p:cNvSpPr/>
          <p:nvPr/>
        </p:nvSpPr>
        <p:spPr>
          <a:xfrm>
            <a:off x="384120" y="1951200"/>
            <a:ext cx="7488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PF: encuesta sobre gasto de los hogares españoles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imaciones del gasto (agregado) de consumo anual de los hogares para el conjunto nacional y para las comunidades autónomas, así como su clasificación según diversas variables del hog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imación del cambio interanual del gasto (agregado) de consumo para el conjunto nacional y para las comunidades autóno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imación del consumo en cantidades físicas de determinados bienes alimenticios para el conjunto n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estimación del gasto como instrumento para la obtención del consumo privado en la Contabilidad N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estimación de la estructura de ponderaciones a partir del gasto necesaria para el cálculo del IP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23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395280" y="500256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8ed5"/>
                </a:solidFill>
                <a:latin typeface="Arial"/>
                <a:ea typeface="Arial"/>
              </a:rPr>
              <a:t>Registros administr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Encuestas (y cens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59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2 Rectángulo"/>
          <p:cNvSpPr/>
          <p:nvPr/>
        </p:nvSpPr>
        <p:spPr>
          <a:xfrm>
            <a:off x="260280" y="1197000"/>
            <a:ext cx="8559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kinson, Rainwater y Smeeding (1995) en su trabajo 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come distribution in OECD countries: evidence from the Luxembourg Income Stu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alizaron la distribución de la renta de varios países y presentaron el tipo de fuente que mejor se aproximaba a los ingresos verdaderos hasta mostrar el siguiente ranki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ngresos de datos administr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ngresos tribu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ngresos de encues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di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Re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Nosotros vemos dos grandes grup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8"/>
          <p:cNvSpPr/>
          <p:nvPr/>
        </p:nvSpPr>
        <p:spPr>
          <a:xfrm>
            <a:off x="260280" y="12700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ENCUESTAS EN LOS MSM DEL 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7 Rectángulo"/>
          <p:cNvSpPr/>
          <p:nvPr/>
        </p:nvSpPr>
        <p:spPr>
          <a:xfrm>
            <a:off x="250920" y="1878120"/>
            <a:ext cx="7170480" cy="48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Los doce grandes grupos de la COICOP: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1. Alimentos y bebidas no alcohól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2. Bebidas alcohólicas, tabaco y narcót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3. Artículos de vestir y calz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4. Vivienda, agua, electricidad, gas y otros combusti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5. Mobiliario, equipamiento del hogar y gastos corrientes de conservación de la vivi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6. Salu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7. Transpor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8. Comunic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9. Ocio, espectáculos y cult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10. Enseñan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11. Hoteles, cafés y restaur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12. Otros bienes y servicio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28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8"/>
          <p:cNvSpPr/>
          <p:nvPr/>
        </p:nvSpPr>
        <p:spPr>
          <a:xfrm>
            <a:off x="260280" y="12700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Ejemplo para el grupo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32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34" name=""/>
          <p:cNvGraphicFramePr/>
          <p:nvPr/>
        </p:nvGraphicFramePr>
        <p:xfrm>
          <a:off x="1476360" y="1927080"/>
          <a:ext cx="5168880" cy="4526280"/>
        </p:xfrm>
        <a:graphic>
          <a:graphicData uri="http://schemas.openxmlformats.org/drawingml/2006/table">
            <a:tbl>
              <a:tblPr/>
              <a:tblGrid>
                <a:gridCol w="2754360"/>
                <a:gridCol w="604800"/>
                <a:gridCol w="603360"/>
                <a:gridCol w="603000"/>
                <a:gridCol w="603360"/>
              </a:tblGrid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cados y mariscos secos, ahumados o salado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1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escados y mariscos procesados o conservados y preparados de pescados y marisco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che entera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che semidescremada y descremada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che conservada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gures y leches fermentada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so y requesón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roductos a base de leche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4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evo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tequilla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garina y otras grasas vegetale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eite de Oliva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aceites comestible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as grasas animale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ítricos (frescos, refrigerados o congelados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átanos (frescos, refrigerados o congelados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zanas (frescas refrigeradas o congeladas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as ( frescas, refrigeradas o congeladas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utas con hueso (frescas, refrigeradas o congeladas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eituna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yas (frescas, refrigeradas o congeladas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as frutas (frescas, refrigeradas o congeladas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utos seco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utas preparadas y en conserv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talizas de hoja o de tallo (frescas o refrigeradas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es (frescas o refrigeradas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talizas cultivadas por su fruto (frescas o refrigeradas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1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talizas con raíz o bulbo y setas (frescas o refrigeradas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1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8"/>
          <p:cNvSpPr/>
          <p:nvPr/>
        </p:nvSpPr>
        <p:spPr>
          <a:xfrm>
            <a:off x="222120" y="1437840"/>
            <a:ext cx="8136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as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acterísticas del hogar (número de miembros, región, tipo de vivienda, tipo de hogar según estructura de edades, situación económica y de actividad del sustentador principal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r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ast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37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34 Rectángulo"/>
          <p:cNvSpPr/>
          <p:nvPr/>
        </p:nvSpPr>
        <p:spPr>
          <a:xfrm>
            <a:off x="1639800" y="1166760"/>
            <a:ext cx="49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Su uso para los MSM en el 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5 Rectángulo"/>
          <p:cNvSpPr/>
          <p:nvPr/>
        </p:nvSpPr>
        <p:spPr>
          <a:xfrm>
            <a:off x="500040" y="2276640"/>
            <a:ext cx="7286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La ECPF 2006 se ha utilizado en el IEF como base de datos de entrada del microsimulador del Impuesto sobre el Valor Añadido (IVA), parte del microsimulador TaxSim_IEF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42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34 Rectángulo"/>
          <p:cNvSpPr/>
          <p:nvPr/>
        </p:nvSpPr>
        <p:spPr>
          <a:xfrm>
            <a:off x="2719440" y="549360"/>
            <a:ext cx="22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Nota de pren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46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8" name="Picture 2" descr=""/>
          <p:cNvPicPr/>
          <p:nvPr/>
        </p:nvPicPr>
        <p:blipFill>
          <a:blip r:embed="rId3"/>
          <a:stretch/>
        </p:blipFill>
        <p:spPr>
          <a:xfrm>
            <a:off x="684360" y="1204920"/>
            <a:ext cx="772452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34 Rectángulo"/>
          <p:cNvSpPr/>
          <p:nvPr/>
        </p:nvSpPr>
        <p:spPr>
          <a:xfrm>
            <a:off x="1639800" y="1166760"/>
            <a:ext cx="49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Encuestas a hogares en 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51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3" name="Picture 7" descr=""/>
          <p:cNvPicPr/>
          <p:nvPr/>
        </p:nvPicPr>
        <p:blipFill>
          <a:blip r:embed="rId3"/>
          <a:stretch/>
        </p:blipFill>
        <p:spPr>
          <a:xfrm>
            <a:off x="324000" y="1650960"/>
            <a:ext cx="869148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34 Rectángulo"/>
          <p:cNvSpPr/>
          <p:nvPr/>
        </p:nvSpPr>
        <p:spPr>
          <a:xfrm>
            <a:off x="1639800" y="1166760"/>
            <a:ext cx="49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Encuestas a hogares en 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56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8" name="Picture 3" descr=""/>
          <p:cNvPicPr/>
          <p:nvPr/>
        </p:nvPicPr>
        <p:blipFill>
          <a:blip r:embed="rId3"/>
          <a:stretch/>
        </p:blipFill>
        <p:spPr>
          <a:xfrm>
            <a:off x="574560" y="1844640"/>
            <a:ext cx="80298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60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3 Rectángulo"/>
          <p:cNvSpPr/>
          <p:nvPr/>
        </p:nvSpPr>
        <p:spPr>
          <a:xfrm>
            <a:off x="457200" y="1357200"/>
            <a:ext cx="80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INTRODUCCIÓN A LA MICROSIMULACIÓ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 utilización de datos desagregados referidos a distintas unidades para realizar modificaciones en el contexto que afecta a dichas unidades y comprobar cuáles son las consecuenci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1 Grupo"/>
          <p:cNvGrpSpPr/>
          <p:nvPr/>
        </p:nvGrpSpPr>
        <p:grpSpPr>
          <a:xfrm>
            <a:off x="2584440" y="2637000"/>
            <a:ext cx="3240000" cy="3165480"/>
            <a:chOff x="2584440" y="2637000"/>
            <a:chExt cx="3240000" cy="3165480"/>
          </a:xfrm>
        </p:grpSpPr>
        <p:sp>
          <p:nvSpPr>
            <p:cNvPr id="264" name="9 Rectángulo redondeado"/>
            <p:cNvSpPr/>
            <p:nvPr/>
          </p:nvSpPr>
          <p:spPr>
            <a:xfrm>
              <a:off x="2815200" y="2637000"/>
              <a:ext cx="2720880" cy="8571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10 Rectángulo redondeado"/>
            <p:cNvSpPr/>
            <p:nvPr/>
          </p:nvSpPr>
          <p:spPr>
            <a:xfrm>
              <a:off x="2800800" y="3929040"/>
              <a:ext cx="2734920" cy="8586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11 Rectángulo redondeado"/>
            <p:cNvSpPr/>
            <p:nvPr/>
          </p:nvSpPr>
          <p:spPr>
            <a:xfrm>
              <a:off x="2800800" y="5297760"/>
              <a:ext cx="2734920" cy="504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7 CuadroTexto"/>
            <p:cNvSpPr/>
            <p:nvPr/>
          </p:nvSpPr>
          <p:spPr>
            <a:xfrm>
              <a:off x="2958120" y="2717640"/>
              <a:ext cx="236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icrodatos: individuos/empres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9 CuadroTexto"/>
            <p:cNvSpPr/>
            <p:nvPr/>
          </p:nvSpPr>
          <p:spPr>
            <a:xfrm>
              <a:off x="2584440" y="4001400"/>
              <a:ext cx="324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odificación contexto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mpuestos/prestacion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10 CuadroTexto"/>
            <p:cNvSpPr/>
            <p:nvPr/>
          </p:nvSpPr>
          <p:spPr>
            <a:xfrm>
              <a:off x="3232440" y="5370480"/>
              <a:ext cx="192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onsecuen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15 Flecha abajo"/>
            <p:cNvSpPr/>
            <p:nvPr/>
          </p:nvSpPr>
          <p:spPr>
            <a:xfrm>
              <a:off x="3951720" y="3565440"/>
              <a:ext cx="285480" cy="2854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16 Flecha abajo"/>
            <p:cNvSpPr/>
            <p:nvPr/>
          </p:nvSpPr>
          <p:spPr>
            <a:xfrm>
              <a:off x="3951720" y="4940640"/>
              <a:ext cx="285480" cy="2854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73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3 Rectángulo"/>
          <p:cNvSpPr/>
          <p:nvPr/>
        </p:nvSpPr>
        <p:spPr>
          <a:xfrm>
            <a:off x="457200" y="1357200"/>
            <a:ext cx="80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LASIFICACIÓN M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3 CuadroTexto"/>
          <p:cNvSpPr/>
          <p:nvPr/>
        </p:nvSpPr>
        <p:spPr>
          <a:xfrm>
            <a:off x="179280" y="2133720"/>
            <a:ext cx="878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ARITMETICOS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--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ESTATICOS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--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DINAM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EQUILIBRIO PARCIAL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--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EQUILIBRIO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78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" name="3 Rectángulo"/>
          <p:cNvSpPr/>
          <p:nvPr/>
        </p:nvSpPr>
        <p:spPr>
          <a:xfrm>
            <a:off x="457200" y="1357200"/>
            <a:ext cx="80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LASIFICACIÓN MSM (EJEMPL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3 CuadroTexto"/>
          <p:cNvSpPr/>
          <p:nvPr/>
        </p:nvSpPr>
        <p:spPr>
          <a:xfrm>
            <a:off x="250920" y="2057400"/>
            <a:ext cx="8137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Trabajadores: IRPF, cotizaciones a la SS, prestacion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Consumidores: IVA e II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Empresas: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Estudiantes: becas de est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Jubilados: pensiones públicas y privadas, fiscalidad del ahorro, crecimiento de sal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20680" y="2205000"/>
          <a:ext cx="7880400" cy="2444760"/>
        </p:xfrm>
        <a:graphic>
          <a:graphicData uri="http://schemas.openxmlformats.org/drawingml/2006/table">
            <a:tbl>
              <a:tblPr/>
              <a:tblGrid>
                <a:gridCol w="1390680"/>
                <a:gridCol w="679320"/>
                <a:gridCol w="943200"/>
                <a:gridCol w="1218960"/>
                <a:gridCol w="1127160"/>
                <a:gridCol w="1008000"/>
                <a:gridCol w="151308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clar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g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nta del tra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ntas del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A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nancias y pérdidas patrimon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382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d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0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382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li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0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60,0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382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Rio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,0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0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382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r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0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</a:tbl>
          </a:graphicData>
        </a:graphic>
      </p:graphicFrame>
      <p:sp>
        <p:nvSpPr>
          <p:cNvPr id="63" name="Rectangle 8"/>
          <p:cNvSpPr/>
          <p:nvPr/>
        </p:nvSpPr>
        <p:spPr>
          <a:xfrm>
            <a:off x="260280" y="120888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b0f0"/>
                </a:solidFill>
                <a:latin typeface="Calibri"/>
                <a:ea typeface="Arial"/>
              </a:rPr>
              <a:t>REGISTROS ADMINISTRATIV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2 CuadroTexto"/>
          <p:cNvSpPr/>
          <p:nvPr/>
        </p:nvSpPr>
        <p:spPr>
          <a:xfrm>
            <a:off x="260280" y="5229360"/>
            <a:ext cx="78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atos de la autoridad fiscal (supuesto invent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8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66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83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3 Rectángulo"/>
          <p:cNvSpPr/>
          <p:nvPr/>
        </p:nvSpPr>
        <p:spPr>
          <a:xfrm>
            <a:off x="457200" y="1357200"/>
            <a:ext cx="80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L ORIGEN DE LOS M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7 Rectángulo"/>
          <p:cNvSpPr/>
          <p:nvPr/>
        </p:nvSpPr>
        <p:spPr>
          <a:xfrm>
            <a:off x="468360" y="197316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Los primeros modelos de MSM los elabora Guy Orcutt en Estados Unidos a finales de los años 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A partir de los 80 se generaliza su uso gracias a la aparición de micro datos con información referente a individuos, empresas, etc., así como el desarrollo de ordenadores más pot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Son los países anglosajones los primeros en desarrollar estas técnicas, aunque en Europa también Alemania y Fran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88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3 Rectángulo"/>
          <p:cNvSpPr/>
          <p:nvPr/>
        </p:nvSpPr>
        <p:spPr>
          <a:xfrm>
            <a:off x="457200" y="1125360"/>
            <a:ext cx="80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LGUNOS M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8 Grupo"/>
          <p:cNvGrpSpPr/>
          <p:nvPr/>
        </p:nvGrpSpPr>
        <p:grpSpPr>
          <a:xfrm>
            <a:off x="1187280" y="2060640"/>
            <a:ext cx="6193080" cy="4032360"/>
            <a:chOff x="1187280" y="2060640"/>
            <a:chExt cx="6193080" cy="4032360"/>
          </a:xfrm>
        </p:grpSpPr>
        <p:sp>
          <p:nvSpPr>
            <p:cNvPr id="292" name="4 CuadroTexto"/>
            <p:cNvSpPr/>
            <p:nvPr/>
          </p:nvSpPr>
          <p:spPr>
            <a:xfrm>
              <a:off x="2699280" y="2060640"/>
              <a:ext cx="468108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SPASI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c00000"/>
                  </a:solidFill>
                  <a:latin typeface="Calibri"/>
                  <a:ea typeface="Arial"/>
                </a:rPr>
                <a:t>EUROMO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GLADHISPANIA -&gt; SimFBBVA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INDIEF, SIRPIE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NCASI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icrosim IE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c00000"/>
                  </a:solidFill>
                  <a:latin typeface="Calibri"/>
                  <a:ea typeface="Arial"/>
                </a:rPr>
                <a:t>TAXSIM-IE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c00000"/>
                  </a:solidFill>
                  <a:latin typeface="Calibri"/>
                  <a:ea typeface="Arial"/>
                </a:rPr>
                <a:t>TAXFI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3" name="6 Imagen" descr="en_construccion.JPG"/>
            <p:cNvPicPr/>
            <p:nvPr/>
          </p:nvPicPr>
          <p:blipFill>
            <a:blip r:embed="rId3"/>
            <a:stretch/>
          </p:blipFill>
          <p:spPr>
            <a:xfrm>
              <a:off x="1187280" y="4509000"/>
              <a:ext cx="1584360" cy="158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295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3 Rectángulo"/>
          <p:cNvSpPr/>
          <p:nvPr/>
        </p:nvSpPr>
        <p:spPr>
          <a:xfrm>
            <a:off x="457200" y="1125360"/>
            <a:ext cx="80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NLACES DE INTE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4 CuadroTexto"/>
          <p:cNvSpPr/>
          <p:nvPr/>
        </p:nvSpPr>
        <p:spPr>
          <a:xfrm>
            <a:off x="755640" y="1773360"/>
            <a:ext cx="727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MA: International Microsimulation Asso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3"/>
              </a:rPr>
              <a:t>http://www.microsimulation.org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FS: Institute for Fiscal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4"/>
              </a:rPr>
              <a:t>http://www.ifs.org.uk/publications/57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EUROM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5"/>
              </a:rPr>
              <a:t>http://www.iser.essex.ac.uk/research/eurom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6"/>
              </a:rPr>
              <a:t>http://www.ief.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(</a:t>
            </a:r>
            <a:r>
              <a:rPr b="0" lang="es-E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7"/>
              </a:rPr>
              <a:t>http://www.ief.es/documentos/recursos/publicaciones/documentos_trabajo/2011_16.pdf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300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2" name="3 Rectángulo"/>
          <p:cNvSpPr/>
          <p:nvPr/>
        </p:nvSpPr>
        <p:spPr>
          <a:xfrm>
            <a:off x="457200" y="1125360"/>
            <a:ext cx="80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PASOS A SEGUIR PARA SU CON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4 CuadroTexto"/>
          <p:cNvSpPr/>
          <p:nvPr/>
        </p:nvSpPr>
        <p:spPr>
          <a:xfrm>
            <a:off x="285840" y="1987560"/>
            <a:ext cx="8389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Disponibilidad de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datos desagregado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, o microdatos (creación de nuevas variables cuando sea necesario – imputaci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Actualización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de los datos (al menos en términos monetar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Conocimiento de l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normativa vigente y simulad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(parámetros que caracterizan la simulación y la situación con la que se compa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Software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adecuado para realización de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simul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Fase de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esti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Fase de sim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Validación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de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Aplicación fácil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de utilizar (prescindible si su uso no se divulg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305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7" name="3 Rectángulo"/>
          <p:cNvSpPr/>
          <p:nvPr/>
        </p:nvSpPr>
        <p:spPr>
          <a:xfrm>
            <a:off x="457200" y="1125360"/>
            <a:ext cx="80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VENTAJAS DE ESTOS MODE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4 CuadroTexto"/>
          <p:cNvSpPr/>
          <p:nvPr/>
        </p:nvSpPr>
        <p:spPr>
          <a:xfrm>
            <a:off x="285840" y="1700280"/>
            <a:ext cx="8389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Captura la heterogeneidad de los datos – pero permite hacer agregaciones mac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Identifica a los ganadores y perdedores de una re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Permite el análisis más focalizado de una posible re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Hoy en día se pueden hacer infinidad de cálculos gracias al avance de equipos muy potentes, la disponibilidad de BBDD tanto de origen administrativo como de encuesta y gracias al desarrollo de software estadís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34 Rectángulo"/>
          <p:cNvSpPr/>
          <p:nvPr/>
        </p:nvSpPr>
        <p:spPr>
          <a:xfrm>
            <a:off x="2057400" y="1916280"/>
            <a:ext cx="532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a50021"/>
                </a:solidFill>
                <a:latin typeface="Times New Roman"/>
                <a:ea typeface="Arial"/>
              </a:rPr>
              <a:t>¿Modelos de microsimulación en Argentina? 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311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34 Rectángulo"/>
          <p:cNvSpPr/>
          <p:nvPr/>
        </p:nvSpPr>
        <p:spPr>
          <a:xfrm>
            <a:off x="324000" y="1341360"/>
            <a:ext cx="504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a50021"/>
                </a:solidFill>
                <a:latin typeface="Times New Roman"/>
                <a:ea typeface="Arial"/>
              </a:rPr>
              <a:t>Matching entre ECV y EPF para un trabajo liderado por el IFS sobre “</a:t>
            </a:r>
            <a:r>
              <a:rPr b="1" i="1" lang="es-ES_tradnl" sz="3200" spc="-1" strike="noStrike">
                <a:solidFill>
                  <a:srgbClr val="a50021"/>
                </a:solidFill>
                <a:latin typeface="Times New Roman"/>
                <a:ea typeface="Arial"/>
              </a:rPr>
              <a:t>fiscal devaluation</a:t>
            </a:r>
            <a:r>
              <a:rPr b="1" lang="es-ES_tradnl" sz="3200" spc="-1" strike="noStrike">
                <a:solidFill>
                  <a:srgbClr val="a50021"/>
                </a:solidFill>
                <a:latin typeface="Times New Roman"/>
                <a:ea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315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7" name="Picture 3" descr=""/>
          <p:cNvPicPr/>
          <p:nvPr/>
        </p:nvPicPr>
        <p:blipFill>
          <a:blip r:embed="rId3"/>
          <a:srcRect l="26740" t="6592" r="27345" b="6983"/>
          <a:stretch/>
        </p:blipFill>
        <p:spPr>
          <a:xfrm>
            <a:off x="5572080" y="1433520"/>
            <a:ext cx="3429000" cy="5164200"/>
          </a:xfrm>
          <a:prstGeom prst="rect">
            <a:avLst/>
          </a:prstGeom>
          <a:ln w="0">
            <a:noFill/>
          </a:ln>
        </p:spPr>
      </p:pic>
      <p:sp>
        <p:nvSpPr>
          <p:cNvPr id="318" name="6 CuadroTexto"/>
          <p:cNvSpPr/>
          <p:nvPr/>
        </p:nvSpPr>
        <p:spPr>
          <a:xfrm>
            <a:off x="79200" y="3645000"/>
            <a:ext cx="542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Año del trabajo: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Países  comparados: Francia, Italia, Austria y Espa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Objetivo: análisis distributivo de medidas de devaluación fis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34 Rectángulo"/>
          <p:cNvSpPr/>
          <p:nvPr/>
        </p:nvSpPr>
        <p:spPr>
          <a:xfrm>
            <a:off x="324000" y="11970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Matching entre ECV y EPF para un trabajo liderado por el IFS sobre “</a:t>
            </a:r>
            <a:r>
              <a:rPr b="1" i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fiscal devaluation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321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7 CuadroTexto"/>
          <p:cNvSpPr/>
          <p:nvPr/>
        </p:nvSpPr>
        <p:spPr>
          <a:xfrm>
            <a:off x="324000" y="2135160"/>
            <a:ext cx="8215200" cy="63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Políticas internas que imitan los efectos de una devalu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Ejemplo típico: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reducción de las cotizaciones sociales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de los empleadores financiada con una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subida del IVA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- Con una tasa salarial rígida, desciende el coste laboral, mejora la competitividad (aumentan exportaciones y bajan importacione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Al mismo tiempo, un IVA más elevado o sobre una base más extensa reduce el consumo y las importaciones sin impactar sobre las exportaciones (Criterio de país de desti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No se trata de una reforma con finalidad redistributiva, pero los efectos sobre la redistribución import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34 Rectángulo"/>
          <p:cNvSpPr/>
          <p:nvPr/>
        </p:nvSpPr>
        <p:spPr>
          <a:xfrm>
            <a:off x="324000" y="11970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Matching entre ECV y EPF para un trabajo liderado por el IFS sobre “</a:t>
            </a:r>
            <a:r>
              <a:rPr b="1" i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fiscal devaluation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326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8" name="6 CuadroTexto"/>
          <p:cNvSpPr/>
          <p:nvPr/>
        </p:nvSpPr>
        <p:spPr>
          <a:xfrm>
            <a:off x="285840" y="2243160"/>
            <a:ext cx="8572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aramond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Traslación total del incremento del IVA al consumid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Actualización de las prestaciones conforme al incremento causado por el 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eutralidad recaud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o respuesta (oferta labo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corto plazo se incentiva el empleo por el menor coste para el empleador, pero a largo plazo se produce una traslación a salarios en la misma cuantía de la disminución de las cotiz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34 Rectángulo"/>
          <p:cNvSpPr/>
          <p:nvPr/>
        </p:nvSpPr>
        <p:spPr>
          <a:xfrm>
            <a:off x="324000" y="11970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Matching entre ECV y EPF para un trabajo liderado por el IFS sobre “</a:t>
            </a:r>
            <a:r>
              <a:rPr b="1" i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fiscal devaluation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331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6 CuadroTexto"/>
          <p:cNvSpPr/>
          <p:nvPr/>
        </p:nvSpPr>
        <p:spPr>
          <a:xfrm>
            <a:off x="285840" y="2243160"/>
            <a:ext cx="8572320" cy="457056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D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o se cuenta con base de datos que incluya consumo y renta de las familias. </a:t>
            </a:r>
            <a:r>
              <a:rPr b="1" lang="es-ES" sz="1800" spc="-1" strike="noStrike">
                <a:solidFill>
                  <a:srgbClr val="c00000"/>
                </a:solidFill>
                <a:latin typeface="Garamond"/>
              </a:rPr>
              <a:t>Se realiza un </a:t>
            </a:r>
            <a:r>
              <a:rPr b="1" i="1" lang="es-ES" sz="1800" spc="-1" strike="noStrike">
                <a:solidFill>
                  <a:srgbClr val="c00000"/>
                </a:solidFill>
                <a:latin typeface="Garamond"/>
              </a:rPr>
              <a:t>matching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 por grupos a partir de características relevantes (ECV+EP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Referencia: situación en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Las variables utilizad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Área de residencia ( 6 ): </a:t>
            </a:r>
            <a:r>
              <a:rPr b="0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Noroeste, Nordeste, Comunidad de Madrid, Centro, Este y S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Tipo de hogar ( 3 ): </a:t>
            </a:r>
            <a:r>
              <a:rPr b="0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Solteros, Parejas sin hijos y Parejas con hij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Nivel de estudios del sustentador principa</a:t>
            </a:r>
            <a:r>
              <a:rPr b="0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l </a:t>
            </a:r>
            <a:r>
              <a:rPr b="1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( 3 ) :</a:t>
            </a:r>
            <a:r>
              <a:rPr b="0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 Sin estudios, Educación secundaria y educación superi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Edad del sustentador principal</a:t>
            </a:r>
            <a:r>
              <a:rPr b="0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( 2 ): </a:t>
            </a:r>
            <a:r>
              <a:rPr b="0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Hasta 45 años y Más de 45 añ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Situación laboral del sustentador principal ( 2 ): </a:t>
            </a:r>
            <a:r>
              <a:rPr b="0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Activo e Inacti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Régimen de tenencia de la vivienda habitual ( 2 ): </a:t>
            </a:r>
            <a:r>
              <a:rPr b="0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Propiedad y Alqui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Nivel de renta ( 2 ): </a:t>
            </a:r>
            <a:r>
              <a:rPr b="0" lang="es-ES" sz="1600" spc="-1" strike="noStrike">
                <a:solidFill>
                  <a:srgbClr val="000000"/>
                </a:solidFill>
                <a:latin typeface="Garamond"/>
                <a:ea typeface="Arial"/>
              </a:rPr>
              <a:t>Inferior a la mediana y Superior a la media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8"/>
          <p:cNvSpPr/>
          <p:nvPr/>
        </p:nvSpPr>
        <p:spPr>
          <a:xfrm>
            <a:off x="260280" y="120888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  <a:ea typeface="Arial"/>
              </a:rPr>
              <a:t>ENCUE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08000" y="2133720"/>
          <a:ext cx="7993080" cy="2444760"/>
        </p:xfrm>
        <a:graphic>
          <a:graphicData uri="http://schemas.openxmlformats.org/drawingml/2006/table">
            <a:tbl>
              <a:tblPr/>
              <a:tblGrid>
                <a:gridCol w="1152360"/>
                <a:gridCol w="650880"/>
                <a:gridCol w="682560"/>
                <a:gridCol w="930600"/>
                <a:gridCol w="1128600"/>
                <a:gridCol w="1130400"/>
                <a:gridCol w="930240"/>
                <a:gridCol w="138744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vidu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x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g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nta del tra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nsión de jubil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dto.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. Horas tra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82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h/s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82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0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5 h/s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82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0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82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sp>
        <p:nvSpPr>
          <p:cNvPr id="70" name="11 CuadroTexto"/>
          <p:cNvSpPr/>
          <p:nvPr/>
        </p:nvSpPr>
        <p:spPr>
          <a:xfrm>
            <a:off x="260280" y="5229360"/>
            <a:ext cx="78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atos de encuesta (supuesto invent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8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72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8"/>
          <p:cNvSpPr/>
          <p:nvPr/>
        </p:nvSpPr>
        <p:spPr>
          <a:xfrm>
            <a:off x="468360" y="2428200"/>
            <a:ext cx="76039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0033"/>
                </a:solidFill>
                <a:latin typeface="Arial"/>
                <a:ea typeface="Arial"/>
              </a:rPr>
              <a:t>Gracias por su aten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33"/>
                </a:solidFill>
                <a:latin typeface="Arial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33"/>
                </a:solidFill>
                <a:latin typeface="Arial"/>
                <a:ea typeface="Arial"/>
              </a:rPr>
              <a:t>milagros.paniagua@ief.minhap.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6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336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8"/>
          <p:cNvSpPr/>
          <p:nvPr/>
        </p:nvSpPr>
        <p:spPr>
          <a:xfrm>
            <a:off x="260280" y="12700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REGISTROS ADMINISTRATIVOS - CARACTERÍS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1 CuadroTexto"/>
          <p:cNvSpPr/>
          <p:nvPr/>
        </p:nvSpPr>
        <p:spPr>
          <a:xfrm>
            <a:off x="260280" y="1844640"/>
            <a:ext cx="784080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Fuente de datos estadísticos al igual que encuestas y cen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rincipal diferencia con ellos: criterios normativos que establece el encargado de diseñar el registro administrativo (para realizar una encuesta y/o censo se siguen criterios estadístic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iseño más relacionado con la gestión que con la explotación: planificación, seguimiento y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on numerosos los registros administrativos existentes con información referida a individuos, empresas, instituciones, municipio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Bajo coste – generalmente no existen costes asociados a los trabajos de ca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 general tienen una menor carga para los informantes que las encue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77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8"/>
          <p:cNvSpPr/>
          <p:nvPr/>
        </p:nvSpPr>
        <p:spPr>
          <a:xfrm>
            <a:off x="260280" y="12700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REGISTROS ADMINISTRATIVOS - CARACTERÍS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1 CuadroTexto"/>
          <p:cNvSpPr/>
          <p:nvPr/>
        </p:nvSpPr>
        <p:spPr>
          <a:xfrm>
            <a:off x="260280" y="1844640"/>
            <a:ext cx="7840800" cy="51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 existir transparencia entre las Instituciones públicas, el flujo de información entre ellas permitiría un ahorro impor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No existen errores de muestreo salvo que se tome una muestra del registro (ejemplo: MCVL de la Seguridad Social y muestra de declarantes de IRPF del IFE) y entre los errores ajenos al muestreo, la falta de respuesta es menor que en las encue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sagregación a nivel subpob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Falta de correspondencia entre unidades estadísticas y administrativas, así como códigos y perío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ás vinculados a la política que los datos de encu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82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260280" y="12700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DATOS DE ENCUESTA - CARACTERÍS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1 CuadroTexto"/>
          <p:cNvSpPr/>
          <p:nvPr/>
        </p:nvSpPr>
        <p:spPr>
          <a:xfrm>
            <a:off x="260280" y="1844640"/>
            <a:ext cx="7840800" cy="39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egún la RAE: “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njunto de preguntas tipificadas dirigidas a una muestra representativa, para averiguar estados de opinión o diversas cuestiones de hech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ermite tener información de la población objeto de estudio para aquellos ámbitos donde los registros administrativos no son sufic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Gran capacidad para estandarizar datos, que se traduce en un buen tratamiento informático y en análisis estadí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7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87" name="Picture 7" descr="logoief"/>
            <p:cNvPicPr/>
            <p:nvPr/>
          </p:nvPicPr>
          <p:blipFill>
            <a:blip r:embed="rId1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0 Imagen" descr="logo_eurosocial_rgb.jpg"/>
            <p:cNvPicPr/>
            <p:nvPr/>
          </p:nvPicPr>
          <p:blipFill>
            <a:blip r:embed="rId2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260280" y="12700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DATOS DE ENCUESTA Y REGISTROS AD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6 Grupo"/>
          <p:cNvGrpSpPr/>
          <p:nvPr/>
        </p:nvGrpSpPr>
        <p:grpSpPr>
          <a:xfrm>
            <a:off x="222120" y="1916280"/>
            <a:ext cx="7662960" cy="4367160"/>
            <a:chOff x="222120" y="1916280"/>
            <a:chExt cx="7662960" cy="4367160"/>
          </a:xfrm>
        </p:grpSpPr>
        <p:sp>
          <p:nvSpPr>
            <p:cNvPr id="91" name="1 CuadroTexto"/>
            <p:cNvSpPr/>
            <p:nvPr/>
          </p:nvSpPr>
          <p:spPr>
            <a:xfrm>
              <a:off x="2823480" y="1916280"/>
              <a:ext cx="186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tuación ide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2 Imagen" descr=""/>
            <p:cNvPicPr/>
            <p:nvPr/>
          </p:nvPicPr>
          <p:blipFill>
            <a:blip r:embed="rId1"/>
            <a:stretch/>
          </p:blipFill>
          <p:spPr>
            <a:xfrm>
              <a:off x="3126240" y="4771440"/>
              <a:ext cx="1416600" cy="151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3 Imagen" descr=""/>
            <p:cNvPicPr/>
            <p:nvPr/>
          </p:nvPicPr>
          <p:blipFill>
            <a:blip r:embed="rId2"/>
            <a:stretch/>
          </p:blipFill>
          <p:spPr>
            <a:xfrm>
              <a:off x="2823480" y="2501640"/>
              <a:ext cx="2046600" cy="123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4 Imagen" descr=""/>
            <p:cNvPicPr/>
            <p:nvPr/>
          </p:nvPicPr>
          <p:blipFill>
            <a:blip r:embed="rId3"/>
            <a:stretch/>
          </p:blipFill>
          <p:spPr>
            <a:xfrm>
              <a:off x="6274800" y="3293640"/>
              <a:ext cx="1610280" cy="17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5 Imagen" descr=""/>
            <p:cNvPicPr/>
            <p:nvPr/>
          </p:nvPicPr>
          <p:blipFill>
            <a:blip r:embed="rId4"/>
            <a:stretch/>
          </p:blipFill>
          <p:spPr>
            <a:xfrm>
              <a:off x="222120" y="3437640"/>
              <a:ext cx="1515600" cy="151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10 Flecha curvada hacia la derecha"/>
            <p:cNvSpPr/>
            <p:nvPr/>
          </p:nvSpPr>
          <p:spPr>
            <a:xfrm>
              <a:off x="1882440" y="3117960"/>
              <a:ext cx="787320" cy="2335320"/>
            </a:xfrm>
            <a:custGeom>
              <a:avLst/>
              <a:gdLst>
                <a:gd name="textAreaLeft" fmla="*/ 105480 w 787320"/>
                <a:gd name="textAreaRight" fmla="*/ 681840 w 787320"/>
                <a:gd name="textAreaTop" fmla="*/ 509760 h 2335320"/>
                <a:gd name="textAreaBottom" fmla="*/ 1726920 h 233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435" stAng="-5400000" swAng="-5400000"/>
                  <a:lnTo>
                    <a:pt x="0" y="11256"/>
                  </a:lnTo>
                  <a:arcTo wR="21600" hR="9435" stAng="10800000" swAng="-3564662"/>
                  <a:lnTo>
                    <a:pt x="16200" y="21300"/>
                  </a:lnTo>
                  <a:lnTo>
                    <a:pt x="21600" y="19780"/>
                  </a:lnTo>
                  <a:lnTo>
                    <a:pt x="16200" y="17659"/>
                  </a:lnTo>
                  <a:lnTo>
                    <a:pt x="16200" y="18569"/>
                  </a:lnTo>
                  <a:arcTo wR="21600" hR="9435" stAng="7235338" swAng="3419159"/>
                  <a:lnTo>
                    <a:pt x="101" y="10345"/>
                  </a:lnTo>
                  <a:arcTo wR="21600" hR="9435" stAng="-10654497" swAng="5254497"/>
                  <a:close/>
                </a:path>
                <a:path fill="darkenLess" w="21600" h="21600">
                  <a:moveTo>
                    <a:pt x="21600" y="0"/>
                  </a:moveTo>
                  <a:arcTo wR="21600" hR="9435" stAng="-5400000" swAng="-5400000"/>
                  <a:lnTo>
                    <a:pt x="0" y="9435"/>
                  </a:lnTo>
                  <a:arcTo wR="21600" hR="9435" stAng="10800000" swAng="-145503"/>
                  <a:lnTo>
                    <a:pt x="101" y="10345"/>
                  </a:lnTo>
                  <a:arcTo wR="21600" hR="9435" stAng="-10654497" swAng="5254497"/>
                  <a:close/>
                </a:path>
              </a:pathLst>
            </a:custGeom>
            <a:solidFill>
              <a:srgbClr val="953735"/>
            </a:solidFill>
            <a:ln w="255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12 Flecha curvada hacia la derecha"/>
            <p:cNvSpPr/>
            <p:nvPr/>
          </p:nvSpPr>
          <p:spPr>
            <a:xfrm rot="10800000">
              <a:off x="5046120" y="3117600"/>
              <a:ext cx="788760" cy="2335320"/>
            </a:xfrm>
            <a:custGeom>
              <a:avLst/>
              <a:gdLst>
                <a:gd name="textAreaLeft" fmla="*/ 105480 w 788760"/>
                <a:gd name="textAreaRight" fmla="*/ 683280 w 788760"/>
                <a:gd name="textAreaTop" fmla="*/ 509760 h 2335320"/>
                <a:gd name="textAreaBottom" fmla="*/ 1726920 h 233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432" stAng="-5400000" swAng="-5400000"/>
                  <a:lnTo>
                    <a:pt x="0" y="11257"/>
                  </a:lnTo>
                  <a:arcTo wR="21600" hR="9432" stAng="10800000" swAng="-3564183"/>
                  <a:lnTo>
                    <a:pt x="16200" y="21301"/>
                  </a:lnTo>
                  <a:lnTo>
                    <a:pt x="21600" y="19776"/>
                  </a:lnTo>
                  <a:lnTo>
                    <a:pt x="16200" y="17652"/>
                  </a:lnTo>
                  <a:lnTo>
                    <a:pt x="16200" y="18564"/>
                  </a:lnTo>
                  <a:arcTo wR="21600" hR="9432" stAng="7235817" swAng="3418357"/>
                  <a:lnTo>
                    <a:pt x="101" y="10344"/>
                  </a:lnTo>
                  <a:arcTo wR="21600" hR="9432" stAng="-10654174" swAng="5254174"/>
                  <a:close/>
                </a:path>
                <a:path fill="darkenLess" w="21600" h="21600">
                  <a:moveTo>
                    <a:pt x="21600" y="0"/>
                  </a:moveTo>
                  <a:arcTo wR="21600" hR="9432" stAng="-5400000" swAng="-5400000"/>
                  <a:lnTo>
                    <a:pt x="0" y="9432"/>
                  </a:lnTo>
                  <a:arcTo wR="21600" hR="9432" stAng="10800000" swAng="-145826"/>
                  <a:lnTo>
                    <a:pt x="101" y="10344"/>
                  </a:lnTo>
                  <a:arcTo wR="21600" hR="9432" stAng="-10654174" swAng="5254174"/>
                  <a:close/>
                </a:path>
              </a:pathLst>
            </a:custGeom>
            <a:solidFill>
              <a:srgbClr val="953735"/>
            </a:solidFill>
            <a:ln w="255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11 Flecha curvada hacia la izquierda"/>
            <p:cNvSpPr/>
            <p:nvPr/>
          </p:nvSpPr>
          <p:spPr>
            <a:xfrm rot="10800000">
              <a:off x="2021760" y="3567240"/>
              <a:ext cx="615960" cy="1311120"/>
            </a:xfrm>
            <a:custGeom>
              <a:avLst/>
              <a:gdLst>
                <a:gd name="textAreaLeft" fmla="*/ 82440 w 615960"/>
                <a:gd name="textAreaRight" fmla="*/ 533520 w 615960"/>
                <a:gd name="textAreaTop" fmla="*/ 270000 h 1311120"/>
                <a:gd name="textAreaBottom" fmla="*/ 964080 h 131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898" stAng="-5400000" swAng="5400000"/>
                  <a:lnTo>
                    <a:pt x="21600" y="11435"/>
                  </a:lnTo>
                  <a:arcTo wR="21600" hR="8898" stAng="0" swAng="3475191"/>
                  <a:lnTo>
                    <a:pt x="5400" y="21317"/>
                  </a:lnTo>
                  <a:lnTo>
                    <a:pt x="0" y="19064"/>
                  </a:lnTo>
                  <a:lnTo>
                    <a:pt x="5400" y="16244"/>
                  </a:lnTo>
                  <a:lnTo>
                    <a:pt x="5400" y="17512"/>
                  </a:lnTo>
                  <a:arcTo wR="21600" hR="8898" stAng="3475191" swAng="-3271458"/>
                  <a:lnTo>
                    <a:pt x="21379" y="10166"/>
                  </a:lnTo>
                  <a:arcTo wR="21600" hR="8898" stAng="-203733" swAng="-5196267"/>
                  <a:close/>
                </a:path>
                <a:path fill="darkenLess" w="21600" h="21600">
                  <a:moveTo>
                    <a:pt x="0" y="0"/>
                  </a:moveTo>
                  <a:arcTo wR="21600" hR="8898" stAng="-5400000" swAng="5400000"/>
                  <a:lnTo>
                    <a:pt x="21600" y="11435"/>
                  </a:lnTo>
                  <a:arcTo wR="21600" hR="8898" stAng="0" swAng="-203733"/>
                  <a:lnTo>
                    <a:pt x="21379" y="10166"/>
                  </a:lnTo>
                  <a:arcTo wR="21600" hR="8898" stAng="-203733" swAng="-519626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15 Flecha curvada hacia la izquierda"/>
            <p:cNvSpPr/>
            <p:nvPr/>
          </p:nvSpPr>
          <p:spPr>
            <a:xfrm>
              <a:off x="5006880" y="3638520"/>
              <a:ext cx="615960" cy="1311120"/>
            </a:xfrm>
            <a:custGeom>
              <a:avLst/>
              <a:gdLst>
                <a:gd name="textAreaLeft" fmla="*/ 82440 w 615960"/>
                <a:gd name="textAreaRight" fmla="*/ 533520 w 615960"/>
                <a:gd name="textAreaTop" fmla="*/ 270000 h 1311120"/>
                <a:gd name="textAreaBottom" fmla="*/ 964080 h 131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898" stAng="-5400000" swAng="5400000"/>
                  <a:lnTo>
                    <a:pt x="21600" y="11435"/>
                  </a:lnTo>
                  <a:arcTo wR="21600" hR="8898" stAng="0" swAng="3475191"/>
                  <a:lnTo>
                    <a:pt x="5400" y="21317"/>
                  </a:lnTo>
                  <a:lnTo>
                    <a:pt x="0" y="19064"/>
                  </a:lnTo>
                  <a:lnTo>
                    <a:pt x="5400" y="16244"/>
                  </a:lnTo>
                  <a:lnTo>
                    <a:pt x="5400" y="17512"/>
                  </a:lnTo>
                  <a:arcTo wR="21600" hR="8898" stAng="3475191" swAng="-3271458"/>
                  <a:lnTo>
                    <a:pt x="21379" y="10166"/>
                  </a:lnTo>
                  <a:arcTo wR="21600" hR="8898" stAng="-203733" swAng="-5196267"/>
                  <a:close/>
                </a:path>
                <a:path fill="darkenLess" w="21600" h="21600">
                  <a:moveTo>
                    <a:pt x="0" y="0"/>
                  </a:moveTo>
                  <a:arcTo wR="21600" hR="8898" stAng="-5400000" swAng="5400000"/>
                  <a:lnTo>
                    <a:pt x="21600" y="11435"/>
                  </a:lnTo>
                  <a:arcTo wR="21600" hR="8898" stAng="0" swAng="-203733"/>
                  <a:lnTo>
                    <a:pt x="21379" y="10166"/>
                  </a:lnTo>
                  <a:arcTo wR="21600" hR="8898" stAng="-203733" swAng="-519626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14 Flecha izquierda y derecha"/>
            <p:cNvSpPr/>
            <p:nvPr/>
          </p:nvSpPr>
          <p:spPr>
            <a:xfrm rot="8743200">
              <a:off x="1523160" y="2930760"/>
              <a:ext cx="865080" cy="288720"/>
            </a:xfrm>
            <a:prstGeom prst="leftRightArrow">
              <a:avLst>
                <a:gd name="adj1" fmla="val 50000"/>
                <a:gd name="adj2" fmla="val 50034"/>
              </a:avLst>
            </a:prstGeom>
            <a:solidFill>
              <a:srgbClr val="c3d69b"/>
            </a:solidFill>
            <a:ln w="25560">
              <a:solidFill>
                <a:srgbClr val="c3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17 Flecha izquierda y derecha"/>
            <p:cNvSpPr/>
            <p:nvPr/>
          </p:nvSpPr>
          <p:spPr>
            <a:xfrm rot="8743200">
              <a:off x="5473440" y="5527800"/>
              <a:ext cx="863640" cy="288720"/>
            </a:xfrm>
            <a:prstGeom prst="leftRightArrow">
              <a:avLst>
                <a:gd name="adj1" fmla="val 50000"/>
                <a:gd name="adj2" fmla="val 50048"/>
              </a:avLst>
            </a:prstGeom>
            <a:solidFill>
              <a:srgbClr val="c3d69b"/>
            </a:solidFill>
            <a:ln w="25560">
              <a:solidFill>
                <a:srgbClr val="c3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18 Flecha izquierda y derecha"/>
            <p:cNvSpPr/>
            <p:nvPr/>
          </p:nvSpPr>
          <p:spPr>
            <a:xfrm rot="12631800">
              <a:off x="5449680" y="2930760"/>
              <a:ext cx="865080" cy="288720"/>
            </a:xfrm>
            <a:prstGeom prst="leftRightArrow">
              <a:avLst>
                <a:gd name="adj1" fmla="val 50000"/>
                <a:gd name="adj2" fmla="val 50034"/>
              </a:avLst>
            </a:prstGeom>
            <a:solidFill>
              <a:srgbClr val="c3d69b"/>
            </a:solidFill>
            <a:ln w="25560">
              <a:solidFill>
                <a:srgbClr val="c3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19 Flecha izquierda y derecha"/>
            <p:cNvSpPr/>
            <p:nvPr/>
          </p:nvSpPr>
          <p:spPr>
            <a:xfrm rot="12631800">
              <a:off x="1589760" y="5383080"/>
              <a:ext cx="863640" cy="287280"/>
            </a:xfrm>
            <a:prstGeom prst="leftRightArrow">
              <a:avLst>
                <a:gd name="adj1" fmla="val 50000"/>
                <a:gd name="adj2" fmla="val 50021"/>
              </a:avLst>
            </a:prstGeom>
            <a:solidFill>
              <a:srgbClr val="c3d69b"/>
            </a:solidFill>
            <a:ln w="25560">
              <a:solidFill>
                <a:srgbClr val="c3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20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105" name="Picture 7" descr="logoief"/>
            <p:cNvPicPr/>
            <p:nvPr/>
          </p:nvPicPr>
          <p:blipFill>
            <a:blip r:embed="rId5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0 Imagen" descr="logo_eurosocial_rgb.jpg"/>
            <p:cNvPicPr/>
            <p:nvPr/>
          </p:nvPicPr>
          <p:blipFill>
            <a:blip r:embed="rId6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260280" y="12700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DATOS DE ENCUESTA Y REGISTROS AD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20 CuadroTexto"/>
          <p:cNvSpPr/>
          <p:nvPr/>
        </p:nvSpPr>
        <p:spPr>
          <a:xfrm>
            <a:off x="260280" y="1916280"/>
            <a:ext cx="798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ituación real: matching (encuesta – encuesta, encuesta – reg. administrativo y reg. administrativo - reg. administrativo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13 Imagen" descr=""/>
          <p:cNvPicPr/>
          <p:nvPr/>
        </p:nvPicPr>
        <p:blipFill>
          <a:blip r:embed="rId1"/>
          <a:stretch/>
        </p:blipFill>
        <p:spPr>
          <a:xfrm>
            <a:off x="4933800" y="2732040"/>
            <a:ext cx="2590920" cy="2637000"/>
          </a:xfrm>
          <a:prstGeom prst="rect">
            <a:avLst/>
          </a:prstGeom>
          <a:ln w="0">
            <a:noFill/>
          </a:ln>
        </p:spPr>
      </p:pic>
      <p:pic>
        <p:nvPicPr>
          <p:cNvPr id="110" name="21 Imagen" descr=""/>
          <p:cNvPicPr/>
          <p:nvPr/>
        </p:nvPicPr>
        <p:blipFill>
          <a:blip r:embed="rId2"/>
          <a:stretch/>
        </p:blipFill>
        <p:spPr>
          <a:xfrm>
            <a:off x="468360" y="2833560"/>
            <a:ext cx="3610080" cy="2433600"/>
          </a:xfrm>
          <a:prstGeom prst="rect">
            <a:avLst/>
          </a:prstGeom>
          <a:ln w="0">
            <a:noFill/>
          </a:ln>
        </p:spPr>
      </p:pic>
      <p:sp>
        <p:nvSpPr>
          <p:cNvPr id="111" name="22 Flecha derecha"/>
          <p:cNvSpPr/>
          <p:nvPr/>
        </p:nvSpPr>
        <p:spPr>
          <a:xfrm>
            <a:off x="4253040" y="3500280"/>
            <a:ext cx="680760" cy="28908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24 Flecha derecha"/>
          <p:cNvSpPr/>
          <p:nvPr/>
        </p:nvSpPr>
        <p:spPr>
          <a:xfrm rot="10800000">
            <a:off x="4249800" y="3860280"/>
            <a:ext cx="682560" cy="28908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5 CuadroTexto"/>
          <p:cNvSpPr/>
          <p:nvPr/>
        </p:nvSpPr>
        <p:spPr>
          <a:xfrm>
            <a:off x="250920" y="5807160"/>
            <a:ext cx="79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as: dificultades técnicas y norm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12 Grupo"/>
          <p:cNvGrpSpPr/>
          <p:nvPr/>
        </p:nvGrpSpPr>
        <p:grpSpPr>
          <a:xfrm>
            <a:off x="222120" y="179280"/>
            <a:ext cx="8813880" cy="801720"/>
            <a:chOff x="222120" y="179280"/>
            <a:chExt cx="8813880" cy="801720"/>
          </a:xfrm>
        </p:grpSpPr>
        <p:pic>
          <p:nvPicPr>
            <p:cNvPr id="115" name="Picture 7" descr="logoief"/>
            <p:cNvPicPr/>
            <p:nvPr/>
          </p:nvPicPr>
          <p:blipFill>
            <a:blip r:embed="rId3"/>
            <a:stretch/>
          </p:blipFill>
          <p:spPr>
            <a:xfrm>
              <a:off x="222120" y="179280"/>
              <a:ext cx="165636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0 Imagen" descr="logo_eurosocial_rgb.jpg"/>
            <p:cNvPicPr/>
            <p:nvPr/>
          </p:nvPicPr>
          <p:blipFill>
            <a:blip r:embed="rId4"/>
            <a:stretch/>
          </p:blipFill>
          <p:spPr>
            <a:xfrm>
              <a:off x="5795640" y="179280"/>
              <a:ext cx="32403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09:33:56Z</dcterms:created>
  <dc:creator>Nbadenes</dc:creator>
  <dc:description/>
  <dc:language>en-US</dc:language>
  <cp:lastModifiedBy>mila</cp:lastModifiedBy>
  <cp:lastPrinted>2013-06-17T08:58:45Z</cp:lastPrinted>
  <dcterms:modified xsi:type="dcterms:W3CDTF">2015-06-13T10:26:38Z</dcterms:modified>
  <cp:revision>479</cp:revision>
  <dc:subject/>
  <dc:title>Diapositiva 1</dc:title>
</cp:coreProperties>
</file>