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1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38.jpeg" ContentType="image/jpeg"/>
  <Override PartName="/ppt/media/image17.wmf" ContentType="image/x-wmf"/>
  <Override PartName="/ppt/media/image13.wmf" ContentType="image/x-wmf"/>
  <Override PartName="/ppt/media/image10.jpeg" ContentType="image/jpeg"/>
  <Override PartName="/ppt/media/image30.wmf" ContentType="image/x-wmf"/>
  <Override PartName="/ppt/media/image32.wmf" ContentType="image/x-wmf"/>
  <Override PartName="/ppt/media/image7.wmf" ContentType="image/x-wmf"/>
  <Override PartName="/ppt/media/image33.png" ContentType="image/png"/>
  <Override PartName="/ppt/media/image8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7.png" ContentType="image/png"/>
  <Override PartName="/ppt/media/image9.wmf" ContentType="image/x-wmf"/>
  <Override PartName="/ppt/media/image39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14.wmf" ContentType="image/x-wmf"/>
  <Override PartName="/ppt/media/image28.wmf" ContentType="image/x-wmf"/>
  <Override PartName="/ppt/media/image3.jpeg" ContentType="image/jpeg"/>
  <Override PartName="/ppt/media/image2.png" ContentType="image/png"/>
  <Override PartName="/ppt/media/image1.jpeg" ContentType="image/jpeg"/>
  <Override PartName="/ppt/media/image26.wmf" ContentType="image/x-wmf"/>
  <Override PartName="/ppt/media/image5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A852-1C90-4DAD-A2B3-C238B24D62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C227-6CB8-465B-B074-922A0FE78F2B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666-4466-4BA6-90C1-945E0B3A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E4C-0DA8-44DA-A222-C142E366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C92-C38E-4885-842D-6726C916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23A-2AC1-49F3-A012-ABE904F7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E11-18F1-4FA3-B229-6E26CBFC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D50-2837-465C-81AA-74CD2529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22D-9C84-4C83-8E08-EC8E30E1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A73-63D6-456B-B123-C44B988B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82A-310D-43F2-B98E-9179C3BB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4E2-FAA3-47C2-BBD2-8657361F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72A-1E5C-4F60-873E-012F5E70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4BD-D1F5-48B1-A59D-4480941A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5FDA-9690-45BD-8996-7A2A9C3E402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8977-3D85-4119-BC99-87F4D6582C7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wmf"/><Relationship Id="rId7" Type="http://schemas.openxmlformats.org/officeDocument/2006/relationships/image" Target="../media/image18.jpeg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.pn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png"/><Relationship Id="rId11" Type="http://schemas.openxmlformats.org/officeDocument/2006/relationships/image" Target="../media/image32.wmf"/><Relationship Id="rId12" Type="http://schemas.openxmlformats.org/officeDocument/2006/relationships/image" Target="../media/image2.pn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microsimulation.org/" TargetMode="External"/><Relationship Id="rId4" Type="http://schemas.openxmlformats.org/officeDocument/2006/relationships/hyperlink" Target="http://www.ifs.org.uk/publications/572" TargetMode="External"/><Relationship Id="rId5" Type="http://schemas.openxmlformats.org/officeDocument/2006/relationships/hyperlink" Target="http://www.iser.essex.ac.uk/research/euromod" TargetMode="External"/><Relationship Id="rId6" Type="http://schemas.openxmlformats.org/officeDocument/2006/relationships/hyperlink" Target="http://www.ief.es/" TargetMode="External"/><Relationship Id="rId7" Type="http://schemas.openxmlformats.org/officeDocument/2006/relationships/hyperlink" Target="http://www.ief.es/documentos/recursos/publicaciones/documentos_trabajo/2011_16.pdf" TargetMode="External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DIF GRI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3 CuadroTexto"/>
          <p:cNvSpPr/>
          <p:nvPr/>
        </p:nvSpPr>
        <p:spPr>
          <a:xfrm>
            <a:off x="150840" y="2209680"/>
            <a:ext cx="88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Los datos de entrada a un modelo de microsimulación – encuestas a hog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CuadroTexto"/>
          <p:cNvSpPr/>
          <p:nvPr/>
        </p:nvSpPr>
        <p:spPr>
          <a:xfrm>
            <a:off x="1332000" y="4427640"/>
            <a:ext cx="61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lagros Paniagua San Martín (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drid, 16 de junio d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1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52" name="Picture 7" descr="logoief"/>
            <p:cNvPicPr/>
            <p:nvPr/>
          </p:nvPicPr>
          <p:blipFill>
            <a:blip r:embed="rId2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0 Imagen" descr="logo_eurosocial_rgb.jpg"/>
            <p:cNvPicPr/>
            <p:nvPr/>
          </p:nvPicPr>
          <p:blipFill>
            <a:blip r:embed="rId3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5 Grupo"/>
          <p:cNvGrpSpPr/>
          <p:nvPr/>
        </p:nvGrpSpPr>
        <p:grpSpPr>
          <a:xfrm>
            <a:off x="468360" y="5730840"/>
            <a:ext cx="8366040" cy="932040"/>
            <a:chOff x="468360" y="5730840"/>
            <a:chExt cx="8366040" cy="932040"/>
          </a:xfrm>
        </p:grpSpPr>
        <p:sp>
          <p:nvSpPr>
            <p:cNvPr id="55" name="3 Rectángulo"/>
            <p:cNvSpPr/>
            <p:nvPr/>
          </p:nvSpPr>
          <p:spPr>
            <a:xfrm>
              <a:off x="2210760" y="5951520"/>
              <a:ext cx="66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A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esoría especializada para el desarrollo de herramientas de microsimulación fis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4 Imagen" descr=""/>
            <p:cNvPicPr/>
            <p:nvPr/>
          </p:nvPicPr>
          <p:blipFill>
            <a:blip r:embed="rId4"/>
            <a:stretch/>
          </p:blipFill>
          <p:spPr>
            <a:xfrm>
              <a:off x="468360" y="5730840"/>
              <a:ext cx="1496160" cy="93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REGISTROS ADMINISTRATIVOS EN ESP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CuadroTexto"/>
          <p:cNvSpPr/>
          <p:nvPr/>
        </p:nvSpPr>
        <p:spPr>
          <a:xfrm>
            <a:off x="260280" y="1844640"/>
            <a:ext cx="784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eguridad Social (MCV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gencia Tributaria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uestra IRPF y panel de renta del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F – A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t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gistro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G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 Rectángulo"/>
          <p:cNvSpPr/>
          <p:nvPr/>
        </p:nvSpPr>
        <p:spPr>
          <a:xfrm>
            <a:off x="71280" y="5157720"/>
            <a:ext cx="88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  <a:ea typeface="Arial"/>
              </a:rPr>
              <a:t>http://www.ief.es/investigacion/cursos_seminarios/2006_S_internacional_estadistica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2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ESP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7659720" cy="4025880"/>
          </a:xfrm>
          <a:prstGeom prst="rect">
            <a:avLst/>
          </a:prstGeom>
          <a:ln w="0">
            <a:noFill/>
          </a:ln>
        </p:spPr>
      </p:pic>
      <p:sp>
        <p:nvSpPr>
          <p:cNvPr id="125" name="11 CuadroTexto"/>
          <p:cNvSpPr/>
          <p:nvPr/>
        </p:nvSpPr>
        <p:spPr>
          <a:xfrm>
            <a:off x="306360" y="6156360"/>
            <a:ext cx="79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 sistema estadístico en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27" name="Picture 7" descr="logoief"/>
            <p:cNvPicPr/>
            <p:nvPr/>
          </p:nvPicPr>
          <p:blipFill>
            <a:blip r:embed="rId2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0 Imagen" descr="logo_eurosocial_rgb.jpg"/>
            <p:cNvPicPr/>
            <p:nvPr/>
          </p:nvPicPr>
          <p:blipFill>
            <a:blip r:embed="rId3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Rectángulo"/>
          <p:cNvSpPr/>
          <p:nvPr/>
        </p:nvSpPr>
        <p:spPr>
          <a:xfrm>
            <a:off x="714240" y="1946160"/>
            <a:ext cx="70009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a50021"/>
                </a:solidFill>
                <a:latin typeface="Times New Roman"/>
                <a:ea typeface="Arial"/>
              </a:rPr>
              <a:t>  </a:t>
            </a:r>
            <a:r>
              <a:rPr b="1" lang="es-ES_tradnl" sz="36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s a hog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 de Condiciones de Vida (EC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 Continua de Presupuestos   Familiares (E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3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 CuadroTexto"/>
          <p:cNvSpPr/>
          <p:nvPr/>
        </p:nvSpPr>
        <p:spPr>
          <a:xfrm>
            <a:off x="384120" y="1951200"/>
            <a:ext cx="748836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CV: encuesta sobre ingresos y condiciones de vid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incluye datos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versales y longitudinal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a escala nacional y europea sob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gresos y situación económica de los hogares 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ivel y composición de la pobreza, privación material y la exclu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mpleo y actividad. Cuidado de ni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Jubilación, pensiones y situación económica de los           may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ivienda (características y  costes asoci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regional, movimientos migrato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mación, salud y efecto de ambos sobre la condición socio-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3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428760" y="1604880"/>
            <a:ext cx="7527600" cy="5208480"/>
            <a:chOff x="428760" y="1604880"/>
            <a:chExt cx="7527600" cy="5208480"/>
          </a:xfrm>
        </p:grpSpPr>
        <p:sp>
          <p:nvSpPr>
            <p:cNvPr id="140" name="Text Box 5"/>
            <p:cNvSpPr/>
            <p:nvPr/>
          </p:nvSpPr>
          <p:spPr>
            <a:xfrm>
              <a:off x="6680880" y="3023280"/>
              <a:ext cx="12754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quile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428760" y="5739840"/>
              <a:ext cx="1212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uesto sobre el patrimon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7" descr="ayuda familias"/>
            <p:cNvPicPr/>
            <p:nvPr/>
          </p:nvPicPr>
          <p:blipFill>
            <a:blip r:embed="rId1"/>
            <a:stretch/>
          </p:blipFill>
          <p:spPr>
            <a:xfrm>
              <a:off x="1194120" y="2293920"/>
              <a:ext cx="760320" cy="9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ayuda vivienda"/>
            <p:cNvPicPr/>
            <p:nvPr/>
          </p:nvPicPr>
          <p:blipFill>
            <a:blip r:embed="rId2"/>
            <a:stretch/>
          </p:blipFill>
          <p:spPr>
            <a:xfrm>
              <a:off x="2661480" y="1604880"/>
              <a:ext cx="829080" cy="11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9" descr="transferencias hogares"/>
            <p:cNvPicPr/>
            <p:nvPr/>
          </p:nvPicPr>
          <p:blipFill>
            <a:blip r:embed="rId3"/>
            <a:stretch/>
          </p:blipFill>
          <p:spPr>
            <a:xfrm>
              <a:off x="4320360" y="5464080"/>
              <a:ext cx="81612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0" descr="exclusion social"/>
            <p:cNvPicPr/>
            <p:nvPr/>
          </p:nvPicPr>
          <p:blipFill>
            <a:blip r:embed="rId4"/>
            <a:stretch/>
          </p:blipFill>
          <p:spPr>
            <a:xfrm>
              <a:off x="875160" y="4016880"/>
              <a:ext cx="1266120" cy="12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1"/>
            <p:cNvSpPr/>
            <p:nvPr/>
          </p:nvSpPr>
          <p:spPr>
            <a:xfrm>
              <a:off x="2342520" y="408564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684000" y="18115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yuda por familia/hij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3"/>
            <p:cNvSpPr/>
            <p:nvPr/>
          </p:nvSpPr>
          <p:spPr>
            <a:xfrm rot="4456200">
              <a:off x="2806200" y="3088080"/>
              <a:ext cx="650160" cy="301680"/>
            </a:xfrm>
            <a:custGeom>
              <a:avLst/>
              <a:gdLst>
                <a:gd name="textAreaLeft" fmla="*/ 81000 w 650160"/>
                <a:gd name="textAreaRight" fmla="*/ 569160 w 65016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4"/>
            <p:cNvSpPr/>
            <p:nvPr/>
          </p:nvSpPr>
          <p:spPr>
            <a:xfrm>
              <a:off x="1832040" y="1673640"/>
              <a:ext cx="1020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yuda neta para vivie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6744240" y="4832280"/>
              <a:ext cx="1084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 percibida por los menores de 16 añ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06000" y="5652000"/>
              <a:ext cx="14922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erenc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tar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re hoga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92480" y="3327840"/>
              <a:ext cx="2041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clusion social no clasificada en otro apar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8"/>
            <p:cNvSpPr/>
            <p:nvPr/>
          </p:nvSpPr>
          <p:spPr>
            <a:xfrm rot="15856800">
              <a:off x="3669840" y="5052240"/>
              <a:ext cx="581400" cy="301680"/>
            </a:xfrm>
            <a:custGeom>
              <a:avLst/>
              <a:gdLst>
                <a:gd name="textAreaLeft" fmla="*/ 72720 w 581400"/>
                <a:gd name="textAreaRight" fmla="*/ 509040 w 58140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9"/>
            <p:cNvSpPr/>
            <p:nvPr/>
          </p:nvSpPr>
          <p:spPr>
            <a:xfrm rot="12222000">
              <a:off x="4830480" y="456804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0"/>
            <p:cNvSpPr/>
            <p:nvPr/>
          </p:nvSpPr>
          <p:spPr>
            <a:xfrm rot="7477800">
              <a:off x="4881600" y="2984760"/>
              <a:ext cx="581400" cy="301680"/>
            </a:xfrm>
            <a:custGeom>
              <a:avLst/>
              <a:gdLst>
                <a:gd name="textAreaLeft" fmla="*/ 72720 w 581400"/>
                <a:gd name="textAreaRight" fmla="*/ 509040 w 58140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1" descr="intereses y ganancias"/>
            <p:cNvPicPr/>
            <p:nvPr/>
          </p:nvPicPr>
          <p:blipFill>
            <a:blip r:embed="rId5"/>
            <a:stretch/>
          </p:blipFill>
          <p:spPr>
            <a:xfrm>
              <a:off x="5468400" y="1742400"/>
              <a:ext cx="133956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2" descr="renta por alquiler"/>
            <p:cNvPicPr/>
            <p:nvPr/>
          </p:nvPicPr>
          <p:blipFill>
            <a:blip r:embed="rId6"/>
            <a:stretch/>
          </p:blipFill>
          <p:spPr>
            <a:xfrm>
              <a:off x="5659920" y="2982960"/>
              <a:ext cx="1084320" cy="11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23"/>
            <p:cNvSpPr/>
            <p:nvPr/>
          </p:nvSpPr>
          <p:spPr>
            <a:xfrm rot="9937200">
              <a:off x="4830120" y="374040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4"/>
            <p:cNvSpPr/>
            <p:nvPr/>
          </p:nvSpPr>
          <p:spPr>
            <a:xfrm rot="19210200">
              <a:off x="2597400" y="491256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5"/>
            <p:cNvSpPr/>
            <p:nvPr/>
          </p:nvSpPr>
          <p:spPr>
            <a:xfrm>
              <a:off x="6744240" y="2087280"/>
              <a:ext cx="1020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s de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26" descr="irpf"/>
            <p:cNvPicPr/>
            <p:nvPr/>
          </p:nvPicPr>
          <p:blipFill>
            <a:blip r:embed="rId7"/>
            <a:stretch/>
          </p:blipFill>
          <p:spPr>
            <a:xfrm>
              <a:off x="3746160" y="2018160"/>
              <a:ext cx="1180080" cy="10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27"/>
            <p:cNvSpPr/>
            <p:nvPr/>
          </p:nvSpPr>
          <p:spPr>
            <a:xfrm>
              <a:off x="2853000" y="1742400"/>
              <a:ext cx="28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laracion irp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"/>
            <p:cNvSpPr/>
            <p:nvPr/>
          </p:nvSpPr>
          <p:spPr>
            <a:xfrm rot="5650200">
              <a:off x="3895920" y="3225960"/>
              <a:ext cx="512280" cy="301680"/>
            </a:xfrm>
            <a:custGeom>
              <a:avLst/>
              <a:gdLst>
                <a:gd name="textAreaLeft" fmla="*/ 64080 w 512280"/>
                <a:gd name="textAreaRight" fmla="*/ 448560 w 51228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9" descr="j0195394"/>
            <p:cNvPicPr/>
            <p:nvPr/>
          </p:nvPicPr>
          <p:blipFill>
            <a:blip r:embed="rId8"/>
            <a:stretch/>
          </p:blipFill>
          <p:spPr>
            <a:xfrm>
              <a:off x="5596200" y="4361400"/>
              <a:ext cx="1023480" cy="22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0" descr="j0156161"/>
            <p:cNvPicPr/>
            <p:nvPr/>
          </p:nvPicPr>
          <p:blipFill>
            <a:blip r:embed="rId9"/>
            <a:stretch/>
          </p:blipFill>
          <p:spPr>
            <a:xfrm>
              <a:off x="1449360" y="5326200"/>
              <a:ext cx="1403280" cy="14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31" descr="j0110852"/>
            <p:cNvPicPr/>
            <p:nvPr/>
          </p:nvPicPr>
          <p:blipFill>
            <a:blip r:embed="rId10"/>
            <a:stretch/>
          </p:blipFill>
          <p:spPr>
            <a:xfrm>
              <a:off x="3109680" y="3700800"/>
              <a:ext cx="1465920" cy="12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34 Rectángulo"/>
          <p:cNvSpPr/>
          <p:nvPr/>
        </p:nvSpPr>
        <p:spPr>
          <a:xfrm>
            <a:off x="1639800" y="102240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CV - INGRESOS (fichero 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34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69" name="Picture 7" descr="logoief"/>
            <p:cNvPicPr/>
            <p:nvPr/>
          </p:nvPicPr>
          <p:blipFill>
            <a:blip r:embed="rId1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0 Imagen" descr="logo_eurosocial_rgb.jpg"/>
            <p:cNvPicPr/>
            <p:nvPr/>
          </p:nvPicPr>
          <p:blipFill>
            <a:blip r:embed="rId1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929200" y="5929200"/>
            <a:ext cx="23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estaciones Superviv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715080" y="2643120"/>
            <a:ext cx="1386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estaciones  Enferm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525600" y="1484280"/>
            <a:ext cx="7286400" cy="5619960"/>
            <a:chOff x="525600" y="1484280"/>
            <a:chExt cx="7286400" cy="5619960"/>
          </a:xfrm>
        </p:grpSpPr>
        <p:pic>
          <p:nvPicPr>
            <p:cNvPr id="174" name="Picture 7" descr="renta monetaria"/>
            <p:cNvPicPr/>
            <p:nvPr/>
          </p:nvPicPr>
          <p:blipFill>
            <a:blip r:embed="rId1"/>
            <a:stretch/>
          </p:blipFill>
          <p:spPr>
            <a:xfrm>
              <a:off x="1011240" y="2017080"/>
              <a:ext cx="1151280" cy="12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renta no monetaria"/>
            <p:cNvPicPr/>
            <p:nvPr/>
          </p:nvPicPr>
          <p:blipFill>
            <a:blip r:embed="rId2"/>
            <a:stretch/>
          </p:blipFill>
          <p:spPr>
            <a:xfrm>
              <a:off x="2331360" y="2017080"/>
              <a:ext cx="1122480" cy="94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9" descr="autonomos"/>
            <p:cNvPicPr/>
            <p:nvPr/>
          </p:nvPicPr>
          <p:blipFill>
            <a:blip r:embed="rId3"/>
            <a:stretch/>
          </p:blipFill>
          <p:spPr>
            <a:xfrm>
              <a:off x="4774680" y="1604520"/>
              <a:ext cx="1320120" cy="140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prestacion desempleo"/>
            <p:cNvPicPr/>
            <p:nvPr/>
          </p:nvPicPr>
          <p:blipFill>
            <a:blip r:embed="rId4"/>
            <a:stretch/>
          </p:blipFill>
          <p:spPr>
            <a:xfrm>
              <a:off x="548640" y="3844800"/>
              <a:ext cx="1385280" cy="14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" descr="prestacion enfermedad"/>
            <p:cNvPicPr/>
            <p:nvPr/>
          </p:nvPicPr>
          <p:blipFill>
            <a:blip r:embed="rId5"/>
            <a:stretch/>
          </p:blipFill>
          <p:spPr>
            <a:xfrm>
              <a:off x="5963040" y="3007080"/>
              <a:ext cx="1386360" cy="14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2"/>
            <p:cNvSpPr/>
            <p:nvPr/>
          </p:nvSpPr>
          <p:spPr>
            <a:xfrm>
              <a:off x="4668480" y="6259680"/>
              <a:ext cx="17168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yudas para estud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812880" y="1484280"/>
              <a:ext cx="171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 monetaria del asalari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6029280" y="1636200"/>
              <a:ext cx="1386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eficios o pérdidas monetarias por cuenta prop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2463840" y="1484280"/>
              <a:ext cx="211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 no monetaria del asalari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1935360" y="6586200"/>
              <a:ext cx="29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taciones vej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614880" y="3387600"/>
              <a:ext cx="1452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taciones Desemple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 rot="21397800">
              <a:off x="2265480" y="399708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9"/>
            <p:cNvSpPr/>
            <p:nvPr/>
          </p:nvSpPr>
          <p:spPr>
            <a:xfrm rot="1929000">
              <a:off x="2265840" y="331164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 rot="7200000">
              <a:off x="4160160" y="3234960"/>
              <a:ext cx="615600" cy="312120"/>
            </a:xfrm>
            <a:custGeom>
              <a:avLst/>
              <a:gdLst>
                <a:gd name="textAreaLeft" fmla="*/ 76680 w 615600"/>
                <a:gd name="textAreaRight" fmla="*/ 538920 w 615600"/>
                <a:gd name="textAreaTop" fmla="*/ 78120 h 312120"/>
                <a:gd name="textAreaBottom" fmla="*/ 23436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1"/>
            <p:cNvSpPr/>
            <p:nvPr/>
          </p:nvSpPr>
          <p:spPr>
            <a:xfrm rot="10578600">
              <a:off x="4840200" y="371268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2"/>
            <p:cNvSpPr/>
            <p:nvPr/>
          </p:nvSpPr>
          <p:spPr>
            <a:xfrm rot="3957000">
              <a:off x="3374640" y="3019680"/>
              <a:ext cx="337680" cy="312120"/>
            </a:xfrm>
            <a:custGeom>
              <a:avLst/>
              <a:gdLst>
                <a:gd name="textAreaLeft" fmla="*/ 42120 w 337680"/>
                <a:gd name="textAreaRight" fmla="*/ 295560 w 337680"/>
                <a:gd name="textAreaTop" fmla="*/ 78120 h 312120"/>
                <a:gd name="textAreaBottom" fmla="*/ 23436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3"/>
            <p:cNvSpPr/>
            <p:nvPr/>
          </p:nvSpPr>
          <p:spPr>
            <a:xfrm rot="19587600">
              <a:off x="2199600" y="4931280"/>
              <a:ext cx="623160" cy="360000"/>
            </a:xfrm>
            <a:custGeom>
              <a:avLst/>
              <a:gdLst>
                <a:gd name="textAreaLeft" fmla="*/ 77760 w 623160"/>
                <a:gd name="textAreaRight" fmla="*/ 545400 w 62316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4"/>
            <p:cNvSpPr/>
            <p:nvPr/>
          </p:nvSpPr>
          <p:spPr>
            <a:xfrm rot="11813400">
              <a:off x="5236560" y="439848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5"/>
            <p:cNvSpPr/>
            <p:nvPr/>
          </p:nvSpPr>
          <p:spPr>
            <a:xfrm rot="16788000">
              <a:off x="3309120" y="4890240"/>
              <a:ext cx="337680" cy="312120"/>
            </a:xfrm>
            <a:custGeom>
              <a:avLst/>
              <a:gdLst>
                <a:gd name="textAreaLeft" fmla="*/ 42120 w 337680"/>
                <a:gd name="textAreaRight" fmla="*/ 295560 w 337680"/>
                <a:gd name="textAreaTop" fmla="*/ 78120 h 312120"/>
                <a:gd name="textAreaBottom" fmla="*/ 23436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6"/>
            <p:cNvSpPr/>
            <p:nvPr/>
          </p:nvSpPr>
          <p:spPr>
            <a:xfrm rot="13185600">
              <a:off x="4236480" y="4577760"/>
              <a:ext cx="452520" cy="360000"/>
            </a:xfrm>
            <a:custGeom>
              <a:avLst/>
              <a:gdLst>
                <a:gd name="textAreaLeft" fmla="*/ 56520 w 452520"/>
                <a:gd name="textAreaRight" fmla="*/ 396000 w 45252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7" descr=""/>
            <p:cNvPicPr/>
            <p:nvPr/>
          </p:nvPicPr>
          <p:blipFill>
            <a:blip r:embed="rId6"/>
            <a:stretch/>
          </p:blipFill>
          <p:spPr>
            <a:xfrm>
              <a:off x="6095160" y="4530240"/>
              <a:ext cx="1716840" cy="14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8" descr=""/>
            <p:cNvPicPr/>
            <p:nvPr/>
          </p:nvPicPr>
          <p:blipFill>
            <a:blip r:embed="rId7"/>
            <a:stretch/>
          </p:blipFill>
          <p:spPr>
            <a:xfrm>
              <a:off x="1275480" y="5596560"/>
              <a:ext cx="113472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9" descr="j0343525"/>
            <p:cNvPicPr/>
            <p:nvPr/>
          </p:nvPicPr>
          <p:blipFill>
            <a:blip r:embed="rId8"/>
            <a:stretch/>
          </p:blipFill>
          <p:spPr>
            <a:xfrm>
              <a:off x="2507760" y="5215680"/>
              <a:ext cx="1936440" cy="12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0" descr="j0232133"/>
            <p:cNvPicPr/>
            <p:nvPr/>
          </p:nvPicPr>
          <p:blipFill>
            <a:blip r:embed="rId9"/>
            <a:stretch/>
          </p:blipFill>
          <p:spPr>
            <a:xfrm>
              <a:off x="4510440" y="4763520"/>
              <a:ext cx="1411200" cy="16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ject 3" descr=""/>
            <p:cNvPicPr/>
            <p:nvPr/>
          </p:nvPicPr>
          <p:blipFill>
            <a:blip r:embed="rId10"/>
            <a:stretch/>
          </p:blipFill>
          <p:spPr>
            <a:xfrm>
              <a:off x="3454200" y="1941120"/>
              <a:ext cx="99036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2" descr="j0405878"/>
            <p:cNvPicPr/>
            <p:nvPr/>
          </p:nvPicPr>
          <p:blipFill>
            <a:blip r:embed="rId11"/>
            <a:stretch/>
          </p:blipFill>
          <p:spPr>
            <a:xfrm>
              <a:off x="3189960" y="3537000"/>
              <a:ext cx="995760" cy="106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7"/>
            <p:cNvSpPr/>
            <p:nvPr/>
          </p:nvSpPr>
          <p:spPr>
            <a:xfrm>
              <a:off x="525600" y="5275800"/>
              <a:ext cx="1452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taciones Invalid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34 Rectángulo"/>
          <p:cNvSpPr/>
          <p:nvPr/>
        </p:nvSpPr>
        <p:spPr>
          <a:xfrm>
            <a:off x="1639800" y="102240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CV - INGRESOS (fichero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36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03" name="Picture 7" descr="logoief"/>
            <p:cNvPicPr/>
            <p:nvPr/>
          </p:nvPicPr>
          <p:blipFill>
            <a:blip r:embed="rId12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0 Imagen" descr="logo_eurosocial_rgb.jpg"/>
            <p:cNvPicPr/>
            <p:nvPr/>
          </p:nvPicPr>
          <p:blipFill>
            <a:blip r:embed="rId13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4 Rectángulo"/>
          <p:cNvSpPr/>
          <p:nvPr/>
        </p:nvSpPr>
        <p:spPr>
          <a:xfrm>
            <a:off x="500040" y="1095480"/>
            <a:ext cx="83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Resultados con la ECV – Nota de prensa (gen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0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485640" y="1628640"/>
            <a:ext cx="81727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4 Rectángulo"/>
          <p:cNvSpPr/>
          <p:nvPr/>
        </p:nvSpPr>
        <p:spPr>
          <a:xfrm>
            <a:off x="500040" y="1095480"/>
            <a:ext cx="78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Resultados con la ECV – Nota de prensa (módulo 20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1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81160" y="1711440"/>
            <a:ext cx="85816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34 Rectángulo"/>
          <p:cNvSpPr/>
          <p:nvPr/>
        </p:nvSpPr>
        <p:spPr>
          <a:xfrm>
            <a:off x="1639800" y="102240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Su uso para los MSM en el 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9 Rectángulo"/>
          <p:cNvSpPr/>
          <p:nvPr/>
        </p:nvSpPr>
        <p:spPr>
          <a:xfrm>
            <a:off x="500040" y="2143080"/>
            <a:ext cx="7643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U-SILC (European Statistics on Income and Living Conditions), proyecto europeo en el que se enmarca la ECV, es la base de datos de entrada de EUROMOD (microsimulador europeo de impuestos y prestaciones social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ECV contiene información muy útil para simular el impuesto sobre la renta y algunas prestacion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ECV no tiene toda información sobre la vida laboral de las personas y sus periodos de contribución lo que impide simular con toda la precisión necesaria las prestaciones contributivas (posible matching entre ECV y MCVL en IE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1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 CuadroTexto"/>
          <p:cNvSpPr/>
          <p:nvPr/>
        </p:nvSpPr>
        <p:spPr>
          <a:xfrm>
            <a:off x="384120" y="1951200"/>
            <a:ext cx="748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PF: encuesta sobre gasto de los hogares español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ciones del gasto (agregado) de consumo anual de los hogares para el conjunto nacional y para las comunidades autónomas, así como su clasificación según diversas variables del ho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ción del cambio interanual del gasto (agregado) de consumo para el conjunto nacional y para las comunidades autón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ción del consumo en cantidades físicas de determinados bienes alimenticios para el conjunto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timación del gasto como instrumento para la obtención del consumo privado en la Contabilidad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timación de la estructura de ponderaciones a partir del gasto necesaria para el cálculo del IP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23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95280" y="500256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Registros administ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Encuestas (y ce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59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2 Rectángulo"/>
          <p:cNvSpPr/>
          <p:nvPr/>
        </p:nvSpPr>
        <p:spPr>
          <a:xfrm>
            <a:off x="260280" y="1197000"/>
            <a:ext cx="8559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kinson, Rainwater y Smeeding (1995) en su trabajo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ome distribution in OECD countries: evidence from the Luxembourg Income Stu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alizaron la distribución de la renta de varios países y presentaron el tipo de fuente que mejor se aproximaba a los ingresos verdaderos hasta mostrar el siguiente rank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gresos de datos administ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gres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gresos de encue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di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sotros vemos dos grandes gru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7 Rectángulo"/>
          <p:cNvSpPr/>
          <p:nvPr/>
        </p:nvSpPr>
        <p:spPr>
          <a:xfrm>
            <a:off x="250920" y="1878120"/>
            <a:ext cx="717048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os doce grandes grupos de la COICOP: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. Alimentos y bebidas no alcohó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2. Bebidas alcohólicas, tabaco y narc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3. Artículos de vestir y cal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4. Vivienda, agua, electricidad, gas y otros combus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5. Mobiliario, equipamiento del hogar y gastos corrientes de conservación de la viv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6.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7. Trans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8. Comunic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9. Ocio, espectáculos y cul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0. Enseñ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1. Hoteles, cafés y restaur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2. Otros bienes y servici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2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jemplo para el grup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3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34" name=""/>
          <p:cNvGraphicFramePr/>
          <p:nvPr/>
        </p:nvGraphicFramePr>
        <p:xfrm>
          <a:off x="1476360" y="1927080"/>
          <a:ext cx="5168880" cy="4526280"/>
        </p:xfrm>
        <a:graphic>
          <a:graphicData uri="http://schemas.openxmlformats.org/drawingml/2006/table">
            <a:tbl>
              <a:tblPr/>
              <a:tblGrid>
                <a:gridCol w="2754360"/>
                <a:gridCol w="604800"/>
                <a:gridCol w="603360"/>
                <a:gridCol w="603000"/>
                <a:gridCol w="603360"/>
              </a:tblGrid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cados y mariscos secos, ahumados o salad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escados y mariscos procesados o conservados y preparados de pescados y marisc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he enter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he semidescremada y descremad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he conservad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gures y leches fermentad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o y requesó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roductos a base de lech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ev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quill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garina y otras grasas vegetal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ite de Oliv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eites comestibl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grasas animal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tricos (frescos, refrigerados o congelado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átanos (frescos, refrigerados o congelado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zanas (frescas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as ( 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tas con hueso (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itun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as (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frutas (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tos sec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tas preparadas y en conserv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talizas de hoja o de tallo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es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talizas cultivadas por su fruto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talizas con raíz o bulbo y setas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222120" y="143784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s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del hogar (número de miembros, región, tipo de vivienda, tipo de hogar según estructura de edades, situación económica y de actividad del sustentador principal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ast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3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34 Rectángulo"/>
          <p:cNvSpPr/>
          <p:nvPr/>
        </p:nvSpPr>
        <p:spPr>
          <a:xfrm>
            <a:off x="1639800" y="116676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Su uso para los MSM en el 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 Rectángulo"/>
          <p:cNvSpPr/>
          <p:nvPr/>
        </p:nvSpPr>
        <p:spPr>
          <a:xfrm>
            <a:off x="500040" y="2276640"/>
            <a:ext cx="728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a ECPF 2006 se ha utilizado en el IEF como base de datos de entrada del microsimulador del Impuesto sobre el Valor Añadido (IVA), parte del microsimulador TaxSim_IE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4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4 Rectángulo"/>
          <p:cNvSpPr/>
          <p:nvPr/>
        </p:nvSpPr>
        <p:spPr>
          <a:xfrm>
            <a:off x="2719440" y="549360"/>
            <a:ext cx="22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Nota de pr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4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684360" y="1204920"/>
            <a:ext cx="77245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4 Rectángulo"/>
          <p:cNvSpPr/>
          <p:nvPr/>
        </p:nvSpPr>
        <p:spPr>
          <a:xfrm>
            <a:off x="1639800" y="116676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s a hogare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5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" name="Picture 7" descr=""/>
          <p:cNvPicPr/>
          <p:nvPr/>
        </p:nvPicPr>
        <p:blipFill>
          <a:blip r:embed="rId3"/>
          <a:stretch/>
        </p:blipFill>
        <p:spPr>
          <a:xfrm>
            <a:off x="324000" y="1650960"/>
            <a:ext cx="86914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4 Rectángulo"/>
          <p:cNvSpPr/>
          <p:nvPr/>
        </p:nvSpPr>
        <p:spPr>
          <a:xfrm>
            <a:off x="1639800" y="116676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s a hogare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5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574560" y="1844640"/>
            <a:ext cx="8029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60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3 Rectángulo"/>
          <p:cNvSpPr/>
          <p:nvPr/>
        </p:nvSpPr>
        <p:spPr>
          <a:xfrm>
            <a:off x="457200" y="135720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TRODUCCIÓN A LA MICROSIMULA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utilización de datos desagregados referidos a distintas unidades para realizar modificaciones en el contexto que afecta a dichas unidades y comprobar cuáles son las consecue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1 Grupo"/>
          <p:cNvGrpSpPr/>
          <p:nvPr/>
        </p:nvGrpSpPr>
        <p:grpSpPr>
          <a:xfrm>
            <a:off x="2584440" y="2637000"/>
            <a:ext cx="3240000" cy="3165480"/>
            <a:chOff x="2584440" y="2637000"/>
            <a:chExt cx="3240000" cy="3165480"/>
          </a:xfrm>
        </p:grpSpPr>
        <p:sp>
          <p:nvSpPr>
            <p:cNvPr id="264" name="9 Rectángulo redondeado"/>
            <p:cNvSpPr/>
            <p:nvPr/>
          </p:nvSpPr>
          <p:spPr>
            <a:xfrm>
              <a:off x="2815200" y="2637000"/>
              <a:ext cx="2720880" cy="857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10 Rectángulo redondeado"/>
            <p:cNvSpPr/>
            <p:nvPr/>
          </p:nvSpPr>
          <p:spPr>
            <a:xfrm>
              <a:off x="2800800" y="3929040"/>
              <a:ext cx="2734920" cy="8586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11 Rectángulo redondeado"/>
            <p:cNvSpPr/>
            <p:nvPr/>
          </p:nvSpPr>
          <p:spPr>
            <a:xfrm>
              <a:off x="2800800" y="5297760"/>
              <a:ext cx="2734920" cy="50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7 CuadroTexto"/>
            <p:cNvSpPr/>
            <p:nvPr/>
          </p:nvSpPr>
          <p:spPr>
            <a:xfrm>
              <a:off x="2958120" y="2717640"/>
              <a:ext cx="23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crodatos: individuos/empre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9 CuadroTexto"/>
            <p:cNvSpPr/>
            <p:nvPr/>
          </p:nvSpPr>
          <p:spPr>
            <a:xfrm>
              <a:off x="2584440" y="4001400"/>
              <a:ext cx="32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odificación context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mpuestos/prest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10 CuadroTexto"/>
            <p:cNvSpPr/>
            <p:nvPr/>
          </p:nvSpPr>
          <p:spPr>
            <a:xfrm>
              <a:off x="3232440" y="5370480"/>
              <a:ext cx="19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15 Flecha abajo"/>
            <p:cNvSpPr/>
            <p:nvPr/>
          </p:nvSpPr>
          <p:spPr>
            <a:xfrm>
              <a:off x="3951720" y="3565440"/>
              <a:ext cx="285480" cy="285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16 Flecha abajo"/>
            <p:cNvSpPr/>
            <p:nvPr/>
          </p:nvSpPr>
          <p:spPr>
            <a:xfrm>
              <a:off x="3951720" y="4940640"/>
              <a:ext cx="285480" cy="285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73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3 Rectángulo"/>
          <p:cNvSpPr/>
          <p:nvPr/>
        </p:nvSpPr>
        <p:spPr>
          <a:xfrm>
            <a:off x="457200" y="135720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LASIFICACIÓN M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 CuadroTexto"/>
          <p:cNvSpPr/>
          <p:nvPr/>
        </p:nvSpPr>
        <p:spPr>
          <a:xfrm>
            <a:off x="179280" y="213372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RITMET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--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TAT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--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INA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QUILIBRIO PARCIAL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--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QUILIBRI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7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3 Rectángulo"/>
          <p:cNvSpPr/>
          <p:nvPr/>
        </p:nvSpPr>
        <p:spPr>
          <a:xfrm>
            <a:off x="457200" y="135720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LASIFICACIÓN MSM (EJEMP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 CuadroTexto"/>
          <p:cNvSpPr/>
          <p:nvPr/>
        </p:nvSpPr>
        <p:spPr>
          <a:xfrm>
            <a:off x="250920" y="205740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Trabajadores: IRPF, cotizaciones a la SS, prestacion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nsumidores: IVA e II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mpresas: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tudiantes: becas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Jubilados: pensiones públicas y privadas, fiscalidad del ahorro, crecimiento de sal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20680" y="2205000"/>
          <a:ext cx="7880400" cy="2444760"/>
        </p:xfrm>
        <a:graphic>
          <a:graphicData uri="http://schemas.openxmlformats.org/drawingml/2006/table">
            <a:tbl>
              <a:tblPr/>
              <a:tblGrid>
                <a:gridCol w="1390680"/>
                <a:gridCol w="679320"/>
                <a:gridCol w="943200"/>
                <a:gridCol w="1218960"/>
                <a:gridCol w="1127160"/>
                <a:gridCol w="1008000"/>
                <a:gridCol w="151308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la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nta del tra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ntas de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A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s y pérdidas patrimon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li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60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8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Rio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r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8"/>
          <p:cNvSpPr/>
          <p:nvPr/>
        </p:nvSpPr>
        <p:spPr>
          <a:xfrm>
            <a:off x="260280" y="12088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0f0"/>
                </a:solidFill>
                <a:latin typeface="Calibri"/>
                <a:ea typeface="Arial"/>
              </a:rPr>
              <a:t>REGISTROS ADMINISTRA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 CuadroTexto"/>
          <p:cNvSpPr/>
          <p:nvPr/>
        </p:nvSpPr>
        <p:spPr>
          <a:xfrm>
            <a:off x="260280" y="5229360"/>
            <a:ext cx="78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atos de la autoridad fiscal (supuesto inven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6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83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3 Rectángulo"/>
          <p:cNvSpPr/>
          <p:nvPr/>
        </p:nvSpPr>
        <p:spPr>
          <a:xfrm>
            <a:off x="457200" y="135720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L ORIGEN DE LOS M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7 Rectángulo"/>
          <p:cNvSpPr/>
          <p:nvPr/>
        </p:nvSpPr>
        <p:spPr>
          <a:xfrm>
            <a:off x="468360" y="19731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os primeros modelos de MSM los elabora Guy Orcutt en Estados Unidos a finales de los años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 partir de los 80 se generaliza su uso gracias a la aparición de micro datos con información referente a individuos, empresas, etc., así como el desarrollo de ordenadores más po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on los países anglosajones los primeros en desarrollar estas técnicas, aunque en Europa también Alemania y Fra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8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GUNOS M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8 Grupo"/>
          <p:cNvGrpSpPr/>
          <p:nvPr/>
        </p:nvGrpSpPr>
        <p:grpSpPr>
          <a:xfrm>
            <a:off x="1187280" y="2060640"/>
            <a:ext cx="6193080" cy="4032360"/>
            <a:chOff x="1187280" y="2060640"/>
            <a:chExt cx="6193080" cy="4032360"/>
          </a:xfrm>
        </p:grpSpPr>
        <p:sp>
          <p:nvSpPr>
            <p:cNvPr id="292" name="4 CuadroTexto"/>
            <p:cNvSpPr/>
            <p:nvPr/>
          </p:nvSpPr>
          <p:spPr>
            <a:xfrm>
              <a:off x="2699280" y="2060640"/>
              <a:ext cx="4681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PASI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EUROMO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ADHISPANIA -&gt; SimFBBV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INDIEF, SIRPI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ASI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crosim I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TAXSIM-I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TAXF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6 Imagen" descr="en_construccion.JPG"/>
            <p:cNvPicPr/>
            <p:nvPr/>
          </p:nvPicPr>
          <p:blipFill>
            <a:blip r:embed="rId3"/>
            <a:stretch/>
          </p:blipFill>
          <p:spPr>
            <a:xfrm>
              <a:off x="1187280" y="4509000"/>
              <a:ext cx="1584360" cy="15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95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LACES DE INTE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4 CuadroTexto"/>
          <p:cNvSpPr/>
          <p:nvPr/>
        </p:nvSpPr>
        <p:spPr>
          <a:xfrm>
            <a:off x="755640" y="177336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MA: International Microsimulation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http://www.microsimulation.org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S: Institute for Fisca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http://www.ifs.org.uk/publications/57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URO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www.iser.essex.ac.uk/research/euro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6"/>
              </a:rPr>
              <a:t>http://www.ief.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(</a:t>
            </a:r>
            <a:r>
              <a:rPr b="0" lang="es-E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ief.es/documentos/recursos/publicaciones/documentos_trabajo/2011_16.pdf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00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SOS A SEGUIR PARA SU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4 CuadroTexto"/>
          <p:cNvSpPr/>
          <p:nvPr/>
        </p:nvSpPr>
        <p:spPr>
          <a:xfrm>
            <a:off x="285840" y="1987560"/>
            <a:ext cx="838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isponibilidad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atos desagregad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, o microdatos (creación de nuevas variables cuando sea necesario – imput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ctualiza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de los datos (al menos en términos monet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nocimiento d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normativa vigente y simul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(parámetros que caracterizan la simulación y la situación con la que se compa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oftwar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adecuado para realización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imu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Fase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ti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Fase de sim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Validac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plicación fácil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e utilizar (prescindible si su uso no se divul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05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VENTAJAS DE ESTOS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4 CuadroTexto"/>
          <p:cNvSpPr/>
          <p:nvPr/>
        </p:nvSpPr>
        <p:spPr>
          <a:xfrm>
            <a:off x="285840" y="1700280"/>
            <a:ext cx="838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aptura la heterogeneidad de los datos – pero permite hacer agregaciones mac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Identifica a los ganadores y perdedores de una re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ermite el análisis más focalizado de una posible re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oy en día se pueden hacer infinidad de cálculos gracias al avance de equipos muy potentes, la disponibilidad de BBDD tanto de origen administrativo como de encuesta y gracias al desarrollo de software estad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34 Rectángulo"/>
          <p:cNvSpPr/>
          <p:nvPr/>
        </p:nvSpPr>
        <p:spPr>
          <a:xfrm>
            <a:off x="2057400" y="1916280"/>
            <a:ext cx="532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imes New Roman"/>
                <a:ea typeface="Arial"/>
              </a:rPr>
              <a:t>¿Modelos de microsimulación en Argentina?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1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34 Rectángulo"/>
          <p:cNvSpPr/>
          <p:nvPr/>
        </p:nvSpPr>
        <p:spPr>
          <a:xfrm>
            <a:off x="324000" y="1341360"/>
            <a:ext cx="50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15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Picture 3" descr=""/>
          <p:cNvPicPr/>
          <p:nvPr/>
        </p:nvPicPr>
        <p:blipFill>
          <a:blip r:embed="rId3"/>
          <a:srcRect l="26740" t="6592" r="27345" b="6983"/>
          <a:stretch/>
        </p:blipFill>
        <p:spPr>
          <a:xfrm>
            <a:off x="5572080" y="1433520"/>
            <a:ext cx="3429000" cy="5164200"/>
          </a:xfrm>
          <a:prstGeom prst="rect">
            <a:avLst/>
          </a:prstGeom>
          <a:ln w="0">
            <a:noFill/>
          </a:ln>
        </p:spPr>
      </p:pic>
      <p:sp>
        <p:nvSpPr>
          <p:cNvPr id="318" name="6 CuadroTexto"/>
          <p:cNvSpPr/>
          <p:nvPr/>
        </p:nvSpPr>
        <p:spPr>
          <a:xfrm>
            <a:off x="79200" y="3645000"/>
            <a:ext cx="54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Año del trabajo: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íses  comparados: Francia, Italia, Austria y 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Objetivo: análisis distributivo de medidas de devaluación fis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34 Rectángulo"/>
          <p:cNvSpPr/>
          <p:nvPr/>
        </p:nvSpPr>
        <p:spPr>
          <a:xfrm>
            <a:off x="324000" y="1197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2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7 CuadroTexto"/>
          <p:cNvSpPr/>
          <p:nvPr/>
        </p:nvSpPr>
        <p:spPr>
          <a:xfrm>
            <a:off x="324000" y="2135160"/>
            <a:ext cx="82152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Políticas internas que imitan los efectos de una devalu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Ejemplo típico: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reducción de las cotizaciones sociales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de los empleadores financiada con una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subida del IVA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- Con una tasa salarial rígida, desciende el coste laboral, mejora la competitividad (aumentan exportaciones y bajan importacion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l mismo tiempo, un IVA más elevado o sobre una base más extensa reduce el consumo y las importaciones sin impactar sobre las exportaciones (Criterio de país de des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No se trata de una reforma con finalidad redistributiva, pero los efectos sobre la redistribución impor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34 Rectángulo"/>
          <p:cNvSpPr/>
          <p:nvPr/>
        </p:nvSpPr>
        <p:spPr>
          <a:xfrm>
            <a:off x="324000" y="1197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2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6 CuadroTexto"/>
          <p:cNvSpPr/>
          <p:nvPr/>
        </p:nvSpPr>
        <p:spPr>
          <a:xfrm>
            <a:off x="285840" y="2243160"/>
            <a:ext cx="857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Traslación total del incremento del IVA al consumi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Actualización de las prestaciones conforme al incremento causado por el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eutralidad recaud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 respuesta (oferta labo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corto plazo se incentiva el empleo por el menor coste para el empleador, pero a largo plazo se produce una traslación a salarios en la misma cuantía de la disminución de las co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34 Rectángulo"/>
          <p:cNvSpPr/>
          <p:nvPr/>
        </p:nvSpPr>
        <p:spPr>
          <a:xfrm>
            <a:off x="324000" y="1197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3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6 CuadroTexto"/>
          <p:cNvSpPr/>
          <p:nvPr/>
        </p:nvSpPr>
        <p:spPr>
          <a:xfrm>
            <a:off x="285840" y="2243160"/>
            <a:ext cx="8572320" cy="4570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o se cuenta con base de datos que incluya consumo y renta de las familias. </a:t>
            </a:r>
            <a:r>
              <a:rPr b="1" lang="es-ES" sz="1800" spc="-1" strike="noStrike">
                <a:solidFill>
                  <a:srgbClr val="c00000"/>
                </a:solidFill>
                <a:latin typeface="Garamond"/>
              </a:rPr>
              <a:t>Se realiza un </a:t>
            </a:r>
            <a:r>
              <a:rPr b="1" i="1" lang="es-ES" sz="1800" spc="-1" strike="noStrike">
                <a:solidFill>
                  <a:srgbClr val="c00000"/>
                </a:solidFill>
                <a:latin typeface="Garamond"/>
              </a:rPr>
              <a:t>matching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por grupos a partir de características relevantes (ECV+E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Referencia: situación e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Las variables utilizad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Área de residencia ( 6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Noroeste, Nordeste, Comunidad de Madrid, Centro, Este y S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Tipo de hogar ( 3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Solteros, Parejas sin hijos y Parejas con hi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Nivel de estudios del sustentador principa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l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( 3 ) :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 Sin estudios, Educación secundaria y educación sup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Edad del sustentador principal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Hasta 45 años y Más de 45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Situación laboral del sustentador principal 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Activo e Ina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Régimen de tenencia de la vivienda habitual 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Propiedad y Alqu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Nivel de renta 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Inferior a la mediana y Superior a la medi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260280" y="12088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  <a:ea typeface="Arial"/>
              </a:rPr>
              <a:t>ENC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8000" y="2133720"/>
          <a:ext cx="7993080" cy="2444760"/>
        </p:xfrm>
        <a:graphic>
          <a:graphicData uri="http://schemas.openxmlformats.org/drawingml/2006/table">
            <a:tbl>
              <a:tblPr/>
              <a:tblGrid>
                <a:gridCol w="1152360"/>
                <a:gridCol w="650880"/>
                <a:gridCol w="682560"/>
                <a:gridCol w="930600"/>
                <a:gridCol w="1128600"/>
                <a:gridCol w="1130400"/>
                <a:gridCol w="930240"/>
                <a:gridCol w="13874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nta del tra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nsión de jubi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dto.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. Horas tra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8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h/s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 h/s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70" name="11 CuadroTexto"/>
          <p:cNvSpPr/>
          <p:nvPr/>
        </p:nvSpPr>
        <p:spPr>
          <a:xfrm>
            <a:off x="260280" y="5229360"/>
            <a:ext cx="78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atos de encuesta (supuesto inven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7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468360" y="2428200"/>
            <a:ext cx="7603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0033"/>
                </a:solidFill>
                <a:latin typeface="Arial"/>
                <a:ea typeface="Arial"/>
              </a:rPr>
              <a:t>Gracias por su at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milagros.paniagua@ief.minhap.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6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3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REGISTROS ADMINISTRATIVOS - 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 CuadroTexto"/>
          <p:cNvSpPr/>
          <p:nvPr/>
        </p:nvSpPr>
        <p:spPr>
          <a:xfrm>
            <a:off x="260280" y="1844640"/>
            <a:ext cx="78408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uente de datos estadísticos al igual que encuestas y ce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al diferencia con ellos: criterios normativos que establece el encargado de diseñar el registro administrativo (para realizar una encuesta y/o censo se siguen criterios estadíst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seño más relacionado con la gestión que con la explotación: planificación, seguimiento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on numerosos los registros administrativos existentes con información referida a individuos, empresas, instituciones, municipi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ajo coste – generalmente no existen costes asociados a los trabajos de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general tienen una menor carga para los informantes que las enc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7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REGISTROS ADMINISTRATIVOS - 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 CuadroTexto"/>
          <p:cNvSpPr/>
          <p:nvPr/>
        </p:nvSpPr>
        <p:spPr>
          <a:xfrm>
            <a:off x="260280" y="1844640"/>
            <a:ext cx="78408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 existir transparencia entre las Instituciones públicas, el flujo de información entre ellas permitiría un ahorro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existen errores de muestreo salvo que se tome una muestra del registro (ejemplo: MCVL de la Seguridad Social y muestra de declarantes de IRPF del IFE) y entre los errores ajenos al muestreo, la falta de respuesta es menor que en las encu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agregación a nivel subpob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alta de correspondencia entre unidades estadísticas y administrativas, así como códigos y perí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ás vinculados a la política que los datos de enc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8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ATOS DE ENCUESTA - 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CuadroTexto"/>
          <p:cNvSpPr/>
          <p:nvPr/>
        </p:nvSpPr>
        <p:spPr>
          <a:xfrm>
            <a:off x="260280" y="1844640"/>
            <a:ext cx="784080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gún la RAE: “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junto de preguntas tipificadas dirigidas a una muestra representativa, para averiguar estados de opinión o diversas cuestiones de hech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ermite tener información de la población objeto de estudio para aquellos ámbitos donde los registros administrativos no son su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ran capacidad para estandarizar datos, que se traduce en un buen tratamiento informático y en análisis estad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8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ATOS DE ENCUESTA Y REGISTROS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6 Grupo"/>
          <p:cNvGrpSpPr/>
          <p:nvPr/>
        </p:nvGrpSpPr>
        <p:grpSpPr>
          <a:xfrm>
            <a:off x="222120" y="1916280"/>
            <a:ext cx="7662960" cy="4367160"/>
            <a:chOff x="222120" y="1916280"/>
            <a:chExt cx="7662960" cy="4367160"/>
          </a:xfrm>
        </p:grpSpPr>
        <p:sp>
          <p:nvSpPr>
            <p:cNvPr id="91" name="1 CuadroTexto"/>
            <p:cNvSpPr/>
            <p:nvPr/>
          </p:nvSpPr>
          <p:spPr>
            <a:xfrm>
              <a:off x="2823480" y="191628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tuación id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2 Imagen" descr=""/>
            <p:cNvPicPr/>
            <p:nvPr/>
          </p:nvPicPr>
          <p:blipFill>
            <a:blip r:embed="rId1"/>
            <a:stretch/>
          </p:blipFill>
          <p:spPr>
            <a:xfrm>
              <a:off x="3126240" y="4771440"/>
              <a:ext cx="1416600" cy="15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3 Imagen" descr=""/>
            <p:cNvPicPr/>
            <p:nvPr/>
          </p:nvPicPr>
          <p:blipFill>
            <a:blip r:embed="rId2"/>
            <a:stretch/>
          </p:blipFill>
          <p:spPr>
            <a:xfrm>
              <a:off x="2823480" y="2501640"/>
              <a:ext cx="204660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4 Imagen" descr=""/>
            <p:cNvPicPr/>
            <p:nvPr/>
          </p:nvPicPr>
          <p:blipFill>
            <a:blip r:embed="rId3"/>
            <a:stretch/>
          </p:blipFill>
          <p:spPr>
            <a:xfrm>
              <a:off x="6274800" y="3293640"/>
              <a:ext cx="1610280" cy="17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5 Imagen" descr=""/>
            <p:cNvPicPr/>
            <p:nvPr/>
          </p:nvPicPr>
          <p:blipFill>
            <a:blip r:embed="rId4"/>
            <a:stretch/>
          </p:blipFill>
          <p:spPr>
            <a:xfrm>
              <a:off x="222120" y="3437640"/>
              <a:ext cx="1515600" cy="151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10 Flecha curvada hacia la derecha"/>
            <p:cNvSpPr/>
            <p:nvPr/>
          </p:nvSpPr>
          <p:spPr>
            <a:xfrm>
              <a:off x="1882440" y="3117960"/>
              <a:ext cx="787320" cy="2335320"/>
            </a:xfrm>
            <a:custGeom>
              <a:avLst/>
              <a:gdLst>
                <a:gd name="textAreaLeft" fmla="*/ 105480 w 787320"/>
                <a:gd name="textAreaRight" fmla="*/ 681840 w 787320"/>
                <a:gd name="textAreaTop" fmla="*/ 509760 h 2335320"/>
                <a:gd name="textAreaBottom" fmla="*/ 172692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435" stAng="-5400000" swAng="-5400000"/>
                  <a:lnTo>
                    <a:pt x="0" y="11256"/>
                  </a:lnTo>
                  <a:arcTo wR="21600" hR="9435" stAng="10800000" swAng="-3564662"/>
                  <a:lnTo>
                    <a:pt x="16200" y="21300"/>
                  </a:lnTo>
                  <a:lnTo>
                    <a:pt x="21600" y="19780"/>
                  </a:lnTo>
                  <a:lnTo>
                    <a:pt x="16200" y="17659"/>
                  </a:lnTo>
                  <a:lnTo>
                    <a:pt x="16200" y="18569"/>
                  </a:lnTo>
                  <a:arcTo wR="21600" hR="9435" stAng="7235338" swAng="3419159"/>
                  <a:lnTo>
                    <a:pt x="101" y="10345"/>
                  </a:lnTo>
                  <a:arcTo wR="21600" hR="9435" stAng="-10654497" swAng="5254497"/>
                  <a:close/>
                </a:path>
                <a:path fill="darkenLess" w="21600" h="21600">
                  <a:moveTo>
                    <a:pt x="21600" y="0"/>
                  </a:moveTo>
                  <a:arcTo wR="21600" hR="9435" stAng="-5400000" swAng="-5400000"/>
                  <a:lnTo>
                    <a:pt x="0" y="9435"/>
                  </a:lnTo>
                  <a:arcTo wR="21600" hR="9435" stAng="10800000" swAng="-145503"/>
                  <a:lnTo>
                    <a:pt x="101" y="10345"/>
                  </a:lnTo>
                  <a:arcTo wR="21600" hR="9435" stAng="-10654497" swAng="5254497"/>
                  <a:close/>
                </a:path>
              </a:pathLst>
            </a:cu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12 Flecha curvada hacia la derecha"/>
            <p:cNvSpPr/>
            <p:nvPr/>
          </p:nvSpPr>
          <p:spPr>
            <a:xfrm rot="10800000">
              <a:off x="5046120" y="3117600"/>
              <a:ext cx="788760" cy="2335320"/>
            </a:xfrm>
            <a:custGeom>
              <a:avLst/>
              <a:gdLst>
                <a:gd name="textAreaLeft" fmla="*/ 105480 w 788760"/>
                <a:gd name="textAreaRight" fmla="*/ 683280 w 788760"/>
                <a:gd name="textAreaTop" fmla="*/ 509760 h 2335320"/>
                <a:gd name="textAreaBottom" fmla="*/ 172692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432" stAng="-5400000" swAng="-5400000"/>
                  <a:lnTo>
                    <a:pt x="0" y="11257"/>
                  </a:lnTo>
                  <a:arcTo wR="21600" hR="9432" stAng="10800000" swAng="-3564183"/>
                  <a:lnTo>
                    <a:pt x="16200" y="21301"/>
                  </a:lnTo>
                  <a:lnTo>
                    <a:pt x="21600" y="19776"/>
                  </a:lnTo>
                  <a:lnTo>
                    <a:pt x="16200" y="17652"/>
                  </a:lnTo>
                  <a:lnTo>
                    <a:pt x="16200" y="18564"/>
                  </a:lnTo>
                  <a:arcTo wR="21600" hR="9432" stAng="7235817" swAng="3418357"/>
                  <a:lnTo>
                    <a:pt x="101" y="10344"/>
                  </a:lnTo>
                  <a:arcTo wR="21600" hR="9432" stAng="-10654174" swAng="5254174"/>
                  <a:close/>
                </a:path>
                <a:path fill="darkenLess" w="21600" h="21600">
                  <a:moveTo>
                    <a:pt x="21600" y="0"/>
                  </a:moveTo>
                  <a:arcTo wR="21600" hR="9432" stAng="-5400000" swAng="-5400000"/>
                  <a:lnTo>
                    <a:pt x="0" y="9432"/>
                  </a:lnTo>
                  <a:arcTo wR="21600" hR="9432" stAng="10800000" swAng="-145826"/>
                  <a:lnTo>
                    <a:pt x="101" y="10344"/>
                  </a:lnTo>
                  <a:arcTo wR="21600" hR="9432" stAng="-10654174" swAng="5254174"/>
                  <a:close/>
                </a:path>
              </a:pathLst>
            </a:cu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11 Flecha curvada hacia la izquierda"/>
            <p:cNvSpPr/>
            <p:nvPr/>
          </p:nvSpPr>
          <p:spPr>
            <a:xfrm rot="10800000">
              <a:off x="2021760" y="3567240"/>
              <a:ext cx="615960" cy="1311120"/>
            </a:xfrm>
            <a:custGeom>
              <a:avLst/>
              <a:gdLst>
                <a:gd name="textAreaLeft" fmla="*/ 82440 w 615960"/>
                <a:gd name="textAreaRight" fmla="*/ 533520 w 615960"/>
                <a:gd name="textAreaTop" fmla="*/ 270000 h 1311120"/>
                <a:gd name="textAreaBottom" fmla="*/ 96408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3475191"/>
                  <a:lnTo>
                    <a:pt x="5400" y="21317"/>
                  </a:lnTo>
                  <a:lnTo>
                    <a:pt x="0" y="19064"/>
                  </a:lnTo>
                  <a:lnTo>
                    <a:pt x="5400" y="16244"/>
                  </a:lnTo>
                  <a:lnTo>
                    <a:pt x="5400" y="17512"/>
                  </a:lnTo>
                  <a:arcTo wR="21600" hR="8898" stAng="3475191" swAng="-3271458"/>
                  <a:lnTo>
                    <a:pt x="21379" y="10166"/>
                  </a:lnTo>
                  <a:arcTo wR="21600" hR="8898" stAng="-203733" swAng="-5196267"/>
                  <a:close/>
                </a:path>
                <a:path fill="darkenLess"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-203733"/>
                  <a:lnTo>
                    <a:pt x="21379" y="10166"/>
                  </a:lnTo>
                  <a:arcTo wR="21600" hR="8898" stAng="-203733" swAng="-519626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15 Flecha curvada hacia la izquierda"/>
            <p:cNvSpPr/>
            <p:nvPr/>
          </p:nvSpPr>
          <p:spPr>
            <a:xfrm>
              <a:off x="5006880" y="3638520"/>
              <a:ext cx="615960" cy="1311120"/>
            </a:xfrm>
            <a:custGeom>
              <a:avLst/>
              <a:gdLst>
                <a:gd name="textAreaLeft" fmla="*/ 82440 w 615960"/>
                <a:gd name="textAreaRight" fmla="*/ 533520 w 615960"/>
                <a:gd name="textAreaTop" fmla="*/ 270000 h 1311120"/>
                <a:gd name="textAreaBottom" fmla="*/ 96408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3475191"/>
                  <a:lnTo>
                    <a:pt x="5400" y="21317"/>
                  </a:lnTo>
                  <a:lnTo>
                    <a:pt x="0" y="19064"/>
                  </a:lnTo>
                  <a:lnTo>
                    <a:pt x="5400" y="16244"/>
                  </a:lnTo>
                  <a:lnTo>
                    <a:pt x="5400" y="17512"/>
                  </a:lnTo>
                  <a:arcTo wR="21600" hR="8898" stAng="3475191" swAng="-3271458"/>
                  <a:lnTo>
                    <a:pt x="21379" y="10166"/>
                  </a:lnTo>
                  <a:arcTo wR="21600" hR="8898" stAng="-203733" swAng="-5196267"/>
                  <a:close/>
                </a:path>
                <a:path fill="darkenLess"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-203733"/>
                  <a:lnTo>
                    <a:pt x="21379" y="10166"/>
                  </a:lnTo>
                  <a:arcTo wR="21600" hR="8898" stAng="-203733" swAng="-519626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14 Flecha izquierda y derecha"/>
            <p:cNvSpPr/>
            <p:nvPr/>
          </p:nvSpPr>
          <p:spPr>
            <a:xfrm rot="8743200">
              <a:off x="1523160" y="2930760"/>
              <a:ext cx="865080" cy="288720"/>
            </a:xfrm>
            <a:prstGeom prst="leftRightArrow">
              <a:avLst>
                <a:gd name="adj1" fmla="val 50000"/>
                <a:gd name="adj2" fmla="val 50034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17 Flecha izquierda y derecha"/>
            <p:cNvSpPr/>
            <p:nvPr/>
          </p:nvSpPr>
          <p:spPr>
            <a:xfrm rot="8743200">
              <a:off x="5473440" y="5527800"/>
              <a:ext cx="863640" cy="288720"/>
            </a:xfrm>
            <a:prstGeom prst="leftRightArrow">
              <a:avLst>
                <a:gd name="adj1" fmla="val 50000"/>
                <a:gd name="adj2" fmla="val 50048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18 Flecha izquierda y derecha"/>
            <p:cNvSpPr/>
            <p:nvPr/>
          </p:nvSpPr>
          <p:spPr>
            <a:xfrm rot="12631800">
              <a:off x="5449680" y="2930760"/>
              <a:ext cx="865080" cy="288720"/>
            </a:xfrm>
            <a:prstGeom prst="leftRightArrow">
              <a:avLst>
                <a:gd name="adj1" fmla="val 50000"/>
                <a:gd name="adj2" fmla="val 50034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19 Flecha izquierda y derecha"/>
            <p:cNvSpPr/>
            <p:nvPr/>
          </p:nvSpPr>
          <p:spPr>
            <a:xfrm rot="12631800">
              <a:off x="1589760" y="5383080"/>
              <a:ext cx="863640" cy="287280"/>
            </a:xfrm>
            <a:prstGeom prst="leftRightArrow">
              <a:avLst>
                <a:gd name="adj1" fmla="val 50000"/>
                <a:gd name="adj2" fmla="val 50021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20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05" name="Picture 7" descr="logoief"/>
            <p:cNvPicPr/>
            <p:nvPr/>
          </p:nvPicPr>
          <p:blipFill>
            <a:blip r:embed="rId5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0 Imagen" descr="logo_eurosocial_rgb.jpg"/>
            <p:cNvPicPr/>
            <p:nvPr/>
          </p:nvPicPr>
          <p:blipFill>
            <a:blip r:embed="rId6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ATOS DE ENCUESTA Y REGISTROS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0 CuadroTexto"/>
          <p:cNvSpPr/>
          <p:nvPr/>
        </p:nvSpPr>
        <p:spPr>
          <a:xfrm>
            <a:off x="260280" y="191628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tuación real: matching (encuesta – encuesta, encuesta – reg. administrativo y reg. administrativo - reg. administrativo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3 Imagen" descr=""/>
          <p:cNvPicPr/>
          <p:nvPr/>
        </p:nvPicPr>
        <p:blipFill>
          <a:blip r:embed="rId1"/>
          <a:stretch/>
        </p:blipFill>
        <p:spPr>
          <a:xfrm>
            <a:off x="4933800" y="2732040"/>
            <a:ext cx="2590920" cy="2637000"/>
          </a:xfrm>
          <a:prstGeom prst="rect">
            <a:avLst/>
          </a:prstGeom>
          <a:ln w="0">
            <a:noFill/>
          </a:ln>
        </p:spPr>
      </p:pic>
      <p:pic>
        <p:nvPicPr>
          <p:cNvPr id="110" name="21 Imagen" descr=""/>
          <p:cNvPicPr/>
          <p:nvPr/>
        </p:nvPicPr>
        <p:blipFill>
          <a:blip r:embed="rId2"/>
          <a:stretch/>
        </p:blipFill>
        <p:spPr>
          <a:xfrm>
            <a:off x="468360" y="2833560"/>
            <a:ext cx="3610080" cy="2433600"/>
          </a:xfrm>
          <a:prstGeom prst="rect">
            <a:avLst/>
          </a:prstGeom>
          <a:ln w="0">
            <a:noFill/>
          </a:ln>
        </p:spPr>
      </p:pic>
      <p:sp>
        <p:nvSpPr>
          <p:cNvPr id="111" name="22 Flecha derecha"/>
          <p:cNvSpPr/>
          <p:nvPr/>
        </p:nvSpPr>
        <p:spPr>
          <a:xfrm>
            <a:off x="4253040" y="3500280"/>
            <a:ext cx="680760" cy="2890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4 Flecha derecha"/>
          <p:cNvSpPr/>
          <p:nvPr/>
        </p:nvSpPr>
        <p:spPr>
          <a:xfrm rot="10800000">
            <a:off x="4249800" y="3860280"/>
            <a:ext cx="682560" cy="28908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5 CuadroTexto"/>
          <p:cNvSpPr/>
          <p:nvPr/>
        </p:nvSpPr>
        <p:spPr>
          <a:xfrm>
            <a:off x="250920" y="5807160"/>
            <a:ext cx="79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as: dificultades técnicas y n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12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15" name="Picture 7" descr="logoief"/>
            <p:cNvPicPr/>
            <p:nvPr/>
          </p:nvPicPr>
          <p:blipFill>
            <a:blip r:embed="rId3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0 Imagen" descr="logo_eurosocial_rgb.jpg"/>
            <p:cNvPicPr/>
            <p:nvPr/>
          </p:nvPicPr>
          <p:blipFill>
            <a:blip r:embed="rId4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9:33:56Z</dcterms:created>
  <dc:creator>Nbadenes</dc:creator>
  <dc:description/>
  <dc:language>en-US</dc:language>
  <cp:lastModifiedBy>mila</cp:lastModifiedBy>
  <cp:lastPrinted>2013-06-17T08:58:45Z</cp:lastPrinted>
  <dcterms:modified xsi:type="dcterms:W3CDTF">2015-06-13T10:26:38Z</dcterms:modified>
  <cp:revision>479</cp:revision>
  <dc:subject/>
  <dc:title>Diapositiva 1</dc:title>
</cp:coreProperties>
</file>