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C379-651C-437D-B6FB-9909474CA30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Resultado encuesta: de los 397 hogares encuestados que recibían transferencias condicionadas, solo 114 eran además beneficiarios de pTF (menos del 29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F635-EBCB-4E5D-8FDA-ED016F39172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050-28DC-4EF9-9C95-F8EA00FD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CA3-4508-411A-B22D-7B964D6B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1C8-89D2-4625-BE6C-85E518F1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C2E-FB33-45A5-8C03-A1B696FC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457-389C-4116-B9E5-9A9D9F79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D90-7BC3-423B-8F9F-EE53317E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C4F-89DE-4F5B-A999-E31C5B75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32C-7982-44ED-B261-D2081BD4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F76-AB1B-40BD-9615-4815B1D0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512-403A-42C7-BAF1-37077137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229-373B-4DF4-9D55-D4CF9B76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12A-7DC9-44CF-8F5E-A1ED840B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FA1A-6599-4C15-99DD-C66B07516EA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SINERGIAS PROGRAMAS TRANSFERENCIAS Y FOMENTO PRODUC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Francisco Aguir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RIMI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Políticas Públ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Cuál es la mejor herramienta para apoyar a personas en situación de pobrez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81% programas que mejoren sus capac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7% entrega de bo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unque se desconfía del mecanismo, la respuesta estatal va en esa dire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RESPUESTA INTEGR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mbinar la inversión en Capital Humano que realizan los PTC con la inversión en personas, capital social y los territorios que realizan los PF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¿Cuáles son las Restricciones Políticas e Institucionales para Complementar Iniciativas PTC y PFP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Las instituciones se distribuyen la población, pero no hay articula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xiste competencia por recursos limitad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Deficiente identificación de la población objetivo que impide focaliz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Culturas institucionales que cuesta superar en plazos cor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n algunos casos, algunas medidas de protección social pueden generar desincentivos para la inversión en fomento productiv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Evaluaciones deficien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¿Qué Ventajas tiene la Articulació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os PTC, además de los impactos en K Humano, tiene efectos en las economías loc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uando son miradas territoriales los impactos se multiplican (al contrario de los programas que se concentran en familias). Ej. Nicaragu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vidente relación entre la situación de pobreza y la carencia de ingresos y el potencial de los PFP para incrementar la capacidad de generación de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¿Qué Ventajas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tribución de los PTC en generar habilidades básicas para aprovechar de mejor forma los programas de fomento produc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odavía hay muchos recursos productivos en manos de la población en situación de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DIFICULT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a lógica del egreso segmenta a las institu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iculación obligada (Chile Emprend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uando la articulación se da entre programas específi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os PTC y PFP trabajan con criterios de focalización distintos (Ej. Evaluación 2012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ipo de usuario: escasa habilidad para desempeñarse como usuario de la oferta pública y sostener un emprendimien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PELIG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reación de una oferta de fomento productivo exclusiva para beneficiarios PTC. No se darían los efectos multiplicadores en el territo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TEMAS PARA UNA RUTA DE TRABA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uesta en Marc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Formación de los a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pacit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lacionamiento con otras inicia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scentraliz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lidad de las proupestas técn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6:29:13Z</dcterms:created>
  <dc:creator>Francisco</dc:creator>
  <dc:description/>
  <dc:language>en-US</dc:language>
  <cp:lastModifiedBy>ablanco</cp:lastModifiedBy>
  <dcterms:modified xsi:type="dcterms:W3CDTF">2014-11-26T17:14:53Z</dcterms:modified>
  <cp:revision>9</cp:revision>
  <dc:subject/>
  <dc:title>SINERGIAS PROGRAMAS TRANSFERENCIAS Y FOMENTO PRODUCTIVO</dc:title>
</cp:coreProperties>
</file>