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68E6-7DFE-4629-BB03-765B68CBDE5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Resultado encuesta: de los 397 hogares encuestados que recibían transferencias condicionadas, solo 114 eran además beneficiarios de pTF (menos del 29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0175-9AA4-45E4-ABBB-11F606F5093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86D-8376-423E-B18F-FEE386E4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62EA-7FB1-400E-9CD7-5D2A7110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C46-80E6-4A0B-8481-F5AAD89F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CCB-785C-453D-8010-AC42CB58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30F-E1BB-4C77-9890-80E671BA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DD0-CD80-4AF4-89EA-30D948FC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FB29-74EB-4550-8E2E-4CEC7225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DF7-316B-4722-9022-951E352C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82D-A5D5-45C8-A0C4-1565D3A6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50BA-9BA8-44E9-BD52-C87DD8BA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F71-5B5E-496A-B3FE-ED23EF29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A455-1A6E-47C1-B86D-CFE1440C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996B-0DD2-4E4B-9CCA-9F66CBC254D4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SINERGIAS PROGRAMAS TRANSFERENCIAS Y FOMENTO PRODUC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Francisco Aguir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RIMI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Políticas Públ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Cuál es la mejor herramienta para apoyar a personas en situación de pobrez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81% programas que mejoren sus capac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7% entrega de bon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unque se desconfía del mecanismo, la respuesta estatal va en esa direc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RESPUESTA INTEGR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mbinar la inversión en Capital Humano que realizan los PTC con la inversión en personas, capital social y los territorios que realizan los PF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CL" sz="3200" spc="-1" strike="noStrike">
                <a:solidFill>
                  <a:srgbClr val="ff0000"/>
                </a:solidFill>
                <a:latin typeface="Calibri"/>
              </a:rPr>
              <a:t>¿Cuáles son las Restricciones Políticas e Institucionales para Complementar Iniciativas PTC y PFP?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Las instituciones se distribuyen la población, pero no hay articulació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Existe competencia por recursos limitad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Deficiente identificación de la población objetivo que impide focaliz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Culturas institucionales que cuesta superar en plazos corto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En algunos casos, algunas medidas de protección social pueden generar desincentivos para la inversión en fomento productiv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Evaluaciones deficien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¿Qué Ventajas tiene la Articulació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Los PTC, además de los impactos en K Humano, tiene efectos en las economías loc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Cuando son miradas territoriales los impactos se multiplican (al contrario de los programas que se concentran en familias). Ej. Nicaragu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Evidente relación entre la situación de pobreza y la carencia de ingresos y el potencial de los PFP para incrementar la capacidad de generación de ingre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¿Qué Ventajas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ntribución de los PTC en generar habilidades básicas para aprovechar de mejor forma los programas de fomento produc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odavía hay muchos recursos productivos en manos de la población en situación de pobr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DIFICULT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La lógica del egreso segmenta a las institu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rticulación obligada (Chile Emprend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Cuando la articulación se da entre programas específic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Los PTC y PFP trabajan con criterios de focalización distintos (Ej. Evaluación 2012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Tipo de usuario: escasa habilidad para desempeñarse como usuario de la oferta pública y sostener un emprendimien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PELIG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reación de una oferta de fomento productivo exclusiva para beneficiarios PTC. No se darían los efectos multiplicadores en el territo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TEMAS PARA UNA RUTA DE TRABAJ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uesta en Marc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Formación de los ac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apacit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lacionamiento con otras iniciativ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escentraliza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alidad de las proupestas técn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16:29:13Z</dcterms:created>
  <dc:creator>Francisco</dc:creator>
  <dc:description/>
  <dc:language>en-US</dc:language>
  <cp:lastModifiedBy>ablanco</cp:lastModifiedBy>
  <dcterms:modified xsi:type="dcterms:W3CDTF">2014-11-26T17:14:53Z</dcterms:modified>
  <cp:revision>9</cp:revision>
  <dc:subject/>
  <dc:title>SINERGIAS PROGRAMAS TRANSFERENCIAS Y FOMENTO PRODUCTIVO</dc:title>
</cp:coreProperties>
</file>