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BA8-1778-4CD7-AFD8-96E08FF7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922-02AE-46C8-8B1B-2336EE75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054-F122-45A7-A8E1-54233D94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373-A969-48CE-9A96-88A6C49C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6638-1067-4E36-8829-9BA66C74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C0F3-FDBE-46EB-8446-7B673B32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1F0-EEEF-435E-BA41-2C60F9B3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38BE-CE00-4213-9A22-9E9C86A5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310C-2998-489C-AB8A-DA66D298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7A11-350A-4C26-A1BE-33CBD2CF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AD6D-F973-4939-B3B7-AF40C126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72F-EDCA-418C-9D1C-4960C051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993A-EF66-46ED-9AE1-EA46DC4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140C-4F66-4D8A-8B37-F32B6DE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394B-A114-46E5-A183-F2012458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8464-13B2-469C-8E23-35A515B7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EAC8-DA5D-4B9F-AB39-1D38DD8D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B659-7947-44C7-A623-5EF29C62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E082-68EE-483F-B927-F740742D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B11C-33B2-4A29-8FEA-E714F9F6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5743-72CE-41CA-B127-4D16F7B8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B42C-3A61-4541-BCEE-D9699E7A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AB1-5B1D-437E-A83D-D2008F0A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25F2-3CA4-47A2-9428-301CA776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F661-F6F2-4438-AA36-897FD9B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25D1-691A-4F78-8B81-F2FCE479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4E417-83C7-4C7D-B102-59CD8DD4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9F8C-637E-4E93-8193-92589301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7B9D-0A5E-4902-A2E2-F5461344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299D-E483-44FE-8CF5-0E8CEC38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35ED-44B6-4F4B-9B1E-F7527857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1EC4-9BE6-4773-8358-7FB59A4E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B92B-A0B4-4816-AEB1-900C727B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5E7-7E21-4C6C-ABAF-8D0AB6A8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B556-E33C-490D-857C-BED22032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73D0-4706-4E89-8311-6559F34E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193C-2721-4F0E-BF0B-957A0CDF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3FA1-319A-44E4-89F5-31BE0B6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D300-076E-4F52-8DD6-7DB97BAD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6D3B-A7B6-4B10-8729-0F239C5C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A8F1-2C05-447D-9DE0-189763E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67BE-5634-4E9C-A347-B4698300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BAD2-54CB-4795-B572-C12ABBDA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7F8-21FB-4014-A8D3-8681D7D8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07C-79A1-4A89-8360-5A8B9A8B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A4F-C670-4FA3-942A-53C5974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2C7-B804-4C55-AF21-8CDA76EE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DC2-CBC8-431E-921E-83EC690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6DD5-0772-477F-9382-2296A547F23E}" type="slidenum">
              <a:rPr b="0" lang="pt-BR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A913-4F8E-4D13-9661-96877E6BCD92}" type="slidenum">
              <a:rPr b="0" lang="pt-BR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92AB-DDE7-496B-8DA5-52343B77AD3D}" type="slidenum">
              <a:rPr b="0" lang="pt-BR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8BE5-DFF4-410E-A6EF-120975287053}" type="slidenum">
              <a:rPr b="0" lang="pt-BR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64646"/>
                </a:solidFill>
                <a:latin typeface="Arial"/>
                <a:ea typeface="Arial"/>
              </a:rPr>
              <a:t>Seminario - Taller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0920" y="1700280"/>
            <a:ext cx="80643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c767c"/>
                </a:solidFill>
                <a:latin typeface="Arial"/>
                <a:ea typeface="Arial"/>
              </a:rPr>
              <a:t>Experiencias en la Articulación de Política Social y Económica Productiv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c767c"/>
                </a:solidFill>
                <a:latin typeface="Arial"/>
                <a:ea typeface="Arial"/>
              </a:rPr>
              <a:t>Experiencia Brasileñ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26/11/2014  -  GUATEMALA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76360" y="6093000"/>
            <a:ext cx="65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árcia Helena Carvalho L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372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464646"/>
                </a:solidFill>
                <a:latin typeface="Arial"/>
                <a:ea typeface="Arial"/>
              </a:rPr>
              <a:t>Gestión del HAMBRE CERO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507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inisterio Extraordinario de Seguridad Alimentaria (MESA)- 200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reación del GT Hambre Cero, con 13 ministerios, bajo la coordinación del MDS- Ministerio de Desarrollo Social y Combate al Hambre – 200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pertura del Consejo Nacional de Seguridad Alimentaria y Nutricional (CONSEA), con representación del  gobierno (1/3) y sociedad civil (2/3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464646"/>
                </a:solidFill>
                <a:latin typeface="Arial"/>
                <a:ea typeface="Arial"/>
              </a:rPr>
              <a:t>Gestión del HAMBRE CERO</a:t>
            </a:r>
            <a:br>
              <a:rPr sz="4300"/>
            </a:b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 (CONTINUACIÓN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2133720"/>
            <a:ext cx="850572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nstantia"/>
              </a:rPr>
              <a:t>Legislación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LOSAN- Legislación Nacional de Seguridad Alimentaria y Nutricional- 200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Reforma al articulo 6 de la Constitución, para incluir alimentación como derecho social - 200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Legislación federal para  la Agricultura Familiar, que determina 30% de la alimentacion escolar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464646"/>
                </a:solidFill>
                <a:latin typeface="Arial"/>
                <a:ea typeface="Arial"/>
              </a:rPr>
              <a:t>Gestión del HAMBRE CERO</a:t>
            </a:r>
            <a:br>
              <a:rPr sz="4300"/>
            </a:b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 (CONTINUACIÓN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000" y="1959120"/>
            <a:ext cx="85057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ISAN- Câmara Interministerial de SAN, con 19 ministéri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lan Nacional de Seguridad Alimentaria y Nutricional, con base en el SIS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nferencias nacionales, estaduales, regionales y municipales de S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d de SAN, pública y privada (con la participación de varios sectores privados y comunitarios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RESULTADO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160128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umplimiento del primer Objetivo del Milenio- reducción de 50% de la hambre y pobreza en 2010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2 millones dejaron la extrema pobreza y 40 millones acenderan para la clase med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ducción de 58% de la mortalidad infantil por desnutrición y 46% por la diarre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isminución de la desigualdad entre ricos y pobres- C. GINI muda de 58,7 en 2003 para 51,9  en 201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RESULTADOS </a:t>
            </a:r>
            <a:r>
              <a:rPr b="1" lang="pt-BR" sz="2400" spc="-1" strike="noStrike">
                <a:solidFill>
                  <a:srgbClr val="464646"/>
                </a:solidFill>
                <a:latin typeface="Calibri"/>
              </a:rPr>
              <a:t>(continuación)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0920" y="13982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recimiento expresivo de produción e inversión en la Agricultura Familiar (de 2 para USD 30 billones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xpansión de los servicios públicos básicos: energía, saneamiento, viviendas, educación Infantil, cualificación profesional de jovenes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nstrucción de Sistemas Públicos- SISAN, SUAS, SNC.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n nuevo salto de calidad y cantidad: Brasil sin Miséria - 20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PERSPECTIVA DE LA TERRITORIALIZACIÓN 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3640" y="2389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ILTON SANTO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PUNTA A QUE EL DRAMA SOCIAL, EL DRAMA DE LA NACIÓN ES MUCHO MÁS VISIBLE A TRAVÉS DEL TERRITORIO, QUE POR INTERMEDIO DE CUALQUIER OTRA INSTANCIA DE LA SOCIEDAD. MI IMPRESIÓN ES QUE EL TERRITORIO, REVELA LAS CONTRADICCIONES DE MANERA MUCHO MÁS FUERT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DESAFIO DE LA TERRITORIALIZACIÓN 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389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Es  en el TERRITORIO que la  realidad de la VIDA COLECTIVA se da. Es en ese espacio en el cual acontece la reproducción de la existencia  y toda la contradicción del modelo de Producción Económico, Social y Polític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DESAFIO DE LA TERRITORIALIZACIÓN </a:t>
            </a:r>
            <a:r>
              <a:rPr b="1" lang="pt-BR" sz="2400" spc="-1" strike="noStrike">
                <a:solidFill>
                  <a:srgbClr val="464646"/>
                </a:solidFill>
                <a:latin typeface="Calibri"/>
              </a:rPr>
              <a:t>(continuación) 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LA RELACIÓN ENTRE TERRITORIO Y GESTIÓN TIENE DOS RECORTES FUNDAMENTALE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bertura territorial de la responsabilidad de la autoridad gestora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a incidencia territorial de los factores que caracterizan una población como demandante de las atenciones de las políticas publicas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92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DESAFIO DE LA TERRITORIALIZACIÓN </a:t>
            </a:r>
            <a:r>
              <a:rPr b="1" lang="pt-BR" sz="2400" spc="-1" strike="noStrike">
                <a:solidFill>
                  <a:srgbClr val="464646"/>
                </a:solidFill>
                <a:latin typeface="Calibri"/>
              </a:rPr>
              <a:t>(continuación) 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La lógica TERRITORIAL puede constituirse en un indicador de  DEMOCRATIZACIÓN de la  ATENCIÓN A LAS NECESIDADES SOCIALES de los diversos segmentos pobl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l TERRITORIO congrega las dimensiones – Objetiva e Subjetiva-  que se expresan de forma concreta através de las manifestaciones de sufrimientos, deseos y expectativ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840" y="549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ALGUNAS CONCLUSIONE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 hay derecho social sin la garantía d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l derecho social a la protección social y productiva se expresa por la oferta y regulación, por el Estado, de los servicios y beneficios de protección social e inclusión productiv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l derecho social hace a la protección social y productiva más efectiva, reduciendo vulnerabilidades e incertidumbres e, igualando oportunidades y garantías de acceso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528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"SI AL FINAL DE MI GOBIERNO, TODOS LOS BRASILEÑOS PUEDEN TENER ALIMENTACIÓN  3 VECES AL DIA, HABRÉ HECHO LA MISION DE MI VIDA"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                          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Luis Inácio Lula da Silva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01/01/200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AutoShape 2"/>
          <p:cNvSpPr/>
          <p:nvPr/>
        </p:nvSpPr>
        <p:spPr>
          <a:xfrm>
            <a:off x="206280" y="-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06280" y="-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http://upload.wikimedia.org/wikipedia/commons/thumb/3/3c/Lula_-_foto_oficial05012007_edit.jpg/200px-Lula_-_foto_oficial05012007_edit.jpg"/>
          <p:cNvPicPr/>
          <p:nvPr/>
        </p:nvPicPr>
        <p:blipFill>
          <a:blip r:embed="rId1"/>
          <a:stretch/>
        </p:blipFill>
        <p:spPr>
          <a:xfrm>
            <a:off x="7020000" y="378936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972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LECCIONES APRENDIDA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Compromiso y convicción de que es posible garantizar el derecho por la alimentación adecuada a toda la población,  con fuerte impacto social y 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Conducción  política que logra reunir todas las fuerzas de la socie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Articulación y integración entre las políticas sectoriales y transvers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Apropiación de los diagnósticos, estudios territoriales y sistemas de información y monitoreo de las reali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Adopción de un Marco legal, para consolidación de la Política Social y Económica Produc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9720" y="64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464646"/>
                </a:solidFill>
                <a:latin typeface="Calibri"/>
              </a:rPr>
              <a:t>LECCIONES APRENDIDAS</a:t>
            </a:r>
            <a:br>
              <a:rPr sz="4500"/>
            </a:b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(continuación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9840" y="1961640"/>
            <a:ext cx="898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ordinación colegiada y participativa con los estados y municip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Garantizar escala nacional y consolidar áreas prioritár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esponder con resultados fact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Transparencia  y Cred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municación cre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Importancia del apoyo de los Organismos Internac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71280" y="907920"/>
            <a:ext cx="7497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pt-BR" sz="4800" spc="-1" strike="noStrike">
                <a:solidFill>
                  <a:srgbClr val="000000"/>
                </a:solidFill>
                <a:latin typeface="Constantia"/>
              </a:rPr>
              <a:t>EL FIN DE LA MISERIA ES SOLO EL INICIO“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onstantia"/>
              </a:rPr>
              <a:t>Márcia H. Carvalho Lop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onstantia"/>
              </a:rPr>
              <a:t>marciahclopes@gmail.com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6025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Calibri"/>
              </a:rPr>
              <a:t>CONTEXTO HISTÓRICO EN BRASIL HASTA 1988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0028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ALARMANTES DE POBREZA Y DESIGUALDAD – 1/3 DE LA POBL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DO AUTORITARIO, CENTRALIZADOR, DISTANTE DE LA SOCIEDAD, OMISO EN SUS FUN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CONOMIA DEPENDI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OLÍTICAS SOCIALES UTILITARISTAS, PUNTUALES, ASISTEMÁT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6720" y="620280"/>
            <a:ext cx="8747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Calibri"/>
              </a:rPr>
              <a:t>CONSTITUCIÓN FEDERAL DE 1988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DO DEMOCRÁTICO DE DERECH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OVIMENTOS SOCIALES CON PROTAGONISMO POLÍT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AMBIO DE PARADIGMAS EN LA GESTIÓN PÚBL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RTALECIMENTO DEL PACTO FEDERATIVO (UNIÓN, ESTADOS Y MUNICIPI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IRECTRICES CONSTITUCIO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niversalización de acceso a los derech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scentralización político / administrat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la socie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4720" y="476280"/>
            <a:ext cx="87472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64646"/>
                </a:solidFill>
                <a:latin typeface="Calibri"/>
              </a:rPr>
              <a:t>TRANSFORMACIONES DE LA POLÍTICA SOCIAL  LUEGO DE LA CONSTITUCIÓN DE 1988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699920"/>
            <a:ext cx="8763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IRMACIÓN AMPLIADA DE LOS DERECHOS SOCIAL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PÚBLICA Y CIUDADANÍA SOCI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SCENTRALIZACIÓN Y PARTICIPACIÓN SOCI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NIVERSALIZACIÓN DE LA COBERTURA DE LOS BENEFÍCIOS Y SERVICIOS SOCIAL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ORIENTACIÓN Y CREACIÓN DE POLÍTICAS Y PROGRAMA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GRESIVA AMPLIACIÓN EN LOS ÚLTIMOS 20 AÑO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MERGENCIA DE LAS POLÍTICAS TRANSVERSALE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MPORTANTE ESFUERZO DE FINANCIAMIENTO: CRECIMIENTO DEL GASTO SOCI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CIÓN DEL SISTEMA BRASILEÑO DE PROTECIÓN SOCI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Calibri"/>
              </a:rPr>
              <a:t>UN NUEVO TIEMPO, UNA NUEVA CONSTRUCCIÓN 2003 - </a:t>
            </a: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2010 y 2011 - 2014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7720" y="1584360"/>
            <a:ext cx="889308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20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OCIEDAD MOVILIZADA, ORGANIZADA, CRÍTICA Y PROTAGONIS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20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PERIENCIAS ACUMULADAS EN LA GESTIÓN LOCAL / MUNICIP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20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LIMA POLÍTICO FAVORABLE EN EL ESCENARIO INTERNACION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CIÓN Y DECISIÓN POLÍTICA CLARA, SINTETIZADA EN LA ESTRATEGIA DE INTEGRACIÓN Y ARTICULACIÓN DE ACCIONES PÚBLICAS COMUNITARIAS EN EL COMBATE AL HAMBRE, A LA POBREZA Y DESIGUALDAD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8000"/>
                </a:solidFill>
                <a:latin typeface="Arial"/>
                <a:ea typeface="Arial"/>
              </a:rPr>
              <a:t>HAMBRE CERO Y BRASIL SIN MISERI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37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464646"/>
                </a:solidFill>
                <a:latin typeface="Calibri"/>
              </a:rPr>
              <a:t>DIRECTRICES TÉCNICO/POLÍTICA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9640" y="1874880"/>
            <a:ext cx="822960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RECIMIENTO ECONÓMICO CON DISTRIBUCIÓN DE GANANCI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SARROLLO ECONÓMICO Y SOCIAL EN PERMANENTE ARTICUL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SPETO A LA DIVERSIDAD TERRITORIAL, ETNICA RACIAL, DE GÉNERO Y CULTURAL DEL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464646"/>
                </a:solidFill>
                <a:latin typeface="Calibri"/>
              </a:rPr>
              <a:t>DIRECTRICES TÉCNICO/POLÍTICAS </a:t>
            </a:r>
            <a:r>
              <a:rPr b="1" lang="pt-BR" sz="2500" spc="-1" strike="noStrike">
                <a:solidFill>
                  <a:srgbClr val="464646"/>
                </a:solidFill>
                <a:latin typeface="Calibri"/>
              </a:rPr>
              <a:t>(CONTINUACIÓN)</a:t>
            </a:r>
            <a:endParaRPr b="0" lang="en-US" sz="2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9280" y="213336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PÍRITU REPUBLICANO EN LA GESTIÓN PÚBLICA Y EN LAS RELACIONES POLÍTICO / INSTITUCIO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ERSPECTIVA INTERSECTORIALES Y TRANSVERSALES DE LAS POLITICAS PÚBL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DOPCIÓN DE LA SEGURIDAD ALIMENTARIA Y NUTRICIONAL – SAN, BASADO EN LOS PRINCIPIOS DEL DERECHO HUMANO A LA ALIMENTACIÓN ADECUADA (DHAA) Y DE LA SOBERANIA ALIMEN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HAMBRE CERO </a:t>
            </a:r>
            <a:r>
              <a:rPr b="1" lang="pt-BR" sz="2400" spc="-1" strike="noStrike">
                <a:solidFill>
                  <a:srgbClr val="464646"/>
                </a:solidFill>
                <a:latin typeface="Arial"/>
                <a:ea typeface="Arial"/>
              </a:rPr>
              <a:t>– una estrategia de articulación con varios componentes de las políticas públicas.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2840" y="1963440"/>
            <a:ext cx="9028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ioridad para 4 Programas con gran escala nacional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Bolsa Família- 14 millones de famílias / U$ 12 mil mill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limentación Escolar- 47 millones de niños (univers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A - Compra Directa de Alimentos de la Agricultura Famili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NAF- Programa Nacional de Fortalecimiento de la Agricultura Familiar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egración y articulación de 35 Programas/Proyectos de 13 ministérios en el area de Seguridad Alimentaria y Nutricional: 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producción, suministro, comercialización y acceso a los alimentos.</a:t>
            </a:r>
            <a:br>
              <a:rPr sz="2400"/>
            </a:b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3:02:05Z</dcterms:created>
  <dc:creator>Marcia Lopes</dc:creator>
  <dc:description/>
  <dc:language>en-US</dc:language>
  <cp:lastModifiedBy>Usuario</cp:lastModifiedBy>
  <dcterms:modified xsi:type="dcterms:W3CDTF">2014-12-11T21:58:55Z</dcterms:modified>
  <cp:revision>153</cp:revision>
  <dc:subject/>
  <dc:title>Política Social e Cidadania</dc:title>
</cp:coreProperties>
</file>