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38.png" ContentType="image/png"/>
  <Override PartName="/ppt/media/image37.png" ContentType="image/png"/>
  <Override PartName="/ppt/media/image30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7.wmf" ContentType="image/x-wmf"/>
  <Override PartName="/ppt/media/image41.png" ContentType="image/png"/>
  <Override PartName="/ppt/media/image9.wmf" ContentType="image/x-wmf"/>
  <Override PartName="/ppt/media/image14.png" ContentType="image/png"/>
  <Override PartName="/ppt/media/image2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1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29.png" ContentType="image/png"/>
  <Override PartName="/ppt/media/image63.jpeg" ContentType="image/jpe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110.png" ContentType="image/png"/>
  <Override PartName="/ppt/media/image24.png" ContentType="image/png"/>
  <Override PartName="/ppt/media/image96.png" ContentType="image/png"/>
  <Override PartName="/ppt/media/image103.png" ContentType="image/png"/>
  <Override PartName="/ppt/media/image86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85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58.wmf" ContentType="image/x-wmf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57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8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  <p:sldId id="278" r:id="rId59"/>
    <p:sldId id="279" r:id="rId60"/>
    <p:sldId id="280" r:id="rId61"/>
    <p:sldId id="281" r:id="rId62"/>
    <p:sldId id="282" r:id="rId63"/>
    <p:sldId id="283" r:id="rId64"/>
    <p:sldId id="284" r:id="rId65"/>
    <p:sldId id="285" r:id="rId66"/>
    <p:sldId id="286" r:id="rId67"/>
    <p:sldId id="287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slide" Target="slides/slide23.xml"/><Relationship Id="rId60" Type="http://schemas.openxmlformats.org/officeDocument/2006/relationships/slide" Target="slides/slide24.xml"/><Relationship Id="rId61" Type="http://schemas.openxmlformats.org/officeDocument/2006/relationships/slide" Target="slides/slide25.xml"/><Relationship Id="rId62" Type="http://schemas.openxmlformats.org/officeDocument/2006/relationships/slide" Target="slides/slide26.xml"/><Relationship Id="rId63" Type="http://schemas.openxmlformats.org/officeDocument/2006/relationships/slide" Target="slides/slide27.xml"/><Relationship Id="rId64" Type="http://schemas.openxmlformats.org/officeDocument/2006/relationships/slide" Target="slides/slide28.xml"/><Relationship Id="rId65" Type="http://schemas.openxmlformats.org/officeDocument/2006/relationships/slide" Target="slides/slide29.xml"/><Relationship Id="rId66" Type="http://schemas.openxmlformats.org/officeDocument/2006/relationships/slide" Target="slides/slide30.xml"/><Relationship Id="rId67" Type="http://schemas.openxmlformats.org/officeDocument/2006/relationships/slide" Target="slides/slide31.xml"/><Relationship Id="rId68" Type="http://schemas.openxmlformats.org/officeDocument/2006/relationships/slide" Target="slides/slide32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dt" idx="8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86C12-D463-4283-AEC3-47B8EA7E61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 type="ftr" idx="8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 type="sldNum" idx="8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F317B-AC55-482C-BCBD-57BF64F4D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Las familias son diagnosticadas por el gestor famili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JE realiza un diagnóstico de la familia. En base a este diagnóstico se determina la trayectoria de la familia en el IEF, que implica definir el tipo de Acompañamiento que requiere, ya sea Apoyo Social, Apoyo Laboral o amb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 ingresar al Acompañamiento familias y personas comienzan a recibir transferencias monetarias y acceden a la oferta de programas y servicios públicos y priv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urante la ejecución del Componente Acompañamiento el EJE efectúa un seguimiento a las familias participa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Finalmente, al terminar su participación el EJE realiza una Evaluación del proce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358A9-F53A-4246-AC58-CAFF8AB6F9B2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B5D5D-9A00-4096-98FB-01194DDA2006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71295-1695-4719-B39A-504DC3166A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A69F6-0DFD-4059-BD86-D68172D2D4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6D9D5-8FA4-4253-93D0-F78AF6523E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6A575-690A-41AD-85A3-1260FFC61A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B6B42-51A3-4476-9111-C063627BB5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3DEEE-373D-4FB8-B121-29E98D8C3C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2E0C0-92B4-4814-9793-D143110348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919A2-DEE0-4747-B4B0-2E4CF464B5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60917-4F4D-43CA-B966-CEABB6A72C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E4290-53AB-4058-A976-063082091722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157BA-E12D-4926-9F65-CF7E991565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90E14-4077-483A-9B23-CC071EC4CC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4E798-CDA3-40CF-BB58-7553E13382E7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F7037-0BF8-46F2-9FCE-1F4938D4A3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5C73C-C517-4687-9C60-AFEC76E4FA3E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DF5A1-C552-4395-A6BA-D84F85FC7F03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8FAE5-FB41-44D8-80CD-1BE7E1D95B5F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87AF8-130D-4EB4-8904-1850D12CD5A4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B9F33-2157-4765-BD5E-DD925681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EA89D-9D14-4F5F-861E-12F7CA17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8D266-F889-4E5F-B6F3-1E460EC4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4A797-65E9-4F28-8975-1E54CECC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ED063-1A3A-43E0-A7D3-035F6C72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3FD2A-0ACE-4612-B640-A7F4CFC0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3C702-2B26-4238-B25B-1011CE44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AB04F-8B81-49C5-A631-2B9347E7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CFC3C-4618-44F3-9A97-5D3D090D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1AABD2-2D2A-4F02-9DEA-5EE5917E3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2825D-4F7F-412E-AD35-58F8E83DF35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FDFED8-0E9F-4CA0-9B50-1900FE39D21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69AC9B-596A-4815-B276-EC39BC778CE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B5C8F0-6F88-4A3E-A1FD-B79DE6A735A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D681B0-2A16-48DB-9435-B16C6A1200B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2E543E-ACAC-4744-992E-FB1ACCFD52A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5DA210-79E9-467E-A762-E172938B41F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8DE74E-3573-4FA0-AF1A-60A969CC748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C13A36-C088-4DC7-8910-D01F55B93E9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3ACF61-356F-4416-8BDD-E9A58E801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7B71BD-76B7-4D5D-B8C2-79D81EE79B2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83325D-821C-470C-A0EB-4B0C04D0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7D90EB-5488-4E32-B423-B30DCF70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AAC0F3-735C-437A-9053-8B519982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E9F1EC-A5A8-483C-97A4-C82051EA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3614A8-1C93-456F-9233-4FEA6636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4F2A7C-158A-42BB-A479-59522867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730D39-3608-4A24-8DD1-D2E38F2F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A11379-730B-4A3E-BE72-9107805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3B9A15-4716-48E2-8C3B-29D6AD49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4A53-660D-40E5-B88C-9A34E55313E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D34E0F-0735-45D5-A097-65960F2D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657469-E2EB-4014-BFA8-3E64E717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83FE2F-C991-484E-9D2F-DECB978D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A5DB3-1A91-4E23-8D7F-2A94A88F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8B0A6-B09F-4ABE-A6FD-FF5F9B08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A5FF8-ADF5-4AAB-90F0-9AC705E9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3D8E3-121B-4EDB-9537-08D1C2E6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8F23A-3CCC-4858-B084-FB839D9A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CFEDB-A437-4F04-AC0F-58ABA476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C86D9-2245-4579-9EE9-9B48AD01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DD44-22E1-4EAE-B91E-C6A5E24D050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BB5EE-007E-403B-8D4F-2C2B18D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BB2FB-2B92-4EE1-9DC3-FAECDB5B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874A9-073D-4B50-90A2-2A4B676B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114E5-6984-4C73-ACD4-F488F759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F12DE-9E88-4C96-9EAC-DB9D10CF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C7D71-FE56-48AD-8592-9C10C612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3F902-88B5-4800-87A3-70CBE415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FB87E-E76C-454F-8836-2C45E24D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8CB42-7C28-49EA-8BC1-A2FFD54C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C8A18-6269-4EE7-ABB1-C6BD18FD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8966-5AE7-4C0A-83C9-1FEA90494AC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15CC0-98BD-4A94-B2CB-0F49E631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BDD42-51BB-4E13-A25E-778C58A6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8EB8E-E65F-4E72-987E-F663751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942AE-0288-41FE-A5EE-19B1F7B6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912B8-5009-4493-BFD8-22894865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A265E-327F-4333-BEC6-CE7DF36A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61451-BFB8-4DDF-A644-0225442A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F8036-5527-4835-8182-0F562B08E33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315BE-4626-4246-B218-7F50CBB5338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76CF8-A1D8-43D5-BC3E-26ABB4A983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A9D2-B89F-4DC5-8FFF-C8F86CC50CF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F2650-67FB-44A6-85E1-8D07EA51375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63661-7BA6-410E-8F29-52C0DC86210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A8B67-A7DC-400F-AB18-9DF1E365CED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741CB-7D3A-40B8-8016-71CC34B91DC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4D4F3-5420-49BE-BEE2-733F8ABCE94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D4B75-58D9-4EA6-A66F-1B00DBC4ED0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8748D-801A-47C2-AA90-D2C2F5286B0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D718C-A174-42BE-A1E6-954A8F0E657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543C8-59BB-4B24-9ACC-61D4CC4FDD5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843AD9-051E-4CD3-B3BD-9E53413BAE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0B46-F654-4FA3-BD4B-B87760A1CCB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14CF21-C73E-41FC-B6D6-A2DA424B2EF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BCAF82-7ABA-4398-AF22-D1A46699062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824EED-503C-42D4-A4BF-2DEE014F149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CA66C6-5017-4E1A-B446-BA4D845DC50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B634BE-4BB0-4098-BD1D-3BD735D0DAF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B589E7-D49D-4C49-9905-38EDB7532DB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42CC81-6B12-4108-A85D-08E01867A98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06B3C0-AD6C-41EC-A815-A42AFEFFFC3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C0D5C0-F740-4F7C-A6D9-D7F7466BA42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052423-E4EA-47DC-B84D-D59F99D39E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8C48-4BEF-4B7E-9C6F-E88F42E3E33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6864E3-9925-4142-B0A8-9D0A97AEFC8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60AC5-8BCF-4605-9ACC-B53B4C20CA4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6C38D-9E1E-4946-A7CC-3171F85E4BE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FBDFB-30F4-4D60-8D08-540AB363F76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0F887-998E-4DF2-9DDC-55DDF596310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BD2B6-2F6B-4CAB-9456-7D874CF48BF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575E3-F5F1-4392-85A8-B6A88FBFBF2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9996A-AC63-4C39-BDD7-30F6DDFD955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3E549-E64C-412E-8E75-302DB266F5D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3724F-C48E-4F35-B589-CB3F3CCB00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07FD-778F-46B2-A118-B856AD12AB4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EB723-45E4-4B59-BD8D-3EDE5A72FEE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BD4E3-E3FF-43EA-B4D0-0F462E2B7A7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0AE9C-8F03-4B5C-BC93-5BC9F96F872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9049B-2235-4E91-8D27-18D63303450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33116-AC91-4BAE-8B22-280A37F35BC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C6FA6-8F14-4D71-861B-BBDD8ED209B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00C87-DE39-4FAF-87FF-90210F63B83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B0577-A8DE-47DA-98FD-AE351CBCE17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3A8E3-A055-4469-AE77-2B407DE5B06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B6C14-D1F2-4803-B6BA-CCA4CC93C0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32D9-B871-4465-8955-6006B9F9C56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DB847-3455-4D4F-BA59-E68A33D63E2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D28D5-8934-4869-B1D1-3000A496696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C2FE6-5E56-49C0-94AA-DFCAAFF9EAF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B7F62-F97C-4682-8A28-C488E664FDD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B00DC-4434-486E-B1EF-612238AABFB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7B2EC6-83B1-4324-B258-A2FDE4BB6BD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65948D-5314-4F93-A0A8-04CA4C27733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D98149-03E7-4836-A4CF-BF45C52B586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57C963-D0D3-4A42-AE34-5EEF8BE27CB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778B10-ACB8-4564-98D8-91F562A018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AC43-16F5-4540-B27E-BE7AF56207C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A93684-1C0A-4039-857C-F966A44C0B5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F4DEFE-EB58-40C6-B070-2E4852475F7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BE08C9-27C4-4AE3-9E07-EBC377487DB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EE3D61-B23B-4F3D-9973-EF1E911BD4B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93BDF1-4672-450F-9A3B-BD5B5DC3218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7FC287-6514-48CD-A708-B8FFB846C84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157425-DAAA-45EB-BEAA-1CA008523F0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C9382B-F32E-4790-A8EA-DAAD40092E1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B28324-704A-41C4-A6D8-AD6E4211D87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E89712-A48D-4547-B097-B643AF5128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24A9-1C1A-403F-9387-BB9CC1CAA68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B89F60-BCAA-46A2-A1A9-9F290D352A3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7132E3-E1B6-4EF6-9CAC-26414644E5D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A33944-EB6B-4742-A616-060C45F88A4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40BA77-6E22-415A-BF85-FA4F79E37A6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4EB94F-D18B-49AB-838C-FF076E9197A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9888DE-D51D-4F88-9FD8-8BBE982417D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81599E-D5EE-400C-A78E-75D3F193F30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064C00-84EA-47A0-8E00-B52CCAB16CC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FB4507-F91C-42F1-B653-8FE386A3706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2CB845-8053-4092-81F4-036CCD94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18E3B-2105-4253-B942-1BB73D5EC2A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FA7BAE-3C4E-4718-8E47-3868F084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86179F-2D63-4A46-9DBA-44E319BB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3E0C30-86AE-4CC1-AB06-D0625F1B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E895DB-4B8F-4E8A-BC67-5C5737F9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C2833D-FC3F-4822-B7FB-959801E1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A940EC-9B52-4354-95DC-E81CF234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AF92C0-F6BE-4D9A-BAE5-01D8204A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FF9297-4960-444D-BFEB-EDB9F859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DD8679-751F-4035-B3C6-C65EFCBD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2E2D20-FED3-4A3D-8D29-5A4996D3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B584-939D-4D67-A22D-D09EF1A78F9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980133-7A78-4236-AC0B-24D372D7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CFD838-EB86-4DD6-9D31-D5A0A54D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1DA461-CDF4-4DB6-8897-168348A0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005756-7DA2-45FF-8579-F707ED0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015F4C-1544-4DD9-80E6-CA6FB6A5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86A7F8-D39B-487C-8E64-44DE9636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6C5C74-4FED-497B-994E-E4C3320F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DF02EC-EAD4-4DBE-868A-2ECD1270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03F5E7-ABA6-4E9B-B1B9-3C82E135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9492E7-A54A-47E1-BCE8-D28C73CD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5081EC-19FA-4973-8007-28717AE2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6BD7A5-F943-4D3A-BEA9-750CCAF8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D60C9A-B048-4913-8FB0-45813121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97D126-C3C2-45D8-8F63-04DCB961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39711CA-1500-492C-97CB-F52CCC96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46B2E0-298A-4699-921F-BB8D3079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87771F-C0CE-4F0C-8A25-2A1A751C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775AA6-D1B2-48F6-AA1E-2B36A17E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6C553A-AF9A-470F-9D0A-2277A03E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520E1D-7C84-46B2-B5DA-8A5E312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66772A-CB08-40B1-B134-6D16F208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A1DECA-7657-445C-BF40-BD8E644E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5843D89-C2C0-465F-84B3-94BDB5AE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B26F3CE-52C8-4F67-A9CD-AF29A83B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AE93261-99C1-417A-B54C-801D920D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7C8D968-3215-49EF-A982-0B806FF0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BF3795-FED8-4B60-A2EC-5AF5A737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166CB2-EA0E-491B-93D3-4BB3A345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45A08B-1B12-4932-9C5E-61D67A4D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E43F9B-C125-4AE8-B647-7EED5852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3FB571-B70B-4A70-ACBF-2313C817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3BD94D4-9578-4088-A7C1-8267BE32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4575DD-5D9C-41EB-A9CB-C68A375B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C1CA69-6B47-46DC-A937-C53DB1B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3A1DBA2-98E5-4B05-8DEC-F4B3A61F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5A4244-7C46-4620-B5EF-287C5537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0D901D-8046-44F9-A1E5-4B70B850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C2825FA-3DBE-454D-9B98-57453585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C6BD8A9-F951-45A6-AEFA-C58DF92C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D080F9-CFCF-4C96-8161-111BF9FF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A533BC-2BE6-4F95-AC58-BA4B5163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98B018-1DC3-44F1-97AB-CEC00B42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E281963-977D-4BCF-B6E6-69F31D74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95E107E-67AE-4C70-BF25-983EFBF5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E52E98D-2885-49D2-A1DA-560FB47D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A9B2E4-263A-4BCF-A805-25C59F50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E08153F-8281-4CB2-BE23-0E452DD3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5B96D6-9959-4826-B9FB-EA6EE78B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B9A292D-783C-42B0-ADE8-247FE3BD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40B9227-7DBA-4979-91F1-D21AA98B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113FC4-444C-4066-AFE0-018F307F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167EC5A-43AE-4663-BBE3-D574CCDD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7FD1BF-6828-4FCF-9479-85502B3C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ACAB8B-86CF-48A1-A0D7-390A2E07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677E3D2-EC0D-46E5-B3C7-AD85974E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8B3B2A-17DD-4F8A-B878-1BC4A0A6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2434F1-C9E1-4C13-81EC-6AD38373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3A593A8-D05A-4474-BF2A-697BF2F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CF5A95-7EF2-4070-A723-188253CC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2C0C857-1AE0-45DE-9128-E3153203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6790186-7C74-46D0-9B23-33A62170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FB25CF6-E8D0-4145-B87A-E979C849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67A40E2-FA21-4707-96E4-E7B4EAF6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AB65A3D-2A32-48E8-86CE-33071F4D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C94A53E-4C02-466F-8220-4E185E58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7BB3CE8-BC22-48BB-ADC5-8FC812EF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5EF5A4A-0997-4D79-9B74-B2FAC482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3F54E66-23E0-45DD-B7A8-A19972A7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C291BFA-574C-4ABC-94BB-901C20B9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1BDB254-8144-49E0-B1D9-A44D3CD4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B86CC06-0981-4A70-9316-40C3DBF4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469EF7D-EB08-47EC-A1EC-3E682A0D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BF236C2-3950-40EB-B719-896FBF60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E262CE-9855-458C-AFBB-EFBDE6BB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8B3AFC7-D278-4D78-AA59-160D2B27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6ED247-65D1-456C-8B26-3A787C6A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9FDE527-268B-4905-B533-4643E3BD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1A1FCD7-7E67-4B07-9CED-760D9D11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6849107-6958-4D29-99D1-358C5361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8AB20E1-8E7B-4D03-889E-3B8F7164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83C065-42A9-4E7D-9231-549646C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44548D0-6A3A-41D6-A25F-464DAC1E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6ACEE5A-F2BF-43E3-A0CD-AB73C602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AE14CFD-9593-4E4C-B2F7-A76D26A7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6EB1F50-FA25-4698-BB0B-89FB44AB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32B363B-FC53-4B33-A408-272C0C20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A44E570-72D8-4567-AAEB-6CDFA1CE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A13E320-E1DF-41BB-B8D8-39944F62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FD7B7C4-0DBE-48A5-B4F3-1465FDDC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07F4371-DFC1-45D2-AD8F-6791208A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85C5924-6C78-4A32-B545-38B35856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BC4F9C9-88FB-4FFE-BBE7-E0A9DB9F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3CA88AC-716F-4EE5-8F27-1A418020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F378391-3FDA-457C-B8B1-985581AB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FD8C85B-0411-433A-9B6A-CD49BE6D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E5B04C6-B3BB-4F6F-89C3-B78A9BBB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69666F9-764B-429A-8712-36262BD9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6B2B5C0-B8B0-4BCE-B0BC-5E721120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3787E05-A369-49A4-B754-E32AD622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F1034FA-E2EC-45A0-A014-E7BA009B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DD0355A-C0CC-468A-B170-6BF92721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C2C41A9-E02C-495E-A55D-6D5E1FF4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290FAAE-A2CA-4FAA-994D-95F89FBA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70D0753-4D1D-42C2-8A82-107A8E7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B13427C-7AB8-4DC4-BBD0-8434EE37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99B115B-8071-4365-B93B-7AAB27B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B15AA96-3643-491F-8C3D-45B4A958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14D7715-8218-47DD-AFA8-87962534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03A2281-CFB8-48B8-87AC-426C63F2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A7AE21E-5EBB-4690-BA2C-D8DC37D5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BAC4DFE-7DD8-445D-9B00-F0D2C79D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B27376B-71B9-4DC8-8AEF-C5DD8243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03F6FC6-D211-4938-8ACB-F82AD58C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C38CF49-8CE0-4F8E-B6CC-3B3B0EAF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D4E59F4-04EF-4A95-B5FE-0C0D7B99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667FE20-0D12-4CD3-AA90-1E899D12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A5EC4FE-3E22-4BAE-A289-7E5D01AB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B5741F3-C895-4F10-B205-F6EC600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64F07DB-5863-4492-84E0-DB04056D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2423791-AA46-4E7A-8B75-FE390C25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7EA7BF4-EB46-45AF-AA75-1447950F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EFD5FD8-989C-456B-A8CF-79537B00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3904CF2-671E-4219-BE59-AD1FE38B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C1B9930-D3D6-484F-9C7E-5CC8267C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220A943-A7E7-453F-9316-07A3342F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61489CF-062E-4794-913E-45D57596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C9439BA-C4F6-4A2A-8C91-E3AD410C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2FBB7A6-645F-4BE0-9EA8-168F9F43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1A8D92D-04A2-4C7E-BF16-CCEEE1A8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75920D8-706C-4E14-B7D8-D5D25337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020D2BE-E559-4C08-80DD-C2D69E7A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AF6F4B8-FBF7-4E7E-B695-141AC5B6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E95B76-44C0-4CCF-B676-24B59221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A4583E3-A869-4497-8224-9D0F6AAF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B001CF3-BFD5-43F1-B8BF-08DFD6B9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3BC014F-E059-4904-9D8A-AB32DEA7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A0FC782-526E-4E11-B34D-F81E11FF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F029808-E8BD-4EDD-86C9-6E26F8CD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176B683-77FC-4C11-96A2-BA561C44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C2CC840-3479-45E0-A3AE-8BBD561D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7B486EC-D250-4735-B1FF-05163172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5166A83-3826-429C-8340-9B227654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73A9413-6CF7-4323-80B3-B78CA35C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54325DF-F3FF-4D0A-A7F2-992CAA47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46A07F8-3D42-48BD-BBE6-C3F152D7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925B92F-B5D1-47D2-878F-61000ABA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4CC8E25-736D-4741-9A36-99746C1E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B3866A3-6E03-431B-BDF5-23854BBC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FADF7D2-79AD-4CE3-8E1B-56F320DF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031AF5F-0D0A-4854-9CFA-6C3707E5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DE9BD54-C326-4A8E-ACAA-72FA1FD7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10E68BC-D9E2-43D9-B405-10B7CB85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7A26528-9184-4545-8537-736AB10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26CB486-5F7C-4ADA-A696-559170FA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4DD7C98-A834-49E9-B497-F7B4E1BB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C2D7575-B478-447F-9232-38386DAD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22D01CD-1A39-43A6-97D0-49A24D9F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2C2A404-A155-4F5D-995F-34F1B4CD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ADDEE45-6493-47E6-A7F6-727E563C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742208A-5D8B-4A76-9F78-0C9D4C49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26F97FE-C7B8-4846-ADF7-C21B33F5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236C1EF-2500-43EE-9E09-CBCAE21B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E10C435-AA69-45C8-8DB2-F2957DC3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F10BE33-E0C5-420E-B700-AAA40FB0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59F4811-8DFB-4DFB-B09B-6917D0FD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73FD2F2-308D-4114-91CA-17821D75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FFCB1AB-7E1C-4E2A-80A3-39B86D32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C6E60B3-A966-4BEA-A9FE-9C9496F5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511F5AC-6958-418A-8165-E7E252EA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7B49A-7802-452A-8938-BAA48618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E2FC2-DDCD-4DE6-8BF6-73A46DEC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33875-6923-41FE-8B63-4B4F60B4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56538-F41C-4772-B570-C49AF8E9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EDBD6-0E6B-4CB7-BC67-57AFD08F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FEC37-3126-457B-AAA9-50827147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A600D-E7D2-41CE-9373-8A171DF9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24973-697A-4D53-BA94-F527C7D7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05868-9353-403E-A6C9-D3AC6910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E3B09-208E-4B71-8DE8-EB1F6A12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F3B62-B469-4621-9F43-E0E49558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EA4BA-A3E4-4192-9CB4-BE188155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31CF1-B9CA-4A94-8231-F7C8F4C1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04171-0B8C-4B13-99F3-E5683743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03AF0-9A76-4B4A-8EE8-DF8DC4C0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82906-0974-494B-B478-D04470C7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790DF-1A6A-4746-86DE-1E34A8AC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DF25E-0ECA-4673-8212-403AA0A2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DE399-90FA-4F91-8282-B874BB48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B7B14-D17D-40AF-B40D-37C390A4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7EAD1-B1A8-4BD5-BF87-B80B44F9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0BB6C-EB3F-419F-BE6C-4DCDABD5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85D67-07AC-47C7-AB23-C8D6250E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8FABA-1F2A-4D17-8AB5-56EAB97E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C9BF9-7E98-49D2-B5B3-76227FEB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C1341-6769-4F17-8E9F-29A61A45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06BAB7-F85B-4A0F-8BAF-522F7AC4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98C9C-E28E-4F38-B782-902D6C06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3AF0A-89FC-46AA-8C8D-EB97DC2A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2AB95-646A-4482-B8E5-1EDA7003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1BE0B-4F04-48E9-8559-0FC840BC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1601C-6D78-4743-BC19-8C58E802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7B900-EB82-4A2F-BAFD-8F026BE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04D474-1D42-4299-8379-CCD5B9F2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30A6D-7244-4B00-95FA-23B8C8EF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8A794-62D1-4E44-AFCE-8D7F086A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0D745-3962-44D4-ADCA-F0C09D64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EC7EE-EF31-43D2-9F21-752C9FF2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EA945-FEFD-4291-9E34-9E3B7340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1759D-EF31-4193-9507-72F8AC7B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A811CC-1016-432F-BE32-453F9EA8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8EF8A-8FFC-42C1-81D5-AFCFEA28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9DE9C-5570-4BB3-B585-5B6B59F9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2C520-140F-4FFE-81F9-DD399EC2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87D73-5366-4F65-B81A-AED6C6F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8B649-7515-4324-ACC7-021C453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F56A6-C47A-464C-AF55-95AC3B29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874E6-9116-4AF2-B147-DA523314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C7D3C-3A5E-45EB-9AF0-6AE00056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896EB-A5A7-4D61-B958-135795FE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40C6B-12E8-4FE4-925A-7880C582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1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1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32616-BD8E-43B3-8F21-7494A311B0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2E58F-DEB4-458B-8308-C3726F2B394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11BD0-A28A-4B66-8E65-19B1122DB5A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41698-76FF-4059-BB3C-AA8AF14755A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2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2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BB9AB-6EDF-4835-A30D-DED48AA042D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25560-4807-44D8-B3BF-BDFFEA47C3F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B268D-3D2B-41EA-B6B3-0AD1D4742B5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6944B-D614-4CE0-BBCD-47E0D71AE8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3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3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3A4DF-F4ED-477A-9EAE-CAD126D8E64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ftr" idx="3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sldNum" idx="3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FD0D1-0B5F-4B1C-AA76-F840D14F2E5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ftr" idx="3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sldNum" idx="3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69138-1BA2-43C5-B086-3007660322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ftr" idx="3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3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0B57B-B4ED-4B18-87E9-C87F91333DF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ftr" idx="3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4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72DF0-D627-4428-B627-F7ECEC96D09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04AB7-855E-49CC-858F-AE2B9FEDE17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45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7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63FDE-0268-40E7-B3F3-53F0B341F2A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8F28F-8E18-4425-8F62-CF7E57F39B4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4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95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7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39D71-7E89-49D9-BF11-7F434DF3496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89D6D-F375-4666-B69A-36F5569B90A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44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6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9538D-1AC6-4B07-A82C-EABE4A1CC3F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C6A7A-3FE2-458F-B3E2-57B73DF031A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9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922EC-70DC-4C88-9D34-E38F7D8080A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BC78B-8EA5-4736-9C08-0DE249FA2C3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42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4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073C6-78D4-484E-93D8-FFCDBFC542B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B9246-975F-421E-B121-652309C440A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91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3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87E23-384C-4E53-951F-0FFA6922057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947D4-D13A-4FE0-B633-9775C034002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9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40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2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563FD-9F93-4042-ADFF-F646C00BE87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D83F5-CB32-48F0-983A-564CE3472C0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8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3A124-6640-40F3-A589-E615C8DE19F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662A9-D7AE-4D10-A8DB-DDD5314B49C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7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38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0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977FD-3291-49A8-BD40-1C563D0D58B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54632-05D5-4427-A11F-FE46D5B124C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6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87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9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DA7A4-239E-4FA8-A013-E28D32DFC07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58D2C-1CB3-48FC-8CE3-EDAA7526EFC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5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336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8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C29CF-94DD-4F03-A984-BF558E4AD14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CAE45-5502-43C8-81F6-52429317E09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8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7A1ED-2676-41BF-BFEF-A208D82F2334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FC8D1-12CF-45DE-8182-E46E05C335B4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43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dt" idx="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DE6CF-CBE3-404A-88DE-F5400B03969F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ftr" idx="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sldNum" idx="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C6079-5A77-46B2-B891-AC52D0F8E9E1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47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8C23E-9211-4DD3-A083-D352D773634B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Num" idx="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36BB0-B90F-4AFC-9395-7B57BEB13CAC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52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1CB13-0EB7-4280-A61A-0D446F3C0A0E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sldNum" idx="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035A2-5ECF-4121-9D53-88989ED2F36E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74645-1936-45B9-8225-BC4DE8F492A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68DEB-DD23-4658-A4D8-0227C8C38FF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6C517-D8D4-42F6-84A2-30B82E57E10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8934A-2F3B-43C3-8B70-6BA1BD69105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1202D-5A8E-4C49-A926-DB94AD141B4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12A36-B2B4-4635-B2FF-9234689E58A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A3F62-4785-49F4-9C22-86892CBDA38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47E26-B702-4822-8C16-8485FFD6E94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0774C-B462-49AE-B300-4F99D066FAA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6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7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31DFB-E68F-4FA3-AD59-B7C5246DF39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10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wmf"/><Relationship Id="rId15" Type="http://schemas.openxmlformats.org/officeDocument/2006/relationships/image" Target="../media/image59.jpeg"/><Relationship Id="rId16" Type="http://schemas.openxmlformats.org/officeDocument/2006/relationships/slideLayout" Target="../slideLayouts/slideLayout109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7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59.jpeg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59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57.png"/><Relationship Id="rId3" Type="http://schemas.openxmlformats.org/officeDocument/2006/relationships/image" Target="../media/image1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72.png"/><Relationship Id="rId3" Type="http://schemas.openxmlformats.org/officeDocument/2006/relationships/slide" Target="slide11.xml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75.png"/><Relationship Id="rId3" Type="http://schemas.openxmlformats.org/officeDocument/2006/relationships/slide" Target="slide11.xml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59.jpeg"/><Relationship Id="rId18" Type="http://schemas.openxmlformats.org/officeDocument/2006/relationships/slideLayout" Target="../slideLayouts/slideLayout97.xml"/><Relationship Id="rId1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93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91.png"/><Relationship Id="rId6" Type="http://schemas.openxmlformats.org/officeDocument/2006/relationships/image" Target="../media/image96.png"/><Relationship Id="rId7" Type="http://schemas.openxmlformats.org/officeDocument/2006/relationships/image" Target="../media/image103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97.png"/><Relationship Id="rId3" Type="http://schemas.openxmlformats.org/officeDocument/2006/relationships/image" Target="../media/image94.png"/><Relationship Id="rId4" Type="http://schemas.openxmlformats.org/officeDocument/2006/relationships/image" Target="../media/image99.png"/><Relationship Id="rId5" Type="http://schemas.openxmlformats.org/officeDocument/2006/relationships/image" Target="../media/image91.png"/><Relationship Id="rId6" Type="http://schemas.openxmlformats.org/officeDocument/2006/relationships/image" Target="../media/image96.png"/><Relationship Id="rId7" Type="http://schemas.openxmlformats.org/officeDocument/2006/relationships/image" Target="../media/image104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5.png"/><Relationship Id="rId5" Type="http://schemas.openxmlformats.org/officeDocument/2006/relationships/image" Target="../media/image91.png"/><Relationship Id="rId6" Type="http://schemas.openxmlformats.org/officeDocument/2006/relationships/image" Target="../media/image96.png"/><Relationship Id="rId7" Type="http://schemas.openxmlformats.org/officeDocument/2006/relationships/image" Target="../media/image105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109.png"/><Relationship Id="rId5" Type="http://schemas.openxmlformats.org/officeDocument/2006/relationships/image" Target="../media/image110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45.png"/><Relationship Id="rId32" Type="http://schemas.openxmlformats.org/officeDocument/2006/relationships/slideLayout" Target="../slideLayouts/slideLayout109.xml"/><Relationship Id="rId3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Sistemas de Información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para la Ejecución y Gestión de Programas Socia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0" name="4 Rectángulo"/>
          <p:cNvSpPr/>
          <p:nvPr/>
        </p:nvSpPr>
        <p:spPr>
          <a:xfrm>
            <a:off x="3635280" y="5518080"/>
            <a:ext cx="536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Verdana"/>
              </a:rPr>
              <a:t>Departamento de Gestión de Proyectos Informáticos y Proce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86" name="48 Conector recto de flecha"/>
          <p:cNvCxnSpPr/>
          <p:nvPr/>
        </p:nvCxnSpPr>
        <p:spPr>
          <a:xfrm>
            <a:off x="2987640" y="3585960"/>
            <a:ext cx="3240720" cy="108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787" name="7 Grupo"/>
          <p:cNvGrpSpPr/>
          <p:nvPr/>
        </p:nvGrpSpPr>
        <p:grpSpPr>
          <a:xfrm>
            <a:off x="285840" y="404640"/>
            <a:ext cx="2630520" cy="2016360"/>
            <a:chOff x="285840" y="404640"/>
            <a:chExt cx="2630520" cy="2016360"/>
          </a:xfrm>
        </p:grpSpPr>
        <p:sp>
          <p:nvSpPr>
            <p:cNvPr id="1788" name="8 Rectángulo"/>
            <p:cNvSpPr/>
            <p:nvPr/>
          </p:nvSpPr>
          <p:spPr>
            <a:xfrm>
              <a:off x="28584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9 Rectángulo"/>
            <p:cNvSpPr/>
            <p:nvPr/>
          </p:nvSpPr>
          <p:spPr>
            <a:xfrm>
              <a:off x="28584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OTROS SERVICIOS PÚBLIC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onveni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Rendiciones Financier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0" name="10 Grupo"/>
          <p:cNvGrpSpPr/>
          <p:nvPr/>
        </p:nvGrpSpPr>
        <p:grpSpPr>
          <a:xfrm>
            <a:off x="6156360" y="404640"/>
            <a:ext cx="2630520" cy="2016360"/>
            <a:chOff x="6156360" y="404640"/>
            <a:chExt cx="2630520" cy="2016360"/>
          </a:xfrm>
        </p:grpSpPr>
        <p:sp>
          <p:nvSpPr>
            <p:cNvPr id="1791" name="11 Rectángulo"/>
            <p:cNvSpPr/>
            <p:nvPr/>
          </p:nvSpPr>
          <p:spPr>
            <a:xfrm>
              <a:off x="615636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12 Rectángulo"/>
            <p:cNvSpPr/>
            <p:nvPr/>
          </p:nvSpPr>
          <p:spPr>
            <a:xfrm>
              <a:off x="615636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MINISTER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Nuevos Program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Presupuestos por comu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obertur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onveni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Document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3" name="13 Grupo"/>
          <p:cNvGrpSpPr/>
          <p:nvPr/>
        </p:nvGrpSpPr>
        <p:grpSpPr>
          <a:xfrm>
            <a:off x="6156360" y="2708280"/>
            <a:ext cx="2630520" cy="2016000"/>
            <a:chOff x="6156360" y="2708280"/>
            <a:chExt cx="2630520" cy="2016000"/>
          </a:xfrm>
        </p:grpSpPr>
        <p:sp>
          <p:nvSpPr>
            <p:cNvPr id="1794" name="14 Rectángulo"/>
            <p:cNvSpPr/>
            <p:nvPr/>
          </p:nvSpPr>
          <p:spPr>
            <a:xfrm>
              <a:off x="615636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15 Rectángulo"/>
            <p:cNvSpPr/>
            <p:nvPr/>
          </p:nvSpPr>
          <p:spPr>
            <a:xfrm>
              <a:off x="615636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SEREMI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Solicita creación de clav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Envía invitaciones al ejecuto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visa y firma conveni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resoluciones convenio, prórroga y cierr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prueba Proyect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prueba Distribu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prueba Modifica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utoriza y transfiere cuot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visa Informe Técnic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visa Rendiciones Financie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integ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6" name="16 Grupo"/>
          <p:cNvGrpSpPr/>
          <p:nvPr/>
        </p:nvGrpSpPr>
        <p:grpSpPr>
          <a:xfrm>
            <a:off x="285840" y="2708280"/>
            <a:ext cx="2630520" cy="2016000"/>
            <a:chOff x="285840" y="2708280"/>
            <a:chExt cx="2630520" cy="2016000"/>
          </a:xfrm>
        </p:grpSpPr>
        <p:sp>
          <p:nvSpPr>
            <p:cNvPr id="1797" name="17 Rectángulo"/>
            <p:cNvSpPr/>
            <p:nvPr/>
          </p:nvSpPr>
          <p:spPr>
            <a:xfrm>
              <a:off x="28584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18 Rectángulo"/>
            <p:cNvSpPr/>
            <p:nvPr/>
          </p:nvSpPr>
          <p:spPr>
            <a:xfrm>
              <a:off x="28584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DIRECCIONES REGIONA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Aprueb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9" name="19 Grupo"/>
          <p:cNvGrpSpPr/>
          <p:nvPr/>
        </p:nvGrpSpPr>
        <p:grpSpPr>
          <a:xfrm>
            <a:off x="3357720" y="4724280"/>
            <a:ext cx="2630160" cy="2017800"/>
            <a:chOff x="3357720" y="4724280"/>
            <a:chExt cx="2630160" cy="2017800"/>
          </a:xfrm>
        </p:grpSpPr>
        <p:sp>
          <p:nvSpPr>
            <p:cNvPr id="1800" name="20 Rectángulo"/>
            <p:cNvSpPr/>
            <p:nvPr/>
          </p:nvSpPr>
          <p:spPr>
            <a:xfrm>
              <a:off x="3357720" y="4724280"/>
              <a:ext cx="2630160" cy="20178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21 Rectángulo"/>
            <p:cNvSpPr/>
            <p:nvPr/>
          </p:nvSpPr>
          <p:spPr>
            <a:xfrm>
              <a:off x="3357720" y="4724280"/>
              <a:ext cx="2630160" cy="20178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EJECU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cepta invita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Envía Proyect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número y fecha oficio conven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Distribu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Modificación Distribu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Confirma recepción de cuot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Modificación Plan de Interven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ndiciones Financieras Mensu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forme Técnicos y Financieros Fi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2" name="24 Elipse"/>
          <p:cNvSpPr/>
          <p:nvPr/>
        </p:nvSpPr>
        <p:spPr>
          <a:xfrm>
            <a:off x="2987640" y="1773360"/>
            <a:ext cx="3097080" cy="21603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Calibri"/>
              </a:rPr>
              <a:t>SIGE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Creación de cl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Mantención de cl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Creación de convocator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Creación Informes Digit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nvía invitaciones a SER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Transfiere Recur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Aprueba rendiciones financier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3" name="41 Conector recto de flecha"/>
          <p:cNvCxnSpPr/>
          <p:nvPr/>
        </p:nvCxnSpPr>
        <p:spPr>
          <a:xfrm>
            <a:off x="2916360" y="980640"/>
            <a:ext cx="3240720" cy="108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4" name="43 Conector recto de flecha"/>
          <p:cNvCxnSpPr>
            <a:stCxn id="1789" idx="2"/>
            <a:endCxn id="1798" idx="0"/>
          </p:cNvCxnSpPr>
          <p:nvPr/>
        </p:nvCxnSpPr>
        <p:spPr>
          <a:xfrm>
            <a:off x="1599840" y="2421000"/>
            <a:ext cx="1080" cy="28800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5" name="45 Conector recto de flecha"/>
          <p:cNvCxnSpPr>
            <a:stCxn id="1792" idx="2"/>
            <a:endCxn id="1795" idx="0"/>
          </p:cNvCxnSpPr>
          <p:nvPr/>
        </p:nvCxnSpPr>
        <p:spPr>
          <a:xfrm>
            <a:off x="7470360" y="2421000"/>
            <a:ext cx="1080" cy="28800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6" name="26 Flecha derecha"/>
          <p:cNvSpPr/>
          <p:nvPr/>
        </p:nvSpPr>
        <p:spPr>
          <a:xfrm rot="2037600">
            <a:off x="2914200" y="1371240"/>
            <a:ext cx="847800" cy="412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28 Flecha derecha"/>
          <p:cNvSpPr/>
          <p:nvPr/>
        </p:nvSpPr>
        <p:spPr>
          <a:xfrm rot="8389200">
            <a:off x="5265000" y="1371240"/>
            <a:ext cx="847800" cy="412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30 Flecha derecha"/>
          <p:cNvSpPr/>
          <p:nvPr/>
        </p:nvSpPr>
        <p:spPr>
          <a:xfrm rot="19997400">
            <a:off x="2933280" y="3741840"/>
            <a:ext cx="789120" cy="4125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32 Flecha derecha"/>
          <p:cNvSpPr/>
          <p:nvPr/>
        </p:nvSpPr>
        <p:spPr>
          <a:xfrm rot="13164000">
            <a:off x="5397480" y="3789000"/>
            <a:ext cx="789120" cy="4143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34 Flecha derecha"/>
          <p:cNvSpPr/>
          <p:nvPr/>
        </p:nvSpPr>
        <p:spPr>
          <a:xfrm rot="16200000">
            <a:off x="4251960" y="4102560"/>
            <a:ext cx="647640" cy="41400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1" name="37 Conector angular"/>
          <p:cNvCxnSpPr>
            <a:stCxn id="1798" idx="2"/>
            <a:endCxn id="1801" idx="1"/>
          </p:cNvCxnSpPr>
          <p:nvPr/>
        </p:nvCxnSpPr>
        <p:spPr>
          <a:xfrm flipH="1" rot="16200000">
            <a:off x="1974960" y="4348800"/>
            <a:ext cx="1008720" cy="1758240"/>
          </a:xfrm>
          <a:prstGeom prst="bentConnector2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12" name="42 Conector angular"/>
          <p:cNvCxnSpPr>
            <a:stCxn id="1795" idx="2"/>
            <a:endCxn id="1801" idx="3"/>
          </p:cNvCxnSpPr>
          <p:nvPr/>
        </p:nvCxnSpPr>
        <p:spPr>
          <a:xfrm rot="5400000">
            <a:off x="6223680" y="4487400"/>
            <a:ext cx="1010520" cy="1483560"/>
          </a:xfrm>
          <a:prstGeom prst="bentConnector2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Subsistema Seguridades y Oportunida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4" name="4 Rectángulo"/>
          <p:cNvSpPr/>
          <p:nvPr/>
        </p:nvSpPr>
        <p:spPr>
          <a:xfrm>
            <a:off x="3635280" y="5518080"/>
            <a:ext cx="536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partamento de Gestión de Proyectos Informáticos y Proce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Title 7"/>
          <p:cNvSpPr/>
          <p:nvPr/>
        </p:nvSpPr>
        <p:spPr>
          <a:xfrm>
            <a:off x="250920" y="936720"/>
            <a:ext cx="82296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6cb7"/>
                </a:solidFill>
                <a:latin typeface="Calibri"/>
                <a:ea typeface="Verdana"/>
              </a:rPr>
              <a:t>El Subsistema de Promoción y Protección Social, denominado Seguridades y Oportunidades del Ingreso Ético Familiar, es un apoyo integral y continuo a las familias y personas, que a partir de su incorporación al Subsistema, los usuarios atraviesan diversas etapas e interactúan con distintos component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6" name="52 Conector recto de flecha"/>
          <p:cNvCxnSpPr/>
          <p:nvPr/>
        </p:nvCxnSpPr>
        <p:spPr>
          <a:xfrm>
            <a:off x="0" y="4292280"/>
            <a:ext cx="9144720" cy="108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pic>
        <p:nvPicPr>
          <p:cNvPr id="1817" name="53 Rectángulo redondeado" descr=""/>
          <p:cNvPicPr/>
          <p:nvPr/>
        </p:nvPicPr>
        <p:blipFill>
          <a:blip r:embed="rId1"/>
          <a:stretch/>
        </p:blipFill>
        <p:spPr>
          <a:xfrm>
            <a:off x="115920" y="4363920"/>
            <a:ext cx="871560" cy="1171800"/>
          </a:xfrm>
          <a:prstGeom prst="rect">
            <a:avLst/>
          </a:prstGeom>
          <a:ln w="0">
            <a:noFill/>
          </a:ln>
        </p:spPr>
      </p:pic>
      <p:pic>
        <p:nvPicPr>
          <p:cNvPr id="1818" name="54 Rectángulo redondeado" descr=""/>
          <p:cNvPicPr/>
          <p:nvPr/>
        </p:nvPicPr>
        <p:blipFill>
          <a:blip r:embed="rId2"/>
          <a:stretch/>
        </p:blipFill>
        <p:spPr>
          <a:xfrm>
            <a:off x="8186760" y="4363920"/>
            <a:ext cx="871560" cy="1171800"/>
          </a:xfrm>
          <a:prstGeom prst="rect">
            <a:avLst/>
          </a:prstGeom>
          <a:ln w="0">
            <a:noFill/>
          </a:ln>
        </p:spPr>
      </p:pic>
      <p:pic>
        <p:nvPicPr>
          <p:cNvPr id="1819" name="55 Rectángulo redondeado" descr=""/>
          <p:cNvPicPr/>
          <p:nvPr/>
        </p:nvPicPr>
        <p:blipFill>
          <a:blip r:embed="rId3"/>
          <a:stretch/>
        </p:blipFill>
        <p:spPr>
          <a:xfrm>
            <a:off x="1047600" y="4363920"/>
            <a:ext cx="1049400" cy="1171800"/>
          </a:xfrm>
          <a:prstGeom prst="rect">
            <a:avLst/>
          </a:prstGeom>
          <a:ln w="0">
            <a:noFill/>
          </a:ln>
        </p:spPr>
      </p:pic>
      <p:pic>
        <p:nvPicPr>
          <p:cNvPr id="1820" name="56 Rectángulo redondeado" descr=""/>
          <p:cNvPicPr/>
          <p:nvPr/>
        </p:nvPicPr>
        <p:blipFill>
          <a:blip r:embed="rId4"/>
          <a:stretch/>
        </p:blipFill>
        <p:spPr>
          <a:xfrm>
            <a:off x="2157480" y="4363920"/>
            <a:ext cx="1128600" cy="1171800"/>
          </a:xfrm>
          <a:prstGeom prst="rect">
            <a:avLst/>
          </a:prstGeom>
          <a:ln w="0">
            <a:noFill/>
          </a:ln>
        </p:spPr>
      </p:pic>
      <p:pic>
        <p:nvPicPr>
          <p:cNvPr id="1821" name="57 Rectángulo redondeado" descr=""/>
          <p:cNvPicPr/>
          <p:nvPr/>
        </p:nvPicPr>
        <p:blipFill>
          <a:blip r:embed="rId5"/>
          <a:stretch/>
        </p:blipFill>
        <p:spPr>
          <a:xfrm>
            <a:off x="7077240" y="4359240"/>
            <a:ext cx="1049040" cy="1176480"/>
          </a:xfrm>
          <a:prstGeom prst="rect">
            <a:avLst/>
          </a:prstGeom>
          <a:ln w="0">
            <a:noFill/>
          </a:ln>
        </p:spPr>
      </p:pic>
      <p:pic>
        <p:nvPicPr>
          <p:cNvPr id="1822" name="58 Rectángulo redondeado" descr=""/>
          <p:cNvPicPr/>
          <p:nvPr/>
        </p:nvPicPr>
        <p:blipFill>
          <a:blip r:embed="rId6"/>
          <a:stretch/>
        </p:blipFill>
        <p:spPr>
          <a:xfrm>
            <a:off x="2414520" y="5718240"/>
            <a:ext cx="4687920" cy="1042920"/>
          </a:xfrm>
          <a:prstGeom prst="rect">
            <a:avLst/>
          </a:prstGeom>
          <a:ln w="0">
            <a:noFill/>
          </a:ln>
        </p:spPr>
      </p:pic>
      <p:pic>
        <p:nvPicPr>
          <p:cNvPr id="1823" name="59 Rectángulo redondeado" descr=""/>
          <p:cNvPicPr/>
          <p:nvPr/>
        </p:nvPicPr>
        <p:blipFill>
          <a:blip r:embed="rId7"/>
          <a:stretch/>
        </p:blipFill>
        <p:spPr>
          <a:xfrm>
            <a:off x="2292480" y="2114640"/>
            <a:ext cx="4698720" cy="866520"/>
          </a:xfrm>
          <a:prstGeom prst="rect">
            <a:avLst/>
          </a:prstGeom>
          <a:ln w="0">
            <a:noFill/>
          </a:ln>
        </p:spPr>
      </p:pic>
      <p:pic>
        <p:nvPicPr>
          <p:cNvPr id="1824" name="60 Imagen" descr=""/>
          <p:cNvPicPr/>
          <p:nvPr/>
        </p:nvPicPr>
        <p:blipFill>
          <a:blip r:embed="rId8"/>
          <a:stretch/>
        </p:blipFill>
        <p:spPr>
          <a:xfrm>
            <a:off x="127080" y="5011560"/>
            <a:ext cx="795240" cy="578160"/>
          </a:xfrm>
          <a:prstGeom prst="rect">
            <a:avLst/>
          </a:prstGeom>
          <a:ln w="0">
            <a:noFill/>
          </a:ln>
        </p:spPr>
      </p:pic>
      <p:pic>
        <p:nvPicPr>
          <p:cNvPr id="1825" name="61 Grupo" descr=""/>
          <p:cNvPicPr/>
          <p:nvPr/>
        </p:nvPicPr>
        <p:blipFill>
          <a:blip r:embed="rId9"/>
          <a:stretch/>
        </p:blipFill>
        <p:spPr>
          <a:xfrm>
            <a:off x="2901960" y="3121200"/>
            <a:ext cx="1749240" cy="1481040"/>
          </a:xfrm>
          <a:prstGeom prst="rect">
            <a:avLst/>
          </a:prstGeom>
          <a:ln w="0">
            <a:noFill/>
          </a:ln>
        </p:spPr>
      </p:pic>
      <p:pic>
        <p:nvPicPr>
          <p:cNvPr id="1826" name="4 Grupo" descr=""/>
          <p:cNvPicPr/>
          <p:nvPr/>
        </p:nvPicPr>
        <p:blipFill>
          <a:blip r:embed="rId10"/>
          <a:stretch/>
        </p:blipFill>
        <p:spPr>
          <a:xfrm>
            <a:off x="3730680" y="2530440"/>
            <a:ext cx="1749240" cy="1487520"/>
          </a:xfrm>
          <a:prstGeom prst="rect">
            <a:avLst/>
          </a:prstGeom>
          <a:ln w="0">
            <a:noFill/>
          </a:ln>
        </p:spPr>
      </p:pic>
      <p:pic>
        <p:nvPicPr>
          <p:cNvPr id="1827" name="7 Grupo" descr=""/>
          <p:cNvPicPr/>
          <p:nvPr/>
        </p:nvPicPr>
        <p:blipFill>
          <a:blip r:embed="rId11"/>
          <a:stretch/>
        </p:blipFill>
        <p:spPr>
          <a:xfrm>
            <a:off x="4578480" y="3121200"/>
            <a:ext cx="1749240" cy="1481040"/>
          </a:xfrm>
          <a:prstGeom prst="rect">
            <a:avLst/>
          </a:prstGeom>
          <a:ln w="0">
            <a:noFill/>
          </a:ln>
        </p:spPr>
      </p:pic>
      <p:pic>
        <p:nvPicPr>
          <p:cNvPr id="1828" name="10 Grupo" descr=""/>
          <p:cNvPicPr/>
          <p:nvPr/>
        </p:nvPicPr>
        <p:blipFill>
          <a:blip r:embed="rId12"/>
          <a:stretch/>
        </p:blipFill>
        <p:spPr>
          <a:xfrm>
            <a:off x="3754440" y="3681360"/>
            <a:ext cx="1751040" cy="1487520"/>
          </a:xfrm>
          <a:prstGeom prst="rect">
            <a:avLst/>
          </a:prstGeom>
          <a:ln w="0">
            <a:noFill/>
          </a:ln>
        </p:spPr>
      </p:pic>
      <p:pic>
        <p:nvPicPr>
          <p:cNvPr id="1829" name="73 Imagen" descr=""/>
          <p:cNvPicPr/>
          <p:nvPr/>
        </p:nvPicPr>
        <p:blipFill>
          <a:blip r:embed="rId13"/>
          <a:stretch/>
        </p:blipFill>
        <p:spPr>
          <a:xfrm>
            <a:off x="212760" y="3500280"/>
            <a:ext cx="765000" cy="720720"/>
          </a:xfrm>
          <a:prstGeom prst="rect">
            <a:avLst/>
          </a:prstGeom>
          <a:ln w="0">
            <a:noFill/>
          </a:ln>
        </p:spPr>
      </p:pic>
      <p:pic>
        <p:nvPicPr>
          <p:cNvPr id="1830" name="Picture 5" descr="C:\Documents and Settings\mmora\Configuración local\Archivos temporales de Internet\Content.IE5\AZTUX32X\MC900290901[1].wmf"/>
          <p:cNvPicPr/>
          <p:nvPr/>
        </p:nvPicPr>
        <p:blipFill>
          <a:blip r:embed="rId14"/>
          <a:stretch/>
        </p:blipFill>
        <p:spPr>
          <a:xfrm>
            <a:off x="7880400" y="2928960"/>
            <a:ext cx="1263600" cy="768240"/>
          </a:xfrm>
          <a:prstGeom prst="rect">
            <a:avLst/>
          </a:prstGeom>
          <a:ln w="0">
            <a:noFill/>
          </a:ln>
        </p:spPr>
      </p:pic>
      <p:grpSp>
        <p:nvGrpSpPr>
          <p:cNvPr id="1831" name="8 Grupo"/>
          <p:cNvGrpSpPr/>
          <p:nvPr/>
        </p:nvGrpSpPr>
        <p:grpSpPr>
          <a:xfrm>
            <a:off x="-27000" y="196920"/>
            <a:ext cx="4479840" cy="711000"/>
            <a:chOff x="-27000" y="196920"/>
            <a:chExt cx="4479840" cy="711000"/>
          </a:xfrm>
        </p:grpSpPr>
        <p:sp>
          <p:nvSpPr>
            <p:cNvPr id="1832" name="26 Pentágono"/>
            <p:cNvSpPr/>
            <p:nvPr/>
          </p:nvSpPr>
          <p:spPr>
            <a:xfrm>
              <a:off x="-2700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4" y="0"/>
                  </a:lnTo>
                  <a:lnTo>
                    <a:pt x="21600" y="10800"/>
                  </a:lnTo>
                  <a:lnTo>
                    <a:pt x="203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Pentágono 4"/>
            <p:cNvSpPr/>
            <p:nvPr/>
          </p:nvSpPr>
          <p:spPr>
            <a:xfrm>
              <a:off x="85680" y="26820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Participación de la fami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34" name="31 Imagen" descr="descarga.jpg"/>
          <p:cNvPicPr/>
          <p:nvPr/>
        </p:nvPicPr>
        <p:blipFill>
          <a:blip r:embed="rId15"/>
          <a:stretch/>
        </p:blipFill>
        <p:spPr>
          <a:xfrm>
            <a:off x="5950080" y="7452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14524E-006 L 0.10486 3.14524E-006 E">
                                      <p:cBhvr>
                                        <p:cTn id="59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4746E-006 L 0.09844 -2.74746E-006 E">
                                      <p:cBhvr>
                                        <p:cTn id="62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86 -9.62072E-007 L 0.19948 -9.62072E-007 E">
                                      <p:cBhvr>
                                        <p:cTn id="71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-2.74746E-006 L 0.19097 -2.74746E-006 E">
                                      <p:cBhvr>
                                        <p:cTn id="74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-9.62072E-007 L 0.19948 0.19958 E">
                                      <p:cBhvr>
                                        <p:cTn id="83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098 -2.74746E-006 L 0.4823 -2.74746E-006 E">
                                      <p:cBhvr>
                                        <p:cTn id="86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19958 L 0.80573 0.19958 E">
                                      <p:cBhvr>
                                        <p:cTn id="95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573 0.19958 L 0.80573 -9.62072E-007 E">
                                      <p:cBhvr>
                                        <p:cTn id="128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29 -2.74746E-006 L 0.79722 -2.74746E-006 E">
                                      <p:cBhvr>
                                        <p:cTn id="131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723 -2.74746E-006 L 0.88594 -2.74746E-006 E">
                                      <p:cBhvr>
                                        <p:cTn id="140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8 CuadroTexto"/>
          <p:cNvSpPr/>
          <p:nvPr/>
        </p:nvSpPr>
        <p:spPr>
          <a:xfrm>
            <a:off x="285840" y="98748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800" spc="-1" strike="noStrike">
                <a:solidFill>
                  <a:srgbClr val="376092"/>
                </a:solidFill>
                <a:latin typeface="Arial"/>
              </a:rPr>
              <a:t>Etapas consider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42 CuadroTexto"/>
          <p:cNvSpPr/>
          <p:nvPr/>
        </p:nvSpPr>
        <p:spPr>
          <a:xfrm>
            <a:off x="-46080" y="2657520"/>
            <a:ext cx="10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Diagnóst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7" name="21 Diagrama" descr=""/>
          <p:cNvPicPr/>
          <p:nvPr/>
        </p:nvPicPr>
        <p:blipFill>
          <a:blip r:embed="rId1"/>
          <a:stretch/>
        </p:blipFill>
        <p:spPr>
          <a:xfrm>
            <a:off x="347760" y="1847880"/>
            <a:ext cx="8594640" cy="4218120"/>
          </a:xfrm>
          <a:prstGeom prst="rect">
            <a:avLst/>
          </a:prstGeom>
          <a:ln w="0">
            <a:noFill/>
          </a:ln>
        </p:spPr>
      </p:pic>
      <p:pic>
        <p:nvPicPr>
          <p:cNvPr id="1838" name="24 Imagen" descr=""/>
          <p:cNvPicPr/>
          <p:nvPr/>
        </p:nvPicPr>
        <p:blipFill>
          <a:blip r:embed="rId2"/>
          <a:stretch/>
        </p:blipFill>
        <p:spPr>
          <a:xfrm>
            <a:off x="595440" y="2133720"/>
            <a:ext cx="765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39" name="20 Grupo"/>
          <p:cNvGrpSpPr/>
          <p:nvPr/>
        </p:nvGrpSpPr>
        <p:grpSpPr>
          <a:xfrm>
            <a:off x="5141880" y="2274840"/>
            <a:ext cx="774720" cy="382680"/>
            <a:chOff x="5141880" y="2274840"/>
            <a:chExt cx="774720" cy="382680"/>
          </a:xfrm>
        </p:grpSpPr>
        <p:pic>
          <p:nvPicPr>
            <p:cNvPr id="1840" name="8 Imagen" descr=""/>
            <p:cNvPicPr/>
            <p:nvPr/>
          </p:nvPicPr>
          <p:blipFill>
            <a:blip r:embed="rId3"/>
            <a:stretch/>
          </p:blipFill>
          <p:spPr>
            <a:xfrm>
              <a:off x="5141880" y="2274840"/>
              <a:ext cx="37296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9 Imagen" descr=""/>
            <p:cNvPicPr/>
            <p:nvPr/>
          </p:nvPicPr>
          <p:blipFill>
            <a:blip r:embed="rId4"/>
            <a:stretch/>
          </p:blipFill>
          <p:spPr>
            <a:xfrm>
              <a:off x="5543640" y="2285640"/>
              <a:ext cx="3729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2" name="8 Grupo"/>
          <p:cNvGrpSpPr/>
          <p:nvPr/>
        </p:nvGrpSpPr>
        <p:grpSpPr>
          <a:xfrm>
            <a:off x="-17640" y="196920"/>
            <a:ext cx="5293080" cy="711000"/>
            <a:chOff x="-17640" y="196920"/>
            <a:chExt cx="5293080" cy="711000"/>
          </a:xfrm>
        </p:grpSpPr>
        <p:sp>
          <p:nvSpPr>
            <p:cNvPr id="1843" name="15 Pentágono"/>
            <p:cNvSpPr/>
            <p:nvPr/>
          </p:nvSpPr>
          <p:spPr>
            <a:xfrm>
              <a:off x="-17640" y="196920"/>
              <a:ext cx="5293080" cy="639720"/>
            </a:xfrm>
            <a:custGeom>
              <a:avLst/>
              <a:gdLst>
                <a:gd name="textAreaLeft" fmla="*/ 0 w 5293080"/>
                <a:gd name="textAreaRight" fmla="*/ 5293440 w 529308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37" y="0"/>
                  </a:lnTo>
                  <a:lnTo>
                    <a:pt x="21600" y="10800"/>
                  </a:lnTo>
                  <a:lnTo>
                    <a:pt x="2053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Pentágono 4"/>
            <p:cNvSpPr/>
            <p:nvPr/>
          </p:nvSpPr>
          <p:spPr>
            <a:xfrm>
              <a:off x="95040" y="268200"/>
              <a:ext cx="4923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b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Sistemas de Información en operación: EJE Diagnóstico Familias Extrema Pobrez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5" name="19 Grupo"/>
          <p:cNvGrpSpPr/>
          <p:nvPr/>
        </p:nvGrpSpPr>
        <p:grpSpPr>
          <a:xfrm>
            <a:off x="2411280" y="1800360"/>
            <a:ext cx="1656000" cy="1123920"/>
            <a:chOff x="2411280" y="1800360"/>
            <a:chExt cx="1656000" cy="1123920"/>
          </a:xfrm>
        </p:grpSpPr>
        <p:pic>
          <p:nvPicPr>
            <p:cNvPr id="1846" name="25 Imagen" descr=""/>
            <p:cNvPicPr/>
            <p:nvPr/>
          </p:nvPicPr>
          <p:blipFill>
            <a:blip r:embed="rId5"/>
            <a:stretch/>
          </p:blipFill>
          <p:spPr>
            <a:xfrm>
              <a:off x="3075120" y="2132640"/>
              <a:ext cx="99216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Picture 5" descr="C:\Users\gvillanueva\Desktop\Diseño 2013\IEF\PNG\lupa.png"/>
            <p:cNvPicPr/>
            <p:nvPr/>
          </p:nvPicPr>
          <p:blipFill>
            <a:blip r:embed="rId6"/>
            <a:stretch/>
          </p:blipFill>
          <p:spPr>
            <a:xfrm rot="2925600">
              <a:off x="2961720" y="1972800"/>
              <a:ext cx="2268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17 Imagen" descr="IEF_ilustraciones19.png"/>
            <p:cNvPicPr/>
            <p:nvPr/>
          </p:nvPicPr>
          <p:blipFill>
            <a:blip r:embed="rId7"/>
            <a:srcRect l="29576" t="0" r="30991" b="0"/>
            <a:stretch/>
          </p:blipFill>
          <p:spPr>
            <a:xfrm>
              <a:off x="2411280" y="1800360"/>
              <a:ext cx="443520" cy="11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9" name="17 Imagen" descr="descarga.jpg"/>
          <p:cNvPicPr/>
          <p:nvPr/>
        </p:nvPicPr>
        <p:blipFill>
          <a:blip r:embed="rId8"/>
          <a:stretch/>
        </p:blipFill>
        <p:spPr>
          <a:xfrm>
            <a:off x="5950080" y="7452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850" name="Picture 18" descr="http://www.clearwaterwindowsystems.com/Assets/useruploads/galleries/glass%20type/Check%20Box%20Blue.jpg"/>
          <p:cNvPicPr/>
          <p:nvPr/>
        </p:nvPicPr>
        <p:blipFill>
          <a:blip r:embed="rId9"/>
          <a:stretch/>
        </p:blipFill>
        <p:spPr>
          <a:xfrm>
            <a:off x="7429680" y="1989000"/>
            <a:ext cx="947520" cy="9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1" name="Picture 2" descr=""/>
          <p:cNvPicPr/>
          <p:nvPr/>
        </p:nvPicPr>
        <p:blipFill>
          <a:blip r:embed="rId1"/>
          <a:stretch/>
        </p:blipFill>
        <p:spPr>
          <a:xfrm>
            <a:off x="282600" y="1428840"/>
            <a:ext cx="8034480" cy="518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52" name="1 Título"/>
          <p:cNvSpPr/>
          <p:nvPr/>
        </p:nvSpPr>
        <p:spPr>
          <a:xfrm>
            <a:off x="21420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Desde este Menú el Gestor EJE realiza el registro de los Instrumentos en cada etapa definida en el Diagnóstico.</a:t>
            </a: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3" name="5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54" name="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Menú Diagnós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1 Título"/>
          <p:cNvSpPr/>
          <p:nvPr/>
        </p:nvSpPr>
        <p:spPr>
          <a:xfrm>
            <a:off x="214200" y="85716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En esta opción, el Gestor EJE debe adjuntar la carta con la cual las familias se comprometen a participar del programa ingresando la fecha y hora de las visit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6" name="Picture 2" descr=""/>
          <p:cNvPicPr/>
          <p:nvPr/>
        </p:nvPicPr>
        <p:blipFill>
          <a:blip r:embed="rId1"/>
          <a:stretch/>
        </p:blipFill>
        <p:spPr>
          <a:xfrm>
            <a:off x="282600" y="1571760"/>
            <a:ext cx="8296200" cy="49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57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58" name="7 Pentágono"/>
          <p:cNvSpPr/>
          <p:nvPr/>
        </p:nvSpPr>
        <p:spPr>
          <a:xfrm>
            <a:off x="-11160" y="196920"/>
            <a:ext cx="5292720" cy="639720"/>
          </a:xfrm>
          <a:custGeom>
            <a:avLst/>
            <a:gdLst>
              <a:gd name="textAreaLeft" fmla="*/ 0 w 5292720"/>
              <a:gd name="textAreaRight" fmla="*/ 5293080 w 5292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Contacto In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9" name="Picture 2" descr=""/>
          <p:cNvPicPr/>
          <p:nvPr/>
        </p:nvPicPr>
        <p:blipFill>
          <a:blip r:embed="rId1"/>
          <a:stretch/>
        </p:blipFill>
        <p:spPr>
          <a:xfrm>
            <a:off x="714240" y="1461960"/>
            <a:ext cx="6858000" cy="518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0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En esta opción, se realiza un levantamiento de información donde se identifican los recursos y capacidades de las familia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1" name="5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62" name="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En Diagnós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Picture 3" descr=""/>
          <p:cNvPicPr/>
          <p:nvPr/>
        </p:nvPicPr>
        <p:blipFill>
          <a:blip r:embed="rId1"/>
          <a:stretch/>
        </p:blipFill>
        <p:spPr>
          <a:xfrm>
            <a:off x="395280" y="1571760"/>
            <a:ext cx="7962840" cy="48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4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Las Familias en conjunto con el Gestor EJE, determinan quien será el receptor de las transferencias monetarias de acuerdo a lo establecido en el reglamento del programa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5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66" name="5 Pentágono"/>
          <p:cNvSpPr/>
          <p:nvPr/>
        </p:nvSpPr>
        <p:spPr>
          <a:xfrm>
            <a:off x="-11160" y="196920"/>
            <a:ext cx="5292720" cy="639720"/>
          </a:xfrm>
          <a:custGeom>
            <a:avLst/>
            <a:gdLst>
              <a:gd name="textAreaLeft" fmla="*/ 0 w 5292720"/>
              <a:gd name="textAreaRight" fmla="*/ 5293080 w 5292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Transferencias Monetarias y Bono de Prot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7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7531200" cy="49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8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  <a:ea typeface="Verdana"/>
              </a:rPr>
              <a:t>La determinación se realiza por una conexión directa desde el Sistema de Diagnóstico, a la plataforma de </a:t>
            </a:r>
            <a:r>
              <a:rPr b="1" lang="es-CL" sz="1400" spc="-1" strike="noStrike">
                <a:solidFill>
                  <a:srgbClr val="006cb7"/>
                </a:solidFill>
                <a:latin typeface="Verdana"/>
                <a:ea typeface="Verdana"/>
              </a:rPr>
              <a:t>Chile cuenta.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9" name="5 Imagen" descr="Chile-CUENTA-Ministerio-de-Desarrollo-Social-Gobierno-de-Chile.png"/>
          <p:cNvPicPr/>
          <p:nvPr/>
        </p:nvPicPr>
        <p:blipFill>
          <a:blip r:embed="rId2"/>
          <a:stretch/>
        </p:blipFill>
        <p:spPr>
          <a:xfrm>
            <a:off x="4929120" y="5776920"/>
            <a:ext cx="955800" cy="814320"/>
          </a:xfrm>
          <a:prstGeom prst="rect">
            <a:avLst/>
          </a:prstGeom>
          <a:ln w="0">
            <a:noFill/>
          </a:ln>
        </p:spPr>
      </p:pic>
      <p:pic>
        <p:nvPicPr>
          <p:cNvPr id="1870" name="6 Imagen" descr="descarga.jpg"/>
          <p:cNvPicPr/>
          <p:nvPr/>
        </p:nvPicPr>
        <p:blipFill>
          <a:blip r:embed="rId3"/>
          <a:stretch/>
        </p:blipFill>
        <p:spPr>
          <a:xfrm>
            <a:off x="2857680" y="5829480"/>
            <a:ext cx="1143000" cy="761760"/>
          </a:xfrm>
          <a:prstGeom prst="rect">
            <a:avLst/>
          </a:prstGeom>
          <a:ln w="0">
            <a:noFill/>
          </a:ln>
        </p:spPr>
      </p:pic>
      <p:sp>
        <p:nvSpPr>
          <p:cNvPr id="1871" name="7 Flecha derecha"/>
          <p:cNvSpPr/>
          <p:nvPr/>
        </p:nvSpPr>
        <p:spPr>
          <a:xfrm>
            <a:off x="4181400" y="6013440"/>
            <a:ext cx="500040" cy="230040"/>
          </a:xfrm>
          <a:prstGeom prst="righ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ff0000"/>
              </a:gs>
              <a:gs pos="100000">
                <a:srgbClr val="0047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8 Rectángulo"/>
          <p:cNvSpPr/>
          <p:nvPr/>
        </p:nvSpPr>
        <p:spPr>
          <a:xfrm>
            <a:off x="2857680" y="5776920"/>
            <a:ext cx="3027240" cy="814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9 Pentágono"/>
          <p:cNvSpPr/>
          <p:nvPr/>
        </p:nvSpPr>
        <p:spPr>
          <a:xfrm>
            <a:off x="-11160" y="196920"/>
            <a:ext cx="5292720" cy="639720"/>
          </a:xfrm>
          <a:custGeom>
            <a:avLst/>
            <a:gdLst>
              <a:gd name="textAreaLeft" fmla="*/ 0 w 5292720"/>
              <a:gd name="textAreaRight" fmla="*/ 5293080 w 5292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Determinación del Representante de la Fam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4" name="6 Imagen" descr="descarga.jpg"/>
          <p:cNvPicPr/>
          <p:nvPr/>
        </p:nvPicPr>
        <p:blipFill>
          <a:blip r:embed="rId4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Picture 3" descr=""/>
          <p:cNvPicPr/>
          <p:nvPr/>
        </p:nvPicPr>
        <p:blipFill>
          <a:blip r:embed="rId1"/>
          <a:stretch/>
        </p:blipFill>
        <p:spPr>
          <a:xfrm>
            <a:off x="714240" y="1390680"/>
            <a:ext cx="7602840" cy="47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76" name="5 Imagen" descr=""/>
          <p:cNvPicPr/>
          <p:nvPr/>
        </p:nvPicPr>
        <p:blipFill>
          <a:blip r:embed="rId2"/>
          <a:stretch/>
        </p:blipFill>
        <p:spPr>
          <a:xfrm>
            <a:off x="5000760" y="5927760"/>
            <a:ext cx="765000" cy="720720"/>
          </a:xfrm>
          <a:prstGeom prst="rect">
            <a:avLst/>
          </a:prstGeom>
          <a:ln w="0">
            <a:noFill/>
          </a:ln>
        </p:spPr>
      </p:pic>
      <p:pic>
        <p:nvPicPr>
          <p:cNvPr id="1877" name="6 Imagen" descr=""/>
          <p:cNvPicPr/>
          <p:nvPr/>
        </p:nvPicPr>
        <p:blipFill>
          <a:blip r:embed="rId3"/>
          <a:stretch/>
        </p:blipFill>
        <p:spPr>
          <a:xfrm>
            <a:off x="2428920" y="5927760"/>
            <a:ext cx="79524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78" name="20 Grupo"/>
          <p:cNvGrpSpPr/>
          <p:nvPr/>
        </p:nvGrpSpPr>
        <p:grpSpPr>
          <a:xfrm>
            <a:off x="3786120" y="6095880"/>
            <a:ext cx="774720" cy="382680"/>
            <a:chOff x="3786120" y="6095880"/>
            <a:chExt cx="774720" cy="382680"/>
          </a:xfrm>
        </p:grpSpPr>
        <p:pic>
          <p:nvPicPr>
            <p:cNvPr id="1879" name="8 Imagen" descr=""/>
            <p:cNvPicPr/>
            <p:nvPr/>
          </p:nvPicPr>
          <p:blipFill>
            <a:blip r:embed="rId4"/>
            <a:stretch/>
          </p:blipFill>
          <p:spPr>
            <a:xfrm>
              <a:off x="3786120" y="6095880"/>
              <a:ext cx="37296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9 Imagen" descr=""/>
            <p:cNvPicPr/>
            <p:nvPr/>
          </p:nvPicPr>
          <p:blipFill>
            <a:blip r:embed="rId5"/>
            <a:stretch/>
          </p:blipFill>
          <p:spPr>
            <a:xfrm>
              <a:off x="4187880" y="6106680"/>
              <a:ext cx="372960" cy="3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1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Con la aceptación del Plan de intervención, las familias ya están preparadas para integrarse a la etapa de acompañamiento.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9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Aceptación del Plan de Interven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3" name="6 Imagen" descr="descarga.jpg"/>
          <p:cNvPicPr/>
          <p:nvPr/>
        </p:nvPicPr>
        <p:blipFill>
          <a:blip r:embed="rId6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6D3BCBD7-A315-4949-BCA0-3DBEB8C895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Rectangle 19"/>
          <p:cNvSpPr/>
          <p:nvPr/>
        </p:nvSpPr>
        <p:spPr>
          <a:xfrm>
            <a:off x="539640" y="1504080"/>
            <a:ext cx="77774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ntextualización a los Sistemas de Gestión y Ejec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SIG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stituciones vincu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Objetivos y funciona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nvocat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formación para los progr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Seguridades y Oportunidades del 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Familias en Extrema Pobr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oblaciones Vulner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" name="8 Grupo"/>
          <p:cNvGrpSpPr/>
          <p:nvPr/>
        </p:nvGrpSpPr>
        <p:grpSpPr>
          <a:xfrm>
            <a:off x="-17640" y="196920"/>
            <a:ext cx="4480200" cy="676080"/>
            <a:chOff x="-17640" y="196920"/>
            <a:chExt cx="4480200" cy="676080"/>
          </a:xfrm>
        </p:grpSpPr>
        <p:sp>
          <p:nvSpPr>
            <p:cNvPr id="1576" name="7 Pentágono"/>
            <p:cNvSpPr/>
            <p:nvPr/>
          </p:nvSpPr>
          <p:spPr>
            <a:xfrm>
              <a:off x="-17640" y="196920"/>
              <a:ext cx="4480200" cy="639720"/>
            </a:xfrm>
            <a:custGeom>
              <a:avLst/>
              <a:gdLst>
                <a:gd name="textAreaLeft" fmla="*/ 0 w 4480200"/>
                <a:gd name="textAreaRight" fmla="*/ 4480560 w 44802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Pentágono 4"/>
            <p:cNvSpPr/>
            <p:nvPr/>
          </p:nvSpPr>
          <p:spPr>
            <a:xfrm>
              <a:off x="95040" y="233280"/>
              <a:ext cx="4350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Agend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4" name="Picture 2" descr=""/>
          <p:cNvPicPr/>
          <p:nvPr/>
        </p:nvPicPr>
        <p:blipFill>
          <a:blip r:embed="rId1"/>
          <a:stretch/>
        </p:blipFill>
        <p:spPr>
          <a:xfrm>
            <a:off x="484200" y="2000160"/>
            <a:ext cx="7845480" cy="35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5" name="4 Rectángulo"/>
          <p:cNvSpPr/>
          <p:nvPr/>
        </p:nvSpPr>
        <p:spPr>
          <a:xfrm>
            <a:off x="7286760" y="1785960"/>
            <a:ext cx="1042920" cy="421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En Menú Diagnóstico queda un registro de las etapas que ha avanzando la familia. Una vez diagnosticadas dichas familias son derivadas a la etapa de acompañami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7" name="7 Imagen" descr="descarga.jpg"/>
          <p:cNvPicPr/>
          <p:nvPr/>
        </p:nvPicPr>
        <p:blipFill>
          <a:blip r:embed="rId2"/>
          <a:stretch/>
        </p:blipFill>
        <p:spPr>
          <a:xfrm>
            <a:off x="6307200" y="79200"/>
            <a:ext cx="979560" cy="654120"/>
          </a:xfrm>
          <a:prstGeom prst="rect">
            <a:avLst/>
          </a:prstGeom>
          <a:ln w="0">
            <a:noFill/>
          </a:ln>
        </p:spPr>
      </p:pic>
      <p:sp>
        <p:nvSpPr>
          <p:cNvPr id="1888" name="7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Menú Diagnós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9" name="7 Rectángul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74760" y="1444680"/>
            <a:ext cx="1498680" cy="2614680"/>
          </a:xfrm>
          <a:prstGeom prst="rect">
            <a:avLst/>
          </a:prstGeom>
          <a:ln w="0">
            <a:noFill/>
          </a:ln>
        </p:spPr>
      </p:pic>
      <p:pic>
        <p:nvPicPr>
          <p:cNvPr id="1890" name="8 Rectángulo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86120" y="1481040"/>
            <a:ext cx="1487520" cy="2530440"/>
          </a:xfrm>
          <a:prstGeom prst="rect">
            <a:avLst/>
          </a:prstGeom>
          <a:ln w="0">
            <a:noFill/>
          </a:ln>
        </p:spPr>
      </p:pic>
      <p:pic>
        <p:nvPicPr>
          <p:cNvPr id="1891" name="9 Rectángulo" descr=""/>
          <p:cNvPicPr/>
          <p:nvPr/>
        </p:nvPicPr>
        <p:blipFill>
          <a:blip r:embed="rId5"/>
          <a:stretch/>
        </p:blipFill>
        <p:spPr>
          <a:xfrm>
            <a:off x="6235560" y="1450800"/>
            <a:ext cx="1481400" cy="2590920"/>
          </a:xfrm>
          <a:prstGeom prst="rect">
            <a:avLst/>
          </a:prstGeom>
          <a:ln w="0">
            <a:noFill/>
          </a:ln>
        </p:spPr>
      </p:pic>
      <p:sp>
        <p:nvSpPr>
          <p:cNvPr id="1892" name="12 Cheurón"/>
          <p:cNvSpPr/>
          <p:nvPr/>
        </p:nvSpPr>
        <p:spPr>
          <a:xfrm>
            <a:off x="1116000" y="3716280"/>
            <a:ext cx="6985080" cy="93672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5" y="0"/>
                </a:lnTo>
                <a:lnTo>
                  <a:pt x="21600" y="10800"/>
                </a:lnTo>
                <a:lnTo>
                  <a:pt x="20895" y="21600"/>
                </a:lnTo>
                <a:lnTo>
                  <a:pt x="0" y="21600"/>
                </a:lnTo>
                <a:lnTo>
                  <a:pt x="705" y="10800"/>
                </a:lnTo>
                <a:close/>
              </a:path>
            </a:pathLst>
          </a:custGeom>
          <a:solidFill>
            <a:srgbClr val="005fa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Diagnós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3" name="6 Imagen" descr="descarga.jpg"/>
          <p:cNvPicPr/>
          <p:nvPr/>
        </p:nvPicPr>
        <p:blipFill>
          <a:blip r:embed="rId6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94" name="14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stemas de Información en operación: EJE Diagnóstico Poblaciones Vulner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3 Rectángul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8200" y="1103400"/>
            <a:ext cx="1494000" cy="1785960"/>
          </a:xfrm>
          <a:prstGeom prst="rect">
            <a:avLst/>
          </a:prstGeom>
          <a:ln w="0">
            <a:noFill/>
          </a:ln>
        </p:spPr>
      </p:pic>
      <p:pic>
        <p:nvPicPr>
          <p:cNvPr id="1896" name="4 Rectángulo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4680" y="2762280"/>
            <a:ext cx="1481040" cy="1773360"/>
          </a:xfrm>
          <a:prstGeom prst="rect">
            <a:avLst/>
          </a:prstGeom>
          <a:ln w="0">
            <a:noFill/>
          </a:ln>
        </p:spPr>
      </p:pic>
      <p:pic>
        <p:nvPicPr>
          <p:cNvPr id="1897" name="6 Rectángulo" descr=""/>
          <p:cNvPicPr/>
          <p:nvPr/>
        </p:nvPicPr>
        <p:blipFill>
          <a:blip r:embed="rId5"/>
          <a:stretch/>
        </p:blipFill>
        <p:spPr>
          <a:xfrm>
            <a:off x="274680" y="4438800"/>
            <a:ext cx="1481040" cy="1773000"/>
          </a:xfrm>
          <a:prstGeom prst="rect">
            <a:avLst/>
          </a:prstGeom>
          <a:ln w="0">
            <a:noFill/>
          </a:ln>
        </p:spPr>
      </p:pic>
      <p:pic>
        <p:nvPicPr>
          <p:cNvPr id="1898" name="7 Cheurón" descr=""/>
          <p:cNvPicPr/>
          <p:nvPr/>
        </p:nvPicPr>
        <p:blipFill>
          <a:blip r:embed="rId6"/>
          <a:stretch/>
        </p:blipFill>
        <p:spPr>
          <a:xfrm>
            <a:off x="207324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899" name="8 Cheurón" descr=""/>
          <p:cNvPicPr/>
          <p:nvPr/>
        </p:nvPicPr>
        <p:blipFill>
          <a:blip r:embed="rId7"/>
          <a:stretch/>
        </p:blipFill>
        <p:spPr>
          <a:xfrm>
            <a:off x="365760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900" name="9 Cheurón" descr=""/>
          <p:cNvPicPr/>
          <p:nvPr/>
        </p:nvPicPr>
        <p:blipFill>
          <a:blip r:embed="rId8"/>
          <a:stretch/>
        </p:blipFill>
        <p:spPr>
          <a:xfrm>
            <a:off x="524196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901" name="10 Cheurón" descr=""/>
          <p:cNvPicPr/>
          <p:nvPr/>
        </p:nvPicPr>
        <p:blipFill>
          <a:blip r:embed="rId9"/>
          <a:stretch/>
        </p:blipFill>
        <p:spPr>
          <a:xfrm>
            <a:off x="682776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902" name="11 Cheurón" descr=""/>
          <p:cNvPicPr/>
          <p:nvPr/>
        </p:nvPicPr>
        <p:blipFill>
          <a:blip r:embed="rId10"/>
          <a:stretch/>
        </p:blipFill>
        <p:spPr>
          <a:xfrm>
            <a:off x="207324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3" name="12 Cheurón" descr=""/>
          <p:cNvPicPr/>
          <p:nvPr/>
        </p:nvPicPr>
        <p:blipFill>
          <a:blip r:embed="rId11"/>
          <a:stretch/>
        </p:blipFill>
        <p:spPr>
          <a:xfrm>
            <a:off x="365760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4" name="13 Cheurón" descr=""/>
          <p:cNvPicPr/>
          <p:nvPr/>
        </p:nvPicPr>
        <p:blipFill>
          <a:blip r:embed="rId12"/>
          <a:stretch/>
        </p:blipFill>
        <p:spPr>
          <a:xfrm>
            <a:off x="524196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5" name="14 Cheurón" descr=""/>
          <p:cNvPicPr/>
          <p:nvPr/>
        </p:nvPicPr>
        <p:blipFill>
          <a:blip r:embed="rId13"/>
          <a:stretch/>
        </p:blipFill>
        <p:spPr>
          <a:xfrm>
            <a:off x="682776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6" name="15 Cheurón" descr=""/>
          <p:cNvPicPr/>
          <p:nvPr/>
        </p:nvPicPr>
        <p:blipFill>
          <a:blip r:embed="rId14"/>
          <a:stretch/>
        </p:blipFill>
        <p:spPr>
          <a:xfrm>
            <a:off x="2073240" y="4438800"/>
            <a:ext cx="1755720" cy="1773000"/>
          </a:xfrm>
          <a:prstGeom prst="rect">
            <a:avLst/>
          </a:prstGeom>
          <a:ln w="0">
            <a:noFill/>
          </a:ln>
        </p:spPr>
      </p:pic>
      <p:pic>
        <p:nvPicPr>
          <p:cNvPr id="1907" name="16 Cheurón" descr=""/>
          <p:cNvPicPr/>
          <p:nvPr/>
        </p:nvPicPr>
        <p:blipFill>
          <a:blip r:embed="rId15"/>
          <a:stretch/>
        </p:blipFill>
        <p:spPr>
          <a:xfrm>
            <a:off x="3657600" y="4438800"/>
            <a:ext cx="1755720" cy="1773000"/>
          </a:xfrm>
          <a:prstGeom prst="rect">
            <a:avLst/>
          </a:prstGeom>
          <a:ln w="0">
            <a:noFill/>
          </a:ln>
        </p:spPr>
      </p:pic>
      <p:pic>
        <p:nvPicPr>
          <p:cNvPr id="1908" name="17 Cheurón" descr=""/>
          <p:cNvPicPr/>
          <p:nvPr/>
        </p:nvPicPr>
        <p:blipFill>
          <a:blip r:embed="rId16"/>
          <a:stretch/>
        </p:blipFill>
        <p:spPr>
          <a:xfrm>
            <a:off x="5241960" y="4438800"/>
            <a:ext cx="1755720" cy="1773000"/>
          </a:xfrm>
          <a:prstGeom prst="rect">
            <a:avLst/>
          </a:prstGeom>
          <a:ln w="0">
            <a:noFill/>
          </a:ln>
        </p:spPr>
      </p:pic>
      <p:sp>
        <p:nvSpPr>
          <p:cNvPr id="1909" name="Pentágono 4"/>
          <p:cNvSpPr/>
          <p:nvPr/>
        </p:nvSpPr>
        <p:spPr>
          <a:xfrm>
            <a:off x="3851280" y="44280"/>
            <a:ext cx="4824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199080" tIns="106560" bIns="106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Calibri"/>
              </a:rPr>
              <a:t>Etapas del Proyecto que Apoya el Siste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0" name="6 Imagen" descr="descarga.jpg"/>
          <p:cNvPicPr/>
          <p:nvPr/>
        </p:nvPicPr>
        <p:blipFill>
          <a:blip r:embed="rId17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11" name="20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Etapas del Proyecto que Apoya 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2" name="Picture 2" descr=""/>
          <p:cNvPicPr/>
          <p:nvPr/>
        </p:nvPicPr>
        <p:blipFill>
          <a:blip r:embed="rId1"/>
          <a:stretch/>
        </p:blipFill>
        <p:spPr>
          <a:xfrm>
            <a:off x="357120" y="1268280"/>
            <a:ext cx="8175600" cy="3673440"/>
          </a:xfrm>
          <a:prstGeom prst="rect">
            <a:avLst/>
          </a:prstGeom>
          <a:ln w="0">
            <a:noFill/>
          </a:ln>
        </p:spPr>
      </p:pic>
      <p:pic>
        <p:nvPicPr>
          <p:cNvPr id="1913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14" name="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stema / Pantalla de Ac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"/>
          <p:cNvPicPr/>
          <p:nvPr/>
        </p:nvPicPr>
        <p:blipFill>
          <a:blip r:embed="rId1"/>
          <a:stretch/>
        </p:blipFill>
        <p:spPr>
          <a:xfrm>
            <a:off x="485640" y="1305000"/>
            <a:ext cx="8170920" cy="4248000"/>
          </a:xfrm>
          <a:prstGeom prst="rect">
            <a:avLst/>
          </a:prstGeom>
          <a:ln w="0">
            <a:noFill/>
          </a:ln>
        </p:spPr>
      </p:pic>
      <p:pic>
        <p:nvPicPr>
          <p:cNvPr id="1916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17" name="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CCV / Acceso a cada Progr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8" name="Picture 2" descr=""/>
          <p:cNvPicPr/>
          <p:nvPr/>
        </p:nvPicPr>
        <p:blipFill>
          <a:blip r:embed="rId1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pic>
        <p:nvPicPr>
          <p:cNvPr id="1919" name="7 Cheurón" descr=""/>
          <p:cNvPicPr/>
          <p:nvPr/>
        </p:nvPicPr>
        <p:blipFill>
          <a:blip r:embed="rId2"/>
          <a:stretch/>
        </p:blipFill>
        <p:spPr>
          <a:xfrm>
            <a:off x="1395360" y="798480"/>
            <a:ext cx="1805040" cy="1847880"/>
          </a:xfrm>
          <a:prstGeom prst="rect">
            <a:avLst/>
          </a:prstGeom>
          <a:ln w="0">
            <a:noFill/>
          </a:ln>
        </p:spPr>
      </p:pic>
      <p:pic>
        <p:nvPicPr>
          <p:cNvPr id="1920" name="8 Cheurón" descr=""/>
          <p:cNvPicPr/>
          <p:nvPr/>
        </p:nvPicPr>
        <p:blipFill>
          <a:blip r:embed="rId3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21" name="9 Cheurón" descr=""/>
          <p:cNvPicPr/>
          <p:nvPr/>
        </p:nvPicPr>
        <p:blipFill>
          <a:blip r:embed="rId4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22" name="10 Cheurón" descr=""/>
          <p:cNvPicPr/>
          <p:nvPr/>
        </p:nvPicPr>
        <p:blipFill>
          <a:blip r:embed="rId5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sp>
        <p:nvSpPr>
          <p:cNvPr id="1923" name="14 Rectángulo"/>
          <p:cNvSpPr/>
          <p:nvPr/>
        </p:nvSpPr>
        <p:spPr>
          <a:xfrm>
            <a:off x="2771640" y="3429000"/>
            <a:ext cx="1079640" cy="3603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15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5" name="Picture 3" descr=""/>
          <p:cNvPicPr/>
          <p:nvPr/>
        </p:nvPicPr>
        <p:blipFill>
          <a:blip r:embed="rId6"/>
          <a:stretch/>
        </p:blipFill>
        <p:spPr>
          <a:xfrm>
            <a:off x="1814400" y="2852640"/>
            <a:ext cx="7150320" cy="310032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cxnSp>
        <p:nvCxnSpPr>
          <p:cNvPr id="1926" name="17 Conector curvado"/>
          <p:cNvCxnSpPr>
            <a:stCxn id="1920" idx="2"/>
          </p:cNvCxnSpPr>
          <p:nvPr/>
        </p:nvCxnSpPr>
        <p:spPr>
          <a:xfrm flipH="1" rot="16200000">
            <a:off x="2599200" y="2896920"/>
            <a:ext cx="3601080" cy="120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27" name="23 Conector curvado"/>
          <p:cNvCxnSpPr>
            <a:stCxn id="1921" idx="2"/>
          </p:cNvCxnSpPr>
          <p:nvPr/>
        </p:nvCxnSpPr>
        <p:spPr>
          <a:xfrm flipH="1" rot="16200000">
            <a:off x="3498840" y="3580560"/>
            <a:ext cx="3961080" cy="20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28" name="25 Conector curvado"/>
          <p:cNvCxnSpPr>
            <a:stCxn id="1922" idx="2"/>
          </p:cNvCxnSpPr>
          <p:nvPr/>
        </p:nvCxnSpPr>
        <p:spPr>
          <a:xfrm rot="5400000">
            <a:off x="5010840" y="2989080"/>
            <a:ext cx="3242160" cy="66420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pic>
        <p:nvPicPr>
          <p:cNvPr id="1929" name="6 Imagen" descr="descarga.jpg"/>
          <p:cNvPicPr/>
          <p:nvPr/>
        </p:nvPicPr>
        <p:blipFill>
          <a:blip r:embed="rId7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30" name="18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1" name="14 Cheurón" descr=""/>
          <p:cNvPicPr/>
          <p:nvPr/>
        </p:nvPicPr>
        <p:blipFill>
          <a:blip r:embed="rId1"/>
          <a:stretch/>
        </p:blipFill>
        <p:spPr>
          <a:xfrm>
            <a:off x="3011400" y="81756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32" name="15 Cheurón" descr=""/>
          <p:cNvPicPr/>
          <p:nvPr/>
        </p:nvPicPr>
        <p:blipFill>
          <a:blip r:embed="rId2"/>
          <a:stretch/>
        </p:blipFill>
        <p:spPr>
          <a:xfrm>
            <a:off x="45957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33" name="16 Cheurón" descr=""/>
          <p:cNvPicPr/>
          <p:nvPr/>
        </p:nvPicPr>
        <p:blipFill>
          <a:blip r:embed="rId3"/>
          <a:stretch/>
        </p:blipFill>
        <p:spPr>
          <a:xfrm>
            <a:off x="61815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34" name="Picture 2" descr=""/>
          <p:cNvPicPr/>
          <p:nvPr/>
        </p:nvPicPr>
        <p:blipFill>
          <a:blip r:embed="rId4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35" name="18 Rectángulo"/>
          <p:cNvSpPr/>
          <p:nvPr/>
        </p:nvSpPr>
        <p:spPr>
          <a:xfrm>
            <a:off x="2771640" y="3389400"/>
            <a:ext cx="1079640" cy="3603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6" name="19 Cheurón" descr=""/>
          <p:cNvPicPr/>
          <p:nvPr/>
        </p:nvPicPr>
        <p:blipFill>
          <a:blip r:embed="rId5"/>
          <a:stretch/>
        </p:blipFill>
        <p:spPr>
          <a:xfrm>
            <a:off x="1395360" y="798480"/>
            <a:ext cx="1805040" cy="1847880"/>
          </a:xfrm>
          <a:prstGeom prst="rect">
            <a:avLst/>
          </a:prstGeom>
          <a:ln w="0">
            <a:noFill/>
          </a:ln>
        </p:spPr>
      </p:pic>
      <p:pic>
        <p:nvPicPr>
          <p:cNvPr id="1937" name="Picture 2" descr=""/>
          <p:cNvPicPr/>
          <p:nvPr/>
        </p:nvPicPr>
        <p:blipFill>
          <a:blip r:embed="rId6"/>
          <a:srcRect l="0" t="1890" r="0" b="0"/>
          <a:stretch/>
        </p:blipFill>
        <p:spPr>
          <a:xfrm>
            <a:off x="755640" y="3789360"/>
            <a:ext cx="7913520" cy="2075040"/>
          </a:xfrm>
          <a:prstGeom prst="rect">
            <a:avLst/>
          </a:prstGeom>
          <a:ln w="0">
            <a:noFill/>
          </a:ln>
        </p:spPr>
      </p:pic>
      <p:sp>
        <p:nvSpPr>
          <p:cNvPr id="1938" name="23 Rectángulo"/>
          <p:cNvSpPr/>
          <p:nvPr/>
        </p:nvSpPr>
        <p:spPr>
          <a:xfrm>
            <a:off x="934920" y="5373720"/>
            <a:ext cx="1549440" cy="358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9" name="Picture 3" descr=""/>
          <p:cNvPicPr/>
          <p:nvPr/>
        </p:nvPicPr>
        <p:blipFill>
          <a:blip r:embed="rId7"/>
          <a:srcRect l="0" t="0" r="0" b="29016"/>
          <a:stretch/>
        </p:blipFill>
        <p:spPr>
          <a:xfrm>
            <a:off x="2700360" y="2924280"/>
            <a:ext cx="6048360" cy="37764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1940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41" name="20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2" name="11 Cheurón" descr=""/>
          <p:cNvPicPr/>
          <p:nvPr/>
        </p:nvPicPr>
        <p:blipFill>
          <a:blip r:embed="rId1"/>
          <a:stretch/>
        </p:blipFill>
        <p:spPr>
          <a:xfrm>
            <a:off x="1427040" y="817560"/>
            <a:ext cx="1754280" cy="1773360"/>
          </a:xfrm>
          <a:prstGeom prst="rect">
            <a:avLst/>
          </a:prstGeom>
          <a:ln w="0">
            <a:noFill/>
          </a:ln>
        </p:spPr>
      </p:pic>
      <p:pic>
        <p:nvPicPr>
          <p:cNvPr id="1943" name="12 Cheurón" descr=""/>
          <p:cNvPicPr/>
          <p:nvPr/>
        </p:nvPicPr>
        <p:blipFill>
          <a:blip r:embed="rId2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44" name="13 Cheurón" descr=""/>
          <p:cNvPicPr/>
          <p:nvPr/>
        </p:nvPicPr>
        <p:blipFill>
          <a:blip r:embed="rId3"/>
          <a:stretch/>
        </p:blipFill>
        <p:spPr>
          <a:xfrm>
            <a:off x="45957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45" name="20 Cheurón" descr=""/>
          <p:cNvPicPr/>
          <p:nvPr/>
        </p:nvPicPr>
        <p:blipFill>
          <a:blip r:embed="rId4"/>
          <a:stretch/>
        </p:blipFill>
        <p:spPr>
          <a:xfrm>
            <a:off x="61815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46" name="Picture 2" descr=""/>
          <p:cNvPicPr/>
          <p:nvPr/>
        </p:nvPicPr>
        <p:blipFill>
          <a:blip r:embed="rId5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47" name="22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8" name="Picture 3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7148520" cy="3100320"/>
          </a:xfrm>
          <a:prstGeom prst="rect">
            <a:avLst/>
          </a:prstGeom>
          <a:ln w="0">
            <a:noFill/>
          </a:ln>
        </p:spPr>
      </p:pic>
      <p:sp>
        <p:nvSpPr>
          <p:cNvPr id="1949" name="25 Rectángulo"/>
          <p:cNvSpPr/>
          <p:nvPr/>
        </p:nvSpPr>
        <p:spPr>
          <a:xfrm>
            <a:off x="4046400" y="5413320"/>
            <a:ext cx="8654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0" name="Picture 2" descr=""/>
          <p:cNvPicPr/>
          <p:nvPr/>
        </p:nvPicPr>
        <p:blipFill>
          <a:blip r:embed="rId7"/>
          <a:stretch/>
        </p:blipFill>
        <p:spPr>
          <a:xfrm>
            <a:off x="2484360" y="2421000"/>
            <a:ext cx="5800680" cy="426708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pic>
        <p:nvPicPr>
          <p:cNvPr id="1951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52" name="1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3" name="11 Cheurón" descr=""/>
          <p:cNvPicPr/>
          <p:nvPr/>
        </p:nvPicPr>
        <p:blipFill>
          <a:blip r:embed="rId1"/>
          <a:stretch/>
        </p:blipFill>
        <p:spPr>
          <a:xfrm>
            <a:off x="1427040" y="817560"/>
            <a:ext cx="1754280" cy="1773360"/>
          </a:xfrm>
          <a:prstGeom prst="rect">
            <a:avLst/>
          </a:prstGeom>
          <a:ln w="0">
            <a:noFill/>
          </a:ln>
        </p:spPr>
      </p:pic>
      <p:pic>
        <p:nvPicPr>
          <p:cNvPr id="1954" name="12 Cheurón" descr=""/>
          <p:cNvPicPr/>
          <p:nvPr/>
        </p:nvPicPr>
        <p:blipFill>
          <a:blip r:embed="rId2"/>
          <a:stretch/>
        </p:blipFill>
        <p:spPr>
          <a:xfrm>
            <a:off x="3011400" y="81756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55" name="13 Cheurón" descr=""/>
          <p:cNvPicPr/>
          <p:nvPr/>
        </p:nvPicPr>
        <p:blipFill>
          <a:blip r:embed="rId3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56" name="20 Cheurón" descr=""/>
          <p:cNvPicPr/>
          <p:nvPr/>
        </p:nvPicPr>
        <p:blipFill>
          <a:blip r:embed="rId4"/>
          <a:stretch/>
        </p:blipFill>
        <p:spPr>
          <a:xfrm>
            <a:off x="61815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2" descr=""/>
          <p:cNvPicPr/>
          <p:nvPr/>
        </p:nvPicPr>
        <p:blipFill>
          <a:blip r:embed="rId5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58" name="22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9" name="Picture 3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7148520" cy="3100320"/>
          </a:xfrm>
          <a:prstGeom prst="rect">
            <a:avLst/>
          </a:prstGeom>
          <a:ln w="0">
            <a:noFill/>
          </a:ln>
        </p:spPr>
      </p:pic>
      <p:sp>
        <p:nvSpPr>
          <p:cNvPr id="1960" name="25 Rectángulo"/>
          <p:cNvSpPr/>
          <p:nvPr/>
        </p:nvSpPr>
        <p:spPr>
          <a:xfrm>
            <a:off x="4788000" y="573264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1" name="Picture 2" descr=""/>
          <p:cNvPicPr/>
          <p:nvPr/>
        </p:nvPicPr>
        <p:blipFill>
          <a:blip r:embed="rId7"/>
          <a:stretch/>
        </p:blipFill>
        <p:spPr>
          <a:xfrm>
            <a:off x="1824120" y="2637000"/>
            <a:ext cx="6656400" cy="403848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pic>
        <p:nvPicPr>
          <p:cNvPr id="1962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63" name="1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4" name="11 Cheurón" descr=""/>
          <p:cNvPicPr/>
          <p:nvPr/>
        </p:nvPicPr>
        <p:blipFill>
          <a:blip r:embed="rId1"/>
          <a:stretch/>
        </p:blipFill>
        <p:spPr>
          <a:xfrm>
            <a:off x="1427040" y="817560"/>
            <a:ext cx="1754280" cy="1773360"/>
          </a:xfrm>
          <a:prstGeom prst="rect">
            <a:avLst/>
          </a:prstGeom>
          <a:ln w="0">
            <a:noFill/>
          </a:ln>
        </p:spPr>
      </p:pic>
      <p:pic>
        <p:nvPicPr>
          <p:cNvPr id="1965" name="12 Cheurón" descr=""/>
          <p:cNvPicPr/>
          <p:nvPr/>
        </p:nvPicPr>
        <p:blipFill>
          <a:blip r:embed="rId2"/>
          <a:stretch/>
        </p:blipFill>
        <p:spPr>
          <a:xfrm>
            <a:off x="3011400" y="81756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66" name="13 Cheurón" descr=""/>
          <p:cNvPicPr/>
          <p:nvPr/>
        </p:nvPicPr>
        <p:blipFill>
          <a:blip r:embed="rId3"/>
          <a:stretch/>
        </p:blipFill>
        <p:spPr>
          <a:xfrm>
            <a:off x="45957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67" name="20 Cheurón" descr=""/>
          <p:cNvPicPr/>
          <p:nvPr/>
        </p:nvPicPr>
        <p:blipFill>
          <a:blip r:embed="rId4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2" descr=""/>
          <p:cNvPicPr/>
          <p:nvPr/>
        </p:nvPicPr>
        <p:blipFill>
          <a:blip r:embed="rId5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69" name="22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0" name="Picture 3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7148520" cy="3100320"/>
          </a:xfrm>
          <a:prstGeom prst="rect">
            <a:avLst/>
          </a:prstGeom>
          <a:ln w="0">
            <a:noFill/>
          </a:ln>
        </p:spPr>
      </p:pic>
      <p:sp>
        <p:nvSpPr>
          <p:cNvPr id="1971" name="25 Rectángulo"/>
          <p:cNvSpPr/>
          <p:nvPr/>
        </p:nvSpPr>
        <p:spPr>
          <a:xfrm>
            <a:off x="5435640" y="5084640"/>
            <a:ext cx="86508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2" name="Picture 2" descr=""/>
          <p:cNvPicPr/>
          <p:nvPr/>
        </p:nvPicPr>
        <p:blipFill>
          <a:blip r:embed="rId7"/>
          <a:stretch/>
        </p:blipFill>
        <p:spPr>
          <a:xfrm>
            <a:off x="2527200" y="2492280"/>
            <a:ext cx="5953320" cy="401976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pic>
        <p:nvPicPr>
          <p:cNvPr id="1973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74" name="1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EB8953CE-A498-47D3-BA02-66425A2888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8 Grupo"/>
          <p:cNvGrpSpPr/>
          <p:nvPr/>
        </p:nvGrpSpPr>
        <p:grpSpPr>
          <a:xfrm>
            <a:off x="-17640" y="196920"/>
            <a:ext cx="4480200" cy="676080"/>
            <a:chOff x="-17640" y="196920"/>
            <a:chExt cx="4480200" cy="676080"/>
          </a:xfrm>
        </p:grpSpPr>
        <p:sp>
          <p:nvSpPr>
            <p:cNvPr id="1582" name="7 Pentágono"/>
            <p:cNvSpPr/>
            <p:nvPr/>
          </p:nvSpPr>
          <p:spPr>
            <a:xfrm>
              <a:off x="-17640" y="196920"/>
              <a:ext cx="4480200" cy="639720"/>
            </a:xfrm>
            <a:custGeom>
              <a:avLst/>
              <a:gdLst>
                <a:gd name="textAreaLeft" fmla="*/ 0 w 4480200"/>
                <a:gd name="textAreaRight" fmla="*/ 4480560 w 44802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Pentágono 4"/>
            <p:cNvSpPr/>
            <p:nvPr/>
          </p:nvSpPr>
          <p:spPr>
            <a:xfrm>
              <a:off x="95040" y="233280"/>
              <a:ext cx="4350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Apoyo a la gestión y ejecución de los Programas Soci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4" name="13 Diagrama" descr=""/>
          <p:cNvPicPr/>
          <p:nvPr/>
        </p:nvPicPr>
        <p:blipFill>
          <a:blip r:embed="rId1"/>
          <a:stretch/>
        </p:blipFill>
        <p:spPr>
          <a:xfrm>
            <a:off x="274680" y="1847880"/>
            <a:ext cx="8588160" cy="4218120"/>
          </a:xfrm>
          <a:prstGeom prst="rect">
            <a:avLst/>
          </a:prstGeom>
          <a:ln w="0">
            <a:noFill/>
          </a:ln>
        </p:spPr>
      </p:pic>
      <p:pic>
        <p:nvPicPr>
          <p:cNvPr id="1585" name="16 Rectángulo" descr=""/>
          <p:cNvPicPr/>
          <p:nvPr/>
        </p:nvPicPr>
        <p:blipFill>
          <a:blip r:embed="rId2"/>
          <a:stretch/>
        </p:blipFill>
        <p:spPr>
          <a:xfrm>
            <a:off x="1792440" y="901800"/>
            <a:ext cx="3060720" cy="1549440"/>
          </a:xfrm>
          <a:prstGeom prst="rect">
            <a:avLst/>
          </a:prstGeom>
          <a:ln w="0">
            <a:noFill/>
          </a:ln>
        </p:spPr>
      </p:pic>
      <p:pic>
        <p:nvPicPr>
          <p:cNvPr id="1586" name="17 Rectángulo" descr=""/>
          <p:cNvPicPr/>
          <p:nvPr/>
        </p:nvPicPr>
        <p:blipFill>
          <a:blip r:embed="rId3"/>
          <a:stretch/>
        </p:blipFill>
        <p:spPr>
          <a:xfrm>
            <a:off x="6321600" y="890640"/>
            <a:ext cx="2639880" cy="1547640"/>
          </a:xfrm>
          <a:prstGeom prst="rect">
            <a:avLst/>
          </a:prstGeom>
          <a:ln w="0">
            <a:noFill/>
          </a:ln>
        </p:spPr>
      </p:pic>
      <p:sp>
        <p:nvSpPr>
          <p:cNvPr id="1587" name="18 Flecha abajo"/>
          <p:cNvSpPr/>
          <p:nvPr/>
        </p:nvSpPr>
        <p:spPr>
          <a:xfrm rot="3031800">
            <a:off x="1715400" y="1797480"/>
            <a:ext cx="71640" cy="1400400"/>
          </a:xfrm>
          <a:prstGeom prst="downArrow">
            <a:avLst>
              <a:gd name="adj1" fmla="val 50000"/>
              <a:gd name="adj2" fmla="val 5855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317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19 Flecha abajo"/>
          <p:cNvSpPr/>
          <p:nvPr/>
        </p:nvSpPr>
        <p:spPr>
          <a:xfrm flipH="1">
            <a:off x="3343320" y="2068560"/>
            <a:ext cx="71280" cy="949320"/>
          </a:xfrm>
          <a:prstGeom prst="downArrow">
            <a:avLst>
              <a:gd name="adj1" fmla="val 50000"/>
              <a:gd name="adj2" fmla="val 5882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20 Flecha abajo"/>
          <p:cNvSpPr/>
          <p:nvPr/>
        </p:nvSpPr>
        <p:spPr>
          <a:xfrm rot="18302400">
            <a:off x="4806000" y="1803960"/>
            <a:ext cx="71640" cy="1400040"/>
          </a:xfrm>
          <a:prstGeom prst="downArrow">
            <a:avLst>
              <a:gd name="adj1" fmla="val 50000"/>
              <a:gd name="adj2" fmla="val 5853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9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23 Flecha abajo"/>
          <p:cNvSpPr/>
          <p:nvPr/>
        </p:nvSpPr>
        <p:spPr>
          <a:xfrm flipH="1">
            <a:off x="7812000" y="1986120"/>
            <a:ext cx="108000" cy="950760"/>
          </a:xfrm>
          <a:prstGeom prst="downArrow">
            <a:avLst>
              <a:gd name="adj1" fmla="val 50000"/>
              <a:gd name="adj2" fmla="val 5864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1" name="Picture 2" descr="C:\Program Files (x86)\Microsoft Office\MEDIA\CAGCAT10\j0222015.wmf"/>
          <p:cNvPicPr/>
          <p:nvPr/>
        </p:nvPicPr>
        <p:blipFill>
          <a:blip r:embed="rId4"/>
          <a:stretch/>
        </p:blipFill>
        <p:spPr>
          <a:xfrm>
            <a:off x="2622600" y="2575080"/>
            <a:ext cx="492120" cy="49356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6" descr="C:\Users\pcalderon\AppData\Local\Microsoft\Windows\Temporary Internet Files\Content.IE5\HBJSFNSQ\MC900205568[1].wmf"/>
          <p:cNvPicPr/>
          <p:nvPr/>
        </p:nvPicPr>
        <p:blipFill>
          <a:blip r:embed="rId5"/>
          <a:stretch/>
        </p:blipFill>
        <p:spPr>
          <a:xfrm>
            <a:off x="4438800" y="2554200"/>
            <a:ext cx="581040" cy="53352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12" descr="C:\Users\pcalderon\AppData\Local\Microsoft\Windows\Temporary Internet Files\Content.IE5\TK2EW9WX\MC900297161[1].wmf"/>
          <p:cNvPicPr/>
          <p:nvPr/>
        </p:nvPicPr>
        <p:blipFill>
          <a:blip r:embed="rId6"/>
          <a:stretch/>
        </p:blipFill>
        <p:spPr>
          <a:xfrm>
            <a:off x="285840" y="2585880"/>
            <a:ext cx="539640" cy="503280"/>
          </a:xfrm>
          <a:prstGeom prst="rect">
            <a:avLst/>
          </a:prstGeom>
          <a:ln w="0">
            <a:noFill/>
          </a:ln>
        </p:spPr>
      </p:pic>
      <p:grpSp>
        <p:nvGrpSpPr>
          <p:cNvPr id="1594" name="19 Grupo"/>
          <p:cNvGrpSpPr/>
          <p:nvPr/>
        </p:nvGrpSpPr>
        <p:grpSpPr>
          <a:xfrm>
            <a:off x="6570720" y="2241720"/>
            <a:ext cx="1150920" cy="973080"/>
            <a:chOff x="6570720" y="2241720"/>
            <a:chExt cx="1150920" cy="973080"/>
          </a:xfrm>
        </p:grpSpPr>
        <p:pic>
          <p:nvPicPr>
            <p:cNvPr id="1595" name="25 Imagen" descr=""/>
            <p:cNvPicPr/>
            <p:nvPr/>
          </p:nvPicPr>
          <p:blipFill>
            <a:blip r:embed="rId7"/>
            <a:stretch/>
          </p:blipFill>
          <p:spPr>
            <a:xfrm>
              <a:off x="7032240" y="2529360"/>
              <a:ext cx="68940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Picture 5" descr="C:\Users\gvillanueva\Desktop\Diseño 2013\IEF\PNG\lupa.png"/>
            <p:cNvPicPr/>
            <p:nvPr/>
          </p:nvPicPr>
          <p:blipFill>
            <a:blip r:embed="rId8"/>
            <a:stretch/>
          </p:blipFill>
          <p:spPr>
            <a:xfrm rot="2925600">
              <a:off x="6933600" y="2424600"/>
              <a:ext cx="19620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17 Imagen" descr="IEF_ilustraciones19.png"/>
            <p:cNvPicPr/>
            <p:nvPr/>
          </p:nvPicPr>
          <p:blipFill>
            <a:blip r:embed="rId9"/>
            <a:srcRect l="29576" t="0" r="30991" b="0"/>
            <a:stretch/>
          </p:blipFill>
          <p:spPr>
            <a:xfrm>
              <a:off x="6570720" y="2241720"/>
              <a:ext cx="308160" cy="97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5" name="7 Cheurón" descr=""/>
          <p:cNvPicPr/>
          <p:nvPr/>
        </p:nvPicPr>
        <p:blipFill>
          <a:blip r:embed="rId1"/>
          <a:stretch/>
        </p:blipFill>
        <p:spPr>
          <a:xfrm>
            <a:off x="1395360" y="798480"/>
            <a:ext cx="1805040" cy="1847880"/>
          </a:xfrm>
          <a:prstGeom prst="rect">
            <a:avLst/>
          </a:prstGeom>
          <a:ln w="0">
            <a:noFill/>
          </a:ln>
        </p:spPr>
      </p:pic>
      <p:pic>
        <p:nvPicPr>
          <p:cNvPr id="1976" name="8 Cheurón" descr=""/>
          <p:cNvPicPr/>
          <p:nvPr/>
        </p:nvPicPr>
        <p:blipFill>
          <a:blip r:embed="rId2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77" name="9 Cheurón" descr=""/>
          <p:cNvPicPr/>
          <p:nvPr/>
        </p:nvPicPr>
        <p:blipFill>
          <a:blip r:embed="rId3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78" name="10 Cheurón" descr=""/>
          <p:cNvPicPr/>
          <p:nvPr/>
        </p:nvPicPr>
        <p:blipFill>
          <a:blip r:embed="rId4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2" descr=""/>
          <p:cNvPicPr/>
          <p:nvPr/>
        </p:nvPicPr>
        <p:blipFill>
          <a:blip r:embed="rId5"/>
          <a:srcRect l="20079" t="9759" r="19443" b="51602"/>
          <a:stretch/>
        </p:blipFill>
        <p:spPr>
          <a:xfrm>
            <a:off x="468360" y="2565360"/>
            <a:ext cx="8244000" cy="2962440"/>
          </a:xfrm>
          <a:prstGeom prst="rect">
            <a:avLst/>
          </a:prstGeom>
          <a:ln w="0">
            <a:noFill/>
          </a:ln>
        </p:spPr>
      </p:pic>
      <p:sp>
        <p:nvSpPr>
          <p:cNvPr id="1980" name="27 Rectángulo"/>
          <p:cNvSpPr/>
          <p:nvPr/>
        </p:nvSpPr>
        <p:spPr>
          <a:xfrm>
            <a:off x="7164360" y="4076640"/>
            <a:ext cx="1079640" cy="3603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28 Rectángulo"/>
          <p:cNvSpPr/>
          <p:nvPr/>
        </p:nvSpPr>
        <p:spPr>
          <a:xfrm>
            <a:off x="395280" y="429264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2" name="Picture 3" descr=""/>
          <p:cNvPicPr/>
          <p:nvPr/>
        </p:nvPicPr>
        <p:blipFill>
          <a:blip r:embed="rId6"/>
          <a:srcRect l="20079" t="36640" r="20861" b="23042"/>
          <a:stretch/>
        </p:blipFill>
        <p:spPr>
          <a:xfrm>
            <a:off x="826920" y="3354480"/>
            <a:ext cx="7885440" cy="302724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cxnSp>
        <p:nvCxnSpPr>
          <p:cNvPr id="1983" name="32 Conector curvado"/>
          <p:cNvCxnSpPr/>
          <p:nvPr/>
        </p:nvCxnSpPr>
        <p:spPr>
          <a:xfrm flipH="1" rot="16200000">
            <a:off x="2060640" y="3436560"/>
            <a:ext cx="3961080" cy="48816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4" name="33 Conector curvado"/>
          <p:cNvCxnSpPr/>
          <p:nvPr/>
        </p:nvCxnSpPr>
        <p:spPr>
          <a:xfrm rot="5400000">
            <a:off x="3283560" y="3564720"/>
            <a:ext cx="3961080" cy="232560"/>
          </a:xfrm>
          <a:prstGeom prst="curvedConnector5">
            <a:avLst>
              <a:gd name="adj1" fmla="val 50000"/>
              <a:gd name="adj2" fmla="val 49922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5" name="34 Conector curvado"/>
          <p:cNvCxnSpPr/>
          <p:nvPr/>
        </p:nvCxnSpPr>
        <p:spPr>
          <a:xfrm rot="5400000">
            <a:off x="4434840" y="3132000"/>
            <a:ext cx="3961080" cy="109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pic>
        <p:nvPicPr>
          <p:cNvPr id="1986" name="6 Imagen" descr="descarga.jpg"/>
          <p:cNvPicPr/>
          <p:nvPr/>
        </p:nvPicPr>
        <p:blipFill>
          <a:blip r:embed="rId7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87" name="1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mi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8 Cheurón" descr=""/>
          <p:cNvPicPr/>
          <p:nvPr/>
        </p:nvPicPr>
        <p:blipFill>
          <a:blip r:embed="rId1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89" name="9 Cheurón" descr=""/>
          <p:cNvPicPr/>
          <p:nvPr/>
        </p:nvPicPr>
        <p:blipFill>
          <a:blip r:embed="rId2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90" name="10 Cheurón" descr=""/>
          <p:cNvPicPr/>
          <p:nvPr/>
        </p:nvPicPr>
        <p:blipFill>
          <a:blip r:embed="rId3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2" descr=""/>
          <p:cNvPicPr/>
          <p:nvPr/>
        </p:nvPicPr>
        <p:blipFill>
          <a:blip r:embed="rId4"/>
          <a:srcRect l="38979" t="14799" r="0" b="51602"/>
          <a:stretch/>
        </p:blipFill>
        <p:spPr>
          <a:xfrm>
            <a:off x="343080" y="2708280"/>
            <a:ext cx="8602560" cy="2665440"/>
          </a:xfrm>
          <a:prstGeom prst="rect">
            <a:avLst/>
          </a:prstGeom>
          <a:ln w="0">
            <a:noFill/>
          </a:ln>
        </p:spPr>
      </p:pic>
      <p:sp>
        <p:nvSpPr>
          <p:cNvPr id="1992" name="17 Rectángulo"/>
          <p:cNvSpPr/>
          <p:nvPr/>
        </p:nvSpPr>
        <p:spPr>
          <a:xfrm>
            <a:off x="3882960" y="417996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3" name="Picture 2" descr=""/>
          <p:cNvPicPr/>
          <p:nvPr/>
        </p:nvPicPr>
        <p:blipFill>
          <a:blip r:embed="rId5"/>
          <a:srcRect l="28110" t="39163" r="13299" b="22034"/>
          <a:stretch/>
        </p:blipFill>
        <p:spPr>
          <a:xfrm>
            <a:off x="414360" y="3645000"/>
            <a:ext cx="8118360" cy="302400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cxnSp>
        <p:nvCxnSpPr>
          <p:cNvPr id="1994" name="23 Conector curvado"/>
          <p:cNvCxnSpPr/>
          <p:nvPr/>
        </p:nvCxnSpPr>
        <p:spPr>
          <a:xfrm flipH="1" rot="16200000">
            <a:off x="1844640" y="3652560"/>
            <a:ext cx="4393440" cy="488160"/>
          </a:xfrm>
          <a:prstGeom prst="curvedConnector5">
            <a:avLst>
              <a:gd name="adj1" fmla="val 49995"/>
              <a:gd name="adj2" fmla="val 49963"/>
              <a:gd name="adj3" fmla="val 49995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95" name="25 Conector curvado"/>
          <p:cNvCxnSpPr/>
          <p:nvPr/>
        </p:nvCxnSpPr>
        <p:spPr>
          <a:xfrm rot="5400000">
            <a:off x="2959200" y="3672720"/>
            <a:ext cx="4393440" cy="448560"/>
          </a:xfrm>
          <a:prstGeom prst="curvedConnector5">
            <a:avLst>
              <a:gd name="adj1" fmla="val 49995"/>
              <a:gd name="adj2" fmla="val 49959"/>
              <a:gd name="adj3" fmla="val 49995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96" name="27 Conector curvado"/>
          <p:cNvCxnSpPr/>
          <p:nvPr/>
        </p:nvCxnSpPr>
        <p:spPr>
          <a:xfrm rot="5400000">
            <a:off x="4182840" y="3312360"/>
            <a:ext cx="4393440" cy="116892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pic>
        <p:nvPicPr>
          <p:cNvPr id="1997" name="6 Imagen" descr="descarga.jpg"/>
          <p:cNvPicPr/>
          <p:nvPr/>
        </p:nvPicPr>
        <p:blipFill>
          <a:blip r:embed="rId6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98" name="1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Víncu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FBEAD077-FE02-41B5-AD02-1F57718BFB5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1" name="8 Grupo"/>
          <p:cNvGrpSpPr/>
          <p:nvPr/>
        </p:nvGrpSpPr>
        <p:grpSpPr>
          <a:xfrm>
            <a:off x="-36360" y="196920"/>
            <a:ext cx="4479840" cy="676080"/>
            <a:chOff x="-36360" y="196920"/>
            <a:chExt cx="4479840" cy="676080"/>
          </a:xfrm>
        </p:grpSpPr>
        <p:sp>
          <p:nvSpPr>
            <p:cNvPr id="1602" name="7 Pentágono"/>
            <p:cNvSpPr/>
            <p:nvPr/>
          </p:nvSpPr>
          <p:spPr>
            <a:xfrm>
              <a:off x="-3636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Pentágono 4"/>
            <p:cNvSpPr/>
            <p:nvPr/>
          </p:nvSpPr>
          <p:spPr>
            <a:xfrm>
              <a:off x="76320" y="23328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Relación entre institu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4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  <p:sp>
        <p:nvSpPr>
          <p:cNvPr id="1605" name="9 Elipse"/>
          <p:cNvSpPr/>
          <p:nvPr/>
        </p:nvSpPr>
        <p:spPr>
          <a:xfrm>
            <a:off x="1494000" y="1341360"/>
            <a:ext cx="180000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M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10 Elipse"/>
          <p:cNvSpPr/>
          <p:nvPr/>
        </p:nvSpPr>
        <p:spPr>
          <a:xfrm>
            <a:off x="5796000" y="3068640"/>
            <a:ext cx="1800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SER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11 Elipse"/>
          <p:cNvSpPr/>
          <p:nvPr/>
        </p:nvSpPr>
        <p:spPr>
          <a:xfrm>
            <a:off x="3635280" y="4941720"/>
            <a:ext cx="1800360" cy="1151280"/>
          </a:xfrm>
          <a:prstGeom prst="ellipse">
            <a:avLst/>
          </a:prstGeom>
          <a:solidFill>
            <a:srgbClr val="b9cde5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EJECU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12 Elipse"/>
          <p:cNvSpPr/>
          <p:nvPr/>
        </p:nvSpPr>
        <p:spPr>
          <a:xfrm>
            <a:off x="1494000" y="1341360"/>
            <a:ext cx="1800000" cy="1150920"/>
          </a:xfrm>
          <a:prstGeom prst="ellipse">
            <a:avLst/>
          </a:prstGeom>
          <a:solidFill>
            <a:srgbClr val="c3d69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Calibri"/>
              </a:rPr>
              <a:t>INSTITU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13 Elipse"/>
          <p:cNvSpPr/>
          <p:nvPr/>
        </p:nvSpPr>
        <p:spPr>
          <a:xfrm>
            <a:off x="1494000" y="3068640"/>
            <a:ext cx="1800000" cy="1152360"/>
          </a:xfrm>
          <a:prstGeom prst="ellipse">
            <a:avLst/>
          </a:prstGeom>
          <a:solidFill>
            <a:srgbClr val="d7e4b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14 Elipse"/>
          <p:cNvSpPr/>
          <p:nvPr/>
        </p:nvSpPr>
        <p:spPr>
          <a:xfrm>
            <a:off x="5796000" y="1341360"/>
            <a:ext cx="180036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M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15 Elipse"/>
          <p:cNvSpPr/>
          <p:nvPr/>
        </p:nvSpPr>
        <p:spPr>
          <a:xfrm>
            <a:off x="5796000" y="1341360"/>
            <a:ext cx="1800360" cy="1150920"/>
          </a:xfrm>
          <a:prstGeom prst="ellipse">
            <a:avLst/>
          </a:prstGeom>
          <a:solidFill>
            <a:srgbClr val="e6b9b8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Ministe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2" name="16 Conector recto de flecha"/>
          <p:cNvCxnSpPr/>
          <p:nvPr/>
        </p:nvCxnSpPr>
        <p:spPr>
          <a:xfrm>
            <a:off x="3294000" y="1699920"/>
            <a:ext cx="250272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13" name="17 Conector recto de flecha"/>
          <p:cNvCxnSpPr/>
          <p:nvPr/>
        </p:nvCxnSpPr>
        <p:spPr>
          <a:xfrm flipH="1">
            <a:off x="3293640" y="1915920"/>
            <a:ext cx="25027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14" name="18 Conector recto de flecha"/>
          <p:cNvCxnSpPr/>
          <p:nvPr/>
        </p:nvCxnSpPr>
        <p:spPr>
          <a:xfrm>
            <a:off x="6948000" y="2491920"/>
            <a:ext cx="1080" cy="577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15" name="19 Conector recto de flecha"/>
          <p:cNvCxnSpPr>
            <a:stCxn id="1608" idx="4"/>
          </p:cNvCxnSpPr>
          <p:nvPr/>
        </p:nvCxnSpPr>
        <p:spPr>
          <a:xfrm>
            <a:off x="2394000" y="2491920"/>
            <a:ext cx="18000" cy="57708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616" name="20 Forma"/>
          <p:cNvCxnSpPr>
            <a:stCxn id="1609" idx="4"/>
            <a:endCxn id="1607" idx="2"/>
          </p:cNvCxnSpPr>
          <p:nvPr/>
        </p:nvCxnSpPr>
        <p:spPr>
          <a:xfrm flipH="1" rot="16200000">
            <a:off x="2366640" y="4247640"/>
            <a:ext cx="1296360" cy="1242000"/>
          </a:xfrm>
          <a:prstGeom prst="bentConnector2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617" name="146 Conector angular"/>
          <p:cNvCxnSpPr>
            <a:stCxn id="1606" idx="4"/>
            <a:endCxn id="1607" idx="6"/>
          </p:cNvCxnSpPr>
          <p:nvPr/>
        </p:nvCxnSpPr>
        <p:spPr>
          <a:xfrm rot="5400000">
            <a:off x="5417280" y="4238280"/>
            <a:ext cx="1296360" cy="1261080"/>
          </a:xfrm>
          <a:prstGeom prst="bentConnector2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</p:cxnSp>
      <p:sp>
        <p:nvSpPr>
          <p:cNvPr id="1618" name="24 Conector recto"/>
          <p:cNvSpPr/>
          <p:nvPr/>
        </p:nvSpPr>
        <p:spPr>
          <a:xfrm>
            <a:off x="6948360" y="4221000"/>
            <a:ext cx="0" cy="151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9" name="25 Conector recto de flecha"/>
          <p:cNvCxnSpPr/>
          <p:nvPr/>
        </p:nvCxnSpPr>
        <p:spPr>
          <a:xfrm flipH="1">
            <a:off x="5435280" y="5732280"/>
            <a:ext cx="151344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20" name="26 Conector recto de flecha"/>
          <p:cNvCxnSpPr/>
          <p:nvPr/>
        </p:nvCxnSpPr>
        <p:spPr>
          <a:xfrm>
            <a:off x="3294000" y="2133360"/>
            <a:ext cx="2502720" cy="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21" name="27 Conector recto de flecha"/>
          <p:cNvCxnSpPr/>
          <p:nvPr/>
        </p:nvCxnSpPr>
        <p:spPr>
          <a:xfrm>
            <a:off x="7164000" y="2491920"/>
            <a:ext cx="1080" cy="577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22" name="28 Conector recto de flecha"/>
          <p:cNvCxnSpPr/>
          <p:nvPr/>
        </p:nvCxnSpPr>
        <p:spPr>
          <a:xfrm>
            <a:off x="7164000" y="4220640"/>
            <a:ext cx="10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23" name="29 Conector recto de flecha"/>
          <p:cNvCxnSpPr>
            <a:endCxn id="1607" idx="5"/>
          </p:cNvCxnSpPr>
          <p:nvPr/>
        </p:nvCxnSpPr>
        <p:spPr>
          <a:xfrm flipH="1" flipV="1">
            <a:off x="5172120" y="5923800"/>
            <a:ext cx="1992600" cy="262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624" name="30 Conector recto de flecha"/>
          <p:cNvCxnSpPr/>
          <p:nvPr/>
        </p:nvCxnSpPr>
        <p:spPr>
          <a:xfrm flipV="1">
            <a:off x="7164000" y="4220280"/>
            <a:ext cx="1080" cy="17298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625" name="31 Conector recto"/>
          <p:cNvSpPr/>
          <p:nvPr/>
        </p:nvSpPr>
        <p:spPr>
          <a:xfrm>
            <a:off x="395280" y="2852640"/>
            <a:ext cx="8280360" cy="0"/>
          </a:xfrm>
          <a:prstGeom prst="line">
            <a:avLst/>
          </a:prstGeom>
          <a:ln w="2556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32 Conector recto"/>
          <p:cNvSpPr/>
          <p:nvPr/>
        </p:nvSpPr>
        <p:spPr>
          <a:xfrm>
            <a:off x="395280" y="4797360"/>
            <a:ext cx="8280360" cy="0"/>
          </a:xfrm>
          <a:prstGeom prst="line">
            <a:avLst/>
          </a:prstGeom>
          <a:ln w="2556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7" name="33 Conector recto" descr=""/>
          <p:cNvPicPr/>
          <p:nvPr/>
        </p:nvPicPr>
        <p:blipFill>
          <a:blip r:embed="rId2"/>
          <a:stretch/>
        </p:blipFill>
        <p:spPr>
          <a:xfrm>
            <a:off x="3249720" y="3481560"/>
            <a:ext cx="2590560" cy="109440"/>
          </a:xfrm>
          <a:prstGeom prst="rect">
            <a:avLst/>
          </a:prstGeom>
          <a:ln w="0">
            <a:noFill/>
          </a:ln>
        </p:spPr>
      </p:pic>
      <p:cxnSp>
        <p:nvCxnSpPr>
          <p:cNvPr id="1628" name="34 Conector recto de flecha"/>
          <p:cNvCxnSpPr/>
          <p:nvPr/>
        </p:nvCxnSpPr>
        <p:spPr>
          <a:xfrm>
            <a:off x="395280" y="5924160"/>
            <a:ext cx="14403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29" name="35 Conector recto de flecha"/>
          <p:cNvCxnSpPr/>
          <p:nvPr/>
        </p:nvCxnSpPr>
        <p:spPr>
          <a:xfrm>
            <a:off x="395280" y="6171840"/>
            <a:ext cx="14403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30" name="36 Conector recto de flecha"/>
          <p:cNvCxnSpPr/>
          <p:nvPr/>
        </p:nvCxnSpPr>
        <p:spPr>
          <a:xfrm>
            <a:off x="395280" y="6420960"/>
            <a:ext cx="1440360" cy="108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1631" name="37 Conector recto de flecha"/>
          <p:cNvCxnSpPr/>
          <p:nvPr/>
        </p:nvCxnSpPr>
        <p:spPr>
          <a:xfrm>
            <a:off x="395280" y="6668640"/>
            <a:ext cx="144036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632" name="38 CuadroTexto"/>
          <p:cNvSpPr/>
          <p:nvPr/>
        </p:nvSpPr>
        <p:spPr>
          <a:xfrm>
            <a:off x="1979640" y="5800680"/>
            <a:ext cx="13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c00000"/>
                </a:solidFill>
                <a:latin typeface="Arial"/>
              </a:rPr>
              <a:t>Conven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39 CuadroTexto"/>
          <p:cNvSpPr/>
          <p:nvPr/>
        </p:nvSpPr>
        <p:spPr>
          <a:xfrm>
            <a:off x="1979640" y="605160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2b67af"/>
                </a:solidFill>
                <a:latin typeface="Arial"/>
              </a:rPr>
              <a:t>Traspaso de recur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40 CuadroTexto"/>
          <p:cNvSpPr/>
          <p:nvPr/>
        </p:nvSpPr>
        <p:spPr>
          <a:xfrm>
            <a:off x="1979640" y="629748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77933c"/>
                </a:solidFill>
                <a:latin typeface="Arial"/>
              </a:rPr>
              <a:t>Asistencia Téc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41 CuadroTexto"/>
          <p:cNvSpPr/>
          <p:nvPr/>
        </p:nvSpPr>
        <p:spPr>
          <a:xfrm>
            <a:off x="1979640" y="654696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e46c0a"/>
                </a:solidFill>
                <a:latin typeface="Arial"/>
              </a:rPr>
              <a:t>Seguimiento administrativo en SIGE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41 Conector recto"/>
          <p:cNvSpPr/>
          <p:nvPr/>
        </p:nvSpPr>
        <p:spPr>
          <a:xfrm>
            <a:off x="3394080" y="0"/>
            <a:ext cx="0" cy="685800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25 Conector recto"/>
          <p:cNvSpPr/>
          <p:nvPr/>
        </p:nvSpPr>
        <p:spPr>
          <a:xfrm>
            <a:off x="-71280" y="4041720"/>
            <a:ext cx="9144000" cy="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26 Conector recto"/>
          <p:cNvSpPr/>
          <p:nvPr/>
        </p:nvSpPr>
        <p:spPr>
          <a:xfrm>
            <a:off x="0" y="5661000"/>
            <a:ext cx="9144000" cy="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22 Conector recto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21 Conector recto"/>
          <p:cNvSpPr/>
          <p:nvPr/>
        </p:nvSpPr>
        <p:spPr>
          <a:xfrm>
            <a:off x="1344600" y="-71280"/>
            <a:ext cx="0" cy="685800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24 Conector recto"/>
          <p:cNvSpPr/>
          <p:nvPr/>
        </p:nvSpPr>
        <p:spPr>
          <a:xfrm>
            <a:off x="34920" y="1916280"/>
            <a:ext cx="9144000" cy="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60 Rectángulo"/>
          <p:cNvSpPr/>
          <p:nvPr/>
        </p:nvSpPr>
        <p:spPr>
          <a:xfrm>
            <a:off x="0" y="2133720"/>
            <a:ext cx="2195640" cy="934920"/>
          </a:xfrm>
          <a:prstGeom prst="rect">
            <a:avLst/>
          </a:prstGeom>
          <a:noFill/>
          <a:ln w="0">
            <a:noFill/>
          </a:ln>
          <a:effectLst>
            <a:outerShdw dist="101597" dir="16861874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3" name="61 Rectángulo redondeado"/>
          <p:cNvGrpSpPr/>
          <p:nvPr/>
        </p:nvGrpSpPr>
        <p:grpSpPr>
          <a:xfrm>
            <a:off x="1347840" y="371520"/>
            <a:ext cx="2035080" cy="1542960"/>
            <a:chOff x="1347840" y="371520"/>
            <a:chExt cx="2035080" cy="1542960"/>
          </a:xfrm>
        </p:grpSpPr>
        <p:pic>
          <p:nvPicPr>
            <p:cNvPr id="1644" name="61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347840" y="371520"/>
              <a:ext cx="203508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1474920" y="474840"/>
              <a:ext cx="178596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rea Program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Asigna Presupues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Asigna cobertur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Ingresa Document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rea cuot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rea Plan de Cuent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Envía invitaciones a regió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6" name="62 Flecha derecha" descr=""/>
          <p:cNvPicPr/>
          <p:nvPr/>
        </p:nvPicPr>
        <p:blipFill>
          <a:blip r:embed="rId2"/>
          <a:stretch/>
        </p:blipFill>
        <p:spPr>
          <a:xfrm>
            <a:off x="-12600" y="536400"/>
            <a:ext cx="1323720" cy="944640"/>
          </a:xfrm>
          <a:prstGeom prst="rect">
            <a:avLst/>
          </a:prstGeom>
          <a:ln w="0">
            <a:noFill/>
          </a:ln>
        </p:spPr>
      </p:pic>
      <p:pic>
        <p:nvPicPr>
          <p:cNvPr id="1647" name="63 Flecha derecha" descr=""/>
          <p:cNvPicPr/>
          <p:nvPr/>
        </p:nvPicPr>
        <p:blipFill>
          <a:blip r:embed="rId3"/>
          <a:stretch/>
        </p:blipFill>
        <p:spPr>
          <a:xfrm>
            <a:off x="-12600" y="2030400"/>
            <a:ext cx="1323720" cy="944640"/>
          </a:xfrm>
          <a:prstGeom prst="rect">
            <a:avLst/>
          </a:prstGeom>
          <a:ln w="0">
            <a:noFill/>
          </a:ln>
        </p:spPr>
      </p:pic>
      <p:pic>
        <p:nvPicPr>
          <p:cNvPr id="1648" name="64 Flecha derecha" descr=""/>
          <p:cNvPicPr/>
          <p:nvPr/>
        </p:nvPicPr>
        <p:blipFill>
          <a:blip r:embed="rId4"/>
          <a:stretch/>
        </p:blipFill>
        <p:spPr>
          <a:xfrm>
            <a:off x="-12600" y="4005360"/>
            <a:ext cx="1323720" cy="944640"/>
          </a:xfrm>
          <a:prstGeom prst="rect">
            <a:avLst/>
          </a:prstGeom>
          <a:ln w="0">
            <a:noFill/>
          </a:ln>
        </p:spPr>
      </p:pic>
      <p:pic>
        <p:nvPicPr>
          <p:cNvPr id="1649" name="65 Flecha derecha" descr=""/>
          <p:cNvPicPr/>
          <p:nvPr/>
        </p:nvPicPr>
        <p:blipFill>
          <a:blip r:embed="rId5"/>
          <a:stretch/>
        </p:blipFill>
        <p:spPr>
          <a:xfrm>
            <a:off x="-12600" y="5626080"/>
            <a:ext cx="1323720" cy="946080"/>
          </a:xfrm>
          <a:prstGeom prst="rect">
            <a:avLst/>
          </a:prstGeom>
          <a:ln w="0">
            <a:noFill/>
          </a:ln>
        </p:spPr>
      </p:pic>
      <p:grpSp>
        <p:nvGrpSpPr>
          <p:cNvPr id="1650" name="67 Rectángulo redondeado"/>
          <p:cNvGrpSpPr/>
          <p:nvPr/>
        </p:nvGrpSpPr>
        <p:grpSpPr>
          <a:xfrm>
            <a:off x="6261120" y="1981080"/>
            <a:ext cx="2035080" cy="397080"/>
            <a:chOff x="6261120" y="1981080"/>
            <a:chExt cx="2035080" cy="397080"/>
          </a:xfrm>
        </p:grpSpPr>
        <p:pic>
          <p:nvPicPr>
            <p:cNvPr id="1651" name="67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6261120" y="1981080"/>
              <a:ext cx="2035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2" name=""/>
            <p:cNvSpPr/>
            <p:nvPr/>
          </p:nvSpPr>
          <p:spPr>
            <a:xfrm>
              <a:off x="6327720" y="20257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Acepta invitació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3" name="68 Rectángulo redondeado"/>
          <p:cNvGrpSpPr/>
          <p:nvPr/>
        </p:nvGrpSpPr>
        <p:grpSpPr>
          <a:xfrm>
            <a:off x="6261120" y="2378160"/>
            <a:ext cx="2035080" cy="401400"/>
            <a:chOff x="6261120" y="2378160"/>
            <a:chExt cx="2035080" cy="401400"/>
          </a:xfrm>
        </p:grpSpPr>
        <p:pic>
          <p:nvPicPr>
            <p:cNvPr id="1654" name="68 Rectángulo redondeado" descr=""/>
            <p:cNvPicPr/>
            <p:nvPr/>
          </p:nvPicPr>
          <p:blipFill>
            <a:blip r:embed="rId7"/>
            <a:stretch/>
          </p:blipFill>
          <p:spPr>
            <a:xfrm>
              <a:off x="6261120" y="2378160"/>
              <a:ext cx="20350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5" name=""/>
            <p:cNvSpPr/>
            <p:nvPr/>
          </p:nvSpPr>
          <p:spPr>
            <a:xfrm>
              <a:off x="6327720" y="2424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Presenta Proyec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6" name="70 Rectángulo redondeado"/>
          <p:cNvGrpSpPr/>
          <p:nvPr/>
        </p:nvGrpSpPr>
        <p:grpSpPr>
          <a:xfrm>
            <a:off x="6261120" y="3176640"/>
            <a:ext cx="2035080" cy="395280"/>
            <a:chOff x="6261120" y="3176640"/>
            <a:chExt cx="2035080" cy="395280"/>
          </a:xfrm>
        </p:grpSpPr>
        <p:pic>
          <p:nvPicPr>
            <p:cNvPr id="1657" name="70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6261120" y="3176640"/>
              <a:ext cx="2035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>
              <a:off x="6327720" y="321948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Distribución Presupuestar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9" name="75 Rectángulo redondeado"/>
          <p:cNvGrpSpPr/>
          <p:nvPr/>
        </p:nvGrpSpPr>
        <p:grpSpPr>
          <a:xfrm>
            <a:off x="3541680" y="4548240"/>
            <a:ext cx="2036880" cy="395280"/>
            <a:chOff x="3541680" y="4548240"/>
            <a:chExt cx="2036880" cy="395280"/>
          </a:xfrm>
        </p:grpSpPr>
        <p:pic>
          <p:nvPicPr>
            <p:cNvPr id="1660" name="75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3541680" y="454824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1" name=""/>
            <p:cNvSpPr/>
            <p:nvPr/>
          </p:nvSpPr>
          <p:spPr>
            <a:xfrm>
              <a:off x="3611520" y="45896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ncier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2" name="77 Rectángulo redondeado"/>
          <p:cNvGrpSpPr/>
          <p:nvPr/>
        </p:nvGrpSpPr>
        <p:grpSpPr>
          <a:xfrm>
            <a:off x="3541680" y="5016600"/>
            <a:ext cx="2036880" cy="403200"/>
            <a:chOff x="3541680" y="5016600"/>
            <a:chExt cx="2036880" cy="403200"/>
          </a:xfrm>
        </p:grpSpPr>
        <p:pic>
          <p:nvPicPr>
            <p:cNvPr id="1663" name="77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3541680" y="5016600"/>
              <a:ext cx="20368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"/>
            <p:cNvSpPr/>
            <p:nvPr/>
          </p:nvSpPr>
          <p:spPr>
            <a:xfrm>
              <a:off x="3611520" y="506268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5" name="81 Rectángulo redondeado"/>
          <p:cNvGrpSpPr/>
          <p:nvPr/>
        </p:nvGrpSpPr>
        <p:grpSpPr>
          <a:xfrm>
            <a:off x="6261120" y="6486480"/>
            <a:ext cx="2035080" cy="401760"/>
            <a:chOff x="6261120" y="6486480"/>
            <a:chExt cx="2035080" cy="401760"/>
          </a:xfrm>
        </p:grpSpPr>
        <p:pic>
          <p:nvPicPr>
            <p:cNvPr id="1666" name="8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6261120" y="6486480"/>
              <a:ext cx="20350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7" name=""/>
            <p:cNvSpPr/>
            <p:nvPr/>
          </p:nvSpPr>
          <p:spPr>
            <a:xfrm>
              <a:off x="6327720" y="65311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 reintegr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8" name="82 Rectángulo redondeado"/>
          <p:cNvGrpSpPr/>
          <p:nvPr/>
        </p:nvGrpSpPr>
        <p:grpSpPr>
          <a:xfrm>
            <a:off x="3541680" y="6486480"/>
            <a:ext cx="2036880" cy="401760"/>
            <a:chOff x="3541680" y="6486480"/>
            <a:chExt cx="2036880" cy="401760"/>
          </a:xfrm>
        </p:grpSpPr>
        <p:pic>
          <p:nvPicPr>
            <p:cNvPr id="1669" name="82 Rectángulo redondeado" descr=""/>
            <p:cNvPicPr/>
            <p:nvPr/>
          </p:nvPicPr>
          <p:blipFill>
            <a:blip r:embed="rId12"/>
            <a:stretch/>
          </p:blipFill>
          <p:spPr>
            <a:xfrm>
              <a:off x="3541680" y="6486480"/>
              <a:ext cx="2036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"/>
            <p:cNvSpPr/>
            <p:nvPr/>
          </p:nvSpPr>
          <p:spPr>
            <a:xfrm>
              <a:off x="3611520" y="65311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solución de Cierr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1" name="83 Rectángulo redondeado"/>
          <p:cNvGrpSpPr/>
          <p:nvPr/>
        </p:nvGrpSpPr>
        <p:grpSpPr>
          <a:xfrm>
            <a:off x="3541680" y="5784840"/>
            <a:ext cx="2036880" cy="396720"/>
            <a:chOff x="3541680" y="5784840"/>
            <a:chExt cx="2036880" cy="396720"/>
          </a:xfrm>
        </p:grpSpPr>
        <p:pic>
          <p:nvPicPr>
            <p:cNvPr id="1672" name="83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3541680" y="578484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3611520" y="5826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4" name="84 Rectángulo redondeado"/>
          <p:cNvGrpSpPr/>
          <p:nvPr/>
        </p:nvGrpSpPr>
        <p:grpSpPr>
          <a:xfrm>
            <a:off x="6261120" y="2779560"/>
            <a:ext cx="2035080" cy="397080"/>
            <a:chOff x="6261120" y="2779560"/>
            <a:chExt cx="2035080" cy="397080"/>
          </a:xfrm>
        </p:grpSpPr>
        <p:pic>
          <p:nvPicPr>
            <p:cNvPr id="1675" name="84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6261120" y="2779560"/>
              <a:ext cx="2035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"/>
            <p:cNvSpPr/>
            <p:nvPr/>
          </p:nvSpPr>
          <p:spPr>
            <a:xfrm>
              <a:off x="6327720" y="282096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Firma conven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7" name="93 Rectángulo redondeado"/>
          <p:cNvGrpSpPr/>
          <p:nvPr/>
        </p:nvGrpSpPr>
        <p:grpSpPr>
          <a:xfrm>
            <a:off x="3541680" y="2378160"/>
            <a:ext cx="2036880" cy="401400"/>
            <a:chOff x="3541680" y="2378160"/>
            <a:chExt cx="2036880" cy="401400"/>
          </a:xfrm>
        </p:grpSpPr>
        <p:pic>
          <p:nvPicPr>
            <p:cNvPr id="1678" name="93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3541680" y="2378160"/>
              <a:ext cx="20368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"/>
            <p:cNvSpPr/>
            <p:nvPr/>
          </p:nvSpPr>
          <p:spPr>
            <a:xfrm>
              <a:off x="3611520" y="2424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Proyec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0" name="95 Rectángulo redondeado"/>
          <p:cNvGrpSpPr/>
          <p:nvPr/>
        </p:nvGrpSpPr>
        <p:grpSpPr>
          <a:xfrm>
            <a:off x="6261120" y="3638520"/>
            <a:ext cx="2035080" cy="397080"/>
            <a:chOff x="6261120" y="3638520"/>
            <a:chExt cx="2035080" cy="397080"/>
          </a:xfrm>
        </p:grpSpPr>
        <p:pic>
          <p:nvPicPr>
            <p:cNvPr id="1681" name="95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6261120" y="3638520"/>
              <a:ext cx="2035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2" name=""/>
            <p:cNvSpPr/>
            <p:nvPr/>
          </p:nvSpPr>
          <p:spPr>
            <a:xfrm>
              <a:off x="6327720" y="368460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Confirma recepción cuo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3" name="96 Rectángulo redondeado"/>
          <p:cNvGrpSpPr/>
          <p:nvPr/>
        </p:nvGrpSpPr>
        <p:grpSpPr>
          <a:xfrm>
            <a:off x="6261120" y="4187880"/>
            <a:ext cx="2035080" cy="396720"/>
            <a:chOff x="6261120" y="4187880"/>
            <a:chExt cx="2035080" cy="396720"/>
          </a:xfrm>
        </p:grpSpPr>
        <p:pic>
          <p:nvPicPr>
            <p:cNvPr id="1684" name="96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6261120" y="418788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5" name=""/>
            <p:cNvSpPr/>
            <p:nvPr/>
          </p:nvSpPr>
          <p:spPr>
            <a:xfrm>
              <a:off x="6327720" y="422928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Decreto  Alcaldic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6" name="97 Rectángulo redondeado"/>
          <p:cNvGrpSpPr/>
          <p:nvPr/>
        </p:nvGrpSpPr>
        <p:grpSpPr>
          <a:xfrm>
            <a:off x="6261120" y="4548240"/>
            <a:ext cx="2035080" cy="395280"/>
            <a:chOff x="6261120" y="4548240"/>
            <a:chExt cx="2035080" cy="395280"/>
          </a:xfrm>
        </p:grpSpPr>
        <p:pic>
          <p:nvPicPr>
            <p:cNvPr id="1687" name="97 Rectángulo redondeado" descr=""/>
            <p:cNvPicPr/>
            <p:nvPr/>
          </p:nvPicPr>
          <p:blipFill>
            <a:blip r:embed="rId18"/>
            <a:stretch/>
          </p:blipFill>
          <p:spPr>
            <a:xfrm>
              <a:off x="6261120" y="4548240"/>
              <a:ext cx="2035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8" name=""/>
            <p:cNvSpPr/>
            <p:nvPr/>
          </p:nvSpPr>
          <p:spPr>
            <a:xfrm>
              <a:off x="6327720" y="45896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ndición Financier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9" name="98 Rectángulo redondeado"/>
          <p:cNvGrpSpPr/>
          <p:nvPr/>
        </p:nvGrpSpPr>
        <p:grpSpPr>
          <a:xfrm>
            <a:off x="6261120" y="4950000"/>
            <a:ext cx="2035080" cy="403200"/>
            <a:chOff x="6261120" y="4950000"/>
            <a:chExt cx="2035080" cy="403200"/>
          </a:xfrm>
        </p:grpSpPr>
        <p:pic>
          <p:nvPicPr>
            <p:cNvPr id="1690" name="98 Rectángulo redondeado" descr=""/>
            <p:cNvPicPr/>
            <p:nvPr/>
          </p:nvPicPr>
          <p:blipFill>
            <a:blip r:embed="rId19"/>
            <a:stretch/>
          </p:blipFill>
          <p:spPr>
            <a:xfrm>
              <a:off x="6261120" y="4950000"/>
              <a:ext cx="2035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1" name=""/>
            <p:cNvSpPr/>
            <p:nvPr/>
          </p:nvSpPr>
          <p:spPr>
            <a:xfrm>
              <a:off x="6327720" y="499572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2" name="99 Rectángulo redondeado"/>
          <p:cNvGrpSpPr/>
          <p:nvPr/>
        </p:nvGrpSpPr>
        <p:grpSpPr>
          <a:xfrm>
            <a:off x="6261120" y="5284800"/>
            <a:ext cx="2035080" cy="396720"/>
            <a:chOff x="6261120" y="5284800"/>
            <a:chExt cx="2035080" cy="396720"/>
          </a:xfrm>
        </p:grpSpPr>
        <p:pic>
          <p:nvPicPr>
            <p:cNvPr id="1693" name="99 Rectángulo redondeado" descr=""/>
            <p:cNvPicPr/>
            <p:nvPr/>
          </p:nvPicPr>
          <p:blipFill>
            <a:blip r:embed="rId20"/>
            <a:stretch/>
          </p:blipFill>
          <p:spPr>
            <a:xfrm>
              <a:off x="6261120" y="528480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4" name=""/>
            <p:cNvSpPr/>
            <p:nvPr/>
          </p:nvSpPr>
          <p:spPr>
            <a:xfrm>
              <a:off x="6327720" y="532908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otros document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5" name="100 Rectángulo redondeado"/>
          <p:cNvGrpSpPr/>
          <p:nvPr/>
        </p:nvGrpSpPr>
        <p:grpSpPr>
          <a:xfrm>
            <a:off x="6261120" y="5784840"/>
            <a:ext cx="2035080" cy="396720"/>
            <a:chOff x="6261120" y="5784840"/>
            <a:chExt cx="2035080" cy="396720"/>
          </a:xfrm>
        </p:grpSpPr>
        <p:pic>
          <p:nvPicPr>
            <p:cNvPr id="1696" name="100 Rectángulo redondeado" descr=""/>
            <p:cNvPicPr/>
            <p:nvPr/>
          </p:nvPicPr>
          <p:blipFill>
            <a:blip r:embed="rId21"/>
            <a:stretch/>
          </p:blipFill>
          <p:spPr>
            <a:xfrm>
              <a:off x="6261120" y="578484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"/>
            <p:cNvSpPr/>
            <p:nvPr/>
          </p:nvSpPr>
          <p:spPr>
            <a:xfrm>
              <a:off x="6327720" y="5826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ndición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" name="101 Rectángulo redondeado"/>
          <p:cNvGrpSpPr/>
          <p:nvPr/>
        </p:nvGrpSpPr>
        <p:grpSpPr>
          <a:xfrm>
            <a:off x="6261120" y="6156360"/>
            <a:ext cx="2035080" cy="396720"/>
            <a:chOff x="6261120" y="6156360"/>
            <a:chExt cx="2035080" cy="396720"/>
          </a:xfrm>
        </p:grpSpPr>
        <p:pic>
          <p:nvPicPr>
            <p:cNvPr id="1699" name="101 Rectángulo redondeado" descr=""/>
            <p:cNvPicPr/>
            <p:nvPr/>
          </p:nvPicPr>
          <p:blipFill>
            <a:blip r:embed="rId22"/>
            <a:stretch/>
          </p:blipFill>
          <p:spPr>
            <a:xfrm>
              <a:off x="6261120" y="615636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0" name=""/>
            <p:cNvSpPr/>
            <p:nvPr/>
          </p:nvSpPr>
          <p:spPr>
            <a:xfrm>
              <a:off x="6327720" y="619776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Informe Técnico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1" name="102 Flecha abajo"/>
          <p:cNvSpPr/>
          <p:nvPr/>
        </p:nvSpPr>
        <p:spPr>
          <a:xfrm>
            <a:off x="3451320" y="0"/>
            <a:ext cx="2489040" cy="40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1f497d"/>
                </a:solidFill>
                <a:latin typeface="Calibri"/>
              </a:rPr>
              <a:t>SEREMIA – DIR. REGIO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103 Flecha abajo"/>
          <p:cNvSpPr/>
          <p:nvPr/>
        </p:nvSpPr>
        <p:spPr>
          <a:xfrm>
            <a:off x="1327320" y="0"/>
            <a:ext cx="2049120" cy="40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1f497d"/>
                </a:solidFill>
                <a:latin typeface="Calibri"/>
              </a:rPr>
              <a:t>MDS – FOSIS - SENA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105 Flecha abajo"/>
          <p:cNvSpPr/>
          <p:nvPr/>
        </p:nvSpPr>
        <p:spPr>
          <a:xfrm>
            <a:off x="5952960" y="0"/>
            <a:ext cx="2081520" cy="40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1f497d"/>
                </a:solidFill>
                <a:latin typeface="Calibri"/>
              </a:rPr>
              <a:t>EJEC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111 Conector recto"/>
          <p:cNvSpPr/>
          <p:nvPr/>
        </p:nvSpPr>
        <p:spPr>
          <a:xfrm>
            <a:off x="2397240" y="1836720"/>
            <a:ext cx="0" cy="297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05" name="113 Conector recto de flecha"/>
          <p:cNvCxnSpPr/>
          <p:nvPr/>
        </p:nvCxnSpPr>
        <p:spPr>
          <a:xfrm>
            <a:off x="2389320" y="2133720"/>
            <a:ext cx="1210320" cy="3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06" name="118 Conector recto de flecha"/>
          <p:cNvCxnSpPr/>
          <p:nvPr/>
        </p:nvCxnSpPr>
        <p:spPr>
          <a:xfrm>
            <a:off x="5524200" y="2136240"/>
            <a:ext cx="7894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07" name="121 Conector recto de flecha"/>
          <p:cNvCxnSpPr/>
          <p:nvPr/>
        </p:nvCxnSpPr>
        <p:spPr>
          <a:xfrm>
            <a:off x="7276680" y="227952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08" name="123 Conector recto de flecha"/>
          <p:cNvCxnSpPr/>
          <p:nvPr/>
        </p:nvCxnSpPr>
        <p:spPr>
          <a:xfrm flipH="1" flipV="1">
            <a:off x="5523840" y="2534400"/>
            <a:ext cx="7894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709" name="126 Conector recto"/>
          <p:cNvSpPr/>
          <p:nvPr/>
        </p:nvSpPr>
        <p:spPr>
          <a:xfrm>
            <a:off x="4560840" y="2678040"/>
            <a:ext cx="11160" cy="263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0" name="129 Conector recto de flecha"/>
          <p:cNvCxnSpPr/>
          <p:nvPr/>
        </p:nvCxnSpPr>
        <p:spPr>
          <a:xfrm>
            <a:off x="4571640" y="2941200"/>
            <a:ext cx="17420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1" name="130 Conector recto de flecha"/>
          <p:cNvCxnSpPr/>
          <p:nvPr/>
        </p:nvCxnSpPr>
        <p:spPr>
          <a:xfrm>
            <a:off x="7276680" y="3075120"/>
            <a:ext cx="1080" cy="132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2" name="132 Conector recto de flecha"/>
          <p:cNvCxnSpPr/>
          <p:nvPr/>
        </p:nvCxnSpPr>
        <p:spPr>
          <a:xfrm flipH="1">
            <a:off x="5503680" y="3339720"/>
            <a:ext cx="8100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3" name="134 Conector recto de flecha"/>
          <p:cNvCxnSpPr/>
          <p:nvPr/>
        </p:nvCxnSpPr>
        <p:spPr>
          <a:xfrm>
            <a:off x="4417560" y="3472920"/>
            <a:ext cx="1080" cy="197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4" name="136 Conector recto de flecha"/>
          <p:cNvCxnSpPr/>
          <p:nvPr/>
        </p:nvCxnSpPr>
        <p:spPr>
          <a:xfrm>
            <a:off x="5524560" y="3795480"/>
            <a:ext cx="8244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5" name="138 Conector recto de flecha"/>
          <p:cNvCxnSpPr/>
          <p:nvPr/>
        </p:nvCxnSpPr>
        <p:spPr>
          <a:xfrm>
            <a:off x="7276680" y="3938400"/>
            <a:ext cx="1080" cy="278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6" name="139 Conector recto de flecha"/>
          <p:cNvCxnSpPr/>
          <p:nvPr/>
        </p:nvCxnSpPr>
        <p:spPr>
          <a:xfrm>
            <a:off x="7276680" y="448308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7" name="143 Conector recto de flecha"/>
          <p:cNvCxnSpPr/>
          <p:nvPr/>
        </p:nvCxnSpPr>
        <p:spPr>
          <a:xfrm flipH="1" flipV="1">
            <a:off x="5523840" y="4699800"/>
            <a:ext cx="7894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8" name="145 Conector recto de flecha"/>
          <p:cNvCxnSpPr/>
          <p:nvPr/>
        </p:nvCxnSpPr>
        <p:spPr>
          <a:xfrm>
            <a:off x="7276680" y="484344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9" name="148 Conector recto de flecha"/>
          <p:cNvCxnSpPr/>
          <p:nvPr/>
        </p:nvCxnSpPr>
        <p:spPr>
          <a:xfrm flipH="1" flipV="1">
            <a:off x="5523840" y="511596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0" name="150 Conector recto de flecha"/>
          <p:cNvCxnSpPr/>
          <p:nvPr/>
        </p:nvCxnSpPr>
        <p:spPr>
          <a:xfrm>
            <a:off x="7276680" y="524988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1" name="151 Conector recto de flecha"/>
          <p:cNvCxnSpPr/>
          <p:nvPr/>
        </p:nvCxnSpPr>
        <p:spPr>
          <a:xfrm>
            <a:off x="7276680" y="5584320"/>
            <a:ext cx="1080" cy="229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2" name="154 Conector recto de flecha"/>
          <p:cNvCxnSpPr/>
          <p:nvPr/>
        </p:nvCxnSpPr>
        <p:spPr>
          <a:xfrm flipH="1">
            <a:off x="5523840" y="594972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3" name="155 Conector recto de flecha"/>
          <p:cNvCxnSpPr/>
          <p:nvPr/>
        </p:nvCxnSpPr>
        <p:spPr>
          <a:xfrm>
            <a:off x="7276680" y="6054480"/>
            <a:ext cx="1080" cy="130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724" name="156 Rectángulo redondeado"/>
          <p:cNvGrpSpPr/>
          <p:nvPr/>
        </p:nvGrpSpPr>
        <p:grpSpPr>
          <a:xfrm>
            <a:off x="3541680" y="6156360"/>
            <a:ext cx="2036880" cy="396720"/>
            <a:chOff x="3541680" y="6156360"/>
            <a:chExt cx="2036880" cy="396720"/>
          </a:xfrm>
        </p:grpSpPr>
        <p:pic>
          <p:nvPicPr>
            <p:cNvPr id="1725" name="156 Rectángulo redondeado" descr=""/>
            <p:cNvPicPr/>
            <p:nvPr/>
          </p:nvPicPr>
          <p:blipFill>
            <a:blip r:embed="rId23"/>
            <a:stretch/>
          </p:blipFill>
          <p:spPr>
            <a:xfrm>
              <a:off x="3541680" y="615636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6" name=""/>
            <p:cNvSpPr/>
            <p:nvPr/>
          </p:nvSpPr>
          <p:spPr>
            <a:xfrm>
              <a:off x="3611520" y="619776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ones e Inform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27" name="157 Conector recto de flecha"/>
          <p:cNvCxnSpPr/>
          <p:nvPr/>
        </p:nvCxnSpPr>
        <p:spPr>
          <a:xfrm flipH="1">
            <a:off x="5523840" y="630828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8" name="158 Conector recto de flecha"/>
          <p:cNvCxnSpPr/>
          <p:nvPr/>
        </p:nvCxnSpPr>
        <p:spPr>
          <a:xfrm>
            <a:off x="7276680" y="6499080"/>
            <a:ext cx="1080" cy="38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9" name="162 Conector recto de flecha"/>
          <p:cNvCxnSpPr/>
          <p:nvPr/>
        </p:nvCxnSpPr>
        <p:spPr>
          <a:xfrm flipH="1">
            <a:off x="5523840" y="665136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730" name="182 Rectángulo redondeado"/>
          <p:cNvGrpSpPr/>
          <p:nvPr/>
        </p:nvGrpSpPr>
        <p:grpSpPr>
          <a:xfrm>
            <a:off x="3541680" y="1974960"/>
            <a:ext cx="2036880" cy="396720"/>
            <a:chOff x="3541680" y="1974960"/>
            <a:chExt cx="2036880" cy="396720"/>
          </a:xfrm>
        </p:grpSpPr>
        <p:pic>
          <p:nvPicPr>
            <p:cNvPr id="1731" name="182 Rectángulo redondeado" descr=""/>
            <p:cNvPicPr/>
            <p:nvPr/>
          </p:nvPicPr>
          <p:blipFill>
            <a:blip r:embed="rId24"/>
            <a:stretch/>
          </p:blipFill>
          <p:spPr>
            <a:xfrm>
              <a:off x="3541680" y="197496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2" name=""/>
            <p:cNvSpPr/>
            <p:nvPr/>
          </p:nvSpPr>
          <p:spPr>
            <a:xfrm>
              <a:off x="3611520" y="201600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Envía invitación a los Ejecutor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3" name="183 Rectángulo redondeado"/>
          <p:cNvGrpSpPr/>
          <p:nvPr/>
        </p:nvGrpSpPr>
        <p:grpSpPr>
          <a:xfrm>
            <a:off x="3541680" y="3633840"/>
            <a:ext cx="2036880" cy="395280"/>
            <a:chOff x="3541680" y="3633840"/>
            <a:chExt cx="2036880" cy="395280"/>
          </a:xfrm>
        </p:grpSpPr>
        <p:pic>
          <p:nvPicPr>
            <p:cNvPr id="1734" name="183 Rectángulo redondeado" descr=""/>
            <p:cNvPicPr/>
            <p:nvPr/>
          </p:nvPicPr>
          <p:blipFill>
            <a:blip r:embed="rId25"/>
            <a:stretch/>
          </p:blipFill>
          <p:spPr>
            <a:xfrm>
              <a:off x="3541680" y="363384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3611520" y="3675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Autoriza y traspasa cuo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6" name="184 Rectángulo redondeado"/>
          <p:cNvGrpSpPr/>
          <p:nvPr/>
        </p:nvGrpSpPr>
        <p:grpSpPr>
          <a:xfrm>
            <a:off x="3541680" y="4535640"/>
            <a:ext cx="2036880" cy="396720"/>
            <a:chOff x="3541680" y="4535640"/>
            <a:chExt cx="2036880" cy="396720"/>
          </a:xfrm>
        </p:grpSpPr>
        <p:pic>
          <p:nvPicPr>
            <p:cNvPr id="1737" name="184 Rectángulo redondeado" descr=""/>
            <p:cNvPicPr/>
            <p:nvPr/>
          </p:nvPicPr>
          <p:blipFill>
            <a:blip r:embed="rId26"/>
            <a:stretch/>
          </p:blipFill>
          <p:spPr>
            <a:xfrm>
              <a:off x="3541680" y="453564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8" name=""/>
            <p:cNvSpPr/>
            <p:nvPr/>
          </p:nvSpPr>
          <p:spPr>
            <a:xfrm>
              <a:off x="3611520" y="45799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ncier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9" name="185 Rectángulo redondeado"/>
          <p:cNvGrpSpPr/>
          <p:nvPr/>
        </p:nvGrpSpPr>
        <p:grpSpPr>
          <a:xfrm>
            <a:off x="3541680" y="4950000"/>
            <a:ext cx="2036880" cy="403200"/>
            <a:chOff x="3541680" y="4950000"/>
            <a:chExt cx="2036880" cy="403200"/>
          </a:xfrm>
        </p:grpSpPr>
        <p:pic>
          <p:nvPicPr>
            <p:cNvPr id="1740" name="185 Rectángulo redondeado" descr=""/>
            <p:cNvPicPr/>
            <p:nvPr/>
          </p:nvPicPr>
          <p:blipFill>
            <a:blip r:embed="rId27"/>
            <a:stretch/>
          </p:blipFill>
          <p:spPr>
            <a:xfrm>
              <a:off x="3541680" y="4950000"/>
              <a:ext cx="20368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1" name=""/>
            <p:cNvSpPr/>
            <p:nvPr/>
          </p:nvSpPr>
          <p:spPr>
            <a:xfrm>
              <a:off x="3611520" y="499572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2" name="186 Rectángulo redondeado"/>
          <p:cNvGrpSpPr/>
          <p:nvPr/>
        </p:nvGrpSpPr>
        <p:grpSpPr>
          <a:xfrm>
            <a:off x="3541680" y="5772240"/>
            <a:ext cx="2036880" cy="396720"/>
            <a:chOff x="3541680" y="5772240"/>
            <a:chExt cx="2036880" cy="396720"/>
          </a:xfrm>
        </p:grpSpPr>
        <p:pic>
          <p:nvPicPr>
            <p:cNvPr id="1743" name="186 Rectángulo redondeado" descr=""/>
            <p:cNvPicPr/>
            <p:nvPr/>
          </p:nvPicPr>
          <p:blipFill>
            <a:blip r:embed="rId28"/>
            <a:stretch/>
          </p:blipFill>
          <p:spPr>
            <a:xfrm>
              <a:off x="3541680" y="577224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4" name=""/>
            <p:cNvSpPr/>
            <p:nvPr/>
          </p:nvSpPr>
          <p:spPr>
            <a:xfrm>
              <a:off x="3611520" y="581652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5" name="187 Rectángulo redondeado"/>
          <p:cNvGrpSpPr/>
          <p:nvPr/>
        </p:nvGrpSpPr>
        <p:grpSpPr>
          <a:xfrm>
            <a:off x="3541680" y="3164040"/>
            <a:ext cx="2036880" cy="401400"/>
            <a:chOff x="3541680" y="3164040"/>
            <a:chExt cx="2036880" cy="401400"/>
          </a:xfrm>
        </p:grpSpPr>
        <p:pic>
          <p:nvPicPr>
            <p:cNvPr id="1746" name="187 Rectángulo redondeado" descr=""/>
            <p:cNvPicPr/>
            <p:nvPr/>
          </p:nvPicPr>
          <p:blipFill>
            <a:blip r:embed="rId29"/>
            <a:stretch/>
          </p:blipFill>
          <p:spPr>
            <a:xfrm>
              <a:off x="3541680" y="3164040"/>
              <a:ext cx="20368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"/>
            <p:cNvSpPr/>
            <p:nvPr/>
          </p:nvSpPr>
          <p:spPr>
            <a:xfrm>
              <a:off x="3611520" y="320976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solución conven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8" name="188 Rectángulo redondeado"/>
          <p:cNvGrpSpPr/>
          <p:nvPr/>
        </p:nvGrpSpPr>
        <p:grpSpPr>
          <a:xfrm>
            <a:off x="3541680" y="2371680"/>
            <a:ext cx="2036880" cy="395280"/>
            <a:chOff x="3541680" y="2371680"/>
            <a:chExt cx="2036880" cy="395280"/>
          </a:xfrm>
        </p:grpSpPr>
        <p:pic>
          <p:nvPicPr>
            <p:cNvPr id="1749" name="188 Rectángulo redondeado" descr=""/>
            <p:cNvPicPr/>
            <p:nvPr/>
          </p:nvPicPr>
          <p:blipFill>
            <a:blip r:embed="rId30"/>
            <a:stretch/>
          </p:blipFill>
          <p:spPr>
            <a:xfrm>
              <a:off x="3541680" y="237168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0" name=""/>
            <p:cNvSpPr/>
            <p:nvPr/>
          </p:nvSpPr>
          <p:spPr>
            <a:xfrm>
              <a:off x="3611520" y="24145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Proyec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1" name="189 Rectángulo redondeado"/>
          <p:cNvGrpSpPr/>
          <p:nvPr/>
        </p:nvGrpSpPr>
        <p:grpSpPr>
          <a:xfrm>
            <a:off x="3541680" y="6145200"/>
            <a:ext cx="2036880" cy="395280"/>
            <a:chOff x="3541680" y="6145200"/>
            <a:chExt cx="2036880" cy="395280"/>
          </a:xfrm>
        </p:grpSpPr>
        <p:pic>
          <p:nvPicPr>
            <p:cNvPr id="1752" name="189 Rectángulo redondeado" descr=""/>
            <p:cNvPicPr/>
            <p:nvPr/>
          </p:nvPicPr>
          <p:blipFill>
            <a:blip r:embed="rId31"/>
            <a:stretch/>
          </p:blipFill>
          <p:spPr>
            <a:xfrm>
              <a:off x="3541680" y="614520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3" name=""/>
            <p:cNvSpPr/>
            <p:nvPr/>
          </p:nvSpPr>
          <p:spPr>
            <a:xfrm>
              <a:off x="3611520" y="61880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ones e Inform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9BA6D22D-DDE8-4CAE-A491-1359E41122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Rectangle 19"/>
          <p:cNvSpPr/>
          <p:nvPr/>
        </p:nvSpPr>
        <p:spPr>
          <a:xfrm>
            <a:off x="539640" y="1210680"/>
            <a:ext cx="777744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El Sistema de Gestión de Convenios – SIGEC </a:t>
            </a:r>
            <a:r>
              <a:rPr b="0" i="1" lang="es-CL" sz="2000" spc="-1" strike="noStrike">
                <a:solidFill>
                  <a:srgbClr val="006cb7"/>
                </a:solidFill>
                <a:latin typeface="Arial"/>
                <a:ea typeface="Verdana"/>
              </a:rPr>
              <a:t>–</a:t>
            </a: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 es una plataforma informática radicada en el Ministerio de Desarrollo Social destinada a la gestión en línea de los programas implementados a nivel local y que tienen transferencia de recursos desde el Ministerio de Desarrollo Social a través de un conven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A esta plataforma acceden todos los usuarios involucrados en cada programa a nivel nacional, regional y comu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Se gestionan tanto los convenios nacionales (entre dos ministerios y/o servicios públicos) como los convenios realizados entre las SEREMIAS y los Municipios y/o ejecut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A través de esta plataforma se interactúa entre los distintos act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8" name="8 Grupo"/>
          <p:cNvGrpSpPr/>
          <p:nvPr/>
        </p:nvGrpSpPr>
        <p:grpSpPr>
          <a:xfrm>
            <a:off x="-19080" y="196920"/>
            <a:ext cx="4479840" cy="711000"/>
            <a:chOff x="-19080" y="196920"/>
            <a:chExt cx="4479840" cy="711000"/>
          </a:xfrm>
        </p:grpSpPr>
        <p:sp>
          <p:nvSpPr>
            <p:cNvPr id="1759" name="7 Pentágono"/>
            <p:cNvSpPr/>
            <p:nvPr/>
          </p:nvSpPr>
          <p:spPr>
            <a:xfrm>
              <a:off x="-1908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4" y="0"/>
                  </a:lnTo>
                  <a:lnTo>
                    <a:pt x="21600" y="10800"/>
                  </a:lnTo>
                  <a:lnTo>
                    <a:pt x="203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Pentágono 4"/>
            <p:cNvSpPr/>
            <p:nvPr/>
          </p:nvSpPr>
          <p:spPr>
            <a:xfrm>
              <a:off x="93600" y="26820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Objetiv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1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6418CF8D-52A0-452D-B804-A75D24FF758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Rectangle 19"/>
          <p:cNvSpPr/>
          <p:nvPr/>
        </p:nvSpPr>
        <p:spPr>
          <a:xfrm>
            <a:off x="722160" y="1495800"/>
            <a:ext cx="77774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alizar seguimiento presupuestario, de actividades, plazos, productos, y de gestión a los proyectos y/o programas con transferencia de recursos por medio de un conven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Generar información relevante y suficiente para la toma de decisiones a nivel estratégico y opera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Acceder de forma rápida y simple a la información de los distintos convenios cualquiera sea el fin o requerimi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etectar los niveles de avance, cumplimiento de actividades, plazos  y compromisos establec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6" name="8 Grupo"/>
          <p:cNvGrpSpPr/>
          <p:nvPr/>
        </p:nvGrpSpPr>
        <p:grpSpPr>
          <a:xfrm>
            <a:off x="-36360" y="196920"/>
            <a:ext cx="4479840" cy="711000"/>
            <a:chOff x="-36360" y="196920"/>
            <a:chExt cx="4479840" cy="711000"/>
          </a:xfrm>
        </p:grpSpPr>
        <p:sp>
          <p:nvSpPr>
            <p:cNvPr id="1767" name="7 Pentágono"/>
            <p:cNvSpPr/>
            <p:nvPr/>
          </p:nvSpPr>
          <p:spPr>
            <a:xfrm>
              <a:off x="-3636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4" y="0"/>
                  </a:lnTo>
                  <a:lnTo>
                    <a:pt x="21600" y="10800"/>
                  </a:lnTo>
                  <a:lnTo>
                    <a:pt x="203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Pentágono 4"/>
            <p:cNvSpPr/>
            <p:nvPr/>
          </p:nvSpPr>
          <p:spPr>
            <a:xfrm>
              <a:off x="76320" y="26820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Funci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9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4FAEC6E0-47F4-45F1-83EF-677930EB634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19"/>
          <p:cNvSpPr/>
          <p:nvPr/>
        </p:nvSpPr>
        <p:spPr>
          <a:xfrm>
            <a:off x="539640" y="1060200"/>
            <a:ext cx="777744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atos del progr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munas y ejecutores invi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resupuesto y cober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laz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ocumentos de apoyo (Manual de Operación, Orientaciones técnicas, formato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arc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nven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ecreto Alcald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solución de prórroga de 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solución de aprobación de Modificación Presupues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solución de cier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4" name="8 Grupo"/>
          <p:cNvGrpSpPr/>
          <p:nvPr/>
        </p:nvGrpSpPr>
        <p:grpSpPr>
          <a:xfrm>
            <a:off x="-27000" y="189000"/>
            <a:ext cx="4479840" cy="676080"/>
            <a:chOff x="-27000" y="189000"/>
            <a:chExt cx="4479840" cy="676080"/>
          </a:xfrm>
        </p:grpSpPr>
        <p:sp>
          <p:nvSpPr>
            <p:cNvPr id="1775" name="7 Pentágono"/>
            <p:cNvSpPr/>
            <p:nvPr/>
          </p:nvSpPr>
          <p:spPr>
            <a:xfrm>
              <a:off x="-27000" y="18900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Pentágono 4"/>
            <p:cNvSpPr/>
            <p:nvPr/>
          </p:nvSpPr>
          <p:spPr>
            <a:xfrm>
              <a:off x="85680" y="22536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Información de cada convocator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77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9A5E2B6C-DAA3-483F-AE85-3F45F7A64F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Rectangle 19"/>
          <p:cNvSpPr/>
          <p:nvPr/>
        </p:nvSpPr>
        <p:spPr>
          <a:xfrm>
            <a:off x="539640" y="1296720"/>
            <a:ext cx="777744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Financ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resupuesto y cobertura por ejecutor por ejecu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Número y monto de cuo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istribución financ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ndiciones financieras mensu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odificación de distribución financ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onto reinteg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arc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formes Técnicos de Av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strumentos técnicos (P2 en Habitabilidad, Ficha Familia en Autoconsumo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2" name="8 Grupo"/>
          <p:cNvGrpSpPr/>
          <p:nvPr/>
        </p:nvGrpSpPr>
        <p:grpSpPr>
          <a:xfrm>
            <a:off x="-19080" y="196920"/>
            <a:ext cx="4479840" cy="676080"/>
            <a:chOff x="-19080" y="196920"/>
            <a:chExt cx="4479840" cy="676080"/>
          </a:xfrm>
        </p:grpSpPr>
        <p:sp>
          <p:nvSpPr>
            <p:cNvPr id="1783" name="7 Pentágono"/>
            <p:cNvSpPr/>
            <p:nvPr/>
          </p:nvSpPr>
          <p:spPr>
            <a:xfrm>
              <a:off x="-1908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Pentágono 4"/>
            <p:cNvSpPr/>
            <p:nvPr/>
          </p:nvSpPr>
          <p:spPr>
            <a:xfrm>
              <a:off x="93600" y="23328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Información de cada programa 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85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Usuario</cp:lastModifiedBy>
  <dcterms:modified xsi:type="dcterms:W3CDTF">2014-06-30T14:26:36Z</dcterms:modified>
  <cp:revision>175</cp:revision>
  <dc:subject/>
  <dc:title>Slide 1</dc:title>
</cp:coreProperties>
</file>