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83447A-ED84-4353-99D9-17D26F798D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383A5C-85EB-41C6-A270-F3DA8DA39A6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D3B2C-4D57-47B5-8F49-3A07DCCA8E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37E54-576A-4306-9D13-424E3B71B1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1B05D-A5B0-4942-BDBB-63EB7B8BE2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B45F3-D5AB-4935-B6B1-2F7868A625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6D3A42-2678-4681-B6E5-F4C4EDDEDC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19DF1-66B9-49B8-AB2E-430D7EA74C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05A03-A481-4624-838B-0F0CB70B21C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E7861-6132-41EB-939C-54CF5B3C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6924C8-D6FC-447A-A8D5-C1C4E7D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A3805-DF41-4F50-A90E-EFB4BBB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B2D57-A3B0-46E4-AE91-BFAC36D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F9685-5D96-450A-81E7-D6E7C4F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5F92A-4812-4481-921E-BF756C51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86982-D84B-4A67-87E2-64F07E8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C6EAF-EEAE-4D14-BE19-21B0210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375B4-9041-44EC-8941-DB7AF91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318A76-19BA-4477-9655-B785EEC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294D86-804C-4410-8BE8-E33C549D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5D337-8670-4662-9149-B119D5A3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7FFC0-D235-4098-89C8-40852EDC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7A1DE-615A-4CC8-8E10-6DC4F8A2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832A5-3154-43B4-83E0-BCCBF64E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2FF6B-2593-489B-8B22-2B3F3C0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E2187-7E5A-43CF-9FC8-ADE3DD82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49A37-2202-4484-B314-A940BC9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30F02-9DA6-494B-869A-139316C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0D897-003A-4A4E-B059-2089F57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5033B-1FDB-45E1-A14D-8B1F9A1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DDD1-6B79-409E-9452-4870970F1B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2390E-0ADD-4CAD-8FC9-5940DA3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85C47-62AD-41DC-A244-595EB5DA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3CC81-1B40-429B-8366-1E1E31A9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1FE83-959A-46D7-9BA6-C52156A2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4C700-01D6-41B0-A304-31F49450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5A1D3-E1A1-4551-8A50-4FFC878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83024-42BA-49DA-9C4E-7FBD637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502CB-065D-450D-B510-22FA014C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9218F-EEFA-429A-A733-471CB715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DD189-B481-4124-B279-2FCF9C9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7E46-BCBA-4E2A-A18C-5D4E03FA0B4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EEC3C-BF3C-40AB-B2BA-45BB0C4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3147D-8E4C-46A3-BBCD-FC0BCBA5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B2213-6746-4208-B3BF-0DE3670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41939-7E60-45FE-9F89-89DF6163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DB209-46F8-4A5D-B33E-CADA4A44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37B79-304F-453D-82CF-20E037D426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D84AA-4131-4F83-B16D-B10FA9301C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B3F3-9C21-4758-85DC-F950949C41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2418D-BFD1-4BB3-8D4C-5FDB7F8C9B4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CA909-1FD3-4F92-9B70-69757799AC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2CC1-1CED-4C54-AC6A-464682C3552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CD839-EFA3-41C0-BA7A-421242A7C15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92659-AE46-4350-9724-89EB24DC081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9FC23-E713-4EFA-8AE8-0533629DD0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2DF09-3748-4331-8E8B-58813E25578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4886-BB07-4BA3-884C-17FB950231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0D94-5B87-453A-9010-2250E1E92E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859D-3F05-4527-BA60-E04826496E9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78676-5991-4368-BFC9-C9183587A4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A51828-BB81-42CC-B2B9-F6F7E8262A1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7794B-720D-4DCC-9C74-13C0EF7E7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BD02-BBC5-4F8C-8517-474197D973D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B03EE1-A45B-4140-A09E-EDDBCAE58D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2A58DB-41EC-44C6-8F3A-41CE7FB2C6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8A0282-E483-4ED5-AD66-F0714236048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86127-5451-4297-99AB-13369765F4F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E90808-9405-4E2D-B65C-AA02DDF642A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F6A0D-A1A6-4F6D-8617-35B9DA0359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4B88F2-9689-43D1-9DB2-76F2D370148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E84976-5611-463E-A0C0-B54EE1D8C68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EBC97-BDA9-4BA5-AF06-F871552E62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1794B-59B4-45E0-A393-8D828C89B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1A46-9950-4B64-A74B-61F7512C03C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0852D-8DF9-4368-9828-6E5B969B201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C3DD5-84E6-4668-8DF7-FA7E6B6F833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7AB79-0120-4744-B35C-AB488AD91E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526FA-AF1C-47E5-B606-144DBBADBF3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9CBAA-55BB-49D1-A2F5-49AC0880B67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5E175-86E1-445B-A54D-2AA8B2C966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BAC05-62F0-4D34-BE6A-EA2015EDD11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5BAEC-9D4F-407D-957F-390877DA0E8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217B8-CDE8-45D1-B74A-2D4596299D2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3CF26-27FA-4900-9C9B-F7F055EEF7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EF22-5518-487F-8749-8AABA2FA425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EE9FF-A168-4F78-85EB-8BC96A08D6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5ED85-2521-456E-84CC-BC5742D525B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11EEF-A30C-49A5-AA19-98597C4B6D8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A8C27-AB4E-40E2-9262-F31C624A2FB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A16C2-13BC-4F07-A235-06598B7900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77BF0-E035-43A1-A9A3-A8F2AD6A2D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B3D5C-B85A-4575-9C4F-DE47717121C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2210F-4134-499A-8302-029A9FF5532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B2309-3232-41D7-8B83-8023D3A651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6142A-AD40-45BF-A411-C0CF5CB17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F051-AE0E-437E-9BB0-71F1D1E3FEB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931FC-7014-48C6-AB97-52B630DD0FC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5492D-E0E0-408F-93A3-EA9377E0FE2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B6CCF-A867-436A-8071-FAFBF64364F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440B6-0A4C-497D-846C-32E46B8BD28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4998D3-D64D-488A-9686-6866514FFE7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CA11F0-6689-4B52-8E0A-8E5732E3B2C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338BFF-8601-41C5-BE13-24F073759A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F9191-07CE-48C4-BD77-5A0C0E60CF6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38C51F-20A0-4032-AD7A-21B02DFF23E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AF72E-051E-41E3-82BC-2EE830FDE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F69A-8091-42A0-9BEB-D53B2D7B22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7C8F3F-26BB-42A5-A9F5-1D4B6F20AED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DA0A59-0141-480D-A0CC-09BADC03D52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FF0754-0B65-45DF-A2EF-603B0B24039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7F7BF-1571-42AD-80E1-43DB28FDF86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B3CC63-1D43-4C82-A12D-A6BDC096AD4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11B94F-BCE8-4F0E-9944-8AD6AB2AAC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312B65-74D8-483C-809B-257353773AB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546501-AA39-48E6-B618-9BD9EFF012E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1AE7CD-D402-488B-AA11-F09AB2B23C5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392F65-7D80-4E75-89F0-6CEF3591D0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1778-5364-47DF-BFB3-5545E5A79AA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F484C6-F0A2-4512-926A-124A587D464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E138D0-0A97-421E-B5EB-88944640A6B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3ABC32-DFAF-4144-920A-5FD655FA3DB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D36B38-E4E0-45C8-AFCF-13736B2BC2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7FA08A-C66C-4A81-A298-C03FFC4ED06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EB2ABC-5465-40D2-9263-33BEA0EA74D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5FB1D9-BBF4-4BA7-A36D-501A0F0B8F6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9F0D96-C117-49D2-B031-943F65B3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D6B204-F387-4794-8671-B1598B6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B2053A-DC3C-46FF-B4C7-FC58353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DEED-7951-4180-992B-EE6624CEBD0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92FAAC-31E7-4C66-B33F-4FB9C74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8477BF-7107-4346-8DEE-B4BB0B66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BF1998-8E51-4D13-8F1E-DAB4254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F9DCB5-61AA-4CD6-A771-3B4D04E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28152E-D87F-4216-9A2D-711D89A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A6AAAB-BC39-4354-A995-63A22609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10F591-7BD6-466D-9758-D3C0A9EC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4ADAFA-A77C-4248-A9BB-06589CEA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96036D-EEA2-4B8C-9C6A-5E349104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E5FC39-B0B0-4D32-A555-64A1C07E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0940-7C3B-4495-AEC1-26F92AEEAFC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F8645A-3993-45D3-B853-69476C3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9E31C5-739E-4917-A171-BF49C1E3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223C3A-96B7-41C2-85FC-F843715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9AF5EE-ADDF-457E-BFBA-6F3BA34C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F0FEB3-BFE3-467B-8E0A-F890F0E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5311DD-96FE-454F-A671-6CF9665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5CC1DF-37A0-42CF-A8FF-4403F89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32E7B1-27CA-4269-9BA6-007C343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2B11BB-8710-43CE-BED1-6DF9D35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7343D8-B887-462C-9F53-07B76CAC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986F-EB4F-428F-9FE9-F85290C745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B3200C-5C44-4AAD-A3B0-ACC1BC57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25F6D4-3669-4B51-A6BB-51E75B46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D7EA7D-6466-47C1-9683-CE660A9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FDF8AB-C395-421A-B1E2-CF9B3969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E8CA4A-5D1F-45E4-8D52-63C04D2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25C9F7-EE29-4569-B7CF-B6C1B7F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86E9CF-75EE-40F6-BAA1-48A874D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C43542-0A88-4F95-A9A8-51096D9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DE8099-95CF-449D-BAD2-0B6D41D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684EC4-CB07-4F1F-AE0E-323CD55F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E8FED9-B608-41B9-BDBA-795C77D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03696F-2F0A-4F3F-9162-5CF68BF3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2AB121-CD4E-48E8-9DF2-5A3AA87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AF8C88-B35E-43FB-9A72-463A2A56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69E420-A954-4A26-8327-E58EED5A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63DC95-8814-4735-9F0A-155799E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4E3976-3482-474D-B638-A1CC3BBD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4A1C04-F6DC-46CC-942E-F17A2A6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E1D258-5DB0-406D-B31F-7DB69A14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97303B-0BF2-4E5B-BC20-023844F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AF0602-A8C7-461A-81D7-4D1B8EA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6BDDA0-3B33-4B62-BE60-A234BEB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7372D7-806B-4BAB-A96C-B18CE71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AC378D-DFD6-4419-B174-890E1922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74AE2-1187-4065-9310-2C8F5FFE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08A8B9-2C3A-406C-B7FB-A68B659F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278F87-DF7E-4BCE-8955-A77CD15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7DB31E-7114-4B82-9832-D54C225C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3AB171-AA8F-46A6-A8F1-D56CD1FB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D060F9-7B42-4D8F-96E5-EBFF8D8C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41FFBD-02B9-4E11-8B4F-2C1EEF5D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48CA6F-0DB4-416A-8F0E-40045C7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E32D03-5010-41CA-95FD-63E393D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5D00AF-7D1C-4FC1-93FF-36EA9013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6429E7-470A-4CB9-A325-126B750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659137-DEB4-4C53-AA47-3DF99E9D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2DB2EB-610D-4929-A957-C6DD2DBC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6EE92D-0B61-4AD0-B114-7A2C7DA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58F44A-7916-4FF0-BA5B-FD66E21A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D2577E-A322-4E25-833F-340EE8F6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0C6DBB-740E-4232-894B-27245889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0DFE7A-AC68-4F35-8722-B2E8021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374CE3-DE7C-4DB2-824F-B1157703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2FAE29-4C95-428B-A9C0-FFB5F75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9A4D0C-F47F-4C04-B304-D4267AC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068175-948C-481D-AA42-2C076DF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BF8966-D677-4F90-BF5D-4986C7B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3E8936-626E-40CE-B5CA-AAE1911B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AB796F-2B40-4E1F-B6BC-E2BDCAC1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9D638A-3040-4278-83C4-42084108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BED278-5D03-42E0-9F9C-F3D646D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524127-FD82-4916-92AC-E33D5B3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4B6D78-345E-4AD1-9612-C0117D1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7ECE1A-C97B-40F7-B3BA-9BF92BA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36A2A00-0B11-40C3-9EBD-C1D1961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B890A9-14D9-493E-9B46-4C307A2A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3FDFF7-DA55-465F-BBA1-1B768CB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6487B8-B8F3-4E86-824D-4C8B4D1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22F36B-5EE9-49C9-8EC6-319CEBE3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808D34-0624-4459-B7B2-F8ADF0FB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0EDF2B-5B76-4B55-9EE5-5CE09E12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6B3BA3-874C-4080-B99B-1D0352B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C3119B-E6F1-40F5-9F5E-BA20D57C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CB2FC7-FB48-4721-8EF9-E13B8C9F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D0754B-CD8E-4133-8A6B-654B0A0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7F1535-E690-4406-86B4-CD155D17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5F953D-4297-45A8-B186-671DA778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C5683C-6621-4C49-8D54-AE2B273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9CF8F6-16A6-46DA-9B82-71BFF18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B28CFC-955B-4BF1-A296-C87737A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F66168-B9A0-4AB5-A55E-81C2742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9B323C-E073-43D6-ABAA-6B46396F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FEBFA0-48D0-44FE-AD39-761B3D9A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D3A2B5-7464-42E4-B2CA-0E7C7D1B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15BC83A-53FC-4C05-B6BA-8C1F8C1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2A39C3-D59E-438F-8256-65250EB2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5F1D4A-F886-4FCD-B454-8A919AA3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E5CD04-2A82-440E-917B-3183952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1E0B80-D95A-4461-A0FC-EF635770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B9E4704-E15F-4482-9C44-2245A70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0955D3-9333-4AB4-94BE-AC71EA1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D1253EB-FDFC-4C35-9E09-04C20AD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D44589-E853-4F8F-9EE9-F231E7F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E84C593-D998-45C6-90E3-21DBAA8F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57916B-F6E3-4FC9-8961-B74E5FEC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43BA18-6F5C-40DA-8EFB-DBD23F9F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FDA11C-D42B-47FC-B06C-B4A2DFAB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5BE9E6-EDDB-4229-8EF5-6EE13D1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C9B489-DAAC-44B7-917E-3CCFE1A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F8B0904-9E3D-4BCC-9A6B-67B453CC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E2353E-2041-4757-BEC4-AE8E5A5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307A0FF-B4B5-4C56-B2A5-D725E239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8AC82E-7686-44DC-92E5-7D823D0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FFF26D-ECC3-4EDD-BF6D-C24157B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5B4BB8A-4FD1-4BB8-AEDE-3DF7B1F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269E61-2289-44A9-95EF-E6B41A4C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54B4A8-BAF4-4E1F-9117-8D32736A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56D8C1-EF59-45CC-AE9C-0F0DB0E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BFA9A3F-32EA-4554-8DA5-FF57055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4D4CF6-6C49-4CA2-A4D2-E03C3A32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3743A3-EE4C-4A9D-9AAA-48AB4146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5AC4196-C037-4AD0-8BC5-20AF645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7E6607-DDF6-4BD6-B089-8C6EF87F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744F5A-C37C-412B-B0C6-269DE61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FBE07B-D182-4254-97F1-097D119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58A63F-918D-4906-A6C9-E7AD842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1078D2-D203-41A1-8608-5DF8968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A0FBAF-3811-4FBF-AFCD-3254121C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D2649DC-2FAE-47DE-AA19-F6713D45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DE2D-747A-4CE1-8947-201481B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8B089-3195-481D-B7B7-EA924F6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A7D8C-2C33-4C4B-B163-57D81DA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F740-49D1-4F7F-8110-4D331EBE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29F0D-4050-4CE5-9425-A3F50B6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9800-7D90-4033-8BAA-B186C4A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B1225-9734-4662-921C-C692B13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50BE-D090-4439-AD8D-20C3FAD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CA4A6-4173-47D4-9D6D-97C2543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EBD82-9BCB-43AE-B29F-BA90370B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6CD5-1306-485B-B740-9FD592C4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F5388-719C-41C3-A0B2-333FF4FF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EA41B-6C88-4040-BA26-6DBF4A0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53714-79C4-4723-9FA6-17E51FC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B8B29-0B5B-4C72-82F4-7414C52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E6FA8-FAB0-49D1-92F0-71B268A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BD937-B52F-4D75-9D49-F2FC703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27E46-AC90-4642-ACB3-1B2534C3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49947-84EA-40BA-8F0D-DADFEC9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FE16E-6FA7-498D-A7E9-A32367E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89B55-DE4B-4271-92A7-8FA04D2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05FE9-D9EF-4AE5-B148-E4C2180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50F8F-9D19-44C1-863A-FB3FB19B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3A497-EA18-42A8-9F18-228DE447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11ACB-D781-445C-AFB1-A9B87341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BED88-5A4F-4D3E-AADF-BB986C2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A5F12-75F1-40D1-A969-A938330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391FC-02C6-4ABA-B4A0-521E4451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41C5C-5FEF-4679-978C-144D304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D6047-60AE-4B8D-9249-4D10E7E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60F42-4DDF-49BA-BFEE-99B67AC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F1C93-4BBF-413A-B0A0-D2DD4937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02158-FAFD-4538-8922-C9B0A0D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21229-1CDB-4593-A00F-EDA50919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10A07-53DC-47E6-912E-B183662B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4609F-2A2E-4094-8A2F-C96EC50D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81576-634F-4E2F-B3E3-766ACEF3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14743-A283-4A37-81F4-40A1AF0A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0BDD2-6B58-4EC8-9C14-8515603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DA7E1-FC0E-4C3A-A316-84C1B30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68568-A27B-4884-AC04-0A5CEA83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29DD2-72EB-442F-8E42-5B1975C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F9291-73B3-49CA-A9F9-6F5FBCD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97AED-E9DB-4D1B-A182-93D01C2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3220A-F19C-499D-80A3-A03CD7A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E0C6F-3CA2-452E-AC6E-F7E3F0B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5C461-9A1E-4A01-A82C-A71B1A4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C508B-5A13-4B21-A7B9-55BA61A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FBE7C-D5A3-4A61-BF7C-2369776C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D2D3D-7746-4FC9-B8EE-A22C544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631D2-3C4D-462B-8795-B7AFE63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FFCD5-FE51-4128-99D2-A08F11C7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73A3C-EFDA-4FDF-B8B7-FB63C360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CFDAD-22A2-4C99-B01A-1E14AF90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46F33-F6E5-4700-B3DE-EA3D2FC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FBD1D-1E7C-4A65-BD5D-0A511C1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E81C0-0EE7-4EDF-972B-A5381E4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77C85-DF8A-406A-80F0-F1AED69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35CB0-8023-4089-9964-8DBF8E0F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E2F05-9FE1-459D-BD64-102A700B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8BF6C-750B-4F5F-BEA5-76135BB5369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804393-9423-4893-B0FC-55A57A7060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7183D-72C5-48A0-82CB-1E47B7AFF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97D04-53E3-41F4-8F8D-E5E28187AB1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98117-3B2A-4EF1-981E-D119F2F9F4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C0535-92E4-4885-83A3-49230F602C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E1E7A-B55C-4F8B-863B-41BF7B3FFD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71498-E7E1-461A-886F-71C1630A459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A198E-1A5D-4E0F-AF0F-DEBCA1AA06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3E190-43F7-45EC-8755-E567A329C4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2611B-DF79-4C37-8CAE-32B1E89C97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3DC67-4B06-4C11-AF45-3BAEC73424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31BE4-A283-4567-86B4-28BA0439F9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FA42B-97EB-48B2-938D-FA36506708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5C4CE-8A73-4DDA-977C-BF72C5BB4F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0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8CCF7-AA97-4DB5-8658-BFA1BEE0D6D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98F19-C3B6-43EF-8187-783253A9C09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6BE1A-DE90-418A-BFED-151725E4DF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5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77D35-981A-47E1-A8D9-98D2172705E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941A3-2B00-4CFE-9729-F4FD60BE112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0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C40C4-BB30-479C-B679-5AED1276208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E0FE3-E5F7-46C3-96D3-EFABCFF72BC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5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D3538-ECDB-48B1-ADC6-8032EFD83CF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50D3C-08C9-43D4-85E9-EF42220486D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0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3D709-8F96-4625-BBF0-7AA26F70606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0091C-A954-4207-A19F-3EE744988B2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512EC-F0B3-4FAD-845F-9941B402A9F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FF50-CB63-4107-9666-B99FDE127DB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1298C-D563-4EE6-B986-D54F6D2DA54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37C45-B966-4E39-9BA0-FFD0CE21BE2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2F429-F550-4C82-8E01-2B209FBB2C7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945CF-FB6A-4D98-92C4-EEDAD8A9C43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9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9DF64-EA14-4D2E-B390-683BE3DE246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B3D52-3DB6-49E8-A754-69E2E0A8966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5BE79-C640-484B-8F78-D52F81B5751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86B28-E2AC-4109-ABBA-5C55544B8E2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9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7284A-057A-4859-BDFE-26AC2A40900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83742-4122-470C-971B-750A21D4862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99752-C478-4987-A4B9-525E1D27C18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99D8A-915F-4B20-9EBC-12BA1E9F1BA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986B6-5939-4F39-8C5B-67DEE5BB1DB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45817-2355-468A-A6E1-B40CE6B4C62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FD7F0-51FE-4722-AD57-0C1867E4527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57420-56BA-4C7B-A7EE-E59771342A3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9E965-0545-412C-947C-5CF1AEBE834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E15B5-5920-4BED-A8B6-B5E97AE09C2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8D216-645D-4C95-8632-4BAD03C985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23E89-A325-4377-A2AE-22DAC77CFC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8CEAA-729A-4949-83AC-C5DD52EBE3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gobCL"/>
              </a:rPr>
              <a:t>SUBSIDIO A LA IDENTIFICACIÓ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 u="sng">
                <a:solidFill>
                  <a:srgbClr val="006cb7"/>
                </a:solidFill>
                <a:uFillTx/>
                <a:latin typeface="gobCL"/>
              </a:rPr>
              <a:t>Perfil Regional</a:t>
            </a: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:  Tiene el privilegio de consultar y ver cobertura, según su región.  Cada Encargado/a Regional puede visualizar solo su Región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7" name="Picture 2" descr=""/>
          <p:cNvPicPr/>
          <p:nvPr/>
        </p:nvPicPr>
        <p:blipFill>
          <a:blip r:embed="rId1"/>
          <a:stretch/>
        </p:blipFill>
        <p:spPr>
          <a:xfrm>
            <a:off x="395280" y="1477800"/>
            <a:ext cx="8177400" cy="4526280"/>
          </a:xfrm>
          <a:prstGeom prst="rect">
            <a:avLst/>
          </a:prstGeom>
          <a:ln w="0">
            <a:noFill/>
          </a:ln>
        </p:spPr>
      </p:pic>
      <p:sp>
        <p:nvSpPr>
          <p:cNvPr id="1368" name="8 Flecha izquierda"/>
          <p:cNvSpPr/>
          <p:nvPr/>
        </p:nvSpPr>
        <p:spPr>
          <a:xfrm>
            <a:off x="2484360" y="3068640"/>
            <a:ext cx="2158920" cy="129708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firma si RUN se encuentra en algunos de los Subsistem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745632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164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Campo que es visualizado, tanto, por los profesionales de los programas Puente, Seguimiento, Vinculo, Personas en Situación-Calle, Camino y últimamente Seguridades y Oportunidades</a:t>
            </a:r>
            <a:br>
              <a:rPr sz="14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3" name="Picture 2" descr=""/>
          <p:cNvPicPr/>
          <p:nvPr/>
        </p:nvPicPr>
        <p:blipFill>
          <a:blip r:embed="rId1"/>
          <a:stretch/>
        </p:blipFill>
        <p:spPr>
          <a:xfrm>
            <a:off x="165240" y="1477800"/>
            <a:ext cx="8667720" cy="4526280"/>
          </a:xfrm>
          <a:prstGeom prst="rect">
            <a:avLst/>
          </a:prstGeom>
          <a:ln w="0">
            <a:noFill/>
          </a:ln>
        </p:spPr>
      </p:pic>
      <p:sp>
        <p:nvSpPr>
          <p:cNvPr id="1374" name="8 Flecha izquierda"/>
          <p:cNvSpPr/>
          <p:nvPr/>
        </p:nvSpPr>
        <p:spPr>
          <a:xfrm>
            <a:off x="2340000" y="2924280"/>
            <a:ext cx="2663640" cy="187308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sultar RUN para verificar si registra en plataforma de lo contrario no podrá emitir formulario F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Ingresado el RUN sistema presenta siguiente información:  Datos del Solicitante, tanto su RUN nombres, apellidos, programa, nacionalidad y campo emitir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76" name="Picture 1" descr=""/>
          <p:cNvPicPr/>
          <p:nvPr/>
        </p:nvPicPr>
        <p:blipFill>
          <a:blip r:embed="rId1"/>
          <a:stretch/>
        </p:blipFill>
        <p:spPr>
          <a:xfrm>
            <a:off x="592200" y="1477800"/>
            <a:ext cx="729756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53320" cy="387180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2"/>
          <p:cNvSpPr/>
          <p:nvPr/>
        </p:nvSpPr>
        <p:spPr>
          <a:xfrm>
            <a:off x="250920" y="410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gobCL"/>
                <a:ea typeface="Calibri"/>
              </a:rPr>
              <a:t>Se detalla la cobertura con la que cuenta la comuna y programa. Como ejemplo se detalla la comuna de Santiago. Una vez emitido un FEI estos cupos disminuyen con el fin de controlar cobertura asignada para el periodo (año calendar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Luego de comprobar que el RUN, se encuentra cargado, es posible emitir el formulario (único documento válido para la obtención de la Cédula de Identidad, subsidiada)</a:t>
            </a: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: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0" name="Picture 2" descr=""/>
          <p:cNvPicPr/>
          <p:nvPr/>
        </p:nvPicPr>
        <p:blipFill>
          <a:blip r:embed="rId1"/>
          <a:stretch/>
        </p:blipFill>
        <p:spPr>
          <a:xfrm>
            <a:off x="2619360" y="1477800"/>
            <a:ext cx="368136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799308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ervicio de Registro Civil e Identificación: Este actor tiene como tarea, realizar el cambio de estado del subsidio, es decir, de emitido a entregado, como también debe registrar la nacionalidad y así mantener actualizado la entrega de la cédula a los solicitantes del subsistema Seguridad y Oportunidades.</a:t>
            </a:r>
            <a:br>
              <a:rPr sz="2000"/>
            </a:b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760320" y="2060640"/>
            <a:ext cx="76280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4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obCL"/>
              </a:rPr>
              <a:t>FORMULARIO ÚNICO DE DERIV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FORMULARIO UNICO DE DERIVACIÓN -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gobCL"/>
              </a:rPr>
              <a:t>El Formulario Unico de Derivación tal como lo menciona su nombre es una herramienta creada para derivar a los usuarios de los Subsistemas de Protección Social; Seguridades &amp; Oportunidades y Chile Solidario, para facilitar su vinculación con las redes locales lo que ha permitido el acceso preferente a las familias de los subsistemas, IEF, Puente, Persona en Situación de Calle, Adulto Mayor Vinculo y Abriendo Camino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595959"/>
                </a:solidFill>
                <a:latin typeface="gobCL"/>
              </a:rPr>
              <a:t>Para utilizar esta herramienta de gestión se deben seguir los pasos que a continuación se describen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1644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s un subsidio monetario directo a los Beneficiarios del Subsistema Chile Solidario y del Subsistema Seguridades y Oportunidades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Consiste en que el Estado a través de las Municipalidades, ONG´S y las Oficinas del Servicio de Registro Civil e Identificación (SRCeI), contribuyen a que los miembros de las familias de ambos subsistemas obtengan, por una sola vez, la Cédula de Identidad, cancelando $500.- por Cédula. Sea que se trate de Chilenos(as) o Extranjeros (as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4" name="Picture 3" descr="C:\Documents and Settings\ggallardo\Escritorio\IMAGENES\índice.jpg"/>
          <p:cNvPicPr/>
          <p:nvPr/>
        </p:nvPicPr>
        <p:blipFill>
          <a:blip r:embed="rId1"/>
          <a:stretch/>
        </p:blipFill>
        <p:spPr>
          <a:xfrm>
            <a:off x="2916360" y="1773360"/>
            <a:ext cx="2592360" cy="1325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C:\Documents and Settings\ggallardo\Escritorio\IMAGENES\6.jpg"/>
          <p:cNvPicPr/>
          <p:nvPr/>
        </p:nvPicPr>
        <p:blipFill>
          <a:blip r:embed="rId2"/>
          <a:stretch/>
        </p:blipFill>
        <p:spPr>
          <a:xfrm>
            <a:off x="4788000" y="4581360"/>
            <a:ext cx="41050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Acceso a la Plataforma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Link de acceso directo, es: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gobCL"/>
              </a:rPr>
              <a:t>ttp://gestion.chilesolidario.gob.cl/FUD/views/layout/login.php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obCL"/>
              </a:rPr>
              <a:t>Luego, ingresar Usuario y Clave que se le entrego y terminar haciendo CLICK en el campo enviar. 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91" name="7 Imagen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3374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5" descr=""/>
          <p:cNvPicPr/>
          <p:nvPr/>
        </p:nvPicPr>
        <p:blipFill>
          <a:blip r:embed="rId1"/>
          <a:stretch/>
        </p:blipFill>
        <p:spPr>
          <a:xfrm>
            <a:off x="468360" y="2151000"/>
            <a:ext cx="8280360" cy="3654360"/>
          </a:xfrm>
          <a:prstGeom prst="rect">
            <a:avLst/>
          </a:prstGeom>
          <a:ln w="0">
            <a:noFill/>
          </a:ln>
        </p:spPr>
      </p:pic>
      <p:sp>
        <p:nvSpPr>
          <p:cNvPr id="1393" name="1 Título"/>
          <p:cNvSpPr/>
          <p:nvPr/>
        </p:nvSpPr>
        <p:spPr>
          <a:xfrm>
            <a:off x="152280" y="115920"/>
            <a:ext cx="8164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006cb7"/>
                </a:solidFill>
                <a:latin typeface="gobCL"/>
              </a:rPr>
              <a:t>Esta opción se utiliza para emitir Formulario Único de Derivación-FUD y la búsqueda de algún documento emi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Paso a Paso para la creación de un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5" name="3 Marcador de contenido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124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7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81000"/>
            <a:ext cx="8667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6cb7"/>
                </a:solidFill>
                <a:latin typeface="gobCL"/>
              </a:rPr>
              <a:t>Para terminar un FUD, se debe: Hacer CLICK en Emitir FUD y así grabar lo antes digitado de acuerdo a la información del Usuario o bien cancelar para desistir de la operación</a:t>
            </a:r>
            <a:endParaRPr b="0" lang="en-US" sz="18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0" name="5 Imagen" descr=""/>
          <p:cNvPicPr/>
          <p:nvPr/>
        </p:nvPicPr>
        <p:blipFill>
          <a:blip r:embed="rId1"/>
          <a:stretch/>
        </p:blipFill>
        <p:spPr>
          <a:xfrm>
            <a:off x="395280" y="1295280"/>
            <a:ext cx="84535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Filtros de búsqueda de un FUD emitid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151920" y="836640"/>
            <a:ext cx="81774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RUN: Debe digitar el RUN del beneficiario/a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Folio: Se debe ingresar el numero del Folio del FUD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Programa: Filtrando por Puente, Vinculo, Calle, Camino o IEF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3" name="4 Imagen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705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Copia del Formulario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405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11160"/>
            <a:ext cx="852336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7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xcepcionalmente quienes hayan perdido a consecuencia de alguna catástrofe como Incendio, Terremoto, Maremoto o Inundación, podrán optar por segunda vez al benefici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l Modulo de Identificación es el medio a través del cual se emite el formulario electrónico de Identificación (FEI). Permite a los diferentes actores involucrados  en la tramitación del Subsidio, generar en línea los procedimientos administrativos para que las personas pertenecientes a Chile Solidario y Seguridades y Oportunidades, puedan acceder al beneficio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8" name="Picture 4" descr="C:\Documents and Settings\ggallardo\Escritorio\IMAGENES\06.jpg"/>
          <p:cNvPicPr/>
          <p:nvPr/>
        </p:nvPicPr>
        <p:blipFill>
          <a:blip r:embed="rId1"/>
          <a:stretch/>
        </p:blipFill>
        <p:spPr>
          <a:xfrm>
            <a:off x="2916360" y="2421000"/>
            <a:ext cx="35272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Orden para la Asignación del Beneficio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151920" y="1477800"/>
            <a:ext cx="8177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Serán Beneficiarios (as), los (las) chilenos (as) y extranjeros (as) que sean miembros de  personas o familias adscritas al Sistema Intersectorial de Protección Social, es decir, que pertenezcan a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- Seguridades y Oportunidades o Chile Solidario, éste último ya sea en su fase de apoyo psicosocial o seguimient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51" name="Picture 2" descr="C:\Documents and Settings\ggallardo\Escritorio\IMAGENES\empresa-familiar-56.jpg"/>
          <p:cNvPicPr/>
          <p:nvPr/>
        </p:nvPicPr>
        <p:blipFill>
          <a:blip r:embed="rId1"/>
          <a:stretch/>
        </p:blipFill>
        <p:spPr>
          <a:xfrm>
            <a:off x="5435640" y="378936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Modulo Informático; Subsidio Identificación,  Roles de cada Nivel Operacional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151920" y="980640"/>
            <a:ext cx="81774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Nacional: Seguimiento a Nivel Nacional del Programa, distribuye y redistribuye los subsidios a nivel nacional y brinda la asesoría técnica y el apoyo a los demás niveles subnacionale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onal: Seguimiento y Monitoreo del Programa a nivel Territorial (Regional y Comunal)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Municipal u ONG: Emitir Formularios de Identificación a Nivel Local, es decir, la entrega del único documento válido para la obtención de la Cédula de Identidad,  subsidia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stro Civil: Es quien otorga la cédula cobrando al Ministerio de Desarrollo Social la parte subsidiada y realiza el cambio de estado (de Emitido a Entregado), en la plataforma computacional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6cb7"/>
                </a:solidFill>
                <a:latin typeface="Verdana"/>
              </a:rPr>
              <a:t>                                                        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5" name="4 Rectángulo"/>
          <p:cNvSpPr/>
          <p:nvPr/>
        </p:nvSpPr>
        <p:spPr>
          <a:xfrm>
            <a:off x="324000" y="277920"/>
            <a:ext cx="3411360" cy="5410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Como Acceder al Mód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5 Flecha derecha"/>
          <p:cNvSpPr/>
          <p:nvPr/>
        </p:nvSpPr>
        <p:spPr>
          <a:xfrm>
            <a:off x="4067280" y="404640"/>
            <a:ext cx="360360" cy="414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6 Rectángulo"/>
          <p:cNvSpPr/>
          <p:nvPr/>
        </p:nvSpPr>
        <p:spPr>
          <a:xfrm>
            <a:off x="4572000" y="277920"/>
            <a:ext cx="3529080" cy="6300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http://www.ministeriodesarrollosocial.gob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9 Llamada rectangular"/>
          <p:cNvSpPr/>
          <p:nvPr/>
        </p:nvSpPr>
        <p:spPr>
          <a:xfrm>
            <a:off x="826920" y="1295280"/>
            <a:ext cx="4105440" cy="405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Link, principal FEI http://siis.mideplan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17704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agina ingreso al Formulario Electrónico de Identificación (FEI)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1" name="Picture 2" descr=""/>
          <p:cNvPicPr/>
          <p:nvPr/>
        </p:nvPicPr>
        <p:blipFill>
          <a:blip r:embed="rId1"/>
          <a:stretch/>
        </p:blipFill>
        <p:spPr>
          <a:xfrm>
            <a:off x="793800" y="1197000"/>
            <a:ext cx="752328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i el Usuario no es válido o existe error al registrar acceso, el Sistema reportará error y deberá volver a  intentar (Ingresar)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3" name="Picture 2" descr=""/>
          <p:cNvPicPr/>
          <p:nvPr/>
        </p:nvPicPr>
        <p:blipFill>
          <a:blip r:embed="rId1"/>
          <a:stretch/>
        </p:blipFill>
        <p:spPr>
          <a:xfrm>
            <a:off x="774720" y="1949400"/>
            <a:ext cx="75423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resentación de Perfiles y sus Funciones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5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giovanna silva</cp:lastModifiedBy>
  <dcterms:modified xsi:type="dcterms:W3CDTF">2014-06-26T14:16:55Z</dcterms:modified>
  <cp:revision>152</cp:revision>
  <dc:subject/>
  <dc:title>Slide 1</dc:title>
</cp:coreProperties>
</file>