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B23546-05A6-48BA-9307-74943390C5F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2AD1B0-1517-4B64-AFB1-0235CE5D23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ACF482-E316-402A-95A3-6E10E9F7C6B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A70F8F-D05F-4CF5-AB54-335B3899BF3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662EE0-6471-4C59-BBC2-AFDB5E5962E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FB7585-64B8-4BC2-8F1D-480DBB4477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AD4989-26DD-49F2-A099-16E4E16BC4B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A25549-1947-47C0-BE1A-118333C507D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5E74C1-0FBD-4C91-BFF4-921296EE99F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6903C4-99D2-492B-9C66-3D7AA777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B98A9E-3A6C-49D4-8F11-384AB278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702E1D-0F88-4EBD-ADFF-0DAD71FA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EB28B1-DA8B-4984-83D5-78D00D92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2BCC76-7C89-4D59-A25B-EFA2E640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15945A-58B3-4C72-B676-4898BE82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3D6F5E-DC45-4953-9F57-81524B52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CD5FFA-C3C8-49F5-82D9-D4558463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6727EA-22AC-478B-96B9-D24B9230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BFA7C0-3CCA-4EF8-8F10-D5D3FE70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5A2A85-03E0-4CC4-8B14-2471F162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3B58F6-9E03-482E-8567-FC0036AA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F9628-E164-4EC7-9EC1-40EECAE2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87094-C368-42A8-A8A0-403DA2B1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9D352-1EB9-4FC8-81D1-E166566F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0F4E0-92CB-46DA-A8FD-4CF2CD3F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5D033-6218-44D7-9C80-E8B6FB6E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D7312-D502-471C-BAF0-479E1CA8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DDF25-4E98-4015-A89A-72C3B36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AE5C6-63E6-44BC-A9B4-0448AAA4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76F24-7E84-4518-B51B-54C43A7E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FD5F9-1BD9-4BC3-B90D-EF26CD35AF8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FC814-D329-4284-8A4E-62CEA8BB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FADDC-D673-4FDE-BE18-AA217D05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CF0A5-BFD7-44B5-833E-7CA907F7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9A1A6-54A9-4C94-B5DA-F30A0F8B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BAEE2-21CD-49FB-9240-118557B9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B1CEA-C724-4E1E-8CB8-AA7890CC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70700-38FE-478F-A276-621419D7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B5F9B-36A5-4FD3-B9AE-F98A918F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BFE56-4ADA-4918-8D11-360E30EE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70F03-C179-4E3D-8A3D-0C15748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1E51-89B0-4922-87A8-94ECA118E5C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F8855-4BAF-4F82-B124-CE82C34A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63BD6-EEB9-4304-BE79-3FE171B5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81F7F-F7F9-45A8-A761-7B0AD927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6C383-E893-43D0-AF7B-AEC58ECD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F67BC-A71E-4E09-9B8E-1E0A6F25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E4A56-61D0-4FBC-BABD-8C5A42451AE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2C55D-5BA1-4229-8DAD-41A217C5499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2D799-0299-4F0B-A89C-A00DC212F16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594B8-4A02-47C8-92A4-91A04995401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ACA48-D9BA-473D-9872-1357030DE6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AE16-00EE-4CDE-8985-AFBFA863228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D45AC-189C-4A09-BBCB-B07C175D335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3CC0D-495B-4E30-B9AC-EE9D54B3A0E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F572F-ABF5-4B21-BE2D-C1927EB9F59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958E4-2EBC-400E-AFB8-9A6F44B6B16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63C6C-BF35-4B99-AD33-DA1EAC3C3AF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5641A-851F-46F5-BAC5-02A527572EA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6E276-237C-47B9-A38D-E3BAED5AB0D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4FA2E3-9F3D-4595-A19D-4B533135FE7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0C09C2-A080-4886-9BD3-333D4C4B654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55ADCE-1806-425C-95E6-303C9D5F96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6728D-A783-4A93-A9E1-0676658236B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D152AB-D855-497A-833A-D64D670B5DA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B41BD5-E8FF-42CB-A7F1-AFA17661D3B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624EB1-BB2E-448D-8013-35678F728A6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5B05A7-1F44-4F40-8E01-E2363EDE490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DBDCB9-122D-44A2-ABEB-BB88ABD2F4B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2E464C-AC38-4A4F-B0FD-F2993BF16F0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BD5243-CA4C-4EC7-AED9-D2837077309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E79E58-D2B9-48F1-9B0E-25899E4084C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63CED4-292D-4BF7-AEA4-9CBF76083CA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8BC98-1BFD-43EB-94C5-DBAEBFA58C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DFED-EFC9-4E44-A08F-5A3F6765138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B2D84-375F-43FD-86E0-F6FDB861690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3B427-8998-45EF-8B34-9E63B8A9B35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E6ECF-DE17-4428-8899-4F67DAB8DC8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AE78B-303C-453D-9D72-7F24C0C181D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09D5A-7966-473A-A9CF-EC866E7F40C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ABF9E-F6EB-4916-A2CA-2F73BF5235E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D92DB-03AB-4A5B-946B-9264182AAF7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BFD12-FAA4-440C-A6A0-2A739A8D203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DBB3B-3DC2-4FAE-A4B4-4D986A837ED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6758D-943F-4A29-B292-CD5238A223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EC7F2-F303-4CD5-8917-540B545F112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6CF75-2EA3-4535-AF37-8E0A6F8E77E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35FC4-15FF-4D76-A03D-39FA053BF12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29721-D670-4DB4-A6BD-2C799177089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05ACF-0D66-4E3F-8CF5-AB763CFCACA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D0957-04ED-49A6-B99B-452BA27814D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5463B-166C-4467-AA42-B98AA8D5B8A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7C4B1-C3B2-4FBD-92C9-ABFA18E46A0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1A1E8-EB11-4B15-9372-F483D667A04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61EF8-0F4A-47D5-A94A-862756E0A69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2A34B-6E66-4578-B088-C892C39887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D77A-64BA-4B52-88D3-CB0AD12A7D0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1E45E-6DE7-4A4B-875F-A48AEBEE083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53BC6-BC3A-4F03-86A1-F08B8BD6078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721AD-2ABA-42E9-B0A0-8140F58BB6E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B6A901-445B-478F-8DE1-26B8D1C060B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869CCE-1EBB-403F-8227-08794CF1B3E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307138-EA6B-47E9-BA23-BF0D4A6B333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FEBE62-B14F-4102-9154-02FCBD2985B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BA5A57-714D-49A5-B1D7-1AB2F42B3A5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A493C2-CEEC-49FA-83D1-73E0D5795C3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16F149-8652-422A-BB87-60EC582D82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D545-A02C-4E29-ADD4-D4B3303C434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145A4A-AACC-4A62-9432-FB0517A5B39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9FDDB9-DF0B-47C0-8E4A-5FEA9896239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C1BB60-4BC7-4AE0-B885-D19973BDC03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1AF6A8-6BAD-409C-8604-4FE9BB8CD8A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857B0C-1543-4A55-BE54-18B89E2706F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C3FD3F-026F-43E6-96A6-F346BBD5B47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D7E4F9-F99D-4624-B3FF-2D896C24E86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D85CD5-3036-4337-9266-CAAE9908C83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42B987-FE50-4275-8DF1-9E8CFDAE586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94304C-50C1-490D-9560-74BD2B1679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4867-9538-4953-ADE5-AD467BAD634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3A3F9A-F9F6-4B40-83B8-992D5418BF9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A13586-CD46-485D-A8CD-FC8CE7C189E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836A54-FF36-4F90-BD34-6CADE6516D9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111647-41B1-49D8-977D-F35CB43345E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551A17-E713-4DDE-B377-484750C6620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65C844-0F7C-4466-B57F-3536EBAA75E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661379-930D-4F24-A8B1-BC733B22287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6728BC-E0D4-4AB6-8B91-5D735506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62BC202-E1FC-4BD7-ACB7-532A8937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6AEE2B-3F5C-43E7-8FD7-8CC6CA5E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ED7B-3E5E-40FD-8848-447EBC11F6C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34E7D7-3FAF-441B-B075-C7CBD75D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0D68D9-6C31-4EE1-843F-63834404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68FEBE-A404-41F8-9E47-D15CB088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6F4221-60A6-4C32-AA1D-50DBBD5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2291CC-523E-43C8-8E30-0FE0897F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89D51F-9C8D-4BAE-A0A6-49F2EC69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55D5F0-95BB-4C65-A9A8-F389D5C4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2E9394-159C-49C0-A3E2-09DA871F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4370D2-C336-443D-BEE9-6D67BBE0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D70A7A5-E44A-4759-891D-7E96B9F3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418D-C399-46B4-A07B-23D7820FCCE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960EBF-FD9B-4E1E-8E77-40379306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B475F3-9DDF-49DA-BE2A-33D8A3DA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A73ACB-66B1-4770-A831-2E09C2E7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B59EFD-8D86-4F9B-981E-FE235508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59A230-8ADD-4B96-A2DE-597C2962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C4CF2D-D93D-459E-B935-6AF02545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739D90F-6BF1-4A69-9AC4-91301F03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F21D29-9322-4467-8B4D-8B4E172C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CD95C1-7296-458E-8A79-FD03C3C1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2CEE55-7A1D-4032-91C4-2290D4F8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63C2-92C0-4AE2-AAD0-1CC15D5950B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2F87B7-6B8E-40E1-BD20-72B13728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EA4EAF1-5597-44DE-B158-CF49A5F0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18C9678-04FB-4964-A105-311F45CE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5C88226-0271-483A-AB91-8DF20C43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A730061-7422-41CF-AB05-051E9584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710E88-1348-4535-923F-37691D67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AB0C6E-C43A-4AA3-890E-04655FE6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0BBF6A-C948-4832-A426-DD468C5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3348B21-EEB7-4BD5-BC52-2708A19B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E5FA53-5BA0-4F66-9F43-828F043C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21FF956-A694-49E6-9F71-E1CA1468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E25FF6-F3AB-4E99-A4D2-1FB359CB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8D922E-A06E-41A9-A0B8-0D7E484C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65A3E2-13E1-4F2C-995A-63F0054D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2CB1DE-8DFB-4B0E-B55A-B478EDD1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B002C9-7FE0-4092-851D-2D78B18B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591200-FF7D-464F-BF68-0CB945E8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EA0FFB-E98F-459C-9BBF-410D55D2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B21561-CDA7-49B7-A80B-52D01C4D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9E57631-AABA-45FC-9053-EF7878BD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AD4B03-C0BD-4C26-A3AF-1B5195FA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BB3A586-1228-461D-865F-9DD79741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DE34BA-738F-40E0-9ADF-47D5D009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C202AD-DFD1-48BE-B590-D338D9C3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B7B62A-F1A8-40D7-A82C-036BFB0F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26B98A-40D2-4228-9264-49D0EAD5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0F5A4D9-7F5F-432D-82CF-B7C020B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356CC9C-1A97-44F5-9B74-177B7683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F0AB906-CA43-4773-AFBF-EB2BC9A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E78959-FB5F-4BE7-949C-FAD311E7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C1076D1-41FF-4B14-8A76-F15D6B95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EF75A77-9D00-4630-A556-2FCC701B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5C06BE6-FA72-49C7-AB70-C37C10C7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14B85D-6524-4E26-8D18-C8E2EA26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2FA96E1-D093-40EE-AE85-27C885A1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5D670A1-EB30-4AFA-8FB2-551471BA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FA6022-56C4-475E-BB06-8AADB38B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9E9E80-7FD3-4D23-A499-FE0C2EC2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EDDF6B-9293-4E2E-B340-567EB5A1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A5D8AF-8AC8-4D35-96C5-24D919C9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EDE559-D16A-4757-9F4B-4AFE4CB5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AD1D67-F458-444F-A752-AAC0F85A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3558C80-4070-4109-81DF-3E75556D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7A51932-A657-48AC-AF74-D740B250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364FFE6-FA28-4B6B-8659-A981F9A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B86444-2BB8-4ABC-A53B-7E9FEB0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693D2A4-5F9D-4290-88B7-B8E910F8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4689A5A-CA19-4904-921C-2261C31A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F0EDC4-056B-42A0-9F86-7845A9C4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2B4CD3-CDC5-4E1F-A650-7FADFEEB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C02D8C5-1FFC-4B2A-B59B-30468D6B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0C9F8A5-0529-4D7B-AB31-534EB8AF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810B4F4-A1C0-4416-B475-B1901D41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B574026-EEFA-4987-B11F-510F8837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5F35511-CFA6-4775-B0BE-0D2A4D14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07C1FAB-C4EA-4905-AC63-EB6B380E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1DC0CD6-4292-479C-8DFB-A639A6E0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F0D4C45-4445-4C72-B8C6-AB8CCAD6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B4DD089-C104-4509-BE58-104E2663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21A80AC-EF32-446A-AA1D-0EE9D121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7142E15-D083-4614-89EB-EDA60D24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57C2ECA-DE6E-4337-9C74-ED422D73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1E7E397-D0CF-40E2-A307-8F4B6590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E0D2CB0-7FEA-4017-9EE9-71D5C419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5A51F9A-6928-4B8D-A992-B5BF7D48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075D57A-0233-44A0-812C-27646458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554E34C-BADF-4912-99CD-07DA3A5B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CF4C91-D2DF-4DEF-A2D0-6157AD81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C0A5E36-C4DA-47D9-94A7-AF016EC3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E4055BF-C5C9-4C05-9946-7E1FF34B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D9B7A2-4B30-4520-A43F-BF1A913B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FD17C6F-8914-4616-B051-CFB1BC14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6948662-B5FF-4515-A675-6A55008F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1321A21-CDF0-40FD-AEA3-87DB8FE0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92EBF00-7D1C-4051-900A-DB8B139C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F8E2D8F-3878-4566-8477-41164BB7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7AA6F76-E7BB-423D-A3BC-B1AC9359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7F236CA-136F-421B-B7B5-532331F4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1385959-E17E-4BB6-8377-DB8736A2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3BAFC53-EC4F-4044-98FF-F9A7B67C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CD32ABE-0E0A-4477-87EF-16E7E3FC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1F6AFCC-C6B1-49A3-BF84-E5D8D176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859EA87-5260-483C-82AC-726D298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52D65B5-1BE5-49B5-81E5-0A6F4892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B4EF439-5189-44F3-B62C-B20A2A85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F22E68-7830-4E4A-B533-AF018323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FB0120B-3B3C-4EF6-9661-6A7981F8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57B8C34-DF30-4341-9A8A-CC9B5EF8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DA24D3E-D2CE-4353-9700-2A6FD768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066F8B6-85B6-483B-91E4-F8F515ED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53D5D06-63D6-40E6-8CDE-03102088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DB684B7-3685-402D-BAB1-9D6E2ABA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B996787-FBAE-48C2-8D5E-AEEF96CC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8E8BD9-6441-4ADF-B32A-CE137544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F4E7FC9-4342-4B6E-99DA-A8278055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6F98349-15CB-4361-859B-126ECCC6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D70E03B-635E-439F-A6FB-27E91535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89D5D0F-C6D2-40FC-BF39-97B85757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8E7C09C-00CD-476C-93D9-6440E17B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3120937-E5BD-4ED9-84C8-281706D0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3D86848-7CC6-4B62-8234-054A104C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860E44-4413-4034-AB47-CA0AEEFC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8CF902B-B8CE-403A-A233-0FFD03D1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4B85739-D3AD-4144-809A-EE3B155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BB28BA4-A88E-4028-B475-3569B106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D7A3F04-1E6A-417A-BDAF-5D2677C7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934B5A9-311A-4F96-8E20-16AE13E0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BBFD7A-5B08-40CC-8203-48C4E8F9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50BB1B7-20A7-4C9A-B0C5-14605D56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8D4C3-8E8B-4706-A866-83732825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0B424-217F-4FBA-94D5-B636462B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DDC42-6FE1-4DBC-B863-26071F6B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2092C-20C4-4B17-A3DD-FEF840A0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01767-EA61-45BF-BBA4-E21E9E23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57157-D12D-4ED3-9C3C-930E8A6F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9451E-5A21-46E6-8F97-C1F9E2A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801A9-FA06-4F2F-8380-D339FD1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872A5-12DE-437D-8764-6940BA16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CCA96-67C0-45BB-8B89-ECEBC5BF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3C419-31F6-416E-A6B2-4874C707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60E05-98E7-4142-9978-CC463CD1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924B1-8E6D-49C8-89C4-207D0B49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273E4-17F0-4590-B49A-75371866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F39FB-ECF7-4768-A6F7-990AC160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D5603-47D0-4E25-97A6-AD1F5AC8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588E2-EFA5-4571-B18B-6264060A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917A2-662A-4E85-B930-F53538D9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6534D-AC9C-4DBF-9E68-91790D7E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3789C-2837-41C9-9C27-86D4106A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8C55B-A0A9-4625-81AD-22BA6C15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6C75F-6769-4C54-816B-55FC7757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C50ED-4CE9-49F1-9C99-C2A52E6D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49E80-B863-4430-BBD8-3E958C3E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3CF35-CA86-4992-B7EB-09B9F942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DCD0AB-C8CC-4513-AEAF-67330D88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327F9-8752-4909-9FA5-B0CCC7D1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A62BE-AE5E-4317-ACE3-170D7275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1C6E2-A540-4399-8778-92582AB2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67817-2011-487E-B73A-56969B0C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3B368-2801-43DF-A320-FAA7BA62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FB6B5-F18C-4C23-B9EC-622C73B1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FB6F9-F2B2-4CAD-8C13-778BE5A9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32F74-B998-41F4-A592-4AD3DFA1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B6A1D-4EB9-4BDF-AD3F-9456ADBB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3D629-6179-45E8-8376-BCFE82C0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5DB11-AB4D-4BAA-AA7A-F33CC39C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2BF13-9270-41A4-86FF-1F266A94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0BFE0-4D53-4F8E-A953-06CB6013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E0D16-9E8D-4A85-A0BB-2B3CB366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9BAAD-C569-4732-9B9A-92C45998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325AF-B739-4982-9492-393C547E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BAE39-3AEF-4415-817F-C578C34B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5FB23-0686-4271-86F3-19E2291A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30952-EEC1-4BA9-A2A9-8B65A652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90411-6852-46E0-A9A1-EA5DDF0B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D5ED4-B2C3-42B8-92DB-E15D4B98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D399C-FA01-4E2A-B984-13030C17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1B9D4-854F-41AB-91B7-2E14C8E2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6AABC-AF08-43A6-B05A-8DA6B1F6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3EA08-A4DE-494C-808A-D237BEDB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B6D01-0AA9-456F-97A7-D6AD182F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F34FA-9118-4850-ABCD-DBF7B844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C80F1-D7A5-4C06-ABC8-611B432C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9A5A2-01BB-4659-B18B-ABD47250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A2987-5861-457D-87C7-4BDAB1C1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9A26C-1215-473A-B7D3-F8A53122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EE319-4509-4ACE-8C10-0FC7BD95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B839E-5174-4E81-BAC1-62D1E5DF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BC181-D6A0-4BA3-8423-F1780F6E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FE3FFB-1424-4EEE-83CF-1CBE22C9A42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292F71-4FA7-416E-921A-FCF1C52168C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BD3746-B6D3-4B73-9C4D-A444EF032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A9442-4F9C-46DD-8654-47B70B34FAA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7F0A2-09E6-4246-8003-96A88353AA5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D785D-4833-4DC4-9EA3-CBAE3D219C6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743E3-D2E4-43D3-B55F-6E3B5331A75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623F2-D17C-4096-969C-A2207EE5855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CF2A5-B873-4F54-9105-BAC7CFC3A97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ftr" idx="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sldNum" idx="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B3353-9588-4CF0-85EA-88870395B70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3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3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096EC-67E1-4633-A428-DD4E71E28C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3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3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D2BE6-FF32-412D-800C-770E671906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3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3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670FF-4033-4A2B-91C0-D703C28154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3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3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66815-19B4-4F7F-AEE2-97191E49D1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ftr" idx="3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sldNum" idx="4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60FC3-8715-44E7-B4CC-16A4A7A510F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0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2A565-054A-4472-9528-D8E132E2445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41E8D-503E-42D8-AC27-3D6F88DDD14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E6A2F-976E-4982-860D-A3EF11A87D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5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B73E8-E621-4AD1-A0AA-3AD39C393B2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CEE3F-E37E-44A8-A9D9-B3031BF367F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02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4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65926-CA30-4B0E-BF1E-F318DDCF946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A295B-7D4B-4E4F-AE0E-E8A4A9269F5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0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51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3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A3833-D776-4580-8E13-F4E135732A5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4B9E1-413B-4C2B-AF32-9D5E39A4E09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00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2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DB634-7B16-4E57-9D8B-6271C75DD69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EAD97-1169-4266-87DD-F43A70AEA57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4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D5686-8534-4F66-8CC3-56DF371B097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3EE28-DF22-4A21-84BB-EFBE9EEF13B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98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0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3C676-7208-4ED7-A3BE-EE230AB1A0B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133C0-70BB-49E5-8D5B-67CEB81D8F9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6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47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9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9F86E-CB1B-4D84-9C61-E7F740DBC3C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5E009-0423-43CE-B7DA-387583B2843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96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8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B99FB-BAB8-4C5B-AEF7-20C5014A704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B5A51-C48C-489E-BD3C-2DBBBBD6CB9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4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45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7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0BF23-DEDB-4B3E-84CF-C5950895D17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59487-9903-485C-97B4-E4A9C5EBB85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3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94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96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60B0D-0696-4042-8C0E-22C6847F395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7B25F-0B46-4230-BBC0-E062DC9C71C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E7F63-6928-45E9-A3D2-E7E899078E2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308C2-77D9-496F-8793-72B7FCB580F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D1DB0-E201-4B5D-A2C9-6EDF2540A8C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4252F-EB66-4617-811B-007A23093ED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59DE1-A5DE-4D79-A416-EDB917C9C71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5E628-CD87-4559-9DF7-89DC50AD348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30761-B58F-436A-8670-15076449B7D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C5E43-A55D-4148-A19A-B4F36C2B615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F6097-18A4-4D97-92F7-0AF842AE801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26B05-B734-4F21-A58D-8D72E802495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A7835-7DE0-4C15-8AAF-6CF7B1982E3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3 Rectángulo"/>
          <p:cNvSpPr/>
          <p:nvPr/>
        </p:nvSpPr>
        <p:spPr>
          <a:xfrm>
            <a:off x="3851280" y="5518080"/>
            <a:ext cx="51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Verdana"/>
              </a:rPr>
              <a:t>Unidad de Prestaciones Monet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0920" y="1773360"/>
            <a:ext cx="87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gobCL"/>
              </a:rPr>
              <a:t>SUBSIDIO A LA IDENTIFICACIÓ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 u="sng">
                <a:solidFill>
                  <a:srgbClr val="006cb7"/>
                </a:solidFill>
                <a:uFillTx/>
                <a:latin typeface="gobCL"/>
              </a:rPr>
              <a:t>Perfil Regional</a:t>
            </a: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:  Tiene el privilegio de consultar y ver cobertura, según su región.  Cada Encargado/a Regional puede visualizar solo su Región.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7" name="Picture 2" descr=""/>
          <p:cNvPicPr/>
          <p:nvPr/>
        </p:nvPicPr>
        <p:blipFill>
          <a:blip r:embed="rId1"/>
          <a:stretch/>
        </p:blipFill>
        <p:spPr>
          <a:xfrm>
            <a:off x="395280" y="1477800"/>
            <a:ext cx="8177400" cy="4526280"/>
          </a:xfrm>
          <a:prstGeom prst="rect">
            <a:avLst/>
          </a:prstGeom>
          <a:ln w="0">
            <a:noFill/>
          </a:ln>
        </p:spPr>
      </p:pic>
      <p:sp>
        <p:nvSpPr>
          <p:cNvPr id="1368" name="8 Flecha izquierda"/>
          <p:cNvSpPr/>
          <p:nvPr/>
        </p:nvSpPr>
        <p:spPr>
          <a:xfrm>
            <a:off x="2484360" y="3068640"/>
            <a:ext cx="2158920" cy="1297080"/>
          </a:xfrm>
          <a:prstGeom prst="lef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gobCL"/>
              </a:rPr>
              <a:t>Confirma si RUN se encuentra en algunos de los Subsistem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745632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164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Campo que es visualizado, tanto, por los profesionales de los programas Puente, Seguimiento, Vinculo, Personas en Situación-Calle, Camino y últimamente Seguridades y Oportunidades</a:t>
            </a:r>
            <a:br>
              <a:rPr sz="1400"/>
            </a:b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Rectangle 4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3" name="Picture 2" descr=""/>
          <p:cNvPicPr/>
          <p:nvPr/>
        </p:nvPicPr>
        <p:blipFill>
          <a:blip r:embed="rId1"/>
          <a:stretch/>
        </p:blipFill>
        <p:spPr>
          <a:xfrm>
            <a:off x="165240" y="1477800"/>
            <a:ext cx="8667720" cy="4526280"/>
          </a:xfrm>
          <a:prstGeom prst="rect">
            <a:avLst/>
          </a:prstGeom>
          <a:ln w="0">
            <a:noFill/>
          </a:ln>
        </p:spPr>
      </p:pic>
      <p:sp>
        <p:nvSpPr>
          <p:cNvPr id="1374" name="8 Flecha izquierda"/>
          <p:cNvSpPr/>
          <p:nvPr/>
        </p:nvSpPr>
        <p:spPr>
          <a:xfrm>
            <a:off x="2340000" y="2924280"/>
            <a:ext cx="2663640" cy="187308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gobCL"/>
              </a:rPr>
              <a:t>Consultar RUN para verificar si registra en plataforma de lo contrario no podrá emitir formulario F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Ingresado el RUN sistema presenta siguiente información:  Datos del Solicitante, tanto su RUN nombres, apellidos, programa, nacionalidad y campo emitir.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76" name="Picture 1" descr=""/>
          <p:cNvPicPr/>
          <p:nvPr/>
        </p:nvPicPr>
        <p:blipFill>
          <a:blip r:embed="rId1"/>
          <a:stretch/>
        </p:blipFill>
        <p:spPr>
          <a:xfrm>
            <a:off x="592200" y="1477800"/>
            <a:ext cx="729756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Picture 1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53320" cy="3871800"/>
          </a:xfrm>
          <a:prstGeom prst="rect">
            <a:avLst/>
          </a:prstGeom>
          <a:ln w="0">
            <a:noFill/>
          </a:ln>
        </p:spPr>
      </p:pic>
      <p:sp>
        <p:nvSpPr>
          <p:cNvPr id="1378" name="Rectangle 2"/>
          <p:cNvSpPr/>
          <p:nvPr/>
        </p:nvSpPr>
        <p:spPr>
          <a:xfrm>
            <a:off x="250920" y="41040"/>
            <a:ext cx="80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70c0"/>
                </a:solidFill>
                <a:latin typeface="gobCL"/>
                <a:ea typeface="Calibri"/>
              </a:rPr>
              <a:t>Se detalla la cobertura con la que cuenta la comuna y programa. Como ejemplo se detalla la comuna de Santiago. Una vez emitido un FEI estos cupos disminuyen con el fin de controlar cobertura asignada para el periodo (año calendari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Luego de comprobar que el RUN, se encuentra cargado, es posible emitir el formulario (único documento válido para la obtención de la Cédula de Identidad, subsidiada)</a:t>
            </a: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: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80" name="Picture 2" descr=""/>
          <p:cNvPicPr/>
          <p:nvPr/>
        </p:nvPicPr>
        <p:blipFill>
          <a:blip r:embed="rId1"/>
          <a:stretch/>
        </p:blipFill>
        <p:spPr>
          <a:xfrm>
            <a:off x="2619360" y="1477800"/>
            <a:ext cx="368136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7993080" cy="20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ervicio de Registro Civil e Identificación: Este actor tiene como tarea, realizar el cambio de estado del subsidio, es decir, de emitido a entregado, como también debe registrar la nacionalidad y así mantener actualizado la entrega de la cédula a los solicitantes del subsistema Seguridad y Oportunidades.</a:t>
            </a:r>
            <a:br>
              <a:rPr sz="2000"/>
            </a:br>
            <a:br>
              <a:rPr sz="2000"/>
            </a:b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1"/>
          <a:stretch/>
        </p:blipFill>
        <p:spPr>
          <a:xfrm>
            <a:off x="760320" y="2060640"/>
            <a:ext cx="76280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4" name="2 Imagen" descr="Macintosh HD:Users:valeriasoto:gráfica:mds:Logos Ministerio 2.0:logo MDS.png"/>
          <p:cNvPicPr/>
          <p:nvPr/>
        </p:nvPicPr>
        <p:blipFill>
          <a:blip r:embed="rId1"/>
          <a:stretch/>
        </p:blipFill>
        <p:spPr>
          <a:xfrm>
            <a:off x="7093080" y="2060640"/>
            <a:ext cx="20509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3 Rectángulo"/>
          <p:cNvSpPr/>
          <p:nvPr/>
        </p:nvSpPr>
        <p:spPr>
          <a:xfrm>
            <a:off x="3851280" y="5518080"/>
            <a:ext cx="51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Verdana"/>
              </a:rPr>
              <a:t>Unidad de Prestaciones Monet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obCL"/>
              </a:rPr>
              <a:t>FORMULARIO ÚNICO DE DERIVACIÓ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FORMULARIO UNICO DE DERIVACIÓN -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151920" y="1052640"/>
            <a:ext cx="8177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gobCL"/>
              </a:rPr>
              <a:t>El Formulario Unico de Derivación tal como lo menciona su nombre es una herramienta creada para derivar a los usuarios de los Subsistemas de Protección Social; Seguridades &amp; Oportunidades y Chile Solidario, para facilitar su vinculación con las redes locales lo que ha permitido el acceso preferente a las familias de los subsistemas, IEF, Puente, Persona en Situación de Calle, Adulto Mayor Vinculo y Abriendo Camino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595959"/>
                </a:solidFill>
                <a:latin typeface="gobCL"/>
              </a:rPr>
              <a:t>Para utilizar esta herramienta de gestión se deben seguir los pasos que a continuación se describen: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816444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ubsidio Identificación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151920" y="1052640"/>
            <a:ext cx="8177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Es un subsidio monetario directo a los Beneficiarios del Subsistema Chile Solidario y del Subsistema Seguridades y Oportunidades.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Consiste en que el Estado a través de las Municipalidades, ONG´S y las Oficinas del Servicio de Registro Civil e Identificación (SRCeI), contribuyen a que los miembros de las familias de ambos subsistemas obtengan, por una sola vez, la Cédula de Identidad, cancelando $500.- por Cédula. Sea que se trate de Chilenos(as) o Extranjeros (as)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44" name="Picture 3" descr="C:\Documents and Settings\ggallardo\Escritorio\IMAGENES\índice.jpg"/>
          <p:cNvPicPr/>
          <p:nvPr/>
        </p:nvPicPr>
        <p:blipFill>
          <a:blip r:embed="rId1"/>
          <a:stretch/>
        </p:blipFill>
        <p:spPr>
          <a:xfrm>
            <a:off x="2916360" y="1773360"/>
            <a:ext cx="2592360" cy="132552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0" descr="C:\Documents and Settings\ggallardo\Escritorio\IMAGENES\6.jpg"/>
          <p:cNvPicPr/>
          <p:nvPr/>
        </p:nvPicPr>
        <p:blipFill>
          <a:blip r:embed="rId2"/>
          <a:stretch/>
        </p:blipFill>
        <p:spPr>
          <a:xfrm>
            <a:off x="4788000" y="4581360"/>
            <a:ext cx="410508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Acceso a la Plataforma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151920" y="1196640"/>
            <a:ext cx="8380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Link de acceso directo, es: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558ed5"/>
                </a:solidFill>
                <a:latin typeface="gobCL"/>
              </a:rPr>
              <a:t>ttp://gestion.chilesolidario.gob.cl/FUD/views/layout/login.php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obCL"/>
              </a:rPr>
              <a:t>Luego, ingresar Usuario y Clave que se le entrego y terminar haciendo CLICK en el campo enviar. 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91" name="7 Imagen" descr=""/>
          <p:cNvPicPr/>
          <p:nvPr/>
        </p:nvPicPr>
        <p:blipFill>
          <a:blip r:embed="rId1"/>
          <a:stretch/>
        </p:blipFill>
        <p:spPr>
          <a:xfrm>
            <a:off x="1403280" y="2852640"/>
            <a:ext cx="63374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Picture 5" descr=""/>
          <p:cNvPicPr/>
          <p:nvPr/>
        </p:nvPicPr>
        <p:blipFill>
          <a:blip r:embed="rId1"/>
          <a:stretch/>
        </p:blipFill>
        <p:spPr>
          <a:xfrm>
            <a:off x="468360" y="2151000"/>
            <a:ext cx="8280360" cy="3654360"/>
          </a:xfrm>
          <a:prstGeom prst="rect">
            <a:avLst/>
          </a:prstGeom>
          <a:ln w="0">
            <a:noFill/>
          </a:ln>
        </p:spPr>
      </p:pic>
      <p:sp>
        <p:nvSpPr>
          <p:cNvPr id="1393" name="1 Título"/>
          <p:cNvSpPr/>
          <p:nvPr/>
        </p:nvSpPr>
        <p:spPr>
          <a:xfrm>
            <a:off x="152280" y="115920"/>
            <a:ext cx="8164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006cb7"/>
                </a:solidFill>
                <a:latin typeface="gobCL"/>
              </a:rPr>
              <a:t>Esta opción se utiliza para emitir Formulario Único de Derivación-FUD y la búsqueda de algún documento emi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6cb7"/>
                </a:solidFill>
                <a:latin typeface="gobCL"/>
              </a:rPr>
              <a:t>Paso a Paso para la creación de un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95" name="3 Marcador de contenido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1244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s-CL" sz="2400" spc="-1" strike="noStrike">
                <a:solidFill>
                  <a:srgbClr val="006cb7"/>
                </a:solidFill>
                <a:latin typeface="Verdana"/>
              </a:rPr>
              <a:t> 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6cb7"/>
                </a:solidFill>
                <a:latin typeface="Verdana"/>
              </a:rPr>
              <a:t>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97" name="7 Marcador de contenido" descr=""/>
          <p:cNvPicPr/>
          <p:nvPr/>
        </p:nvPicPr>
        <p:blipFill>
          <a:blip r:embed="rId1"/>
          <a:stretch/>
        </p:blipFill>
        <p:spPr>
          <a:xfrm>
            <a:off x="152280" y="981000"/>
            <a:ext cx="8667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006cb7"/>
                </a:solidFill>
                <a:latin typeface="gobCL"/>
              </a:rPr>
              <a:t>Para terminar un FUD, se debe: Hacer CLICK en Emitir FUD y así grabar lo antes digitado de acuerdo a la información del Usuario o bien cancelar para desistir de la operación</a:t>
            </a:r>
            <a:endParaRPr b="0" lang="en-US" sz="18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400" name="5 Imagen" descr=""/>
          <p:cNvPicPr/>
          <p:nvPr/>
        </p:nvPicPr>
        <p:blipFill>
          <a:blip r:embed="rId1"/>
          <a:stretch/>
        </p:blipFill>
        <p:spPr>
          <a:xfrm>
            <a:off x="395280" y="1295280"/>
            <a:ext cx="84535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6cb7"/>
                </a:solidFill>
                <a:latin typeface="gobCL"/>
              </a:rPr>
              <a:t>Filtros de búsqueda de un FUD emitido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151920" y="836640"/>
            <a:ext cx="81774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595959"/>
                </a:solidFill>
                <a:latin typeface="gobCL"/>
              </a:rPr>
              <a:t>Por RUN: Debe digitar el RUN del beneficiario/a y presionar el campo búsqued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595959"/>
                </a:solidFill>
                <a:latin typeface="gobCL"/>
              </a:rPr>
              <a:t>Por Folio: Se debe ingresar el numero del Folio del FUD y presionar el campo búsqued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595959"/>
                </a:solidFill>
                <a:latin typeface="gobCL"/>
              </a:rPr>
              <a:t>Por Programa: Filtrando por Puente, Vinculo, Calle, Camino o IEF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403" name="4 Imagen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77058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6cb7"/>
                </a:solidFill>
                <a:latin typeface="gobCL"/>
              </a:rPr>
              <a:t>Copia del Formulario FUD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405" name="7 Marcador de contenido" descr=""/>
          <p:cNvPicPr/>
          <p:nvPr/>
        </p:nvPicPr>
        <p:blipFill>
          <a:blip r:embed="rId1"/>
          <a:stretch/>
        </p:blipFill>
        <p:spPr>
          <a:xfrm>
            <a:off x="152280" y="911160"/>
            <a:ext cx="852336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7" name="2 Imagen" descr="Macintosh HD:Users:valeriasoto:gráfica:mds:Logos Ministerio 2.0:logo MDS.png"/>
          <p:cNvPicPr/>
          <p:nvPr/>
        </p:nvPicPr>
        <p:blipFill>
          <a:blip r:embed="rId1"/>
          <a:stretch/>
        </p:blipFill>
        <p:spPr>
          <a:xfrm>
            <a:off x="7093080" y="2060640"/>
            <a:ext cx="20509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ubsidio Identificación</a:t>
            </a:r>
            <a:br>
              <a:rPr sz="2000"/>
            </a:b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151920" y="1196640"/>
            <a:ext cx="8380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Excepcionalmente quienes hayan perdido a consecuencia de alguna catástrofe como Incendio, Terremoto, Maremoto o Inundación, podrán optar por segunda vez al beneficio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El Modulo de Identificación es el medio a través del cual se emite el formulario electrónico de Identificación (FEI). Permite a los diferentes actores involucrados  en la tramitación del Subsidio, generar en línea los procedimientos administrativos para que las personas pertenecientes a Chile Solidario y Seguridades y Oportunidades, puedan acceder al beneficio.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48" name="Picture 4" descr="C:\Documents and Settings\ggallardo\Escritorio\IMAGENES\06.jpg"/>
          <p:cNvPicPr/>
          <p:nvPr/>
        </p:nvPicPr>
        <p:blipFill>
          <a:blip r:embed="rId1"/>
          <a:stretch/>
        </p:blipFill>
        <p:spPr>
          <a:xfrm>
            <a:off x="2916360" y="2421000"/>
            <a:ext cx="352728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Orden para la Asignación del Beneficio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151920" y="1477800"/>
            <a:ext cx="8177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Serán Beneficiarios (as), los (las) chilenos (as) y extranjeros (as) que sean miembros de  personas o familias adscritas al Sistema Intersectorial de Protección Social, es decir, que pertenezcan a: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- Seguridades y Oportunidades o Chile Solidario, éste último ya sea en su fase de apoyo psicosocial o seguimiento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351" name="Picture 2" descr="C:\Documents and Settings\ggallardo\Escritorio\IMAGENES\empresa-familiar-56.jpg"/>
          <p:cNvPicPr/>
          <p:nvPr/>
        </p:nvPicPr>
        <p:blipFill>
          <a:blip r:embed="rId1"/>
          <a:stretch/>
        </p:blipFill>
        <p:spPr>
          <a:xfrm>
            <a:off x="5435640" y="3789360"/>
            <a:ext cx="2736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Modulo Informático; Subsidio Identificación,  Roles de cada Nivel Operacional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151920" y="980640"/>
            <a:ext cx="81774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Nacional: Seguimiento a Nivel Nacional del Programa, distribuye y redistribuye los subsidios a nivel nacional y brinda la asesoría técnica y el apoyo a los demás niveles subnacionales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Regional: Seguimiento y Monitoreo del Programa a nivel Territorial (Regional y Comunal)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Municipal u ONG: Emitir Formularios de Identificación a Nivel Local, es decir, la entrega del único documento válido para la obtención de la Cédula de Identidad,  subsidiada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obCL"/>
              </a:rPr>
              <a:t>Registro Civil: Es quien otorga la cédula cobrando al Ministerio de Desarrollo Social la parte subsidiada y realiza el cambio de estado (de Emitido a Entregado), en la plataforma computacional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6cb7"/>
                </a:solidFill>
                <a:latin typeface="Verdana"/>
              </a:rPr>
              <a:t>                                                        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5" name="4 Rectángulo"/>
          <p:cNvSpPr/>
          <p:nvPr/>
        </p:nvSpPr>
        <p:spPr>
          <a:xfrm>
            <a:off x="324000" y="277920"/>
            <a:ext cx="3411360" cy="54108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obCL"/>
              </a:rPr>
              <a:t>Como Acceder al Mód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5 Flecha derecha"/>
          <p:cNvSpPr/>
          <p:nvPr/>
        </p:nvSpPr>
        <p:spPr>
          <a:xfrm>
            <a:off x="4067280" y="404640"/>
            <a:ext cx="360360" cy="414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6 Rectángulo"/>
          <p:cNvSpPr/>
          <p:nvPr/>
        </p:nvSpPr>
        <p:spPr>
          <a:xfrm>
            <a:off x="4572000" y="277920"/>
            <a:ext cx="3529080" cy="63000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obCL"/>
              </a:rPr>
              <a:t>http://www.ministeriodesarrollosocial.gob.cl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9 Llamada rectangular"/>
          <p:cNvSpPr/>
          <p:nvPr/>
        </p:nvSpPr>
        <p:spPr>
          <a:xfrm>
            <a:off x="826920" y="1295280"/>
            <a:ext cx="4105440" cy="405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obCL"/>
              </a:rPr>
              <a:t>Link, principal FEI http://siis.mideplan.cl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9" name="Picture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17704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Pagina ingreso al Formulario Electrónico de Identificación (FEI)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1" name="Picture 2" descr=""/>
          <p:cNvPicPr/>
          <p:nvPr/>
        </p:nvPicPr>
        <p:blipFill>
          <a:blip r:embed="rId1"/>
          <a:stretch/>
        </p:blipFill>
        <p:spPr>
          <a:xfrm>
            <a:off x="793800" y="1197000"/>
            <a:ext cx="752328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Si el Usuario no es válido o existe error al registrar acceso, el Sistema reportará error y deberá volver a  intentar (Ingresar).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3" name="Picture 2" descr=""/>
          <p:cNvPicPr/>
          <p:nvPr/>
        </p:nvPicPr>
        <p:blipFill>
          <a:blip r:embed="rId1"/>
          <a:stretch/>
        </p:blipFill>
        <p:spPr>
          <a:xfrm>
            <a:off x="774720" y="1949400"/>
            <a:ext cx="754236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648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6cb7"/>
                </a:solidFill>
                <a:latin typeface="gobCL"/>
              </a:rPr>
              <a:t>Presentación de Perfiles y sus Funciones</a:t>
            </a:r>
            <a:endParaRPr b="0" lang="en-US" sz="2000" spc="-1" strike="noStrike">
              <a:solidFill>
                <a:srgbClr val="006cb7"/>
              </a:solidFill>
              <a:latin typeface="Verdana"/>
            </a:endParaRPr>
          </a:p>
        </p:txBody>
      </p:sp>
      <p:pic>
        <p:nvPicPr>
          <p:cNvPr id="1365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giovanna silva</cp:lastModifiedBy>
  <dcterms:modified xsi:type="dcterms:W3CDTF">2014-06-26T14:16:55Z</dcterms:modified>
  <cp:revision>152</cp:revision>
  <dc:subject/>
  <dc:title>Slide 1</dc:title>
</cp:coreProperties>
</file>