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26.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4.png" ContentType="image/png"/>
  <Override PartName="/ppt/media/image1.png" ContentType="image/png"/>
  <Override PartName="/ppt/media/image29.wmf" ContentType="image/x-wmf"/>
  <Override PartName="/ppt/media/image31.png" ContentType="image/png"/>
  <Override PartName="/ppt/media/image25.jpeg" ContentType="image/jpeg"/>
  <Override PartName="/ppt/media/image2.png" ContentType="image/png"/>
  <Override PartName="/ppt/media/image32.png" ContentType="image/png"/>
  <Override PartName="/ppt/media/image3.png" ContentType="image/png"/>
  <Override PartName="/ppt/media/image33.png" ContentType="image/png"/>
  <Override PartName="/ppt/media/image46.png" ContentType="image/png"/>
  <Override PartName="/ppt/media/image11.png" ContentType="image/png"/>
  <Override PartName="/ppt/media/image48.png" ContentType="image/png"/>
  <Override PartName="/ppt/media/image50.png" ContentType="image/png"/>
  <Override PartName="/ppt/media/image36.png" ContentType="image/png"/>
  <Override PartName="/ppt/media/image8.gif" ContentType="image/gif"/>
  <Override PartName="/ppt/media/image38.png" ContentType="image/png"/>
  <Override PartName="/ppt/media/image40.png" ContentType="image/png"/>
  <Override PartName="/ppt/media/image41.png" ContentType="image/png"/>
  <Override PartName="/ppt/media/image42.png" ContentType="image/png"/>
  <Override PartName="/ppt/media/image43.png" ContentType="image/png"/>
  <Override PartName="/ppt/media/image34.png" ContentType="image/png"/>
  <Override PartName="/ppt/media/image39.png" ContentType="image/png"/>
  <Override PartName="/ppt/media/image9.png" ContentType="image/png"/>
  <Override PartName="/ppt/media/image6.gif" ContentType="image/gif"/>
  <Override PartName="/ppt/media/image44.jpeg" ContentType="image/jpeg"/>
  <Override PartName="/ppt/media/image45.png" ContentType="image/png"/>
  <Override PartName="/ppt/media/image13.wmf" ContentType="image/x-wmf"/>
  <Override PartName="/ppt/media/image28.wmf" ContentType="image/x-wmf"/>
  <Override PartName="/ppt/media/image30.png" ContentType="image/png"/>
  <Override PartName="/ppt/media/image5.png" ContentType="image/png"/>
  <Override PartName="/ppt/media/image35.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15.wmf" ContentType="image/x-wmf"/>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 id="285" r:id="rId61"/>
    <p:sldId id="286" r:id="rId62"/>
    <p:sldId id="287" r:id="rId63"/>
    <p:sldId id="288" r:id="rId64"/>
    <p:sldId id="289" r:id="rId65"/>
    <p:sldId id="290" r:id="rId66"/>
    <p:sldId id="291" r:id="rId67"/>
    <p:sldId id="292" r:id="rId68"/>
    <p:sldId id="293" r:id="rId69"/>
    <p:sldId id="294" r:id="rId70"/>
    <p:sldId id="295" r:id="rId71"/>
    <p:sldId id="296" r:id="rId72"/>
    <p:sldId id="297" r:id="rId73"/>
    <p:sldId id="298" r:id="rId74"/>
    <p:sldId id="299" r:id="rId75"/>
    <p:sldId id="300" r:id="rId76"/>
    <p:sldId id="301" r:id="rId77"/>
    <p:sldId id="302" r:id="rId78"/>
    <p:sldId id="303" r:id="rId79"/>
    <p:sldId id="304" r:id="rId80"/>
    <p:sldId id="305" r:id="rId81"/>
    <p:sldId id="306" r:id="rId82"/>
    <p:sldId id="307" r:id="rId83"/>
    <p:sldId id="308" r:id="rId8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slide" Target="slides/slide30.xml"/><Relationship Id="rId62" Type="http://schemas.openxmlformats.org/officeDocument/2006/relationships/slide" Target="slides/slide31.xml"/><Relationship Id="rId63" Type="http://schemas.openxmlformats.org/officeDocument/2006/relationships/slide" Target="slides/slide32.xml"/><Relationship Id="rId64" Type="http://schemas.openxmlformats.org/officeDocument/2006/relationships/slide" Target="slides/slide33.xml"/><Relationship Id="rId65" Type="http://schemas.openxmlformats.org/officeDocument/2006/relationships/slide" Target="slides/slide34.xml"/><Relationship Id="rId66" Type="http://schemas.openxmlformats.org/officeDocument/2006/relationships/slide" Target="slides/slide35.xml"/><Relationship Id="rId67" Type="http://schemas.openxmlformats.org/officeDocument/2006/relationships/slide" Target="slides/slide36.xml"/><Relationship Id="rId68" Type="http://schemas.openxmlformats.org/officeDocument/2006/relationships/slide" Target="slides/slide37.xml"/><Relationship Id="rId69" Type="http://schemas.openxmlformats.org/officeDocument/2006/relationships/slide" Target="slides/slide38.xml"/><Relationship Id="rId70" Type="http://schemas.openxmlformats.org/officeDocument/2006/relationships/slide" Target="slides/slide39.xml"/><Relationship Id="rId71" Type="http://schemas.openxmlformats.org/officeDocument/2006/relationships/slide" Target="slides/slide40.xml"/><Relationship Id="rId72" Type="http://schemas.openxmlformats.org/officeDocument/2006/relationships/slide" Target="slides/slide41.xml"/><Relationship Id="rId73" Type="http://schemas.openxmlformats.org/officeDocument/2006/relationships/slide" Target="slides/slide42.xml"/><Relationship Id="rId74" Type="http://schemas.openxmlformats.org/officeDocument/2006/relationships/slide" Target="slides/slide43.xml"/><Relationship Id="rId75" Type="http://schemas.openxmlformats.org/officeDocument/2006/relationships/slide" Target="slides/slide44.xml"/><Relationship Id="rId76" Type="http://schemas.openxmlformats.org/officeDocument/2006/relationships/slide" Target="slides/slide45.xml"/><Relationship Id="rId77" Type="http://schemas.openxmlformats.org/officeDocument/2006/relationships/slide" Target="slides/slide46.xml"/><Relationship Id="rId78" Type="http://schemas.openxmlformats.org/officeDocument/2006/relationships/slide" Target="slides/slide47.xml"/><Relationship Id="rId79" Type="http://schemas.openxmlformats.org/officeDocument/2006/relationships/slide" Target="slides/slide48.xml"/><Relationship Id="rId80" Type="http://schemas.openxmlformats.org/officeDocument/2006/relationships/slide" Target="slides/slide49.xml"/><Relationship Id="rId81" Type="http://schemas.openxmlformats.org/officeDocument/2006/relationships/slide" Target="slides/slide50.xml"/><Relationship Id="rId82" Type="http://schemas.openxmlformats.org/officeDocument/2006/relationships/slide" Target="slides/slide51.xml"/><Relationship Id="rId83" Type="http://schemas.openxmlformats.org/officeDocument/2006/relationships/slide" Target="slides/slide52.xml"/><Relationship Id="rId84" Type="http://schemas.openxmlformats.org/officeDocument/2006/relationships/slide" Target="slides/slide53.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A4C6AEF-9111-4682-B2AB-983FDE1BC25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823A292-E188-4E95-9B00-713559649A2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F0964B6-D64E-4268-9128-40CE048F2E8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683C3C5-ABB7-43AE-B37D-43BFD58A566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63E4C75-CF15-4BDB-AEBE-D53C3996339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41F0E87-68DC-4336-BEE0-804966925BE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66D13CF-6F7C-4809-8A65-8BDD7868286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8DDC31C-A402-40D2-AB99-8EEC7CBF85F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3DC4225-06AD-4638-A0AC-449DEA1E8CF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8540705-48DB-4E4E-B6EB-C0B06E56FF8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23BAE5F-4A13-462E-8D98-2229A44EA57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00220FD-4CEB-4375-ADA0-C8051A24A44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8305E09-B1ED-4FA3-8886-0DA3196E5CC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131144D-ED1F-40BD-8A0D-FBBFC0367A7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1F93E93-442A-4736-A367-26DA685D2E9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31E7AC4-51EC-42BD-BCDB-0C805D9DF7F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01341AC-36AA-4954-9733-87BB6C91AA3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5F2DFF0-649A-4BF2-82CE-7E10BBECD86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843628E-6432-45D4-80CA-011B69F2DA9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7D86C15-60B6-413E-9C0C-3FD2AB4C41A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BA34A62-B3B6-48D1-831A-20B0557BA60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68B29CF-1D3D-4A46-A240-9A0B14EAF48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07FBE4F-6F4B-432A-AC4D-289B86FE44E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4AF4689-E424-4931-8816-7C36B818104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3C5FCC5-4A32-44AB-BF84-5092F1D6179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3110DC9-D994-4244-A78D-79DBA62E466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240A366-FC00-4947-99DC-7C361C2BAE4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0A7FA48-C95B-4AEB-A073-4105D5D3F98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D46257B-BA3A-4C6B-BFE8-85E019CD63D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CD87644-A367-49BB-AE93-CAD6C719BE7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72F389-8F3E-499C-8B01-B153735ABF2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089A0A8-8267-4AFF-AD92-3A0C8F46DDE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5928E2A-DB05-40C7-B521-909962D8AA8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137DB79-CDE8-4F0D-9EFB-C018F6CCCAC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79064D0-9EF4-405E-9D00-497B64AD831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632BC65-FBA9-4E5F-8924-EC49D3B6EC2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AABA342-30BA-4245-B4E7-75DF4A4071E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B31DFBB-E5FE-4779-BFE6-F631BD111E8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A5061E7-9215-4C29-9888-263391C1DD8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907A5FC-FD33-4F76-BB72-ED428F11CD1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39DA893-195B-47E7-949B-EF304B2CEFF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EB82DA-915C-4F0D-B4A4-6D7B199AC20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4AED742-3724-486B-AEA5-AB147B6DFBA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316A4FC-3242-405A-B3E0-62270E22EAF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C18F046-89F2-4F74-886F-8F642FB9261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ED6772B-5662-4312-81B2-69E71B4F39D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7A37BBE-24AB-4054-8F7E-E1EF48F7AAF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8FD18E-634E-4466-AE21-940ED2B3668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C7D3FF-BD7B-4B15-A4EA-C8A7C587E44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DDC1FF-D514-4F51-B31D-A69C57E4C55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F0BD5B-28BF-4897-ADDA-64C5219D951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91C9E0-EFA2-4CF3-BC8A-E9C8D6924F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BE8425-B061-4583-B83D-16397FE1C87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EFC612-FA02-40BD-8CB6-343EB44C37D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4A739E-4DAF-410D-971D-D4D3D8F985A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DFB6A1-77F2-4193-98DA-3E8381EB0A5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44745C-0D45-4674-8001-D7EBF5AD61C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BD7F6E-96EC-4E75-9798-0755EEAC493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5C1095-DAD8-411C-A86C-10B99F41734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9CABC4B-07C1-4735-A028-4D4370F33F1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F7511A8-38B0-424E-BD08-D6603DA4C0D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59C0DE3-ED0C-409A-B486-418584D9326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28B3D96-C02F-437F-80A8-E8C756B301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5858D5-6485-4E8C-BECD-B4C7E892EF0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CE31C93-B4B0-4DB3-8DDC-FF2EF27BA42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2C13160-A8F3-4899-B12C-796014B8AEF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2571951-E48C-4078-A097-3C75E407774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65DCF06-64A6-4971-84E2-60BA5A6FADC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3F44583-D93F-447C-99B1-8529373BF78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569BD2E-0752-44D9-9AAE-33C307DF028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EEAE22E-AA2C-404C-94B8-4C0492A5FDF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4D6B509-26EE-471E-8698-186AF8CD838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C2F20C1-B687-4FF7-B34E-F3459D90CDF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4A68DE8-34EE-48E4-BD2F-A7404543C5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B2F293-D180-4C26-B515-638830BD9B0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8D63ACF-3343-4AAB-84D2-8E5CD589F0A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E313851-B42E-495D-95B2-5993A192CDA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EF9727E-BCC0-42E3-98E1-9E46A0C5A39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287EF7E-6F4A-48C1-AE1C-044EE92751C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8BC3ABC-42BC-47B9-A123-0DE9B6FCAB8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9794924-EF5A-4B54-9F49-A0AFA079733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41F5280-8383-4431-81DA-08A313F3669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F7EAB67-12D1-4183-ABD5-BB34AA696C9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CD08666-D487-48FB-AA93-7A19FCC4CE6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6A22432-8556-4A58-974C-4249D53982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619AB9-9EC7-4ADF-A1DE-1C1938D3CB7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2665B9B-CEFB-4ABC-A8FE-210F7E866BA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305B8A6-DEA1-40B4-9E41-08A864F2BEE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586027-8BCD-47AF-B967-01142A0F8B7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3D3218-8635-4ACB-8CF2-83BB91B6CAA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73327F-9661-4DFE-B2DC-D43C1834743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29A50D-C32B-4BDA-ABED-C669CCFD808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39B598-FA6D-4DC2-B3A8-15342C2DFFC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213112-B922-4B4B-8B86-E012C8C77C2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02D094-4A3B-4B0F-8637-F3C18BB7BD0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01CC5D-D295-4D74-95E0-C19B116943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3D3A49-A1CC-4503-8CEE-AC01D5FFED9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711789-7BEF-4AB2-A4F4-1A520852D32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4726DA1-7D87-4C87-9BB3-5CE6AC261A52}"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EB217AB-C0AE-4145-AB47-341C9623BE9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4B247290-BA62-4032-B2E3-35A272285F2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21ED816-1DFB-4953-91CA-3B66DF0741C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76166E9-3FAF-4DA5-B6DB-14EDDF875BC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A832CFA-FFC3-46FB-B9EB-FC4F66864D8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F26134C-0EEE-4586-9CBD-0A2B2C98C6E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B458AC5-5BB8-4DD1-AD9D-2BE466A53F3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33B7B4C-94E0-4512-BD2D-CC19D41F04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515672-04BA-4597-BC1F-577E41E87C65}"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EFD028B-6BDF-46A8-820F-DC6E6AD9B97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3A23E5A-ADB1-4C9C-A45B-C18F74EF2B1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B386FA9-4631-4D81-973A-46263F2D81C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67AF92EE-BB92-4B44-8CAF-DB747AD2220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7B66D72E-B50A-485E-A6E3-6C15D5E9FB0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68014734-20FA-478A-830D-61F3AEB323C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CAE0426-B205-4D27-8C23-F1F70799852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E63DE6F-0CEC-40B1-B915-EF4A9AD3106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1F3ED33-6579-4AD8-9F95-7FC744064BA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4CEB491-8882-45FE-B941-F401387727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F7FABA-F16B-4B6F-AFD6-BF5B439A5140}"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E821F51-3EC6-42F8-BCB6-8D2D432013B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9B2B946-C3D8-4C1E-B442-7B7F97308980}"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A1C5030-6C64-49AA-82AE-C039419E1E8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46E5150-99BC-409B-967C-3C6100E9C20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FF1EEB6-A04A-4E40-ACB1-17A184D6804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395D1E99-D886-4A61-9B58-972DBF6852F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B373473F-A797-419E-915E-FA9501C8DDF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BDFEB1D-7AFD-4577-9E38-DB6513FF30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38EFD5D-AE9A-4DE7-94B5-95DC9FAB12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7453FA6-FF26-4E0B-A8CE-657C060B61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6E1A25-ACF2-4B53-A5E5-BC8688EEFB60}"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3FA1D21-194C-49DB-8DF0-B7F2A63D4F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B0F7329-08F0-4F26-A692-60C24757A9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59A1D30-AA0F-49A3-AC5A-9A306F519B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F5FED6E-495F-4FCD-88A7-738478745E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FBA2535-A0B5-45F2-A8E1-200DBB9AA7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5EEC1E9-C04F-4DD4-BA48-A9CDCF0AAF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CD32FC0-1D6F-484B-A669-F6BE272BB2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50C02EAC-303A-4C86-A125-00E377BFDB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04F93467-3EC4-458A-A7E6-80BF83C6BC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3DECB5C3-E7E8-438E-BEE2-A3AEBC8543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602F73-F3B8-4739-B5A7-5F9ED7F70EC4}"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6CB28BF-1895-4433-A137-54F9B6830D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22ABB6D-88EE-4F7B-87A9-8A1C559761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0A4A889-3CEE-4101-89A5-7A21743880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F11EAEA-2948-4162-9B51-7AAC8860ED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EE7B88E9-17A4-4DB5-AA77-1A293996AC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4F081AF-33ED-4A2A-8F67-2331BA2438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0980ADC-3A4F-4B54-9218-0512B9E8DC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6FC09C9-46AB-45F0-BB75-D56C11EE81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ECCDEBA-AA62-43CB-9769-D726FE5920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AF294F31-F0C4-4459-BCDA-D99D366B3E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08FB58-879D-44B5-AF05-3CDA1AF0283F}"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7142DDD9-501B-4D2C-A1DC-8758559CA3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9869B63B-8FB5-445C-84AA-BD6DDC1523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FB1C76B-32A3-478E-AE22-0D4ED38EE4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9C6DB275-62E8-4433-AC04-BCB5A2A2CB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EAA4393-E688-4E44-B4A7-2B06CED4CE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F21BF6F-8FC4-49D0-9E20-16AFD3BB0D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BBD83CA6-3214-47D5-BC29-09DD6E44C2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EAB416D-3E13-4E57-A2DD-39DE6AE746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79191B6-2F24-43D9-8125-84BA6CD69A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51C72EF-A05D-4E2E-99C5-F6687635BA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80328E8-CEFF-4793-AFDE-F0E0609116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A6226810-70BD-4E82-AD8E-0DA5AEF2A8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829BBDB9-F0E3-4318-B3F5-D0A572C11E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77997AF5-094A-428C-970F-0EB721953E53}"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2D81F8FD-0D57-40C4-82AF-829C65914CCA}"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BEB8B829-8002-4147-89D1-6D563AD31ED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8060A4C-A475-4DAB-949C-610CCBA6B032}"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149CC297-4D18-476B-BFC2-01060C255415}"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452B7A3-7D49-49A6-B681-A9D0BE26E30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A02F5C9-7ADD-4DC8-9C37-44F11FE59E6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EC7256D-A725-47FC-8576-115AF863F15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A4BB422-3A51-475A-9315-4F050A60A26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F5889A8-CE52-41B2-A403-33F18A1C75C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30155027-68AC-4796-957C-57BF00D228FB}"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815B916B-E241-4D66-86D7-EB80EF3FB373}"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DF4D8868-3A6C-488E-A0B0-2206FDB75C55}"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453417C9-E668-487C-B181-7ED2222CDC2B}"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59565767-80C8-4F5D-8E50-E520CA90E63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EBF74F7D-6BE9-4DB7-BABD-8A58D6C58E1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9A97466-3502-4819-BB2A-35532158A78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C75FE4DC-A07D-4077-9AE0-4294ADCB853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611DF69-FD04-472E-B806-A0F3E263194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9926E10-0EFD-466E-99AD-704D18B0AD2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8D1DF44-B36C-4561-9A24-D892D2D7C75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320CCFBD-D1B5-4D12-BC13-6D9E542ACED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8A5F6B0B-28F7-4F2A-861F-0B14A7825FF7}"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B4E8E188-35C4-41C4-927F-6DA984D81E8F}"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E4C039B8-5B8D-42D6-9B7E-71A0CC9CA747}"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DC75E5D-C997-4FB8-95C0-83DA8C31D74D}"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36A3613B-B1E3-4A05-A573-7774BFECFC4C}"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733B28C6-02F3-4ACB-820E-6EDDB945DB63}"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E933AF7C-10C0-481C-A6FB-AD3D9BD6047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9E24921B-FD43-42E7-AAF7-906162F9F479}"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39EACED4-4B22-4418-8F8F-1FCA19E932D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10CE863-E07C-453D-8F03-A5FE07E51A79}"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457A1B00-FB90-4382-8AC2-28D12C75109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CAF2B9BF-AD30-48C2-ADB1-A29EE9E7E535}"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10660E21-DF6C-400C-8FDC-13E1041E2FC0}"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706E281B-168F-45E0-B523-27E84FB2E240}"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C255AEDC-0E75-45FC-B8A9-CDC214B8C7A7}"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1A983F25-31C4-4252-A372-D9BCCF3D5948}"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15FF7C6E-31D6-4238-96FC-59307A400B1D}"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0CD6604A-445B-4A78-BB23-A77161D63A70}"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9881015E-6B1D-48DC-BB07-94F295C37F94}"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C0D5B6D9-B879-4783-92B3-A8D419D2B49E}"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A1B95BA5-1EE2-42F2-B98E-856C40575056}"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9141E3F7-A146-48CD-BDA9-95FFFC646232}"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31433161-2FAE-4DC1-8C02-CA42B5D8A82C}"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2DFB1103-696A-4DCC-A9F5-A921ED723F1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A38BD6C2-8D6C-4C51-9D83-7311AF85A928}"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47412D6B-BE40-4965-927D-095BDA457915}"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8C4F370B-ECB4-4DE1-ACDB-A1EBF1D64666}"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67F6EB0A-F4E1-4E85-9CC2-A2CCF19FDB8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DC83E07-820C-4738-A054-02B4C7754197}"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7C494707-8B9B-4BE2-B1BA-9A632A21EE9B}"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AF7BA0C7-E3EB-4C02-A43E-4395FF3890E5}"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3BCF19CE-5574-4073-8ECF-6F7CFB7AA0AA}"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7FDB349-F7C6-4CC6-8C5D-ACF99B2D059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8BDE3F51-FE4B-4608-BF0B-F0DE83D5AB0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9BBDF08-30C6-40C8-9225-E18DA2C24C6C}"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CCE0DF7F-1EED-40FE-A667-8938FB21E330}"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C400688E-D107-4298-B60A-3AEC9CA94433}"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96CBEC6D-89F7-4F4D-ACA1-12C048A0C7D0}"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A8B70751-B0EE-4CCB-9F12-BC0655109B05}"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B7A4E485-4932-4094-A9F2-CBC25FE17D3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A7DA615A-CAD1-4B25-96FC-12452E5CB18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2CE54B1A-0BC1-498A-BFE7-AF818D0F7650}"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B2969C2D-52CD-43B6-9304-D0F26C21C4AB}"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0"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D8ACB33A-3D5A-412B-8073-585B0D3B00DE}"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5AB7F2CF-8683-404B-A861-86D29F2A876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61DE820-7D69-4D89-BD39-7D61501D34D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317E079A-66FD-4A94-BD4A-BB66C924472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DDD3415A-F0C4-4387-A1F5-C56B66551C96}"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452E4334-2648-4ED3-911B-979C0E31B10F}"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17E16F43-EF44-4BFF-8453-3EBCB4DC9A1C}"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085D5A32-CE28-4C7D-B5F5-7E3EE7076BF2}"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18D21513-F673-4FCF-921E-C32596A83D7F}"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6DCF6862-4C75-4A29-A731-B548115EEF9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CA086C42-8A6D-4FBF-950B-DD73221503FF}"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DC81C224-E8A8-41DE-ACCC-EB7466B8E251}"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15BD9EF3-4BBA-4E50-B44F-A8588F93780B}"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A5040770-7944-404B-81D4-CB66152E155B}"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578FD212-28C5-445B-B711-F59434003419}"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7CA06BB1-0AA5-433C-88AC-C05AB314912A}"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6A49E335-4F03-4F4B-A7AC-6BCB0427B928}"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2CE53720-A28E-4598-830F-B8475CFA9A22}"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F6E2A23A-C32E-4C20-AA42-29B556A04629}"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9FDDB6EC-BEFA-41A3-A401-42CC73B08129}"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C2DDB1CF-158C-4F92-AD34-A588FBD3994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3ADD6781-08CD-49FA-AA87-2BA7AB5B012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2E1A3888-8885-4116-B8BB-7A9C8CF47FAC}"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F94B2DFD-6B65-4DDB-88A5-7109EE10116B}"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8"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C6FC9954-1201-497A-9D64-C0E71D9C0B10}"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EF041FD-9A56-4AB8-B902-483053265A28}"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A2A8A366-E306-4939-AAB2-6480E719B363}"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728A9FAA-88CA-492B-B900-B756ACEBBFE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32C6F045-A586-4BB5-A412-1890BCD38024}"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3570AD53-6733-4E46-A681-2CB0E0FCA64C}"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4CAA9D1E-AA4E-4FB4-980F-8CF0A8EFB280}"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FEAD9AA6-AFE0-4241-A8F5-5501E320D522}"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8DBC5383-D1C4-453C-925C-5CF2F5FECEC6}"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FEBF8CB4-320F-4E6D-BD50-8FDE65DC5712}"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F9FE687E-4387-4174-B93B-4E3F88170A9E}"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8ABB9F6B-CB12-457E-B49C-138E5DD513C7}"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7"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F8C3C1BE-56A9-465D-97BA-4F76C66842B5}"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2B829A22-DA90-42D2-87DD-3BBF4CF68249}"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FE186D42-D23B-4F44-9878-DD70D0C02D22}"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A3875476-1ED5-4BE1-8765-A05EFAE16931}"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3DDE5101-642D-4BAD-B775-D49F1B93F14A}"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75D76492-6AE1-48BA-8932-ED6309921AA1}"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A72F38AE-6E4F-4436-835F-C9A298459499}"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5C63D9-7EA5-49FC-AB88-06B83959F7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E75217-11C6-4BBE-B33E-579C2E684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801499-0E43-4210-BAB6-CBB4A5DABA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3E7F15-CD67-4282-BCAC-E894D5D0B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77F0DD-41D5-4B50-9DC1-4AE1D08D23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912CAB-9BA1-4F73-AB13-226EAC7B78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5620F-74B5-4FA8-886F-B2EA837630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4C6934-2296-4104-A997-CF3EA05A71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157832-8EE4-4AD4-9867-A7CA33BC2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000218-3F50-4F3A-BF79-CB05DFE6E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CA5268-5A55-405A-BB64-41C14A28C0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C64045-3BBD-40CC-8F6D-7DCCD86911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884E403-CC3B-4B1B-88D2-284911F8DDE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99850E1-409F-4459-9A6D-21439EB278A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B7F42B-B542-4886-9D26-A95E20CA100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92E5A9-F7C5-4021-9B2B-4B4D8D5448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6C35D17-5C49-470F-A055-213FE735324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78BCAC-4912-47B9-82B7-5A30B7B68A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631EBC-F36D-4FFC-97E0-BE81D3E4F84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66FC6D-E642-451F-9725-E0A717A595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BB1E12-CD3F-4D43-8890-87E71A7BCC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23CEAF7-F75C-40FA-BAF2-FE8D8A45F9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8B38989-F326-4A87-B895-CD580175B41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D7CA852-AF33-407A-BD3C-FF10F95D758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CFC4F13-255A-4FDA-B523-37487DCDCC4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69FD21-B051-4F9A-BFD2-34D8B5A72D3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74D3BBB-8D04-443C-AC22-157BB8A55C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5B00C5-DBC5-4D52-B577-4EFDC2E6E6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A216E15-10C8-4463-BAB4-BC1CA6F0F6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0FBE208-0379-4919-A5B4-A2B55E484E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E5F63F-E5D5-4D7E-86D4-A97FF74978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AD6A32-CC37-4BE9-9220-1AF8BA3961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F620E5-A639-45BE-A24F-0DC84FB70B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7778D6-071D-45B5-8CD8-351C38A053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2330C02-320D-4F65-B1F5-2A34CEAB805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CD8DED2-2179-472C-9DD5-452FBCF2660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7D615D6-0167-441D-A3F1-DAD1B12EAF8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D9F19CA-AA88-4A2A-AA5E-CB0C617F7C4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58C518E-F5E4-4E8C-A3CB-CC2C3310676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D73BDB1-EF81-449A-8EE0-FB7CDE2E852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A3BD919-73F1-4366-A54A-779A9D62DF0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0AFC52D-3873-4A70-96E5-5B31D4743E7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CA0BDA-BF1E-40D2-95A4-2BE5D6CE832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1D9555D-591E-4351-A671-A5F70C06D87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2B93C2E-D893-48F0-82F9-808C423DA09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C32D7A7-BEA3-4A19-997B-C765CF02C74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E2382AA-9AFB-4A30-9E2C-46152E69078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4D992EE-19F9-413A-8DBE-3E4D487BBFA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47B372A-2EBB-4588-A180-CC020E52F46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DABD283-3E62-42DD-93D6-DEB962A5922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0F4A729-0118-49B2-B990-674025C786F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EF70A10-2348-4A44-B116-F4F7E090169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014C079-06C6-485A-ACED-955E7616609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62C7C02-C20F-4CB7-B671-48E0AFADED1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F9D4F40-BAB8-419A-BDD6-6118101F20F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BA314D4-CB79-4579-A718-9FB817BD6CC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B7D312E-646A-441E-A392-CA68AE1F2F4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0640C37-7BBA-4CFB-BD85-6EE1D76E33D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AE43B62-33E6-4FCD-80AC-D49545342B5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AB00FF9-2B5E-4AEB-A1CA-972A36C83D7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B8DDA76-D6CF-49C6-97EF-53359748DD0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DF34051-9B18-499D-A0BB-5C452C7DF8B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CA794E0-2EBB-4FC8-B169-96C3ED5009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0"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 name="Picture 1" descr=""/>
          <p:cNvPicPr/>
          <p:nvPr/>
        </p:nvPicPr>
        <p:blipFill>
          <a:blip r:embed="rId2"/>
          <a:stretch/>
        </p:blipFill>
        <p:spPr>
          <a:xfrm>
            <a:off x="647640" y="3452760"/>
            <a:ext cx="803160" cy="585720"/>
          </a:xfrm>
          <a:prstGeom prst="rect">
            <a:avLst/>
          </a:prstGeom>
          <a:ln w="0">
            <a:noFill/>
          </a:ln>
        </p:spPr>
      </p:pic>
      <p:pic>
        <p:nvPicPr>
          <p:cNvPr id="3" name="Picture 1" descr=""/>
          <p:cNvPicPr/>
          <p:nvPr/>
        </p:nvPicPr>
        <p:blipFill>
          <a:blip r:embed="rId3"/>
          <a:stretch/>
        </p:blipFill>
        <p:spPr>
          <a:xfrm>
            <a:off x="1677960" y="3452760"/>
            <a:ext cx="1031760" cy="419040"/>
          </a:xfrm>
          <a:prstGeom prst="rect">
            <a:avLst/>
          </a:prstGeom>
          <a:ln w="0">
            <a:noFill/>
          </a:ln>
        </p:spPr>
      </p:pic>
      <p:sp>
        <p:nvSpPr>
          <p:cNvPr id="4"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0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07"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B1DFF-32DD-448F-9FDF-F0AA0C54EB6D}"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408" name="PlaceHolder 4"/>
          <p:cNvSpPr>
            <a:spLocks noGrp="1"/>
          </p:cNvSpPr>
          <p:nvPr>
            <p:ph type="ftr" idx="2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9" name="PlaceHolder 5"/>
          <p:cNvSpPr>
            <a:spLocks noGrp="1"/>
          </p:cNvSpPr>
          <p:nvPr>
            <p:ph type="sldNum" idx="2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1A555-4D2E-4202-9DCE-77717692744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51"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52"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61A1CD-F91F-49E9-90BC-E4D033C8A8C1}"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453" name="PlaceHolder 4"/>
          <p:cNvSpPr>
            <a:spLocks noGrp="1"/>
          </p:cNvSpPr>
          <p:nvPr>
            <p:ph type="ftr" idx="24"/>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5"/>
          <p:cNvSpPr>
            <a:spLocks noGrp="1"/>
          </p:cNvSpPr>
          <p:nvPr>
            <p:ph type="sldNum" idx="25"/>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A38DB-F728-46B5-97CB-A93120708A1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9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97"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AED2D-3F7A-438D-8AD9-A76207675045}"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498" name="PlaceHolder 4"/>
          <p:cNvSpPr>
            <a:spLocks noGrp="1"/>
          </p:cNvSpPr>
          <p:nvPr>
            <p:ph type="ftr" idx="2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9" name="PlaceHolder 5"/>
          <p:cNvSpPr>
            <a:spLocks noGrp="1"/>
          </p:cNvSpPr>
          <p:nvPr>
            <p:ph type="sldNum" idx="2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9A448-EBF9-4617-A552-0537964E9B8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41"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42" name="PlaceHolder 3"/>
          <p:cNvSpPr>
            <a:spLocks noGrp="1"/>
          </p:cNvSpPr>
          <p:nvPr>
            <p:ph type="ftr" idx="2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3" name="PlaceHolder 4"/>
          <p:cNvSpPr>
            <a:spLocks noGrp="1"/>
          </p:cNvSpPr>
          <p:nvPr>
            <p:ph type="sldNum" idx="3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DCCCE-F1DD-4C1E-AAC6-3A88EA97013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2"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3"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85"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86" name="PlaceHolder 3"/>
          <p:cNvSpPr>
            <a:spLocks noGrp="1"/>
          </p:cNvSpPr>
          <p:nvPr>
            <p:ph type="ftr" idx="3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7" name="PlaceHolder 4"/>
          <p:cNvSpPr>
            <a:spLocks noGrp="1"/>
          </p:cNvSpPr>
          <p:nvPr>
            <p:ph type="sldNum" idx="3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FF5D1-C161-430E-9DED-61FA727D479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5"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6"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7"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629"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30" name="PlaceHolder 3"/>
          <p:cNvSpPr>
            <a:spLocks noGrp="1"/>
          </p:cNvSpPr>
          <p:nvPr>
            <p:ph type="ftr" idx="33"/>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1" name="PlaceHolder 4"/>
          <p:cNvSpPr>
            <a:spLocks noGrp="1"/>
          </p:cNvSpPr>
          <p:nvPr>
            <p:ph type="sldNum" idx="34"/>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1A58E-CEEE-43E9-8B00-4D89257443A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9"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0"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1"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673"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74" name="PlaceHolder 3"/>
          <p:cNvSpPr>
            <a:spLocks noGrp="1"/>
          </p:cNvSpPr>
          <p:nvPr>
            <p:ph type="ftr" idx="35"/>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5" name="PlaceHolder 4"/>
          <p:cNvSpPr>
            <a:spLocks noGrp="1"/>
          </p:cNvSpPr>
          <p:nvPr>
            <p:ph type="sldNum" idx="36"/>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EECCF7-E2A6-49E6-8F8B-DF434853C07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3"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4"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5"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717"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718" name="PlaceHolder 3"/>
          <p:cNvSpPr>
            <a:spLocks noGrp="1"/>
          </p:cNvSpPr>
          <p:nvPr>
            <p:ph type="ftr" idx="3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9" name="PlaceHolder 4"/>
          <p:cNvSpPr>
            <a:spLocks noGrp="1"/>
          </p:cNvSpPr>
          <p:nvPr>
            <p:ph type="sldNum" idx="3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47AD4-D4D6-4617-8D18-FF5AC581A3C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761"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762" name="PlaceHolder 3"/>
          <p:cNvSpPr>
            <a:spLocks noGrp="1"/>
          </p:cNvSpPr>
          <p:nvPr>
            <p:ph type="ftr" idx="3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3" name="PlaceHolder 4"/>
          <p:cNvSpPr>
            <a:spLocks noGrp="1"/>
          </p:cNvSpPr>
          <p:nvPr>
            <p:ph type="sldNum" idx="4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D239E-2DBF-4E92-BC70-F15EC4E8C1E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1"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2"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3"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805"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806" name="PlaceHolder 3"/>
          <p:cNvSpPr>
            <a:spLocks noGrp="1"/>
          </p:cNvSpPr>
          <p:nvPr>
            <p:ph type="dt" idx="4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7" name="PlaceHolder 4"/>
          <p:cNvSpPr>
            <a:spLocks noGrp="1"/>
          </p:cNvSpPr>
          <p:nvPr>
            <p:ph type="ftr" idx="42"/>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8" name="PlaceHolder 5"/>
          <p:cNvSpPr>
            <a:spLocks noGrp="1"/>
          </p:cNvSpPr>
          <p:nvPr>
            <p:ph type="sldNum" idx="43"/>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6D47E-2061-4DEF-A16F-68A8C2CCEE98}" type="slidenum">
              <a:rPr b="0" lang="es-E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3"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4" name="PlaceHolder 3"/>
          <p:cNvSpPr>
            <a:spLocks noGrp="1"/>
          </p:cNvSpPr>
          <p:nvPr>
            <p:ph type="ftr" idx="1"/>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ea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ea typeface="Verdana"/>
              </a:rPr>
              <a:t>Gobierno de Chile | Ministerio del Interior</a:t>
            </a:r>
            <a:endParaRPr b="0" lang="en-US" sz="900" spc="-1" strike="noStrike">
              <a:solidFill>
                <a:srgbClr val="000000"/>
              </a:solidFill>
              <a:latin typeface="Times New Roman"/>
            </a:endParaRPr>
          </a:p>
        </p:txBody>
      </p:sp>
      <p:sp>
        <p:nvSpPr>
          <p:cNvPr id="45" name="PlaceHolder 4"/>
          <p:cNvSpPr>
            <a:spLocks noGrp="1"/>
          </p:cNvSpPr>
          <p:nvPr>
            <p:ph type="sldNum" idx="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7086E-0CEE-4E02-8879-0553A1AC9B8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6"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47" name="Group 11"/>
          <p:cNvGrpSpPr/>
          <p:nvPr/>
        </p:nvGrpSpPr>
        <p:grpSpPr>
          <a:xfrm>
            <a:off x="7153200" y="2058840"/>
            <a:ext cx="1990800" cy="2038320"/>
            <a:chOff x="7153200" y="2058840"/>
            <a:chExt cx="1990800" cy="2038320"/>
          </a:xfrm>
        </p:grpSpPr>
        <p:sp>
          <p:nvSpPr>
            <p:cNvPr id="848"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9"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50" name="Picture 1" descr=""/>
            <p:cNvPicPr/>
            <p:nvPr/>
          </p:nvPicPr>
          <p:blipFill>
            <a:blip r:embed="rId2"/>
            <a:stretch/>
          </p:blipFill>
          <p:spPr>
            <a:xfrm>
              <a:off x="7252920" y="2161800"/>
              <a:ext cx="696600" cy="508320"/>
            </a:xfrm>
            <a:prstGeom prst="rect">
              <a:avLst/>
            </a:prstGeom>
            <a:ln w="0">
              <a:noFill/>
            </a:ln>
          </p:spPr>
        </p:pic>
        <p:pic>
          <p:nvPicPr>
            <p:cNvPr id="851" name="Picture 1" descr=""/>
            <p:cNvPicPr/>
            <p:nvPr/>
          </p:nvPicPr>
          <p:blipFill>
            <a:blip r:embed="rId3"/>
            <a:stretch/>
          </p:blipFill>
          <p:spPr>
            <a:xfrm>
              <a:off x="8146080" y="2161800"/>
              <a:ext cx="896040" cy="363960"/>
            </a:xfrm>
            <a:prstGeom prst="rect">
              <a:avLst/>
            </a:prstGeom>
            <a:ln w="0">
              <a:noFill/>
            </a:ln>
          </p:spPr>
        </p:pic>
        <p:pic>
          <p:nvPicPr>
            <p:cNvPr id="852" name="Picture 1" descr=""/>
            <p:cNvPicPr/>
            <p:nvPr/>
          </p:nvPicPr>
          <p:blipFill>
            <a:blip r:embed="rId4"/>
            <a:stretch/>
          </p:blipFill>
          <p:spPr>
            <a:xfrm>
              <a:off x="8151120" y="3876480"/>
              <a:ext cx="893880" cy="153720"/>
            </a:xfrm>
            <a:prstGeom prst="rect">
              <a:avLst/>
            </a:prstGeom>
            <a:ln w="0">
              <a:noFill/>
            </a:ln>
          </p:spPr>
        </p:pic>
      </p:grpSp>
      <p:sp>
        <p:nvSpPr>
          <p:cNvPr id="853"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855" name="PlaceHolder 2"/>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9AD45-CB29-4827-ACF1-17FFFCB2CC14}"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856" name="PlaceHolder 3"/>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7" name="PlaceHolder 4"/>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FE3097-E2E8-45D0-ACCA-2DF7E8D8DCF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8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6"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97" name="Group 11"/>
          <p:cNvGrpSpPr/>
          <p:nvPr/>
        </p:nvGrpSpPr>
        <p:grpSpPr>
          <a:xfrm>
            <a:off x="7153200" y="2058840"/>
            <a:ext cx="1990800" cy="2038320"/>
            <a:chOff x="7153200" y="2058840"/>
            <a:chExt cx="1990800" cy="2038320"/>
          </a:xfrm>
        </p:grpSpPr>
        <p:sp>
          <p:nvSpPr>
            <p:cNvPr id="898"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9"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00" name="Picture 1" descr=""/>
            <p:cNvPicPr/>
            <p:nvPr/>
          </p:nvPicPr>
          <p:blipFill>
            <a:blip r:embed="rId2"/>
            <a:stretch/>
          </p:blipFill>
          <p:spPr>
            <a:xfrm>
              <a:off x="7252920" y="2161800"/>
              <a:ext cx="696600" cy="508320"/>
            </a:xfrm>
            <a:prstGeom prst="rect">
              <a:avLst/>
            </a:prstGeom>
            <a:ln w="0">
              <a:noFill/>
            </a:ln>
          </p:spPr>
        </p:pic>
        <p:pic>
          <p:nvPicPr>
            <p:cNvPr id="901" name="Picture 1" descr=""/>
            <p:cNvPicPr/>
            <p:nvPr/>
          </p:nvPicPr>
          <p:blipFill>
            <a:blip r:embed="rId3"/>
            <a:stretch/>
          </p:blipFill>
          <p:spPr>
            <a:xfrm>
              <a:off x="8146080" y="2161800"/>
              <a:ext cx="896040" cy="363960"/>
            </a:xfrm>
            <a:prstGeom prst="rect">
              <a:avLst/>
            </a:prstGeom>
            <a:ln w="0">
              <a:noFill/>
            </a:ln>
          </p:spPr>
        </p:pic>
        <p:pic>
          <p:nvPicPr>
            <p:cNvPr id="902" name="Picture 1" descr=""/>
            <p:cNvPicPr/>
            <p:nvPr/>
          </p:nvPicPr>
          <p:blipFill>
            <a:blip r:embed="rId4"/>
            <a:stretch/>
          </p:blipFill>
          <p:spPr>
            <a:xfrm>
              <a:off x="8151120" y="3876480"/>
              <a:ext cx="893880" cy="153720"/>
            </a:xfrm>
            <a:prstGeom prst="rect">
              <a:avLst/>
            </a:prstGeom>
            <a:ln w="0">
              <a:noFill/>
            </a:ln>
          </p:spPr>
        </p:pic>
      </p:grpSp>
      <p:sp>
        <p:nvSpPr>
          <p:cNvPr id="903"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4"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905"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18A93-5803-41E5-9D5D-D36407A8A7C2}"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906" name="PlaceHolder 3"/>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7" name="PlaceHolder 4"/>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9BAF7B-58E8-43E4-A0BA-417E3F48CB8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5"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946" name="Group 11"/>
          <p:cNvGrpSpPr/>
          <p:nvPr/>
        </p:nvGrpSpPr>
        <p:grpSpPr>
          <a:xfrm>
            <a:off x="7153200" y="2058840"/>
            <a:ext cx="1990800" cy="2038320"/>
            <a:chOff x="7153200" y="2058840"/>
            <a:chExt cx="1990800" cy="2038320"/>
          </a:xfrm>
        </p:grpSpPr>
        <p:sp>
          <p:nvSpPr>
            <p:cNvPr id="947"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8"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49" name="Picture 1" descr=""/>
            <p:cNvPicPr/>
            <p:nvPr/>
          </p:nvPicPr>
          <p:blipFill>
            <a:blip r:embed="rId2"/>
            <a:stretch/>
          </p:blipFill>
          <p:spPr>
            <a:xfrm>
              <a:off x="7252920" y="2161800"/>
              <a:ext cx="696600" cy="508320"/>
            </a:xfrm>
            <a:prstGeom prst="rect">
              <a:avLst/>
            </a:prstGeom>
            <a:ln w="0">
              <a:noFill/>
            </a:ln>
          </p:spPr>
        </p:pic>
        <p:pic>
          <p:nvPicPr>
            <p:cNvPr id="950" name="Picture 1" descr=""/>
            <p:cNvPicPr/>
            <p:nvPr/>
          </p:nvPicPr>
          <p:blipFill>
            <a:blip r:embed="rId3"/>
            <a:stretch/>
          </p:blipFill>
          <p:spPr>
            <a:xfrm>
              <a:off x="8146080" y="2161800"/>
              <a:ext cx="896040" cy="363960"/>
            </a:xfrm>
            <a:prstGeom prst="rect">
              <a:avLst/>
            </a:prstGeom>
            <a:ln w="0">
              <a:noFill/>
            </a:ln>
          </p:spPr>
        </p:pic>
        <p:pic>
          <p:nvPicPr>
            <p:cNvPr id="951" name="Picture 1" descr=""/>
            <p:cNvPicPr/>
            <p:nvPr/>
          </p:nvPicPr>
          <p:blipFill>
            <a:blip r:embed="rId4"/>
            <a:stretch/>
          </p:blipFill>
          <p:spPr>
            <a:xfrm>
              <a:off x="8151120" y="3876480"/>
              <a:ext cx="893880" cy="153720"/>
            </a:xfrm>
            <a:prstGeom prst="rect">
              <a:avLst/>
            </a:prstGeom>
            <a:ln w="0">
              <a:noFill/>
            </a:ln>
          </p:spPr>
        </p:pic>
      </p:grpSp>
      <p:sp>
        <p:nvSpPr>
          <p:cNvPr id="952"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3"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954"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2705C-0340-4CA7-9ABE-F533AE7BCABD}"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955"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6" name="PlaceHolder 4"/>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D0CBC-65F1-4FF7-A3ED-84873A1BED3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4"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995" name="Group 11"/>
          <p:cNvGrpSpPr/>
          <p:nvPr/>
        </p:nvGrpSpPr>
        <p:grpSpPr>
          <a:xfrm>
            <a:off x="7153200" y="2058840"/>
            <a:ext cx="1990800" cy="2038320"/>
            <a:chOff x="7153200" y="2058840"/>
            <a:chExt cx="1990800" cy="2038320"/>
          </a:xfrm>
        </p:grpSpPr>
        <p:sp>
          <p:nvSpPr>
            <p:cNvPr id="996"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7"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98" name="Picture 1" descr=""/>
            <p:cNvPicPr/>
            <p:nvPr/>
          </p:nvPicPr>
          <p:blipFill>
            <a:blip r:embed="rId2"/>
            <a:stretch/>
          </p:blipFill>
          <p:spPr>
            <a:xfrm>
              <a:off x="7252920" y="2161800"/>
              <a:ext cx="696600" cy="508320"/>
            </a:xfrm>
            <a:prstGeom prst="rect">
              <a:avLst/>
            </a:prstGeom>
            <a:ln w="0">
              <a:noFill/>
            </a:ln>
          </p:spPr>
        </p:pic>
        <p:pic>
          <p:nvPicPr>
            <p:cNvPr id="999" name="Picture 1" descr=""/>
            <p:cNvPicPr/>
            <p:nvPr/>
          </p:nvPicPr>
          <p:blipFill>
            <a:blip r:embed="rId3"/>
            <a:stretch/>
          </p:blipFill>
          <p:spPr>
            <a:xfrm>
              <a:off x="8146080" y="2161800"/>
              <a:ext cx="896040" cy="363960"/>
            </a:xfrm>
            <a:prstGeom prst="rect">
              <a:avLst/>
            </a:prstGeom>
            <a:ln w="0">
              <a:noFill/>
            </a:ln>
          </p:spPr>
        </p:pic>
        <p:pic>
          <p:nvPicPr>
            <p:cNvPr id="1000" name="Picture 1" descr=""/>
            <p:cNvPicPr/>
            <p:nvPr/>
          </p:nvPicPr>
          <p:blipFill>
            <a:blip r:embed="rId4"/>
            <a:stretch/>
          </p:blipFill>
          <p:spPr>
            <a:xfrm>
              <a:off x="8151120" y="3876480"/>
              <a:ext cx="893880" cy="153720"/>
            </a:xfrm>
            <a:prstGeom prst="rect">
              <a:avLst/>
            </a:prstGeom>
            <a:ln w="0">
              <a:noFill/>
            </a:ln>
          </p:spPr>
        </p:pic>
      </p:grpSp>
      <p:sp>
        <p:nvSpPr>
          <p:cNvPr id="1001"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2"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003" name="PlaceHolder 2"/>
          <p:cNvSpPr>
            <a:spLocks noGrp="1"/>
          </p:cNvSpPr>
          <p:nvPr>
            <p:ph type="dt" idx="5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B5F1C-2CE1-4155-8389-95503D47AC8F}"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004" name="PlaceHolder 3"/>
          <p:cNvSpPr>
            <a:spLocks noGrp="1"/>
          </p:cNvSpPr>
          <p:nvPr>
            <p:ph type="ftr" idx="5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5" name="PlaceHolder 4"/>
          <p:cNvSpPr>
            <a:spLocks noGrp="1"/>
          </p:cNvSpPr>
          <p:nvPr>
            <p:ph type="sldNum" idx="5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C927C-BC8A-498C-8087-2078D0386E8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3"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044" name="Group 11"/>
          <p:cNvGrpSpPr/>
          <p:nvPr/>
        </p:nvGrpSpPr>
        <p:grpSpPr>
          <a:xfrm>
            <a:off x="7153200" y="2058840"/>
            <a:ext cx="1990800" cy="2038320"/>
            <a:chOff x="7153200" y="2058840"/>
            <a:chExt cx="1990800" cy="2038320"/>
          </a:xfrm>
        </p:grpSpPr>
        <p:sp>
          <p:nvSpPr>
            <p:cNvPr id="1045"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6"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47" name="Picture 1" descr=""/>
            <p:cNvPicPr/>
            <p:nvPr/>
          </p:nvPicPr>
          <p:blipFill>
            <a:blip r:embed="rId2"/>
            <a:stretch/>
          </p:blipFill>
          <p:spPr>
            <a:xfrm>
              <a:off x="7252920" y="2161800"/>
              <a:ext cx="696600" cy="508320"/>
            </a:xfrm>
            <a:prstGeom prst="rect">
              <a:avLst/>
            </a:prstGeom>
            <a:ln w="0">
              <a:noFill/>
            </a:ln>
          </p:spPr>
        </p:pic>
        <p:pic>
          <p:nvPicPr>
            <p:cNvPr id="1048" name="Picture 1" descr=""/>
            <p:cNvPicPr/>
            <p:nvPr/>
          </p:nvPicPr>
          <p:blipFill>
            <a:blip r:embed="rId3"/>
            <a:stretch/>
          </p:blipFill>
          <p:spPr>
            <a:xfrm>
              <a:off x="8146080" y="2161800"/>
              <a:ext cx="896040" cy="363960"/>
            </a:xfrm>
            <a:prstGeom prst="rect">
              <a:avLst/>
            </a:prstGeom>
            <a:ln w="0">
              <a:noFill/>
            </a:ln>
          </p:spPr>
        </p:pic>
        <p:pic>
          <p:nvPicPr>
            <p:cNvPr id="1049" name="Picture 1" descr=""/>
            <p:cNvPicPr/>
            <p:nvPr/>
          </p:nvPicPr>
          <p:blipFill>
            <a:blip r:embed="rId4"/>
            <a:stretch/>
          </p:blipFill>
          <p:spPr>
            <a:xfrm>
              <a:off x="8151120" y="3876480"/>
              <a:ext cx="893880" cy="153720"/>
            </a:xfrm>
            <a:prstGeom prst="rect">
              <a:avLst/>
            </a:prstGeom>
            <a:ln w="0">
              <a:noFill/>
            </a:ln>
          </p:spPr>
        </p:pic>
      </p:grpSp>
      <p:sp>
        <p:nvSpPr>
          <p:cNvPr id="1050"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1"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052" name="PlaceHolder 2"/>
          <p:cNvSpPr>
            <a:spLocks noGrp="1"/>
          </p:cNvSpPr>
          <p:nvPr>
            <p:ph type="dt" idx="5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B72FC-FB57-41C4-A06C-1F4A731B46D3}"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053" name="PlaceHolder 3"/>
          <p:cNvSpPr>
            <a:spLocks noGrp="1"/>
          </p:cNvSpPr>
          <p:nvPr>
            <p:ph type="ftr" idx="5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4" name="PlaceHolder 4"/>
          <p:cNvSpPr>
            <a:spLocks noGrp="1"/>
          </p:cNvSpPr>
          <p:nvPr>
            <p:ph type="sldNum" idx="5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02A7B-ABFF-43ED-8726-4870C5C79CF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92"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093" name="Group 11"/>
          <p:cNvGrpSpPr/>
          <p:nvPr/>
        </p:nvGrpSpPr>
        <p:grpSpPr>
          <a:xfrm>
            <a:off x="7153200" y="2058840"/>
            <a:ext cx="1990800" cy="2038320"/>
            <a:chOff x="7153200" y="2058840"/>
            <a:chExt cx="1990800" cy="2038320"/>
          </a:xfrm>
        </p:grpSpPr>
        <p:sp>
          <p:nvSpPr>
            <p:cNvPr id="1094"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95"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96" name="Picture 1" descr=""/>
            <p:cNvPicPr/>
            <p:nvPr/>
          </p:nvPicPr>
          <p:blipFill>
            <a:blip r:embed="rId2"/>
            <a:stretch/>
          </p:blipFill>
          <p:spPr>
            <a:xfrm>
              <a:off x="7252920" y="2161800"/>
              <a:ext cx="696600" cy="508320"/>
            </a:xfrm>
            <a:prstGeom prst="rect">
              <a:avLst/>
            </a:prstGeom>
            <a:ln w="0">
              <a:noFill/>
            </a:ln>
          </p:spPr>
        </p:pic>
        <p:pic>
          <p:nvPicPr>
            <p:cNvPr id="1097" name="Picture 1" descr=""/>
            <p:cNvPicPr/>
            <p:nvPr/>
          </p:nvPicPr>
          <p:blipFill>
            <a:blip r:embed="rId3"/>
            <a:stretch/>
          </p:blipFill>
          <p:spPr>
            <a:xfrm>
              <a:off x="8146080" y="2161800"/>
              <a:ext cx="896040" cy="363960"/>
            </a:xfrm>
            <a:prstGeom prst="rect">
              <a:avLst/>
            </a:prstGeom>
            <a:ln w="0">
              <a:noFill/>
            </a:ln>
          </p:spPr>
        </p:pic>
        <p:pic>
          <p:nvPicPr>
            <p:cNvPr id="1098" name="Picture 1" descr=""/>
            <p:cNvPicPr/>
            <p:nvPr/>
          </p:nvPicPr>
          <p:blipFill>
            <a:blip r:embed="rId4"/>
            <a:stretch/>
          </p:blipFill>
          <p:spPr>
            <a:xfrm>
              <a:off x="8151120" y="3876480"/>
              <a:ext cx="893880" cy="153720"/>
            </a:xfrm>
            <a:prstGeom prst="rect">
              <a:avLst/>
            </a:prstGeom>
            <a:ln w="0">
              <a:noFill/>
            </a:ln>
          </p:spPr>
        </p:pic>
      </p:grpSp>
      <p:sp>
        <p:nvSpPr>
          <p:cNvPr id="1099"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0"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01" name="PlaceHolder 2"/>
          <p:cNvSpPr>
            <a:spLocks noGrp="1"/>
          </p:cNvSpPr>
          <p:nvPr>
            <p:ph type="dt" idx="5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5CE12-5BB2-4319-9876-6C2F79FABC6E}"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102" name="PlaceHolder 3"/>
          <p:cNvSpPr>
            <a:spLocks noGrp="1"/>
          </p:cNvSpPr>
          <p:nvPr>
            <p:ph type="ftr" idx="6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3" name="PlaceHolder 4"/>
          <p:cNvSpPr>
            <a:spLocks noGrp="1"/>
          </p:cNvSpPr>
          <p:nvPr>
            <p:ph type="sldNum" idx="6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6CD6E-9705-4A59-BE3B-B0C59677E55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1"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142" name="Group 11"/>
          <p:cNvGrpSpPr/>
          <p:nvPr/>
        </p:nvGrpSpPr>
        <p:grpSpPr>
          <a:xfrm>
            <a:off x="7153200" y="2058840"/>
            <a:ext cx="1990800" cy="2038320"/>
            <a:chOff x="7153200" y="2058840"/>
            <a:chExt cx="1990800" cy="2038320"/>
          </a:xfrm>
        </p:grpSpPr>
        <p:sp>
          <p:nvSpPr>
            <p:cNvPr id="1143"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4"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45" name="Picture 1" descr=""/>
            <p:cNvPicPr/>
            <p:nvPr/>
          </p:nvPicPr>
          <p:blipFill>
            <a:blip r:embed="rId2"/>
            <a:stretch/>
          </p:blipFill>
          <p:spPr>
            <a:xfrm>
              <a:off x="7252920" y="2161800"/>
              <a:ext cx="696600" cy="508320"/>
            </a:xfrm>
            <a:prstGeom prst="rect">
              <a:avLst/>
            </a:prstGeom>
            <a:ln w="0">
              <a:noFill/>
            </a:ln>
          </p:spPr>
        </p:pic>
        <p:pic>
          <p:nvPicPr>
            <p:cNvPr id="1146" name="Picture 1" descr=""/>
            <p:cNvPicPr/>
            <p:nvPr/>
          </p:nvPicPr>
          <p:blipFill>
            <a:blip r:embed="rId3"/>
            <a:stretch/>
          </p:blipFill>
          <p:spPr>
            <a:xfrm>
              <a:off x="8146080" y="2161800"/>
              <a:ext cx="896040" cy="363960"/>
            </a:xfrm>
            <a:prstGeom prst="rect">
              <a:avLst/>
            </a:prstGeom>
            <a:ln w="0">
              <a:noFill/>
            </a:ln>
          </p:spPr>
        </p:pic>
        <p:pic>
          <p:nvPicPr>
            <p:cNvPr id="1147" name="Picture 1" descr=""/>
            <p:cNvPicPr/>
            <p:nvPr/>
          </p:nvPicPr>
          <p:blipFill>
            <a:blip r:embed="rId4"/>
            <a:stretch/>
          </p:blipFill>
          <p:spPr>
            <a:xfrm>
              <a:off x="8151120" y="3876480"/>
              <a:ext cx="893880" cy="153720"/>
            </a:xfrm>
            <a:prstGeom prst="rect">
              <a:avLst/>
            </a:prstGeom>
            <a:ln w="0">
              <a:noFill/>
            </a:ln>
          </p:spPr>
        </p:pic>
      </p:grpSp>
      <p:sp>
        <p:nvSpPr>
          <p:cNvPr id="1148"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9"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50" name="PlaceHolder 2"/>
          <p:cNvSpPr>
            <a:spLocks noGrp="1"/>
          </p:cNvSpPr>
          <p:nvPr>
            <p:ph type="dt" idx="6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9F0F9-0FC1-4AAF-AADA-04672EC03E04}"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151" name="PlaceHolder 3"/>
          <p:cNvSpPr>
            <a:spLocks noGrp="1"/>
          </p:cNvSpPr>
          <p:nvPr>
            <p:ph type="ftr" idx="6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2" name="PlaceHolder 4"/>
          <p:cNvSpPr>
            <a:spLocks noGrp="1"/>
          </p:cNvSpPr>
          <p:nvPr>
            <p:ph type="sldNum" idx="6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4EF7CC-6FFF-432E-82FA-027F05F0D76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0"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191" name="Group 11"/>
          <p:cNvGrpSpPr/>
          <p:nvPr/>
        </p:nvGrpSpPr>
        <p:grpSpPr>
          <a:xfrm>
            <a:off x="7153200" y="2058840"/>
            <a:ext cx="1990800" cy="2038320"/>
            <a:chOff x="7153200" y="2058840"/>
            <a:chExt cx="1990800" cy="2038320"/>
          </a:xfrm>
        </p:grpSpPr>
        <p:sp>
          <p:nvSpPr>
            <p:cNvPr id="1192"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3"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94" name="Picture 1" descr=""/>
            <p:cNvPicPr/>
            <p:nvPr/>
          </p:nvPicPr>
          <p:blipFill>
            <a:blip r:embed="rId2"/>
            <a:stretch/>
          </p:blipFill>
          <p:spPr>
            <a:xfrm>
              <a:off x="7252920" y="2161800"/>
              <a:ext cx="696600" cy="508320"/>
            </a:xfrm>
            <a:prstGeom prst="rect">
              <a:avLst/>
            </a:prstGeom>
            <a:ln w="0">
              <a:noFill/>
            </a:ln>
          </p:spPr>
        </p:pic>
        <p:pic>
          <p:nvPicPr>
            <p:cNvPr id="1195" name="Picture 1" descr=""/>
            <p:cNvPicPr/>
            <p:nvPr/>
          </p:nvPicPr>
          <p:blipFill>
            <a:blip r:embed="rId3"/>
            <a:stretch/>
          </p:blipFill>
          <p:spPr>
            <a:xfrm>
              <a:off x="8146080" y="2161800"/>
              <a:ext cx="896040" cy="363960"/>
            </a:xfrm>
            <a:prstGeom prst="rect">
              <a:avLst/>
            </a:prstGeom>
            <a:ln w="0">
              <a:noFill/>
            </a:ln>
          </p:spPr>
        </p:pic>
        <p:pic>
          <p:nvPicPr>
            <p:cNvPr id="1196" name="Picture 1" descr=""/>
            <p:cNvPicPr/>
            <p:nvPr/>
          </p:nvPicPr>
          <p:blipFill>
            <a:blip r:embed="rId4"/>
            <a:stretch/>
          </p:blipFill>
          <p:spPr>
            <a:xfrm>
              <a:off x="8151120" y="3876480"/>
              <a:ext cx="893880" cy="153720"/>
            </a:xfrm>
            <a:prstGeom prst="rect">
              <a:avLst/>
            </a:prstGeom>
            <a:ln w="0">
              <a:noFill/>
            </a:ln>
          </p:spPr>
        </p:pic>
      </p:grpSp>
      <p:sp>
        <p:nvSpPr>
          <p:cNvPr id="1197"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8"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99" name="PlaceHolder 2"/>
          <p:cNvSpPr>
            <a:spLocks noGrp="1"/>
          </p:cNvSpPr>
          <p:nvPr>
            <p:ph type="dt" idx="6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DB48CF-4EBD-41E0-9203-0D818FB0F4EA}"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200" name="PlaceHolder 3"/>
          <p:cNvSpPr>
            <a:spLocks noGrp="1"/>
          </p:cNvSpPr>
          <p:nvPr>
            <p:ph type="ftr" idx="6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1" name="PlaceHolder 4"/>
          <p:cNvSpPr>
            <a:spLocks noGrp="1"/>
          </p:cNvSpPr>
          <p:nvPr>
            <p:ph type="sldNum" idx="6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A1954-634D-416C-804F-29BAF2A62004}"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9"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240" name="Group 11"/>
          <p:cNvGrpSpPr/>
          <p:nvPr/>
        </p:nvGrpSpPr>
        <p:grpSpPr>
          <a:xfrm>
            <a:off x="7153200" y="2058840"/>
            <a:ext cx="1990800" cy="2038320"/>
            <a:chOff x="7153200" y="2058840"/>
            <a:chExt cx="1990800" cy="2038320"/>
          </a:xfrm>
        </p:grpSpPr>
        <p:sp>
          <p:nvSpPr>
            <p:cNvPr id="1241"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2"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43" name="Picture 1" descr=""/>
            <p:cNvPicPr/>
            <p:nvPr/>
          </p:nvPicPr>
          <p:blipFill>
            <a:blip r:embed="rId2"/>
            <a:stretch/>
          </p:blipFill>
          <p:spPr>
            <a:xfrm>
              <a:off x="7252920" y="2161800"/>
              <a:ext cx="696600" cy="508320"/>
            </a:xfrm>
            <a:prstGeom prst="rect">
              <a:avLst/>
            </a:prstGeom>
            <a:ln w="0">
              <a:noFill/>
            </a:ln>
          </p:spPr>
        </p:pic>
        <p:pic>
          <p:nvPicPr>
            <p:cNvPr id="1244" name="Picture 1" descr=""/>
            <p:cNvPicPr/>
            <p:nvPr/>
          </p:nvPicPr>
          <p:blipFill>
            <a:blip r:embed="rId3"/>
            <a:stretch/>
          </p:blipFill>
          <p:spPr>
            <a:xfrm>
              <a:off x="8146080" y="2161800"/>
              <a:ext cx="896040" cy="363960"/>
            </a:xfrm>
            <a:prstGeom prst="rect">
              <a:avLst/>
            </a:prstGeom>
            <a:ln w="0">
              <a:noFill/>
            </a:ln>
          </p:spPr>
        </p:pic>
        <p:pic>
          <p:nvPicPr>
            <p:cNvPr id="1245" name="Picture 1" descr=""/>
            <p:cNvPicPr/>
            <p:nvPr/>
          </p:nvPicPr>
          <p:blipFill>
            <a:blip r:embed="rId4"/>
            <a:stretch/>
          </p:blipFill>
          <p:spPr>
            <a:xfrm>
              <a:off x="8151120" y="3876480"/>
              <a:ext cx="893880" cy="153720"/>
            </a:xfrm>
            <a:prstGeom prst="rect">
              <a:avLst/>
            </a:prstGeom>
            <a:ln w="0">
              <a:noFill/>
            </a:ln>
          </p:spPr>
        </p:pic>
      </p:grpSp>
      <p:sp>
        <p:nvSpPr>
          <p:cNvPr id="1246"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248" name="PlaceHolder 2"/>
          <p:cNvSpPr>
            <a:spLocks noGrp="1"/>
          </p:cNvSpPr>
          <p:nvPr>
            <p:ph type="dt" idx="6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5E702-C70F-48B9-9F5A-12E834E639D7}"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249" name="PlaceHolder 3"/>
          <p:cNvSpPr>
            <a:spLocks noGrp="1"/>
          </p:cNvSpPr>
          <p:nvPr>
            <p:ph type="ftr" idx="6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0" name="PlaceHolder 4"/>
          <p:cNvSpPr>
            <a:spLocks noGrp="1"/>
          </p:cNvSpPr>
          <p:nvPr>
            <p:ph type="sldNum" idx="7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F2A64D-A340-4CAA-AB1D-97596D97187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8"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289" name="Group 11"/>
          <p:cNvGrpSpPr/>
          <p:nvPr/>
        </p:nvGrpSpPr>
        <p:grpSpPr>
          <a:xfrm>
            <a:off x="7153200" y="2058840"/>
            <a:ext cx="1990800" cy="2038320"/>
            <a:chOff x="7153200" y="2058840"/>
            <a:chExt cx="1990800" cy="2038320"/>
          </a:xfrm>
        </p:grpSpPr>
        <p:sp>
          <p:nvSpPr>
            <p:cNvPr id="1290"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1"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92" name="Picture 1" descr=""/>
            <p:cNvPicPr/>
            <p:nvPr/>
          </p:nvPicPr>
          <p:blipFill>
            <a:blip r:embed="rId2"/>
            <a:stretch/>
          </p:blipFill>
          <p:spPr>
            <a:xfrm>
              <a:off x="7252920" y="2161800"/>
              <a:ext cx="696600" cy="508320"/>
            </a:xfrm>
            <a:prstGeom prst="rect">
              <a:avLst/>
            </a:prstGeom>
            <a:ln w="0">
              <a:noFill/>
            </a:ln>
          </p:spPr>
        </p:pic>
        <p:pic>
          <p:nvPicPr>
            <p:cNvPr id="1293" name="Picture 1" descr=""/>
            <p:cNvPicPr/>
            <p:nvPr/>
          </p:nvPicPr>
          <p:blipFill>
            <a:blip r:embed="rId3"/>
            <a:stretch/>
          </p:blipFill>
          <p:spPr>
            <a:xfrm>
              <a:off x="8146080" y="2161800"/>
              <a:ext cx="896040" cy="363960"/>
            </a:xfrm>
            <a:prstGeom prst="rect">
              <a:avLst/>
            </a:prstGeom>
            <a:ln w="0">
              <a:noFill/>
            </a:ln>
          </p:spPr>
        </p:pic>
        <p:pic>
          <p:nvPicPr>
            <p:cNvPr id="1294" name="Picture 1" descr=""/>
            <p:cNvPicPr/>
            <p:nvPr/>
          </p:nvPicPr>
          <p:blipFill>
            <a:blip r:embed="rId4"/>
            <a:stretch/>
          </p:blipFill>
          <p:spPr>
            <a:xfrm>
              <a:off x="8151120" y="3876480"/>
              <a:ext cx="893880" cy="153720"/>
            </a:xfrm>
            <a:prstGeom prst="rect">
              <a:avLst/>
            </a:prstGeom>
            <a:ln w="0">
              <a:noFill/>
            </a:ln>
          </p:spPr>
        </p:pic>
      </p:grpSp>
      <p:sp>
        <p:nvSpPr>
          <p:cNvPr id="1295"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6"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297" name="PlaceHolder 2"/>
          <p:cNvSpPr>
            <a:spLocks noGrp="1"/>
          </p:cNvSpPr>
          <p:nvPr>
            <p:ph type="dt" idx="7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A4C03F-07F3-444A-B388-E0BF0260B06A}"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298" name="PlaceHolder 3"/>
          <p:cNvSpPr>
            <a:spLocks noGrp="1"/>
          </p:cNvSpPr>
          <p:nvPr>
            <p:ph type="ftr" idx="7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9" name="PlaceHolder 4"/>
          <p:cNvSpPr>
            <a:spLocks noGrp="1"/>
          </p:cNvSpPr>
          <p:nvPr>
            <p:ph type="sldNum" idx="7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1D43E-3D21-43E3-913F-7C7ED8693BB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8" name="Group 11"/>
          <p:cNvGrpSpPr/>
          <p:nvPr/>
        </p:nvGrpSpPr>
        <p:grpSpPr>
          <a:xfrm>
            <a:off x="7153200" y="2058840"/>
            <a:ext cx="1990800" cy="2038320"/>
            <a:chOff x="7153200" y="2058840"/>
            <a:chExt cx="1990800" cy="2038320"/>
          </a:xfrm>
        </p:grpSpPr>
        <p:sp>
          <p:nvSpPr>
            <p:cNvPr id="89"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1" name="Picture 1" descr=""/>
            <p:cNvPicPr/>
            <p:nvPr/>
          </p:nvPicPr>
          <p:blipFill>
            <a:blip r:embed="rId2"/>
            <a:stretch/>
          </p:blipFill>
          <p:spPr>
            <a:xfrm>
              <a:off x="7252920" y="2161800"/>
              <a:ext cx="696600" cy="508320"/>
            </a:xfrm>
            <a:prstGeom prst="rect">
              <a:avLst/>
            </a:prstGeom>
            <a:ln w="0">
              <a:noFill/>
            </a:ln>
          </p:spPr>
        </p:pic>
        <p:pic>
          <p:nvPicPr>
            <p:cNvPr id="92" name="Picture 1" descr=""/>
            <p:cNvPicPr/>
            <p:nvPr/>
          </p:nvPicPr>
          <p:blipFill>
            <a:blip r:embed="rId3"/>
            <a:stretch/>
          </p:blipFill>
          <p:spPr>
            <a:xfrm>
              <a:off x="8146080" y="2161800"/>
              <a:ext cx="896040" cy="363960"/>
            </a:xfrm>
            <a:prstGeom prst="rect">
              <a:avLst/>
            </a:prstGeom>
            <a:ln w="0">
              <a:noFill/>
            </a:ln>
          </p:spPr>
        </p:pic>
        <p:pic>
          <p:nvPicPr>
            <p:cNvPr id="93" name="Picture 1" descr=""/>
            <p:cNvPicPr/>
            <p:nvPr/>
          </p:nvPicPr>
          <p:blipFill>
            <a:blip r:embed="rId4"/>
            <a:stretch/>
          </p:blipFill>
          <p:spPr>
            <a:xfrm>
              <a:off x="8151120" y="3876480"/>
              <a:ext cx="893880" cy="153720"/>
            </a:xfrm>
            <a:prstGeom prst="rect">
              <a:avLst/>
            </a:prstGeom>
            <a:ln w="0">
              <a:noFill/>
            </a:ln>
          </p:spPr>
        </p:pic>
      </p:grpSp>
      <p:sp>
        <p:nvSpPr>
          <p:cNvPr id="9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7"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338" name="Group 11"/>
          <p:cNvGrpSpPr/>
          <p:nvPr/>
        </p:nvGrpSpPr>
        <p:grpSpPr>
          <a:xfrm>
            <a:off x="7153200" y="2058840"/>
            <a:ext cx="1990800" cy="2038320"/>
            <a:chOff x="7153200" y="2058840"/>
            <a:chExt cx="1990800" cy="2038320"/>
          </a:xfrm>
        </p:grpSpPr>
        <p:sp>
          <p:nvSpPr>
            <p:cNvPr id="1339" name="Rectangle 6"/>
            <p:cNvSpPr/>
            <p:nvPr/>
          </p:nvSpPr>
          <p:spPr>
            <a:xfrm>
              <a:off x="715320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0" name="Rectangle 7"/>
            <p:cNvSpPr/>
            <p:nvPr/>
          </p:nvSpPr>
          <p:spPr>
            <a:xfrm>
              <a:off x="8048520" y="2058840"/>
              <a:ext cx="109548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41" name="Picture 1" descr=""/>
            <p:cNvPicPr/>
            <p:nvPr/>
          </p:nvPicPr>
          <p:blipFill>
            <a:blip r:embed="rId2"/>
            <a:stretch/>
          </p:blipFill>
          <p:spPr>
            <a:xfrm>
              <a:off x="7252920" y="2161800"/>
              <a:ext cx="696600" cy="508320"/>
            </a:xfrm>
            <a:prstGeom prst="rect">
              <a:avLst/>
            </a:prstGeom>
            <a:ln w="0">
              <a:noFill/>
            </a:ln>
          </p:spPr>
        </p:pic>
        <p:pic>
          <p:nvPicPr>
            <p:cNvPr id="1342" name="Picture 1" descr=""/>
            <p:cNvPicPr/>
            <p:nvPr/>
          </p:nvPicPr>
          <p:blipFill>
            <a:blip r:embed="rId3"/>
            <a:stretch/>
          </p:blipFill>
          <p:spPr>
            <a:xfrm>
              <a:off x="8146080" y="2161800"/>
              <a:ext cx="896040" cy="363960"/>
            </a:xfrm>
            <a:prstGeom prst="rect">
              <a:avLst/>
            </a:prstGeom>
            <a:ln w="0">
              <a:noFill/>
            </a:ln>
          </p:spPr>
        </p:pic>
        <p:pic>
          <p:nvPicPr>
            <p:cNvPr id="1343" name="Picture 1" descr=""/>
            <p:cNvPicPr/>
            <p:nvPr/>
          </p:nvPicPr>
          <p:blipFill>
            <a:blip r:embed="rId4"/>
            <a:stretch/>
          </p:blipFill>
          <p:spPr>
            <a:xfrm>
              <a:off x="8151120" y="3876480"/>
              <a:ext cx="893880" cy="153720"/>
            </a:xfrm>
            <a:prstGeom prst="rect">
              <a:avLst/>
            </a:prstGeom>
            <a:ln w="0">
              <a:noFill/>
            </a:ln>
          </p:spPr>
        </p:pic>
      </p:grpSp>
      <p:sp>
        <p:nvSpPr>
          <p:cNvPr id="1344"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5"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346" name="PlaceHolder 2"/>
          <p:cNvSpPr>
            <a:spLocks noGrp="1"/>
          </p:cNvSpPr>
          <p:nvPr>
            <p:ph type="dt" idx="7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A73EA-6C09-4C3C-8FA0-B6FDE49C1A3A}"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347" name="PlaceHolder 3"/>
          <p:cNvSpPr>
            <a:spLocks noGrp="1"/>
          </p:cNvSpPr>
          <p:nvPr>
            <p:ph type="ftr" idx="7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8" name="PlaceHolder 4"/>
          <p:cNvSpPr>
            <a:spLocks noGrp="1"/>
          </p:cNvSpPr>
          <p:nvPr>
            <p:ph type="sldNum" idx="7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4ABA46-FAC9-49FD-A917-8E7AF6A93EA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132"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4" name="Picture 1" descr=""/>
          <p:cNvPicPr/>
          <p:nvPr/>
        </p:nvPicPr>
        <p:blipFill>
          <a:blip r:embed="rId2"/>
          <a:stretch/>
        </p:blipFill>
        <p:spPr>
          <a:xfrm>
            <a:off x="647640" y="3452760"/>
            <a:ext cx="803160" cy="585720"/>
          </a:xfrm>
          <a:prstGeom prst="rect">
            <a:avLst/>
          </a:prstGeom>
          <a:ln w="0">
            <a:noFill/>
          </a:ln>
        </p:spPr>
      </p:pic>
      <p:pic>
        <p:nvPicPr>
          <p:cNvPr id="135" name="Picture 1" descr=""/>
          <p:cNvPicPr/>
          <p:nvPr/>
        </p:nvPicPr>
        <p:blipFill>
          <a:blip r:embed="rId3"/>
          <a:stretch/>
        </p:blipFill>
        <p:spPr>
          <a:xfrm>
            <a:off x="1677960" y="3452760"/>
            <a:ext cx="1031760" cy="419040"/>
          </a:xfrm>
          <a:prstGeom prst="rect">
            <a:avLst/>
          </a:prstGeom>
          <a:ln w="0">
            <a:noFill/>
          </a:ln>
        </p:spPr>
      </p:pic>
      <p:sp>
        <p:nvSpPr>
          <p:cNvPr id="136"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8" name="PlaceHolder 1"/>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4D0E3-722E-4BC0-9B04-1B8E21E7598E}"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39" name="PlaceHolder 2"/>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0"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AFD4CE-D16E-442E-9A4D-39229D069DB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177"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79" name="Picture 1" descr=""/>
          <p:cNvPicPr/>
          <p:nvPr/>
        </p:nvPicPr>
        <p:blipFill>
          <a:blip r:embed="rId2"/>
          <a:stretch/>
        </p:blipFill>
        <p:spPr>
          <a:xfrm>
            <a:off x="647640" y="3452760"/>
            <a:ext cx="803160" cy="585720"/>
          </a:xfrm>
          <a:prstGeom prst="rect">
            <a:avLst/>
          </a:prstGeom>
          <a:ln w="0">
            <a:noFill/>
          </a:ln>
        </p:spPr>
      </p:pic>
      <p:pic>
        <p:nvPicPr>
          <p:cNvPr id="180" name="Picture 1" descr=""/>
          <p:cNvPicPr/>
          <p:nvPr/>
        </p:nvPicPr>
        <p:blipFill>
          <a:blip r:embed="rId3"/>
          <a:stretch/>
        </p:blipFill>
        <p:spPr>
          <a:xfrm>
            <a:off x="1677960" y="3452760"/>
            <a:ext cx="1031760" cy="419040"/>
          </a:xfrm>
          <a:prstGeom prst="rect">
            <a:avLst/>
          </a:prstGeom>
          <a:ln w="0">
            <a:noFill/>
          </a:ln>
        </p:spPr>
      </p:pic>
      <p:sp>
        <p:nvSpPr>
          <p:cNvPr id="181"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2"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3"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75DEAA-B4E3-4639-B644-4D96D9E27127}"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84"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PlaceHolder 3"/>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36653-DB6C-43A5-84BC-31CA54F073D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222"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24" name="Picture 1" descr=""/>
          <p:cNvPicPr/>
          <p:nvPr/>
        </p:nvPicPr>
        <p:blipFill>
          <a:blip r:embed="rId2"/>
          <a:stretch/>
        </p:blipFill>
        <p:spPr>
          <a:xfrm>
            <a:off x="647640" y="3452760"/>
            <a:ext cx="803160" cy="585720"/>
          </a:xfrm>
          <a:prstGeom prst="rect">
            <a:avLst/>
          </a:prstGeom>
          <a:ln w="0">
            <a:noFill/>
          </a:ln>
        </p:spPr>
      </p:pic>
      <p:pic>
        <p:nvPicPr>
          <p:cNvPr id="225" name="Picture 1" descr=""/>
          <p:cNvPicPr/>
          <p:nvPr/>
        </p:nvPicPr>
        <p:blipFill>
          <a:blip r:embed="rId3"/>
          <a:stretch/>
        </p:blipFill>
        <p:spPr>
          <a:xfrm>
            <a:off x="1677960" y="3452760"/>
            <a:ext cx="1031760" cy="419040"/>
          </a:xfrm>
          <a:prstGeom prst="rect">
            <a:avLst/>
          </a:prstGeom>
          <a:ln w="0">
            <a:noFill/>
          </a:ln>
        </p:spPr>
      </p:pic>
      <p:sp>
        <p:nvSpPr>
          <p:cNvPr id="226"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7"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PlaceHolder 1"/>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8D995-E995-4620-A18D-B4330391A6D9}"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229" name="PlaceHolder 2"/>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0" name="PlaceHolder 3"/>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36798-8D4C-4694-BAA8-78F6D9E5444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267"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8" name="Rectangle 65"/>
          <p:cNvSpPr/>
          <p:nvPr/>
        </p:nvSpPr>
        <p:spPr>
          <a:xfrm>
            <a:off x="1566720" y="3333600"/>
            <a:ext cx="126072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69" name="Picture 1" descr=""/>
          <p:cNvPicPr/>
          <p:nvPr/>
        </p:nvPicPr>
        <p:blipFill>
          <a:blip r:embed="rId2"/>
          <a:stretch/>
        </p:blipFill>
        <p:spPr>
          <a:xfrm>
            <a:off x="647640" y="3452760"/>
            <a:ext cx="803160" cy="585720"/>
          </a:xfrm>
          <a:prstGeom prst="rect">
            <a:avLst/>
          </a:prstGeom>
          <a:ln w="0">
            <a:noFill/>
          </a:ln>
        </p:spPr>
      </p:pic>
      <p:pic>
        <p:nvPicPr>
          <p:cNvPr id="270" name="Picture 1" descr=""/>
          <p:cNvPicPr/>
          <p:nvPr/>
        </p:nvPicPr>
        <p:blipFill>
          <a:blip r:embed="rId3"/>
          <a:stretch/>
        </p:blipFill>
        <p:spPr>
          <a:xfrm>
            <a:off x="1677960" y="3452760"/>
            <a:ext cx="1031760" cy="419040"/>
          </a:xfrm>
          <a:prstGeom prst="rect">
            <a:avLst/>
          </a:prstGeom>
          <a:ln w="0">
            <a:noFill/>
          </a:ln>
        </p:spPr>
      </p:pic>
      <p:sp>
        <p:nvSpPr>
          <p:cNvPr id="271"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2" name="Rectangle 71"/>
          <p:cNvSpPr/>
          <p:nvPr/>
        </p:nvSpPr>
        <p:spPr>
          <a:xfrm>
            <a:off x="1566720" y="0"/>
            <a:ext cx="126072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PlaceHolder 1"/>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53E0E0-07A1-49C3-B706-141C3A10D579}"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274" name="PlaceHolder 2"/>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PlaceHolder 3"/>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CF933-13F0-47A0-BD94-A444B69B4D5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3"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4"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5"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17"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3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56431-1CAE-49F0-9CA7-ABC68AB90E9E}"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319" name="PlaceHolder 4"/>
          <p:cNvSpPr>
            <a:spLocks noGrp="1"/>
          </p:cNvSpPr>
          <p:nvPr>
            <p:ph type="ftr" idx="16"/>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PlaceHolder 5"/>
          <p:cNvSpPr>
            <a:spLocks noGrp="1"/>
          </p:cNvSpPr>
          <p:nvPr>
            <p:ph type="sldNum" idx="17"/>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1657C-C86B-4FFF-B31D-DCD0A7ADB4B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6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363" name="PlaceHolder 3"/>
          <p:cNvSpPr>
            <a:spLocks noGrp="1"/>
          </p:cNvSpPr>
          <p:nvPr>
            <p:ph type="ftr" idx="18"/>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ea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ea typeface="Verdana"/>
              </a:rPr>
              <a:t>Gobierno de Chile | Ministerio del Interior</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p:txBody>
      </p:sp>
      <p:sp>
        <p:nvSpPr>
          <p:cNvPr id="364" name="PlaceHolder 4"/>
          <p:cNvSpPr>
            <a:spLocks noGrp="1"/>
          </p:cNvSpPr>
          <p:nvPr>
            <p:ph type="sldNum" idx="19"/>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3658F-EEA9-4094-9412-77051C5CAC0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1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97.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97.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45.xml"/>
</Relationships>
</file>

<file path=ppt/slides/_rels/slide5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45.xml"/>
</Relationships>
</file>

<file path=ppt/slides/_rels/slide5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45.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2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3 Rectángulo"/>
          <p:cNvSpPr/>
          <p:nvPr/>
        </p:nvSpPr>
        <p:spPr>
          <a:xfrm>
            <a:off x="3851280" y="5518080"/>
            <a:ext cx="51483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ffffff"/>
                </a:solidFill>
                <a:latin typeface="Verdana"/>
                <a:ea typeface="Verdana"/>
              </a:rPr>
              <a:t>Unidad de Prestaciones Monetarias</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bfbfbf"/>
                </a:solidFill>
                <a:latin typeface="Verdana"/>
                <a:ea typeface="Verdana"/>
              </a:rPr>
              <a:t>División de Promoción y Protección Soci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bfbfbf"/>
                </a:solidFill>
                <a:latin typeface="Verdana"/>
                <a:ea typeface="Verdana"/>
              </a:rPr>
              <a:t>Subsecretaría de Servicios Sociales</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bfbfbf"/>
                </a:solidFill>
                <a:latin typeface="Verdana"/>
                <a:ea typeface="Verdana"/>
              </a:rPr>
              <a:t>Ministerio de Desarrollo Social</a:t>
            </a:r>
            <a:endParaRPr b="0" lang="en-US" sz="1600" spc="-1" strike="noStrike">
              <a:solidFill>
                <a:srgbClr val="ffffff"/>
              </a:solidFill>
              <a:latin typeface="Arial"/>
            </a:endParaRPr>
          </a:p>
        </p:txBody>
      </p:sp>
      <p:sp>
        <p:nvSpPr>
          <p:cNvPr id="1386" name="PlaceHolder 1"/>
          <p:cNvSpPr>
            <a:spLocks noGrp="1"/>
          </p:cNvSpPr>
          <p:nvPr>
            <p:ph type="title"/>
          </p:nvPr>
        </p:nvSpPr>
        <p:spPr>
          <a:xfrm>
            <a:off x="642960" y="2143080"/>
            <a:ext cx="7850160" cy="1752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4000" spc="-1" strike="noStrike">
                <a:solidFill>
                  <a:srgbClr val="ffffff"/>
                </a:solidFill>
                <a:latin typeface="Verdana"/>
              </a:rPr>
              <a:t>Prestaciones Monetarias</a:t>
            </a:r>
            <a:endParaRPr b="0" lang="en-US" sz="40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394920" y="247320"/>
            <a:ext cx="604836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Beneficiarios</a:t>
            </a:r>
            <a:endParaRPr b="0" lang="en-US" sz="2400" spc="-1" strike="noStrike">
              <a:solidFill>
                <a:srgbClr val="006cb7"/>
              </a:solidFill>
              <a:latin typeface="Verdana"/>
            </a:endParaRPr>
          </a:p>
        </p:txBody>
      </p:sp>
      <p:sp>
        <p:nvSpPr>
          <p:cNvPr id="1431" name="PlaceHolder 2"/>
          <p:cNvSpPr>
            <a:spLocks noGrp="1"/>
          </p:cNvSpPr>
          <p:nvPr>
            <p:ph/>
          </p:nvPr>
        </p:nvSpPr>
        <p:spPr>
          <a:xfrm>
            <a:off x="394920" y="1390680"/>
            <a:ext cx="7921800" cy="4525920"/>
          </a:xfrm>
          <a:prstGeom prst="rect">
            <a:avLst/>
          </a:prstGeom>
          <a:noFill/>
          <a:ln w="0">
            <a:noFill/>
          </a:ln>
        </p:spPr>
        <p:txBody>
          <a:bodyPr anchor="t">
            <a:normAutofit/>
          </a:bodyPr>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	</a:t>
            </a:r>
            <a:r>
              <a:rPr b="0" lang="es-ES" sz="2000" spc="-1" strike="noStrike">
                <a:solidFill>
                  <a:srgbClr val="000000"/>
                </a:solidFill>
                <a:latin typeface="Verdana"/>
                <a:ea typeface="Verdana"/>
              </a:rPr>
              <a:t>El Subsidio a la Discapacidad mental, se reajusta anualmente, en el 100% de la variación experimentada por el IPC y el monto vigente para este programa a contar del 01 de Enero de 2014, asciende a </a:t>
            </a:r>
            <a:r>
              <a:rPr b="1" lang="es-ES" sz="2000" spc="-1" strike="noStrike">
                <a:solidFill>
                  <a:srgbClr val="000000"/>
                </a:solidFill>
                <a:latin typeface="Verdana"/>
                <a:ea typeface="Verdana"/>
              </a:rPr>
              <a:t>$58.264,26 </a:t>
            </a:r>
            <a:r>
              <a:rPr b="0" lang="es-ES" sz="2000" spc="-1" strike="noStrike">
                <a:solidFill>
                  <a:srgbClr val="000000"/>
                </a:solidFill>
                <a:latin typeface="Verdana"/>
                <a:ea typeface="Verdana"/>
              </a:rPr>
              <a:t>pesos (US$ 105).</a:t>
            </a:r>
            <a:endParaRPr b="0" lang="en-US" sz="2000" spc="-1" strike="noStrike">
              <a:solidFill>
                <a:srgbClr val="595959"/>
              </a:solidFill>
              <a:latin typeface="Calibri"/>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libri"/>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libri"/>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libri"/>
            </a:endParaRPr>
          </a:p>
        </p:txBody>
      </p:sp>
      <p:sp>
        <p:nvSpPr>
          <p:cNvPr id="1432" name="Text Box 7"/>
          <p:cNvSpPr/>
          <p:nvPr/>
        </p:nvSpPr>
        <p:spPr>
          <a:xfrm>
            <a:off x="2050920" y="3524400"/>
            <a:ext cx="6266160" cy="1692000"/>
          </a:xfrm>
          <a:prstGeom prst="rect">
            <a:avLst/>
          </a:prstGeom>
          <a:noFill/>
          <a:ln w="0">
            <a:noFill/>
          </a:ln>
        </p:spPr>
        <p:style>
          <a:lnRef idx="0"/>
          <a:fillRef idx="0"/>
          <a:effectRef idx="0"/>
          <a:fontRef idx="minor"/>
        </p:style>
        <p:txBody>
          <a:bodyPr lIns="90000" rIns="90000" tIns="46800" bIns="46800" anchor="t">
            <a:spAutoFit/>
          </a:bodyPr>
          <a:p>
            <a:pPr marL="384120" indent="-384120" algn="just">
              <a:lnSpc>
                <a:spcPct val="100000"/>
              </a:lnSpc>
              <a:spcBef>
                <a:spcPts val="1188"/>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1900" spc="-1" strike="noStrike">
                <a:solidFill>
                  <a:srgbClr val="ffffff"/>
                </a:solidFill>
                <a:latin typeface="Verdana"/>
              </a:rPr>
              <a:t>Su condición debe ser evaluada y declarada por la Comisión de Medicina Preventiva e Invalidez (COMPIN) correspondiente.</a:t>
            </a:r>
            <a:endParaRPr b="0" lang="en-US" sz="1900" spc="-1" strike="noStrike">
              <a:solidFill>
                <a:srgbClr val="ffffff"/>
              </a:solidFill>
              <a:latin typeface="Arial"/>
            </a:endParaRPr>
          </a:p>
          <a:p>
            <a:pPr marL="384120" indent="-384120" algn="just">
              <a:lnSpc>
                <a:spcPct val="100000"/>
              </a:lnSpc>
              <a:spcBef>
                <a:spcPts val="1188"/>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1900" spc="-1" strike="noStrike">
                <a:solidFill>
                  <a:srgbClr val="ffffff"/>
                </a:solidFill>
                <a:latin typeface="Verdana"/>
              </a:rPr>
              <a:t>Pueden postular por intermedio de la persona que los tenga a su cargo.</a:t>
            </a:r>
            <a:endParaRPr b="0" lang="en-US" sz="1900" spc="-1" strike="noStrike">
              <a:solidFill>
                <a:srgbClr val="ffffff"/>
              </a:solidFill>
              <a:latin typeface="Arial"/>
            </a:endParaRPr>
          </a:p>
        </p:txBody>
      </p:sp>
      <p:pic>
        <p:nvPicPr>
          <p:cNvPr id="1433" name="6 Imagen" descr="Macintosh HD:Users:valeriasoto:gráfica:mds:Logos Ministerio 2.0:logo MDS.png"/>
          <p:cNvPicPr/>
          <p:nvPr/>
        </p:nvPicPr>
        <p:blipFill>
          <a:blip r:embed="rId1"/>
          <a:stretch/>
        </p:blipFill>
        <p:spPr>
          <a:xfrm>
            <a:off x="7610400" y="0"/>
            <a:ext cx="1533600" cy="1390680"/>
          </a:xfrm>
          <a:prstGeom prst="rect">
            <a:avLst/>
          </a:prstGeom>
          <a:ln w="0">
            <a:noFill/>
          </a:ln>
        </p:spPr>
      </p:pic>
      <p:pic>
        <p:nvPicPr>
          <p:cNvPr id="1434" name="Picture 7" descr="C:\Documents and Settings\fsocias\Configuración local\Archivos temporales de Internet\Content.IE5\WQJQYZA5\MC900088744[1].wmf"/>
          <p:cNvPicPr/>
          <p:nvPr/>
        </p:nvPicPr>
        <p:blipFill>
          <a:blip r:embed="rId2"/>
          <a:stretch/>
        </p:blipFill>
        <p:spPr>
          <a:xfrm>
            <a:off x="900000" y="3600360"/>
            <a:ext cx="792360" cy="1625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p:nvPr>
        </p:nvSpPr>
        <p:spPr>
          <a:xfrm>
            <a:off x="713880" y="1857240"/>
            <a:ext cx="738684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Carecer de recursos; esto significa no tener ingresos propios ni per cápita del grupo familiar superiores al 50% de la pensión mínima (artículo 26º, Ley Nº 15.386). Monto de la Pensión mínima </a:t>
            </a:r>
            <a:r>
              <a:rPr b="1" lang="es-ES" sz="2000" spc="-1" strike="noStrike">
                <a:solidFill>
                  <a:srgbClr val="000000"/>
                </a:solidFill>
                <a:latin typeface="Verdana"/>
              </a:rPr>
              <a:t>$116.945,31 (US$210)</a:t>
            </a:r>
            <a:r>
              <a:rPr b="0" lang="es-ES" sz="2000" spc="-1" strike="noStrike">
                <a:solidFill>
                  <a:srgbClr val="000000"/>
                </a:solidFill>
                <a:latin typeface="Verdana"/>
              </a:rPr>
              <a:t>, por lo tanto, el ingreso debe ser inferior a </a:t>
            </a:r>
            <a:r>
              <a:rPr b="1" lang="es-ES" sz="2000" spc="-1" strike="noStrike">
                <a:solidFill>
                  <a:srgbClr val="000000"/>
                </a:solidFill>
                <a:latin typeface="Verdana"/>
              </a:rPr>
              <a:t>$58.472,76</a:t>
            </a:r>
            <a:r>
              <a:rPr b="0" lang="es-ES" sz="2000" spc="-1" strike="noStrike">
                <a:solidFill>
                  <a:srgbClr val="000000"/>
                </a:solidFill>
                <a:latin typeface="Verdana"/>
              </a:rPr>
              <a:t> (US$105).</a:t>
            </a:r>
            <a:endParaRPr b="0" lang="en-US" sz="2000" spc="-1" strike="noStrike">
              <a:solidFill>
                <a:srgbClr val="595959"/>
              </a:solidFill>
              <a:latin typeface="Calibri"/>
            </a:endParaRPr>
          </a:p>
        </p:txBody>
      </p:sp>
      <p:pic>
        <p:nvPicPr>
          <p:cNvPr id="1436" name="Picture 1028" descr="HAND29"/>
          <p:cNvPicPr/>
          <p:nvPr/>
        </p:nvPicPr>
        <p:blipFill>
          <a:blip r:embed="rId1"/>
          <a:stretch/>
        </p:blipFill>
        <p:spPr>
          <a:xfrm>
            <a:off x="6086520" y="4221000"/>
            <a:ext cx="1293840" cy="1295640"/>
          </a:xfrm>
          <a:prstGeom prst="rect">
            <a:avLst/>
          </a:prstGeom>
          <a:ln w="0">
            <a:noFill/>
          </a:ln>
        </p:spPr>
      </p:pic>
      <p:sp>
        <p:nvSpPr>
          <p:cNvPr id="1437" name="PlaceHolder 2"/>
          <p:cNvSpPr>
            <a:spLocks noGrp="1"/>
          </p:cNvSpPr>
          <p:nvPr>
            <p:ph type="title"/>
          </p:nvPr>
        </p:nvSpPr>
        <p:spPr>
          <a:xfrm>
            <a:off x="268200" y="247320"/>
            <a:ext cx="711216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Requisitos para obtener el Subsidio</a:t>
            </a:r>
            <a:endParaRPr b="0" lang="en-US" sz="2400" spc="-1" strike="noStrike">
              <a:solidFill>
                <a:srgbClr val="006cb7"/>
              </a:solidFill>
              <a:latin typeface="Verdana"/>
            </a:endParaRPr>
          </a:p>
        </p:txBody>
      </p:sp>
      <p:pic>
        <p:nvPicPr>
          <p:cNvPr id="1438"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p:nvPr>
        </p:nvSpPr>
        <p:spPr>
          <a:xfrm>
            <a:off x="293760" y="1430280"/>
            <a:ext cx="823896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Pueden ser beneficiarios de asignación familiar, a su valor máximo, reconociendo como causantes a sus descendientes que vivan a sus expensas.</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Tienen derecho a asistencia médica gratuita de acuerdo al régimen de salud de la Ley Nº 18.469 (Art.6º letra e).</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Tienen derecho a la asignación por muerte del D.F.L. Nº 90, de 1979 equivalente a tres ingresos mínimos sin incremento.</a:t>
            </a:r>
            <a:endParaRPr b="0" lang="en-US" sz="2000" spc="-1" strike="noStrike">
              <a:solidFill>
                <a:srgbClr val="595959"/>
              </a:solidFill>
              <a:latin typeface="Calibri"/>
            </a:endParaRPr>
          </a:p>
        </p:txBody>
      </p:sp>
      <p:grpSp>
        <p:nvGrpSpPr>
          <p:cNvPr id="1440" name="Group 1032"/>
          <p:cNvGrpSpPr/>
          <p:nvPr/>
        </p:nvGrpSpPr>
        <p:grpSpPr>
          <a:xfrm>
            <a:off x="7145280" y="5029200"/>
            <a:ext cx="1258920" cy="1243080"/>
            <a:chOff x="7145280" y="5029200"/>
            <a:chExt cx="1258920" cy="1243080"/>
          </a:xfrm>
        </p:grpSpPr>
        <p:sp>
          <p:nvSpPr>
            <p:cNvPr id="1441" name="Freeform 1033"/>
            <p:cNvSpPr/>
            <p:nvPr/>
          </p:nvSpPr>
          <p:spPr>
            <a:xfrm>
              <a:off x="7145280" y="5029200"/>
              <a:ext cx="1258920" cy="1243080"/>
            </a:xfrm>
            <a:custGeom>
              <a:avLst/>
              <a:gdLst>
                <a:gd name="textAreaLeft" fmla="*/ 0 w 1258920"/>
                <a:gd name="textAreaRight" fmla="*/ 1259280 w 1258920"/>
                <a:gd name="textAreaTop" fmla="*/ 0 h 1243080"/>
                <a:gd name="textAreaBottom" fmla="*/ 1243440 h 1243080"/>
              </a:gdLst>
              <a:ahLst/>
              <a:rect l="textAreaLeft" t="textAreaTop" r="textAreaRight" b="textAreaBottom"/>
              <a:pathLst>
                <a:path w="8599" h="8096">
                  <a:moveTo>
                    <a:pt x="1786" y="8046"/>
                  </a:moveTo>
                  <a:lnTo>
                    <a:pt x="891" y="7951"/>
                  </a:lnTo>
                  <a:lnTo>
                    <a:pt x="859" y="7937"/>
                  </a:lnTo>
                  <a:lnTo>
                    <a:pt x="827" y="7922"/>
                  </a:lnTo>
                  <a:lnTo>
                    <a:pt x="796" y="7907"/>
                  </a:lnTo>
                  <a:lnTo>
                    <a:pt x="764" y="7892"/>
                  </a:lnTo>
                  <a:lnTo>
                    <a:pt x="732" y="7876"/>
                  </a:lnTo>
                  <a:lnTo>
                    <a:pt x="703" y="7860"/>
                  </a:lnTo>
                  <a:lnTo>
                    <a:pt x="671" y="7844"/>
                  </a:lnTo>
                  <a:lnTo>
                    <a:pt x="641" y="7828"/>
                  </a:lnTo>
                  <a:lnTo>
                    <a:pt x="612" y="7811"/>
                  </a:lnTo>
                  <a:lnTo>
                    <a:pt x="583" y="7793"/>
                  </a:lnTo>
                  <a:lnTo>
                    <a:pt x="554" y="7776"/>
                  </a:lnTo>
                  <a:lnTo>
                    <a:pt x="525" y="7758"/>
                  </a:lnTo>
                  <a:lnTo>
                    <a:pt x="496" y="7739"/>
                  </a:lnTo>
                  <a:lnTo>
                    <a:pt x="469" y="7721"/>
                  </a:lnTo>
                  <a:lnTo>
                    <a:pt x="442" y="7701"/>
                  </a:lnTo>
                  <a:lnTo>
                    <a:pt x="415" y="7682"/>
                  </a:lnTo>
                  <a:lnTo>
                    <a:pt x="388" y="7661"/>
                  </a:lnTo>
                  <a:lnTo>
                    <a:pt x="363" y="7640"/>
                  </a:lnTo>
                  <a:lnTo>
                    <a:pt x="336" y="7619"/>
                  </a:lnTo>
                  <a:lnTo>
                    <a:pt x="311" y="7599"/>
                  </a:lnTo>
                  <a:lnTo>
                    <a:pt x="287" y="7577"/>
                  </a:lnTo>
                  <a:lnTo>
                    <a:pt x="262" y="7554"/>
                  </a:lnTo>
                  <a:lnTo>
                    <a:pt x="238" y="7531"/>
                  </a:lnTo>
                  <a:lnTo>
                    <a:pt x="215" y="7508"/>
                  </a:lnTo>
                  <a:lnTo>
                    <a:pt x="192" y="7483"/>
                  </a:lnTo>
                  <a:lnTo>
                    <a:pt x="170" y="7459"/>
                  </a:lnTo>
                  <a:lnTo>
                    <a:pt x="148" y="7435"/>
                  </a:lnTo>
                  <a:lnTo>
                    <a:pt x="127" y="7410"/>
                  </a:lnTo>
                  <a:lnTo>
                    <a:pt x="106" y="7383"/>
                  </a:lnTo>
                  <a:lnTo>
                    <a:pt x="86" y="7357"/>
                  </a:lnTo>
                  <a:lnTo>
                    <a:pt x="67" y="7330"/>
                  </a:lnTo>
                  <a:lnTo>
                    <a:pt x="47" y="7303"/>
                  </a:lnTo>
                  <a:lnTo>
                    <a:pt x="97" y="4668"/>
                  </a:lnTo>
                  <a:lnTo>
                    <a:pt x="78" y="4547"/>
                  </a:lnTo>
                  <a:lnTo>
                    <a:pt x="63" y="4427"/>
                  </a:lnTo>
                  <a:lnTo>
                    <a:pt x="49" y="4307"/>
                  </a:lnTo>
                  <a:lnTo>
                    <a:pt x="37" y="4188"/>
                  </a:lnTo>
                  <a:lnTo>
                    <a:pt x="26" y="4068"/>
                  </a:lnTo>
                  <a:lnTo>
                    <a:pt x="18" y="3949"/>
                  </a:lnTo>
                  <a:lnTo>
                    <a:pt x="11" y="3829"/>
                  </a:lnTo>
                  <a:lnTo>
                    <a:pt x="6" y="3711"/>
                  </a:lnTo>
                  <a:lnTo>
                    <a:pt x="2" y="3592"/>
                  </a:lnTo>
                  <a:lnTo>
                    <a:pt x="0" y="3473"/>
                  </a:lnTo>
                  <a:lnTo>
                    <a:pt x="0" y="3355"/>
                  </a:lnTo>
                  <a:lnTo>
                    <a:pt x="0" y="3236"/>
                  </a:lnTo>
                  <a:lnTo>
                    <a:pt x="2" y="3117"/>
                  </a:lnTo>
                  <a:lnTo>
                    <a:pt x="4" y="2999"/>
                  </a:lnTo>
                  <a:lnTo>
                    <a:pt x="9" y="2880"/>
                  </a:lnTo>
                  <a:lnTo>
                    <a:pt x="15" y="2762"/>
                  </a:lnTo>
                  <a:lnTo>
                    <a:pt x="21" y="2643"/>
                  </a:lnTo>
                  <a:lnTo>
                    <a:pt x="27" y="2524"/>
                  </a:lnTo>
                  <a:lnTo>
                    <a:pt x="36" y="2406"/>
                  </a:lnTo>
                  <a:lnTo>
                    <a:pt x="45" y="2287"/>
                  </a:lnTo>
                  <a:lnTo>
                    <a:pt x="54" y="2168"/>
                  </a:lnTo>
                  <a:lnTo>
                    <a:pt x="64" y="2048"/>
                  </a:lnTo>
                  <a:lnTo>
                    <a:pt x="76" y="1930"/>
                  </a:lnTo>
                  <a:lnTo>
                    <a:pt x="87" y="1810"/>
                  </a:lnTo>
                  <a:lnTo>
                    <a:pt x="99" y="1691"/>
                  </a:lnTo>
                  <a:lnTo>
                    <a:pt x="112" y="1572"/>
                  </a:lnTo>
                  <a:lnTo>
                    <a:pt x="124" y="1452"/>
                  </a:lnTo>
                  <a:lnTo>
                    <a:pt x="137" y="1332"/>
                  </a:lnTo>
                  <a:lnTo>
                    <a:pt x="151" y="1211"/>
                  </a:lnTo>
                  <a:lnTo>
                    <a:pt x="165" y="1091"/>
                  </a:lnTo>
                  <a:lnTo>
                    <a:pt x="177" y="970"/>
                  </a:lnTo>
                  <a:lnTo>
                    <a:pt x="191" y="849"/>
                  </a:lnTo>
                  <a:lnTo>
                    <a:pt x="438" y="452"/>
                  </a:lnTo>
                  <a:lnTo>
                    <a:pt x="891" y="207"/>
                  </a:lnTo>
                  <a:lnTo>
                    <a:pt x="2384" y="5"/>
                  </a:lnTo>
                  <a:lnTo>
                    <a:pt x="4911" y="56"/>
                  </a:lnTo>
                  <a:lnTo>
                    <a:pt x="7047" y="5"/>
                  </a:lnTo>
                  <a:lnTo>
                    <a:pt x="7095" y="1"/>
                  </a:lnTo>
                  <a:lnTo>
                    <a:pt x="7143" y="0"/>
                  </a:lnTo>
                  <a:lnTo>
                    <a:pt x="7192" y="1"/>
                  </a:lnTo>
                  <a:lnTo>
                    <a:pt x="7244" y="4"/>
                  </a:lnTo>
                  <a:lnTo>
                    <a:pt x="7296" y="8"/>
                  </a:lnTo>
                  <a:lnTo>
                    <a:pt x="7349" y="15"/>
                  </a:lnTo>
                  <a:lnTo>
                    <a:pt x="7403" y="25"/>
                  </a:lnTo>
                  <a:lnTo>
                    <a:pt x="7459" y="35"/>
                  </a:lnTo>
                  <a:lnTo>
                    <a:pt x="7513" y="49"/>
                  </a:lnTo>
                  <a:lnTo>
                    <a:pt x="7568" y="63"/>
                  </a:lnTo>
                  <a:lnTo>
                    <a:pt x="7623" y="80"/>
                  </a:lnTo>
                  <a:lnTo>
                    <a:pt x="7679" y="98"/>
                  </a:lnTo>
                  <a:lnTo>
                    <a:pt x="7733" y="119"/>
                  </a:lnTo>
                  <a:lnTo>
                    <a:pt x="7787" y="142"/>
                  </a:lnTo>
                  <a:lnTo>
                    <a:pt x="7841" y="167"/>
                  </a:lnTo>
                  <a:lnTo>
                    <a:pt x="7894" y="194"/>
                  </a:lnTo>
                  <a:lnTo>
                    <a:pt x="7946" y="223"/>
                  </a:lnTo>
                  <a:lnTo>
                    <a:pt x="7995" y="254"/>
                  </a:lnTo>
                  <a:lnTo>
                    <a:pt x="8045" y="286"/>
                  </a:lnTo>
                  <a:lnTo>
                    <a:pt x="8093" y="321"/>
                  </a:lnTo>
                  <a:lnTo>
                    <a:pt x="8139" y="357"/>
                  </a:lnTo>
                  <a:lnTo>
                    <a:pt x="8183" y="397"/>
                  </a:lnTo>
                  <a:lnTo>
                    <a:pt x="8226" y="437"/>
                  </a:lnTo>
                  <a:lnTo>
                    <a:pt x="8265" y="480"/>
                  </a:lnTo>
                  <a:lnTo>
                    <a:pt x="8303" y="524"/>
                  </a:lnTo>
                  <a:lnTo>
                    <a:pt x="8338" y="572"/>
                  </a:lnTo>
                  <a:lnTo>
                    <a:pt x="8370" y="620"/>
                  </a:lnTo>
                  <a:lnTo>
                    <a:pt x="8400" y="671"/>
                  </a:lnTo>
                  <a:lnTo>
                    <a:pt x="8426" y="724"/>
                  </a:lnTo>
                  <a:lnTo>
                    <a:pt x="8449" y="778"/>
                  </a:lnTo>
                  <a:lnTo>
                    <a:pt x="8469" y="834"/>
                  </a:lnTo>
                  <a:lnTo>
                    <a:pt x="8485" y="893"/>
                  </a:lnTo>
                  <a:lnTo>
                    <a:pt x="8510" y="1066"/>
                  </a:lnTo>
                  <a:lnTo>
                    <a:pt x="8532" y="1238"/>
                  </a:lnTo>
                  <a:lnTo>
                    <a:pt x="8551" y="1409"/>
                  </a:lnTo>
                  <a:lnTo>
                    <a:pt x="8566" y="1581"/>
                  </a:lnTo>
                  <a:lnTo>
                    <a:pt x="8578" y="1752"/>
                  </a:lnTo>
                  <a:lnTo>
                    <a:pt x="8586" y="1923"/>
                  </a:lnTo>
                  <a:lnTo>
                    <a:pt x="8593" y="2093"/>
                  </a:lnTo>
                  <a:lnTo>
                    <a:pt x="8597" y="2264"/>
                  </a:lnTo>
                  <a:lnTo>
                    <a:pt x="8599" y="2434"/>
                  </a:lnTo>
                  <a:lnTo>
                    <a:pt x="8599" y="2604"/>
                  </a:lnTo>
                  <a:lnTo>
                    <a:pt x="8597" y="2773"/>
                  </a:lnTo>
                  <a:lnTo>
                    <a:pt x="8593" y="2942"/>
                  </a:lnTo>
                  <a:lnTo>
                    <a:pt x="8589" y="3112"/>
                  </a:lnTo>
                  <a:lnTo>
                    <a:pt x="8583" y="3281"/>
                  </a:lnTo>
                  <a:lnTo>
                    <a:pt x="8577" y="3450"/>
                  </a:lnTo>
                  <a:lnTo>
                    <a:pt x="8570" y="3619"/>
                  </a:lnTo>
                  <a:lnTo>
                    <a:pt x="8562" y="3787"/>
                  </a:lnTo>
                  <a:lnTo>
                    <a:pt x="8555" y="3956"/>
                  </a:lnTo>
                  <a:lnTo>
                    <a:pt x="8548" y="4124"/>
                  </a:lnTo>
                  <a:lnTo>
                    <a:pt x="8541" y="4292"/>
                  </a:lnTo>
                  <a:lnTo>
                    <a:pt x="8536" y="4461"/>
                  </a:lnTo>
                  <a:lnTo>
                    <a:pt x="8530" y="4628"/>
                  </a:lnTo>
                  <a:lnTo>
                    <a:pt x="8526" y="4796"/>
                  </a:lnTo>
                  <a:lnTo>
                    <a:pt x="8524" y="4964"/>
                  </a:lnTo>
                  <a:lnTo>
                    <a:pt x="8523" y="5132"/>
                  </a:lnTo>
                  <a:lnTo>
                    <a:pt x="8523" y="5299"/>
                  </a:lnTo>
                  <a:lnTo>
                    <a:pt x="8526" y="5467"/>
                  </a:lnTo>
                  <a:lnTo>
                    <a:pt x="8531" y="5635"/>
                  </a:lnTo>
                  <a:lnTo>
                    <a:pt x="8539" y="5803"/>
                  </a:lnTo>
                  <a:lnTo>
                    <a:pt x="8549" y="5971"/>
                  </a:lnTo>
                  <a:lnTo>
                    <a:pt x="8563" y="6138"/>
                  </a:lnTo>
                  <a:lnTo>
                    <a:pt x="8579" y="6306"/>
                  </a:lnTo>
                  <a:lnTo>
                    <a:pt x="8333" y="7346"/>
                  </a:lnTo>
                  <a:lnTo>
                    <a:pt x="8037" y="7749"/>
                  </a:lnTo>
                  <a:lnTo>
                    <a:pt x="7967" y="7784"/>
                  </a:lnTo>
                  <a:lnTo>
                    <a:pt x="7897" y="7815"/>
                  </a:lnTo>
                  <a:lnTo>
                    <a:pt x="7826" y="7842"/>
                  </a:lnTo>
                  <a:lnTo>
                    <a:pt x="7756" y="7866"/>
                  </a:lnTo>
                  <a:lnTo>
                    <a:pt x="7684" y="7887"/>
                  </a:lnTo>
                  <a:lnTo>
                    <a:pt x="7614" y="7904"/>
                  </a:lnTo>
                  <a:lnTo>
                    <a:pt x="7543" y="7919"/>
                  </a:lnTo>
                  <a:lnTo>
                    <a:pt x="7470" y="7930"/>
                  </a:lnTo>
                  <a:lnTo>
                    <a:pt x="7399" y="7941"/>
                  </a:lnTo>
                  <a:lnTo>
                    <a:pt x="7327" y="7948"/>
                  </a:lnTo>
                  <a:lnTo>
                    <a:pt x="7255" y="7953"/>
                  </a:lnTo>
                  <a:lnTo>
                    <a:pt x="7183" y="7957"/>
                  </a:lnTo>
                  <a:lnTo>
                    <a:pt x="7111" y="7958"/>
                  </a:lnTo>
                  <a:lnTo>
                    <a:pt x="7038" y="7959"/>
                  </a:lnTo>
                  <a:lnTo>
                    <a:pt x="6966" y="7958"/>
                  </a:lnTo>
                  <a:lnTo>
                    <a:pt x="6893" y="7957"/>
                  </a:lnTo>
                  <a:lnTo>
                    <a:pt x="6822" y="7953"/>
                  </a:lnTo>
                  <a:lnTo>
                    <a:pt x="6749" y="7951"/>
                  </a:lnTo>
                  <a:lnTo>
                    <a:pt x="6676" y="7948"/>
                  </a:lnTo>
                  <a:lnTo>
                    <a:pt x="6604" y="7943"/>
                  </a:lnTo>
                  <a:lnTo>
                    <a:pt x="6532" y="7940"/>
                  </a:lnTo>
                  <a:lnTo>
                    <a:pt x="6460" y="7935"/>
                  </a:lnTo>
                  <a:lnTo>
                    <a:pt x="6387" y="7933"/>
                  </a:lnTo>
                  <a:lnTo>
                    <a:pt x="6316" y="7929"/>
                  </a:lnTo>
                  <a:lnTo>
                    <a:pt x="6244" y="7927"/>
                  </a:lnTo>
                  <a:lnTo>
                    <a:pt x="6173" y="7926"/>
                  </a:lnTo>
                  <a:lnTo>
                    <a:pt x="6102" y="7926"/>
                  </a:lnTo>
                  <a:lnTo>
                    <a:pt x="6030" y="7928"/>
                  </a:lnTo>
                  <a:lnTo>
                    <a:pt x="5960" y="7930"/>
                  </a:lnTo>
                  <a:lnTo>
                    <a:pt x="5890" y="7935"/>
                  </a:lnTo>
                  <a:lnTo>
                    <a:pt x="5819" y="7942"/>
                  </a:lnTo>
                  <a:lnTo>
                    <a:pt x="5749" y="7951"/>
                  </a:lnTo>
                  <a:lnTo>
                    <a:pt x="5680" y="7960"/>
                  </a:lnTo>
                  <a:lnTo>
                    <a:pt x="5611" y="7968"/>
                  </a:lnTo>
                  <a:lnTo>
                    <a:pt x="5542" y="7978"/>
                  </a:lnTo>
                  <a:lnTo>
                    <a:pt x="5474" y="7986"/>
                  </a:lnTo>
                  <a:lnTo>
                    <a:pt x="5407" y="7995"/>
                  </a:lnTo>
                  <a:lnTo>
                    <a:pt x="5340" y="8003"/>
                  </a:lnTo>
                  <a:lnTo>
                    <a:pt x="5273" y="8011"/>
                  </a:lnTo>
                  <a:lnTo>
                    <a:pt x="5207" y="8018"/>
                  </a:lnTo>
                  <a:lnTo>
                    <a:pt x="5141" y="8026"/>
                  </a:lnTo>
                  <a:lnTo>
                    <a:pt x="5075" y="8033"/>
                  </a:lnTo>
                  <a:lnTo>
                    <a:pt x="5011" y="8039"/>
                  </a:lnTo>
                  <a:lnTo>
                    <a:pt x="4945" y="8044"/>
                  </a:lnTo>
                  <a:lnTo>
                    <a:pt x="4881" y="8050"/>
                  </a:lnTo>
                  <a:lnTo>
                    <a:pt x="4816" y="8055"/>
                  </a:lnTo>
                  <a:lnTo>
                    <a:pt x="4752" y="8059"/>
                  </a:lnTo>
                  <a:lnTo>
                    <a:pt x="4688" y="8063"/>
                  </a:lnTo>
                  <a:lnTo>
                    <a:pt x="4624" y="8066"/>
                  </a:lnTo>
                  <a:lnTo>
                    <a:pt x="4560" y="8067"/>
                  </a:lnTo>
                  <a:lnTo>
                    <a:pt x="4497" y="8070"/>
                  </a:lnTo>
                  <a:lnTo>
                    <a:pt x="4434" y="8070"/>
                  </a:lnTo>
                  <a:lnTo>
                    <a:pt x="4370" y="8070"/>
                  </a:lnTo>
                  <a:lnTo>
                    <a:pt x="4307" y="8069"/>
                  </a:lnTo>
                  <a:lnTo>
                    <a:pt x="4244" y="8066"/>
                  </a:lnTo>
                  <a:lnTo>
                    <a:pt x="4180" y="8063"/>
                  </a:lnTo>
                  <a:lnTo>
                    <a:pt x="4117" y="8058"/>
                  </a:lnTo>
                  <a:lnTo>
                    <a:pt x="4053" y="8052"/>
                  </a:lnTo>
                  <a:lnTo>
                    <a:pt x="3990" y="8047"/>
                  </a:lnTo>
                  <a:lnTo>
                    <a:pt x="3927" y="8039"/>
                  </a:lnTo>
                  <a:lnTo>
                    <a:pt x="3863" y="8029"/>
                  </a:lnTo>
                  <a:lnTo>
                    <a:pt x="3799" y="8019"/>
                  </a:lnTo>
                  <a:lnTo>
                    <a:pt x="3736" y="8008"/>
                  </a:lnTo>
                  <a:lnTo>
                    <a:pt x="3671" y="7995"/>
                  </a:lnTo>
                  <a:lnTo>
                    <a:pt x="1881" y="8096"/>
                  </a:lnTo>
                  <a:lnTo>
                    <a:pt x="1786" y="8046"/>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Freeform 1034"/>
            <p:cNvSpPr/>
            <p:nvPr/>
          </p:nvSpPr>
          <p:spPr>
            <a:xfrm>
              <a:off x="7203240" y="5083560"/>
              <a:ext cx="1132920" cy="1123920"/>
            </a:xfrm>
            <a:custGeom>
              <a:avLst/>
              <a:gdLst>
                <a:gd name="textAreaLeft" fmla="*/ 0 w 1132920"/>
                <a:gd name="textAreaRight" fmla="*/ 1133280 w 1132920"/>
                <a:gd name="textAreaTop" fmla="*/ 0 h 1123920"/>
                <a:gd name="textAreaBottom" fmla="*/ 1124280 h 1123920"/>
              </a:gdLst>
              <a:ahLst/>
              <a:rect l="textAreaLeft" t="textAreaTop" r="textAreaRight" b="textAreaBottom"/>
              <a:pathLst>
                <a:path w="7739" h="7319">
                  <a:moveTo>
                    <a:pt x="650" y="7247"/>
                  </a:moveTo>
                  <a:lnTo>
                    <a:pt x="650" y="7247"/>
                  </a:lnTo>
                  <a:lnTo>
                    <a:pt x="94" y="6844"/>
                  </a:lnTo>
                  <a:lnTo>
                    <a:pt x="94" y="6829"/>
                  </a:lnTo>
                  <a:lnTo>
                    <a:pt x="94" y="6817"/>
                  </a:lnTo>
                  <a:lnTo>
                    <a:pt x="94" y="6810"/>
                  </a:lnTo>
                  <a:lnTo>
                    <a:pt x="94" y="6805"/>
                  </a:lnTo>
                  <a:lnTo>
                    <a:pt x="94" y="6801"/>
                  </a:lnTo>
                  <a:lnTo>
                    <a:pt x="94" y="6800"/>
                  </a:lnTo>
                  <a:lnTo>
                    <a:pt x="94" y="6799"/>
                  </a:lnTo>
                  <a:lnTo>
                    <a:pt x="0" y="3233"/>
                  </a:lnTo>
                  <a:lnTo>
                    <a:pt x="151" y="3328"/>
                  </a:lnTo>
                  <a:lnTo>
                    <a:pt x="166" y="3344"/>
                  </a:lnTo>
                  <a:lnTo>
                    <a:pt x="177" y="3357"/>
                  </a:lnTo>
                  <a:lnTo>
                    <a:pt x="184" y="3366"/>
                  </a:lnTo>
                  <a:lnTo>
                    <a:pt x="190" y="3372"/>
                  </a:lnTo>
                  <a:lnTo>
                    <a:pt x="193" y="3375"/>
                  </a:lnTo>
                  <a:lnTo>
                    <a:pt x="195" y="3376"/>
                  </a:lnTo>
                  <a:lnTo>
                    <a:pt x="196" y="3377"/>
                  </a:lnTo>
                  <a:lnTo>
                    <a:pt x="223" y="3396"/>
                  </a:lnTo>
                  <a:lnTo>
                    <a:pt x="251" y="3413"/>
                  </a:lnTo>
                  <a:lnTo>
                    <a:pt x="278" y="3430"/>
                  </a:lnTo>
                  <a:lnTo>
                    <a:pt x="304" y="3447"/>
                  </a:lnTo>
                  <a:lnTo>
                    <a:pt x="331" y="3463"/>
                  </a:lnTo>
                  <a:lnTo>
                    <a:pt x="356" y="3478"/>
                  </a:lnTo>
                  <a:lnTo>
                    <a:pt x="381" y="3493"/>
                  </a:lnTo>
                  <a:lnTo>
                    <a:pt x="405" y="3508"/>
                  </a:lnTo>
                  <a:lnTo>
                    <a:pt x="430" y="3521"/>
                  </a:lnTo>
                  <a:lnTo>
                    <a:pt x="454" y="3534"/>
                  </a:lnTo>
                  <a:lnTo>
                    <a:pt x="478" y="3547"/>
                  </a:lnTo>
                  <a:lnTo>
                    <a:pt x="501" y="3559"/>
                  </a:lnTo>
                  <a:lnTo>
                    <a:pt x="525" y="3571"/>
                  </a:lnTo>
                  <a:lnTo>
                    <a:pt x="548" y="3581"/>
                  </a:lnTo>
                  <a:lnTo>
                    <a:pt x="571" y="3592"/>
                  </a:lnTo>
                  <a:lnTo>
                    <a:pt x="594" y="3602"/>
                  </a:lnTo>
                  <a:lnTo>
                    <a:pt x="619" y="3611"/>
                  </a:lnTo>
                  <a:lnTo>
                    <a:pt x="642" y="3619"/>
                  </a:lnTo>
                  <a:lnTo>
                    <a:pt x="665" y="3627"/>
                  </a:lnTo>
                  <a:lnTo>
                    <a:pt x="688" y="3636"/>
                  </a:lnTo>
                  <a:lnTo>
                    <a:pt x="712" y="3642"/>
                  </a:lnTo>
                  <a:lnTo>
                    <a:pt x="735" y="3648"/>
                  </a:lnTo>
                  <a:lnTo>
                    <a:pt x="759" y="3654"/>
                  </a:lnTo>
                  <a:lnTo>
                    <a:pt x="783" y="3660"/>
                  </a:lnTo>
                  <a:lnTo>
                    <a:pt x="807" y="3664"/>
                  </a:lnTo>
                  <a:lnTo>
                    <a:pt x="832" y="3668"/>
                  </a:lnTo>
                  <a:lnTo>
                    <a:pt x="857" y="3671"/>
                  </a:lnTo>
                  <a:lnTo>
                    <a:pt x="882" y="3675"/>
                  </a:lnTo>
                  <a:lnTo>
                    <a:pt x="909" y="3677"/>
                  </a:lnTo>
                  <a:lnTo>
                    <a:pt x="935" y="3678"/>
                  </a:lnTo>
                  <a:lnTo>
                    <a:pt x="962" y="3679"/>
                  </a:lnTo>
                  <a:lnTo>
                    <a:pt x="989" y="3679"/>
                  </a:lnTo>
                  <a:lnTo>
                    <a:pt x="1285" y="3624"/>
                  </a:lnTo>
                  <a:lnTo>
                    <a:pt x="1734" y="3176"/>
                  </a:lnTo>
                  <a:lnTo>
                    <a:pt x="1841" y="2584"/>
                  </a:lnTo>
                  <a:lnTo>
                    <a:pt x="1734" y="2433"/>
                  </a:lnTo>
                  <a:lnTo>
                    <a:pt x="1191" y="1885"/>
                  </a:lnTo>
                  <a:lnTo>
                    <a:pt x="296" y="1935"/>
                  </a:lnTo>
                  <a:lnTo>
                    <a:pt x="280" y="1951"/>
                  </a:lnTo>
                  <a:lnTo>
                    <a:pt x="267" y="1964"/>
                  </a:lnTo>
                  <a:lnTo>
                    <a:pt x="258" y="1973"/>
                  </a:lnTo>
                  <a:lnTo>
                    <a:pt x="252" y="1979"/>
                  </a:lnTo>
                  <a:lnTo>
                    <a:pt x="249" y="1982"/>
                  </a:lnTo>
                  <a:lnTo>
                    <a:pt x="248" y="1984"/>
                  </a:lnTo>
                  <a:lnTo>
                    <a:pt x="246" y="1985"/>
                  </a:lnTo>
                  <a:lnTo>
                    <a:pt x="0" y="2332"/>
                  </a:lnTo>
                  <a:lnTo>
                    <a:pt x="44" y="2030"/>
                  </a:lnTo>
                  <a:lnTo>
                    <a:pt x="0" y="693"/>
                  </a:lnTo>
                  <a:lnTo>
                    <a:pt x="397" y="202"/>
                  </a:lnTo>
                  <a:lnTo>
                    <a:pt x="602" y="175"/>
                  </a:lnTo>
                  <a:lnTo>
                    <a:pt x="806" y="151"/>
                  </a:lnTo>
                  <a:lnTo>
                    <a:pt x="1010" y="129"/>
                  </a:lnTo>
                  <a:lnTo>
                    <a:pt x="1214" y="111"/>
                  </a:lnTo>
                  <a:lnTo>
                    <a:pt x="1418" y="93"/>
                  </a:lnTo>
                  <a:lnTo>
                    <a:pt x="1622" y="78"/>
                  </a:lnTo>
                  <a:lnTo>
                    <a:pt x="1825" y="64"/>
                  </a:lnTo>
                  <a:lnTo>
                    <a:pt x="2027" y="53"/>
                  </a:lnTo>
                  <a:lnTo>
                    <a:pt x="2230" y="44"/>
                  </a:lnTo>
                  <a:lnTo>
                    <a:pt x="2433" y="35"/>
                  </a:lnTo>
                  <a:lnTo>
                    <a:pt x="2636" y="28"/>
                  </a:lnTo>
                  <a:lnTo>
                    <a:pt x="2837" y="23"/>
                  </a:lnTo>
                  <a:lnTo>
                    <a:pt x="3040" y="18"/>
                  </a:lnTo>
                  <a:lnTo>
                    <a:pt x="3241" y="15"/>
                  </a:lnTo>
                  <a:lnTo>
                    <a:pt x="3444" y="13"/>
                  </a:lnTo>
                  <a:lnTo>
                    <a:pt x="3646" y="10"/>
                  </a:lnTo>
                  <a:lnTo>
                    <a:pt x="3849" y="10"/>
                  </a:lnTo>
                  <a:lnTo>
                    <a:pt x="4050" y="10"/>
                  </a:lnTo>
                  <a:lnTo>
                    <a:pt x="4253" y="10"/>
                  </a:lnTo>
                  <a:lnTo>
                    <a:pt x="4456" y="10"/>
                  </a:lnTo>
                  <a:lnTo>
                    <a:pt x="4657" y="11"/>
                  </a:lnTo>
                  <a:lnTo>
                    <a:pt x="4860" y="13"/>
                  </a:lnTo>
                  <a:lnTo>
                    <a:pt x="5063" y="13"/>
                  </a:lnTo>
                  <a:lnTo>
                    <a:pt x="5267" y="14"/>
                  </a:lnTo>
                  <a:lnTo>
                    <a:pt x="5469" y="14"/>
                  </a:lnTo>
                  <a:lnTo>
                    <a:pt x="5673" y="14"/>
                  </a:lnTo>
                  <a:lnTo>
                    <a:pt x="5877" y="14"/>
                  </a:lnTo>
                  <a:lnTo>
                    <a:pt x="6081" y="13"/>
                  </a:lnTo>
                  <a:lnTo>
                    <a:pt x="6285" y="11"/>
                  </a:lnTo>
                  <a:lnTo>
                    <a:pt x="6490" y="8"/>
                  </a:lnTo>
                  <a:lnTo>
                    <a:pt x="6695" y="5"/>
                  </a:lnTo>
                  <a:lnTo>
                    <a:pt x="6900" y="0"/>
                  </a:lnTo>
                  <a:lnTo>
                    <a:pt x="7247" y="151"/>
                  </a:lnTo>
                  <a:lnTo>
                    <a:pt x="7695" y="498"/>
                  </a:lnTo>
                  <a:lnTo>
                    <a:pt x="7739" y="1790"/>
                  </a:lnTo>
                  <a:lnTo>
                    <a:pt x="7719" y="1843"/>
                  </a:lnTo>
                  <a:lnTo>
                    <a:pt x="7696" y="1893"/>
                  </a:lnTo>
                  <a:lnTo>
                    <a:pt x="7671" y="1938"/>
                  </a:lnTo>
                  <a:lnTo>
                    <a:pt x="7643" y="1978"/>
                  </a:lnTo>
                  <a:lnTo>
                    <a:pt x="7612" y="2017"/>
                  </a:lnTo>
                  <a:lnTo>
                    <a:pt x="7578" y="2052"/>
                  </a:lnTo>
                  <a:lnTo>
                    <a:pt x="7544" y="2085"/>
                  </a:lnTo>
                  <a:lnTo>
                    <a:pt x="7508" y="2115"/>
                  </a:lnTo>
                  <a:lnTo>
                    <a:pt x="7470" y="2144"/>
                  </a:lnTo>
                  <a:lnTo>
                    <a:pt x="7432" y="2171"/>
                  </a:lnTo>
                  <a:lnTo>
                    <a:pt x="7393" y="2199"/>
                  </a:lnTo>
                  <a:lnTo>
                    <a:pt x="7353" y="2224"/>
                  </a:lnTo>
                  <a:lnTo>
                    <a:pt x="7314" y="2251"/>
                  </a:lnTo>
                  <a:lnTo>
                    <a:pt x="7273" y="2277"/>
                  </a:lnTo>
                  <a:lnTo>
                    <a:pt x="7234" y="2304"/>
                  </a:lnTo>
                  <a:lnTo>
                    <a:pt x="7196" y="2332"/>
                  </a:lnTo>
                  <a:lnTo>
                    <a:pt x="6900" y="2533"/>
                  </a:lnTo>
                  <a:lnTo>
                    <a:pt x="6402" y="2678"/>
                  </a:lnTo>
                  <a:lnTo>
                    <a:pt x="6387" y="2697"/>
                  </a:lnTo>
                  <a:lnTo>
                    <a:pt x="6377" y="2711"/>
                  </a:lnTo>
                  <a:lnTo>
                    <a:pt x="6369" y="2721"/>
                  </a:lnTo>
                  <a:lnTo>
                    <a:pt x="6364" y="2728"/>
                  </a:lnTo>
                  <a:lnTo>
                    <a:pt x="6361" y="2731"/>
                  </a:lnTo>
                  <a:lnTo>
                    <a:pt x="6360" y="2734"/>
                  </a:lnTo>
                  <a:lnTo>
                    <a:pt x="6359" y="2735"/>
                  </a:lnTo>
                  <a:lnTo>
                    <a:pt x="5854" y="2433"/>
                  </a:lnTo>
                  <a:lnTo>
                    <a:pt x="5614" y="2231"/>
                  </a:lnTo>
                  <a:lnTo>
                    <a:pt x="4908" y="2137"/>
                  </a:lnTo>
                  <a:lnTo>
                    <a:pt x="4764" y="2181"/>
                  </a:lnTo>
                  <a:lnTo>
                    <a:pt x="4115" y="1544"/>
                  </a:lnTo>
                  <a:lnTo>
                    <a:pt x="3820" y="1191"/>
                  </a:lnTo>
                  <a:lnTo>
                    <a:pt x="3624" y="1242"/>
                  </a:lnTo>
                  <a:lnTo>
                    <a:pt x="3277" y="1689"/>
                  </a:lnTo>
                  <a:lnTo>
                    <a:pt x="3277" y="2137"/>
                  </a:lnTo>
                  <a:lnTo>
                    <a:pt x="3479" y="2433"/>
                  </a:lnTo>
                  <a:lnTo>
                    <a:pt x="3820" y="2785"/>
                  </a:lnTo>
                  <a:lnTo>
                    <a:pt x="4071" y="2936"/>
                  </a:lnTo>
                  <a:lnTo>
                    <a:pt x="3669" y="3233"/>
                  </a:lnTo>
                  <a:lnTo>
                    <a:pt x="3422" y="3277"/>
                  </a:lnTo>
                  <a:lnTo>
                    <a:pt x="2925" y="3126"/>
                  </a:lnTo>
                  <a:lnTo>
                    <a:pt x="2736" y="2936"/>
                  </a:lnTo>
                  <a:lnTo>
                    <a:pt x="2288" y="2880"/>
                  </a:lnTo>
                  <a:lnTo>
                    <a:pt x="2086" y="2974"/>
                  </a:lnTo>
                  <a:lnTo>
                    <a:pt x="1992" y="3679"/>
                  </a:lnTo>
                  <a:lnTo>
                    <a:pt x="2382" y="4070"/>
                  </a:lnTo>
                  <a:lnTo>
                    <a:pt x="2364" y="4097"/>
                  </a:lnTo>
                  <a:lnTo>
                    <a:pt x="2346" y="4125"/>
                  </a:lnTo>
                  <a:lnTo>
                    <a:pt x="2330" y="4152"/>
                  </a:lnTo>
                  <a:lnTo>
                    <a:pt x="2315" y="4178"/>
                  </a:lnTo>
                  <a:lnTo>
                    <a:pt x="2301" y="4206"/>
                  </a:lnTo>
                  <a:lnTo>
                    <a:pt x="2289" y="4231"/>
                  </a:lnTo>
                  <a:lnTo>
                    <a:pt x="2276" y="4258"/>
                  </a:lnTo>
                  <a:lnTo>
                    <a:pt x="2266" y="4283"/>
                  </a:lnTo>
                  <a:lnTo>
                    <a:pt x="2255" y="4309"/>
                  </a:lnTo>
                  <a:lnTo>
                    <a:pt x="2246" y="4335"/>
                  </a:lnTo>
                  <a:lnTo>
                    <a:pt x="2237" y="4360"/>
                  </a:lnTo>
                  <a:lnTo>
                    <a:pt x="2230" y="4385"/>
                  </a:lnTo>
                  <a:lnTo>
                    <a:pt x="2223" y="4410"/>
                  </a:lnTo>
                  <a:lnTo>
                    <a:pt x="2216" y="4435"/>
                  </a:lnTo>
                  <a:lnTo>
                    <a:pt x="2210" y="4459"/>
                  </a:lnTo>
                  <a:lnTo>
                    <a:pt x="2206" y="4483"/>
                  </a:lnTo>
                  <a:lnTo>
                    <a:pt x="2201" y="4508"/>
                  </a:lnTo>
                  <a:lnTo>
                    <a:pt x="2198" y="4532"/>
                  </a:lnTo>
                  <a:lnTo>
                    <a:pt x="2194" y="4556"/>
                  </a:lnTo>
                  <a:lnTo>
                    <a:pt x="2191" y="4580"/>
                  </a:lnTo>
                  <a:lnTo>
                    <a:pt x="2189" y="4604"/>
                  </a:lnTo>
                  <a:lnTo>
                    <a:pt x="2186" y="4629"/>
                  </a:lnTo>
                  <a:lnTo>
                    <a:pt x="2185" y="4652"/>
                  </a:lnTo>
                  <a:lnTo>
                    <a:pt x="2184" y="4676"/>
                  </a:lnTo>
                  <a:lnTo>
                    <a:pt x="2183" y="4699"/>
                  </a:lnTo>
                  <a:lnTo>
                    <a:pt x="2182" y="4723"/>
                  </a:lnTo>
                  <a:lnTo>
                    <a:pt x="2182" y="4747"/>
                  </a:lnTo>
                  <a:lnTo>
                    <a:pt x="2181" y="4770"/>
                  </a:lnTo>
                  <a:lnTo>
                    <a:pt x="2181" y="4793"/>
                  </a:lnTo>
                  <a:lnTo>
                    <a:pt x="2181" y="4817"/>
                  </a:lnTo>
                  <a:lnTo>
                    <a:pt x="2181" y="4840"/>
                  </a:lnTo>
                  <a:lnTo>
                    <a:pt x="2181" y="4865"/>
                  </a:lnTo>
                  <a:lnTo>
                    <a:pt x="2679" y="5355"/>
                  </a:lnTo>
                  <a:lnTo>
                    <a:pt x="3032" y="5507"/>
                  </a:lnTo>
                  <a:lnTo>
                    <a:pt x="3221" y="5760"/>
                  </a:lnTo>
                  <a:lnTo>
                    <a:pt x="3964" y="6056"/>
                  </a:lnTo>
                  <a:lnTo>
                    <a:pt x="4034" y="6051"/>
                  </a:lnTo>
                  <a:lnTo>
                    <a:pt x="4103" y="6048"/>
                  </a:lnTo>
                  <a:lnTo>
                    <a:pt x="4175" y="6043"/>
                  </a:lnTo>
                  <a:lnTo>
                    <a:pt x="4245" y="6040"/>
                  </a:lnTo>
                  <a:lnTo>
                    <a:pt x="4315" y="6036"/>
                  </a:lnTo>
                  <a:lnTo>
                    <a:pt x="4386" y="6033"/>
                  </a:lnTo>
                  <a:lnTo>
                    <a:pt x="4458" y="6028"/>
                  </a:lnTo>
                  <a:lnTo>
                    <a:pt x="4528" y="6024"/>
                  </a:lnTo>
                  <a:lnTo>
                    <a:pt x="4600" y="6018"/>
                  </a:lnTo>
                  <a:lnTo>
                    <a:pt x="4671" y="6012"/>
                  </a:lnTo>
                  <a:lnTo>
                    <a:pt x="4742" y="6005"/>
                  </a:lnTo>
                  <a:lnTo>
                    <a:pt x="4813" y="5997"/>
                  </a:lnTo>
                  <a:lnTo>
                    <a:pt x="4884" y="5987"/>
                  </a:lnTo>
                  <a:lnTo>
                    <a:pt x="4954" y="5976"/>
                  </a:lnTo>
                  <a:lnTo>
                    <a:pt x="5025" y="5964"/>
                  </a:lnTo>
                  <a:lnTo>
                    <a:pt x="5095" y="5949"/>
                  </a:lnTo>
                  <a:lnTo>
                    <a:pt x="5165" y="5933"/>
                  </a:lnTo>
                  <a:lnTo>
                    <a:pt x="5235" y="5915"/>
                  </a:lnTo>
                  <a:lnTo>
                    <a:pt x="5305" y="5894"/>
                  </a:lnTo>
                  <a:lnTo>
                    <a:pt x="5374" y="5871"/>
                  </a:lnTo>
                  <a:lnTo>
                    <a:pt x="5442" y="5846"/>
                  </a:lnTo>
                  <a:lnTo>
                    <a:pt x="5510" y="5818"/>
                  </a:lnTo>
                  <a:lnTo>
                    <a:pt x="5578" y="5787"/>
                  </a:lnTo>
                  <a:lnTo>
                    <a:pt x="5644" y="5753"/>
                  </a:lnTo>
                  <a:lnTo>
                    <a:pt x="5711" y="5716"/>
                  </a:lnTo>
                  <a:lnTo>
                    <a:pt x="5777" y="5676"/>
                  </a:lnTo>
                  <a:lnTo>
                    <a:pt x="5843" y="5632"/>
                  </a:lnTo>
                  <a:lnTo>
                    <a:pt x="5907" y="5585"/>
                  </a:lnTo>
                  <a:lnTo>
                    <a:pt x="5970" y="5533"/>
                  </a:lnTo>
                  <a:lnTo>
                    <a:pt x="6034" y="5479"/>
                  </a:lnTo>
                  <a:lnTo>
                    <a:pt x="6096" y="5419"/>
                  </a:lnTo>
                  <a:lnTo>
                    <a:pt x="6157" y="5355"/>
                  </a:lnTo>
                  <a:lnTo>
                    <a:pt x="6203" y="5327"/>
                  </a:lnTo>
                  <a:lnTo>
                    <a:pt x="6247" y="5297"/>
                  </a:lnTo>
                  <a:lnTo>
                    <a:pt x="6289" y="5266"/>
                  </a:lnTo>
                  <a:lnTo>
                    <a:pt x="6330" y="5232"/>
                  </a:lnTo>
                  <a:lnTo>
                    <a:pt x="6370" y="5199"/>
                  </a:lnTo>
                  <a:lnTo>
                    <a:pt x="6408" y="5163"/>
                  </a:lnTo>
                  <a:lnTo>
                    <a:pt x="6446" y="5128"/>
                  </a:lnTo>
                  <a:lnTo>
                    <a:pt x="6482" y="5092"/>
                  </a:lnTo>
                  <a:lnTo>
                    <a:pt x="6518" y="5055"/>
                  </a:lnTo>
                  <a:lnTo>
                    <a:pt x="6552" y="5018"/>
                  </a:lnTo>
                  <a:lnTo>
                    <a:pt x="6586" y="4981"/>
                  </a:lnTo>
                  <a:lnTo>
                    <a:pt x="6619" y="4944"/>
                  </a:lnTo>
                  <a:lnTo>
                    <a:pt x="6652" y="4907"/>
                  </a:lnTo>
                  <a:lnTo>
                    <a:pt x="6685" y="4872"/>
                  </a:lnTo>
                  <a:lnTo>
                    <a:pt x="6717" y="4836"/>
                  </a:lnTo>
                  <a:lnTo>
                    <a:pt x="6749" y="4800"/>
                  </a:lnTo>
                  <a:lnTo>
                    <a:pt x="6781" y="4766"/>
                  </a:lnTo>
                  <a:lnTo>
                    <a:pt x="6814" y="4733"/>
                  </a:lnTo>
                  <a:lnTo>
                    <a:pt x="6846" y="4701"/>
                  </a:lnTo>
                  <a:lnTo>
                    <a:pt x="6879" y="4670"/>
                  </a:lnTo>
                  <a:lnTo>
                    <a:pt x="6913" y="4641"/>
                  </a:lnTo>
                  <a:lnTo>
                    <a:pt x="6946" y="4614"/>
                  </a:lnTo>
                  <a:lnTo>
                    <a:pt x="6981" y="4588"/>
                  </a:lnTo>
                  <a:lnTo>
                    <a:pt x="7016" y="4564"/>
                  </a:lnTo>
                  <a:lnTo>
                    <a:pt x="7052" y="4543"/>
                  </a:lnTo>
                  <a:lnTo>
                    <a:pt x="7090" y="4524"/>
                  </a:lnTo>
                  <a:lnTo>
                    <a:pt x="7128" y="4508"/>
                  </a:lnTo>
                  <a:lnTo>
                    <a:pt x="7168" y="4494"/>
                  </a:lnTo>
                  <a:lnTo>
                    <a:pt x="7209" y="4482"/>
                  </a:lnTo>
                  <a:lnTo>
                    <a:pt x="7251" y="4474"/>
                  </a:lnTo>
                  <a:lnTo>
                    <a:pt x="7295" y="4468"/>
                  </a:lnTo>
                  <a:lnTo>
                    <a:pt x="7341" y="4467"/>
                  </a:lnTo>
                  <a:lnTo>
                    <a:pt x="7739" y="4366"/>
                  </a:lnTo>
                  <a:lnTo>
                    <a:pt x="7695" y="6655"/>
                  </a:lnTo>
                  <a:lnTo>
                    <a:pt x="7493" y="6995"/>
                  </a:lnTo>
                  <a:lnTo>
                    <a:pt x="7284" y="7049"/>
                  </a:lnTo>
                  <a:lnTo>
                    <a:pt x="7075" y="7096"/>
                  </a:lnTo>
                  <a:lnTo>
                    <a:pt x="6865" y="7139"/>
                  </a:lnTo>
                  <a:lnTo>
                    <a:pt x="6657" y="7175"/>
                  </a:lnTo>
                  <a:lnTo>
                    <a:pt x="6447" y="7207"/>
                  </a:lnTo>
                  <a:lnTo>
                    <a:pt x="6239" y="7234"/>
                  </a:lnTo>
                  <a:lnTo>
                    <a:pt x="6029" y="7257"/>
                  </a:lnTo>
                  <a:lnTo>
                    <a:pt x="5819" y="7276"/>
                  </a:lnTo>
                  <a:lnTo>
                    <a:pt x="5611" y="7291"/>
                  </a:lnTo>
                  <a:lnTo>
                    <a:pt x="5401" y="7302"/>
                  </a:lnTo>
                  <a:lnTo>
                    <a:pt x="5193" y="7310"/>
                  </a:lnTo>
                  <a:lnTo>
                    <a:pt x="4983" y="7316"/>
                  </a:lnTo>
                  <a:lnTo>
                    <a:pt x="4775" y="7318"/>
                  </a:lnTo>
                  <a:lnTo>
                    <a:pt x="4565" y="7319"/>
                  </a:lnTo>
                  <a:lnTo>
                    <a:pt x="4357" y="7318"/>
                  </a:lnTo>
                  <a:lnTo>
                    <a:pt x="4147" y="7315"/>
                  </a:lnTo>
                  <a:lnTo>
                    <a:pt x="3937" y="7310"/>
                  </a:lnTo>
                  <a:lnTo>
                    <a:pt x="3729" y="7306"/>
                  </a:lnTo>
                  <a:lnTo>
                    <a:pt x="3519" y="7299"/>
                  </a:lnTo>
                  <a:lnTo>
                    <a:pt x="3311" y="7293"/>
                  </a:lnTo>
                  <a:lnTo>
                    <a:pt x="3101" y="7286"/>
                  </a:lnTo>
                  <a:lnTo>
                    <a:pt x="2892" y="7279"/>
                  </a:lnTo>
                  <a:lnTo>
                    <a:pt x="2683" y="7273"/>
                  </a:lnTo>
                  <a:lnTo>
                    <a:pt x="2474" y="7269"/>
                  </a:lnTo>
                  <a:lnTo>
                    <a:pt x="2265" y="7264"/>
                  </a:lnTo>
                  <a:lnTo>
                    <a:pt x="2055" y="7261"/>
                  </a:lnTo>
                  <a:lnTo>
                    <a:pt x="1846" y="7261"/>
                  </a:lnTo>
                  <a:lnTo>
                    <a:pt x="1637" y="7261"/>
                  </a:lnTo>
                  <a:lnTo>
                    <a:pt x="1428" y="7264"/>
                  </a:lnTo>
                  <a:lnTo>
                    <a:pt x="1219" y="7270"/>
                  </a:lnTo>
                  <a:lnTo>
                    <a:pt x="1010" y="7279"/>
                  </a:lnTo>
                  <a:lnTo>
                    <a:pt x="801" y="7291"/>
                  </a:lnTo>
                  <a:lnTo>
                    <a:pt x="650" y="7247"/>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Freeform 1035"/>
            <p:cNvSpPr/>
            <p:nvPr/>
          </p:nvSpPr>
          <p:spPr>
            <a:xfrm>
              <a:off x="7369920" y="6111720"/>
              <a:ext cx="65160" cy="52920"/>
            </a:xfrm>
            <a:custGeom>
              <a:avLst/>
              <a:gdLst>
                <a:gd name="textAreaLeft" fmla="*/ 0 w 65160"/>
                <a:gd name="textAreaRight" fmla="*/ 65520 w 65160"/>
                <a:gd name="textAreaTop" fmla="*/ 0 h 52920"/>
                <a:gd name="textAreaBottom" fmla="*/ 53280 h 52920"/>
              </a:gdLst>
              <a:ahLst/>
              <a:rect l="textAreaLeft" t="textAreaTop" r="textAreaRight" b="textAreaBottom"/>
              <a:pathLst>
                <a:path w="447" h="346">
                  <a:moveTo>
                    <a:pt x="51" y="296"/>
                  </a:moveTo>
                  <a:lnTo>
                    <a:pt x="0" y="0"/>
                  </a:lnTo>
                  <a:lnTo>
                    <a:pt x="347" y="0"/>
                  </a:lnTo>
                  <a:lnTo>
                    <a:pt x="380" y="16"/>
                  </a:lnTo>
                  <a:lnTo>
                    <a:pt x="405" y="29"/>
                  </a:lnTo>
                  <a:lnTo>
                    <a:pt x="423" y="38"/>
                  </a:lnTo>
                  <a:lnTo>
                    <a:pt x="434" y="44"/>
                  </a:lnTo>
                  <a:lnTo>
                    <a:pt x="441" y="47"/>
                  </a:lnTo>
                  <a:lnTo>
                    <a:pt x="446" y="49"/>
                  </a:lnTo>
                  <a:lnTo>
                    <a:pt x="447" y="50"/>
                  </a:lnTo>
                  <a:lnTo>
                    <a:pt x="145" y="346"/>
                  </a:lnTo>
                  <a:lnTo>
                    <a:pt x="51" y="296"/>
                  </a:lnTo>
                  <a:close/>
                </a:path>
              </a:pathLst>
            </a:custGeom>
            <a:solidFill>
              <a:srgbClr val="666633"/>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444" name="Freeform 1036"/>
            <p:cNvSpPr/>
            <p:nvPr/>
          </p:nvSpPr>
          <p:spPr>
            <a:xfrm>
              <a:off x="7231320" y="6081840"/>
              <a:ext cx="56160" cy="53640"/>
            </a:xfrm>
            <a:custGeom>
              <a:avLst/>
              <a:gdLst>
                <a:gd name="textAreaLeft" fmla="*/ 0 w 56160"/>
                <a:gd name="textAreaRight" fmla="*/ 56520 w 56160"/>
                <a:gd name="textAreaTop" fmla="*/ 0 h 53640"/>
                <a:gd name="textAreaBottom" fmla="*/ 54000 h 53640"/>
              </a:gdLst>
              <a:ahLst/>
              <a:rect l="textAreaLeft" t="textAreaTop" r="textAreaRight" b="textAreaBottom"/>
              <a:pathLst>
                <a:path w="385" h="350">
                  <a:moveTo>
                    <a:pt x="145" y="296"/>
                  </a:moveTo>
                  <a:lnTo>
                    <a:pt x="0" y="195"/>
                  </a:lnTo>
                  <a:lnTo>
                    <a:pt x="102" y="0"/>
                  </a:lnTo>
                  <a:lnTo>
                    <a:pt x="347" y="94"/>
                  </a:lnTo>
                  <a:lnTo>
                    <a:pt x="357" y="114"/>
                  </a:lnTo>
                  <a:lnTo>
                    <a:pt x="365" y="136"/>
                  </a:lnTo>
                  <a:lnTo>
                    <a:pt x="372" y="160"/>
                  </a:lnTo>
                  <a:lnTo>
                    <a:pt x="378" y="183"/>
                  </a:lnTo>
                  <a:lnTo>
                    <a:pt x="382" y="207"/>
                  </a:lnTo>
                  <a:lnTo>
                    <a:pt x="384" y="231"/>
                  </a:lnTo>
                  <a:lnTo>
                    <a:pt x="385" y="254"/>
                  </a:lnTo>
                  <a:lnTo>
                    <a:pt x="384" y="276"/>
                  </a:lnTo>
                  <a:lnTo>
                    <a:pt x="380" y="297"/>
                  </a:lnTo>
                  <a:lnTo>
                    <a:pt x="376" y="314"/>
                  </a:lnTo>
                  <a:lnTo>
                    <a:pt x="369" y="329"/>
                  </a:lnTo>
                  <a:lnTo>
                    <a:pt x="361" y="341"/>
                  </a:lnTo>
                  <a:lnTo>
                    <a:pt x="349" y="347"/>
                  </a:lnTo>
                  <a:lnTo>
                    <a:pt x="337" y="350"/>
                  </a:lnTo>
                  <a:lnTo>
                    <a:pt x="321" y="349"/>
                  </a:lnTo>
                  <a:lnTo>
                    <a:pt x="303" y="341"/>
                  </a:lnTo>
                  <a:lnTo>
                    <a:pt x="145" y="296"/>
                  </a:lnTo>
                  <a:close/>
                </a:path>
              </a:pathLst>
            </a:custGeom>
            <a:solidFill>
              <a:srgbClr val="66663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45" name="Freeform 1037"/>
            <p:cNvSpPr/>
            <p:nvPr/>
          </p:nvSpPr>
          <p:spPr>
            <a:xfrm>
              <a:off x="7298280" y="6036480"/>
              <a:ext cx="49680" cy="52200"/>
            </a:xfrm>
            <a:custGeom>
              <a:avLst/>
              <a:gdLst>
                <a:gd name="textAreaLeft" fmla="*/ 0 w 49680"/>
                <a:gd name="textAreaRight" fmla="*/ 50040 w 49680"/>
                <a:gd name="textAreaTop" fmla="*/ 0 h 52200"/>
                <a:gd name="textAreaBottom" fmla="*/ 52560 h 52200"/>
              </a:gdLst>
              <a:ahLst/>
              <a:rect l="textAreaLeft" t="textAreaTop" r="textAreaRight" b="textAreaBottom"/>
              <a:pathLst>
                <a:path w="339" h="339">
                  <a:moveTo>
                    <a:pt x="0" y="296"/>
                  </a:moveTo>
                  <a:lnTo>
                    <a:pt x="0" y="0"/>
                  </a:lnTo>
                  <a:lnTo>
                    <a:pt x="339" y="94"/>
                  </a:lnTo>
                  <a:lnTo>
                    <a:pt x="94" y="339"/>
                  </a:lnTo>
                  <a:lnTo>
                    <a:pt x="0" y="296"/>
                  </a:lnTo>
                  <a:close/>
                </a:path>
              </a:pathLst>
            </a:custGeom>
            <a:solidFill>
              <a:srgbClr val="666633"/>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46" name="Freeform 1038"/>
            <p:cNvSpPr/>
            <p:nvPr/>
          </p:nvSpPr>
          <p:spPr>
            <a:xfrm>
              <a:off x="8125560" y="5990760"/>
              <a:ext cx="95400" cy="97920"/>
            </a:xfrm>
            <a:custGeom>
              <a:avLst/>
              <a:gdLst>
                <a:gd name="textAreaLeft" fmla="*/ 0 w 95400"/>
                <a:gd name="textAreaRight" fmla="*/ 95760 w 95400"/>
                <a:gd name="textAreaTop" fmla="*/ 0 h 97920"/>
                <a:gd name="textAreaBottom" fmla="*/ 98280 h 97920"/>
              </a:gdLst>
              <a:ahLst/>
              <a:rect l="textAreaLeft" t="textAreaTop" r="textAreaRight" b="textAreaBottom"/>
              <a:pathLst>
                <a:path w="653" h="637">
                  <a:moveTo>
                    <a:pt x="0" y="594"/>
                  </a:moveTo>
                  <a:lnTo>
                    <a:pt x="0" y="594"/>
                  </a:lnTo>
                  <a:lnTo>
                    <a:pt x="542" y="0"/>
                  </a:lnTo>
                  <a:lnTo>
                    <a:pt x="578" y="15"/>
                  </a:lnTo>
                  <a:lnTo>
                    <a:pt x="605" y="27"/>
                  </a:lnTo>
                  <a:lnTo>
                    <a:pt x="623" y="34"/>
                  </a:lnTo>
                  <a:lnTo>
                    <a:pt x="636" y="39"/>
                  </a:lnTo>
                  <a:lnTo>
                    <a:pt x="644" y="43"/>
                  </a:lnTo>
                  <a:lnTo>
                    <a:pt x="648" y="44"/>
                  </a:lnTo>
                  <a:lnTo>
                    <a:pt x="650" y="45"/>
                  </a:lnTo>
                  <a:lnTo>
                    <a:pt x="653" y="99"/>
                  </a:lnTo>
                  <a:lnTo>
                    <a:pt x="650" y="152"/>
                  </a:lnTo>
                  <a:lnTo>
                    <a:pt x="637" y="202"/>
                  </a:lnTo>
                  <a:lnTo>
                    <a:pt x="618" y="249"/>
                  </a:lnTo>
                  <a:lnTo>
                    <a:pt x="594" y="295"/>
                  </a:lnTo>
                  <a:lnTo>
                    <a:pt x="564" y="338"/>
                  </a:lnTo>
                  <a:lnTo>
                    <a:pt x="531" y="378"/>
                  </a:lnTo>
                  <a:lnTo>
                    <a:pt x="493" y="417"/>
                  </a:lnTo>
                  <a:lnTo>
                    <a:pt x="453" y="453"/>
                  </a:lnTo>
                  <a:lnTo>
                    <a:pt x="410" y="486"/>
                  </a:lnTo>
                  <a:lnTo>
                    <a:pt x="365" y="518"/>
                  </a:lnTo>
                  <a:lnTo>
                    <a:pt x="321" y="546"/>
                  </a:lnTo>
                  <a:lnTo>
                    <a:pt x="276" y="573"/>
                  </a:lnTo>
                  <a:lnTo>
                    <a:pt x="233" y="597"/>
                  </a:lnTo>
                  <a:lnTo>
                    <a:pt x="191" y="619"/>
                  </a:lnTo>
                  <a:lnTo>
                    <a:pt x="152" y="637"/>
                  </a:lnTo>
                  <a:lnTo>
                    <a:pt x="0" y="594"/>
                  </a:lnTo>
                  <a:close/>
                </a:path>
              </a:pathLst>
            </a:custGeom>
            <a:solidFill>
              <a:srgbClr val="66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Freeform 1039"/>
            <p:cNvSpPr/>
            <p:nvPr/>
          </p:nvSpPr>
          <p:spPr>
            <a:xfrm>
              <a:off x="7979760" y="5914080"/>
              <a:ext cx="233280" cy="167400"/>
            </a:xfrm>
            <a:custGeom>
              <a:avLst/>
              <a:gdLst>
                <a:gd name="textAreaLeft" fmla="*/ 0 w 233280"/>
                <a:gd name="textAreaRight" fmla="*/ 233640 w 233280"/>
                <a:gd name="textAreaTop" fmla="*/ 0 h 167400"/>
                <a:gd name="textAreaBottom" fmla="*/ 167760 h 167400"/>
              </a:gdLst>
              <a:ahLst/>
              <a:rect l="textAreaLeft" t="textAreaTop" r="textAreaRight" b="textAreaBottom"/>
              <a:pathLst>
                <a:path w="1596" h="1091">
                  <a:moveTo>
                    <a:pt x="0" y="1091"/>
                  </a:moveTo>
                  <a:lnTo>
                    <a:pt x="0" y="838"/>
                  </a:lnTo>
                  <a:lnTo>
                    <a:pt x="701" y="642"/>
                  </a:lnTo>
                  <a:lnTo>
                    <a:pt x="1394" y="0"/>
                  </a:lnTo>
                  <a:lnTo>
                    <a:pt x="1596" y="94"/>
                  </a:lnTo>
                  <a:lnTo>
                    <a:pt x="1558" y="145"/>
                  </a:lnTo>
                  <a:lnTo>
                    <a:pt x="1520" y="196"/>
                  </a:lnTo>
                  <a:lnTo>
                    <a:pt x="1481" y="244"/>
                  </a:lnTo>
                  <a:lnTo>
                    <a:pt x="1440" y="292"/>
                  </a:lnTo>
                  <a:lnTo>
                    <a:pt x="1399" y="340"/>
                  </a:lnTo>
                  <a:lnTo>
                    <a:pt x="1357" y="386"/>
                  </a:lnTo>
                  <a:lnTo>
                    <a:pt x="1316" y="431"/>
                  </a:lnTo>
                  <a:lnTo>
                    <a:pt x="1273" y="474"/>
                  </a:lnTo>
                  <a:lnTo>
                    <a:pt x="1230" y="517"/>
                  </a:lnTo>
                  <a:lnTo>
                    <a:pt x="1186" y="558"/>
                  </a:lnTo>
                  <a:lnTo>
                    <a:pt x="1141" y="599"/>
                  </a:lnTo>
                  <a:lnTo>
                    <a:pt x="1096" y="637"/>
                  </a:lnTo>
                  <a:lnTo>
                    <a:pt x="1051" y="675"/>
                  </a:lnTo>
                  <a:lnTo>
                    <a:pt x="1005" y="710"/>
                  </a:lnTo>
                  <a:lnTo>
                    <a:pt x="959" y="746"/>
                  </a:lnTo>
                  <a:lnTo>
                    <a:pt x="913" y="778"/>
                  </a:lnTo>
                  <a:lnTo>
                    <a:pt x="866" y="811"/>
                  </a:lnTo>
                  <a:lnTo>
                    <a:pt x="819" y="842"/>
                  </a:lnTo>
                  <a:lnTo>
                    <a:pt x="772" y="871"/>
                  </a:lnTo>
                  <a:lnTo>
                    <a:pt x="725" y="897"/>
                  </a:lnTo>
                  <a:lnTo>
                    <a:pt x="677" y="924"/>
                  </a:lnTo>
                  <a:lnTo>
                    <a:pt x="629" y="948"/>
                  </a:lnTo>
                  <a:lnTo>
                    <a:pt x="582" y="970"/>
                  </a:lnTo>
                  <a:lnTo>
                    <a:pt x="535" y="990"/>
                  </a:lnTo>
                  <a:lnTo>
                    <a:pt x="487" y="1010"/>
                  </a:lnTo>
                  <a:lnTo>
                    <a:pt x="439" y="1027"/>
                  </a:lnTo>
                  <a:lnTo>
                    <a:pt x="392" y="1042"/>
                  </a:lnTo>
                  <a:lnTo>
                    <a:pt x="345" y="1056"/>
                  </a:lnTo>
                  <a:lnTo>
                    <a:pt x="298" y="1068"/>
                  </a:lnTo>
                  <a:lnTo>
                    <a:pt x="252" y="1077"/>
                  </a:lnTo>
                  <a:lnTo>
                    <a:pt x="204" y="1085"/>
                  </a:lnTo>
                  <a:lnTo>
                    <a:pt x="158" y="1091"/>
                  </a:lnTo>
                  <a:lnTo>
                    <a:pt x="0" y="1091"/>
                  </a:lnTo>
                  <a:close/>
                </a:path>
              </a:pathLst>
            </a:custGeom>
            <a:solidFill>
              <a:srgbClr val="66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Freeform 1040"/>
            <p:cNvSpPr/>
            <p:nvPr/>
          </p:nvSpPr>
          <p:spPr>
            <a:xfrm>
              <a:off x="7762320" y="5837040"/>
              <a:ext cx="173880" cy="137520"/>
            </a:xfrm>
            <a:custGeom>
              <a:avLst/>
              <a:gdLst>
                <a:gd name="textAreaLeft" fmla="*/ 0 w 173880"/>
                <a:gd name="textAreaRight" fmla="*/ 174240 w 173880"/>
                <a:gd name="textAreaTop" fmla="*/ 0 h 137520"/>
                <a:gd name="textAreaBottom" fmla="*/ 137880 h 137520"/>
              </a:gdLst>
              <a:ahLst/>
              <a:rect l="textAreaLeft" t="textAreaTop" r="textAreaRight" b="textAreaBottom"/>
              <a:pathLst>
                <a:path w="1190" h="895">
                  <a:moveTo>
                    <a:pt x="100" y="852"/>
                  </a:moveTo>
                  <a:lnTo>
                    <a:pt x="0" y="707"/>
                  </a:lnTo>
                  <a:lnTo>
                    <a:pt x="547" y="449"/>
                  </a:lnTo>
                  <a:lnTo>
                    <a:pt x="1088" y="0"/>
                  </a:lnTo>
                  <a:lnTo>
                    <a:pt x="1122" y="19"/>
                  </a:lnTo>
                  <a:lnTo>
                    <a:pt x="1147" y="33"/>
                  </a:lnTo>
                  <a:lnTo>
                    <a:pt x="1165" y="43"/>
                  </a:lnTo>
                  <a:lnTo>
                    <a:pt x="1177" y="50"/>
                  </a:lnTo>
                  <a:lnTo>
                    <a:pt x="1184" y="53"/>
                  </a:lnTo>
                  <a:lnTo>
                    <a:pt x="1189" y="56"/>
                  </a:lnTo>
                  <a:lnTo>
                    <a:pt x="1190" y="57"/>
                  </a:lnTo>
                  <a:lnTo>
                    <a:pt x="887" y="599"/>
                  </a:lnTo>
                  <a:lnTo>
                    <a:pt x="200" y="895"/>
                  </a:lnTo>
                  <a:lnTo>
                    <a:pt x="100" y="85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Freeform 1041"/>
            <p:cNvSpPr/>
            <p:nvPr/>
          </p:nvSpPr>
          <p:spPr>
            <a:xfrm>
              <a:off x="7725600" y="5311440"/>
              <a:ext cx="617040" cy="624960"/>
            </a:xfrm>
            <a:custGeom>
              <a:avLst/>
              <a:gdLst>
                <a:gd name="textAreaLeft" fmla="*/ 0 w 617040"/>
                <a:gd name="textAreaRight" fmla="*/ 617400 w 617040"/>
                <a:gd name="textAreaTop" fmla="*/ 0 h 624960"/>
                <a:gd name="textAreaBottom" fmla="*/ 625320 h 624960"/>
              </a:gdLst>
              <a:ahLst/>
              <a:rect l="textAreaLeft" t="textAreaTop" r="textAreaRight" b="textAreaBottom"/>
              <a:pathLst>
                <a:path w="4215" h="4070">
                  <a:moveTo>
                    <a:pt x="1580" y="4020"/>
                  </a:moveTo>
                  <a:lnTo>
                    <a:pt x="1599" y="4003"/>
                  </a:lnTo>
                  <a:lnTo>
                    <a:pt x="1614" y="3984"/>
                  </a:lnTo>
                  <a:lnTo>
                    <a:pt x="1626" y="3966"/>
                  </a:lnTo>
                  <a:lnTo>
                    <a:pt x="1636" y="3948"/>
                  </a:lnTo>
                  <a:lnTo>
                    <a:pt x="1644" y="3928"/>
                  </a:lnTo>
                  <a:lnTo>
                    <a:pt x="1651" y="3910"/>
                  </a:lnTo>
                  <a:lnTo>
                    <a:pt x="1656" y="3889"/>
                  </a:lnTo>
                  <a:lnTo>
                    <a:pt x="1661" y="3868"/>
                  </a:lnTo>
                  <a:lnTo>
                    <a:pt x="1666" y="3847"/>
                  </a:lnTo>
                  <a:lnTo>
                    <a:pt x="1671" y="3825"/>
                  </a:lnTo>
                  <a:lnTo>
                    <a:pt x="1677" y="3804"/>
                  </a:lnTo>
                  <a:lnTo>
                    <a:pt x="1684" y="3781"/>
                  </a:lnTo>
                  <a:lnTo>
                    <a:pt x="1692" y="3756"/>
                  </a:lnTo>
                  <a:lnTo>
                    <a:pt x="1704" y="3732"/>
                  </a:lnTo>
                  <a:lnTo>
                    <a:pt x="1716" y="3706"/>
                  </a:lnTo>
                  <a:lnTo>
                    <a:pt x="1732" y="3679"/>
                  </a:lnTo>
                  <a:lnTo>
                    <a:pt x="1688" y="3377"/>
                  </a:lnTo>
                  <a:lnTo>
                    <a:pt x="1335" y="3232"/>
                  </a:lnTo>
                  <a:lnTo>
                    <a:pt x="1039" y="2936"/>
                  </a:lnTo>
                  <a:lnTo>
                    <a:pt x="1039" y="2784"/>
                  </a:lnTo>
                  <a:lnTo>
                    <a:pt x="1001" y="2756"/>
                  </a:lnTo>
                  <a:lnTo>
                    <a:pt x="962" y="2732"/>
                  </a:lnTo>
                  <a:lnTo>
                    <a:pt x="921" y="2709"/>
                  </a:lnTo>
                  <a:lnTo>
                    <a:pt x="881" y="2688"/>
                  </a:lnTo>
                  <a:lnTo>
                    <a:pt x="840" y="2670"/>
                  </a:lnTo>
                  <a:lnTo>
                    <a:pt x="798" y="2654"/>
                  </a:lnTo>
                  <a:lnTo>
                    <a:pt x="756" y="2639"/>
                  </a:lnTo>
                  <a:lnTo>
                    <a:pt x="714" y="2626"/>
                  </a:lnTo>
                  <a:lnTo>
                    <a:pt x="673" y="2616"/>
                  </a:lnTo>
                  <a:lnTo>
                    <a:pt x="630" y="2607"/>
                  </a:lnTo>
                  <a:lnTo>
                    <a:pt x="589" y="2599"/>
                  </a:lnTo>
                  <a:lnTo>
                    <a:pt x="547" y="2593"/>
                  </a:lnTo>
                  <a:lnTo>
                    <a:pt x="507" y="2588"/>
                  </a:lnTo>
                  <a:lnTo>
                    <a:pt x="466" y="2585"/>
                  </a:lnTo>
                  <a:lnTo>
                    <a:pt x="427" y="2584"/>
                  </a:lnTo>
                  <a:lnTo>
                    <a:pt x="389" y="2583"/>
                  </a:lnTo>
                  <a:lnTo>
                    <a:pt x="0" y="2192"/>
                  </a:lnTo>
                  <a:lnTo>
                    <a:pt x="14" y="2147"/>
                  </a:lnTo>
                  <a:lnTo>
                    <a:pt x="37" y="2107"/>
                  </a:lnTo>
                  <a:lnTo>
                    <a:pt x="67" y="2071"/>
                  </a:lnTo>
                  <a:lnTo>
                    <a:pt x="102" y="2039"/>
                  </a:lnTo>
                  <a:lnTo>
                    <a:pt x="145" y="2010"/>
                  </a:lnTo>
                  <a:lnTo>
                    <a:pt x="192" y="1982"/>
                  </a:lnTo>
                  <a:lnTo>
                    <a:pt x="243" y="1956"/>
                  </a:lnTo>
                  <a:lnTo>
                    <a:pt x="298" y="1931"/>
                  </a:lnTo>
                  <a:lnTo>
                    <a:pt x="355" y="1904"/>
                  </a:lnTo>
                  <a:lnTo>
                    <a:pt x="412" y="1876"/>
                  </a:lnTo>
                  <a:lnTo>
                    <a:pt x="471" y="1846"/>
                  </a:lnTo>
                  <a:lnTo>
                    <a:pt x="530" y="1814"/>
                  </a:lnTo>
                  <a:lnTo>
                    <a:pt x="587" y="1777"/>
                  </a:lnTo>
                  <a:lnTo>
                    <a:pt x="643" y="1737"/>
                  </a:lnTo>
                  <a:lnTo>
                    <a:pt x="695" y="1690"/>
                  </a:lnTo>
                  <a:lnTo>
                    <a:pt x="743" y="1638"/>
                  </a:lnTo>
                  <a:lnTo>
                    <a:pt x="988" y="2042"/>
                  </a:lnTo>
                  <a:lnTo>
                    <a:pt x="1486" y="2488"/>
                  </a:lnTo>
                  <a:lnTo>
                    <a:pt x="1503" y="2488"/>
                  </a:lnTo>
                  <a:lnTo>
                    <a:pt x="1515" y="2488"/>
                  </a:lnTo>
                  <a:lnTo>
                    <a:pt x="1524" y="2488"/>
                  </a:lnTo>
                  <a:lnTo>
                    <a:pt x="1531" y="2488"/>
                  </a:lnTo>
                  <a:lnTo>
                    <a:pt x="1534" y="2488"/>
                  </a:lnTo>
                  <a:lnTo>
                    <a:pt x="1535" y="2488"/>
                  </a:lnTo>
                  <a:lnTo>
                    <a:pt x="1537" y="2488"/>
                  </a:lnTo>
                  <a:lnTo>
                    <a:pt x="1586" y="2488"/>
                  </a:lnTo>
                  <a:lnTo>
                    <a:pt x="1624" y="2488"/>
                  </a:lnTo>
                  <a:lnTo>
                    <a:pt x="1651" y="2488"/>
                  </a:lnTo>
                  <a:lnTo>
                    <a:pt x="1669" y="2488"/>
                  </a:lnTo>
                  <a:lnTo>
                    <a:pt x="1679" y="2488"/>
                  </a:lnTo>
                  <a:lnTo>
                    <a:pt x="1685" y="2488"/>
                  </a:lnTo>
                  <a:lnTo>
                    <a:pt x="1688" y="2488"/>
                  </a:lnTo>
                  <a:lnTo>
                    <a:pt x="1658" y="2442"/>
                  </a:lnTo>
                  <a:lnTo>
                    <a:pt x="1625" y="2396"/>
                  </a:lnTo>
                  <a:lnTo>
                    <a:pt x="1590" y="2352"/>
                  </a:lnTo>
                  <a:lnTo>
                    <a:pt x="1553" y="2308"/>
                  </a:lnTo>
                  <a:lnTo>
                    <a:pt x="1514" y="2266"/>
                  </a:lnTo>
                  <a:lnTo>
                    <a:pt x="1474" y="2223"/>
                  </a:lnTo>
                  <a:lnTo>
                    <a:pt x="1434" y="2180"/>
                  </a:lnTo>
                  <a:lnTo>
                    <a:pt x="1394" y="2139"/>
                  </a:lnTo>
                  <a:lnTo>
                    <a:pt x="1355" y="2098"/>
                  </a:lnTo>
                  <a:lnTo>
                    <a:pt x="1317" y="2055"/>
                  </a:lnTo>
                  <a:lnTo>
                    <a:pt x="1279" y="2012"/>
                  </a:lnTo>
                  <a:lnTo>
                    <a:pt x="1244" y="1970"/>
                  </a:lnTo>
                  <a:lnTo>
                    <a:pt x="1212" y="1926"/>
                  </a:lnTo>
                  <a:lnTo>
                    <a:pt x="1182" y="1882"/>
                  </a:lnTo>
                  <a:lnTo>
                    <a:pt x="1155" y="1836"/>
                  </a:lnTo>
                  <a:lnTo>
                    <a:pt x="1133" y="1790"/>
                  </a:lnTo>
                  <a:lnTo>
                    <a:pt x="1039" y="1393"/>
                  </a:lnTo>
                  <a:lnTo>
                    <a:pt x="1022" y="1375"/>
                  </a:lnTo>
                  <a:lnTo>
                    <a:pt x="1010" y="1364"/>
                  </a:lnTo>
                  <a:lnTo>
                    <a:pt x="1001" y="1355"/>
                  </a:lnTo>
                  <a:lnTo>
                    <a:pt x="995" y="1348"/>
                  </a:lnTo>
                  <a:lnTo>
                    <a:pt x="991" y="1344"/>
                  </a:lnTo>
                  <a:lnTo>
                    <a:pt x="989" y="1343"/>
                  </a:lnTo>
                  <a:lnTo>
                    <a:pt x="988" y="1342"/>
                  </a:lnTo>
                  <a:lnTo>
                    <a:pt x="648" y="1247"/>
                  </a:lnTo>
                  <a:lnTo>
                    <a:pt x="51" y="743"/>
                  </a:lnTo>
                  <a:lnTo>
                    <a:pt x="0" y="302"/>
                  </a:lnTo>
                  <a:lnTo>
                    <a:pt x="202" y="0"/>
                  </a:lnTo>
                  <a:lnTo>
                    <a:pt x="692" y="397"/>
                  </a:lnTo>
                  <a:lnTo>
                    <a:pt x="704" y="443"/>
                  </a:lnTo>
                  <a:lnTo>
                    <a:pt x="720" y="487"/>
                  </a:lnTo>
                  <a:lnTo>
                    <a:pt x="739" y="529"/>
                  </a:lnTo>
                  <a:lnTo>
                    <a:pt x="763" y="568"/>
                  </a:lnTo>
                  <a:lnTo>
                    <a:pt x="788" y="605"/>
                  </a:lnTo>
                  <a:lnTo>
                    <a:pt x="815" y="640"/>
                  </a:lnTo>
                  <a:lnTo>
                    <a:pt x="845" y="674"/>
                  </a:lnTo>
                  <a:lnTo>
                    <a:pt x="878" y="705"/>
                  </a:lnTo>
                  <a:lnTo>
                    <a:pt x="910" y="735"/>
                  </a:lnTo>
                  <a:lnTo>
                    <a:pt x="943" y="762"/>
                  </a:lnTo>
                  <a:lnTo>
                    <a:pt x="977" y="788"/>
                  </a:lnTo>
                  <a:lnTo>
                    <a:pt x="1010" y="813"/>
                  </a:lnTo>
                  <a:lnTo>
                    <a:pt x="1044" y="835"/>
                  </a:lnTo>
                  <a:lnTo>
                    <a:pt x="1075" y="857"/>
                  </a:lnTo>
                  <a:lnTo>
                    <a:pt x="1105" y="876"/>
                  </a:lnTo>
                  <a:lnTo>
                    <a:pt x="1133" y="895"/>
                  </a:lnTo>
                  <a:lnTo>
                    <a:pt x="1889" y="946"/>
                  </a:lnTo>
                  <a:lnTo>
                    <a:pt x="2230" y="1147"/>
                  </a:lnTo>
                  <a:lnTo>
                    <a:pt x="2784" y="1839"/>
                  </a:lnTo>
                  <a:lnTo>
                    <a:pt x="2829" y="1543"/>
                  </a:lnTo>
                  <a:lnTo>
                    <a:pt x="4215" y="844"/>
                  </a:lnTo>
                  <a:lnTo>
                    <a:pt x="4215" y="2488"/>
                  </a:lnTo>
                  <a:lnTo>
                    <a:pt x="3024" y="2936"/>
                  </a:lnTo>
                  <a:lnTo>
                    <a:pt x="3024" y="2677"/>
                  </a:lnTo>
                  <a:lnTo>
                    <a:pt x="2829" y="2432"/>
                  </a:lnTo>
                  <a:lnTo>
                    <a:pt x="2829" y="2879"/>
                  </a:lnTo>
                  <a:lnTo>
                    <a:pt x="2583" y="3623"/>
                  </a:lnTo>
                  <a:lnTo>
                    <a:pt x="2550" y="3641"/>
                  </a:lnTo>
                  <a:lnTo>
                    <a:pt x="2518" y="3660"/>
                  </a:lnTo>
                  <a:lnTo>
                    <a:pt x="2486" y="3677"/>
                  </a:lnTo>
                  <a:lnTo>
                    <a:pt x="2455" y="3694"/>
                  </a:lnTo>
                  <a:lnTo>
                    <a:pt x="2425" y="3710"/>
                  </a:lnTo>
                  <a:lnTo>
                    <a:pt x="2395" y="3726"/>
                  </a:lnTo>
                  <a:lnTo>
                    <a:pt x="2365" y="3743"/>
                  </a:lnTo>
                  <a:lnTo>
                    <a:pt x="2336" y="3757"/>
                  </a:lnTo>
                  <a:lnTo>
                    <a:pt x="2307" y="3772"/>
                  </a:lnTo>
                  <a:lnTo>
                    <a:pt x="2278" y="3786"/>
                  </a:lnTo>
                  <a:lnTo>
                    <a:pt x="2251" y="3801"/>
                  </a:lnTo>
                  <a:lnTo>
                    <a:pt x="2222" y="3815"/>
                  </a:lnTo>
                  <a:lnTo>
                    <a:pt x="2196" y="3829"/>
                  </a:lnTo>
                  <a:lnTo>
                    <a:pt x="2168" y="3842"/>
                  </a:lnTo>
                  <a:lnTo>
                    <a:pt x="2140" y="3855"/>
                  </a:lnTo>
                  <a:lnTo>
                    <a:pt x="2114" y="3868"/>
                  </a:lnTo>
                  <a:lnTo>
                    <a:pt x="2087" y="3881"/>
                  </a:lnTo>
                  <a:lnTo>
                    <a:pt x="2061" y="3893"/>
                  </a:lnTo>
                  <a:lnTo>
                    <a:pt x="2034" y="3906"/>
                  </a:lnTo>
                  <a:lnTo>
                    <a:pt x="2008" y="3918"/>
                  </a:lnTo>
                  <a:lnTo>
                    <a:pt x="1981" y="3930"/>
                  </a:lnTo>
                  <a:lnTo>
                    <a:pt x="1955" y="3943"/>
                  </a:lnTo>
                  <a:lnTo>
                    <a:pt x="1929" y="3956"/>
                  </a:lnTo>
                  <a:lnTo>
                    <a:pt x="1903" y="3967"/>
                  </a:lnTo>
                  <a:lnTo>
                    <a:pt x="1876" y="3980"/>
                  </a:lnTo>
                  <a:lnTo>
                    <a:pt x="1850" y="3992"/>
                  </a:lnTo>
                  <a:lnTo>
                    <a:pt x="1823" y="4005"/>
                  </a:lnTo>
                  <a:lnTo>
                    <a:pt x="1797" y="4018"/>
                  </a:lnTo>
                  <a:lnTo>
                    <a:pt x="1769" y="4031"/>
                  </a:lnTo>
                  <a:lnTo>
                    <a:pt x="1743" y="4043"/>
                  </a:lnTo>
                  <a:lnTo>
                    <a:pt x="1715" y="4056"/>
                  </a:lnTo>
                  <a:lnTo>
                    <a:pt x="1688" y="4070"/>
                  </a:lnTo>
                  <a:lnTo>
                    <a:pt x="1580" y="402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Freeform 1042"/>
            <p:cNvSpPr/>
            <p:nvPr/>
          </p:nvSpPr>
          <p:spPr>
            <a:xfrm>
              <a:off x="7668000" y="5790960"/>
              <a:ext cx="218520" cy="130680"/>
            </a:xfrm>
            <a:custGeom>
              <a:avLst/>
              <a:gdLst>
                <a:gd name="textAreaLeft" fmla="*/ 0 w 218520"/>
                <a:gd name="textAreaRight" fmla="*/ 218880 w 218520"/>
                <a:gd name="textAreaTop" fmla="*/ 0 h 130680"/>
                <a:gd name="textAreaBottom" fmla="*/ 131040 h 130680"/>
              </a:gdLst>
              <a:ahLst/>
              <a:rect l="textAreaLeft" t="textAreaTop" r="textAreaRight" b="textAreaBottom"/>
              <a:pathLst>
                <a:path w="1493" h="851">
                  <a:moveTo>
                    <a:pt x="100" y="801"/>
                  </a:moveTo>
                  <a:lnTo>
                    <a:pt x="0" y="650"/>
                  </a:lnTo>
                  <a:lnTo>
                    <a:pt x="447" y="599"/>
                  </a:lnTo>
                  <a:lnTo>
                    <a:pt x="843" y="403"/>
                  </a:lnTo>
                  <a:lnTo>
                    <a:pt x="1290" y="0"/>
                  </a:lnTo>
                  <a:lnTo>
                    <a:pt x="1493" y="107"/>
                  </a:lnTo>
                  <a:lnTo>
                    <a:pt x="1234" y="498"/>
                  </a:lnTo>
                  <a:lnTo>
                    <a:pt x="1201" y="519"/>
                  </a:lnTo>
                  <a:lnTo>
                    <a:pt x="1170" y="541"/>
                  </a:lnTo>
                  <a:lnTo>
                    <a:pt x="1139" y="561"/>
                  </a:lnTo>
                  <a:lnTo>
                    <a:pt x="1108" y="579"/>
                  </a:lnTo>
                  <a:lnTo>
                    <a:pt x="1077" y="597"/>
                  </a:lnTo>
                  <a:lnTo>
                    <a:pt x="1047" y="613"/>
                  </a:lnTo>
                  <a:lnTo>
                    <a:pt x="1016" y="628"/>
                  </a:lnTo>
                  <a:lnTo>
                    <a:pt x="986" y="642"/>
                  </a:lnTo>
                  <a:lnTo>
                    <a:pt x="955" y="655"/>
                  </a:lnTo>
                  <a:lnTo>
                    <a:pt x="925" y="667"/>
                  </a:lnTo>
                  <a:lnTo>
                    <a:pt x="895" y="678"/>
                  </a:lnTo>
                  <a:lnTo>
                    <a:pt x="865" y="690"/>
                  </a:lnTo>
                  <a:lnTo>
                    <a:pt x="835" y="699"/>
                  </a:lnTo>
                  <a:lnTo>
                    <a:pt x="805" y="710"/>
                  </a:lnTo>
                  <a:lnTo>
                    <a:pt x="775" y="718"/>
                  </a:lnTo>
                  <a:lnTo>
                    <a:pt x="745" y="727"/>
                  </a:lnTo>
                  <a:lnTo>
                    <a:pt x="714" y="735"/>
                  </a:lnTo>
                  <a:lnTo>
                    <a:pt x="684" y="743"/>
                  </a:lnTo>
                  <a:lnTo>
                    <a:pt x="654" y="750"/>
                  </a:lnTo>
                  <a:lnTo>
                    <a:pt x="624" y="757"/>
                  </a:lnTo>
                  <a:lnTo>
                    <a:pt x="593" y="765"/>
                  </a:lnTo>
                  <a:lnTo>
                    <a:pt x="563" y="772"/>
                  </a:lnTo>
                  <a:lnTo>
                    <a:pt x="532" y="779"/>
                  </a:lnTo>
                  <a:lnTo>
                    <a:pt x="501" y="786"/>
                  </a:lnTo>
                  <a:lnTo>
                    <a:pt x="470" y="792"/>
                  </a:lnTo>
                  <a:lnTo>
                    <a:pt x="439" y="799"/>
                  </a:lnTo>
                  <a:lnTo>
                    <a:pt x="408" y="807"/>
                  </a:lnTo>
                  <a:lnTo>
                    <a:pt x="375" y="816"/>
                  </a:lnTo>
                  <a:lnTo>
                    <a:pt x="343" y="824"/>
                  </a:lnTo>
                  <a:lnTo>
                    <a:pt x="311" y="833"/>
                  </a:lnTo>
                  <a:lnTo>
                    <a:pt x="279" y="842"/>
                  </a:lnTo>
                  <a:lnTo>
                    <a:pt x="245" y="851"/>
                  </a:lnTo>
                  <a:lnTo>
                    <a:pt x="100" y="801"/>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Freeform 1043"/>
            <p:cNvSpPr/>
            <p:nvPr/>
          </p:nvSpPr>
          <p:spPr>
            <a:xfrm>
              <a:off x="7565760" y="5739120"/>
              <a:ext cx="276480" cy="120960"/>
            </a:xfrm>
            <a:custGeom>
              <a:avLst/>
              <a:gdLst>
                <a:gd name="textAreaLeft" fmla="*/ 0 w 276480"/>
                <a:gd name="textAreaRight" fmla="*/ 276840 w 276480"/>
                <a:gd name="textAreaTop" fmla="*/ 0 h 120960"/>
                <a:gd name="textAreaBottom" fmla="*/ 121320 h 120960"/>
              </a:gdLst>
              <a:ahLst/>
              <a:rect l="textAreaLeft" t="textAreaTop" r="textAreaRight" b="textAreaBottom"/>
              <a:pathLst>
                <a:path w="1891" h="788">
                  <a:moveTo>
                    <a:pt x="354" y="744"/>
                  </a:moveTo>
                  <a:lnTo>
                    <a:pt x="0" y="492"/>
                  </a:lnTo>
                  <a:lnTo>
                    <a:pt x="108" y="151"/>
                  </a:lnTo>
                  <a:lnTo>
                    <a:pt x="144" y="168"/>
                  </a:lnTo>
                  <a:lnTo>
                    <a:pt x="180" y="185"/>
                  </a:lnTo>
                  <a:lnTo>
                    <a:pt x="217" y="201"/>
                  </a:lnTo>
                  <a:lnTo>
                    <a:pt x="253" y="216"/>
                  </a:lnTo>
                  <a:lnTo>
                    <a:pt x="288" y="229"/>
                  </a:lnTo>
                  <a:lnTo>
                    <a:pt x="324" y="243"/>
                  </a:lnTo>
                  <a:lnTo>
                    <a:pt x="359" y="256"/>
                  </a:lnTo>
                  <a:lnTo>
                    <a:pt x="394" y="269"/>
                  </a:lnTo>
                  <a:lnTo>
                    <a:pt x="429" y="280"/>
                  </a:lnTo>
                  <a:lnTo>
                    <a:pt x="464" y="291"/>
                  </a:lnTo>
                  <a:lnTo>
                    <a:pt x="499" y="301"/>
                  </a:lnTo>
                  <a:lnTo>
                    <a:pt x="533" y="310"/>
                  </a:lnTo>
                  <a:lnTo>
                    <a:pt x="567" y="319"/>
                  </a:lnTo>
                  <a:lnTo>
                    <a:pt x="602" y="327"/>
                  </a:lnTo>
                  <a:lnTo>
                    <a:pt x="635" y="334"/>
                  </a:lnTo>
                  <a:lnTo>
                    <a:pt x="669" y="341"/>
                  </a:lnTo>
                  <a:lnTo>
                    <a:pt x="703" y="348"/>
                  </a:lnTo>
                  <a:lnTo>
                    <a:pt x="737" y="354"/>
                  </a:lnTo>
                  <a:lnTo>
                    <a:pt x="769" y="360"/>
                  </a:lnTo>
                  <a:lnTo>
                    <a:pt x="802" y="364"/>
                  </a:lnTo>
                  <a:lnTo>
                    <a:pt x="836" y="369"/>
                  </a:lnTo>
                  <a:lnTo>
                    <a:pt x="869" y="373"/>
                  </a:lnTo>
                  <a:lnTo>
                    <a:pt x="901" y="377"/>
                  </a:lnTo>
                  <a:lnTo>
                    <a:pt x="934" y="380"/>
                  </a:lnTo>
                  <a:lnTo>
                    <a:pt x="967" y="383"/>
                  </a:lnTo>
                  <a:lnTo>
                    <a:pt x="999" y="385"/>
                  </a:lnTo>
                  <a:lnTo>
                    <a:pt x="1031" y="386"/>
                  </a:lnTo>
                  <a:lnTo>
                    <a:pt x="1064" y="388"/>
                  </a:lnTo>
                  <a:lnTo>
                    <a:pt x="1096" y="390"/>
                  </a:lnTo>
                  <a:lnTo>
                    <a:pt x="1128" y="390"/>
                  </a:lnTo>
                  <a:lnTo>
                    <a:pt x="1159" y="391"/>
                  </a:lnTo>
                  <a:lnTo>
                    <a:pt x="1192" y="391"/>
                  </a:lnTo>
                  <a:lnTo>
                    <a:pt x="1227" y="373"/>
                  </a:lnTo>
                  <a:lnTo>
                    <a:pt x="1254" y="362"/>
                  </a:lnTo>
                  <a:lnTo>
                    <a:pt x="1272" y="353"/>
                  </a:lnTo>
                  <a:lnTo>
                    <a:pt x="1285" y="346"/>
                  </a:lnTo>
                  <a:lnTo>
                    <a:pt x="1293" y="342"/>
                  </a:lnTo>
                  <a:lnTo>
                    <a:pt x="1298" y="341"/>
                  </a:lnTo>
                  <a:lnTo>
                    <a:pt x="1299" y="340"/>
                  </a:lnTo>
                  <a:lnTo>
                    <a:pt x="1488" y="0"/>
                  </a:lnTo>
                  <a:lnTo>
                    <a:pt x="1891" y="44"/>
                  </a:lnTo>
                  <a:lnTo>
                    <a:pt x="1853" y="103"/>
                  </a:lnTo>
                  <a:lnTo>
                    <a:pt x="1814" y="159"/>
                  </a:lnTo>
                  <a:lnTo>
                    <a:pt x="1774" y="212"/>
                  </a:lnTo>
                  <a:lnTo>
                    <a:pt x="1734" y="263"/>
                  </a:lnTo>
                  <a:lnTo>
                    <a:pt x="1693" y="310"/>
                  </a:lnTo>
                  <a:lnTo>
                    <a:pt x="1651" y="354"/>
                  </a:lnTo>
                  <a:lnTo>
                    <a:pt x="1609" y="395"/>
                  </a:lnTo>
                  <a:lnTo>
                    <a:pt x="1566" y="435"/>
                  </a:lnTo>
                  <a:lnTo>
                    <a:pt x="1523" y="470"/>
                  </a:lnTo>
                  <a:lnTo>
                    <a:pt x="1480" y="505"/>
                  </a:lnTo>
                  <a:lnTo>
                    <a:pt x="1436" y="536"/>
                  </a:lnTo>
                  <a:lnTo>
                    <a:pt x="1391" y="565"/>
                  </a:lnTo>
                  <a:lnTo>
                    <a:pt x="1347" y="592"/>
                  </a:lnTo>
                  <a:lnTo>
                    <a:pt x="1302" y="617"/>
                  </a:lnTo>
                  <a:lnTo>
                    <a:pt x="1257" y="640"/>
                  </a:lnTo>
                  <a:lnTo>
                    <a:pt x="1211" y="659"/>
                  </a:lnTo>
                  <a:lnTo>
                    <a:pt x="1166" y="679"/>
                  </a:lnTo>
                  <a:lnTo>
                    <a:pt x="1120" y="695"/>
                  </a:lnTo>
                  <a:lnTo>
                    <a:pt x="1075" y="711"/>
                  </a:lnTo>
                  <a:lnTo>
                    <a:pt x="1029" y="724"/>
                  </a:lnTo>
                  <a:lnTo>
                    <a:pt x="984" y="736"/>
                  </a:lnTo>
                  <a:lnTo>
                    <a:pt x="939" y="747"/>
                  </a:lnTo>
                  <a:lnTo>
                    <a:pt x="893" y="756"/>
                  </a:lnTo>
                  <a:lnTo>
                    <a:pt x="848" y="763"/>
                  </a:lnTo>
                  <a:lnTo>
                    <a:pt x="803" y="770"/>
                  </a:lnTo>
                  <a:lnTo>
                    <a:pt x="760" y="776"/>
                  </a:lnTo>
                  <a:lnTo>
                    <a:pt x="715" y="779"/>
                  </a:lnTo>
                  <a:lnTo>
                    <a:pt x="671" y="782"/>
                  </a:lnTo>
                  <a:lnTo>
                    <a:pt x="627" y="786"/>
                  </a:lnTo>
                  <a:lnTo>
                    <a:pt x="584" y="787"/>
                  </a:lnTo>
                  <a:lnTo>
                    <a:pt x="542" y="788"/>
                  </a:lnTo>
                  <a:lnTo>
                    <a:pt x="499" y="788"/>
                  </a:lnTo>
                  <a:lnTo>
                    <a:pt x="354" y="74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Freeform 1044"/>
            <p:cNvSpPr/>
            <p:nvPr/>
          </p:nvSpPr>
          <p:spPr>
            <a:xfrm>
              <a:off x="7290720" y="5784840"/>
              <a:ext cx="93960" cy="37440"/>
            </a:xfrm>
            <a:custGeom>
              <a:avLst/>
              <a:gdLst>
                <a:gd name="textAreaLeft" fmla="*/ 0 w 93960"/>
                <a:gd name="textAreaRight" fmla="*/ 94320 w 93960"/>
                <a:gd name="textAreaTop" fmla="*/ 0 h 37440"/>
                <a:gd name="textAreaBottom" fmla="*/ 37800 h 37440"/>
              </a:gdLst>
              <a:ahLst/>
              <a:rect l="textAreaLeft" t="textAreaTop" r="textAreaRight" b="textAreaBottom"/>
              <a:pathLst>
                <a:path w="643" h="246">
                  <a:moveTo>
                    <a:pt x="51" y="196"/>
                  </a:moveTo>
                  <a:lnTo>
                    <a:pt x="51" y="196"/>
                  </a:lnTo>
                  <a:lnTo>
                    <a:pt x="33" y="163"/>
                  </a:lnTo>
                  <a:lnTo>
                    <a:pt x="22" y="138"/>
                  </a:lnTo>
                  <a:lnTo>
                    <a:pt x="13" y="119"/>
                  </a:lnTo>
                  <a:lnTo>
                    <a:pt x="7" y="108"/>
                  </a:lnTo>
                  <a:lnTo>
                    <a:pt x="2" y="101"/>
                  </a:lnTo>
                  <a:lnTo>
                    <a:pt x="1" y="96"/>
                  </a:lnTo>
                  <a:lnTo>
                    <a:pt x="0" y="95"/>
                  </a:lnTo>
                  <a:lnTo>
                    <a:pt x="347" y="0"/>
                  </a:lnTo>
                  <a:lnTo>
                    <a:pt x="643" y="44"/>
                  </a:lnTo>
                  <a:lnTo>
                    <a:pt x="625" y="80"/>
                  </a:lnTo>
                  <a:lnTo>
                    <a:pt x="614" y="106"/>
                  </a:lnTo>
                  <a:lnTo>
                    <a:pt x="605" y="125"/>
                  </a:lnTo>
                  <a:lnTo>
                    <a:pt x="599" y="138"/>
                  </a:lnTo>
                  <a:lnTo>
                    <a:pt x="594" y="146"/>
                  </a:lnTo>
                  <a:lnTo>
                    <a:pt x="593" y="150"/>
                  </a:lnTo>
                  <a:lnTo>
                    <a:pt x="592" y="151"/>
                  </a:lnTo>
                  <a:lnTo>
                    <a:pt x="145" y="246"/>
                  </a:lnTo>
                  <a:lnTo>
                    <a:pt x="51" y="196"/>
                  </a:lnTo>
                  <a:close/>
                </a:path>
              </a:pathLst>
            </a:custGeom>
            <a:solidFill>
              <a:srgbClr val="666633"/>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53" name="Freeform 1045"/>
            <p:cNvSpPr/>
            <p:nvPr/>
          </p:nvSpPr>
          <p:spPr>
            <a:xfrm>
              <a:off x="7529760" y="5556600"/>
              <a:ext cx="217800" cy="212400"/>
            </a:xfrm>
            <a:custGeom>
              <a:avLst/>
              <a:gdLst>
                <a:gd name="textAreaLeft" fmla="*/ 0 w 217800"/>
                <a:gd name="textAreaRight" fmla="*/ 218160 w 217800"/>
                <a:gd name="textAreaTop" fmla="*/ 0 h 212400"/>
                <a:gd name="textAreaBottom" fmla="*/ 212760 h 212400"/>
              </a:gdLst>
              <a:ahLst/>
              <a:rect l="textAreaLeft" t="textAreaTop" r="textAreaRight" b="textAreaBottom"/>
              <a:pathLst>
                <a:path w="1488" h="1386">
                  <a:moveTo>
                    <a:pt x="895" y="1342"/>
                  </a:moveTo>
                  <a:lnTo>
                    <a:pt x="397" y="1039"/>
                  </a:lnTo>
                  <a:lnTo>
                    <a:pt x="247" y="838"/>
                  </a:lnTo>
                  <a:lnTo>
                    <a:pt x="152" y="598"/>
                  </a:lnTo>
                  <a:lnTo>
                    <a:pt x="0" y="296"/>
                  </a:lnTo>
                  <a:lnTo>
                    <a:pt x="101" y="0"/>
                  </a:lnTo>
                  <a:lnTo>
                    <a:pt x="650" y="196"/>
                  </a:lnTo>
                  <a:lnTo>
                    <a:pt x="846" y="398"/>
                  </a:lnTo>
                  <a:lnTo>
                    <a:pt x="851" y="442"/>
                  </a:lnTo>
                  <a:lnTo>
                    <a:pt x="870" y="485"/>
                  </a:lnTo>
                  <a:lnTo>
                    <a:pt x="896" y="527"/>
                  </a:lnTo>
                  <a:lnTo>
                    <a:pt x="933" y="566"/>
                  </a:lnTo>
                  <a:lnTo>
                    <a:pt x="976" y="605"/>
                  </a:lnTo>
                  <a:lnTo>
                    <a:pt x="1024" y="644"/>
                  </a:lnTo>
                  <a:lnTo>
                    <a:pt x="1076" y="682"/>
                  </a:lnTo>
                  <a:lnTo>
                    <a:pt x="1131" y="721"/>
                  </a:lnTo>
                  <a:lnTo>
                    <a:pt x="1188" y="760"/>
                  </a:lnTo>
                  <a:lnTo>
                    <a:pt x="1243" y="801"/>
                  </a:lnTo>
                  <a:lnTo>
                    <a:pt x="1297" y="842"/>
                  </a:lnTo>
                  <a:lnTo>
                    <a:pt x="1348" y="885"/>
                  </a:lnTo>
                  <a:lnTo>
                    <a:pt x="1394" y="931"/>
                  </a:lnTo>
                  <a:lnTo>
                    <a:pt x="1433" y="978"/>
                  </a:lnTo>
                  <a:lnTo>
                    <a:pt x="1465" y="1029"/>
                  </a:lnTo>
                  <a:lnTo>
                    <a:pt x="1488" y="1083"/>
                  </a:lnTo>
                  <a:lnTo>
                    <a:pt x="1394" y="1342"/>
                  </a:lnTo>
                  <a:lnTo>
                    <a:pt x="990" y="1386"/>
                  </a:lnTo>
                  <a:lnTo>
                    <a:pt x="895" y="134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Freeform 1046"/>
            <p:cNvSpPr/>
            <p:nvPr/>
          </p:nvSpPr>
          <p:spPr>
            <a:xfrm>
              <a:off x="7268760" y="5700600"/>
              <a:ext cx="151920" cy="52920"/>
            </a:xfrm>
            <a:custGeom>
              <a:avLst/>
              <a:gdLst>
                <a:gd name="textAreaLeft" fmla="*/ 0 w 151920"/>
                <a:gd name="textAreaRight" fmla="*/ 152280 w 151920"/>
                <a:gd name="textAreaTop" fmla="*/ 0 h 52920"/>
                <a:gd name="textAreaBottom" fmla="*/ 53280 h 52920"/>
              </a:gdLst>
              <a:ahLst/>
              <a:rect l="textAreaLeft" t="textAreaTop" r="textAreaRight" b="textAreaBottom"/>
              <a:pathLst>
                <a:path w="1039" h="347">
                  <a:moveTo>
                    <a:pt x="202" y="296"/>
                  </a:moveTo>
                  <a:lnTo>
                    <a:pt x="0" y="202"/>
                  </a:lnTo>
                  <a:lnTo>
                    <a:pt x="0" y="0"/>
                  </a:lnTo>
                  <a:lnTo>
                    <a:pt x="794" y="51"/>
                  </a:lnTo>
                  <a:lnTo>
                    <a:pt x="1039" y="100"/>
                  </a:lnTo>
                  <a:lnTo>
                    <a:pt x="1039" y="134"/>
                  </a:lnTo>
                  <a:lnTo>
                    <a:pt x="1039" y="159"/>
                  </a:lnTo>
                  <a:lnTo>
                    <a:pt x="1039" y="177"/>
                  </a:lnTo>
                  <a:lnTo>
                    <a:pt x="1039" y="189"/>
                  </a:lnTo>
                  <a:lnTo>
                    <a:pt x="1039" y="196"/>
                  </a:lnTo>
                  <a:lnTo>
                    <a:pt x="1039" y="200"/>
                  </a:lnTo>
                  <a:lnTo>
                    <a:pt x="1039" y="202"/>
                  </a:lnTo>
                  <a:lnTo>
                    <a:pt x="985" y="227"/>
                  </a:lnTo>
                  <a:lnTo>
                    <a:pt x="934" y="250"/>
                  </a:lnTo>
                  <a:lnTo>
                    <a:pt x="886" y="268"/>
                  </a:lnTo>
                  <a:lnTo>
                    <a:pt x="841" y="286"/>
                  </a:lnTo>
                  <a:lnTo>
                    <a:pt x="797" y="299"/>
                  </a:lnTo>
                  <a:lnTo>
                    <a:pt x="755" y="311"/>
                  </a:lnTo>
                  <a:lnTo>
                    <a:pt x="714" y="321"/>
                  </a:lnTo>
                  <a:lnTo>
                    <a:pt x="675" y="328"/>
                  </a:lnTo>
                  <a:lnTo>
                    <a:pt x="636" y="334"/>
                  </a:lnTo>
                  <a:lnTo>
                    <a:pt x="597" y="339"/>
                  </a:lnTo>
                  <a:lnTo>
                    <a:pt x="559" y="342"/>
                  </a:lnTo>
                  <a:lnTo>
                    <a:pt x="520" y="344"/>
                  </a:lnTo>
                  <a:lnTo>
                    <a:pt x="479" y="346"/>
                  </a:lnTo>
                  <a:lnTo>
                    <a:pt x="439" y="347"/>
                  </a:lnTo>
                  <a:lnTo>
                    <a:pt x="396" y="347"/>
                  </a:lnTo>
                  <a:lnTo>
                    <a:pt x="353" y="347"/>
                  </a:lnTo>
                  <a:lnTo>
                    <a:pt x="202" y="296"/>
                  </a:lnTo>
                  <a:close/>
                </a:path>
              </a:pathLst>
            </a:custGeom>
            <a:solidFill>
              <a:srgbClr val="666633"/>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455" name="Freeform 1047"/>
            <p:cNvSpPr/>
            <p:nvPr/>
          </p:nvSpPr>
          <p:spPr>
            <a:xfrm>
              <a:off x="7225200" y="5394960"/>
              <a:ext cx="203760" cy="222480"/>
            </a:xfrm>
            <a:custGeom>
              <a:avLst/>
              <a:gdLst>
                <a:gd name="textAreaLeft" fmla="*/ 0 w 203760"/>
                <a:gd name="textAreaRight" fmla="*/ 204120 w 203760"/>
                <a:gd name="textAreaTop" fmla="*/ 0 h 222480"/>
                <a:gd name="textAreaBottom" fmla="*/ 222840 h 222480"/>
              </a:gdLst>
              <a:ahLst/>
              <a:rect l="textAreaLeft" t="textAreaTop" r="textAreaRight" b="textAreaBottom"/>
              <a:pathLst>
                <a:path w="1394" h="1449">
                  <a:moveTo>
                    <a:pt x="499" y="1392"/>
                  </a:moveTo>
                  <a:lnTo>
                    <a:pt x="145" y="1096"/>
                  </a:lnTo>
                  <a:lnTo>
                    <a:pt x="0" y="504"/>
                  </a:lnTo>
                  <a:lnTo>
                    <a:pt x="347" y="56"/>
                  </a:lnTo>
                  <a:lnTo>
                    <a:pt x="838" y="0"/>
                  </a:lnTo>
                  <a:lnTo>
                    <a:pt x="1336" y="352"/>
                  </a:lnTo>
                  <a:lnTo>
                    <a:pt x="1394" y="851"/>
                  </a:lnTo>
                  <a:lnTo>
                    <a:pt x="1091" y="1298"/>
                  </a:lnTo>
                  <a:lnTo>
                    <a:pt x="946" y="1392"/>
                  </a:lnTo>
                  <a:lnTo>
                    <a:pt x="593" y="1449"/>
                  </a:lnTo>
                  <a:lnTo>
                    <a:pt x="499" y="139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Freeform 1048"/>
            <p:cNvSpPr/>
            <p:nvPr/>
          </p:nvSpPr>
          <p:spPr>
            <a:xfrm>
              <a:off x="7609680" y="5358240"/>
              <a:ext cx="28440" cy="83160"/>
            </a:xfrm>
            <a:custGeom>
              <a:avLst/>
              <a:gdLst>
                <a:gd name="textAreaLeft" fmla="*/ 0 w 28440"/>
                <a:gd name="textAreaRight" fmla="*/ 28800 w 28440"/>
                <a:gd name="textAreaTop" fmla="*/ 0 h 83160"/>
                <a:gd name="textAreaBottom" fmla="*/ 83520 h 83160"/>
              </a:gdLst>
              <a:ahLst/>
              <a:rect l="textAreaLeft" t="textAreaTop" r="textAreaRight" b="textAreaBottom"/>
              <a:pathLst>
                <a:path w="196" h="542">
                  <a:moveTo>
                    <a:pt x="51" y="498"/>
                  </a:moveTo>
                  <a:lnTo>
                    <a:pt x="51" y="498"/>
                  </a:lnTo>
                  <a:lnTo>
                    <a:pt x="0" y="0"/>
                  </a:lnTo>
                  <a:lnTo>
                    <a:pt x="196" y="145"/>
                  </a:lnTo>
                  <a:lnTo>
                    <a:pt x="146" y="542"/>
                  </a:lnTo>
                  <a:lnTo>
                    <a:pt x="51" y="498"/>
                  </a:lnTo>
                  <a:close/>
                </a:path>
              </a:pathLst>
            </a:custGeom>
            <a:solidFill>
              <a:srgbClr val="6633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457" name="Freeform 1049"/>
            <p:cNvSpPr/>
            <p:nvPr/>
          </p:nvSpPr>
          <p:spPr>
            <a:xfrm>
              <a:off x="7965720" y="5289120"/>
              <a:ext cx="180360" cy="84960"/>
            </a:xfrm>
            <a:custGeom>
              <a:avLst/>
              <a:gdLst>
                <a:gd name="textAreaLeft" fmla="*/ 0 w 180360"/>
                <a:gd name="textAreaRight" fmla="*/ 180720 w 180360"/>
                <a:gd name="textAreaTop" fmla="*/ 0 h 84960"/>
                <a:gd name="textAreaBottom" fmla="*/ 85320 h 84960"/>
              </a:gdLst>
              <a:ahLst/>
              <a:rect l="textAreaLeft" t="textAreaTop" r="textAreaRight" b="textAreaBottom"/>
              <a:pathLst>
                <a:path w="1230" h="553">
                  <a:moveTo>
                    <a:pt x="996" y="497"/>
                  </a:moveTo>
                  <a:lnTo>
                    <a:pt x="969" y="479"/>
                  </a:lnTo>
                  <a:lnTo>
                    <a:pt x="940" y="462"/>
                  </a:lnTo>
                  <a:lnTo>
                    <a:pt x="911" y="444"/>
                  </a:lnTo>
                  <a:lnTo>
                    <a:pt x="882" y="428"/>
                  </a:lnTo>
                  <a:lnTo>
                    <a:pt x="854" y="413"/>
                  </a:lnTo>
                  <a:lnTo>
                    <a:pt x="825" y="400"/>
                  </a:lnTo>
                  <a:lnTo>
                    <a:pt x="795" y="386"/>
                  </a:lnTo>
                  <a:lnTo>
                    <a:pt x="765" y="373"/>
                  </a:lnTo>
                  <a:lnTo>
                    <a:pt x="735" y="362"/>
                  </a:lnTo>
                  <a:lnTo>
                    <a:pt x="704" y="350"/>
                  </a:lnTo>
                  <a:lnTo>
                    <a:pt x="674" y="340"/>
                  </a:lnTo>
                  <a:lnTo>
                    <a:pt x="643" y="329"/>
                  </a:lnTo>
                  <a:lnTo>
                    <a:pt x="612" y="320"/>
                  </a:lnTo>
                  <a:lnTo>
                    <a:pt x="581" y="312"/>
                  </a:lnTo>
                  <a:lnTo>
                    <a:pt x="548" y="304"/>
                  </a:lnTo>
                  <a:lnTo>
                    <a:pt x="517" y="296"/>
                  </a:lnTo>
                  <a:lnTo>
                    <a:pt x="485" y="290"/>
                  </a:lnTo>
                  <a:lnTo>
                    <a:pt x="454" y="283"/>
                  </a:lnTo>
                  <a:lnTo>
                    <a:pt x="422" y="277"/>
                  </a:lnTo>
                  <a:lnTo>
                    <a:pt x="389" y="273"/>
                  </a:lnTo>
                  <a:lnTo>
                    <a:pt x="357" y="268"/>
                  </a:lnTo>
                  <a:lnTo>
                    <a:pt x="325" y="264"/>
                  </a:lnTo>
                  <a:lnTo>
                    <a:pt x="293" y="260"/>
                  </a:lnTo>
                  <a:lnTo>
                    <a:pt x="260" y="257"/>
                  </a:lnTo>
                  <a:lnTo>
                    <a:pt x="228" y="254"/>
                  </a:lnTo>
                  <a:lnTo>
                    <a:pt x="196" y="252"/>
                  </a:lnTo>
                  <a:lnTo>
                    <a:pt x="162" y="250"/>
                  </a:lnTo>
                  <a:lnTo>
                    <a:pt x="130" y="249"/>
                  </a:lnTo>
                  <a:lnTo>
                    <a:pt x="98" y="248"/>
                  </a:lnTo>
                  <a:lnTo>
                    <a:pt x="64" y="248"/>
                  </a:lnTo>
                  <a:lnTo>
                    <a:pt x="32" y="246"/>
                  </a:lnTo>
                  <a:lnTo>
                    <a:pt x="0" y="246"/>
                  </a:lnTo>
                  <a:lnTo>
                    <a:pt x="0" y="0"/>
                  </a:lnTo>
                  <a:lnTo>
                    <a:pt x="32" y="0"/>
                  </a:lnTo>
                  <a:lnTo>
                    <a:pt x="66" y="1"/>
                  </a:lnTo>
                  <a:lnTo>
                    <a:pt x="99" y="2"/>
                  </a:lnTo>
                  <a:lnTo>
                    <a:pt x="132" y="4"/>
                  </a:lnTo>
                  <a:lnTo>
                    <a:pt x="166" y="7"/>
                  </a:lnTo>
                  <a:lnTo>
                    <a:pt x="199" y="10"/>
                  </a:lnTo>
                  <a:lnTo>
                    <a:pt x="234" y="14"/>
                  </a:lnTo>
                  <a:lnTo>
                    <a:pt x="268" y="18"/>
                  </a:lnTo>
                  <a:lnTo>
                    <a:pt x="302" y="23"/>
                  </a:lnTo>
                  <a:lnTo>
                    <a:pt x="336" y="27"/>
                  </a:lnTo>
                  <a:lnTo>
                    <a:pt x="371" y="34"/>
                  </a:lnTo>
                  <a:lnTo>
                    <a:pt x="407" y="40"/>
                  </a:lnTo>
                  <a:lnTo>
                    <a:pt x="441" y="47"/>
                  </a:lnTo>
                  <a:lnTo>
                    <a:pt x="476" y="55"/>
                  </a:lnTo>
                  <a:lnTo>
                    <a:pt x="510" y="63"/>
                  </a:lnTo>
                  <a:lnTo>
                    <a:pt x="546" y="72"/>
                  </a:lnTo>
                  <a:lnTo>
                    <a:pt x="581" y="82"/>
                  </a:lnTo>
                  <a:lnTo>
                    <a:pt x="615" y="92"/>
                  </a:lnTo>
                  <a:lnTo>
                    <a:pt x="650" y="102"/>
                  </a:lnTo>
                  <a:lnTo>
                    <a:pt x="684" y="114"/>
                  </a:lnTo>
                  <a:lnTo>
                    <a:pt x="720" y="125"/>
                  </a:lnTo>
                  <a:lnTo>
                    <a:pt x="754" y="138"/>
                  </a:lnTo>
                  <a:lnTo>
                    <a:pt x="789" y="151"/>
                  </a:lnTo>
                  <a:lnTo>
                    <a:pt x="822" y="165"/>
                  </a:lnTo>
                  <a:lnTo>
                    <a:pt x="857" y="178"/>
                  </a:lnTo>
                  <a:lnTo>
                    <a:pt x="892" y="193"/>
                  </a:lnTo>
                  <a:lnTo>
                    <a:pt x="925" y="209"/>
                  </a:lnTo>
                  <a:lnTo>
                    <a:pt x="958" y="226"/>
                  </a:lnTo>
                  <a:lnTo>
                    <a:pt x="992" y="242"/>
                  </a:lnTo>
                  <a:lnTo>
                    <a:pt x="1025" y="259"/>
                  </a:lnTo>
                  <a:lnTo>
                    <a:pt x="1059" y="277"/>
                  </a:lnTo>
                  <a:lnTo>
                    <a:pt x="1091" y="296"/>
                  </a:lnTo>
                  <a:lnTo>
                    <a:pt x="1125" y="325"/>
                  </a:lnTo>
                  <a:lnTo>
                    <a:pt x="1155" y="352"/>
                  </a:lnTo>
                  <a:lnTo>
                    <a:pt x="1180" y="380"/>
                  </a:lnTo>
                  <a:lnTo>
                    <a:pt x="1198" y="405"/>
                  </a:lnTo>
                  <a:lnTo>
                    <a:pt x="1212" y="431"/>
                  </a:lnTo>
                  <a:lnTo>
                    <a:pt x="1222" y="454"/>
                  </a:lnTo>
                  <a:lnTo>
                    <a:pt x="1228" y="476"/>
                  </a:lnTo>
                  <a:lnTo>
                    <a:pt x="1230" y="495"/>
                  </a:lnTo>
                  <a:lnTo>
                    <a:pt x="1229" y="512"/>
                  </a:lnTo>
                  <a:lnTo>
                    <a:pt x="1224" y="526"/>
                  </a:lnTo>
                  <a:lnTo>
                    <a:pt x="1216" y="538"/>
                  </a:lnTo>
                  <a:lnTo>
                    <a:pt x="1207" y="547"/>
                  </a:lnTo>
                  <a:lnTo>
                    <a:pt x="1195" y="552"/>
                  </a:lnTo>
                  <a:lnTo>
                    <a:pt x="1181" y="553"/>
                  </a:lnTo>
                  <a:lnTo>
                    <a:pt x="1165" y="549"/>
                  </a:lnTo>
                  <a:lnTo>
                    <a:pt x="1147" y="542"/>
                  </a:lnTo>
                  <a:lnTo>
                    <a:pt x="996" y="497"/>
                  </a:lnTo>
                  <a:close/>
                </a:path>
              </a:pathLst>
            </a:custGeom>
            <a:solidFill>
              <a:srgbClr val="666633"/>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458" name="Freeform 1050"/>
            <p:cNvSpPr/>
            <p:nvPr/>
          </p:nvSpPr>
          <p:spPr>
            <a:xfrm>
              <a:off x="7311600" y="5266080"/>
              <a:ext cx="35640" cy="76320"/>
            </a:xfrm>
            <a:custGeom>
              <a:avLst/>
              <a:gdLst>
                <a:gd name="textAreaLeft" fmla="*/ 0 w 35640"/>
                <a:gd name="textAreaRight" fmla="*/ 36000 w 35640"/>
                <a:gd name="textAreaTop" fmla="*/ 0 h 76320"/>
                <a:gd name="textAreaBottom" fmla="*/ 76680 h 76320"/>
              </a:gdLst>
              <a:ahLst/>
              <a:rect l="textAreaLeft" t="textAreaTop" r="textAreaRight" b="textAreaBottom"/>
              <a:pathLst>
                <a:path w="245" h="498">
                  <a:moveTo>
                    <a:pt x="0" y="447"/>
                  </a:moveTo>
                  <a:lnTo>
                    <a:pt x="0" y="447"/>
                  </a:lnTo>
                  <a:lnTo>
                    <a:pt x="151" y="0"/>
                  </a:lnTo>
                  <a:lnTo>
                    <a:pt x="182" y="17"/>
                  </a:lnTo>
                  <a:lnTo>
                    <a:pt x="205" y="29"/>
                  </a:lnTo>
                  <a:lnTo>
                    <a:pt x="222" y="38"/>
                  </a:lnTo>
                  <a:lnTo>
                    <a:pt x="233" y="44"/>
                  </a:lnTo>
                  <a:lnTo>
                    <a:pt x="240" y="48"/>
                  </a:lnTo>
                  <a:lnTo>
                    <a:pt x="244" y="49"/>
                  </a:lnTo>
                  <a:lnTo>
                    <a:pt x="245" y="51"/>
                  </a:lnTo>
                  <a:lnTo>
                    <a:pt x="101" y="498"/>
                  </a:lnTo>
                  <a:lnTo>
                    <a:pt x="0" y="447"/>
                  </a:lnTo>
                  <a:close/>
                </a:path>
              </a:pathLst>
            </a:custGeom>
            <a:solidFill>
              <a:srgbClr val="6633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459" name="Freeform 1051"/>
            <p:cNvSpPr/>
            <p:nvPr/>
          </p:nvSpPr>
          <p:spPr>
            <a:xfrm>
              <a:off x="7565760" y="5258520"/>
              <a:ext cx="51480" cy="75960"/>
            </a:xfrm>
            <a:custGeom>
              <a:avLst/>
              <a:gdLst>
                <a:gd name="textAreaLeft" fmla="*/ 0 w 51480"/>
                <a:gd name="textAreaRight" fmla="*/ 51840 w 51480"/>
                <a:gd name="textAreaTop" fmla="*/ 0 h 75960"/>
                <a:gd name="textAreaBottom" fmla="*/ 76320 h 75960"/>
              </a:gdLst>
              <a:ahLst/>
              <a:rect l="textAreaLeft" t="textAreaTop" r="textAreaRight" b="textAreaBottom"/>
              <a:pathLst>
                <a:path w="353" h="498">
                  <a:moveTo>
                    <a:pt x="202" y="498"/>
                  </a:moveTo>
                  <a:lnTo>
                    <a:pt x="151" y="296"/>
                  </a:lnTo>
                  <a:lnTo>
                    <a:pt x="0" y="102"/>
                  </a:lnTo>
                  <a:lnTo>
                    <a:pt x="19" y="68"/>
                  </a:lnTo>
                  <a:lnTo>
                    <a:pt x="33" y="43"/>
                  </a:lnTo>
                  <a:lnTo>
                    <a:pt x="43" y="24"/>
                  </a:lnTo>
                  <a:lnTo>
                    <a:pt x="50" y="13"/>
                  </a:lnTo>
                  <a:lnTo>
                    <a:pt x="53" y="6"/>
                  </a:lnTo>
                  <a:lnTo>
                    <a:pt x="56" y="1"/>
                  </a:lnTo>
                  <a:lnTo>
                    <a:pt x="57" y="0"/>
                  </a:lnTo>
                  <a:lnTo>
                    <a:pt x="302" y="102"/>
                  </a:lnTo>
                  <a:lnTo>
                    <a:pt x="311" y="129"/>
                  </a:lnTo>
                  <a:lnTo>
                    <a:pt x="320" y="156"/>
                  </a:lnTo>
                  <a:lnTo>
                    <a:pt x="325" y="181"/>
                  </a:lnTo>
                  <a:lnTo>
                    <a:pt x="331" y="206"/>
                  </a:lnTo>
                  <a:lnTo>
                    <a:pt x="337" y="229"/>
                  </a:lnTo>
                  <a:lnTo>
                    <a:pt x="340" y="254"/>
                  </a:lnTo>
                  <a:lnTo>
                    <a:pt x="344" y="277"/>
                  </a:lnTo>
                  <a:lnTo>
                    <a:pt x="347" y="300"/>
                  </a:lnTo>
                  <a:lnTo>
                    <a:pt x="348" y="323"/>
                  </a:lnTo>
                  <a:lnTo>
                    <a:pt x="351" y="346"/>
                  </a:lnTo>
                  <a:lnTo>
                    <a:pt x="352" y="370"/>
                  </a:lnTo>
                  <a:lnTo>
                    <a:pt x="352" y="393"/>
                  </a:lnTo>
                  <a:lnTo>
                    <a:pt x="353" y="418"/>
                  </a:lnTo>
                  <a:lnTo>
                    <a:pt x="353" y="444"/>
                  </a:lnTo>
                  <a:lnTo>
                    <a:pt x="353" y="470"/>
                  </a:lnTo>
                  <a:lnTo>
                    <a:pt x="353" y="498"/>
                  </a:lnTo>
                  <a:lnTo>
                    <a:pt x="202" y="498"/>
                  </a:lnTo>
                  <a:close/>
                </a:path>
              </a:pathLst>
            </a:custGeom>
            <a:solidFill>
              <a:srgbClr val="6633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60" name="Freeform 1052"/>
            <p:cNvSpPr/>
            <p:nvPr/>
          </p:nvSpPr>
          <p:spPr>
            <a:xfrm>
              <a:off x="8030520" y="5228280"/>
              <a:ext cx="117000" cy="52200"/>
            </a:xfrm>
            <a:custGeom>
              <a:avLst/>
              <a:gdLst>
                <a:gd name="textAreaLeft" fmla="*/ 0 w 117000"/>
                <a:gd name="textAreaRight" fmla="*/ 117360 w 117000"/>
                <a:gd name="textAreaTop" fmla="*/ 0 h 52200"/>
                <a:gd name="textAreaBottom" fmla="*/ 52560 h 52200"/>
              </a:gdLst>
              <a:ahLst/>
              <a:rect l="textAreaLeft" t="textAreaTop" r="textAreaRight" b="textAreaBottom"/>
              <a:pathLst>
                <a:path w="801" h="340">
                  <a:moveTo>
                    <a:pt x="649" y="340"/>
                  </a:moveTo>
                  <a:lnTo>
                    <a:pt x="0" y="151"/>
                  </a:lnTo>
                  <a:lnTo>
                    <a:pt x="0" y="116"/>
                  </a:lnTo>
                  <a:lnTo>
                    <a:pt x="0" y="89"/>
                  </a:lnTo>
                  <a:lnTo>
                    <a:pt x="0" y="71"/>
                  </a:lnTo>
                  <a:lnTo>
                    <a:pt x="0" y="58"/>
                  </a:lnTo>
                  <a:lnTo>
                    <a:pt x="0" y="50"/>
                  </a:lnTo>
                  <a:lnTo>
                    <a:pt x="0" y="45"/>
                  </a:lnTo>
                  <a:lnTo>
                    <a:pt x="0" y="44"/>
                  </a:lnTo>
                  <a:lnTo>
                    <a:pt x="403" y="0"/>
                  </a:lnTo>
                  <a:lnTo>
                    <a:pt x="801" y="246"/>
                  </a:lnTo>
                  <a:lnTo>
                    <a:pt x="801" y="263"/>
                  </a:lnTo>
                  <a:lnTo>
                    <a:pt x="801" y="275"/>
                  </a:lnTo>
                  <a:lnTo>
                    <a:pt x="801" y="284"/>
                  </a:lnTo>
                  <a:lnTo>
                    <a:pt x="801" y="290"/>
                  </a:lnTo>
                  <a:lnTo>
                    <a:pt x="801" y="294"/>
                  </a:lnTo>
                  <a:lnTo>
                    <a:pt x="801" y="295"/>
                  </a:lnTo>
                  <a:lnTo>
                    <a:pt x="801" y="296"/>
                  </a:lnTo>
                  <a:lnTo>
                    <a:pt x="649" y="340"/>
                  </a:lnTo>
                  <a:close/>
                </a:path>
              </a:pathLst>
            </a:custGeom>
            <a:solidFill>
              <a:srgbClr val="666633"/>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61" name="Freeform 1053"/>
            <p:cNvSpPr/>
            <p:nvPr/>
          </p:nvSpPr>
          <p:spPr>
            <a:xfrm>
              <a:off x="7355160" y="5196960"/>
              <a:ext cx="73440" cy="60840"/>
            </a:xfrm>
            <a:custGeom>
              <a:avLst/>
              <a:gdLst>
                <a:gd name="textAreaLeft" fmla="*/ 0 w 73440"/>
                <a:gd name="textAreaRight" fmla="*/ 73800 w 73440"/>
                <a:gd name="textAreaTop" fmla="*/ 0 h 60840"/>
                <a:gd name="textAreaBottom" fmla="*/ 61200 h 60840"/>
              </a:gdLst>
              <a:ahLst/>
              <a:rect l="textAreaLeft" t="textAreaTop" r="textAreaRight" b="textAreaBottom"/>
              <a:pathLst>
                <a:path w="503" h="397">
                  <a:moveTo>
                    <a:pt x="0" y="352"/>
                  </a:moveTo>
                  <a:lnTo>
                    <a:pt x="0" y="352"/>
                  </a:lnTo>
                  <a:lnTo>
                    <a:pt x="2" y="315"/>
                  </a:lnTo>
                  <a:lnTo>
                    <a:pt x="9" y="280"/>
                  </a:lnTo>
                  <a:lnTo>
                    <a:pt x="19" y="245"/>
                  </a:lnTo>
                  <a:lnTo>
                    <a:pt x="33" y="212"/>
                  </a:lnTo>
                  <a:lnTo>
                    <a:pt x="52" y="181"/>
                  </a:lnTo>
                  <a:lnTo>
                    <a:pt x="71" y="152"/>
                  </a:lnTo>
                  <a:lnTo>
                    <a:pt x="94" y="125"/>
                  </a:lnTo>
                  <a:lnTo>
                    <a:pt x="120" y="100"/>
                  </a:lnTo>
                  <a:lnTo>
                    <a:pt x="146" y="78"/>
                  </a:lnTo>
                  <a:lnTo>
                    <a:pt x="175" y="58"/>
                  </a:lnTo>
                  <a:lnTo>
                    <a:pt x="204" y="41"/>
                  </a:lnTo>
                  <a:lnTo>
                    <a:pt x="234" y="26"/>
                  </a:lnTo>
                  <a:lnTo>
                    <a:pt x="264" y="15"/>
                  </a:lnTo>
                  <a:lnTo>
                    <a:pt x="294" y="7"/>
                  </a:lnTo>
                  <a:lnTo>
                    <a:pt x="324" y="2"/>
                  </a:lnTo>
                  <a:lnTo>
                    <a:pt x="352" y="0"/>
                  </a:lnTo>
                  <a:lnTo>
                    <a:pt x="402" y="0"/>
                  </a:lnTo>
                  <a:lnTo>
                    <a:pt x="440" y="0"/>
                  </a:lnTo>
                  <a:lnTo>
                    <a:pt x="466" y="0"/>
                  </a:lnTo>
                  <a:lnTo>
                    <a:pt x="485" y="0"/>
                  </a:lnTo>
                  <a:lnTo>
                    <a:pt x="495" y="0"/>
                  </a:lnTo>
                  <a:lnTo>
                    <a:pt x="501" y="0"/>
                  </a:lnTo>
                  <a:lnTo>
                    <a:pt x="503" y="0"/>
                  </a:lnTo>
                  <a:lnTo>
                    <a:pt x="352" y="201"/>
                  </a:lnTo>
                  <a:lnTo>
                    <a:pt x="100" y="397"/>
                  </a:lnTo>
                  <a:lnTo>
                    <a:pt x="0" y="352"/>
                  </a:lnTo>
                  <a:close/>
                </a:path>
              </a:pathLst>
            </a:custGeom>
            <a:solidFill>
              <a:srgbClr val="663300"/>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462" name="Freeform 1054"/>
            <p:cNvSpPr/>
            <p:nvPr/>
          </p:nvSpPr>
          <p:spPr>
            <a:xfrm>
              <a:off x="7472160" y="5182560"/>
              <a:ext cx="86400" cy="52200"/>
            </a:xfrm>
            <a:custGeom>
              <a:avLst/>
              <a:gdLst>
                <a:gd name="textAreaLeft" fmla="*/ 0 w 86400"/>
                <a:gd name="textAreaRight" fmla="*/ 86760 w 86400"/>
                <a:gd name="textAreaTop" fmla="*/ 0 h 52200"/>
                <a:gd name="textAreaBottom" fmla="*/ 52560 h 52200"/>
              </a:gdLst>
              <a:ahLst/>
              <a:rect l="textAreaLeft" t="textAreaTop" r="textAreaRight" b="textAreaBottom"/>
              <a:pathLst>
                <a:path w="592" h="341">
                  <a:moveTo>
                    <a:pt x="391" y="341"/>
                  </a:moveTo>
                  <a:lnTo>
                    <a:pt x="44" y="247"/>
                  </a:lnTo>
                  <a:lnTo>
                    <a:pt x="0" y="0"/>
                  </a:lnTo>
                  <a:lnTo>
                    <a:pt x="592" y="247"/>
                  </a:lnTo>
                  <a:lnTo>
                    <a:pt x="575" y="278"/>
                  </a:lnTo>
                  <a:lnTo>
                    <a:pt x="564" y="301"/>
                  </a:lnTo>
                  <a:lnTo>
                    <a:pt x="554" y="318"/>
                  </a:lnTo>
                  <a:lnTo>
                    <a:pt x="549" y="330"/>
                  </a:lnTo>
                  <a:lnTo>
                    <a:pt x="544" y="337"/>
                  </a:lnTo>
                  <a:lnTo>
                    <a:pt x="543" y="340"/>
                  </a:lnTo>
                  <a:lnTo>
                    <a:pt x="542" y="341"/>
                  </a:lnTo>
                  <a:lnTo>
                    <a:pt x="391" y="341"/>
                  </a:lnTo>
                  <a:close/>
                </a:path>
              </a:pathLst>
            </a:custGeom>
            <a:solidFill>
              <a:srgbClr val="6633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63" name="Freeform 1055"/>
            <p:cNvSpPr/>
            <p:nvPr/>
          </p:nvSpPr>
          <p:spPr>
            <a:xfrm>
              <a:off x="8134200" y="5114160"/>
              <a:ext cx="78840" cy="45360"/>
            </a:xfrm>
            <a:custGeom>
              <a:avLst/>
              <a:gdLst>
                <a:gd name="textAreaLeft" fmla="*/ 0 w 78840"/>
                <a:gd name="textAreaRight" fmla="*/ 79200 w 78840"/>
                <a:gd name="textAreaTop" fmla="*/ 0 h 45360"/>
                <a:gd name="textAreaBottom" fmla="*/ 45720 h 45360"/>
              </a:gdLst>
              <a:ahLst/>
              <a:rect l="textAreaLeft" t="textAreaTop" r="textAreaRight" b="textAreaBottom"/>
              <a:pathLst>
                <a:path w="542" h="296">
                  <a:moveTo>
                    <a:pt x="144" y="296"/>
                  </a:moveTo>
                  <a:lnTo>
                    <a:pt x="0" y="195"/>
                  </a:lnTo>
                  <a:lnTo>
                    <a:pt x="15" y="162"/>
                  </a:lnTo>
                  <a:lnTo>
                    <a:pt x="26" y="137"/>
                  </a:lnTo>
                  <a:lnTo>
                    <a:pt x="34" y="119"/>
                  </a:lnTo>
                  <a:lnTo>
                    <a:pt x="38" y="108"/>
                  </a:lnTo>
                  <a:lnTo>
                    <a:pt x="42" y="101"/>
                  </a:lnTo>
                  <a:lnTo>
                    <a:pt x="43" y="96"/>
                  </a:lnTo>
                  <a:lnTo>
                    <a:pt x="44" y="95"/>
                  </a:lnTo>
                  <a:lnTo>
                    <a:pt x="340" y="0"/>
                  </a:lnTo>
                  <a:lnTo>
                    <a:pt x="542" y="246"/>
                  </a:lnTo>
                  <a:lnTo>
                    <a:pt x="240" y="296"/>
                  </a:lnTo>
                  <a:lnTo>
                    <a:pt x="144" y="296"/>
                  </a:lnTo>
                  <a:close/>
                </a:path>
              </a:pathLst>
            </a:custGeom>
            <a:solidFill>
              <a:srgbClr val="666633"/>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sp>
        <p:nvSpPr>
          <p:cNvPr id="1464" name="PlaceHolder 2"/>
          <p:cNvSpPr>
            <a:spLocks noGrp="1"/>
          </p:cNvSpPr>
          <p:nvPr>
            <p:ph type="title"/>
          </p:nvPr>
        </p:nvSpPr>
        <p:spPr>
          <a:xfrm>
            <a:off x="179280" y="247680"/>
            <a:ext cx="5570640" cy="804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Derechos</a:t>
            </a:r>
            <a:endParaRPr b="0" lang="en-US" sz="2400" spc="-1" strike="noStrike">
              <a:solidFill>
                <a:srgbClr val="006cb7"/>
              </a:solidFill>
              <a:latin typeface="Verdana"/>
            </a:endParaRPr>
          </a:p>
        </p:txBody>
      </p:sp>
      <p:pic>
        <p:nvPicPr>
          <p:cNvPr id="1465" name="29 Imagen" descr="Macintosh HD:Users:valeriasoto:gráfica:mds:Logos Ministerio 2.0:logo MDS.png"/>
          <p:cNvPicPr/>
          <p:nvPr/>
        </p:nvPicPr>
        <p:blipFill>
          <a:blip r:embed="rId1"/>
          <a:stretch/>
        </p:blipFill>
        <p:spPr>
          <a:xfrm>
            <a:off x="7610400" y="0"/>
            <a:ext cx="1533600" cy="1390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6" name="Picture 2" descr=""/>
          <p:cNvPicPr/>
          <p:nvPr/>
        </p:nvPicPr>
        <p:blipFill>
          <a:blip r:embed="rId1"/>
          <a:stretch/>
        </p:blipFill>
        <p:spPr>
          <a:xfrm>
            <a:off x="723960" y="1197000"/>
            <a:ext cx="7696080" cy="37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7" name="Picture 2" descr=""/>
          <p:cNvPicPr/>
          <p:nvPr/>
        </p:nvPicPr>
        <p:blipFill>
          <a:blip r:embed="rId1"/>
          <a:stretch/>
        </p:blipFill>
        <p:spPr>
          <a:xfrm>
            <a:off x="838080" y="1341360"/>
            <a:ext cx="7467840" cy="3619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8" name="Picture 2" descr=""/>
          <p:cNvPicPr/>
          <p:nvPr/>
        </p:nvPicPr>
        <p:blipFill>
          <a:blip r:embed="rId1"/>
          <a:stretch/>
        </p:blipFill>
        <p:spPr>
          <a:xfrm>
            <a:off x="611280" y="1290600"/>
            <a:ext cx="7942320" cy="3722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2"/>
          <p:cNvSpPr/>
          <p:nvPr/>
        </p:nvSpPr>
        <p:spPr>
          <a:xfrm>
            <a:off x="714240" y="17859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rocesos Mensuales</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006cb7"/>
                </a:solidFill>
                <a:latin typeface="Verdana"/>
              </a:rPr>
              <a:t> </a:t>
            </a:r>
            <a:endParaRPr b="0" lang="en-US" sz="4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0" name="Picture 5" descr=""/>
          <p:cNvPicPr/>
          <p:nvPr/>
        </p:nvPicPr>
        <p:blipFill>
          <a:blip r:embed="rId1"/>
          <a:stretch/>
        </p:blipFill>
        <p:spPr>
          <a:xfrm>
            <a:off x="743040" y="676440"/>
            <a:ext cx="7657920" cy="5505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1" name="Picture 3" descr=""/>
          <p:cNvPicPr/>
          <p:nvPr/>
        </p:nvPicPr>
        <p:blipFill>
          <a:blip r:embed="rId1"/>
          <a:stretch/>
        </p:blipFill>
        <p:spPr>
          <a:xfrm>
            <a:off x="938160" y="614520"/>
            <a:ext cx="7267680" cy="5628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2" name="Picture 3" descr=""/>
          <p:cNvPicPr/>
          <p:nvPr/>
        </p:nvPicPr>
        <p:blipFill>
          <a:blip r:embed="rId1"/>
          <a:stretch/>
        </p:blipFill>
        <p:spPr>
          <a:xfrm>
            <a:off x="985680" y="843120"/>
            <a:ext cx="7172640" cy="5171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2"/>
          <p:cNvSpPr/>
          <p:nvPr/>
        </p:nvSpPr>
        <p:spPr>
          <a:xfrm>
            <a:off x="714240" y="17859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lataforma de </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Gestión en Línea</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restaciones Monetarias</a:t>
            </a:r>
            <a:endParaRPr b="0" lang="en-US" sz="3200" spc="-1" strike="noStrike">
              <a:solidFill>
                <a:srgbClr val="ffffff"/>
              </a:solidFill>
              <a:latin typeface="Arial"/>
            </a:endParaRPr>
          </a:p>
        </p:txBody>
      </p:sp>
      <p:pic>
        <p:nvPicPr>
          <p:cNvPr id="1388" name="6 Imagen" descr="pc_activo.gif"/>
          <p:cNvPicPr/>
          <p:nvPr/>
        </p:nvPicPr>
        <p:blipFill>
          <a:blip r:embed="rId1"/>
          <a:stretch/>
        </p:blipFill>
        <p:spPr>
          <a:xfrm>
            <a:off x="3564000" y="3500280"/>
            <a:ext cx="2309760" cy="2116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714240" y="1785600"/>
            <a:ext cx="7772400" cy="14698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Subsidio Familiar</a:t>
            </a:r>
            <a:endParaRPr b="0" lang="en-US" sz="3200" spc="-1" strike="noStrike">
              <a:solidFill>
                <a:srgbClr val="006cb7"/>
              </a:solidFill>
              <a:latin typeface="Verdana"/>
            </a:endParaRPr>
          </a:p>
        </p:txBody>
      </p:sp>
      <p:pic>
        <p:nvPicPr>
          <p:cNvPr id="1474" name="Picture 3" descr="C:\Documents and Settings\fsocias\Configuración local\Archivos temporales de Internet\Content.IE5\WQJQYZA5\MC900338368[1].wmf"/>
          <p:cNvPicPr/>
          <p:nvPr/>
        </p:nvPicPr>
        <p:blipFill>
          <a:blip r:embed="rId1"/>
          <a:stretch/>
        </p:blipFill>
        <p:spPr>
          <a:xfrm>
            <a:off x="3419640" y="2637000"/>
            <a:ext cx="2376360" cy="2363760"/>
          </a:xfrm>
          <a:prstGeom prst="rect">
            <a:avLst/>
          </a:prstGeom>
          <a:ln w="0">
            <a:noFill/>
          </a:ln>
        </p:spPr>
      </p:pic>
      <p:pic>
        <p:nvPicPr>
          <p:cNvPr id="1475"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324000" y="247320"/>
            <a:ext cx="6480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6cb7"/>
                </a:solidFill>
                <a:latin typeface="Verdana"/>
              </a:rPr>
              <a:t>Concepto:  Subsidio Familiar</a:t>
            </a:r>
            <a:endParaRPr b="0" lang="en-US" sz="2400" spc="-1" strike="noStrike">
              <a:solidFill>
                <a:srgbClr val="006cb7"/>
              </a:solidFill>
              <a:latin typeface="Verdana"/>
            </a:endParaRPr>
          </a:p>
        </p:txBody>
      </p:sp>
      <p:sp>
        <p:nvSpPr>
          <p:cNvPr id="1477" name="PlaceHolder 2"/>
          <p:cNvSpPr>
            <a:spLocks noGrp="1"/>
          </p:cNvSpPr>
          <p:nvPr>
            <p:ph/>
          </p:nvPr>
        </p:nvSpPr>
        <p:spPr>
          <a:xfrm>
            <a:off x="323640" y="1628640"/>
            <a:ext cx="8064360" cy="4525920"/>
          </a:xfrm>
          <a:prstGeom prst="rect">
            <a:avLst/>
          </a:prstGeom>
          <a:noFill/>
          <a:ln w="0">
            <a:noFill/>
          </a:ln>
        </p:spPr>
        <p:txBody>
          <a:bodyPr anchor="t">
            <a:normAutofit/>
          </a:bodyPr>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000000"/>
                </a:solidFill>
                <a:latin typeface="Verdana"/>
              </a:rPr>
              <a:t>	</a:t>
            </a:r>
            <a:r>
              <a:rPr b="0" lang="es-ES" sz="2000" spc="-1" strike="noStrike">
                <a:solidFill>
                  <a:srgbClr val="000000"/>
                </a:solidFill>
                <a:latin typeface="Verdana"/>
              </a:rPr>
              <a:t>Es el beneficio equivalente a la Asignación Familiar en su primer tramo, para personas de escasos recursos, que no pueden acceder al beneficio del DFL Nº 150, de 1982, por no ser trabajadores afiliados a un sistema previsional.</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Verdana"/>
              </a:rPr>
              <a:t>	</a:t>
            </a:r>
            <a:r>
              <a:rPr b="0" lang="es-CL" sz="2000" spc="-1" strike="noStrike">
                <a:solidFill>
                  <a:srgbClr val="000000"/>
                </a:solidFill>
                <a:latin typeface="Verdana"/>
              </a:rPr>
              <a:t>Valor del Subsidio Familiar a contar del 01 de Julio del 2013: </a:t>
            </a:r>
            <a:r>
              <a:rPr b="1" lang="es-CL" sz="2000" spc="-1" strike="noStrike">
                <a:solidFill>
                  <a:srgbClr val="000000"/>
                </a:solidFill>
                <a:latin typeface="Verdana"/>
              </a:rPr>
              <a:t>$ 8.426.- (US$15).</a:t>
            </a:r>
            <a:endParaRPr b="0" lang="en-US" sz="2000" spc="-1" strike="noStrike">
              <a:solidFill>
                <a:srgbClr val="595959"/>
              </a:solidFill>
              <a:latin typeface="Calibri"/>
            </a:endParaRPr>
          </a:p>
        </p:txBody>
      </p:sp>
      <p:pic>
        <p:nvPicPr>
          <p:cNvPr id="1478" name="Picture 4" descr="HAND55"/>
          <p:cNvPicPr/>
          <p:nvPr/>
        </p:nvPicPr>
        <p:blipFill>
          <a:blip r:embed="rId1"/>
          <a:stretch/>
        </p:blipFill>
        <p:spPr>
          <a:xfrm>
            <a:off x="6242040" y="4630680"/>
            <a:ext cx="1368360" cy="1285920"/>
          </a:xfrm>
          <a:prstGeom prst="rect">
            <a:avLst/>
          </a:prstGeom>
          <a:ln w="0">
            <a:noFill/>
          </a:ln>
        </p:spPr>
      </p:pic>
      <p:pic>
        <p:nvPicPr>
          <p:cNvPr id="1479" name="7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395280" y="247320"/>
            <a:ext cx="721512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Causantes del Subsidio Familiar y sus requisitos</a:t>
            </a:r>
            <a:endParaRPr b="0" lang="en-US" sz="2400" spc="-1" strike="noStrike">
              <a:solidFill>
                <a:srgbClr val="006cb7"/>
              </a:solidFill>
              <a:latin typeface="Verdana"/>
            </a:endParaRPr>
          </a:p>
        </p:txBody>
      </p:sp>
      <p:sp>
        <p:nvSpPr>
          <p:cNvPr id="1481" name="PlaceHolder 2"/>
          <p:cNvSpPr>
            <a:spLocks noGrp="1"/>
          </p:cNvSpPr>
          <p:nvPr>
            <p:ph/>
          </p:nvPr>
        </p:nvSpPr>
        <p:spPr>
          <a:xfrm>
            <a:off x="395280" y="1699920"/>
            <a:ext cx="7632720" cy="423684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Los menores hasta los 18 años de edad y los inválidos de cualquier edad, que vivan a expensas del beneficiario, que participen de los programas de salud establecidos por el Ministerio de Salud para la atención infantil (hasta los 6 años) y que no perciban renta igual o superior al valor del Subsidio Familiar. Para los mayores de 6 años y hasta 18 años, deben acreditar que asisten a Establecimientos Educacionales reconocidos por el Estado.</a:t>
            </a:r>
            <a:endParaRPr b="0" lang="en-US" sz="2000" spc="-1" strike="noStrike">
              <a:solidFill>
                <a:srgbClr val="595959"/>
              </a:solidFill>
              <a:latin typeface="Calibri"/>
            </a:endParaRPr>
          </a:p>
        </p:txBody>
      </p:sp>
      <p:pic>
        <p:nvPicPr>
          <p:cNvPr id="1482" name="Picture 5" descr="C:\Documents and Settings\fsocias\Configuración local\Archivos temporales de Internet\Content.IE5\QLP373CG\MC900024499[1].wmf"/>
          <p:cNvPicPr/>
          <p:nvPr/>
        </p:nvPicPr>
        <p:blipFill>
          <a:blip r:embed="rId1"/>
          <a:stretch/>
        </p:blipFill>
        <p:spPr>
          <a:xfrm>
            <a:off x="6242040" y="4292640"/>
            <a:ext cx="1368360" cy="1808280"/>
          </a:xfrm>
          <a:prstGeom prst="rect">
            <a:avLst/>
          </a:prstGeom>
          <a:ln w="0">
            <a:noFill/>
          </a:ln>
        </p:spPr>
      </p:pic>
      <p:pic>
        <p:nvPicPr>
          <p:cNvPr id="1483"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p:nvPr>
        </p:nvSpPr>
        <p:spPr>
          <a:xfrm>
            <a:off x="409320" y="1557000"/>
            <a:ext cx="7978680" cy="488484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Las madres de menores que vivan a sus expensas, por los cuales perciban Subsidio Familiar. </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La mujer embarazada.</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Los Inválidos a que se refiere la Ley Nº 18.600, de cualquier edad, </a:t>
            </a:r>
            <a:r>
              <a:rPr b="1" lang="es-ES" sz="2000" spc="-1" strike="noStrike">
                <a:solidFill>
                  <a:srgbClr val="000000"/>
                </a:solidFill>
                <a:latin typeface="Verdana"/>
              </a:rPr>
              <a:t>que no sean beneficiarios de Subsidio de Discapacidad Mental ni de PBSI</a:t>
            </a:r>
            <a:r>
              <a:rPr b="0" lang="es-ES" sz="2000" spc="-1" strike="noStrike">
                <a:solidFill>
                  <a:srgbClr val="000000"/>
                </a:solidFill>
                <a:latin typeface="Verdana"/>
              </a:rPr>
              <a:t>. Monto del Subsidio Familiar Duplo: </a:t>
            </a:r>
            <a:r>
              <a:rPr b="1" lang="es-ES" sz="2000" spc="-1" strike="noStrike">
                <a:solidFill>
                  <a:srgbClr val="000000"/>
                </a:solidFill>
                <a:latin typeface="Verdana"/>
              </a:rPr>
              <a:t>$16.852 (US$30)</a:t>
            </a:r>
            <a:r>
              <a:rPr b="0" lang="es-ES" sz="2000" spc="-1" strike="noStrike">
                <a:solidFill>
                  <a:srgbClr val="000000"/>
                </a:solidFill>
                <a:latin typeface="Verdana"/>
              </a:rPr>
              <a:t>, a contar del 01 de julio 2013.</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endParaRPr b="0" lang="en-US" sz="2000" spc="-1" strike="noStrike">
              <a:solidFill>
                <a:srgbClr val="595959"/>
              </a:solidFill>
              <a:latin typeface="Calibri"/>
            </a:endParaRPr>
          </a:p>
        </p:txBody>
      </p:sp>
      <p:sp>
        <p:nvSpPr>
          <p:cNvPr id="1485" name="PlaceHolder 2"/>
          <p:cNvSpPr>
            <a:spLocks noGrp="1"/>
          </p:cNvSpPr>
          <p:nvPr>
            <p:ph type="title"/>
          </p:nvPr>
        </p:nvSpPr>
        <p:spPr>
          <a:xfrm>
            <a:off x="250920" y="247320"/>
            <a:ext cx="712944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Causantes del Subsidio Familiar y sus</a:t>
            </a:r>
            <a:br>
              <a:rPr sz="2400"/>
            </a:br>
            <a:r>
              <a:rPr b="1" lang="es-ES" sz="2400" spc="-1" strike="noStrike">
                <a:solidFill>
                  <a:srgbClr val="006cb7"/>
                </a:solidFill>
                <a:latin typeface="Verdana"/>
              </a:rPr>
              <a:t>requisitos</a:t>
            </a:r>
            <a:endParaRPr b="0" lang="en-US" sz="2400" spc="-1" strike="noStrike">
              <a:solidFill>
                <a:srgbClr val="006cb7"/>
              </a:solidFill>
              <a:latin typeface="Verdana"/>
            </a:endParaRPr>
          </a:p>
        </p:txBody>
      </p:sp>
      <p:pic>
        <p:nvPicPr>
          <p:cNvPr id="1486" name="Picture 4" descr="C:\Documents and Settings\fsocias\Configuración local\Archivos temporales de Internet\Content.IE5\LI2FRN51\MC900341796[1].jpg"/>
          <p:cNvPicPr/>
          <p:nvPr/>
        </p:nvPicPr>
        <p:blipFill>
          <a:blip r:embed="rId1"/>
          <a:stretch/>
        </p:blipFill>
        <p:spPr>
          <a:xfrm>
            <a:off x="6264360" y="4869000"/>
            <a:ext cx="2124000" cy="1893600"/>
          </a:xfrm>
          <a:prstGeom prst="rect">
            <a:avLst/>
          </a:prstGeom>
          <a:ln w="0">
            <a:noFill/>
          </a:ln>
        </p:spPr>
      </p:pic>
      <p:pic>
        <p:nvPicPr>
          <p:cNvPr id="1487"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title"/>
          </p:nvPr>
        </p:nvSpPr>
        <p:spPr>
          <a:xfrm>
            <a:off x="250920" y="247320"/>
            <a:ext cx="475128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Beneficiarios</a:t>
            </a:r>
            <a:endParaRPr b="0" lang="en-US" sz="2400" spc="-1" strike="noStrike">
              <a:solidFill>
                <a:srgbClr val="006cb7"/>
              </a:solidFill>
              <a:latin typeface="Verdana"/>
            </a:endParaRPr>
          </a:p>
        </p:txBody>
      </p:sp>
      <p:sp>
        <p:nvSpPr>
          <p:cNvPr id="1489" name="PlaceHolder 2"/>
          <p:cNvSpPr>
            <a:spLocks noGrp="1"/>
          </p:cNvSpPr>
          <p:nvPr>
            <p:ph/>
          </p:nvPr>
        </p:nvSpPr>
        <p:spPr>
          <a:xfrm>
            <a:off x="250560" y="1390680"/>
            <a:ext cx="7848360" cy="489888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Son beneficiarios del Subsidio Familiar causado por el menor que viva a sus expensas, en el siguiente orden:</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lvl="1" marL="743040" indent="-285840" algn="just">
              <a:lnSpc>
                <a:spcPct val="9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000000"/>
                </a:solidFill>
                <a:latin typeface="Verdana"/>
              </a:rPr>
              <a:t>La madre</a:t>
            </a:r>
            <a:endParaRPr b="0" lang="en-US" sz="2000" spc="-1" strike="noStrike">
              <a:solidFill>
                <a:srgbClr val="595959"/>
              </a:solidFill>
              <a:latin typeface="Calibri"/>
            </a:endParaRPr>
          </a:p>
          <a:p>
            <a:pPr lvl="1" marL="74304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595959"/>
              </a:solidFill>
              <a:latin typeface="Calibri"/>
            </a:endParaRPr>
          </a:p>
          <a:p>
            <a:pPr lvl="1" marL="743040" indent="-285840" algn="just">
              <a:lnSpc>
                <a:spcPct val="9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000000"/>
                </a:solidFill>
                <a:latin typeface="Verdana"/>
              </a:rPr>
              <a:t>En su defecto el padre</a:t>
            </a:r>
            <a:endParaRPr b="0" lang="en-US" sz="2000" spc="-1" strike="noStrike">
              <a:solidFill>
                <a:srgbClr val="595959"/>
              </a:solidFill>
              <a:latin typeface="Calibri"/>
            </a:endParaRPr>
          </a:p>
          <a:p>
            <a:pPr lvl="1" marL="74304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595959"/>
              </a:solidFill>
              <a:latin typeface="Calibri"/>
            </a:endParaRPr>
          </a:p>
          <a:p>
            <a:pPr lvl="1" marL="743040" indent="-285840" algn="just">
              <a:lnSpc>
                <a:spcPct val="9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000000"/>
                </a:solidFill>
                <a:latin typeface="Verdana"/>
              </a:rPr>
              <a:t>Los guardadores o personas que hayan tomando a su cargo el menor; y</a:t>
            </a:r>
            <a:endParaRPr b="0" lang="en-US" sz="2000" spc="-1" strike="noStrike">
              <a:solidFill>
                <a:srgbClr val="595959"/>
              </a:solidFill>
              <a:latin typeface="Calibri"/>
            </a:endParaRPr>
          </a:p>
          <a:p>
            <a:pPr lvl="1" marL="74304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595959"/>
              </a:solidFill>
              <a:latin typeface="Calibri"/>
            </a:endParaRPr>
          </a:p>
          <a:p>
            <a:pPr lvl="1" marL="743040" indent="-285840" algn="just">
              <a:lnSpc>
                <a:spcPct val="9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000000"/>
                </a:solidFill>
                <a:latin typeface="Verdana"/>
              </a:rPr>
              <a:t>Las personas naturales que tengan a su cargo deficientes mentales de cualquier edad y que vivan a sus expensas</a:t>
            </a:r>
            <a:endParaRPr b="0" lang="en-US" sz="2000" spc="-1" strike="noStrike">
              <a:solidFill>
                <a:srgbClr val="595959"/>
              </a:solidFill>
              <a:latin typeface="Calibri"/>
            </a:endParaRPr>
          </a:p>
        </p:txBody>
      </p:sp>
      <p:pic>
        <p:nvPicPr>
          <p:cNvPr id="1490" name="Picture 4" descr="NA1236"/>
          <p:cNvPicPr/>
          <p:nvPr/>
        </p:nvPicPr>
        <p:blipFill>
          <a:blip r:embed="rId1"/>
          <a:stretch/>
        </p:blipFill>
        <p:spPr>
          <a:xfrm>
            <a:off x="6659640" y="5373720"/>
            <a:ext cx="1361880" cy="1297080"/>
          </a:xfrm>
          <a:prstGeom prst="rect">
            <a:avLst/>
          </a:prstGeom>
          <a:ln w="0">
            <a:noFill/>
          </a:ln>
        </p:spPr>
      </p:pic>
      <p:pic>
        <p:nvPicPr>
          <p:cNvPr id="1491"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237600" y="333000"/>
            <a:ext cx="707076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Vigencia del beneficio</a:t>
            </a:r>
            <a:endParaRPr b="0" lang="en-US" sz="2400" spc="-1" strike="noStrike">
              <a:solidFill>
                <a:srgbClr val="006cb7"/>
              </a:solidFill>
              <a:latin typeface="Verdana"/>
            </a:endParaRPr>
          </a:p>
        </p:txBody>
      </p:sp>
      <p:sp>
        <p:nvSpPr>
          <p:cNvPr id="1493" name="PlaceHolder 2"/>
          <p:cNvSpPr>
            <a:spLocks noGrp="1"/>
          </p:cNvSpPr>
          <p:nvPr>
            <p:ph/>
          </p:nvPr>
        </p:nvSpPr>
        <p:spPr>
          <a:xfrm>
            <a:off x="336600" y="1390320"/>
            <a:ext cx="7764480" cy="484668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El Subsidio Familiar se devenga a contar del mes siguiente a aquél en que se haya dictado el Decreto que reconoce el beneficio. Éste es inembargable.</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Subsiste hasta el 31 de diciembre del año en que el causante cumple los 18 años de edad.</a:t>
            </a:r>
            <a:endParaRPr b="0" lang="en-US" sz="2000" spc="-1" strike="noStrike">
              <a:solidFill>
                <a:srgbClr val="595959"/>
              </a:solidFill>
              <a:latin typeface="Calibri"/>
            </a:endParaRPr>
          </a:p>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El beneficiario debe acreditar anualmente, hasta los 6 años de edad del causante, que éste participa en los programas de salud para atención infantil del Ministerio de Salud.</a:t>
            </a:r>
            <a:endParaRPr b="0" lang="en-US" sz="2000" spc="-1" strike="noStrike">
              <a:solidFill>
                <a:srgbClr val="595959"/>
              </a:solidFill>
              <a:latin typeface="Calibri"/>
            </a:endParaRPr>
          </a:p>
        </p:txBody>
      </p:sp>
      <p:pic>
        <p:nvPicPr>
          <p:cNvPr id="1494" name="Picture 4" descr="C:\Documents and Settings\fsocias\Configuración local\Archivos temporales de Internet\Content.IE5\QLP373CG\MC900441464[1].png"/>
          <p:cNvPicPr/>
          <p:nvPr/>
        </p:nvPicPr>
        <p:blipFill>
          <a:blip r:embed="rId1"/>
          <a:stretch/>
        </p:blipFill>
        <p:spPr>
          <a:xfrm>
            <a:off x="6300720" y="4897440"/>
            <a:ext cx="1800360" cy="1960560"/>
          </a:xfrm>
          <a:prstGeom prst="rect">
            <a:avLst/>
          </a:prstGeom>
          <a:ln w="0">
            <a:noFill/>
          </a:ln>
        </p:spPr>
      </p:pic>
      <p:pic>
        <p:nvPicPr>
          <p:cNvPr id="1495"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193320" y="333000"/>
            <a:ext cx="583236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Derechos del Causante</a:t>
            </a:r>
            <a:endParaRPr b="0" lang="en-US" sz="2400" spc="-1" strike="noStrike">
              <a:solidFill>
                <a:srgbClr val="006cb7"/>
              </a:solidFill>
              <a:latin typeface="Verdana"/>
            </a:endParaRPr>
          </a:p>
        </p:txBody>
      </p:sp>
      <p:sp>
        <p:nvSpPr>
          <p:cNvPr id="1497" name="PlaceHolder 2"/>
          <p:cNvSpPr>
            <a:spLocks noGrp="1"/>
          </p:cNvSpPr>
          <p:nvPr>
            <p:ph/>
          </p:nvPr>
        </p:nvSpPr>
        <p:spPr>
          <a:xfrm>
            <a:off x="394920" y="1989000"/>
            <a:ext cx="7921800" cy="423720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Todas las prestaciones de la Ley Nº 18.469 sobre salud; esto es, prestaciones médicas (preventivas y curativas) y odontológicas.</a:t>
            </a:r>
            <a:endParaRPr b="0" lang="en-US" sz="2000" spc="-1" strike="noStrike">
              <a:solidFill>
                <a:srgbClr val="595959"/>
              </a:solidFill>
              <a:latin typeface="Calibri"/>
            </a:endParaRPr>
          </a:p>
        </p:txBody>
      </p:sp>
      <p:pic>
        <p:nvPicPr>
          <p:cNvPr id="1498" name="Picture 4" descr="NA1218"/>
          <p:cNvPicPr/>
          <p:nvPr/>
        </p:nvPicPr>
        <p:blipFill>
          <a:blip r:embed="rId1"/>
          <a:stretch/>
        </p:blipFill>
        <p:spPr>
          <a:xfrm>
            <a:off x="5651640" y="3537000"/>
            <a:ext cx="1584360" cy="1657440"/>
          </a:xfrm>
          <a:prstGeom prst="rect">
            <a:avLst/>
          </a:prstGeom>
          <a:ln w="0">
            <a:noFill/>
          </a:ln>
        </p:spPr>
      </p:pic>
      <p:pic>
        <p:nvPicPr>
          <p:cNvPr id="1499" name="7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title"/>
          </p:nvPr>
        </p:nvSpPr>
        <p:spPr>
          <a:xfrm>
            <a:off x="323640" y="247320"/>
            <a:ext cx="604836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Subsidio de Asistencia Maternal</a:t>
            </a:r>
            <a:endParaRPr b="0" lang="en-US" sz="2400" spc="-1" strike="noStrike">
              <a:solidFill>
                <a:srgbClr val="006cb7"/>
              </a:solidFill>
              <a:latin typeface="Verdana"/>
            </a:endParaRPr>
          </a:p>
        </p:txBody>
      </p:sp>
      <p:pic>
        <p:nvPicPr>
          <p:cNvPr id="1501" name="Picture 4" descr="BIRTH01"/>
          <p:cNvPicPr/>
          <p:nvPr/>
        </p:nvPicPr>
        <p:blipFill>
          <a:blip r:embed="rId1"/>
          <a:stretch/>
        </p:blipFill>
        <p:spPr>
          <a:xfrm>
            <a:off x="6723000" y="5427720"/>
            <a:ext cx="1522440" cy="1430280"/>
          </a:xfrm>
          <a:prstGeom prst="rect">
            <a:avLst/>
          </a:prstGeom>
          <a:ln w="0">
            <a:noFill/>
          </a:ln>
        </p:spPr>
      </p:pic>
      <p:sp>
        <p:nvSpPr>
          <p:cNvPr id="1502" name="Rectangle 3"/>
          <p:cNvSpPr/>
          <p:nvPr/>
        </p:nvSpPr>
        <p:spPr>
          <a:xfrm>
            <a:off x="611280" y="1506600"/>
            <a:ext cx="7634160" cy="3921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Verdana"/>
                <a:ea typeface="Verdana"/>
              </a:rPr>
              <a:t>Se rige por las mismas normas que el Subsidio Familiar.</a:t>
            </a:r>
            <a:endParaRPr b="0" lang="en-US" sz="2000" spc="-1" strike="noStrike">
              <a:solidFill>
                <a:srgbClr val="ffffff"/>
              </a:solidFill>
              <a:latin typeface="Arial"/>
            </a:endParaRPr>
          </a:p>
          <a:p>
            <a:pPr marL="343080" indent="-343080"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90000"/>
              </a:lnSpc>
              <a:spcBef>
                <a:spcPts val="499"/>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Verdana"/>
                <a:ea typeface="Verdana"/>
              </a:rPr>
              <a:t>Su pago se hace exigible </a:t>
            </a:r>
            <a:r>
              <a:rPr b="1" lang="es-ES" sz="2000" spc="-1" strike="noStrike">
                <a:solidFill>
                  <a:srgbClr val="ffffff"/>
                </a:solidFill>
                <a:latin typeface="Verdana"/>
                <a:ea typeface="Verdana"/>
              </a:rPr>
              <a:t>a partir del quinto mes </a:t>
            </a:r>
            <a:r>
              <a:rPr b="0" lang="es-ES" sz="2000" spc="-1" strike="noStrike">
                <a:solidFill>
                  <a:srgbClr val="ffffff"/>
                </a:solidFill>
                <a:latin typeface="Verdana"/>
                <a:ea typeface="Verdana"/>
              </a:rPr>
              <a:t>de embarazo, con efecto retroactivo por el período completo de gestación.</a:t>
            </a:r>
            <a:endParaRPr b="0" lang="en-US" sz="2000" spc="-1" strike="noStrike">
              <a:solidFill>
                <a:srgbClr val="ffffff"/>
              </a:solidFill>
              <a:latin typeface="Arial"/>
            </a:endParaRPr>
          </a:p>
          <a:p>
            <a:pPr marL="343080" indent="-343080"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90000"/>
              </a:lnSpc>
              <a:spcBef>
                <a:spcPts val="499"/>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Verdana"/>
                <a:ea typeface="Verdana"/>
              </a:rPr>
              <a:t>Producido el nacimiento, el menor será causante de SUF desde el día de su nacimiento. </a:t>
            </a:r>
            <a:endParaRPr b="0" lang="en-US" sz="2000" spc="-1" strike="noStrike">
              <a:solidFill>
                <a:srgbClr val="ffffff"/>
              </a:solidFill>
              <a:latin typeface="Arial"/>
            </a:endParaRPr>
          </a:p>
          <a:p>
            <a:pPr marL="343080" indent="-343080"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90000"/>
              </a:lnSpc>
              <a:spcBef>
                <a:spcPts val="499"/>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ffffff"/>
                </a:solidFill>
                <a:latin typeface="Verdana"/>
                <a:ea typeface="Verdana"/>
              </a:rPr>
              <a:t>Valor del Subsidio de Asistencia Maternal puede escalar a </a:t>
            </a:r>
            <a:r>
              <a:rPr b="1" lang="es-CL" sz="2000" spc="-1" strike="noStrike">
                <a:solidFill>
                  <a:srgbClr val="ffffff"/>
                </a:solidFill>
                <a:latin typeface="Verdana"/>
                <a:ea typeface="Verdana"/>
              </a:rPr>
              <a:t>: $ 84.260.-  (US$151) </a:t>
            </a:r>
            <a:endParaRPr b="0" lang="en-US" sz="2000" spc="-1" strike="noStrike">
              <a:solidFill>
                <a:srgbClr val="ffffff"/>
              </a:solidFill>
              <a:latin typeface="Arial"/>
            </a:endParaRPr>
          </a:p>
        </p:txBody>
      </p:sp>
      <p:pic>
        <p:nvPicPr>
          <p:cNvPr id="1503" name="7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4" name="Picture 2" descr=""/>
          <p:cNvPicPr/>
          <p:nvPr/>
        </p:nvPicPr>
        <p:blipFill>
          <a:blip r:embed="rId1"/>
          <a:stretch/>
        </p:blipFill>
        <p:spPr>
          <a:xfrm>
            <a:off x="919080" y="1197000"/>
            <a:ext cx="7305840" cy="3524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5" name="Picture 3" descr=""/>
          <p:cNvPicPr/>
          <p:nvPr/>
        </p:nvPicPr>
        <p:blipFill>
          <a:blip r:embed="rId1"/>
          <a:stretch/>
        </p:blipFill>
        <p:spPr>
          <a:xfrm>
            <a:off x="755640" y="1190520"/>
            <a:ext cx="7693200" cy="3751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3 Elipse"/>
          <p:cNvSpPr/>
          <p:nvPr/>
        </p:nvSpPr>
        <p:spPr>
          <a:xfrm>
            <a:off x="1547640" y="1052640"/>
            <a:ext cx="6264360" cy="5616360"/>
          </a:xfrm>
          <a:prstGeom prst="ellipse">
            <a:avLst/>
          </a:prstGeom>
          <a:noFill/>
          <a:ln w="255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0" name="4 Elipse"/>
          <p:cNvSpPr/>
          <p:nvPr/>
        </p:nvSpPr>
        <p:spPr>
          <a:xfrm>
            <a:off x="2195640" y="3068640"/>
            <a:ext cx="1584360" cy="1440000"/>
          </a:xfrm>
          <a:prstGeom prst="ellipse">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1" name="5 CuadroTexto"/>
          <p:cNvSpPr/>
          <p:nvPr/>
        </p:nvSpPr>
        <p:spPr>
          <a:xfrm>
            <a:off x="0" y="222120"/>
            <a:ext cx="83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400" spc="-1" strike="noStrike">
                <a:solidFill>
                  <a:srgbClr val="006cb7"/>
                </a:solidFill>
                <a:latin typeface="Verdana"/>
              </a:rPr>
              <a:t>Sistema de Información–Ficha de Protección Social (FPS)</a:t>
            </a:r>
            <a:endParaRPr b="0" lang="en-US" sz="2400" spc="-1" strike="noStrike">
              <a:solidFill>
                <a:srgbClr val="ffffff"/>
              </a:solidFill>
              <a:latin typeface="Arial"/>
            </a:endParaRPr>
          </a:p>
        </p:txBody>
      </p:sp>
      <p:sp>
        <p:nvSpPr>
          <p:cNvPr id="1392" name="6 CuadroTexto"/>
          <p:cNvSpPr/>
          <p:nvPr/>
        </p:nvSpPr>
        <p:spPr>
          <a:xfrm>
            <a:off x="2195640" y="350028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400" spc="-1" strike="noStrike">
                <a:solidFill>
                  <a:srgbClr val="ffffff"/>
                </a:solidFill>
                <a:latin typeface="Verdana"/>
              </a:rPr>
              <a:t>Administración FPS</a:t>
            </a:r>
            <a:endParaRPr b="0" lang="en-US" sz="1400" spc="-1" strike="noStrike">
              <a:solidFill>
                <a:srgbClr val="ffffff"/>
              </a:solidFill>
              <a:latin typeface="Arial"/>
            </a:endParaRPr>
          </a:p>
        </p:txBody>
      </p:sp>
      <p:sp>
        <p:nvSpPr>
          <p:cNvPr id="1393" name="7 Elipse"/>
          <p:cNvSpPr/>
          <p:nvPr/>
        </p:nvSpPr>
        <p:spPr>
          <a:xfrm>
            <a:off x="4643280" y="1413000"/>
            <a:ext cx="1729080" cy="1449360"/>
          </a:xfrm>
          <a:prstGeom prst="ellipse">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4" name="13 CuadroTexto"/>
          <p:cNvSpPr/>
          <p:nvPr/>
        </p:nvSpPr>
        <p:spPr>
          <a:xfrm>
            <a:off x="4859280" y="1825560"/>
            <a:ext cx="1513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400" spc="-1" strike="noStrike">
                <a:solidFill>
                  <a:srgbClr val="ffffff"/>
                </a:solidFill>
                <a:latin typeface="Verdana"/>
              </a:rPr>
              <a:t>Prestaciones SUF, SAP - SDM</a:t>
            </a:r>
            <a:endParaRPr b="0" lang="en-US" sz="1400" spc="-1" strike="noStrike">
              <a:solidFill>
                <a:srgbClr val="ffffff"/>
              </a:solidFill>
              <a:latin typeface="Arial"/>
            </a:endParaRPr>
          </a:p>
        </p:txBody>
      </p:sp>
      <p:sp>
        <p:nvSpPr>
          <p:cNvPr id="1395" name="14 Elipse"/>
          <p:cNvSpPr/>
          <p:nvPr/>
        </p:nvSpPr>
        <p:spPr>
          <a:xfrm>
            <a:off x="4643280" y="3068640"/>
            <a:ext cx="1729080" cy="1449360"/>
          </a:xfrm>
          <a:prstGeom prst="ellipse">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6" name="15 Elipse"/>
          <p:cNvSpPr/>
          <p:nvPr/>
        </p:nvSpPr>
        <p:spPr>
          <a:xfrm>
            <a:off x="4643280" y="4724280"/>
            <a:ext cx="1729080" cy="1451160"/>
          </a:xfrm>
          <a:prstGeom prst="ellipse">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7" name="16 CuadroTexto"/>
          <p:cNvSpPr/>
          <p:nvPr/>
        </p:nvSpPr>
        <p:spPr>
          <a:xfrm>
            <a:off x="4859280" y="3500280"/>
            <a:ext cx="1513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400" spc="-1" strike="noStrike">
                <a:solidFill>
                  <a:srgbClr val="ffffff"/>
                </a:solidFill>
                <a:latin typeface="Verdana"/>
              </a:rPr>
              <a:t>Acreditación Control Niño Sano IEF</a:t>
            </a:r>
            <a:endParaRPr b="0" lang="en-US" sz="1400" spc="-1" strike="noStrike">
              <a:solidFill>
                <a:srgbClr val="ffffff"/>
              </a:solidFill>
              <a:latin typeface="Arial"/>
            </a:endParaRPr>
          </a:p>
        </p:txBody>
      </p:sp>
      <p:sp>
        <p:nvSpPr>
          <p:cNvPr id="1398" name="17 CuadroTexto"/>
          <p:cNvSpPr/>
          <p:nvPr/>
        </p:nvSpPr>
        <p:spPr>
          <a:xfrm>
            <a:off x="4859280" y="5084640"/>
            <a:ext cx="1513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400" spc="-1" strike="noStrike">
                <a:solidFill>
                  <a:srgbClr val="ffffff"/>
                </a:solidFill>
                <a:latin typeface="Verdana"/>
              </a:rPr>
              <a:t>Modifica Forma de Pago – Chile Cuenta</a:t>
            </a:r>
            <a:endParaRPr b="0" lang="en-US" sz="1400" spc="-1" strike="noStrike">
              <a:solidFill>
                <a:srgbClr val="ffffff"/>
              </a:solidFill>
              <a:latin typeface="Arial"/>
            </a:endParaRPr>
          </a:p>
        </p:txBody>
      </p:sp>
      <p:cxnSp>
        <p:nvCxnSpPr>
          <p:cNvPr id="1399" name="19 Conector recto de flecha"/>
          <p:cNvCxnSpPr/>
          <p:nvPr/>
        </p:nvCxnSpPr>
        <p:spPr>
          <a:xfrm flipV="1">
            <a:off x="3276720" y="2276280"/>
            <a:ext cx="1367280" cy="792720"/>
          </a:xfrm>
          <a:prstGeom prst="straightConnector1">
            <a:avLst/>
          </a:prstGeom>
          <a:ln w="25560">
            <a:solidFill>
              <a:srgbClr val="4f81bd"/>
            </a:solidFill>
            <a:miter/>
            <a:tailEnd len="med" type="arrow" w="med"/>
          </a:ln>
        </p:spPr>
      </p:cxnSp>
      <p:cxnSp>
        <p:nvCxnSpPr>
          <p:cNvPr id="1400" name="21 Conector recto de flecha"/>
          <p:cNvCxnSpPr/>
          <p:nvPr/>
        </p:nvCxnSpPr>
        <p:spPr>
          <a:xfrm>
            <a:off x="3780000" y="3870000"/>
            <a:ext cx="864000" cy="1080"/>
          </a:xfrm>
          <a:prstGeom prst="straightConnector1">
            <a:avLst/>
          </a:prstGeom>
          <a:ln w="25560">
            <a:solidFill>
              <a:srgbClr val="4f81bd"/>
            </a:solidFill>
            <a:miter/>
            <a:tailEnd len="med" type="arrow" w="med"/>
          </a:ln>
        </p:spPr>
      </p:cxnSp>
      <p:cxnSp>
        <p:nvCxnSpPr>
          <p:cNvPr id="1401" name="23 Conector recto de flecha"/>
          <p:cNvCxnSpPr/>
          <p:nvPr/>
        </p:nvCxnSpPr>
        <p:spPr>
          <a:xfrm>
            <a:off x="3276720" y="4508640"/>
            <a:ext cx="1367280" cy="792720"/>
          </a:xfrm>
          <a:prstGeom prst="straightConnector1">
            <a:avLst/>
          </a:prstGeom>
          <a:ln w="25560">
            <a:solidFill>
              <a:srgbClr val="4f81bd"/>
            </a:solidFill>
            <a:miter/>
            <a:tailEnd len="med" type="arrow" w="med"/>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6" name="Picture 2" descr=""/>
          <p:cNvPicPr/>
          <p:nvPr/>
        </p:nvPicPr>
        <p:blipFill>
          <a:blip r:embed="rId1"/>
          <a:stretch/>
        </p:blipFill>
        <p:spPr>
          <a:xfrm>
            <a:off x="611280" y="1243080"/>
            <a:ext cx="7951680" cy="38415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2"/>
          <p:cNvSpPr/>
          <p:nvPr/>
        </p:nvSpPr>
        <p:spPr>
          <a:xfrm>
            <a:off x="714240" y="17859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rocesos Mensuales</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006cb7"/>
                </a:solidFill>
                <a:latin typeface="Verdana"/>
              </a:rPr>
              <a:t> </a:t>
            </a:r>
            <a:endParaRPr b="0" lang="en-US" sz="4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8" name="Picture 3" descr=""/>
          <p:cNvPicPr/>
          <p:nvPr/>
        </p:nvPicPr>
        <p:blipFill>
          <a:blip r:embed="rId1"/>
          <a:stretch/>
        </p:blipFill>
        <p:spPr>
          <a:xfrm>
            <a:off x="755640" y="673200"/>
            <a:ext cx="7383600" cy="53323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9" name="Picture 3" descr=""/>
          <p:cNvPicPr/>
          <p:nvPr/>
        </p:nvPicPr>
        <p:blipFill>
          <a:blip r:embed="rId1"/>
          <a:stretch/>
        </p:blipFill>
        <p:spPr>
          <a:xfrm>
            <a:off x="728640" y="709560"/>
            <a:ext cx="7686720" cy="5438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0" name="Picture 3" descr=""/>
          <p:cNvPicPr/>
          <p:nvPr/>
        </p:nvPicPr>
        <p:blipFill>
          <a:blip r:embed="rId1"/>
          <a:stretch/>
        </p:blipFill>
        <p:spPr>
          <a:xfrm>
            <a:off x="947880" y="795240"/>
            <a:ext cx="7248240" cy="5267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1" name="Picture 2" descr=""/>
          <p:cNvPicPr/>
          <p:nvPr/>
        </p:nvPicPr>
        <p:blipFill>
          <a:blip r:embed="rId1"/>
          <a:stretch/>
        </p:blipFill>
        <p:spPr>
          <a:xfrm>
            <a:off x="468360" y="476280"/>
            <a:ext cx="7632720" cy="58323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2" name="Picture 2" descr=""/>
          <p:cNvPicPr/>
          <p:nvPr/>
        </p:nvPicPr>
        <p:blipFill>
          <a:blip r:embed="rId1"/>
          <a:stretch/>
        </p:blipFill>
        <p:spPr>
          <a:xfrm>
            <a:off x="473040" y="549360"/>
            <a:ext cx="7844040" cy="5759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3" name="Picture 2" descr=""/>
          <p:cNvPicPr/>
          <p:nvPr/>
        </p:nvPicPr>
        <p:blipFill>
          <a:blip r:embed="rId1"/>
          <a:stretch/>
        </p:blipFill>
        <p:spPr>
          <a:xfrm>
            <a:off x="611280" y="549360"/>
            <a:ext cx="7705800" cy="5759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4" name="Picture 3" descr=""/>
          <p:cNvPicPr/>
          <p:nvPr/>
        </p:nvPicPr>
        <p:blipFill>
          <a:blip r:embed="rId1"/>
          <a:stretch/>
        </p:blipFill>
        <p:spPr>
          <a:xfrm>
            <a:off x="1033560" y="728640"/>
            <a:ext cx="7076880" cy="54007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5" name="Picture 3" descr=""/>
          <p:cNvPicPr/>
          <p:nvPr/>
        </p:nvPicPr>
        <p:blipFill>
          <a:blip r:embed="rId1"/>
          <a:stretch/>
        </p:blipFill>
        <p:spPr>
          <a:xfrm>
            <a:off x="838080" y="762120"/>
            <a:ext cx="7467840" cy="5333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94920" y="1844640"/>
            <a:ext cx="8177400" cy="4525920"/>
          </a:xfrm>
          <a:prstGeom prst="rect">
            <a:avLst/>
          </a:prstGeom>
          <a:noFill/>
          <a:ln w="0">
            <a:noFill/>
          </a:ln>
        </p:spPr>
        <p:txBody>
          <a:bodyPr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Calibri"/>
              </a:rPr>
              <a:t>Ingreso de datos y verificación de existencia de la Ficha de Protección Social</a:t>
            </a: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Calibri"/>
              </a:rPr>
              <a:t>Niveles Locales</a:t>
            </a: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Calibri"/>
              </a:rPr>
              <a:t>Nivel Regional</a:t>
            </a: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Calibri"/>
              </a:rPr>
              <a:t>Nivel Nacional</a:t>
            </a: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Calibri"/>
              </a:rPr>
              <a:t>Cada uno de éstos con perfiles de acceso diferenciado </a:t>
            </a: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
        <p:nvSpPr>
          <p:cNvPr id="1403" name="1 Título"/>
          <p:cNvSpPr/>
          <p:nvPr/>
        </p:nvSpPr>
        <p:spPr>
          <a:xfrm>
            <a:off x="304920" y="304920"/>
            <a:ext cx="816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6cb7"/>
                </a:solidFill>
                <a:latin typeface="Verdana"/>
              </a:rPr>
              <a:t>FUNCIONES DEL SISTEMA e INTEROPERABILIDAD</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6" name="Picture 2" descr=""/>
          <p:cNvPicPr/>
          <p:nvPr/>
        </p:nvPicPr>
        <p:blipFill>
          <a:blip r:embed="rId1"/>
          <a:stretch/>
        </p:blipFill>
        <p:spPr>
          <a:xfrm>
            <a:off x="684360" y="476280"/>
            <a:ext cx="7488000" cy="58323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7" name="Picture 2" descr=""/>
          <p:cNvPicPr/>
          <p:nvPr/>
        </p:nvPicPr>
        <p:blipFill>
          <a:blip r:embed="rId1"/>
          <a:stretch/>
        </p:blipFill>
        <p:spPr>
          <a:xfrm>
            <a:off x="395280" y="549360"/>
            <a:ext cx="7921800" cy="55436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8" name="Picture 3" descr=""/>
          <p:cNvPicPr/>
          <p:nvPr/>
        </p:nvPicPr>
        <p:blipFill>
          <a:blip r:embed="rId1"/>
          <a:stretch/>
        </p:blipFill>
        <p:spPr>
          <a:xfrm>
            <a:off x="395280" y="692280"/>
            <a:ext cx="7921800" cy="52578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642960" y="1857240"/>
            <a:ext cx="7848720" cy="1873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Subsidio al Pago del Consumo de Agua Potable, Alcantarillado y Tratamiento de Aguas Servidas</a:t>
            </a:r>
            <a:endParaRPr b="0" lang="en-US" sz="3200" spc="-1" strike="noStrike">
              <a:solidFill>
                <a:srgbClr val="006cb7"/>
              </a:solidFill>
              <a:latin typeface="Verdana"/>
            </a:endParaRPr>
          </a:p>
        </p:txBody>
      </p:sp>
      <p:pic>
        <p:nvPicPr>
          <p:cNvPr id="1520" name="Picture 4" descr="agua2"/>
          <p:cNvPicPr/>
          <p:nvPr/>
        </p:nvPicPr>
        <p:blipFill>
          <a:blip r:embed="rId1"/>
          <a:stretch/>
        </p:blipFill>
        <p:spPr>
          <a:xfrm>
            <a:off x="3000240" y="3857760"/>
            <a:ext cx="2438640" cy="1676160"/>
          </a:xfrm>
          <a:prstGeom prst="rect">
            <a:avLst/>
          </a:prstGeom>
          <a:ln w="0">
            <a:noFill/>
          </a:ln>
        </p:spPr>
      </p:pic>
      <p:pic>
        <p:nvPicPr>
          <p:cNvPr id="1521"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p:nvPr>
        </p:nvSpPr>
        <p:spPr>
          <a:xfrm>
            <a:off x="250560" y="1889280"/>
            <a:ext cx="8497800" cy="4968720"/>
          </a:xfrm>
          <a:prstGeom prst="rect">
            <a:avLst/>
          </a:prstGeom>
          <a:noFill/>
          <a:ln w="0">
            <a:noFill/>
          </a:ln>
        </p:spPr>
        <p:txBody>
          <a:bodyPr anchor="t">
            <a:normAutofit/>
          </a:bodyPr>
          <a:p>
            <a:pPr marL="343080" indent="-343080" algn="just">
              <a:lnSpc>
                <a:spcPct val="8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Verdana"/>
              </a:rPr>
              <a:t>Consiste en </a:t>
            </a:r>
            <a:r>
              <a:rPr b="0" lang="es-ES_tradnl" sz="2000" spc="-1" strike="noStrike">
                <a:solidFill>
                  <a:srgbClr val="000000"/>
                </a:solidFill>
                <a:latin typeface="Verdana"/>
              </a:rPr>
              <a:t>que </a:t>
            </a:r>
            <a:r>
              <a:rPr b="1" lang="es-ES_tradnl" sz="2000" spc="-1" strike="noStrike">
                <a:solidFill>
                  <a:srgbClr val="000000"/>
                </a:solidFill>
                <a:latin typeface="Verdana"/>
              </a:rPr>
              <a:t>el Estado, vía municipalidades, cancela una parte de la cuenta del servicio del beneficiario </a:t>
            </a:r>
            <a:r>
              <a:rPr b="0" lang="es-ES_tradnl" sz="2000" spc="-1" strike="noStrike">
                <a:solidFill>
                  <a:srgbClr val="000000"/>
                </a:solidFill>
                <a:latin typeface="Verdana"/>
              </a:rPr>
              <a:t>a las empresas sanitarias (Prestadores) de la(s) región(es) o a los Administradores de los S.A.P.R.</a:t>
            </a:r>
            <a:r>
              <a:rPr b="0" lang="es-ES_tradnl" sz="2000" spc="-1" strike="noStrike">
                <a:solidFill>
                  <a:srgbClr val="000000"/>
                </a:solidFill>
                <a:latin typeface="Verdana"/>
              </a:rPr>
              <a:t>	</a:t>
            </a:r>
            <a:endParaRPr b="0" lang="en-US" sz="2000" spc="-1" strike="noStrike">
              <a:solidFill>
                <a:srgbClr val="595959"/>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8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Verdana"/>
              </a:rPr>
              <a:t>Los niveles de consumo a subsidiar fluctúan entre los 0 y los 20M3.</a:t>
            </a:r>
            <a:endParaRPr b="0" lang="en-US" sz="2000" spc="-1" strike="noStrike">
              <a:solidFill>
                <a:srgbClr val="595959"/>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8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Verdana"/>
              </a:rPr>
              <a:t>El rango de intensidad del subsidio oscila desde el  25% al 85%. en tramos tradicionales y al 1</a:t>
            </a:r>
            <a:r>
              <a:rPr b="0" lang="es-ES" sz="2000" spc="-1" strike="noStrike">
                <a:solidFill>
                  <a:srgbClr val="000000"/>
                </a:solidFill>
                <a:latin typeface="Verdana"/>
              </a:rPr>
              <a:t>00% en tramo Chile Solidario.</a:t>
            </a:r>
            <a:endParaRPr b="0" lang="en-US" sz="2000" spc="-1" strike="noStrike">
              <a:solidFill>
                <a:srgbClr val="595959"/>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8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Verdana"/>
              </a:rPr>
              <a:t>El subsidio es diferencial </a:t>
            </a:r>
            <a:r>
              <a:rPr b="0" lang="es-ES" sz="2000" spc="-1" strike="noStrike">
                <a:solidFill>
                  <a:srgbClr val="000000"/>
                </a:solidFill>
                <a:latin typeface="Verdana"/>
              </a:rPr>
              <a:t>según  grupo tarifario y por Nivel de Vulnerabilidad Social de las familias .</a:t>
            </a:r>
            <a:endParaRPr b="0" lang="en-US" sz="2000" spc="-1" strike="noStrike">
              <a:solidFill>
                <a:srgbClr val="595959"/>
              </a:solidFill>
              <a:latin typeface="Calibri"/>
            </a:endParaRPr>
          </a:p>
        </p:txBody>
      </p:sp>
      <p:sp>
        <p:nvSpPr>
          <p:cNvPr id="1523" name="Rectangle 6"/>
          <p:cNvSpPr/>
          <p:nvPr/>
        </p:nvSpPr>
        <p:spPr>
          <a:xfrm>
            <a:off x="250920" y="39060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4f81bd"/>
                </a:solidFill>
                <a:latin typeface="Verdana"/>
              </a:rPr>
              <a:t>¿En que consiste el Subsidio al Consumo?</a:t>
            </a:r>
            <a:endParaRPr b="0" lang="en-US" sz="2400" spc="-1" strike="noStrike">
              <a:solidFill>
                <a:srgbClr val="ffffff"/>
              </a:solidFill>
              <a:latin typeface="Arial"/>
            </a:endParaRPr>
          </a:p>
        </p:txBody>
      </p:sp>
      <p:pic>
        <p:nvPicPr>
          <p:cNvPr id="1524" name="5 Imagen" descr="Macintosh HD:Users:valeriasoto:gráfica:mds:Logos Ministerio 2.0:logo MDS.png"/>
          <p:cNvPicPr/>
          <p:nvPr/>
        </p:nvPicPr>
        <p:blipFill>
          <a:blip r:embed="rId1"/>
          <a:stretch/>
        </p:blipFill>
        <p:spPr>
          <a:xfrm>
            <a:off x="7610400" y="0"/>
            <a:ext cx="1533600" cy="13906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3"/>
          <p:cNvSpPr/>
          <p:nvPr/>
        </p:nvSpPr>
        <p:spPr>
          <a:xfrm>
            <a:off x="395280" y="1557360"/>
            <a:ext cx="8353440" cy="5132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Verdana"/>
                <a:ea typeface="Verdana"/>
              </a:rPr>
              <a:t>Debe ser residente permanente de una vivienda</a:t>
            </a:r>
            <a:r>
              <a:rPr b="0" lang="es-ES" sz="2000" spc="-1" strike="noStrike">
                <a:solidFill>
                  <a:srgbClr val="ffffff"/>
                </a:solidFill>
                <a:latin typeface="Verdana"/>
                <a:ea typeface="Verdana"/>
              </a:rPr>
              <a:t> ubicada en el Área Urbana o Rural (propietario, arrendatario o usufructuario).</a:t>
            </a:r>
            <a:endParaRPr b="0" lang="en-US" sz="2000" spc="-1" strike="noStrike">
              <a:solidFill>
                <a:srgbClr val="ffffff"/>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Verdana"/>
                <a:ea typeface="Verdana"/>
              </a:rPr>
              <a:t>La Vivienda </a:t>
            </a:r>
            <a:r>
              <a:rPr b="1" lang="es-ES" sz="2000" spc="-1" strike="noStrike">
                <a:solidFill>
                  <a:srgbClr val="ffffff"/>
                </a:solidFill>
                <a:latin typeface="Verdana"/>
                <a:ea typeface="Verdana"/>
              </a:rPr>
              <a:t>debe contar con conexión</a:t>
            </a:r>
            <a:r>
              <a:rPr b="0" lang="es-ES" sz="2000" spc="-1" strike="noStrike">
                <a:solidFill>
                  <a:srgbClr val="ffffff"/>
                </a:solidFill>
                <a:latin typeface="Verdana"/>
                <a:ea typeface="Verdana"/>
              </a:rPr>
              <a:t> al Servicio de Agua Potable. </a:t>
            </a:r>
            <a:endParaRPr b="0" lang="en-US" sz="2000" spc="-1" strike="noStrike">
              <a:solidFill>
                <a:srgbClr val="ffffff"/>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ffffff"/>
                </a:solidFill>
                <a:latin typeface="Verdana"/>
                <a:ea typeface="Verdana"/>
              </a:rPr>
              <a:t>Debe estar al día en los pagos</a:t>
            </a:r>
            <a:r>
              <a:rPr b="0" lang="es-MX" sz="2000" spc="-1" strike="noStrike">
                <a:solidFill>
                  <a:srgbClr val="ffffff"/>
                </a:solidFill>
                <a:latin typeface="Verdana"/>
                <a:ea typeface="Verdana"/>
              </a:rPr>
              <a:t> o convenio con el Prestador o Administrador.</a:t>
            </a:r>
            <a:endParaRPr b="0" lang="en-US" sz="2000" spc="-1" strike="noStrike">
              <a:solidFill>
                <a:srgbClr val="ffffff"/>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ffffff"/>
                </a:solidFill>
                <a:latin typeface="Verdana"/>
                <a:ea typeface="Verdana"/>
              </a:rPr>
              <a:t>Debe estar encuestado con la FPS y</a:t>
            </a:r>
            <a:r>
              <a:rPr b="1" lang="es-ES" sz="2000" spc="-1" strike="noStrike">
                <a:solidFill>
                  <a:srgbClr val="ffffff"/>
                </a:solidFill>
                <a:latin typeface="Verdana"/>
                <a:ea typeface="Verdana"/>
              </a:rPr>
              <a:t> presentar postulación</a:t>
            </a:r>
            <a:r>
              <a:rPr b="0" lang="es-ES" sz="2000" spc="-1" strike="noStrike">
                <a:solidFill>
                  <a:srgbClr val="ffffff"/>
                </a:solidFill>
                <a:latin typeface="Verdana"/>
                <a:ea typeface="Verdana"/>
              </a:rPr>
              <a:t> en la Municipalidad de residencia.</a:t>
            </a:r>
            <a:endParaRPr b="0" lang="en-US" sz="2000" spc="-1" strike="noStrike">
              <a:solidFill>
                <a:srgbClr val="ffffff"/>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1526" name="Rectangle 6"/>
          <p:cNvSpPr/>
          <p:nvPr/>
        </p:nvSpPr>
        <p:spPr>
          <a:xfrm>
            <a:off x="575640" y="318960"/>
            <a:ext cx="552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4f81bd"/>
                </a:solidFill>
                <a:latin typeface="Verdana"/>
              </a:rPr>
              <a:t>Requisitos para acceder al Subsidio</a:t>
            </a:r>
            <a:endParaRPr b="0" lang="en-US" sz="2400" spc="-1" strike="noStrike">
              <a:solidFill>
                <a:srgbClr val="ffffff"/>
              </a:solidFill>
              <a:latin typeface="Arial"/>
            </a:endParaRPr>
          </a:p>
        </p:txBody>
      </p:sp>
      <p:pic>
        <p:nvPicPr>
          <p:cNvPr id="1527" name="6 Imagen" descr="Macintosh HD:Users:valeriasoto:gráfica:mds:Logos Ministerio 2.0:logo MDS.png"/>
          <p:cNvPicPr/>
          <p:nvPr/>
        </p:nvPicPr>
        <p:blipFill>
          <a:blip r:embed="rId1"/>
          <a:stretch/>
        </p:blipFill>
        <p:spPr>
          <a:xfrm>
            <a:off x="7610400" y="0"/>
            <a:ext cx="1533600" cy="1197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p:nvPr>
        </p:nvSpPr>
        <p:spPr>
          <a:xfrm>
            <a:off x="323640" y="1341000"/>
            <a:ext cx="8351640" cy="4894200"/>
          </a:xfrm>
          <a:prstGeom prst="rect">
            <a:avLst/>
          </a:prstGeom>
          <a:noFill/>
          <a:ln w="0">
            <a:noFill/>
          </a:ln>
        </p:spPr>
        <p:txBody>
          <a:bodyPr anchor="t">
            <a:normAutofit/>
          </a:bodyPr>
          <a:p>
            <a:pPr marL="343080" indent="-343080" algn="just">
              <a:lnSpc>
                <a:spcPct val="9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El Alcalde, de acuerdo al puntaje obtenido en la Ficha de Protección Social por los postulantes, confecciona un listado de prelación y dicta el decreto de concesión de acuerdo al número de beneficios disponibles en el mes.</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9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Verdana"/>
              </a:rPr>
              <a:t>Valores referenciales del Subsidio (Cuenta de 15M3):</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Verdana"/>
              </a:rPr>
              <a:t>	</a:t>
            </a:r>
            <a:r>
              <a:rPr b="0" lang="es-CL" sz="2000" spc="-1" strike="noStrike">
                <a:solidFill>
                  <a:srgbClr val="000000"/>
                </a:solidFill>
                <a:latin typeface="Verdana"/>
              </a:rPr>
              <a:t> </a:t>
            </a:r>
            <a:r>
              <a:rPr b="1" lang="es-CL" sz="2000" spc="-1" strike="noStrike">
                <a:solidFill>
                  <a:srgbClr val="000000"/>
                </a:solidFill>
                <a:latin typeface="Verdana"/>
              </a:rPr>
              <a:t>RM</a:t>
            </a:r>
            <a:r>
              <a:rPr b="0" lang="es-CL" sz="2000" spc="-1" strike="noStrike">
                <a:solidFill>
                  <a:srgbClr val="000000"/>
                </a:solidFill>
                <a:latin typeface="Verdana"/>
              </a:rPr>
              <a:t>  Norma Ordinaria: </a:t>
            </a:r>
            <a:r>
              <a:rPr b="1" lang="es-CL" sz="2000" spc="-1" strike="noStrike">
                <a:solidFill>
                  <a:srgbClr val="000000"/>
                </a:solidFill>
                <a:latin typeface="Verdana"/>
              </a:rPr>
              <a:t>$ 4.947 (US$9) </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Verdana"/>
              </a:rPr>
              <a:t>     </a:t>
            </a:r>
            <a:r>
              <a:rPr b="1" lang="es-CL" sz="2000" spc="-1" strike="noStrike">
                <a:solidFill>
                  <a:srgbClr val="000000"/>
                </a:solidFill>
                <a:latin typeface="Verdana"/>
              </a:rPr>
              <a:t>RM</a:t>
            </a:r>
            <a:r>
              <a:rPr b="0" lang="es-CL" sz="2000" spc="-1" strike="noStrike">
                <a:solidFill>
                  <a:srgbClr val="000000"/>
                </a:solidFill>
                <a:latin typeface="Verdana"/>
              </a:rPr>
              <a:t> Norma Chile Solidario: </a:t>
            </a:r>
            <a:r>
              <a:rPr b="1" lang="es-CL" sz="2000" spc="-1" strike="noStrike">
                <a:solidFill>
                  <a:srgbClr val="000000"/>
                </a:solidFill>
                <a:latin typeface="Verdana"/>
              </a:rPr>
              <a:t>$ 9.893,15 (US$18)</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Verdana"/>
              </a:rPr>
              <a:t>	</a:t>
            </a:r>
            <a:r>
              <a:rPr b="0" lang="es-CL" sz="2000" spc="-1" strike="noStrike">
                <a:solidFill>
                  <a:srgbClr val="000000"/>
                </a:solidFill>
                <a:latin typeface="Verdana"/>
              </a:rPr>
              <a:t>Antofagasta Norma Ordinaria tramo 1: </a:t>
            </a:r>
            <a:r>
              <a:rPr b="1" lang="es-CL" sz="2000" spc="-1" strike="noStrike">
                <a:solidFill>
                  <a:srgbClr val="000000"/>
                </a:solidFill>
                <a:latin typeface="Verdana"/>
              </a:rPr>
              <a:t>$ 18.098. (US$32)</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Verdana"/>
              </a:rPr>
              <a:t>	</a:t>
            </a:r>
            <a:r>
              <a:rPr b="0" lang="es-CL" sz="2000" spc="-1" strike="noStrike">
                <a:solidFill>
                  <a:srgbClr val="000000"/>
                </a:solidFill>
                <a:latin typeface="Verdana"/>
              </a:rPr>
              <a:t>Antofagasta Norma Ordinaria tramo 2: </a:t>
            </a:r>
            <a:r>
              <a:rPr b="1" lang="es-CL" sz="2000" spc="-1" strike="noStrike">
                <a:solidFill>
                  <a:srgbClr val="000000"/>
                </a:solidFill>
                <a:latin typeface="Verdana"/>
              </a:rPr>
              <a:t>$ 11.602. (US$21)</a:t>
            </a:r>
            <a:endParaRPr b="0" lang="en-US" sz="2000" spc="-1" strike="noStrike">
              <a:solidFill>
                <a:srgbClr val="595959"/>
              </a:solidFill>
              <a:latin typeface="Calibri"/>
            </a:endParaRPr>
          </a:p>
          <a:p>
            <a:pPr marL="3430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Verdana"/>
              </a:rPr>
              <a:t>	</a:t>
            </a:r>
            <a:r>
              <a:rPr b="0" lang="es-CL" sz="2000" spc="-1" strike="noStrike">
                <a:solidFill>
                  <a:srgbClr val="000000"/>
                </a:solidFill>
                <a:latin typeface="Verdana"/>
              </a:rPr>
              <a:t>Antofagasta Norma Chile Solidario : </a:t>
            </a:r>
            <a:r>
              <a:rPr b="0" lang="es-CL" sz="2000" spc="-1" strike="noStrike">
                <a:solidFill>
                  <a:srgbClr val="000000"/>
                </a:solidFill>
                <a:latin typeface="Verdana"/>
              </a:rPr>
              <a:t>	</a:t>
            </a:r>
            <a:r>
              <a:rPr b="0" lang="es-CL" sz="2000" spc="-1" strike="noStrike">
                <a:solidFill>
                  <a:srgbClr val="000000"/>
                </a:solidFill>
                <a:latin typeface="Verdana"/>
              </a:rPr>
              <a:t>   </a:t>
            </a:r>
            <a:r>
              <a:rPr b="1" lang="es-CL" sz="2000" spc="-1" strike="noStrike">
                <a:solidFill>
                  <a:srgbClr val="000000"/>
                </a:solidFill>
                <a:latin typeface="Verdana"/>
              </a:rPr>
              <a:t>$ 23.203. (US$42)</a:t>
            </a:r>
            <a:endParaRPr b="0" lang="en-US" sz="2000" spc="-1" strike="noStrike">
              <a:solidFill>
                <a:srgbClr val="595959"/>
              </a:solidFill>
              <a:latin typeface="Calibri"/>
            </a:endParaRPr>
          </a:p>
        </p:txBody>
      </p:sp>
      <p:sp>
        <p:nvSpPr>
          <p:cNvPr id="1529" name="Rectangle 4"/>
          <p:cNvSpPr/>
          <p:nvPr/>
        </p:nvSpPr>
        <p:spPr>
          <a:xfrm>
            <a:off x="324000" y="333360"/>
            <a:ext cx="293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4f81bd"/>
                </a:solidFill>
                <a:latin typeface="Verdana"/>
              </a:rPr>
              <a:t>Otorgamiento</a:t>
            </a:r>
            <a:endParaRPr b="0" lang="en-US" sz="2400" spc="-1" strike="noStrike">
              <a:solidFill>
                <a:srgbClr val="ffffff"/>
              </a:solidFill>
              <a:latin typeface="Arial"/>
            </a:endParaRPr>
          </a:p>
        </p:txBody>
      </p:sp>
      <p:pic>
        <p:nvPicPr>
          <p:cNvPr id="1530" name="5 Imagen" descr="Macintosh HD:Users:valeriasoto:gráfica:mds:Logos Ministerio 2.0:logo MDS.png"/>
          <p:cNvPicPr/>
          <p:nvPr/>
        </p:nvPicPr>
        <p:blipFill>
          <a:blip r:embed="rId1"/>
          <a:stretch/>
        </p:blipFill>
        <p:spPr>
          <a:xfrm>
            <a:off x="7610400" y="0"/>
            <a:ext cx="1533600" cy="1341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2"/>
          <p:cNvSpPr/>
          <p:nvPr/>
        </p:nvSpPr>
        <p:spPr>
          <a:xfrm>
            <a:off x="714240" y="2276640"/>
            <a:ext cx="7772400" cy="97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rocesos</a:t>
            </a:r>
            <a:endParaRPr b="0" lang="en-US" sz="32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2" name="Picture 3" descr=""/>
          <p:cNvPicPr/>
          <p:nvPr/>
        </p:nvPicPr>
        <p:blipFill>
          <a:blip r:embed="rId1"/>
          <a:stretch/>
        </p:blipFill>
        <p:spPr>
          <a:xfrm>
            <a:off x="826920" y="1125360"/>
            <a:ext cx="7561440" cy="44643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POSTULACIONES SAP</a:t>
            </a:r>
            <a:endParaRPr b="0" lang="en-US" sz="2400" spc="-1" strike="noStrike">
              <a:solidFill>
                <a:srgbClr val="006cb7"/>
              </a:solidFill>
              <a:latin typeface="Verdana"/>
            </a:endParaRPr>
          </a:p>
        </p:txBody>
      </p:sp>
      <p:pic>
        <p:nvPicPr>
          <p:cNvPr id="1534" name="Picture 2" descr=""/>
          <p:cNvPicPr/>
          <p:nvPr/>
        </p:nvPicPr>
        <p:blipFill>
          <a:blip r:embed="rId1"/>
          <a:stretch/>
        </p:blipFill>
        <p:spPr>
          <a:xfrm>
            <a:off x="1835280" y="1628640"/>
            <a:ext cx="5715000" cy="2971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164880" y="495000"/>
            <a:ext cx="8164440" cy="9889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Plataforma de Gestión en Línea</a:t>
            </a:r>
            <a:br>
              <a:rPr sz="2400"/>
            </a:br>
            <a:r>
              <a:rPr b="1" lang="es-ES" sz="2400" spc="-1" strike="noStrike">
                <a:solidFill>
                  <a:srgbClr val="006cb7"/>
                </a:solidFill>
                <a:latin typeface="Verdana"/>
              </a:rPr>
              <a:t>http://www.fichaproteccionsocial.gob.cl/ </a:t>
            </a:r>
            <a:endParaRPr b="0" lang="en-US" sz="2400" spc="-1" strike="noStrike">
              <a:solidFill>
                <a:srgbClr val="006cb7"/>
              </a:solidFill>
              <a:latin typeface="Verdana"/>
            </a:endParaRPr>
          </a:p>
        </p:txBody>
      </p:sp>
      <p:pic>
        <p:nvPicPr>
          <p:cNvPr id="1405" name="Picture 2" descr=""/>
          <p:cNvPicPr/>
          <p:nvPr/>
        </p:nvPicPr>
        <p:blipFill>
          <a:blip r:embed="rId1"/>
          <a:stretch/>
        </p:blipFill>
        <p:spPr>
          <a:xfrm>
            <a:off x="4519440" y="2359080"/>
            <a:ext cx="3810240" cy="3591000"/>
          </a:xfrm>
          <a:prstGeom prst="rect">
            <a:avLst/>
          </a:prstGeom>
          <a:ln w="0">
            <a:noFill/>
          </a:ln>
        </p:spPr>
      </p:pic>
      <p:sp>
        <p:nvSpPr>
          <p:cNvPr id="1406" name="6 CuadroTexto"/>
          <p:cNvSpPr/>
          <p:nvPr/>
        </p:nvSpPr>
        <p:spPr>
          <a:xfrm flipV="1" rot="10800000">
            <a:off x="826560" y="2926440"/>
            <a:ext cx="3187800" cy="1067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ffffff"/>
                </a:solidFill>
                <a:latin typeface="Verdana"/>
              </a:rPr>
              <a:t>Ingresa Nombre de </a:t>
            </a:r>
            <a:r>
              <a:rPr b="1" lang="es-ES" sz="1600" spc="-1" strike="noStrike">
                <a:solidFill>
                  <a:srgbClr val="ffffff"/>
                </a:solidFill>
                <a:latin typeface="Verdana"/>
              </a:rPr>
              <a:t>usuario </a:t>
            </a:r>
            <a:r>
              <a:rPr b="0" lang="es-ES" sz="1600" spc="-1" strike="noStrike">
                <a:solidFill>
                  <a:srgbClr val="ffffff"/>
                </a:solidFill>
                <a:latin typeface="Verdana"/>
              </a:rPr>
              <a:t> y </a:t>
            </a:r>
            <a:r>
              <a:rPr b="1" lang="es-ES" sz="1600" spc="-1" strike="noStrike">
                <a:solidFill>
                  <a:srgbClr val="ffffff"/>
                </a:solidFill>
                <a:latin typeface="Verdana"/>
              </a:rPr>
              <a:t>clave</a:t>
            </a:r>
            <a:r>
              <a:rPr b="0" lang="es-ES" sz="1600" spc="-1" strike="noStrike">
                <a:solidFill>
                  <a:srgbClr val="ffffff"/>
                </a:solidFill>
                <a:latin typeface="Verdana"/>
              </a:rPr>
              <a:t> asignada por el Encargado Comunal FPS y luego accede al Sistema</a:t>
            </a:r>
            <a:endParaRPr b="0" lang="en-US" sz="1600" spc="-1" strike="noStrike">
              <a:solidFill>
                <a:srgbClr val="ffffff"/>
              </a:solidFill>
              <a:latin typeface="Arial"/>
            </a:endParaRPr>
          </a:p>
        </p:txBody>
      </p:sp>
      <p:sp>
        <p:nvSpPr>
          <p:cNvPr id="1407" name="7 Rectángulo"/>
          <p:cNvSpPr/>
          <p:nvPr/>
        </p:nvSpPr>
        <p:spPr>
          <a:xfrm>
            <a:off x="5508720" y="2816280"/>
            <a:ext cx="1800000" cy="1657440"/>
          </a:xfrm>
          <a:prstGeom prst="rect">
            <a:avLst/>
          </a:prstGeom>
          <a:noFill/>
          <a:ln w="1908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08" name="8 Flecha derecha"/>
          <p:cNvSpPr/>
          <p:nvPr/>
        </p:nvSpPr>
        <p:spPr>
          <a:xfrm>
            <a:off x="4014720" y="3465360"/>
            <a:ext cx="1494000" cy="216000"/>
          </a:xfrm>
          <a:prstGeom prst="rightArrow">
            <a:avLst>
              <a:gd name="adj1" fmla="val 50000"/>
              <a:gd name="adj2" fmla="val 49986"/>
            </a:avLst>
          </a:prstGeom>
          <a:solidFill>
            <a:srgbClr val="ff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409" name="9 Imagen" descr="Computador.gif"/>
          <p:cNvPicPr/>
          <p:nvPr/>
        </p:nvPicPr>
        <p:blipFill>
          <a:blip r:embed="rId2"/>
          <a:stretch/>
        </p:blipFill>
        <p:spPr>
          <a:xfrm>
            <a:off x="826920" y="4473720"/>
            <a:ext cx="2340000" cy="17478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POSTULACIONES</a:t>
            </a:r>
            <a:endParaRPr b="0" lang="en-US" sz="2400" spc="-1" strike="noStrike">
              <a:solidFill>
                <a:srgbClr val="006cb7"/>
              </a:solidFill>
              <a:latin typeface="Verdana"/>
            </a:endParaRPr>
          </a:p>
        </p:txBody>
      </p:sp>
      <p:pic>
        <p:nvPicPr>
          <p:cNvPr id="1536" name="Picture 2" descr=""/>
          <p:cNvPicPr/>
          <p:nvPr/>
        </p:nvPicPr>
        <p:blipFill>
          <a:blip r:embed="rId1"/>
          <a:stretch/>
        </p:blipFill>
        <p:spPr>
          <a:xfrm>
            <a:off x="1042920" y="1557360"/>
            <a:ext cx="6939000" cy="35971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6cb7"/>
                </a:solidFill>
                <a:latin typeface="Verdana"/>
              </a:rPr>
              <a:t>SAP Individual Urbano.</a:t>
            </a:r>
            <a:br>
              <a:rPr sz="2400"/>
            </a:br>
            <a:endParaRPr b="0" lang="en-US" sz="2400" spc="-1" strike="noStrike">
              <a:solidFill>
                <a:srgbClr val="006cb7"/>
              </a:solidFill>
              <a:latin typeface="Verdana"/>
            </a:endParaRPr>
          </a:p>
        </p:txBody>
      </p:sp>
      <p:pic>
        <p:nvPicPr>
          <p:cNvPr id="1538" name="Picture 2" descr=""/>
          <p:cNvPicPr/>
          <p:nvPr/>
        </p:nvPicPr>
        <p:blipFill>
          <a:blip r:embed="rId1"/>
          <a:stretch/>
        </p:blipFill>
        <p:spPr>
          <a:xfrm>
            <a:off x="1476360" y="907920"/>
            <a:ext cx="5614920" cy="2976840"/>
          </a:xfrm>
          <a:prstGeom prst="rect">
            <a:avLst/>
          </a:prstGeom>
          <a:ln w="0">
            <a:noFill/>
          </a:ln>
        </p:spPr>
      </p:pic>
      <p:pic>
        <p:nvPicPr>
          <p:cNvPr id="1539" name="Picture 3" descr=""/>
          <p:cNvPicPr/>
          <p:nvPr/>
        </p:nvPicPr>
        <p:blipFill>
          <a:blip r:embed="rId2"/>
          <a:stretch/>
        </p:blipFill>
        <p:spPr>
          <a:xfrm>
            <a:off x="1476360" y="4221000"/>
            <a:ext cx="5781600" cy="141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6cb7"/>
                </a:solidFill>
                <a:latin typeface="Verdana"/>
              </a:rPr>
              <a:t>Para finalizar la postulación el usuario debe registrar el número de cliente y pinchar el botón INGRESAR POSTULACION </a:t>
            </a:r>
            <a:br>
              <a:rPr sz="2400"/>
            </a:br>
            <a:endParaRPr b="0" lang="en-US" sz="2400" spc="-1" strike="noStrike">
              <a:solidFill>
                <a:srgbClr val="006cb7"/>
              </a:solidFill>
              <a:latin typeface="Verdana"/>
            </a:endParaRPr>
          </a:p>
        </p:txBody>
      </p:sp>
      <p:pic>
        <p:nvPicPr>
          <p:cNvPr id="1541" name="Picture 2" descr=""/>
          <p:cNvPicPr/>
          <p:nvPr/>
        </p:nvPicPr>
        <p:blipFill>
          <a:blip r:embed="rId1"/>
          <a:stretch/>
        </p:blipFill>
        <p:spPr>
          <a:xfrm>
            <a:off x="1547640" y="1773360"/>
            <a:ext cx="5829480" cy="31240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800" y="233964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200" spc="-1" strike="noStrike">
                <a:solidFill>
                  <a:srgbClr val="ffffff"/>
                </a:solidFill>
                <a:latin typeface="Verdana"/>
              </a:rPr>
              <a:t>Gracias.</a:t>
            </a:r>
            <a:endParaRPr b="1" lang="en-US" sz="9200" spc="-1" strike="noStrike">
              <a:solidFill>
                <a:srgbClr val="000000"/>
              </a:solidFill>
              <a:latin typeface="Verdana"/>
            </a:endParaRPr>
          </a:p>
        </p:txBody>
      </p:sp>
      <p:pic>
        <p:nvPicPr>
          <p:cNvPr id="1543" name="2 Imagen" descr="Macintosh HD:Users:valeriasoto:gráfica:mds:Logos Ministerio 2.0:logo MDS.png"/>
          <p:cNvPicPr/>
          <p:nvPr/>
        </p:nvPicPr>
        <p:blipFill>
          <a:blip r:embed="rId1"/>
          <a:stretch/>
        </p:blipFill>
        <p:spPr>
          <a:xfrm>
            <a:off x="7093080" y="2060640"/>
            <a:ext cx="2050920" cy="2016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152280" y="333000"/>
            <a:ext cx="8164800" cy="9889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Plataforma de Gestión en Línea</a:t>
            </a:r>
            <a:br>
              <a:rPr sz="2400"/>
            </a:br>
            <a:r>
              <a:rPr b="1" lang="es-ES" sz="1600" spc="-1" strike="noStrike">
                <a:solidFill>
                  <a:srgbClr val="006cb7"/>
                </a:solidFill>
                <a:latin typeface="Verdana"/>
              </a:rPr>
              <a:t>http://www.fichaproteccionsocial.gob.cl/ </a:t>
            </a:r>
            <a:endParaRPr b="0" lang="en-US" sz="1600" spc="-1" strike="noStrike">
              <a:solidFill>
                <a:srgbClr val="006cb7"/>
              </a:solidFill>
              <a:latin typeface="Verdana"/>
            </a:endParaRPr>
          </a:p>
        </p:txBody>
      </p:sp>
      <p:pic>
        <p:nvPicPr>
          <p:cNvPr id="1411" name="Picture 5" descr=""/>
          <p:cNvPicPr/>
          <p:nvPr/>
        </p:nvPicPr>
        <p:blipFill>
          <a:blip r:embed="rId1"/>
          <a:stretch/>
        </p:blipFill>
        <p:spPr>
          <a:xfrm>
            <a:off x="942840" y="1322280"/>
            <a:ext cx="7258320" cy="4791240"/>
          </a:xfrm>
          <a:prstGeom prst="rect">
            <a:avLst/>
          </a:prstGeom>
          <a:ln w="9360">
            <a:solidFill>
              <a:srgbClr val="4a7ebb"/>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2" name="Picture 2" descr="C:\Documents and Settings\eibar\Mis documentos\Mis imágenes\INTERA~2.GIF"/>
          <p:cNvPicPr/>
          <p:nvPr/>
        </p:nvPicPr>
        <p:blipFill>
          <a:blip r:embed="rId1"/>
          <a:stretch/>
        </p:blipFill>
        <p:spPr>
          <a:xfrm>
            <a:off x="3419640" y="1273320"/>
            <a:ext cx="1944360" cy="2358720"/>
          </a:xfrm>
          <a:prstGeom prst="rect">
            <a:avLst/>
          </a:prstGeom>
          <a:ln w="0">
            <a:noFill/>
          </a:ln>
        </p:spPr>
      </p:pic>
      <p:pic>
        <p:nvPicPr>
          <p:cNvPr id="1413" name="Picture 2" descr=""/>
          <p:cNvPicPr/>
          <p:nvPr/>
        </p:nvPicPr>
        <p:blipFill>
          <a:blip r:embed="rId2"/>
          <a:stretch/>
        </p:blipFill>
        <p:spPr>
          <a:xfrm>
            <a:off x="6534000" y="5300640"/>
            <a:ext cx="1459080" cy="720720"/>
          </a:xfrm>
          <a:prstGeom prst="rect">
            <a:avLst/>
          </a:prstGeom>
          <a:ln w="0">
            <a:noFill/>
          </a:ln>
        </p:spPr>
      </p:pic>
      <p:pic>
        <p:nvPicPr>
          <p:cNvPr id="1414" name="Picture 3" descr=""/>
          <p:cNvPicPr/>
          <p:nvPr/>
        </p:nvPicPr>
        <p:blipFill>
          <a:blip r:embed="rId3"/>
          <a:stretch/>
        </p:blipFill>
        <p:spPr>
          <a:xfrm>
            <a:off x="6534000" y="3789360"/>
            <a:ext cx="1459080" cy="665280"/>
          </a:xfrm>
          <a:prstGeom prst="rect">
            <a:avLst/>
          </a:prstGeom>
          <a:ln w="0">
            <a:noFill/>
          </a:ln>
        </p:spPr>
      </p:pic>
      <p:pic>
        <p:nvPicPr>
          <p:cNvPr id="1415" name="Picture 4" descr=""/>
          <p:cNvPicPr/>
          <p:nvPr/>
        </p:nvPicPr>
        <p:blipFill>
          <a:blip r:embed="rId4"/>
          <a:stretch/>
        </p:blipFill>
        <p:spPr>
          <a:xfrm>
            <a:off x="6534000" y="4667400"/>
            <a:ext cx="1459080" cy="560160"/>
          </a:xfrm>
          <a:prstGeom prst="rect">
            <a:avLst/>
          </a:prstGeom>
          <a:ln w="0">
            <a:noFill/>
          </a:ln>
        </p:spPr>
      </p:pic>
      <p:sp>
        <p:nvSpPr>
          <p:cNvPr id="1416" name="9 Cilindro"/>
          <p:cNvSpPr/>
          <p:nvPr/>
        </p:nvSpPr>
        <p:spPr>
          <a:xfrm>
            <a:off x="1619280" y="1733400"/>
            <a:ext cx="936720" cy="1360800"/>
          </a:xfrm>
          <a:prstGeom prst="can">
            <a:avLst>
              <a:gd name="adj" fmla="val 17212"/>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7" name="16 CuadroTexto"/>
          <p:cNvSpPr/>
          <p:nvPr/>
        </p:nvSpPr>
        <p:spPr>
          <a:xfrm>
            <a:off x="1692360" y="2319480"/>
            <a:ext cx="863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Arial"/>
              </a:rPr>
              <a:t>FPS</a:t>
            </a:r>
            <a:endParaRPr b="0" lang="en-US" sz="1400" spc="-1" strike="noStrike">
              <a:solidFill>
                <a:srgbClr val="ffffff"/>
              </a:solidFill>
              <a:latin typeface="Arial"/>
            </a:endParaRPr>
          </a:p>
        </p:txBody>
      </p:sp>
      <p:sp>
        <p:nvSpPr>
          <p:cNvPr id="1418" name="PlaceHolder 1"/>
          <p:cNvSpPr>
            <a:spLocks noGrp="1"/>
          </p:cNvSpPr>
          <p:nvPr>
            <p:ph type="title"/>
          </p:nvPr>
        </p:nvSpPr>
        <p:spPr>
          <a:xfrm>
            <a:off x="152280" y="333000"/>
            <a:ext cx="8164800" cy="9399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Plataforma de Gestión en Línea</a:t>
            </a:r>
            <a:br>
              <a:rPr sz="2400"/>
            </a:br>
            <a:r>
              <a:rPr b="1" lang="es-ES" sz="1600" spc="-1" strike="noStrike">
                <a:solidFill>
                  <a:srgbClr val="006cb7"/>
                </a:solidFill>
                <a:latin typeface="Verdana"/>
              </a:rPr>
              <a:t>http://www.fichaproteccionsocial.gob.cl/ </a:t>
            </a:r>
            <a:endParaRPr b="0" lang="en-US" sz="1600" spc="-1" strike="noStrike">
              <a:solidFill>
                <a:srgbClr val="006cb7"/>
              </a:solidFill>
              <a:latin typeface="Verdana"/>
            </a:endParaRPr>
          </a:p>
        </p:txBody>
      </p:sp>
      <p:pic>
        <p:nvPicPr>
          <p:cNvPr id="1419" name="Picture 5" descr=""/>
          <p:cNvPicPr/>
          <p:nvPr/>
        </p:nvPicPr>
        <p:blipFill>
          <a:blip r:embed="rId5"/>
          <a:stretch/>
        </p:blipFill>
        <p:spPr>
          <a:xfrm>
            <a:off x="611280" y="3789360"/>
            <a:ext cx="5356080" cy="2316240"/>
          </a:xfrm>
          <a:prstGeom prst="rect">
            <a:avLst/>
          </a:prstGeom>
          <a:ln w="9360">
            <a:solidFill>
              <a:srgbClr val="ff0000"/>
            </a:solidFill>
            <a:miter/>
          </a:ln>
        </p:spPr>
      </p:pic>
      <p:sp>
        <p:nvSpPr>
          <p:cNvPr id="1420" name="31 Flecha izquierda y derecha"/>
          <p:cNvSpPr/>
          <p:nvPr/>
        </p:nvSpPr>
        <p:spPr>
          <a:xfrm>
            <a:off x="2771640" y="2313000"/>
            <a:ext cx="648000" cy="412560"/>
          </a:xfrm>
          <a:prstGeom prst="leftRightArrow">
            <a:avLst>
              <a:gd name="adj1" fmla="val 50000"/>
              <a:gd name="adj2" fmla="val 50044"/>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1" name="32 Llamada de flecha hacia abajo"/>
          <p:cNvSpPr/>
          <p:nvPr/>
        </p:nvSpPr>
        <p:spPr>
          <a:xfrm>
            <a:off x="3995640" y="3192480"/>
            <a:ext cx="216000" cy="439560"/>
          </a:xfrm>
          <a:prstGeom prst="downArrowCallout">
            <a:avLst>
              <a:gd name="adj1" fmla="val 25002"/>
              <a:gd name="adj2" fmla="val 25000"/>
              <a:gd name="adj3" fmla="val 24976"/>
              <a:gd name="adj4" fmla="val 6497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1422" name="35 Conector recto de flecha"/>
          <p:cNvCxnSpPr/>
          <p:nvPr/>
        </p:nvCxnSpPr>
        <p:spPr>
          <a:xfrm flipV="1">
            <a:off x="5967360" y="4164840"/>
            <a:ext cx="567360" cy="578520"/>
          </a:xfrm>
          <a:prstGeom prst="straightConnector1">
            <a:avLst/>
          </a:prstGeom>
          <a:ln w="25560">
            <a:solidFill>
              <a:srgbClr val="4f81bd"/>
            </a:solidFill>
            <a:miter/>
            <a:tailEnd len="med" type="arrow" w="med"/>
          </a:ln>
        </p:spPr>
      </p:cxnSp>
      <p:cxnSp>
        <p:nvCxnSpPr>
          <p:cNvPr id="1423" name="37 Conector recto de flecha"/>
          <p:cNvCxnSpPr/>
          <p:nvPr/>
        </p:nvCxnSpPr>
        <p:spPr>
          <a:xfrm>
            <a:off x="5967360" y="4946400"/>
            <a:ext cx="567360" cy="1080"/>
          </a:xfrm>
          <a:prstGeom prst="straightConnector1">
            <a:avLst/>
          </a:prstGeom>
          <a:ln w="25560">
            <a:solidFill>
              <a:srgbClr val="4f81bd"/>
            </a:solidFill>
            <a:miter/>
            <a:tailEnd len="med" type="arrow" w="med"/>
          </a:ln>
        </p:spPr>
      </p:cxnSp>
      <p:cxnSp>
        <p:nvCxnSpPr>
          <p:cNvPr id="1424" name="39 Conector recto de flecha"/>
          <p:cNvCxnSpPr/>
          <p:nvPr/>
        </p:nvCxnSpPr>
        <p:spPr>
          <a:xfrm>
            <a:off x="5967360" y="5140440"/>
            <a:ext cx="567360" cy="521280"/>
          </a:xfrm>
          <a:prstGeom prst="straightConnector1">
            <a:avLst/>
          </a:prstGeom>
          <a:ln w="25560">
            <a:solidFill>
              <a:srgbClr val="4f81bd"/>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2"/>
          <p:cNvSpPr/>
          <p:nvPr/>
        </p:nvSpPr>
        <p:spPr>
          <a:xfrm>
            <a:off x="714240" y="213372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Prestaciones Monetarias</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Descripción programas </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6cb7"/>
                </a:solidFill>
                <a:latin typeface="Verdana"/>
              </a:rPr>
              <a:t>SDM – SUF y SAP</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360" y="247320"/>
            <a:ext cx="67374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Subsidio de Discapacidad Mental</a:t>
            </a:r>
            <a:endParaRPr b="0" lang="en-US" sz="2400" spc="-1" strike="noStrike">
              <a:solidFill>
                <a:srgbClr val="006cb7"/>
              </a:solidFill>
              <a:latin typeface="Verdana"/>
            </a:endParaRPr>
          </a:p>
        </p:txBody>
      </p:sp>
      <p:sp>
        <p:nvSpPr>
          <p:cNvPr id="1427" name="PlaceHolder 2"/>
          <p:cNvSpPr>
            <a:spLocks noGrp="1"/>
          </p:cNvSpPr>
          <p:nvPr>
            <p:ph/>
          </p:nvPr>
        </p:nvSpPr>
        <p:spPr>
          <a:xfrm>
            <a:off x="755640" y="1557360"/>
            <a:ext cx="7416720" cy="4525920"/>
          </a:xfrm>
          <a:prstGeom prst="rect">
            <a:avLst/>
          </a:prstGeom>
          <a:noFill/>
          <a:ln w="0">
            <a:noFill/>
          </a:ln>
        </p:spPr>
        <p:txBody>
          <a:bodyPr anchor="t">
            <a:normAutofit/>
          </a:bodyPr>
          <a:p>
            <a:pPr marL="343080"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3600" spc="-1" strike="noStrike">
                <a:solidFill>
                  <a:srgbClr val="000000"/>
                </a:solidFill>
                <a:latin typeface="Arial Narrow"/>
              </a:rPr>
              <a:t>	</a:t>
            </a:r>
            <a:r>
              <a:rPr b="0" lang="es-ES" sz="2000" spc="-1" strike="noStrike">
                <a:solidFill>
                  <a:srgbClr val="000000"/>
                </a:solidFill>
                <a:latin typeface="Verdana"/>
              </a:rPr>
              <a:t>Es  un subsidio mensual para personas con discapacidad mental menores de 18 años de edad, es un beneficio no contributivo consistente en una prestación pecuniaria mensual de monto igual para todos los beneficiarios. </a:t>
            </a:r>
            <a:endParaRPr b="0" lang="en-US" sz="2000" spc="-1" strike="noStrike">
              <a:solidFill>
                <a:srgbClr val="595959"/>
              </a:solidFill>
              <a:latin typeface="Calibri"/>
            </a:endParaRPr>
          </a:p>
        </p:txBody>
      </p:sp>
      <p:pic>
        <p:nvPicPr>
          <p:cNvPr id="1428" name="Picture 6" descr="HAND55"/>
          <p:cNvPicPr/>
          <p:nvPr/>
        </p:nvPicPr>
        <p:blipFill>
          <a:blip r:embed="rId1"/>
          <a:stretch/>
        </p:blipFill>
        <p:spPr>
          <a:xfrm>
            <a:off x="6227640" y="4724280"/>
            <a:ext cx="1656000" cy="1359000"/>
          </a:xfrm>
          <a:prstGeom prst="rect">
            <a:avLst/>
          </a:prstGeom>
          <a:ln w="0">
            <a:noFill/>
          </a:ln>
        </p:spPr>
      </p:pic>
      <p:pic>
        <p:nvPicPr>
          <p:cNvPr id="1429" name="6 Imagen" descr="Macintosh HD:Users:valeriasoto:gráfica:mds:Logos Ministerio 2.0:logo MDS.png"/>
          <p:cNvPicPr/>
          <p:nvPr/>
        </p:nvPicPr>
        <p:blipFill>
          <a:blip r:embed="rId2"/>
          <a:stretch/>
        </p:blipFill>
        <p:spPr>
          <a:xfrm>
            <a:off x="7610400" y="0"/>
            <a:ext cx="1533600" cy="1390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19:44:20Z</dcterms:created>
  <dc:creator>Executive Director</dc:creator>
  <dc:description/>
  <dc:language>en-US</dc:language>
  <cp:lastModifiedBy>giovanna silva</cp:lastModifiedBy>
  <dcterms:modified xsi:type="dcterms:W3CDTF">2014-06-26T14:16:07Z</dcterms:modified>
  <cp:revision>153</cp:revision>
  <dc:subject/>
  <dc:title>Slide 1</dc:title>
</cp:coreProperties>
</file>