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187617-55D6-4056-8E23-07835841E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F99BDF-042A-456D-B3E0-87CE41C786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63B1708-D638-467B-8C53-4DE0868BDD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E7EA3C-BC3E-4903-A6F6-53A51D5779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585651-6332-4EC8-B985-1A275245247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9739C0-9725-454C-9D8E-9814823579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7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A0BEAF-EBA5-430B-98D8-83B8C7B6C6C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7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B2257C-76A1-4E99-980A-A366FF4D7F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C38F14-FBE0-49A0-8DFE-9C0098E854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8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931D621-859D-4BA4-A2FE-2EC529AED8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9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84A2316-988D-4614-BCAF-B1085CFA2B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921E4C1-55A1-42D5-994A-9BEC8C5B4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7804A-ADC2-49EE-A64C-65B296B621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6"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ABE9AD2-16D8-4C6E-A5F2-FAFAFD1DCC5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08"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B78AC1F-2CBB-416F-9B6C-6C72F185F6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0"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1"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4447B6F-A7AB-40F2-BA85-AD3E9D5F78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1C9424-8B64-44D7-8EDC-A7AD736D2F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C1A3E56-1487-4C7E-AAA2-21F105A7A08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6"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7"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E540153-70BB-469B-B263-BB793FBCC67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1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1"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849A66A-5E4E-4F01-842A-0465DD418A3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5"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7C90E8-697F-41D4-95C9-0BC60F322E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27"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8"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1AC1F8-D3B5-496E-97A7-8AB2870CA2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0"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1"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2"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3"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A181E58-C60D-4EA0-A2EF-273B61B50B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4501A7-D57D-4921-B316-3B44F2F0FE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35"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6"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7"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8"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39"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40"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B5CCA65-DCF9-476F-86CA-4C40ABEB9E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2E9AE8-EEFD-4889-909B-CB2C92219E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F6F45-E65D-484A-A846-778ECC5146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C6931-006A-49D6-90F2-E654886325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610F3-92E9-4631-A626-4438C937A13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4B92F-1F00-4A3B-B92C-99B6140A52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EE1B5-738A-4D8D-881B-2F721458DB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260F7-8F52-4D23-93D2-D78E322BBA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CDC8B-B36D-4292-BEC1-4968AC16F83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CDF09-CBEC-4B51-8265-B5A1E57C5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0F96AB-9B91-4323-A028-4976837325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1218BD-ADE8-4505-A3DB-21A928B02E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2B6FE6-D940-4456-8F90-743FBF72AA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CB4B361-AAE7-4AD1-8B6F-180BEE8264B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1B2524-73A5-4DEA-BA14-3169D8F56B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A45D71-89D3-4C1A-92D5-31067FA815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49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9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AEC8DA-732C-4179-B9FD-2E550E1DF0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6A1DF3F-D832-4E41-96F3-AB2F609C25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EBFB2F3-6D61-455A-8E83-4A5A8CC2E7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B291CF-79B7-475C-9BF8-782BF2F77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0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0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3DD795-D294-4DC2-8846-91EDB303BC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149C7C-4278-4E13-83BE-5FE5D1A7CCD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2DB5A2-156A-441C-B2C1-4B5BB57C22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1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8C60C22-EEBF-4D21-9EC3-28EA46C423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2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38EA7FD-B410-460C-9123-0B50FE44F44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7253395-875A-447D-90DD-3DC511AAC16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3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D3ED84C-45FE-469F-A230-E40E5EF11BB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10095F7-240F-41E5-B73B-1C8F6653C29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D552F8D-46F5-4F03-913A-4F56DCADABB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010D86-FADD-4F76-B2DA-C779767B7B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2"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2CCAAC6-D041-4318-9BD0-BE5AFFCD11F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4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06B9B23-03F7-4E50-B205-3F54BE6FF79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86E8F35-AC22-4033-8B3B-45AF0D590EA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2303A7-C65D-4B80-AB90-E47DAA79B5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5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AE9532-702B-4689-A245-60DC750E8F5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2E17B43-FF44-41B6-8947-91FD259252D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6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6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7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D176FF9-E67A-4A35-A228-289D58B3AB9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6D03A9D-8AA5-4AAB-A84E-BBB4D0B6F9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C3BC126-694F-4832-B7DC-A0CE9D273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812C9D1-B52E-44F2-B87D-E86EB4F4C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4"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86"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87"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16F0AC3-7075-45B0-9167-3B4141A920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0C2E392-1907-43E2-A71E-F0ACE1A19D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4008D5D-8186-4DA3-ACA5-3D6282869D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2"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3"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F72BEB2-DF03-4C64-9D5D-E72D4C2F12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5"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97"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90F850-44A0-4A37-9385-3BCCE79E5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1"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F7BEA6-82D5-42C0-B74E-9723951DD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3"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4"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9A8731-33DF-40DE-8379-5219590610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0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8"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9"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5AEA140-50BF-4D1A-B8AB-D4A32D7D0E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11"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2"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3"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4"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5"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6"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E89B47D-C6EC-437B-ABD5-44B94D651D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5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8C9130-DDC9-417E-A152-1C67390FC5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5"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6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9"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1"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2"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5"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7"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79"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0"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1"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2"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3"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84"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D984C1-5AED-4B6D-8FAE-76D96B4A7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5"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E349C-498E-49E1-9E8F-0CF5B35A1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7"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D4BF3-8FD1-4C00-8583-81075757B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99"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0"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51B237-8771-43C5-BEE3-40F4B98F8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BFE0C-3611-4D4E-ADFB-5E4A543ED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8D6478-F5D8-4363-B216-F6F77D110C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E4223-2CBE-409F-8CBF-43612F6A4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4"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5"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6"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0BE00-4F98-478B-99C7-CD5B60867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0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0"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15FA0-3FBA-480C-9703-2ABB66868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4"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9FE99-54C4-4596-85AB-0712B8FD0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6"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17"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17F40-83D4-47FE-8719-1080D21F3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19"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0"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1"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2"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0D70C-E498-46D0-9EE0-CE64DCCE5B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24"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5"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6"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7"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8"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29"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D9374F-267D-438C-9A25-D6144D747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719452F-63D9-43CE-9E10-B449D03679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D1804E-2A3E-43DB-8B0E-5DEB331E881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6E25F7-37EF-48AA-B76C-B91A90D3C7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3CC70-42A8-46F9-A2A8-76DA0DF24B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1F79A3A-26A5-4C53-ACB6-3E928357F7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A08D4A-688E-45AD-9F08-F5D542F588B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2F753A-CA45-40DE-BF4F-C943BB30348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4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4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D65954-39CC-4AE0-B4AF-8481A03DAE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342CD7-248A-4E52-B920-37890633B0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5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5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A4C0AD-B413-484F-BC66-6190181F0D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C411C11-FE0A-4BDC-98FD-1100D5DB8C7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213A6A0-AA9A-4915-93DE-D9CCDE4B2B5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6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6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7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5AFC6FA-3BF5-4940-AD83-310BD3A2F5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C1617A2-F7D1-4DEB-AFCC-935E118C27E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B6A9F8-F03E-4FD4-A48A-2367DCA8B8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7E28BA0-A0F8-4A9C-A73A-8E2862E0C8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FF6169-38FB-4112-BF51-80CA2810B9A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8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3069EEC-E8E9-4507-ABB0-F2F5EBC022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0B0AA5A-9E04-44D8-B76E-BFC8CD2A816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B706FF-9122-4159-9B24-4C9C0082E0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EEE4AD-4390-480E-A3F1-2216444E51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9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2B3969-DEB6-4531-ACE2-96BC63A2B4A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99FA4CD-869C-4A61-A957-D95F559D5C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FAF2A8-69C3-4E17-A8CA-F9977ED4E02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0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19CFB57-4DCB-4755-BAB4-66D5F5F1E85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28A63-348A-45CE-9AA4-265CC57D48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1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1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03BC4C6-AF86-4766-B16B-08910656E54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C84D8F-6E06-42A4-8D16-991119EE76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9"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F6B97B-6647-4A34-A11C-340C7F7B92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1"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CDA448A-2AE7-481A-B843-F035862C61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3"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823A2F-F7E6-4675-AB54-1BA4C6B9CC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FB4C9D-5328-4E57-B60B-1761ACBFE9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19CDF8C-83DF-4C0A-91E9-3393F11D76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3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2079E40-633C-4D4F-A3E9-A87E07A092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08042AB-229F-4BAC-AC2D-1278B606C8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4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239991-B71B-4AA7-BB4F-7D18BE28AF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1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1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F03FA-4DAC-4D63-9B53-99C1D864BC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0"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1"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8F7BA55-1D8E-480B-AC42-896AF0260B0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4"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6"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7B5FAA0-BA93-495C-B728-F1FDE360C13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58"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59"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0"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1"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2"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63"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6DD259C-AE3E-4E4D-B707-281C79E45B4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EE8D612-7A78-45EC-8FFB-E98A3F512F8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4"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068993D-F586-4E59-A155-4E4CFC71AE8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6"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0EBA571-9FEF-4F40-AD70-0EA892E899E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78"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9"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375CF2-1BE4-4EDD-A1B6-5124ECA620E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6EB9251-AFFA-4D95-A5BB-2D9D6523096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72A74F4-3C2D-4FA1-A18E-A8D8E05ACD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3"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4"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5"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E83CA3-911F-4718-B07A-B18EA573786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4"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A03ACE-D789-4C90-9739-8CD7953786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87"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8"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9"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3555D1-D527-4FE7-8450-71EAEFCA34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1"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3"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995F5C-A67E-49C1-8C12-BDB7215F60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5"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6"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366896A-7B67-43BD-95C7-52BE316743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98"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99"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0"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1"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CA7884B-9CA8-4099-B84C-AAA8316630E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03"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4"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5"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6"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7"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08"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B68BEA9-B604-400F-9962-DC887BE3F55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4D7982-19A5-4A2E-864F-0EF37DB1EE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18"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236F4-35E5-4A16-9CF1-253207B31E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0"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7B377-8DA6-426C-AA7C-008C7C2161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2"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3"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C588F-988F-45F0-937B-D7A23058D4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99F84-5CE8-4846-89DE-172BB383A2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26"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7"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28"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8E7E5-339B-4AC0-898E-558F2C90B4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52280" y="151920"/>
            <a:ext cx="81648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2A9B5F-7950-4D96-9ACE-1F60444012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27"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8" name="PlaceHolder 3"/>
          <p:cNvSpPr>
            <a:spLocks noGrp="1"/>
          </p:cNvSpPr>
          <p:nvPr>
            <p:ph/>
          </p:nvPr>
        </p:nvSpPr>
        <p:spPr>
          <a:xfrm>
            <a:off x="434196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29"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B013F-61DF-4898-9FB1-F23D9CDFC2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1" name="PlaceHolder 2"/>
          <p:cNvSpPr>
            <a:spLocks noGrp="1"/>
          </p:cNvSpPr>
          <p:nvPr>
            <p:ph/>
          </p:nvPr>
        </p:nvSpPr>
        <p:spPr>
          <a:xfrm>
            <a:off x="151920" y="1477440"/>
            <a:ext cx="399024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2"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3" name="PlaceHolder 4"/>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3677A-E291-4E3A-9729-DCBB0E8D45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5"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6"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37" name="PlaceHolder 4"/>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FC17A-C21A-4EEF-9E58-9D2F524FEC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39" name="PlaceHolder 2"/>
          <p:cNvSpPr>
            <a:spLocks noGrp="1"/>
          </p:cNvSpPr>
          <p:nvPr>
            <p:ph/>
          </p:nvPr>
        </p:nvSpPr>
        <p:spPr>
          <a:xfrm>
            <a:off x="151920" y="147744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0" name="PlaceHolder 3"/>
          <p:cNvSpPr>
            <a:spLocks noGrp="1"/>
          </p:cNvSpPr>
          <p:nvPr>
            <p:ph/>
          </p:nvPr>
        </p:nvSpPr>
        <p:spPr>
          <a:xfrm>
            <a:off x="151920" y="3841920"/>
            <a:ext cx="817740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5F809A-C318-4CA4-B5F6-B29873F6DB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2" name="PlaceHolder 2"/>
          <p:cNvSpPr>
            <a:spLocks noGrp="1"/>
          </p:cNvSpPr>
          <p:nvPr>
            <p:ph/>
          </p:nvPr>
        </p:nvSpPr>
        <p:spPr>
          <a:xfrm>
            <a:off x="15192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3" name="PlaceHolder 3"/>
          <p:cNvSpPr>
            <a:spLocks noGrp="1"/>
          </p:cNvSpPr>
          <p:nvPr>
            <p:ph/>
          </p:nvPr>
        </p:nvSpPr>
        <p:spPr>
          <a:xfrm>
            <a:off x="4341960" y="147744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4" name="PlaceHolder 4"/>
          <p:cNvSpPr>
            <a:spLocks noGrp="1"/>
          </p:cNvSpPr>
          <p:nvPr>
            <p:ph/>
          </p:nvPr>
        </p:nvSpPr>
        <p:spPr>
          <a:xfrm>
            <a:off x="15192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5" name="PlaceHolder 5"/>
          <p:cNvSpPr>
            <a:spLocks noGrp="1"/>
          </p:cNvSpPr>
          <p:nvPr>
            <p:ph/>
          </p:nvPr>
        </p:nvSpPr>
        <p:spPr>
          <a:xfrm>
            <a:off x="4341960" y="3841920"/>
            <a:ext cx="39902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DAB5D4-4EAB-4B2F-A043-A4FADEA702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47" name="PlaceHolder 2"/>
          <p:cNvSpPr>
            <a:spLocks noGrp="1"/>
          </p:cNvSpPr>
          <p:nvPr>
            <p:ph/>
          </p:nvPr>
        </p:nvSpPr>
        <p:spPr>
          <a:xfrm>
            <a:off x="15192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8" name="PlaceHolder 3"/>
          <p:cNvSpPr>
            <a:spLocks noGrp="1"/>
          </p:cNvSpPr>
          <p:nvPr>
            <p:ph/>
          </p:nvPr>
        </p:nvSpPr>
        <p:spPr>
          <a:xfrm>
            <a:off x="291708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49" name="PlaceHolder 4"/>
          <p:cNvSpPr>
            <a:spLocks noGrp="1"/>
          </p:cNvSpPr>
          <p:nvPr>
            <p:ph/>
          </p:nvPr>
        </p:nvSpPr>
        <p:spPr>
          <a:xfrm>
            <a:off x="5682240" y="147744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0" name="PlaceHolder 5"/>
          <p:cNvSpPr>
            <a:spLocks noGrp="1"/>
          </p:cNvSpPr>
          <p:nvPr>
            <p:ph/>
          </p:nvPr>
        </p:nvSpPr>
        <p:spPr>
          <a:xfrm>
            <a:off x="15192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1" name="PlaceHolder 6"/>
          <p:cNvSpPr>
            <a:spLocks noGrp="1"/>
          </p:cNvSpPr>
          <p:nvPr>
            <p:ph/>
          </p:nvPr>
        </p:nvSpPr>
        <p:spPr>
          <a:xfrm>
            <a:off x="291708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352" name="PlaceHolder 7"/>
          <p:cNvSpPr>
            <a:spLocks noGrp="1"/>
          </p:cNvSpPr>
          <p:nvPr>
            <p:ph/>
          </p:nvPr>
        </p:nvSpPr>
        <p:spPr>
          <a:xfrm>
            <a:off x="5682240" y="3841920"/>
            <a:ext cx="2633040" cy="2158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BE04D7-A357-40D7-B15D-F04607971F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24F788C-E2F3-46BB-A132-4FFAD172AFF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2" name="PlaceHolder 2"/>
          <p:cNvSpPr>
            <a:spLocks noGrp="1"/>
          </p:cNvSpPr>
          <p:nvPr>
            <p:ph type="subTitle"/>
          </p:nvPr>
        </p:nvSpPr>
        <p:spPr>
          <a:xfrm>
            <a:off x="151920" y="1477440"/>
            <a:ext cx="8177400" cy="452628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125727-3D31-4B7D-9974-914A8F0945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6cb7"/>
              </a:solidFill>
              <a:latin typeface="Verdana"/>
            </a:endParaRPr>
          </a:p>
        </p:txBody>
      </p:sp>
      <p:sp>
        <p:nvSpPr>
          <p:cNvPr id="364" name="PlaceHolder 2"/>
          <p:cNvSpPr>
            <a:spLocks noGrp="1"/>
          </p:cNvSpPr>
          <p:nvPr>
            <p:ph/>
          </p:nvPr>
        </p:nvSpPr>
        <p:spPr>
          <a:xfrm>
            <a:off x="151920" y="1477440"/>
            <a:ext cx="8177400" cy="452628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157A28-2D5B-4297-ABA6-CED15685F3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EFF8F-24D7-46CA-86C6-E3C8C178B90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0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03" name="PlaceHolder 3"/>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4"/>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19C0F-E05D-4C14-AC57-0A6206F385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47" name="PlaceHolder 3"/>
          <p:cNvSpPr>
            <a:spLocks noGrp="1"/>
          </p:cNvSpPr>
          <p:nvPr>
            <p:ph type="ftr" idx="2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PlaceHolder 4"/>
          <p:cNvSpPr>
            <a:spLocks noGrp="1"/>
          </p:cNvSpPr>
          <p:nvPr>
            <p:ph type="sldNum" idx="2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226C5-A6C2-419D-BB58-6AFDC556F7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491" name="PlaceHolder 3"/>
          <p:cNvSpPr>
            <a:spLocks noGrp="1"/>
          </p:cNvSpPr>
          <p:nvPr>
            <p:ph type="ftr" idx="2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PlaceHolder 4"/>
          <p:cNvSpPr>
            <a:spLocks noGrp="1"/>
          </p:cNvSpPr>
          <p:nvPr>
            <p:ph type="sldNum" idx="2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E60A3-B2A0-43C8-90A6-32E8B7E2BEA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3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535" name="PlaceHolder 3"/>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PlaceHolder 4"/>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613A7-A687-47D8-A7CC-3D74743163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6" name="Picture 15" descr="LOGOTIPO"/>
          <p:cNvPicPr/>
          <p:nvPr/>
        </p:nvPicPr>
        <p:blipFill>
          <a:blip r:embed="rId2"/>
          <a:stretch/>
        </p:blipFill>
        <p:spPr>
          <a:xfrm>
            <a:off x="7153200" y="2525760"/>
            <a:ext cx="1990800" cy="1806480"/>
          </a:xfrm>
          <a:prstGeom prst="rect">
            <a:avLst/>
          </a:prstGeom>
          <a:ln w="0">
            <a:noFill/>
          </a:ln>
        </p:spPr>
      </p:pic>
      <p:sp>
        <p:nvSpPr>
          <p:cNvPr id="57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578"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2E51C-74BC-4D6A-A5C1-220B967BF5C7}" type="datetime">
              <a:rPr b="0" lang="en-US" sz="2400" spc="-1" strike="noStrike">
                <a:solidFill>
                  <a:srgbClr val="000000"/>
                </a:solidFill>
                <a:latin typeface="Verdana"/>
              </a:rPr>
              <a:t>07/29/26</a:t>
            </a:fld>
            <a:endParaRPr b="0" lang="en-US" sz="2400" spc="-1" strike="noStrike">
              <a:solidFill>
                <a:srgbClr val="000000"/>
              </a:solidFill>
              <a:latin typeface="Times New Roman"/>
            </a:endParaRPr>
          </a:p>
        </p:txBody>
      </p:sp>
      <p:sp>
        <p:nvSpPr>
          <p:cNvPr id="579"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9D97B-573F-4644-91E8-EA13424B6AD9}" type="slidenum">
              <a:rPr b="0"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3"/>
          <p:cNvSpPr/>
          <p:nvPr/>
        </p:nvSpPr>
        <p:spPr>
          <a:xfrm>
            <a:off x="7153200" y="0"/>
            <a:ext cx="199080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680" y="0"/>
            <a:ext cx="714852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48" name="Picture 12" descr="LOGOTIPO"/>
          <p:cNvPicPr/>
          <p:nvPr/>
        </p:nvPicPr>
        <p:blipFill>
          <a:blip r:embed="rId2"/>
          <a:stretch/>
        </p:blipFill>
        <p:spPr>
          <a:xfrm>
            <a:off x="7153200" y="2525760"/>
            <a:ext cx="1990800" cy="18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91"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6B8E9-ADA8-47D6-8D0D-57FDAF4B209C}" type="datetime">
              <a:rPr b="0" lang="en-US" sz="2400" spc="-1" strike="noStrike">
                <a:solidFill>
                  <a:srgbClr val="000000"/>
                </a:solidFill>
                <a:latin typeface="Verdana"/>
              </a:rPr>
              <a:t>07/29/26</a:t>
            </a:fld>
            <a:endParaRPr b="0" lang="en-US" sz="2400" spc="-1" strike="noStrike">
              <a:solidFill>
                <a:srgbClr val="000000"/>
              </a:solidFill>
              <a:latin typeface="Times New Roman"/>
            </a:endParaRPr>
          </a:p>
        </p:txBody>
      </p:sp>
      <p:sp>
        <p:nvSpPr>
          <p:cNvPr id="92" name="PlaceHolder 4"/>
          <p:cNvSpPr>
            <a:spLocks noGrp="1"/>
          </p:cNvSpPr>
          <p:nvPr>
            <p:ph type="ftr" idx="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B485D-550D-436B-B568-0DA88BCB76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35"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36" name="PlaceHolder 3"/>
          <p:cNvSpPr>
            <a:spLocks noGrp="1"/>
          </p:cNvSpPr>
          <p:nvPr>
            <p:ph type="ftr" idx="6"/>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Ministerio del Interior</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137" name="PlaceHolder 4"/>
          <p:cNvSpPr>
            <a:spLocks noGrp="1"/>
          </p:cNvSpPr>
          <p:nvPr>
            <p:ph type="sldNum" idx="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07389-34C2-4540-B4C3-FED1645A51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17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180"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B3A17-BAC4-41B5-B295-CE51DE7D5AD9}" type="datetime">
              <a:rPr b="0" lang="en-US" sz="2400" spc="-1" strike="noStrike">
                <a:solidFill>
                  <a:srgbClr val="000000"/>
                </a:solidFill>
                <a:latin typeface="Verdana"/>
              </a:rPr>
              <a:t>07/29/26</a:t>
            </a:fld>
            <a:endParaRPr b="0" lang="en-US" sz="2400" spc="-1" strike="noStrike">
              <a:solidFill>
                <a:srgbClr val="000000"/>
              </a:solidFill>
              <a:latin typeface="Times New Roman"/>
            </a:endParaRPr>
          </a:p>
        </p:txBody>
      </p:sp>
      <p:sp>
        <p:nvSpPr>
          <p:cNvPr id="181" name="PlaceHolder 4"/>
          <p:cNvSpPr>
            <a:spLocks noGrp="1"/>
          </p:cNvSpPr>
          <p:nvPr>
            <p:ph type="ftr" idx="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737D6-19FD-4F27-BF7E-AE7BB84992B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2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2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59C3D-DF88-4EB7-9079-7BD5FC9A54D0}" type="datetime">
              <a:rPr b="0" lang="en-US" sz="2400" spc="-1" strike="noStrike">
                <a:solidFill>
                  <a:srgbClr val="000000"/>
                </a:solidFill>
                <a:latin typeface="Verdana"/>
              </a:rPr>
              <a:t>07/29/26</a:t>
            </a:fld>
            <a:endParaRPr b="0" lang="en-US" sz="2400" spc="-1" strike="noStrike">
              <a:solidFill>
                <a:srgbClr val="000000"/>
              </a:solidFill>
              <a:latin typeface="Times New Roman"/>
            </a:endParaRPr>
          </a:p>
        </p:txBody>
      </p:sp>
      <p:sp>
        <p:nvSpPr>
          <p:cNvPr id="226" name="PlaceHolder 4"/>
          <p:cNvSpPr>
            <a:spLocks noGrp="1"/>
          </p:cNvSpPr>
          <p:nvPr>
            <p:ph type="ftr" idx="12"/>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3"/>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D97A6-24D0-4BF5-AB7E-DE67FE6D9C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269"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270"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686F3-DD95-4BF6-BF75-BD5358306A78}" type="datetime">
              <a:rPr b="0" lang="en-US" sz="2400" spc="-1" strike="noStrike">
                <a:solidFill>
                  <a:srgbClr val="000000"/>
                </a:solidFill>
                <a:latin typeface="Verdana"/>
              </a:rPr>
              <a:t>07/29/26</a:t>
            </a:fld>
            <a:endParaRPr b="0" lang="en-US" sz="2400" spc="-1" strike="noStrike">
              <a:solidFill>
                <a:srgbClr val="000000"/>
              </a:solidFill>
              <a:latin typeface="Times New Roman"/>
            </a:endParaRPr>
          </a:p>
        </p:txBody>
      </p:sp>
      <p:sp>
        <p:nvSpPr>
          <p:cNvPr id="271" name="PlaceHolder 4"/>
          <p:cNvSpPr>
            <a:spLocks noGrp="1"/>
          </p:cNvSpPr>
          <p:nvPr>
            <p:ph type="ftr" idx="1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PlaceHolder 5"/>
          <p:cNvSpPr>
            <a:spLocks noGrp="1"/>
          </p:cNvSpPr>
          <p:nvPr>
            <p:ph type="sldNum" idx="1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E82BB-5EC9-4532-9130-7CFF9DF4C7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1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15" name="PlaceHolder 3"/>
          <p:cNvSpPr>
            <a:spLocks noGrp="1"/>
          </p:cNvSpPr>
          <p:nvPr>
            <p:ph type="ftr" idx="1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4"/>
          <p:cNvSpPr>
            <a:spLocks noGrp="1"/>
          </p:cNvSpPr>
          <p:nvPr>
            <p:ph type="sldNum" idx="1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E80FB-22AC-4807-96BA-77208791DA2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5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Click to edit the outline text format</a:t>
            </a:r>
            <a:endParaRPr b="0" lang="en-US" sz="2000" spc="-1" strike="noStrike">
              <a:solidFill>
                <a:srgbClr val="595959"/>
              </a:solidFill>
              <a:latin typeface="Verdana"/>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cond Outline Level</a:t>
            </a:r>
            <a:endParaRPr b="0" lang="en-US" sz="2000" spc="-1" strike="noStrike">
              <a:solidFill>
                <a:srgbClr val="595959"/>
              </a:solidFill>
              <a:latin typeface="Verdana"/>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Third Outline Level</a:t>
            </a:r>
            <a:endParaRPr b="0" lang="en-US" sz="2000" spc="-1" strike="noStrike">
              <a:solidFill>
                <a:srgbClr val="595959"/>
              </a:solidFill>
              <a:latin typeface="Verdana"/>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ourth Outline Level</a:t>
            </a:r>
            <a:endParaRPr b="0" lang="en-US" sz="2000" spc="-1" strike="noStrike">
              <a:solidFill>
                <a:srgbClr val="595959"/>
              </a:solidFill>
              <a:latin typeface="Verdana"/>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Fifth Outline Level</a:t>
            </a:r>
            <a:endParaRPr b="0" lang="en-US" sz="2000" spc="-1" strike="noStrike">
              <a:solidFill>
                <a:srgbClr val="595959"/>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ixth Outline Level</a:t>
            </a:r>
            <a:endParaRPr b="0" lang="en-US" sz="2000" spc="-1" strike="noStrike">
              <a:solidFill>
                <a:srgbClr val="595959"/>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Verdana"/>
              </a:rPr>
              <a:t>Seventh Outline Level</a:t>
            </a:r>
            <a:endParaRPr b="0" lang="en-US" sz="2000" spc="-1" strike="noStrike">
              <a:solidFill>
                <a:srgbClr val="595959"/>
              </a:solidFill>
              <a:latin typeface="Verdana"/>
            </a:endParaRPr>
          </a:p>
        </p:txBody>
      </p:sp>
      <p:sp>
        <p:nvSpPr>
          <p:cNvPr id="359" name="PlaceHolder 3"/>
          <p:cNvSpPr>
            <a:spLocks noGrp="1"/>
          </p:cNvSpPr>
          <p:nvPr>
            <p:ph type="ftr" idx="1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PlaceHolder 4"/>
          <p:cNvSpPr>
            <a:spLocks noGrp="1"/>
          </p:cNvSpPr>
          <p:nvPr>
            <p:ph type="sldNum" idx="2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44D93-BD36-4B9A-B498-21F5CBD9DF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programapuente.cl/" TargetMode="External"/><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98600" y="1477440"/>
            <a:ext cx="8177040" cy="452628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95959"/>
              </a:solidFill>
              <a:latin typeface="Verdana"/>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1f497d"/>
                </a:solidFill>
                <a:latin typeface="Verdana"/>
              </a:rPr>
              <a:t>Sistema de Registro y Monitoreo - Tecnologías al servicio de la Política Pública</a:t>
            </a:r>
            <a:endParaRPr b="0" lang="en-US" sz="28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Verdana"/>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600" spc="-1" strike="noStrike">
                <a:solidFill>
                  <a:srgbClr val="1f497d"/>
                </a:solidFill>
                <a:latin typeface="Verdana"/>
              </a:rPr>
              <a:t>PROGRAMA PUENTE</a:t>
            </a:r>
            <a:br>
              <a:rPr sz="1600"/>
            </a:br>
            <a:r>
              <a:rPr b="1" lang="es-ES" sz="1600" spc="-1" strike="noStrike">
                <a:solidFill>
                  <a:srgbClr val="1f497d"/>
                </a:solidFill>
                <a:latin typeface="Verdana"/>
              </a:rPr>
              <a:t>Entre la familia y sus derechos</a:t>
            </a:r>
            <a:endParaRPr b="0" lang="en-US" sz="1600" spc="-1" strike="noStrike">
              <a:solidFill>
                <a:srgbClr val="595959"/>
              </a:solidFill>
              <a:latin typeface="Verdana"/>
            </a:endParaRPr>
          </a:p>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Verdana"/>
            </a:endParaRPr>
          </a:p>
          <a:p>
            <a:pPr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1f497d"/>
                </a:solidFill>
                <a:latin typeface="Calibri"/>
              </a:rPr>
              <a:t>Apoyo Psicosocial a familias del Subsistema Chile Solidario del Sistema Intersectorial de Protección Social</a:t>
            </a:r>
            <a:endParaRPr b="0" lang="en-US" sz="2400" spc="-1" strike="noStrike">
              <a:solidFill>
                <a:srgbClr val="595959"/>
              </a:solidFill>
              <a:latin typeface="Verdana"/>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595959"/>
              </a:solidFill>
              <a:latin typeface="Verdana"/>
            </a:endParaRPr>
          </a:p>
        </p:txBody>
      </p:sp>
      <p:pic>
        <p:nvPicPr>
          <p:cNvPr id="618" name="Picture 2" descr=""/>
          <p:cNvPicPr/>
          <p:nvPr/>
        </p:nvPicPr>
        <p:blipFill>
          <a:blip r:embed="rId1"/>
          <a:stretch/>
        </p:blipFill>
        <p:spPr>
          <a:xfrm>
            <a:off x="0" y="0"/>
            <a:ext cx="1619280" cy="14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1920" y="151920"/>
            <a:ext cx="8380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3. Activar el Bono de Protección: </a:t>
            </a:r>
            <a:r>
              <a:rPr b="0" lang="es-ES" sz="2400" spc="-1" strike="noStrike">
                <a:solidFill>
                  <a:srgbClr val="006cb7"/>
                </a:solidFill>
                <a:latin typeface="Verdana"/>
              </a:rPr>
              <a:t>Monitoreo del Bono de Protección</a:t>
            </a:r>
            <a:endParaRPr b="0" lang="en-US" sz="2400" spc="-1" strike="noStrike">
              <a:solidFill>
                <a:srgbClr val="006cb7"/>
              </a:solidFill>
              <a:latin typeface="Verdana"/>
            </a:endParaRPr>
          </a:p>
        </p:txBody>
      </p:sp>
      <p:pic>
        <p:nvPicPr>
          <p:cNvPr id="639" name="" descr=""/>
          <p:cNvPicPr/>
          <p:nvPr/>
        </p:nvPicPr>
        <p:blipFill>
          <a:blip r:embed="rId1"/>
          <a:stretch/>
        </p:blipFill>
        <p:spPr>
          <a:xfrm>
            <a:off x="151920" y="1477440"/>
            <a:ext cx="8177400" cy="4526280"/>
          </a:xfrm>
          <a:prstGeom prst="rect">
            <a:avLst/>
          </a:prstGeom>
          <a:ln w="0">
            <a:noFill/>
          </a:ln>
        </p:spPr>
      </p:pic>
      <p:pic>
        <p:nvPicPr>
          <p:cNvPr id="640" name="Picture 6" descr=""/>
          <p:cNvPicPr/>
          <p:nvPr/>
        </p:nvPicPr>
        <p:blipFill>
          <a:blip r:embed="rId2"/>
          <a:stretch/>
        </p:blipFill>
        <p:spPr>
          <a:xfrm>
            <a:off x="181080" y="1209600"/>
            <a:ext cx="8781840" cy="488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4.-</a:t>
            </a:r>
            <a:r>
              <a:rPr b="1" lang="es-CL" sz="2400" spc="-1" strike="noStrike">
                <a:solidFill>
                  <a:srgbClr val="006cb7"/>
                </a:solidFill>
                <a:latin typeface="Verdana"/>
              </a:rPr>
              <a:t>Facilitar el monitoreo</a:t>
            </a:r>
            <a:endParaRPr b="0" lang="en-US" sz="2400" spc="-1" strike="noStrike">
              <a:solidFill>
                <a:srgbClr val="006cb7"/>
              </a:solidFill>
              <a:latin typeface="Verdana"/>
            </a:endParaRPr>
          </a:p>
        </p:txBody>
      </p:sp>
      <p:sp>
        <p:nvSpPr>
          <p:cNvPr id="64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poyos Familiares pueden visualizar el avance con cad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sistema posee indicadores de gestión que le indican el estado de avance con cada familia en distintos ámbitos d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supervisores pueden visualizar la gestión por Apoyo Familiar y por comun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posible identificar las debilidades y fortaleza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4.-Monitoreo de sesiones de un AF</a:t>
            </a:r>
            <a:endParaRPr b="0" lang="en-US" sz="2400" spc="-1" strike="noStrike">
              <a:solidFill>
                <a:srgbClr val="006cb7"/>
              </a:solidFill>
              <a:latin typeface="Verdana"/>
            </a:endParaRPr>
          </a:p>
        </p:txBody>
      </p:sp>
      <p:pic>
        <p:nvPicPr>
          <p:cNvPr id="644"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5.- Guiar la supervisión</a:t>
            </a:r>
            <a:endParaRPr b="0" lang="en-US" sz="2400" spc="-1" strike="noStrike">
              <a:solidFill>
                <a:srgbClr val="006cb7"/>
              </a:solidFill>
              <a:latin typeface="Verdana"/>
            </a:endParaRPr>
          </a:p>
        </p:txBody>
      </p:sp>
      <p:sp>
        <p:nvSpPr>
          <p:cNvPr id="646"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la visualización de información los supervisores pueden dirigir la supervisión de carpetas familiar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uiar o dirigir las visitas a terreno.</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alizar una supervisión cruzada entre el sistema de registro, el registro de las carpetas y el reporte de la familia.</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6.-Proveer información social</a:t>
            </a:r>
            <a:endParaRPr b="0" lang="en-US" sz="2400" spc="-1" strike="noStrike">
              <a:solidFill>
                <a:srgbClr val="006cb7"/>
              </a:solidFill>
              <a:latin typeface="Verdana"/>
            </a:endParaRPr>
          </a:p>
        </p:txBody>
      </p:sp>
      <p:sp>
        <p:nvSpPr>
          <p:cNvPr id="648"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familias y person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beneficiarios de bono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Genera bases de datos de condiciones mínimas cumplida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 partir de esta información es posible hacer análisis de información, monitoreo y detectar necesidades y requerimientos de las familias.</a:t>
            </a:r>
            <a:endParaRPr b="0" lang="en-US" sz="2000" spc="-1" strike="noStrike">
              <a:solidFill>
                <a:srgbClr val="595959"/>
              </a:solidFill>
              <a:latin typeface="Verdana"/>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e entregan datos por comuna, región y paí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7.- Facilitar el Monitoreo de las metas programáticas</a:t>
            </a:r>
            <a:endParaRPr b="0" lang="en-US" sz="2400" spc="-1" strike="noStrike">
              <a:solidFill>
                <a:srgbClr val="006cb7"/>
              </a:solidFill>
              <a:latin typeface="Verdana"/>
            </a:endParaRPr>
          </a:p>
        </p:txBody>
      </p:sp>
      <p:sp>
        <p:nvSpPr>
          <p:cNvPr id="650" name="PlaceHolder 2"/>
          <p:cNvSpPr>
            <a:spLocks noGrp="1"/>
          </p:cNvSpPr>
          <p:nvPr>
            <p:ph/>
          </p:nvPr>
        </p:nvSpPr>
        <p:spPr>
          <a:xfrm>
            <a:off x="152280" y="1477440"/>
            <a:ext cx="8452080" cy="4526280"/>
          </a:xfrm>
          <a:prstGeom prst="rect">
            <a:avLst/>
          </a:prstGeom>
          <a:noFill/>
          <a:ln w="0">
            <a:noFill/>
          </a:ln>
        </p:spPr>
        <p:txBody>
          <a:bodyPr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ctualiza automáticamente el registro de familia a nivel país, región y comun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metas asociadas al cumplimiento de las condiciones mínimas de calidad de vida.</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lcular indicadores de procesos de la interven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8.- Coordinar  un sistema de formación</a:t>
            </a:r>
            <a:endParaRPr b="0" lang="en-US" sz="2400" spc="-1" strike="noStrike">
              <a:solidFill>
                <a:srgbClr val="006cb7"/>
              </a:solidFill>
              <a:latin typeface="Verdana"/>
            </a:endParaRPr>
          </a:p>
        </p:txBody>
      </p:sp>
      <p:sp>
        <p:nvSpPr>
          <p:cNvPr id="65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llevar a cabo un sistema de formación para los apoyos familiares, registrando cursos y participante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subir documentación relevante para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Hoy la Formación se lleva a cabo a través de otro sistema llamado moodle</a:t>
            </a:r>
            <a:endParaRPr b="0" lang="en-US" sz="2000" spc="-1" strike="noStrike">
              <a:solidFill>
                <a:srgbClr val="595959"/>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8.- Coordinar  un sistema de formación</a:t>
            </a:r>
            <a:endParaRPr b="0" lang="en-US" sz="2400" spc="-1" strike="noStrike">
              <a:solidFill>
                <a:srgbClr val="006cb7"/>
              </a:solidFill>
              <a:latin typeface="Verdana"/>
            </a:endParaRPr>
          </a:p>
        </p:txBody>
      </p:sp>
      <p:pic>
        <p:nvPicPr>
          <p:cNvPr id="654" name="Picture 3"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66320" y="151920"/>
            <a:ext cx="81644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sp>
        <p:nvSpPr>
          <p:cNvPr id="656" name=""/>
          <p:cNvSpPr txBox="1"/>
          <p:nvPr/>
        </p:nvSpPr>
        <p:spPr>
          <a:xfrm>
            <a:off x="152280" y="1477440"/>
            <a:ext cx="87408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 sistema de evaluación en el SRM</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Los AF se autoevalúa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iste una evaluación del propio SRM en base a indicadores duros de gest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el ingreso de evaluación del Jefe de Unidad de intervención.</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Actualmente la Evaluación de desempeño se lleva a cabo a través de un sistema específico</a:t>
            </a: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70c0"/>
                </a:solidFill>
                <a:latin typeface="Verdana"/>
              </a:rPr>
              <a:t>9.- Evaluar el desempeño laboral de los AF</a:t>
            </a:r>
            <a:endParaRPr b="0" lang="en-US" sz="2400" spc="-1" strike="noStrike">
              <a:solidFill>
                <a:srgbClr val="006cb7"/>
              </a:solidFill>
              <a:latin typeface="Verdana"/>
            </a:endParaRPr>
          </a:p>
        </p:txBody>
      </p:sp>
      <p:pic>
        <p:nvPicPr>
          <p:cNvPr id="658" name="Picture 2" descr=""/>
          <p:cNvPicPr/>
          <p:nvPr/>
        </p:nvPicPr>
        <p:blipFill>
          <a:blip r:embed="rId1"/>
          <a:stretch/>
        </p:blipFill>
        <p:spPr>
          <a:xfrm>
            <a:off x="233280" y="1477800"/>
            <a:ext cx="8015400" cy="452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Sistema de Registro  y Monitoreo (SRM)</a:t>
            </a:r>
            <a:endParaRPr b="0" lang="en-US" sz="2400" spc="-1" strike="noStrike">
              <a:solidFill>
                <a:srgbClr val="006cb7"/>
              </a:solidFill>
              <a:latin typeface="Verdana"/>
            </a:endParaRPr>
          </a:p>
        </p:txBody>
      </p:sp>
      <p:sp>
        <p:nvSpPr>
          <p:cNvPr id="620" name="PlaceHolder 2"/>
          <p:cNvSpPr>
            <a:spLocks noGrp="1"/>
          </p:cNvSpPr>
          <p:nvPr>
            <p:ph/>
          </p:nvPr>
        </p:nvSpPr>
        <p:spPr>
          <a:xfrm>
            <a:off x="152280" y="1477440"/>
            <a:ext cx="8452080" cy="4975560"/>
          </a:xfrm>
          <a:prstGeom prst="rect">
            <a:avLst/>
          </a:prstGeom>
          <a:noFill/>
          <a:ln w="0">
            <a:noFill/>
          </a:ln>
        </p:spPr>
        <p:txBody>
          <a:bodyPr anchor="t">
            <a:normAutofit/>
          </a:bodyPr>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Programa cuenta desde el 2002 con un Sistema de Registro y Monitoreo del Programa.</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sistema tiene distintos usuarios y funciones diferenciadas para cada usuario: </a:t>
            </a:r>
            <a:endParaRPr b="0" lang="en-US" sz="2000" spc="-1" strike="noStrike">
              <a:solidFill>
                <a:srgbClr val="595959"/>
              </a:solidFill>
              <a:latin typeface="Verdana"/>
            </a:endParaRPr>
          </a:p>
          <a:p>
            <a:pPr marL="343080" indent="-343080" algn="just">
              <a:lnSpc>
                <a:spcPct val="90000"/>
              </a:lnSpc>
              <a:spcBef>
                <a:spcPts val="499"/>
              </a:spcBef>
              <a:buClr>
                <a:srgbClr val="00206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060"/>
                </a:solidFill>
                <a:latin typeface="Verdana"/>
              </a:rPr>
              <a:t>Apoyo Familiar</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Jefe de Unidad de Intervención</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regionales </a:t>
            </a: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upervisores nacionales.</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 un sistema de gestión interna y se encuentra en </a:t>
            </a:r>
            <a:r>
              <a:rPr b="0" lang="es-ES" sz="2000" spc="-1" strike="noStrike" u="sng">
                <a:solidFill>
                  <a:srgbClr val="0000ff"/>
                </a:solidFill>
                <a:uFillTx/>
                <a:latin typeface="Verdana"/>
                <a:hlinkClick r:id="rId1"/>
              </a:rPr>
              <a:t>www.programapuente.cl</a:t>
            </a:r>
            <a:r>
              <a:rPr b="0" lang="es-ES" sz="2000" spc="-1" strike="noStrike">
                <a:solidFill>
                  <a:srgbClr val="595959"/>
                </a:solidFill>
                <a:latin typeface="Verdana"/>
              </a:rPr>
              <a:t> </a:t>
            </a:r>
            <a:endParaRPr b="0" lang="en-US" sz="2000" spc="-1" strike="noStrike">
              <a:solidFill>
                <a:srgbClr val="595959"/>
              </a:solidFill>
              <a:latin typeface="Verdana"/>
            </a:endParaRPr>
          </a:p>
          <a:p>
            <a:pPr marL="34308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lnSpc>
                <a:spcPct val="9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l inicio contaba con herramientas básicas de registro.  A través de los años se han ido incorporando nuevas herramientas.</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10.-Coordinar información con otros sistemas</a:t>
            </a:r>
            <a:endParaRPr b="0" lang="en-US" sz="2400" spc="-1" strike="noStrike">
              <a:solidFill>
                <a:srgbClr val="006cb7"/>
              </a:solidFill>
              <a:latin typeface="Verdana"/>
            </a:endParaRPr>
          </a:p>
        </p:txBody>
      </p:sp>
      <p:sp>
        <p:nvSpPr>
          <p:cNvPr id="660"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Ficha de Protección social, lo que permite tener información actualizada de la familia en términos de composición familiar, puntaje, jefatura de hogar.</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trae información de la BBDD de Ficha de Protección Social, que permite la verificación de información de identificación de las familias en términos del nombre, fecha de nacimiento, estado vital (si la persona está viva o falleció), y número de identific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10.- Coordinar información con otros sistemas</a:t>
            </a:r>
            <a:endParaRPr b="0" lang="en-US" sz="2400" spc="-1" strike="noStrike">
              <a:solidFill>
                <a:srgbClr val="006cb7"/>
              </a:solidFill>
              <a:latin typeface="Verdana"/>
            </a:endParaRPr>
          </a:p>
        </p:txBody>
      </p:sp>
      <p:sp>
        <p:nvSpPr>
          <p:cNvPr id="662"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595959"/>
                </a:solidFill>
                <a:latin typeface="Verdana"/>
              </a:rPr>
              <a:t>Interacción con otros sistemas informáticos:</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xporta información mensual de los participantes al Sistema Integrado de Información Social (SIIS) del Sistema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ste último sistema, provee información al resto de los servicios y  actores del Sistema de Protección Social.</a:t>
            </a:r>
            <a:endParaRPr b="0" lang="en-US" sz="2000" spc="-1" strike="noStrike">
              <a:solidFill>
                <a:srgbClr val="595959"/>
              </a:solidFill>
              <a:latin typeface="Verdana"/>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Síntesis</a:t>
            </a:r>
            <a:endParaRPr b="0" lang="en-US" sz="2400" spc="-1" strike="noStrike">
              <a:solidFill>
                <a:srgbClr val="006cb7"/>
              </a:solidFill>
              <a:latin typeface="Verdana"/>
            </a:endParaRPr>
          </a:p>
        </p:txBody>
      </p:sp>
      <p:sp>
        <p:nvSpPr>
          <p:cNvPr id="664"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n síntesis los sistemas de registro le dan valor y eficiencia a la gestión de política social de los gobiernos.</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un lado proveen información para la gestión y por otro lado los sistemas permiten  hacer gestión de la información. Esto último permite contar con bases de datos que facilitan procesos de evaluación ex post.</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Por otro lado, contribuye al Gobierno, y en especial al Ministerio de Desarrollo Social, a unificar información de usuarios/as, evitando la incesante solicitud de información a la que se someten las personas cuando requieren apoyo del Estado.</a:t>
            </a:r>
            <a:endParaRPr b="0" lang="en-US" sz="1800" spc="-1" strike="noStrike">
              <a:solidFill>
                <a:srgbClr val="595959"/>
              </a:solidFill>
              <a:latin typeface="Verdana"/>
            </a:endParaRPr>
          </a:p>
          <a:p>
            <a:pPr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lnSpc>
                <a:spcPct val="90000"/>
              </a:lnSpc>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s herramientas tecnológicas se ponen al servicio de la superación de la vulnerabilidad y la pobreza.</a:t>
            </a: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70c0"/>
                </a:solidFill>
                <a:latin typeface="Verdana"/>
              </a:rPr>
              <a:t>Sistema de Registro y Monitoreo (SRM)</a:t>
            </a:r>
            <a:endParaRPr b="0" lang="en-US" sz="2400" spc="-1" strike="noStrike">
              <a:solidFill>
                <a:srgbClr val="006cb7"/>
              </a:solidFill>
              <a:latin typeface="Verdana"/>
            </a:endParaRPr>
          </a:p>
        </p:txBody>
      </p:sp>
      <p:sp>
        <p:nvSpPr>
          <p:cNvPr id="622" name="PlaceHolder 2"/>
          <p:cNvSpPr>
            <a:spLocks noGrp="1"/>
          </p:cNvSpPr>
          <p:nvPr>
            <p:ph/>
          </p:nvPr>
        </p:nvSpPr>
        <p:spPr>
          <a:xfrm>
            <a:off x="151920" y="895320"/>
            <a:ext cx="8177400" cy="79848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stema en línea que tiene el objetivo de registrar información y facilitar el monitoreo de la intervención</a:t>
            </a:r>
            <a:endParaRPr b="0" lang="en-US" sz="2000" spc="-1" strike="noStrike">
              <a:solidFill>
                <a:srgbClr val="595959"/>
              </a:solidFill>
              <a:latin typeface="Verdana"/>
            </a:endParaRPr>
          </a:p>
        </p:txBody>
      </p:sp>
      <p:pic>
        <p:nvPicPr>
          <p:cNvPr id="623" name="Picture 4" descr=""/>
          <p:cNvPicPr/>
          <p:nvPr/>
        </p:nvPicPr>
        <p:blipFill>
          <a:blip r:embed="rId1"/>
          <a:stretch/>
        </p:blipFill>
        <p:spPr>
          <a:xfrm>
            <a:off x="539640" y="1693800"/>
            <a:ext cx="7417080" cy="470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CL" sz="2400" spc="-1" strike="noStrike">
                <a:solidFill>
                  <a:srgbClr val="006cb7"/>
                </a:solidFill>
                <a:latin typeface="Verdana"/>
              </a:rPr>
              <a:t>Funciones del SRM</a:t>
            </a:r>
            <a:endParaRPr b="0" lang="en-US" sz="2400" spc="-1" strike="noStrike">
              <a:solidFill>
                <a:srgbClr val="006cb7"/>
              </a:solidFill>
              <a:latin typeface="Verdana"/>
            </a:endParaRPr>
          </a:p>
        </p:txBody>
      </p:sp>
      <p:sp>
        <p:nvSpPr>
          <p:cNvPr id="625" name="PlaceHolder 2"/>
          <p:cNvSpPr>
            <a:spLocks noGrp="1"/>
          </p:cNvSpPr>
          <p:nvPr>
            <p:ph/>
          </p:nvPr>
        </p:nvSpPr>
        <p:spPr>
          <a:xfrm>
            <a:off x="151920" y="1052640"/>
            <a:ext cx="8667720" cy="5400720"/>
          </a:xfrm>
          <a:prstGeom prst="rect">
            <a:avLst/>
          </a:prstGeom>
          <a:noFill/>
          <a:ln w="0">
            <a:noFill/>
          </a:ln>
        </p:spPr>
        <p:txBody>
          <a:bodyPr anchor="t">
            <a:normAutofit/>
          </a:bodyPr>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ingreso de familias de acuerdo a focalización.</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Registrar la intervención que realiza el Apoyo Familiar con cada famili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Activar y monitorear el Bono de Protección Social.</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a los distintos actores del sistema (Jefes de Unidad, Apoyos Familiares y supervisore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Guiar la supervisión de familias.</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Proveer información social que guíe la generación y distribución de oferta pública.</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Facilitar el monitoreo de metas del programa.</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Coordinar un Sistema de Formación (hoy se gestiona con un Sistema específico)</a:t>
            </a:r>
            <a:endParaRPr b="0" lang="en-US" sz="2000" spc="-1" strike="noStrike">
              <a:solidFill>
                <a:srgbClr val="595959"/>
              </a:solidFill>
              <a:latin typeface="Verdana"/>
            </a:endParaRPr>
          </a:p>
          <a:p>
            <a:pPr marL="457200" indent="-457200" algn="just">
              <a:spcBef>
                <a:spcPts val="499"/>
              </a:spcBef>
              <a:buClr>
                <a:srgbClr val="ff0000"/>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ff0000"/>
                </a:solidFill>
                <a:latin typeface="Verdana"/>
              </a:rPr>
              <a:t>Evaluar el desempeño laboral de los AF (hoy se gestiona con un Sistema específico)</a:t>
            </a:r>
            <a:endParaRPr b="0" lang="en-US" sz="2000" spc="-1" strike="noStrike">
              <a:solidFill>
                <a:srgbClr val="595959"/>
              </a:solidFill>
              <a:latin typeface="Verdana"/>
            </a:endParaRPr>
          </a:p>
          <a:p>
            <a:pPr marL="457200" indent="-457200" algn="just">
              <a:spcBef>
                <a:spcPts val="499"/>
              </a:spcBef>
              <a:buClr>
                <a:srgbClr val="595959"/>
              </a:buClr>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000" spc="-1" strike="noStrike">
                <a:solidFill>
                  <a:srgbClr val="595959"/>
                </a:solidFill>
                <a:latin typeface="Verdana"/>
              </a:rPr>
              <a:t>Coordinar información con otros sistemas de información.</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s-CL" sz="2400" spc="-1" strike="noStrike">
                <a:solidFill>
                  <a:srgbClr val="006cb7"/>
                </a:solidFill>
                <a:latin typeface="Verdana"/>
              </a:rPr>
              <a:t>1.- </a:t>
            </a:r>
            <a:r>
              <a:rPr b="1" lang="es-CL" sz="2400" spc="-1" strike="noStrike">
                <a:solidFill>
                  <a:srgbClr val="006cb7"/>
                </a:solidFill>
                <a:latin typeface="Verdana"/>
              </a:rPr>
              <a:t>Facilitar  el ingreso de  familias</a:t>
            </a:r>
            <a:r>
              <a:rPr b="0" lang="es-CL" sz="2400" spc="-1" strike="noStrike">
                <a:solidFill>
                  <a:srgbClr val="006cb7"/>
                </a:solidFill>
                <a:latin typeface="Verdana"/>
              </a:rPr>
              <a:t> </a:t>
            </a:r>
            <a:endParaRPr b="0" lang="en-US" sz="2400" spc="-1" strike="noStrike">
              <a:solidFill>
                <a:srgbClr val="006cb7"/>
              </a:solidFill>
              <a:latin typeface="Verdana"/>
            </a:endParaRPr>
          </a:p>
        </p:txBody>
      </p:sp>
      <p:sp>
        <p:nvSpPr>
          <p:cNvPr id="627" name="PlaceHolder 2"/>
          <p:cNvSpPr>
            <a:spLocks noGrp="1"/>
          </p:cNvSpPr>
          <p:nvPr>
            <p:ph/>
          </p:nvPr>
        </p:nvSpPr>
        <p:spPr>
          <a:xfrm>
            <a:off x="151920" y="1052640"/>
            <a:ext cx="8177400" cy="5184720"/>
          </a:xfrm>
          <a:prstGeom prst="rect">
            <a:avLst/>
          </a:prstGeom>
          <a:noFill/>
          <a:ln w="0">
            <a:noFill/>
          </a:ln>
        </p:spPr>
        <p:txBody>
          <a:bodyPr anchor="t">
            <a:normAutofit/>
          </a:bodyPr>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El sistema de monitoreo permite visualizar la nómina de las  familias que potencialmente podrían participar en el programa.</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Facilitaba el ingreso focalizado. Las familias se encuentran ordenadamente en la nómina (último ingreso año 2012).</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La información es provista por la Ficha de Protección Social (instrumento que tiene como objetivo identificar y priorizar la población que es sujeto de los beneficios sociales, considerando la vulnerabilidad de las personas como lógica de la nueva política de protección social fundada en derechos).</a:t>
            </a:r>
            <a:endParaRPr b="0" lang="en-US" sz="1800" spc="-1" strike="noStrike">
              <a:solidFill>
                <a:srgbClr val="595959"/>
              </a:solidFill>
              <a:latin typeface="Verdana"/>
            </a:endParaRPr>
          </a:p>
          <a:p>
            <a:pPr marL="343080"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a:p>
            <a:pPr marL="343080" indent="-343080" algn="just">
              <a:spcBef>
                <a:spcPts val="45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595959"/>
                </a:solidFill>
                <a:latin typeface="Verdana"/>
              </a:rPr>
              <a:t>Se disminuyen los errores de inclusión y exclusión.</a:t>
            </a:r>
            <a:endParaRPr b="0" lang="en-US" sz="1800" spc="-1" strike="noStrike">
              <a:solidFill>
                <a:srgbClr val="595959"/>
              </a:solidFill>
              <a:latin typeface="Verdana"/>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29" name="" descr=""/>
          <p:cNvPicPr/>
          <p:nvPr/>
        </p:nvPicPr>
        <p:blipFill>
          <a:blip r:embed="rId1"/>
          <a:stretch/>
        </p:blipFill>
        <p:spPr>
          <a:xfrm>
            <a:off x="151920" y="1477440"/>
            <a:ext cx="8177400" cy="4526280"/>
          </a:xfrm>
          <a:prstGeom prst="rect">
            <a:avLst/>
          </a:prstGeom>
          <a:ln w="0">
            <a:noFill/>
          </a:ln>
        </p:spPr>
      </p:pic>
      <p:pic>
        <p:nvPicPr>
          <p:cNvPr id="630" name="Picture 4" descr=""/>
          <p:cNvPicPr/>
          <p:nvPr/>
        </p:nvPicPr>
        <p:blipFill>
          <a:blip r:embed="rId2"/>
          <a:stretch/>
        </p:blipFill>
        <p:spPr>
          <a:xfrm>
            <a:off x="133200" y="1109520"/>
            <a:ext cx="8877600" cy="50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6cb7"/>
                </a:solidFill>
                <a:latin typeface="Verdana"/>
              </a:rPr>
              <a:t>1.-Ingreso de familias: Nómina de familias Elegibles</a:t>
            </a:r>
            <a:endParaRPr b="0" lang="en-US" sz="2400" spc="-1" strike="noStrike">
              <a:solidFill>
                <a:srgbClr val="006cb7"/>
              </a:solidFill>
              <a:latin typeface="Verdana"/>
            </a:endParaRPr>
          </a:p>
        </p:txBody>
      </p:sp>
      <p:pic>
        <p:nvPicPr>
          <p:cNvPr id="632" name="" descr=""/>
          <p:cNvPicPr/>
          <p:nvPr/>
        </p:nvPicPr>
        <p:blipFill>
          <a:blip r:embed="rId1"/>
          <a:stretch/>
        </p:blipFill>
        <p:spPr>
          <a:xfrm>
            <a:off x="151920" y="1477440"/>
            <a:ext cx="8177400" cy="4526280"/>
          </a:xfrm>
          <a:prstGeom prst="rect">
            <a:avLst/>
          </a:prstGeom>
          <a:ln w="0">
            <a:noFill/>
          </a:ln>
        </p:spPr>
      </p:pic>
      <p:pic>
        <p:nvPicPr>
          <p:cNvPr id="633" name="Picture 4" descr=""/>
          <p:cNvPicPr/>
          <p:nvPr/>
        </p:nvPicPr>
        <p:blipFill>
          <a:blip r:embed="rId2"/>
          <a:stretch/>
        </p:blipFill>
        <p:spPr>
          <a:xfrm>
            <a:off x="152280" y="1108080"/>
            <a:ext cx="8740800" cy="51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6cb7"/>
                </a:solidFill>
                <a:latin typeface="Verdana"/>
              </a:rPr>
              <a:t> </a:t>
            </a:r>
            <a:br>
              <a:rPr sz="2400"/>
            </a:br>
            <a:r>
              <a:rPr b="1" lang="es-CL" sz="2400" spc="-1" strike="noStrike">
                <a:solidFill>
                  <a:srgbClr val="006cb7"/>
                </a:solidFill>
                <a:latin typeface="Verdana"/>
              </a:rPr>
              <a:t>2.-Registrar la intervención</a:t>
            </a:r>
            <a:endParaRPr b="0" lang="en-US" sz="2400" spc="-1" strike="noStrike">
              <a:solidFill>
                <a:srgbClr val="006cb7"/>
              </a:solidFill>
              <a:latin typeface="Verdana"/>
            </a:endParaRPr>
          </a:p>
        </p:txBody>
      </p:sp>
      <p:sp>
        <p:nvSpPr>
          <p:cNvPr id="635" name="PlaceHolder 2"/>
          <p:cNvSpPr>
            <a:spLocks noGrp="1"/>
          </p:cNvSpPr>
          <p:nvPr>
            <p:ph/>
          </p:nvPr>
        </p:nvSpPr>
        <p:spPr>
          <a:xfrm>
            <a:off x="151920" y="1295280"/>
            <a:ext cx="8812440" cy="556272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ingresa la información de cada sesión realizada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integrantes y sus características de educación, salud trabajo.</a:t>
            </a: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logros de las familias en cada dimensión y condición mínima. </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recursos que se van activando o generando durante la interven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gistra los compromisos de las familias y de los Apoyos Familiares para mejorar su calidad de vid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ontinuar el registro aunque la familia cambie de domicilio o ciudad.</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s-ES" sz="2400" spc="-1" strike="noStrike">
                <a:solidFill>
                  <a:srgbClr val="006cb7"/>
                </a:solidFill>
                <a:latin typeface="Verdana"/>
              </a:rPr>
              <a:t>3.- Activar el Bono de Protección</a:t>
            </a:r>
            <a:endParaRPr b="0" lang="en-US" sz="2400" spc="-1" strike="noStrike">
              <a:solidFill>
                <a:srgbClr val="006cb7"/>
              </a:solidFill>
              <a:latin typeface="Verdana"/>
            </a:endParaRPr>
          </a:p>
        </p:txBody>
      </p:sp>
      <p:sp>
        <p:nvSpPr>
          <p:cNvPr id="637" name="PlaceHolder 2"/>
          <p:cNvSpPr>
            <a:spLocks noGrp="1"/>
          </p:cNvSpPr>
          <p:nvPr>
            <p:ph/>
          </p:nvPr>
        </p:nvSpPr>
        <p:spPr>
          <a:xfrm>
            <a:off x="151920" y="1477440"/>
            <a:ext cx="8177400" cy="4526280"/>
          </a:xfrm>
          <a:prstGeom prst="rect">
            <a:avLst/>
          </a:prstGeom>
          <a:noFill/>
          <a:ln w="0">
            <a:noFill/>
          </a:ln>
        </p:spPr>
        <p:txBody>
          <a:bodyPr anchor="t">
            <a:normAutofit/>
          </a:bodyPr>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l Apoyo Familiar activa el Bono de Protección a la familia.</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ermite cambiar el beneficiario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Permite llevar un monitoreo del pago mensual del Bono de Protección</a:t>
            </a:r>
            <a:endParaRPr b="0" lang="en-US" sz="2000" spc="-1" strike="noStrike">
              <a:solidFill>
                <a:srgbClr val="595959"/>
              </a:solidFill>
              <a:latin typeface="Verdana"/>
            </a:endParaRPr>
          </a:p>
          <a:p>
            <a:pPr marL="343080" indent="0" algn="just">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Verdana"/>
            </a:endParaRPr>
          </a:p>
          <a:p>
            <a:pPr marL="343080" indent="-343080" algn="just">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vita la duplicidad de beneficiario de un bono.</a:t>
            </a:r>
            <a:endParaRPr b="0" lang="en-US" sz="2000" spc="-1" strike="noStrike">
              <a:solidFill>
                <a:srgbClr val="59595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19:44:20Z</dcterms:created>
  <dc:creator>Executive Director</dc:creator>
  <dc:description/>
  <dc:language>en-US</dc:language>
  <cp:lastModifiedBy>Usuario</cp:lastModifiedBy>
  <dcterms:modified xsi:type="dcterms:W3CDTF">2014-07-01T22:59:23Z</dcterms:modified>
  <cp:revision>115</cp:revision>
  <dc:subject/>
  <dc:title>Slide 1</dc:title>
</cp:coreProperties>
</file>