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CD1-7955-4320-B19B-E0A9DBDA2FE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94A-57A9-4216-9E3A-7B1B0233994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EE1-A752-4BC7-A29C-38A0A5EB525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7AC-30D2-4C53-8995-3C536BC8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027-BE32-44EE-BCD3-B76D93AA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F5C-9C12-4469-BB5B-943F3C9C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C84-B019-4733-A38E-08A6B44C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272-531F-4599-B8FA-A0D98918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037-5E81-4173-9158-36F89C0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14B-B7DD-43A1-8B4A-F44DF2E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907-82D4-409F-99C7-1C12F35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0C9-87BF-43BB-A632-2BB2AE9C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2F1-7115-4619-8A91-1D361C1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100-6C8D-4C3D-A2C4-82A7FBA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838-EEA1-42BA-8D9F-25B3517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4F0-039B-4508-960B-98BEE11BEE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SISTEMA NA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ÓN PÚBLICA CHILEN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SISTEMA NACIONAL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62673"/>
                </a:solidFill>
                <a:latin typeface="Arial"/>
                <a:ea typeface="Arial"/>
              </a:rPr>
              <a:t>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Nancy Whittle Finch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Departamento de Inver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262673"/>
                </a:solidFill>
                <a:latin typeface="Arial"/>
                <a:ea typeface="Arial"/>
              </a:rPr>
              <a:t>Ministerio de Desarrollo So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1280" y="836640"/>
            <a:ext cx="8075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211640" y="1916280"/>
            <a:ext cx="71280" cy="7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635280" y="220500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64000" y="2781360"/>
            <a:ext cx="1800000" cy="3585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635280" y="3357720"/>
            <a:ext cx="1657440" cy="3603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635280" y="162864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635280" y="393372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635280" y="4797360"/>
            <a:ext cx="16574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564000" y="5734080"/>
            <a:ext cx="1655640" cy="3589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059280" y="1484280"/>
            <a:ext cx="2879640" cy="28814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971640" y="2637000"/>
            <a:ext cx="151272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971640" y="4797360"/>
            <a:ext cx="1584360" cy="432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971640" y="5734080"/>
            <a:ext cx="1584360" cy="358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635280" y="836640"/>
            <a:ext cx="1728720" cy="5014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372360" y="836640"/>
            <a:ext cx="1800000" cy="503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6443640" y="2781360"/>
            <a:ext cx="1728720" cy="358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227640" y="4653000"/>
            <a:ext cx="223200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ísico/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6372360" y="5734080"/>
            <a:ext cx="194472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 -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5508720" y="580536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5508720" y="486900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6012000" y="285264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2627280" y="2781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2771640" y="494172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>
            <a:off x="2771640" y="580536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1116000" y="836640"/>
            <a:ext cx="1295280" cy="504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8"/>
          <p:cNvSpPr/>
          <p:nvPr/>
        </p:nvSpPr>
        <p:spPr>
          <a:xfrm>
            <a:off x="1042920" y="1341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1187280" y="333360"/>
            <a:ext cx="6985080" cy="3589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clo de Vida de una Iniciativa de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262673"/>
                </a:solidFill>
                <a:latin typeface="Arial"/>
              </a:rPr>
              <a:t>Principales Elementos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Elaboración y revisión de normas, instrucciones y procedimientos para la inversión pública (NIP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Revisión y análisis de iniciativas de inversión: Labor desarrollada por las SEREMI y Departamento de Inversiones del M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Desarrollo y actualización de Metodologías de Formulación y Evaluación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Arial"/>
              </a:rPr>
              <a:t>Precios so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Arial"/>
                <a:ea typeface="Arial"/>
              </a:rPr>
              <a:t>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62673"/>
                </a:solidFill>
                <a:latin typeface="Calibri"/>
              </a:rPr>
              <a:t>Metodologías Vi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965160"/>
          <a:ext cx="7488000" cy="5702400"/>
        </p:xfrm>
        <a:graphic>
          <a:graphicData uri="http://schemas.openxmlformats.org/drawingml/2006/table">
            <a:tbl>
              <a:tblPr/>
              <a:tblGrid>
                <a:gridCol w="3174840"/>
                <a:gridCol w="4313160"/>
              </a:tblGrid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BENEF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NFOQUE COSTO - EFIC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Transporte Interurb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Urbana Estructur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tención Primaria en 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alidad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Hospi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Aeroportu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Vigilancia Polici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Defensas Fluv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y Equipamiento Carabin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dificación Públ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entros de Rehabilitación para Men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olectores Aguas llu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cintos Carcel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aletas Pesqu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Infraestructura Depor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Obras de R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equeños Aeródro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Cicloru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siduos Sólidos Domicili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Reemplazo de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Agua Potable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Plan Marco de Desarrollo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Saneamiento (Urbano y ru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 Narrow"/>
                          <a:ea typeface="Times New Roman"/>
                        </a:rPr>
                        <a:t>Electrificación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Cálculo y actualización de precios sociales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, de manera que reflejen el verdadero valor para la socie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MDS actualiza y difun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Tasa social de descuento (costo de oportunidad del capit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po de cambio (costo que le significa al país producir una divisa adiciona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la mano de obra (costo marginal en que incurre la sociedad por emplear un trabajador más de cierta calificació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 combus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Arial"/>
              </a:rPr>
              <a:t>Valor social del tiemp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62673"/>
                </a:solidFill>
                <a:latin typeface="Calibri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Actividades realizadas por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Diplomado en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Básicos e Intermedios Regionales de Preparación y Evalu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Regionales de Formulación y Presentación de  Progra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Calibri"/>
              </a:rPr>
              <a:t>Cursos Manejo del Banco Integrado de Proy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262673"/>
                </a:solidFill>
                <a:latin typeface="Arial"/>
              </a:rPr>
              <a:t>Sistema de información de apoyo al S.N.I. , cuyos objetivos s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Establecer una base de datos de proyectos de inversión pública a nivel nacional y regional a disposición de las instituciones públicas y de la ciudadan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análisis agregados y específicos de la inversión púb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osibilitar control de gestión del proceso inver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Permitir análisis de Evaluación Ex – Post de l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  <a:ea typeface="Calibri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Su objetivo es asignar recursos financieros a los proyectos de interés sectorial, regional y de las Empresas del Estado que cuentan con la recomendación favorable  (RS) de M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La DIPRES es la institución responsable de formular el Presupuesto del Sector Público, la que finalmente se aprueba como Ley de Presupuesto del Sector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oceso de Discusión y Asignación Presupues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l Presupuesto Exploratorio y del Marc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y Discusión del Proyecto de Presupues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Aprobación del Proyecto de Presupuesto a nivel sup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Preparación de la Ley de Presupuestos para aprobación por el Congreso Na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Implementación de la Ley de Presupues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1476360" y="465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003640" y="2708280"/>
            <a:ext cx="83844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86728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5435640" y="2708280"/>
            <a:ext cx="0" cy="5335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4788000" y="18446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6156360" y="1197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3200400" y="4648320"/>
            <a:ext cx="33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6516720" y="4149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819520" y="598500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4788000" y="4724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2556000" y="4149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332000" y="472428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643280" y="4221000"/>
            <a:ext cx="86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362320" y="17938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2627280" y="5084640"/>
            <a:ext cx="223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 PRIORIZ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.N.D.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1280" y="0"/>
            <a:ext cx="8137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Calibri"/>
              </a:rPr>
              <a:t>Calendario Anu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4932360" y="2205000"/>
            <a:ext cx="10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SCU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NDR  y S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5003640" y="2708280"/>
            <a:ext cx="0" cy="57636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3"/>
          <p:cNvSpPr/>
          <p:nvPr/>
        </p:nvSpPr>
        <p:spPr>
          <a:xfrm>
            <a:off x="4643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1619280" y="5229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9"/>
          <p:cNvSpPr/>
          <p:nvPr/>
        </p:nvSpPr>
        <p:spPr>
          <a:xfrm>
            <a:off x="5292720" y="5229360"/>
            <a:ext cx="574560" cy="215640"/>
          </a:xfrm>
          <a:prstGeom prst="leftArrow">
            <a:avLst>
              <a:gd name="adj1" fmla="val 50000"/>
              <a:gd name="adj2" fmla="val 6661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755640" y="1335240"/>
            <a:ext cx="36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684360" y="3927600"/>
            <a:ext cx="43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2 Rectángulo"/>
          <p:cNvSpPr/>
          <p:nvPr/>
        </p:nvSpPr>
        <p:spPr>
          <a:xfrm>
            <a:off x="1476360" y="4221000"/>
            <a:ext cx="504036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Ejecución Presupues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DIPRES tiene como función regular y supervisar la ejecución del gasto público; sin perjuicio de las atribuciones de la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La información de ejecución financiera </a:t>
            </a:r>
            <a:r>
              <a:rPr b="0" lang="es-ES" sz="2400" spc="-1" strike="noStrike">
                <a:solidFill>
                  <a:srgbClr val="262673"/>
                </a:solidFill>
                <a:latin typeface="Calibri"/>
              </a:rPr>
              <a:t>(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signaciones, contratos y gastos) es ingresada en el BIP, por la entidad ejecutora de la inici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547640" y="5493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55640" y="13413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convenientes para la sociedad,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según los lineamientos de la política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62673"/>
                </a:solidFill>
                <a:latin typeface="Arial"/>
              </a:rPr>
              <a:t>OBJETIVOS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elar por una eficiente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tribuir a aumentar el bienestar general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Determina la eficiencia y eficacia del uso de los recursos públicos y verifica si las iniciativas de inversión una vez ejecutadas, cumplen con los objetivos y rentabilidades sociales estimadas en la evaluación ex–ante, lo que además permi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Generar información para completar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el ciclo de vida de un proyecto y retroalimentar el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Derivar acciones correctivas para mejorar procesos de inversión vig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800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73"/>
                </a:solidFill>
                <a:latin typeface="Arial"/>
              </a:rPr>
              <a:t>Apoyar el proceso continuo de actualización de metodologías y criterios de formulación y evaluación ex – 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ubsistema de Evaluación Ex – P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simple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se realiza una vez finalizada la fase de ejecución de la iniciativa, donde se miden los resultados en las variables de costos, tiempos y especificaciones técn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62673"/>
                </a:solidFill>
                <a:latin typeface="Calibri"/>
              </a:rPr>
              <a:t>Evaluación ex post en profundidad</a:t>
            </a:r>
            <a:r>
              <a:rPr b="0" lang="es-ES_tradnl" sz="2400" spc="-1" strike="noStrike">
                <a:solidFill>
                  <a:srgbClr val="262673"/>
                </a:solidFill>
                <a:latin typeface="Calibri"/>
              </a:rPr>
              <a:t>: corresponde aplicarla cuando la iniciativa está operando o en régimen normal y analiza si las estimaciones ex-ante se cump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62673"/>
                </a:solidFill>
                <a:latin typeface="Arial"/>
                <a:ea typeface="Arial"/>
              </a:rPr>
              <a:t>MARCO LEGAL DEL S.N.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928880"/>
            <a:ext cx="78883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DE ADMINISTRACION FINANCIERA DEL ESTADO (Art.19 Bi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Nº 20.530 DEL AÑO 2011 CREACION DE MINISTERIO DE DESARROLLO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DE PRESUPUESTOS DEL SECTOR PUBL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LEY ORGANICA CONSTITUCIONAL N°19.175 SOBRE GOBIERNO Y   ADMINISTRACION REG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 Nacional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A MDS y 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Gestor (Comunidad organiza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Sistema</a:t>
            </a:r>
            <a:r>
              <a:rPr b="1" lang="es-MX" sz="28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000099"/>
                </a:solidFill>
                <a:latin typeface="Arial"/>
                <a:ea typeface="Arial"/>
              </a:rPr>
              <a:t>Nacional de Invers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76360" y="1341360"/>
            <a:ext cx="26668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stor/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76360" y="2276640"/>
            <a:ext cx="2664000" cy="226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476360" y="4941720"/>
            <a:ext cx="26668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76360" y="5950080"/>
            <a:ext cx="27432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20364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140360" y="25653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4140000" y="2781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4140360" y="37162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>
            <a:off x="4140000" y="38606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320364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6156360" y="5257800"/>
            <a:ext cx="26636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200040" y="5445000"/>
            <a:ext cx="32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140360" y="220356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501080" y="278136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572000" y="3573360"/>
            <a:ext cx="1501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140360" y="3429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olicita Asignac.Presup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211640" y="3860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Asigna 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492360" y="299736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4140360" y="4365720"/>
            <a:ext cx="21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 flipH="1">
            <a:off x="4140360" y="4508640"/>
            <a:ext cx="2303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211640" y="4437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Sin Análisis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M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3419640" y="4508640"/>
            <a:ext cx="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>
            <a:off x="3348000" y="5516640"/>
            <a:ext cx="0" cy="4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62673"/>
                </a:solidFill>
                <a:latin typeface="Calibri"/>
              </a:rPr>
              <a:t>El SNI está compuesto por cuatro Subsistemas</a:t>
            </a:r>
            <a:r>
              <a:rPr b="0" lang="es-MX" sz="32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8129520" cy="4535640"/>
        </p:xfrm>
        <a:graphic>
          <a:graphicData uri="http://schemas.openxmlformats.org/drawingml/2006/table">
            <a:tbl>
              <a:tblPr/>
              <a:tblGrid>
                <a:gridCol w="4268880"/>
                <a:gridCol w="386064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ubsis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esponsable de la Administ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.- Análisis Técnico  Econó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.- Formula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II.-  Ejecución Presupuest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rección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inisterio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        </a:t>
                      </a:r>
                      <a:r>
                        <a:rPr b="1" lang="es-ES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V.-  Evaluación Ex 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ivisión de Invers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M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3"/>
          <p:cNvSpPr/>
          <p:nvPr/>
        </p:nvSpPr>
        <p:spPr>
          <a:xfrm>
            <a:off x="5497560" y="6597720"/>
            <a:ext cx="3646440" cy="246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Arial Narrow"/>
              </a:rPr>
              <a:t>DIVISION DE PLANIFICACION, ESTUDIOS E INVERS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262673"/>
                </a:solidFill>
                <a:latin typeface="Arial"/>
              </a:rPr>
              <a:t>Su objetivo es orientar el proceso de asignación de recursos hacia aquellas oportunidades de inversión más convenientes para la socie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Tipologías de Iniciativas de Inver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Estudio Básic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generar información sobre recursos humanos, físicos o biológicos, que permiten generar nuevas iniciativa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grama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Son los gastos por concepto de iniciativas de inversión destinadas a incrementar, mantener o recuperar la capacidad de generación de beneficios de un recurso humano o físico, y que no corresponda a aquellos inherentes a la institución que formula el progr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62673"/>
                </a:solidFill>
                <a:latin typeface="Calibri"/>
              </a:rPr>
              <a:t>Proyecto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: Corresponde a los gastos por concepto de estudios pre inversionales, destinados a generar información que sirva para decidir y llevar a cabo la ejecución futura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262673"/>
                </a:solidFill>
                <a:latin typeface="Calibri"/>
              </a:rPr>
              <a:t>Asimismo, considera los gastos de inversión , para la ejecución de obras, con el fin de incrementar, mantener o mejorar la producción de bienes o prestación de servic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77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Subsistema Análisis Técnico 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26920" y="2349360"/>
          <a:ext cx="7632720" cy="2581560"/>
        </p:xfrm>
        <a:graphic>
          <a:graphicData uri="http://schemas.openxmlformats.org/drawingml/2006/table">
            <a:tbl>
              <a:tblPr/>
              <a:tblGrid>
                <a:gridCol w="2543400"/>
                <a:gridCol w="2546280"/>
                <a:gridCol w="25430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dio Bás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36"/>
          <p:cNvSpPr/>
          <p:nvPr/>
        </p:nvSpPr>
        <p:spPr>
          <a:xfrm>
            <a:off x="1187280" y="1484280"/>
            <a:ext cx="6913800" cy="720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tapas de Postulación por Tipologías de Invers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5:56Z</dcterms:created>
  <dc:creator>Carlos Echavarría</dc:creator>
  <dc:description/>
  <dc:language>en-US</dc:language>
  <cp:lastModifiedBy>Administrador</cp:lastModifiedBy>
  <dcterms:modified xsi:type="dcterms:W3CDTF">2014-06-25T22:32:10Z</dcterms:modified>
  <cp:revision>87</cp:revision>
  <dc:subject/>
  <dc:title>Diapositiva 1</dc:title>
</cp:coreProperties>
</file>