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19.png" ContentType="image/png"/>
  <Override PartName="/ppt/media/image21.gif" ContentType="image/gif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9FCB-435D-493C-916C-FB2EBF6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354A-9135-4960-9A67-CD49406D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D8D42-7228-4AB7-A306-A8B1A29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3D979-12C3-4737-A420-DA4DDB2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0F70D-9225-4761-ADD2-8FA9816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CF09-BFFE-47B2-BD4B-736882B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97B5A-626C-43E5-827C-AFAD963E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D376C-6C44-49E2-B575-B330306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53175-ECB2-4F49-AA62-6F4E5E10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77617-7432-479B-B6EC-5FAAA766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40F2-0277-4295-81A3-065C0A33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A380D-72C9-40CA-8F21-0095245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E0BE-C1C0-48D0-8381-8723873A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02982-65EE-4729-B3C6-651C312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AED87-CD64-4DCD-AE85-3A236927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7CE86-0A56-4301-9CEB-7958053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9EF2-F3A5-4C2A-AFBE-A10C7BB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3C596-FFA5-45BA-B134-16E58ED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2C06-3FA2-4507-9899-60E856C7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8346-1B43-42DB-B180-31CC0444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40198-AEA7-49CC-9E4B-24F946D0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0BC5A-3A6F-4C92-8F4E-3889D92A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F218C-FE58-42FB-A6DB-2CB5CE08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E5D84-7578-4317-9C19-ADF35960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9CA44-7DD7-41B3-8BDC-71A2624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F5B6E-F376-4200-84BA-1E4FF73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2D1EC-6AB3-4EAA-A3DA-7C55B7A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CFA81-E6EF-4FB3-B6F1-C9A1E86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C81A5-F4A0-49E3-82C4-54A6DC15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4FDB2-DA83-4794-A876-97658D4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542-A23E-4BDB-81FE-5BBE3745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2E720-BFA0-429D-8603-9F9751B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7C22A-AEE8-4FC2-882F-CF8C04A5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1E19A-CD24-4293-9B96-90DE8801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FD538-D735-4AE8-8EAD-05FBC10C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C59FB-3AB0-4931-9790-ADE9A3E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5F227-ED0F-4E98-86FD-B419EA8D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47B36-F661-4FE0-8D78-2574D3F5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905CC-413F-41E2-AF7D-F0DAC159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AB3EA-0F42-4918-B3C5-75745B26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D28B6-E846-4DF8-BA89-45D97E3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BEC-FC52-4AC1-967E-FAE771B9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D1E9-A36B-48BE-96EE-2E3CFF8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0BAD-C495-400F-BF52-7655B82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97B0-E87F-4994-A94F-DD7D22C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58D0F-4184-45FB-B32B-0F1242EE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53DD6-6710-418C-BEEE-41C9B649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2670C-33CA-49B9-884A-3BE2946A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A4FF-9752-4B7F-938B-FF4519C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95A1F-0334-4191-8995-B26AE4C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61309-9B6C-4260-84CA-D947629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B809-D2B3-40F3-BEE4-7332028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88A-E518-46F2-9C2D-7287D45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9751F-5B73-480A-90B2-871DAD50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D304-6FFB-4422-95A0-C1144FB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A16E-704D-440D-BB63-F84D1183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478C3-8792-4B8A-8190-E45DA61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1BAF5-91E8-4CAE-A528-25516ECB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1927E-6CF5-45B2-AAAA-1E64AC0B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CCC96-526A-48A3-8186-D4BF0F22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CFD3B-6E43-4D2D-99A8-B2683837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F7350-6673-478C-AB32-B7ED737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27D93-CC78-4164-8B70-04FD393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A5F-8FF8-4FF6-97E5-C4AF4A0B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D5DA5-CB21-45A9-9F2C-4446295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CEBE1-AC36-4E67-A2F6-58D3A80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00C0B-11EC-4927-9538-5EFD526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56F8E-DB57-4A17-A36B-99C37E0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9ED27-8C5E-4EEF-B28F-4840FC4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80949-0722-4EB6-89FE-9F85060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46C72-9893-4415-A7F5-5EE2703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19556-BFC4-4964-86FD-2A8C3C59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F9658-B33A-49F2-9937-1F6185A0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836A9-7565-4873-9BDB-4B50A0A4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52C-656B-4B91-8381-21FCB45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A45C3-97BE-4B8B-B3A3-0EAF53DA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1B2A6-BCE3-4041-A90B-C574185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C38E0-355D-4FF5-8968-62C6C51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2BEA0-1B29-4CFB-9E76-DAF1F05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955D-40AF-4E76-A07F-D20A2BD1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4C604-9CC9-42B7-B7C4-42D92DC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78D02-9AF6-42A6-B40E-5BC4EB64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7213E-56C0-4508-9CB9-76E7FED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8D1C6-3E00-4B98-86E0-76336B7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24B0B-01A8-4F2B-BDDB-0044A80A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E12-AC5D-4F36-A045-AACF18C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312CC-D849-4B68-BCC1-988F3AC3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12177-782E-4401-99AC-9206D527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A9D24-8851-46DA-B121-735AB14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723D6-B74B-45B0-85D4-45BB33E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8078C-639E-4972-8445-C04FE95B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27325-2765-4C43-9C6B-0D37272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CFF87-D250-4F7A-BDE7-9BACE1C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C1F4B-1997-4282-8E7E-444F23E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6AFEB-61E7-40D7-B26A-C296E34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03379-2A93-4BBB-A9D0-35901ED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34-595A-47CA-8880-81FBE3D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7209B-7BF3-448F-B55C-B3C7E918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995B0-0E4B-4E8E-A452-EBDFEA3D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67728-B7EC-40D3-96BC-14316974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7B21A-0F09-4B14-A468-8F5ABA26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3450B-4DB3-4A8C-BE76-8E6817CD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43603-B1FC-43D6-BA0B-D56BD155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3C67A-9706-499A-8AC1-AFD49DFF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0CA25-13C4-462C-BF17-FE70DA3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A01BF-6F1A-4BD9-B3C7-878C7900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B0B798-5ED7-48AE-8EB2-34B236C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68C-9FBD-487B-80EE-B0239DA6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AF9A1-1FA6-4DA3-BA80-BAA468A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636D0-B7C5-4A64-893B-74E368B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12B7A-66AE-4051-9F5C-A499514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7ED83-52B9-4633-A395-B622B358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087DC-5E23-4767-8C37-DD6227F2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4F87B-F9E0-48E9-944B-95AA19C2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3BD6F-EABA-41F9-AF6A-F96DFAF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E0D6F-9947-4ACB-8816-482F445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38B16-48E2-491C-9B37-AB879A1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D328B-4424-4174-B99D-EC2C821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3E3-1437-481B-9D41-CC568C21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C65DC-B713-4E80-8AF9-E3E2A8D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67238-5405-43BE-983A-78BB1C6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F5E6D-6FBA-4FB2-B57F-499ED12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B0046-E5A2-4C5D-8D08-8C068F4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7FA11-56E9-47BE-9F56-8824984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B3BD4-A5FD-4935-B9CD-BB7C6071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F4077-AEB0-4C28-B416-04FEDD47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B51F5-1324-4DDB-A0FC-551173E8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2ABA3-D12D-4188-9B10-1750515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6C011-2EB9-4D09-8057-6059D7F3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3D0-7F76-43AF-B3C7-FA9D9E8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1DB65-2258-48E6-9DE5-A9A19CC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325DD-F0C4-41CE-850E-2711222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8F653-930D-4CC2-8814-16C21044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2A95A-0193-4886-BD5A-930F19D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B4B5A-D6C2-4D27-B222-6D600C5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0A1F9-F99C-4A95-912B-C839C0C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66186-F998-40A5-B5C2-E285AD3C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46136-F5C4-4875-8DA7-0A29D309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0F67D-B69D-42AD-AC77-A76189F2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44A7C-0132-4BD7-975E-FBFFFA47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BAE-6140-4EE9-85B9-BE5BFD4C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4B5E0-7812-4434-8EF3-55ACB63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9F295-9135-42B8-8EDA-CB918FB9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9EBAD-49CD-4F40-AE68-695E225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CE400-B65B-471F-AB0D-7BDF947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27DF0-0AD0-4ADE-996D-5E842380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13182-ADA7-4DBA-9D37-BB904529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BFA45-DE3C-4015-90E7-7A78C39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416E6-1A42-4BBE-A17B-2B435C7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FE33F-D210-4648-9EE0-7A6885F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C64ED-98A1-48BD-A493-5AF81F13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219-79DD-4B69-AABD-76329F74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9F1609-043D-46D0-99E2-0272BBF6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FB445-8DCC-4260-BA99-380F9578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28805-032C-46A8-98D9-83ABF88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945DF-C403-4E68-9E7D-A0703D3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5EBB2-010D-4473-BEBA-53254B5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AB3162-037B-44B4-9C36-135E5609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8371C-941F-4DDD-B953-21C0362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838F0-D01C-423E-A585-909CBFA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0D5F0-E057-42CA-8133-1A84C27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AD180-E3E8-4306-A5C7-B3ACEDC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7B51-E54F-45BB-BC77-6F3333D4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C1D8B-293D-4C97-845D-E7A4826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EB3C5-AD8A-4256-91FD-9F8E8520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35F37-A33E-40E1-B7FD-266641F7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A4DE3-C401-40BA-AD44-63D4069E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30D39-6957-4A8D-8B66-CE9D979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F0B36-D6A9-42B4-9034-17715171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C71B7-8FFD-4516-AC8C-D0667395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650EAF-01C8-4C62-A9C9-6BCEE91F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4B89D-E720-4E23-B85E-DF68E43A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049EBD-E231-45BC-9F31-489FED8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B6F-5515-4ABA-8CAF-8B7765AF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EAF72D-C9AE-4018-A564-ED6B5F7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CE0573-E39F-46C1-8532-1B8DED4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C76C2-1D85-4474-B01D-BC8C310C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04D14-0090-45AC-9DA0-A1D4D0CF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8CBAD-676C-4EBA-BB98-04F4CAF3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98D9E2-C069-4D0D-887A-9C2297F4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93457-46B1-4741-95BB-51FE7251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676F1-58F8-4879-978B-1CE7D11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F88777-3573-40BD-94FB-B942395F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3CFF5-80AC-4D92-BCF4-A9608C4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F227-AB56-4982-93CB-3010FFB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0E17D-3351-407E-A6BC-FA15B39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9345B-E9C7-4746-94A6-AD0B967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E6CB4-E3E4-4649-A673-7B72AB9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A827A-B2F5-4DC6-91AB-E5068BD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87312-4172-45F2-B6EE-6A79CC7B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AA5982-55F7-4205-8FD9-36F67FB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B431A1-855E-4A9D-9AC2-1CE05FD7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A6DF8-CB89-487E-8147-AA9A1E5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A32FB2-34DC-45F0-BA91-762086A4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D594F-0094-4759-B6AA-F69BABD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EA2-F1C1-478C-847A-98186CF2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D8C460-C2A8-496D-A9FC-E8AE730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23ECA-9365-4673-B4B6-F1B90D6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01874C-2BB1-402B-8617-A688D086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8DB4E0-C1B6-4DF9-B919-21E5CF8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DD089D-9390-4419-984C-2BCBC1E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6B47C-B74C-4D4B-A1B1-495E163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B9A53C-132D-4152-BAFA-6BC5E6E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208E69-921E-44C3-A685-2EF19113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C06CBA-576E-43F9-A8BD-0D74C02E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0FFBF6-4BE2-4A07-9EE5-D2F6455A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B58-5A05-4470-8B14-5099B05C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F8756-58B7-4BD5-9F8B-3474F840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DCDBAD-CD2D-4120-86B8-35E71A8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0641EB-EF14-4CA3-AC63-C9BB23C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D5B20-9E6F-4E6A-8376-5835D9A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097706-CFF4-4288-A95A-96EB6E0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388821-9EB5-43CD-93A0-D2301C1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F16901-CF67-4D95-B568-0A99ADA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F917C9-FDFC-4A15-8D34-06B56D8F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7759DE-1F93-4AC0-A4EA-5F69BB02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A53690-FB68-4130-85F6-C4587BC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80F1-1AC2-448D-B9D8-CC3BBE4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3933C7-BA0D-4EC0-9265-89F988D4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420F48-8462-48C3-999D-A27125D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666AEE-1F6C-44D7-8038-3489B87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292AE2-316A-45D2-81BC-945AA54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798A8E-0251-43E5-A358-9227460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534B7A-3FFC-44AA-BD3F-57CC1FE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44723A-08B1-4C1A-B6E5-18430C94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F32F1-9514-4FF1-894E-8B893B8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349B8-70A9-4CE6-99C0-9262B68B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221CBF-2025-4A6F-BE08-98AD39C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48C5-9FF2-4737-9714-26E9423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4C1C1E-9D36-4787-942E-8915C0A1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D6E565-DA02-4FF3-B637-7456B0A8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9E99E9-BD3B-4E70-BFC0-A5758FBD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A80CEA-4C39-4A71-A734-0E699DCB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168EE-1B8B-415C-ADA2-75A07000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B9BAA1-7477-4BD2-A9A6-35EF4ED0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FABEEB-3FB3-49EC-969A-2C11490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99AB63-3F4B-40D9-A3C5-094F620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DBAB04-AB58-4C6C-94CD-894B8C3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ACBCC7-E29C-4208-A242-E217463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33C-DAAC-4F3F-A09C-ABCAF4E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CD1961-571F-4D20-AB07-BD95576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98BEF1-1308-43CC-8BD2-7665240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7C987-F03A-4F2D-A74A-6215E16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AAA041-90A9-49F0-AA38-E7BA1DD5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A8432-1ADA-4D20-A888-6DDC3D42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5616CA-A60A-4C5F-93DD-9AE95C5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0085A5-265E-4A67-91EE-F4871BB6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A3F036-5169-4C2C-8D3E-D089E89A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C7DB97-964F-4434-A360-FB0C250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BDDAD7-9341-455C-8F72-1930DC2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0201-AFAA-47C9-9AD5-B33E257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291289-5263-4C0C-B253-E24763BE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0FB2B-1A7E-46F6-961E-F8939CA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DF8F97-FD1C-4608-AA08-A09CABEE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51E4AC-640C-4E68-8B8B-FD2F77B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FF466-DDBE-49A0-8502-27898951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0293A3-2695-4FD7-B7D9-8C2D6A1A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2A1CDF-00E5-4B42-8AB9-41AF5B6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16F6BA-16DF-4B8A-B74F-41B56BD2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4AED68-D3CB-4594-B649-7C52D61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C9990E-FEE4-46D4-8D6E-2302801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8680-A676-450D-B643-3F4E0A0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FA6E98-371D-4342-A7AE-19F2734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5CD0D2-73FE-46B9-8C39-AD4AA561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9FF414-2D2C-4631-9603-A3F8A8B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A37D68-02CA-4A07-A97A-889F5E4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4D200D-F624-4421-90BE-2773D7B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8CA52E-B24B-4856-BAF0-5CBECDD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5F6421-DFF3-4C19-AF2C-D2054FF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428FAA-B381-45F7-9C32-BA53A054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98094E-D23E-41E1-A25D-632152DE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940539-1629-42AF-A4DB-EA9A02A8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E3DA-D786-4082-9344-33DB5201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C3114C-A456-4861-B9BE-9FAF7F2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A18744-B7E8-4383-B2FB-47C6189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0D314B-A3F0-4FE1-91E8-8112C33D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7AFF70-FA72-441F-AFF5-16D5DBD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CB6330-30E4-4F76-947A-7A9F0F2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28A0BF-9E49-4387-9379-6E77B9A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97ED16-84BA-4968-944D-E17C2C8C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AA0D89-3FF1-4190-9CA7-DBA530AD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B3335D-192B-4577-9D44-55D9C23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0C58F0-FC67-4661-8314-B79726E5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AA58-D736-4614-8671-C3FE1D61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08751D-35C9-4AB3-871C-FBB6904A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51C913-9926-49C4-BF3E-ABD1B7D2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15FCBD-053D-4472-B324-569D023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DE6482-1AFD-491D-80CB-FB8BBD4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C76E23-EF8A-42F0-8BD2-576B07E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195C65-265B-48C9-8784-1C2DF99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A4E132-56BB-4912-8B38-AB9F1D99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F18253-4B65-4A1F-9F22-7E9EFCF0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64AF0F-0B89-4734-BF17-D2A994F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ED6D91-E54E-4B74-91FE-2073D69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E7A3-AB78-460E-A861-65CEA315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1ADE28-96B1-4937-BCCE-9C0BED18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BEA3F9-C4B1-4F6E-BFC7-2849A79E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9D66F6-F5A6-46F4-BE42-3EAF4FD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E2DCAD-C563-4897-91AE-5DB80A62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49859E-DE37-457D-9077-4801105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AF59DF-8A3E-4492-9E6B-D20419CF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84B1FE-BC55-4BF6-9AE3-39E7D5BA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DB2F04-8F2C-480D-A820-5E3E2BC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0AC4AA-6E7B-4736-AAF4-6E774E8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FB743-E584-4553-9D16-A449B679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0710-1903-433E-B222-03411501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CF1B02-ACC5-47FA-96DA-45BD55E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918D18-6FB4-48B9-B6F8-F49A9F5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596048-7F5B-4FD3-AACE-850B0E0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B65427-4CAD-4A4A-8DAC-702BA07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99EFC0-B325-4A51-8E60-1699A782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38575A-AA1D-4C78-BC9A-3732ACDC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5D40D-8302-4039-9F2B-53E7B73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BBBE4F-0419-4F7A-B18D-569A77E3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0A4EDF-881B-40AE-8A9B-AC1AD6DB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BDC026-01AE-4299-8AC2-B72F0E5A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F47E-35AB-4343-B75C-00A0295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CEBFDA-0527-416F-99BD-2CEA016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265F4F-B0DE-42B8-8F79-AD0BF59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820EFC-65D7-462E-9F8B-61ED22A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07B5F2-3470-4151-963D-E6E2A8DA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BABED6-3D0C-4CE2-AF46-3E39FFC1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FA4649-1253-49ED-9659-AA950C5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2BBEE6-E978-47B6-9CDF-0E964AF5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8F225B-D259-4538-A6B0-E62DE7FC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26F382-4E46-44E4-A2B6-A6D927B7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096FAA-366C-4547-8EF2-89C7EAD9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3A5B-B355-4D16-9A2F-C7556C13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6ED6A3-AB15-48D5-B66E-E5E7AB5B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2E01A9-8AF4-4E15-9DB2-CDF4986B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941BA9-0072-4647-87CF-431802FF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C0B3D3-D5EA-4FE9-89E3-99CAD76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C19714-A60D-4B35-9913-BFB8629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F9C621-617B-4FDE-A807-E1B7D0E3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BFDF1C-42F3-4B11-955A-700D78CB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9930F4-C84A-4807-844A-3E252B0B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36E3CE-BF4A-4F26-BE75-99107D2A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50F08D-ACEF-4B10-9764-39E5EE4A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8C8F-5B69-47C1-AC19-8B79BF5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5274BF-3760-44CD-9205-5A08897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F8B600-1E80-4815-BC4B-A583519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90E28B-275E-4F75-B8D1-1EA4CA5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DDFF7D-FBDB-425E-A6BD-6B331CCA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517430-CB59-40C9-8A70-880F305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A0B20F-FB80-49B0-8A59-3639557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20D2EA-D6DE-4003-930D-50EBB66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30AF7D-6654-401E-B073-A1CB581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F3C80C-C886-4946-AB02-311B53A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F0E6F7-3FC0-48AB-8D8C-C674DE78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D168-9924-4084-A0CB-4AF2D2E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B610E9-D8F5-4DDE-ABF6-AC59D2A5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5B8C29-15B6-4D89-A9F9-FB119A37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456F46-ED57-4005-88DC-C24445B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3503AA-42B4-47D7-B0FE-00A32FD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2AEB43-940B-4272-BC70-E1CA2310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451D7B-7A60-454D-967F-1D4C8DD2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8F2619-35D0-47DA-975E-3A8C049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6D8146-91C1-49E7-8DC6-E4EB7B5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A884F3-6CF1-4061-800B-D61C923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0C9A55-B271-407F-A6E8-A1569ED7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623B-25A1-4AFF-A6F3-6305481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49944D-64FC-4233-8236-A5C00A0F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0DDBE3-4367-48E5-8105-61A9DF95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3100D2-9856-40D3-B774-309BBCC2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5F8ACF-F60E-4200-8E23-35F6FC59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B417DD-A096-4A29-AD3B-632F800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E7E408-AD33-4896-AC65-0E440F1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5D3641-9013-400A-AB00-6ECA497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786E48-735B-4C86-92C2-8C7F7DF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4BD85B-1282-4B42-BAA1-2F66864E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BFC317-29F2-4FE5-9AB7-4088B52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F18C-BE4D-48CF-941C-2121283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37265A-FDA0-4EED-975C-92A26EA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6B33F4-DDFB-43F2-80CC-54702E4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E5720C-6CCA-482B-9019-C15EC6B2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8E1A03-A20D-4029-AE10-59169AF3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069EC6-D5C6-4EAA-B273-0CE44A7B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DB9A4C-FD5E-401E-A2F6-B4829006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38BBEA-FE36-42C5-8C7C-BA57231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2A076A-22B9-4EB7-8C0B-F9FF9E10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95723B-3C8F-4569-BAD8-F95162A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BB6F0D-7983-45F5-B32A-5AD74A0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FD73-D4D8-4695-A267-94A25FC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0F18A-FE92-47C8-8B60-4EB89715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279E05-13E8-4588-858B-A8708F74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A4F828-DA98-43BC-BD4B-AE331836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D54F5E-43D1-423C-B932-B9BDE14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681652-2D14-4621-AFC2-25526631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E62872-AC82-4D62-8C17-B661B587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BD99A4-CD68-4BFD-903D-E31E9C77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F34B-F207-4DED-B9D2-0E4F2B1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8A3D-5294-4338-A461-141AE0AE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A316-BBF2-486F-920C-27ECFFD7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A253-5678-4206-AAD4-DF8B3C7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5BA8-984C-4A02-AA4D-E9BA41D6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C172-FE95-468D-86A9-784F6FA0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BE5E-B233-479D-B61F-85642B3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99CF-29A2-4480-BBA6-CB157C7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5693-0375-46E5-A8CD-27DB440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271E-86D3-4A47-88A5-3946D33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2889-ACCB-4BDB-85FF-6B02EDD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FF76-3BDF-4FEA-88BB-5D8B377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A112-4AAA-41BF-A419-D230B210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B3EE-D671-4994-89AB-52797BAA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EA8B-451F-4930-ADA0-ACA5F0D7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245DE-A3FC-4ED1-B8A2-9E166021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C574-40EA-4B9E-9429-1E7F6D6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7284-45EE-400E-B392-83AB924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549C-30FF-43B3-B12E-49974DCD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F3C4D-74DC-4BA6-80E8-EF5E2FB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E0DD8-DFC0-45A4-B8F0-64C42939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7F0D-07C3-4CCE-8C2F-886519F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B323-067D-4827-BB55-FDF2DC6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7CDF-FCFE-4D5A-9C3F-860A86E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F74F-D843-422D-A049-0761EDA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D06F5-AE78-4C0D-897E-DF0D6CD4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4370-42FF-4DB6-8491-BD97AC65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D5004-65B6-456F-B009-DB1F39D4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4DE3-23E0-4223-AFA5-8C57330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1EE5-B381-4A62-9A5C-832708D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1A332-355E-445C-896C-619078E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242D-78AC-4678-BAFF-BD8B2E3C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79D9-7688-4508-AD51-53B933D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5D5F-3628-43C3-8895-EFD76C4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0D93-0682-4F8B-9359-931B505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38F8-9A7F-45D2-BE04-A51E422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56FC-E88B-4E08-A9B6-6AD19A4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6D1F-F0D8-41D5-B0D7-82118D40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AC4B-F71A-4B32-879A-4ADC690E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CEF4E-01A8-4D74-B4AB-1BF096A2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7045-1765-4A1B-998B-BA1D602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8E7CA-BF37-4664-9043-FF81584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D545-08A7-4015-A1DB-34AE743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C0A8A-0D9B-4CA0-89B8-64F54CB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65C4-ABE2-4538-BB8A-4751660F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76DC-552C-46CD-BACF-57E5D45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2B157-52E8-49CA-98A6-C563E79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8A45-378D-4966-A6DC-3CDF7C0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2433-D207-42E1-B190-EA129C2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DBB1-EA14-4707-964B-EF4E7607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EE34-6FFA-47FB-ABC3-5D63305B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FB0E-9479-4802-BDE6-7A9C280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536A9-31AE-4A82-989A-ECBCE79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BDA5-42B8-414A-9739-F50B511D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88720"/>
            <a:ext cx="86421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58680" indent="0">
              <a:lnSpc>
                <a:spcPts val="262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400" y="1320480"/>
            <a:ext cx="8609040" cy="4235400"/>
          </a:xfrm>
          <a:prstGeom prst="rect">
            <a:avLst/>
          </a:prstGeom>
          <a:noFill/>
          <a:ln w="0">
            <a:noFill/>
          </a:ln>
        </p:spPr>
        <p:txBody>
          <a:bodyPr lIns="86040" rIns="34200" tIns="34200" bIns="342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195120" indent="-191880">
              <a:lnSpc>
                <a:spcPct val="110000"/>
              </a:lnSpc>
              <a:spcBef>
                <a:spcPts val="1137"/>
              </a:spcBef>
              <a:buClr>
                <a:srgbClr val="be0027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398520" indent="-1983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127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26920" indent="-210960">
              <a:lnSpc>
                <a:spcPct val="110000"/>
              </a:lnSpc>
              <a:spcBef>
                <a:spcPts val="1137"/>
              </a:spcBef>
              <a:buClr>
                <a:srgbClr val="c0c0c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26920" indent="-21096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SzPct val="92000"/>
              <a:buFont typeface="Wingdings" charset="2"/>
              <a:buChar char="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17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ts val="8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24"/>
          <p:cNvSpPr/>
          <p:nvPr/>
        </p:nvSpPr>
        <p:spPr>
          <a:xfrm>
            <a:off x="6499080" y="6396120"/>
            <a:ext cx="301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Ministerio de Economía y Finanzas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Dirección de Calidad del Gasto Público-DGPP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25"/>
          <p:cNvSpPr/>
          <p:nvPr/>
        </p:nvSpPr>
        <p:spPr>
          <a:xfrm>
            <a:off x="66672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1150920" y="6257520"/>
            <a:ext cx="22384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2625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 </a:t>
            </a:r>
            <a:r>
              <a:rPr b="0" lang="es-ES" sz="1400" spc="-1" strike="noStrike">
                <a:solidFill>
                  <a:srgbClr val="555555"/>
                </a:solidFill>
                <a:latin typeface="Calibri"/>
                <a:ea typeface="ＭＳ Ｐゴシック"/>
              </a:rPr>
              <a:t>República del Perú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5" descr="escperu"/>
          <p:cNvPicPr/>
          <p:nvPr/>
        </p:nvPicPr>
        <p:blipFill>
          <a:blip r:embed="rId2"/>
          <a:stretch/>
        </p:blipFill>
        <p:spPr>
          <a:xfrm>
            <a:off x="66816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9"/>
          <p:cNvSpPr/>
          <p:nvPr/>
        </p:nvSpPr>
        <p:spPr>
          <a:xfrm rot="10800000">
            <a:off x="236520" y="0"/>
            <a:ext cx="31104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ts val="26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Line 4"/>
          <p:cNvSpPr/>
          <p:nvPr/>
        </p:nvSpPr>
        <p:spPr>
          <a:xfrm>
            <a:off x="619200" y="946080"/>
            <a:ext cx="6000840" cy="0"/>
          </a:xfrm>
          <a:prstGeom prst="line">
            <a:avLst/>
          </a:prstGeom>
          <a:ln w="38160">
            <a:solidFill>
              <a:srgbClr val="be00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7E7-8F6B-4091-A9A6-CE2415C69EB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49F-BB30-4DE6-A26A-47A465C3241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CC3-7AE9-4360-B14C-B8730886C20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1967-60AA-40B9-B1A8-2E607D89ABA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9329-8CC0-4714-B53A-545D05F6890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56A-C319-4DB7-8925-9472F2E70EB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DFA-9CDA-4B6C-BC2E-B568499798C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C122-5026-4969-BC2C-B6EED283243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BA5-38C3-42C6-AC26-941B2592D4C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31DC-4A0C-4A62-80B1-A72B5E01277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CC6-A264-41F8-A14C-823B94F9826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3E2-0A3F-42DD-8656-3122FF65F21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81E-9D33-4673-A3DB-92AD38474AE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150B-E302-45DD-8F45-FA24340D969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9F0-F7BE-4A9E-BEAD-F1A336C0389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4239-7517-4581-9BCC-2B8BF5E612C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4B97-D78A-44B2-8616-CA2BB546346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CB11-658E-4445-A1C5-1C27A2C954DC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dt" idx="7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ftr" idx="7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sldNum" idx="7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5D1E-B71A-4891-9C5D-37D980A6CC1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dt" idx="7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ftr" idx="8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sldNum" idx="8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0C57-DFEF-4D92-B544-7371E3CE525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8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8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8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6CB0-0676-49E6-9A0D-27695279589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724-BB28-4C93-BF74-234D6441543E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8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8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8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B54-6163-4D92-9531-C45FA61575E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8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9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12B-E3AF-4F72-A5CF-E0674AA2FE2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9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9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9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53E-FA5F-4878-BE02-EB46CBB2F8C0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864-79A9-4CCD-B44F-DA964EDF075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9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9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9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5DAF-B249-4C03-B662-DB5B2E25060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7BD-06B5-4081-8CDE-E216785A4052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 type="dt" idx="10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 type="ftr" idx="10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 type="sldNum" idx="10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E1E-DD5A-4EDD-A9AE-00CFF100572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4C3-675F-4FA0-97C3-4F06B68968B1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8B04-ECB2-4AF2-9985-043C35B16D3D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81C-3148-4E2E-954C-E6625EDFC33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84D-038B-401A-9576-E786908684E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40B-455C-4AFC-8D38-A758ED6E13B8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F8F-556C-43C7-BC67-F7B21A5DB1C7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9D78-19DC-4017-AD32-F95680B2F9F5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58C5-7351-42BC-9FB2-95CABDC59C2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735804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Text Box 5"/>
          <p:cNvSpPr/>
          <p:nvPr/>
        </p:nvSpPr>
        <p:spPr>
          <a:xfrm>
            <a:off x="-2126880" y="673200"/>
            <a:ext cx="2142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be0027"/>
                </a:solidFill>
                <a:latin typeface="Trebuchet MS"/>
                <a:ea typeface="ＭＳ Ｐゴシック"/>
              </a:rPr>
              <a:t>DO NOT REFRESH</a:t>
            </a:r>
            <a:endParaRPr b="1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Text Box 17"/>
          <p:cNvSpPr/>
          <p:nvPr/>
        </p:nvSpPr>
        <p:spPr>
          <a:xfrm>
            <a:off x="7624800" y="6446880"/>
            <a:ext cx="18003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d58b46"/>
                </a:solidFill>
                <a:latin typeface="Trebuchet MS"/>
                <a:ea typeface="ＭＳ Ｐゴシック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7185960" y="6391440"/>
            <a:ext cx="27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Ministerio de Economía y Finanzas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Line 25"/>
          <p:cNvSpPr/>
          <p:nvPr/>
        </p:nvSpPr>
        <p:spPr>
          <a:xfrm>
            <a:off x="933480" y="6234120"/>
            <a:ext cx="8972640" cy="1440"/>
          </a:xfrm>
          <a:prstGeom prst="line">
            <a:avLst/>
          </a:prstGeom>
          <a:ln cap="sq"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Text Box 14"/>
          <p:cNvSpPr/>
          <p:nvPr/>
        </p:nvSpPr>
        <p:spPr>
          <a:xfrm>
            <a:off x="1417680" y="6422760"/>
            <a:ext cx="223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555555"/>
                </a:solidFill>
                <a:latin typeface="Trebuchet MS"/>
                <a:ea typeface="ＭＳ Ｐゴシック"/>
              </a:rPr>
              <a:t>República del Perú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9" name="Picture 5" descr="escperu"/>
          <p:cNvPicPr/>
          <p:nvPr/>
        </p:nvPicPr>
        <p:blipFill>
          <a:blip r:embed="rId1"/>
          <a:stretch/>
        </p:blipFill>
        <p:spPr>
          <a:xfrm>
            <a:off x="934920" y="6265800"/>
            <a:ext cx="457200" cy="480960"/>
          </a:xfrm>
          <a:prstGeom prst="rect">
            <a:avLst/>
          </a:prstGeom>
          <a:ln w="0">
            <a:noFill/>
          </a:ln>
        </p:spPr>
      </p:pic>
      <p:sp>
        <p:nvSpPr>
          <p:cNvPr id="1570" name="Rectangle 9"/>
          <p:cNvSpPr/>
          <p:nvPr/>
        </p:nvSpPr>
        <p:spPr>
          <a:xfrm rot="10800000">
            <a:off x="523440" y="0"/>
            <a:ext cx="311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1" name="12 Imagen" descr="FONDO_MOD_2-01.tif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938400" y="2306520"/>
            <a:ext cx="545940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SISTENCIA TÉCNICA EN EL MARCO DEL PLAN DE INCENTIVOS A LA MEJORA DE LA GESTIÓN Y MODERNIZACIÓN MUNICIPA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1 Título"/>
          <p:cNvSpPr/>
          <p:nvPr/>
        </p:nvSpPr>
        <p:spPr>
          <a:xfrm>
            <a:off x="3919680" y="5033880"/>
            <a:ext cx="546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ción General de Presupuesto Público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1 Título"/>
          <p:cNvSpPr/>
          <p:nvPr/>
        </p:nvSpPr>
        <p:spPr>
          <a:xfrm>
            <a:off x="3938760" y="6237360"/>
            <a:ext cx="2831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a,  Noviembre de 2014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5" name="14 Rectángulo"/>
          <p:cNvSpPr/>
          <p:nvPr/>
        </p:nvSpPr>
        <p:spPr>
          <a:xfrm flipH="1">
            <a:off x="3801960" y="2306520"/>
            <a:ext cx="46080" cy="13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6" name="15 Rectángulo"/>
          <p:cNvSpPr/>
          <p:nvPr/>
        </p:nvSpPr>
        <p:spPr>
          <a:xfrm flipH="1">
            <a:off x="3867840" y="5033880"/>
            <a:ext cx="47880" cy="981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7" name="Picture 5" descr=""/>
          <p:cNvPicPr/>
          <p:nvPr/>
        </p:nvPicPr>
        <p:blipFill>
          <a:blip r:embed="rId3"/>
          <a:srcRect l="0" t="0" r="26785" b="0"/>
          <a:stretch/>
        </p:blipFill>
        <p:spPr>
          <a:xfrm>
            <a:off x="735120" y="542880"/>
            <a:ext cx="4314600" cy="571680"/>
          </a:xfrm>
          <a:prstGeom prst="rect">
            <a:avLst/>
          </a:prstGeom>
          <a:ln w="0">
            <a:noFill/>
          </a:ln>
        </p:spPr>
      </p:pic>
      <p:sp>
        <p:nvSpPr>
          <p:cNvPr id="1578" name="1 CuadroTexto"/>
          <p:cNvSpPr/>
          <p:nvPr/>
        </p:nvSpPr>
        <p:spPr>
          <a:xfrm>
            <a:off x="1521000" y="622440"/>
            <a:ext cx="186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2 CuadroTexto"/>
          <p:cNvSpPr/>
          <p:nvPr/>
        </p:nvSpPr>
        <p:spPr>
          <a:xfrm>
            <a:off x="3430800" y="695160"/>
            <a:ext cx="140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spacho  Viceministerial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338A-3197-430C-8A7E-993E051BEB5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5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1.  Prepar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9" name="Diagrama 1" descr=""/>
          <p:cNvPicPr/>
          <p:nvPr/>
        </p:nvPicPr>
        <p:blipFill>
          <a:blip r:embed="rId3"/>
          <a:stretch/>
        </p:blipFill>
        <p:spPr>
          <a:xfrm>
            <a:off x="384120" y="1792440"/>
            <a:ext cx="6980400" cy="482112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10" descr="C:\Users\Jorge Nicho\AppData\Local\Microsoft\Windows\Temporary Internet Files\Content.IE5\C2ZX4099\MC900441400[1].png"/>
          <p:cNvPicPr/>
          <p:nvPr/>
        </p:nvPicPr>
        <p:blipFill>
          <a:blip r:embed="rId4"/>
          <a:stretch/>
        </p:blipFill>
        <p:spPr>
          <a:xfrm>
            <a:off x="7483320" y="3559320"/>
            <a:ext cx="2400480" cy="300960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12" descr="C:\Users\Jorge Nicho\AppData\Local\Microsoft\Windows\Temporary Internet Files\Content.IE5\C2ZX4099\MM900283190[1].gif"/>
          <p:cNvPicPr/>
          <p:nvPr/>
        </p:nvPicPr>
        <p:blipFill>
          <a:blip r:embed="rId5"/>
          <a:stretch/>
        </p:blipFill>
        <p:spPr>
          <a:xfrm>
            <a:off x="7905600" y="1987560"/>
            <a:ext cx="159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D210-FAF0-470E-8929-2D94D9C7142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6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2.  Realización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69" name="Diagrama 1" descr=""/>
          <p:cNvPicPr/>
          <p:nvPr/>
        </p:nvPicPr>
        <p:blipFill>
          <a:blip r:embed="rId3"/>
          <a:stretch/>
        </p:blipFill>
        <p:spPr>
          <a:xfrm>
            <a:off x="1359000" y="1773360"/>
            <a:ext cx="68832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799E-365E-4FFF-B1DF-50F3EF8CFEBB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1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72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5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3.  Lecciones aprendidas de la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6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12" descr="C:\Users\Jorge Nicho\AppData\Local\Microsoft\Windows\Temporary Internet Files\Content.IE5\J6OMQB5M\MP900387543[1].jpg"/>
          <p:cNvPicPr/>
          <p:nvPr/>
        </p:nvPicPr>
        <p:blipFill>
          <a:blip r:embed="rId3"/>
          <a:stretch/>
        </p:blipFill>
        <p:spPr>
          <a:xfrm>
            <a:off x="857160" y="1927080"/>
            <a:ext cx="2406600" cy="171612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13" descr="C:\Users\Jorge Nicho\AppData\Local\Microsoft\Windows\Temporary Internet Files\Content.IE5\J6OMQB5M\MC900251701[1].wmf"/>
          <p:cNvPicPr/>
          <p:nvPr/>
        </p:nvPicPr>
        <p:blipFill>
          <a:blip r:embed="rId4"/>
          <a:stretch/>
        </p:blipFill>
        <p:spPr>
          <a:xfrm>
            <a:off x="4156200" y="40924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18" descr="C:\Users\Jorge Nicho\AppData\Local\Microsoft\Windows\Temporary Internet Files\Content.IE5\2IVDAV29\MC900437115[1].wmf"/>
          <p:cNvPicPr/>
          <p:nvPr/>
        </p:nvPicPr>
        <p:blipFill>
          <a:blip r:embed="rId5"/>
          <a:stretch/>
        </p:blipFill>
        <p:spPr>
          <a:xfrm>
            <a:off x="6634080" y="1889280"/>
            <a:ext cx="2509920" cy="1712880"/>
          </a:xfrm>
          <a:prstGeom prst="rect">
            <a:avLst/>
          </a:prstGeom>
          <a:ln w="0">
            <a:noFill/>
          </a:ln>
        </p:spPr>
      </p:pic>
      <p:sp>
        <p:nvSpPr>
          <p:cNvPr id="1680" name="21 Rectángulo redondeado"/>
          <p:cNvSpPr/>
          <p:nvPr/>
        </p:nvSpPr>
        <p:spPr>
          <a:xfrm>
            <a:off x="969840" y="4135320"/>
            <a:ext cx="2082960" cy="105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Espacios de reflexió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22 Rectángulo redondeado"/>
          <p:cNvSpPr/>
          <p:nvPr/>
        </p:nvSpPr>
        <p:spPr>
          <a:xfrm>
            <a:off x="3965400" y="2644920"/>
            <a:ext cx="2081520" cy="1012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Implementar las mejor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23 Rectángulo redondeado"/>
          <p:cNvSpPr/>
          <p:nvPr/>
        </p:nvSpPr>
        <p:spPr>
          <a:xfrm>
            <a:off x="6834240" y="4105440"/>
            <a:ext cx="2082600" cy="104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DGPP-MEF puede compartir recomendacion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34E-BDDC-4133-973E-75C3E2CFB02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8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7.  Ciclo del Plan de Incentivo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90" name="9 Diagrama" descr=""/>
          <p:cNvPicPr/>
          <p:nvPr/>
        </p:nvPicPr>
        <p:blipFill>
          <a:blip r:embed="rId3"/>
          <a:stretch/>
        </p:blipFill>
        <p:spPr>
          <a:xfrm>
            <a:off x="1523880" y="2041560"/>
            <a:ext cx="6602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8 Imagen" descr="FONDO_MOD_2-01.tif"/>
          <p:cNvPicPr/>
          <p:nvPr/>
        </p:nvPicPr>
        <p:blipFill>
          <a:blip r:embed="rId1"/>
          <a:stretch/>
        </p:blipFill>
        <p:spPr>
          <a:xfrm>
            <a:off x="-11160" y="-11160"/>
            <a:ext cx="9904320" cy="685656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5" descr=""/>
          <p:cNvPicPr/>
          <p:nvPr/>
        </p:nvPicPr>
        <p:blipFill>
          <a:blip r:embed="rId2"/>
          <a:srcRect l="0" t="0" r="55000" b="0"/>
          <a:stretch/>
        </p:blipFill>
        <p:spPr>
          <a:xfrm>
            <a:off x="571680" y="404640"/>
            <a:ext cx="2808000" cy="559080"/>
          </a:xfrm>
          <a:prstGeom prst="rect">
            <a:avLst/>
          </a:prstGeom>
          <a:ln w="0">
            <a:noFill/>
          </a:ln>
        </p:spPr>
      </p:pic>
      <p:sp>
        <p:nvSpPr>
          <p:cNvPr id="1693" name="14 CuadroTexto"/>
          <p:cNvSpPr/>
          <p:nvPr/>
        </p:nvSpPr>
        <p:spPr>
          <a:xfrm>
            <a:off x="1663560" y="525600"/>
            <a:ext cx="17938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inisterio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 Economía y Finanzas</a:t>
            </a:r>
            <a:endParaRPr b="1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1 Título"/>
          <p:cNvSpPr/>
          <p:nvPr/>
        </p:nvSpPr>
        <p:spPr>
          <a:xfrm>
            <a:off x="6330960" y="5099040"/>
            <a:ext cx="35751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rge L. Nicho Cárdena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nichoc@mef.gob.p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16 Rectángulo"/>
          <p:cNvSpPr/>
          <p:nvPr/>
        </p:nvSpPr>
        <p:spPr>
          <a:xfrm flipH="1">
            <a:off x="6298560" y="5943600"/>
            <a:ext cx="50760" cy="76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9 CuadroTexto"/>
          <p:cNvSpPr/>
          <p:nvPr/>
        </p:nvSpPr>
        <p:spPr>
          <a:xfrm>
            <a:off x="4003560" y="31669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¡GRACIAS!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81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1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5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86" name="Rectángulo 1"/>
          <p:cNvSpPr/>
          <p:nvPr/>
        </p:nvSpPr>
        <p:spPr>
          <a:xfrm>
            <a:off x="782640" y="2382840"/>
            <a:ext cx="3846600" cy="2838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Asesoría técnica (conocimiento técnico y experiencia práctica) y soporte que brindará la entidad pública responsable de meta a los gobiernos locales para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mover el cumplimiento de las metas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establecidas en el PI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Imagen 1" descr=""/>
          <p:cNvPicPr/>
          <p:nvPr/>
        </p:nvPicPr>
        <p:blipFill>
          <a:blip r:embed="rId3"/>
          <a:srcRect l="2787" t="0" r="4542" b="0"/>
          <a:stretch/>
        </p:blipFill>
        <p:spPr>
          <a:xfrm>
            <a:off x="4870440" y="4243320"/>
            <a:ext cx="3781440" cy="229572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9" descr="C:\Users\Jorge Nicho\AppData\Local\Microsoft\Windows\Temporary Internet Files\Content.IE5\C2ZX4099\MC900230931[1].wmf"/>
          <p:cNvPicPr/>
          <p:nvPr/>
        </p:nvPicPr>
        <p:blipFill>
          <a:blip r:embed="rId4"/>
          <a:stretch/>
        </p:blipFill>
        <p:spPr>
          <a:xfrm>
            <a:off x="6089760" y="1981080"/>
            <a:ext cx="1638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59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3" name="1 CuadroTexto"/>
          <p:cNvSpPr/>
          <p:nvPr/>
        </p:nvSpPr>
        <p:spPr>
          <a:xfrm>
            <a:off x="1353240" y="103500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1. ¿Qué se entiende por asistencia técnica? (2/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4" name="Picture 2" descr=""/>
          <p:cNvPicPr/>
          <p:nvPr/>
        </p:nvPicPr>
        <p:blipFill>
          <a:blip r:embed="rId2"/>
          <a:stretch/>
        </p:blipFill>
        <p:spPr>
          <a:xfrm>
            <a:off x="603360" y="318960"/>
            <a:ext cx="6245280" cy="603360"/>
          </a:xfrm>
          <a:prstGeom prst="rect">
            <a:avLst/>
          </a:prstGeom>
          <a:ln w="0">
            <a:noFill/>
          </a:ln>
        </p:spPr>
      </p:pic>
      <p:sp>
        <p:nvSpPr>
          <p:cNvPr id="1595" name="Rectángulo 1"/>
          <p:cNvSpPr/>
          <p:nvPr/>
        </p:nvSpPr>
        <p:spPr>
          <a:xfrm>
            <a:off x="5845320" y="3164040"/>
            <a:ext cx="3846240" cy="19234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Un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proceso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 planificado y articulado que combina las </a:t>
            </a: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HelveticaNeue-BoldItalic"/>
              </a:rPr>
              <a:t>3 modalidades </a:t>
            </a:r>
            <a:r>
              <a:rPr b="1" i="1" lang="es-ES" sz="2000" spc="-1" strike="noStrike">
                <a:solidFill>
                  <a:srgbClr val="000000"/>
                </a:solidFill>
                <a:latin typeface="HelveticaNeue-BoldItalic"/>
              </a:rPr>
              <a:t>de AT para  promover el cumplimiento de las metas establecidas en el PI por parte de los GL’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Diagrama 9" descr=""/>
          <p:cNvPicPr/>
          <p:nvPr/>
        </p:nvPicPr>
        <p:blipFill>
          <a:blip r:embed="rId3"/>
          <a:stretch/>
        </p:blipFill>
        <p:spPr>
          <a:xfrm>
            <a:off x="-639720" y="1908000"/>
            <a:ext cx="615636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95000" y="79380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c07b9"/>
                </a:solidFill>
                <a:latin typeface="Calibri"/>
              </a:rPr>
              <a:t>2. </a:t>
            </a:r>
            <a:r>
              <a:rPr b="1" lang="es-ES" sz="3200" spc="-1" strike="noStrike">
                <a:solidFill>
                  <a:srgbClr val="1c07b9"/>
                </a:solidFill>
                <a:latin typeface="Calibri"/>
              </a:rPr>
              <a:t>¿Cuál es el proceso de Asistencia Técn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541080" y="1775880"/>
            <a:ext cx="89154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9" name="Group 15"/>
          <p:cNvGrpSpPr/>
          <p:nvPr/>
        </p:nvGrpSpPr>
        <p:grpSpPr>
          <a:xfrm>
            <a:off x="703440" y="336600"/>
            <a:ext cx="6242040" cy="579240"/>
            <a:chOff x="703440" y="336600"/>
            <a:chExt cx="6242040" cy="579240"/>
          </a:xfrm>
        </p:grpSpPr>
        <p:pic>
          <p:nvPicPr>
            <p:cNvPr id="1600" name="Picture 5" descr=""/>
            <p:cNvPicPr/>
            <p:nvPr/>
          </p:nvPicPr>
          <p:blipFill>
            <a:blip r:embed="rId1"/>
            <a:stretch/>
          </p:blipFill>
          <p:spPr>
            <a:xfrm>
              <a:off x="703440" y="336600"/>
              <a:ext cx="624204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1 CuadroTexto"/>
            <p:cNvSpPr/>
            <p:nvPr/>
          </p:nvSpPr>
          <p:spPr>
            <a:xfrm>
              <a:off x="1293120" y="466560"/>
              <a:ext cx="2014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Ministerio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Economía y finanzas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2" name="2 CuadroTexto"/>
            <p:cNvSpPr/>
            <p:nvPr/>
          </p:nvSpPr>
          <p:spPr>
            <a:xfrm>
              <a:off x="3575160" y="517320"/>
              <a:ext cx="1462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espacho 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Viceministerial de Hacienda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3" name="5 CuadroTexto"/>
            <p:cNvSpPr/>
            <p:nvPr/>
          </p:nvSpPr>
          <p:spPr>
            <a:xfrm>
              <a:off x="5460120" y="430200"/>
              <a:ext cx="115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Dirección General de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resupuesto Público</a:t>
              </a:r>
              <a:endParaRPr b="1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1604" name="Diagrama 3" descr=""/>
          <p:cNvPicPr/>
          <p:nvPr/>
        </p:nvPicPr>
        <p:blipFill>
          <a:blip r:embed="rId2"/>
          <a:stretch/>
        </p:blipFill>
        <p:spPr>
          <a:xfrm>
            <a:off x="1292400" y="1596960"/>
            <a:ext cx="6960960" cy="4724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0" descr="C:\Users\Jorge Nicho\AppData\Local\Microsoft\Windows\Temporary Internet Files\Content.IE5\2IVDAV29\MC900240365[1].wmf"/>
          <p:cNvPicPr/>
          <p:nvPr/>
        </p:nvPicPr>
        <p:blipFill>
          <a:blip r:embed="rId3"/>
          <a:stretch/>
        </p:blipFill>
        <p:spPr>
          <a:xfrm>
            <a:off x="6840360" y="2084400"/>
            <a:ext cx="1879920" cy="111456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13" descr="C:\Users\Jorge Nicho\AppData\Local\Microsoft\Windows\Temporary Internet Files\Content.IE5\J6OMQB5M\MC900335216[1].wmf"/>
          <p:cNvPicPr/>
          <p:nvPr/>
        </p:nvPicPr>
        <p:blipFill>
          <a:blip r:embed="rId4"/>
          <a:stretch/>
        </p:blipFill>
        <p:spPr>
          <a:xfrm>
            <a:off x="677880" y="3159000"/>
            <a:ext cx="1798560" cy="17510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14" descr="C:\Users\Jorge Nicho\AppData\Local\Microsoft\Windows\Temporary Internet Files\Content.IE5\C2ZX4099\MC900289939[1].wmf"/>
          <p:cNvPicPr/>
          <p:nvPr/>
        </p:nvPicPr>
        <p:blipFill>
          <a:blip r:embed="rId5"/>
          <a:stretch/>
        </p:blipFill>
        <p:spPr>
          <a:xfrm>
            <a:off x="6745320" y="5230800"/>
            <a:ext cx="20192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22F-F331-41F8-84C7-F2F059E01EEA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9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0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2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3.  Planificación de los compromisos de 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4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15" name="Diagrama 1" descr=""/>
          <p:cNvPicPr/>
          <p:nvPr/>
        </p:nvPicPr>
        <p:blipFill>
          <a:blip r:embed="rId3"/>
          <a:stretch/>
        </p:blipFill>
        <p:spPr>
          <a:xfrm>
            <a:off x="1195560" y="1700280"/>
            <a:ext cx="74548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C8D-2138-4C33-ABD5-F5DB2AE23EC4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7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18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0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1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2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23" name="Diagrama 2" descr=""/>
          <p:cNvPicPr/>
          <p:nvPr/>
        </p:nvPicPr>
        <p:blipFill>
          <a:blip r:embed="rId3"/>
          <a:stretch/>
        </p:blipFill>
        <p:spPr>
          <a:xfrm>
            <a:off x="1000080" y="1901880"/>
            <a:ext cx="6607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F79A-5088-4BCD-8C8C-7E7346FB6EAE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5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26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4.  Modalidad: Materiales educativos (2/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0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1" name="Diagrama 1" descr=""/>
          <p:cNvPicPr/>
          <p:nvPr/>
        </p:nvPicPr>
        <p:blipFill>
          <a:blip r:embed="rId3"/>
          <a:stretch/>
        </p:blipFill>
        <p:spPr>
          <a:xfrm>
            <a:off x="1487520" y="1779480"/>
            <a:ext cx="66196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EBE1-501A-4207-A86B-2B92078A5039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3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34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5.  Modalidad: Asesorí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8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39" name="Diagrama 1" descr=""/>
          <p:cNvPicPr/>
          <p:nvPr/>
        </p:nvPicPr>
        <p:blipFill>
          <a:blip r:embed="rId3"/>
          <a:stretch/>
        </p:blipFill>
        <p:spPr>
          <a:xfrm>
            <a:off x="1835280" y="1712880"/>
            <a:ext cx="6229080" cy="415152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0" descr="C:\Users\Jorge Nicho\AppData\Local\Microsoft\Windows\Temporary Internet Files\Content.IE5\J6OMQB5M\MC900434874[1].png"/>
          <p:cNvPicPr/>
          <p:nvPr/>
        </p:nvPicPr>
        <p:blipFill>
          <a:blip r:embed="rId4"/>
          <a:stretch/>
        </p:blipFill>
        <p:spPr>
          <a:xfrm>
            <a:off x="8051760" y="281304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1" descr="C:\Users\Jorge Nicho\AppData\Local\Microsoft\Windows\Temporary Internet Files\Content.IE5\2IVDAV29\MC900088866[1].wmf"/>
          <p:cNvPicPr/>
          <p:nvPr/>
        </p:nvPicPr>
        <p:blipFill>
          <a:blip r:embed="rId5"/>
          <a:stretch/>
        </p:blipFill>
        <p:spPr>
          <a:xfrm>
            <a:off x="31680" y="2998800"/>
            <a:ext cx="1822680" cy="1592280"/>
          </a:xfrm>
          <a:prstGeom prst="rect">
            <a:avLst/>
          </a:prstGeom>
          <a:ln w="0">
            <a:noFill/>
          </a:ln>
        </p:spPr>
      </p:pic>
      <p:sp>
        <p:nvSpPr>
          <p:cNvPr id="1642" name="11 Rectángulo redondeado"/>
          <p:cNvSpPr/>
          <p:nvPr/>
        </p:nvSpPr>
        <p:spPr>
          <a:xfrm>
            <a:off x="1884240" y="5937120"/>
            <a:ext cx="6177240" cy="892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e recomienda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Sistematizar las consultas recurrentes (FAQ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 Narrow"/>
              </a:rPr>
              <a:t>Crear correos para consulta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Marcador de número de diapositiva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62DA-B68F-409F-9F2A-E2F57775A7EF}" type="slidenum">
              <a:rPr b="1" lang="es-ES" sz="1200" spc="-1" strike="noStrike">
                <a:solidFill>
                  <a:srgbClr val="898989"/>
                </a:solidFill>
                <a:latin typeface="Arial Narro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4" name="Picture 5" descr=""/>
          <p:cNvPicPr/>
          <p:nvPr/>
        </p:nvPicPr>
        <p:blipFill>
          <a:blip r:embed="rId1"/>
          <a:stretch/>
        </p:blipFill>
        <p:spPr>
          <a:xfrm>
            <a:off x="649440" y="336600"/>
            <a:ext cx="5760720" cy="558720"/>
          </a:xfrm>
          <a:prstGeom prst="rect">
            <a:avLst/>
          </a:prstGeom>
          <a:ln w="0">
            <a:noFill/>
          </a:ln>
        </p:spPr>
      </p:pic>
      <p:sp>
        <p:nvSpPr>
          <p:cNvPr id="1645" name="1 CuadroTexto"/>
          <p:cNvSpPr/>
          <p:nvPr/>
        </p:nvSpPr>
        <p:spPr>
          <a:xfrm>
            <a:off x="1193760" y="466560"/>
            <a:ext cx="185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Ministerio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Economía y finanza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6" name="2 CuadroTexto"/>
          <p:cNvSpPr/>
          <p:nvPr/>
        </p:nvSpPr>
        <p:spPr>
          <a:xfrm>
            <a:off x="3282120" y="5176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Viceministerio de Hacienda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7" name="5 CuadroTexto"/>
          <p:cNvSpPr/>
          <p:nvPr/>
        </p:nvSpPr>
        <p:spPr>
          <a:xfrm>
            <a:off x="5018400" y="422280"/>
            <a:ext cx="11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Dirección General d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Presupuesto Público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8" name="2 CuadroTexto"/>
          <p:cNvSpPr/>
          <p:nvPr/>
        </p:nvSpPr>
        <p:spPr>
          <a:xfrm>
            <a:off x="355680" y="1077840"/>
            <a:ext cx="90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c07b9"/>
                </a:solidFill>
                <a:latin typeface="Calibri"/>
                <a:ea typeface="ＭＳ Ｐゴシック"/>
              </a:rPr>
              <a:t>6.  Modalidad: Capacitació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9" name="Picture 2" descr=""/>
          <p:cNvPicPr/>
          <p:nvPr/>
        </p:nvPicPr>
        <p:blipFill>
          <a:blip r:embed="rId2"/>
          <a:stretch/>
        </p:blipFill>
        <p:spPr>
          <a:xfrm>
            <a:off x="590400" y="345960"/>
            <a:ext cx="6243840" cy="603360"/>
          </a:xfrm>
          <a:prstGeom prst="rect">
            <a:avLst/>
          </a:prstGeom>
          <a:ln w="0">
            <a:noFill/>
          </a:ln>
        </p:spPr>
      </p:pic>
      <p:pic>
        <p:nvPicPr>
          <p:cNvPr id="1650" name="Diagrama 2" descr=""/>
          <p:cNvPicPr/>
          <p:nvPr/>
        </p:nvPicPr>
        <p:blipFill>
          <a:blip r:embed="rId3"/>
          <a:stretch/>
        </p:blipFill>
        <p:spPr>
          <a:xfrm>
            <a:off x="2090880" y="1768320"/>
            <a:ext cx="5443560" cy="3473640"/>
          </a:xfrm>
          <a:prstGeom prst="rect">
            <a:avLst/>
          </a:prstGeom>
          <a:ln w="0">
            <a:noFill/>
          </a:ln>
        </p:spPr>
      </p:pic>
      <p:sp>
        <p:nvSpPr>
          <p:cNvPr id="1651" name="Rectángulo redondeado 3"/>
          <p:cNvSpPr/>
          <p:nvPr/>
        </p:nvSpPr>
        <p:spPr>
          <a:xfrm>
            <a:off x="1806480" y="5761080"/>
            <a:ext cx="6015240" cy="826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La capacitación par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Narrow"/>
              </a:rPr>
              <a:t>cumplimiento de meta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será presencial, pudiendo complementarse con otras capacitacion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rgas Terrones, Karina</dc:creator>
  <dc:description/>
  <dc:language>en-US</dc:language>
  <cp:lastModifiedBy>Nicho Cárdenas, Jorge</cp:lastModifiedBy>
  <dcterms:modified xsi:type="dcterms:W3CDTF">2015-06-02T19:12:51Z</dcterms:modified>
  <cp:revision>67</cp:revision>
  <dc:subject/>
  <dc:title>PLAN DE INCENTIVOS A LA MEJORA DE LA GESTIÓN Y MODERNIZACIÓN MUNICIPAL</dc:title>
</cp:coreProperties>
</file>