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5.jpeg" ContentType="image/jpeg"/>
  <Override PartName="/ppt/media/image24.wmf" ContentType="image/x-wmf"/>
  <Override PartName="/ppt/media/image25.wmf" ContentType="image/x-wmf"/>
  <Override PartName="/ppt/media/image23.jpeg" ContentType="image/jpeg"/>
  <Override PartName="/ppt/media/image22.png" ContentType="image/png"/>
  <Override PartName="/ppt/media/image19.png" ContentType="image/png"/>
  <Override PartName="/ppt/media/image21.gif" ContentType="image/gif"/>
  <Override PartName="/ppt/media/image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</p:sldIdLst>
  <p:sldSz cx="9907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F67C6-ED8B-4CDE-AEBE-222819A7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23FDB-0BC4-4890-BC23-E4218311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3FF6E-F790-43B3-9833-3B512EB4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7338D-9A07-4FAD-96E8-31B60315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B3FB0-984F-4971-856C-87323D87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3C9CC-E756-4559-AF24-2EA7F2EC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A3174-0021-488A-B58F-6AF9A622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4E89E-A6F8-49B1-AED4-B7344453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FD644-AF6A-4A09-B44D-42245F1B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EA25B-5927-4368-AEE9-5E65019C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B9B58-51FF-45C7-AB17-27953A0F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1A6CA-3991-4646-A940-1D672DE9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CBEB1-6FDA-4212-A24D-943DABDD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B97D7-35A0-4118-B859-DEF4C905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1B03B-40EB-4891-A950-87D3D770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379AF-FFC9-418E-A4AD-E9BEA79D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C0DB4-7EE4-434A-9AAB-EBBD8F47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3AD01-DED5-4621-8481-082D8A27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358F0-99BE-4114-A6FE-B30F71D6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1E130-1B45-41AE-A70B-91E867D1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45307-836A-4E49-B8C9-85DE9ABB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2295F-DBE2-4FDE-A098-B5F86F77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98497-7794-4D76-9A4B-DA6903CC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0BB9D-ACDA-432E-85D8-E5322982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CAF28-2E42-49AC-BC0C-52109CE3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45B7F-79C3-4B21-9596-501397DD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C3A9D-8C8D-41C1-8073-B1D9ADEB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AC153-596B-42B3-B55C-0DFA1AA0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51B27-BEC4-47CD-A653-F14D1C9F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18FD0-E1D6-444A-B719-C077A14F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902-9B54-4E22-8428-EA3B0CB9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DE96A-3D63-43CC-842E-6736B4F4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E44C9-B870-4BB6-8D75-D3354522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56D18-E62F-49ED-941B-964423B4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D4DCC-0432-4FD2-BB05-9EA2CD6A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72E11-DF2D-4AC3-9597-A9E611F5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67A87-5DD7-4E3D-8F84-9817440C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E1BA1-1E29-4FB8-B188-6033944D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313D7-6F42-4204-B785-CE17A393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4B72B-AFBA-48A4-8130-67F2B6D2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0F92D-7E12-4085-9E0D-F3B42407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498-B6C2-4442-81FE-108A70A7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C15B9-B656-40BA-9C5A-71BAA754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ED6F2-06B2-4B09-9765-AF2F50DF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EC4EF-1EF2-4267-984D-6DD0FC9C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F1DB5-DB01-4877-8797-AD61EF11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5D5EE-8FEE-431D-9329-5E91EC00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327F3-49AF-43AD-9429-41701D56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C24CC-6384-45FC-92A3-770EB0C6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EFA97-73DD-42E9-AB00-4D9E8EE3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57449-1FC9-49CE-8487-750167E1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D43EC-2BB3-49D0-8879-C2613C8C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329-6D07-476B-8118-D23F5E93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162EC-3A91-4776-BCA2-BA99D495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D31E8-ED2E-43F9-BACB-0E078E26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9A03B-02ED-494E-AD82-AE91F406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81AAC-3078-4536-B7CA-2D1ABAE3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2550E-5933-49D4-87ED-715758D8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98192-7045-4093-8C3A-5398599E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1E60E-3B08-438A-AC50-CAAA1E53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B346C-105D-4D1F-BB3B-ABD454C9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8B7A2-AE2F-4893-9B48-C4096B91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A8127-BF35-40C8-B02B-39F6644F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A08-E318-41F5-801E-9D9E7A21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D1B1A-226B-4113-8D86-8BB8DB4B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0A822-8226-4121-A16E-96720452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8BFF0-E147-426A-A492-72817E8C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DCA6B-0813-441F-8D0C-B36280F3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D42561-0BAC-41FC-B3C8-583579E0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308D7-D564-4501-AADA-E56DA78B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DCDA9-9B6C-4AEC-9540-20C382DA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18828-B528-456E-99D5-419FE1E4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5478C-1B1A-47BC-976D-C67180E3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B15FF1-2968-457F-B444-91E966D2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405-EAF7-474D-9EEC-C6A41D2A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1A9D0-9E07-4D08-B18A-5DE722F4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DF511-3650-4553-B706-F4E13248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F208DB-3A55-4030-8A0D-ED7F2657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461A16-1223-4E0D-B6BB-B27E078D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60AACF-7D68-40F4-A799-52898591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79334C-B78B-41A6-9E97-FF83844B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42DB6-5D52-4462-833D-758A635F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8CE6C-74EB-4616-9ED4-41E86114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9168F-4D8E-491D-8D8D-6E6C997E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FD8D3-40F5-4E9A-B3F5-59C11CAA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77D-E384-4088-A3F4-D993EAFB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58DD8-8771-4997-8654-045B4EA9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2E082-60FF-4063-A0A6-74F11923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06D8FD-C7B0-4942-A406-44415A9E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E078C-1FE4-414C-AD01-E39696C1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8B18D6-8710-4F76-9CA3-B7048BB2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B57A9C-77C1-4BDC-B81C-FAB35B9C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FFD466-2C5C-40F0-AB4B-52652959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087ABF-2064-4C71-8B57-710DF44B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AC5C9-C044-436C-9CC3-95A2BCE0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066F59-4A8D-473C-A0D2-F7BA8224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F04-0BCB-46FA-A85C-86B45E98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E56572-E528-4DA1-B7B3-A85338A1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291A3-30D1-4FE8-A72E-A3FD1689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0EAE9C-9E4E-4178-B0CA-9FFB030B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3A5A81-A428-49CD-87A4-5989C9EA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184976-CEF5-4775-858B-09656F53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4FA2D8-73C1-4F92-85E8-96F39873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4BF28-AB24-43BE-8E41-A09437E6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39E65C-4F99-4C88-9A39-AAF54F3E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0FA61-9C08-45D9-B828-419FCF8B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2A246F-6EC4-42EC-A8E8-51283F88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1AF-D2F8-417C-BE4D-CF623D1E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F127E3-727C-4845-B296-E3CE321B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00421D-4107-4327-9C7D-1AD2B8B0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B6F85E-677E-44F4-9073-4440962C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213A3-BBED-4140-8093-FD57F33B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D3A183-3DDB-4B21-931C-519225FF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9DEC2-01F8-4D16-B4FB-50AF54A3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65F20-F92A-4B43-AB6F-52ECE3EE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AEC478-7CB7-48E7-910E-96AC2410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2805D-7240-427E-8FF5-86CD0FF3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E0EC97-C61F-4E39-A715-4D147045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BC13-26E0-4398-87AA-01585654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F24C0B-C8A1-451A-A188-09C85A83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D9F348-D4B6-4031-8050-0D0B4FEB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D97F44-87E8-45C7-B0AC-476A17DB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F805FE-BACA-4848-96B7-06FC8E68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7CB2D6-0AF9-4FFA-AA87-B5B61005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E3D96A-0FC7-4E13-8728-F4BA6BF2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543E0-A0A6-4A73-9BFE-1A266395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19187-F04F-44C0-80FD-3F92BFC8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2F7306-25FF-4D80-8FF5-FF993236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3CABA9-51C6-4A80-9C3D-F274D770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F1C-5D04-4927-95C0-4C00885F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C8D4C4-5B8A-4915-823F-0235F564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D7F5C4-4B68-4DD3-8ABC-944EE11A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78D9BA-843A-4068-9658-F7464B6A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98BF64-D0D5-4AE3-87E9-9451F8F8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BE9E3C-ED61-45BF-B3C6-668E4B88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7EC1FC-1C0F-4911-B530-D2038150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B40AA1-34E7-47AC-B56B-B443E520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ED345-B3BA-4437-9473-2C2E035B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D0F363-D2CC-4E81-B4BD-EC2D2AC1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837DC-6F46-424B-933C-F0A7ED45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921-AA87-4DF6-A091-37F3FF0C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2E3E91-E954-417C-A95D-A2C4FD0C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A4572E-D59D-433E-A1AF-D700A7BC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F61902-D2E6-4907-8AD3-8DE1DA0B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28310D-9DBB-447B-89C3-E1579A56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AB281F-106B-489C-B46A-B72FB8F8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7AD150-94C0-42BD-B623-71C9BD3A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890FF7-A8E9-4D3C-BAF2-A2561285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EFE4F6-8428-439A-8C8F-FC964A3C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FF7804-11B7-4FCE-903E-01CF6063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A5D7B8-A8C8-423C-9B9D-939815DA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D8F-DB3D-4CBE-A169-EDEB8E2F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577E87-BDDF-4734-8E8B-C85AB4FA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802881-DA25-4111-8325-57619C76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9BCF5B-759E-4A60-A79D-A499F672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77040E-F941-43F8-94AA-B1FBABA0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1D0D80-FD40-45AE-B7E5-E6A4CAEA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E30383-39BA-442E-AD0C-8B76DB11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0EADEE-1423-47C2-8BEE-5BD6B12E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990602-32C3-4A0C-AFB9-D4A42846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F60C20-A680-4528-B6BB-AB433D7B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2895D8-0F44-46FD-9219-564584A6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460E-13A7-405A-AD21-8F29D927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B6E386-A35B-4EFA-A673-11B8D59A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7968C0-65FA-4CBF-B05F-FFCBB340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2C5CFC-D4EB-4BC0-B4D1-2A09C18C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D0B2E4-A013-43BB-A55F-33121CA5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6A8E60-4C74-46E6-8B6F-14C6218E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33DF1-CDCD-4131-A168-AF2D350F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8A33F3-88AA-4446-81E8-87579471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99EFE6-A643-4444-8EC2-CB54BBDC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03B296-A993-4403-AC13-B574AD98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BC5CDA-1E1F-4C2F-B12C-7470C9FA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82E9-DC2A-441B-AE2D-F89DCF22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DE6D2A-44D2-41EF-897E-7ACFB246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F24EB1-02FB-4A5F-9CC1-A6482E1C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89B071-6F2A-40D7-A886-5B5AA161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9DE055-CAA8-4B22-BBA1-4C4FB570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C20DA4-B932-4B92-8CAD-F16399A0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81B8EE-3101-4A92-B19B-A132E1CE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FC2849-D6C2-44E1-90B7-0579C759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1B3C7A-B931-436F-ABBF-EC41F4D0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530D23-8CA9-46E6-8CBF-4F087D79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2FEC54-8DCD-4F15-AF16-549F0C61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CCDD-0936-4049-9EDE-12EFC050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DA1AF2-4230-4C40-956A-EB3BD671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F82182-EEE0-499A-87BC-ED31EC90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5FA354-CA36-4BEE-A0FC-5EF36044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BEB23E-3671-482F-87E3-EAC6C684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B13D13-EE66-46F2-B295-C3F36E7B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E7710B-04E9-4C31-B2BD-E93A5B4C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052F98-97DB-4C89-B33F-E15C8D8A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F4A61B-BAB8-486D-AB2E-F080FE4F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E10383-EE0D-4373-9DC7-0F86C2BD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0E6F39-8B0F-4875-BB85-FD34877C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2C1C-17F1-4C71-9F47-3E6779CE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0A94D4-559B-413F-88EC-AF7456EF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C1ADA5-5DBD-40DB-8AB6-9B8B80CB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9A04E4-B9FB-4C0C-8192-7939B36B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F077C9-92CB-432B-B9FB-DB0E9E0B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FBE37B-076D-4B23-A7E6-C0BF5F79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441B51-29FE-4754-A337-E7AB47F4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B293E0-67E6-40F5-9103-A5532AC0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BE206A-F9CF-4D78-B618-B3875E84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0C1ACD-21AF-4D75-8B4B-A0F72087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16934E-4D2D-4B6C-8D16-01298273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A3BB-10B4-4DDE-8EA1-D30F0C77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A9FB86-6BAD-4786-8614-40DFBEB2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FD0B98-50F5-4809-9E99-49B647A8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102587-F7ED-4D94-A7AD-BB5D9271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924A3D-7D8E-4AE7-B346-D99125EF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A7FBFE-D58D-45D4-B039-932648D3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DF328A-5147-400E-82BA-D6A924CA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0DF633-A63D-4FC4-8BF5-5BD95208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9BC2F2-72EB-4E1F-900E-B328883A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510336-E060-44C1-9124-74AA81E2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558280-C8CF-46B9-B9F1-D67EAAEB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B55D-5B82-43CF-9842-665621E0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FA582A-195E-4593-B1BB-60E26CF2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7B6DAA-03AC-4019-93BA-E319A14B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CACD81-4657-4748-9C95-C133DB1C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165279-4E39-48F6-9C52-A481D3FA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2A1F2F-50FA-4C76-9060-7EE6B2FB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FAEC59-FECD-4839-B5C5-1BE71DE4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1A14A3-DEDA-4C8B-8350-4BB09D72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1A13D8-40BE-4598-9ED5-875394E8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D3C3EE-BA03-45FB-9744-1E6F48D5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2F60F3-75DC-4141-A25B-638F795E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CC88-BC9F-494F-8CF9-23D7919F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92F123-3D03-4E16-9678-F84ED38A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A64CA0-44F4-4CE3-8C62-07C2E340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D8CA05-B0B4-4FC7-B4E9-BAAB1554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8513E3-CDD4-4D16-9B62-3B0C457B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EE36A3-5FAB-4305-9C5B-5BEE8364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4A1A43-3B4A-4FA6-B68A-B73AE2D7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695ECE-191F-4CF2-91F7-D68E1E2F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7F1D7E-DF3C-4998-9AEE-16AF97BC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8FBEAA-2262-472F-818A-23FDF7C2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9F338A-E444-4BA0-9138-40A1B628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0837-C069-4D71-86AB-CA362038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24FD62-23A6-48DB-8EC8-5443D786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3CAA30-12F2-40D9-B255-E4E33D8C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251D91-0A26-49DF-9DCF-2A80FBA8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C7656E-DCDC-4AE6-B8C2-BE5FF907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69E9B8-DD8B-4670-B2B1-D6190F37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28A521-54D4-489D-8FBE-B572A724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F3A656-B0F2-47DB-89D3-922B8679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856483-039F-456F-94E1-531B2140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B89FA2-055A-4330-A54D-69827E81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2524BC-3463-499D-B8CF-17F76422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B049-FCC7-465D-9DF6-AF5D8A3B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9DD5D3-FE5F-4333-8D33-FB7A6B3F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1F48F0-CC8D-40F7-ACDC-AB840637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DB3076-6E8E-4759-AF1C-8C6730E6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C789F3-226A-4065-978B-5AC89D5E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0C1BC6-6B63-4417-A302-B663BC08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6D63F3-C7B8-4E27-B050-D62C8D6E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ADEF7C-BE69-43A7-B8B7-95A4633B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FABD37-2143-4FEF-B24E-097DF58D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2C5CE6-C404-47A1-9381-00C9F949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AC77AE-B9ED-425B-A6FE-E75CF464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AF12-D24A-4DD9-BFEA-AD0ABDEB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AAFF77-434D-4D55-847F-AFBD48F4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C56F97-F0D4-4A9A-ADBD-A19675C7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BAD0B2-5F6B-4C42-99E7-AA88D51A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C4FA66-7B26-4C47-B2A5-F595A6E5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C46613-E675-4159-A5F5-36E8CB52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98E431-602A-4945-81CB-75046012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7DEE1C-110F-4FBB-800B-3E75929B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B85809-A0EC-40ED-BE43-9593E61E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56980B-A30B-406A-B51D-2B9B0F3B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EA93E0-5DE3-4393-97FD-6BEE928B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A498-5616-4134-9F99-D3EC4417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DF4774-C9A9-4FF8-AC2E-10A2AACE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D5E918-6810-4560-A65D-6D99F098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9E1D4D-C479-4A3D-9C66-83F73DC6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31A373-A3C4-4513-B892-D1183028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9FA97D-4EAC-4589-ABFA-4F45E770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948175-9FFB-4FDE-9F18-892473F5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64E1AB-1E90-4D61-B312-46004BDC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9B351D-2975-45AB-9B1A-EA2EE667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266E4C-E067-40E9-84DC-A3F70E85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C40165-1101-40A2-904A-C844FA28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B442-59D1-4217-9A67-4EF76DC5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8678F5-EFD9-4184-9CF9-5EB384BF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8F1AA3-5DAF-4257-A2B5-0AB2AB3B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E38233-6DD2-4E3D-814A-BB3A2CFF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35E334-5D1B-4E82-938C-2959B190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4C143B-F73E-4C73-88E1-1A57AEC9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59D4A7-5C48-4BD5-BCDB-3E87708B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9366B7-8C9C-4F5F-BC4E-D1772B2B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8ADF7E-CA30-440B-91A8-2EF27E2E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A1233B-E1B1-44E8-A54A-070624E8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ACC080-6ECB-4BB9-89CF-74345919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16B5-D744-4587-87FF-72CC0310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E12F1A-D41F-472F-AD1E-03B2A44F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BF2A84-FABE-45E0-B466-1DABFFB7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FC718A-DF71-4C50-9DBB-C19FB641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BEFBBF-8D1F-490D-BC6C-A0888BF8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830BE3-A059-4668-A97F-6B7A5E04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5A679D-259E-493D-9400-04464D7D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5A0544-24E7-452C-BC83-CA0F6C61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9EBD3D-66F3-4F79-A6C9-B85BB58F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F89FA9-9A4C-4EE0-AA9C-9C6C6D73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E58CB8-B742-4071-99E8-04EEF658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7195A-2499-4759-9E76-7200BC54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7E5B84-C1D0-4B04-930C-1533D17A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1C7FFB-7B67-437C-AD89-388E6C4F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92ADEA-EFD3-418F-9C45-182E1B06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7A74CA-C1FF-4A0D-B4DC-5AB16AB1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014F65-D493-4120-B158-779CEFD1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ECB19A-2344-4284-A8AA-1FC2E7C0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3A64CF-C1D4-4232-8D25-F0727075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6FC211-381F-4632-A3DD-B78010AC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E09695-0F8E-4673-B16A-E1B67246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156CD8-E5FD-4A91-9FF2-D2C3AEA7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A767F-EDF8-4A1E-B359-3718E0AB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416DABB-8F26-494B-A761-8E4F3860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1D740F-5794-410D-B463-3CD3CA3E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268146-73E9-43D9-BC4C-DBF9E937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CA8336-227D-4E3D-9E0D-2A8099EE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2C49BD-A706-4293-B966-F07A1E3F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CD69FE-F628-4631-8CE3-4696C9BC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796B3F-AED0-4830-B5F9-EDD68A56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17BFB6-752F-45AD-B23F-81267884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D0BE14-BB2E-4F8F-A4EF-DCCFB871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7C4900-A6F9-48F0-B9C6-DBA64B2C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472B8-84A7-49C3-BEFA-3638B885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932A4E-210F-4E37-9080-95131275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BF8655-C086-4657-9B2A-CA650B52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50E1F4-3B59-419A-BEB3-98FF576E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EBAF36-0A4E-4FE6-87F3-2825A00E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02C6E5-90E2-41B9-A7FE-ED2FC79C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D5DB82-2335-4EA8-B3C1-3C05CEB4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67F4E8-1D52-4AC1-9642-246C5B1F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CB0AD2-9C83-439D-BB51-2E5BEC4C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B6443B-F67D-47DD-A779-74BFBB4E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E9F83D0-A38F-4C1D-94A7-58145543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81DB-6076-4072-B473-4A6BF9C2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BE7542-5BE4-4425-8B10-0E1A80A5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F6DC54-BE8F-44A2-A181-43F4EB13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00CE41-5FDA-4DFB-9758-3206B321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A401B8-0292-4F94-998A-809EFC62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CF17F5-D2B2-4964-BB99-ECE0BFA6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933FE1-5AD1-4354-8D99-C2C5835E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D9FA90-011B-4E90-BC1B-292E4F44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135335-D59C-464D-9313-4B28F11B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2EE226-7BE2-4DCB-803D-A3B4E4D3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5323F4-EA5E-494D-974A-48AEA979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84042-A1D1-4C07-A5BF-95ACA3F3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46B301-804A-41CF-BF0C-5CE3AF99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847541-7612-4DB4-82DD-A776120B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A1AFA9-2AFF-4749-84D0-81049813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734D43-1AFA-434E-8F1E-EEC9634C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550EAB-9BB2-424F-ADC4-9150D2C4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C4E97D-3309-491D-B8B7-4D9B12D0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7BFEF5-F411-4DC8-BA8A-EE2BE6F7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D6BE3B-A958-4440-AB81-09D65CC2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5EB97C-4BC5-47FD-BEB4-90FDFB5A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F9F3D7-9735-4429-AADC-307B8D15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E7173-E5E8-4F02-BDEA-40AD5E13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ACA747-F0C9-4FF1-9A90-1F64F57B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5A8C53-8734-4D94-9FDF-C6039EED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8F56985-C283-4ECC-8921-3E96F603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8EAB78-CEAE-488E-80ED-5A4E47AD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794D9B-370A-474A-A7AB-606FBBE7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E11C8D-7456-49A8-B1E1-4F871ECC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9D054D-07FA-4C64-AB8D-BB23E0F7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F774157-B5FD-4D6A-8C85-ADDE8C07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3F86AD-DABF-46B6-B54D-467F426C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17EED9-623C-4F00-9D52-FC4C13D4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3E9B3-4B71-448B-83FA-5D654DD2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FDADE9-8DE7-42BD-BDAF-3881CB21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0DEED6-CB5D-4518-BAB8-CA7FA8B8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8441CF3-B123-4D76-AE70-03E6B823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E7FF42-8C36-4440-B1F1-9D2338E2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537A30-ED53-4281-8C52-E6758227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54856A-357C-4813-BB60-1931F1B2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6C6C45B-D1C3-419E-AC55-06B0652C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BD9F1A3-8E4C-4F9C-A359-D0515CF3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B90299C-1652-4E08-8A94-FA6D94BF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61D5AA0-EDD3-44A3-AFEF-06399AD2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700A8-8068-434B-AF53-57EC26C9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97EA5F-17AE-4A8A-9D1B-29C96A21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DD6AAD7-A604-4F1F-B5C1-9EB43F73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6D7F8A-A840-4074-9C26-B0F141EE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5DAED5E-E3EC-46DF-9DDC-FD855129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6CB1BE-0636-475A-A5A6-8AF27434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E001713-632E-407F-8D1A-67BC63A6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F8F534-C5AF-43D0-B0DC-320E0355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1C648-56FD-4232-8917-703D9355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3957-E10D-4F5D-B4E6-E750B9C3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3EB12-81CE-4E4E-8E27-40B58864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B08C3-B2DE-4090-BF0F-A7FEBD6F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69D7D-E868-4717-A85F-71F6FB55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31A92-1E70-4288-93FB-B55EC36E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90644-86EB-41E6-83EE-A104D988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FF365-621C-4669-9C2D-26802391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55879-5071-43AF-9BA0-904D2A82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459C2-FC90-4D31-8584-DE62ADAF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DAD7C-AD64-4591-9ADA-AF0BE34A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2A460-9F39-4D78-AA1B-70EAA288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2A393-5E6F-4527-8D43-81D5E938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BAEAB-8BFA-47B9-B9BE-B3133C31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98DBC-389D-40C4-96A4-A7C1D845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12C85-F5B7-4C98-A109-5E316ABE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A0CCC-5495-410A-9FF8-BC1BDDF0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93F5B-7372-4432-8DFC-CA743F1F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D42EC-22F0-4E19-8848-06FDF030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60C12-D74E-4F7D-B8A4-2D65ACF3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018F7-7727-4964-85BA-119BA61E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35F28-5EF3-414C-B1C7-8A5E4B03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12962-3C18-4664-8235-1A2CAA7F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BF865-2A6B-43D2-81B3-3F08F827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7CAE0-E624-481F-9E15-2CED0003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DE3FB-285E-43CD-B8F3-73EB49E6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EEA42-DB3E-4DC1-A954-BE85D3C2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FC5DB-D2AA-484B-9C48-9C818DBD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EE634-B4B3-450C-B871-DE4FED15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174CE-2BA6-40A6-8E42-BBF9C4AD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6031F-9E46-40CF-80FF-C81BF785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F0265-986D-456E-ABF5-A994F7AC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8547F-7B4A-49ED-8552-90077D02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938FE-0D25-47C1-8D11-5FE33B95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584E7-BF56-4ED4-B767-10910910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A69C1-F692-40F9-8876-FCED1196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8AFD6-6427-4B1B-BF49-BE1BD1CF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8E087-EDFB-4AD3-A775-55520AFD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70C07-DE70-4CE9-9C6D-7781F0B1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00223-5BE7-415E-BA40-A5607550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8F58E-D413-4018-9366-8158B150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629AA-000A-41DB-B678-3AAA23D1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BB713-1604-4E12-86E5-9D5500FB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A66FF-77B9-4E69-89C6-96370A73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8F118-1CD2-46C8-9051-783EFC70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03DC9-7F73-4C75-8A8F-0D57378E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38763-420A-422B-8FB4-47FC846F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5AC8B-C160-4608-9923-1E02CC62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15678-033D-458A-8FD6-DF057347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BE88D-1608-483F-8EEA-354D4FFA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722C4-BEF8-4372-ABE1-01A87403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73C28-61A5-4B95-8245-5DB92144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D4A3E-DEAA-41C9-B2E2-90D7D0FE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47C2E-8F81-4213-B394-96D437A3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88720"/>
            <a:ext cx="86421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958680" indent="0">
              <a:lnSpc>
                <a:spcPts val="2625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400" y="1320480"/>
            <a:ext cx="8609040" cy="4235400"/>
          </a:xfrm>
          <a:prstGeom prst="rect">
            <a:avLst/>
          </a:prstGeom>
          <a:noFill/>
          <a:ln w="0">
            <a:noFill/>
          </a:ln>
        </p:spPr>
        <p:txBody>
          <a:bodyPr lIns="86040" rIns="34200" tIns="34200" bIns="342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195120" indent="-191880">
              <a:lnSpc>
                <a:spcPct val="110000"/>
              </a:lnSpc>
              <a:spcBef>
                <a:spcPts val="1137"/>
              </a:spcBef>
              <a:buClr>
                <a:srgbClr val="be0027"/>
              </a:buClr>
              <a:buSzPct val="92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398520" indent="-198360">
              <a:lnSpc>
                <a:spcPct val="110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12720" indent="-210960">
              <a:lnSpc>
                <a:spcPct val="110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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26920" indent="-210960">
              <a:lnSpc>
                <a:spcPct val="110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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26920" indent="-21096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SzPct val="92000"/>
              <a:buFont typeface="Wingdings" charset="2"/>
              <a:buChar char="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26920" indent="-21096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SzPct val="92000"/>
              <a:buFont typeface="Wingdings" charset="2"/>
              <a:buChar char="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17"/>
          <p:cNvSpPr/>
          <p:nvPr/>
        </p:nvSpPr>
        <p:spPr>
          <a:xfrm>
            <a:off x="7358040" y="6446880"/>
            <a:ext cx="180036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ts val="8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58b46"/>
                </a:solidFill>
                <a:latin typeface="Trebuchet MS"/>
                <a:ea typeface="ＭＳ Ｐゴシック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-2126880" y="673200"/>
            <a:ext cx="21423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e0027"/>
                </a:solidFill>
                <a:latin typeface="Trebuchet MS"/>
                <a:ea typeface="ＭＳ Ｐゴシック"/>
              </a:rPr>
              <a:t>DO NOT REFRESH</a:t>
            </a:r>
            <a:endParaRPr b="1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Text Box 24"/>
          <p:cNvSpPr/>
          <p:nvPr/>
        </p:nvSpPr>
        <p:spPr>
          <a:xfrm>
            <a:off x="6499080" y="6396120"/>
            <a:ext cx="301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55555"/>
                </a:solidFill>
                <a:latin typeface="Calibri"/>
                <a:ea typeface="ＭＳ Ｐゴシック"/>
              </a:rPr>
              <a:t>Ministerio de Economía y Finanzas 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55555"/>
                </a:solidFill>
                <a:latin typeface="Calibri"/>
                <a:ea typeface="ＭＳ Ｐゴシック"/>
              </a:rPr>
              <a:t>Dirección de Calidad del Gasto Público-DGP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Line 25"/>
          <p:cNvSpPr/>
          <p:nvPr/>
        </p:nvSpPr>
        <p:spPr>
          <a:xfrm>
            <a:off x="666720" y="6234120"/>
            <a:ext cx="8972640" cy="1440"/>
          </a:xfrm>
          <a:prstGeom prst="line">
            <a:avLst/>
          </a:prstGeom>
          <a:ln cap="sq"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Text Box 13"/>
          <p:cNvSpPr/>
          <p:nvPr/>
        </p:nvSpPr>
        <p:spPr>
          <a:xfrm>
            <a:off x="1150920" y="6257520"/>
            <a:ext cx="22384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2625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55555"/>
                </a:solidFill>
                <a:latin typeface="Calibri"/>
                <a:ea typeface="ＭＳ Ｐゴシック"/>
              </a:rPr>
              <a:t> </a:t>
            </a:r>
            <a:r>
              <a:rPr b="0" lang="es-ES" sz="1400" spc="-1" strike="noStrike">
                <a:solidFill>
                  <a:srgbClr val="555555"/>
                </a:solidFill>
                <a:latin typeface="Calibri"/>
                <a:ea typeface="ＭＳ Ｐゴシック"/>
              </a:rPr>
              <a:t>República del Perú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" name="Picture 5" descr="escperu"/>
          <p:cNvPicPr/>
          <p:nvPr/>
        </p:nvPicPr>
        <p:blipFill>
          <a:blip r:embed="rId2"/>
          <a:stretch/>
        </p:blipFill>
        <p:spPr>
          <a:xfrm>
            <a:off x="668160" y="6265800"/>
            <a:ext cx="457200" cy="480960"/>
          </a:xfrm>
          <a:prstGeom prst="rect">
            <a:avLst/>
          </a:prstGeom>
          <a:ln w="0">
            <a:noFill/>
          </a:ln>
        </p:spPr>
      </p:pic>
      <p:sp>
        <p:nvSpPr>
          <p:cNvPr id="8" name="Rectangle 9"/>
          <p:cNvSpPr/>
          <p:nvPr/>
        </p:nvSpPr>
        <p:spPr>
          <a:xfrm rot="10800000">
            <a:off x="236520" y="0"/>
            <a:ext cx="3110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rot="10800000">
            <a:noAutofit/>
          </a:bodyPr>
          <a:p>
            <a:pPr>
              <a:lnSpc>
                <a:spcPts val="26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Line 4"/>
          <p:cNvSpPr/>
          <p:nvPr/>
        </p:nvSpPr>
        <p:spPr>
          <a:xfrm>
            <a:off x="619200" y="946080"/>
            <a:ext cx="6000840" cy="0"/>
          </a:xfrm>
          <a:prstGeom prst="line">
            <a:avLst/>
          </a:prstGeom>
          <a:ln w="38160">
            <a:solidFill>
              <a:srgbClr val="be00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8834-52A8-4A76-92DB-5ED7EF08F83C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4A74-ABEA-47A9-8B0F-1C7C85C7FCD0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32A4-F554-4B7F-B43F-FFAADADE84D4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7E9D-FF5C-4E01-9671-03147C05DC8D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24B3-FF28-4F30-9918-6AB0B842D132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BC15-B765-45DA-B439-60DEFBCE82CA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C06A-810A-47E8-91D0-BA4AD3435BA2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4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4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E17E-1BC5-4182-A825-1C993EB75686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1BE1-B5B4-485D-906B-644864E47ECD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5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A27D-DEF2-4B2B-B75B-5BC562FE1C41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6C12-8560-40DC-9329-16F905D305C0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3856-10BB-4C5B-A44F-3254EC7D4A3F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6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592C-21D1-40BA-A341-79FA1ADBD0AC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6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6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6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A358-FD7A-4BD7-9911-F8865B0C3C53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6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6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6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4EF2-74EA-4212-84A1-39E7EC8B5E1F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6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6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D079-AE50-4341-A27B-4EE2FEC5BB67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7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7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7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BE1C-8A8A-4915-886D-6A3F2A47FD2B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7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7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B496-C2B5-4481-99F7-F05B7A52EFB7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dt" idx="7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ftr" idx="7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sldNum" idx="7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4230-028D-4BCF-834C-47662F553806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dt" idx="7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ftr" idx="8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sldNum" idx="8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D9B5-C106-4A54-87A3-DB613B5BD558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dt" idx="8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ftr" idx="8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 type="sldNum" idx="8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28EF-A588-4EED-AB55-C0BA9402E75C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1CD2-6AD5-46C3-94DD-49275EF9A770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dt" idx="8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8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sldNum" idx="8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768E-7243-4FA9-B4EB-6F60FF5E9EF3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8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8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9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C00F-955A-423B-BDF2-ADA0EDA2415B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dt" idx="9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ftr" idx="9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sldNum" idx="9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1C66-939E-4347-AC98-EF9541137928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 type="dt" idx="9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 type="ftr" idx="9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 type="sldNum" idx="9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19AD-C78B-44DE-9C46-4BB68DE7489C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9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9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9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831E-9811-405F-ADFB-4192369EA168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10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10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10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C71F-F1CC-48F5-80F6-EB207AEDF219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 type="dt" idx="10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 type="ftr" idx="10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 type="sldNum" idx="10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F9EB-147D-4DAC-B2D1-BC9B657D557E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10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10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10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9A8C-44D0-4C4B-8C4A-E3DEA1D8A296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 type="dt" idx="10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 type="ftr" idx="11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 type="sldNum" idx="11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92D8-60BD-4411-8290-1AC2FE0672A5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31F9-7FE1-4F94-8AFC-7E1630D078B1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102F-C93A-4796-938C-BEE4AF11BB44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B617-D091-48C9-88B0-F42D3213A0A9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9CB2-EB4F-46E5-B138-CE9778B5FA6F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6165-01B6-4049-8F81-5764895877E5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2505-C1D6-4C43-94D6-483DED1724B9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Text Box 4"/>
          <p:cNvSpPr/>
          <p:nvPr/>
        </p:nvSpPr>
        <p:spPr>
          <a:xfrm>
            <a:off x="7358040" y="6446880"/>
            <a:ext cx="180036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d58b46"/>
                </a:solidFill>
                <a:latin typeface="Trebuchet MS"/>
                <a:ea typeface="ＭＳ Ｐゴシック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4" name="Text Box 5"/>
          <p:cNvSpPr/>
          <p:nvPr/>
        </p:nvSpPr>
        <p:spPr>
          <a:xfrm>
            <a:off x="-2126880" y="673200"/>
            <a:ext cx="21423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be0027"/>
                </a:solidFill>
                <a:latin typeface="Trebuchet MS"/>
                <a:ea typeface="ＭＳ Ｐゴシック"/>
              </a:rPr>
              <a:t>DO NOT REFRESH</a:t>
            </a:r>
            <a:endParaRPr b="1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5" name="Text Box 17"/>
          <p:cNvSpPr/>
          <p:nvPr/>
        </p:nvSpPr>
        <p:spPr>
          <a:xfrm>
            <a:off x="7624800" y="6446880"/>
            <a:ext cx="180036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d58b46"/>
                </a:solidFill>
                <a:latin typeface="Trebuchet MS"/>
                <a:ea typeface="ＭＳ Ｐゴシック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6" name="Text Box 24"/>
          <p:cNvSpPr/>
          <p:nvPr/>
        </p:nvSpPr>
        <p:spPr>
          <a:xfrm>
            <a:off x="7185960" y="6391440"/>
            <a:ext cx="27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55555"/>
                </a:solidFill>
                <a:latin typeface="Trebuchet MS"/>
                <a:ea typeface="ＭＳ Ｐゴシック"/>
              </a:rPr>
              <a:t>Ministerio de Economía y Finanzas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7" name="Line 25"/>
          <p:cNvSpPr/>
          <p:nvPr/>
        </p:nvSpPr>
        <p:spPr>
          <a:xfrm>
            <a:off x="933480" y="6234120"/>
            <a:ext cx="8972640" cy="1440"/>
          </a:xfrm>
          <a:prstGeom prst="line">
            <a:avLst/>
          </a:prstGeom>
          <a:ln cap="sq"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8" name="Text Box 14"/>
          <p:cNvSpPr/>
          <p:nvPr/>
        </p:nvSpPr>
        <p:spPr>
          <a:xfrm>
            <a:off x="1417680" y="6422760"/>
            <a:ext cx="223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55555"/>
                </a:solidFill>
                <a:latin typeface="Trebuchet MS"/>
                <a:ea typeface="ＭＳ Ｐゴシック"/>
              </a:rPr>
              <a:t> </a:t>
            </a:r>
            <a:r>
              <a:rPr b="0" lang="es-ES" sz="1200" spc="-1" strike="noStrike">
                <a:solidFill>
                  <a:srgbClr val="555555"/>
                </a:solidFill>
                <a:latin typeface="Trebuchet MS"/>
                <a:ea typeface="ＭＳ Ｐゴシック"/>
              </a:rPr>
              <a:t>República del Perú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9" name="Picture 5" descr="escperu"/>
          <p:cNvPicPr/>
          <p:nvPr/>
        </p:nvPicPr>
        <p:blipFill>
          <a:blip r:embed="rId1"/>
          <a:stretch/>
        </p:blipFill>
        <p:spPr>
          <a:xfrm>
            <a:off x="934920" y="6265800"/>
            <a:ext cx="457200" cy="480960"/>
          </a:xfrm>
          <a:prstGeom prst="rect">
            <a:avLst/>
          </a:prstGeom>
          <a:ln w="0">
            <a:noFill/>
          </a:ln>
        </p:spPr>
      </p:pic>
      <p:sp>
        <p:nvSpPr>
          <p:cNvPr id="1570" name="Rectangle 9"/>
          <p:cNvSpPr/>
          <p:nvPr/>
        </p:nvSpPr>
        <p:spPr>
          <a:xfrm rot="10800000">
            <a:off x="523440" y="0"/>
            <a:ext cx="311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71" name="12 Imagen" descr="FONDO_MOD_2-01.tif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3938400" y="2306520"/>
            <a:ext cx="5459400" cy="14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SISTENCIA TÉCNICA EN EL MARCO DEL PLAN DE INCENTIVOS A LA MEJORA DE LA GESTIÓN Y MODERNIZACIÓN MUNICIPA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1 Título"/>
          <p:cNvSpPr/>
          <p:nvPr/>
        </p:nvSpPr>
        <p:spPr>
          <a:xfrm>
            <a:off x="3919680" y="5033880"/>
            <a:ext cx="5460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rección General de Presupuesto Público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4" name="1 Título"/>
          <p:cNvSpPr/>
          <p:nvPr/>
        </p:nvSpPr>
        <p:spPr>
          <a:xfrm>
            <a:off x="3938760" y="6237360"/>
            <a:ext cx="2831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ma,  Noviembre de 2014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5" name="14 Rectángulo"/>
          <p:cNvSpPr/>
          <p:nvPr/>
        </p:nvSpPr>
        <p:spPr>
          <a:xfrm flipH="1">
            <a:off x="3801960" y="2306520"/>
            <a:ext cx="46080" cy="137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6" name="15 Rectángulo"/>
          <p:cNvSpPr/>
          <p:nvPr/>
        </p:nvSpPr>
        <p:spPr>
          <a:xfrm flipH="1">
            <a:off x="3867840" y="5033880"/>
            <a:ext cx="47880" cy="981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77" name="Picture 5" descr=""/>
          <p:cNvPicPr/>
          <p:nvPr/>
        </p:nvPicPr>
        <p:blipFill>
          <a:blip r:embed="rId3"/>
          <a:srcRect l="0" t="0" r="26785" b="0"/>
          <a:stretch/>
        </p:blipFill>
        <p:spPr>
          <a:xfrm>
            <a:off x="735120" y="542880"/>
            <a:ext cx="4314600" cy="571680"/>
          </a:xfrm>
          <a:prstGeom prst="rect">
            <a:avLst/>
          </a:prstGeom>
          <a:ln w="0">
            <a:noFill/>
          </a:ln>
        </p:spPr>
      </p:pic>
      <p:sp>
        <p:nvSpPr>
          <p:cNvPr id="1578" name="1 CuadroTexto"/>
          <p:cNvSpPr/>
          <p:nvPr/>
        </p:nvSpPr>
        <p:spPr>
          <a:xfrm>
            <a:off x="1521000" y="622440"/>
            <a:ext cx="186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9" name="2 CuadroTexto"/>
          <p:cNvSpPr/>
          <p:nvPr/>
        </p:nvSpPr>
        <p:spPr>
          <a:xfrm>
            <a:off x="3430800" y="695160"/>
            <a:ext cx="140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espacho  Viceministerial 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D154-EB15-4762-AFD4-4139EE1205AD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53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54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5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6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7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6.1.  Preparación de la Capacitació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58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59" name="Diagrama 1" descr=""/>
          <p:cNvPicPr/>
          <p:nvPr/>
        </p:nvPicPr>
        <p:blipFill>
          <a:blip r:embed="rId3"/>
          <a:stretch/>
        </p:blipFill>
        <p:spPr>
          <a:xfrm>
            <a:off x="384120" y="1792440"/>
            <a:ext cx="6980400" cy="4821120"/>
          </a:xfrm>
          <a:prstGeom prst="rect">
            <a:avLst/>
          </a:prstGeom>
          <a:ln w="0">
            <a:noFill/>
          </a:ln>
        </p:spPr>
      </p:pic>
      <p:pic>
        <p:nvPicPr>
          <p:cNvPr id="1660" name="Picture 10" descr="C:\Users\Jorge Nicho\AppData\Local\Microsoft\Windows\Temporary Internet Files\Content.IE5\C2ZX4099\MC900441400[1].png"/>
          <p:cNvPicPr/>
          <p:nvPr/>
        </p:nvPicPr>
        <p:blipFill>
          <a:blip r:embed="rId4"/>
          <a:stretch/>
        </p:blipFill>
        <p:spPr>
          <a:xfrm>
            <a:off x="7483320" y="3559320"/>
            <a:ext cx="2400480" cy="300960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12" descr="C:\Users\Jorge Nicho\AppData\Local\Microsoft\Windows\Temporary Internet Files\Content.IE5\C2ZX4099\MM900283190[1].gif"/>
          <p:cNvPicPr/>
          <p:nvPr/>
        </p:nvPicPr>
        <p:blipFill>
          <a:blip r:embed="rId5"/>
          <a:stretch/>
        </p:blipFill>
        <p:spPr>
          <a:xfrm>
            <a:off x="7905600" y="1987560"/>
            <a:ext cx="15908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1D13-D281-4074-B2BF-4F5DA0F92F31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63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64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5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6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7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6.2.  Realización de la Capacitació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68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69" name="Diagrama 1" descr=""/>
          <p:cNvPicPr/>
          <p:nvPr/>
        </p:nvPicPr>
        <p:blipFill>
          <a:blip r:embed="rId3"/>
          <a:stretch/>
        </p:blipFill>
        <p:spPr>
          <a:xfrm>
            <a:off x="1359000" y="1773360"/>
            <a:ext cx="68832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AD33-5B79-4157-97D5-AD1A3BD52504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71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72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3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4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5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6.3.  Lecciones aprendidas de la Capacitació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76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77" name="Picture 12" descr="C:\Users\Jorge Nicho\AppData\Local\Microsoft\Windows\Temporary Internet Files\Content.IE5\J6OMQB5M\MP900387543[1].jpg"/>
          <p:cNvPicPr/>
          <p:nvPr/>
        </p:nvPicPr>
        <p:blipFill>
          <a:blip r:embed="rId3"/>
          <a:stretch/>
        </p:blipFill>
        <p:spPr>
          <a:xfrm>
            <a:off x="857160" y="1927080"/>
            <a:ext cx="2406600" cy="1716120"/>
          </a:xfrm>
          <a:prstGeom prst="rect">
            <a:avLst/>
          </a:prstGeom>
          <a:ln w="0">
            <a:noFill/>
          </a:ln>
        </p:spPr>
      </p:pic>
      <p:pic>
        <p:nvPicPr>
          <p:cNvPr id="1678" name="Picture 13" descr="C:\Users\Jorge Nicho\AppData\Local\Microsoft\Windows\Temporary Internet Files\Content.IE5\J6OMQB5M\MC900251701[1].wmf"/>
          <p:cNvPicPr/>
          <p:nvPr/>
        </p:nvPicPr>
        <p:blipFill>
          <a:blip r:embed="rId4"/>
          <a:stretch/>
        </p:blipFill>
        <p:spPr>
          <a:xfrm>
            <a:off x="4156200" y="4092480"/>
            <a:ext cx="1706400" cy="1824120"/>
          </a:xfrm>
          <a:prstGeom prst="rect">
            <a:avLst/>
          </a:prstGeom>
          <a:ln w="0">
            <a:noFill/>
          </a:ln>
        </p:spPr>
      </p:pic>
      <p:pic>
        <p:nvPicPr>
          <p:cNvPr id="1679" name="Picture 18" descr="C:\Users\Jorge Nicho\AppData\Local\Microsoft\Windows\Temporary Internet Files\Content.IE5\2IVDAV29\MC900437115[1].wmf"/>
          <p:cNvPicPr/>
          <p:nvPr/>
        </p:nvPicPr>
        <p:blipFill>
          <a:blip r:embed="rId5"/>
          <a:stretch/>
        </p:blipFill>
        <p:spPr>
          <a:xfrm>
            <a:off x="6634080" y="1889280"/>
            <a:ext cx="2509920" cy="1712880"/>
          </a:xfrm>
          <a:prstGeom prst="rect">
            <a:avLst/>
          </a:prstGeom>
          <a:ln w="0">
            <a:noFill/>
          </a:ln>
        </p:spPr>
      </p:pic>
      <p:sp>
        <p:nvSpPr>
          <p:cNvPr id="1680" name="21 Rectángulo redondeado"/>
          <p:cNvSpPr/>
          <p:nvPr/>
        </p:nvSpPr>
        <p:spPr>
          <a:xfrm>
            <a:off x="969840" y="4135320"/>
            <a:ext cx="2082960" cy="1055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 Narrow"/>
              </a:rPr>
              <a:t>Espacios de reflexió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1" name="22 Rectángulo redondeado"/>
          <p:cNvSpPr/>
          <p:nvPr/>
        </p:nvSpPr>
        <p:spPr>
          <a:xfrm>
            <a:off x="3965400" y="2644920"/>
            <a:ext cx="2081520" cy="1012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 Narrow"/>
              </a:rPr>
              <a:t>Implementar las mejor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2" name="23 Rectángulo redondeado"/>
          <p:cNvSpPr/>
          <p:nvPr/>
        </p:nvSpPr>
        <p:spPr>
          <a:xfrm>
            <a:off x="6834240" y="4105440"/>
            <a:ext cx="2082600" cy="1042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 Narrow"/>
              </a:rPr>
              <a:t>DGPP-MEF puede compartir recomendacion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4484-0709-4F6B-A8FD-0CF46AD11987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84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85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6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7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8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7.  Ciclo del Plan de Incentiv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89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90" name="9 Diagrama" descr=""/>
          <p:cNvPicPr/>
          <p:nvPr/>
        </p:nvPicPr>
        <p:blipFill>
          <a:blip r:embed="rId3"/>
          <a:stretch/>
        </p:blipFill>
        <p:spPr>
          <a:xfrm>
            <a:off x="1523880" y="2041560"/>
            <a:ext cx="66024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1" name="8 Imagen" descr="FONDO_MOD_2-01.tif"/>
          <p:cNvPicPr/>
          <p:nvPr/>
        </p:nvPicPr>
        <p:blipFill>
          <a:blip r:embed="rId1"/>
          <a:stretch/>
        </p:blipFill>
        <p:spPr>
          <a:xfrm>
            <a:off x="-11160" y="-11160"/>
            <a:ext cx="9904320" cy="6856560"/>
          </a:xfrm>
          <a:prstGeom prst="rect">
            <a:avLst/>
          </a:prstGeom>
          <a:ln w="0">
            <a:noFill/>
          </a:ln>
        </p:spPr>
      </p:pic>
      <p:pic>
        <p:nvPicPr>
          <p:cNvPr id="1692" name="Picture 5" descr=""/>
          <p:cNvPicPr/>
          <p:nvPr/>
        </p:nvPicPr>
        <p:blipFill>
          <a:blip r:embed="rId2"/>
          <a:srcRect l="0" t="0" r="55000" b="0"/>
          <a:stretch/>
        </p:blipFill>
        <p:spPr>
          <a:xfrm>
            <a:off x="571680" y="404640"/>
            <a:ext cx="2808000" cy="559080"/>
          </a:xfrm>
          <a:prstGeom prst="rect">
            <a:avLst/>
          </a:prstGeom>
          <a:ln w="0">
            <a:noFill/>
          </a:ln>
        </p:spPr>
      </p:pic>
      <p:sp>
        <p:nvSpPr>
          <p:cNvPr id="1693" name="14 CuadroTexto"/>
          <p:cNvSpPr/>
          <p:nvPr/>
        </p:nvSpPr>
        <p:spPr>
          <a:xfrm>
            <a:off x="1663560" y="525600"/>
            <a:ext cx="17938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Ministerio</a:t>
            </a:r>
            <a:endParaRPr b="1" lang="en-US" sz="13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 Economía y Finanzas</a:t>
            </a:r>
            <a:endParaRPr b="1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4" name="1 Título"/>
          <p:cNvSpPr/>
          <p:nvPr/>
        </p:nvSpPr>
        <p:spPr>
          <a:xfrm>
            <a:off x="6330960" y="5099040"/>
            <a:ext cx="357516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orge L. Nicho Cárdena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nichoc@mef.gob.p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5" name="16 Rectángulo"/>
          <p:cNvSpPr/>
          <p:nvPr/>
        </p:nvSpPr>
        <p:spPr>
          <a:xfrm flipH="1">
            <a:off x="6298560" y="5943600"/>
            <a:ext cx="50760" cy="765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6" name="9 CuadroTexto"/>
          <p:cNvSpPr/>
          <p:nvPr/>
        </p:nvSpPr>
        <p:spPr>
          <a:xfrm>
            <a:off x="4003560" y="3166920"/>
            <a:ext cx="18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¡GRACIAS!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581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2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3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1 CuadroTexto"/>
          <p:cNvSpPr/>
          <p:nvPr/>
        </p:nvSpPr>
        <p:spPr>
          <a:xfrm>
            <a:off x="1353240" y="1035000"/>
            <a:ext cx="73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1. ¿Qué se entiende por asistencia técnica? (1/2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5" name="Picture 2" descr=""/>
          <p:cNvPicPr/>
          <p:nvPr/>
        </p:nvPicPr>
        <p:blipFill>
          <a:blip r:embed="rId2"/>
          <a:stretch/>
        </p:blipFill>
        <p:spPr>
          <a:xfrm>
            <a:off x="603360" y="318960"/>
            <a:ext cx="6245280" cy="603360"/>
          </a:xfrm>
          <a:prstGeom prst="rect">
            <a:avLst/>
          </a:prstGeom>
          <a:ln w="0">
            <a:noFill/>
          </a:ln>
        </p:spPr>
      </p:pic>
      <p:sp>
        <p:nvSpPr>
          <p:cNvPr id="1586" name="Rectángulo 1"/>
          <p:cNvSpPr/>
          <p:nvPr/>
        </p:nvSpPr>
        <p:spPr>
          <a:xfrm>
            <a:off x="782640" y="2382840"/>
            <a:ext cx="3846600" cy="28382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HelveticaNeue-BoldItalic"/>
              </a:rPr>
              <a:t>Asesoría técnica (conocimiento técnico y experiencia práctica) y soporte que brindará la entidad pública responsable de meta a los gobiernos locales para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HelveticaNeue-BoldItalic"/>
              </a:rPr>
              <a:t>promover el cumplimiento de las metas</a:t>
            </a:r>
            <a:r>
              <a:rPr b="1" i="1" lang="es-ES" sz="2000" spc="-1" strike="noStrike">
                <a:solidFill>
                  <a:srgbClr val="000000"/>
                </a:solidFill>
                <a:latin typeface="HelveticaNeue-BoldItalic"/>
              </a:rPr>
              <a:t> establecidas en el PI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7" name="Imagen 1" descr=""/>
          <p:cNvPicPr/>
          <p:nvPr/>
        </p:nvPicPr>
        <p:blipFill>
          <a:blip r:embed="rId3"/>
          <a:srcRect l="2787" t="0" r="4542" b="0"/>
          <a:stretch/>
        </p:blipFill>
        <p:spPr>
          <a:xfrm>
            <a:off x="4870440" y="4243320"/>
            <a:ext cx="3781440" cy="229572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9" descr="C:\Users\Jorge Nicho\AppData\Local\Microsoft\Windows\Temporary Internet Files\Content.IE5\C2ZX4099\MC900230931[1].wmf"/>
          <p:cNvPicPr/>
          <p:nvPr/>
        </p:nvPicPr>
        <p:blipFill>
          <a:blip r:embed="rId4"/>
          <a:stretch/>
        </p:blipFill>
        <p:spPr>
          <a:xfrm>
            <a:off x="6089760" y="1981080"/>
            <a:ext cx="163836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590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1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2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3" name="1 CuadroTexto"/>
          <p:cNvSpPr/>
          <p:nvPr/>
        </p:nvSpPr>
        <p:spPr>
          <a:xfrm>
            <a:off x="1353240" y="1035000"/>
            <a:ext cx="73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1. ¿Qué se entiende por asistencia técnica? (2/2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4" name="Picture 2" descr=""/>
          <p:cNvPicPr/>
          <p:nvPr/>
        </p:nvPicPr>
        <p:blipFill>
          <a:blip r:embed="rId2"/>
          <a:stretch/>
        </p:blipFill>
        <p:spPr>
          <a:xfrm>
            <a:off x="603360" y="318960"/>
            <a:ext cx="6245280" cy="603360"/>
          </a:xfrm>
          <a:prstGeom prst="rect">
            <a:avLst/>
          </a:prstGeom>
          <a:ln w="0">
            <a:noFill/>
          </a:ln>
        </p:spPr>
      </p:pic>
      <p:sp>
        <p:nvSpPr>
          <p:cNvPr id="1595" name="Rectángulo 1"/>
          <p:cNvSpPr/>
          <p:nvPr/>
        </p:nvSpPr>
        <p:spPr>
          <a:xfrm>
            <a:off x="5845320" y="3164040"/>
            <a:ext cx="3846240" cy="19234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HelveticaNeue-BoldItalic"/>
              </a:rPr>
              <a:t>Un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HelveticaNeue-BoldItalic"/>
              </a:rPr>
              <a:t>proceso</a:t>
            </a:r>
            <a:r>
              <a:rPr b="1" i="1" lang="es-ES" sz="2000" spc="-1" strike="noStrike">
                <a:solidFill>
                  <a:srgbClr val="000000"/>
                </a:solidFill>
                <a:latin typeface="HelveticaNeue-BoldItalic"/>
              </a:rPr>
              <a:t> planificado y articulado que combina las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HelveticaNeue-BoldItalic"/>
              </a:rPr>
              <a:t>3 modalidades </a:t>
            </a:r>
            <a:r>
              <a:rPr b="1" i="1" lang="es-ES" sz="2000" spc="-1" strike="noStrike">
                <a:solidFill>
                  <a:srgbClr val="000000"/>
                </a:solidFill>
                <a:latin typeface="HelveticaNeue-BoldItalic"/>
              </a:rPr>
              <a:t>de AT para  promover el cumplimiento de las metas establecidas en el PI por parte de los GL’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6" name="Diagrama 9" descr=""/>
          <p:cNvPicPr/>
          <p:nvPr/>
        </p:nvPicPr>
        <p:blipFill>
          <a:blip r:embed="rId3"/>
          <a:stretch/>
        </p:blipFill>
        <p:spPr>
          <a:xfrm>
            <a:off x="-639720" y="1908000"/>
            <a:ext cx="615636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95000" y="79380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c07b9"/>
                </a:solidFill>
                <a:latin typeface="Calibri"/>
              </a:rPr>
              <a:t>2. </a:t>
            </a:r>
            <a:r>
              <a:rPr b="1" lang="es-ES" sz="3200" spc="-1" strike="noStrike">
                <a:solidFill>
                  <a:srgbClr val="1c07b9"/>
                </a:solidFill>
                <a:latin typeface="Calibri"/>
              </a:rPr>
              <a:t>¿Cuál es el proceso de Asistencia Técn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541080" y="1775880"/>
            <a:ext cx="8915400" cy="48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9" name="Group 15"/>
          <p:cNvGrpSpPr/>
          <p:nvPr/>
        </p:nvGrpSpPr>
        <p:grpSpPr>
          <a:xfrm>
            <a:off x="703440" y="336600"/>
            <a:ext cx="6242040" cy="579240"/>
            <a:chOff x="703440" y="336600"/>
            <a:chExt cx="6242040" cy="579240"/>
          </a:xfrm>
        </p:grpSpPr>
        <p:pic>
          <p:nvPicPr>
            <p:cNvPr id="1600" name="Picture 5" descr=""/>
            <p:cNvPicPr/>
            <p:nvPr/>
          </p:nvPicPr>
          <p:blipFill>
            <a:blip r:embed="rId1"/>
            <a:stretch/>
          </p:blipFill>
          <p:spPr>
            <a:xfrm>
              <a:off x="703440" y="336600"/>
              <a:ext cx="624204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1" name="1 CuadroTexto"/>
            <p:cNvSpPr/>
            <p:nvPr/>
          </p:nvSpPr>
          <p:spPr>
            <a:xfrm>
              <a:off x="1293120" y="466560"/>
              <a:ext cx="2014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Ministerio de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Economía y finanzas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2" name="2 CuadroTexto"/>
            <p:cNvSpPr/>
            <p:nvPr/>
          </p:nvSpPr>
          <p:spPr>
            <a:xfrm>
              <a:off x="3575160" y="517320"/>
              <a:ext cx="1462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Despacho 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Viceministerial de Hacienda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3" name="5 CuadroTexto"/>
            <p:cNvSpPr/>
            <p:nvPr/>
          </p:nvSpPr>
          <p:spPr>
            <a:xfrm>
              <a:off x="5460120" y="430200"/>
              <a:ext cx="115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Dirección General de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Presupuesto Público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1604" name="Diagrama 3" descr=""/>
          <p:cNvPicPr/>
          <p:nvPr/>
        </p:nvPicPr>
        <p:blipFill>
          <a:blip r:embed="rId2"/>
          <a:stretch/>
        </p:blipFill>
        <p:spPr>
          <a:xfrm>
            <a:off x="1292400" y="1596960"/>
            <a:ext cx="6960960" cy="472464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10" descr="C:\Users\Jorge Nicho\AppData\Local\Microsoft\Windows\Temporary Internet Files\Content.IE5\2IVDAV29\MC900240365[1].wmf"/>
          <p:cNvPicPr/>
          <p:nvPr/>
        </p:nvPicPr>
        <p:blipFill>
          <a:blip r:embed="rId3"/>
          <a:stretch/>
        </p:blipFill>
        <p:spPr>
          <a:xfrm>
            <a:off x="6840360" y="2084400"/>
            <a:ext cx="1879920" cy="111456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13" descr="C:\Users\Jorge Nicho\AppData\Local\Microsoft\Windows\Temporary Internet Files\Content.IE5\J6OMQB5M\MC900335216[1].wmf"/>
          <p:cNvPicPr/>
          <p:nvPr/>
        </p:nvPicPr>
        <p:blipFill>
          <a:blip r:embed="rId4"/>
          <a:stretch/>
        </p:blipFill>
        <p:spPr>
          <a:xfrm>
            <a:off x="677880" y="3159000"/>
            <a:ext cx="1798560" cy="1751040"/>
          </a:xfrm>
          <a:prstGeom prst="rect">
            <a:avLst/>
          </a:prstGeom>
          <a:ln w="0">
            <a:noFill/>
          </a:ln>
        </p:spPr>
      </p:pic>
      <p:pic>
        <p:nvPicPr>
          <p:cNvPr id="1607" name="Picture 14" descr="C:\Users\Jorge Nicho\AppData\Local\Microsoft\Windows\Temporary Internet Files\Content.IE5\C2ZX4099\MC900289939[1].wmf"/>
          <p:cNvPicPr/>
          <p:nvPr/>
        </p:nvPicPr>
        <p:blipFill>
          <a:blip r:embed="rId5"/>
          <a:stretch/>
        </p:blipFill>
        <p:spPr>
          <a:xfrm>
            <a:off x="6745320" y="5230800"/>
            <a:ext cx="2019240" cy="15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BE86-AE96-4BF3-99F0-A0504792F88D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09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10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2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3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3.  Planificación de los compromisos de 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4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15" name="Diagrama 1" descr=""/>
          <p:cNvPicPr/>
          <p:nvPr/>
        </p:nvPicPr>
        <p:blipFill>
          <a:blip r:embed="rId3"/>
          <a:stretch/>
        </p:blipFill>
        <p:spPr>
          <a:xfrm>
            <a:off x="1195560" y="1700280"/>
            <a:ext cx="74548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F07A-5CB0-46B7-A1BF-C349FFF35DE8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7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18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9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0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1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4.  Modalidad: Materiales educativos (1/2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22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23" name="Diagrama 2" descr=""/>
          <p:cNvPicPr/>
          <p:nvPr/>
        </p:nvPicPr>
        <p:blipFill>
          <a:blip r:embed="rId3"/>
          <a:stretch/>
        </p:blipFill>
        <p:spPr>
          <a:xfrm>
            <a:off x="1000080" y="1901880"/>
            <a:ext cx="660708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3DE1-F099-456D-97DD-DDDF4B906814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25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26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7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8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9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4.  Modalidad: Materiales educativos (2/2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30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31" name="Diagrama 1" descr=""/>
          <p:cNvPicPr/>
          <p:nvPr/>
        </p:nvPicPr>
        <p:blipFill>
          <a:blip r:embed="rId3"/>
          <a:stretch/>
        </p:blipFill>
        <p:spPr>
          <a:xfrm>
            <a:off x="1487520" y="1779480"/>
            <a:ext cx="661968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E5AD-BE39-4BA1-9EED-A2BBA96330E0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33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34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5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6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7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5.  Modalidad: Asesorí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38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39" name="Diagrama 1" descr=""/>
          <p:cNvPicPr/>
          <p:nvPr/>
        </p:nvPicPr>
        <p:blipFill>
          <a:blip r:embed="rId3"/>
          <a:stretch/>
        </p:blipFill>
        <p:spPr>
          <a:xfrm>
            <a:off x="1835280" y="1712880"/>
            <a:ext cx="6229080" cy="415152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0" descr="C:\Users\Jorge Nicho\AppData\Local\Microsoft\Windows\Temporary Internet Files\Content.IE5\J6OMQB5M\MC900434874[1].png"/>
          <p:cNvPicPr/>
          <p:nvPr/>
        </p:nvPicPr>
        <p:blipFill>
          <a:blip r:embed="rId4"/>
          <a:stretch/>
        </p:blipFill>
        <p:spPr>
          <a:xfrm>
            <a:off x="8051760" y="2813040"/>
            <a:ext cx="1843200" cy="184320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1" descr="C:\Users\Jorge Nicho\AppData\Local\Microsoft\Windows\Temporary Internet Files\Content.IE5\2IVDAV29\MC900088866[1].wmf"/>
          <p:cNvPicPr/>
          <p:nvPr/>
        </p:nvPicPr>
        <p:blipFill>
          <a:blip r:embed="rId5"/>
          <a:stretch/>
        </p:blipFill>
        <p:spPr>
          <a:xfrm>
            <a:off x="31680" y="2998800"/>
            <a:ext cx="1822680" cy="1592280"/>
          </a:xfrm>
          <a:prstGeom prst="rect">
            <a:avLst/>
          </a:prstGeom>
          <a:ln w="0">
            <a:noFill/>
          </a:ln>
        </p:spPr>
      </p:pic>
      <p:sp>
        <p:nvSpPr>
          <p:cNvPr id="1642" name="11 Rectángulo redondeado"/>
          <p:cNvSpPr/>
          <p:nvPr/>
        </p:nvSpPr>
        <p:spPr>
          <a:xfrm>
            <a:off x="1884240" y="5937120"/>
            <a:ext cx="6177240" cy="892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 Narrow"/>
              </a:rPr>
              <a:t>Se recomienda: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 Narrow"/>
              </a:rPr>
              <a:t>Sistematizar las consultas recurrentes (FAQ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 Narrow"/>
              </a:rPr>
              <a:t>Crear correos para consulta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1180-A009-4C48-9314-9B268F0C2ECA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4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45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6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7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8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6.  Modalidad: Capacitació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9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50" name="Diagrama 2" descr=""/>
          <p:cNvPicPr/>
          <p:nvPr/>
        </p:nvPicPr>
        <p:blipFill>
          <a:blip r:embed="rId3"/>
          <a:stretch/>
        </p:blipFill>
        <p:spPr>
          <a:xfrm>
            <a:off x="2090880" y="1768320"/>
            <a:ext cx="5443560" cy="3473640"/>
          </a:xfrm>
          <a:prstGeom prst="rect">
            <a:avLst/>
          </a:prstGeom>
          <a:ln w="0">
            <a:noFill/>
          </a:ln>
        </p:spPr>
      </p:pic>
      <p:sp>
        <p:nvSpPr>
          <p:cNvPr id="1651" name="Rectángulo redondeado 3"/>
          <p:cNvSpPr/>
          <p:nvPr/>
        </p:nvSpPr>
        <p:spPr>
          <a:xfrm>
            <a:off x="1806480" y="5761080"/>
            <a:ext cx="6015240" cy="826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La capacitación par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 Narrow"/>
              </a:rPr>
              <a:t>cumplimiento de meta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será presencial, pudiendo complementarse con otras capacitacione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rgas Terrones, Karina</dc:creator>
  <dc:description/>
  <dc:language>en-US</dc:language>
  <cp:lastModifiedBy>Nicho Cárdenas, Jorge</cp:lastModifiedBy>
  <dcterms:modified xsi:type="dcterms:W3CDTF">2015-06-02T19:12:51Z</dcterms:modified>
  <cp:revision>67</cp:revision>
  <dc:subject/>
  <dc:title>PLAN DE INCENTIVOS A LA MEJORA DE LA GESTIÓN Y MODERNIZACIÓN MUNICIPAL</dc:title>
</cp:coreProperties>
</file>