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1DC8-B3B4-4C2B-B811-1A379817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701-BD61-46B6-A896-97A8FD04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4694-F86F-4366-A7CF-2B06AE8A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492-5480-4AD6-A49B-A2A26454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7105-74C1-4B37-9257-8633D91C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9A8E-89C0-4655-B56C-C8678520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F8A4-D805-403C-B40B-77B8B99A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5249-8562-498E-A091-26D34387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3EE8-4D42-41B0-9794-0F0FD952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FCF6-63F6-487D-B40E-1513FF0B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3B91-76EA-4EB7-A425-60FCF086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05B9-2336-4210-AD0D-B2798ED8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F692-8603-4C28-AA9C-CF3F3960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F6FC-B647-4591-9952-0C495349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E331-1649-4F81-AA72-60891D7F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F8B3-A589-4FE1-BEFE-2FD76AC4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AFB9-8DD0-423B-A298-780BD3C8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5E34F-21F0-4415-B82F-10442D31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2E17E-FA93-43A6-9B09-20A39714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91D20-25BD-450B-B8F3-3A4FB049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29F73-4986-4DF4-AAD2-9EE9C563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FD777-3242-40AC-AD10-038EFD2D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30D0-791C-4DEA-A1E7-A4A62697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1B97B-221C-4C7E-AF50-2A5C63AA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4EECD-DA40-4E3D-9C80-F45EA7F3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201E7-125B-4AEF-8E44-9519F0EE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ECFAA-EDD1-4FB6-B707-99F3D977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2555E-0CB8-4233-B669-E101736C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6E81E-B5D0-4B1C-9478-AF68C6F9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2BC8F-6120-425E-8680-7AA3932F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6EBC35-115F-4657-9E22-1852EC02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572394-2B61-4BDB-A9FB-5F41BE41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1FEC4B-042E-4166-856F-9B3E4612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82D4-8AFF-4782-BBC6-AA51DC55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3C3E9A-7984-4C96-A779-B48C0A6E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7E8BCE-257F-4E94-BC7F-7CAD9559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8E910F-0F37-43C8-98E6-6940FD3E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9591E3-8D1E-4D47-9D21-E6D01F14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322707-740E-4F92-9C3A-F31A34F1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1D9AF5-CB5B-4A0F-9881-E998B402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03B071-3387-4437-8B12-0EA82441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7E799-E45E-4A5C-B55F-BCD54545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260AC8-9A43-467A-9C2F-6CF36EAF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3BF22-9930-41D9-BF37-70152137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88F-081A-485E-9E19-76A5D150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A9FD03-D8A4-435A-9BE6-BFAB2838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FF28A-E866-4CD7-AE3E-D5379EB2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A2C683-8754-48D6-9E51-DFA265AA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360F00-C86B-44C9-913B-421A5068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7EEE5-775A-4FD4-8442-07BD8E59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0DFE3-8EC2-46C7-B283-BF8A0786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87E41-97DF-4DDE-99C1-CDB8CCB5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387A80-DB30-4568-80B2-25860F2B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B3F275-BE43-4341-9FD7-6010C4F1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285058-4590-4B8D-A33F-D9E7C967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766-3E39-42D5-8FEF-5FD5EF99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66D8E-4923-491D-B4E3-3736025A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2DC17-B9FD-4BEF-BCB6-25EDEC6E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E630D-D88B-4A0D-8132-DD74A175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A8CCC-1990-4A87-A7B4-9A392110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C754E-BEF2-4F08-A9F6-12516B7C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9F169-23E4-4B63-929D-186279E4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6565B-86D5-429F-8074-D5B997E6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D625F-E4DC-4A7B-A311-6286CBA2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B35A4-49DF-4766-AE02-75670D8C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F4F05-46CA-4E76-BB9E-A85374C9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77E-527A-4C2E-B66A-88A1E541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93BEE-4058-4985-98C1-F29180F9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8FB10-C55B-451B-913A-349DA369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A4647-B20A-4A6D-9919-8A328D60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5DEC1-0707-4F9B-8890-ADF9B18A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F33952-A705-4FBE-9995-24482086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6BEA6D-F5B8-49E8-9833-F0FFE8D1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7849EF-A733-4626-B2AD-80C401AB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B524E3-5142-4DB6-BB53-20B3C9AF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24276C-9A20-48E2-98ED-10851BDD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ED2BA5-45FD-44A3-93AF-974CA5A1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6E1-1690-4F10-8C55-549C6790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3D9A6F-6EAA-4A25-80A3-AACBE3A4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127E0B-EB49-47E8-B58F-EA6B4BA1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339FDB-E043-4536-8FD6-9E5E99C5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4DB827-858E-4958-A372-B1D2B922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73CB8E-B0FD-4510-96D4-F77C2162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22DF5-EB5F-4B7D-884D-1A07ED5F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1763F-99F0-441A-BC00-117B64F8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086A4-8BA0-46FA-9B3D-61FF1860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EAA8E-AF04-43CD-B912-95A3554C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85D3B-D40A-4B88-A3F7-7812B342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172-AC5E-46FC-B7D6-CEA33869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9520E-3253-4036-9298-CEE3E495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9E75F-D92B-4125-8C87-B98C9E6E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CF487-FF14-411B-8B6A-828B3B9E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4D4AC-2BCB-4990-861A-7BAEA937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32350-9AF2-4261-87F3-555D55D4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E91D4-1E5B-4AB4-90F8-5A43288E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B3F61-0F6B-42F5-B3EF-AF4C9CC0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5DF2-03A5-4700-A89B-248D15BC7D0B}" type="slidenum">
              <a:rPr b="1" lang="es-SV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fff39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2B1C-C615-44E9-9BAB-60432448444A}" type="slidenum">
              <a:rPr b="1" lang="es-SV" sz="1400" spc="-1" strike="noStrike">
                <a:solidFill>
                  <a:srgbClr val="fff39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B4BE-ECB1-4240-9A7F-6C37135D21E0}" type="slidenum">
              <a:rPr b="1" lang="es-SV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E09E-7A70-4AFA-B716-704624D730C6}" type="slidenum">
              <a:rPr b="1" lang="es-SV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77DE-14E9-4800-83AF-FA77E4976770}" type="slidenum">
              <a:rPr b="1" lang="es-SV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6A3E-CD5D-4005-975E-0DE82C50D6BC}" type="slidenum">
              <a:rPr b="1" lang="es-SV" sz="1400" spc="-1" strike="noStrike">
                <a:solidFill>
                  <a:srgbClr val="575f6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C62D-5C4C-4DEE-A6F2-A6AF60F6099F}" type="slidenum">
              <a:rPr b="1" lang="es-SV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575f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575f6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3223-2A0D-4F0F-B7A8-820978A72C14}" type="slidenum">
              <a:rPr b="1" lang="es-SV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071440" y="314316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4000" spc="-1" strike="noStrike">
                <a:solidFill>
                  <a:srgbClr val="fff39d"/>
                </a:solidFill>
                <a:latin typeface="Tw Cen MT"/>
              </a:rPr>
              <a:t>HACIA UNA POLITICA NACIONAL DE PERSONA ADULTA MAYOR EN EL SALVADOR </a:t>
            </a:r>
            <a:endParaRPr b="0" lang="en-US" sz="4000" spc="-1" strike="noStrike">
              <a:solidFill>
                <a:srgbClr val="fff39d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5857560"/>
            <a:ext cx="670536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600" spc="-1" strike="noStrike">
                <a:solidFill>
                  <a:srgbClr val="000000"/>
                </a:solidFill>
                <a:latin typeface="Tw Cen MT"/>
              </a:rPr>
              <a:t>Mcs  Nadia Jennifer Soundy Ellerbrock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600" spc="-1" strike="noStrike">
                <a:solidFill>
                  <a:srgbClr val="000000"/>
                </a:solidFill>
                <a:latin typeface="Tw Cen MT"/>
              </a:rPr>
              <a:t>Directora de Persona Adulta Mayor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Imagen 1" descr=""/>
          <p:cNvPicPr/>
          <p:nvPr/>
        </p:nvPicPr>
        <p:blipFill>
          <a:blip r:embed="rId1"/>
          <a:stretch/>
        </p:blipFill>
        <p:spPr>
          <a:xfrm>
            <a:off x="179280" y="125280"/>
            <a:ext cx="878544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La política pública es la oferta que hace el Estado para responder a los derechos y necesidades de los habitantes de un paí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Las políticas públicas son un instrumento de promoción y ejercicio efectivo de los derech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La titularidad de los derechos se fundamenta en la convenciones de derechos humanos y las Constituciones naciona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Que es una política pública?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2. OBJETIVO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Tw Cen MT"/>
              </a:rPr>
              <a:t>Reconocimiento pleno y ejercicio de  derechos,  a través de acceso efectivo a mecanismos de protección, empoderamiento y participación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Nuevo paradigma: enfoque de derechos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pic>
        <p:nvPicPr>
          <p:cNvPr id="358" name="3 Marcador de contenido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81756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Por que se debe contar con una politica publica para mayores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Razón jurídica:  Compromisos internacionales de derechos humanos.  El enfoque de derechos implica incluir a las personas mayores en las políticas públicas y en planes de desarroll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Razón demográfica: el cambio demografico es inminente, y el país debe contar con las condiciones para la atención a esta población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575f6d"/>
                </a:solidFill>
                <a:latin typeface="Tw Cen MT"/>
              </a:rPr>
              <a:t>NUESTROS MAYORES DERECHOS: NUEVO PARADIGMA PARA LA POLITICA PUBLICA</a:t>
            </a:r>
            <a:endParaRPr b="0" lang="en-US" sz="36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484280"/>
            <a:ext cx="81532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Tw Cen MT"/>
              </a:rPr>
              <a:t>OBJETIVO: Mejorar la calidad de vida y el ejercicio de derechos de las personas adultas mayo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Tw Cen MT"/>
              </a:rPr>
              <a:t>AMBITO DE APLICACIÓN: 100 municipios de mayor pobreza  rural y en asentamientos de 25 Municipios a nivel urbano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Tw Cen MT"/>
              </a:rPr>
              <a:t>DURACIÓN: Cuatro año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Tw Cen MT"/>
              </a:rPr>
              <a:t>COORDINACIÓN : Secretaría de Inclusión Social y Secretaría Técnica de la Presidenci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Tw Cen MT"/>
              </a:rPr>
              <a:t>COMITÉ DE COORDINACIÓN: FISDL, SECULTURA, PGR, MINED, MINSAL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575f6d"/>
                </a:solidFill>
                <a:latin typeface="Tw Cen MT"/>
              </a:rPr>
              <a:t>Componentes del programa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35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Salud y Nutric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Aprendiendo Juntos y Juntas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oferta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Ejerciendo Derechos y Ciudadanía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bási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Pensión básica univers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Mejorando espaci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Recreando tradiciones y 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 oferta cultura popular 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adicional  monitoreo  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4 Cerrar llave"/>
          <p:cNvSpPr/>
          <p:nvPr/>
        </p:nvSpPr>
        <p:spPr>
          <a:xfrm>
            <a:off x="6443640" y="1773360"/>
            <a:ext cx="262080" cy="1726920"/>
          </a:xfrm>
          <a:custGeom>
            <a:avLst/>
            <a:gdLst>
              <a:gd name="textAreaLeft" fmla="*/ 0 w 262080"/>
              <a:gd name="textAreaRight" fmla="*/ 94680 w 262080"/>
              <a:gd name="textAreaTop" fmla="*/ 6480 h 1726920"/>
              <a:gd name="textAreaBottom" fmla="*/ 172044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16200" y="10800"/>
                  <a:pt x="21600" y="10800"/>
                </a:cubicBezTo>
                <a:cubicBezTo>
                  <a:pt x="162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5 Cerrar llave"/>
          <p:cNvSpPr/>
          <p:nvPr/>
        </p:nvSpPr>
        <p:spPr>
          <a:xfrm>
            <a:off x="6875640" y="3789360"/>
            <a:ext cx="144360" cy="1295280"/>
          </a:xfrm>
          <a:custGeom>
            <a:avLst/>
            <a:gdLst>
              <a:gd name="textAreaLeft" fmla="*/ 0 w 144360"/>
              <a:gd name="textAreaRight" fmla="*/ 52200 w 144360"/>
              <a:gd name="textAreaTop" fmla="*/ 3600 h 1295280"/>
              <a:gd name="textAreaBottom" fmla="*/ 12916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16200" y="10800"/>
                  <a:pt x="21600" y="10800"/>
                </a:cubicBezTo>
                <a:cubicBezTo>
                  <a:pt x="162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Logros relevantes</a:t>
            </a: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Entrega de pensiones a 26 mil PA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Atención domiciliar en salud a 29 mil PA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Alfabetización de 9 mil PA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Impulso de convenciòn PAM en O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Diplomado de gerontología so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Huertos familia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Programa de mejoramiento de hoga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Atenciòn a PAM en red de casas de la cultur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Mejoramiento de espacios pùblic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Nuevos proyectos</a:t>
            </a:r>
            <a:r>
              <a:rPr b="0" lang="es-ES" sz="4400" spc="-1" strike="noStrike">
                <a:solidFill>
                  <a:srgbClr val="575f6d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Creacion de la politica nacional pa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Nueva ley de PA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Creacion de unidad geriátri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Implementación de programas para cuidado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Congreso de gerontologí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Estrategia de sensibilización para el buen trato de las personas mayo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Manual de manejo de Hogares y Residencias Sustituta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22:03:28Z</dcterms:created>
  <dc:creator>nsoundy</dc:creator>
  <dc:description/>
  <dc:language>en-US</dc:language>
  <cp:lastModifiedBy>Your User Name</cp:lastModifiedBy>
  <dcterms:modified xsi:type="dcterms:W3CDTF">2002-02-10T04:24:31Z</dcterms:modified>
  <cp:revision>42</cp:revision>
  <dc:subject/>
  <dc:title>Diapositiva 1</dc:title>
</cp:coreProperties>
</file>