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BFC-A127-40FB-8D8E-C141961D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57F-A7C5-4155-9FA9-C4481794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A84-ED76-4F78-B8EB-05DD46C4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478-2F75-4B12-9C80-F9D3317F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4B29-1BB5-4874-8DF4-7A8EE5E9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5007-425E-45B1-A667-98BC1BF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8C8F-9B1F-4EB1-A505-C76DFD4B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9F9D-95FB-4635-82F2-6F1D8B4B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2055-A6DD-4C06-8460-262BEF5F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1894-28F7-494C-BC0E-6B41F1EA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7282-06AC-482D-A392-CE96CFC1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D66-17FD-40A8-B9E8-572B00B7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889C-EA79-4DC0-90E4-E359AB9D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DDB9-37AA-4EB6-A9EC-22E8A724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EF38-CC06-4B6E-9F01-8A4CDD38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2E26-567A-40FE-8826-83D00ED3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C03E-A62F-4D1A-870F-A4EABCC4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EA69F-32D4-4154-8554-260F4D0B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C880A-977A-4008-BC9E-984FFBB0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32620-107D-44B2-8355-42D117D8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A2BBF-193B-499A-9509-39B2F425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B3CF3-D79B-4CA7-A92B-0C93824B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BC1-0D13-4B25-B22D-DB4FE6F5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80A65-BB27-4004-ADAC-104CE47A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4E439-D7E7-4651-BB8C-C9D98A51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0393F-1DCE-4A0B-A6B5-5712E87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E2211-E091-40C6-88E6-20F2588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58F5D-645C-45D2-B431-14D5F864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7FE04-93C2-4C74-B79E-9250E378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7A561-EA8F-403D-8D52-A2436249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1CC1D-9E4D-45DD-A8B8-018A04D1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554EE-ED82-4A41-BF2F-13DCB04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D5771-A067-4119-B655-922E9A97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0DA-5A37-45FA-908B-F01DD6C5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63CDC-FFF7-4B10-98A0-D8D45D6A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C63A1-FA90-41E1-8EB1-D1D94DC3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C1E70-EF7E-46A9-B385-3A4A78C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0EC45-2E1C-46DF-8999-6E0C4787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143A5-0461-4600-875F-A71B4AEB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424E2-CE6D-4878-A27A-A243223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616FB-69DA-43BF-9875-A5C13CB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7008B-88E3-4B2C-BCE9-2265FD05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083AE-332C-48CE-8EA5-69A95244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9651F-6CFD-4D8C-9C6F-DA0C135B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AC6-12BE-4EE6-91C2-53354CD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26EED-2C7E-4287-AD66-23134267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71D47-2141-431A-AA68-4DE7D56A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88931-25A2-47EB-9EB2-405AB6B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BB8C6-E26E-4059-A42A-E55AAB79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89250-D7FE-4B77-BBA7-75B51A4F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77361-7573-41AE-B603-0274149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96BDB-BB12-433A-B9A7-39259603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E0800-6241-4E09-B2A9-067DA0B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D2091-0518-487B-9BC3-6A27F8C5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EA25A-5B01-480F-A3B8-2357CD8A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BE9-8A71-4FC9-A3E0-6AB53DC9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61248-7CF0-4624-B209-8CC54277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CA1EE-634C-47DC-8A7A-1F2EC734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77C9-9324-447B-92EA-38ADA0B4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6227-915D-4B1D-B385-55D90C57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6339D-464A-4952-B5F9-54A995C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93B7-ADD0-40DE-AF5A-6E98789F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E5CB9-B1D5-47CF-A8BE-059D8E01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11A0-E2A6-4B16-8685-0254110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21817-22D1-426A-8AB1-61B3482D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5879-C3FD-40C5-BC1A-D4389F0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691-9BC3-4559-AB74-BAA9876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13C4-3707-41D6-9A2A-6960559E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795DA-98CE-4630-828A-EC377D34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70D0-EB83-4E3C-AC03-CF685D50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4713D-6F77-4091-AD30-BE45B2A2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73C2F-F16E-4C55-8B3A-4BB32218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6578E-42C9-483A-A5D9-7EBF1506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F554D-E8F7-4810-8A6E-F1D57407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92FD6-4286-4750-BA30-95BE44BB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3FEB6-7D89-4765-A46F-2F1FC13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CECBF-4229-47AD-A8D9-A001B6B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209-A355-492B-A9E7-603A420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A18B0-684B-442B-8F1E-4E0FE65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34F52-5BD8-4FBB-9435-4B707BC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5F677-819E-4857-A2C9-B619EDD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28F35-1E75-469F-B81B-C8440A9A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62401-5151-46BF-8E72-185205C1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1B0AD-2C3D-468C-8D6F-26E30AAB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6AD6D-B968-433A-BA0B-D2F7E15D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93C00-6AAB-4693-81E2-B40FC140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FE812-A7AF-4FE8-9510-B5F29F1C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02C79-3D8A-4810-9FC6-012138BC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12B-3761-4F94-9CA4-3DB7C60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D121C-6512-4F6D-85DC-7C542DBD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3F64E-456F-4BF3-8385-E792A68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06260-A4FC-4082-86C6-076732D3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36AA0-21CD-40BD-B0E9-2BD276A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B76F-2F9D-48E8-BE06-5B80249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0BBDA-8A32-4311-879E-DAA741DC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2D137-36CB-486B-B97C-FF12B4ED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71A8-6571-4908-B98B-6FE198613C27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39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BDDF-5294-43E6-8BEB-CFCE39BF4572}" type="slidenum">
              <a:rPr b="1" lang="es-SV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3BFE-8F24-4C27-8353-7B865E060EA5}" type="slidenum">
              <a:rPr b="1" lang="es-SV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5DC4-77EA-43B3-B790-88DF005C0353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4167-7C13-4AA9-86D3-0300E1FBE97A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906D-B83D-4CA1-8847-D99167AF40CF}" type="slidenum">
              <a:rPr b="1" lang="es-SV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46D4-B0A7-4260-89E9-E366EAFE7035}" type="slidenum">
              <a:rPr b="1" lang="es-SV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414-FE27-4940-ADA9-D2EAC9DBB128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071440" y="314316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fff39d"/>
                </a:solidFill>
                <a:latin typeface="Tw Cen MT"/>
              </a:rPr>
              <a:t>HACIA UNA POLITICA NACIONAL DE PERSONA ADULTA MAYOR EN EL SALVADOR </a:t>
            </a:r>
            <a:endParaRPr b="0" lang="en-US" sz="40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5857560"/>
            <a:ext cx="67053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600" spc="-1" strike="noStrike">
                <a:solidFill>
                  <a:srgbClr val="000000"/>
                </a:solidFill>
                <a:latin typeface="Tw Cen MT"/>
              </a:rPr>
              <a:t>Mcs  Nadia Jennifer Soundy Ellerbrock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600" spc="-1" strike="noStrike">
                <a:solidFill>
                  <a:srgbClr val="000000"/>
                </a:solidFill>
                <a:latin typeface="Tw Cen MT"/>
              </a:rPr>
              <a:t>Directora de Persona Adulta Mayor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Imagen 1" descr=""/>
          <p:cNvPicPr/>
          <p:nvPr/>
        </p:nvPicPr>
        <p:blipFill>
          <a:blip r:embed="rId1"/>
          <a:stretch/>
        </p:blipFill>
        <p:spPr>
          <a:xfrm>
            <a:off x="179280" y="125280"/>
            <a:ext cx="87854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 política pública es la oferta que hace el Estado para responder a los derechos y necesidades de los habitantes de un paí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s políticas públicas son un instrumento de promoción y ejercicio efectivo de los derech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 titularidad de los derechos se fundamenta en la convenciones de derechos humanos y las Constituciones naciona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Que es una política pública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2. OBJETIVO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Tw Cen MT"/>
              </a:rPr>
              <a:t>Reconocimiento pleno y ejercicio de  derechos,  a través de acceso efectivo a mecanismos de protección, empoderamiento y participació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Nuevo paradigma: enfoque de derecho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pic>
        <p:nvPicPr>
          <p:cNvPr id="358" name="3 Marcador de contenido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8175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Por que se debe contar con una politica publica para mayore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Razón jurídica:  Compromisos internacionales de derechos humanos.  El enfoque de derechos implica incluir a las personas mayores en las políticas públicas y en planes de desarroll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Razón demográfica: el cambio demografico es inminente, y el país debe contar con las condiciones para la atención a esta població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575f6d"/>
                </a:solidFill>
                <a:latin typeface="Tw Cen MT"/>
              </a:rPr>
              <a:t>NUESTROS MAYORES DERECHOS: NUEVO PARADIGMA PARA LA POLITICA PUBLICA</a:t>
            </a:r>
            <a:endParaRPr b="0" lang="en-US" sz="36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484280"/>
            <a:ext cx="8153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OBJETIVO: Mejorar la calidad de vida y el ejercicio de derechos de las personas adultas may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AMBITO DE APLICACIÓN: 100 municipios de mayor pobreza  rural y en asentamientos de 25 Municipios a nivel urban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DURACIÓN: Cuatro año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COORDINACIÓN : Secretaría de Inclusión Social y Secretaría Técnica de la Presidenc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COMITÉ DE COORDINACIÓN: FISDL, SECULTURA, PGR, MINED, MINSAL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575f6d"/>
                </a:solidFill>
                <a:latin typeface="Tw Cen MT"/>
              </a:rPr>
              <a:t>Componentes del programa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Salud y Nutri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Aprendiendo Juntos y Juntas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ofert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Ejerciendo Derechos y Ciudadanía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bás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Pensión básica univers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Mejorando espaci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Recreando tradiciones y 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oferta cultura popular 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adicional  monitoreo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4 Cerrar llave"/>
          <p:cNvSpPr/>
          <p:nvPr/>
        </p:nvSpPr>
        <p:spPr>
          <a:xfrm>
            <a:off x="6443640" y="1773360"/>
            <a:ext cx="262080" cy="1726920"/>
          </a:xfrm>
          <a:custGeom>
            <a:avLst/>
            <a:gdLst>
              <a:gd name="textAreaLeft" fmla="*/ 0 w 262080"/>
              <a:gd name="textAreaRight" fmla="*/ 94680 w 262080"/>
              <a:gd name="textAreaTop" fmla="*/ 6480 h 1726920"/>
              <a:gd name="textAreaBottom" fmla="*/ 172044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16200" y="10800"/>
                  <a:pt x="21600" y="10800"/>
                </a:cubicBezTo>
                <a:cubicBezTo>
                  <a:pt x="162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5 Cerrar llave"/>
          <p:cNvSpPr/>
          <p:nvPr/>
        </p:nvSpPr>
        <p:spPr>
          <a:xfrm>
            <a:off x="6875640" y="3789360"/>
            <a:ext cx="144360" cy="1295280"/>
          </a:xfrm>
          <a:custGeom>
            <a:avLst/>
            <a:gdLst>
              <a:gd name="textAreaLeft" fmla="*/ 0 w 144360"/>
              <a:gd name="textAreaRight" fmla="*/ 52200 w 144360"/>
              <a:gd name="textAreaTop" fmla="*/ 3600 h 1295280"/>
              <a:gd name="textAreaBottom" fmla="*/ 12916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Logros relevantes</a:t>
            </a: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ntrega de pensiones a 26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tención domiciliar en salud a 29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lfabetización de 9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Impulso de convenciòn PAM en O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Diplomado de gerontología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Huertos familia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Programa de mejoramiento de hoga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tenciòn a PAM en red de casas de la cultu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Mejoramiento de espacios pùblic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Nuevos proyectos</a:t>
            </a: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reacion de la politica naciona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Nueva ley de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reacion de unidad geriátr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Implementación de programas para cuidado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ongreso de gerontologí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strategia de sensibilización para el buen trato de las personas mayo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Manual de manejo de Hogares y Residencias Sustitut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22:03:28Z</dcterms:created>
  <dc:creator>nsoundy</dc:creator>
  <dc:description/>
  <dc:language>en-US</dc:language>
  <cp:lastModifiedBy>Your User Name</cp:lastModifiedBy>
  <dcterms:modified xsi:type="dcterms:W3CDTF">2002-02-10T04:24:31Z</dcterms:modified>
  <cp:revision>42</cp:revision>
  <dc:subject/>
  <dc:title>Diapositiva 1</dc:title>
</cp:coreProperties>
</file>