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6834-B153-4024-8801-3879DF4F84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B1E5-D6F1-40CE-978E-A8A5598158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01EF-B002-4232-91F4-2066355480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1A1D-289C-42BA-B2A9-F709B21BD2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F0A9-1937-4F32-8287-3E960F86AD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4848-AC53-4D51-BD66-73B3461501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5EFB-84CD-43B2-A7D0-8E277BB63B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26E7-14E5-4E4B-9139-492A7C23C5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C55A-FCBB-4489-9DBF-A7B8CE5FFB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6676-7FE9-4042-ADF7-16B0A6D02C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5BF9-2327-4E67-8E59-BA0860A942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CFBC-3C59-47AA-9809-6E2476FF2A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CAD35-54D2-496E-A7C9-DAE30745AF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40051-C623-47D3-9673-3B17F6F979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C1A62-20BC-4314-AC6C-7F25A212CB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E0CB6-E13F-4088-8898-8F6B1F24DE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DAD61-EFF6-4107-A7BC-C5F4ABF010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CAEAE-214E-49BD-B00A-C8094AF3C7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75BEE-79E7-4850-A176-07549ABA16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791BB-ADA2-4AD1-87B2-9B0887B2E6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7107-E41B-414A-944B-6249F1BAEA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F473-174C-470F-8F00-B1D44417D5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1BD97-E666-493F-8C1A-D76D3C17F1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B9F44-7E0E-4312-9123-10627E2753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" name="Immagine 3" descr="Logo-FORMEZ-PA-09032010"/>
          <p:cNvPicPr/>
          <p:nvPr/>
        </p:nvPicPr>
        <p:blipFill>
          <a:blip r:embed="rId2"/>
          <a:stretch/>
        </p:blipFill>
        <p:spPr>
          <a:xfrm>
            <a:off x="453960" y="206856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9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3D51-BD2A-4098-A8E4-0E0FADAADAC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601560" y="1346400"/>
            <a:ext cx="218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Gill Sans MT"/>
              </a:rPr>
              <a:t>Índice          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Num" idx="2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2E99-8791-40DA-8BAA-B6D20C36825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4876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Gill Sans MT"/>
              </a:rPr>
              <a:t>Las políticas públicas desde una perspectiva territorial:</a:t>
            </a:r>
            <a:br>
              <a:rPr sz="4800"/>
            </a:br>
            <a:r>
              <a:rPr b="1" lang="es-ES" sz="4800" spc="-1" strike="noStrike">
                <a:solidFill>
                  <a:srgbClr val="ffffff"/>
                </a:solidFill>
                <a:latin typeface="Gill Sans MT"/>
              </a:rPr>
              <a:t>problemas y oportunidades </a:t>
            </a:r>
            <a:br>
              <a:rPr sz="4800"/>
            </a:br>
            <a:r>
              <a:rPr b="0" lang="es-ES" sz="4400" spc="-1" strike="noStrike">
                <a:solidFill>
                  <a:srgbClr val="ffffff"/>
                </a:solidFill>
                <a:latin typeface="Gill Sans MT"/>
              </a:rPr>
              <a:t>-Reflexiones desde la experiencia EUROsociAL-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62" name="Picture 7" descr="\\fiiapp-arc2-srv\Eurosocial II\GESTIÓN TECNICA\6. Comunicacion y visibilidad\Comunicacion\LOGOTIPOS EUROsociAL\LOGOS SOCIOS EUROsociAL\parrilla logos EUROsociAL\logos_eurosocial_CMYK (nuevo).png"/>
          <p:cNvPicPr/>
          <p:nvPr/>
        </p:nvPicPr>
        <p:blipFill>
          <a:blip r:embed="rId2"/>
          <a:stretch/>
        </p:blipFill>
        <p:spPr>
          <a:xfrm>
            <a:off x="165240" y="8161200"/>
            <a:ext cx="12648960" cy="14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1 CuadroTexto"/>
          <p:cNvSpPr/>
          <p:nvPr/>
        </p:nvSpPr>
        <p:spPr>
          <a:xfrm>
            <a:off x="4054320" y="3560760"/>
            <a:ext cx="4824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ill Sans"/>
              </a:rPr>
              <a:t>www.eurosocial-II.eu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6" name="Immagine 19" descr="Logo-FORMEZ-PA-09032010"/>
          <p:cNvPicPr/>
          <p:nvPr/>
        </p:nvPicPr>
        <p:blipFill>
          <a:blip r:embed="rId1"/>
          <a:stretch/>
        </p:blipFill>
        <p:spPr>
          <a:xfrm>
            <a:off x="4970520" y="6415200"/>
            <a:ext cx="2992320" cy="93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0DBE-5875-4BD7-9CED-6513DC0DACA0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1322280" y="2671920"/>
            <a:ext cx="1103652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Contex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Metodologí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66"/>
                </a:solidFill>
                <a:latin typeface="Gill Sans MT"/>
                <a:ea typeface="Gill Sans MT"/>
              </a:rPr>
              <a:t>Logros y result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53960" y="2671920"/>
            <a:ext cx="55080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Gill Sans MT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6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9B98-44D9-4DC2-98F9-5C9CFD163A0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8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rcRect l="5953" t="0" r="0" b="0"/>
          <a:stretch/>
        </p:blipFill>
        <p:spPr>
          <a:xfrm>
            <a:off x="1368360" y="2068560"/>
            <a:ext cx="9680760" cy="6885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4141440" y="1343520"/>
            <a:ext cx="472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ementos de contex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A4D6-BE93-413B-8129-3E6F820ADDCC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4141440" y="1343520"/>
            <a:ext cx="472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ementos de contex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América Latina es la región del mundo mas desigual y diversa social y territorialment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a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cohesión social es también territorial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, se requiere una capacidad de adaptar las políticas sectoriales a la medida, tomando en cuenta las condiciones especificas de las reg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a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administración publica es organizada temática y sectorialmente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, tal característica prevalente dificulta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orientar las políticas hacia las necesidades especificas de cada territorio, región, provincia o municip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concebir las políticas como sistema según un enfoque integrad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4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5CCF-757A-46F3-A7D8-937035B701A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4141440" y="1343520"/>
            <a:ext cx="472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ementos de contex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a necesidad de adaptar las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acciones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y orientarlas según las necesidades de los territorio es reconocida en general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Reconocimiento formal pero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baja aplicación efectiv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imitada aceptación de la necesidad de dirigir las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políticas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sectoriales</a:t>
            </a:r>
            <a:r>
              <a:rPr b="0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hacia los territori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a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descentralización es todavía un desafío abierto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en América Latina, como condición previa para un desarrollo regional que logre establecerse efectivamente y permanecer en el tiemp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8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850F-F5A0-43BA-B11F-F1ED49CB2E3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4155840" y="1343520"/>
            <a:ext cx="4694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nfoque metodológi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Coordinación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continua para mantener un método de trabajo compartido entre los distintos país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En cada contexto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adaptación</a:t>
            </a:r>
            <a:r>
              <a:rPr b="0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de las actividades a las condiciones técnicas e institucionales, con base en los intereses y las prioridades manifestadas por las contrapartes loca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Papel medular de las visitas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intercambio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a Europa con función de establecer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cooperación entre pares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y para identificar practicas relevantes y lecciones de interé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2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46D4-EC3C-4B0A-AC10-CB005D7D4BDC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4155840" y="1343520"/>
            <a:ext cx="4694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nfoque metodológi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Situación diferente y heterogénea a nivel institucion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se han desarrollado actividades distintas en Argentina, Colombia, Guatemala y Méxi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De cada una de ellas se han sacado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lecciones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diferentes pero igualment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relevantes</a:t>
            </a:r>
            <a:r>
              <a:rPr b="0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a nivel gener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6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AD2D-BC4D-4CAF-9AD0-754FD0A30FB5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2197440" y="1343520"/>
            <a:ext cx="8611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UROsociAL: logros y resultados relevant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647640" y="199692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Fortalecer 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institucionalizar</a:t>
            </a:r>
            <a:r>
              <a:rPr b="0" lang="es-ES" sz="3200" spc="-1" strike="noStrike">
                <a:solidFill>
                  <a:srgbClr val="c00000"/>
                </a:solidFill>
                <a:latin typeface="Gill San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os procesos para el desarrollo region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Énfasis en los procesos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articulación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entre niveles de gobierno sectoriales y regionales (gobernanza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Reconocimiento y fortalecimiento del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rol articulador de las instituciones a cargo de las políticas regiona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Desarrollo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casos concretos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con el fin de resaltar las implicaciones de la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articulación entre las políticas universales y sectoriales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 en los distintos contextos regionales, enmarcándolas en una visión de conjunto de territori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Fortalecimiento del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capital social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, a través de proceso de empoderamiento de lo region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Desarrollo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herramientas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para instrumentar las políticas regiona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0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3BB8-E00F-4AED-80B1-E2505BDB91C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2197440" y="1343520"/>
            <a:ext cx="8611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UROsociAL: logros y resultados relevant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Adicionalmente a los resultados concretos se han generado externalidades positivas important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Poner en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dialogo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instituciones que no dialogab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Articulación entre instituciones,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legitim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Generación de </a:t>
            </a:r>
            <a:r>
              <a:rPr b="1" lang="es-ES" sz="3200" spc="-1" strike="noStrike">
                <a:solidFill>
                  <a:srgbClr val="c00000"/>
                </a:solidFill>
                <a:latin typeface="Gill Sans"/>
              </a:rPr>
              <a:t>habilidades bland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4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Enrique Martinez García</dc:creator>
  <dc:description/>
  <dc:language>en-US</dc:language>
  <cp:lastModifiedBy>Paolo</cp:lastModifiedBy>
  <dcterms:modified xsi:type="dcterms:W3CDTF">2015-10-21T05:18:40Z</dcterms:modified>
  <cp:revision>22</cp:revision>
  <dc:subject/>
  <dc:title>Titulo de la presentación -Subtítulo de la presentación-</dc:title>
</cp:coreProperties>
</file>