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7B2A-F626-4F0B-9599-BDC791BD2F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3A5A-7202-4CD1-A5CE-F19B99C9DC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6A25-C5F3-4DB6-A7A7-B600553DF7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12C7-D6F2-4F37-A893-12261E35EA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E169-CD1A-4161-A56A-5AA8FCDB45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2B07-56AB-4C0A-8F43-B088F771F8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DFFC-CD7D-4677-8216-774DB7D59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6450-1D1F-441B-B0CF-EE8B9A7648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5542-52D8-4992-8383-91EA737C80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39D5-0CC0-4C0F-A190-9335661CD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B72C-28DA-4FFE-91D2-06FD0A9258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1982-AD0A-4B36-8EB8-7C1A1823CE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4DE8-4CF0-4E08-B388-5FCB2D55ED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F5A1-5A92-4689-B600-269085F976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60E4-2798-40F8-9B92-2BA1EA8210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5112-570B-4DD6-AD81-86D8BFE3AD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8A9B-DA7A-4437-B064-4C23C4B87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C820-632A-4B53-B7F4-51700DE882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AE20-8D6B-4401-96C9-55D6174F43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B062-FA3E-4961-8F21-4CD77A356F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3682-0453-4200-9199-D97087EDD3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658F-4150-4E44-AFFB-F67AE91D70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6D0B-0004-4A9B-9A5E-218EFF7B98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D77E-7DF7-432A-8237-C5FA42DA13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" name="Immagine 3" descr="Logo-FORMEZ-PA-09032010"/>
          <p:cNvPicPr/>
          <p:nvPr/>
        </p:nvPicPr>
        <p:blipFill>
          <a:blip r:embed="rId2"/>
          <a:stretch/>
        </p:blipFill>
        <p:spPr>
          <a:xfrm>
            <a:off x="453960" y="206856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7802-6C62-4B64-96D4-6700FD231AB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17E-BAE1-4D48-BDE6-83FE88F98AA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ill Sans MT"/>
              </a:rPr>
              <a:t>Las políticas públicas desde una perspectiva territorial: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Gill Sans MT"/>
              </a:rPr>
              <a:t>problemas y oportunidades </a:t>
            </a:r>
            <a:br>
              <a:rPr sz="4800"/>
            </a:br>
            <a:r>
              <a:rPr b="0" lang="es-ES" sz="4400" spc="-1" strike="noStrike">
                <a:solidFill>
                  <a:srgbClr val="ffffff"/>
                </a:solidFill>
                <a:latin typeface="Gill Sans MT"/>
              </a:rPr>
              <a:t>-Reflexiones desde la experiencia EUROsociAL-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6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1 CuadroTexto"/>
          <p:cNvSpPr/>
          <p:nvPr/>
        </p:nvSpPr>
        <p:spPr>
          <a:xfrm>
            <a:off x="4054320" y="3560760"/>
            <a:ext cx="482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magine 19" descr="Logo-FORMEZ-PA-09032010"/>
          <p:cNvPicPr/>
          <p:nvPr/>
        </p:nvPicPr>
        <p:blipFill>
          <a:blip r:embed="rId1"/>
          <a:stretch/>
        </p:blipFill>
        <p:spPr>
          <a:xfrm>
            <a:off x="4970520" y="6415200"/>
            <a:ext cx="2992320" cy="93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3DC-5A1A-4242-BD2C-004476182DC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1322280" y="2671920"/>
            <a:ext cx="1103652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Contex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ogros y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53960" y="2671920"/>
            <a:ext cx="5508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A713-1455-4812-93BF-8E58ADE4F14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5953" t="0" r="0" b="0"/>
          <a:stretch/>
        </p:blipFill>
        <p:spPr>
          <a:xfrm>
            <a:off x="1368360" y="2068560"/>
            <a:ext cx="968076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37CB-3F0C-4A80-BD86-BB8C2608302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mérica Latina es la región del mundo mas desigual y diversa social y territorialmen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hesión social es también territorial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se requiere una capacidad de adaptar las políticas sectoriales a la medida, tomando en cuenta las condiciones especificas de las reg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dministración publica es organizada temática y sectorialmente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tal característica prevalente dificulta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orientar las políticas hacia las necesidades especificas de cada territorio, región, provincia o municip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cebir las políticas como sistema según un enfoque integr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DC58-FA15-4EE0-832C-44239BE106E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necesidad de adaptar las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ccion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y orientarlas según las necesidades de los territorio es reconocida en general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Reconocimiento formal per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baja aplicación efecti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imitada aceptación de la necesidad de dirigir las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política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sectoriales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hacia los territo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descentralización es todavía un desafío abiert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 América Latina, como condición previa para un desarrollo regional que logre establecerse efectivamente y permanecer en el tiemp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EAF-FECD-4A51-8E56-FCF9BD12972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155840" y="1343520"/>
            <a:ext cx="469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nfoque metod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ordinación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continua para mantener un método de trabajo compartido entre los distintos paí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 cada contexto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daptación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 las actividades a las condiciones técnicas e institucionales, con base en los intereses y las prioridades manifestadas por las contrapartes loc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apel medular de las visitas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intercambio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a Europa con función de establecer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operación entre par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y para identificar practicas relevantes y lecciones de interé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545-0714-4FDB-80CB-8B3D71B97F5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4155840" y="1343520"/>
            <a:ext cx="469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nfoque metod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Situación diferente y heterogénea a nivel instituc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se han desarrollado actividades distintas en Argentina, Colombia, Guatemala y Méx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 cada una de ellas se han sacado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leccion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diferentes pero igualment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relevantes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 nivel gener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5A66-7059-43A1-A0CF-98CA830A968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197440" y="1343520"/>
            <a:ext cx="861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UROsociAL: logros y resultados releva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47640" y="199692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ortalecer 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institucionalizar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os procesos para el desarrol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Énfasis en los procesos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rticulación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tre niveles de gobierno sectoriales y regionales (gobernanza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Reconocimiento y fortalecimiento del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rol articulador de las instituciones a cargo de las políticas reg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sarroll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asos concretos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 el fin de resaltar las implicaciones de 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rticulación entre las políticas universales y sectorial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en los distintos contextos regionales, enmarcándolas en una visión de conjunto de territori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ortalecimiento del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apital social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a través de proceso de empoderamiento de 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sarroll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herramientas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ara instrumentar las políticas reg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D8C6-BDD1-4E82-A76F-1442A19B995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197440" y="1343520"/>
            <a:ext cx="861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UROsociAL: logros y resultados releva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dicionalmente a los resultados concretos se han generado externalidades positivas important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oner en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dialog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instituciones que no dialogab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rticulación entre instituciones,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legitim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Generación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habilidades bland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Paolo</cp:lastModifiedBy>
  <dcterms:modified xsi:type="dcterms:W3CDTF">2015-10-21T05:18:40Z</dcterms:modified>
  <cp:revision>22</cp:revision>
  <dc:subject/>
  <dc:title>Titulo de la presentación -Subtítulo de la presentación-</dc:title>
</cp:coreProperties>
</file>