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91C0-0D9B-4FA4-8D21-7C5D8AD38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04B0-04BE-410A-BFF8-8D5997A70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ED50-3FAC-4DE3-8C83-8F685C4F3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FDC3-D520-407B-8F88-327C6F5ED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0DEF-7AE3-413D-A5C1-21E2418F6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0AC6-9B37-4431-A7D1-12D90089C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2DAB-D754-425B-92D4-62806BEA7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297D-79DA-40BB-B1F1-4BB527839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6434-8E16-4BE0-90AC-81D80C9ED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AE2B-23C8-4F73-8321-D926FB979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81FE-4F9E-447F-A856-88320F881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ACDD-02CB-47CF-A6F5-438A0D32D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BAF8-DA7F-4F12-BC4D-9A3D368B39EB}" type="slidenum">
              <a:rPr b="0" lang="en-US" sz="1600" spc="-1" strike="noStrike">
                <a:solidFill>
                  <a:srgbClr val="0d4c92"/>
                </a:solidFill>
                <a:latin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17680" y="3768840"/>
            <a:ext cx="3456000" cy="3240000"/>
          </a:xfrm>
          <a:custGeom>
            <a:avLst/>
            <a:gdLst/>
            <a:ahLst/>
            <a:rect l="l" t="t" r="r" b="b"/>
            <a:pathLst>
              <a:path w="2177" h="2041">
                <a:moveTo>
                  <a:pt x="1043" y="0"/>
                </a:moveTo>
                <a:lnTo>
                  <a:pt x="1225" y="227"/>
                </a:lnTo>
                <a:lnTo>
                  <a:pt x="907" y="454"/>
                </a:lnTo>
                <a:lnTo>
                  <a:pt x="1451" y="544"/>
                </a:lnTo>
                <a:lnTo>
                  <a:pt x="998" y="771"/>
                </a:lnTo>
                <a:lnTo>
                  <a:pt x="408" y="499"/>
                </a:lnTo>
                <a:lnTo>
                  <a:pt x="408" y="817"/>
                </a:lnTo>
                <a:lnTo>
                  <a:pt x="45" y="1270"/>
                </a:lnTo>
                <a:lnTo>
                  <a:pt x="317" y="1225"/>
                </a:lnTo>
                <a:lnTo>
                  <a:pt x="272" y="1633"/>
                </a:lnTo>
                <a:lnTo>
                  <a:pt x="0" y="1497"/>
                </a:lnTo>
                <a:lnTo>
                  <a:pt x="453" y="1860"/>
                </a:lnTo>
                <a:lnTo>
                  <a:pt x="998" y="1996"/>
                </a:lnTo>
                <a:lnTo>
                  <a:pt x="1451" y="2041"/>
                </a:lnTo>
                <a:lnTo>
                  <a:pt x="1587" y="1678"/>
                </a:lnTo>
                <a:lnTo>
                  <a:pt x="1633" y="1270"/>
                </a:lnTo>
                <a:lnTo>
                  <a:pt x="1451" y="544"/>
                </a:lnTo>
                <a:lnTo>
                  <a:pt x="2177" y="2041"/>
                </a:lnTo>
                <a:lnTo>
                  <a:pt x="1451" y="2041"/>
                </a:lnTo>
                <a:lnTo>
                  <a:pt x="1134" y="1769"/>
                </a:lnTo>
                <a:lnTo>
                  <a:pt x="1043" y="1316"/>
                </a:lnTo>
                <a:lnTo>
                  <a:pt x="771" y="817"/>
                </a:lnTo>
                <a:lnTo>
                  <a:pt x="363" y="408"/>
                </a:lnTo>
                <a:lnTo>
                  <a:pt x="45" y="1270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“</a:t>
            </a: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Problemas” de Gobernanz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5141880" y="2182680"/>
            <a:ext cx="61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Colombi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La reforma del ordenamiento territorial y una nueva fase de políticas de desarrollo regional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requieren más eficiencia y capital institucional a nivel territorial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innovan y fortalecen los modelos de asociación y cooperación interinstitucional entre entidades territoria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5151600" y="4292640"/>
            <a:ext cx="60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Argentin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La Mesa de Programas es instituida </a:t>
            </a:r>
            <a:r>
              <a:rPr b="0" lang="es-ES" sz="2000" spc="-1" strike="noStrike">
                <a:solidFill>
                  <a:srgbClr val="000000"/>
                </a:solidFill>
                <a:latin typeface="Gill Sans"/>
              </a:rPr>
              <a:t>para trabajar de manera coordinada (entre distintos ministerios) programas y proyectos nacionales de implementación territorial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estructura y organiza el funcionamiento de la Mesa y se experimentan innovaciones para fortalecer la capacidad de las entidades territoriales de interactuar entre si y con el nivel centr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5192640" y="6958080"/>
            <a:ext cx="676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Gill Sans"/>
              </a:rPr>
              <a:t>Guatemala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. La nueva Planificación del Desarrollo Regional se implementa en el complejo sistema institucional de las politicas DETC, fundado sobre el sistema de los Consejos de Desarrollo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Gill Sans"/>
              </a:rPr>
              <a:t> se identifican (a través de una acción piloto) soluciones institucionales y técnicas para la generacion de proyectos regionales alineados con las estrategias regionales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444600" y="6073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1165320" y="6649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878040" y="6289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"/>
          <p:cNvSpPr/>
          <p:nvPr/>
        </p:nvSpPr>
        <p:spPr>
          <a:xfrm>
            <a:off x="1380960" y="60739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/>
          <p:nvPr/>
        </p:nvSpPr>
        <p:spPr>
          <a:xfrm>
            <a:off x="159696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"/>
          <p:cNvSpPr/>
          <p:nvPr/>
        </p:nvSpPr>
        <p:spPr>
          <a:xfrm>
            <a:off x="1812960" y="6648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2028960" y="6864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"/>
          <p:cNvSpPr/>
          <p:nvPr/>
        </p:nvSpPr>
        <p:spPr>
          <a:xfrm>
            <a:off x="2244600" y="6505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"/>
          <p:cNvSpPr/>
          <p:nvPr/>
        </p:nvSpPr>
        <p:spPr>
          <a:xfrm>
            <a:off x="2317680" y="6000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2965320" y="63612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>
            <a:off x="1886040" y="5929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1092240" y="499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"/>
          <p:cNvSpPr/>
          <p:nvPr/>
        </p:nvSpPr>
        <p:spPr>
          <a:xfrm>
            <a:off x="1093680" y="549756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568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1739880" y="5784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"/>
          <p:cNvSpPr/>
          <p:nvPr/>
        </p:nvSpPr>
        <p:spPr>
          <a:xfrm>
            <a:off x="2244600" y="54259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2028960" y="4921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"/>
          <p:cNvSpPr/>
          <p:nvPr/>
        </p:nvSpPr>
        <p:spPr>
          <a:xfrm>
            <a:off x="2676600" y="5281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"/>
          <p:cNvSpPr/>
          <p:nvPr/>
        </p:nvSpPr>
        <p:spPr>
          <a:xfrm>
            <a:off x="1670040" y="4992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"/>
          <p:cNvSpPr/>
          <p:nvPr/>
        </p:nvSpPr>
        <p:spPr>
          <a:xfrm>
            <a:off x="1020600" y="44164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"/>
          <p:cNvSpPr/>
          <p:nvPr/>
        </p:nvSpPr>
        <p:spPr>
          <a:xfrm>
            <a:off x="444600" y="5065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"/>
          <p:cNvSpPr/>
          <p:nvPr/>
        </p:nvSpPr>
        <p:spPr>
          <a:xfrm>
            <a:off x="1668600" y="4200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>
            <a:off x="1884240" y="44164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2389320" y="4057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2101680" y="369720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"/>
          <p:cNvSpPr/>
          <p:nvPr/>
        </p:nvSpPr>
        <p:spPr>
          <a:xfrm>
            <a:off x="2749680" y="45608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"/>
          <p:cNvSpPr/>
          <p:nvPr/>
        </p:nvSpPr>
        <p:spPr>
          <a:xfrm>
            <a:off x="1452600" y="3841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"/>
          <p:cNvSpPr/>
          <p:nvPr/>
        </p:nvSpPr>
        <p:spPr>
          <a:xfrm>
            <a:off x="2100240" y="578628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2244600" y="62164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253368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"/>
          <p:cNvSpPr/>
          <p:nvPr/>
        </p:nvSpPr>
        <p:spPr>
          <a:xfrm>
            <a:off x="2747880" y="6576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"/>
          <p:cNvSpPr/>
          <p:nvPr/>
        </p:nvSpPr>
        <p:spPr>
          <a:xfrm>
            <a:off x="3252960" y="6218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"/>
          <p:cNvSpPr/>
          <p:nvPr/>
        </p:nvSpPr>
        <p:spPr>
          <a:xfrm>
            <a:off x="3036960" y="5713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"/>
          <p:cNvSpPr/>
          <p:nvPr/>
        </p:nvSpPr>
        <p:spPr>
          <a:xfrm>
            <a:off x="2749680" y="6073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2604960" y="56419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1895400" y="62895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949320" y="5641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8960" y="6864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57135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2749680" y="6937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6145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181320" y="6576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517680" y="3768840"/>
            <a:ext cx="2808000" cy="3313080"/>
          </a:xfrm>
          <a:custGeom>
            <a:avLst/>
            <a:gdLst/>
            <a:ahLst/>
            <a:rect l="l" t="t" r="r" b="b"/>
            <a:pathLst>
              <a:path w="1769" h="2087">
                <a:moveTo>
                  <a:pt x="453" y="1860"/>
                </a:moveTo>
                <a:lnTo>
                  <a:pt x="45" y="1724"/>
                </a:lnTo>
                <a:lnTo>
                  <a:pt x="0" y="1542"/>
                </a:lnTo>
                <a:lnTo>
                  <a:pt x="45" y="1270"/>
                </a:lnTo>
                <a:lnTo>
                  <a:pt x="0" y="862"/>
                </a:lnTo>
                <a:lnTo>
                  <a:pt x="363" y="454"/>
                </a:lnTo>
                <a:lnTo>
                  <a:pt x="635" y="91"/>
                </a:lnTo>
                <a:lnTo>
                  <a:pt x="1043" y="0"/>
                </a:lnTo>
                <a:lnTo>
                  <a:pt x="771" y="318"/>
                </a:lnTo>
                <a:lnTo>
                  <a:pt x="1225" y="227"/>
                </a:lnTo>
                <a:lnTo>
                  <a:pt x="1451" y="544"/>
                </a:lnTo>
                <a:lnTo>
                  <a:pt x="1406" y="998"/>
                </a:lnTo>
                <a:lnTo>
                  <a:pt x="1043" y="771"/>
                </a:lnTo>
                <a:lnTo>
                  <a:pt x="907" y="454"/>
                </a:lnTo>
                <a:lnTo>
                  <a:pt x="771" y="817"/>
                </a:lnTo>
                <a:lnTo>
                  <a:pt x="408" y="817"/>
                </a:lnTo>
                <a:lnTo>
                  <a:pt x="408" y="1134"/>
                </a:lnTo>
                <a:lnTo>
                  <a:pt x="317" y="1225"/>
                </a:lnTo>
                <a:lnTo>
                  <a:pt x="589" y="1542"/>
                </a:lnTo>
                <a:lnTo>
                  <a:pt x="317" y="1633"/>
                </a:lnTo>
                <a:lnTo>
                  <a:pt x="726" y="1724"/>
                </a:lnTo>
                <a:lnTo>
                  <a:pt x="816" y="1860"/>
                </a:lnTo>
                <a:lnTo>
                  <a:pt x="952" y="1588"/>
                </a:lnTo>
                <a:lnTo>
                  <a:pt x="907" y="1406"/>
                </a:lnTo>
                <a:lnTo>
                  <a:pt x="1043" y="1316"/>
                </a:lnTo>
                <a:lnTo>
                  <a:pt x="1134" y="1043"/>
                </a:lnTo>
                <a:lnTo>
                  <a:pt x="1361" y="1225"/>
                </a:lnTo>
                <a:lnTo>
                  <a:pt x="1633" y="1270"/>
                </a:lnTo>
                <a:lnTo>
                  <a:pt x="1769" y="1542"/>
                </a:lnTo>
                <a:lnTo>
                  <a:pt x="1723" y="1815"/>
                </a:lnTo>
                <a:lnTo>
                  <a:pt x="1406" y="2087"/>
                </a:lnTo>
                <a:lnTo>
                  <a:pt x="1451" y="1860"/>
                </a:lnTo>
                <a:lnTo>
                  <a:pt x="1315" y="1724"/>
                </a:lnTo>
                <a:lnTo>
                  <a:pt x="1134" y="1769"/>
                </a:lnTo>
                <a:lnTo>
                  <a:pt x="998" y="1996"/>
                </a:lnTo>
                <a:lnTo>
                  <a:pt x="1134" y="1588"/>
                </a:lnTo>
                <a:lnTo>
                  <a:pt x="1179" y="1452"/>
                </a:lnTo>
                <a:lnTo>
                  <a:pt x="1315" y="1542"/>
                </a:lnTo>
                <a:lnTo>
                  <a:pt x="1451" y="1497"/>
                </a:lnTo>
                <a:lnTo>
                  <a:pt x="1361" y="1225"/>
                </a:lnTo>
                <a:lnTo>
                  <a:pt x="1406" y="998"/>
                </a:lnTo>
                <a:lnTo>
                  <a:pt x="680" y="1180"/>
                </a:lnTo>
                <a:lnTo>
                  <a:pt x="816" y="1316"/>
                </a:lnTo>
                <a:lnTo>
                  <a:pt x="589" y="1497"/>
                </a:lnTo>
                <a:lnTo>
                  <a:pt x="726" y="1724"/>
                </a:lnTo>
                <a:lnTo>
                  <a:pt x="453" y="1860"/>
                </a:lnTo>
                <a:close/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6432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3913200"/>
            <a:ext cx="1584360" cy="2160720"/>
          </a:xfrm>
          <a:custGeom>
            <a:avLst/>
            <a:gdLst/>
            <a:ahLst/>
            <a:rect l="l" t="t" r="r" b="b"/>
            <a:pathLst>
              <a:path w="998" h="1361">
                <a:moveTo>
                  <a:pt x="227" y="0"/>
                </a:moveTo>
                <a:lnTo>
                  <a:pt x="363" y="272"/>
                </a:lnTo>
                <a:lnTo>
                  <a:pt x="0" y="771"/>
                </a:lnTo>
                <a:lnTo>
                  <a:pt x="272" y="1089"/>
                </a:lnTo>
                <a:lnTo>
                  <a:pt x="363" y="726"/>
                </a:lnTo>
                <a:lnTo>
                  <a:pt x="590" y="726"/>
                </a:lnTo>
                <a:lnTo>
                  <a:pt x="726" y="952"/>
                </a:lnTo>
                <a:lnTo>
                  <a:pt x="771" y="1361"/>
                </a:lnTo>
                <a:lnTo>
                  <a:pt x="998" y="1361"/>
                </a:lnTo>
                <a:lnTo>
                  <a:pt x="953" y="113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3902040" y="693720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3606840" y="628956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3355920" y="6931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5327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67564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752400" y="68356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14520" y="69469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301680" y="5208480"/>
            <a:ext cx="1800000" cy="1873440"/>
          </a:xfrm>
          <a:custGeom>
            <a:avLst/>
            <a:gdLst/>
            <a:ahLst/>
            <a:rect l="l" t="t" r="r" b="b"/>
            <a:pathLst>
              <a:path w="1134" h="1180">
                <a:moveTo>
                  <a:pt x="136" y="0"/>
                </a:moveTo>
                <a:lnTo>
                  <a:pt x="0" y="998"/>
                </a:lnTo>
                <a:lnTo>
                  <a:pt x="181" y="817"/>
                </a:lnTo>
                <a:lnTo>
                  <a:pt x="317" y="1089"/>
                </a:lnTo>
                <a:lnTo>
                  <a:pt x="0" y="998"/>
                </a:lnTo>
                <a:lnTo>
                  <a:pt x="589" y="953"/>
                </a:lnTo>
                <a:lnTo>
                  <a:pt x="816" y="1180"/>
                </a:lnTo>
                <a:lnTo>
                  <a:pt x="1134" y="1089"/>
                </a:lnTo>
                <a:lnTo>
                  <a:pt x="998" y="953"/>
                </a:lnTo>
                <a:lnTo>
                  <a:pt x="408" y="1089"/>
                </a:lnTo>
                <a:lnTo>
                  <a:pt x="816" y="1134"/>
                </a:lnTo>
              </a:path>
            </a:pathLst>
          </a:custGeom>
          <a:noFill/>
          <a:ln w="64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olo 1"/>
          <p:cNvSpPr/>
          <p:nvPr/>
        </p:nvSpPr>
        <p:spPr>
          <a:xfrm>
            <a:off x="669960" y="1276200"/>
            <a:ext cx="11688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Gill Sans MT"/>
                <a:ea typeface="Arial"/>
              </a:rPr>
              <a:t>Algunos principios del trabajo cooperativ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17600" y="2428920"/>
          <a:ext cx="10369440" cy="3816360"/>
        </p:xfrm>
        <a:graphic>
          <a:graphicData uri="http://schemas.openxmlformats.org/drawingml/2006/table">
            <a:tbl>
              <a:tblPr/>
              <a:tblGrid>
                <a:gridCol w="880920"/>
                <a:gridCol w="948852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Una presentación crítica de modelos europe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Construcción de sináp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Acciones piloto generaliz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1008000">
                <a:tc>
                  <a:txBody>
                    <a:bodyPr lIns="126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26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“</a:t>
                      </a: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Gill Sans"/>
                        </a:rPr>
                        <a:t>La mirada extern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126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Toshiba</cp:lastModifiedBy>
  <dcterms:modified xsi:type="dcterms:W3CDTF">2015-10-20T23:47:48Z</dcterms:modified>
  <cp:revision>513</cp:revision>
  <dc:subject/>
  <dc:title>Titulo de la presentación -Subtítulo de la presentación-</dc:title>
</cp:coreProperties>
</file>