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6238-6593-40CD-868E-2AA3DA06B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E044-9114-48C5-A28B-64E1D5C8E9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3737-F597-49CC-8975-9DA114463C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88B5-D06D-4868-9955-8574C4026C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456A-B82B-485E-A18D-36E2E439D2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268B-A353-4BBB-B441-4A6BFCCD6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AC44-16A2-4843-8277-02C88E252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5B03-F6EE-4E43-9CBC-B83FBBE9CE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51ED-B027-44A7-8DC0-CD1528DD8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D43B-9E05-4AD9-9749-06E912BB4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04BD-769E-4B02-AA09-08C926699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EE1E-EC70-4BBD-965E-D2099E098A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CBEF-D900-4BA5-967D-30AB526E76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7837-1277-4D62-80AA-4E6E92CE19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AC6E-DEDF-4D73-9EDD-235B66A66A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F7C3-1EDD-400C-BA44-282792580D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16BB-BE77-4026-A89F-377755A36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9E7A-378B-40D6-9477-CB315C3611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23B3-774A-427E-AC15-8F8BD1FB7B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6037-F246-4020-9FC7-295B30CEB6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AACA-6E1B-4355-A879-EDF51E5641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033B-F4EE-46C4-9F1B-FA0B42B500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7F79-C4AE-4227-A33D-0B31B5BBF9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67FD-B271-47AF-B7EB-D19161165E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79800"/>
            <a:ext cx="1170252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" name="Immagine 3" descr="Logo-FORMEZ-PA-09032010"/>
          <p:cNvPicPr/>
          <p:nvPr/>
        </p:nvPicPr>
        <p:blipFill>
          <a:blip r:embed="rId2"/>
          <a:stretch/>
        </p:blipFill>
        <p:spPr>
          <a:xfrm>
            <a:off x="453960" y="206856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39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797E-296A-4497-BA27-B57E56B9673A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01560" y="13464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Gill Sans MT"/>
              </a:rPr>
              <a:t>Índice         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9277200"/>
            <a:ext cx="1300464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Line 2"/>
          <p:cNvSpPr/>
          <p:nvPr/>
        </p:nvSpPr>
        <p:spPr>
          <a:xfrm flipV="1">
            <a:off x="634320" y="1839960"/>
            <a:ext cx="11734920" cy="144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2"/>
          </p:nvPr>
        </p:nvSpPr>
        <p:spPr>
          <a:xfrm>
            <a:off x="6343560" y="9326160"/>
            <a:ext cx="317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d4c92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2F8-F427-4DE8-863B-4E63C05A164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109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8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Gill Sans MT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2" marL="1143000" indent="-228600">
              <a:buClr>
                <a:srgbClr val="a7aaab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3" marL="1600200" indent="-228600">
              <a:buClr>
                <a:srgbClr val="a7aaab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4" marL="2057400" indent="-228600">
              <a:buClr>
                <a:srgbClr val="a7aaab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ab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a7aaab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7988400"/>
            <a:ext cx="13004640" cy="17650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0" y="7999560"/>
            <a:ext cx="13004640" cy="1440"/>
          </a:xfrm>
          <a:prstGeom prst="line">
            <a:avLst/>
          </a:prstGeom>
          <a:ln w="25560">
            <a:solidFill>
              <a:srgbClr val="0d4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2163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Gill Sans MT"/>
              </a:rPr>
              <a:t>Argentina: Mesa de Programas de Promoción de Proyectos de Desarrollo Regional</a:t>
            </a:r>
            <a:br>
              <a:rPr sz="6800"/>
            </a:b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Resultados y aprendizajes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62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8161200"/>
            <a:ext cx="1264896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1 CuadroTexto"/>
          <p:cNvSpPr/>
          <p:nvPr/>
        </p:nvSpPr>
        <p:spPr>
          <a:xfrm>
            <a:off x="4054320" y="3560760"/>
            <a:ext cx="482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"/>
              </a:rPr>
              <a:t>www.eurosocial-II.eu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6" name="Immagine 19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\\fiiapp-arc2-srv\Eurosocial II\GESTIÓN TECNICA\6. Comunicacion y visibilidad\Comunicacion\LOGOTIPOS EUROsociAL\LOGOS SOCIOS EUROsociAL\parrilla logos EUROsociAL\logos_eurosocial_CMYK (nuevo).png"/>
          <p:cNvPicPr/>
          <p:nvPr/>
        </p:nvPicPr>
        <p:blipFill>
          <a:blip r:embed="rId2"/>
          <a:stretch/>
        </p:blipFill>
        <p:spPr>
          <a:xfrm>
            <a:off x="165240" y="6408720"/>
            <a:ext cx="1248408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75F3-EA34-43B1-9B34-02EC4E4EF832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885960" y="2716200"/>
            <a:ext cx="110361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 y leccion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c92"/>
                </a:solidFill>
                <a:latin typeface="Gill Sans MT"/>
                <a:ea typeface="Gill Sans MT"/>
              </a:rPr>
              <a:t>Tres tipos de resultados: sobre la Mesa en sí,  las políticas y los territorios y resultados de proceso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98320" y="2789280"/>
            <a:ext cx="35568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EB6-148B-4ADA-A96A-B903605062A9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ínculo </a:t>
            </a: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con Jefatura de Gabinete propuso a EuroSocial trabajar con la Mesa de Programas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Objetivo gobernanza multinivel: estudiamos funciones de la Mesa y como se podían mejor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Base en acciones en territorios que pudieran ser adaptadas y replicables como política públi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No era pensar soluciones en un sector especifico como si fuera un proyecto de desarrollo en territorio sino experimentar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s decir cómo definir políticas publicas a nivel local con validez nacional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BC7A-0CF6-4D07-9DA2-4A9AF035587D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279880" y="1343520"/>
            <a:ext cx="8447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El trabajo con la Mesa: génesis y evolu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Llevó a cambiar forma de trabajo de la Mesa: Formalizar su accionar y funciones, hacer reglamento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El papel de EuroSocial: transformar reuniones no sistemáticas de diálogo interpersonal en una experiencia de trabajo interinstitucional entre altos funcionarios técnicos que coordinan acciones y polític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"/>
              </a:rPr>
              <a:t>Facilitación del proces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F6B-BEAB-4B79-A4CF-FA5A3FF331A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69960" y="2068560"/>
            <a:ext cx="11709360" cy="73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res tipos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de Programas cambia en parte su naturaleza y se hace más organizad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perimentacion de políticas públicas en territorios que son reconocidos de interés por el gobierno nacional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xternalidades y resultados en el proceso de actuación de la Me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Mesa de Program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mejora su f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orma de actuación ganando mayor formalización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sto fue clave para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darle mayor entidad a través de un reglamento; 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se adopta una metodología, un sistema de monitoreo y un sistema de evalu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erritorios y governance multinivel :lo que se hizo en función de la lectura desde EuroSocial, diálogo multinivel y multisectorial con diferentes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B7A-4734-4D7E-BB30-ABB058B16E44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98320" y="2212920"/>
            <a:ext cx="11709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rovincia deTucumán: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Alderet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un caso de política regional y urbana en un área metropolitana del interior del país. Lineamientos estratégicos para el desarrollo urbano con base a experiencias de URBAL  y URBACT . Planificación estratégica y desarrollo  del cual resultaron proyectos en temas ambientales, ordenamiento territorial, destino de un terreno fiscal a incubación de empresas, desarrollo tecnológico e innovador con foco en jóvenes y mujeres. Puesta en relación con Programa DAMI Desarrollo de Áreas Metropolitanas del Interior (BID con Ministerio e Obras Públicas)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. Colalao y La Madrid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 áreas rurales deprimidas. Con base en experiencias de la UE (LEADER) se elaboró diagnóstico que sirve de base para coordinar y articular iniciativas de concertación local y microregional con instancias subnacionales y Nació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2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54CF-755D-4BED-8215-2657E258ACBB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25600" y="1924200"/>
            <a:ext cx="1170936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Posadas, Provincia de Misiones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gración Trasfronteriza en región de tres fronteras basado en experiencias de la Asociación Europea de Region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vances en proceso de integración con mayor formalización e integración entre act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Tecnológic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Turismo en el circuito de la Región de las Mis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que ambient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tercambios y aprendizajes con Brasil y Paragu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Mar del Plata</a:t>
            </a: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Agricultura periurbana: Compatibilidad con normas de sostenibilidad ambient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Innovación, tecnología y TICs: apoyo al polo tecnológico lógica de colaboración sur-su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6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8C4-36EA-4798-A952-7A6B8E13C526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47640" y="1924200"/>
            <a:ext cx="1170936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"/>
              </a:rPr>
              <a:t>Externalidad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Capacitación de funcionarios y empresarios con ConectaDEL y SEBRAE con fondos BI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rticipación de la Universidad,  Ministerio de Integración (Brasi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REE: Invitación de la cancilleria para que la Mesa participe de los Comités de Frontera y poner en valor otras actividades transfronteriz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ínculos entre instituciones que no dialogaba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coordinación y articulación de instrumentos produce resultados con impacto mayor que actuación sectorial de cada ministe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Viaje de estudios e intercambio de experiencias a Europa abre nuevas oportunidades de actuación. Ej Lanzamiento de la Red de Centros Tecnologicos del Min CyT en octubre con participación de la Mesa y EuroSocial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número de diapositiva"/>
          <p:cNvSpPr/>
          <p:nvPr/>
        </p:nvSpPr>
        <p:spPr>
          <a:xfrm>
            <a:off x="6343560" y="9326520"/>
            <a:ext cx="31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AE0B-6757-4DA2-A6C1-AD938EEB59F0}" type="slidenum">
              <a:rPr b="0" lang="en-US" sz="1600" spc="-1" strike="noStrike">
                <a:solidFill>
                  <a:srgbClr val="0d4c92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280480" y="1343520"/>
            <a:ext cx="244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c92"/>
                </a:solidFill>
                <a:latin typeface="Gill Sans MT"/>
                <a:ea typeface="Gill Sans MT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47640" y="2127240"/>
            <a:ext cx="1170936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egitimación y empoderamiento: el papel de EuroSocial como un catalizador de resultad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Papel de articul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El rol y la importancia de la facilit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Resultados del proceso reconocidos por los miembros de la Mesa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"/>
              </a:rPr>
              <a:t>La Mesa presentará resultados y metodologia a nuevas autoridades en noviembre para continuidad, aprendizajes compartidos y replicabil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4" name="Immagine 6" descr="Logo-FORMEZ-PA-09032010"/>
          <p:cNvPicPr/>
          <p:nvPr/>
        </p:nvPicPr>
        <p:blipFill>
          <a:blip r:embed="rId1"/>
          <a:stretch/>
        </p:blipFill>
        <p:spPr>
          <a:xfrm>
            <a:off x="11039400" y="8667720"/>
            <a:ext cx="17049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 Enrique Martinez García</dc:creator>
  <dc:description/>
  <dc:language>en-US</dc:language>
  <cp:lastModifiedBy>Paolo</cp:lastModifiedBy>
  <dcterms:modified xsi:type="dcterms:W3CDTF">2015-10-20T19:54:18Z</dcterms:modified>
  <cp:revision>22</cp:revision>
  <dc:subject/>
  <dc:title>Titulo de la presentación -Subtítulo de la presentación-</dc:title>
</cp:coreProperties>
</file>