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8B8F-A573-49A0-B41B-D64C5CED58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8A46-A01F-4101-BF4F-8EDAEC1AB4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4E3E6-9B26-404A-9A4D-5676AF935B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59E5-B7AC-4BE4-958E-4BA28DF754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E30B-D157-49FB-BEF8-B356F65936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408D-9857-49FF-B32B-6057B29369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B239-00D1-4561-82A4-48D2A4B932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EE41-81D6-4428-B754-12BE304800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CCC1-2251-4280-B5FF-AE43FF39B5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BA2C-6547-4E17-97A5-10A40BD7CC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3F17-EEED-49A2-A7A1-0E519D1EB0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F3B6-458A-423D-B3A1-166C47BC45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38F14-EEBB-4D4A-B618-62015A7053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D0982-89BD-4106-B9C8-03A5C90932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CD8EA-B62F-4728-9965-29B9B40D00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8D56D-DF9F-480A-A331-69DD452411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6FDE7-AD69-40FE-9E6A-356A2B1E55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3FEA-E3AD-4FAA-BBC2-89BBA058C2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0773B-8660-4C80-8114-364FAA3B27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54D9A-46D2-499A-9250-122279B3AE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4E62E-757D-45AA-8F9F-768B19F532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3F3F1-904D-49CB-AA38-DD3D6DE30E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A4D72-2BC3-4DBB-B084-BA9A3527AA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9DE56-C727-448A-93A8-AE0E83D931E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" name="Immagine 3" descr="Logo-FORMEZ-PA-09032010"/>
          <p:cNvPicPr/>
          <p:nvPr/>
        </p:nvPicPr>
        <p:blipFill>
          <a:blip r:embed="rId2"/>
          <a:stretch/>
        </p:blipFill>
        <p:spPr>
          <a:xfrm>
            <a:off x="453960" y="206856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39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240A-104C-4C58-9FE8-D6B3C484DDD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601560" y="1346400"/>
            <a:ext cx="218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Gill Sans MT"/>
              </a:rPr>
              <a:t>Índice          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80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Num" idx="2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1075-CE0E-4B72-B62D-83CC82160197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4876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0" y="7988400"/>
            <a:ext cx="13004640" cy="17650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0" y="7999560"/>
            <a:ext cx="1300464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Argentina: Mesa de Programas de Promoción de Proyectos de Desarrollo Regional</a:t>
            </a:r>
            <a:br>
              <a:rPr sz="6800"/>
            </a:b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Resultados y aprendizajes</a:t>
            </a:r>
            <a:endParaRPr b="0" lang="en-US" sz="4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62" name="Picture 7" descr="\\fiiapp-arc2-srv\Eurosocial II\GESTIÓN TECNICA\6. Comunicacion y visibilidad\Comunicacion\LOGOTIPOS EUROsociAL\LOGOS SOCIOS EUROsociAL\parrilla logos EUROsociAL\logos_eurosocial_CMYK (nuevo).png"/>
          <p:cNvPicPr/>
          <p:nvPr/>
        </p:nvPicPr>
        <p:blipFill>
          <a:blip r:embed="rId2"/>
          <a:stretch/>
        </p:blipFill>
        <p:spPr>
          <a:xfrm>
            <a:off x="165240" y="8161200"/>
            <a:ext cx="12648960" cy="14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1 CuadroTexto"/>
          <p:cNvSpPr/>
          <p:nvPr/>
        </p:nvSpPr>
        <p:spPr>
          <a:xfrm>
            <a:off x="4054320" y="3560760"/>
            <a:ext cx="4824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ill Sans"/>
              </a:rPr>
              <a:t>www.eurosocial-II.eu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6" name="Immagine 19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\\fiiapp-arc2-srv\Eurosocial II\GESTIÓN TECNICA\6. Comunicacion y visibilidad\Comunicacion\LOGOTIPOS EUROsociAL\LOGOS SOCIOS EUROsociAL\parrilla logos EUROsociAL\logos_eurosocial_CMYK (nuevo).png"/>
          <p:cNvPicPr/>
          <p:nvPr/>
        </p:nvPicPr>
        <p:blipFill>
          <a:blip r:embed="rId2"/>
          <a:stretch/>
        </p:blipFill>
        <p:spPr>
          <a:xfrm>
            <a:off x="165240" y="6408720"/>
            <a:ext cx="12484080" cy="1449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7A3F-94CD-4A10-9AF2-48296CA1362B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885960" y="2716200"/>
            <a:ext cx="1103616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c92"/>
                </a:solidFill>
                <a:latin typeface="Gill Sans MT"/>
                <a:ea typeface="Gill Sans MT"/>
              </a:rPr>
              <a:t>El trabajo con la Mesa: génesis y evolució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c92"/>
                </a:solidFill>
                <a:latin typeface="Gill Sans MT"/>
                <a:ea typeface="Gill Sans MT"/>
              </a:rPr>
              <a:t>Resultados y leccion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c92"/>
                </a:solidFill>
                <a:latin typeface="Gill Sans MT"/>
                <a:ea typeface="Gill Sans MT"/>
              </a:rPr>
              <a:t>Tres tipos de resultados: sobre la Mesa en sí,  las políticas y los territorios y resultados de proceso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598320" y="2789280"/>
            <a:ext cx="35568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6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DFA5-3969-49CF-844C-2D272D69E353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2279880" y="1343520"/>
            <a:ext cx="8447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l trabajo con la Mesa: génesis y evolu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Vínculo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con Jefatura de Gabinete propuso a EuroSocial trabajar con la Mesa de Programas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Objetivo gobernanza multinivel: estudiamos funciones de la Mesa y como se podían mejora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Base en acciones en territorios que pudieran ser adaptadas y replicables como política públic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No era pensar soluciones en un sector especifico como si fuera un proyecto de desarrollo en territorio sino experimentar polít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Es decir cómo definir políticas publicas a nivel local con validez nacional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0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BC0A-0F0F-4059-AE40-DBE53A6801C0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2279880" y="1343520"/>
            <a:ext cx="8447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l trabajo con la Mesa: génesis y evolu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Llevó a cambiar forma de trabajo de la Mesa: Formalizar su accionar y funciones, hacer reglamento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El papel de EuroSocial: transformar reuniones no sistemáticas de diálogo interpersonal en una experiencia de trabajo interinstitucional entre altos funcionarios técnicos que coordinan acciones y polít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Facilitación del proceso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4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F3B7-0628-4E43-9618-A8372128455B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5280480" y="1343520"/>
            <a:ext cx="2445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69960" y="2068560"/>
            <a:ext cx="11709360" cy="73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Tres tipos de resultad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La Mesa de Programas cambia en parte su naturaleza y se hace más organizad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Experimentacion de políticas públicas en territorios que son reconocidos de interés por el gobierno nacional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Externalidades y resultados en el proceso de actuación de la Mes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Mesa de Programa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La Mesa mejora su f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orma de actuación ganando mayor formalización,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Esto fue clave para 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darle mayor entidad a través de un reglamento; 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se adopta una metodología, un sistema de monitoreo y un sistema de evaluación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Territorios y governance multinivel :lo que se hizo en función de la lectura desde EuroSocial, diálogo multinivel y multisectorial con diferentes acto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8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9B41-B348-40DD-A7D4-1E80CB0703C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5280480" y="1343520"/>
            <a:ext cx="2445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98320" y="2212920"/>
            <a:ext cx="1170972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Provincia deTucumán: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Alderetes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: un caso de política regional y urbana en un área metropolitana del interior del país. Lineamientos estratégicos para el desarrollo urbano con base a experiencias de URBAL  y URBACT . Planificación estratégica y desarrollo  del cual resultaron proyectos en temas ambientales, ordenamiento territorial, destino de un terreno fiscal a incubación de empresas, desarrollo tecnológico e innovador con foco en jóvenes y mujeres. Puesta en relación con Programa DAMI Desarrollo de Áreas Metropolitanas del Interior (BID con Ministerio e Obras Públicas)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. Colalao y La Madrid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: áreas rurales deprimidas. Con base en experiencias de la UE (LEADER) se elaboró diagnóstico que sirve de base para coordinar y articular iniciativas de concertación local y microregional con instancias subnacionales y Nación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2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69A3-600A-4B13-82F8-41254D223493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Rectangle 1"/>
          <p:cNvSpPr/>
          <p:nvPr/>
        </p:nvSpPr>
        <p:spPr>
          <a:xfrm>
            <a:off x="5280480" y="1343520"/>
            <a:ext cx="2445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525600" y="1924200"/>
            <a:ext cx="11709360" cy="68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Posadas, Provincia de Misiones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Integración Trasfronteriza en región de tres fronteras basado en experiencias de la Asociación Europea de Regiones Transfronteriz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Avances en proceso de integración con mayor formalización e integración entre acto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Hospit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Parque Tecnológic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Turismo en el circuito de la Región de las Mision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Parque ambiental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Intercambios y aprendizajes con Brasil y Paragu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Mar del Plata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Agricultura periurbana: Compatibilidad con normas de sostenibilidad ambient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Innovación, tecnología y TICs: apoyo al polo tecnológico lógica de colaboración sur-su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6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ECC3-AAE1-4BAA-9AC7-EE4981A4CDF8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5280480" y="1343520"/>
            <a:ext cx="2445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647640" y="1924200"/>
            <a:ext cx="1170936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Externalidade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Capacitación de funcionarios y empresarios con ConectaDEL y SEBRAE con fondos BI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Participación de la Universidad,  Ministerio de Integración (Brasi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RREE: Invitación de la cancilleria para que la Mesa participe de los Comités de Frontera y poner en valor otras actividades transfronteriz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Vínculos entre instituciones que no dialogaba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La coordinación y articulación de instrumentos produce resultados con impacto mayor que actuación sectorial de cada ministeri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Viaje de estudios e intercambio de experiencias a Europa abre nuevas oportunidades de actuación. Ej Lanzamiento de la Red de Centros Tecnologicos del Min CyT en octubre con participación de la Mesa y EuroSocial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0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3651-F942-4AB6-AB10-464591FFECCB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5280480" y="1343520"/>
            <a:ext cx="2445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Legitimación y empoderamiento: el papel de EuroSocial como un catalizador de resultad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Papel de articulad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El rol y la importancia de la facilita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Resultados del proceso reconocidos por los miembros de la Mesa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La Mesa presentará resultados y metodologia a nuevas autoridades en noviembre para continuidad, aprendizajes compartidos y replicabil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4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Enrique Martinez García</dc:creator>
  <dc:description/>
  <dc:language>en-US</dc:language>
  <cp:lastModifiedBy>Paolo</cp:lastModifiedBy>
  <dcterms:modified xsi:type="dcterms:W3CDTF">2015-10-20T19:54:18Z</dcterms:modified>
  <cp:revision>22</cp:revision>
  <dc:subject/>
  <dc:title>Titulo de la presentación -Subtítulo de la presentación-</dc:title>
</cp:coreProperties>
</file>