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1630-D94E-4327-A9C9-8E6BD5CB32B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monto de la prestación del beneficio equivale a un salario mínimo y forma parte institucional del sistema de Seguridad Social. El monto del gasto en dichos beneficios asistenciales totalizaron R$ 30mil y 300 millones o USD 15,1 mil millones 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227-CBCA-48F9-BFCC-4D723B37C42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ENTE: INEP/MEC.  CENSO ESCOLAR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6990-729E-4682-9632-08F05BD0037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8D5-104C-431D-BE24-60EB7795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4EE-199E-4F79-9E02-79ACA917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071-337B-41CF-AC98-6C0B4EC6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CB5-F82D-4ED9-B9E7-17185513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BE10C-0BEF-4CC6-89DE-C6D450DF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D4CC3-0DF8-4F4F-A493-4F3FE27D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2F55-CF60-4C09-9526-497F690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B5E0-6162-4BF8-9F3A-0F4B7CC9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203B7-66D4-468D-94D6-102785CA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7BFB2-44FC-4043-B00D-789932EF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DF66A-9A11-4B1E-A742-CB931BE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924-5CA9-45DE-947E-4BE5A4A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1653B-1ACB-4FFF-9BE8-2B828AED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90A6A-F589-4414-A7B4-AE15144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71F6D-9AF1-474E-8B45-21041107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C2429-DB08-466C-A9E3-4F47C568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973C0-08CB-49F1-9E99-5DB88765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017CE-DEC1-4A38-930A-0EB793EE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92F55-99F4-47BF-BC0B-806E76F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59927-6C61-4436-8AB6-B9780A82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1B5CC-FE8E-4A80-BEE4-6DB2C2F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CD089-27C7-4440-9FBF-CCFF7E9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71F-EC21-4C10-8522-28D51D45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CC45A-DF44-465E-B2FB-A726AE0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4C0E-F425-40B2-A363-EFF7744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21F54-8A0F-4D21-B144-FF09F0F5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34991-9E64-4C29-9590-32B7251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F1D6D-B68B-4875-9269-6F8F434A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BA064-F157-4C59-A9DE-768A4E96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D0D95-6A1E-4C2F-A97F-EECD4C18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D063-7D2C-4032-94DA-E329022C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92EB-4453-4C0E-9DAC-468CF60D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3B2D-EE50-4BAD-9EAB-FD6E8DB2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A93-09C3-49BB-B809-D2C9F1B3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369F-3BAB-43E6-8A0D-DA6B9AE2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AF8C-D07A-49B0-AEB4-086737F8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5AE4-36B1-43BD-91B3-44EAFB5C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2793-327F-41D9-8EB7-49E840B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28B4-4F06-4DD7-83A0-0AFF48D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4A02-27A8-4DAB-8555-0D3448B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7089-B8B2-43E3-B392-5549FCC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EA1A-84ED-48EA-96CB-21B82235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5B2D-A60D-45F9-A8B7-1C976AA8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FE70-C60B-4814-AD46-4454CD54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324-D7C9-4424-9B4A-F806E5F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B997-D650-467F-9AF8-576ECE0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D2356-19E1-4758-9F61-EBE22B07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2E66-9FEF-4171-892A-E0D72D9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DCAC-A926-4952-9F1C-79D9E34A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D62D-8E28-4785-A306-DE8414A9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F579-A0B3-45F9-9E75-DCBC582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3343-4EFE-491C-8D22-DCAF0F50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C7F6-29FA-4EC2-AC55-C74BEF8D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530F-C525-4434-97F8-F9F36213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52EF-BD0B-4D9B-91E3-829EF387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B33-3CF3-4427-9FB8-3D33389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2769C-63B4-4B16-9BD2-AA628247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2329A-8D95-4A7C-A005-42C85B0D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E3993-0C87-4CE3-9BFB-339AE99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30813-0A09-4AF1-80C2-8A1FE01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01DB-003A-4A6A-842A-5B09A0C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7E24-4AE3-450E-BFFC-4D480BB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A0A8-6011-401B-B470-2FDAFD7A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6CAAA-AEA6-43C2-9287-0E89296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7CDB4-12A7-45F4-BB80-1B3192B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02FA-3039-4DD8-9881-B628C6E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2A8-04D6-41DB-B449-27B1681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5272A-22F9-4103-AB2A-D59DEF7E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B587-F338-4808-8B3F-1DD4F7E2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5C79-5AE6-4B31-AD82-A94C4748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D801-D747-460A-8261-63EFCF50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6E2BE-F0DB-4A0D-B854-16053EA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6E8E5-DCF5-4EC5-801C-6F261780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109C-9E03-468F-A91D-2510D6F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8AA91-9C9B-44D6-B819-E2BE63C5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EEEC-35F7-45FB-9A1A-A8B46950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EF7B-0110-4FAC-8779-B20A454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05C-5CAC-4173-9F4E-4F9F4D21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BA421-2C96-49DD-AC65-1F388FB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5B44-196A-49E4-A79D-E31B56D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F0E4-F2B0-495D-AB00-EF6C7ECC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8D8B4-5554-4778-9B4F-5992DE01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8CCF-C2B9-4A27-BC4C-303513C4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BC9-0E12-4C3F-9266-C1F7001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7C5E-D59A-4183-9B96-2B8F518E7F75}" type="slidenum">
              <a:rPr b="0" lang="es-ES_trad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8C6D-6667-472E-B06D-F9AEAD1B8BDA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AF14-DD12-4B9F-A62E-B3972FE2CEF1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A4F3-525C-422C-B52B-2B1102BD9C27}" type="slidenum">
              <a:rPr b="0" lang="es-ES_trad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BDEC-6DAC-4ACD-9DA0-81693AC85D50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719-C5F1-4F09-8876-D10D7E39FCCF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D345-25D1-4B15-B527-CF3CB2131F0B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Franklin Gothic Medium"/>
              </a:rPr>
              <a:t>Ana Fonseca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Franklin Gothic Medium"/>
              </a:rPr>
              <a:t>SISTEMA DE PROTECCIÓN SOCIAL EN BRASIL.  CONSEJOS DE POLÍTICAS Y CONCERTACIÓN  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7892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a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) </a:t>
            </a:r>
            <a:r>
              <a:rPr b="1" i="1" lang="es-ES" sz="2300" spc="-1" strike="noStrike">
                <a:solidFill>
                  <a:srgbClr val="534949"/>
                </a:solidFill>
                <a:latin typeface="Franklin Gothic Medium"/>
              </a:rPr>
              <a:t>Beneficio de Prestación Continua (BPC)</a:t>
            </a:r>
            <a:r>
              <a:rPr b="0" i="1" lang="es-ES" sz="2300" spc="-1" strike="noStrike">
                <a:solidFill>
                  <a:srgbClr val="534949"/>
                </a:solidFill>
                <a:latin typeface="Franklin Gothic Medium"/>
              </a:rPr>
              <a:t>, 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prestación para adultos mayores de más de 65 años de edad y para portadores de discapacidades que viven en familias cuyo ingreso familiar per cápita es igual o inferior a ¼ del salario mínimo vigente por mes; 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b) </a:t>
            </a:r>
            <a:r>
              <a:rPr b="1" lang="es-ES" sz="2300" spc="-1" strike="noStrike">
                <a:solidFill>
                  <a:srgbClr val="534949"/>
                </a:solidFill>
                <a:latin typeface="Franklin Gothic Medium"/>
              </a:rPr>
              <a:t>Programa </a:t>
            </a:r>
            <a:r>
              <a:rPr b="1" i="1" lang="es-ES" sz="2300" spc="-1" strike="noStrike">
                <a:solidFill>
                  <a:srgbClr val="534949"/>
                </a:solidFill>
                <a:latin typeface="Franklin Gothic Medium"/>
              </a:rPr>
              <a:t>Bolsa Familia  </a:t>
            </a:r>
            <a:r>
              <a:rPr b="0" i="1" lang="es-ES" sz="2300" spc="-1" strike="noStrike">
                <a:solidFill>
                  <a:srgbClr val="534949"/>
                </a:solidFill>
                <a:latin typeface="Franklin Gothic Medium"/>
              </a:rPr>
              <a:t>( transferencias condicionadas de ingresos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): destinado a las familias pobres y extremamente pobres con ingreso familiar per cápita igual o inferior a R$ 140,00 (USD 63.50) al mes y R$ 70,00 (USD 31.80) .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534949"/>
                </a:solidFill>
                <a:latin typeface="Franklin Gothic Medium"/>
              </a:rPr>
              <a:t>Financiadas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 con recursos provenientes de impuestos que inciden sobre el consumo. Este tipo de transferencias son extremadamente regresivas dado que la financiación incluye a los beneficiarios directos de los programas de Asistencia social; 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ASISTENCIA SOCIA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5211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ASISTENCIA SOCIAL- BPC 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-3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programa </a:t>
            </a:r>
            <a:r>
              <a:rPr b="0" i="1" lang="es-ES" sz="2100" spc="-1" strike="noStrike">
                <a:solidFill>
                  <a:srgbClr val="534949"/>
                </a:solidFill>
                <a:latin typeface="Franklin Gothic Medium"/>
              </a:rPr>
              <a:t>Bolsa Familia - </a:t>
            </a: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impone controles y condicionalidades y su no cumplimiento puede implicar la suspensión del beneficio. Las contrapartidas son la asistencia obligatoria de los niños a la escuela y visitas periódicas a centros de salud para embarazadas y para niños chicos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 la prestación del beneficio varía de acuerdo con el tamaño de la familia y el grado de destitución observado.  El menor monto es de R$ 32,00 (USD 14.55) por mes y el más alto es de R$ 306,00 (USD 140) por mes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inisterio del Desarrollo Social y la Caixa Económica Federal (banco del  Estado o banco público) son las entidades responsables por la gestión del mismo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Los gastos del programa Bolsa Familia totalizaron R$ 20 mil 53 millones o USD 10,25 mil millones en 2012(ANFIP, 2013)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BPC y  BF abarcan a aproximadamente 50 millones de personas pobres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2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2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BOLSA FAMILI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79280" y="1700280"/>
            <a:ext cx="878544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Municipal de Salud; Consejo Estadual de la Secretarias Municipales de Salud; Consejo Nacional de las Secretarias Municipales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Estadual de Salud; Consejo Nacional de las Secretarias Estaduales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Nacional de Salud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Plano Municipal de Salud; Plano Estadual de Salud; Plano Nacional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Fondo Municipal de Salud; Fondo Estadual de Salud; Fondo Nacional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misión Intergestores Regionales; Comisión Intergestores Bipartita; Comisión Intergestores Tripartirt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Transferencia Fondo a Fondo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ferencias: Municipales, Estaduales y Nacional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400" y="549000"/>
            <a:ext cx="8258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ranklin Gothic Medium"/>
              </a:rPr>
              <a:t>ORGANIZACIÓN DEL SISTEMA ÚNICO DE SALUD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79280" y="1719000"/>
            <a:ext cx="87854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nsejo Municipal de Asistencia Social; Consejo Estadual de Asistencia Social; Consejo Nacional de Asistencia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Plano Municipal de Asistencia Social; Plano Estadual de Asistencia Social;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Política  Nacional de Asistencia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Fondo Municipal de Asistencia Social; Fondo Estadual de Asistencia Social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Fondo Nacional de Asistencia 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misión Intergestores Bipartita; Comisión Intergestores Tripartir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Transferencia Fondo a Fondo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nferencias: Municipales, Estaduales y Nacion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ORGANIZACIÓN DEL SISTEMA ÚNICO DE  ASISTENCIA SOCIAL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62864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otección social básic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 tiene como objetivo prevenir situaciones de riesgo a través del desarrollo de capacidades y fortalecimiento de los vínculos familiares y los lazos comunitarios. Destinada a personas que viven en situación de vulnerabilidad social debido a la pobreza, la privación (falta de ingresos, precario acceso a los servicios públicos)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rvicios por medio de los Centros de Referencia de la Asistencia Social (CRAS): 7.407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otección social especial: 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asistencia a las familias y a los en situación de riesgo personal y social para la ocurrencia de negligencia, violencia, abandono, abuso sexual, explotación sexual,   abuso de sustancias químicas, trabajo infantil  y violación de derechos en gener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rvicios por medio de los Centros de Referencia Especializados de la Asistencia Social (CREAS) :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2.21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Habilitación:  Inicial, Básica y Plena</a:t>
            </a:r>
            <a:br>
              <a:rPr sz="2000"/>
            </a:b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MODALIDADES DE PROTECCIÓN: ASISTENCIA SOCIA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7640" y="1700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Educación (Art. 205 de la Constitución Federal)  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Derecho de todos, deber del Estado y de la familia;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Debe guiarse por los principios de igualdad en las condiciones del acceso y permanencia en la escuela; libertad para aprender, enseñar, investigar y divulgar el pensamiento, la arte y el saber; pluralismo de ideas y de concepciones pedagógicas y coexistencia de instituciones públicas y privadas de enseñanza ; gratuidad de la enseñanza  pública en las redes públicas; valoración de los profesionales de la educación escolar en la forma de la ley; gestión democrática de la enseñanza pública; patrón de calidad; piso salarial para los profesionales de la educación (Art. 206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EDUCACIÓ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Fondo de Manutención y Desarrollo de la Educación Básica y Valoración de los Profesionales de la Educación (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FUNDEB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). El aporte de recursos del gobierno federal al FUNDEB pasó de 2 mil millones de reales en 2007 para R$ 3,2 mil millones en 2008, R$ 5,2 mil millones en 2009 y desde 2010 es equivalente al 10% de la contribución total de los estados y municipios en todo el país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Programa Nacional de Alimentación Escolar (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PNAE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): Garantiza, por medio de la transferencia de recursos, a alimentación escolar de los alumnos de toda la educación  básica (educación de  infantes, nivel fundamental de enseñanza, nivel medio y educación de jóvenes y adulto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demás del gobierno Federal, los estados y municipalidades aportan recursos al PNAE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ctualmente, el  valor transferido a los estados y municipios por día de clase es: Guarderías:  R$ 1; Jardín de infantes:  R$ 0,50; Escuelas indígenas y de remanecientes de esclavos: R$ 0,60; Nivel fundamental, medio y educación de jóvenes y adultos: R$ 0,30; Enseñanza en tiempo integral: (Más Educación) – R$ 0,90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Presupuesto 2013: R$ 3,5 mil millones de reales para atender  43 millones de estudiant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Del monto total el 30% (R$ 1,05 mil millón) es destinado a la compra directa de alimentos producidos por la agricultura familiar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1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1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DUCACIÓN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324000" y="2492280"/>
          <a:ext cx="8578800" cy="1657440"/>
        </p:xfrm>
        <a:graphic>
          <a:graphicData uri="http://schemas.openxmlformats.org/drawingml/2006/table">
            <a:tbl>
              <a:tblPr/>
              <a:tblGrid>
                <a:gridCol w="1715760"/>
                <a:gridCol w="1716120"/>
                <a:gridCol w="1714680"/>
                <a:gridCol w="1716120"/>
                <a:gridCol w="17161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FED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ESTA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PRIV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76.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8.721.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3.224.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8.322.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.545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</a:tr>
            </a:tbl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DUCACIÓN BÁSICA: NÚMERO DE ALUMNOS POR RED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1476360" y="4797360"/>
            <a:ext cx="61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</a:rPr>
              <a:t>FUENTE: INEP/MEC.  CENSO ESCOLAR 2012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3157560" y="1682640"/>
            <a:ext cx="2610000" cy="1962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Franklin Gothic Medium"/>
              </a:rPr>
              <a:t>PLAN BRASIL SIN MISERIA: LOS EJES DEL PLAN O EL DESAFÍO DE LA MULTIDIMENSIONALIDAD DE LA POBREZA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8" name="Retângulo de cantos arredondados 5" descr=""/>
          <p:cNvPicPr/>
          <p:nvPr/>
        </p:nvPicPr>
        <p:blipFill>
          <a:blip r:embed="rId2"/>
          <a:stretch/>
        </p:blipFill>
        <p:spPr>
          <a:xfrm>
            <a:off x="2517840" y="3614760"/>
            <a:ext cx="3773520" cy="744480"/>
          </a:xfrm>
          <a:prstGeom prst="rect">
            <a:avLst/>
          </a:prstGeom>
          <a:ln w="0">
            <a:noFill/>
          </a:ln>
        </p:spPr>
      </p:pic>
      <p:pic>
        <p:nvPicPr>
          <p:cNvPr id="349" name="Retângulo de cantos arredondados 7" descr=""/>
          <p:cNvPicPr/>
          <p:nvPr/>
        </p:nvPicPr>
        <p:blipFill>
          <a:blip r:embed="rId3"/>
          <a:stretch/>
        </p:blipFill>
        <p:spPr>
          <a:xfrm>
            <a:off x="944640" y="4468680"/>
            <a:ext cx="2408040" cy="968400"/>
          </a:xfrm>
          <a:prstGeom prst="rect">
            <a:avLst/>
          </a:prstGeom>
          <a:ln w="0">
            <a:noFill/>
          </a:ln>
        </p:spPr>
      </p:pic>
      <p:pic>
        <p:nvPicPr>
          <p:cNvPr id="350" name="Retângulo de cantos arredondados 10" descr=""/>
          <p:cNvPicPr/>
          <p:nvPr/>
        </p:nvPicPr>
        <p:blipFill>
          <a:blip r:embed="rId4"/>
          <a:stretch/>
        </p:blipFill>
        <p:spPr>
          <a:xfrm>
            <a:off x="3359160" y="4468680"/>
            <a:ext cx="2419200" cy="962280"/>
          </a:xfrm>
          <a:prstGeom prst="rect">
            <a:avLst/>
          </a:prstGeom>
          <a:ln w="0">
            <a:noFill/>
          </a:ln>
        </p:spPr>
      </p:pic>
      <p:pic>
        <p:nvPicPr>
          <p:cNvPr id="351" name="Retângulo de cantos arredondados 11" descr=""/>
          <p:cNvPicPr/>
          <p:nvPr/>
        </p:nvPicPr>
        <p:blipFill>
          <a:blip r:embed="rId5"/>
          <a:stretch/>
        </p:blipFill>
        <p:spPr>
          <a:xfrm>
            <a:off x="5956200" y="4468680"/>
            <a:ext cx="2406600" cy="962280"/>
          </a:xfrm>
          <a:prstGeom prst="rect">
            <a:avLst/>
          </a:prstGeom>
          <a:ln w="0">
            <a:noFill/>
          </a:ln>
        </p:spPr>
      </p:pic>
      <p:pic>
        <p:nvPicPr>
          <p:cNvPr id="352" name="Retângulo de cantos arredondados 12" descr=""/>
          <p:cNvPicPr/>
          <p:nvPr/>
        </p:nvPicPr>
        <p:blipFill>
          <a:blip r:embed="rId6"/>
          <a:stretch/>
        </p:blipFill>
        <p:spPr>
          <a:xfrm>
            <a:off x="774720" y="5754600"/>
            <a:ext cx="75880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Componentes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Seguro social contributivo (Previsión Social);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Salud universal  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(SUS- Sistema Único de Salud)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Asistencia social 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(SUAS – Sistema Único de la Asistencia Social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Franklin Gothic Medium"/>
              </a:rPr>
              <a:t>PROTECCIÓN SOCIAL: CONSTITUCIÓN FEDERAL 1988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560" y="2205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Ministerio de Salud, Ministerio de Educación, Ministerio de Integración Nacional, Ministerio de Medio Ambiente, Ministerio de Desarrollo Agrario,   Ministerio de Trabajo y Empleo, Ministerio de Desarrollo Social (coordinador)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mpañía Nacional de Abasto (CONAB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Empresa Brasileña de Investigación Agropecuaria (EMBRAPA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MINISTERIOS DIRECTAMENTE INVOLUCRADOS EN LA OFERT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9360">
            <a:solidFill>
              <a:srgbClr val="6e6854"/>
            </a:solidFill>
            <a:miter/>
          </a:ln>
        </p:spPr>
      </p:pic>
      <p:sp>
        <p:nvSpPr>
          <p:cNvPr id="356" name="Conector reto 8"/>
          <p:cNvSpPr/>
          <p:nvPr/>
        </p:nvSpPr>
        <p:spPr>
          <a:xfrm>
            <a:off x="58680" y="1125360"/>
            <a:ext cx="9036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79280" y="404640"/>
            <a:ext cx="574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314280"/>
                <a:tab algn="l" pos="630360"/>
                <a:tab algn="l" pos="946080"/>
                <a:tab algn="l" pos="1262160"/>
                <a:tab algn="l" pos="1577880"/>
                <a:tab algn="l" pos="1893960"/>
                <a:tab algn="l" pos="2209680"/>
                <a:tab algn="l" pos="2525760"/>
                <a:tab algn="l" pos="2841480"/>
                <a:tab algn="l" pos="3157560"/>
                <a:tab algn="l" pos="3473280"/>
                <a:tab algn="l" pos="3789360"/>
                <a:tab algn="l" pos="4105440"/>
                <a:tab algn="l" pos="4421160"/>
                <a:tab algn="l" pos="4737240"/>
                <a:tab algn="l" pos="5052960"/>
                <a:tab algn="l" pos="5369040"/>
                <a:tab algn="l" pos="5684760"/>
                <a:tab algn="l" pos="6000840"/>
                <a:tab algn="l" pos="631656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bfbfbf"/>
                </a:solidFill>
                <a:latin typeface="Franklin Gothic Medium"/>
                <a:ea typeface="Tahoma"/>
              </a:rPr>
              <a:t>ESTRUCTURA DE GESTIÓ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2868480" y="2309760"/>
            <a:ext cx="3643200" cy="646200"/>
            <a:chOff x="2868480" y="2309760"/>
            <a:chExt cx="3643200" cy="646200"/>
          </a:xfrm>
        </p:grpSpPr>
        <p:sp>
          <p:nvSpPr>
            <p:cNvPr id="359" name="AutoShape 9"/>
            <p:cNvSpPr/>
            <p:nvPr/>
          </p:nvSpPr>
          <p:spPr>
            <a:xfrm>
              <a:off x="2868480" y="2309760"/>
              <a:ext cx="3643200" cy="64620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>
              <a:off x="2912040" y="2347920"/>
              <a:ext cx="3596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GRUPO EJECUTIVO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C, MF, MPOG E MDS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361" name="Group 8"/>
          <p:cNvGrpSpPr/>
          <p:nvPr/>
        </p:nvGrpSpPr>
        <p:grpSpPr>
          <a:xfrm>
            <a:off x="3232080" y="1590840"/>
            <a:ext cx="2949120" cy="641160"/>
            <a:chOff x="3232080" y="1590840"/>
            <a:chExt cx="2949120" cy="641160"/>
          </a:xfrm>
        </p:grpSpPr>
        <p:sp>
          <p:nvSpPr>
            <p:cNvPr id="362" name="AutoShape 9"/>
            <p:cNvSpPr/>
            <p:nvPr/>
          </p:nvSpPr>
          <p:spPr>
            <a:xfrm>
              <a:off x="3232080" y="1590840"/>
              <a:ext cx="2949120" cy="64116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3267360" y="1628640"/>
              <a:ext cx="29113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COMITE GESTOR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C, MF, MPOG E MDS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364" name="Group 8"/>
          <p:cNvGrpSpPr/>
          <p:nvPr/>
        </p:nvGrpSpPr>
        <p:grpSpPr>
          <a:xfrm>
            <a:off x="2220840" y="3070080"/>
            <a:ext cx="5014440" cy="749520"/>
            <a:chOff x="2220840" y="3070080"/>
            <a:chExt cx="5014440" cy="749520"/>
          </a:xfrm>
        </p:grpSpPr>
        <p:sp>
          <p:nvSpPr>
            <p:cNvPr id="365" name="AutoShape 9"/>
            <p:cNvSpPr/>
            <p:nvPr/>
          </p:nvSpPr>
          <p:spPr>
            <a:xfrm>
              <a:off x="2220840" y="3070080"/>
              <a:ext cx="5014440" cy="74952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2233440" y="3114360"/>
              <a:ext cx="495000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GRUPO INTERMINISTERIAL DE ACOMPAÑAMIENTO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C, MF, MPOG, MDS, MDA, MEC, MS, MCid, MTE, MI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sp>
        <p:nvSpPr>
          <p:cNvPr id="367" name="CaixaDeTexto 49"/>
          <p:cNvSpPr/>
          <p:nvPr/>
        </p:nvSpPr>
        <p:spPr>
          <a:xfrm flipV="1" rot="10800000">
            <a:off x="491760" y="2394360"/>
            <a:ext cx="1392120" cy="587160"/>
          </a:xfrm>
          <a:prstGeom prst="rect">
            <a:avLst/>
          </a:prstGeom>
          <a:noFill/>
          <a:ln w="936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90000"/>
              </a:lnSpc>
              <a:tabLst>
                <a:tab algn="l" pos="0"/>
                <a:tab algn="l" pos="114480"/>
                <a:tab algn="l" pos="533520"/>
                <a:tab algn="l" pos="1397160"/>
                <a:tab algn="l" pos="2019240"/>
                <a:tab algn="l" pos="2666880"/>
                <a:tab algn="l" pos="3301920"/>
                <a:tab algn="l" pos="3936960"/>
                <a:tab algn="l" pos="4584600"/>
                <a:tab algn="l" pos="5219640"/>
                <a:tab algn="l" pos="5854680"/>
                <a:tab algn="l" pos="6502320"/>
                <a:tab algn="l" pos="7137360"/>
                <a:tab algn="l" pos="7785000"/>
                <a:tab algn="l" pos="8420040"/>
                <a:tab algn="l" pos="9055080"/>
                <a:tab algn="l" pos="9702720"/>
                <a:tab algn="l" pos="10337760"/>
                <a:tab algn="l" pos="10960200"/>
                <a:tab algn="l" pos="11607840"/>
                <a:tab algn="l" pos="12242880"/>
                <a:tab algn="l" pos="12890520"/>
                <a:tab algn="l" pos="13436640"/>
                <a:tab algn="l" pos="14465160"/>
                <a:tab algn="l" pos="15494040"/>
                <a:tab algn="l" pos="16027560"/>
                <a:tab algn="l" pos="1630692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 Narrow"/>
                <a:ea typeface="ＭＳ Ｐゴシック"/>
              </a:rPr>
              <a:t>INSTANCIAS DECISORIAS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Colchete esquerdo 50"/>
          <p:cNvSpPr/>
          <p:nvPr/>
        </p:nvSpPr>
        <p:spPr>
          <a:xfrm>
            <a:off x="2031840" y="1590840"/>
            <a:ext cx="44640" cy="2373120"/>
          </a:xfrm>
          <a:custGeom>
            <a:avLst/>
            <a:gdLst>
              <a:gd name="textAreaLeft" fmla="*/ 12960 w 44640"/>
              <a:gd name="textAreaRight" fmla="*/ 45000 w 44640"/>
              <a:gd name="textAreaTop" fmla="*/ 1800 h 2373120"/>
              <a:gd name="textAreaBottom" fmla="*/ 2371320 h 237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"/>
                  <a:pt x="0" y="34"/>
                </a:cubicBezTo>
                <a:lnTo>
                  <a:pt x="0" y="21566"/>
                </a:lnTo>
                <a:cubicBezTo>
                  <a:pt x="0" y="21583"/>
                  <a:pt x="10800" y="21600"/>
                  <a:pt x="21600" y="21600"/>
                </a:cubicBezTo>
              </a:path>
            </a:pathLst>
          </a:custGeom>
          <a:noFill/>
          <a:ln w="10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1643040" y="4214880"/>
            <a:ext cx="7337520" cy="546120"/>
          </a:xfrm>
          <a:prstGeom prst="rect">
            <a:avLst/>
          </a:prstGeom>
          <a:solidFill>
            <a:srgbClr val="494638"/>
          </a:solidFill>
          <a:ln w="19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RETARIA EXTRAORDINARIA PARA SUPERACIÓN EXTREMA POBREZA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CaixaDeTexto 58"/>
          <p:cNvSpPr/>
          <p:nvPr/>
        </p:nvSpPr>
        <p:spPr>
          <a:xfrm flipV="1" rot="10800000">
            <a:off x="-360" y="4500360"/>
            <a:ext cx="1428840" cy="531720"/>
          </a:xfrm>
          <a:prstGeom prst="rect">
            <a:avLst/>
          </a:prstGeom>
          <a:noFill/>
          <a:ln w="936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90000"/>
              </a:lnSpc>
              <a:tabLst>
                <a:tab algn="l" pos="0"/>
                <a:tab algn="l" pos="114480"/>
                <a:tab algn="l" pos="533520"/>
                <a:tab algn="l" pos="1397160"/>
                <a:tab algn="l" pos="2019240"/>
                <a:tab algn="l" pos="2666880"/>
                <a:tab algn="l" pos="3301920"/>
                <a:tab algn="l" pos="3936960"/>
                <a:tab algn="l" pos="4584600"/>
                <a:tab algn="l" pos="5219640"/>
                <a:tab algn="l" pos="5854680"/>
                <a:tab algn="l" pos="6502320"/>
                <a:tab algn="l" pos="7137360"/>
                <a:tab algn="l" pos="7785000"/>
                <a:tab algn="l" pos="8420040"/>
                <a:tab algn="l" pos="9055080"/>
                <a:tab algn="l" pos="9702720"/>
                <a:tab algn="l" pos="10337760"/>
                <a:tab algn="l" pos="10960200"/>
                <a:tab algn="l" pos="11607840"/>
                <a:tab algn="l" pos="12242880"/>
                <a:tab algn="l" pos="12890520"/>
                <a:tab algn="l" pos="13436640"/>
                <a:tab algn="l" pos="14465160"/>
                <a:tab algn="l" pos="15494040"/>
                <a:tab algn="l" pos="16027560"/>
                <a:tab algn="l" pos="16306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STANCIAS GERENCIALES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Colchete esquerdo 59"/>
          <p:cNvSpPr/>
          <p:nvPr/>
        </p:nvSpPr>
        <p:spPr>
          <a:xfrm>
            <a:off x="1571760" y="4071960"/>
            <a:ext cx="46080" cy="15127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512720"/>
              <a:gd name="textAreaBottom" fmla="*/ 1510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"/>
                  <a:pt x="0" y="55"/>
                </a:cubicBezTo>
                <a:lnTo>
                  <a:pt x="0" y="21545"/>
                </a:lnTo>
                <a:cubicBezTo>
                  <a:pt x="0" y="21573"/>
                  <a:pt x="10800" y="21600"/>
                  <a:pt x="21600" y="21600"/>
                </a:cubicBezTo>
              </a:path>
            </a:pathLst>
          </a:custGeom>
          <a:noFill/>
          <a:ln w="10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954160" y="4869000"/>
            <a:ext cx="3670560" cy="477720"/>
          </a:xfrm>
          <a:prstGeom prst="rect">
            <a:avLst/>
          </a:prstGeom>
          <a:solidFill>
            <a:srgbClr val="494638"/>
          </a:solidFill>
          <a:ln w="19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ITES MINISTERIALES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880" y="1571400"/>
            <a:ext cx="8407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Comité Gestor Nacional del Plan Brasil sin Miseria, presidido por la presidenta Dilma Rousseff </a:t>
            </a: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y  conformado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(a) Ministerio de Desarrollo Social (MDS), coordinador; (b) Casa Civil de la Presidencia de la República;(c)   Ministerio de Hacienda (Finanzas);(d) Ministerio de Planificación, Presupuesto y Gestión (MPOG). Atribuciones: establecer metas, orientar la formulación, implementación, el monitoreo y evaluación del Plan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La Secretaría Ejecutiva del Comité Gestión Nacional es atribución de la Secretaría Extraordinaria para la Superación de la Extrema Pobreza (SESEP/MDS)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Grupo Ejecutivo del Plan Brasil Sin Miseri</a:t>
            </a: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a es conformado por vice ministros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(a) Vice ministro del MDS; (b) Vice ministro de la Casa Civil de la Presidencia; (c) Vice ministro de Hacienda;(d) Vice ministro de Planificación, Presupuesto y Gestión. Atribuciones: asegurar  la implementación de las políticas, programas y acciones establecidas en el ámbito del Plan. 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STRUCTURA DE GESTIÓ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34949"/>
                </a:solidFill>
                <a:latin typeface="Franklin Gothic Medium"/>
              </a:rPr>
              <a:t>Grupo Interministerial de Acompañamiento del Plan Brasil sin Miseria que es conformado por los representantes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Ministerio de Desarrollo Social (coordinador);Casa Civil de la Presidencia; Secretaría General de la Presidencia de la República; Ministerio de Hacienda; Ministerio de Planificación, Presupuesto y Gestión; Ministerio de las Ciudades; Ministerio de Trabajo y Empleo; Ministerio de Desarrollo Agrario; Ministerio de Salud; Ministerio de Educación; Ministerio de Integración Nacion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Atribuciones: monitoreo y evaluación de las políticas, programas y acciones desarrolladas en el ámbito del Pla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STRUCTURA DE GESTIÓN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0" y="1844280"/>
            <a:ext cx="90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regionales – Eventos con la Presidenta de la República, Gobernadores, Ministros y Parlamentario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Celebrar compromiso político con el Brasil Sin Miseria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con los Estados – Interlocutores responsables por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Dialogar con SESEP/MDS sobre el Pl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Articular las áreas involucradas en el Pl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Coordinar la implementación del Plan en el Estado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Identificar acciones complementarias en nivel estadua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Apoyar los municipi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Promover asociaciones con organizaciones regionales y federales que actúan en el Estado; con organizaciones no gubernamentales; con el sector privado; con la academia, entre otr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con los Municipios – para la inclusión productiva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Otras instituciones: Asociación Brasileña de la Red de Supermercados; Cámara Brasileña de la Industria de Construcción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anklin Gothic Medium"/>
              </a:rPr>
              <a:t>ROL DE LOS GOBIERNOS SUB-NACIONALES Y OTRAS INSTITUCION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Espaço Reservado para Conteúdo 3" descr="Acerca del CDES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9546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ONSEJO DE DESARROLLO ECÓNOMICO Y SOCIAL (CDES)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7892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El establecimiento del consejo para el desarrollo económico y social (CDES) en 2003 tenia por objetivo profundizar el diálogo entre gobierno y sociedad, ampliando la capacidad de deliberar de forma compartida sobre las importantes decisiones políticas de Brasil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El desafío es establecer un diálogo entre todas las diversas representaciones de la sociedad civil para discutir las políticas públicas y proponer medidas relacionadas con el desarrollo de Brasi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Las principales características del Consejo son la diversidad de sus miembros, la atención a las cuestiones de desarrollo, el diálogo social en la construcción de consenso entre sus miembros, y reunir a las instituciones nacionales y internacionales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D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800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El CDES está integrado por trabajadores, empresarios, grupos sociales, personas de reconocida competencia y liderazgo en sus respectivas áreas de actividad y representantes del gobierno;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La presidenta de la República indica los miembros del Consejo por un período de dos años, con posibilidad de renovación, a fin de incluir diversos representantes de la sociedad. Esta diversidad distingue al Consejo de otros espacios de diálogo, y ha dado a CDES una visión más amplia y más sistémica de los asuntos nacionale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Además, la variedad de su composición es la base de la comprensión, actualmente compartida por todos los miembros del CDES, que el desarrollo reúne a los temas económicos, sociales, políticos y ambientales, y debe basarse en la inclusión y la responsabilidad de la sociedad en su conjunto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OMPOSICIÓN DEL CD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Seis miembros del Consejo, elegidos por sus pares y renovados periódicamente, componen el Comité de Dirección. El Comité de Dirección de CDES forma parte de su estructura de gobierno a fin de otorgar más efectividad al diálogo entre los miembros del Consejo, el Gobierno y otros actores sociales y institucionales. Su responsabilidad es la de contribuir a la evaluación de la producción por el Consejo, en el seguimiento de los resultados y la comprensión y la difusión de su impacto en el ámbito de las políticas públicas y la acción social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La Secretaría del Consejo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El Ministro de Estado, designado por la Presidenta, ocupa el cargo de Secretario Ejecutivo del CDES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La estructura técnica de la Secretaría Ejecutiva del CDES - Secretaría del Consejo de Desarrollo Económico y Social (SEDES) es responsable por la coordinación técnica del proceso de debate y de organizar el análisis y la formulación de propuestas, así como por el apoyo a la organización de CDES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OMITÉ DE DIRECCIÓN DEL CDES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1557360"/>
            <a:ext cx="8693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534949"/>
                </a:solidFill>
                <a:latin typeface="Franklin Gothic Medium"/>
              </a:rPr>
              <a:t>(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)  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Reuniones plenaria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Cuatro reuniones plenarias anuales, con la presencia de la Presidenta de la República, en las cuales se discuten temas presentados por el Gobierno, o presentados por el Consejo tras los acuerdos  en los grupos temáticos, donde las ideas son presentadas y debatidas. Además, en el Consejo, se han elaborados informes, estudios especiales y juicios sobre temas específicos exigidos por la Presidenta de la República, sin agenda previa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B) Grupos de Trabajo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Están preparados para discutir los temas específicos que han sido propuestos por los consejeros o que se han sido criados en las reuniones plenarias del CDES. Dentro de los grupos de trabajo, los consejeros están en condiciones de realizar más debates en profundidad y llegar a un consenso. Las conclusiones son presentadas a la sesión plenaria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C ) Coloqui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Los temas relevantes abordados por los consejeros también se discuten en coloquios, reuniendo las partes interesadas para llegar a un entendimiento y proponer soluciones para resolver los conflictos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D) Foros Regionales: 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debates regionales con el fin de promover el diálogo social en cinco grandes regiones del país</a:t>
            </a: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ÓMO FUNCION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-360" y="162864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Características del sistem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obligatorio, nacional, público, subsidios sociales;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estación máxima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de R$ 4.159,00, (USD 1,890.45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estación Mínim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el salario mínimo nacional vigente (R$ 678,00 en junio de 2013 o USD 308,18)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 basa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en aportes obligatorios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realizados por trabajadores asalariados y empleadores, y voluntarios para las demás categorías de trabajadores (autónomos) o inactivos (excluidos de la fuerza laboral). La base de aportes varía entre el salario mínimo y el máximo;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Las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alícuotas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 aplicables sobre la base imponible para el cálculo de aportes son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flexibles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i) 5% para micro emprendedores individuales o beneficiarios facultativos o voluntarios(personas que no pertenecen al mercado laboral que desean acogerse al beneficio o autónomos); ii) alícuotas medias de 8%, 9%, 11%; iii) alícuota máxima de 20%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27160" indent="-22716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PREVISIÓN SOCIAL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1356840"/>
            <a:ext cx="8229600" cy="47689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OBSERVATORIO EQUIDAD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91" name="Imagem 3" descr="Observatorio de Equidad"/>
          <p:cNvPicPr/>
          <p:nvPr/>
        </p:nvPicPr>
        <p:blipFill>
          <a:blip r:embed="rId2"/>
          <a:stretch/>
        </p:blipFill>
        <p:spPr>
          <a:xfrm>
            <a:off x="857160" y="1285920"/>
            <a:ext cx="7358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1628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El objetivo del Observatorio es proveer la capacidad y las herramientas para que sea posible seguir el proceso de hacer frente a las desigualdades en Brasil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Su estrategia metodológica articula la dimensión técnica y política como partes del instrumento de pedagogía política que tiene la intención de construir y ofrecer conocimientos para respaldar las propuestas de CDES, así como de la sociedad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Los temas se basan en las principales directrices, consensos alcanzados en CDES y en su capacidad para promover debates, ya sea dentro de la institución, o con la sociedad en general. El grupo técnico del Observatorio está compuesto por miembros del Instituto de Investigación Económica Aplicada (IPEA), del Instituto Brasileño de Geografía y Estadística (IBGE), el Departamento Intersindical de Estadísticas y Estudios Socio-Económicos (DIEESE) y la Secretaría CDES.  Este grupo define e implementa los procedimientos técnicos necesarios para estudiar los problemas que plantea el CDES. Además, se asigna la información, así como las acciones gubernamentales y no gubernamentales relacionadas con el desafío que se refiere, preparando los informe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534949"/>
                </a:solidFill>
                <a:latin typeface="Franklin Gothic Medium"/>
              </a:rPr>
              <a:t>Fuente: portal del CDES</a:t>
            </a: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DES: OBSERVATORIO DE EQUIDAD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79280" y="1557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A lo largo de los años, el  CDES ha debatido política Industrial, Tecnológica y de Relaciones Exteriores; Políticas Comerciales; Minería y Políticas Energéticas; Políticas Nacionales de Desarrollo Regional; las políticas sociales; la financiación de infraestructuras; la educación como una prioridad de desarrollo;  Reforma Política; Desigualdades Educativas Brasileñas entre otro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La metodología de operación del Consejo es evaluada constantemente para que sea mejorada y para fortalecer su capacidad de creación de consenso y ofrecer mejor apoyo para la Presidenta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UESTIONES EN DEBATE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50560" y="1628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41800" indent="-180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Prestaciones garantizadas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edad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años de servicios y  aportes completo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invalidez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especial (zonas rurales);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enfermedad;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accidente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Prestaciones monetarias a familiares de recluso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fallecimiento; Licencias por maternidad (seis meses para trabajadoras asalariadas formales o empleadas públicas)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Salario familiar (para trabajadores con salario inferior a 1,5salario mínimo por mes)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El monto total del gasto en prestaciones previsionales urbanas y rurales totalizó R$ 316 mil millones (o USD 158 mil millones) en 2012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.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PREVISIÓN SOCIAL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ranklin Gothic Medium"/>
              </a:rPr>
              <a:t>BENEFICIARIOS DE LA PREVISIÓN SOCIAL (URBANO Y RURAL EN MILES): 2005-2012 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8" name="chart" descr=""/>
          <p:cNvPicPr/>
          <p:nvPr/>
        </p:nvPicPr>
        <p:blipFill>
          <a:blip r:embed="rId1"/>
          <a:stretch/>
        </p:blipFill>
        <p:spPr>
          <a:xfrm>
            <a:off x="325440" y="1714680"/>
            <a:ext cx="92869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920" y="1628280"/>
            <a:ext cx="86421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seguro por desempleo tiene carácter contributivo y se destina a los trabajadores  asalariados formales en casos de despidos sin justa causa cuando los mismos realizaron aportes regulares al sistema durante por lo menos dos años;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cálculo de la suma a percibir en concepto de seguro por desempleo se realiza sobre la base del sueldo por mes del último vínculo laboral del trabajador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beneficio se extiende por hasta nueve meses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xisten algunas categorías de trabajadores autónomos con actividad laboral por temporadas como los pescadores artesanales que pueden solicitar el seguro por desempleo durante los meses de reducción de la producción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l gasto en los seguros por desempleo totalizó R$ 39mil 900 millones o USD 19,95mil millones en 2012 (ANFIP, 2013)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SEGURO POR DESEMPLEO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655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80000"/>
              </a:lnSpc>
              <a:spcBef>
                <a:spcPts val="524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Prestación pública gratuita en todos los niveles de complexidad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80000"/>
              </a:lnSpc>
              <a:spcBef>
                <a:spcPts val="524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Financiación por medio de los impuestos y tasas a nivel nacional que inciden sobre el consumo, con contribuciones de la recaudación fiscal de los estados (13%) y municipalidades (15%);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Todos los años el gobierno de la Nación debe considerar lo presupuestado en el año anterior, con valores ajustados de acuerdo con la variación nominal del PIB del año anterior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l gasto en salud totalizó R$ 80 mil millones o USD 40 mil millones  en 2012 (ANFIP, 2013)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534949"/>
                </a:solidFill>
                <a:latin typeface="Franklin Gothic Medium"/>
              </a:rPr>
              <a:t>La transferencia de recursos federales son destinadas a las acciones y servicios de salud: (1) Atención Básica; 2) Atención de Media y  Alta Complejidad  Ambulatoria y Hospitales; 3) Vigilancia en Salud; 4) Asistencia Farmacéutica; 5) Gestión del SUS; y 6) Inversiones em la Red de Servicios de Salud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SALUD: </a:t>
            </a: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DERECHO</a:t>
            </a: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 UNIVERSAL 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6" descr=""/>
          <p:cNvPicPr/>
          <p:nvPr/>
        </p:nvPicPr>
        <p:blipFill>
          <a:blip r:embed="rId1"/>
          <a:stretch/>
        </p:blipFill>
        <p:spPr>
          <a:xfrm>
            <a:off x="317520" y="1768320"/>
            <a:ext cx="8832960" cy="5070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-19440"/>
            <a:ext cx="8229600" cy="18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Franklin Gothic Medium"/>
              </a:rPr>
              <a:t>GASTO CON ACCIONES Y SERVICIOS </a:t>
            </a:r>
            <a:r>
              <a:rPr b="0" lang="pt-BR" sz="2400" spc="-1" strike="noStrike">
                <a:solidFill>
                  <a:srgbClr val="ffffff"/>
                </a:solidFill>
                <a:latin typeface="Franklin Gothic Medium"/>
              </a:rPr>
              <a:t>PÚBLICOS DE </a:t>
            </a:r>
            <a:r>
              <a:rPr b="0" lang="es-ES_tradnl" sz="2400" spc="-1" strike="noStrike">
                <a:solidFill>
                  <a:srgbClr val="ffffff"/>
                </a:solidFill>
                <a:latin typeface="Franklin Gothic Medium"/>
              </a:rPr>
              <a:t>SALUD:  TOTAL Y POR NIVEL DE GOBIERNO (2000-2011). EN R$ MIL MILLONES DE 2011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8582040" cy="49816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VOLUCIÓN DEL GASTO FEDERAL PER CÁPITA EN SALU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9:36:38Z</dcterms:created>
  <dc:creator>Ana</dc:creator>
  <dc:description/>
  <dc:language>en-US</dc:language>
  <cp:lastModifiedBy>Francesco Maria FMC. Chiodi</cp:lastModifiedBy>
  <dcterms:modified xsi:type="dcterms:W3CDTF">2013-08-29T08:59:52Z</dcterms:modified>
  <cp:revision>146</cp:revision>
  <dc:subject/>
  <dc:title>Sistema de Protección Social en Brasil</dc:title>
</cp:coreProperties>
</file>