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3C30-B255-42D4-8D70-3BDDAD822C0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monto de la prestación del beneficio equivale a un salario mínimo y forma parte institucional del sistema de Seguridad Social. El monto del gasto en dichos beneficios asistenciales totalizaron R$ 30mil y 300 millones o USD 15,1 mil millones en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D08C-36D0-4D51-9AFE-D489F6088A7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FUENTE: INEP/MEC.  CENSO ESCOLAR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480A-7FA1-4904-8732-FD41083E846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8B6-40C6-4B52-ACCC-F92D8AAC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C42-5BD4-4041-8BE0-0453360A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50C-195F-4684-8E89-9FEAEF56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31F-5B39-441F-9A55-72B30954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BE36E-004F-4CFF-B7A3-9C8FF136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EDDEC-84A1-4DF4-B4AE-0784350B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08159-7B23-45D6-A69F-AAADF270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4B1C4-769F-41B3-A020-7ED4EE9C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60B83-CA5C-440F-952D-4FBD7FE2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A3023-88CF-4F0A-A8A2-B2259600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58E61-4C2B-4AFB-A5C9-F5A69C6C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DDF-3BDC-4E64-A95D-B7761A2E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DBE6A-20A3-4EC7-B7E5-2403F850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919E0-67EC-455A-929A-625ED16A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CB8B7-CF07-41CF-8008-302F01F4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A5D92-2362-4288-8068-4C96ACE4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52E73-9C6F-42A7-82BF-9410908F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5DCD6-57C6-476C-B9E9-BF7F17CB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3B09D-812A-4908-966B-94F85B3F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523DC-2B94-471B-8E70-721D85E2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AC3F8-FA3D-4A77-B381-4A9CDBCC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DBB65-F480-475F-81AA-71646FC1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FD4-003B-439D-AC18-8C6B02B5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B18FE-76E0-4E6C-AC6A-96973412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BCFF1-D9A7-45BA-81E8-317B978B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DF307-A055-45DB-9CB9-FBC9BC6F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BAE4C-4F92-430A-A1B3-C15680E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65C8D-9F78-451C-934F-C54905A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D2410-F280-4CEB-8A12-C50F015F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A9C51-0CAB-461A-AA72-35F05E7D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E6C31-6AF1-4A16-A79A-FB13C51F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869AE-2232-4ACD-8174-9D747D28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9309C-5DD7-481F-BBA4-BCBC00F3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00C-51BD-43CE-A38B-8F666036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401D2-C9CE-4AED-BFB4-B2A8C9E1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BD2FB-B2AB-449E-8222-4EF32A5E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34719-B08E-4130-B62A-8EFE599D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57B8C-72AB-44A7-86A0-5F696C12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286F2-CF13-4C9E-8EE9-2F4D62A2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37ABC-0EC9-4AF7-B99D-2800C31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B67D1-B698-4B82-9839-538E1A55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7EA42-7F52-4102-A032-124A2BD6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D702-ED32-4D7E-8E21-73AE3866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0F3D0-D7FE-4230-9140-574B099B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69F-1492-4FC2-8087-DAFF6C79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1023B-D111-4769-809F-CA56FE7C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9F45E-E1BF-4757-9442-4E9772B3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115C1-997D-4711-BF8E-B0F64B04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14868-F21C-477C-98AA-B4AA669E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9747B-342B-4875-80AB-86081D9B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C6491-486D-4326-A4AD-E3FFF383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938A9-CC38-4E05-8ADA-806569F2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F6D8C-1091-4F4F-A343-51A78AA7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2E55B-FC2B-4488-A2C3-A65C9566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608B3-E769-4970-A1B3-14BF0C1B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EB6-B607-46BF-A761-9E95170C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5B82B-90FC-4937-842A-9B01DE4E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38116-4288-4C09-B32C-0D07BA9C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C13B9-7F75-4B81-A9D7-0C8918DF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E85BB-3C07-4EC2-B2BF-674A07D6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52950-30B4-415B-BDC5-4FC885B6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C9180-7479-4E8A-88F6-4769FC90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9ED67-430F-4FB4-B7BA-C00983CA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216D-822E-461C-8359-DCCADD1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EF8B1-8C1A-43E4-85A5-002EBCE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B9506-024A-4755-98E3-C5153BD5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86B-0397-4263-9E16-6E54DE8A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FD4D0-A25D-425A-B9AB-3242A438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096A2-D131-4AFB-BBEB-B2929F99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70E2C-A229-4C52-AA6F-3DECC031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39074-7711-4CF2-B0D3-2C434F10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206E2-ABCD-4C86-9D23-C8249401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5D44D-D86C-41FB-BC14-12E7FFEB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5A3FC-7ADE-4178-ABBD-12D34FDF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6EA68-33DE-48E2-A3FE-32976584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4EC98-38B7-4EAA-9723-9B7ADE10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00B43-09FC-4B3C-BF5C-E907D944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DE7-0C0A-4219-8D58-ABAF3E4F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EC246-BDF2-45DB-9030-01A8E344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88CEC-D594-4379-BBEC-6EB39574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7D59-F8C9-4920-9F87-4242152C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F6845-9AC7-4DCF-968F-8442250B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7E776-DB3C-4FB0-80C0-C7121D7C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BA4-93ED-4B82-A930-356298C9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A036-B8DB-4F98-8AF8-A40B9B65992E}" type="slidenum">
              <a:rPr b="0" lang="es-ES_trad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3541-E14E-4E8C-A76A-91C941F68175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452B-2CEC-4A87-8D7B-0120116BF87A}" type="slidenum">
              <a:rPr b="0" lang="es-ES_trad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E52B-E29B-4E8E-B472-B82DE49068F3}" type="slidenum">
              <a:rPr b="0" lang="es-ES_trad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D29E-3EE3-48E1-8BA1-8D580EE586EF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B599-9776-490C-BDD4-693D9B8D9ED5}" type="slidenum">
              <a:rPr b="0" lang="es-ES_trad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71CA-AF35-4C44-A587-86DB3156A8AC}" type="slidenum">
              <a:rPr b="0" lang="es-ES_trad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Franklin Gothic Medium"/>
              </a:rPr>
              <a:t>Ana Fonseca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Franklin Gothic Medium"/>
              </a:rPr>
              <a:t>SISTEMA DE PROTECCIÓN SOCIAL EN BRASIL.  CONSEJOS DE POLÍTICAS Y CONCERTACIÓN  </a:t>
            </a:r>
            <a:endParaRPr b="0" lang="en-US" sz="3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78920" y="1628640"/>
            <a:ext cx="8713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10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a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) </a:t>
            </a:r>
            <a:r>
              <a:rPr b="1" i="1" lang="es-ES" sz="2300" spc="-1" strike="noStrike">
                <a:solidFill>
                  <a:srgbClr val="534949"/>
                </a:solidFill>
                <a:latin typeface="Franklin Gothic Medium"/>
              </a:rPr>
              <a:t>Beneficio de Prestación Continua (BPC)</a:t>
            </a:r>
            <a:r>
              <a:rPr b="0" i="1" lang="es-ES" sz="2300" spc="-1" strike="noStrike">
                <a:solidFill>
                  <a:srgbClr val="534949"/>
                </a:solidFill>
                <a:latin typeface="Franklin Gothic Medium"/>
              </a:rPr>
              <a:t>, 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prestación para adultos mayores de más de 65 años de edad y para portadores de discapacidades que viven en familias cuyo ingreso familiar per cápita es igual o inferior a ¼ del salario mínimo vigente por mes; </a:t>
            </a:r>
            <a:endParaRPr b="0" lang="en-US" sz="23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b) </a:t>
            </a:r>
            <a:r>
              <a:rPr b="1" lang="es-ES" sz="2300" spc="-1" strike="noStrike">
                <a:solidFill>
                  <a:srgbClr val="534949"/>
                </a:solidFill>
                <a:latin typeface="Franklin Gothic Medium"/>
              </a:rPr>
              <a:t>Programa </a:t>
            </a:r>
            <a:r>
              <a:rPr b="1" i="1" lang="es-ES" sz="2300" spc="-1" strike="noStrike">
                <a:solidFill>
                  <a:srgbClr val="534949"/>
                </a:solidFill>
                <a:latin typeface="Franklin Gothic Medium"/>
              </a:rPr>
              <a:t>Bolsa Familia  </a:t>
            </a:r>
            <a:r>
              <a:rPr b="0" i="1" lang="es-ES" sz="2300" spc="-1" strike="noStrike">
                <a:solidFill>
                  <a:srgbClr val="534949"/>
                </a:solidFill>
                <a:latin typeface="Franklin Gothic Medium"/>
              </a:rPr>
              <a:t>( transferencias condicionadas de ingresos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): destinado a las familias pobres y extremamente pobres con ingreso familiar per cápita igual o inferior a R$ 140,00 (USD 63.50) al mes y R$ 70,00 (USD 31.80) .</a:t>
            </a:r>
            <a:endParaRPr b="0" lang="en-US" sz="23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lnSpc>
                <a:spcPct val="80000"/>
              </a:lnSpc>
              <a:spcBef>
                <a:spcPts val="575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534949"/>
                </a:solidFill>
                <a:latin typeface="Franklin Gothic Medium"/>
              </a:rPr>
              <a:t>Financiadas</a:t>
            </a:r>
            <a:r>
              <a:rPr b="0" lang="es-ES" sz="2300" spc="-1" strike="noStrike">
                <a:solidFill>
                  <a:srgbClr val="534949"/>
                </a:solidFill>
                <a:latin typeface="Franklin Gothic Medium"/>
              </a:rPr>
              <a:t> con recursos provenientes de impuestos que inciden sobre el consumo. Este tipo de transferencias son extremadamente regresivas dado que la financiación incluye a los beneficiarios directos de los programas de Asistencia social; </a:t>
            </a:r>
            <a:endParaRPr b="0" lang="en-US" sz="23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lnSpc>
                <a:spcPct val="80000"/>
              </a:lnSpc>
              <a:spcBef>
                <a:spcPts val="575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ASISTENCIA SOCIA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20840" y="1779480"/>
            <a:ext cx="8242200" cy="52117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ASISTENCIA SOCIAL- BPC 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-3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programa </a:t>
            </a:r>
            <a:r>
              <a:rPr b="0" i="1" lang="es-ES" sz="2100" spc="-1" strike="noStrike">
                <a:solidFill>
                  <a:srgbClr val="534949"/>
                </a:solidFill>
                <a:latin typeface="Franklin Gothic Medium"/>
              </a:rPr>
              <a:t>Bolsa Familia - </a:t>
            </a: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impone controles y condicionalidades y su no cumplimiento puede implicar la suspensión del beneficio. Las contrapartidas son la asistencia obligatoria de los niños a la escuela y visitas periódicas a centros de salud para embarazadas y para niños chicos.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monto de la prestación del beneficio varía de acuerdo con el tamaño de la familia y el grado de destitución observado.  El menor monto es de R$ 32,00 (USD 14.55) por mes y el más alto es de R$ 306,00 (USD 140) por mes. 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Ministerio del Desarrollo Social y la Caixa Económica Federal (banco del  Estado o banco público) son las entidades responsables por la gestión del mismo. 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Los gastos del programa Bolsa Familia totalizaron R$ 20 mil 53 millones o USD 10,25 mil millones en 2012(ANFIP, 2013). 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BPC y  BF abarcan a aproximadamente 50 millones de personas pobres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32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32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BOLSA FAMILIA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79280" y="1700280"/>
            <a:ext cx="878544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nsejo Municipal de Salud; Consejo Estadual de la Secretarias Municipales de Salud; Consejo Nacional de las Secretarias Municipales de Salud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nsejo Estadual de Salud; Consejo Nacional de las Secretarias Estaduales de Salud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nsejo Nacional de Salud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Plano Municipal de Salud; Plano Estadual de Salud; Plano Nacional de Salud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Fondo Municipal de Salud; Fondo Estadual de Salud; Fondo Nacional de Salud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misión Intergestores Regionales; Comisión Intergestores Bipartita; Comisión Intergestores Tripartirte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Transferencia Fondo a Fondo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nferencias: Municipales, Estaduales y Nacional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67120" indent="-223920">
              <a:lnSpc>
                <a:spcPct val="80000"/>
              </a:lnSpc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400" y="549000"/>
            <a:ext cx="825804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Franklin Gothic Medium"/>
              </a:rPr>
              <a:t>ORGANIZACIÓN DEL SISTEMA ÚNICO DE SALUD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79280" y="1719000"/>
            <a:ext cx="878544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Consejo Municipal de Asistencia Social; Consejo Estadual de Asistencia Social; Consejo Nacional de Asistencia Soci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Plano Municipal de Asistencia Social; Plano Estadual de Asistencia Social;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Política  Nacional de Asistencia Soci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Fondo Municipal de Asistencia Social; Fondo Estadual de Asistencia Social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Fondo Nacional de Asistencia  Soci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Comisión Intergestores Bipartita; Comisión Intergestores Tripartir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Transferencia Fondo a Fondo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Conferencias: Municipales, Estaduales y Nacion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ORGANIZACIÓN DEL SISTEMA ÚNICO DE  ASISTENCIA SOCIAL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79280" y="162864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Protección social básica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:  tiene como objetivo prevenir situaciones de riesgo a través del desarrollo de capacidades y fortalecimiento de los vínculos familiares y los lazos comunitarios. Destinada a personas que viven en situación de vulnerabilidad social debido a la pobreza, la privación (falta de ingresos, precario acceso a los servicios públicos)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Servicios por medio de los Centros de Referencia de la Asistencia Social (CRAS): 7.407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Protección social especial:  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asistencia a las familias y a los en situación de riesgo personal y social para la ocurrencia de negligencia, violencia, abandono, abuso sexual, explotación sexual,   abuso de sustancias químicas, trabajo infantil  y violación de derechos en gener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Servicios por medio de los Centros de Referencia Especializados de la Asistencia Social (CREAS) : </a:t>
            </a: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2.216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Habilitación:  Inicial, Básica y Plena</a:t>
            </a:r>
            <a:br>
              <a:rPr sz="2000"/>
            </a:b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MODALIDADES DE PROTECCIÓN: ASISTENCIA SOCIA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7640" y="170028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34949"/>
                </a:solidFill>
                <a:latin typeface="Franklin Gothic Medium"/>
              </a:rPr>
              <a:t>Educación (Art. 205 de la Constitución Federal)  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6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34949"/>
                </a:solidFill>
                <a:latin typeface="Franklin Gothic Medium"/>
              </a:rPr>
              <a:t>Derecho de todos, deber del Estado y de la familia;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6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34949"/>
                </a:solidFill>
                <a:latin typeface="Franklin Gothic Medium"/>
              </a:rPr>
              <a:t>Debe guiarse por los principios de igualdad en las condiciones del acceso y permanencia en la escuela; libertad para aprender, enseñar, investigar y divulgar el pensamiento, la arte y el saber; pluralismo de ideas y de concepciones pedagógicas y coexistencia de instituciones públicas y privadas de enseñanza ; gratuidad de la enseñanza  pública en las redes públicas; valoración de los profesionales de la educación escolar en la forma de la ley; gestión democrática de la enseñanza pública; patrón de calidad; piso salarial para los profesionales de la educación (Art. 206)</a:t>
            </a: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6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EDUCACIÓN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Fondo de Manutención y Desarrollo de la Educación Básica y Valoración de los Profesionales de la Educación (</a:t>
            </a: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FUNDEB</a:t>
            </a: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). El aporte de recursos del gobierno federal al FUNDEB pasó de 2 mil millones de reales en 2007 para R$ 3,2 mil millones en 2008, R$ 5,2 mil millones en 2009 y desde 2010 es equivalente al 10% de la contribución total de los estados y municipios en todo el país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Programa Nacional de Alimentación Escolar (</a:t>
            </a: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PNAE</a:t>
            </a: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): Garantiza, por medio de la transferencia de recursos, a alimentación escolar de los alumnos de toda la educación  básica (educación de  infantes, nivel fundamental de enseñanza, nivel medio y educación de jóvenes y adultos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Además del gobierno Federal, los estados y municipalidades aportan recursos al PNAE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Actualmente, el  valor transferido a los estados y municipios por día de clase es: Guarderías:  R$ 1; Jardín de infantes:  R$ 0,50; Escuelas indígenas y de remanecientes de esclavos: R$ 0,60; Nivel fundamental, medio y educación de jóvenes y adultos: R$ 0,30; Enseñanza en tiempo integral: (Más Educación) – R$ 0,90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Presupuesto 2013: R$ 3,5 mil millones de reales para atender  43 millones de estudiante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Del monto total el 30% (R$ 1,05 mil millón) es destinado a la compra directa de alimentos producidos por la agricultura familiar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1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15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DUCACIÓN (2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324000" y="2492280"/>
          <a:ext cx="8578800" cy="1657440"/>
        </p:xfrm>
        <a:graphic>
          <a:graphicData uri="http://schemas.openxmlformats.org/drawingml/2006/table">
            <a:tbl>
              <a:tblPr/>
              <a:tblGrid>
                <a:gridCol w="1715760"/>
                <a:gridCol w="1716120"/>
                <a:gridCol w="1714680"/>
                <a:gridCol w="1716120"/>
                <a:gridCol w="171612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FED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ESTA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MUNI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PRIV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76.4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8.721.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3.224.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8.322.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0.545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</a:tr>
            </a:tbl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DUCACIÓN BÁSICA: NÚMERO DE ALUMNOS POR RED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5" name="Retângulo 4"/>
          <p:cNvSpPr/>
          <p:nvPr/>
        </p:nvSpPr>
        <p:spPr>
          <a:xfrm>
            <a:off x="1476360" y="4797360"/>
            <a:ext cx="61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</a:rPr>
              <a:t>FUENTE: INEP/MEC.  CENSO ESCOLAR 2012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spaço Reservado para Conteúdo 3" descr=""/>
          <p:cNvPicPr/>
          <p:nvPr/>
        </p:nvPicPr>
        <p:blipFill>
          <a:blip r:embed="rId1"/>
          <a:stretch/>
        </p:blipFill>
        <p:spPr>
          <a:xfrm>
            <a:off x="3157560" y="1682640"/>
            <a:ext cx="2610000" cy="19623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Franklin Gothic Medium"/>
              </a:rPr>
              <a:t>PLAN BRASIL SIN MISERIA: LOS EJES DEL PLAN O EL DESAFÍO DE LA MULTIDIMENSIONALIDAD DE LA POBREZA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48" name="Retângulo de cantos arredondados 5" descr=""/>
          <p:cNvPicPr/>
          <p:nvPr/>
        </p:nvPicPr>
        <p:blipFill>
          <a:blip r:embed="rId2"/>
          <a:stretch/>
        </p:blipFill>
        <p:spPr>
          <a:xfrm>
            <a:off x="2517840" y="3614760"/>
            <a:ext cx="3773520" cy="744480"/>
          </a:xfrm>
          <a:prstGeom prst="rect">
            <a:avLst/>
          </a:prstGeom>
          <a:ln w="0">
            <a:noFill/>
          </a:ln>
        </p:spPr>
      </p:pic>
      <p:pic>
        <p:nvPicPr>
          <p:cNvPr id="349" name="Retângulo de cantos arredondados 7" descr=""/>
          <p:cNvPicPr/>
          <p:nvPr/>
        </p:nvPicPr>
        <p:blipFill>
          <a:blip r:embed="rId3"/>
          <a:stretch/>
        </p:blipFill>
        <p:spPr>
          <a:xfrm>
            <a:off x="944640" y="4468680"/>
            <a:ext cx="2408040" cy="968400"/>
          </a:xfrm>
          <a:prstGeom prst="rect">
            <a:avLst/>
          </a:prstGeom>
          <a:ln w="0">
            <a:noFill/>
          </a:ln>
        </p:spPr>
      </p:pic>
      <p:pic>
        <p:nvPicPr>
          <p:cNvPr id="350" name="Retângulo de cantos arredondados 10" descr=""/>
          <p:cNvPicPr/>
          <p:nvPr/>
        </p:nvPicPr>
        <p:blipFill>
          <a:blip r:embed="rId4"/>
          <a:stretch/>
        </p:blipFill>
        <p:spPr>
          <a:xfrm>
            <a:off x="3359160" y="4468680"/>
            <a:ext cx="2419200" cy="962280"/>
          </a:xfrm>
          <a:prstGeom prst="rect">
            <a:avLst/>
          </a:prstGeom>
          <a:ln w="0">
            <a:noFill/>
          </a:ln>
        </p:spPr>
      </p:pic>
      <p:pic>
        <p:nvPicPr>
          <p:cNvPr id="351" name="Retângulo de cantos arredondados 11" descr=""/>
          <p:cNvPicPr/>
          <p:nvPr/>
        </p:nvPicPr>
        <p:blipFill>
          <a:blip r:embed="rId5"/>
          <a:stretch/>
        </p:blipFill>
        <p:spPr>
          <a:xfrm>
            <a:off x="5956200" y="4468680"/>
            <a:ext cx="2406600" cy="962280"/>
          </a:xfrm>
          <a:prstGeom prst="rect">
            <a:avLst/>
          </a:prstGeom>
          <a:ln w="0">
            <a:noFill/>
          </a:ln>
        </p:spPr>
      </p:pic>
      <p:pic>
        <p:nvPicPr>
          <p:cNvPr id="352" name="Retângulo de cantos arredondados 12" descr=""/>
          <p:cNvPicPr/>
          <p:nvPr/>
        </p:nvPicPr>
        <p:blipFill>
          <a:blip r:embed="rId6"/>
          <a:stretch/>
        </p:blipFill>
        <p:spPr>
          <a:xfrm>
            <a:off x="774720" y="5754600"/>
            <a:ext cx="75880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Componentes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Seguro social contributivo (Previsión Social);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Salud universal  </a:t>
            </a:r>
            <a:r>
              <a:rPr b="0" lang="es-ES" sz="2400" spc="-1" strike="noStrike">
                <a:solidFill>
                  <a:srgbClr val="534949"/>
                </a:solidFill>
                <a:latin typeface="Franklin Gothic Medium"/>
              </a:rPr>
              <a:t>(SUS- Sistema Único de Salud)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Asistencia social </a:t>
            </a:r>
            <a:r>
              <a:rPr b="0" lang="es-ES" sz="2400" spc="-1" strike="noStrike">
                <a:solidFill>
                  <a:srgbClr val="534949"/>
                </a:solidFill>
                <a:latin typeface="Franklin Gothic Medium"/>
              </a:rPr>
              <a:t>(SUAS – Sistema Único de la Asistencia Social)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Franklin Gothic Medium"/>
              </a:rPr>
              <a:t>PROTECCIÓN SOCIAL: CONSTITUCIÓN FEDERAL 1988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50560" y="220500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Ministerio de Salud, Ministerio de Educación, Ministerio de Integración Nacional, Ministerio de Medio Ambiente, Ministerio de Desarrollo Agrario,   Ministerio de Trabajo y Empleo, Ministerio de Desarrollo Social (coordinador)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Compañía Nacional de Abasto (CONAB)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Empresa Brasileña de Investigación Agropecuaria (EMBRAPA)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 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MINISTERIOS DIRECTAMENTE INVOLUCRADOS EN LA OFERTA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9360">
            <a:solidFill>
              <a:srgbClr val="6e6854"/>
            </a:solidFill>
            <a:miter/>
          </a:ln>
        </p:spPr>
      </p:pic>
      <p:sp>
        <p:nvSpPr>
          <p:cNvPr id="356" name="Conector reto 8"/>
          <p:cNvSpPr/>
          <p:nvPr/>
        </p:nvSpPr>
        <p:spPr>
          <a:xfrm>
            <a:off x="58680" y="1125360"/>
            <a:ext cx="9036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179280" y="404640"/>
            <a:ext cx="5749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314280"/>
                <a:tab algn="l" pos="630360"/>
                <a:tab algn="l" pos="946080"/>
                <a:tab algn="l" pos="1262160"/>
                <a:tab algn="l" pos="1577880"/>
                <a:tab algn="l" pos="1893960"/>
                <a:tab algn="l" pos="2209680"/>
                <a:tab algn="l" pos="2525760"/>
                <a:tab algn="l" pos="2841480"/>
                <a:tab algn="l" pos="3157560"/>
                <a:tab algn="l" pos="3473280"/>
                <a:tab algn="l" pos="3789360"/>
                <a:tab algn="l" pos="4105440"/>
                <a:tab algn="l" pos="4421160"/>
                <a:tab algn="l" pos="4737240"/>
                <a:tab algn="l" pos="5052960"/>
                <a:tab algn="l" pos="5369040"/>
                <a:tab algn="l" pos="5684760"/>
                <a:tab algn="l" pos="6000840"/>
                <a:tab algn="l" pos="631656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3600" spc="-1" strike="noStrike">
                <a:solidFill>
                  <a:srgbClr val="bfbfbf"/>
                </a:solidFill>
                <a:latin typeface="Franklin Gothic Medium"/>
                <a:ea typeface="Tahoma"/>
              </a:rPr>
              <a:t>ESTRUCTURA DE GESTIÓ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2868480" y="2309760"/>
            <a:ext cx="3643200" cy="646200"/>
            <a:chOff x="2868480" y="2309760"/>
            <a:chExt cx="3643200" cy="646200"/>
          </a:xfrm>
        </p:grpSpPr>
        <p:sp>
          <p:nvSpPr>
            <p:cNvPr id="359" name="AutoShape 9"/>
            <p:cNvSpPr/>
            <p:nvPr/>
          </p:nvSpPr>
          <p:spPr>
            <a:xfrm>
              <a:off x="2868480" y="2309760"/>
              <a:ext cx="3643200" cy="646200"/>
            </a:xfrm>
            <a:prstGeom prst="roundRect">
              <a:avLst>
                <a:gd name="adj" fmla="val 7028"/>
              </a:avLst>
            </a:pr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360" name="Rectangle 10"/>
            <p:cNvSpPr/>
            <p:nvPr/>
          </p:nvSpPr>
          <p:spPr>
            <a:xfrm>
              <a:off x="2912040" y="2347920"/>
              <a:ext cx="3596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GRUPO EJECUTIVO</a:t>
              </a: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C, MF, MPOG E MDS</a:t>
              </a:r>
              <a:endParaRPr b="0" lang="en-US" sz="12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grpSp>
        <p:nvGrpSpPr>
          <p:cNvPr id="361" name="Group 8"/>
          <p:cNvGrpSpPr/>
          <p:nvPr/>
        </p:nvGrpSpPr>
        <p:grpSpPr>
          <a:xfrm>
            <a:off x="3232080" y="1590840"/>
            <a:ext cx="2949120" cy="641160"/>
            <a:chOff x="3232080" y="1590840"/>
            <a:chExt cx="2949120" cy="641160"/>
          </a:xfrm>
        </p:grpSpPr>
        <p:sp>
          <p:nvSpPr>
            <p:cNvPr id="362" name="AutoShape 9"/>
            <p:cNvSpPr/>
            <p:nvPr/>
          </p:nvSpPr>
          <p:spPr>
            <a:xfrm>
              <a:off x="3232080" y="1590840"/>
              <a:ext cx="2949120" cy="641160"/>
            </a:xfrm>
            <a:prstGeom prst="roundRect">
              <a:avLst>
                <a:gd name="adj" fmla="val 7028"/>
              </a:avLst>
            </a:pr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3267360" y="1628640"/>
              <a:ext cx="291132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COMITE GESTOR</a:t>
              </a: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C, MF, MPOG E MDS</a:t>
              </a:r>
              <a:endParaRPr b="0" lang="en-US" sz="12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grpSp>
        <p:nvGrpSpPr>
          <p:cNvPr id="364" name="Group 8"/>
          <p:cNvGrpSpPr/>
          <p:nvPr/>
        </p:nvGrpSpPr>
        <p:grpSpPr>
          <a:xfrm>
            <a:off x="2220840" y="3070080"/>
            <a:ext cx="5014440" cy="749520"/>
            <a:chOff x="2220840" y="3070080"/>
            <a:chExt cx="5014440" cy="749520"/>
          </a:xfrm>
        </p:grpSpPr>
        <p:sp>
          <p:nvSpPr>
            <p:cNvPr id="365" name="AutoShape 9"/>
            <p:cNvSpPr/>
            <p:nvPr/>
          </p:nvSpPr>
          <p:spPr>
            <a:xfrm>
              <a:off x="2220840" y="3070080"/>
              <a:ext cx="5014440" cy="749520"/>
            </a:xfrm>
            <a:prstGeom prst="roundRect">
              <a:avLst>
                <a:gd name="adj" fmla="val 7028"/>
              </a:avLst>
            </a:pr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2233440" y="3114360"/>
              <a:ext cx="495000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GRUPO INTERMINISTERIAL DE ACOMPAÑAMIENTO</a:t>
              </a:r>
              <a:endParaRPr b="0" lang="en-US" sz="1800" spc="-1" strike="noStrike">
                <a:solidFill>
                  <a:srgbClr val="000000"/>
                </a:solidFill>
                <a:latin typeface="Franklin Gothic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C, MF, MPOG, MDS, MDA, MEC, MS, MCid, MTE, MI</a:t>
              </a:r>
              <a:endParaRPr b="0" lang="en-US" sz="1200" spc="-1" strike="noStrike">
                <a:solidFill>
                  <a:srgbClr val="000000"/>
                </a:solidFill>
                <a:latin typeface="Franklin Gothic Medium"/>
              </a:endParaRPr>
            </a:p>
          </p:txBody>
        </p:sp>
      </p:grpSp>
      <p:sp>
        <p:nvSpPr>
          <p:cNvPr id="367" name="CaixaDeTexto 49"/>
          <p:cNvSpPr/>
          <p:nvPr/>
        </p:nvSpPr>
        <p:spPr>
          <a:xfrm flipV="1" rot="10800000">
            <a:off x="491760" y="2394360"/>
            <a:ext cx="1392120" cy="587160"/>
          </a:xfrm>
          <a:prstGeom prst="rect">
            <a:avLst/>
          </a:prstGeom>
          <a:noFill/>
          <a:ln w="936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ctr">
              <a:lnSpc>
                <a:spcPct val="90000"/>
              </a:lnSpc>
              <a:tabLst>
                <a:tab algn="l" pos="0"/>
                <a:tab algn="l" pos="114480"/>
                <a:tab algn="l" pos="533520"/>
                <a:tab algn="l" pos="1397160"/>
                <a:tab algn="l" pos="2019240"/>
                <a:tab algn="l" pos="2666880"/>
                <a:tab algn="l" pos="3301920"/>
                <a:tab algn="l" pos="3936960"/>
                <a:tab algn="l" pos="4584600"/>
                <a:tab algn="l" pos="5219640"/>
                <a:tab algn="l" pos="5854680"/>
                <a:tab algn="l" pos="6502320"/>
                <a:tab algn="l" pos="7137360"/>
                <a:tab algn="l" pos="7785000"/>
                <a:tab algn="l" pos="8420040"/>
                <a:tab algn="l" pos="9055080"/>
                <a:tab algn="l" pos="9702720"/>
                <a:tab algn="l" pos="10337760"/>
                <a:tab algn="l" pos="10960200"/>
                <a:tab algn="l" pos="11607840"/>
                <a:tab algn="l" pos="12242880"/>
                <a:tab algn="l" pos="12890520"/>
                <a:tab algn="l" pos="13436640"/>
                <a:tab algn="l" pos="14465160"/>
                <a:tab algn="l" pos="15494040"/>
                <a:tab algn="l" pos="16027560"/>
                <a:tab algn="l" pos="1630692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Arial Narrow"/>
                <a:ea typeface="ＭＳ Ｐゴシック"/>
              </a:rPr>
              <a:t>INSTANCIAS DECISORIAS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Colchete esquerdo 50"/>
          <p:cNvSpPr/>
          <p:nvPr/>
        </p:nvSpPr>
        <p:spPr>
          <a:xfrm>
            <a:off x="2031840" y="1590840"/>
            <a:ext cx="44640" cy="2373120"/>
          </a:xfrm>
          <a:custGeom>
            <a:avLst/>
            <a:gdLst>
              <a:gd name="textAreaLeft" fmla="*/ 12960 w 44640"/>
              <a:gd name="textAreaRight" fmla="*/ 45000 w 44640"/>
              <a:gd name="textAreaTop" fmla="*/ 1800 h 2373120"/>
              <a:gd name="textAreaBottom" fmla="*/ 2371320 h 237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"/>
                  <a:pt x="0" y="34"/>
                </a:cubicBezTo>
                <a:lnTo>
                  <a:pt x="0" y="21566"/>
                </a:lnTo>
                <a:cubicBezTo>
                  <a:pt x="0" y="21583"/>
                  <a:pt x="10800" y="21600"/>
                  <a:pt x="21600" y="21600"/>
                </a:cubicBezTo>
              </a:path>
            </a:pathLst>
          </a:custGeom>
          <a:noFill/>
          <a:ln w="1008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1643040" y="4214880"/>
            <a:ext cx="7337520" cy="546120"/>
          </a:xfrm>
          <a:prstGeom prst="rect">
            <a:avLst/>
          </a:prstGeom>
          <a:solidFill>
            <a:srgbClr val="494638"/>
          </a:solidFill>
          <a:ln w="1908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SECRETARIA EXTRAORDINARIA PARA SUPERACIÓN EXTREMA POBREZA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CaixaDeTexto 58"/>
          <p:cNvSpPr/>
          <p:nvPr/>
        </p:nvSpPr>
        <p:spPr>
          <a:xfrm flipV="1" rot="10800000">
            <a:off x="-360" y="4500360"/>
            <a:ext cx="1428840" cy="531720"/>
          </a:xfrm>
          <a:prstGeom prst="rect">
            <a:avLst/>
          </a:prstGeom>
          <a:noFill/>
          <a:ln w="936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ctr">
              <a:lnSpc>
                <a:spcPct val="90000"/>
              </a:lnSpc>
              <a:tabLst>
                <a:tab algn="l" pos="0"/>
                <a:tab algn="l" pos="114480"/>
                <a:tab algn="l" pos="533520"/>
                <a:tab algn="l" pos="1397160"/>
                <a:tab algn="l" pos="2019240"/>
                <a:tab algn="l" pos="2666880"/>
                <a:tab algn="l" pos="3301920"/>
                <a:tab algn="l" pos="3936960"/>
                <a:tab algn="l" pos="4584600"/>
                <a:tab algn="l" pos="5219640"/>
                <a:tab algn="l" pos="5854680"/>
                <a:tab algn="l" pos="6502320"/>
                <a:tab algn="l" pos="7137360"/>
                <a:tab algn="l" pos="7785000"/>
                <a:tab algn="l" pos="8420040"/>
                <a:tab algn="l" pos="9055080"/>
                <a:tab algn="l" pos="9702720"/>
                <a:tab algn="l" pos="10337760"/>
                <a:tab algn="l" pos="10960200"/>
                <a:tab algn="l" pos="11607840"/>
                <a:tab algn="l" pos="12242880"/>
                <a:tab algn="l" pos="12890520"/>
                <a:tab algn="l" pos="13436640"/>
                <a:tab algn="l" pos="14465160"/>
                <a:tab algn="l" pos="15494040"/>
                <a:tab algn="l" pos="16027560"/>
                <a:tab algn="l" pos="16306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INSTANCIAS GERENCIALES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Colchete esquerdo 59"/>
          <p:cNvSpPr/>
          <p:nvPr/>
        </p:nvSpPr>
        <p:spPr>
          <a:xfrm>
            <a:off x="1571760" y="4071960"/>
            <a:ext cx="46080" cy="15127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1512720"/>
              <a:gd name="textAreaBottom" fmla="*/ 1510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"/>
                  <a:pt x="0" y="55"/>
                </a:cubicBezTo>
                <a:lnTo>
                  <a:pt x="0" y="21545"/>
                </a:lnTo>
                <a:cubicBezTo>
                  <a:pt x="0" y="21573"/>
                  <a:pt x="10800" y="21600"/>
                  <a:pt x="21600" y="21600"/>
                </a:cubicBezTo>
              </a:path>
            </a:pathLst>
          </a:custGeom>
          <a:noFill/>
          <a:ln w="1008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954160" y="4869000"/>
            <a:ext cx="3670560" cy="477720"/>
          </a:xfrm>
          <a:prstGeom prst="rect">
            <a:avLst/>
          </a:prstGeom>
          <a:solidFill>
            <a:srgbClr val="494638"/>
          </a:solidFill>
          <a:ln w="19080">
            <a:solidFill>
              <a:srgbClr val="6e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ITES MINISTERIALES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0880" y="1571400"/>
            <a:ext cx="8407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534949"/>
                </a:solidFill>
                <a:latin typeface="Franklin Gothic Medium"/>
              </a:rPr>
              <a:t>Comité Gestor Nacional del Plan Brasil sin Miseria, presidido por la presidenta Dilma Rousseff </a:t>
            </a: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y  conformado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(a) Ministerio de Desarrollo Social (MDS), coordinador; (b) Casa Civil de la Presidencia de la República;(c)   Ministerio de Hacienda (Finanzas);(d) Ministerio de Planificación, Presupuesto y Gestión (MPOG). Atribuciones: establecer metas, orientar la formulación, implementación, el monitoreo y evaluación del Plan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La Secretaría Ejecutiva del Comité Gestión Nacional es atribución de la Secretaría Extraordinaria para la Superación de la Extrema Pobreza (SESEP/MDS)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534949"/>
                </a:solidFill>
                <a:latin typeface="Franklin Gothic Medium"/>
              </a:rPr>
              <a:t>Grupo Ejecutivo del Plan Brasil Sin Miseri</a:t>
            </a: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a es conformado por vice ministros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(a) Vice ministro del MDS; (b) Vice ministro de la Casa Civil de la Presidencia; (c) Vice ministro de Hacienda;(d) Vice ministro de Planificación, Presupuesto y Gestión. Atribuciones: asegurar  la implementación de las políticas, programas y acciones establecidas en el ámbito del Plan. 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STRUCTURA DE GESTIÓ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34949"/>
                </a:solidFill>
                <a:latin typeface="Franklin Gothic Medium"/>
              </a:rPr>
              <a:t>Grupo Interministerial de Acompañamiento del Plan Brasil sin Miseria que es conformado por los representantes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Ministerio de Desarrollo Social (coordinador);Casa Civil de la Presidencia; Secretaría General de la Presidencia de la República; Ministerio de Hacienda; Ministerio de Planificación, Presupuesto y Gestión; Ministerio de las Ciudades; Ministerio de Trabajo y Empleo; Ministerio de Desarrollo Agrario; Ministerio de Salud; Ministerio de Educación; Ministerio de Integración Naciona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Atribuciones: monitoreo y evaluación de las políticas, programas y acciones desarrolladas en el ámbito del Pla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STRUCTURA DE GESTIÓN (2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0" y="1844280"/>
            <a:ext cx="90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Arial Narrow"/>
              </a:rPr>
              <a:t>Pactos regionales – Eventos con la Presidenta de la República, Gobernadores, Ministros y Parlamentario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Celebrar compromiso político con el Brasil Sin Miseria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Arial Narrow"/>
              </a:rPr>
              <a:t>Pactos con los Estados – Interlocutores responsables por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Dialogar con SESEP/MDS sobre el Pl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Articular las áreas involucradas en el Pl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Coordinar la implementación del Plan en el Estado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Identificar acciones complementarias en nivel estadual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Apoyar los municipio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34949"/>
                </a:solidFill>
                <a:latin typeface="Arial Narrow"/>
              </a:rPr>
              <a:t>Promover asociaciones con organizaciones regionales y federales que actúan en el Estado; con organizaciones no gubernamentales; con el sector privado; con la academia, entre otro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Arial Narrow"/>
              </a:rPr>
              <a:t>Pactos con los Municipios – para la inclusión productiva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Arial Narrow"/>
              </a:rPr>
              <a:t>Otras instituciones: Asociación Brasileña de la Red de Supermercados; Cámara Brasileña de la Industria de Construcción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28b7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Franklin Gothic Medium"/>
              </a:rPr>
              <a:t>ROL DE LOS GOBIERNOS SUB-NACIONALES Y OTRAS INSTITUCION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Espaço Reservado para Conteúdo 3" descr="Acerca del CDES"/>
          <p:cNvPicPr/>
          <p:nvPr/>
        </p:nvPicPr>
        <p:blipFill>
          <a:blip r:embed="rId1"/>
          <a:stretch/>
        </p:blipFill>
        <p:spPr>
          <a:xfrm>
            <a:off x="250920" y="1643040"/>
            <a:ext cx="8642160" cy="49546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CONSEJO DE DESARROLLO ECÓNOMICO Y SOCIAL (CDES)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78920" y="1773000"/>
            <a:ext cx="8713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34949"/>
                </a:solidFill>
                <a:latin typeface="Franklin Gothic Medium"/>
              </a:rPr>
              <a:t>El establecimiento del consejo para el desarrollo económico y social (CDES) en 2003 tenia por objetivo profundizar el diálogo entre gobierno y sociedad, ampliando la capacidad de deliberar de forma compartida sobre las importantes decisiones políticas de Brasil.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34949"/>
                </a:solidFill>
                <a:latin typeface="Franklin Gothic Medium"/>
              </a:rPr>
              <a:t>El desafío es establecer un diálogo entre todas las diversas representaciones de la sociedad civil para discutir las políticas públicas y proponer medidas relacionadas con el desarrollo de Brasil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34949"/>
                </a:solidFill>
                <a:latin typeface="Franklin Gothic Medium"/>
              </a:rPr>
              <a:t>Las principales características del Consejo son la diversidad de sus miembros, la atención a las cuestiones de desarrollo, el diálogo social en la construcción de consenso entre sus miembros, y reunir a las instituciones nacionales y internacionales.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CD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08000" y="1773000"/>
            <a:ext cx="88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El CDES está integrado por trabajadores, empresarios, grupos sociales, personas de reconocida competencia y liderazgo en sus respectivas áreas de actividad y representantes del gobierno;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La presidenta de la República indica los miembros del Consejo por un período de dos años, con posibilidad de renovación, a fin de incluir diversos representantes de la sociedad. Esta diversidad distingue al Consejo de otros espacios de diálogo, y ha dado a CDES una visión más amplia y más sistémica de los asuntos nacionale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Además, la variedad de su composición es la base de la comprensión, actualmente compartida por todos los miembros del CDES, que el desarrollo reúne a los temas económicos, sociales, políticos y ambientales, y debe basarse en la inclusión y la responsabilidad de la sociedad en su conjunto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COMPOSICIÓN DEL CD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7892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Seis miembros del Consejo, elegidos por sus pares y renovados periódicamente, componen el Comité de Dirección. El Comité de Dirección de CDES forma parte de su estructura de gobierno a fin de otorgar más efectividad al diálogo entre los miembros del Consejo, el Gobierno y otros actores sociales y institucionales. Su responsabilidad es la de contribuir a la evaluación de la producción por el Consejo, en el seguimiento de los resultados y la comprensión y la difusión de su impacto en el ámbito de las políticas públicas y la acción social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534949"/>
                </a:solidFill>
                <a:latin typeface="Franklin Gothic Medium"/>
              </a:rPr>
              <a:t>La Secretaría del Consejo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El Ministro de Estado, designado por la Presidenta, ocupa el cargo de Secretario Ejecutivo del CDES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534949"/>
                </a:solidFill>
                <a:latin typeface="Franklin Gothic Medium"/>
              </a:rPr>
              <a:t>La estructura técnica de la Secretaría Ejecutiva del CDES - Secretaría del Consejo de Desarrollo Económico y Social (SEDES) es responsable por la coordinación técnica del proceso de debate y de organizar el análisis y la formulación de propuestas, así como por el apoyo a la organización de CDES.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COMITÉ DE DIRECCIÓN DEL CDES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79280" y="1557360"/>
            <a:ext cx="8693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534949"/>
                </a:solidFill>
                <a:latin typeface="Franklin Gothic Medium"/>
              </a:rPr>
              <a:t>(</a:t>
            </a: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A)  </a:t>
            </a: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Reuniones plenaria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Cuatro reuniones plenarias anuales, con la presencia de la Presidenta de la República, en las cuales se discuten temas presentados por el Gobierno, o presentados por el Consejo tras los acuerdos  en los grupos temáticos, donde las ideas son presentadas y debatidas. Además, en el Consejo, se han elaborados informes, estudios especiales y juicios sobre temas específicos exigidos por la Presidenta de la República, sin agenda previa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(B) Grupos de Trabajo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Están preparados para discutir los temas específicos que han sido propuestos por los consejeros o que se han sido criados en las reuniones plenarias del CDES. Dentro de los grupos de trabajo, los consejeros están en condiciones de realizar más debates en profundidad y llegar a un consenso. Las conclusiones son presentadas a la sesión plenaria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(C ) Coloquio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Los temas relevantes abordados por los consejeros también se discuten en coloquios, reuniendo las partes interesadas para llegar a un entendimiento y proponer soluciones para resolver los conflictos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34949"/>
                </a:solidFill>
                <a:latin typeface="Franklin Gothic Medium"/>
              </a:rPr>
              <a:t>(D) Foros Regionales: </a:t>
            </a:r>
            <a:r>
              <a:rPr b="0" lang="es-ES_tradnl" sz="1800" spc="-1" strike="noStrike">
                <a:solidFill>
                  <a:srgbClr val="534949"/>
                </a:solidFill>
                <a:latin typeface="Franklin Gothic Medium"/>
              </a:rPr>
              <a:t>debates regionales con el fin de promover el diálogo social en cinco grandes regiones del país</a:t>
            </a: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CÓMO FUNCIONA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-360" y="162864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Características del sistema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: obligatorio, nacional, público, subsidios sociales;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Prestación máxima 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de R$ 4.159,00, (USD 1,890.45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Prestación Mínima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: el salario mínimo nacional vigente (R$ 678,00 en junio de 2013 o USD 308,18)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Se basa </a:t>
            </a: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en aportes obligatorios 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realizados por trabajadores asalariados y empleadores, y voluntarios para las demás categorías de trabajadores (autónomos) o inactivos (excluidos de la fuerza laboral). La base de aportes varía entre el salario mínimo y el máximo;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 algn="just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Las </a:t>
            </a: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alícuotas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 aplicables sobre la base imponible para el cálculo de aportes son </a:t>
            </a:r>
            <a:r>
              <a:rPr b="1" lang="es-ES" sz="2000" spc="-1" strike="noStrike">
                <a:solidFill>
                  <a:srgbClr val="534949"/>
                </a:solidFill>
                <a:latin typeface="Franklin Gothic Medium"/>
              </a:rPr>
              <a:t>flexibles</a:t>
            </a:r>
            <a:r>
              <a:rPr b="0" lang="es-ES" sz="2000" spc="-1" strike="noStrike">
                <a:solidFill>
                  <a:srgbClr val="534949"/>
                </a:solidFill>
                <a:latin typeface="Franklin Gothic Medium"/>
              </a:rPr>
              <a:t>: i) 5% para micro emprendedores individuales o beneficiarios facultativos o voluntarios(personas que no pertenecen al mercado laboral que desean acogerse al beneficio o autónomos); ii) alícuotas medias de 8%, 9%, 11%; iii) alícuota máxima de 20%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181080" indent="-18108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27160" indent="-22716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PREVISIÓN SOCIAL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57200" y="1356840"/>
            <a:ext cx="8229600" cy="47689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OBSERVATORIO EQUIDAD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91" name="Imagem 3" descr="Observatorio de Equidad"/>
          <p:cNvPicPr/>
          <p:nvPr/>
        </p:nvPicPr>
        <p:blipFill>
          <a:blip r:embed="rId2"/>
          <a:stretch/>
        </p:blipFill>
        <p:spPr>
          <a:xfrm>
            <a:off x="857160" y="1285920"/>
            <a:ext cx="7358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360" y="162828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198720" algn="just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El objetivo del Observatorio es proveer la capacidad y las herramientas para que sea posible seguir el proceso de hacer frente a las desigualdades en Brasil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 algn="just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Su estrategia metodológica articula la dimensión técnica y política como partes del instrumento de pedagogía política que tiene la intención de construir y ofrecer conocimientos para respaldar las propuestas de CDES, así como de la sociedad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 algn="just">
              <a:lnSpc>
                <a:spcPct val="8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34949"/>
                </a:solidFill>
                <a:latin typeface="Franklin Gothic Medium"/>
              </a:rPr>
              <a:t>Los temas se basan en las principales directrices, consensos alcanzados en CDES y en su capacidad para promover debates, ya sea dentro de la institución, o con la sociedad en general. El grupo técnico del Observatorio está compuesto por miembros del Instituto de Investigación Económica Aplicada (IPEA), del Instituto Brasileño de Geografía y Estadística (IBGE), el Departamento Intersindical de Estadísticas y Estudios Socio-Económicos (DIEESE) y la Secretaría CDES.  Este grupo define e implementa los procedimientos técnicos necesarios para estudiar los problemas que plantea el CDES. Además, se asigna la información, así como las acciones gubernamentales y no gubernamentales relacionadas con el desafío que se refiere, preparando los informe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25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534949"/>
                </a:solidFill>
                <a:latin typeface="Franklin Gothic Medium"/>
              </a:rPr>
              <a:t>Fuente: portal del CDES</a:t>
            </a:r>
            <a:endParaRPr b="0" lang="en-US" sz="700" spc="-1" strike="noStrike">
              <a:solidFill>
                <a:srgbClr val="534949"/>
              </a:solidFill>
              <a:latin typeface="Franklin Gothic Medium"/>
            </a:endParaRPr>
          </a:p>
          <a:p>
            <a:pPr marL="237240" indent="-198720">
              <a:lnSpc>
                <a:spcPct val="80000"/>
              </a:lnSpc>
              <a:spcBef>
                <a:spcPts val="176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CDES: OBSERVATORIO DE EQUIDAD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79280" y="1557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A lo largo de los años, el  CDES ha debatido política Industrial, Tecnológica y de Relaciones Exteriores; Políticas Comerciales; Minería y Políticas Energéticas; Políticas Nacionales de Desarrollo Regional; las políticas sociales; la financiación de infraestructuras; la educación como una prioridad de desarrollo;  Reforma Política; Desigualdades Educativas Brasileñas entre otros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34949"/>
                </a:solidFill>
                <a:latin typeface="Franklin Gothic Medium"/>
              </a:rPr>
              <a:t>La metodología de operación del Consejo es evaluada constantemente para que sea mejorada y para fortalecer su capacidad de creación de consenso y ofrecer mejor apoyo para la Presidenta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CUESTIONES EN DEBATE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50560" y="1628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41800" indent="-180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34949"/>
                </a:solidFill>
                <a:latin typeface="Franklin Gothic Medium"/>
              </a:rPr>
              <a:t>Prestaciones garantizadas</a:t>
            </a:r>
            <a:r>
              <a:rPr b="0" lang="es-ES" sz="2400" spc="-1" strike="noStrike">
                <a:solidFill>
                  <a:srgbClr val="534949"/>
                </a:solidFill>
                <a:latin typeface="Franklin Gothic Medium"/>
              </a:rPr>
              <a:t>: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Jubilación por edad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Jubilación por años de servicios y  aportes completos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Jubilación por invalidez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Jubilación especial (zonas rurales);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Licencias por enfermedad;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Licencias por accidentes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Prestaciones monetarias a familiares de reclusos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Licencias por fallecimiento; Licencias por maternidad (seis meses para trabajadoras asalariadas formales o empleadas públicas); 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Salario familiar (para trabajadores con salario inferior a 1,5salario mínimo por mes).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1800" indent="-180360">
              <a:lnSpc>
                <a:spcPct val="80000"/>
              </a:lnSpc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34949"/>
                </a:solidFill>
                <a:latin typeface="Franklin Gothic Medium"/>
              </a:rPr>
              <a:t>El monto total del gasto en prestaciones previsionales urbanas y rurales totalizó R$ 316 mil millones (o USD 158 mil millones) en 2012</a:t>
            </a:r>
            <a:r>
              <a:rPr b="0" lang="es-ES" sz="2400" spc="-1" strike="noStrike">
                <a:solidFill>
                  <a:srgbClr val="534949"/>
                </a:solidFill>
                <a:latin typeface="Franklin Gothic Medium"/>
              </a:rPr>
              <a:t>. 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PREVISIÓN SOCIAL (2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Franklin Gothic Medium"/>
              </a:rPr>
              <a:t>BENEFICIARIOS DE LA PREVISIÓN SOCIAL (URBANO Y RURAL EN MILES): 2005-2012 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8" name="chart" descr=""/>
          <p:cNvPicPr/>
          <p:nvPr/>
        </p:nvPicPr>
        <p:blipFill>
          <a:blip r:embed="rId1"/>
          <a:stretch/>
        </p:blipFill>
        <p:spPr>
          <a:xfrm>
            <a:off x="325440" y="1714680"/>
            <a:ext cx="928692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50920" y="1628280"/>
            <a:ext cx="86421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seguro por desempleo tiene carácter contributivo y se destina a los trabajadores  asalariados formales en casos de despidos sin justa causa cuando los mismos realizaron aportes regulares al sistema durante por lo menos dos años;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cálculo de la suma a percibir en concepto de seguro por desempleo se realiza sobre la base del sueldo por mes del último vínculo laboral del trabajador;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beneficio se extiende por hasta nueve meses;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xisten algunas categorías de trabajadores autónomos con actividad laboral por temporadas como los pescadores artesanales que pueden solicitar el seguro por desempleo durante los meses de reducción de la producción.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monto del gasto en los seguros por desempleo totalizó R$ 39mil 900 millones o USD 19,95mil millones en 2012 (ANFIP, 2013).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Franklin Gothic Medium"/>
              </a:rPr>
              <a:t>SEGURO POR DESEMPLEO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1655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>
              <a:lnSpc>
                <a:spcPct val="80000"/>
              </a:lnSpc>
              <a:spcBef>
                <a:spcPts val="524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Prestación pública gratuita en todos los niveles de complexidad;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80000"/>
              </a:lnSpc>
              <a:spcBef>
                <a:spcPts val="524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Financiación por medio de los impuestos y tasas a nivel nacional que inciden sobre el consumo, con contribuciones de la recaudación fiscal de los estados (13%) y municipalidades (15%);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Todos los años el gobierno de la Nación debe considerar lo presupuestado en el año anterior, con valores ajustados de acuerdo con la variación nominal del PIB del año anterior.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534949"/>
                </a:solidFill>
                <a:latin typeface="Franklin Gothic Medium"/>
              </a:rPr>
              <a:t>El monto del gasto en salud totalizó R$ 80 mil millones o USD 40 mil millones  en 2012 (ANFIP, 2013). 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534949"/>
                </a:solidFill>
                <a:latin typeface="Franklin Gothic Medium"/>
              </a:rPr>
              <a:t>La transferencia de recursos federales son destinadas a las acciones y servicios de salud: (1) Atención Básica; 2) Atención de Media y  Alta Complejidad  Ambulatoria y Hospitales; 3) Vigilancia en Salud; 4) Asistencia Farmacéutica; 5) Gestión del SUS; y 6) Inversiones em la Red de Servicios de Salud.</a:t>
            </a: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80000"/>
              </a:lnSpc>
              <a:spcBef>
                <a:spcPts val="524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Franklin Gothic Medium"/>
              </a:rPr>
              <a:t>SALUD: </a:t>
            </a:r>
            <a:r>
              <a:rPr b="0" lang="es-ES_tradnl" sz="3600" spc="-1" strike="noStrike">
                <a:solidFill>
                  <a:srgbClr val="ffffff"/>
                </a:solidFill>
                <a:latin typeface="Franklin Gothic Medium"/>
              </a:rPr>
              <a:t>DERECHO</a:t>
            </a:r>
            <a:r>
              <a:rPr b="0" lang="pt-BR" sz="3600" spc="-1" strike="noStrike">
                <a:solidFill>
                  <a:srgbClr val="ffffff"/>
                </a:solidFill>
                <a:latin typeface="Franklin Gothic Medium"/>
              </a:rPr>
              <a:t> UNIVERSAL 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Chart 6" descr=""/>
          <p:cNvPicPr/>
          <p:nvPr/>
        </p:nvPicPr>
        <p:blipFill>
          <a:blip r:embed="rId1"/>
          <a:stretch/>
        </p:blipFill>
        <p:spPr>
          <a:xfrm>
            <a:off x="317520" y="1768320"/>
            <a:ext cx="8832960" cy="50706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-19440"/>
            <a:ext cx="8229600" cy="18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Franklin Gothic Medium"/>
              </a:rPr>
              <a:t>GASTO CON ACCIONES Y SERVICIOS </a:t>
            </a:r>
            <a:r>
              <a:rPr b="0" lang="pt-BR" sz="2400" spc="-1" strike="noStrike">
                <a:solidFill>
                  <a:srgbClr val="ffffff"/>
                </a:solidFill>
                <a:latin typeface="Franklin Gothic Medium"/>
              </a:rPr>
              <a:t>PÚBLICOS DE </a:t>
            </a:r>
            <a:r>
              <a:rPr b="0" lang="es-ES_tradnl" sz="2400" spc="-1" strike="noStrike">
                <a:solidFill>
                  <a:srgbClr val="ffffff"/>
                </a:solidFill>
                <a:latin typeface="Franklin Gothic Medium"/>
              </a:rPr>
              <a:t>SALUD:  TOTAL Y POR NIVEL DE GOBIERNO (2000-2011). EN R$ MIL MILLONES DE 2011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Espaço Reservado para Conteúdo 3" descr=""/>
          <p:cNvPicPr/>
          <p:nvPr/>
        </p:nvPicPr>
        <p:blipFill>
          <a:blip r:embed="rId1"/>
          <a:stretch/>
        </p:blipFill>
        <p:spPr>
          <a:xfrm>
            <a:off x="244440" y="1620720"/>
            <a:ext cx="8582040" cy="49816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Franklin Gothic Medium"/>
              </a:rPr>
              <a:t>EVOLUCIÓN DEL GASTO FEDERAL PER CÁPITA EN SALUD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9:36:38Z</dcterms:created>
  <dc:creator>Ana</dc:creator>
  <dc:description/>
  <dc:language>en-US</dc:language>
  <cp:lastModifiedBy>Francesco Maria FMC. Chiodi</cp:lastModifiedBy>
  <dcterms:modified xsi:type="dcterms:W3CDTF">2013-08-29T08:59:52Z</dcterms:modified>
  <cp:revision>146</cp:revision>
  <dc:subject/>
  <dc:title>Sistema de Protección Social en Brasil</dc:title>
</cp:coreProperties>
</file>