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379-578E-4E32-B17F-76E0DFA9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D6D-B442-4058-B1EA-F2A1CAC3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BEDED-2971-4CB9-AA88-444B7695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99538-3918-493A-AE8F-D84E4284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81C57-EA87-436B-BD65-5195CCE8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FA38A-602E-4F04-A6B2-C1D6778F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40FA5-6CAE-41C0-A507-3C43EC6A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D5C0B-0281-4274-A890-67582366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305A7-7193-4A98-99DE-236468BB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9622E-515F-4232-BC6B-E14450B2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F4FF7-FA06-411D-BA7F-C6F9F246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5ADEA-433C-4232-9AAC-2C4EAF10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C36-4224-4E74-8F60-67BC51F8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3B9CB-1C58-43A6-AEE0-309CCCFD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BA334-08D7-4782-BCAB-372CE328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82933-1BD1-43AA-B7E8-AB355683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88CC2-88B6-4634-9434-C34D3106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27506-4DF7-4438-B1C9-DB0F101F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6A733-4874-4F76-89C2-7926A025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D5A0E-2ED4-457F-A78D-AFB68CC2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C60C7-B9B6-4D17-A08E-82BEE9D1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0AA2E-ADF2-4456-AA6D-8F71844E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4F052-E67E-4D06-8C70-0F7E40D3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5AD-D5D3-4FB5-81E1-0B3269FC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8FA87-02BF-443D-AFCD-A9C34AAF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531FB-8E7F-4226-BA6F-7F3686E2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89EAD-5441-4293-BB81-509B93F1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7F603-F2F8-4B3B-969C-5CD05232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339FA-44B0-40CC-8B24-43AD5874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4B0FA-7522-4029-83E2-AB7CDEDC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41929-061F-4913-9D25-87ADF30B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CA596-7E60-4CCC-A745-6573A939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33156-EC19-45FC-8D3F-E3AA6606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BD190-409E-45FE-9841-FF735136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20FC-07CB-48BB-84F2-CBD86B30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0B8F2-D112-441F-BAA1-D8F29413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C7DA2-A9A4-4A46-A384-9F2B6CE2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A7BC9-34FD-4899-9EAC-0434CD77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7CBB9-74F4-4EEA-932C-7C3DAB97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20547-16DC-498B-ACB5-AC9E5648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E5054-E5B0-4189-957D-9017BB01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6D474-A16E-4A62-8342-AB340630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67A74-D2AF-4542-8181-668D6C61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24C1B-C5D7-49E0-A25A-4947FE84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33260-4220-41F7-B2D9-5DF702C0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5489-F8AE-48F7-80D2-4DDFADAF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DEB5F-F6D9-4084-A81F-363C04A4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7EBC0-6D4D-4682-BE24-F0C556A9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A4CAD-9D4F-43DF-A99A-253DFAE1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A779C-0FA2-4F71-9718-5F1F721A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E13E2-A5E4-4327-AEB0-BC2B3094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D7A5-45D7-4F97-8655-00C90624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0233-5B9D-4B18-B691-FDA2E5B9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ED81-E177-4A91-BAAF-45C25148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9E10-F500-4306-BA52-2E2B25F3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4613-04FD-4893-9EC7-2554DEC2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44A-3B0D-44A7-B88A-D36525AB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9203-B160-4C9C-94F4-A2A8D156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1406-8EF5-4E0B-A6B8-4BC79605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54D-26A9-4655-A7A9-D2D1668F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08AB-B6D7-4CBC-A867-42ED3888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9982-7BD2-4724-B94B-AB6F5C5B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6BA5-CA10-43D0-85E2-520A83BC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D616-A695-4539-85D3-F49A23A5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7A586-C0AC-40F7-9F3A-2A0688D1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ED9B3-1B8E-47FD-88DD-46C5F77F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B8785-28FC-4D20-B8A5-97FCACA9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F75-CCBA-414C-A8AE-1850AF6B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CAC7-7E7A-4BFC-AA65-BD69A44F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8625-4450-4784-B2AD-8FA38EED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4841-8011-45EF-AB62-FD38CE4E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8380-01D2-47F6-873B-32168C07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C648C-9FF5-4091-BC6A-22DC419D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B125-874D-4337-A204-E7A40481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C060-D4CB-4563-B147-1CEBB5C6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FEB02-91A3-4994-B175-AA260A4D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E2306-8358-4693-83BB-D2FE064F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DE905-FFC5-4D40-8362-BEC26D3D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B44-DC9D-4C11-B91C-0F43C74D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F4EE-112E-435D-AA3A-4A74C276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5191-8525-4A77-91D8-BA2FFAC0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A109-519C-4AAD-875F-6D759C89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1CF7-09EC-4D93-89AB-9E7BCFB2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2C41C-E24B-4622-B532-F278201C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A851-C75A-4C29-9AD7-691E6AD3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EB8A-C8F7-4C4C-B990-942A2106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6F945-D449-4DFF-861C-E7ED5C33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C908-8DD7-408C-AE70-6DF6F97E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EDFBB-474A-4421-9AD7-B86BFA3F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AAE-01D8-4091-9E7F-4A6D646F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26F29-C3D2-4CA6-8C51-E56F2D2E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38FD3-9065-4320-A264-B76EE206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E3D49-6EDF-44B5-884F-3A2349EE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F9F6B-33C0-49DF-8342-9F128CDD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6D322-2989-4DED-B36A-DDE94EB1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F470B-651A-4C4C-9049-B6EEB9A4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63D9C-3804-4F6D-9456-CF33F8E0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19DF7-48A0-471B-87C3-F35D228C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7AAC-9976-4EC7-8524-05C827CA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DCF1D-5120-4253-9812-58A943AF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2C3-278A-45B7-905C-4B7FC7A0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9DCD-A2BB-4860-B6D0-00783060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AD8F7-BFDD-4D01-B09F-3894CBFF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C8180-9806-4CE2-9EB7-F9894EC8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6118A-6E1E-4E3F-BD4B-576B0B39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B3283-89C7-4F48-A4D6-F62CCC59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CFE37-951E-4CC1-8085-889FCCAA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4821F-63AC-4573-B636-55A0E2F8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0DEDC-D660-42DC-A31B-9B8405DB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92ECC-7987-4B4B-A47B-62FE07DB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93C74-FCE7-4C84-B4CB-161F8DA8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1D6-E7F8-43FA-885E-175ADE6F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D8FDC-FF88-4A4E-BEF4-11CEE02D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CFA40-C3E4-4D30-A243-87DC16B5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03BFD-08DC-4882-B89A-8DDEF82D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6E287-02C5-49B2-A2B6-99F55454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5D479-6A13-499E-B4A3-62145B98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43019-BD36-4A39-93BD-AB48BD0F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E44A6-E4B7-4F8D-916F-CEC61A1E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A2D2E-1ABC-4A87-BE8E-6E90E4F2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BA189-6C4F-47EC-86BB-3D00AC5E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2EA40-15AB-4987-8613-352A2916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866-480F-4CCA-BE19-879E4729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5B4E0-FA2E-40C1-9ED7-9EEA3152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63EF1-DA61-4052-AE79-F4A08EF6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DB038-247C-4A16-BDAB-EC68BAA3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BCA3B-BE0D-4C65-A3EE-5F99A767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1B527-75F9-4D1D-8833-BD93FA61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D6F30-5B3D-4F4F-BF3A-3A601D07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8624A-549C-460F-9229-21E8EDEE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6416F-08F2-467C-9988-7AD05A2D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A65EF-DB98-44E1-AE0B-A01700DE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1068B-BF6F-4222-9CB5-972FC111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9AD-A4AB-4858-9D3F-1BE39EB6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0946A-FE65-40EE-B3B3-54E76239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CD2BB-8629-4800-AA33-D30FC51F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96A3E-47F8-47E9-B992-71A31EC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AD3EA-EA97-4011-A168-0723546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26763-E034-4DDF-AD52-D1F6DD84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5766D-6D17-48C1-A1D2-0F95FC9D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D49E6-7428-4F13-BAC7-E8B5134E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5619B-3FC5-4687-B802-1E677DEA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781FB-B574-455B-80FB-C10091B9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4D194-47EA-4BB0-B63A-D79029B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E810-9404-4EF2-B7AD-F2B9C5C564A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01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91B1-E586-4B3B-B8A3-873C270AFF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45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BD95-5AE5-46D3-829B-BA28137DE6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9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F296-188C-4ECE-BAE8-17ACBC5492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6" descr="LOGO CE-EN-quadri.eps"/>
          <p:cNvPicPr/>
          <p:nvPr/>
        </p:nvPicPr>
        <p:blipFill>
          <a:blip r:embed="rId4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4674-AE77-4CE1-9DB4-DDDB83DEFF1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E173-4584-44A6-BCB3-C27E5C978E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7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32E9-12D4-47E8-BBD5-E5A3ACC721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1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1801-03EA-4B20-A710-BEC636EC7F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A102-E054-4728-A7D2-D762A5BDFF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69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3E12-9814-4298-8435-14C3EF5D31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13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AB3C-3ADA-4C48-8B9A-EF95E3DF3D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57" name="Picture 17" descr="LOGO CE_Vertical_EN_NEG_quadri_HR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F77B-57A4-4B31-8B72-0D557B2D9A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565360"/>
            <a:ext cx="8209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800" spc="-1" strike="noStrike">
                <a:solidFill>
                  <a:srgbClr val="ffd624"/>
                </a:solidFill>
                <a:latin typeface="Verdana"/>
              </a:rPr>
              <a:t>Oportunidades para el desarrollo territorial inclusivo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10920" y="371628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Verdana"/>
              </a:rPr>
              <a:t>Gerhard Kovatsch, Cooperación Norte-Su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f5494"/>
                </a:solidFill>
                <a:latin typeface="Verdana"/>
              </a:rPr>
              <a:t>Desarrollo inclusivo  tiene que ver con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recimiento equitativo (distribución de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ingreso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Gobernanza inclusiva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Desarrollo territorial equitativ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mpleo productivo (trabajo decent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rotección soci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•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cceso a servicios básicos (salud, educación,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finanzas, infraestructura) prestados con  base 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n un sistema equitativo fisc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trategias  DEL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rticulación de actores públicos y privad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Desarrollo de capacidades, formación de equip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(Ojo: ≠ capacitación en nuevos perfiles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oncertación, Planificación territoria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cceso a insumos, equipos, servicios financieros y materi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Servicios técnicos, información, investigación, mercados de tecnología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trategias DEL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romoción de la asociatividad  gremial, cooperativa y comunitaria (territorial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edes  empresariales horizont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edes/Articulación vertic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edes territoria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Cooperativa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Cadenas de valo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Polos territoria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Otras expresiones organizativas : Consorci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trategias 3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Inversion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(Facilitación  de articulación con) mercado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Mercados municipal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Mercados /centros turístico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Ferias locales, nacionales, internaciona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edes de comercializació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Comercio just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Ruedas de negocio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trategias  4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Laboratorios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Pilotaje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Replicas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Multiplicación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200" spc="-1" strike="noStrike">
                <a:solidFill>
                  <a:srgbClr val="0f5494"/>
                </a:solidFill>
                <a:latin typeface="Verdana"/>
              </a:rPr>
              <a:t>Masificación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La articulación de los actores 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„</a:t>
            </a: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Innovaciones sociales“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Ejemplo CIDEL de Masaya (Consorcio Intermunicipal de Desarrollo Económico Local)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Cuando actores cambian el rol y la función a expresiones institucionales.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7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NI" sz="2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755640" y="2133720"/>
            <a:ext cx="7632720" cy="3887640"/>
            <a:chOff x="755640" y="2133720"/>
            <a:chExt cx="7632720" cy="3887640"/>
          </a:xfrm>
        </p:grpSpPr>
        <p:sp>
          <p:nvSpPr>
            <p:cNvPr id="563" name="AutoShape 5"/>
            <p:cNvSpPr/>
            <p:nvPr/>
          </p:nvSpPr>
          <p:spPr>
            <a:xfrm>
              <a:off x="755640" y="2133720"/>
              <a:ext cx="7632720" cy="3887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4" name="Text Box 6"/>
            <p:cNvSpPr/>
            <p:nvPr/>
          </p:nvSpPr>
          <p:spPr>
            <a:xfrm>
              <a:off x="1550520" y="3079440"/>
              <a:ext cx="572508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mité de Dirección del Programa DEL-Masaya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5" name="Text Box 7"/>
            <p:cNvSpPr/>
            <p:nvPr/>
          </p:nvSpPr>
          <p:spPr>
            <a:xfrm>
              <a:off x="1073160" y="2238480"/>
              <a:ext cx="159012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operación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ustriaca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6" name="Text Box 8"/>
            <p:cNvSpPr/>
            <p:nvPr/>
          </p:nvSpPr>
          <p:spPr>
            <a:xfrm>
              <a:off x="2981880" y="3709440"/>
              <a:ext cx="3020760" cy="105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Times New Roman"/>
                </a:rPr>
                <a:t>Unidad técnica /INS 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Fortalecimiento Institucion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Servicios Financieros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operación Empresarial Desarrollo Empresari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7" name="Text Box 9"/>
            <p:cNvSpPr/>
            <p:nvPr/>
          </p:nvSpPr>
          <p:spPr>
            <a:xfrm>
              <a:off x="2981880" y="2238480"/>
              <a:ext cx="127152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INPYME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8" name="Text Box 10"/>
            <p:cNvSpPr/>
            <p:nvPr/>
          </p:nvSpPr>
          <p:spPr>
            <a:xfrm>
              <a:off x="4572360" y="2238480"/>
              <a:ext cx="158904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MUDEMA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69" name="Text Box 11"/>
            <p:cNvSpPr/>
            <p:nvPr/>
          </p:nvSpPr>
          <p:spPr>
            <a:xfrm>
              <a:off x="6639120" y="2238480"/>
              <a:ext cx="1112760" cy="42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Grupo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eta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0" name="Text Box 12"/>
            <p:cNvSpPr/>
            <p:nvPr/>
          </p:nvSpPr>
          <p:spPr>
            <a:xfrm>
              <a:off x="1550520" y="5180400"/>
              <a:ext cx="143136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mité Desarrollo Municip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1" name="Text Box 13"/>
            <p:cNvSpPr/>
            <p:nvPr/>
          </p:nvSpPr>
          <p:spPr>
            <a:xfrm>
              <a:off x="3777120" y="5180400"/>
              <a:ext cx="127152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Unidad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Técnica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unicip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2" name="Text Box 14"/>
            <p:cNvSpPr/>
            <p:nvPr/>
          </p:nvSpPr>
          <p:spPr>
            <a:xfrm>
              <a:off x="5843880" y="5180400"/>
              <a:ext cx="142920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misión Municipal MIPYME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3" name="AutoShape 15"/>
            <p:cNvSpPr/>
            <p:nvPr/>
          </p:nvSpPr>
          <p:spPr>
            <a:xfrm rot="16200000">
              <a:off x="4387320" y="-549720"/>
              <a:ext cx="209520" cy="6837840"/>
            </a:xfrm>
            <a:custGeom>
              <a:avLst/>
              <a:gdLst>
                <a:gd name="textAreaLeft" fmla="*/ 133920 w 209520"/>
                <a:gd name="textAreaRight" fmla="*/ 209880 w 209520"/>
                <a:gd name="textAreaTop" fmla="*/ 178200 h 6837840"/>
                <a:gd name="textAreaBottom" fmla="*/ 6659640 h 683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4" name="AutoShape 16"/>
            <p:cNvSpPr/>
            <p:nvPr/>
          </p:nvSpPr>
          <p:spPr>
            <a:xfrm>
              <a:off x="6161760" y="3604680"/>
              <a:ext cx="318600" cy="1261080"/>
            </a:xfrm>
            <a:custGeom>
              <a:avLst/>
              <a:gdLst>
                <a:gd name="textAreaLeft" fmla="*/ 203760 w 318600"/>
                <a:gd name="textAreaRight" fmla="*/ 318960 w 318600"/>
                <a:gd name="textAreaTop" fmla="*/ 32760 h 1261080"/>
                <a:gd name="textAreaBottom" fmla="*/ 1228320 h 126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5" name="AutoShape 17"/>
            <p:cNvSpPr/>
            <p:nvPr/>
          </p:nvSpPr>
          <p:spPr>
            <a:xfrm rot="10800000">
              <a:off x="2504520" y="3604320"/>
              <a:ext cx="317520" cy="126108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32760 h 1261080"/>
                <a:gd name="textAreaBottom" fmla="*/ 1228320 h 126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6" name="Text Box 18"/>
            <p:cNvSpPr/>
            <p:nvPr/>
          </p:nvSpPr>
          <p:spPr>
            <a:xfrm>
              <a:off x="6639120" y="3604680"/>
              <a:ext cx="1431360" cy="12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SOCIO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MIFIC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INIFOM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PASE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CPML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ONUDI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RENICC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" sz="1000" spc="-1" strike="noStrike">
                  <a:solidFill>
                    <a:srgbClr val="000000"/>
                  </a:solidFill>
                  <a:latin typeface="Times New Roman"/>
                </a:rPr>
                <a:t>Otros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7" name="Text Box 19"/>
            <p:cNvSpPr/>
            <p:nvPr/>
          </p:nvSpPr>
          <p:spPr>
            <a:xfrm>
              <a:off x="914040" y="3709440"/>
              <a:ext cx="1590120" cy="105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ONDEMA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rticulación/ participación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esa PYME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8" name="AutoShape 20"/>
            <p:cNvSpPr/>
            <p:nvPr/>
          </p:nvSpPr>
          <p:spPr>
            <a:xfrm rot="5400000">
              <a:off x="4230000" y="1550880"/>
              <a:ext cx="208800" cy="6837840"/>
            </a:xfrm>
            <a:custGeom>
              <a:avLst/>
              <a:gdLst>
                <a:gd name="textAreaLeft" fmla="*/ 133560 w 208800"/>
                <a:gd name="textAreaRight" fmla="*/ 209160 w 208800"/>
                <a:gd name="textAreaTop" fmla="*/ 178200 h 6837840"/>
                <a:gd name="textAreaBottom" fmla="*/ 6659640 h 683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579" name="Line 21"/>
            <p:cNvSpPr/>
            <p:nvPr/>
          </p:nvSpPr>
          <p:spPr>
            <a:xfrm>
              <a:off x="4253760" y="3394080"/>
              <a:ext cx="0" cy="3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Roles predefinidos 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Institucionalización del Desrrollo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La  CIDEL como Institución creada y o inducida por la Cooperación 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La  CIDEL como correo de política  nacional en el territorio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La  CIDEL  como expresión institucionalizada  del desarrollo económico local de los municipios de Masaya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f5494"/>
                </a:solidFill>
                <a:latin typeface="Verdana"/>
              </a:rPr>
              <a:t>Relaciones efectivas entre los actor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Las municipalidades y los MIPY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pagar impuestos  versus  fomento MIPYMES,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asignación de crédito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Comisiones mixtas a nivel de municipio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de-DE" sz="2400" spc="-1" strike="noStrike">
                <a:solidFill>
                  <a:srgbClr val="0f5494"/>
                </a:solidFill>
                <a:latin typeface="Verdana"/>
              </a:rPr>
              <a:t>Consorcio (paridad Alcaldías, empresarias/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7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de-AT" sz="2700" spc="-1" strike="noStrike">
                <a:solidFill>
                  <a:srgbClr val="0f5494"/>
                </a:solidFill>
                <a:latin typeface="Verdana"/>
              </a:rPr>
              <a:t>Articulación (institucional)  Local- Nacional –Global 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La articulación entre lo sectorial y lo territorial, gobierno central y municipios /regiones,  relaciones horizontales y verticales, políticas de escala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La dimensión internacional, transnacional (ejemplos específicos tranfronterizos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(Alianzas DR-CAFTA, AdA-Integración Centroamericana, ALBA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000" spc="-1" strike="noStrike">
                <a:solidFill>
                  <a:srgbClr val="0f5494"/>
                </a:solidFill>
                <a:latin typeface="Verdana"/>
              </a:rPr>
              <a:t>Cooperación Norte-Sur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Cooperación = Interacción recíproc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No llevamos el „desarrollo“ en nuestro nombre y filosofí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Nuestros campos de cooperación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- Educación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- Economía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- Fortalecimento organizacional e institucional,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- Cultura(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f5494"/>
                </a:solidFill>
                <a:latin typeface="Verdana"/>
              </a:rPr>
              <a:t>Alianza con la </a:t>
            </a:r>
            <a:r>
              <a:rPr b="1" i="1" lang="de-AT" sz="2000" spc="-1" strike="noStrike">
                <a:solidFill>
                  <a:srgbClr val="0f5494"/>
                </a:solidFill>
                <a:latin typeface="Verdana"/>
              </a:rPr>
              <a:t>UIM (Unión Iberoamericana de Municipalista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f5494"/>
                </a:solidFill>
                <a:latin typeface="Verdana"/>
              </a:rPr>
              <a:t>Articulación:  actores internos y  externos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oblación autóctona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Foráneo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xtranjero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Migrante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ertinencia e identidad, migraciones, interculturalidad y transculturalización,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Relaciones efectiva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Relaciones  con reciprocidad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laboración y reconocimiento mutuo de role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Base sobre la cual se pueden edificar medidas en pro del desarrollo inclusivo, pueden ser elementos „desencadenantes“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Mecanismos de comunicación y de cooperación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coplamientos a mecanismos y articulaciones existent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ero ..estas relaciones pueden entrar en crisi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Aprendizaj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200" spc="-1" strike="noStrike">
                <a:solidFill>
                  <a:srgbClr val="0f5494"/>
                </a:solidFill>
                <a:latin typeface="Verdana"/>
              </a:rPr>
              <a:t>La (re-)asignación y el reconocimiento mutuo de rol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200" spc="-1" strike="noStrike">
                <a:solidFill>
                  <a:srgbClr val="0f5494"/>
                </a:solidFill>
                <a:latin typeface="Verdana"/>
              </a:rPr>
              <a:t>La Cooperación un actor entre varios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200" spc="-1" strike="noStrike">
                <a:solidFill>
                  <a:srgbClr val="0f5494"/>
                </a:solidFill>
                <a:latin typeface="Verdana"/>
              </a:rPr>
              <a:t>Los demás también siguen sus  estrategia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200" spc="-1" strike="noStrike">
                <a:solidFill>
                  <a:srgbClr val="0f5494"/>
                </a:solidFill>
                <a:latin typeface="Verdana"/>
              </a:rPr>
              <a:t>Lo formal y lo informal, no todo se comunica a todos 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Aprendizaj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Contextualizarse, participar en los procesos territoriales  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Inmersió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Capacidad de atender actores muy diversos (flexibilidad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Mayor capacidad de auto-reflex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Aprendizaj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500" spc="-1" strike="noStrike">
                <a:solidFill>
                  <a:srgbClr val="0f5494"/>
                </a:solidFill>
                <a:latin typeface="Verdana"/>
              </a:rPr>
              <a:t>Contra posiciones ego-centristas - la concepción  de programas y proyectos desde posiciones demiúrgicas (omnipotentes, omniscientes)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500" spc="-1" strike="noStrike">
                <a:solidFill>
                  <a:srgbClr val="0f5494"/>
                </a:solidFill>
                <a:latin typeface="Verdana"/>
              </a:rPr>
              <a:t>Nuevos diálogos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500" spc="-1" strike="noStrike">
                <a:solidFill>
                  <a:srgbClr val="0f5494"/>
                </a:solidFill>
                <a:latin typeface="Verdana"/>
              </a:rPr>
              <a:t>Cómo aprendemos?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60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437796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f5494"/>
                </a:solidFill>
                <a:latin typeface="Calibri"/>
              </a:rPr>
              <a:t>Contacto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f5494"/>
                </a:solidFill>
                <a:latin typeface="Calibri"/>
              </a:rPr>
              <a:t>Managua, Nicaragua: dela rotonda Rúben darío 1 c al sur 1 ½ c. Abajo. ++505 2270 6002, 22706022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f5494"/>
                </a:solidFill>
                <a:latin typeface="Calibri"/>
              </a:rPr>
              <a:t>Viena, Austria: Cooperación Norte-Sur (CONS); Sechshauserstrasse 68-70, 1150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f5494"/>
                </a:solidFill>
                <a:latin typeface="Calibri"/>
              </a:rPr>
              <a:t>++43 699 17840841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99" name="Bild 3" descr="&quot;logo-1.jpg"/>
          <p:cNvPicPr/>
          <p:nvPr/>
        </p:nvPicPr>
        <p:blipFill>
          <a:blip r:embed="rId1"/>
          <a:stretch/>
        </p:blipFill>
        <p:spPr>
          <a:xfrm>
            <a:off x="2330280" y="1989000"/>
            <a:ext cx="45165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xperiencias de referencia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ooperaciones en CA en los últimos 30 a</a:t>
            </a: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ñ</a:t>
            </a: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o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Cambian las  políticas,  los enfoques  y las                            convicción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Experiencias de Nicaragua, El Salvador y Guatemal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Enfásis en desarrollo territorial desde los gobiernos loca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Fomento de derechos indígenas, trabajo con migrantes en Austria  („Integración“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f5494"/>
                </a:solidFill>
                <a:latin typeface="Verdana"/>
              </a:rPr>
              <a:t>Docencia en Universidades: filosofía política </a:t>
            </a: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  </a:t>
            </a: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spacios, territorio 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68000" y="234936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omo seres físicos necesitamos espacios -públicos y privados - para vivir, trabajar, producir y hacer política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Límites, fronteras, soberanía, dominio sobre un territorio - supranacional,  nacional,  subnacional, o loca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La presencia del estado en el territori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Articular lo sectorial y lo territorial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Qué es desarrollo inclusiv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≠ </a:t>
            </a: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crecimiento inclusiv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f5494"/>
                </a:solidFill>
                <a:latin typeface="Verdana"/>
              </a:rPr>
              <a:t>Referencia al bienestar (Educación, Salud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f5494"/>
                </a:solidFill>
                <a:latin typeface="Verdana"/>
              </a:rPr>
              <a:t>A la distribución de ingresos y otros   bienes/valore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f5494"/>
                </a:solidFill>
                <a:latin typeface="Verdana"/>
              </a:rPr>
              <a:t>Se opone a la exclusión en el ámbito político, económico, social, cultural, de género …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Libertad y mayores opcion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1" lang="es-NI" sz="2000" spc="-1" strike="noStrike">
                <a:solidFill>
                  <a:srgbClr val="0f5494"/>
                </a:solidFill>
                <a:latin typeface="Verdana"/>
              </a:rPr>
              <a:t>I como proceso y resultad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Exclusión    Inclusión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xclusión de persona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xclusión de territorio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Mecanismos de exclusió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Políticas y medidas de inclusió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ohesión social: „pega“ que junta y une  los grupos social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El problema no es sólo económic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Inclusión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Inclusión= participación política y oportunidades de trabajo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Hay excluidos que no quieren  participar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Participar- ser parte y </a:t>
            </a:r>
            <a:r>
              <a:rPr b="0" i="1" lang="es-NI" sz="2400" spc="-1" strike="noStrike" u="sng">
                <a:solidFill>
                  <a:srgbClr val="0f5494"/>
                </a:solidFill>
                <a:uFillTx/>
                <a:latin typeface="Verdana"/>
              </a:rPr>
              <a:t>tener part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Cambiar a los excluidos  o a la sociedad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Desarrollo : enfoqu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f5494"/>
                </a:solidFill>
                <a:latin typeface="Verdana"/>
              </a:rPr>
              <a:t>Centrado en los mercados 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f5494"/>
                </a:solidFill>
                <a:latin typeface="Verdana"/>
              </a:rPr>
              <a:t>Centrado en las personas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f5494"/>
                </a:solidFill>
                <a:latin typeface="Verdana"/>
              </a:rPr>
              <a:t>Enfoque de medios de vida sostenibl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f5494"/>
                </a:solidFill>
                <a:latin typeface="Verdana"/>
              </a:rPr>
              <a:t>Enfoque basado en derechos</a:t>
            </a:r>
            <a:r>
              <a:rPr b="0" i="1" lang="de-AT" sz="4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4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f5494"/>
                </a:solidFill>
                <a:latin typeface="Verdana"/>
              </a:rPr>
              <a:t>Desarrollo inclusivo : grupos meta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Los/as pobres  Los/as excluidos/a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Los/as empresarios/as de la MIPYME,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Jóvenes </a:t>
            </a: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s-NI" sz="2400" spc="-1" strike="noStrike">
                <a:solidFill>
                  <a:srgbClr val="0f5494"/>
                </a:solidFill>
                <a:latin typeface="Verdana"/>
              </a:rPr>
              <a:t>desempleados, “en riesgo”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f5494"/>
                </a:solidFill>
                <a:latin typeface="Verdana"/>
              </a:rPr>
              <a:t>La población del territorio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Gerardo</cp:lastModifiedBy>
  <dcterms:modified xsi:type="dcterms:W3CDTF">2013-06-12T12:39:32Z</dcterms:modified>
  <cp:revision>94</cp:revision>
  <dc:subject/>
  <dc:title>Slide 1</dc:title>
</cp:coreProperties>
</file>