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605-12A2-4773-BB85-623AF278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CE8-E7C8-4CDB-BC86-FC163412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DD8DE-3E65-42F2-97F7-E491CB97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DC62C-1DD7-4CA0-880A-C0EEAFA4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1A5FA-949B-4F37-B1CE-3A686CBE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2814B-3B33-4E85-B5F1-6EA1E612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F698B-0639-465E-A682-546294E4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669B3-1991-4330-826A-81CDF4FB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62624-AFEA-4A94-AA25-4884DC1F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C7318-82E8-4899-B449-53F2F1B8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E5E79-F684-4449-96A8-6BAC127D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A7422-7E77-4E24-BD7C-CC8AC4FB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6A5-C1F3-4E7A-922F-FB1D7EDF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C12CF-B8F9-4E3A-89E7-1687DC0A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38440-1998-42A8-8999-8E3EF14F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DAB68-1257-4A90-824E-830E8DF2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73825-ABA4-4704-9160-D9434059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BD993-4DC2-4EF8-87B5-14281995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D8486-B0E5-4FE5-B313-9D342E92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765EE-DCCB-4619-88E2-C1F884FF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0B31D-CCD2-4D10-9698-ABF43E56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D1C1E-FD24-4318-9B36-2DADD8A1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412EA-34BA-480E-B9EC-04987617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A41-5A17-429E-B238-95FF045D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F7CDD-415B-49AD-A1E4-1C8B92AA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FB858-B8E9-4145-873A-B29D8072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56620-4A38-4139-B9D2-0DFB0DA1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F6FED-DB00-47B8-A339-725EC5FE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9BADF-688B-4635-925D-834F45F1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42126-F8C8-4643-8B50-0067ADD9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3EE54-3CDD-4AAD-9847-AD90D32F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E2373-5582-4833-A36A-E380B61C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C6AAE-C619-4521-9C9F-1E8B6792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52A1D-9870-4A4F-961D-33382F42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86F1-5649-4492-97AE-12D1FA2F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B7160-C924-4C88-BE56-8322DBE1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D8BEA-FF56-4AF1-8116-33084DF4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C612D-3FC4-4334-80E4-A06CBD57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9A7C0-2BBC-456A-BC32-1A7B3738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BE05F-8F50-4D75-8CC5-032F42CD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9C1DB-3FF0-4191-8EE6-7F561D3D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D01F9-AB43-4E74-9EEF-EB07DF53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FCB56-A9AC-4E41-96BA-C23E6192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383B7-40EC-4627-8E0C-2F848D61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FD60B-BA70-4559-9EE7-B1E87E87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B459-574A-4BA4-9FC0-8D65E60A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8D77E-13AE-4F5A-A258-B24CA7BF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A9A5D-DD57-447A-A643-2F9B9B92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54D1F-7890-4BE6-9861-D5F8351B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226BD-197E-4D6A-970F-08D033E3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5DB2C-A55E-4B1B-9B42-752E4ACF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43A2-0BB1-435D-BF36-926EE84F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DF5E-586A-4298-B359-0A79F63E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4A0D-CC95-41E3-8C43-3F33F7C2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665E-8681-41CC-A68E-C9BF8C5A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B182-6E04-4567-9179-092E22A6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8D2-B66B-4DDA-8C6A-686D216E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046D-CB63-4291-9DC5-0F83FA85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2A31-C734-40B3-A1C6-9CFE849D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0DEA-C4D1-4006-8786-7A58777D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5058-C275-44ED-964E-1639DBDB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1CFA-EDFD-4729-B9FD-AE704578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69FB-E76E-4F96-991B-BA3A5C8B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5D979-E82A-4008-B0DF-F70C94AB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4868D-0497-4C42-9211-87B7B878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A79A-BD32-4073-BE21-220A16B9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29FCB-5074-4AF6-BF3D-E996D178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252-F807-4A09-B260-AFFC3EBE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EB8AD-572F-4838-8F4D-CB7FADBB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961CD-FD9D-4D07-AA2F-54AA88D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DF5B5-0296-4FE6-A565-E7D6ED07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5B0F0-CB9C-4313-9985-8D49F3D9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BAC4-D0BD-41DD-BB0B-F54E5212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44B0F-3792-4FF7-A155-164BF6FA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710DF-A0E8-4BE2-A0E7-69E5EAAB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BD9EE-1487-46CE-891A-D76B6B87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ACE73-E7E6-4D90-9A44-A1BDE953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BE2D8-9334-43E6-9250-2A5A4249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542-A803-4664-BB34-338B0B85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8D318-7EE5-4E35-B550-393E8A0D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1BFEE-9C18-4B12-904C-5FEDD5F8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72E4E-9FA7-4D62-BFF9-C4F6E30D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0FFFE-8D49-4129-8F91-80E4F246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F8C62-2417-4B01-97E8-47779386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63623-08A3-4C70-B28F-98527287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746DF-DC2F-42E2-A0A2-57C7E1ED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84CBB-29B8-4E63-B4A8-AD09F04A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8F3C9-BA26-4DAC-8995-210BDA15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8D82B-C3DF-4224-B1EB-4E03DEFD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976-31BC-4F2D-BF06-E688C9A4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5C6E7-008F-4AF4-BAB0-38EC1350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8093E-0AE5-42CB-A680-776880AF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4BC1D-FAC4-4D9C-8727-3B39E626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FF5A6-3F89-4203-B1A5-DBF7414B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8D5D0-8C24-4E37-8FBD-A68ACE8A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D2A9B-595D-4631-B8DD-D89DB35C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7C5B2-DF36-44B2-8220-00E5424A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97380-9A7A-46A2-980C-528AE71B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72176-C7A4-4E28-9AD3-6F3CA2B7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966E6-894C-4B5F-9A06-145B90BC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F1A-482D-4904-9CAB-CD42DF8E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C29F7-4531-491B-BAF0-CE4FCAA5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E2B45-1A38-435D-AEE2-8BBB559A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3163A-9F65-42E1-86DE-4BD5200C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22E91-D312-47EA-AC57-8B0FAFAE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9468D-8780-4096-A84F-4C314783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F93E7-E571-46DB-9642-9522C144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27394-C089-41F1-A507-2B8BFD9B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E9791-C98E-4D4D-8585-1905DEBC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FF2E7-3182-4554-83BB-B63BD284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82187-F544-41DF-8B1A-E265CDED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697-D532-469B-AEF5-D3D86529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1E180-9A1B-446C-BC5A-2A01B8B3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906B4-FE11-4895-8E92-9C095102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4048A-B286-4149-A553-FE19CBB0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064C1-6505-4C65-B44D-84564843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0D239-EB0F-4755-B2D3-551A67C2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833FD-239B-45CD-885C-C555873F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B963B-2936-4370-9CD3-35F788D7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A063D-4091-4512-A6DD-4446BBAE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7B5F5-FC8E-4978-A199-B13CF4A8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D85B6-B73A-4995-B48E-1F77A375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05D-6F1D-4AF9-BAC1-22D5772E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96495-032E-4B1D-8FD3-9249DE8D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DF9D3-6E32-450F-BC21-9EEC54FF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1E7E2-C56F-4188-8CA7-FC8A0E8E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C21A4-7B7D-4EE8-9116-B3F0DED7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03D51-46AD-400C-A5CC-DB30E60B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D8417-11AB-4308-A3C3-597EF221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BED62-3596-4F7E-ADE4-791D11E2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97E0A-7B15-4FAF-A0D8-22DA8EF0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BA203-8133-4C84-ACD9-60C8A16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1649C-3B7D-4445-82C0-1D0428EB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3B9-45B7-42E0-951A-16AF2B64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007F4-661E-4DEA-A2A1-EEC5CE7A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0AD42-6E1D-4766-BAB0-4F70AAAF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FC784-BA63-4F05-A703-07F21BFE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7F203-1DA3-4CE5-80D2-72A4A921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E2904-19FF-4171-87E3-55E8C719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6AE78-5061-48F4-8606-2F2A8F03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CB8DD-8CBC-4940-BFEF-B59DBDC9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B5EC6-6137-477D-99DC-C1551A2D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D4FD3-35B3-43EB-9A5E-34626C68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5A89E-8DFC-42BD-B62F-C189F5E6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1CB0-A79B-4029-9B90-A086933B8E9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01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6383-DFA1-4D1F-A45F-5CCA49B656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45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9DD2-28A1-4438-8DDE-9EC148FBDC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9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65E7-5BCC-45B5-BD84-83DC692948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6" descr="LOGO CE-EN-quadri.eps"/>
          <p:cNvPicPr/>
          <p:nvPr/>
        </p:nvPicPr>
        <p:blipFill>
          <a:blip r:embed="rId4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3739-2E4F-4E07-8BB5-22E3F045518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CFDF-AAAB-4A9C-A76E-6E08CAD118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7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60C0-EE04-4C84-ACA6-F3E3745DC4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1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DFEB-098E-43BB-8976-5DC14E67CE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9093-1167-4861-8AC3-9A46355876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69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7EEA-123B-46EF-8092-14BBC59FEA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13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4C3F-539D-4F32-9069-1CFE880847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57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2204-AB1C-4B5B-99FE-0B2CBC2FD1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565360"/>
            <a:ext cx="82090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800" spc="-1" strike="noStrike">
                <a:solidFill>
                  <a:srgbClr val="ffd624"/>
                </a:solidFill>
                <a:latin typeface="Verdana"/>
              </a:rPr>
              <a:t>Oportunidades para el desarrollo territorial inclusivo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10920" y="3716280"/>
            <a:ext cx="8064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Verdana"/>
              </a:rPr>
              <a:t>Gerhard Kovatsch, Cooperación Norte-Su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f5494"/>
                </a:solidFill>
                <a:latin typeface="Verdana"/>
              </a:rPr>
              <a:t>Desarrollo inclusivo  tiene que ver con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 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recimiento equitativo (distribución de 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ingreso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Gobernanza inclusiva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 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Desarrollo territorial equitativ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mpleo productivo (trabajo decent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rotección soci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Acceso a servicios básicos (salud, educación, 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finanzas, infraestructura) prestados con  base 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n un sistema equitativo fisc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strategias  DEL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Articulación de actores públicos y privad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Desarrollo de capacidades, formación de equip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(Ojo: ≠ capacitación en nuevos perfiles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oncertación, Planificación territoria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Acceso a insumos, equipos, servicios financieros y materia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Servicios técnicos, información, investigación, mercados de tecnología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strategias DEL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romoción de la asociatividad  gremial, cooperativa y comunitaria (territorial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Redes  empresariales horizonta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Redes/Articulación vertic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Redes territorial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Cooperativ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Cadenas de val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Polos territorial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Otras expresiones organizativas : Consorci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strategias 3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Inversione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(Facilitación  de articulación con) mercado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Mercados municipa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Mercados /centros turístico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Ferias locales, nacionales, internacional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Redes de comercializació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Comercio just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Ruedas de negocio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strategias  4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0f5494"/>
                </a:solidFill>
                <a:latin typeface="Verdana"/>
              </a:rPr>
              <a:t>Laboratorios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0f5494"/>
                </a:solidFill>
                <a:latin typeface="Verdana"/>
              </a:rPr>
              <a:t>Pilotaje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0f5494"/>
                </a:solidFill>
                <a:latin typeface="Verdana"/>
              </a:rPr>
              <a:t>Replicas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0f5494"/>
                </a:solidFill>
                <a:latin typeface="Verdana"/>
              </a:rPr>
              <a:t>Multiplicación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0f5494"/>
                </a:solidFill>
                <a:latin typeface="Verdana"/>
              </a:rPr>
              <a:t>Masificación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La articulación de los actores 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500" spc="-1" strike="noStrike">
                <a:solidFill>
                  <a:srgbClr val="0f5494"/>
                </a:solidFill>
                <a:latin typeface="Verdana"/>
              </a:rPr>
              <a:t>„</a:t>
            </a:r>
            <a:r>
              <a:rPr b="0" i="1" lang="de-AT" sz="2500" spc="-1" strike="noStrike">
                <a:solidFill>
                  <a:srgbClr val="0f5494"/>
                </a:solidFill>
                <a:latin typeface="Verdana"/>
              </a:rPr>
              <a:t>Innovaciones sociales“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500" spc="-1" strike="noStrike">
                <a:solidFill>
                  <a:srgbClr val="0f5494"/>
                </a:solidFill>
                <a:latin typeface="Verdana"/>
              </a:rPr>
              <a:t>Ejemplo CIDEL de Masaya (Consorcio Intermunicipal de Desarrollo Económico Local)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500" spc="-1" strike="noStrike">
                <a:solidFill>
                  <a:srgbClr val="0f5494"/>
                </a:solidFill>
                <a:latin typeface="Verdana"/>
              </a:rPr>
              <a:t>Cuando actores cambian el rol y la función a expresiones institucionales.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7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NI" sz="2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562" name="Group 4"/>
          <p:cNvGrpSpPr/>
          <p:nvPr/>
        </p:nvGrpSpPr>
        <p:grpSpPr>
          <a:xfrm>
            <a:off x="755640" y="2133720"/>
            <a:ext cx="7632720" cy="3887640"/>
            <a:chOff x="755640" y="2133720"/>
            <a:chExt cx="7632720" cy="3887640"/>
          </a:xfrm>
        </p:grpSpPr>
        <p:sp>
          <p:nvSpPr>
            <p:cNvPr id="563" name="AutoShape 5"/>
            <p:cNvSpPr/>
            <p:nvPr/>
          </p:nvSpPr>
          <p:spPr>
            <a:xfrm>
              <a:off x="755640" y="2133720"/>
              <a:ext cx="7632720" cy="3887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4" name="Text Box 6"/>
            <p:cNvSpPr/>
            <p:nvPr/>
          </p:nvSpPr>
          <p:spPr>
            <a:xfrm>
              <a:off x="1550520" y="3079440"/>
              <a:ext cx="572508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mité de Dirección del Programa DEL-Masaya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5" name="Text Box 7"/>
            <p:cNvSpPr/>
            <p:nvPr/>
          </p:nvSpPr>
          <p:spPr>
            <a:xfrm>
              <a:off x="1073160" y="2238480"/>
              <a:ext cx="1590120" cy="42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operación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ustriaca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6" name="Text Box 8"/>
            <p:cNvSpPr/>
            <p:nvPr/>
          </p:nvSpPr>
          <p:spPr>
            <a:xfrm>
              <a:off x="2981880" y="3709440"/>
              <a:ext cx="3020760" cy="105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Unidad técnica /INS 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Fortalecimiento Institucion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Servicios Financieros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operación Empresarial Desarrollo Empresari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7" name="Text Box 9"/>
            <p:cNvSpPr/>
            <p:nvPr/>
          </p:nvSpPr>
          <p:spPr>
            <a:xfrm>
              <a:off x="2981880" y="2238480"/>
              <a:ext cx="1271520" cy="42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INPYME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8" name="Text Box 10"/>
            <p:cNvSpPr/>
            <p:nvPr/>
          </p:nvSpPr>
          <p:spPr>
            <a:xfrm>
              <a:off x="4572360" y="2238480"/>
              <a:ext cx="1589040" cy="42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MUDEMAS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9" name="Text Box 11"/>
            <p:cNvSpPr/>
            <p:nvPr/>
          </p:nvSpPr>
          <p:spPr>
            <a:xfrm>
              <a:off x="6639120" y="2238480"/>
              <a:ext cx="1112760" cy="42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Grupo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Meta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0" name="Text Box 12"/>
            <p:cNvSpPr/>
            <p:nvPr/>
          </p:nvSpPr>
          <p:spPr>
            <a:xfrm>
              <a:off x="1550520" y="5180400"/>
              <a:ext cx="143136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mité Desarrollo Municip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1" name="Text Box 13"/>
            <p:cNvSpPr/>
            <p:nvPr/>
          </p:nvSpPr>
          <p:spPr>
            <a:xfrm>
              <a:off x="3777120" y="5180400"/>
              <a:ext cx="127152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Unidad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Técnica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Municip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2" name="Text Box 14"/>
            <p:cNvSpPr/>
            <p:nvPr/>
          </p:nvSpPr>
          <p:spPr>
            <a:xfrm>
              <a:off x="5843880" y="5180400"/>
              <a:ext cx="142920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misión Municipal MIPYME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3" name="AutoShape 15"/>
            <p:cNvSpPr/>
            <p:nvPr/>
          </p:nvSpPr>
          <p:spPr>
            <a:xfrm rot="16200000">
              <a:off x="4387320" y="-549720"/>
              <a:ext cx="209520" cy="6837840"/>
            </a:xfrm>
            <a:custGeom>
              <a:avLst/>
              <a:gdLst>
                <a:gd name="textAreaLeft" fmla="*/ 133920 w 209520"/>
                <a:gd name="textAreaRight" fmla="*/ 209880 w 209520"/>
                <a:gd name="textAreaTop" fmla="*/ 178200 h 6837840"/>
                <a:gd name="textAreaBottom" fmla="*/ 6659640 h 683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4" name="AutoShape 16"/>
            <p:cNvSpPr/>
            <p:nvPr/>
          </p:nvSpPr>
          <p:spPr>
            <a:xfrm>
              <a:off x="6161760" y="3604680"/>
              <a:ext cx="318600" cy="1261080"/>
            </a:xfrm>
            <a:custGeom>
              <a:avLst/>
              <a:gdLst>
                <a:gd name="textAreaLeft" fmla="*/ 203760 w 318600"/>
                <a:gd name="textAreaRight" fmla="*/ 318960 w 318600"/>
                <a:gd name="textAreaTop" fmla="*/ 32760 h 1261080"/>
                <a:gd name="textAreaBottom" fmla="*/ 1228320 h 126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5" name="AutoShape 17"/>
            <p:cNvSpPr/>
            <p:nvPr/>
          </p:nvSpPr>
          <p:spPr>
            <a:xfrm rot="10800000">
              <a:off x="2504520" y="3604320"/>
              <a:ext cx="317520" cy="126108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32760 h 1261080"/>
                <a:gd name="textAreaBottom" fmla="*/ 1228320 h 126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6" name="Text Box 18"/>
            <p:cNvSpPr/>
            <p:nvPr/>
          </p:nvSpPr>
          <p:spPr>
            <a:xfrm>
              <a:off x="6639120" y="3604680"/>
              <a:ext cx="1431360" cy="126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SOCIOS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MIFIC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INIFOM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PASE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CPML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ONUDI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RENICC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Otros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7" name="Text Box 19"/>
            <p:cNvSpPr/>
            <p:nvPr/>
          </p:nvSpPr>
          <p:spPr>
            <a:xfrm>
              <a:off x="914040" y="3709440"/>
              <a:ext cx="1590120" cy="105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NDEMAS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rticulación/ participación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Mesa PYME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8" name="AutoShape 20"/>
            <p:cNvSpPr/>
            <p:nvPr/>
          </p:nvSpPr>
          <p:spPr>
            <a:xfrm rot="5400000">
              <a:off x="4230000" y="1550880"/>
              <a:ext cx="208800" cy="6837840"/>
            </a:xfrm>
            <a:custGeom>
              <a:avLst/>
              <a:gdLst>
                <a:gd name="textAreaLeft" fmla="*/ 133560 w 208800"/>
                <a:gd name="textAreaRight" fmla="*/ 209160 w 208800"/>
                <a:gd name="textAreaTop" fmla="*/ 178200 h 6837840"/>
                <a:gd name="textAreaBottom" fmla="*/ 6659640 h 683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9" name="Line 21"/>
            <p:cNvSpPr/>
            <p:nvPr/>
          </p:nvSpPr>
          <p:spPr>
            <a:xfrm>
              <a:off x="4253760" y="3394080"/>
              <a:ext cx="0" cy="3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Roles predefinidos 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Institucionalización del Desrrollo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La  CIDEL como Institución creada y o inducida por la Cooperación 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La  CIDEL como correo de política  nacional en el territorio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La  CIDEL  como expresión institucionalizada  del desarrollo económico local de los municipios de Masaya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f5494"/>
                </a:solidFill>
                <a:latin typeface="Verdana"/>
              </a:rPr>
              <a:t>Relaciones efectivas entre los actor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Las municipalidades y los MIPY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pagar impuestos  versus  fomento MIPYMES,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asignación de crédito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Comisiones mixtas a nivel de municipio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Consorcio (paridad Alcaldías, empresarias/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7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de-AT" sz="2700" spc="-1" strike="noStrike">
                <a:solidFill>
                  <a:srgbClr val="0f5494"/>
                </a:solidFill>
                <a:latin typeface="Verdana"/>
              </a:rPr>
              <a:t>Articulación (institucional)  Local- Nacional –Global 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La articulación entre lo sectorial y lo territorial, gobierno central y municipios /regiones,  relaciones horizontales y verticales, políticas de escala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La dimensión internacional, transnacional (ejemplos específicos tranfronterizos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(Alianzas DR-CAFTA, AdA-Integración Centroamericana, ALBA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000" spc="-1" strike="noStrike">
                <a:solidFill>
                  <a:srgbClr val="0f5494"/>
                </a:solidFill>
                <a:latin typeface="Verdana"/>
              </a:rPr>
              <a:t>Cooperación Norte-Sur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Cooperación = Interacción recíproca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No llevamos el „desarrollo“ en nuestro nombre y filosofía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Nuestros campos de cooperación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- Educación,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- Economía,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- Fortalecimento organizacional e institucional,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- Cultura(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Alianza con la </a:t>
            </a:r>
            <a:r>
              <a:rPr b="1" i="1" lang="de-AT" sz="2000" spc="-1" strike="noStrike">
                <a:solidFill>
                  <a:srgbClr val="0f5494"/>
                </a:solidFill>
                <a:latin typeface="Verdana"/>
              </a:rPr>
              <a:t>UIM (Unión Iberoamericana de Municipalista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f5494"/>
                </a:solidFill>
                <a:latin typeface="Verdana"/>
              </a:rPr>
              <a:t>Articulación:  actores internos y  externos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oblación autóctona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Foráneo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xtranjer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Migrante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ertinencia e identidad, migraciones, interculturalidad y transculturalización,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Relaciones efectiva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Relaciones  con reciprocidad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laboración y reconocimiento mutuo de role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Base sobre la cual se pueden edificar medidas en pro del desarrollo inclusivo, pueden ser elementos „desencadenantes“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Mecanismos de comunicación y de cooperación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Acoplamientos a mecanismos y articulaciones existente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ero ..estas relaciones pueden entrar en crisi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Aprendizaje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200" spc="-1" strike="noStrike">
                <a:solidFill>
                  <a:srgbClr val="0f5494"/>
                </a:solidFill>
                <a:latin typeface="Verdana"/>
              </a:rPr>
              <a:t>La (re-)asignación y el reconocimiento mutuo de rol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200" spc="-1" strike="noStrike">
                <a:solidFill>
                  <a:srgbClr val="0f5494"/>
                </a:solidFill>
                <a:latin typeface="Verdana"/>
              </a:rPr>
              <a:t>La Cooperación un actor entre varios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200" spc="-1" strike="noStrike">
                <a:solidFill>
                  <a:srgbClr val="0f5494"/>
                </a:solidFill>
                <a:latin typeface="Verdana"/>
              </a:rPr>
              <a:t>Los demás también siguen sus  estrategias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200" spc="-1" strike="noStrike">
                <a:solidFill>
                  <a:srgbClr val="0f5494"/>
                </a:solidFill>
                <a:latin typeface="Verdana"/>
              </a:rPr>
              <a:t>Lo formal y lo informal, no todo se comunica a todos 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Aprendizaj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Contextualizarse, participar en los procesos territoriales  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Inmersió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Capacidad de atender actores muy diversos (flexibilidad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Mayor capacidad de auto-reflex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Aprendizaje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500" spc="-1" strike="noStrike">
                <a:solidFill>
                  <a:srgbClr val="0f5494"/>
                </a:solidFill>
                <a:latin typeface="Verdana"/>
              </a:rPr>
              <a:t>Contra posiciones ego-centristas - la concepción  de programas y proyectos desde posiciones demiúrgicas (omnipotentes, omniscientes)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500" spc="-1" strike="noStrike">
                <a:solidFill>
                  <a:srgbClr val="0f5494"/>
                </a:solidFill>
                <a:latin typeface="Verdana"/>
              </a:rPr>
              <a:t>Nuevos diálogos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500" spc="-1" strike="noStrike">
                <a:solidFill>
                  <a:srgbClr val="0f5494"/>
                </a:solidFill>
                <a:latin typeface="Verdana"/>
              </a:rPr>
              <a:t>Cómo aprendemos?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604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7200" y="437796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f5494"/>
                </a:solidFill>
                <a:latin typeface="Calibri"/>
              </a:rPr>
              <a:t>Contacto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f5494"/>
                </a:solidFill>
                <a:latin typeface="Calibri"/>
              </a:rPr>
              <a:t>Managua, Nicaragua: dela rotonda Rúben darío 1 c al sur 1 ½ c. Abajo. ++505 2270 6002, 22706022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f5494"/>
                </a:solidFill>
                <a:latin typeface="Calibri"/>
              </a:rPr>
              <a:t>Viena, Austria: Cooperación Norte-Sur (CONS); Sechshauserstrasse 68-70, 1150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f5494"/>
                </a:solidFill>
                <a:latin typeface="Calibri"/>
              </a:rPr>
              <a:t>++43 699 17840841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99" name="Bild 3" descr="&quot;logo-1.jpg"/>
          <p:cNvPicPr/>
          <p:nvPr/>
        </p:nvPicPr>
        <p:blipFill>
          <a:blip r:embed="rId1"/>
          <a:stretch/>
        </p:blipFill>
        <p:spPr>
          <a:xfrm>
            <a:off x="2330280" y="1989000"/>
            <a:ext cx="45165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xperiencias de referencia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ooperaciones en CA en los últimos 30 a</a:t>
            </a: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ñ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o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f5494"/>
                </a:solidFill>
                <a:latin typeface="Verdana"/>
              </a:rPr>
              <a:t>Cambian las  políticas,  los enfoques  y las                            convicción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f5494"/>
                </a:solidFill>
                <a:latin typeface="Verdana"/>
              </a:rPr>
              <a:t>Experiencias de Nicaragua, El Salvador y Guatemal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f5494"/>
                </a:solidFill>
                <a:latin typeface="Verdana"/>
              </a:rPr>
              <a:t>Enfásis en desarrollo territorial desde los gobiernos local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f5494"/>
                </a:solidFill>
                <a:latin typeface="Verdana"/>
              </a:rPr>
              <a:t>Fomento de derechos indígenas, trabajo con migrantes en Austria  („Integración“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f5494"/>
                </a:solidFill>
                <a:latin typeface="Verdana"/>
              </a:rPr>
              <a:t>Docencia en Universidades: filosofía política </a:t>
            </a: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  </a:t>
            </a: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spacios, territorio 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68000" y="234936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omo seres físicos necesitamos espacios -públicos y privados - para vivir, trabajar, producir y hacer política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Límites, fronteras, soberanía, dominio sobre un territorio - supranacional,  nacional,  subnacional, o loca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La presencia del estado en el territori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Articular lo sectorial y lo territorial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Qué es desarrollo inclusiv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≠ </a:t>
            </a: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crecimiento inclusiv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f5494"/>
                </a:solidFill>
                <a:latin typeface="Verdana"/>
              </a:rPr>
              <a:t>Referencia al bienestar (Educación, Salud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f5494"/>
                </a:solidFill>
                <a:latin typeface="Verdana"/>
              </a:rPr>
              <a:t>A la distribución de ingresos y otros   bienes/valore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f5494"/>
                </a:solidFill>
                <a:latin typeface="Verdana"/>
              </a:rPr>
              <a:t>Se opone a la exclusión en el ámbito político, económico, social, cultural, de género …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Libertad y mayores opcion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D</a:t>
            </a:r>
            <a:r>
              <a:rPr b="1" lang="es-NI" sz="2000" spc="-1" strike="noStrike">
                <a:solidFill>
                  <a:srgbClr val="0f5494"/>
                </a:solidFill>
                <a:latin typeface="Verdana"/>
              </a:rPr>
              <a:t>I como proceso y resultad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xclusión    Inclusión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xclusión de persona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xclusión de territorio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Mecanismos de exclus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olíticas y medidas de inclusió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ohesión social: „pega“ que junta y une  los grupos social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l problema no es sólo económic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Inclusión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Inclusión= participación política y oportunidades de trabajo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Hay excluidos que no quieren  participar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Participar- ser parte y </a:t>
            </a:r>
            <a:r>
              <a:rPr b="0" i="1" lang="es-NI" sz="2400" spc="-1" strike="noStrike" u="sng">
                <a:solidFill>
                  <a:srgbClr val="0f5494"/>
                </a:solidFill>
                <a:uFillTx/>
                <a:latin typeface="Verdana"/>
              </a:rPr>
              <a:t>tener part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ambiar a los excluidos  o a la sociedad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Desarrollo : enfoqu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f5494"/>
                </a:solidFill>
                <a:latin typeface="Verdana"/>
              </a:rPr>
              <a:t>Centrado en los mercados 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f5494"/>
                </a:solidFill>
                <a:latin typeface="Verdana"/>
              </a:rPr>
              <a:t>Centrado en las personas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f5494"/>
                </a:solidFill>
                <a:latin typeface="Verdana"/>
              </a:rPr>
              <a:t>Enfoque de medios de vida sostenibl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f5494"/>
                </a:solidFill>
                <a:latin typeface="Verdana"/>
              </a:rPr>
              <a:t>Enfoque basado en derechos</a:t>
            </a:r>
            <a:r>
              <a:rPr b="0" i="1" lang="de-AT" sz="4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4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Desarrollo inclusivo : grupos meta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Los/as pobres  Los/as excluidos/a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Los/as empresarios/as de la MIPYME,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Jóvenes </a:t>
            </a: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desempleados, “en riesgo”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La población del territorio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Gerardo</cp:lastModifiedBy>
  <dcterms:modified xsi:type="dcterms:W3CDTF">2013-06-12T12:39:32Z</dcterms:modified>
  <cp:revision>94</cp:revision>
  <dc:subject/>
  <dc:title>Slide 1</dc:title>
</cp:coreProperties>
</file>