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AA12-5AFC-4FFE-AE4F-02B846A701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EAD6-197C-456A-B412-D201E01A9D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YME, acoge a todas las pequeñas y medianas empresas, en España mas del 80% de las empresas tienen me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A118-C8A5-4881-B023-77FA1237E6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CEOE, es una organizacion de organizaciones empresariales que estan confederad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6A5E-23A5-437E-9AE6-945871FAE1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YME, acoge a todas las pequeñas y medianas empresas, en España, actualmente hay 3195210 empresas, segun el Directorio Central de Emp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EAD7-006D-440B-B6A6-CFF38CDCD1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cion segun el Directorio Central de Empresas, del 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F13-B5E0-43C8-A15A-E20444CACE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7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deracion organizaciones agr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deracion de coo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dores, amas de casa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771-F2E1-47D5-ABF7-A266AC79AB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iculo 87.3 siempre que den ocupación a igual porcentaje de los trabajdores afec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7C0D-76F2-4337-A028-65780DCA54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Son sindicatos mas representativos aquellos que obtengan el 10% o mas representación a nivel estatal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Gozaran de capacidad representativa tanto a nivel territorial como funcional para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Ostentar representación institucional ante las Administraciones Públicas u otras entidades y organismos de carácter estatal o de Comunidad Autónoma que la tengan previst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La negociación colectiva, en los términos previstos en el Estatuto de los Trabajadore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articipar como interlocutores en la determinación de las condiciones de trabajo en las Administraciones Públicas a través de los oportunos procedimientos de consulta o negociación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articipar en los sistemas no jurisdiccionales de solución de conflictos de trabaj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Promover elecciones para delegados de personal y comités de empresa y órganos correspondientes de las Administraciones Pública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Obtener cesiones temporales del uso de inmuebles patrimoniales públicos en los términos que se establezcan legalment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Cualquier otra función representativa que se establezca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rticulo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Tendrán la consideración de sindicatos más representativos a nivel de Comunidad Autónoma: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a) Los sindicatos de dicho ámbito que acrediten en el mismo una especial audiencia expresada en la obtención de, al menos, </a:t>
            </a: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el 15 por 100 de los delegados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 de personal y de los representantes de los trabajadores en los comités de empresa, y en los órganos correspondientes de las Administraciones Públicas, </a:t>
            </a:r>
            <a:r>
              <a:rPr b="1" i="1" lang="es-ES" sz="500" spc="-1" strike="noStrike">
                <a:solidFill>
                  <a:srgbClr val="000000"/>
                </a:solidFill>
                <a:latin typeface="Times New Roman"/>
              </a:rPr>
              <a:t>siempre que cuenten con un mínimo de 1.500</a:t>
            </a:r>
            <a:r>
              <a:rPr b="0" lang="es-ES" sz="500" spc="-1" strike="noStrike">
                <a:solidFill>
                  <a:srgbClr val="000000"/>
                </a:solidFill>
                <a:latin typeface="Times New Roman"/>
              </a:rPr>
              <a:t> representantes y no estén federados o confederados con organizaciones sindicales de ámbito estatal; b) Los sindicatos o entes sindicales afiliados, federados o confederados a una organización sindical de ámbito de Comunidad Autónoma que tenga la consideración de más representativa de acuerdo con lo previsto en la letra a)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671-BD13-42CF-A467-2C618F94F5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1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recoge el derecho a la participación de los trabajadores en la empresa mediante los órganos de represent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2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establece los órganos de representación: delegados de personal (1 delegado de 10 a 30 Trabajadores, 3 delegados de 31 hasta 49Trabajador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iculo 63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, establece  los órganos de representación: comités de empres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rtículo 66,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Composició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cincuenta a cien trabajadores, cin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ciento uno a doscientos cincuenta trabajadores, nue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doscientos cincuenta y uno a quinientos trabajadores, tre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quinientos uno a setecientos cincuenta trabajadores, diecisie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setecientos cincuenta y uno a mil trabajadores, veintiu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De mil en adelante, dos por cada mil o fracción, con el máximo de setenta y cinc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2F2-DC42-46B7-BAB2-166D24CD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C1A-7357-4AED-B862-3CA187A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A50-E870-4BD3-B01E-91550437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76C-8C4E-432A-84FF-204C750B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75C-8846-48BC-989D-6AC7D929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29F-A23A-4546-A98C-00214DA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74E-77F5-482C-B171-DB465C18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026-C528-44CF-A679-C0FB315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68B-84E7-4829-BED3-C5C5B2C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D3B-DA4B-4363-A6AE-65CACBF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FEB-F93B-4297-AD07-FD498D5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EAF-0248-43B6-B454-DB33F90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983-A53B-4B5F-AE73-901CE34ADD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0491-CA66-464A-B319-99452758E1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alogo social, representatividad de los Agentes So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amá, 12 y 13 de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6669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251840" y="9684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49D-E585-4764-A3F7-0D2D203B11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OE: fundada e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sociadas a 2 millones de empresas y autónomos de todos los sector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ntegra a mas de 225 organizaciones territoriales y sectoriales (doble via de represent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E30D-DEA7-4153-8CC8-673AD1597B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EPY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nfederación de la Pequeña y Median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 destacar: su integración a la CE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74F5-C14D-4453-B822-014F88513D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91656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on empresas segun numero de trabajador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66360" y="2239920"/>
            <a:ext cx="7991640" cy="47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empresas: 3.195.2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 T. 1.763.1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1 a 9 T. 1.286.58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10 a 49 T. 121.60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50 a 248 T. 20.108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DC0-A878-4FBA-B7C4-7BB95BCFE3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87372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agentes representativ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ercer sector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341360" y="2729520"/>
            <a:ext cx="64008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perativ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edad Civi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5C1C-B208-49EF-8EC3-D636B6A65E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presentatividad Agente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nte Certificación administr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reditación, de acuerdo con el articulo 87.3 E.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as asociaciones empresariales cuyo ámbito geográfico y funcional del convenio representen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as asociaciones empresariales que en dicho ámbito den ocupación al 1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5986-4C22-4E51-8F14-27FEF9D64D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UCHAS 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66F5-5B04-4179-9EF1-DE149CCB613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conocimiento constitu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t. 7 C.E.: “Los sindicatos y asociaciones empresariales son organizaciones que contribuyen a la defensa y promoción de los intereses económicos y sociales que les son propi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7468-1142-4976-A654-C58374C9C0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stitución Españ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ticulo 9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rresponde a los poderes públicos promover las condiciones para qu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libert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igual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individuo y de los grupos en que se integra sean reales y efectiv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; remover los obstáculos que impidan o dificulten su plenitud y facilitar la participación de todos los ciudadanos en la vida política, económica, cultural y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66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B9C-F98E-41B9-A9C6-B5EF0993E4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nio OIT 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tículo 5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odo Miembro que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atifique el presente Conven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berá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stablecer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cedimientos apropi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 las condiciones nacionales 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ara garantizar, dentro del sistema de administración del trabajo, la consulta, la cooperación y la negociación entre las autoridades públicas y las organizaciones más representativas de empleadores y de trabajador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o -- cuando fuere apropiado -- los representantes de los empleadores y de los trabajadore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486-349B-4260-A96F-B5A16BC6F0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rmas estatales: ET y L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dicatos: representación de ámbito Estatal y de C.A. mediante elecciones sind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839A-F29A-4B6B-8A81-AAA36BD893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LS (Arts. 6 y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culo 6.- Confiere a los sindicatos mayoritarios una singular posición jurídica tanto en participación institucional como de acción sind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culo 7.- Establece el porcentaje para tener la consideración de mayor representa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84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C2F-AE56-4DCC-8E35-EBD8E68354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BTENCION DE MAYOR REPRESENTA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TO ESTATAL: OBTENCION DEL 10 % O MAS DELEGADOS EN LAS ELECCIONES SINDI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TO CCAA: OBTENCION EN EL AMBITO EL 15 % O MAS DELEGADOS EN LAS ELECCIONES, MINIMO 1500 DELE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90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6CFB-B246-4A7F-94AA-2F59184FEF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erechos reconoc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Negociación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Participación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recho a la cesión de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  <p:pic>
        <p:nvPicPr>
          <p:cNvPr id="96" name="0 Imagen" descr="Descripción: logo_eurosocial_rgb.jpg"/>
          <p:cNvPicPr/>
          <p:nvPr/>
        </p:nvPicPr>
        <p:blipFill>
          <a:blip r:embed="rId2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nís Oña, Grupo I-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C688-EB4B-45C2-B76E-7901D05F68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atuto de los Trabaj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tulo II: De los derechos de representación colectiva y de reunión de los trabajadores en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pitulo I, Del derecho de representación colectiva, artículos 61 al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pitulo II, Del derecho de reunión, artículos 77 al 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itulo III: de la Negociación Colectiva y de los convenios cole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apitulo I, disposiciones Generales, artículos 82 al 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apitulo II, Procedimiento, artículos 89 al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0 Imagen" descr="Descripción: logo_eurosocial_rgb.jpg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69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6-12T16:09:19Z</dcterms:modified>
  <cp:revision>1</cp:revision>
  <dc:subject/>
  <dc:title>Dialogo social, representatividad de los Agentes Sociales</dc:title>
</cp:coreProperties>
</file>