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522B-4966-4BB2-B063-6B26119A08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517E-EE59-4B7D-8473-57659B86ED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 mas del 80% de las empresas tienen me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D31F-DF3F-43FB-9677-96D76E4BC9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EOE, es una organizacion de organizaciones empresariales que estan confederad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6BA0-0FE3-42F3-B2CF-3F7FE5C7DE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, actualmente hay 3195210 empresas, segun el Directorio Central de Emp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F881-EDAF-48B8-B9A2-F620DB72AE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cion segun el Directorio Central de Empresas, del 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7D9-67BD-4196-85C5-05DAF5599F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organizaciones agr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de co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dores, amas de casa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220-E06B-4EBB-B546-D4D6ADD6F0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87.3 siempre que den ocupación a igual porcentaje de los trabajdores afec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8AAF-F8B9-4BCF-8C61-3B2780E53D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on sindicatos mas representativos aquellos que obtengan el 10% o mas representación a nivel estat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ozaran de capacidad representativa tanto a nivel territorial como funcional para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stentar representación institucional ante las Administraciones Públicas u otras entidades y organismos de carácter estatal o de Comunidad Autónoma que la tengan previst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La negociación colectiva, en los términos previstos en el Estatuto de los Trabajadore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como interlocutores en la determinación de las condiciones de trabajo en las Administraciones Públicas a través de los oportunos procedimientos de consulta o negociació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en los sistemas no jurisdiccionales de solución de conflictos de trabaj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romover elecciones para delegados de personal y comités de empresa y órganos correspondientes de las Administraciones Pública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btener cesiones temporales del uso de inmuebles patrimoniales públicos en los términos que se establezcan legalmen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Cualquier otra función representativa que se establezc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Tendrán la consideración de sindicatos más representativos a nivel de Comunidad Autónoma: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a) Los sindicatos de dicho ámbito que acrediten en el mismo una especial audiencia expresada en la obtención de, al meno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el 15 por 100 de los delegados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de personal y de los representantes de los trabajadores en los comités de empresa, y en los órganos correspondientes de las Administraciones Pública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siempre que cuenten con un mínimo de 1.500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representantes y no estén federados o confederados con organizaciones sindicales de ámbito estatal; b) Los sindicatos o entes sindicales afiliados, federados o confederados a una organización sindical de ámbito de Comunidad Autónoma que tenga la consideración de más representativa de acuerdo con lo previsto en la letra a)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3AB2-FDB2-4DFE-84D1-39F734E756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1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recoge el derecho a la participación de los trabajadores en la empresa mediante los órganos de represent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2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los órganos de representación: delegados de personal (1 delegado de 10 a 30 Trabajadores, 3 delegados de 31 hasta 49Trabajado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 los órganos de representación: comités de empres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ículo 66,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omposi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ncuenta a cien trabajadores,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ento uno a doscientos cincuenta trabajadores, nue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doscientos cincuenta y uno a quinientos trabajadores, tre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quinientos uno a setecientos cincuenta trabajadores, diecisie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setecientos cincuenta y uno a mil trabajadores, veintiu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mil en adelante, dos por cada mil o fracción, con el máximo de setenta y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982-BF7D-40C6-A656-D4344E06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6A9-72A0-4615-9C79-61BBD8E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9F9-9460-45FC-B327-476CCA2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FD2-9AB0-4101-B17F-938FA694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676-A549-410C-B25F-6F0B7FA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AE3-4F4F-495C-AE37-DBC5C55A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9E1-386B-4BA4-88D2-63A4B68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FBC-0694-4E68-9F58-B2428CD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177-9C38-456A-9D4F-0F4057F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6BD-AFDC-47D2-9E09-E202179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20A-CC08-48A0-94DA-58BDDAB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F45-B45C-446C-B5F1-234BC92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1DE-D029-4382-BB5B-C18970F411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3A6C-EB65-4635-8A09-2A626923F8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alogo social, representatividad de los Agentes So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amá, 12 y 13 de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6669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251840" y="9684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C815-A176-44F8-9415-FAE0EDB669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OE: fundada e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sociadas a 2 millones de empresas y autónomos de todos los sector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ntegra a mas de 225 organizaciones territoriales y sectoriales (doble via de represent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30F-6AF1-4885-B95A-D2A5CCC57E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Y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nfederación de la Pequeña y Median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 destacar: su integración a la CE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E07A-B59C-4885-8AB2-70282958B52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91656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on empresas segun numero de trabajador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66360" y="2239920"/>
            <a:ext cx="7991640" cy="47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empresas: 3.195.2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 T. 1.763.1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 a 9 T. 1.286.58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0 a 49 T. 121.60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50 a 248 T. 20.108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1A2-9A77-4760-B3F2-5BBA248A59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87372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agentes representativ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ercer secto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41360" y="2729520"/>
            <a:ext cx="64008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v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edad Civ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9741-BA1D-45E0-B0CA-954E94455D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esentatividad 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nte Certificación administr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reditación, de acuerdo con el articulo 87.3 E.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cuyo ámbito geográfico y funcional del convenio representen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que en dicho ámbito den ocupación al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553-4DFB-49EE-A1B6-E1A4A9D167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UCHAS 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5E6-2F68-4EA3-A221-C30C211274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ocimiento constitu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t. 7 C.E.: “Los sindicatos y asociaciones empresariales son organizaciones que contribuyen a la defensa y promoción de los intereses económicos y sociales que les son prop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477-2C23-4092-A977-AF39855B24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stitución Españ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ticulo 9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rresponde a los poderes públicos promover las condiciones para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libert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igual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individuo y de los grupos en que se integra sean reales y efectiv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; remover los obstáculos que impidan o dificulten su plenitud y facilitar la participación de todos los ciudadanos en la vida política, económica, cultural y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75A-6670-4FFE-8560-75718045A5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nio OIT 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tículo 5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do Miembro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atifique el presente Conven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berá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stablecer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cedimientos aprop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 las condiciones nacionales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ara garantizar, dentro del sistema de administración del trabajo, la consulta, la cooperación y la negociación entre las autoridades públicas y las organizaciones más representativas de empleadores y de trabajador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o -- cuando fuere apropiado -- los representantes de los empleadores y de los trabajadore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553-BE97-4F61-AC2B-6F204847E4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rmas estatales: ET y L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dicatos: representación de ámbito Estatal y de C.A. mediante elecciones sind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7EB-3278-430B-96AE-E25BA1FBE6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LS (Arts. 6 y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6.- Confiere a los sindicatos mayoritarios una singular posición jurídica tanto en participación institucional como de acción sind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7.- Establece el porcentaje para tener la consideración de mayor representa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8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A08-0C2C-4843-8026-C0B9BED40B2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BTENCION DE MAYOR REPRESENTA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ESTATAL: OBTENCION DEL 10 % O MAS DELEGADOS EN LAS ELECCIONES SINDI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CCAA: OBTENCION EN EL AMBITO EL 15 % O MAS DELEGADOS EN LAS ELECCIONES, MINIMO 1500 DELE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0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8DC-48A1-43AF-8597-D037F36F0D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erechos reconoc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Negociación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Participación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cesión de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B3FC-CEB7-4EEA-8E99-6BE4302A6F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atuto de los Trabaj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tulo II: De los derechos de representación colectiva y de reunión de los trabajadores en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, Del derecho de representación colectiva, artículos 61 al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I, Del derecho de reunión, artículos 77 al 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itulo III: de la Negociación Colectiva y de los convenios cole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, disposiciones Generales, artículos 82 al 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I, Procedimiento, artículos 89 al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6-12T16:09:19Z</dcterms:modified>
  <cp:revision>1</cp:revision>
  <dc:subject/>
  <dc:title>Dialogo social, representatividad de los Agentes Sociales</dc:title>
</cp:coreProperties>
</file>