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0E8C5-BCE0-4CD9-81D7-37FC728FFD71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12 países, 19 institucio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número de diapositiva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8B040-A00D-405D-A24C-5505E06A27E8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6D71-810B-4431-992D-687BF30D2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4713-A8DD-4146-8B56-C692F1274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03AC-F8E1-49F8-9352-96FE1D362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6006-FE0D-45EE-A5EE-66AF9FAA9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0855-92A5-4243-913C-CE778DA3C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AFA6-1E36-43B1-9BD8-99A260B92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F3C0-4D1B-410C-A9F2-6572E2BB6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FC75-AB06-46EA-B429-DEB6E054D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10E5-CC2D-42DE-880F-002219A2B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3E18-4246-4897-8ACC-DD6A3938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C053-879B-475A-98D0-E973DF6F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0B3C-ABF7-43BD-8135-9598F275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AA98-394D-48E8-8778-FF3719C1B2B8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hyperlink" Target="http://redbancomundial.cplt.cl/index.html" TargetMode="External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rcRect l="6252" t="0" r="70934" b="0"/>
          <a:stretch/>
        </p:blipFill>
        <p:spPr>
          <a:xfrm>
            <a:off x="0" y="189000"/>
            <a:ext cx="3348000" cy="6473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Segoe UI Emoji"/>
                <a:ea typeface="Segoe UI Emoji"/>
              </a:rPr>
              <a:t>Red de Cooperación y Fortalecimiento Institucion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34920" y="3860280"/>
            <a:ext cx="6624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98989"/>
                </a:solidFill>
                <a:latin typeface="NSimSun"/>
                <a:ea typeface="NSimSun"/>
              </a:rPr>
              <a:t>La Experiencia de la Red de Transparencia y Acceso a la Información (RT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6373800" y="196920"/>
            <a:ext cx="1887480" cy="833400"/>
          </a:xfrm>
          <a:prstGeom prst="rect">
            <a:avLst/>
          </a:prstGeom>
          <a:ln w="0">
            <a:noFill/>
          </a:ln>
        </p:spPr>
      </p:pic>
      <p:sp>
        <p:nvSpPr>
          <p:cNvPr id="52" name="6 CuadroTexto"/>
          <p:cNvSpPr/>
          <p:nvPr/>
        </p:nvSpPr>
        <p:spPr>
          <a:xfrm>
            <a:off x="4122720" y="6021360"/>
            <a:ext cx="4336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entury Gothic"/>
              </a:rPr>
              <a:t>Secretaria Ejecutiv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entury Gothic"/>
              </a:rPr>
              <a:t>La Paz, Bolivia, julio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" descr=""/>
          <p:cNvPicPr/>
          <p:nvPr/>
        </p:nvPicPr>
        <p:blipFill>
          <a:blip r:embed="rId1"/>
          <a:srcRect l="6252" t="0" r="70934" b="0"/>
          <a:stretch/>
        </p:blipFill>
        <p:spPr>
          <a:xfrm>
            <a:off x="0" y="189000"/>
            <a:ext cx="3348000" cy="64738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Segoe UI Emoji"/>
                <a:ea typeface="Segoe UI Emoji"/>
              </a:rPr>
              <a:t>Red de Cooperación y Fortalecimiento Region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834920" y="3886200"/>
            <a:ext cx="6624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98989"/>
                </a:solidFill>
                <a:latin typeface="NSimSun"/>
                <a:ea typeface="NSimSun"/>
              </a:rPr>
              <a:t>La Experiencia de la Red de Transparencia y Acceso a la Información (RT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6373800" y="196920"/>
            <a:ext cx="1887480" cy="833400"/>
          </a:xfrm>
          <a:prstGeom prst="rect">
            <a:avLst/>
          </a:prstGeom>
          <a:ln w="0">
            <a:noFill/>
          </a:ln>
        </p:spPr>
      </p:pic>
      <p:sp>
        <p:nvSpPr>
          <p:cNvPr id="131" name="6 CuadroTexto"/>
          <p:cNvSpPr/>
          <p:nvPr/>
        </p:nvSpPr>
        <p:spPr>
          <a:xfrm>
            <a:off x="4122720" y="6021360"/>
            <a:ext cx="4336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entury Gothic"/>
              </a:rPr>
              <a:t>Secretaria Ejecutiv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entury Gothic"/>
              </a:rPr>
              <a:t>Santiago de Chile, abril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51 Rectángulo"/>
          <p:cNvSpPr/>
          <p:nvPr/>
        </p:nvSpPr>
        <p:spPr>
          <a:xfrm>
            <a:off x="826920" y="333360"/>
            <a:ext cx="8317080" cy="719280"/>
          </a:xfrm>
          <a:prstGeom prst="rect">
            <a:avLst/>
          </a:prstGeom>
          <a:solidFill>
            <a:srgbClr val="ff99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85988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Century Gothic"/>
              </a:rPr>
              <a:t>Quienes Som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rcRect l="2057" t="4099" r="2200" b="1371"/>
          <a:stretch/>
        </p:blipFill>
        <p:spPr>
          <a:xfrm rot="21129000">
            <a:off x="482400" y="1890720"/>
            <a:ext cx="5354640" cy="3624120"/>
          </a:xfrm>
          <a:prstGeom prst="rect">
            <a:avLst/>
          </a:prstGeom>
          <a:ln w="0">
            <a:noFill/>
          </a:ln>
        </p:spPr>
      </p:pic>
      <p:sp>
        <p:nvSpPr>
          <p:cNvPr id="56" name="44 Llamada rectangular redondeada"/>
          <p:cNvSpPr/>
          <p:nvPr/>
        </p:nvSpPr>
        <p:spPr>
          <a:xfrm>
            <a:off x="5867280" y="1542960"/>
            <a:ext cx="2592360" cy="1656000"/>
          </a:xfrm>
          <a:prstGeom prst="wedgeRoundRectCallout">
            <a:avLst>
              <a:gd name="adj1" fmla="val -54009"/>
              <a:gd name="adj2" fmla="val 84819"/>
              <a:gd name="adj3" fmla="val 16667"/>
            </a:avLst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45 Rectángulo"/>
          <p:cNvSpPr/>
          <p:nvPr/>
        </p:nvSpPr>
        <p:spPr>
          <a:xfrm>
            <a:off x="5796000" y="1916280"/>
            <a:ext cx="2663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ill Sans MT Condensed"/>
              </a:rPr>
              <a:t>Generar un espacio permanente de </a:t>
            </a:r>
            <a:r>
              <a:rPr b="1" lang="es-CL" sz="1200" spc="-1" strike="noStrike">
                <a:solidFill>
                  <a:srgbClr val="000000"/>
                </a:solidFill>
                <a:latin typeface="Gill Sans MT Condensed"/>
              </a:rPr>
              <a:t>diálogo, cooperación</a:t>
            </a:r>
            <a:r>
              <a:rPr b="0" lang="es-CL" sz="1200" spc="-1" strike="noStrike">
                <a:solidFill>
                  <a:srgbClr val="000000"/>
                </a:solidFill>
                <a:latin typeface="Gill Sans MT Condensed"/>
              </a:rPr>
              <a:t> e </a:t>
            </a:r>
            <a:r>
              <a:rPr b="1" lang="es-CL" sz="1200" spc="-1" strike="noStrike">
                <a:solidFill>
                  <a:srgbClr val="000000"/>
                </a:solidFill>
                <a:latin typeface="Gill Sans MT Condensed"/>
              </a:rPr>
              <a:t>intercambio</a:t>
            </a:r>
            <a:r>
              <a:rPr b="0" lang="es-CL" sz="1200" spc="-1" strike="noStrike">
                <a:solidFill>
                  <a:srgbClr val="000000"/>
                </a:solidFill>
                <a:latin typeface="Gill Sans MT Condensed"/>
              </a:rPr>
              <a:t> de conocimientos y experiencias entre autoridades en materia de transparencia y derecho de acceso a la información públ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46 CuadroTexto"/>
          <p:cNvSpPr/>
          <p:nvPr/>
        </p:nvSpPr>
        <p:spPr>
          <a:xfrm>
            <a:off x="6372360" y="15494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00000"/>
                </a:solidFill>
                <a:latin typeface="Segoe Script"/>
              </a:rPr>
              <a:t>Mis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47 Llamada rectangular redondeada"/>
          <p:cNvSpPr/>
          <p:nvPr/>
        </p:nvSpPr>
        <p:spPr>
          <a:xfrm>
            <a:off x="6135840" y="4797360"/>
            <a:ext cx="2592360" cy="1656000"/>
          </a:xfrm>
          <a:prstGeom prst="wedgeRoundRectCallout">
            <a:avLst>
              <a:gd name="adj1" fmla="val -65268"/>
              <a:gd name="adj2" fmla="val -82578"/>
              <a:gd name="adj3" fmla="val 16667"/>
            </a:avLst>
          </a:prstGeom>
          <a:noFill/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48 CuadroTexto"/>
          <p:cNvSpPr/>
          <p:nvPr/>
        </p:nvSpPr>
        <p:spPr>
          <a:xfrm>
            <a:off x="6588000" y="47800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00000"/>
                </a:solidFill>
                <a:latin typeface="Segoe Script"/>
              </a:rPr>
              <a:t>Vis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49 Rectángulo"/>
          <p:cNvSpPr/>
          <p:nvPr/>
        </p:nvSpPr>
        <p:spPr>
          <a:xfrm>
            <a:off x="6084720" y="5084640"/>
            <a:ext cx="266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ill Sans MT Condensed"/>
              </a:rPr>
              <a:t>Ser un </a:t>
            </a:r>
            <a:r>
              <a:rPr b="1" lang="es-CL" sz="1200" spc="-1" strike="noStrike">
                <a:solidFill>
                  <a:srgbClr val="000000"/>
                </a:solidFill>
                <a:latin typeface="Gill Sans MT Condensed"/>
              </a:rPr>
              <a:t>referente en el intercambio y aprendizaje</a:t>
            </a:r>
            <a:r>
              <a:rPr b="0" lang="es-CL" sz="1200" spc="-1" strike="noStrike">
                <a:solidFill>
                  <a:srgbClr val="000000"/>
                </a:solidFill>
                <a:latin typeface="Gill Sans MT Condensed"/>
              </a:rPr>
              <a:t> en materia de transparencia y derecho de acceso a la información pública que contribuye a la rendición de cuentas y el fortalecimiento de la gestión públ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50 Rectángulo"/>
          <p:cNvSpPr/>
          <p:nvPr/>
        </p:nvSpPr>
        <p:spPr>
          <a:xfrm>
            <a:off x="262080" y="1225440"/>
            <a:ext cx="482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Gill Sans MT Condensed"/>
              </a:rPr>
              <a:t>Lineamientos Estratégicos, declaración realizada en II Encuentro RTA, Septiembre 201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53 Elipse"/>
          <p:cNvSpPr/>
          <p:nvPr/>
        </p:nvSpPr>
        <p:spPr>
          <a:xfrm>
            <a:off x="225360" y="284040"/>
            <a:ext cx="863640" cy="792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54 Imagen" descr=""/>
          <p:cNvPicPr/>
          <p:nvPr/>
        </p:nvPicPr>
        <p:blipFill>
          <a:blip r:embed="rId2"/>
          <a:srcRect l="0" t="0" r="83267" b="0"/>
          <a:stretch/>
        </p:blipFill>
        <p:spPr>
          <a:xfrm>
            <a:off x="262080" y="333360"/>
            <a:ext cx="7095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13 Imagen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5838840"/>
          </a:xfrm>
          <a:prstGeom prst="rect">
            <a:avLst/>
          </a:prstGeom>
          <a:ln w="0">
            <a:noFill/>
          </a:ln>
        </p:spPr>
      </p:pic>
      <p:sp>
        <p:nvSpPr>
          <p:cNvPr id="66" name="51 Rectángulo"/>
          <p:cNvSpPr/>
          <p:nvPr/>
        </p:nvSpPr>
        <p:spPr>
          <a:xfrm>
            <a:off x="826920" y="333360"/>
            <a:ext cx="8317080" cy="719280"/>
          </a:xfrm>
          <a:prstGeom prst="rect">
            <a:avLst/>
          </a:prstGeom>
          <a:solidFill>
            <a:srgbClr val="ff99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85988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Century Gothic"/>
              </a:rPr>
              <a:t>Quienes Som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53 Elipse"/>
          <p:cNvSpPr/>
          <p:nvPr/>
        </p:nvSpPr>
        <p:spPr>
          <a:xfrm>
            <a:off x="225360" y="284040"/>
            <a:ext cx="863640" cy="792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54 Imagen" descr=""/>
          <p:cNvPicPr/>
          <p:nvPr/>
        </p:nvPicPr>
        <p:blipFill>
          <a:blip r:embed="rId2"/>
          <a:srcRect l="0" t="0" r="83267" b="0"/>
          <a:stretch/>
        </p:blipFill>
        <p:spPr>
          <a:xfrm>
            <a:off x="262080" y="333360"/>
            <a:ext cx="709560" cy="647640"/>
          </a:xfrm>
          <a:prstGeom prst="rect">
            <a:avLst/>
          </a:prstGeom>
          <a:ln w="0">
            <a:noFill/>
          </a:ln>
        </p:spPr>
      </p:pic>
      <p:sp>
        <p:nvSpPr>
          <p:cNvPr id="70" name="14 Rectángulo"/>
          <p:cNvSpPr/>
          <p:nvPr/>
        </p:nvSpPr>
        <p:spPr>
          <a:xfrm>
            <a:off x="4537080" y="1125360"/>
            <a:ext cx="4572000" cy="58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Consolas"/>
              </a:rPr>
              <a:t>Argenti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nsolas"/>
              </a:rPr>
              <a:t>Gobierno de la Ciudad Autónoma de Buenos Ai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nsolas"/>
              </a:rPr>
              <a:t>Dirección Provincial de Anticorrupción y Transparencia del Sector Público de Santa F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nsola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Consolas"/>
              </a:rPr>
              <a:t>Bras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nsolas"/>
              </a:rPr>
              <a:t>Contraloría General de la Un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nsola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Consolas"/>
              </a:rPr>
              <a:t>Bolivi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nsolas"/>
              </a:rPr>
              <a:t>Ministerio para la Transparencia Institucional y Lucha contra la Corrup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nsola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Consolas"/>
              </a:rPr>
              <a:t>Chi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nsolas"/>
              </a:rPr>
              <a:t>Consejo para la Transparenc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nsola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Consolas"/>
              </a:rPr>
              <a:t>Colomb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nsolas"/>
              </a:rPr>
              <a:t>Secretaría de Transparencia de la Repúbl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nsolas"/>
              </a:rPr>
              <a:t>Procuraduría General de la N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nsola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Consolas"/>
              </a:rPr>
              <a:t>Ecua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nsolas"/>
              </a:rPr>
              <a:t>Defensoría del Pueb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nsola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Consolas"/>
              </a:rPr>
              <a:t>El Salva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nsolas"/>
              </a:rPr>
              <a:t>Instituto de Acceso a la Información Públ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nsolas"/>
              </a:rPr>
              <a:t>Subsecretaría de Transparencia y Anticorrup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nsola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Consolas"/>
              </a:rPr>
              <a:t>Guatem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nsolas"/>
              </a:rPr>
              <a:t>Comisión Presidencial de Transparencia y Gobierno Electrón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nsolas"/>
              </a:rPr>
              <a:t>Instituto Procurador de Derechos Huma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Consolas"/>
              </a:rPr>
              <a:t>Paragu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onsolas"/>
              </a:rPr>
              <a:t>Secretaría Nacional de Anticorrup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onsolas"/>
              </a:rPr>
              <a:t>Ministerio de Justicia de Paragu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onsolas"/>
              </a:rPr>
              <a:t>España</a:t>
            </a:r>
            <a:r>
              <a:rPr b="0" lang="es-MX" sz="10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onsolas"/>
              </a:rPr>
              <a:t>Consejo de Transparenc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nsola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15 Rectángulo"/>
          <p:cNvSpPr/>
          <p:nvPr/>
        </p:nvSpPr>
        <p:spPr>
          <a:xfrm>
            <a:off x="0" y="3429000"/>
            <a:ext cx="3348000" cy="34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Consolas"/>
              </a:rPr>
              <a:t>Hondur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nsolas"/>
              </a:rPr>
              <a:t>Instituto de Acces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nsolas"/>
              </a:rPr>
              <a:t>a la Informació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nsolas"/>
              </a:rPr>
              <a:t>Públ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nsola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Consolas"/>
              </a:rPr>
              <a:t>Méx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nsolas"/>
              </a:rPr>
              <a:t>Instituto Nacional de Acceso a 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nsolas"/>
              </a:rPr>
              <a:t>Información y Protección de Da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nsolas"/>
              </a:rPr>
              <a:t> 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Consolas"/>
              </a:rPr>
              <a:t>Perú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nsolas"/>
              </a:rPr>
              <a:t>Defensoría del Pueb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nsolas"/>
              </a:rPr>
              <a:t>Comisión de Alto Nivel Anticorrupción de la Presidencia del Consejo de Minist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nsola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Consolas"/>
              </a:rPr>
              <a:t>Urugu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nsolas"/>
              </a:rPr>
              <a:t>Unidad de Acceso a la Información Públ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nsola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Consolas"/>
              </a:rPr>
              <a:t>Organismos Internacional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nsolas"/>
              </a:rPr>
              <a:t>Programa de Cooperación Regional EUROsoc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nsolas"/>
              </a:rPr>
              <a:t>Organización de Estados Americanos, O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onsolas"/>
              </a:rPr>
              <a:t>Banco Mund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5213520" y="1162080"/>
            <a:ext cx="3930480" cy="5359320"/>
          </a:xfrm>
          <a:prstGeom prst="rect">
            <a:avLst/>
          </a:prstGeom>
          <a:ln w="0">
            <a:noFill/>
          </a:ln>
        </p:spPr>
      </p:pic>
      <p:sp>
        <p:nvSpPr>
          <p:cNvPr id="73" name="5 Rectángulo"/>
          <p:cNvSpPr/>
          <p:nvPr/>
        </p:nvSpPr>
        <p:spPr>
          <a:xfrm>
            <a:off x="826920" y="426960"/>
            <a:ext cx="8317080" cy="719280"/>
          </a:xfrm>
          <a:prstGeom prst="rect">
            <a:avLst/>
          </a:prstGeom>
          <a:solidFill>
            <a:srgbClr val="1f497d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06400" y="43488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Century Gothic"/>
              </a:rPr>
              <a:t>Punto de Partid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7 Elipse"/>
          <p:cNvSpPr/>
          <p:nvPr/>
        </p:nvSpPr>
        <p:spPr>
          <a:xfrm>
            <a:off x="179280" y="426960"/>
            <a:ext cx="863640" cy="77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6 Marcador de contenido" descr=""/>
          <p:cNvPicPr/>
          <p:nvPr/>
        </p:nvPicPr>
        <p:blipFill>
          <a:blip r:embed="rId2"/>
          <a:srcRect l="21100" t="0" r="59504" b="0"/>
          <a:stretch/>
        </p:blipFill>
        <p:spPr>
          <a:xfrm>
            <a:off x="250920" y="476280"/>
            <a:ext cx="779400" cy="620640"/>
          </a:xfrm>
          <a:prstGeom prst="rect">
            <a:avLst/>
          </a:prstGeom>
          <a:ln w="0">
            <a:noFill/>
          </a:ln>
        </p:spPr>
      </p:pic>
      <p:sp>
        <p:nvSpPr>
          <p:cNvPr id="77" name="9 Rectángulo"/>
          <p:cNvSpPr/>
          <p:nvPr/>
        </p:nvSpPr>
        <p:spPr>
          <a:xfrm>
            <a:off x="419040" y="1611360"/>
            <a:ext cx="5016600" cy="54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Century Gothic"/>
              </a:rPr>
              <a:t>Diagnóstico</a:t>
            </a:r>
            <a:r>
              <a:rPr b="0" lang="es-CL" sz="1600" spc="-1" strike="noStrike">
                <a:solidFill>
                  <a:srgbClr val="000000"/>
                </a:solidFill>
                <a:latin typeface="Century Gothic"/>
              </a:rPr>
              <a:t>: Detección de necesidades de información, desafíos comunes, mecanismos de colaboración. </a:t>
            </a:r>
            <a:r>
              <a:rPr b="0" lang="es-CL" sz="1600" spc="-1" strike="noStrike" u="sng">
                <a:solidFill>
                  <a:srgbClr val="000000"/>
                </a:solidFill>
                <a:uFillTx/>
                <a:latin typeface="Century Gothic"/>
              </a:rPr>
              <a:t>Enero 201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entury Gothic"/>
              </a:rPr>
              <a:t>Países:</a:t>
            </a: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 Bolivia, México, Perú, Uruguay y Ch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entury Gothic"/>
              </a:rPr>
              <a:t>Temas de Interés: </a:t>
            </a: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Jurisprudencia, Archivos, Capacitación y Difusión e Indicador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Abril 2011, I Seminario R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entury Gothic"/>
              </a:rPr>
              <a:t>Responsables por país </a:t>
            </a: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se asignan un tema y lo desarrollan en base a TdR. Abril 201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La </a:t>
            </a:r>
            <a:r>
              <a:rPr b="1" lang="es-ES" sz="1600" spc="-1" strike="noStrike">
                <a:solidFill>
                  <a:srgbClr val="000000"/>
                </a:solidFill>
                <a:latin typeface="Century Gothic"/>
              </a:rPr>
              <a:t>proyección de los temas </a:t>
            </a: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de interés común se discuten posteriormente en la PE RTA. Septiembre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Experiencia documentada en </a:t>
            </a:r>
            <a:r>
              <a:rPr b="0" lang="es-ES" sz="1600" spc="-1" strike="noStrike" u="sng">
                <a:solidFill>
                  <a:srgbClr val="0000ff"/>
                </a:solidFill>
                <a:uFillTx/>
                <a:latin typeface="Century Gothic"/>
                <a:hlinkClick r:id="rId3"/>
              </a:rPr>
              <a:t>http://redbancomundial.cplt.cl/index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2 Rectángulo"/>
          <p:cNvSpPr/>
          <p:nvPr/>
        </p:nvSpPr>
        <p:spPr>
          <a:xfrm>
            <a:off x="5435640" y="4941720"/>
            <a:ext cx="1873080" cy="172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4"/>
          <a:stretch/>
        </p:blipFill>
        <p:spPr>
          <a:xfrm>
            <a:off x="5148360" y="6093000"/>
            <a:ext cx="261144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7010640" cy="5151600"/>
          </a:xfrm>
          <a:prstGeom prst="rect">
            <a:avLst/>
          </a:prstGeom>
          <a:ln w="0">
            <a:noFill/>
          </a:ln>
        </p:spPr>
      </p:pic>
      <p:sp>
        <p:nvSpPr>
          <p:cNvPr id="81" name="6 Rectángulo"/>
          <p:cNvSpPr/>
          <p:nvPr/>
        </p:nvSpPr>
        <p:spPr>
          <a:xfrm>
            <a:off x="826920" y="426960"/>
            <a:ext cx="8317080" cy="719280"/>
          </a:xfrm>
          <a:prstGeom prst="rect">
            <a:avLst/>
          </a:prstGeom>
          <a:solidFill>
            <a:srgbClr val="008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06400" y="43488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Century Gothic"/>
              </a:rPr>
              <a:t>Que hacem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9 Elipse"/>
          <p:cNvSpPr/>
          <p:nvPr/>
        </p:nvSpPr>
        <p:spPr>
          <a:xfrm>
            <a:off x="179280" y="426960"/>
            <a:ext cx="863640" cy="77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5 Imagen" descr=""/>
          <p:cNvPicPr/>
          <p:nvPr/>
        </p:nvPicPr>
        <p:blipFill>
          <a:blip r:embed="rId2"/>
          <a:srcRect l="41812" t="0" r="39973" b="0"/>
          <a:stretch/>
        </p:blipFill>
        <p:spPr>
          <a:xfrm>
            <a:off x="179280" y="476280"/>
            <a:ext cx="814320" cy="690480"/>
          </a:xfrm>
          <a:prstGeom prst="rect">
            <a:avLst/>
          </a:prstGeom>
          <a:ln w="0">
            <a:noFill/>
          </a:ln>
        </p:spPr>
      </p:pic>
      <p:sp>
        <p:nvSpPr>
          <p:cNvPr id="85" name="8 CuadroTexto"/>
          <p:cNvSpPr/>
          <p:nvPr/>
        </p:nvSpPr>
        <p:spPr>
          <a:xfrm rot="16200000">
            <a:off x="-1807920" y="3482640"/>
            <a:ext cx="463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a6a6a6"/>
                </a:solidFill>
                <a:latin typeface="Century Gothic"/>
              </a:rPr>
              <a:t>FOCO EN LA GEST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10 Rectángulo"/>
          <p:cNvSpPr/>
          <p:nvPr/>
        </p:nvSpPr>
        <p:spPr>
          <a:xfrm>
            <a:off x="3492360" y="6486480"/>
            <a:ext cx="562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Gill Sans MT Condensed"/>
              </a:rPr>
              <a:t>Mapa Estratégico Ajustado en VIII Encuentro Brasilia 201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1 CuadroTexto"/>
          <p:cNvSpPr/>
          <p:nvPr/>
        </p:nvSpPr>
        <p:spPr>
          <a:xfrm>
            <a:off x="1979640" y="3672000"/>
            <a:ext cx="971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Segoe Print"/>
              </a:rPr>
              <a:t>Archiv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11 CuadroTexto"/>
          <p:cNvSpPr/>
          <p:nvPr/>
        </p:nvSpPr>
        <p:spPr>
          <a:xfrm>
            <a:off x="3492360" y="3672000"/>
            <a:ext cx="144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Segoe Print"/>
              </a:rPr>
              <a:t>Indicador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12 CuadroTexto"/>
          <p:cNvSpPr/>
          <p:nvPr/>
        </p:nvSpPr>
        <p:spPr>
          <a:xfrm>
            <a:off x="5148360" y="3672000"/>
            <a:ext cx="1582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Segoe Print"/>
              </a:rPr>
              <a:t>Jurisprudenci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13 CuadroTexto"/>
          <p:cNvSpPr/>
          <p:nvPr/>
        </p:nvSpPr>
        <p:spPr>
          <a:xfrm>
            <a:off x="6588000" y="3673440"/>
            <a:ext cx="1513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Segoe Print"/>
              </a:rPr>
              <a:t>Cap. y difus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6 Rectángulo"/>
          <p:cNvSpPr/>
          <p:nvPr/>
        </p:nvSpPr>
        <p:spPr>
          <a:xfrm>
            <a:off x="826920" y="426960"/>
            <a:ext cx="8317080" cy="719280"/>
          </a:xfrm>
          <a:prstGeom prst="rect">
            <a:avLst/>
          </a:prstGeom>
          <a:solidFill>
            <a:srgbClr val="008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06400" y="43488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Century Gothic"/>
              </a:rPr>
              <a:t>Cómo funcionam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9 Elipse"/>
          <p:cNvSpPr/>
          <p:nvPr/>
        </p:nvSpPr>
        <p:spPr>
          <a:xfrm>
            <a:off x="179280" y="426960"/>
            <a:ext cx="863640" cy="77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5 Imagen" descr=""/>
          <p:cNvPicPr/>
          <p:nvPr/>
        </p:nvPicPr>
        <p:blipFill>
          <a:blip r:embed="rId1"/>
          <a:srcRect l="41812" t="0" r="39973" b="0"/>
          <a:stretch/>
        </p:blipFill>
        <p:spPr>
          <a:xfrm>
            <a:off x="179280" y="476280"/>
            <a:ext cx="814320" cy="690480"/>
          </a:xfrm>
          <a:prstGeom prst="rect">
            <a:avLst/>
          </a:prstGeom>
          <a:ln w="0">
            <a:noFill/>
          </a:ln>
        </p:spPr>
      </p:pic>
      <p:sp>
        <p:nvSpPr>
          <p:cNvPr id="95" name="8 CuadroTexto"/>
          <p:cNvSpPr/>
          <p:nvPr/>
        </p:nvSpPr>
        <p:spPr>
          <a:xfrm rot="16200000">
            <a:off x="-1852920" y="3505320"/>
            <a:ext cx="540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a6a6a6"/>
                </a:solidFill>
                <a:latin typeface="Century Gothic"/>
              </a:rPr>
              <a:t>HERRAMIENTAS DE APOY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1 CuadroTexto"/>
          <p:cNvSpPr/>
          <p:nvPr/>
        </p:nvSpPr>
        <p:spPr>
          <a:xfrm>
            <a:off x="1476360" y="1773360"/>
            <a:ext cx="705636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entury Gothic"/>
              </a:rPr>
              <a:t>Estudios de entorno y control de gestión </a:t>
            </a: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en base a la,</a:t>
            </a:r>
            <a:r>
              <a:rPr b="0" i="1" lang="es-ES" sz="1600" spc="-1" strike="noStrike">
                <a:solidFill>
                  <a:srgbClr val="000000"/>
                </a:solidFill>
                <a:latin typeface="Century Gothic"/>
              </a:rPr>
              <a:t> escucha activa del cliente y otras partes interesadas, </a:t>
            </a: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 estándares en base a la metodología BSC, y con evaluación perman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entury Gothic"/>
              </a:rPr>
              <a:t>Gobierno Corporativo</a:t>
            </a: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: Administración de la Red a través de roles y responsabilidad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entury Gothic"/>
              </a:rPr>
              <a:t>Encuentros Anuales</a:t>
            </a: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: Encuentros presenciales, a nivel de estrategia y técnicos. Discusión documentada a tabla definida y con seguimiento de acuer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entury Gothic"/>
              </a:rPr>
              <a:t>Espacio Colaborativo</a:t>
            </a: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: Espacio online donde: (i)difusión del desempeño de la LT por países y desde la RTA; (ii) Foros de trabajo en base a las iniciativas que acompañan la estrateg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entury Gothic"/>
              </a:rPr>
              <a:t>Apoyo Agencias Internacionales y Sociedad Civil</a:t>
            </a: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: Colaboración en base a estrategia regionales que impactan en la implementación de la política pública de transparen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25 Llamada ovalada"/>
          <p:cNvSpPr/>
          <p:nvPr/>
        </p:nvSpPr>
        <p:spPr>
          <a:xfrm>
            <a:off x="6005520" y="4749840"/>
            <a:ext cx="2808360" cy="153828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25560">
            <a:solidFill>
              <a:srgbClr val="dbee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24 Llamada ovalada"/>
          <p:cNvSpPr/>
          <p:nvPr/>
        </p:nvSpPr>
        <p:spPr>
          <a:xfrm>
            <a:off x="468360" y="3675240"/>
            <a:ext cx="2808360" cy="153828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23 Llamada ovalada"/>
          <p:cNvSpPr/>
          <p:nvPr/>
        </p:nvSpPr>
        <p:spPr>
          <a:xfrm>
            <a:off x="4778280" y="2662200"/>
            <a:ext cx="2808360" cy="153828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25560">
            <a:solidFill>
              <a:srgbClr val="f2dc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2 Llamada ovalada"/>
          <p:cNvSpPr/>
          <p:nvPr/>
        </p:nvSpPr>
        <p:spPr>
          <a:xfrm>
            <a:off x="1044720" y="1319040"/>
            <a:ext cx="2808000" cy="153864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5 Rectángulo"/>
          <p:cNvSpPr/>
          <p:nvPr/>
        </p:nvSpPr>
        <p:spPr>
          <a:xfrm>
            <a:off x="826920" y="426960"/>
            <a:ext cx="8317080" cy="719280"/>
          </a:xfrm>
          <a:prstGeom prst="rect">
            <a:avLst/>
          </a:prstGeom>
          <a:solidFill>
            <a:srgbClr val="ff33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06400" y="43488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Century Gothic"/>
              </a:rPr>
              <a:t>Nuestros Product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7 Elipse"/>
          <p:cNvSpPr/>
          <p:nvPr/>
        </p:nvSpPr>
        <p:spPr>
          <a:xfrm>
            <a:off x="179280" y="426960"/>
            <a:ext cx="863640" cy="77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9 Marcador de contenido" descr=""/>
          <p:cNvPicPr/>
          <p:nvPr/>
        </p:nvPicPr>
        <p:blipFill>
          <a:blip r:embed="rId1"/>
          <a:srcRect l="62151" t="0" r="19642" b="0"/>
          <a:stretch/>
        </p:blipFill>
        <p:spPr>
          <a:xfrm>
            <a:off x="144360" y="446040"/>
            <a:ext cx="827280" cy="700200"/>
          </a:xfrm>
          <a:prstGeom prst="rect">
            <a:avLst/>
          </a:prstGeom>
          <a:ln w="0">
            <a:noFill/>
          </a:ln>
        </p:spPr>
      </p:pic>
      <p:sp>
        <p:nvSpPr>
          <p:cNvPr id="105" name="10 CuadroTexto"/>
          <p:cNvSpPr/>
          <p:nvPr/>
        </p:nvSpPr>
        <p:spPr>
          <a:xfrm>
            <a:off x="250920" y="602604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70c0"/>
                </a:solidFill>
                <a:latin typeface="Century Gothic"/>
              </a:rPr>
              <a:t>Bases de Jurisprud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11 CuadroTexto"/>
          <p:cNvSpPr/>
          <p:nvPr/>
        </p:nvSpPr>
        <p:spPr>
          <a:xfrm>
            <a:off x="528480" y="1465200"/>
            <a:ext cx="50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6a6a6"/>
                </a:solidFill>
                <a:latin typeface="Century Gothic"/>
              </a:rPr>
              <a:t>Modelo de Gestión Documental y de Arch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12 CuadroTexto"/>
          <p:cNvSpPr/>
          <p:nvPr/>
        </p:nvSpPr>
        <p:spPr>
          <a:xfrm>
            <a:off x="3851280" y="2649600"/>
            <a:ext cx="504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NSimSun"/>
                <a:ea typeface="NSimSun"/>
              </a:rPr>
              <a:t>Cliente Ocult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NSimSun"/>
                <a:ea typeface="NSimSun"/>
              </a:rPr>
              <a:t>Evaluación de Barreras Entrada DA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3 CuadroTexto"/>
          <p:cNvSpPr/>
          <p:nvPr/>
        </p:nvSpPr>
        <p:spPr>
          <a:xfrm>
            <a:off x="5722920" y="3346560"/>
            <a:ext cx="30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b050"/>
                </a:solidFill>
                <a:latin typeface="Century Gothic"/>
              </a:rPr>
              <a:t>Modelo Teórico de Medición del D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4 CuadroTexto"/>
          <p:cNvSpPr/>
          <p:nvPr/>
        </p:nvSpPr>
        <p:spPr>
          <a:xfrm>
            <a:off x="1325520" y="400536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0099"/>
                </a:solidFill>
                <a:latin typeface="Segoe Script"/>
              </a:rPr>
              <a:t>Concurso de Cor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15 CuadroTexto"/>
          <p:cNvSpPr/>
          <p:nvPr/>
        </p:nvSpPr>
        <p:spPr>
          <a:xfrm>
            <a:off x="468360" y="22734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Plan Pilo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16 CuadroTexto"/>
          <p:cNvSpPr/>
          <p:nvPr/>
        </p:nvSpPr>
        <p:spPr>
          <a:xfrm>
            <a:off x="2700360" y="5622840"/>
            <a:ext cx="616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46c0a"/>
                </a:solidFill>
                <a:latin typeface="Century Gothic"/>
              </a:rPr>
              <a:t>Modelo de Financiamien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46c0a"/>
                </a:solidFill>
                <a:latin typeface="Century Gothic"/>
              </a:rPr>
              <a:t>de la 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17 CuadroTexto"/>
          <p:cNvSpPr/>
          <p:nvPr/>
        </p:nvSpPr>
        <p:spPr>
          <a:xfrm>
            <a:off x="1042920" y="371628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58ed5"/>
                </a:solidFill>
                <a:latin typeface="Segoe Print"/>
              </a:rPr>
              <a:t>Folletería 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18 CuadroTexto"/>
          <p:cNvSpPr/>
          <p:nvPr/>
        </p:nvSpPr>
        <p:spPr>
          <a:xfrm>
            <a:off x="4092480" y="3429000"/>
            <a:ext cx="2208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Segoe Script"/>
              </a:rPr>
              <a:t>Estud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Segoe Script"/>
              </a:rPr>
              <a:t>Compromisos O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19 CuadroTexto"/>
          <p:cNvSpPr/>
          <p:nvPr/>
        </p:nvSpPr>
        <p:spPr>
          <a:xfrm>
            <a:off x="6289560" y="504504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HERRAMIENTA DIAGNO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20 CuadroTexto"/>
          <p:cNvSpPr/>
          <p:nvPr/>
        </p:nvSpPr>
        <p:spPr>
          <a:xfrm>
            <a:off x="216000" y="541332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b050"/>
                </a:solidFill>
                <a:latin typeface="Century Gothic"/>
              </a:rPr>
              <a:t>Seminari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1 Rectángulo"/>
          <p:cNvSpPr/>
          <p:nvPr/>
        </p:nvSpPr>
        <p:spPr>
          <a:xfrm>
            <a:off x="600840" y="4924440"/>
            <a:ext cx="347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Bradley Hand ITC"/>
              </a:rPr>
              <a:t>www.redrta.cplt.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21 CuadroTexto"/>
          <p:cNvSpPr/>
          <p:nvPr/>
        </p:nvSpPr>
        <p:spPr>
          <a:xfrm>
            <a:off x="108000" y="436572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7030a0"/>
                </a:solidFill>
                <a:latin typeface="Lucida Sans Unicode"/>
                <a:ea typeface="Lucida Sans Unicode"/>
              </a:rPr>
              <a:t>Boletín R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22 CuadroTexto"/>
          <p:cNvSpPr/>
          <p:nvPr/>
        </p:nvSpPr>
        <p:spPr>
          <a:xfrm>
            <a:off x="2790720" y="188136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70c0"/>
                </a:solidFill>
                <a:latin typeface="Century Gothic"/>
              </a:rPr>
              <a:t>Guías de implemen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5 Rectángulo"/>
          <p:cNvSpPr/>
          <p:nvPr/>
        </p:nvSpPr>
        <p:spPr>
          <a:xfrm>
            <a:off x="826920" y="426960"/>
            <a:ext cx="8317080" cy="71928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6 Elipse"/>
          <p:cNvSpPr/>
          <p:nvPr/>
        </p:nvSpPr>
        <p:spPr>
          <a:xfrm>
            <a:off x="179280" y="426960"/>
            <a:ext cx="863640" cy="77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06400" y="43488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Century Gothic"/>
              </a:rPr>
              <a:t>Los Desafí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8 Marcador de contenido" descr=""/>
          <p:cNvPicPr/>
          <p:nvPr/>
        </p:nvPicPr>
        <p:blipFill>
          <a:blip r:embed="rId1"/>
          <a:srcRect l="83244" t="0" r="0" b="0"/>
          <a:stretch/>
        </p:blipFill>
        <p:spPr>
          <a:xfrm>
            <a:off x="179280" y="446040"/>
            <a:ext cx="762120" cy="700200"/>
          </a:xfrm>
          <a:prstGeom prst="rect">
            <a:avLst/>
          </a:prstGeom>
          <a:ln w="0">
            <a:noFill/>
          </a:ln>
        </p:spPr>
      </p:pic>
      <p:sp>
        <p:nvSpPr>
          <p:cNvPr id="123" name="9 Rectángulo"/>
          <p:cNvSpPr/>
          <p:nvPr/>
        </p:nvSpPr>
        <p:spPr>
          <a:xfrm>
            <a:off x="395280" y="1268280"/>
            <a:ext cx="7993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7030a0"/>
                </a:solidFill>
                <a:latin typeface="Century Gothic"/>
              </a:rPr>
              <a:t>IMPLEMENTACIÓN A NIVEL DE PILOTO DEL MODELO DE GESTIÓN DOCUMENTAL Y EL MODELO DE MEDICIÓN REG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b050"/>
                </a:solidFill>
                <a:latin typeface="Century Gothic"/>
              </a:rPr>
              <a:t>Evaluación de Transparencia en Partidos Políticos</a:t>
            </a: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: Determinar metodologías e instrumentos de medición que aporten a la evaluación de los procesos de transparencia en los partidos políticos y su gest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b0f0"/>
                </a:solidFill>
                <a:latin typeface="Century Gothic"/>
              </a:rPr>
              <a:t>Procesos alternativos de resolución de conflictos</a:t>
            </a: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: Investigar, determinar y formalizar en base a la experiencia internacional buenas prácticas en materia de solución alternativa de conflictos con el objetivo de impactar en la disminución de los tiempos de tramitación de reclamos y mayor satisfacción usua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Century Gothic"/>
              </a:rPr>
              <a:t>Diplomado Regional: </a:t>
            </a: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Dictar un diplomado con el objetivo de formar una nueva generación de jóvenes profesionales influyentes de distintos países de la región, expertos en Transparencia y Acceso a la Información Públ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entury Gothic"/>
              </a:rPr>
              <a:t>En Sínte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4 Marcador de contenido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4032360" cy="622440"/>
          </a:xfrm>
          <a:prstGeom prst="rect">
            <a:avLst/>
          </a:prstGeom>
          <a:ln w="0">
            <a:noFill/>
          </a:ln>
        </p:spPr>
      </p:pic>
      <p:sp>
        <p:nvSpPr>
          <p:cNvPr id="126" name="5 CuadroTexto"/>
          <p:cNvSpPr/>
          <p:nvPr/>
        </p:nvSpPr>
        <p:spPr>
          <a:xfrm>
            <a:off x="611280" y="1700280"/>
            <a:ext cx="79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Una red de colaboración y aprendizaje, impacta no solo en el fortalecimiento de las capacidades institucionales, sino también en la política públ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La Red funciona en BASE a procesos estandarizados y herramientas de apoy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Dichos procesos se soportan en una visión estratégica y en la implementación de un rol opera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Los organismos internacionales y la sociedad civil son aliados estratég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9T12:33:30Z</dcterms:created>
  <dc:creator>María José Méndez Hernandez</dc:creator>
  <dc:description/>
  <dc:language>en-US</dc:language>
  <cp:lastModifiedBy>Gabriel Delpiazzo</cp:lastModifiedBy>
  <cp:lastPrinted>2015-04-20T12:16:11Z</cp:lastPrinted>
  <dcterms:modified xsi:type="dcterms:W3CDTF">2015-07-25T14:02:13Z</dcterms:modified>
  <cp:revision>33</cp:revision>
  <dc:subject/>
  <dc:title>Plataforma de Cooperación y Fortalecimiento Regional</dc:title>
</cp:coreProperties>
</file>