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384624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624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6280"/>
                <a:tab algn="l" pos="2057400"/>
                <a:tab algn="l" pos="24685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6280"/>
                <a:tab algn="l" pos="2057400"/>
                <a:tab algn="l" pos="24685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BB73D-4E64-4D73-BB12-0BC29B882155}" type="slidenum">
              <a:rPr b="0" lang="pt-BR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63720" y="636480"/>
            <a:ext cx="4225680" cy="31705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qui é o momento de falar do apoio do Eurosocial para a implementação dos NAF, com o apoio técnico da Receita Federal, em diversos países da América Latina. Bolívia, Brasil, Chile, Costa Rica, Equador, El Salvador, Guatemala, Honduras, Méxi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2840" indent="-3128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razón del desarrollo de los NAF en Brasil, fue comprehendida la necesidad de adoptarse una estandariz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0" algn="just"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finalidad de la estandarización es la disponibilización de informaciones y documentos (modelos) que subsidien las unidades de la Receita Federal, desde la prospección de las Instituciones de Enseñanza Superior interesadas en la creación de los NAF hasta la apertura y manutención en funcionamiento de los Núcle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ursos Logístico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(A RFB não aporta recursos financeiros, todavía sugere modelo estrutura física dos NAF, establece previsão custos de deslocamentos dos servidores com diárias e passagens, sugestão de destinação preferencial de mercadorias apreendidas em razão das atividades de educação fiscal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strutura de Pesso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Quantitativo de servidores, perfil dos servidores, grau de dedicação (preocupação dos gestores regionais sobre quantos servidores e qual o tempo disponibilizado para a atividade, necessidade de planejamento para eventual expansão dos NAF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trizes de Relacionamento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o envolver outros órgãos, por exemplo, CFC (isto decorreu de preocupações das Universidades sobre eventual conflito com os contadores), Sefaz, Sefin (experiencia da UNIFOR), Sebrae (responsável pelos MEI). Estabelece-se também 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luxo de aproximacao com as IES (como abordar as 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no básico de formação dos alunos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 a ampliação dos NAF no Brasil, foi necesario formatar uma formação (técnica e valores) para os alunos, preferencialmente de forma não presencial. Oferecimento do curso cidadania fiscal e plataforma de treinamento cubo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dentidade Vis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Havia o questionamento reiterado sobre a utilização do logo da RFB no material de divulgacao dos NAF realizado pelas 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letada de dado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necessidade de aprimoramento dos registros tais como (dados dos NAF, dos profesores, dos alunos, do atendimento realizado, da satisfacao do usuario e da fomacao do aluno no que se refere à cultura fisc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os padrão – acordo de cooperacao, oficio, palestra padrão, regulamento interno dos NAF, folhetos orientativ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AF2-9D3E-4B11-B257-807A2A2A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DD8-4C2F-47DB-8C2D-059B5FF1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0282-E10D-4F32-A07F-47D0202E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AD1-DD07-4145-B168-7CB9B3A9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E9C-7CFD-42EE-97E5-7F4FB7C7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1D4-3DBF-49DE-8D6C-10A3EB13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DBD-3BFD-48A7-ACB7-34AEB02A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5FC-237A-4892-B62D-9E945734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9988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B4F-3002-44FF-9145-A9BC019E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75D-9544-42A1-9902-7AE1B896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626-F739-4A74-BAB7-B59C6ADC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F14-1ED5-4EC9-8CF2-C0AA0EA4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EC820-0927-4198-888E-95D65510A82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853920"/>
            <a:ext cx="10061640" cy="670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503280" y="299880"/>
            <a:ext cx="90709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Taller Internacional de Educación Fis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m 4" descr=""/>
          <p:cNvPicPr/>
          <p:nvPr/>
        </p:nvPicPr>
        <p:blipFill>
          <a:blip r:embed="rId1"/>
          <a:stretch/>
        </p:blipFill>
        <p:spPr>
          <a:xfrm>
            <a:off x="1727280" y="1979640"/>
            <a:ext cx="6351480" cy="3965400"/>
          </a:xfrm>
          <a:prstGeom prst="rect">
            <a:avLst/>
          </a:prstGeom>
          <a:ln w="0">
            <a:noFill/>
          </a:ln>
        </p:spPr>
      </p:pic>
      <p:pic>
        <p:nvPicPr>
          <p:cNvPr id="51" name="Imagem 5" descr=""/>
          <p:cNvPicPr/>
          <p:nvPr/>
        </p:nvPicPr>
        <p:blipFill>
          <a:blip r:embed="rId2"/>
          <a:stretch/>
        </p:blipFill>
        <p:spPr>
          <a:xfrm>
            <a:off x="6261120" y="5448240"/>
            <a:ext cx="3313080" cy="870120"/>
          </a:xfrm>
          <a:prstGeom prst="rect">
            <a:avLst/>
          </a:prstGeom>
          <a:ln w="0">
            <a:noFill/>
          </a:ln>
        </p:spPr>
      </p:pic>
      <p:sp>
        <p:nvSpPr>
          <p:cNvPr id="52" name="Retângulo 6"/>
          <p:cNvSpPr/>
          <p:nvPr/>
        </p:nvSpPr>
        <p:spPr>
          <a:xfrm>
            <a:off x="-17640" y="6156360"/>
            <a:ext cx="60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Arial"/>
              </a:rPr>
              <a:t>La Paz (Bolivia), 27 – 31 de julio de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"/>
          <p:cNvSpPr/>
          <p:nvPr/>
        </p:nvSpPr>
        <p:spPr>
          <a:xfrm>
            <a:off x="503280" y="958680"/>
            <a:ext cx="90709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Arial"/>
              </a:rPr>
              <a:t>International Tax Education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aixaDeTexto 4"/>
          <p:cNvSpPr/>
          <p:nvPr/>
        </p:nvSpPr>
        <p:spPr>
          <a:xfrm>
            <a:off x="792000" y="179280"/>
            <a:ext cx="7056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incip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Benefic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ixaDeTexto 4"/>
          <p:cNvSpPr/>
          <p:nvPr/>
        </p:nvSpPr>
        <p:spPr>
          <a:xfrm>
            <a:off x="2735280" y="611280"/>
            <a:ext cx="705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AF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Key benef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de cantos arredondados 5"/>
          <p:cNvSpPr/>
          <p:nvPr/>
        </p:nvSpPr>
        <p:spPr>
          <a:xfrm>
            <a:off x="457200" y="1619280"/>
            <a:ext cx="2854440" cy="1152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Arial"/>
              </a:rPr>
              <a:t>Socie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de cantos arredondados 13"/>
          <p:cNvSpPr/>
          <p:nvPr/>
        </p:nvSpPr>
        <p:spPr>
          <a:xfrm>
            <a:off x="457200" y="2987640"/>
            <a:ext cx="2854440" cy="1152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Arial"/>
              </a:rPr>
              <a:t>Estud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ângulo de cantos arredondados 14"/>
          <p:cNvSpPr/>
          <p:nvPr/>
        </p:nvSpPr>
        <p:spPr>
          <a:xfrm>
            <a:off x="457200" y="4351320"/>
            <a:ext cx="2854440" cy="1152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Arial"/>
              </a:rPr>
              <a:t>Univers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ângulo de cantos arredondados 15"/>
          <p:cNvSpPr/>
          <p:nvPr/>
        </p:nvSpPr>
        <p:spPr>
          <a:xfrm>
            <a:off x="457200" y="5724360"/>
            <a:ext cx="2854440" cy="115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Arial"/>
              </a:rPr>
              <a:t>Adm. Tribut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Tax Admin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ixaDeTexto 16"/>
          <p:cNvSpPr/>
          <p:nvPr/>
        </p:nvSpPr>
        <p:spPr>
          <a:xfrm>
            <a:off x="3402000" y="1857240"/>
            <a:ext cx="59421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sistencia contábile y fiscal gratu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Free tax and accounting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18"/>
          <p:cNvSpPr/>
          <p:nvPr/>
        </p:nvSpPr>
        <p:spPr>
          <a:xfrm>
            <a:off x="3402000" y="3008160"/>
            <a:ext cx="638964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jora de la formación técnica y la cultura fis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Improv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technic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train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tax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9"/>
          <p:cNvSpPr/>
          <p:nvPr/>
        </p:nvSpPr>
        <p:spPr>
          <a:xfrm>
            <a:off x="3402000" y="4576680"/>
            <a:ext cx="59054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cciones de impacto social (integra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Soci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impact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action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(integr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20"/>
          <p:cNvSpPr/>
          <p:nvPr/>
        </p:nvSpPr>
        <p:spPr>
          <a:xfrm>
            <a:off x="3402000" y="5915160"/>
            <a:ext cx="59054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esarrollo de la Moral Fisc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Tax morale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44360" y="1332000"/>
            <a:ext cx="36244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800"/>
            </a:br>
            <a:r>
              <a:rPr b="1" lang="pt-BR" sz="4800" spc="-1" strike="noStrike">
                <a:solidFill>
                  <a:srgbClr val="002060"/>
                </a:solidFill>
                <a:latin typeface="Arial"/>
                <a:ea typeface="SimSun"/>
              </a:rPr>
              <a:t>¿Dónde Estamo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3873600"/>
            <a:ext cx="39132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800"/>
            </a:br>
            <a:r>
              <a:rPr b="1" i="1" lang="pt-BR" sz="4800" spc="-1" strike="noStrike">
                <a:solidFill>
                  <a:srgbClr val="ff0000"/>
                </a:solidFill>
                <a:latin typeface="Arial"/>
                <a:ea typeface="SimSun"/>
              </a:rPr>
              <a:t>Where are w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m 1" descr=""/>
          <p:cNvPicPr/>
          <p:nvPr/>
        </p:nvPicPr>
        <p:blipFill>
          <a:blip r:embed="rId1"/>
          <a:stretch/>
        </p:blipFill>
        <p:spPr>
          <a:xfrm>
            <a:off x="3456000" y="54000"/>
            <a:ext cx="6508800" cy="72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ixaDeTexto 2"/>
          <p:cNvSpPr/>
          <p:nvPr/>
        </p:nvSpPr>
        <p:spPr>
          <a:xfrm>
            <a:off x="0" y="34920"/>
            <a:ext cx="9793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2060"/>
                </a:solidFill>
                <a:latin typeface="Arial"/>
                <a:ea typeface="SimSun"/>
              </a:rPr>
              <a:t>Evolución de los NAF en Brasi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7"/>
          <p:cNvSpPr/>
          <p:nvPr/>
        </p:nvSpPr>
        <p:spPr>
          <a:xfrm>
            <a:off x="1871640" y="790560"/>
            <a:ext cx="8137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600" spc="-1" strike="noStrike">
                <a:solidFill>
                  <a:srgbClr val="ff0000"/>
                </a:solidFill>
                <a:latin typeface="Arial"/>
                <a:ea typeface="SimSun"/>
              </a:rPr>
              <a:t>Evolution of NAF in Brazi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m 8" descr=""/>
          <p:cNvPicPr/>
          <p:nvPr/>
        </p:nvPicPr>
        <p:blipFill>
          <a:blip r:embed="rId1"/>
          <a:stretch/>
        </p:blipFill>
        <p:spPr>
          <a:xfrm>
            <a:off x="647640" y="1835280"/>
            <a:ext cx="89251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CaixaDeTexto 1"/>
          <p:cNvSpPr/>
          <p:nvPr/>
        </p:nvSpPr>
        <p:spPr>
          <a:xfrm>
            <a:off x="216000" y="179280"/>
            <a:ext cx="417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SimSun"/>
              </a:rPr>
              <a:t>Estandar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ixaDeTexto 2"/>
          <p:cNvSpPr/>
          <p:nvPr/>
        </p:nvSpPr>
        <p:spPr>
          <a:xfrm>
            <a:off x="144360" y="2266920"/>
            <a:ext cx="468000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Arial"/>
                <a:ea typeface="SimSun"/>
              </a:rPr>
              <a:t>Expansión de los NAF por el paí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Información uniforme para los representante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Necesidad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Riesgo para la imagen i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3"/>
          <p:cNvSpPr/>
          <p:nvPr/>
        </p:nvSpPr>
        <p:spPr>
          <a:xfrm>
            <a:off x="5832360" y="581040"/>
            <a:ext cx="417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SimSun"/>
              </a:rPr>
              <a:t>Standard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4"/>
          <p:cNvSpPr/>
          <p:nvPr/>
        </p:nvSpPr>
        <p:spPr>
          <a:xfrm>
            <a:off x="5327640" y="2266920"/>
            <a:ext cx="45370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Arial"/>
                <a:ea typeface="SimSun"/>
              </a:rPr>
              <a:t>Expansion of NAF trough the cou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Equable information for the local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Need fo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Reputation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CaixaDeTexto 1"/>
          <p:cNvSpPr/>
          <p:nvPr/>
        </p:nvSpPr>
        <p:spPr>
          <a:xfrm>
            <a:off x="71280" y="250920"/>
            <a:ext cx="72010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SimSun"/>
              </a:rPr>
              <a:t>¿Qué estamos estandarizando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ixaDeTexto 2"/>
          <p:cNvSpPr/>
          <p:nvPr/>
        </p:nvSpPr>
        <p:spPr>
          <a:xfrm>
            <a:off x="216000" y="1619280"/>
            <a:ext cx="9577440" cy="53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Recursos Logí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Logistic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Estructura de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Personne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Directrices de Relacio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Relationship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Plan básico de formación de los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Basic plan for training of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Identidad 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Visual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Coleta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Data col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Documentos estandar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Patterned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ixaDeTexto 3"/>
          <p:cNvSpPr/>
          <p:nvPr/>
        </p:nvSpPr>
        <p:spPr>
          <a:xfrm>
            <a:off x="2664000" y="755640"/>
            <a:ext cx="7345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SimSun"/>
              </a:rPr>
              <a:t>What we are standardizing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ixaDeTexto 1"/>
          <p:cNvSpPr/>
          <p:nvPr/>
        </p:nvSpPr>
        <p:spPr>
          <a:xfrm>
            <a:off x="71280" y="34920"/>
            <a:ext cx="540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SimSun"/>
              </a:rPr>
              <a:t>Próximos pa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ixaDeTexto 3"/>
          <p:cNvSpPr/>
          <p:nvPr/>
        </p:nvSpPr>
        <p:spPr>
          <a:xfrm>
            <a:off x="71280" y="4211640"/>
            <a:ext cx="986472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Consolidación de la Red N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NAF’s network conso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Standard en nivel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Setting reg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Mecanismos comunes de evaluación de los N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Definition of common evaluation mechanisms for the N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ixaDeTexto 4"/>
          <p:cNvSpPr/>
          <p:nvPr/>
        </p:nvSpPr>
        <p:spPr>
          <a:xfrm>
            <a:off x="4392720" y="108000"/>
            <a:ext cx="55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SimSun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ixaDeTexto 2"/>
          <p:cNvSpPr/>
          <p:nvPr/>
        </p:nvSpPr>
        <p:spPr>
          <a:xfrm>
            <a:off x="71280" y="863640"/>
            <a:ext cx="9864720" cy="28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Implementar el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To implement th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Ampliar a ni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To expand nation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Crear iniciativas para estimular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To create iniciatives to stimulate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5"/>
          <p:cNvSpPr/>
          <p:nvPr/>
        </p:nvSpPr>
        <p:spPr>
          <a:xfrm>
            <a:off x="3303720" y="533520"/>
            <a:ext cx="340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</a:rPr>
              <a:t>Brasil /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Braz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ixaDeTexto 7"/>
          <p:cNvSpPr/>
          <p:nvPr/>
        </p:nvSpPr>
        <p:spPr>
          <a:xfrm>
            <a:off x="1835280" y="3925800"/>
            <a:ext cx="633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</a:rPr>
              <a:t>América Latina /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Lat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ixaDeTexto 4"/>
          <p:cNvSpPr/>
          <p:nvPr/>
        </p:nvSpPr>
        <p:spPr>
          <a:xfrm>
            <a:off x="-431640" y="325440"/>
            <a:ext cx="6335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SimSun"/>
              </a:rPr>
              <a:t>¡Muchas Gracia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ixaDeTexto 6"/>
          <p:cNvSpPr/>
          <p:nvPr/>
        </p:nvSpPr>
        <p:spPr>
          <a:xfrm>
            <a:off x="216000" y="5435640"/>
            <a:ext cx="9577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urier New"/>
                <a:ea typeface="SimSun"/>
              </a:rPr>
              <a:t>João Maurício V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SimSun"/>
              </a:rPr>
              <a:t>Coordinador-General de Asistencia al contribuyente y Educación Fis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SimSun"/>
              </a:rPr>
              <a:t>Secretaria da Receita Federal d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urier New"/>
                <a:ea typeface="SimSun"/>
              </a:rPr>
              <a:t>joao.vital@rfb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newsrondonia.com.br/imagensNoticias/image/rf01(4).jpg"/>
          <p:cNvPicPr/>
          <p:nvPr/>
        </p:nvPicPr>
        <p:blipFill>
          <a:blip r:embed="rId1"/>
          <a:stretch/>
        </p:blipFill>
        <p:spPr>
          <a:xfrm>
            <a:off x="3086280" y="1979640"/>
            <a:ext cx="4066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8T17:13:29Z</dcterms:created>
  <dc:creator>Joao Mauricio Vital</dc:creator>
  <dc:description/>
  <dc:language>en-US</dc:language>
  <cp:lastModifiedBy>Joao Mauricio Vital</cp:lastModifiedBy>
  <cp:lastPrinted>2015-07-24T21:58:46Z</cp:lastPrinted>
  <dcterms:modified xsi:type="dcterms:W3CDTF">2015-07-24T22:01:53Z</dcterms:modified>
  <cp:revision>41</cp:revision>
  <dc:subject/>
  <dc:title>Apresentação do PowerPoint</dc:title>
</cp:coreProperties>
</file>