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624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6280"/>
                <a:tab algn="l" pos="2057400"/>
                <a:tab algn="l" pos="24685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6280"/>
                <a:tab algn="l" pos="2057400"/>
                <a:tab algn="l" pos="24685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BB330-19C1-46EC-82F4-A9BE540C7CAF}" type="slidenum">
              <a:rPr b="0" lang="pt-BR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63720" y="636480"/>
            <a:ext cx="4225680" cy="31705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qui é o momento de falar do apoio do Eurosocial para a implementação dos NAF, com o apoio técnico da Receita Federal, em diversos países da América Latina. Bolívia, Brasil, Chile, Costa Rica, Equador, El Salvador, Guatemala, Honduras, Méx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2840" indent="-3128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razón del desarrollo de los NAF en Brasil, fue comprehendida la necesidad de adoptarse una estandariz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0" algn="just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finalidad de la estandarización es la disponibilización de informaciones y documentos (modelos) que subsidien las unidades de la Receita Federal, desde la prospección de las Instituciones de Enseñanza Superior interesadas en la creación de los NAF hasta la apertura y manutención en funcionamiento de los Núcle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ursos Logístico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A RFB não aporta recursos financeiros, todavía sugere modelo estrutura física dos NAF, establece previsão custos de deslocamentos dos servidores com diárias e passagens, sugestão de destinação preferencial de mercadorias apreendidas em razão das atividades de educação fisca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strutura de Pesso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Quantitativo de servidores, perfil dos servidores, grau de dedicação (preocupação dos gestores regionais sobre quantos servidores e qual o tempo disponibilizado para a atividade, necessidade de planejamento para eventual expansão dos NA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trizes de Relacionamento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o envolver outros órgãos, por exemplo, CFC (isto decorreu de preocupações das Universidades sobre eventual conflito com os contadores), Sefaz, Sefin (experiencia da UNIFOR), Sebrae (responsável pelos MEI). Estabelece-se também 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uxo de aproximacao com as IES (como abordar as 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no básico de formação dos alunos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 a ampliação dos NAF no Brasil, foi necesario formatar uma formação (técnica e valores) para os alunos, preferencialmente de forma não presencial. Oferecimento do curso cidadania fiscal e plataforma de treinamento cubo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entidade Vis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Havia o questionamento reiterado sobre a utilização do logo da RFB no material de divulgacao dos NAF realizado pelas 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etada de dado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necessidade de aprimoramento dos registros tais como (dados dos NAF, dos profesores, dos alunos, do atendimento realizado, da satisfacao do usuario e da fomacao do aluno no que se refere à cultura fisc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os padrão – acordo de cooperacao, oficio, palestra padrão, regulamento interno dos NAF, folhetos orientativ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956-880E-4E07-81FD-B655AB2B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E37-CC52-4ACA-8A47-54E0C95B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DA4-E927-437E-A66F-CBD4A687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E18-8E27-466B-9A07-0FF77066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96F-B099-452A-B2E8-8554A38D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C99-CED4-4CFF-BEC3-9DD6FD8F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29A-125C-4A62-9592-8AAFDB1C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54F-ACEF-4B7B-9931-E308CFAF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9988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47B-C6B8-44D7-A27A-E39A52FB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516-331D-49CC-90CB-A3B4E120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8C5-AD2A-49BB-982F-FA71F27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551-B754-4E87-A4B2-43D020F4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494B1-6E21-4E89-A99F-5AB34D2FB7F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853920"/>
            <a:ext cx="10061640" cy="670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299880"/>
            <a:ext cx="9070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Taller Internacional de Educación Fis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m 4" descr=""/>
          <p:cNvPicPr/>
          <p:nvPr/>
        </p:nvPicPr>
        <p:blipFill>
          <a:blip r:embed="rId1"/>
          <a:stretch/>
        </p:blipFill>
        <p:spPr>
          <a:xfrm>
            <a:off x="1727280" y="1979640"/>
            <a:ext cx="6351480" cy="3965400"/>
          </a:xfrm>
          <a:prstGeom prst="rect">
            <a:avLst/>
          </a:prstGeom>
          <a:ln w="0">
            <a:noFill/>
          </a:ln>
        </p:spPr>
      </p:pic>
      <p:pic>
        <p:nvPicPr>
          <p:cNvPr id="51" name="Imagem 5" descr=""/>
          <p:cNvPicPr/>
          <p:nvPr/>
        </p:nvPicPr>
        <p:blipFill>
          <a:blip r:embed="rId2"/>
          <a:stretch/>
        </p:blipFill>
        <p:spPr>
          <a:xfrm>
            <a:off x="6261120" y="5448240"/>
            <a:ext cx="3313080" cy="87012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6"/>
          <p:cNvSpPr/>
          <p:nvPr/>
        </p:nvSpPr>
        <p:spPr>
          <a:xfrm>
            <a:off x="-17640" y="6156360"/>
            <a:ext cx="60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La Paz (Bolivia), 27 – 31 de julio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503280" y="958680"/>
            <a:ext cx="9070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Arial"/>
              </a:rPr>
              <a:t>International Tax Education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4"/>
          <p:cNvSpPr/>
          <p:nvPr/>
        </p:nvSpPr>
        <p:spPr>
          <a:xfrm>
            <a:off x="792000" y="179280"/>
            <a:ext cx="7056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incip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Benefic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4"/>
          <p:cNvSpPr/>
          <p:nvPr/>
        </p:nvSpPr>
        <p:spPr>
          <a:xfrm>
            <a:off x="2735280" y="611280"/>
            <a:ext cx="7056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AF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ey benef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de cantos arredondados 5"/>
          <p:cNvSpPr/>
          <p:nvPr/>
        </p:nvSpPr>
        <p:spPr>
          <a:xfrm>
            <a:off x="457200" y="1619280"/>
            <a:ext cx="2854440" cy="1152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Socie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de cantos arredondados 13"/>
          <p:cNvSpPr/>
          <p:nvPr/>
        </p:nvSpPr>
        <p:spPr>
          <a:xfrm>
            <a:off x="457200" y="2987640"/>
            <a:ext cx="2854440" cy="1152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Estu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de cantos arredondados 14"/>
          <p:cNvSpPr/>
          <p:nvPr/>
        </p:nvSpPr>
        <p:spPr>
          <a:xfrm>
            <a:off x="457200" y="4351320"/>
            <a:ext cx="2854440" cy="1152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Univer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ângulo de cantos arredondados 15"/>
          <p:cNvSpPr/>
          <p:nvPr/>
        </p:nvSpPr>
        <p:spPr>
          <a:xfrm>
            <a:off x="457200" y="5724360"/>
            <a:ext cx="2854440" cy="115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70c0"/>
                </a:solidFill>
                <a:latin typeface="Arial"/>
              </a:rPr>
              <a:t>Adm. Tribu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Tax Admin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16"/>
          <p:cNvSpPr/>
          <p:nvPr/>
        </p:nvSpPr>
        <p:spPr>
          <a:xfrm>
            <a:off x="3402000" y="1857240"/>
            <a:ext cx="5942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sistencia contábile y fiscal gratu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Free tax and accounting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18"/>
          <p:cNvSpPr/>
          <p:nvPr/>
        </p:nvSpPr>
        <p:spPr>
          <a:xfrm>
            <a:off x="3402000" y="3008160"/>
            <a:ext cx="638964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jora de la formación técnica y la cultura fis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Improv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echnic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rain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ax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9"/>
          <p:cNvSpPr/>
          <p:nvPr/>
        </p:nvSpPr>
        <p:spPr>
          <a:xfrm>
            <a:off x="3402000" y="4576680"/>
            <a:ext cx="5905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cciones de impacto social (integració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Soci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impac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action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(integr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20"/>
          <p:cNvSpPr/>
          <p:nvPr/>
        </p:nvSpPr>
        <p:spPr>
          <a:xfrm>
            <a:off x="3402000" y="5915160"/>
            <a:ext cx="5905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sarrollo de la Moral Fisc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Arial"/>
              </a:rPr>
              <a:t>Tax moral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44360" y="1332000"/>
            <a:ext cx="36244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r>
              <a:rPr b="1" lang="pt-BR" sz="4800" spc="-1" strike="noStrike">
                <a:solidFill>
                  <a:srgbClr val="002060"/>
                </a:solidFill>
                <a:latin typeface="Arial"/>
                <a:ea typeface="SimSun"/>
              </a:rPr>
              <a:t>¿Dónde Estam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3873600"/>
            <a:ext cx="39132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r>
              <a:rPr b="1" i="1" lang="pt-BR" sz="4800" spc="-1" strike="noStrike">
                <a:solidFill>
                  <a:srgbClr val="ff0000"/>
                </a:solidFill>
                <a:latin typeface="Arial"/>
                <a:ea typeface="SimSun"/>
              </a:rPr>
              <a:t>Where are w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3456000" y="54000"/>
            <a:ext cx="6508800" cy="72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ixaDeTexto 2"/>
          <p:cNvSpPr/>
          <p:nvPr/>
        </p:nvSpPr>
        <p:spPr>
          <a:xfrm>
            <a:off x="0" y="34920"/>
            <a:ext cx="9793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Arial"/>
                <a:ea typeface="SimSun"/>
              </a:rPr>
              <a:t>Evolución de los NAF en Brasi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7"/>
          <p:cNvSpPr/>
          <p:nvPr/>
        </p:nvSpPr>
        <p:spPr>
          <a:xfrm>
            <a:off x="1871640" y="790560"/>
            <a:ext cx="8137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Arial"/>
                <a:ea typeface="SimSun"/>
              </a:rPr>
              <a:t>Evolution of NAF in Brazi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m 8" descr=""/>
          <p:cNvPicPr/>
          <p:nvPr/>
        </p:nvPicPr>
        <p:blipFill>
          <a:blip r:embed="rId1"/>
          <a:stretch/>
        </p:blipFill>
        <p:spPr>
          <a:xfrm>
            <a:off x="647640" y="1835280"/>
            <a:ext cx="89251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aixaDeTexto 1"/>
          <p:cNvSpPr/>
          <p:nvPr/>
        </p:nvSpPr>
        <p:spPr>
          <a:xfrm>
            <a:off x="216000" y="179280"/>
            <a:ext cx="41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Estanda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"/>
          <p:cNvSpPr/>
          <p:nvPr/>
        </p:nvSpPr>
        <p:spPr>
          <a:xfrm>
            <a:off x="144360" y="2266920"/>
            <a:ext cx="468000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Arial"/>
                <a:ea typeface="SimSun"/>
              </a:rPr>
              <a:t>Expansión de los NAF por el paí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Información uniforme para los representant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Necesidad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Riesgo para la imagen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3"/>
          <p:cNvSpPr/>
          <p:nvPr/>
        </p:nvSpPr>
        <p:spPr>
          <a:xfrm>
            <a:off x="5832360" y="581040"/>
            <a:ext cx="417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4"/>
          <p:cNvSpPr/>
          <p:nvPr/>
        </p:nvSpPr>
        <p:spPr>
          <a:xfrm>
            <a:off x="5327640" y="2266920"/>
            <a:ext cx="45370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  <a:ea typeface="SimSun"/>
              </a:rPr>
              <a:t>Expansion of NAF trough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Equable information for the local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Need f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Reputa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ixaDeTexto 1"/>
          <p:cNvSpPr/>
          <p:nvPr/>
        </p:nvSpPr>
        <p:spPr>
          <a:xfrm>
            <a:off x="71280" y="250920"/>
            <a:ext cx="7201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¿Qué estamos estandarizand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2"/>
          <p:cNvSpPr/>
          <p:nvPr/>
        </p:nvSpPr>
        <p:spPr>
          <a:xfrm>
            <a:off x="216000" y="1619280"/>
            <a:ext cx="9577440" cy="53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Recursos Logí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Logistic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Estructura de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Personne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Directrices de Rela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Relationship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Plan básico de formación de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Basic plan for training of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Identidad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Visual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Coleta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Data col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  <a:ea typeface="SimSun"/>
              </a:rPr>
              <a:t>Documentos estanda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  <a:ea typeface="SimSun"/>
              </a:rPr>
              <a:t>Patterned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3"/>
          <p:cNvSpPr/>
          <p:nvPr/>
        </p:nvSpPr>
        <p:spPr>
          <a:xfrm>
            <a:off x="2664000" y="755640"/>
            <a:ext cx="7345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What we are standardiz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1"/>
          <p:cNvSpPr/>
          <p:nvPr/>
        </p:nvSpPr>
        <p:spPr>
          <a:xfrm>
            <a:off x="71280" y="34920"/>
            <a:ext cx="540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Próximos pa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3"/>
          <p:cNvSpPr/>
          <p:nvPr/>
        </p:nvSpPr>
        <p:spPr>
          <a:xfrm>
            <a:off x="71280" y="4211640"/>
            <a:ext cx="986472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Consolidación de la Red 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NAF’s network conso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Standard en nivel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Setting reg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Mecanismos comunes de evaluación de los 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Definition of common evaluation mechanisms for the N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ixaDeTexto 4"/>
          <p:cNvSpPr/>
          <p:nvPr/>
        </p:nvSpPr>
        <p:spPr>
          <a:xfrm>
            <a:off x="4392720" y="108000"/>
            <a:ext cx="55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SimSu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2"/>
          <p:cNvSpPr/>
          <p:nvPr/>
        </p:nvSpPr>
        <p:spPr>
          <a:xfrm>
            <a:off x="71280" y="863640"/>
            <a:ext cx="9864720" cy="28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Implementar el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o implement th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Ampliar a ni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o expand nation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SimSun"/>
              </a:rPr>
              <a:t>Crear iniciativas para estimul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To create iniciatives to stimul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5"/>
          <p:cNvSpPr/>
          <p:nvPr/>
        </p:nvSpPr>
        <p:spPr>
          <a:xfrm>
            <a:off x="3303720" y="533520"/>
            <a:ext cx="340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</a:rPr>
              <a:t>Brasil /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1835280" y="3925800"/>
            <a:ext cx="633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</a:rPr>
              <a:t>América Latina /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Lat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4"/>
          <p:cNvSpPr/>
          <p:nvPr/>
        </p:nvSpPr>
        <p:spPr>
          <a:xfrm>
            <a:off x="-431640" y="325440"/>
            <a:ext cx="6335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SimSun"/>
              </a:rPr>
              <a:t>¡Muchas Gracia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6"/>
          <p:cNvSpPr/>
          <p:nvPr/>
        </p:nvSpPr>
        <p:spPr>
          <a:xfrm>
            <a:off x="216000" y="5435640"/>
            <a:ext cx="957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  <a:ea typeface="SimSun"/>
              </a:rPr>
              <a:t>João Maurício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SimSun"/>
              </a:rPr>
              <a:t>Coordinador-General de Asistencia al contribuyente y Educación Fis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SimSun"/>
              </a:rPr>
              <a:t>Secretaria da Receita Federal d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urier New"/>
                <a:ea typeface="SimSun"/>
              </a:rPr>
              <a:t>joao.vital@rfb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newsrondonia.com.br/imagensNoticias/image/rf01(4).jpg"/>
          <p:cNvPicPr/>
          <p:nvPr/>
        </p:nvPicPr>
        <p:blipFill>
          <a:blip r:embed="rId1"/>
          <a:stretch/>
        </p:blipFill>
        <p:spPr>
          <a:xfrm>
            <a:off x="3086280" y="1979640"/>
            <a:ext cx="4066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17:13:29Z</dcterms:created>
  <dc:creator>Joao Mauricio Vital</dc:creator>
  <dc:description/>
  <dc:language>en-US</dc:language>
  <cp:lastModifiedBy>Joao Mauricio Vital</cp:lastModifiedBy>
  <cp:lastPrinted>2015-07-24T21:58:46Z</cp:lastPrinted>
  <dcterms:modified xsi:type="dcterms:W3CDTF">2015-07-24T22:01:53Z</dcterms:modified>
  <cp:revision>41</cp:revision>
  <dc:subject/>
  <dc:title>Apresentação do PowerPoint</dc:title>
</cp:coreProperties>
</file>