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09D00F-74AB-45CA-95A1-38A06185BDB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0BE6D-6A54-47E2-AA1B-05B30592FAB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E732A-F457-40E3-ACD2-58C0FC28871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DF813-1629-4AB8-AD3B-78BF08D4EB9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4B103-053D-41CB-A6ED-E057CDF295A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A3EC4-DE0C-4F0B-95E2-B206F6C3215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584210-1D6F-4821-999A-C1C92B23866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05970-FB44-43FE-A92E-5513F2EF47A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2AAFE-6003-409A-83ED-4FB929F627E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9E3DE-F132-4EAA-910B-BFA0E0558B6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768996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560" y="4304520"/>
            <a:ext cx="768996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67120" y="234900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560" y="430452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67120" y="430452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247608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6840" y="2349000"/>
            <a:ext cx="247608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7120" y="2349000"/>
            <a:ext cx="247608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560" y="4304520"/>
            <a:ext cx="247608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6840" y="4304520"/>
            <a:ext cx="247608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7120" y="4304520"/>
            <a:ext cx="247608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2E237-2B84-48A5-B5BC-85A6C53113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26560" y="2349000"/>
            <a:ext cx="7689960" cy="37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7069D-8FE4-46A5-A903-F8DB4802EB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7689960" cy="37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03177-138F-494A-9242-47678C5FA6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3752640" cy="37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67120" y="2349000"/>
            <a:ext cx="3752640" cy="37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62D36-042B-4181-AF23-ACA1395CA9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4F4A4-49C9-4710-A6D5-689D04FEC2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06400" y="777960"/>
            <a:ext cx="78328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5BD87-9C29-4702-81A0-81DF485D61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67120" y="2349000"/>
            <a:ext cx="3752640" cy="37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26560" y="430452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727E5-CF15-4624-A392-558F7D2721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560" y="2349000"/>
            <a:ext cx="7689960" cy="37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3752640" cy="37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67120" y="234900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67120" y="430452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1DAE6-A9E5-4F5B-86FB-70430ACFA8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67120" y="234900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26560" y="4304520"/>
            <a:ext cx="768996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F8A92-10C2-4E17-97A0-0A2B9A3BB2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768996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26560" y="4304520"/>
            <a:ext cx="768996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50569-D5F1-4C53-906F-AF693ABF1A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67120" y="234900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26560" y="430452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67120" y="430452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BEEB6-5C50-453B-9713-BFEE80BA0A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247608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26840" y="2349000"/>
            <a:ext cx="247608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7120" y="2349000"/>
            <a:ext cx="247608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26560" y="4304520"/>
            <a:ext cx="247608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26840" y="4304520"/>
            <a:ext cx="247608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7120" y="4304520"/>
            <a:ext cx="247608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956FC-3232-41A5-8584-DFF0168CF5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7689960" cy="37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3752640" cy="37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67120" y="2349000"/>
            <a:ext cx="3752640" cy="37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6400" y="777960"/>
            <a:ext cx="78328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67120" y="2349000"/>
            <a:ext cx="3752640" cy="37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560" y="430452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3752640" cy="37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67120" y="234900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67120" y="430452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67120" y="2349000"/>
            <a:ext cx="375264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560" y="4304520"/>
            <a:ext cx="768996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179280" y="6384960"/>
            <a:ext cx="8785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300" spc="-1" strike="noStrike">
                <a:solidFill>
                  <a:srgbClr val="000000"/>
                </a:solidFill>
                <a:latin typeface="Arial"/>
              </a:rPr>
              <a:t>Secretaria da Fazenda do Estado de Goiá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Grupo Estadual de Educação Fiscal – GEFE/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0" y="0"/>
            <a:ext cx="7617960" cy="6856560"/>
            <a:chOff x="0" y="0"/>
            <a:chExt cx="7617960" cy="6856560"/>
          </a:xfrm>
        </p:grpSpPr>
        <p:grpSp>
          <p:nvGrpSpPr>
            <p:cNvPr id="42" name="Group 2"/>
            <p:cNvGrpSpPr/>
            <p:nvPr/>
          </p:nvGrpSpPr>
          <p:grpSpPr>
            <a:xfrm>
              <a:off x="0" y="0"/>
              <a:ext cx="3198600" cy="6856560"/>
              <a:chOff x="0" y="0"/>
              <a:chExt cx="3198600" cy="6856560"/>
            </a:xfrm>
          </p:grpSpPr>
          <p:sp>
            <p:nvSpPr>
              <p:cNvPr id="43" name="Rectangle 3"/>
              <p:cNvSpPr/>
              <p:nvPr/>
            </p:nvSpPr>
            <p:spPr>
              <a:xfrm>
                <a:off x="0" y="0"/>
                <a:ext cx="761760" cy="68565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"/>
              <p:cNvSpPr/>
              <p:nvPr/>
            </p:nvSpPr>
            <p:spPr>
              <a:xfrm>
                <a:off x="456840" y="0"/>
                <a:ext cx="2741760" cy="1166400"/>
              </a:xfrm>
              <a:custGeom>
                <a:avLst/>
                <a:gdLst>
                  <a:gd name="textAreaLeft" fmla="*/ 0 w 2741760"/>
                  <a:gd name="textAreaRight" fmla="*/ 2741760 w 2741760"/>
                  <a:gd name="textAreaTop" fmla="*/ 0 h 1166400"/>
                  <a:gd name="textAreaBottom" fmla="*/ 1166760 h 116640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5"/>
            <p:cNvGrpSpPr/>
            <p:nvPr/>
          </p:nvGrpSpPr>
          <p:grpSpPr>
            <a:xfrm>
              <a:off x="228240" y="1981080"/>
              <a:ext cx="7389720" cy="317520"/>
              <a:chOff x="228240" y="1981080"/>
              <a:chExt cx="7389720" cy="317520"/>
            </a:xfrm>
          </p:grpSpPr>
          <p:sp>
            <p:nvSpPr>
              <p:cNvPr id="46" name="AutoShape 6"/>
              <p:cNvSpPr/>
              <p:nvPr/>
            </p:nvSpPr>
            <p:spPr>
              <a:xfrm>
                <a:off x="609120" y="1981080"/>
                <a:ext cx="7008840" cy="315720"/>
              </a:xfrm>
              <a:prstGeom prst="roundRect">
                <a:avLst>
                  <a:gd name="adj" fmla="val 0"/>
                </a:avLst>
              </a:prstGeom>
              <a:solidFill>
                <a:srgbClr val="517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AutoShape 7"/>
              <p:cNvSpPr/>
              <p:nvPr/>
            </p:nvSpPr>
            <p:spPr>
              <a:xfrm flipH="1">
                <a:off x="227880" y="1981080"/>
                <a:ext cx="393480" cy="317520"/>
              </a:xfrm>
              <a:prstGeom prst="flowChartDelay">
                <a:avLst/>
              </a:prstGeom>
              <a:solidFill>
                <a:srgbClr val="517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48" name="Picture 8" descr="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220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06400" y="777960"/>
            <a:ext cx="7832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26560" y="2349000"/>
            <a:ext cx="7689960" cy="37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1"/>
          </p:nvPr>
        </p:nvSpPr>
        <p:spPr>
          <a:xfrm>
            <a:off x="84240" y="6238800"/>
            <a:ext cx="5839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9A82D3B-6777-4C2C-94B2-BD9D404EF8AE}" type="slidenum">
              <a:rPr b="1" lang="pt-B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179280" y="6384960"/>
            <a:ext cx="8785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300" spc="-1" strike="noStrike">
                <a:solidFill>
                  <a:srgbClr val="003366"/>
                </a:solidFill>
                <a:latin typeface="Arial"/>
              </a:rPr>
              <a:t>Secretaria da Fazenda do Estado de Goiá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200" spc="-1" strike="noStrike">
                <a:solidFill>
                  <a:srgbClr val="003366"/>
                </a:solidFill>
                <a:latin typeface="Arial"/>
              </a:rPr>
              <a:t>Grupo Estadual de Educação Fiscal – GEFE/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jcorreademiranda@yahoo.com.br" TargetMode="External"/><Relationship Id="rId2" Type="http://schemas.openxmlformats.org/officeDocument/2006/relationships/hyperlink" Target="mailto:lucirenesantana@yahoo.com.br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eliane.sesi@sistemafieg.org.br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3203640" y="2637000"/>
            <a:ext cx="3384360" cy="33080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"/>
          <p:cNvSpPr/>
          <p:nvPr/>
        </p:nvSpPr>
        <p:spPr>
          <a:xfrm>
            <a:off x="822240" y="1012680"/>
            <a:ext cx="779004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6666"/>
                </a:solidFill>
                <a:latin typeface="Arial"/>
              </a:rPr>
              <a:t>EDUCAÇÃO FISCAL </a:t>
            </a:r>
            <a:br>
              <a:rPr sz="3200"/>
            </a:br>
            <a:r>
              <a:rPr b="1" lang="pt-BR" sz="3200" spc="-1" strike="noStrike">
                <a:solidFill>
                  <a:srgbClr val="006666"/>
                </a:solidFill>
                <a:latin typeface="Arial"/>
              </a:rPr>
              <a:t>CAMINHO PARA  A CIDADANIA</a:t>
            </a:r>
            <a:r>
              <a:rPr b="1" lang="pt-BR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 rot="2580000">
            <a:off x="5336640" y="3313080"/>
            <a:ext cx="15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omic Sans MS"/>
              </a:rPr>
              <a:t>V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 rot="3120000">
            <a:off x="3352320" y="4938480"/>
            <a:ext cx="15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omic Sans MS"/>
              </a:rPr>
              <a:t>Conosc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806400" y="888840"/>
            <a:ext cx="78361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em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62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OSÉ HUMBERTO CORREA DE MIRAND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–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uditor Fiscal e Coordenador do Programa Estadual de Educação Fiscal - G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jcorreademiranda@yahoo.com.b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(62) 8413-291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62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UCIRENE FERREIRA SANTANA GUALBERT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Professora e Coordenadora Pedagógica do Programa Estadual de Educação Fiscal – GO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lucirenesantana@yahoo.com.b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62) 9668 - 2406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1871640" y="2465280"/>
            <a:ext cx="5399280" cy="19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933120"/>
            <a:ext cx="792468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ponente Curricular:Educação Física e Educação Fisc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6080" y="23950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mpliação dos conhecimen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porte e a construção da cidadan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idadan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arshal,Pharo apud Telles ( 2001,p.6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cidadania está relacionada com a civilidade,ou seja as regras de convivência. A civilidade diz respeito ás regras que articulam indivíduos em situações concretas de interação…Nesse sentido o esporte como bem cultural ou obra cultural apresenta – se como um direito a ser exercido por pelos alunos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2920" y="-167040"/>
            <a:ext cx="7772400" cy="31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ponente Curricular: História e Educação Fiscal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mpliação dos conhecimento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24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mória da Infância : Brinquedos e Brincadeiras como Patrimôn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trimôni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765440" y="32115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933120"/>
            <a:ext cx="792468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ponente Curricular: Matemática e Educação Fisc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920" y="2349000"/>
            <a:ext cx="7693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mpliação dos conhecimen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s números racionais no cotidia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ributos ( 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 algn="ctr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icha individu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duto – feij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idade de Medida em que é comercializado-1 k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ço em reais – R$ 4,0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mposto de Circulação de mercadorias e serviços –  0,07% (alíquota) X R$ 4,00 = R$ 0,28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933120"/>
            <a:ext cx="792468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ponente Curricular :Língua Portuguesa e Educação Fisc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mpliação de Conhecimen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-mail – Comunicar é precis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clusão digit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933120"/>
            <a:ext cx="792468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ponente Curricular : Geografia e Educação Fisc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mpliação dos conhecimen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rtografando o espaço de vivênc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articipação no acompanhamento da função social dos tributos –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 algn="ctr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icha coletiva –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O que existe –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ndições-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nsequências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ugestões para a melhoria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933120"/>
            <a:ext cx="792468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ponente Curricular:Línguas Estrangeiras e Educação Fisc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430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mpliação dos conheciment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430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rdápios – Os hábitos alimentar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430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limentação alternativa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– Cozinha Brasi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430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ted puede preguntarle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430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? Cuáles son las características de los platos y los alimentos en el menú 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430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797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7430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000" spc="-1" strike="noStrike">
                <a:solidFill>
                  <a:srgbClr val="003366"/>
                </a:solidFill>
                <a:latin typeface="Arial"/>
              </a:rPr>
              <a:t>Eliane Cândido Carneir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797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7430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000" spc="-1" strike="noStrike">
                <a:solidFill>
                  <a:srgbClr val="003366"/>
                </a:solidFill>
                <a:latin typeface="Arial"/>
              </a:rPr>
              <a:t>Coordenadora do Programa Cozinha Brasi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797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7430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000" spc="-1" strike="noStrike">
                <a:solidFill>
                  <a:srgbClr val="003366"/>
                </a:solidFill>
                <a:latin typeface="Arial"/>
              </a:rPr>
              <a:t>SESI Canaã - Mozart Soares Filh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797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7430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000" spc="-1" strike="noStrike">
                <a:solidFill>
                  <a:srgbClr val="003366"/>
                </a:solidFill>
                <a:latin typeface="Arial"/>
              </a:rPr>
              <a:t>Fone: 3236-3818 / 8405-4248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797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7430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Email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eliane.sesi@sistemafieg.org.b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430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933120"/>
            <a:ext cx="792468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ponente Curricular: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iências e Educação Fisc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mpliação do conhecim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ma: Água um bem precios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eio Ambi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) Leitura de um talão de águ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por o desafio de reduzir o consumo de água em casa no próximo mê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ês atual –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ês seguinte –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ferença de consumo 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7T17:08:34Z</dcterms:created>
  <dc:creator>Camila</dc:creator>
  <dc:description/>
  <dc:language>en-US</dc:language>
  <cp:lastModifiedBy>esaf</cp:lastModifiedBy>
  <dcterms:modified xsi:type="dcterms:W3CDTF">2013-04-16T20:26:04Z</dcterms:modified>
  <cp:revision>25</cp:revision>
  <dc:subject/>
  <dc:title>EDUCAÇÃO FISCAL – CAMINHO PARA  A CIDADANIA</dc:title>
</cp:coreProperties>
</file>