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932-A74E-4CEF-9249-61C4E74C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D63-F255-4662-B879-6CCD2487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8D8-3F7D-4223-ACFD-3321C8DB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122-60FE-467C-98EC-238155A6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69FB-2854-46E8-BD3D-1BF534DC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A65A-0F52-4606-B8D2-20377452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7A15-935B-456B-8D16-0DD1926F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6A0F-0952-4E04-89D9-7B603D24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ACBE-BC3A-4B9A-AE50-AE1B041C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599C-BE92-45ED-8D57-E24BCD42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9BD4-D56D-477C-9500-F3BAA8ED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BE9-2875-4428-8CB6-85863768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7E52-F935-4E61-A096-4D42CF0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8577-1C35-4372-B6EC-3FCB5E08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ACB3-2BD5-4A71-9008-62679A64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A3B1-CF52-40D4-84B5-154C863B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A730-15D7-46E4-ABAE-5EA12F49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459A-17A9-4AB0-A06D-054D91D8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9AEC-54DD-4701-AE4C-4FEBEB81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72A4-46AC-4F7F-B700-227CC4F4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1D96-E968-4809-914C-85D399A2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98F2-2451-494E-8AF9-67DECE5C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0AA-8C2D-471B-ADEC-2B5FF372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EFB6-49AA-4F8F-8489-200E0F6A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779CD-1DD7-4C18-9460-68C671BD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2294-3E9C-4F6E-9432-047529FF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B3E6-9F61-494C-9FF8-4AC0765C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7A68-2576-4509-A832-3F8E782A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4ACD-EA4E-495C-A345-02C08186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CE671-A440-44AD-AE8C-65E58AC4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D46-64D5-4335-85B1-9281D426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6172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744160" y="1844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8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96172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744160" y="3913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683-317A-4602-8BA5-3D0377E8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69B-2AAD-4BC8-96DA-8EE8ADF5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870-ECBF-4717-ADCE-02977B06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6320" y="3913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C2C-1617-4F52-A4A1-E52E2D2F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6320" y="1844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3913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DE1-3D94-46F2-AAF8-8629D64E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6720" y="6381720"/>
            <a:ext cx="1413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280" y="6381720"/>
            <a:ext cx="4824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00" y="6381720"/>
            <a:ext cx="755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09C3-7D5A-4F47-A1D9-BF05594BE332}" type="slidenum"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m 6" descr="logo_mcpf.JPG"/>
          <p:cNvPicPr/>
          <p:nvPr/>
        </p:nvPicPr>
        <p:blipFill>
          <a:blip r:embed="rId3"/>
          <a:stretch/>
        </p:blipFill>
        <p:spPr>
          <a:xfrm>
            <a:off x="4357800" y="142920"/>
            <a:ext cx="790560" cy="477720"/>
          </a:xfrm>
          <a:prstGeom prst="rect">
            <a:avLst/>
          </a:prstGeom>
          <a:ln w="0">
            <a:noFill/>
          </a:ln>
        </p:spPr>
      </p:pic>
      <p:pic>
        <p:nvPicPr>
          <p:cNvPr id="6" name="Imagem 7" descr="logoICF.jpg"/>
          <p:cNvPicPr/>
          <p:nvPr/>
        </p:nvPicPr>
        <p:blipFill>
          <a:blip r:embed="rId4"/>
          <a:stretch/>
        </p:blipFill>
        <p:spPr>
          <a:xfrm>
            <a:off x="5715000" y="285840"/>
            <a:ext cx="952560" cy="3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2BA2-CF8F-4F1B-9E8F-DE4DA750766B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6" descr="logo_mcpf.JPG"/>
          <p:cNvPicPr/>
          <p:nvPr/>
        </p:nvPicPr>
        <p:blipFill>
          <a:blip r:embed="rId3"/>
          <a:stretch/>
        </p:blipFill>
        <p:spPr>
          <a:xfrm>
            <a:off x="4357800" y="142920"/>
            <a:ext cx="790560" cy="477720"/>
          </a:xfrm>
          <a:prstGeom prst="rect">
            <a:avLst/>
          </a:prstGeom>
          <a:ln w="0">
            <a:noFill/>
          </a:ln>
        </p:spPr>
      </p:pic>
      <p:pic>
        <p:nvPicPr>
          <p:cNvPr id="85" name="Imagem 7" descr="logoICF.jpg"/>
          <p:cNvPicPr/>
          <p:nvPr/>
        </p:nvPicPr>
        <p:blipFill>
          <a:blip r:embed="rId4"/>
          <a:stretch/>
        </p:blipFill>
        <p:spPr>
          <a:xfrm>
            <a:off x="5715000" y="285840"/>
            <a:ext cx="952560" cy="328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876720" y="6524640"/>
            <a:ext cx="1413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08000" y="6524640"/>
            <a:ext cx="6624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388000" y="6524640"/>
            <a:ext cx="755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66DF-41C0-4B1D-8CD4-A8B202CAF35D}" type="slidenum"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m 6" descr="logo_mcpf.JPG"/>
          <p:cNvPicPr/>
          <p:nvPr/>
        </p:nvPicPr>
        <p:blipFill>
          <a:blip r:embed="rId3"/>
          <a:stretch/>
        </p:blipFill>
        <p:spPr>
          <a:xfrm>
            <a:off x="4357800" y="142920"/>
            <a:ext cx="790560" cy="477720"/>
          </a:xfrm>
          <a:prstGeom prst="rect">
            <a:avLst/>
          </a:prstGeom>
          <a:ln w="0">
            <a:noFill/>
          </a:ln>
        </p:spPr>
      </p:pic>
      <p:pic>
        <p:nvPicPr>
          <p:cNvPr id="128" name="Imagem 7" descr="logoICF.jpg"/>
          <p:cNvPicPr/>
          <p:nvPr/>
        </p:nvPicPr>
        <p:blipFill>
          <a:blip r:embed="rId4"/>
          <a:stretch/>
        </p:blipFill>
        <p:spPr>
          <a:xfrm>
            <a:off x="5715000" y="285840"/>
            <a:ext cx="952560" cy="328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7928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700280"/>
            <a:ext cx="720108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Futura Md BT"/>
                <a:ea typeface="Arial"/>
              </a:rPr>
              <a:t>“</a:t>
            </a:r>
            <a:r>
              <a:rPr b="1" lang="pt-BR" sz="2400" spc="-1" strike="noStrike">
                <a:solidFill>
                  <a:srgbClr val="00b050"/>
                </a:solidFill>
                <a:latin typeface="Futura Md BT"/>
                <a:ea typeface="Arial"/>
              </a:rPr>
              <a:t>Observatórios Sociais do Brasil: Relato das experiências de sucesso no controle social do orçamento público. Estratégias para multiplicação dessas experiências em outros municípios”</a:t>
            </a:r>
            <a:br>
              <a:rPr sz="2400"/>
            </a:b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CaixaDeTexto 6"/>
          <p:cNvSpPr/>
          <p:nvPr/>
        </p:nvSpPr>
        <p:spPr>
          <a:xfrm>
            <a:off x="1547640" y="501336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Encontro de Intercâmbio Técn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Internacional em Educação Fis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Brasília, 16/04/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70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95280" y="2349360"/>
            <a:ext cx="813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BELÉMLOGO q"/>
          <p:cNvPicPr/>
          <p:nvPr/>
        </p:nvPicPr>
        <p:blipFill>
          <a:blip r:embed="rId1"/>
          <a:stretch/>
        </p:blipFill>
        <p:spPr>
          <a:xfrm>
            <a:off x="3348000" y="1125360"/>
            <a:ext cx="3095640" cy="1141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ANd9GcT9BHpEWqwPdgncm4EME71LlFgexPD7v29PW9RpT484ns3Mg_8xyg"/>
          <p:cNvPicPr/>
          <p:nvPr/>
        </p:nvPicPr>
        <p:blipFill>
          <a:blip r:embed="rId2"/>
          <a:stretch/>
        </p:blipFill>
        <p:spPr>
          <a:xfrm>
            <a:off x="4140360" y="465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Logo_Ocb_Sescoop_Twitter_normal"/>
          <p:cNvPicPr/>
          <p:nvPr/>
        </p:nvPicPr>
        <p:blipFill>
          <a:blip r:embed="rId3"/>
          <a:stretch/>
        </p:blipFill>
        <p:spPr>
          <a:xfrm>
            <a:off x="6516720" y="2997360"/>
            <a:ext cx="1295280" cy="1091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9504"/>
          <p:cNvPicPr/>
          <p:nvPr/>
        </p:nvPicPr>
        <p:blipFill>
          <a:blip r:embed="rId4"/>
          <a:stretch/>
        </p:blipFill>
        <p:spPr>
          <a:xfrm>
            <a:off x="1619280" y="299736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31"/>
          <p:cNvSpPr/>
          <p:nvPr/>
        </p:nvSpPr>
        <p:spPr>
          <a:xfrm>
            <a:off x="3257640" y="2914560"/>
            <a:ext cx="26287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2" descr="edfiz_logo2"/>
          <p:cNvPicPr/>
          <p:nvPr/>
        </p:nvPicPr>
        <p:blipFill>
          <a:blip r:embed="rId5"/>
          <a:stretch/>
        </p:blipFill>
        <p:spPr>
          <a:xfrm>
            <a:off x="4067280" y="3213000"/>
            <a:ext cx="1238040" cy="84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Observatorio Social de Belém"/>
          <p:cNvPicPr/>
          <p:nvPr/>
        </p:nvPicPr>
        <p:blipFill>
          <a:blip r:embed="rId6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18" name="CaixaDeTexto 14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2" descr="edfiz_logo2"/>
          <p:cNvPicPr/>
          <p:nvPr/>
        </p:nvPicPr>
        <p:blipFill>
          <a:blip r:embed="rId7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2349360"/>
            <a:ext cx="813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Boas Práticas (executadas/em andamento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grama Cidades Sustentáveis como subsídio para regulamentação da Educação Fiscal no Municípi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ventário do Município de Belé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ntratos Abert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onitoramento de Dispensa de Licitação na área de Saúde e descontrole de estoque de medicamentos e materiais técnic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moção do Ativismo em Liberdade de Informação (Parceria com Artigo 19, AMARRIBO BRASIL e UNDEF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onitoramento de PPP na área de Resíduos Sólid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3" descr="BELÉMLOGO q"/>
          <p:cNvPicPr/>
          <p:nvPr/>
        </p:nvPicPr>
        <p:blipFill>
          <a:blip r:embed="rId1"/>
          <a:stretch/>
        </p:blipFill>
        <p:spPr>
          <a:xfrm>
            <a:off x="3564000" y="1052640"/>
            <a:ext cx="27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Observatorio Social de Belém"/>
          <p:cNvPicPr/>
          <p:nvPr/>
        </p:nvPicPr>
        <p:blipFill>
          <a:blip r:embed="rId2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23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46040" y="1700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O CASO ALEP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ANEXO IV – Demonstrativo da Lotação de Pessoal Ativ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POD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UNIDADE ORÇAMENTÁRI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BIMEST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LDO, art. 55, parágrafo únic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* no caso de encontrar-se cedido a outro Órgão ou Pod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 algn="ctr">
              <a:spcBef>
                <a:spcPts val="300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PROPOSIÇÃO DO OSDEBELEM E CONSELHO REGIONAL DE CONTABILIDADE À LDO 20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55640" y="3500280"/>
          <a:ext cx="7848720" cy="965520"/>
        </p:xfrm>
        <a:graphic>
          <a:graphicData uri="http://schemas.openxmlformats.org/drawingml/2006/table">
            <a:tbl>
              <a:tblPr/>
              <a:tblGrid>
                <a:gridCol w="1120680"/>
                <a:gridCol w="1122480"/>
                <a:gridCol w="1120680"/>
                <a:gridCol w="1120680"/>
                <a:gridCol w="1122480"/>
                <a:gridCol w="1120680"/>
                <a:gridCol w="112104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P.F Parcial (do 4º ao 9º Dígito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g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ç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íncul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ga Horár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or/Órgão*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b8e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6f4"/>
                    </a:solidFill>
                  </a:tcPr>
                </a:tc>
              </a:tr>
            </a:tbl>
          </a:graphicData>
        </a:graphic>
      </p:graphicFrame>
      <p:sp>
        <p:nvSpPr>
          <p:cNvPr id="228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pic>
        <p:nvPicPr>
          <p:cNvPr id="231" name="Imagem 7" descr="bannerOSB_site5.jpg"/>
          <p:cNvPicPr/>
          <p:nvPr/>
        </p:nvPicPr>
        <p:blipFill>
          <a:blip r:embed="rId2"/>
          <a:stretch/>
        </p:blipFill>
        <p:spPr>
          <a:xfrm>
            <a:off x="324000" y="1700280"/>
            <a:ext cx="8366040" cy="3357360"/>
          </a:xfrm>
          <a:prstGeom prst="rect">
            <a:avLst/>
          </a:prstGeom>
          <a:ln w="0">
            <a:noFill/>
          </a:ln>
        </p:spPr>
      </p:pic>
      <p:sp>
        <p:nvSpPr>
          <p:cNvPr id="232" name="CaixaDeTexto 6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46040" y="1700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OBRIGADO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Ivan Cost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OSDEBELEM@GMAIL.CO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91 8862-999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36" name="CaixaDeTexto 4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29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Futura Md BT"/>
                <a:ea typeface="Arial"/>
              </a:rPr>
              <a:t>A importância da Educação Fisca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74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29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Futura Md BT"/>
                <a:ea typeface="Arial"/>
              </a:rPr>
              <a:t>Teoria &amp; Prática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78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928800" y="2428920"/>
            <a:ext cx="2428920" cy="13953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181" name="Text Box 4"/>
          <p:cNvSpPr/>
          <p:nvPr/>
        </p:nvSpPr>
        <p:spPr>
          <a:xfrm>
            <a:off x="2286000" y="14288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no Pro"/>
              </a:rPr>
              <a:t>MARINGÁ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 -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Diagrama 3" descr=""/>
          <p:cNvPicPr/>
          <p:nvPr/>
        </p:nvPicPr>
        <p:blipFill>
          <a:blip r:embed="rId2"/>
          <a:stretch/>
        </p:blipFill>
        <p:spPr>
          <a:xfrm>
            <a:off x="920880" y="1322280"/>
            <a:ext cx="7941960" cy="4896000"/>
          </a:xfrm>
          <a:prstGeom prst="rect">
            <a:avLst/>
          </a:prstGeom>
          <a:ln w="0">
            <a:noFill/>
          </a:ln>
        </p:spPr>
      </p:pic>
      <p:sp>
        <p:nvSpPr>
          <p:cNvPr id="183" name="Retângulo 3"/>
          <p:cNvSpPr/>
          <p:nvPr/>
        </p:nvSpPr>
        <p:spPr>
          <a:xfrm rot="16200000">
            <a:off x="2089440" y="399672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no Pro"/>
              </a:rPr>
              <a:t>Objetivos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do MPC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6" descr="Observatorio Social de Belém"/>
          <p:cNvPicPr/>
          <p:nvPr/>
        </p:nvPicPr>
        <p:blipFill>
          <a:blip r:embed="rId3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85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2" descr="edfiz_logo2"/>
          <p:cNvPicPr/>
          <p:nvPr/>
        </p:nvPicPr>
        <p:blipFill>
          <a:blip r:embed="rId4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Diagrama 4" descr=""/>
          <p:cNvPicPr/>
          <p:nvPr/>
        </p:nvPicPr>
        <p:blipFill>
          <a:blip r:embed="rId1"/>
          <a:stretch/>
        </p:blipFill>
        <p:spPr>
          <a:xfrm>
            <a:off x="-549360" y="3760920"/>
            <a:ext cx="7450200" cy="2543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2354400" y="1125360"/>
            <a:ext cx="3801960" cy="2268720"/>
          </a:xfrm>
          <a:prstGeom prst="rect">
            <a:avLst/>
          </a:prstGeom>
          <a:ln w="0">
            <a:noFill/>
          </a:ln>
        </p:spPr>
      </p:pic>
      <p:pic>
        <p:nvPicPr>
          <p:cNvPr id="189" name="Imagem 9" descr="brand.gif"/>
          <p:cNvPicPr/>
          <p:nvPr/>
        </p:nvPicPr>
        <p:blipFill>
          <a:blip r:embed="rId3"/>
          <a:stretch/>
        </p:blipFill>
        <p:spPr>
          <a:xfrm>
            <a:off x="6948360" y="407664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90" name="CaixaDeTexto 10"/>
          <p:cNvSpPr/>
          <p:nvPr/>
        </p:nvSpPr>
        <p:spPr>
          <a:xfrm>
            <a:off x="7196040" y="5702400"/>
            <a:ext cx="1155960" cy="307080"/>
          </a:xfrm>
          <a:prstGeom prst="rect">
            <a:avLst/>
          </a:prstGeom>
          <a:gradFill rotWithShape="0">
            <a:gsLst>
              <a:gs pos="0">
                <a:srgbClr val="95adff"/>
              </a:gs>
              <a:gs pos="100000">
                <a:srgbClr val="e1e8ff"/>
              </a:gs>
            </a:gsLst>
            <a:lin ang="16200000"/>
          </a:gradFill>
          <a:ln w="9360">
            <a:solidFill>
              <a:srgbClr val="2e62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13/11/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Observatorio Social de Belém"/>
          <p:cNvPicPr/>
          <p:nvPr/>
        </p:nvPicPr>
        <p:blipFill>
          <a:blip r:embed="rId4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92" name="CaixaDeTexto 7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2" descr="edfiz_logo2"/>
          <p:cNvPicPr/>
          <p:nvPr/>
        </p:nvPicPr>
        <p:blipFill>
          <a:blip r:embed="rId5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Observatorio Social de Belém"/>
          <p:cNvPicPr/>
          <p:nvPr/>
        </p:nvPicPr>
        <p:blipFill>
          <a:blip r:embed="rId1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195" name="CaixaDeTexto 8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2" descr="edfiz_logo2"/>
          <p:cNvPicPr/>
          <p:nvPr/>
        </p:nvPicPr>
        <p:blipFill>
          <a:blip r:embed="rId2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85982"/>
          <p:cNvPicPr/>
          <p:nvPr/>
        </p:nvPicPr>
        <p:blipFill>
          <a:blip r:embed="rId3"/>
          <a:stretch/>
        </p:blipFill>
        <p:spPr>
          <a:xfrm>
            <a:off x="2195640" y="1341360"/>
            <a:ext cx="4608360" cy="3787920"/>
          </a:xfrm>
          <a:prstGeom prst="rect">
            <a:avLst/>
          </a:prstGeom>
          <a:ln w="0">
            <a:noFill/>
          </a:ln>
        </p:spPr>
      </p:pic>
      <p:sp>
        <p:nvSpPr>
          <p:cNvPr id="198" name="CaixaDeTexto 6"/>
          <p:cNvSpPr/>
          <p:nvPr/>
        </p:nvSpPr>
        <p:spPr>
          <a:xfrm>
            <a:off x="1835280" y="544500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400"/>
                </a:solidFill>
                <a:latin typeface="Arial"/>
              </a:rPr>
              <a:t>12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9"/>
          <p:cNvSpPr/>
          <p:nvPr/>
        </p:nvSpPr>
        <p:spPr>
          <a:xfrm>
            <a:off x="395280" y="836640"/>
            <a:ext cx="831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Arial"/>
              </a:rPr>
              <a:t>Progr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48720" cy="496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Observatorio Social de Belém"/>
          <p:cNvPicPr/>
          <p:nvPr/>
        </p:nvPicPr>
        <p:blipFill>
          <a:blip r:embed="rId2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03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395280" y="2349360"/>
            <a:ext cx="813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- Fundado, em 16/11/10, por representantes dos mais diversos segmentos da socie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56º Observatório da Rede OSB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40 associados fundador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Lançado oficialmente, em 09/12/10, no evento do Dia Internacional contra a Corrupçã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BELÉMLOGO q"/>
          <p:cNvPicPr/>
          <p:nvPr/>
        </p:nvPicPr>
        <p:blipFill>
          <a:blip r:embed="rId1"/>
          <a:stretch/>
        </p:blipFill>
        <p:spPr>
          <a:xfrm>
            <a:off x="2484360" y="981000"/>
            <a:ext cx="4103640" cy="1513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Observatorio Social de Belém"/>
          <p:cNvPicPr/>
          <p:nvPr/>
        </p:nvPicPr>
        <p:blipFill>
          <a:blip r:embed="rId2"/>
          <a:stretch/>
        </p:blipFill>
        <p:spPr>
          <a:xfrm>
            <a:off x="611280" y="189000"/>
            <a:ext cx="1224000" cy="590400"/>
          </a:xfrm>
          <a:prstGeom prst="rect">
            <a:avLst/>
          </a:prstGeom>
          <a:ln w="0">
            <a:noFill/>
          </a:ln>
        </p:spPr>
      </p:pic>
      <p:sp>
        <p:nvSpPr>
          <p:cNvPr id="208" name="CaixaDeTexto 5"/>
          <p:cNvSpPr/>
          <p:nvPr/>
        </p:nvSpPr>
        <p:spPr>
          <a:xfrm>
            <a:off x="5435640" y="6453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7700"/>
                </a:solidFill>
                <a:latin typeface="Arial"/>
              </a:rPr>
              <a:t>www.osdebele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2" descr="edfiz_logo2"/>
          <p:cNvPicPr/>
          <p:nvPr/>
        </p:nvPicPr>
        <p:blipFill>
          <a:blip r:embed="rId3"/>
          <a:stretch/>
        </p:blipFill>
        <p:spPr>
          <a:xfrm>
            <a:off x="2556000" y="189000"/>
            <a:ext cx="1008000" cy="69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sitivo</dc:creator>
  <dc:description/>
  <dc:language>en-US</dc:language>
  <cp:lastModifiedBy>Acer</cp:lastModifiedBy>
  <dcterms:modified xsi:type="dcterms:W3CDTF">2013-04-16T15:42:29Z</dcterms:modified>
  <cp:revision>46</cp:revision>
  <dc:subject/>
  <dc:title>Observatório Social</dc:title>
</cp:coreProperties>
</file>