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859-3377-4283-B2C0-B6A3E2A8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D94-F2E2-4758-A0AC-F67E9A15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239-B9EE-46AD-9A8F-45C77344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667-02A3-4AC7-BFA6-B555DA92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A5A3-F3ED-4299-89C2-74A4A2CE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C46-F320-49B1-A9B5-BE0E006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770F-F21D-4023-B87B-027DA625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15D1-A3EA-449E-9AD6-F2A24DFB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0D3E-4C4F-42C5-B1F9-DD62C859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EF14-8EB3-4569-A69B-2B95EC8B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EA12-C654-4372-9747-3BF92EA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F8D-8FCF-4355-AD3A-83E93C20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5314-C5F2-4A80-A1CC-A085735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8008-4974-4196-91DE-F4BBFF43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F290-1958-4967-A329-B6E15B30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9B98-3F52-4B3C-A42A-44FAD0F8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55A2-E910-47C9-B193-8C6B711F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D61E-65C9-4D21-B715-5982910C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B084-78B1-4653-85BD-0F7D6F04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728F-6333-4093-AC6B-AE92054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F5AB-2CAA-4D23-A951-D9B3097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60B2-7C83-4F23-B1A9-7F711A03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AB9-B9EC-446D-B103-14F7A598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62C0-188E-4F68-81D7-A8A94E2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F0E5-3C75-457B-9D23-5A2696B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B73A-D641-46C9-84BE-CD57B59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5E78-C689-444A-B630-6FAAC06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AFB3-C043-4BF9-AD66-758A040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F27D-66EE-46F6-A86D-20CE6995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50AC-F281-48AD-AF07-E4701CB9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58E-E125-4E01-9A6A-7ACC51D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34F-5453-4B81-B838-D6407C5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61B-4DB1-480C-AEEA-0AE4C60E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48E-9509-4C30-A6BD-612630C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F12-2249-4495-A688-D00E359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783-410C-4A29-80F3-064656B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6720" y="6381720"/>
            <a:ext cx="141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381720"/>
            <a:ext cx="48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00" y="6381720"/>
            <a:ext cx="755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76B7-9233-40AE-A6C0-C9458D29BCC1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6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68E-87E3-4B22-9F5C-1216DCDD5990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76720" y="6524640"/>
            <a:ext cx="141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08000" y="6524640"/>
            <a:ext cx="662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388000" y="6524640"/>
            <a:ext cx="755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9334-2CC2-4F6C-A11B-35322098BF7C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700280"/>
            <a:ext cx="720108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Futura Md BT"/>
                <a:ea typeface="Arial"/>
              </a:rPr>
              <a:t>“</a:t>
            </a:r>
            <a:r>
              <a:rPr b="1" lang="pt-BR" sz="2400" spc="-1" strike="noStrike">
                <a:solidFill>
                  <a:srgbClr val="00b050"/>
                </a:solidFill>
                <a:latin typeface="Futura Md BT"/>
                <a:ea typeface="Arial"/>
              </a:rPr>
              <a:t>Observatórios Sociais do Brasil: Relato das experiências de sucesso no controle social do orçamento público. Estratégias para multiplicação dessas experiências em outros municípios”</a:t>
            </a:r>
            <a:br>
              <a:rPr sz="2400"/>
            </a:b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CaixaDeTexto 6"/>
          <p:cNvSpPr/>
          <p:nvPr/>
        </p:nvSpPr>
        <p:spPr>
          <a:xfrm>
            <a:off x="1547640" y="501336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Encontro de Intercâmbio Téc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Internacional em Educação Fis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Brasília, 16/04/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0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BELÉMLOGO q"/>
          <p:cNvPicPr/>
          <p:nvPr/>
        </p:nvPicPr>
        <p:blipFill>
          <a:blip r:embed="rId1"/>
          <a:stretch/>
        </p:blipFill>
        <p:spPr>
          <a:xfrm>
            <a:off x="3348000" y="1125360"/>
            <a:ext cx="3095640" cy="1141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ANd9GcT9BHpEWqwPdgncm4EME71LlFgexPD7v29PW9RpT484ns3Mg_8xyg"/>
          <p:cNvPicPr/>
          <p:nvPr/>
        </p:nvPicPr>
        <p:blipFill>
          <a:blip r:embed="rId2"/>
          <a:stretch/>
        </p:blipFill>
        <p:spPr>
          <a:xfrm>
            <a:off x="4140360" y="465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Logo_Ocb_Sescoop_Twitter_normal"/>
          <p:cNvPicPr/>
          <p:nvPr/>
        </p:nvPicPr>
        <p:blipFill>
          <a:blip r:embed="rId3"/>
          <a:stretch/>
        </p:blipFill>
        <p:spPr>
          <a:xfrm>
            <a:off x="6516720" y="2997360"/>
            <a:ext cx="1295280" cy="1091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9504"/>
          <p:cNvPicPr/>
          <p:nvPr/>
        </p:nvPicPr>
        <p:blipFill>
          <a:blip r:embed="rId4"/>
          <a:stretch/>
        </p:blipFill>
        <p:spPr>
          <a:xfrm>
            <a:off x="1619280" y="299736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31"/>
          <p:cNvSpPr/>
          <p:nvPr/>
        </p:nvSpPr>
        <p:spPr>
          <a:xfrm>
            <a:off x="3257640" y="2914560"/>
            <a:ext cx="26287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2" descr="edfiz_logo2"/>
          <p:cNvPicPr/>
          <p:nvPr/>
        </p:nvPicPr>
        <p:blipFill>
          <a:blip r:embed="rId5"/>
          <a:stretch/>
        </p:blipFill>
        <p:spPr>
          <a:xfrm>
            <a:off x="4067280" y="321300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Observatorio Social de Belém"/>
          <p:cNvPicPr/>
          <p:nvPr/>
        </p:nvPicPr>
        <p:blipFill>
          <a:blip r:embed="rId6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18" name="CaixaDeTexto 14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2" descr="edfiz_logo2"/>
          <p:cNvPicPr/>
          <p:nvPr/>
        </p:nvPicPr>
        <p:blipFill>
          <a:blip r:embed="rId7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Boas Práticas (executadas/em andament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grama Cidades Sustentáveis como subsídio para regulamentação da Educação Fiscal no Municípi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ventário do Município de Belé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tratos Abert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onitoramento de Dispensa de Licitação na área de Saúde e descontrole de estoque de medicamentos e materiais técnic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moção do Ativismo em Liberdade de Informação (Parceria com Artigo 19, AMARRIBO BRASIL e UNDEF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onitoramento de PPP na área de Resíduos Sólid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BELÉMLOGO q"/>
          <p:cNvPicPr/>
          <p:nvPr/>
        </p:nvPicPr>
        <p:blipFill>
          <a:blip r:embed="rId1"/>
          <a:stretch/>
        </p:blipFill>
        <p:spPr>
          <a:xfrm>
            <a:off x="3564000" y="1052640"/>
            <a:ext cx="27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23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 CASO ALEP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ANEXO IV – Demonstrativo da Lotação de Pessoal Ativ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POD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UNIDADE ORÇAMENTÁRI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BIMEST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LDO, art. 55, parágrafo únic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* no caso de encontrar-se cedido a outro Órgão ou Pod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ctr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PROPOSIÇÃO DO OSDEBELEM E CONSELHO REGIONAL DE CONTABILIDADE À LDO 20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55640" y="3500280"/>
          <a:ext cx="7848720" cy="965520"/>
        </p:xfrm>
        <a:graphic>
          <a:graphicData uri="http://schemas.openxmlformats.org/drawingml/2006/table">
            <a:tbl>
              <a:tblPr/>
              <a:tblGrid>
                <a:gridCol w="1120680"/>
                <a:gridCol w="1122480"/>
                <a:gridCol w="1120680"/>
                <a:gridCol w="1120680"/>
                <a:gridCol w="1122480"/>
                <a:gridCol w="1120680"/>
                <a:gridCol w="112104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P.F Parcial (do 4º ao 9º Dígito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íncul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ga Horá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or/Órgão*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</a:tr>
            </a:tbl>
          </a:graphicData>
        </a:graphic>
      </p:graphicFrame>
      <p:sp>
        <p:nvSpPr>
          <p:cNvPr id="228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Imagem 7" descr="bannerOSB_site5.jpg"/>
          <p:cNvPicPr/>
          <p:nvPr/>
        </p:nvPicPr>
        <p:blipFill>
          <a:blip r:embed="rId2"/>
          <a:stretch/>
        </p:blipFill>
        <p:spPr>
          <a:xfrm>
            <a:off x="324000" y="1700280"/>
            <a:ext cx="8366040" cy="3357360"/>
          </a:xfrm>
          <a:prstGeom prst="rect">
            <a:avLst/>
          </a:prstGeom>
          <a:ln w="0">
            <a:noFill/>
          </a:ln>
        </p:spPr>
      </p:pic>
      <p:sp>
        <p:nvSpPr>
          <p:cNvPr id="232" name="CaixaDeTexto 6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OBRIGADO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Ivan Cost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SDEBELEM@GMAIL.C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91 8862-999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36" name="CaixaDeTexto 4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Futura Md BT"/>
                <a:ea typeface="Arial"/>
              </a:rPr>
              <a:t>A importância da Educação Fisca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4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Futura Md BT"/>
                <a:ea typeface="Arial"/>
              </a:rPr>
              <a:t>Teoria &amp; Prática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928800" y="2428920"/>
            <a:ext cx="2428920" cy="13953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181" name="Text Box 4"/>
          <p:cNvSpPr/>
          <p:nvPr/>
        </p:nvSpPr>
        <p:spPr>
          <a:xfrm>
            <a:off x="2286000" y="1428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no Pro"/>
              </a:rPr>
              <a:t>MARINGÁ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 -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iagrama 3" descr=""/>
          <p:cNvPicPr/>
          <p:nvPr/>
        </p:nvPicPr>
        <p:blipFill>
          <a:blip r:embed="rId2"/>
          <a:stretch/>
        </p:blipFill>
        <p:spPr>
          <a:xfrm>
            <a:off x="920880" y="1322280"/>
            <a:ext cx="794196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Retângulo 3"/>
          <p:cNvSpPr/>
          <p:nvPr/>
        </p:nvSpPr>
        <p:spPr>
          <a:xfrm rot="16200000">
            <a:off x="2089440" y="39967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no Pro"/>
              </a:rPr>
              <a:t>Objetivos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do MP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Observatorio Social de Belém"/>
          <p:cNvPicPr/>
          <p:nvPr/>
        </p:nvPicPr>
        <p:blipFill>
          <a:blip r:embed="rId3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2" descr="edfiz_logo2"/>
          <p:cNvPicPr/>
          <p:nvPr/>
        </p:nvPicPr>
        <p:blipFill>
          <a:blip r:embed="rId4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Diagrama 4" descr=""/>
          <p:cNvPicPr/>
          <p:nvPr/>
        </p:nvPicPr>
        <p:blipFill>
          <a:blip r:embed="rId1"/>
          <a:stretch/>
        </p:blipFill>
        <p:spPr>
          <a:xfrm>
            <a:off x="-549360" y="3760920"/>
            <a:ext cx="7450200" cy="254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2354400" y="1125360"/>
            <a:ext cx="3801960" cy="2268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m 9" descr="brand.gif"/>
          <p:cNvPicPr/>
          <p:nvPr/>
        </p:nvPicPr>
        <p:blipFill>
          <a:blip r:embed="rId3"/>
          <a:stretch/>
        </p:blipFill>
        <p:spPr>
          <a:xfrm>
            <a:off x="6948360" y="407664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90" name="CaixaDeTexto 10"/>
          <p:cNvSpPr/>
          <p:nvPr/>
        </p:nvSpPr>
        <p:spPr>
          <a:xfrm>
            <a:off x="7196040" y="5702400"/>
            <a:ext cx="1155960" cy="307080"/>
          </a:xfrm>
          <a:prstGeom prst="rect">
            <a:avLst/>
          </a:prstGeom>
          <a:gradFill rotWithShape="0">
            <a:gsLst>
              <a:gs pos="0">
                <a:srgbClr val="95adff"/>
              </a:gs>
              <a:gs pos="100000">
                <a:srgbClr val="e1e8ff"/>
              </a:gs>
            </a:gsLst>
            <a:lin ang="16200000"/>
          </a:gradFill>
          <a:ln w="9360">
            <a:solidFill>
              <a:srgbClr val="2e62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13/11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Observatorio Social de Belém"/>
          <p:cNvPicPr/>
          <p:nvPr/>
        </p:nvPicPr>
        <p:blipFill>
          <a:blip r:embed="rId4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7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2" descr="edfiz_logo2"/>
          <p:cNvPicPr/>
          <p:nvPr/>
        </p:nvPicPr>
        <p:blipFill>
          <a:blip r:embed="rId5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95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85982"/>
          <p:cNvPicPr/>
          <p:nvPr/>
        </p:nvPicPr>
        <p:blipFill>
          <a:blip r:embed="rId3"/>
          <a:stretch/>
        </p:blipFill>
        <p:spPr>
          <a:xfrm>
            <a:off x="2195640" y="1341360"/>
            <a:ext cx="4608360" cy="3787920"/>
          </a:xfrm>
          <a:prstGeom prst="rect">
            <a:avLst/>
          </a:prstGeom>
          <a:ln w="0">
            <a:noFill/>
          </a:ln>
        </p:spPr>
      </p:pic>
      <p:sp>
        <p:nvSpPr>
          <p:cNvPr id="198" name="CaixaDeTexto 6"/>
          <p:cNvSpPr/>
          <p:nvPr/>
        </p:nvSpPr>
        <p:spPr>
          <a:xfrm>
            <a:off x="1835280" y="544500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12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"/>
          <p:cNvSpPr/>
          <p:nvPr/>
        </p:nvSpPr>
        <p:spPr>
          <a:xfrm>
            <a:off x="395280" y="836640"/>
            <a:ext cx="83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Progr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48720" cy="496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03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- Fundado, em 16/11/10, por representantes dos mais diversos segmentos da socie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56º Observatório da Rede OSB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40 associados fundador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Lançado oficialmente, em 09/12/10, no evento do Dia Internacional contra a Corrup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BELÉMLOGO q"/>
          <p:cNvPicPr/>
          <p:nvPr/>
        </p:nvPicPr>
        <p:blipFill>
          <a:blip r:embed="rId1"/>
          <a:stretch/>
        </p:blipFill>
        <p:spPr>
          <a:xfrm>
            <a:off x="2484360" y="981000"/>
            <a:ext cx="4103640" cy="1513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08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sitivo</dc:creator>
  <dc:description/>
  <dc:language>en-US</dc:language>
  <cp:lastModifiedBy>Acer</cp:lastModifiedBy>
  <dcterms:modified xsi:type="dcterms:W3CDTF">2013-04-16T15:42:29Z</dcterms:modified>
  <cp:revision>46</cp:revision>
  <dc:subject/>
  <dc:title>Observatório Social</dc:title>
</cp:coreProperties>
</file>