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1219-BB6D-4865-8534-7425A90FD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775E-A4AB-4B50-8E74-D4FC5D3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7DCE-BB9B-4878-AD75-B129A93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B5E8-9892-41B2-8C45-DFDBE3019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65A4-3CD2-4B2E-8553-1EA8F31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1F34-CAD8-435D-AC96-C7C86A7A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2076-EC84-4CC6-98CE-BAA8484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DB70-BE58-4FAB-B40D-FB65DE1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DE00-91CB-4CA3-BAB2-561198E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03EC-C032-49A1-9EE9-BF00D1A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2947-F8F7-4BCB-A170-A48ACB44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306C-9D00-469E-87F8-437B3C2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5333C3-B777-4B9D-BDE0-1DABD34126CD}" type="slidenum">
              <a:rPr b="0" lang="pt-BR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53964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187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xperiências d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IFC </a:t>
            </a: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e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Ad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231920" y="3213000"/>
            <a:ext cx="401796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580000" y="3097080"/>
            <a:ext cx="181620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896000" y="5975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3419640" y="190440"/>
            <a:ext cx="526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539640" y="2060640"/>
            <a:ext cx="1216080" cy="1717560"/>
            <a:chOff x="539640" y="2060640"/>
            <a:chExt cx="1216080" cy="1717560"/>
          </a:xfrm>
        </p:grpSpPr>
        <p:pic>
          <p:nvPicPr>
            <p:cNvPr id="48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2060640"/>
              <a:ext cx="121608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4"/>
            <p:cNvSpPr/>
            <p:nvPr/>
          </p:nvSpPr>
          <p:spPr>
            <a:xfrm>
              <a:off x="539640" y="2060640"/>
              <a:ext cx="121608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79280" y="9360"/>
            <a:ext cx="401976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3962520" cy="130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189160" y="2075040"/>
            <a:ext cx="201600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5365800" y="4222800"/>
            <a:ext cx="3240000" cy="15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521080" cy="15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3851280" y="443088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896000" y="59770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50920" y="222120"/>
            <a:ext cx="5267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Educação Fiscal e Controle Soci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640" y="144360"/>
            <a:ext cx="181800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6516720" y="343080"/>
            <a:ext cx="1903320" cy="1703160"/>
            <a:chOff x="6516720" y="343080"/>
            <a:chExt cx="1903320" cy="1703160"/>
          </a:xfrm>
        </p:grpSpPr>
        <p:pic>
          <p:nvPicPr>
            <p:cNvPr id="60" name="Picture 4" descr=""/>
            <p:cNvPicPr/>
            <p:nvPr/>
          </p:nvPicPr>
          <p:blipFill>
            <a:blip r:embed="rId2"/>
            <a:stretch/>
          </p:blipFill>
          <p:spPr>
            <a:xfrm>
              <a:off x="6516720" y="343080"/>
              <a:ext cx="190332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6516720" y="343080"/>
              <a:ext cx="1903320" cy="17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380200" y="4525920"/>
            <a:ext cx="3730320" cy="233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50760" y="3495600"/>
            <a:ext cx="399096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4859280" y="2852640"/>
            <a:ext cx="4154400" cy="276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3276720" y="1919160"/>
            <a:ext cx="2342880" cy="130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2651040" y="3273480"/>
            <a:ext cx="39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ttp://assiste.serpro.gov.br/esaf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008000" y="640404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nis Moura e Jovita Feito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11280" y="431640"/>
            <a:ext cx="1025640" cy="10083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6121440" y="360360"/>
            <a:ext cx="1220760" cy="1023840"/>
            <a:chOff x="6121440" y="360360"/>
            <a:chExt cx="1220760" cy="1023840"/>
          </a:xfrm>
        </p:grpSpPr>
        <p:pic>
          <p:nvPicPr>
            <p:cNvPr id="71" name="Picture 4" descr=""/>
            <p:cNvPicPr/>
            <p:nvPr/>
          </p:nvPicPr>
          <p:blipFill>
            <a:blip r:embed="rId2"/>
            <a:stretch/>
          </p:blipFill>
          <p:spPr>
            <a:xfrm>
              <a:off x="612144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"/>
            <p:cNvSpPr/>
            <p:nvPr/>
          </p:nvSpPr>
          <p:spPr>
            <a:xfrm>
              <a:off x="612144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273480" y="206280"/>
            <a:ext cx="2343240" cy="130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1400" y="148428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220840" y="5624640"/>
            <a:ext cx="52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10252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6626160" y="360360"/>
            <a:ext cx="1220760" cy="1023840"/>
            <a:chOff x="6626160" y="360360"/>
            <a:chExt cx="1220760" cy="1023840"/>
          </a:xfrm>
        </p:grpSpPr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6626160" y="360360"/>
              <a:ext cx="122076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5"/>
            <p:cNvSpPr/>
            <p:nvPr/>
          </p:nvSpPr>
          <p:spPr>
            <a:xfrm>
              <a:off x="6626160" y="360360"/>
              <a:ext cx="122076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2303640" y="71280"/>
            <a:ext cx="3990960" cy="2686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184720" y="619128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moulidor@ifc.org.b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7:30:56Z</dcterms:created>
  <dc:creator>Denis Moura de Lima</dc:creator>
  <dc:description/>
  <dc:language>en-US</dc:language>
  <cp:lastModifiedBy>esaf</cp:lastModifiedBy>
  <dcterms:modified xsi:type="dcterms:W3CDTF">2013-04-16T20:56:59Z</dcterms:modified>
  <cp:revision>9</cp:revision>
  <dc:subject/>
  <dc:title>Educação Fiscal e Controle Social</dc:title>
</cp:coreProperties>
</file>