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6BCD9-325F-4737-9874-0B0008641B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6215D-5435-4057-8977-38408CA3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E67F9-F4B7-44DA-B306-08559813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C637-2632-4C22-8CE5-EE0EA492B8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67C9-3C11-4AD1-98FC-AF71276B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08E91-D020-48CE-980F-B8293198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3F99E-A2C9-4E02-B3BF-BC3E6E91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1370-36E9-4237-B93F-9DACFB0B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EE215-184C-433C-91FC-A5AB9B21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E428-8DAC-45A6-9A6F-E7D2516E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418C-2C3A-4ED2-ABAD-67CE07AD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3921-A648-4F4A-8B96-E179B0A3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1CE0D2-F402-4DAE-B167-9EC9A22FD631}" type="slidenum">
              <a:rPr b="0" lang="pt-BR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53964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Educação Fiscal e Controle Soci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187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Experiências d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IFC </a:t>
            </a: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e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Ad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231920" y="3213000"/>
            <a:ext cx="401796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5580000" y="3097080"/>
            <a:ext cx="181620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896000" y="597528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enis Moura e Jovita Feitos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3419640" y="190440"/>
            <a:ext cx="526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Educação Fiscal e Controle Socia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7" name="Group 2"/>
          <p:cNvGrpSpPr/>
          <p:nvPr/>
        </p:nvGrpSpPr>
        <p:grpSpPr>
          <a:xfrm>
            <a:off x="539640" y="2060640"/>
            <a:ext cx="1216080" cy="1717560"/>
            <a:chOff x="539640" y="2060640"/>
            <a:chExt cx="1216080" cy="1717560"/>
          </a:xfrm>
        </p:grpSpPr>
        <p:pic>
          <p:nvPicPr>
            <p:cNvPr id="48" name="Picture 3" descr=""/>
            <p:cNvPicPr/>
            <p:nvPr/>
          </p:nvPicPr>
          <p:blipFill>
            <a:blip r:embed="rId1"/>
            <a:stretch/>
          </p:blipFill>
          <p:spPr>
            <a:xfrm>
              <a:off x="539640" y="2060640"/>
              <a:ext cx="121608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4"/>
            <p:cNvSpPr/>
            <p:nvPr/>
          </p:nvSpPr>
          <p:spPr>
            <a:xfrm>
              <a:off x="539640" y="2060640"/>
              <a:ext cx="1216080" cy="17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179280" y="9360"/>
            <a:ext cx="401976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643280" y="2133720"/>
            <a:ext cx="3962520" cy="130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2189160" y="2075040"/>
            <a:ext cx="2016000" cy="215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5365800" y="4222800"/>
            <a:ext cx="3240000" cy="155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6"/>
          <a:stretch/>
        </p:blipFill>
        <p:spPr>
          <a:xfrm>
            <a:off x="826920" y="4581360"/>
            <a:ext cx="2521080" cy="157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7"/>
          <a:stretch/>
        </p:blipFill>
        <p:spPr>
          <a:xfrm>
            <a:off x="3851280" y="443088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4896000" y="597708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enis Moura e Jovita Feitos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050920" y="222120"/>
            <a:ext cx="5267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Educação Fiscal e Controle Socia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85640" y="144360"/>
            <a:ext cx="1818000" cy="18162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3"/>
          <p:cNvGrpSpPr/>
          <p:nvPr/>
        </p:nvGrpSpPr>
        <p:grpSpPr>
          <a:xfrm>
            <a:off x="6516720" y="343080"/>
            <a:ext cx="1903320" cy="1703160"/>
            <a:chOff x="6516720" y="343080"/>
            <a:chExt cx="1903320" cy="1703160"/>
          </a:xfrm>
        </p:grpSpPr>
        <p:pic>
          <p:nvPicPr>
            <p:cNvPr id="60" name="Picture 4" descr=""/>
            <p:cNvPicPr/>
            <p:nvPr/>
          </p:nvPicPr>
          <p:blipFill>
            <a:blip r:embed="rId2"/>
            <a:stretch/>
          </p:blipFill>
          <p:spPr>
            <a:xfrm>
              <a:off x="6516720" y="343080"/>
              <a:ext cx="190332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5"/>
            <p:cNvSpPr/>
            <p:nvPr/>
          </p:nvSpPr>
          <p:spPr>
            <a:xfrm>
              <a:off x="6516720" y="343080"/>
              <a:ext cx="1903320" cy="17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5380200" y="4525920"/>
            <a:ext cx="3730320" cy="2332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50760" y="3495600"/>
            <a:ext cx="3990960" cy="268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5"/>
          <a:stretch/>
        </p:blipFill>
        <p:spPr>
          <a:xfrm>
            <a:off x="4859280" y="2852640"/>
            <a:ext cx="4154400" cy="276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6"/>
          <a:stretch/>
        </p:blipFill>
        <p:spPr>
          <a:xfrm>
            <a:off x="3276720" y="1919160"/>
            <a:ext cx="2342880" cy="1305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2651040" y="3273480"/>
            <a:ext cx="39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http://assiste.serpro.gov.br/esaf/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008000" y="640404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enis Moura e Jovita Feitos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220840" y="5624640"/>
            <a:ext cx="526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11280" y="431640"/>
            <a:ext cx="1025640" cy="10083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3"/>
          <p:cNvGrpSpPr/>
          <p:nvPr/>
        </p:nvGrpSpPr>
        <p:grpSpPr>
          <a:xfrm>
            <a:off x="6121440" y="360360"/>
            <a:ext cx="1220760" cy="1023840"/>
            <a:chOff x="6121440" y="360360"/>
            <a:chExt cx="1220760" cy="1023840"/>
          </a:xfrm>
        </p:grpSpPr>
        <p:pic>
          <p:nvPicPr>
            <p:cNvPr id="71" name="Picture 4" descr=""/>
            <p:cNvPicPr/>
            <p:nvPr/>
          </p:nvPicPr>
          <p:blipFill>
            <a:blip r:embed="rId2"/>
            <a:stretch/>
          </p:blipFill>
          <p:spPr>
            <a:xfrm>
              <a:off x="6121440" y="360360"/>
              <a:ext cx="122076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5"/>
            <p:cNvSpPr/>
            <p:nvPr/>
          </p:nvSpPr>
          <p:spPr>
            <a:xfrm>
              <a:off x="6121440" y="360360"/>
              <a:ext cx="122076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273480" y="206280"/>
            <a:ext cx="2343240" cy="1305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41400" y="148428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2220840" y="5624640"/>
            <a:ext cx="526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79640" y="360360"/>
            <a:ext cx="1025280" cy="100800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3"/>
          <p:cNvGrpSpPr/>
          <p:nvPr/>
        </p:nvGrpSpPr>
        <p:grpSpPr>
          <a:xfrm>
            <a:off x="6626160" y="360360"/>
            <a:ext cx="1220760" cy="1023840"/>
            <a:chOff x="6626160" y="360360"/>
            <a:chExt cx="1220760" cy="1023840"/>
          </a:xfrm>
        </p:grpSpPr>
        <p:pic>
          <p:nvPicPr>
            <p:cNvPr id="78" name="Picture 4" descr=""/>
            <p:cNvPicPr/>
            <p:nvPr/>
          </p:nvPicPr>
          <p:blipFill>
            <a:blip r:embed="rId2"/>
            <a:stretch/>
          </p:blipFill>
          <p:spPr>
            <a:xfrm>
              <a:off x="6626160" y="360360"/>
              <a:ext cx="122076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5"/>
            <p:cNvSpPr/>
            <p:nvPr/>
          </p:nvSpPr>
          <p:spPr>
            <a:xfrm>
              <a:off x="6626160" y="360360"/>
              <a:ext cx="122076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2303640" y="71280"/>
            <a:ext cx="3990960" cy="2686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5184720" y="619128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emoulidor@ifc.org.b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7:30:56Z</dcterms:created>
  <dc:creator>Denis Moura de Lima</dc:creator>
  <dc:description/>
  <dc:language>en-US</dc:language>
  <cp:lastModifiedBy>esaf</cp:lastModifiedBy>
  <dcterms:modified xsi:type="dcterms:W3CDTF">2013-04-16T20:56:59Z</dcterms:modified>
  <cp:revision>9</cp:revision>
  <dc:subject/>
  <dc:title>Educação Fiscal e Controle Social</dc:title>
</cp:coreProperties>
</file>