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2DE23-166F-4ECE-B741-D8C2AE8F195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59B19-064F-441B-B9A9-DDB199A4CBE3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A626A-C271-43ED-95D8-918A5B345310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DFDA6-B327-4F72-9D1D-9A74E32AEFF2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n el lenguaje empresarial, siempre escuchamos hablar de “estrategia”, “ser estratégico”, “hacer estrategias”, son frases muy usadas que al parecer “elevan” la conversación…. Pero realmente sabemos lo que significan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¿Qué es SER estratégico para ustedes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Hablar de ser Estratégicos es acerca de tomar decisiones con conciencia HOY,  por un futuro que deseamo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s por eso que no sólo debe de aplicarse a nivel empresarial sino también hay que SER estratégicos a nivel person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Ser estratégico, es tener claro donde estás y hacia donde quieres llegar, sabiendo lo que te va a diferenci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Mucha gente termina haciendo de todo, pero al final no logra nada porque no tiene claro a donde quiere llegar…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Recuerden: Cuando uno tiene rumbo… LLEGA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Y las “estrategias” :   Es  el camino, la ruta que tomas, lo que asumes con convicción, lo que decides renunciar.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Puede ser recta, curva, zigzag…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Calibri"/>
              </a:rPr>
              <a:t>Ese camino lo decide la empresa y a nivel personal, lo decide uno mism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CDDD8-B597-4CF0-8C5C-5E3DFA54C5E3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Cuál fue el problema que  atacaron?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Por qué desarrollaron esa herramienta y no otra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 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Forma parte de un Plan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 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Con qué recursos contaban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Cuáles fueron las limitaciones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 establecieron indicadores y metas? ¿hacen control de gestión? </a:t>
            </a:r>
            <a:r>
              <a:rPr b="0" lang="es-PE" sz="500" spc="-1" strike="noStrike">
                <a:solidFill>
                  <a:srgbClr val="1f497d"/>
                </a:solidFill>
                <a:latin typeface="Times New Roman"/>
              </a:rPr>
              <a:t>  </a:t>
            </a:r>
            <a:r>
              <a:rPr b="0" lang="es-PE" sz="1200" spc="-1" strike="noStrike">
                <a:solidFill>
                  <a:srgbClr val="1f497d"/>
                </a:solidFill>
                <a:latin typeface="Calibri"/>
              </a:rPr>
              <a:t>¿Cuáles fueron los resultados esperados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2642B-CF3A-44BF-8C1B-8F47A177F6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778F3-7161-4A6A-BDD0-F7BEC01A20B7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ínea con ser estratégico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Un CI estratégico, PRIMERO tiene que saber donde estás par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Acá he graficado las 4 variables que considero son importantes tener en cuenta como parte del rol y que son aplicables a cualquier empresa.. Ya sea grande, pequeña, familiar, del estado, privada, transna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Luego vamos a profundizar cada una de estas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l Foco de Crecimiento del área:.. Para que evoluc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En la medida en que el CI, entienda más al negocio va a poder agregar más valor desde su posi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2. Entendemos cuál es nuestra ventaja competitiva en nuestro 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3. Tenemos identificado donde está nuestra oportunidad?... 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4. Cuáles son nuestras amenazas dentro de nuestra gestió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D6BD2-5A0C-46AB-BEC9-2777E0EC980C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EC62A-4BF7-4D58-B9D5-4B7C2EB8E45D}" type="slidenum">
              <a:rPr b="0" lang="es-PE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E2175-4796-48AF-BC47-3714463572CA}" type="slidenum">
              <a:rPr b="0" lang="es-PE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477-6716-4652-A914-8F625F2D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4A2-C8FB-4838-86A2-918EAE8F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562-A773-4E3A-99B8-CA861EEC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9F7-F2FB-4491-9C34-19FFF105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985F-407C-4F04-B1D9-35695BE7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442D-6301-44A4-B1AE-DAF62582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15A3-7B6E-4E66-A00F-53DAB034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5C12-E532-47F5-8AAE-3A4B9DC0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B83E-6336-45B5-8975-15A67135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E98C-F2E8-467D-B7EC-8292DECF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8EAF-5C05-4E08-9658-60EBC470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0BC-EEF3-4F37-8134-2963E9B8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6A59-1F28-4207-8AB6-C1018E8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47FC-F2A4-4A39-A0B7-58CAFD65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773E-4564-420D-ACA1-405398DF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BE8C-02D3-4BD8-B0D8-CE9F4E2C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C8F5-8514-40AA-A4B5-7D800ED5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4A7-7E29-4975-BD4C-1927F0F9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070-EF79-4F61-A082-8A46C942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7A4-4420-4609-B49A-5597ADFE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3BC-ADB3-433A-A3D3-333FB43F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554-0116-4026-80D3-B2CC0D34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BDC-BEFB-4416-9389-0A684E7F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5F1-6434-4914-BADB-CF20936A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928B5-B119-41F5-A35B-667B42B95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ángulo 6"/>
          <p:cNvSpPr/>
          <p:nvPr/>
        </p:nvSpPr>
        <p:spPr>
          <a:xfrm>
            <a:off x="0" y="0"/>
            <a:ext cx="9144000" cy="46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ángulo 7"/>
          <p:cNvSpPr/>
          <p:nvPr/>
        </p:nvSpPr>
        <p:spPr>
          <a:xfrm>
            <a:off x="0" y="60480"/>
            <a:ext cx="9144000" cy="45720"/>
          </a:xfrm>
          <a:prstGeom prst="rect">
            <a:avLst/>
          </a:prstGeom>
          <a:solidFill>
            <a:srgbClr val="006c3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ángulo 8"/>
          <p:cNvSpPr/>
          <p:nvPr/>
        </p:nvSpPr>
        <p:spPr>
          <a:xfrm>
            <a:off x="0" y="6769080"/>
            <a:ext cx="9144000" cy="73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C7098-B06E-4E53-8BE4-D4CF4293D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carmen.vargas.v@gmail.com" TargetMode="External"/><Relationship Id="rId2" Type="http://schemas.openxmlformats.org/officeDocument/2006/relationships/hyperlink" Target="mailto:cvargas@sunat.gob.pe" TargetMode="External"/><Relationship Id="rId3" Type="http://schemas.openxmlformats.org/officeDocument/2006/relationships/hyperlink" Target="http://carmenvargasv.com/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2" descr=""/>
          <p:cNvPicPr/>
          <p:nvPr/>
        </p:nvPicPr>
        <p:blipFill>
          <a:blip r:embed="rId1"/>
          <a:srcRect l="0" t="3768" r="1469" b="22665"/>
          <a:stretch/>
        </p:blipFill>
        <p:spPr>
          <a:xfrm>
            <a:off x="584280" y="0"/>
            <a:ext cx="7972200" cy="2048040"/>
          </a:xfrm>
          <a:prstGeom prst="rect">
            <a:avLst/>
          </a:prstGeom>
          <a:ln w="0">
            <a:noFill/>
          </a:ln>
        </p:spPr>
      </p:pic>
      <p:sp>
        <p:nvSpPr>
          <p:cNvPr id="93" name="CuadroTexto 3"/>
          <p:cNvSpPr/>
          <p:nvPr/>
        </p:nvSpPr>
        <p:spPr>
          <a:xfrm>
            <a:off x="2197080" y="3000240"/>
            <a:ext cx="573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4000" spc="-1" strike="noStrike">
                <a:solidFill>
                  <a:srgbClr val="008a3e"/>
                </a:solidFill>
                <a:latin typeface="Arial"/>
              </a:rPr>
              <a:t>Comunicación estratégica aplica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4000" spc="-1" strike="noStrike">
                <a:solidFill>
                  <a:srgbClr val="008a3e"/>
                </a:solidFill>
                <a:latin typeface="Arial"/>
              </a:rPr>
              <a:t>a la Educación Fis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8 CuadroTexto"/>
          <p:cNvSpPr/>
          <p:nvPr/>
        </p:nvSpPr>
        <p:spPr>
          <a:xfrm>
            <a:off x="538920" y="189000"/>
            <a:ext cx="618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¿Qué características tendrán nuestros mensaj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REFERENTES DE COMUNICACIÓN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4210200" y="2386080"/>
            <a:ext cx="2225520" cy="40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spon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h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í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f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prob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ticip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nov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 orgu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1009800" y="2233440"/>
            <a:ext cx="2895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port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á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g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c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a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tiv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rpr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quilib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te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8 CuadroTexto"/>
          <p:cNvSpPr/>
          <p:nvPr/>
        </p:nvSpPr>
        <p:spPr>
          <a:xfrm>
            <a:off x="535680" y="189000"/>
            <a:ext cx="8453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</a:rPr>
              <a:t>¿Qué estrategia general utilizaré para lograr mi objet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ángulo 1"/>
          <p:cNvSpPr/>
          <p:nvPr/>
        </p:nvSpPr>
        <p:spPr>
          <a:xfrm>
            <a:off x="743040" y="1941480"/>
            <a:ext cx="457200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Pedag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Difu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Despli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Inf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Defen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Ata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Human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Fide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Investi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Gestión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Conser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Silen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ángulo 2"/>
          <p:cNvSpPr/>
          <p:nvPr/>
        </p:nvSpPr>
        <p:spPr>
          <a:xfrm>
            <a:off x="5151600" y="1838160"/>
            <a:ext cx="33429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Memorabilidad Posi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Par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Lanz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Alin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Fortal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Acerc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Intens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Testimon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Expan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060"/>
                </a:solidFill>
                <a:latin typeface="Verdana"/>
              </a:rPr>
              <a:t>Trans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474920" y="333360"/>
            <a:ext cx="72007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41200" y="317520"/>
            <a:ext cx="8250480" cy="72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Pedagóg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tilizar mecanismos de formación o espacios educativos para que la gente conozca y comprenda un tema o una situación específ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ifus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ar a conocer masivamente  (publicitaria) una situación o tema importante de la organ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Fideliz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Ganar lealtad, que las personas que se deseen siempre estén a favor de la organización. Ser la primera op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efen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organización debe salir con argumentos que cuiden  su imagen, reputación , marcas o ejecutivos, con el propósito de blindar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ta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canismos de señalamientos y confrontación que afecten la imagen o la comunicación de contrinc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Humaniz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scatar lo más profundo y humano de las personas para que se sientan valoradas e incrementen su pertenencia y productiv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esplieg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trega de información de forma sistemática y organizada sobre un tema especí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Investig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fundizar, especificar sobre un asunto para tener argumentos  más sólidos y convincentes sobre algún tema o asu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Silenc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llar para no generar enfrentamientos, dejar que los demás hab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0160" y="333360"/>
            <a:ext cx="8265960" cy="64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esarroll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uscar nuevos espacios, mecanismos para continuar avanza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Gestión soci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poyar a las comunidades menos favorecidas para demostrar el compromiso asumido con los que más lo necesit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Conserv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teger y sostener aspectos, programas o asuntos valorados por una audiencia específ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Desarroll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uscar nuevos espacios, mecanismos para continuar avanza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Gestión soci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poyar a las comunidades menos favorecidas para demostrar el compromiso asumido con los que más lo necesit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Conserv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teger y sostener aspectos, programas o asuntos valorados por una audiencia específ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Promo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canismos para mostrar atracción, deseo y empatía  hacia algo o algu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Memorabilidad Posi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jar huella por algo  o alguien que marca diferencia y se convierte en  asuntos inolvidables y valo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Particip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brir espacios para que las personas se pronuncien y su voz se sienta valor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Lanza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ar a conocer algo nuevo de forma impact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76280" y="542880"/>
            <a:ext cx="81360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line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intonizar proyectos, personas o asuntos con una dirección dese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Fortaleci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vitalización de situaciones o proyectos específicos, volver a mostrar los beneficios que se pueden generar para que se siga siendo valo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Posiciona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trar con fuerza y arraigo en la mente de quien nos interesa, ganarle el espacio por emoción o razonamiento. Busca generar siempre record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Acerca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legar directamente a quien nos interesa para que se sienta valorado e inform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Intensific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Volver a hacer énfasis de forma sistemática y programática, para que no se olvide lo que se esta transmitiendo o se genere mayor credibilidad y acep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Testimoni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Utilizar voceros para que argumenten lo que se desea transmit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Expans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Buscar nuevos espacios para dar a conocer la compañía o diversificar su a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Innov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rear nuevas ideas para mantener la expectativa y el interé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Transform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Optar por cambiar los esquemas, maneras  o formas de ope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Inform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Que nuestro público conozca un tema que nos interesa para su mejor accio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8 CuadroTexto"/>
          <p:cNvSpPr/>
          <p:nvPr/>
        </p:nvSpPr>
        <p:spPr>
          <a:xfrm>
            <a:off x="888840" y="189000"/>
            <a:ext cx="79693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¿Mediante qué espacios, situaciones o medios vamos a lle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c00000"/>
                </a:solidFill>
                <a:latin typeface="Arial"/>
              </a:rPr>
              <a:t>TÁCTICAS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55640" y="2158920"/>
            <a:ext cx="823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bri"/>
              </a:rPr>
              <a:t>Clases de acciones y/o tácticas de comun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os masivos de comunicación (Audiovisuales,  imp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os digitales (Redes So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dios directos comunicación (reuniones, conferencias de prensa, char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ventos (Ferias, culturales, deportivos, Fo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cursos y premios (poesía, cuento, mensajes, triv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líticas, protocolos (Lineamientos de ac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omenajes y conmemor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rvicios (Campañas de atención al contribuy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laciones Públicas y Gubernamen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cenazgos: donaciones a obras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mpañas (educativas, institucionales, valores, publicitar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8 CuadroTexto"/>
          <p:cNvSpPr/>
          <p:nvPr/>
        </p:nvSpPr>
        <p:spPr>
          <a:xfrm>
            <a:off x="888840" y="189000"/>
            <a:ext cx="79693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3600" spc="-1" strike="noStrike">
                <a:solidFill>
                  <a:srgbClr val="c00000"/>
                </a:solidFill>
                <a:latin typeface="Arial"/>
                <a:ea typeface="Arial"/>
              </a:rPr>
              <a:t>MED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c00000"/>
                </a:solidFill>
                <a:latin typeface="Arial"/>
                <a:ea typeface="Arial"/>
              </a:rPr>
              <a:t>Para demostrar que la gestión comunicacional agrega 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n 4" descr=""/>
          <p:cNvPicPr/>
          <p:nvPr/>
        </p:nvPicPr>
        <p:blipFill>
          <a:blip r:embed="rId1"/>
          <a:srcRect l="32616" t="40315" r="17697" b="12446"/>
          <a:stretch/>
        </p:blipFill>
        <p:spPr>
          <a:xfrm>
            <a:off x="4572000" y="4237200"/>
            <a:ext cx="4032360" cy="2157120"/>
          </a:xfrm>
          <a:prstGeom prst="rect">
            <a:avLst/>
          </a:prstGeom>
          <a:ln w="0">
            <a:noFill/>
          </a:ln>
        </p:spPr>
      </p:pic>
      <p:sp>
        <p:nvSpPr>
          <p:cNvPr id="155" name="Rectángulo 1"/>
          <p:cNvSpPr/>
          <p:nvPr/>
        </p:nvSpPr>
        <p:spPr>
          <a:xfrm>
            <a:off x="703440" y="2306520"/>
            <a:ext cx="644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 </a:t>
            </a: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Aplicar indicadores en la gestión comunic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Permite la obtención de información oportuna y obje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Identifica oportunidades de mej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Son una herramienta de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c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6c31"/>
                </a:solidFill>
                <a:latin typeface="Arial"/>
              </a:rPr>
              <a:t>Posicionan gestión comuni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ángulo 3"/>
          <p:cNvSpPr/>
          <p:nvPr/>
        </p:nvSpPr>
        <p:spPr>
          <a:xfrm>
            <a:off x="587520" y="623880"/>
            <a:ext cx="51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3600" spc="-1" strike="noStrike">
                <a:solidFill>
                  <a:srgbClr val="c00000"/>
                </a:solidFill>
                <a:latin typeface="Arial"/>
              </a:rPr>
              <a:t>¿ Qué medim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68440" y="1447920"/>
          <a:ext cx="6051600" cy="5094000"/>
        </p:xfrm>
        <a:graphic>
          <a:graphicData uri="http://schemas.openxmlformats.org/drawingml/2006/table">
            <a:tbl>
              <a:tblPr/>
              <a:tblGrid>
                <a:gridCol w="60516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Audiencias cl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Contenido de mensaj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Referentes de comun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Medios humanos (resultados de reunion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Medios técnicos de comun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Flujos de 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Comprensión de mensaj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Cumplimiento de pla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ángulo 3"/>
          <p:cNvSpPr/>
          <p:nvPr/>
        </p:nvSpPr>
        <p:spPr>
          <a:xfrm>
            <a:off x="587520" y="1085760"/>
            <a:ext cx="510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3600" spc="-1" strike="noStrike">
                <a:solidFill>
                  <a:srgbClr val="c00000"/>
                </a:solidFill>
                <a:latin typeface="Arial"/>
              </a:rPr>
              <a:t>¿Con qué medim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nc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uestio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on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Guías de Obser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guimiento a cronogramas, ejecución de plan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ntrev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lanillas de asis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ocumentos y estudios anteri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Repo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valu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agen 4" descr=""/>
          <p:cNvPicPr/>
          <p:nvPr/>
        </p:nvPicPr>
        <p:blipFill>
          <a:blip r:embed="rId1"/>
          <a:srcRect l="59493" t="38233" r="23532" b="34660"/>
          <a:stretch/>
        </p:blipFill>
        <p:spPr>
          <a:xfrm>
            <a:off x="5278320" y="2849400"/>
            <a:ext cx="2208240" cy="19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adroTexto 3"/>
          <p:cNvSpPr/>
          <p:nvPr/>
        </p:nvSpPr>
        <p:spPr>
          <a:xfrm>
            <a:off x="760320" y="1297080"/>
            <a:ext cx="292104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7375e"/>
                </a:solidFill>
                <a:latin typeface="Arial"/>
              </a:rPr>
              <a:t>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Aquellos relacionados a los </a:t>
            </a:r>
            <a:r>
              <a:rPr b="1" lang="es-PE" sz="1600" spc="-1" strike="noStrike">
                <a:solidFill>
                  <a:srgbClr val="17375e"/>
                </a:solidFill>
                <a:latin typeface="Arial"/>
              </a:rPr>
              <a:t>objetivos</a:t>
            </a: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 del Plan estratégico de Comunicación, y el aporte que se genera a la estrategia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Texto 4"/>
          <p:cNvSpPr/>
          <p:nvPr/>
        </p:nvSpPr>
        <p:spPr>
          <a:xfrm>
            <a:off x="5222880" y="1297080"/>
            <a:ext cx="365904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7375e"/>
                </a:solidFill>
                <a:latin typeface="Arial"/>
              </a:rPr>
              <a:t>Tác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Medición específica de cada una de las acciones de comun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consignadas en el plan donde se evaluún aspectos como: impacto, convocatoria, receptivid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costos, beneficios, reducciones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Arial"/>
              </a:rPr>
              <a:t>presupuestos, tal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ángulo 6"/>
          <p:cNvSpPr/>
          <p:nvPr/>
        </p:nvSpPr>
        <p:spPr>
          <a:xfrm>
            <a:off x="2127600" y="35892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Clases de Indi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ángulo 7"/>
          <p:cNvSpPr/>
          <p:nvPr/>
        </p:nvSpPr>
        <p:spPr>
          <a:xfrm>
            <a:off x="520560" y="3102120"/>
            <a:ext cx="4122720" cy="2801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Calibri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Objetivo del Plan: </a:t>
            </a: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Lograr una buena acogid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las secciones del portal de Educación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Indicador estraté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ercepción favorable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usuarios acerca de los espacios del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Fórmula del ind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Número de usuarios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tienen una percepción favorabl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los espacios / número total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usuarios encues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ángulo 9"/>
          <p:cNvSpPr/>
          <p:nvPr/>
        </p:nvSpPr>
        <p:spPr>
          <a:xfrm>
            <a:off x="5021280" y="3693960"/>
            <a:ext cx="4003560" cy="2315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Calibri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Acción: </a:t>
            </a: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ublicación semanal  de artículo en el blo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Indicador táct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Nivel de cumplimiento de la programación de publicación en el b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Fórmula del indic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# publicaciones realizadas / # publ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lane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7 CuadroTexto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4000" spc="-1" strike="noStrike">
                <a:solidFill>
                  <a:srgbClr val="ffffff"/>
                </a:solidFill>
                <a:latin typeface="Arial"/>
              </a:rPr>
              <a:t>¿Qué es SER Estratégico en comunicaci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appalma.managua.gob.ni/Portal/Content/img/adp-plan_410_250.png"/>
          <p:cNvPicPr/>
          <p:nvPr/>
        </p:nvPicPr>
        <p:blipFill>
          <a:blip r:embed="rId1"/>
          <a:stretch/>
        </p:blipFill>
        <p:spPr>
          <a:xfrm>
            <a:off x="2695680" y="2898720"/>
            <a:ext cx="3905280" cy="2381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3"/>
          <p:cNvSpPr/>
          <p:nvPr/>
        </p:nvSpPr>
        <p:spPr>
          <a:xfrm>
            <a:off x="1924200" y="1003320"/>
            <a:ext cx="5946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2800" spc="-1" strike="noStrike">
                <a:solidFill>
                  <a:srgbClr val="060f86"/>
                </a:solidFill>
                <a:latin typeface="Berlin Sans FB Demi"/>
              </a:rPr>
              <a:t>Plan estratégico de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O" sz="2800" spc="-1" strike="noStrike">
                <a:solidFill>
                  <a:srgbClr val="990000"/>
                </a:solidFill>
                <a:latin typeface="Verdana"/>
                <a:ea typeface="SimSun"/>
              </a:rPr>
              <a:t>PROCESO DE ELAB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Título"/>
          <p:cNvSpPr/>
          <p:nvPr/>
        </p:nvSpPr>
        <p:spPr>
          <a:xfrm>
            <a:off x="249120" y="419040"/>
            <a:ext cx="944748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Diagrama 1" descr=""/>
          <p:cNvPicPr/>
          <p:nvPr/>
        </p:nvPicPr>
        <p:blipFill>
          <a:blip r:embed="rId1"/>
          <a:stretch/>
        </p:blipFill>
        <p:spPr>
          <a:xfrm>
            <a:off x="1523880" y="725400"/>
            <a:ext cx="685800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81040" y="394920"/>
            <a:ext cx="8229600" cy="59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EJEMPLO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Objetiv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Incrementar tráfico a la página web en un 50% más que el año anteri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Estrategias general de Despliegu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Enganchar a la audiencia target con mensajes de valor a ciertas horas del día cuando están más receptiv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Generar tráfico de visitas específicas/ personalizadas a la página we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Tácticas para Estrategia #1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Hacer publicidad en Facebook de 7:00 am a 10:00 am y de 6:00 pm a 9:00 p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Hacer posteos en Twitter a la hora del almuerz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Lograr un artículo en una revista digi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Tener publicidad en Google Adwords durante todo el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Crear contenido para el blog sobre temas de interé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Tácticas para Estrategia #2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oner el URL del website en todos los pies de firma del pers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Contactarse con 10 seguidores diarios en Twit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Buscar e incluir a seguidores con influencia en Twit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Compartir video institucional en redes soci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Indic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orcentaje de tráfico con respecto al año anteri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49440" y="558360"/>
            <a:ext cx="822960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EJEMPLO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Objetiv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riorizar claridad, oportunidad y cobertura en todas las comunicaciones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Estrategias generale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Informat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edagóg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articipat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Tácticas o accion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Desarrollo de la política de comunicación para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Elaboración de protocolo de actualización del portal que incluye responsables y cronogra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Difusión de política y protocolo entre los miembros de la 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600" spc="-1" strike="noStrike">
                <a:solidFill>
                  <a:srgbClr val="17375e"/>
                </a:solidFill>
                <a:latin typeface="Calibri"/>
              </a:rPr>
              <a:t>Indicado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olítica elaborada y difund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rotocolo elaborado y difundi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7375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600" spc="-1" strike="noStrike">
                <a:solidFill>
                  <a:srgbClr val="17375e"/>
                </a:solidFill>
                <a:latin typeface="Calibri"/>
              </a:rPr>
              <a:t>Porcentaje de cumplimiento de cronograma de actualiza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34800" y="1495440"/>
          <a:ext cx="8562960" cy="4341960"/>
        </p:xfrm>
        <a:graphic>
          <a:graphicData uri="http://schemas.openxmlformats.org/drawingml/2006/table">
            <a:tbl>
              <a:tblPr/>
              <a:tblGrid>
                <a:gridCol w="1030320"/>
                <a:gridCol w="1131840"/>
                <a:gridCol w="1146240"/>
                <a:gridCol w="1447920"/>
                <a:gridCol w="1609560"/>
                <a:gridCol w="1241640"/>
                <a:gridCol w="955440"/>
              </a:tblGrid>
              <a:tr h="85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Obj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Estrate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A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Respons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Producto o entreg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Indicad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3 Título"/>
          <p:cNvSpPr/>
          <p:nvPr/>
        </p:nvSpPr>
        <p:spPr>
          <a:xfrm>
            <a:off x="-303120" y="307800"/>
            <a:ext cx="94471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60f86"/>
                </a:solidFill>
                <a:latin typeface="Berlin Sans FB Demi"/>
              </a:rPr>
              <a:t>Formato Plan de comun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25360" y="1484280"/>
          <a:ext cx="8782200" cy="4341960"/>
        </p:xfrm>
        <a:graphic>
          <a:graphicData uri="http://schemas.openxmlformats.org/drawingml/2006/table">
            <a:tbl>
              <a:tblPr/>
              <a:tblGrid>
                <a:gridCol w="830160"/>
                <a:gridCol w="789120"/>
                <a:gridCol w="1079640"/>
                <a:gridCol w="847800"/>
                <a:gridCol w="1001520"/>
                <a:gridCol w="1233360"/>
                <a:gridCol w="1000440"/>
                <a:gridCol w="1079280"/>
                <a:gridCol w="920880"/>
              </a:tblGrid>
              <a:tr h="85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Obje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A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Respons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Recurso fís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Recursos </a:t>
                      </a:r>
                      <a:r>
                        <a:rPr b="1" lang="es-ES" sz="12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económ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Áreas que apoyan o respald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Fecha de inicio y f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Producto o entreg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0000"/>
                          </a:solidFill>
                          <a:latin typeface="Arial Narrow"/>
                        </a:rPr>
                        <a:t>Indicador de gest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3 Título"/>
          <p:cNvSpPr/>
          <p:nvPr/>
        </p:nvSpPr>
        <p:spPr>
          <a:xfrm>
            <a:off x="-303120" y="307800"/>
            <a:ext cx="94471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60f86"/>
                </a:solidFill>
                <a:latin typeface="Berlin Sans FB Demi"/>
              </a:rPr>
              <a:t>Formato Plan logístico de comunic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85920" y="5209920"/>
            <a:ext cx="297180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7f7f7f"/>
                </a:solidFill>
                <a:latin typeface="Calibri"/>
              </a:rPr>
              <a:t>Carmen Varg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rmen.vargas.v@gmail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vargas@sunat.gob.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rmenvargasv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minichaplin.com/wp-content/uploads/2014/05/gracias.jpg"/>
          <p:cNvPicPr/>
          <p:nvPr/>
        </p:nvPicPr>
        <p:blipFill>
          <a:blip r:embed="rId4"/>
          <a:stretch/>
        </p:blipFill>
        <p:spPr>
          <a:xfrm>
            <a:off x="1044720" y="1001880"/>
            <a:ext cx="705456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Imagen 1" descr=""/>
          <p:cNvPicPr/>
          <p:nvPr/>
        </p:nvPicPr>
        <p:blipFill>
          <a:blip r:embed="rId1">
            <a:lum contrast="20000"/>
          </a:blip>
          <a:srcRect l="7299" t="18209" r="15449" b="6795"/>
          <a:stretch/>
        </p:blipFill>
        <p:spPr>
          <a:xfrm>
            <a:off x="0" y="63648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187280" y="736560"/>
          <a:ext cx="6102360" cy="5410080"/>
        </p:xfrm>
        <a:graphic>
          <a:graphicData uri="http://schemas.openxmlformats.org/drawingml/2006/table">
            <a:tbl>
              <a:tblPr/>
              <a:tblGrid>
                <a:gridCol w="3213360"/>
                <a:gridCol w="2889000"/>
              </a:tblGrid>
              <a:tr h="287280"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E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Ámbito Int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E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Ámbito Ext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9080"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z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ortunid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0880">
                <a:tc>
                  <a:txBody>
                    <a:bodyPr lIns="90360" rIns="90360"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CI tiene una ubicación en la estructura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quipo de CI es profesional y muestra compromiso y motivación para trabaj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personal tiene experiencia en gestión de medios digitales e impresos, organización y difusión de campañas y actividades de comunicación intern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necesidad de cambio y mejora promovida por la Alta Dirección mediante el nuevo paradigma institucion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tecnología de la información que puede ser efectivamente aprovecha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y presupue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ilid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enaz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95560">
                <a:tc>
                  <a:txBody>
                    <a:bodyPr lIns="90360" rIns="90360"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Comunicación interna institucional no se gestiona estratégicamen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e gestiona la Cultura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unicación centrada en  información de activid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ización de operatividad en el equipo de Lim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encia de Red de gestores en las sedes descentralizada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medición y evaluación sistemátic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fortalecimiento del equipo en número y perfil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osicionamiento de la labor de CI en la INR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comunicación y coordinación entre áreas de INR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360" rIns="90360" tIns="45360" bIns="453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e prioriza la gestión de la cultura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iente y rápido crecimiento del número de personal trastoca la cultura organizacional ya déb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cambios en el ROF  sin una adecuada difusión incrementan confusión, incertidumbre y rumores sobre su efectivida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y muchos jefes y pocos lid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9" name="Flecha izquierda 1">
            <a:hlinkClick r:id="rId1" action="ppaction://hlinksldjump"/>
          </p:cNvPr>
          <p:cNvSpPr/>
          <p:nvPr/>
        </p:nvSpPr>
        <p:spPr>
          <a:xfrm>
            <a:off x="7805880" y="5950080"/>
            <a:ext cx="682560" cy="355320"/>
          </a:xfrm>
          <a:prstGeom prst="lef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79360" y="314280"/>
            <a:ext cx="5562720" cy="58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Calibri"/>
              </a:rPr>
              <a:t>COMUNICACIÓN: </a:t>
            </a:r>
            <a:r>
              <a:rPr b="0" lang="es-PE" sz="1800" spc="-1" strike="noStrike">
                <a:solidFill>
                  <a:srgbClr val="1f497d"/>
                </a:solidFill>
                <a:latin typeface="Calibri"/>
              </a:rPr>
              <a:t>Palabra derivada del latín, a partir de un verbo compuest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3200" spc="-1" strike="noStrike">
                <a:solidFill>
                  <a:srgbClr val="c00000"/>
                </a:solidFill>
                <a:latin typeface="Calibri"/>
              </a:rPr>
              <a:t>COMm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800" spc="-1" strike="noStrike">
                <a:solidFill>
                  <a:srgbClr val="1f497d"/>
                </a:solidFill>
                <a:latin typeface="Calibri"/>
              </a:rPr>
              <a:t>Sus dos componentes so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400" spc="-1" strike="noStrike">
                <a:solidFill>
                  <a:srgbClr val="1f497d"/>
                </a:solidFill>
                <a:latin typeface="Calibri"/>
              </a:rPr>
              <a:t>Muneror = </a:t>
            </a:r>
            <a:r>
              <a:rPr b="0" lang="es-PE" sz="1800" spc="-1" strike="noStrike">
                <a:solidFill>
                  <a:srgbClr val="1f497d"/>
                </a:solidFill>
                <a:latin typeface="Calibri"/>
              </a:rPr>
              <a:t>regalar, dotar de algo, beneficiar con alg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400" spc="-1" strike="noStrike">
                <a:solidFill>
                  <a:srgbClr val="1f497d"/>
                </a:solidFill>
                <a:latin typeface="Calibri"/>
              </a:rPr>
              <a:t>Cum = </a:t>
            </a:r>
            <a:r>
              <a:rPr b="0" lang="es-PE" sz="1800" spc="-1" strike="noStrike">
                <a:solidFill>
                  <a:srgbClr val="1f497d"/>
                </a:solidFill>
                <a:latin typeface="Calibri"/>
              </a:rPr>
              <a:t>con otro, mutuamente, de forma recíproc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1f497d"/>
                </a:solidFill>
                <a:latin typeface="Calibri"/>
              </a:rPr>
              <a:t>Communio es la acción en la que  me co-benefici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1f497d"/>
                </a:solidFill>
                <a:latin typeface="Calibri"/>
              </a:rPr>
              <a:t>yo y otro nos dotamo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1f497d"/>
                </a:solidFill>
                <a:latin typeface="Calibri"/>
              </a:rPr>
              <a:t>nos regalamos el uno al otr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http://www.ecured.cu/images/a/a2/Lat%C3%ADnnn.jpeg"/>
          <p:cNvPicPr/>
          <p:nvPr/>
        </p:nvPicPr>
        <p:blipFill>
          <a:blip r:embed="rId1"/>
          <a:stretch/>
        </p:blipFill>
        <p:spPr>
          <a:xfrm>
            <a:off x="5815080" y="1268280"/>
            <a:ext cx="29322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7 CuadroTexto"/>
          <p:cNvSpPr/>
          <p:nvPr/>
        </p:nvSpPr>
        <p:spPr>
          <a:xfrm>
            <a:off x="396720" y="708120"/>
            <a:ext cx="4830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900" spc="-1" strike="noStrike">
                <a:solidFill>
                  <a:srgbClr val="c00000"/>
                </a:solidFill>
                <a:latin typeface="Arial"/>
              </a:rPr>
              <a:t>ESTRATEGIA </a:t>
            </a: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deriva del latín “strategĭa”, que a su vez procede de dos términos grieg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stratos = ejérci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agein = conductor, gu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El arte de proyectar y dirigir grandes operaciones militares con el primer y único objetivo de la victo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El arte de contar con la gente y los activos adecuados en el lugar adecuado para triun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000" spc="-1" strike="noStrike">
                <a:solidFill>
                  <a:srgbClr val="1f497d"/>
                </a:solidFill>
                <a:latin typeface="Calibri"/>
              </a:rPr>
              <a:t>Es el arte de planificar para llegar a cumplir mis objetivos y mis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://api.ning.com/files/-hwEeqCyyzfDcADREyVw0ctOiPga64QTw*oHJl0oQFJWe7KWJ0K4IPJ-4ha0flVu3fiLhAjazc3r6fIVz9-FxyA4u2HmV0e1/AjedrezEstrategico.jpg"/>
          <p:cNvPicPr/>
          <p:nvPr/>
        </p:nvPicPr>
        <p:blipFill>
          <a:blip r:embed="rId1"/>
          <a:stretch/>
        </p:blipFill>
        <p:spPr>
          <a:xfrm>
            <a:off x="5962680" y="1249200"/>
            <a:ext cx="2651040" cy="39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ángulo 1"/>
          <p:cNvSpPr/>
          <p:nvPr/>
        </p:nvSpPr>
        <p:spPr>
          <a:xfrm>
            <a:off x="1113480" y="555480"/>
            <a:ext cx="691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00b050"/>
                </a:solidFill>
                <a:latin typeface="Arial"/>
              </a:rPr>
              <a:t>La comunicación estratég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00b050"/>
                </a:solidFill>
                <a:latin typeface="Arial"/>
              </a:rPr>
              <a:t>es la comunicación planific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00b050"/>
                </a:solidFill>
                <a:latin typeface="Arial"/>
              </a:rPr>
              <a:t>visualizando 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00b050"/>
                </a:solidFill>
                <a:latin typeface="Arial"/>
              </a:rPr>
              <a:t>rutas o fórmulas para lograr u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://image.slidesharecdn.com/frasesliderazgo-120301113652-phpapp01/95/frases-liderazgo-9-728.jpg?cb=1330677562"/>
          <p:cNvPicPr/>
          <p:nvPr/>
        </p:nvPicPr>
        <p:blipFill>
          <a:blip r:embed="rId1"/>
          <a:srcRect l="2881" t="630" r="26633" b="40987"/>
          <a:stretch/>
        </p:blipFill>
        <p:spPr>
          <a:xfrm>
            <a:off x="68400" y="2717640"/>
            <a:ext cx="5143320" cy="3036960"/>
          </a:xfrm>
          <a:prstGeom prst="rect">
            <a:avLst/>
          </a:prstGeom>
          <a:ln w="0">
            <a:noFill/>
          </a:ln>
        </p:spPr>
      </p:pic>
      <p:sp>
        <p:nvSpPr>
          <p:cNvPr id="102" name="9 CuadroTexto"/>
          <p:cNvSpPr/>
          <p:nvPr/>
        </p:nvSpPr>
        <p:spPr>
          <a:xfrm>
            <a:off x="5396040" y="2943360"/>
            <a:ext cx="3747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300" spc="-1" strike="noStrike">
                <a:solidFill>
                  <a:srgbClr val="c00000"/>
                </a:solidFill>
                <a:latin typeface="Arial"/>
              </a:rPr>
              <a:t>Diagnosticar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300" spc="-1" strike="noStrike">
                <a:solidFill>
                  <a:srgbClr val="c00000"/>
                </a:solidFill>
                <a:latin typeface="Arial"/>
              </a:rPr>
              <a:t>conocer a tus audienci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300" spc="-1" strike="noStrike">
                <a:solidFill>
                  <a:srgbClr val="c00000"/>
                </a:solidFill>
                <a:latin typeface="Arial"/>
              </a:rPr>
              <a:t>gestionar indicadores y medir,  son </a:t>
            </a:r>
            <a:r>
              <a:rPr b="1" lang="es-PE" sz="2300" spc="-1" strike="noStrike">
                <a:solidFill>
                  <a:srgbClr val="ffc000"/>
                </a:solidFill>
                <a:latin typeface="Arial"/>
              </a:rPr>
              <a:t>procesos claves </a:t>
            </a:r>
            <a:r>
              <a:rPr b="1" lang="es-PE" sz="2300" spc="-1" strike="noStrike">
                <a:solidFill>
                  <a:srgbClr val="c00000"/>
                </a:solidFill>
                <a:latin typeface="Arial"/>
              </a:rPr>
              <a:t>en una gestión estratégic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CuadroTexto"/>
          <p:cNvSpPr/>
          <p:nvPr/>
        </p:nvSpPr>
        <p:spPr>
          <a:xfrm>
            <a:off x="36360" y="833400"/>
            <a:ext cx="907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CuadroTexto"/>
          <p:cNvSpPr/>
          <p:nvPr/>
        </p:nvSpPr>
        <p:spPr>
          <a:xfrm>
            <a:off x="529920" y="189000"/>
            <a:ext cx="4740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¿Donde estamos par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Diagrama 3" descr=""/>
          <p:cNvPicPr/>
          <p:nvPr/>
        </p:nvPicPr>
        <p:blipFill>
          <a:blip r:embed="rId1"/>
          <a:stretch/>
        </p:blipFill>
        <p:spPr>
          <a:xfrm>
            <a:off x="1152360" y="1274760"/>
            <a:ext cx="7394760" cy="4692600"/>
          </a:xfrm>
          <a:prstGeom prst="rect">
            <a:avLst/>
          </a:prstGeom>
          <a:ln w="0">
            <a:noFill/>
          </a:ln>
        </p:spPr>
      </p:pic>
      <p:sp>
        <p:nvSpPr>
          <p:cNvPr id="106" name="Multidocumento 1">
            <a:hlinkClick r:id="rId2" action="ppaction://hlinksldjump"/>
          </p:cNvPr>
          <p:cNvSpPr/>
          <p:nvPr/>
        </p:nvSpPr>
        <p:spPr>
          <a:xfrm>
            <a:off x="5842080" y="4230720"/>
            <a:ext cx="422280" cy="272880"/>
          </a:xfrm>
          <a:prstGeom prst="flowChartMultidocumen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upo 31"/>
          <p:cNvGrpSpPr/>
          <p:nvPr/>
        </p:nvGrpSpPr>
        <p:grpSpPr>
          <a:xfrm>
            <a:off x="203040" y="437040"/>
            <a:ext cx="8626680" cy="5859000"/>
            <a:chOff x="203040" y="437040"/>
            <a:chExt cx="8626680" cy="5859000"/>
          </a:xfrm>
        </p:grpSpPr>
        <p:pic>
          <p:nvPicPr>
            <p:cNvPr id="108" name="Picture 2" descr="ESFERAS1"/>
            <p:cNvPicPr/>
            <p:nvPr/>
          </p:nvPicPr>
          <p:blipFill>
            <a:blip r:embed="rId1"/>
            <a:stretch/>
          </p:blipFill>
          <p:spPr>
            <a:xfrm>
              <a:off x="2786400" y="548280"/>
              <a:ext cx="6043320" cy="57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3"/>
            <p:cNvSpPr/>
            <p:nvPr/>
          </p:nvSpPr>
          <p:spPr>
            <a:xfrm>
              <a:off x="8515080" y="2741400"/>
              <a:ext cx="1774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7553880" y="3672000"/>
              <a:ext cx="1118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nstitut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4796640" y="5412960"/>
              <a:ext cx="203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Medios mas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comunitarios, locales, regionales, nacionale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2813040" y="2404800"/>
              <a:ext cx="1418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Escue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2948760" y="3376800"/>
              <a:ext cx="69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 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niños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6832800" y="4329000"/>
              <a:ext cx="1596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Comunida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r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7413840" y="2844720"/>
              <a:ext cx="1092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nstituciones Públ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6616440" y="5081760"/>
              <a:ext cx="1217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Líderes de opin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3381840" y="4626360"/>
              <a:ext cx="1689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Ente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Gubernamenta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 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local, regional y naciona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6064200" y="1007640"/>
              <a:ext cx="1906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Organism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nter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203040" y="437040"/>
              <a:ext cx="1364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Soci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nstitu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116320" y="1470960"/>
              <a:ext cx="1386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Familiares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 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emple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6207120" y="1947240"/>
              <a:ext cx="1312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Gremios empresar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829320" y="2833200"/>
              <a:ext cx="1177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Ali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4913280" y="2590560"/>
              <a:ext cx="194040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lta Dire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ers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duane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ractica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ses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Sindica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Oper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2"/>
            <p:cNvSpPr/>
            <p:nvPr/>
          </p:nvSpPr>
          <p:spPr>
            <a:xfrm>
              <a:off x="4235400" y="2081880"/>
              <a:ext cx="1052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Jóv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5036760" y="4678920"/>
              <a:ext cx="16642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8088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Comisiones  del congreso de interé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3030480" y="4179960"/>
              <a:ext cx="963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Congre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6"/>
            <p:cNvSpPr/>
            <p:nvPr/>
          </p:nvSpPr>
          <p:spPr>
            <a:xfrm>
              <a:off x="3521160" y="1215000"/>
              <a:ext cx="1794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Ministe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6944760" y="1733040"/>
              <a:ext cx="161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Igle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9"/>
            <p:cNvSpPr/>
            <p:nvPr/>
          </p:nvSpPr>
          <p:spPr>
            <a:xfrm>
              <a:off x="5004360" y="667080"/>
              <a:ext cx="161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  <a:ea typeface="MS PGothic"/>
                </a:rPr>
                <a:t>Univers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8 CuadroTexto"/>
          <p:cNvSpPr/>
          <p:nvPr/>
        </p:nvSpPr>
        <p:spPr>
          <a:xfrm>
            <a:off x="138240" y="189000"/>
            <a:ext cx="30765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6000" spc="-1" strike="noStrike">
                <a:solidFill>
                  <a:srgbClr val="008a3e"/>
                </a:solidFill>
                <a:latin typeface="Arial"/>
              </a:rPr>
              <a:t>Paso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¿A quien nos dirigi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Map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públ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Perf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de audi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c00000"/>
                </a:solidFill>
                <a:latin typeface="Arial"/>
              </a:rPr>
              <a:t>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527040" y="1689120"/>
          <a:ext cx="5919840" cy="4957920"/>
        </p:xfrm>
        <a:graphic>
          <a:graphicData uri="http://schemas.openxmlformats.org/drawingml/2006/table">
            <a:tbl>
              <a:tblPr/>
              <a:tblGrid>
                <a:gridCol w="1971720"/>
                <a:gridCol w="3948120"/>
              </a:tblGrid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E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Públ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PE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Inte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oc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Gestores de cambio mediante la 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niversi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íderes, nichos de mercado, particip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nivers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Imagen positiva y competi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queñas 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ucha contra la inform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Responsabilidad s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ontralor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Instituciones af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ucha contra la corrup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nidos se logrará más impa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eriod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uarto po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ocios de un mismo nego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No para publicar sino para cono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úblico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Función 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Revaloración del funcio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rectores Regionales de 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PE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Visibilidad Medi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ángulo 1"/>
          <p:cNvSpPr/>
          <p:nvPr/>
        </p:nvSpPr>
        <p:spPr>
          <a:xfrm>
            <a:off x="6622920" y="4383000"/>
            <a:ext cx="174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1f497d"/>
                </a:solidFill>
                <a:latin typeface="Arial"/>
              </a:rPr>
              <a:t>Co-beneficio, el ganar –ga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E" sz="1800" spc="-1" strike="noStrike">
                <a:solidFill>
                  <a:srgbClr val="1f497d"/>
                </a:solidFill>
                <a:latin typeface="Arial"/>
              </a:rPr>
              <a:t>Que nos regalamos el uno al ot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ángulo 3"/>
          <p:cNvSpPr/>
          <p:nvPr/>
        </p:nvSpPr>
        <p:spPr>
          <a:xfrm>
            <a:off x="277920" y="361800"/>
            <a:ext cx="85500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Perfil de audiencias para qué:  </a:t>
            </a:r>
            <a:r>
              <a:rPr b="0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Para hacer  empa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Para saber a qué interés apelo para convertirlo en mi aliado o para que acepte participar en mis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6" descr="http://ejemplosde.info/wp-content/uploads/2014/03/Qu%C3%A9-regalar-a-un-hombre-Originales.jpg"/>
          <p:cNvPicPr/>
          <p:nvPr/>
        </p:nvPicPr>
        <p:blipFill>
          <a:blip r:embed="rId1"/>
          <a:stretch/>
        </p:blipFill>
        <p:spPr>
          <a:xfrm>
            <a:off x="6357960" y="2103480"/>
            <a:ext cx="2462040" cy="22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663480" y="1789200"/>
          <a:ext cx="7848720" cy="4611600"/>
        </p:xfrm>
        <a:graphic>
          <a:graphicData uri="http://schemas.openxmlformats.org/drawingml/2006/table">
            <a:tbl>
              <a:tblPr/>
              <a:tblGrid>
                <a:gridCol w="3270240"/>
                <a:gridCol w="457848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Tipos de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Énf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Niños de pri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Diferencia entre los individual y lo de todos (proceso de socializa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Doc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Presupuesto anual asignado a edu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Facilidades y ejemplos para crear estrategias didácticas y sesiones de 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Jóv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Brechas ciudadanas, desigual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Directores Reg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Situación de su región, presupuesto asig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8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Autoridades de Hacie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4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La eficiencia en la gestión recaudatoria de una administración tributaria depende mucho de la conciencia tributaria de sus ciudad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Pequeños y medianos empres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Cifras de informalidad y competencia desle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T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MX" sz="1600" spc="-1" strike="noStrike">
                          <a:solidFill>
                            <a:srgbClr val="0f2f55"/>
                          </a:solidFill>
                          <a:latin typeface="Arial"/>
                          <a:ea typeface="Arial"/>
                        </a:rPr>
                        <a:t>Vigilancia del gasto público, lucha contra la corrup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6" name="Rectángulo 4"/>
          <p:cNvSpPr/>
          <p:nvPr/>
        </p:nvSpPr>
        <p:spPr>
          <a:xfrm>
            <a:off x="663480" y="365040"/>
            <a:ext cx="79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Perfil de audiencias para qué</a:t>
            </a:r>
            <a:r>
              <a:rPr b="0" lang="es-MX" sz="1800" spc="-1" strike="noStrike">
                <a:solidFill>
                  <a:srgbClr val="c00000"/>
                </a:solidFill>
                <a:latin typeface="Arial"/>
                <a:ea typeface="Arial"/>
              </a:rPr>
              <a:t>: Para saber como adapto mis contenidos, que temas abordo, como respondo al rechazo y al cuest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22:09:29Z</dcterms:created>
  <dc:creator>**</dc:creator>
  <dc:description/>
  <dc:language>en-US</dc:language>
  <cp:lastModifiedBy>RODRIGO morales</cp:lastModifiedBy>
  <dcterms:modified xsi:type="dcterms:W3CDTF">2015-07-30T12:15:29Z</dcterms:modified>
  <cp:revision>169</cp:revision>
  <dc:subject/>
  <dc:title>Slide 1</dc:title>
</cp:coreProperties>
</file>