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34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38"/>
          </p:nvPr>
        </p:nvSpPr>
        <p:spPr>
          <a:xfrm>
            <a:off x="3955680" y="-360"/>
            <a:ext cx="3027240" cy="290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Img"/>
          </p:nvPr>
        </p:nvSpPr>
        <p:spPr>
          <a:xfrm>
            <a:off x="1649160" y="409320"/>
            <a:ext cx="3686040" cy="27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ftr" idx="39"/>
          </p:nvPr>
        </p:nvSpPr>
        <p:spPr>
          <a:xfrm>
            <a:off x="-36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 type="sldNum" idx="40"/>
          </p:nvPr>
        </p:nvSpPr>
        <p:spPr>
          <a:xfrm>
            <a:off x="3955680" y="8921520"/>
            <a:ext cx="3027240" cy="347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13DC-B9E4-4715-8BB0-0B47B11F46A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DBE-FB2B-4CAB-A475-A1D97FE4FD6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627-6C65-44FB-91D7-5B716B1BA3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mentar una ciudadanía solidaria, participativa y consciente de sus derechos y obligaci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se trata solo de explicar por qué se deben pagar los impuestos, sino que intenta lograr el desarrollo de actitudes de responsabilidad y compromiso frente al bien común y las normas que regulan la convive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4B1F-8A04-4B8C-8530-733B3F741B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tas anuales de cumplimiento con visitas a alumnos de educación básica y med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68A9-5760-4DFE-B893-4FDB06BEB0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13E-B12C-4F61-8D77-46F78F1C1BA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ianza de cooperación con Novasur (Canal de TV educativa del Consejo Nacional de Televisión) y a través de ella de canales regionales de todo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una primera instancia se han transmitido las cápsulas de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“Las Aventuras de Ivo la Chinchilla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nte el año 2012 se está produciendo una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serie dirigida al público adolescent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en conjunto con Tesorería y Adu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9B5-FF7A-4352-A47A-5BC893F049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649520" y="409680"/>
            <a:ext cx="3686040" cy="27637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502920" y="3206520"/>
            <a:ext cx="5978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3 Marcador de número de diapositiva"/>
          <p:cNvSpPr/>
          <p:nvPr/>
        </p:nvSpPr>
        <p:spPr>
          <a:xfrm>
            <a:off x="3956040" y="8921880"/>
            <a:ext cx="3027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7067-3978-4FF4-A968-8DD1067153D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A2C-2D28-425B-9D1C-EEB7EA34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87D-6C77-47EC-9FEC-DA5A1F5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A3FF7-A437-47AA-AB9E-CE6B5D4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A11C6-E351-4C3B-A393-5B61D1F8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55E89-950A-41E0-A564-7D4DA07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F7534-0BE8-4199-922F-890D5DE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F3E2B-20C0-4E36-89F9-90C202E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47158-57AA-452E-A732-10134E4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6F096-70DB-4271-8B4B-F6DAC1BB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87F20-C8D2-4EC6-BF65-E90786B3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19764-5BBB-4455-AE75-A96C7720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C9D4-FD87-410F-908E-09EAD0046F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23F-4030-422F-AB28-35A454B7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1898A-07E2-4C80-A6D5-31B74B0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60563-C028-419E-A165-7034E67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3BADC-858F-4368-AFB3-763708F8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6BAE6-82F6-4C9F-939C-FBA34673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ABCE5-78DC-4F3B-A48C-86806A15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53A8-E1F5-47FA-9DA7-668D78F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AAC7D-01FB-4303-BD97-247B6445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72AE5-8259-461E-9749-104C9CA8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893CE-B9A8-4A05-B25B-187AEFC1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91B5A-1CB7-4DD1-938A-09D9741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A1C-C571-429D-ADBF-7FC24911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98284-DA15-449F-A549-B1B6AA87E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9E11BF-ED34-4ABF-A788-C069D4D51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4697F-F8B6-44B8-BE19-D7F02E8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FA271-4E3C-4CB2-A1A3-C7596E6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D20EF7-31E8-4338-9C2E-4BF25F89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5872A1-8318-4C4B-A098-F83BD3BD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BA8E3E-7C00-4E1B-BAC8-AD531FA4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445E0-81E2-48BA-BE21-6B67DD9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CD6BF7-B024-45DA-988A-46557AE6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DCE381-024F-4EC6-9C2C-A7A7CFC4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DE4-DD95-4686-8350-FB2DA4B0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44F99A-B6AB-498C-BC23-311AF94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1CB160-8120-4D30-8396-F453032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864D40-D40B-4E74-A7B4-BE32F0B61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E4D47A-85F4-4A38-9B2F-ABA70462F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D96BEC-79B6-4355-8B08-69B25B8A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066962-BFE4-4732-8978-57900057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0F0C9C-9249-43AB-9EA4-7E022CC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CB1F3E-CD63-4A41-A4C4-3249F35E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A638A5-ECB0-44CD-A0FA-9B79AEBD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FDA013-5213-4AA4-BF4D-0B0BB73E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AF4-48B4-49AE-A8DD-C1A600F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4343F1-BD8B-4D80-A026-BCE4BF2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BC7744-7ECB-4FE5-A213-2CAC13F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DE13F0-1923-4831-9CAD-53A6C29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08F71C-57CF-455C-91B5-9C9F932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290C8E-9E5B-43A1-B6D3-34C0F3C7B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62B1A-0320-4855-8660-9B741B87E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7DB3B-EE69-4FF9-923A-EFB97A4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30888-B109-420A-A534-0A1C313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09C5-E86E-4D02-9574-C8725364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0A5E-AF6F-4614-A7DE-10AAA4D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71E6-B2C9-43E7-992A-853AEAC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24AD-B1E2-48AF-BD96-E74A801D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1B7B2-B719-418C-A4C7-5430DF6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EC760-2845-4746-A834-5CC0A199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83DC-3783-4236-80D6-E629742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B962B-5FE1-43D6-AE72-95544DD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AD6B9-F544-495F-8C66-621B947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37CB1-B442-4551-9BBA-7DCAFAFA9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7C8848-75E7-48E4-ABE6-EE8A6BCFF7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C33C2-AD88-4B04-81B2-7627C706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F7C135-4A8F-4CF8-AC1C-22C8C41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77B-04F0-4E14-87FF-8C88C43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DFD4C9-2193-4945-B364-3A24D73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DC6E64-EDA8-4066-BEE7-0C8859C3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0B9537-69A6-44B9-9500-A96940D0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BD168D-9A35-4B45-9A23-B3770C1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A38F3A-DEB4-4C53-ACCF-62656C8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8E531C-0959-4A0B-A2FA-40706BE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690E19-B533-4297-83F5-BACA2BA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835A1F-F26C-420C-8B11-C9D781A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F565A-42B4-4215-879B-5DA3E1FFE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E2C483-1DF9-4142-9319-EBC9FD0D74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3A11-8EF4-4BD0-A9A4-CE72712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232EA7-0461-4484-9CEB-2ADE100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32EFE8-1BBB-43E9-A900-34F77154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20FCB6-2BF6-4A15-8A1C-531A603C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837976-6A09-4B41-A1BF-DCA4EB4D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64112D-D02F-4EAF-9CB6-E51B72A6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9C02B2-4648-415E-A636-EA75953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47B7AE-3AAB-4C2F-AF19-BA9ED5B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E88F93-05B6-4896-A215-E9373CF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A56563-98A6-40FC-9528-E8064EBB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B908DA-8258-41E3-8A2D-23CDB3F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C62-8838-4776-86F5-8742BC27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E744C9-58E1-4739-BE6A-F227E5961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BDC-B703-4241-B0F6-00854CF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168-BAF1-4D2D-9F2D-127B8A6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8306-5C36-4BBB-B4E4-99773BC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455C-0E67-4A06-ADB6-4413B59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866F-9EF1-4C75-AC4B-05F683B5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B66-DD4F-4F63-B8B3-DA514924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38A0-45EE-49D2-9F2E-5B43964F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EA83F-1EDC-48AB-BE90-F12353841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1BC3A-DB49-41CF-8545-59D591C1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65401-6F80-4254-B3AF-097B729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8CFA4-0752-4516-9700-A25E709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FD059-AEC7-42C3-B256-732B9131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4AF-470D-49F0-AF73-EB353AC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EBA6A-CCA6-4797-A1D9-52FBF69C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97444-F32F-45DF-8588-5826AEF9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1204A-82EB-4ACA-B1B0-E25672BD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4878C-ABD4-4DBB-A8CC-6D362E8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72D9F-3AEF-47E8-9F5C-10B77CC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190AD-739A-4BFC-9B12-731FAE2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C16B0-DD69-41FF-9626-60471E697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8CB00-502C-43BE-A122-6CA67866C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344A0-10DA-400E-A04E-6C40FAA9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7338D-9456-46A6-97B3-9999E8BC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114-A563-440D-BDF7-15AEA098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DCD9D-0DA8-4468-83D4-11DC4F9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51C19-EB1D-4005-A230-33E132CF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5BD0F-4B2D-49F4-A21D-092255E1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6F51F-F803-4119-80DA-A260B796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C5D9C-EB68-47E1-865B-BF1938D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47632-3873-4519-A930-8693CE8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83A0A-D361-4D12-86BC-58D206E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81B30-B552-4F29-8612-6CA721A3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4C103-AC59-4DF2-BB1E-810570199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F157B-C58D-420E-894E-CB85330E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D1F-F27B-47EE-B00E-20BBF1B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AD318-90B7-4950-8598-C2E5AEA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A9A42-8482-4798-B21D-DAC5F2CB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699A3-B481-45F8-A286-BD3ED47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38838-DF43-44F1-9175-687DDC5C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91338-3B99-499D-9838-12E976A7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C8381D-C67F-46E7-9CBE-4BB1A9D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1867B7-927B-47FF-804D-A4DC65F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10361-CAFE-44ED-92B4-6CC8161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0F9769-5AAE-4DF8-8A2C-EDC9276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0B0A72-2380-4109-8467-DA2E9C44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AA2-EFCC-4E55-B253-67D9FC5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E749E-D680-4AC8-A7A0-3BF5B1F5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3B6B67-67E8-44A6-88B0-DCCAA19A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C2BF6A-0204-43C3-B9CE-628E904A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D0BE1-7D88-4A81-8F75-5D0A7ED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8C21F-BAD2-4199-B30E-33FE46A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134E8-F6A8-45FC-9296-B93BC144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0C0844-6157-46C0-BF21-F7EB893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F23D02-0218-4B8C-8C97-D2165D11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68B068-1F09-445E-B982-8E6FCC12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DAA9D-D123-4371-BB48-AF5E8E7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E43-7005-42CB-81B0-4B02471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D2616-CB76-470B-8568-B17485C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BC754-787F-41FE-AC28-E1CB6B66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FE4522-1B60-43AE-B2EA-23AB0BCB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F6F972-0B36-4D55-9C22-2B297A52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43C9F-BE89-4897-9E43-89CFECDC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DE036B-6902-49B6-AD40-D54B0E5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D1736-5B33-483B-A5E4-60E0F424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30498-6F42-4B4D-ACC7-A08BE879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6381BC-35D4-4562-896B-EC5FEB4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70A772-770F-4DB1-99CC-B0642E74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24A-B4A8-43C9-BD9C-25CEF37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0E0E2-532F-4173-B845-BACFFF0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81759-5D94-4C57-8D2C-8E1166C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4A5C86-552F-4FC8-B0BE-085B6B3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D031A1-A5A6-4429-A134-57D86874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7611E-0DDC-412F-ABD1-9023FF1A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41E21-D0E9-4651-A9EC-A0A8C956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89739-F5F9-40F5-B9A6-78D272FF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ABA7D0-8546-4E31-B5D3-BE87E08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0B7F5-3543-4CE8-BE16-9D8AFD82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B69D7C-1D29-4A16-9856-6BA5663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6A7-F7C6-42E6-B814-4F6FD9A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0B6C96-0CBF-47C0-8881-AE44A02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D62CF3-E482-49BD-B702-4AFDAC6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6FAC3-2C57-42B8-A8FD-11A558C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0234C7-C47F-4B31-85C3-BEF919FD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134D3-552A-4F21-80EC-B003C43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E6238-E7AC-4E54-8013-6BA0C7BE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1A033-3390-4C1B-B38B-CFC68304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9D0B0-6F89-4276-99E1-2E594791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E549E-36F8-45E5-9BE4-6330976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0C93B-3571-4F58-BB11-D1528B2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7ECB-FDF7-45CB-AA51-A6F3936ADBCD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1B9D-2C78-475A-8FCA-4308B497831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BA9-19C9-4565-A217-9919359C9C7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D698-2244-41C5-965B-42DB0D7B303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181C-E9A3-4CCE-A161-C74A2ABCFE8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6C64-7C0C-4634-B13D-55F76ACB653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677-5C29-47A3-B9D6-7F1A3915435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69A-1950-4342-8259-C84B6C9DD5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629-7DD6-4CDB-AE6D-E24AC088F136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CE2-DD39-4241-899A-E0D481DB5A0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5B2-D146-458D-BE47-969EE77DC90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E747-8DE7-4B4F-A9E1-301D3EBA642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4A51-9516-4EC2-BD08-A095DAEEFD7C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F7B-B603-489A-98BB-34B7DC9EE95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C9F-F68A-4BC4-956C-A702E298604C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4BD9-3E32-477A-8D69-AD8AEE6F432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E321-92D8-42AC-9B22-DD064EE97580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7A6-28B3-42EC-979D-2F420042702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933E-13B0-4952-BEE6-96268FF8B37D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BC5F-AC34-464D-90C1-E25EB424DF8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8ED-B105-435F-A620-8ED2592D6E04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2603-AD76-422A-9044-51BED771E4C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6719-AF83-4174-BDBB-02996AA31DD3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A2A-F342-458F-8E8E-8742E5E55D3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1EDA-E650-4227-97B9-30C57097816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A535-8B1F-436D-8E6C-760D41A8E92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7B4-E94E-430D-8D22-C2FC0EC8DE19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495A-EC44-4D49-A10C-07099DFB044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0F6-8422-4757-A1A4-9655182478CF}" type="datetime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35A-4796-40D1-911E-F93B5AACD95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2 Subtítulo"/>
          <p:cNvSpPr/>
          <p:nvPr/>
        </p:nvSpPr>
        <p:spPr>
          <a:xfrm>
            <a:off x="108000" y="63104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ángulo 1"/>
          <p:cNvSpPr/>
          <p:nvPr/>
        </p:nvSpPr>
        <p:spPr>
          <a:xfrm>
            <a:off x="324000" y="1484280"/>
            <a:ext cx="835164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ller Internacional de Educación Fis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La Paz, Bolivia, del 27 al 31 de julio de 20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Imagen 1" descr=""/>
          <p:cNvPicPr/>
          <p:nvPr/>
        </p:nvPicPr>
        <p:blipFill>
          <a:blip r:embed="rId2"/>
          <a:stretch/>
        </p:blipFill>
        <p:spPr>
          <a:xfrm>
            <a:off x="6516720" y="5373720"/>
            <a:ext cx="1862280" cy="1073160"/>
          </a:xfrm>
          <a:prstGeom prst="rect">
            <a:avLst/>
          </a:prstGeom>
          <a:ln w="0">
            <a:noFill/>
          </a:ln>
        </p:spPr>
      </p:pic>
      <p:pic>
        <p:nvPicPr>
          <p:cNvPr id="617" name="Imagen 1" descr=""/>
          <p:cNvPicPr/>
          <p:nvPr/>
        </p:nvPicPr>
        <p:blipFill>
          <a:blip r:embed="rId3"/>
          <a:stretch/>
        </p:blipFill>
        <p:spPr>
          <a:xfrm>
            <a:off x="1042920" y="5226120"/>
            <a:ext cx="183204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F03-146A-4602-A7E3-A2D0B18C77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D:\alejandra.garcia\Mis documentos\2009-07-03-para respaldo\1.respaldar_12.01.09\0. Alejandra\REQ_INTERNOS\2009\SIIEDUCA_PLANETASII\logo final planeta SII_sin-dir-web.gif"/>
          <p:cNvPicPr/>
          <p:nvPr/>
        </p:nvPicPr>
        <p:blipFill>
          <a:blip r:embed="rId1"/>
          <a:stretch/>
        </p:blipFill>
        <p:spPr>
          <a:xfrm>
            <a:off x="878040" y="5753160"/>
            <a:ext cx="2155680" cy="745920"/>
          </a:xfrm>
          <a:prstGeom prst="rect">
            <a:avLst/>
          </a:prstGeom>
          <a:ln w="0">
            <a:noFill/>
          </a:ln>
        </p:spPr>
      </p:pic>
      <p:sp>
        <p:nvSpPr>
          <p:cNvPr id="620" name="8 CuadroTexto"/>
          <p:cNvSpPr/>
          <p:nvPr/>
        </p:nvSpPr>
        <p:spPr>
          <a:xfrm>
            <a:off x="3187800" y="1159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1 Imagen" descr=""/>
          <p:cNvPicPr/>
          <p:nvPr/>
        </p:nvPicPr>
        <p:blipFill>
          <a:blip r:embed="rId2"/>
          <a:stretch/>
        </p:blipFill>
        <p:spPr>
          <a:xfrm>
            <a:off x="3568680" y="5330880"/>
            <a:ext cx="1806480" cy="115236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7"/>
          <p:cNvSpPr/>
          <p:nvPr/>
        </p:nvSpPr>
        <p:spPr>
          <a:xfrm>
            <a:off x="471600" y="1054080"/>
            <a:ext cx="8001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nel III Estrategias de comunicación vinculadas a la educación o la sensibilización ciudadana con series de TV y Video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Serie de Televisión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Calibri"/>
              </a:rPr>
              <a:t>Debut de la Banda</a:t>
            </a:r>
            <a:r>
              <a:rPr b="1" lang="es-ES" sz="2400" spc="-1" strike="noStrike">
                <a:solidFill>
                  <a:srgbClr val="10253f"/>
                </a:solidFill>
                <a:latin typeface="Arial"/>
                <a:ea typeface="Calibri"/>
              </a:rPr>
              <a:t> y su versión region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agen 1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862280" cy="98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6 Rectángulo"/>
          <p:cNvSpPr/>
          <p:nvPr/>
        </p:nvSpPr>
        <p:spPr>
          <a:xfrm>
            <a:off x="-684360" y="97776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El Debut de la 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26" name="2 Rectángulo"/>
          <p:cNvSpPr/>
          <p:nvPr/>
        </p:nvSpPr>
        <p:spPr>
          <a:xfrm>
            <a:off x="4716360" y="1550880"/>
            <a:ext cx="43084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Serie dirigida a jóvenes de educación media, resultado de la alianza entre SII, Aduana y Tesorería, más la colaboración del Consejo Nacional de Televisión (CNT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uatro capítulos que abordan temas fiscales y de la Administración Tribu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5 Imagen" descr=""/>
          <p:cNvPicPr/>
          <p:nvPr/>
        </p:nvPicPr>
        <p:blipFill>
          <a:blip r:embed="rId2"/>
          <a:stretch/>
        </p:blipFill>
        <p:spPr>
          <a:xfrm>
            <a:off x="7380360" y="5059440"/>
            <a:ext cx="1436760" cy="917640"/>
          </a:xfrm>
          <a:prstGeom prst="rect">
            <a:avLst/>
          </a:prstGeom>
          <a:ln w="0">
            <a:noFill/>
          </a:ln>
        </p:spPr>
      </p:pic>
      <p:sp>
        <p:nvSpPr>
          <p:cNvPr id="62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Imagen 6" descr=""/>
          <p:cNvPicPr/>
          <p:nvPr/>
        </p:nvPicPr>
        <p:blipFill>
          <a:blip r:embed="rId1"/>
          <a:stretch/>
        </p:blipFill>
        <p:spPr>
          <a:xfrm>
            <a:off x="2627280" y="5680080"/>
            <a:ext cx="1208160" cy="1001880"/>
          </a:xfrm>
          <a:prstGeom prst="rect">
            <a:avLst/>
          </a:prstGeom>
          <a:ln w="0">
            <a:noFill/>
          </a:ln>
        </p:spPr>
      </p:pic>
      <p:pic>
        <p:nvPicPr>
          <p:cNvPr id="630" name="Imagen 7" descr=""/>
          <p:cNvPicPr/>
          <p:nvPr/>
        </p:nvPicPr>
        <p:blipFill>
          <a:blip r:embed="rId2"/>
          <a:stretch/>
        </p:blipFill>
        <p:spPr>
          <a:xfrm>
            <a:off x="1403280" y="5546880"/>
            <a:ext cx="901800" cy="1103040"/>
          </a:xfrm>
          <a:prstGeom prst="rect">
            <a:avLst/>
          </a:prstGeom>
          <a:ln w="0">
            <a:noFill/>
          </a:ln>
        </p:spPr>
      </p:pic>
      <p:sp>
        <p:nvSpPr>
          <p:cNvPr id="631" name="Rectángulo 9"/>
          <p:cNvSpPr/>
          <p:nvPr/>
        </p:nvSpPr>
        <p:spPr>
          <a:xfrm>
            <a:off x="4075200" y="1989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ttp://www.youtube.com/watch?v=bppwHxtMYZI&amp;feature=youtu.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Imagen 1" descr=""/>
          <p:cNvPicPr/>
          <p:nvPr/>
        </p:nvPicPr>
        <p:blipFill>
          <a:blip r:embed="rId3"/>
          <a:stretch/>
        </p:blipFill>
        <p:spPr>
          <a:xfrm>
            <a:off x="3971880" y="5757840"/>
            <a:ext cx="1862280" cy="988920"/>
          </a:xfrm>
          <a:prstGeom prst="rect">
            <a:avLst/>
          </a:prstGeom>
          <a:ln w="0">
            <a:noFill/>
          </a:ln>
        </p:spPr>
      </p:pic>
      <p:sp>
        <p:nvSpPr>
          <p:cNvPr id="634" name="CuadroTexto 2"/>
          <p:cNvSpPr/>
          <p:nvPr/>
        </p:nvSpPr>
        <p:spPr>
          <a:xfrm>
            <a:off x="4452840" y="2678040"/>
            <a:ext cx="36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70c0"/>
                </a:solidFill>
                <a:latin typeface="Arial"/>
              </a:rPr>
              <a:t>La serie sirve como material para visitas que los funcionarios realizan a establecimientos educacionales, con la cual dan inicio a conversación y debate con los alum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2 Rectángulo"/>
          <p:cNvSpPr/>
          <p:nvPr/>
        </p:nvSpPr>
        <p:spPr>
          <a:xfrm>
            <a:off x="4203720" y="1181160"/>
            <a:ext cx="43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fusión: Presente en sitio educativo www.siieduca.cl  : Sección jóv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11 Imagen" descr=""/>
          <p:cNvPicPr/>
          <p:nvPr/>
        </p:nvPicPr>
        <p:blipFill>
          <a:blip r:embed="rId4"/>
          <a:stretch/>
        </p:blipFill>
        <p:spPr>
          <a:xfrm>
            <a:off x="450720" y="1938240"/>
            <a:ext cx="308448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52E-1C4C-4E41-BCB4-8FF09F9A778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http://www.expoaprende.cl/images/participantes/novasur.jpg"/>
          <p:cNvPicPr/>
          <p:nvPr/>
        </p:nvPicPr>
        <p:blipFill>
          <a:blip r:embed="rId1"/>
          <a:stretch/>
        </p:blipFill>
        <p:spPr>
          <a:xfrm>
            <a:off x="595440" y="2998800"/>
            <a:ext cx="2998800" cy="23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9" name="7 Imagen" descr="asosiados a novasur.gif"/>
          <p:cNvPicPr/>
          <p:nvPr/>
        </p:nvPicPr>
        <p:blipFill>
          <a:blip r:embed="rId2"/>
          <a:stretch/>
        </p:blipFill>
        <p:spPr>
          <a:xfrm>
            <a:off x="5186520" y="2394000"/>
            <a:ext cx="3628800" cy="3585960"/>
          </a:xfrm>
          <a:prstGeom prst="rect">
            <a:avLst/>
          </a:prstGeom>
          <a:ln w="0">
            <a:noFill/>
          </a:ln>
        </p:spPr>
      </p:pic>
      <p:grpSp>
        <p:nvGrpSpPr>
          <p:cNvPr id="640" name="8 Flecha derecha"/>
          <p:cNvGrpSpPr/>
          <p:nvPr/>
        </p:nvGrpSpPr>
        <p:grpSpPr>
          <a:xfrm>
            <a:off x="3932280" y="3773520"/>
            <a:ext cx="1163520" cy="695160"/>
            <a:chOff x="3932280" y="3773520"/>
            <a:chExt cx="1163520" cy="695160"/>
          </a:xfrm>
        </p:grpSpPr>
        <p:pic>
          <p:nvPicPr>
            <p:cNvPr id="641" name="8 Flecha derecha" descr=""/>
            <p:cNvPicPr/>
            <p:nvPr/>
          </p:nvPicPr>
          <p:blipFill>
            <a:blip r:embed="rId3"/>
            <a:stretch/>
          </p:blipFill>
          <p:spPr>
            <a:xfrm>
              <a:off x="3932280" y="3773520"/>
              <a:ext cx="116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948120" y="3954600"/>
              <a:ext cx="96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ángulo 1"/>
          <p:cNvSpPr/>
          <p:nvPr/>
        </p:nvSpPr>
        <p:spPr>
          <a:xfrm>
            <a:off x="216000" y="133812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70c0"/>
                </a:solidFill>
                <a:latin typeface="Arial"/>
              </a:rPr>
              <a:t>Cobertura directa de 5.000 establecimientos educacionales a través del canal Novasur. Además, la señal de Novasur, se transmite a través de una red de canales regionales y a través del cable</a:t>
            </a:r>
            <a:r>
              <a:rPr b="1" i="1" lang="es-CL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6 Rectángulo"/>
          <p:cNvSpPr/>
          <p:nvPr/>
        </p:nvSpPr>
        <p:spPr>
          <a:xfrm>
            <a:off x="636480" y="93348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Internacionalización 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del “Debut de la BAN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1 Imagen" descr=""/>
          <p:cNvPicPr/>
          <p:nvPr/>
        </p:nvPicPr>
        <p:blipFill>
          <a:blip r:embed="rId1"/>
          <a:stretch/>
        </p:blipFill>
        <p:spPr>
          <a:xfrm>
            <a:off x="554040" y="1579680"/>
            <a:ext cx="3895560" cy="3857400"/>
          </a:xfrm>
          <a:prstGeom prst="rect">
            <a:avLst/>
          </a:prstGeom>
          <a:ln w="0">
            <a:noFill/>
          </a:ln>
        </p:spPr>
      </p:pic>
      <p:sp>
        <p:nvSpPr>
          <p:cNvPr id="647" name="Rectángulo 2"/>
          <p:cNvSpPr/>
          <p:nvPr/>
        </p:nvSpPr>
        <p:spPr>
          <a:xfrm>
            <a:off x="4508640" y="1611360"/>
            <a:ext cx="4311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urgimiento de la idea de compartir “El Debut de la Banda” con la Red de Educación Fisc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con apoyo de Euro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Países interesados envían guiones y observaciones con las que se trabaja una versión neut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Se realiza doblaje a español neutro, segú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Guion y características de cada Adm. Tribu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Mayo de 2015 existe una versión adaptada a sus rea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22268"/>
                </a:solidFill>
                <a:latin typeface="Arial"/>
              </a:rPr>
              <a:t>Brasil, Costa Rica, El Salvador, Guatemala, Honduras, México, Perú, Uru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8 CuadroTexto"/>
          <p:cNvSpPr/>
          <p:nvPr/>
        </p:nvSpPr>
        <p:spPr>
          <a:xfrm>
            <a:off x="3117960" y="1443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ducación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logo_sii"/>
          <p:cNvPicPr/>
          <p:nvPr/>
        </p:nvPicPr>
        <p:blipFill>
          <a:blip r:embed="rId2"/>
          <a:stretch/>
        </p:blipFill>
        <p:spPr>
          <a:xfrm>
            <a:off x="6929280" y="5500800"/>
            <a:ext cx="1552680" cy="78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650" name="1 Título"/>
          <p:cNvSpPr/>
          <p:nvPr/>
        </p:nvSpPr>
        <p:spPr>
          <a:xfrm>
            <a:off x="611280" y="2637000"/>
            <a:ext cx="810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3 Imagen" descr="ivo_etiqueta_transparente.gif"/>
          <p:cNvPicPr/>
          <p:nvPr/>
        </p:nvPicPr>
        <p:blipFill>
          <a:blip r:embed="rId3"/>
          <a:stretch/>
        </p:blipFill>
        <p:spPr>
          <a:xfrm>
            <a:off x="4859280" y="1316160"/>
            <a:ext cx="340056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5:26:36Z</dcterms:created>
  <dc:creator>OPCGI-SDE</dc:creator>
  <dc:description/>
  <dc:language>en-US</dc:language>
  <cp:lastModifiedBy>Usuario</cp:lastModifiedBy>
  <cp:lastPrinted>2013-05-15T01:14:53Z</cp:lastPrinted>
  <dcterms:modified xsi:type="dcterms:W3CDTF">2015-07-29T15:40:46Z</dcterms:modified>
  <cp:revision>556</cp:revision>
  <dc:subject/>
  <dc:title>Cuenta Pública 2010 SII</dc:title>
</cp:coreProperties>
</file>