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764-D07C-4B43-9FD0-F1FCD819658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CED-EB22-4DDB-ACBF-34C75E20AB8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3E8A-1975-4626-9296-4540932234E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63B-E4BE-4E58-BBE5-0AB7DEA987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tas anuales de cumplimiento con visitas a alumnos de educación básica y med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120-7C86-411C-B810-548B6311D7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E3A8-90FE-47DC-82FD-DBED8A4BF53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ianza de cooperación con Novasur (Canal de TV educativa del Consejo Nacional de Televisión) y a través de ella de canales regionales de todo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una primera instancia se han transmitido las cápsulas de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“Las Aventuras de Ivo la Chinchill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nte el año 2012 se está produciendo una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serie dirigida al público adolescent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en conjunto con Tesorería y Adu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7B53-9A6C-473D-AFDD-037AFBA078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EEA-902A-4AE3-8E05-63A7CC80E52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BB0-7182-4D31-8ED9-0E1F6F59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319-5D52-4017-95AB-719757F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11EFB-009F-4D75-8132-9BD411C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24EC4-0A83-45A1-B882-3E77D5B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1B57B-0AD6-4130-9D19-FB8DCA4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16696-C5C9-4481-9975-C62BCDA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D7A0B-6E0A-468A-9D64-F98DA29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7CC53-B58A-4FD0-A93E-F81D4AC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5D22F-0A6C-423A-ABBC-5A02E47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72F52-1685-48E2-B8CB-D215298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C6A65-CB86-4553-9EC5-30AEED38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777FE-5FBF-46D6-A953-A945A6077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CD5-B861-414A-860E-E1CCEF2A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E3AB-BB98-4876-B1A6-2349039C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07D9-54BB-4E30-B920-138E045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2B4F-4331-45B1-9108-C9946406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3701-299A-424F-A623-6CEADF9C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A5ED2-3551-4BC2-928F-0A284FD8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270C6-FEEA-4853-BE58-F4D63AD4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24BD-7F78-4AAA-9928-6E22E01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0312A-1E2D-4FDA-8349-4D145E57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0563D-86E9-4E76-9B7C-1F2F99B5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4F428-958E-4815-948F-47E2200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C42-D77E-417C-ACDA-66B1D6BF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8F65-7771-41C8-8427-C6E7F73D2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98DA1E-F70F-4604-A2AF-49C921F84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EF0E1-4269-4551-ABC9-A0ABC4B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663453-899B-489D-88B2-D16CE7AA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D2DB70-E51C-4E28-AFAE-D6C928F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EECAE-D119-4F45-B153-CAD1AEBE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4E3B2-ACE5-42E4-9D9B-095DB45D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EF1EE-7B7C-4060-ADA2-08F2E377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0144D-0C05-430F-AD04-1205A4CA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488BC7-3D73-45F7-B6DE-2B48329B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B289-91C5-47A8-AEB2-01E73AAC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B7DF3-14C0-4A44-B5D8-D49B387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FEC748-44F1-49F9-8E7A-AC106D2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A19B29-8600-4080-9151-2E7928FFA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1961F7-5CD5-4B34-B803-695E8CA98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F8866E-7F1C-4FE0-A8A1-A847F5CD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3945C2-1C0A-4590-9A23-A8B0D882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562476-2C25-42C8-9EE8-E92063D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DDBAED-32A5-4D6F-938D-3157963B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2CF28D-5406-4D6E-BC11-64B62C19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BA7DAF-5543-46C4-A838-EFA43458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251-EAAA-4BCF-AEDB-FE7DB563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76A7A0-5188-42DA-82D5-C8C77645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335F99-33EF-4CD1-AF23-183C6990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8BF227-5952-4325-9954-63DAC53E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66BEB9-934F-4728-B3F8-C2C1F7A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5E0BC-6BE5-4CB9-B0E6-D89CAF168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FA835-C4D0-4BD0-B8DF-3FEEDC217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7E6C-BC5F-4121-9F3B-AA8BF95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77FE7-7600-453A-AACE-2855862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97DE7-4955-41B4-ABCF-B8F10E1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7B1C8-D4A0-4B7D-BEBF-DDF3DF25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8A71-D3B1-4959-963D-B70154F9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A371-74C0-40AD-BB5B-D75E67E0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1D323-E44D-4450-8D4C-FB9F3BD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4BC2E-5FE8-4CC8-AC95-0689175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ADEE-B780-49BA-A6A4-CF12C79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BC67F-BA9A-4831-B82E-6478F37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77320-53C5-4762-B6CF-786524E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2475-06F6-4F6D-A3E6-FFCA23D66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E38A95-031F-4469-9AC2-CCEF24174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0D646E-ECCC-4476-B8A7-5D0F1AF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9114E7-2844-41D3-9B59-1C28CBE7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8606-60B0-403E-A9D5-909E6A05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F95C0A-A8F0-4865-B658-D3D4AF93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5188F8-8752-40E9-8642-09AF0545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05B268-7111-4704-BE5B-E3FFB49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DD94EE-0CC2-4B5D-BD69-CBA600C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84D639-9812-4CF4-945D-878C9D1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DB9267-CF10-4003-BD5B-5D76D66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5495AB-65B6-48FD-9650-C34A6EF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A15346-C2B0-4555-ABD0-43BC538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D3DDFA-484F-4C67-A3ED-6CD2BD99B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F01ED5-BA12-4C6A-880D-99E7D61241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CD9C-5B38-477E-A09E-AEBEC7F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3A78E4-0B15-4AA6-8147-D5D2CC5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1CCF2C-DB72-4E9B-ACA1-D4C6E14D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AA3F53-5F2C-4318-9A89-4EC1D9A8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D9C676-8910-42FF-B071-2E3C8EAC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14379D-E3FB-4820-95B8-62A7E2FB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A0264E-D900-43A6-94E3-27EFFFD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65F2B3-3EF2-48EF-A27B-DEF08A40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5E45BE-D475-4F18-9F11-500878E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913668-5533-4B4F-B686-500CFDF9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889F0A-6EAA-4918-AC54-048EFBC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580-0EA8-4A3C-A2E1-57B11A38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5DD572-2E30-4993-84FD-410336536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9D7-790E-43C1-A6A9-1D0DE5B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1DF-4B93-44C2-AAAE-40F9822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9A6-E7CB-4BBD-868A-B72CC69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51BE-2428-4F44-93A9-AE2D604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B0E-E914-42C0-B449-8975023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40A-F483-4516-91D4-78891B83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80A-C7A8-44C8-93FE-46363C9E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C5307-AEC1-47AD-8E3C-9E5EF3648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8704C-67E0-4824-8D25-CBB0827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C39D4-CB16-4904-B7D9-7FBBBCA3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E2A5E-B50B-4D6A-8D3B-1890B21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B7B98-8807-4B0D-9277-0F174AC0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7F2-DA2C-489F-A599-FF73568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B5C13-7D51-4A13-B5F7-B57CF71B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F3898-BBAC-41A4-8581-03B5CA2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2F9E1-9F34-4DF6-9692-FABE148B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1B94C-F0C1-4DAA-AA25-22D8B4C6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D24E4-6E18-492B-B3F2-ED7AF08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287F5-7A60-4E37-B5AF-6649262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6D29E-E7F5-45F2-9202-538D4D349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7CDBE-5BD3-4E08-AC05-01F46CF45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AB0E1-74EA-462E-B6DD-B852CB68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E29C2-71CA-46D8-BA6F-6723D2F5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BF6-75E0-4528-A3B8-C640BDE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AFE9E-3E39-4512-8769-95B9AE1F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CC2A2-A844-4AA1-9E39-7517564A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59B8E-A0C9-4969-8548-065581A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1B947-C80E-43A3-83FF-2653400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DE3E6-51DE-4643-85B2-03139F3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8F037-CAB3-44F1-964A-E9CE3CEC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DDD43-1FD7-4B27-9190-6B8091E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765E2-5795-486C-A724-AFE99DE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DCABD-70EF-40B3-AF8A-5D85C5E75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A18A3-AA50-449D-918F-85CFAAE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DBC-91C2-431B-8BE5-D1C8CBB6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90A48-1E86-4983-8BA4-F75D4DEC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F4D048-A0AF-4378-80F6-BB77BAD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A60E2-1E81-4CFA-8760-B130007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EBA803-F2C0-48DA-8149-02BCBF3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9F9A5-2BC2-4EE3-BE32-47715B9A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2948F-E393-4A0C-96FE-F1858EC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B5089-9FBD-4106-B1D5-1895C10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12D04-5F85-449A-B52C-EF7C437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E084A3-6183-4587-BF55-6A23C403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2E0038-20C7-47B7-9A65-6E7E9CB0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B32-26E7-499F-8BAD-B2ED4A8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96C71-E77E-41DD-A283-08A6BE7A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4CDF4-1037-41BD-BCD1-BAAF1B30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C6C42-A1FC-44A2-AD1F-BDC9185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3BAE4-9C4D-403E-B9B6-11AB282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0A4A57-35EA-4653-BE10-33ED6D23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90C4D-0892-4B96-B9A9-506A8766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1688E-FC5D-4F5A-AFBF-C1BCD60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C5BD4-E699-4435-A037-3BA145D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30518-A8E6-4281-8EC4-F21B542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71000E-B7F7-4F77-B205-8410280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609-7E9A-4544-ABB5-FC855D9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9B280-00BA-4705-AADE-A1593E5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16CF2-6B05-496F-A7AE-3C609AE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EADFA-121A-4E0B-87B1-3557FDA6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C9A1B-AD94-4866-A5EA-083C48B2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5ED3A-B590-4499-9E39-FD44074A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128AD6-67B1-44E4-9462-72C6F28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ADD7F-6447-481E-AFDE-3952772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491D5E-4BED-45AC-BA69-BEE09D14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AE32E3-D203-4F26-9AA4-E08C365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26E90-F5DC-4DFE-928A-924CB4C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EA2-42BA-4C2E-A21A-6140537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48AB65-A30A-4FC7-8E60-9CCA3D2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C1E545-AF33-4C8B-9900-0EC3DEB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AF3AE-FB9F-4B0C-9B4C-B0D4A4B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1D096-5D58-4DA2-BD01-545447AD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71887-EA61-4AB2-8059-DA70CB20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1D1A9-DB9C-4637-8FFD-38693FD3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174BA4-BB24-421E-A4CE-047F15D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30A35-7568-417B-BC9C-A746B6B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8C5CD-B403-4EF9-B1CF-AC658567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F732D-F3FD-4668-A4E0-91EB372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0E-4059-48BD-8D4F-EF2545E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73F5E0-7C43-493D-9163-B01F4407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513A3E-41E6-4BB8-A0B5-A9422B5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3D821-AE7D-468C-A56F-A736197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BF6247-1940-43B9-A72E-E319C9A1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A7E08-2E43-4D30-AAB6-E6B132B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BE947D-8EBD-4E8D-8658-BB151B4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F8DEA-2C8C-4E33-AA60-9B70711B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EC5CF-6DF4-4EDF-A3AA-A3EDD15B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22972-EF05-44D2-B8A1-D94D5868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EFC87-8536-4D9E-917B-E72434F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D62D-600A-46A2-AC42-F6C294E1B337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91C-65BB-4CB0-9387-FC25A6C92E7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CE8-3CFE-48A9-8DAB-ED0D96F0E5C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FF53-BBBE-4544-8044-084BE92D96C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04A-AA13-4429-BA8D-448DE7C8193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E90-19EB-4263-B867-CCAFCF3BEE7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421-5D5A-4EAF-A7DA-B679610B4E2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F89-D992-4840-9916-70C36991B92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AB49-B628-4114-8DB8-95140334C8C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F270-1D88-4CFD-AF64-A732DA38907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411A-1D02-4FEE-97FF-EFEE0C6208B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B01-19D9-4A4A-9EC4-0906DF68890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765-47FF-4AEB-B924-E215E485D4A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E80-F2DF-4C2F-A579-D32BD0AC54E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73B-4A3F-48B2-BFD4-3FB210AE6E1F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1877-7D96-4228-B124-2F7F0A16575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E35-E005-4247-B972-47CA98C9F3F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ACC-4383-4377-BCB1-05B233DEE75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E5D-E72F-42B4-B808-98DB7C7502B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973-0D49-4A68-B819-B25343E23D4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A042-AC85-42D2-B482-2CA5830AE4C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F67-0714-4353-8B79-D1893B8FF6C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E77-E654-49A1-808E-CE4B5622396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B7E6-3F2F-46CA-88F6-33B268B6DDE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545-84CE-4A62-A567-5EF1F39A5F3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6AD-40EB-4874-B0CA-3EE18BA5DB0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D23-CBD2-4731-AFBF-C43AEB38B7D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1B0-7D29-4FA0-9FC4-346CC220B14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298-457D-4BC1-B713-70376D85697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5EE-43F8-460E-B738-AC5D9F51B69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ángulo 1"/>
          <p:cNvSpPr/>
          <p:nvPr/>
        </p:nvSpPr>
        <p:spPr>
          <a:xfrm>
            <a:off x="324000" y="1484280"/>
            <a:ext cx="835164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de Educación Fis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La Paz, Bolivia, del 27 al 31 de julio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Imagen 1" descr=""/>
          <p:cNvPicPr/>
          <p:nvPr/>
        </p:nvPicPr>
        <p:blipFill>
          <a:blip r:embed="rId2"/>
          <a:stretch/>
        </p:blipFill>
        <p:spPr>
          <a:xfrm>
            <a:off x="6516720" y="5373720"/>
            <a:ext cx="1862280" cy="1073160"/>
          </a:xfrm>
          <a:prstGeom prst="rect">
            <a:avLst/>
          </a:prstGeom>
          <a:ln w="0">
            <a:noFill/>
          </a:ln>
        </p:spPr>
      </p:pic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1042920" y="5226120"/>
            <a:ext cx="183204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8CF-1036-4D47-BB93-3FD781F4E01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7"/>
          <p:cNvSpPr/>
          <p:nvPr/>
        </p:nvSpPr>
        <p:spPr>
          <a:xfrm>
            <a:off x="471600" y="1054080"/>
            <a:ext cx="8001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nel III Estrategias de comunicación vinculadas a la educación o la sensibilización ciudadana con series de TV y 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Serie de Televisión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Calibri"/>
              </a:rPr>
              <a:t>Debut de la Banda</a:t>
            </a: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 y su versión region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agen 1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6 Rectángulo"/>
          <p:cNvSpPr/>
          <p:nvPr/>
        </p:nvSpPr>
        <p:spPr>
          <a:xfrm>
            <a:off x="-684360" y="97776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Debut de la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26" name="2 Rectángulo"/>
          <p:cNvSpPr/>
          <p:nvPr/>
        </p:nvSpPr>
        <p:spPr>
          <a:xfrm>
            <a:off x="4716360" y="1550880"/>
            <a:ext cx="43084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Serie dirigida a jóvenes de educación media, resultado de la alianza entre SII, Aduana y Tesorería, más la colaboración del Consejo Nacional de Televisión (CNT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uatro capítulos que abordan temas fiscales y de la Administración Tribu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5 Imagen" descr=""/>
          <p:cNvPicPr/>
          <p:nvPr/>
        </p:nvPicPr>
        <p:blipFill>
          <a:blip r:embed="rId2"/>
          <a:stretch/>
        </p:blipFill>
        <p:spPr>
          <a:xfrm>
            <a:off x="7380360" y="5059440"/>
            <a:ext cx="1436760" cy="917640"/>
          </a:xfrm>
          <a:prstGeom prst="rect">
            <a:avLst/>
          </a:prstGeom>
          <a:ln w="0">
            <a:noFill/>
          </a:ln>
        </p:spPr>
      </p:pic>
      <p:sp>
        <p:nvSpPr>
          <p:cNvPr id="62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Imagen 6" descr=""/>
          <p:cNvPicPr/>
          <p:nvPr/>
        </p:nvPicPr>
        <p:blipFill>
          <a:blip r:embed="rId1"/>
          <a:stretch/>
        </p:blipFill>
        <p:spPr>
          <a:xfrm>
            <a:off x="2627280" y="5680080"/>
            <a:ext cx="1208160" cy="1001880"/>
          </a:xfrm>
          <a:prstGeom prst="rect">
            <a:avLst/>
          </a:prstGeom>
          <a:ln w="0">
            <a:noFill/>
          </a:ln>
        </p:spPr>
      </p:pic>
      <p:pic>
        <p:nvPicPr>
          <p:cNvPr id="630" name="Imagen 7" descr=""/>
          <p:cNvPicPr/>
          <p:nvPr/>
        </p:nvPicPr>
        <p:blipFill>
          <a:blip r:embed="rId2"/>
          <a:stretch/>
        </p:blipFill>
        <p:spPr>
          <a:xfrm>
            <a:off x="1403280" y="5546880"/>
            <a:ext cx="901800" cy="1103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9"/>
          <p:cNvSpPr/>
          <p:nvPr/>
        </p:nvSpPr>
        <p:spPr>
          <a:xfrm>
            <a:off x="4075200" y="1989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ttp://www.youtube.com/watch?v=bppwHxtMYZI&amp;feature=youtu.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Imagen 1" descr=""/>
          <p:cNvPicPr/>
          <p:nvPr/>
        </p:nvPicPr>
        <p:blipFill>
          <a:blip r:embed="rId3"/>
          <a:stretch/>
        </p:blipFill>
        <p:spPr>
          <a:xfrm>
            <a:off x="3971880" y="5757840"/>
            <a:ext cx="1862280" cy="988920"/>
          </a:xfrm>
          <a:prstGeom prst="rect">
            <a:avLst/>
          </a:prstGeom>
          <a:ln w="0">
            <a:noFill/>
          </a:ln>
        </p:spPr>
      </p:pic>
      <p:sp>
        <p:nvSpPr>
          <p:cNvPr id="634" name="CuadroTexto 2"/>
          <p:cNvSpPr/>
          <p:nvPr/>
        </p:nvSpPr>
        <p:spPr>
          <a:xfrm>
            <a:off x="4452840" y="2678040"/>
            <a:ext cx="36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a serie sirve como material para visitas que los funcionarios realizan a establecimientos educacionales, con la cual dan inicio a conversación y debate con los alum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 Rectángulo"/>
          <p:cNvSpPr/>
          <p:nvPr/>
        </p:nvSpPr>
        <p:spPr>
          <a:xfrm>
            <a:off x="4203720" y="1181160"/>
            <a:ext cx="43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fusión: Presente en sitio educativo www.siieduca.cl  : Sección jóv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11 Imagen" descr=""/>
          <p:cNvPicPr/>
          <p:nvPr/>
        </p:nvPicPr>
        <p:blipFill>
          <a:blip r:embed="rId4"/>
          <a:stretch/>
        </p:blipFill>
        <p:spPr>
          <a:xfrm>
            <a:off x="450720" y="1938240"/>
            <a:ext cx="308448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B1B8-771C-45AC-87CB-9382E63E8D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http://www.expoaprende.cl/images/participantes/novasur.jpg"/>
          <p:cNvPicPr/>
          <p:nvPr/>
        </p:nvPicPr>
        <p:blipFill>
          <a:blip r:embed="rId1"/>
          <a:stretch/>
        </p:blipFill>
        <p:spPr>
          <a:xfrm>
            <a:off x="595440" y="2998800"/>
            <a:ext cx="2998800" cy="23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9" name="7 Imagen" descr="asosiados a novasur.gif"/>
          <p:cNvPicPr/>
          <p:nvPr/>
        </p:nvPicPr>
        <p:blipFill>
          <a:blip r:embed="rId2"/>
          <a:stretch/>
        </p:blipFill>
        <p:spPr>
          <a:xfrm>
            <a:off x="5186520" y="2394000"/>
            <a:ext cx="3628800" cy="3585960"/>
          </a:xfrm>
          <a:prstGeom prst="rect">
            <a:avLst/>
          </a:prstGeom>
          <a:ln w="0">
            <a:noFill/>
          </a:ln>
        </p:spPr>
      </p:pic>
      <p:grpSp>
        <p:nvGrpSpPr>
          <p:cNvPr id="640" name="8 Flecha derecha"/>
          <p:cNvGrpSpPr/>
          <p:nvPr/>
        </p:nvGrpSpPr>
        <p:grpSpPr>
          <a:xfrm>
            <a:off x="3932280" y="3773520"/>
            <a:ext cx="1163520" cy="695160"/>
            <a:chOff x="3932280" y="3773520"/>
            <a:chExt cx="1163520" cy="695160"/>
          </a:xfrm>
        </p:grpSpPr>
        <p:pic>
          <p:nvPicPr>
            <p:cNvPr id="641" name="8 Flecha derecha" descr=""/>
            <p:cNvPicPr/>
            <p:nvPr/>
          </p:nvPicPr>
          <p:blipFill>
            <a:blip r:embed="rId3"/>
            <a:stretch/>
          </p:blipFill>
          <p:spPr>
            <a:xfrm>
              <a:off x="3932280" y="3773520"/>
              <a:ext cx="116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948120" y="3954600"/>
              <a:ext cx="96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ángulo 1"/>
          <p:cNvSpPr/>
          <p:nvPr/>
        </p:nvSpPr>
        <p:spPr>
          <a:xfrm>
            <a:off x="216000" y="133812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obertura directa de 5.000 establecimientos educacionales a través del canal Novasur. Además, la señal de Novasur, se transmite a través de una red de canales regionales y a través del cable</a:t>
            </a:r>
            <a:r>
              <a:rPr b="1" i="1" lang="es-CL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6 Rectángulo"/>
          <p:cNvSpPr/>
          <p:nvPr/>
        </p:nvSpPr>
        <p:spPr>
          <a:xfrm>
            <a:off x="636480" y="93348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Internacionalización 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del “Debut de la BAN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47" name="Rectángulo 2"/>
          <p:cNvSpPr/>
          <p:nvPr/>
        </p:nvSpPr>
        <p:spPr>
          <a:xfrm>
            <a:off x="4508640" y="1611360"/>
            <a:ext cx="4311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urgimiento de la idea de compartir “El Debut de la Banda” con la Red de Educación Fisc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con apoyo de Euro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Países interesados envían guiones y observaciones con las que se trabaja una versión neut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e realiza doblaje a español neutro, segú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Guion y características de cada Adm. Tribu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Mayo de 2015 existe una versión adaptada a sus rea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22268"/>
                </a:solidFill>
                <a:latin typeface="Arial"/>
              </a:rPr>
              <a:t>Brasil, Costa Rica, El Salvador, Guatemala, Honduras, México, Perú, Uru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Usuario</cp:lastModifiedBy>
  <cp:lastPrinted>2013-05-15T01:14:53Z</cp:lastPrinted>
  <dcterms:modified xsi:type="dcterms:W3CDTF">2015-07-29T15:40:46Z</dcterms:modified>
  <cp:revision>556</cp:revision>
  <dc:subject/>
  <dc:title>Cuenta Pública 2010 SII</dc:title>
</cp:coreProperties>
</file>