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1C319587-AF01-4B13-A45F-CBF889138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582B2DF8-6842-4ABA-A874-1E7A8B830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E49F1D93-F61B-43B6-8A9D-19005E5FBDC4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0058B109-B32D-4B94-8D92-CDC1EF684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05D227C8-73AE-4318-96A8-4CF748E7C796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E892F397-6DEE-4F21-A6C2-EE478D47C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fld id="{5A6F85DA-59AE-46DB-BDA3-9F8EA478FFEA}" type="slidenum">
              <a:rPr b="0" lang="es-SV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B1F-0002-4978-ABF7-8300C3C9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6D6-0FBA-42E8-99DC-18466C4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812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A4E-1D2D-4652-8AFF-14F1E2E2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64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5720" y="160488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64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5720" y="3680640"/>
            <a:ext cx="25894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A74-C596-4A38-B02B-E4330E05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FE4-722B-4BED-A8DB-761ABA4D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F4E-6C22-41EA-952E-279276B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9C0-E9BD-464B-B7AA-9F30298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DBC-B374-4C06-87F5-F5BFCCC0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DD6-AB93-4962-B7CE-7E3C3FAF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762-70DE-478D-81A9-4F0C150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8120" y="368064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33C-3806-49DF-A936-5B6BC98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8120" y="1604880"/>
            <a:ext cx="392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240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931-7D0C-4BC5-AB3C-B34F244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004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3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65360" indent="-18432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8864BD33-907F-42DE-9F6E-AB4391036C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ki-toki.com/timeline/entry/405593/Produccion-en-Materia-Fiscal-de-FUNDE/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Tr8tTqmXqU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oundcloud.com/comunicaciones-funde" TargetMode="External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Rectángulo"/>
          <p:cNvSpPr/>
          <p:nvPr/>
        </p:nvSpPr>
        <p:spPr>
          <a:xfrm>
            <a:off x="1044720" y="3559320"/>
            <a:ext cx="7119720" cy="196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1044720" y="1730520"/>
            <a:ext cx="7119720" cy="1828800"/>
          </a:xfrm>
          <a:prstGeom prst="rect">
            <a:avLst/>
          </a:prstGeom>
          <a:solidFill>
            <a:srgbClr val="00b1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"/>
          <p:cNvSpPr/>
          <p:nvPr/>
        </p:nvSpPr>
        <p:spPr>
          <a:xfrm>
            <a:off x="717480" y="2114640"/>
            <a:ext cx="757728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Campaña de sensibilización ciudad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1" lang="es-ES" sz="3300" spc="-1" strike="noStrike">
                <a:solidFill>
                  <a:srgbClr val="ffffff"/>
                </a:solidFill>
                <a:latin typeface="Calibri"/>
              </a:rPr>
              <a:t>Paga tus impuestos y exige transparencia”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alibri"/>
              </a:rPr>
              <a:t>El Salvad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984480" y="163440"/>
            <a:ext cx="1501920" cy="1419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005280" y="3787920"/>
            <a:ext cx="34351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55080" bIns="36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1" lang="es-ES" sz="2100" spc="-1" strike="noStrike">
                <a:solidFill>
                  <a:srgbClr val="198a8a"/>
                </a:solidFill>
                <a:latin typeface="Calibri"/>
              </a:rPr>
              <a:t>Taller Internacional de EDUCACIÓN FISC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1" lang="es-ES" sz="2100" spc="-1" strike="noStrike">
                <a:solidFill>
                  <a:srgbClr val="198a8a"/>
                </a:solidFill>
                <a:latin typeface="Calibri"/>
              </a:rPr>
              <a:t>del 27 al 31 de julio de 2015 / La Paz-Bolivi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2938320" y="5388120"/>
            <a:ext cx="4051440" cy="65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023920" y="6041880"/>
            <a:ext cx="5421600" cy="6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3 Imagen" descr="824"/>
          <p:cNvPicPr/>
          <p:nvPr/>
        </p:nvPicPr>
        <p:blipFill>
          <a:blip r:embed="rId1"/>
          <a:stretch/>
        </p:blipFill>
        <p:spPr>
          <a:xfrm>
            <a:off x="2268360" y="3860640"/>
            <a:ext cx="53280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411280" y="398520"/>
            <a:ext cx="511344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8 CuadroTexto"/>
          <p:cNvSpPr/>
          <p:nvPr/>
        </p:nvSpPr>
        <p:spPr>
          <a:xfrm>
            <a:off x="684360" y="1916280"/>
            <a:ext cx="93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CuadroTexto"/>
          <p:cNvSpPr/>
          <p:nvPr/>
        </p:nvSpPr>
        <p:spPr>
          <a:xfrm>
            <a:off x="684360" y="4724280"/>
            <a:ext cx="107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ángulo 1"/>
          <p:cNvSpPr/>
          <p:nvPr/>
        </p:nvSpPr>
        <p:spPr>
          <a:xfrm>
            <a:off x="4211640" y="3213000"/>
            <a:ext cx="72072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ángulo 7"/>
          <p:cNvSpPr/>
          <p:nvPr/>
        </p:nvSpPr>
        <p:spPr>
          <a:xfrm>
            <a:off x="6823080" y="3213000"/>
            <a:ext cx="6285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ángulo 10"/>
          <p:cNvSpPr/>
          <p:nvPr/>
        </p:nvSpPr>
        <p:spPr>
          <a:xfrm>
            <a:off x="5796000" y="5589720"/>
            <a:ext cx="122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3 Rectángulo"/>
          <p:cNvSpPr/>
          <p:nvPr/>
        </p:nvSpPr>
        <p:spPr>
          <a:xfrm>
            <a:off x="1763640" y="1557360"/>
            <a:ext cx="59580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ceso Creativo  “Paga tus impuestos, exige transparenci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http://boxist.com/wp-content/uploads/2014/04/Origami-Flying-Birds-Vect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61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072120" y="5929200"/>
            <a:ext cx="3071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4. Acciones y Público me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85840" y="1071720"/>
            <a:ext cx="385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r>
              <a:rPr b="1" lang="es-SV" sz="2400" spc="-1" strike="noStrike">
                <a:solidFill>
                  <a:srgbClr val="ffc000"/>
                </a:solidFill>
                <a:latin typeface="Arial"/>
              </a:rPr>
              <a:t>Inspi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r>
              <a:rPr b="1" lang="es-SV" sz="2400" spc="-1" strike="noStrike">
                <a:solidFill>
                  <a:srgbClr val="ffc000"/>
                </a:solidFill>
                <a:latin typeface="Arial"/>
              </a:rPr>
              <a:t>(táctica y forma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  <a:tab algn="l" pos="7767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403280" y="2565360"/>
            <a:ext cx="2928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SV" sz="2800" spc="-1" strike="noStrike">
                <a:solidFill>
                  <a:srgbClr val="fc14a9"/>
                </a:solidFill>
                <a:latin typeface="Arial"/>
              </a:rPr>
              <a:t>3.  Eslo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2800" spc="-1" strike="noStrike">
                <a:solidFill>
                  <a:srgbClr val="92d050"/>
                </a:solidFill>
                <a:latin typeface="Arial"/>
              </a:rPr>
              <a:t>GENERACIÓN DE NUEVAS IDEAS</a:t>
            </a:r>
            <a:endParaRPr b="0" lang="en-US" sz="28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500280" y="1143000"/>
            <a:ext cx="378648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SV" sz="2800" spc="-1" strike="noStrike">
                <a:solidFill>
                  <a:srgbClr val="aae2ca"/>
                </a:solidFill>
                <a:latin typeface="Arial"/>
              </a:rPr>
              <a:t>2.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800" spc="-1" strike="noStrike">
                <a:solidFill>
                  <a:srgbClr val="aae2ca"/>
                </a:solidFill>
                <a:latin typeface="Arial"/>
              </a:rPr>
              <a:t>Misión/llamado/pro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aae2ca"/>
                </a:solidFill>
                <a:latin typeface="Arial"/>
              </a:rPr>
              <a:t>PROBLEMA-SOLUCIÓN-CAMB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1. OBJETIV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nsibilizar a la población salvadoreña sobre la importancia y beneficios a la sociedad que conlleva pagar impuestos, así como la relevancia de ser ciudadanos de monitoreo y contraloría social sobre el uso adecuado de estos im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ctr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2. Público meta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4880"/>
            <a:ext cx="80424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sonas mayores a 25 años de estrato social medio – medio alto interesados en el bienestar común de la sociedad y economía del paí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sonas mayores a 25 años de estrato social medio – medio alto que no estén activos en temas de interés so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neradores de opinión pública y activos en redes socia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4 Imagen" descr="unnamed.png"/>
          <p:cNvPicPr/>
          <p:nvPr/>
        </p:nvPicPr>
        <p:blipFill>
          <a:blip r:embed="rId1"/>
          <a:stretch/>
        </p:blipFill>
        <p:spPr>
          <a:xfrm>
            <a:off x="755640" y="115920"/>
            <a:ext cx="7451640" cy="2881440"/>
          </a:xfrm>
          <a:prstGeom prst="rect">
            <a:avLst/>
          </a:prstGeom>
          <a:ln w="0">
            <a:noFill/>
          </a:ln>
        </p:spPr>
      </p:pic>
      <p:pic>
        <p:nvPicPr>
          <p:cNvPr id="127" name="4 Imagen" descr="Funde posteos_02.jpg"/>
          <p:cNvPicPr/>
          <p:nvPr/>
        </p:nvPicPr>
        <p:blipFill>
          <a:blip r:embed="rId2"/>
          <a:stretch/>
        </p:blipFill>
        <p:spPr>
          <a:xfrm>
            <a:off x="4427640" y="3500280"/>
            <a:ext cx="2931840" cy="2932200"/>
          </a:xfrm>
          <a:prstGeom prst="rect">
            <a:avLst/>
          </a:prstGeom>
          <a:ln w="0">
            <a:noFill/>
          </a:ln>
        </p:spPr>
      </p:pic>
      <p:pic>
        <p:nvPicPr>
          <p:cNvPr id="128" name="5 Imagen" descr="Funde posteos_01.jpg"/>
          <p:cNvPicPr/>
          <p:nvPr/>
        </p:nvPicPr>
        <p:blipFill>
          <a:blip r:embed="rId3"/>
          <a:stretch/>
        </p:blipFill>
        <p:spPr>
          <a:xfrm>
            <a:off x="1332000" y="350028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129" name="6 CuadroTexto"/>
          <p:cNvSpPr/>
          <p:nvPr/>
        </p:nvSpPr>
        <p:spPr>
          <a:xfrm>
            <a:off x="2050920" y="3068640"/>
            <a:ext cx="4249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600" spc="-1" strike="noStrike">
                <a:solidFill>
                  <a:srgbClr val="33a3a3"/>
                </a:solidFill>
                <a:latin typeface="Arial Black"/>
              </a:rPr>
              <a:t>3. ESLOGAN Y MENSAJE 20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 Black"/>
              </a:rPr>
              <a:t>4. Estrategias y format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1" name="3 Marcador de contenido" descr=""/>
          <p:cNvPicPr/>
          <p:nvPr/>
        </p:nvPicPr>
        <p:blipFill>
          <a:blip r:embed="rId1"/>
          <a:stretch/>
        </p:blipFill>
        <p:spPr>
          <a:xfrm>
            <a:off x="407880" y="1627200"/>
            <a:ext cx="8175600" cy="3975120"/>
          </a:xfrm>
          <a:prstGeom prst="rect">
            <a:avLst/>
          </a:prstGeom>
          <a:ln w="0">
            <a:noFill/>
          </a:ln>
        </p:spPr>
      </p:pic>
      <p:sp>
        <p:nvSpPr>
          <p:cNvPr id="13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4 Rectángulo"/>
          <p:cNvSpPr/>
          <p:nvPr/>
        </p:nvSpPr>
        <p:spPr>
          <a:xfrm>
            <a:off x="1763640" y="1557360"/>
            <a:ext cx="5958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 Inform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Logo funde blanco"/>
          <p:cNvPicPr/>
          <p:nvPr/>
        </p:nvPicPr>
        <p:blipFill>
          <a:blip r:embed="rId3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anding Page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140" name="3 Imagen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49780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Pasos ciudadanos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43" name="3 Imagen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888000" cy="3708720"/>
          </a:xfrm>
          <a:prstGeom prst="rect">
            <a:avLst/>
          </a:prstGeom>
          <a:ln w="0">
            <a:noFill/>
          </a:ln>
        </p:spPr>
      </p:pic>
      <p:pic>
        <p:nvPicPr>
          <p:cNvPr id="144" name="4 Imagen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673800" cy="4267440"/>
          </a:xfrm>
          <a:prstGeom prst="rect">
            <a:avLst/>
          </a:prstGeom>
          <a:ln w="0">
            <a:noFill/>
          </a:ln>
        </p:spPr>
      </p:pic>
      <p:sp>
        <p:nvSpPr>
          <p:cNvPr id="145" name="5 Elipse"/>
          <p:cNvSpPr/>
          <p:nvPr/>
        </p:nvSpPr>
        <p:spPr>
          <a:xfrm>
            <a:off x="2987640" y="1125360"/>
            <a:ext cx="1440000" cy="35892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6 Elipse"/>
          <p:cNvSpPr/>
          <p:nvPr/>
        </p:nvSpPr>
        <p:spPr>
          <a:xfrm>
            <a:off x="539640" y="2492280"/>
            <a:ext cx="1440000" cy="36036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7 Elipse"/>
          <p:cNvSpPr/>
          <p:nvPr/>
        </p:nvSpPr>
        <p:spPr>
          <a:xfrm>
            <a:off x="7020000" y="1557360"/>
            <a:ext cx="1439640" cy="35892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8 Elipse"/>
          <p:cNvSpPr/>
          <p:nvPr/>
        </p:nvSpPr>
        <p:spPr>
          <a:xfrm>
            <a:off x="4500720" y="4437000"/>
            <a:ext cx="1439640" cy="360360"/>
          </a:xfrm>
          <a:prstGeom prst="ellipse">
            <a:avLst/>
          </a:prstGeom>
          <a:noFill/>
          <a:ln w="9360">
            <a:solidFill>
              <a:srgbClr val="d21c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ogo funde blanco"/>
          <p:cNvPicPr/>
          <p:nvPr/>
        </p:nvPicPr>
        <p:blipFill>
          <a:blip r:embed="rId2"/>
          <a:stretch/>
        </p:blipFill>
        <p:spPr>
          <a:xfrm>
            <a:off x="2889360" y="981000"/>
            <a:ext cx="362736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s://www.facebookbrand.com/img/fb-art.jpg"/>
          <p:cNvPicPr/>
          <p:nvPr/>
        </p:nvPicPr>
        <p:blipFill>
          <a:blip r:embed="rId3"/>
          <a:stretch/>
        </p:blipFill>
        <p:spPr>
          <a:xfrm>
            <a:off x="1116000" y="5732640"/>
            <a:ext cx="62388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2"/>
          <p:cNvSpPr/>
          <p:nvPr/>
        </p:nvSpPr>
        <p:spPr>
          <a:xfrm>
            <a:off x="1733040" y="59878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NDE EL SAL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9" descr="http://www.adweek.com/socialtimes/files/2014/07/alltwitter-twitter-bird-logo-white-on-blue.png"/>
          <p:cNvPicPr/>
          <p:nvPr/>
        </p:nvPicPr>
        <p:blipFill>
          <a:blip r:embed="rId4"/>
          <a:srcRect l="7895" t="0" r="11093" b="-10756"/>
          <a:stretch/>
        </p:blipFill>
        <p:spPr>
          <a:xfrm>
            <a:off x="5081760" y="579132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CuadroTexto 7"/>
          <p:cNvSpPr/>
          <p:nvPr/>
        </p:nvSpPr>
        <p:spPr>
          <a:xfrm>
            <a:off x="5949000" y="5987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Arial"/>
              </a:rPr>
              <a:t>@Funde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uadroTexto 10"/>
          <p:cNvSpPr/>
          <p:nvPr/>
        </p:nvSpPr>
        <p:spPr>
          <a:xfrm>
            <a:off x="3852000" y="4689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fund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ínea de tiemp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5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960" y="1341360"/>
            <a:ext cx="8128080" cy="5112000"/>
          </a:xfrm>
          <a:prstGeom prst="rect">
            <a:avLst/>
          </a:prstGeom>
          <a:ln w="0">
            <a:noFill/>
          </a:ln>
        </p:spPr>
      </p:pic>
      <p:sp>
        <p:nvSpPr>
          <p:cNvPr id="152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8520" y="382320"/>
            <a:ext cx="822636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000" spc="-1" strike="noStrike">
                <a:solidFill>
                  <a:srgbClr val="33a3a3"/>
                </a:solidFill>
                <a:latin typeface="Arial"/>
              </a:rPr>
              <a:t>Video animado</a:t>
            </a:r>
            <a:endParaRPr b="0" lang="en-US" sz="30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54" name="3 Imagen" descr="">
            <a:hlinkClick r:id="rId1"/>
          </p:cNvPr>
          <p:cNvPicPr/>
          <p:nvPr/>
        </p:nvPicPr>
        <p:blipFill>
          <a:blip r:embed="rId2"/>
          <a:srcRect l="0" t="0" r="0" b="7612"/>
          <a:stretch/>
        </p:blipFill>
        <p:spPr>
          <a:xfrm>
            <a:off x="0" y="1290600"/>
            <a:ext cx="7229520" cy="437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191280" y="3559320"/>
          <a:ext cx="2685960" cy="1698480"/>
        </p:xfrm>
        <a:graphic>
          <a:graphicData uri="http://schemas.openxmlformats.org/drawingml/2006/table">
            <a:tbl>
              <a:tblPr/>
              <a:tblGrid>
                <a:gridCol w="2685960"/>
              </a:tblGrid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21 visitas a la we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83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en: El Salvador, Estados Unidos, España, Guatemala, Nicaragua, Argentina, Noruega, Irlanda, Canadá, Francia, otr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62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ás de 500 veces fue compartido el vide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56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  <p:sp>
        <p:nvSpPr>
          <p:cNvPr id="159" name="5 Rectángulo"/>
          <p:cNvSpPr/>
          <p:nvPr/>
        </p:nvSpPr>
        <p:spPr>
          <a:xfrm>
            <a:off x="1763640" y="1557360"/>
            <a:ext cx="59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arketing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226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300" spc="-1" strike="noStrike">
                <a:solidFill>
                  <a:srgbClr val="33a3a3"/>
                </a:solidFill>
                <a:latin typeface="Britannic Bold"/>
              </a:rPr>
              <a:t>Difusión Digital</a:t>
            </a:r>
            <a:endParaRPr b="0" lang="en-US" sz="33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4767120" y="1547640"/>
            <a:ext cx="3621240" cy="4926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60360" y="2716200"/>
            <a:ext cx="4081320" cy="3370320"/>
          </a:xfrm>
          <a:prstGeom prst="rect">
            <a:avLst/>
          </a:prstGeom>
          <a:ln w="0">
            <a:noFill/>
          </a:ln>
        </p:spPr>
      </p:pic>
      <p:pic>
        <p:nvPicPr>
          <p:cNvPr id="163" name="4 Imagen" descr="unnamed.png"/>
          <p:cNvPicPr/>
          <p:nvPr/>
        </p:nvPicPr>
        <p:blipFill>
          <a:blip r:embed="rId3"/>
          <a:stretch/>
        </p:blipFill>
        <p:spPr>
          <a:xfrm>
            <a:off x="457200" y="689040"/>
            <a:ext cx="3565440" cy="2017800"/>
          </a:xfrm>
          <a:prstGeom prst="rect">
            <a:avLst/>
          </a:prstGeom>
          <a:ln w="0">
            <a:noFill/>
          </a:ln>
        </p:spPr>
      </p:pic>
      <p:sp>
        <p:nvSpPr>
          <p:cNvPr id="164" name="9 Elipse"/>
          <p:cNvSpPr/>
          <p:nvPr/>
        </p:nvSpPr>
        <p:spPr>
          <a:xfrm>
            <a:off x="3340080" y="5502240"/>
            <a:ext cx="843120" cy="32400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0 Elipse"/>
          <p:cNvSpPr/>
          <p:nvPr/>
        </p:nvSpPr>
        <p:spPr>
          <a:xfrm>
            <a:off x="425520" y="5826240"/>
            <a:ext cx="84132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1 Elipse"/>
          <p:cNvSpPr/>
          <p:nvPr/>
        </p:nvSpPr>
        <p:spPr>
          <a:xfrm>
            <a:off x="7034040" y="6012000"/>
            <a:ext cx="84312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2 Elipse"/>
          <p:cNvSpPr/>
          <p:nvPr/>
        </p:nvSpPr>
        <p:spPr>
          <a:xfrm>
            <a:off x="4830840" y="6215040"/>
            <a:ext cx="842760" cy="333360"/>
          </a:xfrm>
          <a:prstGeom prst="ellipse">
            <a:avLst/>
          </a:prstGeom>
          <a:noFill/>
          <a:ln w="22320">
            <a:solidFill>
              <a:srgbClr val="2a9d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60800" y="706320"/>
          <a:ext cx="3305160" cy="692280"/>
        </p:xfrm>
        <a:graphic>
          <a:graphicData uri="http://schemas.openxmlformats.org/drawingml/2006/table">
            <a:tbl>
              <a:tblPr/>
              <a:tblGrid>
                <a:gridCol w="1652760"/>
                <a:gridCol w="1652400"/>
              </a:tblGrid>
              <a:tr h="2732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ualizacion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361 usuarios/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4190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 (enrolamientos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54 usuarios/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grpSp>
        <p:nvGrpSpPr>
          <p:cNvPr id="169" name="14 Grupo"/>
          <p:cNvGrpSpPr/>
          <p:nvPr/>
        </p:nvGrpSpPr>
        <p:grpSpPr>
          <a:xfrm>
            <a:off x="7292880" y="0"/>
            <a:ext cx="1851120" cy="317520"/>
            <a:chOff x="7292880" y="0"/>
            <a:chExt cx="1851120" cy="317520"/>
          </a:xfrm>
        </p:grpSpPr>
        <p:sp>
          <p:nvSpPr>
            <p:cNvPr id="170" name="3 Rectángulo"/>
            <p:cNvSpPr/>
            <p:nvPr/>
          </p:nvSpPr>
          <p:spPr>
            <a:xfrm>
              <a:off x="7292880" y="0"/>
              <a:ext cx="1851120" cy="188280"/>
            </a:xfrm>
            <a:prstGeom prst="rect">
              <a:avLst/>
            </a:prstGeom>
            <a:solidFill>
              <a:srgbClr val="00b1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69720"/>
                  <a:tab algn="l" pos="739800"/>
                  <a:tab algn="l" pos="1109520"/>
                  <a:tab algn="l" pos="1479600"/>
                  <a:tab algn="l" pos="1849320"/>
                  <a:tab algn="l" pos="2219400"/>
                  <a:tab algn="l" pos="2589120"/>
                  <a:tab algn="l" pos="2959200"/>
                  <a:tab algn="l" pos="3328920"/>
                  <a:tab algn="l" pos="3699000"/>
                  <a:tab algn="l" pos="4068720"/>
                  <a:tab algn="l" pos="4438800"/>
                  <a:tab algn="l" pos="4808520"/>
                  <a:tab algn="l" pos="5178600"/>
                  <a:tab algn="l" pos="5548320"/>
                  <a:tab algn="l" pos="5918040"/>
                  <a:tab algn="l" pos="6288120"/>
                  <a:tab algn="l" pos="6657840"/>
                  <a:tab algn="l" pos="7027920"/>
                  <a:tab algn="l" pos="7397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3 Rectángulo"/>
            <p:cNvSpPr/>
            <p:nvPr/>
          </p:nvSpPr>
          <p:spPr>
            <a:xfrm>
              <a:off x="7486560" y="189000"/>
              <a:ext cx="1657440" cy="1285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69720"/>
                  <a:tab algn="l" pos="739800"/>
                  <a:tab algn="l" pos="1109520"/>
                  <a:tab algn="l" pos="1479600"/>
                  <a:tab algn="l" pos="1849320"/>
                  <a:tab algn="l" pos="2219400"/>
                  <a:tab algn="l" pos="2589120"/>
                  <a:tab algn="l" pos="2959200"/>
                  <a:tab algn="l" pos="3328920"/>
                  <a:tab algn="l" pos="3699000"/>
                  <a:tab algn="l" pos="4068720"/>
                  <a:tab algn="l" pos="4438800"/>
                  <a:tab algn="l" pos="4808520"/>
                  <a:tab algn="l" pos="5178600"/>
                  <a:tab algn="l" pos="5548320"/>
                  <a:tab algn="l" pos="5918040"/>
                  <a:tab algn="l" pos="6288120"/>
                  <a:tab algn="l" pos="6657840"/>
                  <a:tab algn="l" pos="7027920"/>
                  <a:tab algn="l" pos="7397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25520" y="382680"/>
            <a:ext cx="7580160" cy="58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6292800" y="4141800"/>
          <a:ext cx="2621160" cy="6890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</a:tblGrid>
              <a:tr h="2728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ualizacio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6,5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4161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 (enrolamiento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74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Logo funde blanco"/>
          <p:cNvPicPr/>
          <p:nvPr/>
        </p:nvPicPr>
        <p:blipFill>
          <a:blip r:embed="rId2"/>
          <a:stretch/>
        </p:blipFill>
        <p:spPr>
          <a:xfrm>
            <a:off x="3995640" y="5013360"/>
            <a:ext cx="1224000" cy="1254240"/>
          </a:xfrm>
          <a:prstGeom prst="rect">
            <a:avLst/>
          </a:prstGeom>
          <a:ln w="0">
            <a:noFill/>
          </a:ln>
        </p:spPr>
      </p:pic>
      <p:sp>
        <p:nvSpPr>
          <p:cNvPr id="177" name="5 Rectángulo"/>
          <p:cNvSpPr/>
          <p:nvPr/>
        </p:nvSpPr>
        <p:spPr>
          <a:xfrm>
            <a:off x="1763640" y="1557360"/>
            <a:ext cx="595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mponente Rad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5200" y="1095480"/>
            <a:ext cx="6156360" cy="1879560"/>
          </a:xfrm>
          <a:prstGeom prst="rect">
            <a:avLst/>
          </a:prstGeom>
          <a:ln w="0">
            <a:noFill/>
          </a:ln>
        </p:spPr>
      </p:pic>
      <p:pic>
        <p:nvPicPr>
          <p:cNvPr id="179" name="FUNDE - PAGA TUS IMPUESTOS.mp3" descr=""/>
          <p:cNvPicPr/>
          <p:nvPr/>
        </p:nvPicPr>
        <p:blipFill>
          <a:blip r:embed="rId3"/>
          <a:stretch/>
        </p:blipFill>
        <p:spPr>
          <a:xfrm>
            <a:off x="6710400" y="1808280"/>
            <a:ext cx="222120" cy="22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54040" y="3429000"/>
          <a:ext cx="3046320" cy="1486080"/>
        </p:xfrm>
        <a:graphic>
          <a:graphicData uri="http://schemas.openxmlformats.org/drawingml/2006/table">
            <a:tbl>
              <a:tblPr/>
              <a:tblGrid>
                <a:gridCol w="2203560"/>
                <a:gridCol w="84276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ñ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Globo  9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Punto 105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YSKL 10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Fuego 107.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er en inglés 92.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4" descr="https://scontent-mia.xx.fbcdn.net/hphotos-xpf1/v/t1.0-9/p180x540/10389595_929643837067213_1397224597325485417_n.jpg?oh=a311421f55abccb42040bcdf43ded0de&amp;oe=55D54E52"/>
          <p:cNvPicPr/>
          <p:nvPr/>
        </p:nvPicPr>
        <p:blipFill>
          <a:blip r:embed="rId4"/>
          <a:stretch/>
        </p:blipFill>
        <p:spPr>
          <a:xfrm>
            <a:off x="5154480" y="3298680"/>
            <a:ext cx="3500640" cy="2333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8520" y="317520"/>
            <a:ext cx="8226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000" spc="-1" strike="noStrike">
                <a:solidFill>
                  <a:srgbClr val="33a3a3"/>
                </a:solidFill>
                <a:latin typeface="Arial"/>
              </a:rPr>
              <a:t>Difusión Radial  (cuña y entrevistas)</a:t>
            </a:r>
            <a:endParaRPr b="0" lang="en-US" sz="30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83" name="10 CuadroTexto"/>
          <p:cNvSpPr/>
          <p:nvPr/>
        </p:nvSpPr>
        <p:spPr>
          <a:xfrm>
            <a:off x="6581520" y="2068560"/>
            <a:ext cx="124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</a:rPr>
              <a:t>Click para au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19200" y="5153040"/>
          <a:ext cx="3046320" cy="812880"/>
        </p:xfrm>
        <a:graphic>
          <a:graphicData uri="http://schemas.openxmlformats.org/drawingml/2006/table">
            <a:tbl>
              <a:tblPr/>
              <a:tblGrid>
                <a:gridCol w="1814400"/>
                <a:gridCol w="1231920"/>
              </a:tblGrid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j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ar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241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utina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:00 a 8:30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spertin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:00 a 2:00 p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spertina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39800"/>
                          <a:tab algn="l" pos="1479600"/>
                          <a:tab algn="l" pos="2219400"/>
                          <a:tab algn="l" pos="2959200"/>
                          <a:tab algn="l" pos="3699000"/>
                          <a:tab algn="l" pos="4438800"/>
                          <a:tab algn="l" pos="5178600"/>
                          <a:tab algn="l" pos="5918040"/>
                          <a:tab algn="l" pos="6657840"/>
                          <a:tab algn="l" pos="7397640"/>
                          <a:tab algn="l" pos="8137440"/>
                          <a:tab algn="l" pos="8877240"/>
                          <a:tab algn="l" pos="9617040"/>
                          <a:tab algn="l" pos="1035684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:00 a 6:30 p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9d9a"/>
                    </a:solidFill>
                  </a:tcPr>
                </a:tc>
              </a:tr>
            </a:tbl>
          </a:graphicData>
        </a:graphic>
      </p:graphicFrame>
      <p:sp>
        <p:nvSpPr>
          <p:cNvPr id="18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398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1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Aprendizajes y conclusiones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brindar a la audiencia no solo el mensaje (demanda), también la s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 situación fiscal es cada vez más delicada y esto demanda una mayor transpare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bemos (los ciudadanos) ser contralores y por tanto estar inform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basta con saber ¿qué se hace con los impuestos? Se debe iniciar con la pregunta ¿qué se deja de hacer por los impuestos que no se recaud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9640" y="907920"/>
            <a:ext cx="80424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276120" indent="-276120" algn="ctr"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AUN CON MUY POCOS RECURSOS, SI SE ES CREATIVO SE PUEDE TRANSFORMAR LA INFORMACIÓN EN </a:t>
            </a:r>
            <a:r>
              <a:rPr b="0" lang="es-ES" sz="4800" spc="-1" strike="noStrike">
                <a:solidFill>
                  <a:srgbClr val="33a3a3"/>
                </a:solidFill>
                <a:latin typeface="Arial Black"/>
              </a:rPr>
              <a:t>ACCIÓN.</a:t>
            </a:r>
            <a:r>
              <a:rPr b="1" lang="es-ES" sz="4800" spc="-1" strike="noStrike">
                <a:solidFill>
                  <a:srgbClr val="1f7674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ctr">
              <a:lnSpc>
                <a:spcPct val="8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5 CuadroTexto"/>
          <p:cNvSpPr/>
          <p:nvPr/>
        </p:nvSpPr>
        <p:spPr>
          <a:xfrm rot="19999800">
            <a:off x="4901040" y="5153040"/>
            <a:ext cx="3682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4800" spc="-1" strike="noStrike">
                <a:solidFill>
                  <a:srgbClr val="33a3a3"/>
                </a:solidFill>
                <a:latin typeface="Britannic Bold"/>
              </a:rPr>
              <a:t>#PagoyExij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00000" y="692280"/>
            <a:ext cx="7417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t">
            <a:noAutofit/>
          </a:bodyPr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constituye en 1992, como u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a ONG de investigación, formulación de políticas socioeconómicas, cabildeo y promoción del desarrollo, teniendo como principal destinatario los sectores más desfavorecidos de la poblac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7760" indent="-262080" algn="just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7760"/>
                <a:tab algn="l" pos="438120"/>
                <a:tab algn="l" pos="809640"/>
                <a:tab algn="l" pos="1179360"/>
                <a:tab algn="l" pos="1549440"/>
                <a:tab algn="l" pos="1919160"/>
                <a:tab algn="l" pos="2290680"/>
                <a:tab algn="l" pos="2660760"/>
                <a:tab algn="l" pos="3030480"/>
                <a:tab algn="l" pos="3400560"/>
                <a:tab algn="l" pos="3772080"/>
                <a:tab algn="l" pos="4141800"/>
                <a:tab algn="l" pos="4511520"/>
                <a:tab algn="l" pos="4881600"/>
                <a:tab algn="l" pos="5253120"/>
                <a:tab algn="l" pos="5622840"/>
                <a:tab algn="l" pos="5992920"/>
                <a:tab algn="l" pos="6362640"/>
                <a:tab algn="l" pos="6734160"/>
                <a:tab algn="l" pos="7104240"/>
                <a:tab algn="l" pos="74739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Áreas de trabajo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9 Flecha derecha"/>
          <p:cNvSpPr/>
          <p:nvPr/>
        </p:nvSpPr>
        <p:spPr>
          <a:xfrm rot="14322000">
            <a:off x="1088280" y="50263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0 Flecha derecha"/>
          <p:cNvSpPr/>
          <p:nvPr/>
        </p:nvSpPr>
        <p:spPr>
          <a:xfrm rot="18280800">
            <a:off x="168120" y="5022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700360" y="5229360"/>
            <a:ext cx="1871640" cy="110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4788000" y="5661000"/>
            <a:ext cx="172872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image.slidesharecdn.com/soluciones-maraeugeniasuaydecastrillo-130723114646-phpapp01/95/soluciones-mara-eugenia-suay-de-castrillo-1-638.jpg?cb=1374592519"/>
          <p:cNvPicPr/>
          <p:nvPr/>
        </p:nvPicPr>
        <p:blipFill>
          <a:blip r:embed="rId3"/>
          <a:stretch/>
        </p:blipFill>
        <p:spPr>
          <a:xfrm>
            <a:off x="6875640" y="5589720"/>
            <a:ext cx="1965240" cy="660240"/>
          </a:xfrm>
          <a:prstGeom prst="rect">
            <a:avLst/>
          </a:prstGeom>
          <a:ln w="0">
            <a:noFill/>
          </a:ln>
        </p:spPr>
      </p:pic>
      <p:pic>
        <p:nvPicPr>
          <p:cNvPr id="70" name="15 Imagen" descr="unnamed.png"/>
          <p:cNvPicPr/>
          <p:nvPr/>
        </p:nvPicPr>
        <p:blipFill>
          <a:blip r:embed="rId4"/>
          <a:stretch/>
        </p:blipFill>
        <p:spPr>
          <a:xfrm>
            <a:off x="250920" y="5589720"/>
            <a:ext cx="176508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organigrama_web_2015.jpg"/>
          <p:cNvPicPr/>
          <p:nvPr/>
        </p:nvPicPr>
        <p:blipFill>
          <a:blip r:embed="rId5"/>
          <a:stretch/>
        </p:blipFill>
        <p:spPr>
          <a:xfrm>
            <a:off x="0" y="2817720"/>
            <a:ext cx="9099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31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3600" spc="-1" strike="noStrike">
                <a:solidFill>
                  <a:srgbClr val="33a3a3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476360" y="1459080"/>
            <a:ext cx="6048360" cy="1784160"/>
          </a:xfrm>
          <a:prstGeom prst="rect">
            <a:avLst/>
          </a:prstGeom>
          <a:solidFill>
            <a:srgbClr val="ffffff"/>
          </a:solidFill>
          <a:ln w="9360">
            <a:solidFill>
              <a:srgbClr val="198a8a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720" rIns="72720" tIns="49320" bIns="36360" anchor="t">
            <a:noAutofit/>
          </a:bodyPr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chos releva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formación poder politico y Polarización polít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relación entre Gobierno y sector pri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 espacios de diá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tributaria par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ces en Transparencia (credibilidad y legitimid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440000" y="3860640"/>
            <a:ext cx="604836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198a8a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720" rIns="72720" tIns="49320" bIns="36360" anchor="t">
            <a:noAutofit/>
          </a:bodyPr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enci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 de Ley de Responsabilidad Fiscal en disc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al sistema de pensiones puede ser abord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ndeudamiento sigue crecie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3160">
              <a:lnSpc>
                <a:spcPct val="93000"/>
              </a:lnSpc>
              <a:tabLst>
                <a:tab algn="l" pos="0"/>
                <a:tab algn="l" pos="174600"/>
                <a:tab algn="l" pos="544680"/>
                <a:tab algn="l" pos="914400"/>
                <a:tab algn="l" pos="1284120"/>
                <a:tab algn="l" pos="1655640"/>
                <a:tab algn="l" pos="2025720"/>
                <a:tab algn="l" pos="2395440"/>
                <a:tab algn="l" pos="2765520"/>
                <a:tab algn="l" pos="3137040"/>
                <a:tab algn="l" pos="3506760"/>
                <a:tab algn="l" pos="3876840"/>
                <a:tab algn="l" pos="4246560"/>
                <a:tab algn="l" pos="4618080"/>
                <a:tab algn="l" pos="4987800"/>
                <a:tab algn="l" pos="5357880"/>
                <a:tab algn="l" pos="5727600"/>
                <a:tab algn="l" pos="6099120"/>
                <a:tab algn="l" pos="6469200"/>
                <a:tab algn="l" pos="6838920"/>
                <a:tab algn="l" pos="7209000"/>
                <a:tab algn="l" pos="758016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La transparencia de finanzas públicas</a:t>
            </a:r>
            <a:br>
              <a:rPr sz="3600"/>
            </a:br>
            <a:r>
              <a:rPr b="0" lang="es-ES" sz="3600" spc="-1" strike="noStrike">
                <a:solidFill>
                  <a:srgbClr val="33a3a3"/>
                </a:solidFill>
                <a:latin typeface="Arial"/>
              </a:rPr>
              <a:t>y sostenibilidad</a:t>
            </a: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77" name="Diagrama 3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7558200" cy="414504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"/>
          <p:cNvPicPr/>
          <p:nvPr/>
        </p:nvPicPr>
        <p:blipFill>
          <a:blip r:embed="rId2"/>
          <a:srcRect l="38379" t="22441" r="38379" b="59847"/>
          <a:stretch/>
        </p:blipFill>
        <p:spPr>
          <a:xfrm>
            <a:off x="442800" y="1389240"/>
            <a:ext cx="3024360" cy="1295280"/>
          </a:xfrm>
          <a:prstGeom prst="rect">
            <a:avLst/>
          </a:prstGeom>
          <a:ln w="0">
            <a:noFill/>
          </a:ln>
        </p:spPr>
      </p:pic>
      <p:sp>
        <p:nvSpPr>
          <p:cNvPr id="79" name="CuadroTexto 8"/>
          <p:cNvSpPr/>
          <p:nvPr/>
        </p:nvSpPr>
        <p:spPr>
          <a:xfrm rot="20517600">
            <a:off x="4600080" y="57610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CuadroTexto 9"/>
          <p:cNvSpPr/>
          <p:nvPr/>
        </p:nvSpPr>
        <p:spPr>
          <a:xfrm rot="20517600">
            <a:off x="6084000" y="55879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CuadroTexto 10"/>
          <p:cNvSpPr/>
          <p:nvPr/>
        </p:nvSpPr>
        <p:spPr>
          <a:xfrm rot="20517600">
            <a:off x="2023560" y="58701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ADQUIS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CuadroTexto 12"/>
          <p:cNvSpPr/>
          <p:nvPr/>
        </p:nvSpPr>
        <p:spPr>
          <a:xfrm rot="20517600">
            <a:off x="624960" y="5761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TO PÚB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CuadroTexto 13"/>
          <p:cNvSpPr/>
          <p:nvPr/>
        </p:nvSpPr>
        <p:spPr>
          <a:xfrm rot="20517600">
            <a:off x="-324000" y="5100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042400" cy="397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rcRect l="5182" t="19715" r="5263" b="12662"/>
          <a:stretch/>
        </p:blipFill>
        <p:spPr>
          <a:xfrm>
            <a:off x="179280" y="765000"/>
            <a:ext cx="87346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33a3a3"/>
                </a:solidFill>
                <a:latin typeface="Arial Black"/>
              </a:rPr>
              <a:t>Programa “Seguridad y transparencia fiscal”</a:t>
            </a:r>
            <a:endParaRPr b="0" lang="en-US" sz="18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89" name="2 Diagrama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7632720" cy="5321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3851280" y="2708280"/>
            <a:ext cx="17636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62280" bIns="36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51120"/>
                <a:tab algn="l" pos="2220840"/>
                <a:tab algn="l" pos="2590920"/>
                <a:tab algn="l" pos="2960640"/>
                <a:tab algn="l" pos="3332160"/>
                <a:tab algn="l" pos="3701880"/>
                <a:tab algn="l" pos="4071960"/>
                <a:tab algn="l" pos="4441680"/>
                <a:tab algn="l" pos="4813200"/>
                <a:tab algn="l" pos="5183280"/>
                <a:tab algn="l" pos="5553000"/>
                <a:tab algn="l" pos="5923080"/>
                <a:tab algn="l" pos="6294600"/>
                <a:tab algn="l" pos="6664320"/>
                <a:tab algn="l" pos="7034040"/>
                <a:tab algn="l" pos="7404120"/>
                <a:tab algn="l" pos="7767720"/>
                <a:tab algn="l" pos="8137440"/>
                <a:tab algn="l" pos="8507520"/>
                <a:tab algn="l" pos="8877240"/>
                <a:tab algn="l" pos="9247320"/>
                <a:tab algn="l" pos="9617040"/>
                <a:tab algn="l" pos="9987120"/>
                <a:tab algn="l" pos="10356840"/>
                <a:tab algn="l" pos="10726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car en la agenda política y en el debate nacional una propuesta de Reforma Fiscal Integ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3 Rectángulo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3600" spc="-1" strike="noStrike">
              <a:solidFill>
                <a:srgbClr val="33a3a3"/>
              </a:solidFill>
              <a:latin typeface="Arial"/>
            </a:endParaRPr>
          </a:p>
        </p:txBody>
      </p:sp>
      <p:pic>
        <p:nvPicPr>
          <p:cNvPr id="93" name="Picture 2" descr="http://4.bp.blogspot.com/-IN7nbWvT9hQ/Ui_dPwdkcFI/AAAAAAAAAJw/9sCwqs6IS9Y/s1600/TELEPOLIS+10.jpg"/>
          <p:cNvPicPr/>
          <p:nvPr/>
        </p:nvPicPr>
        <p:blipFill>
          <a:blip r:embed="rId1"/>
          <a:stretch/>
        </p:blipFill>
        <p:spPr>
          <a:xfrm>
            <a:off x="457200" y="293760"/>
            <a:ext cx="8294760" cy="6178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11280" y="2276640"/>
            <a:ext cx="1749240" cy="77616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600" spc="-1" strike="noStrike">
                <a:solidFill>
                  <a:srgbClr val="ffffff"/>
                </a:solidFill>
                <a:latin typeface="Arial"/>
              </a:rPr>
              <a:t>Sensibi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Content Placeholder 10"/>
          <p:cNvSpPr/>
          <p:nvPr/>
        </p:nvSpPr>
        <p:spPr>
          <a:xfrm>
            <a:off x="6659640" y="1700280"/>
            <a:ext cx="1865160" cy="71280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marL="276120" indent="-276120" algn="ctr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1600" spc="-1" strike="noStrike">
                <a:solidFill>
                  <a:srgbClr val="ffffff"/>
                </a:solidFill>
                <a:latin typeface="Arial"/>
              </a:rPr>
              <a:t>Diálogo con a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220840" y="358920"/>
            <a:ext cx="4341960" cy="971280"/>
          </a:xfrm>
          <a:prstGeom prst="rect">
            <a:avLst/>
          </a:prstGeom>
          <a:solidFill>
            <a:srgbClr val="2a9d9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37080" bIns="37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MPAÑAS SO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GENERAR ACCIONES SECUENCIALES EJECUTADAS por DIFERENTES AC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0040" y="-57240"/>
            <a:ext cx="792972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928800" y="500040"/>
            <a:ext cx="24289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Crear un lema (slog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429160" y="285840"/>
            <a:ext cx="24289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Definir público m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ó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429000" y="2000160"/>
            <a:ext cx="25002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Marco 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Arial"/>
              </a:rPr>
              <a:t>(dur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planific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7:31:46Z</dcterms:created>
  <dc:creator>Cory</dc:creator>
  <dc:description/>
  <dc:language>en-US</dc:language>
  <cp:lastModifiedBy>Equipo2</cp:lastModifiedBy>
  <dcterms:modified xsi:type="dcterms:W3CDTF">2015-07-29T18:24:45Z</dcterms:modified>
  <cp:revision>102</cp:revision>
  <dc:subject/>
  <dc:title>Diapositiva 1</dc:title>
</cp:coreProperties>
</file>