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36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F3B6870-CA28-4966-AAC0-F2D17CC449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868E2DC-BEFA-4CC4-A369-C53EAA235A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3D380E8-2FB2-4FFC-B645-0D805391D4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BA63884-BDC5-4B48-9EE9-527B5967AC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84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52720" y="943452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C06AB79-4D3A-49B3-9988-81837F60B2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v00840yc\Escritorio\fondo sin copi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Servicio de Planificación y Relaciones Institu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92.168.13.83/ventana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aeat/correo/BuzonSugerencias.nsf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s://www.aeat/es13/s/RHWARHQPON00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s://www.aeat/wordpress/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C:\Documents and Settings\v00840yc\Escritorio\presentacion co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838080" y="2666880"/>
            <a:ext cx="8077320" cy="119124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c6d5e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09480" y="63244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Arial"/>
              </a:rPr>
              <a:t>Servicio de Planificación y Relaciones Institu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6"/>
          <p:cNvGrpSpPr/>
          <p:nvPr/>
        </p:nvGrpSpPr>
        <p:grpSpPr>
          <a:xfrm>
            <a:off x="1143000" y="1500120"/>
            <a:ext cx="7951320" cy="1555200"/>
            <a:chOff x="1143000" y="1500120"/>
            <a:chExt cx="7951320" cy="1555200"/>
          </a:xfrm>
        </p:grpSpPr>
        <p:sp>
          <p:nvSpPr>
            <p:cNvPr id="49" name="Text Box 17"/>
            <p:cNvSpPr/>
            <p:nvPr/>
          </p:nvSpPr>
          <p:spPr>
            <a:xfrm>
              <a:off x="3755880" y="2595600"/>
              <a:ext cx="40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66cc"/>
                  </a:solidFill>
                  <a:latin typeface="Arial"/>
                </a:rPr>
                <a:t>     </a:t>
              </a:r>
              <a:r>
                <a:rPr b="0" lang="es-ES" sz="2400" spc="-1" strike="noStrike">
                  <a:solidFill>
                    <a:srgbClr val="3366cc"/>
                  </a:solidFill>
                  <a:latin typeface="Arial"/>
                </a:rPr>
                <a:t>www.agenciatributaria.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18"/>
            <p:cNvGrpSpPr/>
            <p:nvPr/>
          </p:nvGrpSpPr>
          <p:grpSpPr>
            <a:xfrm>
              <a:off x="1143000" y="1500120"/>
              <a:ext cx="7951320" cy="1374840"/>
              <a:chOff x="1143000" y="1500120"/>
              <a:chExt cx="7951320" cy="1374840"/>
            </a:xfrm>
          </p:grpSpPr>
          <p:sp>
            <p:nvSpPr>
              <p:cNvPr id="51" name="Text Box 19"/>
              <p:cNvSpPr/>
              <p:nvPr/>
            </p:nvSpPr>
            <p:spPr>
              <a:xfrm>
                <a:off x="2063160" y="1703160"/>
                <a:ext cx="70311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6000" spc="-1" strike="noStrike">
                    <a:solidFill>
                      <a:srgbClr val="777777"/>
                    </a:solidFill>
                    <a:latin typeface="Garamond"/>
                  </a:rPr>
                  <a:t>Agencia Tributari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" name="Picture 20" descr="G:\DOPRI\COMEXT\GENERAL\LOGOS\LOGOAEAT3.jpg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1500120"/>
                <a:ext cx="1450080" cy="1374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Line 21"/>
            <p:cNvSpPr/>
            <p:nvPr/>
          </p:nvSpPr>
          <p:spPr>
            <a:xfrm>
              <a:off x="3832200" y="2624040"/>
              <a:ext cx="4190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0"/>
          <p:cNvSpPr/>
          <p:nvPr/>
        </p:nvSpPr>
        <p:spPr>
          <a:xfrm>
            <a:off x="642960" y="365904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LA COMUN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EN LA AGENCIA TRIBU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604800" y="1905120"/>
            <a:ext cx="763920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137"/>
              </a:spcBef>
              <a:buClr>
                <a:srgbClr val="3366cc"/>
              </a:buClr>
              <a:buFont typeface="Wingdings" charset="2"/>
              <a:buChar char="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66cc"/>
                </a:solidFill>
                <a:latin typeface="Arial"/>
              </a:rPr>
              <a:t>Contratación públi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Proceso de 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8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Decisión: campa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10 CuadroTexto"/>
          <p:cNvSpPr/>
          <p:nvPr/>
        </p:nvSpPr>
        <p:spPr>
          <a:xfrm>
            <a:off x="4643280" y="3716280"/>
            <a:ext cx="34578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66cc"/>
                </a:solidFill>
                <a:latin typeface="Arial"/>
              </a:rPr>
              <a:t>arriesgad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66cc"/>
                </a:solidFill>
                <a:latin typeface="Arial"/>
              </a:rPr>
              <a:t>conservado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11 Abrir llave"/>
          <p:cNvSpPr/>
          <p:nvPr/>
        </p:nvSpPr>
        <p:spPr>
          <a:xfrm>
            <a:off x="4464000" y="3789360"/>
            <a:ext cx="252360" cy="792000"/>
          </a:xfrm>
          <a:custGeom>
            <a:avLst/>
            <a:gdLst>
              <a:gd name="textAreaLeft" fmla="*/ 161280 w 252360"/>
              <a:gd name="textAreaRight" fmla="*/ 252720 w 252360"/>
              <a:gd name="textAreaTop" fmla="*/ 40680 h 792000"/>
              <a:gd name="textAreaBottom" fmla="*/ 75132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4"/>
                  <a:pt x="10800" y="3567"/>
                </a:cubicBezTo>
                <a:lnTo>
                  <a:pt x="10800" y="7233"/>
                </a:lnTo>
                <a:cubicBezTo>
                  <a:pt x="10800" y="9017"/>
                  <a:pt x="5400" y="10800"/>
                  <a:pt x="0" y="10800"/>
                </a:cubicBezTo>
                <a:cubicBezTo>
                  <a:pt x="5400" y="10800"/>
                  <a:pt x="10800" y="12584"/>
                  <a:pt x="10800" y="14367"/>
                </a:cubicBezTo>
                <a:lnTo>
                  <a:pt x="10800" y="18033"/>
                </a:lnTo>
                <a:cubicBezTo>
                  <a:pt x="10800" y="19817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66680" y="6858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OTRAS ACTUACIONES DE 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49160" y="2209680"/>
            <a:ext cx="763920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Acuerdos de entend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Grandes Empresas (Fo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Intermediari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Univer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Ferias y exposi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95000"/>
              </a:lnSpc>
              <a:spcBef>
                <a:spcPts val="1400"/>
              </a:spcBef>
              <a:buClr>
                <a:srgbClr val="3366cc"/>
              </a:buClr>
              <a:buFont typeface="Wingdings" charset="2"/>
              <a:buChar char="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Colectivos que precisan especial atención: personas con dis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1042920" y="184464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n 1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321080" cy="3727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971640" y="8380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NUESTRO MENS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>
            <a:off x="971640" y="1484280"/>
            <a:ext cx="691344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6635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cc"/>
                </a:solidFill>
                <a:latin typeface="Arial"/>
                <a:ea typeface="Arial"/>
              </a:rPr>
              <a:t>Estamos muy acostumbrados a mensa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cc"/>
                </a:solidFill>
                <a:latin typeface="Arial"/>
                <a:ea typeface="Arial"/>
              </a:rPr>
              <a:t>dirigidos desde la In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Buscamos mensaje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ciudadano-ciudad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(</a:t>
            </a:r>
            <a:r>
              <a:rPr b="0" i="1" lang="es-ES" sz="1800" spc="-1" strike="noStrike">
                <a:solidFill>
                  <a:srgbClr val="3366cc"/>
                </a:solidFill>
                <a:latin typeface="Arial"/>
                <a:ea typeface="Arial"/>
              </a:rPr>
              <a:t>Nuestro objetivo afecta a toda la socie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1" descr=""/>
          <p:cNvPicPr/>
          <p:nvPr/>
        </p:nvPicPr>
        <p:blipFill>
          <a:blip r:embed="rId1"/>
          <a:stretch/>
        </p:blipFill>
        <p:spPr>
          <a:xfrm>
            <a:off x="4284720" y="2852640"/>
            <a:ext cx="446400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000" y="2082600"/>
            <a:ext cx="41749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cc"/>
                </a:solidFill>
                <a:latin typeface="Arial"/>
                <a:ea typeface="바탕"/>
              </a:rPr>
              <a:t>Evitar lenguaje conf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cc"/>
                </a:solidFill>
                <a:latin typeface="Arial"/>
                <a:ea typeface="바탕"/>
              </a:rPr>
              <a:t>Queremos que nos entiend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971640" y="8380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NUESTRO MENS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971640" y="1484280"/>
            <a:ext cx="691344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ángulo 1"/>
          <p:cNvSpPr/>
          <p:nvPr/>
        </p:nvSpPr>
        <p:spPr>
          <a:xfrm>
            <a:off x="1619280" y="3068640"/>
            <a:ext cx="59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cc"/>
                </a:solidFill>
                <a:latin typeface="Arial"/>
              </a:rPr>
              <a:t>Lo primero: generar con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11280" y="838080"/>
            <a:ext cx="799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FASES DE LA COMUNIC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ángulo 1"/>
          <p:cNvSpPr/>
          <p:nvPr/>
        </p:nvSpPr>
        <p:spPr>
          <a:xfrm>
            <a:off x="1008000" y="1957320"/>
            <a:ext cx="745164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Una vez se haya creado una conciencia, hay que repetir constantemente los mensajes clave para que el público objetivo te reconozca y se acuerde de ti y lo conecte a una experienci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La coherencia es fundamental para el desarrollo de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611280" y="838080"/>
            <a:ext cx="799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FASES DE LA COMUNIC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11280" y="838080"/>
            <a:ext cx="799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FASES DE LA COMUNIC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ángulo 1"/>
          <p:cNvSpPr/>
          <p:nvPr/>
        </p:nvSpPr>
        <p:spPr>
          <a:xfrm>
            <a:off x="1008000" y="1957320"/>
            <a:ext cx="74516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Debe despertar el interés de los ciudad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Los anuncios tienen que conseguir</a:t>
            </a:r>
            <a:r>
              <a:rPr b="0" lang="es-ES" sz="2400" spc="-1" strike="noStrike" u="sng">
                <a:solidFill>
                  <a:srgbClr val="3366cc"/>
                </a:solidFill>
                <a:uFillTx/>
                <a:latin typeface="Arial"/>
              </a:rPr>
              <a:t> mover a la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T_Colegio 20cast.wmv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400720" cy="2951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611280" y="838080"/>
            <a:ext cx="799308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AMPAÑA 2014: “COLEGIO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 </a:t>
            </a: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“</a:t>
            </a: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Lo que no pagas tú, lo pagamos to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T_Taller 20cast.wmv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5064120" cy="3222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611280" y="692280"/>
            <a:ext cx="799308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AMPAÑA 2014: “TALLER”</a:t>
            </a: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“</a:t>
            </a:r>
            <a:r>
              <a:rPr b="1" lang="es-ES" sz="2400" spc="-1" strike="noStrike">
                <a:solidFill>
                  <a:srgbClr val="3366cc"/>
                </a:solidFill>
                <a:latin typeface="Arial Black"/>
              </a:rPr>
              <a:t>Lo que no pagas tú, lo pagamos to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1042920" y="119700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11280" y="838080"/>
            <a:ext cx="79930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AMPAÑA 2015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“</a:t>
            </a:r>
            <a:r>
              <a:rPr b="1" lang="es-ES" sz="3400" spc="-1" strike="noStrike">
                <a:solidFill>
                  <a:srgbClr val="3366cc"/>
                </a:solidFill>
                <a:latin typeface="Arial Black"/>
              </a:rPr>
              <a:t>Contribuimos para recibi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aster_45_v02_CAS.wmv" descr=""/>
          <p:cNvPicPr/>
          <p:nvPr/>
        </p:nvPicPr>
        <p:blipFill>
          <a:blip r:embed="rId1"/>
          <a:stretch/>
        </p:blipFill>
        <p:spPr>
          <a:xfrm>
            <a:off x="3048120" y="2637000"/>
            <a:ext cx="30477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9640" y="19065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Consolidar y </a:t>
            </a:r>
            <a:r>
              <a:rPr b="1" i="1" lang="es-ES" sz="2400" spc="-1" strike="noStrike">
                <a:solidFill>
                  <a:srgbClr val="3366cc"/>
                </a:solidFill>
                <a:latin typeface="Arial"/>
              </a:rPr>
              <a:t>reforzar la conciencia fiscal </a:t>
            </a: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en nuestra sociedad, además de </a:t>
            </a:r>
            <a:r>
              <a:rPr b="1" i="1" lang="es-ES" sz="2400" spc="-1" strike="noStrike">
                <a:solidFill>
                  <a:srgbClr val="3366cc"/>
                </a:solidFill>
                <a:latin typeface="Arial"/>
              </a:rPr>
              <a:t>facilitar a los contribuyentes el cumplimiento de sus obligaciones fisc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Las líneas estratégicas de la política de comunicación y las actuaciones en que se concreta, van dirigidas a reforzar los canales de relación y contacto con los ciudada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556000" y="836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OBJETIV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600200" y="1484280"/>
            <a:ext cx="586728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Javier Rodriguez (F00993WM)\presentaciones\plantilla AEAT\optimizada\contraportada-WE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398760" y="62485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Times New Roman"/>
              </a:rPr>
              <a:t>www.agenciatributari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71640" y="8380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IN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26920" y="220968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Publicación interna: “LA VENTAN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Buzón interno de sug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La Oficina Virtual del Empl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cc"/>
                </a:solidFill>
                <a:latin typeface="Arial"/>
              </a:rPr>
              <a:t>Intranet</a:t>
            </a: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 corpo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Foros, B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Otras actuaciones: comunicación pers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 Imagen" descr="La Ventana Digit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2060640"/>
            <a:ext cx="1440000" cy="576360"/>
          </a:xfrm>
          <a:prstGeom prst="rect">
            <a:avLst/>
          </a:prstGeom>
          <a:ln w="0">
            <a:noFill/>
          </a:ln>
        </p:spPr>
      </p:pic>
      <p:pic>
        <p:nvPicPr>
          <p:cNvPr id="62" name="6 Imagen" descr="Buzón de sugerenci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2727360"/>
            <a:ext cx="2087640" cy="485640"/>
          </a:xfrm>
          <a:prstGeom prst="rect">
            <a:avLst/>
          </a:prstGeom>
          <a:ln w="0">
            <a:noFill/>
          </a:ln>
        </p:spPr>
      </p:pic>
      <p:pic>
        <p:nvPicPr>
          <p:cNvPr id="63" name="5 Imagen" descr="Oficina Virtual del person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3357720"/>
            <a:ext cx="1727280" cy="399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log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32000" y="4440240"/>
            <a:ext cx="1295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55640" y="8380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cc"/>
                </a:solidFill>
                <a:latin typeface="Arial Black"/>
              </a:rPr>
              <a:t>COMUNICACIÓN INTERNA: F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n 1" descr=""/>
          <p:cNvPicPr/>
          <p:nvPr/>
        </p:nvPicPr>
        <p:blipFill>
          <a:blip r:embed="rId1"/>
          <a:stretch/>
        </p:blipFill>
        <p:spPr>
          <a:xfrm>
            <a:off x="1692360" y="1598760"/>
            <a:ext cx="5904000" cy="4709880"/>
          </a:xfrm>
          <a:prstGeom prst="rect">
            <a:avLst/>
          </a:prstGeom>
          <a:ln w="0">
            <a:noFill/>
          </a:ln>
        </p:spPr>
      </p:pic>
      <p:sp>
        <p:nvSpPr>
          <p:cNvPr id="68" name="9 Elipse"/>
          <p:cNvSpPr/>
          <p:nvPr/>
        </p:nvSpPr>
        <p:spPr>
          <a:xfrm>
            <a:off x="1763640" y="4437000"/>
            <a:ext cx="2232000" cy="720720"/>
          </a:xfrm>
          <a:prstGeom prst="ellipse">
            <a:avLst/>
          </a:pr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n 3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967280" cy="396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49160" y="1905120"/>
            <a:ext cx="82155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Campañas publicitarias de concienciación e infor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Relación con los medios de comunic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Servicios de Información y 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Servicios en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Memoria anual y Carta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Programa de Educación cívico – tributaria (P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Alianzas interadminist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905120"/>
            <a:ext cx="861048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2999"/>
              </a:spcBef>
              <a:buClr>
                <a:srgbClr val="3366cc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66cc"/>
                </a:solidFill>
                <a:latin typeface="Arial"/>
              </a:rPr>
              <a:t>Producción simple y coherente</a:t>
            </a: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1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La ejecución debe ser sencilla, directa, que sea sensible a la realidad social respecto al uso de los presupuest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1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Mensaje sencillo y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95000"/>
              </a:lnSpc>
              <a:spcBef>
                <a:spcPts val="1199"/>
              </a:spcBef>
              <a:buClr>
                <a:srgbClr val="3366cc"/>
              </a:buClr>
              <a:buFont typeface="Wingdings" charset="2"/>
              <a:buChar char="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  <a:ea typeface="Arial"/>
              </a:rPr>
              <a:t>Reducir las posturas tibias frente al fr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68360" y="1905120"/>
            <a:ext cx="828036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906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ctr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cc"/>
                </a:solidFill>
                <a:latin typeface="Arial"/>
              </a:rPr>
              <a:t>Al mismo tiempo tenemos que conseguir ser una referencia como institución comprometida con la sociedad y generar confi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5 Rectángulo"/>
          <p:cNvSpPr/>
          <p:nvPr/>
        </p:nvSpPr>
        <p:spPr>
          <a:xfrm>
            <a:off x="468360" y="2924280"/>
            <a:ext cx="8280360" cy="1584360"/>
          </a:xfrm>
          <a:prstGeom prst="rect">
            <a:avLst/>
          </a:prstGeom>
          <a:noFill/>
          <a:ln w="34920">
            <a:solidFill>
              <a:srgbClr val="000099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04800" y="1905120"/>
            <a:ext cx="76392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spcBef>
                <a:spcPts val="1176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66cc"/>
                </a:solidFill>
                <a:latin typeface="Arial"/>
              </a:rPr>
              <a:t>CAMPAÑAS DE CONCIENCIAC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1049"/>
              </a:spcBef>
              <a:buClr>
                <a:srgbClr val="3366cc"/>
              </a:buClr>
              <a:buFont typeface="Wingdings" charset="2"/>
              <a:buChar char="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En la campaña de junio 2014 el objetivo era conseguir el rechazo social del defraudador:        “</a:t>
            </a: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Lo que no pagas tú, lo pagamos todos</a:t>
            </a: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5000"/>
              </a:lnSpc>
              <a:spcBef>
                <a:spcPts val="2401"/>
              </a:spcBef>
              <a:buClr>
                <a:srgbClr val="3366cc"/>
              </a:buClr>
              <a:buFont typeface="Wingdings" charset="2"/>
              <a:buChar char="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cc"/>
                </a:solidFill>
                <a:latin typeface="Arial"/>
              </a:rPr>
              <a:t>En la de este año 2015 se quiere resaltar la relación directa del volumen de ingresos con los servicios públicos. “</a:t>
            </a: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Contribuimos para recibir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04292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cc"/>
                </a:solidFill>
                <a:latin typeface="Arial Black"/>
              </a:rPr>
              <a:t>COMUNICACIÓN 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>
            <a:off x="1042920" y="1484280"/>
            <a:ext cx="69138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2:18:28Z</dcterms:created>
  <dc:creator>f00993wm</dc:creator>
  <dc:description/>
  <dc:language>en-US</dc:language>
  <cp:lastModifiedBy>i00895ys</cp:lastModifiedBy>
  <dcterms:modified xsi:type="dcterms:W3CDTF">2015-07-29T13:51:00Z</dcterms:modified>
  <cp:revision>659</cp:revision>
  <dc:subject/>
  <dc:title>Presentación de PowerPoint</dc:title>
</cp:coreProperties>
</file>