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2.wmf" ContentType="image/x-wmf"/>
  <Override PartName="/ppt/media/image21.wmf" ContentType="image/x-wmf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F97B-E882-454C-BF74-9801D92DC9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dor : agente de trans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B851-E4FA-4373-B56B-BF8847234F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impressionante..dimensões cósmicas de tempo e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5768-A602-4E50-A198-9CE0878AB1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g1.globo.com/rs/rio-grande-do-sul/rbs-noticias/videos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1.globo.com/rs/rio-grande-do-sul/rbs-noticias/videos/t/passo-fundo/v/termina-no-fim-de-abril-o-prazo-para-declaracao-do-imposto-de-renda/2513896/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operacaovirtual.blogspot.com/" TargetMode="External"/><Relationship Id="rId2" Type="http://schemas.openxmlformats.org/officeDocument/2006/relationships/hyperlink" Target="http://coworking-farialima.com.br/2011/04/coworking-colaboracao-nao-e-apenas-reducao-de-custo/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114800" y="38088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ucleos de Apoyo Contable y Fis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(NAF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350532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cación Tributária y Ciudadania en la valorización del futuro Co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562720"/>
            <a:ext cx="8305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Taller regional de Educación Fiscal en el ambito de la enseñaz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Porto Alegre, RS, 20-22/nov/2013</a:t>
            </a:r>
            <a:r>
              <a:rPr b="0" lang="pt-BR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9810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pectos Teó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és el objetivo de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oyo a los menos favorecid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oyar las personas com basos ingresos (PF o PJ) o el público interno de las universidades em questiones contables, financeras o tributári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ntro de difusión del conocimiento fiscal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uar como centro de aprendizaje de los alumnos a través de discusiones, preparación de palestras, grupos de estudios, entreinamentos, etc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ntos Fuerte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és totalmente similar al modelo de los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lleres de Práctica Jurídica (SAJUs)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dad: Creatividad y Autonomia universita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raestructura míni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volvimiento de los alumno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éditos complementares, disciplina opcional/obrigatória, voluntariado, etc.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modos de actuación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1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ndimiento/orientación del contribuabl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/ó (2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de estudios de alumnos y professor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m lo último, atuación también a través de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lestra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tividades voluntárias, etc. (obs: tópicos libr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uentros regular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 la Administración Tributaria (AT) para entrenar y compañar el desarrojo de los alumnos y apoyar los orientadore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</a:t>
            </a:r>
            <a:r>
              <a:rPr b="1" lang="pt-B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un posto de atendimento de la Receita Federal. (Igualmente los SAJU no sustituyen los atendimientos del poder judiciário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stituyen las oficinas de cuntadoria (Igualmente, los SAJU no sustituyen las oficinas de abogado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convenio oficial entre la Receita y la Universidad (Puede haber um convenio pero es muy informal. Igualmente, los SAJU no son um Convenio entre la universidad y los organos de la justicia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La iniciativa existe en otros pais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situaciones similares en algunos paises, pero la experiencia de los NAF és única y inovadora, porque tiene los elementos de ciudadania y de gestión del conocimiento fiscal para los universitarios de forma continu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el proyecto tiene una flexibilidad que lo permite ser apoyada por más de un órgão de las administraciones tributarias o por cualquier entidad civ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Solo los departamentos de contaduria tienen NAF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s escuelas de administración, las escuelas tecnicas, etc.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restriciones, todavia el proyeto fue idealizado para valorizar el futuro profissional contador o el despachante adua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son la “Ponte de Oro entre la Receita Federal y el Contribuyent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 12.249 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fin” del “técnico contable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el público-alv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umno és el favorecido principal. El tiene la oportunidade de vivir una formación diferenciada a través del conocimiento del Fisco, de lo trabajo voluntario, de la aprendizaje en los grupos de estudio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úblico em la comunidad varia. También varia la forma de interación com la comun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 loc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x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es 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pas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x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at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isitas a uma comunidad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sa ultima tem se mostrado mais efetiva no inicio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también un publico “cativo” dentro de las universidades: diretorios acadêmicos, servidores com basos ingresos, pex. limpeza, vigilancia etc.)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F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pectos Prá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1722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ante, no hay camiño.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o se hace al camiñ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5640" y="4642920"/>
            <a:ext cx="6095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tonio Mach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desarollar nuevos nucle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a única estrategia. Mismo porque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AF son una iniciativa de la sociedad civil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da y tiene por su base la autonomia universitar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via, notamos que dos abordajes fueran cruciales para el rápido desarollo de la idéia desde el primer NAF en Porto Alegre, em 04 abr 1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iorizamos el contacto con faculdades más receptiva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as tienen mayor interés em lo diferencial que la proposta puede ofertar a los alumnos. Tienen mayor agilidad em la implementación de projetos y en su modificación. (Ex: Faculdade São Judas Tadeu, que há creado una disciplina opcion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puntamos desde el inicio nuestra posición de apoyadore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ctuamos a través de palestras em las faculdades y em las unidades de la AT; Incentivamos la visitacion de los alumnos a las nossas unidades de la AT (“Conociendo el León por Dentro”); Los “Termos de Cooperación” son sin formalidades (por veces no hay termo escrito al empezar!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l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8080" y="1828800"/>
            <a:ext cx="76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xto e surgimento da id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Te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Pr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algun convenio modelo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Como proceder por el primer contacto com la Univers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o solo modelo de convenio o de procedimiento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se és la simplicidade de la abordaje y la autonomia universitária, pero hacemos una cerimonia de abertura o aula inaugural, norm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s primeiros contatos são bastante informal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com algunas visitas a universidad para cambio de ideas y exposición del proye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atizamos la importancia para la formación del futuro contad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altamos los varios aspectos positivos para la universidad, la AT, la comunidad y para los alumnos en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bramos que la universidad és libre para crear ideas y novidades en el proyecto; ella tiene un papel activo (Ex: proyecto de minipalestras de los alumno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mantener los nucleos activ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i también no hay una única estrateg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sugerencias 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Mantener el contacto.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char professores e alum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Mantener uma rotina de palestras e visitas a 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rear una red de coordenaores de cursos e miembros de la A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traer otros participantes: Fisco Estadual, Associación de Contadores, Tallejeres de Contabilidad, Empresas de auditoria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antas personas hay que tenerse para apoyar el projecto? ¿Cuál es el impacto en el trabajo de la Un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la unidade de la AT posee un/a servidor/a que sirve de conexión com la univer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alestras spueden ser produzidas por los colegas de especializados. Los temas abordados incluien: (a) sitio de la AT, (b) Cadastros (c) MEI, (d) Impuesto sobre las Rendas (e) Processo Admin. Tribu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impacto horas-hombre és peque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impacto en el corto prazo?  ¿Cómo medir el resultado de la iniciativ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AF no és uma iniciativa de corto prazo. No és la solución para problemas de atendimiento, mismo porque la At no le gerencia verticalmente. El és más similar a un proyecto en réd (para la difusion del conocimiento contable/fisc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mos tener cuidado con el uso precoce de indicadores. Acompanhar, todavia, los alumnos, profesore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lvidarse! </a:t>
            </a:r>
            <a:r>
              <a:rPr b="1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mos en um proceso historico, construiendo  una revolución em la enseñanza contable e fisca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uedo divulgar o serviço nos CAC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impedimento, en principio. Todavia no lo hemos hecho para dar a los NAF más tiempo para organizarense mej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73392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problemas com las Associaciónes de Contadores? </a:t>
            </a:r>
            <a:br>
              <a:rPr sz="44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porque la division és clara: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ción o atendimiento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simple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estudio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más comple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71600" y="762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914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5562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3808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rupos de estud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E6EA-26C1-4BDE-A5D2-31D255235E60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Dedica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362320" cy="196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239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3048120" y="3581280"/>
            <a:ext cx="300492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C540-79E0-400C-B02D-C24B33552BA6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42223" t="32223" r="9445" b="31560"/>
          <a:stretch/>
        </p:blipFill>
        <p:spPr>
          <a:xfrm>
            <a:off x="533520" y="533520"/>
            <a:ext cx="5715000" cy="2676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2286000" y="3429000"/>
            <a:ext cx="5410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 Narrow"/>
              </a:rPr>
              <a:t>Fonte: Jornal do Comércio 2/mai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800600"/>
            <a:ext cx="556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rmina no fim de abril o prazo para declaração do imposto de re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rbs-noticias76x51" descr="RBS Notíci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4952880"/>
            <a:ext cx="868320" cy="582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124080" y="5867280"/>
            <a:ext cx="54104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Narrow"/>
                <a:hlinkClick r:id="rId4"/>
              </a:rPr>
              <a:t>Vídeo: Globo – G1  11 abril 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168C-EE1A-42C5-B509-511334BDFA32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480" y="182160"/>
            <a:ext cx="87202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Facebook: Núcleos de Apoio Contábil e Fis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553080" cy="6056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172200" y="762120"/>
            <a:ext cx="2362320" cy="330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FADERGS (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niRitter (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nileste (MG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FACED (M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Novos Horizontes (M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CS Canela (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UNIPAR (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RI Fred West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CS SS Ca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495680"/>
            <a:ext cx="30481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+ Goiânia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Pequeño contribuable hoy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254240" cy="2095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6629400" y="1600200"/>
            <a:ext cx="251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li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om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Tribu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7200" y="2209680"/>
            <a:ext cx="2057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ion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638680" y="3505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90920" y="35053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14600" y="5715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23623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341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aixaDeTexto 15"/>
          <p:cNvSpPr/>
          <p:nvPr/>
        </p:nvSpPr>
        <p:spPr>
          <a:xfrm>
            <a:off x="3048120" y="13716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lobalización, Sustentabili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3962520" y="2209680"/>
            <a:ext cx="990360" cy="83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eta para cima 18"/>
          <p:cNvSpPr/>
          <p:nvPr/>
        </p:nvSpPr>
        <p:spPr>
          <a:xfrm>
            <a:off x="4343400" y="2514600"/>
            <a:ext cx="214200" cy="35712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0195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160" y="685800"/>
            <a:ext cx="906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pin-offs (ideas generadas.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endimiento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yuda al FUNCRI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icia em jui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aboración com las “EmpresasJr.” e los “SAJU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xilio a ar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ción en otros proytos de la AT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“Conheça nossa aduana”, “Cidadania em cartaz”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rincipales problemas hasta ho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esafios están asociados a la novidad de la inici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universidades tienen realidades distinctas, públicos distin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so la necessidad de no apresentar una formula cerr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ocracia nas universidades (may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ario para las palestras aos alunos – à la noche, p.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idad del contacto Univ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l de comunicación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stión del Conocomoento em red!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5DE-B901-47B2-8B76-F8417E6B5223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lgunos números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+30 NAF en oper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dicación de los alumnos y profes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 de trabajo con el EURO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is de 500 pessoas envol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tros apoyadores (CFC, SEFAZ, SEBRAE, et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mplo espacio en las midias y reds so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CCs – Moonografias de final de curso - Cecília Bauer,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uego: III ENAF RS (Encuentro de los NAF de 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remios: AMBEV – NAF Caduceu Jr – Santa 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E8E6-30AD-4CCE-82AB-54054D4A6B13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F – 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ros estados ... Otros paise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NAF Nacional ...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nsificación de los treina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mpliación de la creación academica com el AT: más TCCs, más palest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1722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pessoas fazem a História, mas raramente se dão conta do que estão fazen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5640" y="4642920"/>
            <a:ext cx="6095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hristopher L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he Sceptred Isle -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rigado!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uchas Gracia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.peres@receita.fazenda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bperes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6960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guns homens vêem as coisas como são e perguntam: “Por quê?”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u sonho com as coisas que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unca existiram e pergunto: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Por que nã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95280" y="5486040"/>
            <a:ext cx="6096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514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324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Fuente: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ooperacaovirtual.blogspot.com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 y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coworking-farialima.com.br/2011/04/coworking-colaboracao-nao-e-apenas-reducao-de-custo/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. Acesso: 30.10.1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819520" y="304920"/>
            <a:ext cx="396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09680" y="3886200"/>
            <a:ext cx="30625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85800" y="1219320"/>
            <a:ext cx="3581280" cy="23828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5791320" y="1600200"/>
            <a:ext cx="2743200" cy="2075040"/>
            <a:chOff x="5791320" y="1600200"/>
            <a:chExt cx="2743200" cy="2075040"/>
          </a:xfrm>
        </p:grpSpPr>
        <p:sp>
          <p:nvSpPr>
            <p:cNvPr id="70" name=""/>
            <p:cNvSpPr/>
            <p:nvPr/>
          </p:nvSpPr>
          <p:spPr>
            <a:xfrm>
              <a:off x="5791320" y="3398760"/>
              <a:ext cx="274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Fuente: lucianaduarte.o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5"/>
            <a:stretch/>
          </p:blipFill>
          <p:spPr>
            <a:xfrm>
              <a:off x="5822640" y="1600200"/>
              <a:ext cx="2641680" cy="174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Nuevos Paradigmas –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Receita Fed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mples Nacional y M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edes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uevo modelo de atendimento (Apps, e-CAC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stema Público de Escrituração Digital (S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-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grama Nacional de Educación Fiscal (PN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bservatorios Sociales (control del gasto pub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ucleos de Apoyo Contable y Fiscal (N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029200"/>
            <a:ext cx="8153280" cy="6094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é és?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Cómo surgi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098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81080" y="7621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Low Income Taxpayer Clinics  (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3376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2895480" cy="120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12193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781680" y="1066680"/>
            <a:ext cx="1352520" cy="1752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ucleos de Práctica Jurídica – en Brasil (SAJ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04920" y="40384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Formación practica del abo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ociedad Civil Organ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ucceso del SAJU – más de 60 años in algunos caso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ituación hoy: Obrigatoriedad legal; diferentes formas de organ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7929720" cy="436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e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EU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ax Cli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Brasileñ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A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ario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ociedad Civil Organ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poyo de instituiciones: RFB, CFC/CRC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9680" y="304920"/>
            <a:ext cx="5867280" cy="1600200"/>
            <a:chOff x="2209680" y="304920"/>
            <a:chExt cx="5867280" cy="1600200"/>
          </a:xfrm>
        </p:grpSpPr>
        <p:grpSp>
          <p:nvGrpSpPr>
            <p:cNvPr id="86" name=""/>
            <p:cNvGrpSpPr/>
            <p:nvPr/>
          </p:nvGrpSpPr>
          <p:grpSpPr>
            <a:xfrm>
              <a:off x="2209680" y="304920"/>
              <a:ext cx="5867280" cy="1600200"/>
              <a:chOff x="2209680" y="304920"/>
              <a:chExt cx="5867280" cy="1600200"/>
            </a:xfrm>
          </p:grpSpPr>
          <p:sp>
            <p:nvSpPr>
              <p:cNvPr id="87" name=""/>
              <p:cNvSpPr/>
              <p:nvPr/>
            </p:nvSpPr>
            <p:spPr>
              <a:xfrm>
                <a:off x="2285640" y="381240"/>
                <a:ext cx="38102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Talleres de práctica jurídic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09680" y="129564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09680" y="30492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360" y="381240"/>
                <a:ext cx="152280" cy="14475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7440 h 1447560"/>
                  <a:gd name="textAreaBottom" fmla="*/ 14101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10280" y="914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N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362320" y="129564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ow Income Tax Payer Clin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62120" y="380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JU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C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26:36Z</dcterms:created>
  <dc:creator>Receita Federal</dc:creator>
  <dc:description/>
  <dc:language>en-US</dc:language>
  <cp:lastModifiedBy>63054760049</cp:lastModifiedBy>
  <dcterms:modified xsi:type="dcterms:W3CDTF">2013-11-21T12:30:48Z</dcterms:modified>
  <cp:revision>55</cp:revision>
  <dc:subject/>
  <dc:title>Apresentação do PowerPoint</dc:title>
</cp:coreProperties>
</file>