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22.wmf" ContentType="image/x-wmf"/>
  <Override PartName="/ppt/media/image21.wmf" ContentType="image/x-wmf"/>
  <Override PartName="/ppt/media/image1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5D75-3AC6-4D86-964A-30EE65EBDEB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ador : agente de transform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65B1-7DD6-4DAE-A389-BDD242CCA48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igura impressionante..dimensões cósmicas de tempo e espaç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6B5C-D946-469D-90B1-F05FE002E7A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g1.globo.com/rs/rio-grande-do-sul/rbs-noticias/videos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g1.globo.com/rs/rio-grande-do-sul/rbs-noticias/videos/t/passo-fundo/v/termina-no-fim-de-abril-o-prazo-para-declaracao-do-imposto-de-renda/2513896/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operacaovirtual.blogspot.com/" TargetMode="External"/><Relationship Id="rId2" Type="http://schemas.openxmlformats.org/officeDocument/2006/relationships/hyperlink" Target="http://coworking-farialima.com.br/2011/04/coworking-colaboracao-nao-e-apenas-reducao-de-custo/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144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4114800" y="380880"/>
            <a:ext cx="480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ucleos de Apoyo Contable y Fisc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(NAF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350532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ucación Tributária y Ciudadania en la valorización del futuro Con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562720"/>
            <a:ext cx="8305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Taller regional de Educación Fiscal en el ambito de la enseñaza sup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Porto Alegre, RS, 20-22/nov/2013</a:t>
            </a:r>
            <a:r>
              <a:rPr b="0" lang="pt-BR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98108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F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pectos Teó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 Cuál és el objetivo de los NAF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poyo a los menos favorecido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poyar las personas com basos ingresos (PF o PJ) o el público interno de las universidades em questiones contables, financeras o tributári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ntro de difusión del conocimiento fiscal: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tuar como centro de aprendizaje de los alumnos a través de discusiones, preparación de palestras, grupos de estudios, entreinamentos, etc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Pontos Fuertes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és totalmente similar al modelo de los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lleres de Práctica Jurídica (SAJUs):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ilidad: Creatividad y Autonomia universitar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raestructura míni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volvimiento de los alumnos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réditos complementares, disciplina opcional/obrigatória, voluntariado, etc..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modos de actuación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1)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ndimiento/orientación del contribuable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/ó (2)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 de estudios de alumnos y professores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m lo último, atuación también a través de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lestras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ctividades voluntárias, etc. (obs: tópicos libr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cuentros regulares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 la Administración Tributaria (AT) para entrenar y compañar el desarrojo de los alumnos y apoyar los orientadores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</a:t>
            </a:r>
            <a:r>
              <a:rPr b="1" lang="pt-BR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</a:t>
            </a: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los NAF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un posto de atendimento de la Receita Federal. (Igualmente los SAJU no sustituyen los atendimientos del poder judiciário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stituyen las oficinas de cuntadoria (Igualmente, los SAJU no sustituyen las oficinas de abogado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convenio oficial entre la Receita y la Universidad (Puede haber um convenio pero es muy informal. Igualmente, los SAJU no son um Convenio entre la universidad y los organos de la justicia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La iniciativa existe en otros paise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situaciones similares en algunos paises, pero la experiencia de los NAF és única y inovadora, porque tiene los elementos de ciudadania y de gestión del conocimiento fiscal para los universitarios de forma continu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más, el proyecto tiene una flexibilidad que lo permite ser apoyada por más de un órgão de las administraciones tributarias o por cualquier entidad civi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 Solo los departamentos de contaduria tienen NAF?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las escuelas de administración, las escuelas tecnicas, etc.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restriciones, todavia el proyeto fue idealizado para valorizar el futuro profissional contador o el despachante aduan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os son la “Ponte de Oro entre la Receita Federal y el Contribuyent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 12.249 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fin” del “técnico contable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és el público-alvo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lumno és el favorecido principal. El tiene la oportunidade de vivir una formación diferenciada a través del conocimiento del Fisco, de lo trabajo voluntario, de la aprendizaje en los grupos de estudios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úblico em la comunidad varia. También varia la forma de interación com la comunid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dad local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x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dades le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tiva pasiv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x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tiva ativ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isitas a uma comunidad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ssa ultima tem se mostrado mais efetiva no inicio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también un publico “cativo” dentro de las universidades: diretorios acadêmicos, servidores com basos ingresos, pex. limpeza, vigilancia etc.).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5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F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pectos Prát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17228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Camiñante, no hay camiño.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Camiño se hace al camiñ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285640" y="4642920"/>
            <a:ext cx="6095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tonio Mach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és la mejor estrategia para desarollar nuevos nucleos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una única estrategia. Mismo porque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NAF son una iniciativa de la sociedad civil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da y tiene por su base la autonomia universitar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via, notamos que dos abordajes fueran cruciales para el rápido desarollo de la idéia desde el primer NAF en Porto Alegre, em 04 abr 1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Priorizamos el contacto con faculdades más receptivas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sas tienen mayor interés em lo diferencial que la proposta puede ofertar a los alumnos. Tienen mayor agilidad em la implementación de projetos y en su modificación. (Ex: Faculdade São Judas Tadeu, que há creado una disciplina opcional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Apuntamos desde el inicio nuestra posición de apoyadores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ctuamos a través de palestras em las faculdades y em las unidades de la AT; Incentivamos la visitacion de los alumnos a las nossas unidades de la AT (“Conociendo el León por Dentro”); Los “Termos de Cooperación” son sin formalidades (por veces no hay termo escrito al empezar!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l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838080" y="1828800"/>
            <a:ext cx="7615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texto e surgimento da idé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F – Aspectos Te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F – Aspectos Prá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siderações fi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Hay algun convenio modelo?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¿Como proceder por el primer contacto com la Universida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uno solo modelo de convenio o de procedimiento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base és la simplicidade de la abordaje y la autonomia universitária, pero hacemos una cerimonia de abertura o aula inaugural, norm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s primeiros contatos são bastante informales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rmalmente com algunas visitas a universidad para cambio de ideas y exposición del proyec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atizamos la importancia para la formación del futuro contad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altamos los varios aspectos positivos para la universidad, la AT, la comunidad y para los alumnos en espe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mbramos que la universidad és libre para crear ideas y novidades en el proyecto; ella tiene un papel activo (Ex: proyecto de minipalestras de los alumno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és la mejor estrategia para mantener los nucleos activos?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i también no hay una única estrateg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sugerencias ten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Mantener el contacto.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uchar professores e alum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Mantener uma rotina de palestras e visitas a A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Crear una red de coordenaores de cursos e miembros de la AT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Atraer otros participantes: Fisco Estadual, Associación de Contadores, Tallejeres de Contabilidad, Empresas de auditoria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antas personas hay que tenerse para apoyar el projecto? ¿Cuál es el impacto en el trabajo de la Unida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mente la unidade de la AT posee un/a servidor/a que sirve de conexión com la univers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alestras spueden ser produzidas por los colegas de especializados. Los temas abordados incluien: (a) sitio de la AT, (b) Cadastros (c) MEI, (d) Impuesto sobre las Rendas (e) Processo Admin. Tribut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impacto horas-hombre és pequeñ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es el impacto en el corto prazo?  ¿Cómo medir el resultado de la iniciativa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NAF no és uma iniciativa de corto prazo. No és la solución para problemas de atendimiento, mismo porque la At no le gerencia verticalmente. El és más similar a un proyecto en réd (para la difusion del conocimiento contable/fiscal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mos tener cuidado con el uso precoce de indicadores. Acompanhar, todavia, los alumnos, profesores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olvidarse! </a:t>
            </a:r>
            <a:r>
              <a:rPr b="1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mos en um proceso historico, construiendo  una revolución em la enseñanza contable e fisca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Puedo divulgar o serviço nos CAC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impedimento, en principio. Todavia no lo hemos hecho para dar a los NAF más tiempo para organizarense mej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373392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Hay problemas com las Associaciónes de Contadores? </a:t>
            </a:r>
            <a:br>
              <a:rPr sz="44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, porque la division és clara: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entación o atendimiento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untos simple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 de estudios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untos más comple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648320" y="3429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962520" y="4572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371600" y="7621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si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914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55627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Minipalest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3808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58672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rupos de estud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8506-D61A-40AF-9C61-377A8404D716}" type="slidenum">
              <a:rPr b="0" lang="en-US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Dedicació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362320" cy="196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3886200" cy="239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3"/>
          <a:stretch/>
        </p:blipFill>
        <p:spPr>
          <a:xfrm>
            <a:off x="3048120" y="3581280"/>
            <a:ext cx="3004920" cy="2962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DFB2-5134-48E5-8F91-68F8554D8989}" type="slidenum">
              <a:rPr b="0" lang="en-US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42223" t="32223" r="9445" b="31560"/>
          <a:stretch/>
        </p:blipFill>
        <p:spPr>
          <a:xfrm>
            <a:off x="533520" y="533520"/>
            <a:ext cx="5715000" cy="26762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2286000" y="3429000"/>
            <a:ext cx="54100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 Narrow"/>
              </a:rPr>
              <a:t>Fonte: Jornal do Comércio 2/mai/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4800600"/>
            <a:ext cx="5562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ermina no fim de abril o prazo para declaração do imposto de ren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rbs-noticias76x51" descr="RBS Notícia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4952880"/>
            <a:ext cx="868320" cy="5828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3124080" y="5867280"/>
            <a:ext cx="54104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 Narrow"/>
                <a:hlinkClick r:id="rId4"/>
              </a:rPr>
              <a:t>Vídeo: Globo – G1  11 abril 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CEFC-D7CC-4FFF-87CE-C8D13D9DEB01}" type="slidenum">
              <a:rPr b="0" lang="en-US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480" y="182160"/>
            <a:ext cx="872028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Facebook: Núcleos de Apoio Contábil e Fis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6553080" cy="6056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172200" y="762120"/>
            <a:ext cx="2362320" cy="3300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FADERGS (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UniRitter (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Unileste (MG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FACED (M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Novos Horizontes (M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UCS Canela (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UNIPAR (P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URI Fred West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+ UCS SS Ca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495680"/>
            <a:ext cx="30481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+ Goiânia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Pequeño contribuable hoy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809880" y="3200400"/>
            <a:ext cx="1254240" cy="2095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6629400" y="1600200"/>
            <a:ext cx="2514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an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guridad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li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omb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dmTribu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57200" y="2209680"/>
            <a:ext cx="2057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cion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niver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5638680" y="3505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2590920" y="35053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514600" y="57150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2"/>
          <p:cNvSpPr/>
          <p:nvPr/>
        </p:nvSpPr>
        <p:spPr>
          <a:xfrm>
            <a:off x="2362320" y="3200400"/>
            <a:ext cx="990360" cy="838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13"/>
          <p:cNvSpPr/>
          <p:nvPr/>
        </p:nvSpPr>
        <p:spPr>
          <a:xfrm>
            <a:off x="5334120" y="3200400"/>
            <a:ext cx="990360" cy="838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CaixaDeTexto 15"/>
          <p:cNvSpPr/>
          <p:nvPr/>
        </p:nvSpPr>
        <p:spPr>
          <a:xfrm>
            <a:off x="3048120" y="13716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lobalización, Sustentabili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11"/>
          <p:cNvSpPr/>
          <p:nvPr/>
        </p:nvSpPr>
        <p:spPr>
          <a:xfrm>
            <a:off x="3962520" y="2209680"/>
            <a:ext cx="990360" cy="8384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eta para cima 18"/>
          <p:cNvSpPr/>
          <p:nvPr/>
        </p:nvSpPr>
        <p:spPr>
          <a:xfrm>
            <a:off x="4343400" y="2514600"/>
            <a:ext cx="214200" cy="357120"/>
          </a:xfrm>
          <a:prstGeom prst="upArrow">
            <a:avLst>
              <a:gd name="adj1" fmla="val 50000"/>
              <a:gd name="adj2" fmla="val 5001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601956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160" y="685800"/>
            <a:ext cx="9067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pin-offs (ideas generadas..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inipales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tendimiento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yuda al FUNCRI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ericia em jui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laboración com las “EmpresasJr.” e los “SAJU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uxilio a ar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cipación en otros proytos de la AT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“Conheça nossa aduana”, “Cidadania em cartaz”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principales problemas hasta ho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desafios están asociados a la novidad de la iniciati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universidades tienen realidades distinctas, públicos distinc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so la necessidad de no apresentar una formula cerra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general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ocracia nas universidades (may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ario para las palestras aos alunos – à la noche, p.e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idad del contacto Univ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l de comunicación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stión del Conocomoento em red!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AD70-E478-41BF-8C75-5B515B3928A9}" type="slidenum">
              <a:rPr b="0" lang="en-US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Algunos números 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+30 NAF en oper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edicación de los alumnos y profes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lan de trabajo con el EUROSO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Mais de 500 pessoas envol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tros apoyadores (CFC, SEFAZ, SEBRAE, etc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mplo espacio en las midias y reds so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TCCs – Moonografias de final de curso - Cecília Bauer, 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uego: III ENAF RS (Encuentro de los NAF de 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remios: AMBEV – NAF Caduceu Jr – Santa 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ço Reservado para Número de Slide 5"/>
          <p:cNvSpPr/>
          <p:nvPr/>
        </p:nvSpPr>
        <p:spPr>
          <a:xfrm>
            <a:off x="6553080" y="6499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58D9-2898-4174-B6F8-1C3D38F64C51}" type="slidenum">
              <a:rPr b="0" lang="en-US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F –  Fut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Otros estados ... Otros paise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ENAF Nacional ... Interna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Intensificación de los treina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mpliación de la creación academica com el AT: más TCCs, más palestr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17228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 pessoas fazem a História, mas raramente se dão conta do que estão fazen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285640" y="4642920"/>
            <a:ext cx="6095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hristopher L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he Sceptred Isle - Emp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brigado!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uchas Gracia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lovis.peres@receita.fazenda.gov.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lovisbperes@gmai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69608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lguns homens vêem as coisas como são e perguntam: “Por quê?”.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u sonho com as coisas que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unca existiram e pergunto: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“Por que nã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95280" y="5486040"/>
            <a:ext cx="60962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George Bernard Sh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7086600" y="4572000"/>
            <a:ext cx="15145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63244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Fuente: </a:t>
            </a:r>
            <a:r>
              <a:rPr b="0" lang="pt-BR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ooperacaovirtual.blogspot.com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 y </a:t>
            </a:r>
            <a:r>
              <a:rPr b="0" lang="pt-BR" sz="1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coworking-farialima.com.br/2011/04/coworking-colaboracao-nao-e-apenas-reducao-de-custo/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. Acesso: 30.10.1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2819520" y="304920"/>
            <a:ext cx="3962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09680" y="3886200"/>
            <a:ext cx="3062520" cy="2293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85800" y="1219320"/>
            <a:ext cx="3581280" cy="238284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5791320" y="1600200"/>
            <a:ext cx="2743200" cy="2075040"/>
            <a:chOff x="5791320" y="1600200"/>
            <a:chExt cx="2743200" cy="2075040"/>
          </a:xfrm>
        </p:grpSpPr>
        <p:sp>
          <p:nvSpPr>
            <p:cNvPr id="70" name=""/>
            <p:cNvSpPr/>
            <p:nvPr/>
          </p:nvSpPr>
          <p:spPr>
            <a:xfrm>
              <a:off x="5791320" y="3398760"/>
              <a:ext cx="274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Fuente: lucianaduarte.o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5"/>
            <a:stretch/>
          </p:blipFill>
          <p:spPr>
            <a:xfrm>
              <a:off x="5822640" y="1600200"/>
              <a:ext cx="2641680" cy="174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Nuevos Paradigmas –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Receita Fed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imples Nacional y M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Redes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uevo modelo de atendimento (Apps, e-CAC,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istema Público de Escrituração Digital (S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-pro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rograma Nacional de Educación Fiscal (PN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Observatorios Sociales (control del gasto publ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Nucleos de Apoyo Contable y Fiscal (N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029200"/>
            <a:ext cx="8153280" cy="6094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AF 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Qué és?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Cómo surgió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05920" cy="4098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81080" y="7621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Low Income Taxpayer Clinics  (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1733760" cy="1600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114800" y="2514600"/>
            <a:ext cx="2895480" cy="1209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209680" y="1219320"/>
            <a:ext cx="1743120" cy="1752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781680" y="1066680"/>
            <a:ext cx="1352520" cy="1752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90720" y="3808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ucleos de Práctica Jurídica – en Brasil (SAJ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04920" y="4038480"/>
            <a:ext cx="8686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Formación practica del abog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Sociedad Civil Organ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Succeso del SAJU – más de 60 años in algunos caso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Situación hoy: Obrigatoriedad legal; diferentes formas de organ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7929720" cy="436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Base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alidad EUA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Tax Cli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alidad Brasileña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 SAJ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ario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: Sociedad Civil Organ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Apoyo de instituiciones: RFB, CFC/CRC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209680" y="304920"/>
            <a:ext cx="5867280" cy="1600200"/>
            <a:chOff x="2209680" y="304920"/>
            <a:chExt cx="5867280" cy="1600200"/>
          </a:xfrm>
        </p:grpSpPr>
        <p:grpSp>
          <p:nvGrpSpPr>
            <p:cNvPr id="86" name=""/>
            <p:cNvGrpSpPr/>
            <p:nvPr/>
          </p:nvGrpSpPr>
          <p:grpSpPr>
            <a:xfrm>
              <a:off x="2209680" y="304920"/>
              <a:ext cx="5867280" cy="1600200"/>
              <a:chOff x="2209680" y="304920"/>
              <a:chExt cx="5867280" cy="1600200"/>
            </a:xfrm>
          </p:grpSpPr>
          <p:sp>
            <p:nvSpPr>
              <p:cNvPr id="87" name=""/>
              <p:cNvSpPr/>
              <p:nvPr/>
            </p:nvSpPr>
            <p:spPr>
              <a:xfrm>
                <a:off x="2285640" y="381240"/>
                <a:ext cx="381024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Talleres de práctica jurídica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09680" y="1295640"/>
                <a:ext cx="4267080" cy="609480"/>
              </a:xfrm>
              <a:prstGeom prst="rect">
                <a:avLst/>
              </a:prstGeom>
              <a:noFill/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09680" y="304920"/>
                <a:ext cx="4267080" cy="609480"/>
              </a:xfrm>
              <a:prstGeom prst="rect">
                <a:avLst/>
              </a:prstGeom>
              <a:noFill/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705360" y="381240"/>
                <a:ext cx="152280" cy="144756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37440 h 1447560"/>
                  <a:gd name="textAreaBottom" fmla="*/ 1410120 h 14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10280" y="9144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NA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362320" y="129564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Low Income Tax Payer Clin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62120" y="3808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JU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3716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TC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6:26:36Z</dcterms:created>
  <dc:creator>Receita Federal</dc:creator>
  <dc:description/>
  <dc:language>en-US</dc:language>
  <cp:lastModifiedBy>63054760049</cp:lastModifiedBy>
  <dcterms:modified xsi:type="dcterms:W3CDTF">2013-11-21T12:30:48Z</dcterms:modified>
  <cp:revision>55</cp:revision>
  <dc:subject/>
  <dc:title>Apresentação do PowerPoint</dc:title>
</cp:coreProperties>
</file>