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973A-6B7C-4707-8078-93C06DD96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61D2-97ED-4110-BBE8-F4366B10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C11B-7517-4E29-92D5-960A5DE20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1610-214E-4B8D-A698-5DFC5F086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515D-BC07-4DB9-81B0-85ECDFB44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7B8D-E1E5-4AAE-8AA0-EFC362F17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A7F2-81C2-4034-9228-FDA2EF16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F843-C48C-4B4B-90E4-CE9CBEA73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C556-C564-4CCF-A0B0-E61339A79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9F84-478B-4DF1-9F41-79CFE920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1853-B3CB-436C-8279-338DE8C5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5DF8-5B82-4573-8FFF-4A884C59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50C6F8-DD63-41E4-A1E1-A5E34CCE1EB0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-59040"/>
            <a:ext cx="907092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UROsociAL II (2010-2014)</a:t>
            </a:r>
            <a:br>
              <a:rPr sz="2200"/>
            </a:b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orto Alegre – BR, Novembro de 2013</a:t>
            </a:r>
            <a:br>
              <a:rPr sz="2200"/>
            </a:br>
            <a:br>
              <a:rPr sz="2400"/>
            </a:br>
            <a:br>
              <a:rPr sz="24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ERLING, Marcelo Arno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'La ciudad constitucional: Capital de la República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render com as experiências: Estrategias conjuntas entre administração fiscal e instituições de ensino superi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cidade constitucional - (Calvino)</a:t>
            </a:r>
            <a:br>
              <a:rPr sz="2200"/>
            </a:b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'Quem lê muito e anda muito, vê muito e sabe muito' - (Cervant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conhecimento – aproximação do homem com o seu grupo em meio à natureza circunda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SB - Patrimônio Cultural da Humanida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xtens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nsi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esqui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Flexibilización curricular, didática, pedagógica: Método – PPP de GPP – EACH/USP – ESAF – UFABC – P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ducação para a participação dos estudantes 'superiores' na vida da República – conhecer as instituciones; intervenir; estrategia conjunta de educación fiscal (Arrebatados – 12 hor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cidade constitucional: Capital da Repú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iagen didatica – 'Semana da Pátria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tembro 2006-2013 (SP-BSB-S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6 encuentros de 04 horas em el aula x 01 semana imers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07 dias, 12 horas atividade, transporte, comida y aloy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ticipantes: 40, 80, 120 académ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lección por créd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cidade constitu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ventos marcantes (2) no ensino superi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'momento no qual as 'coisas/teorias' fazem sentido'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Interdisciplinar com enfase na Gestão das Políticas Públic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Gobernanza y governabili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Rotei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Logíst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ecursos públicos existentes – baixo custo e grande impac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ecursos Humanos (agentes políticos, administrativos, assessor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ecursos Materiais (Auditórios, som, luz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resupuesto y programación funcional programatico - proyectos y acciones: gestión de las políticas pública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íntese: Organização do Estado; Origem, aplicação e controle dos recursos públicos; Programas, projetos, atividades e ações. Descentralização e orçamento funcional programát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edagogia da participação pop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abilidades cognitivas e atitudi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773000"/>
            <a:ext cx="9070920" cy="4981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Habilidade específica: Comportamento fiscal; Educación fiscal (personalidade, cidadania, profissionalizaçã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Fortalecer a coesão socia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Governo, universidade e estudantes de gradu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ducación Fisca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ompartilhar conhecimentos e </a:t>
            </a:r>
            <a:r>
              <a:rPr b="1" lang="pt-BR" sz="2600" spc="-1" strike="noStrike" u="sng">
                <a:solidFill>
                  <a:srgbClr val="000000"/>
                </a:solidFill>
                <a:uFillTx/>
                <a:latin typeface="Arial"/>
              </a:rPr>
              <a:t>interagir com a sociedade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sobre a </a:t>
            </a:r>
            <a:r>
              <a:rPr b="0" lang="pt-BR" sz="2600" spc="-1" strike="noStrike" u="sng">
                <a:solidFill>
                  <a:srgbClr val="000000"/>
                </a:solidFill>
                <a:uFillTx/>
                <a:latin typeface="Arial"/>
              </a:rPr>
              <a:t>origem, aplicação e controle dos recursos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úblicos, favorecendo a participação social”. (ESAF-BR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Meta, síntese e avaliaçã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714320"/>
            <a:ext cx="9070920" cy="5097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tribuir para a melhoria da gestão de programas e projetos de políticas públicas com o apoio dos estudantes do ensino superi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lhorar o diálogo entre o governo e a sociedad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oyar el control institucional y el control social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ntender o ciclo da gestão: Formulação, avaliação e implementação das 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valiação da disciplina: Prova para a socie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ublicação relatório internet com fotograf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ttp://ricardomatheus.blogspot.com.br/2013/11/larissa-matheus-cidade-constitucional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0T15:28:57Z</dcterms:created>
  <dc:creator>Marcelo Arno Nerling</dc:creator>
  <dc:description/>
  <dc:language>en-US</dc:language>
  <cp:lastModifiedBy/>
  <cp:revision>1</cp:revision>
  <dc:subject/>
  <dc:title/>
</cp:coreProperties>
</file>