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DC3-741B-4048-84DA-D44DE2EB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129-B751-4CB9-8917-32EEB037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97C-8500-43C8-97B3-32D0DFE7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7C1-787C-456F-8524-AD98242F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0A6-3491-4D3D-A62D-73E9D5A1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F9B-FB42-4D00-8251-63DB74D0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19F-79D3-424D-9847-77F35B8B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422-34EB-40F8-A828-24C62CB9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F6B-BBC3-43DB-9FEB-699F3DB0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9E1-4167-4E8C-AC00-F65824B8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550-21ED-447B-98E8-094EE3CF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465-1D6D-4DAC-B3FC-B5617B75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4D917-173A-4A6E-AB26-C4F3F38C27E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-59040"/>
            <a:ext cx="90709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UROsociAL II (2010-2014)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to Alegre – BR, Novembro de 2013</a:t>
            </a:r>
            <a:br>
              <a:rPr sz="2200"/>
            </a:br>
            <a:br>
              <a:rPr sz="24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RLING, Marcelo Arn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La ciudad constitucional: Capital de la Repúblic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er com as experiências: Estrategias conjuntas entre administração fiscal e instituições de ensino 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idade constitucional - (Calvino)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'Quem lê muito e anda muito, vê muito e sabe muito' - (Cerva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nhecimento – aproximação do homem com o seu grupo em meio à natureza circund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SB - Patrimônio Cultural da Human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ten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si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lexibilización curricular, didática, pedagógica: Método – PPP de GPP – EACH/USP – ESAF – UFABC – P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ducação para a participação dos estudantes 'superiores' na vida da República – conhecer as instituciones; intervenir; estrategia conjunta de educación fiscal (Arrebatados – 12 ho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idade constitucional: Capital d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agen didatica – 'Semana da Pátri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tembro 2006-2013 (SP-BSB-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6 encuentros de 04 horas em el aula x 01 semana imer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7 dias, 12 horas atividade, transporte, comida y aloy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ipantes: 40, 80, 120 acadé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cción por créd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idade co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entos marcantes (2) no ensino sup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'momento no qual as 'coisas/teorias' fazem sentido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erdisciplinar com enfase na Gestão das Políticas Públ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obernanza y governabi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ogís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ursos públicos existentes – baixo custo e grande impa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ursos Humanos (agentes políticos, administrativos, assesso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ursos Materiais (Auditórios, som, lu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supuesto y programación funcional programatico - proyectos y acciones: gestión de las políticas públic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íntese: Organização do Estado; Origem, aplicação e controle dos recursos públicos; Programas, projetos, atividades e ações. Descentralização e orçamento funcional programá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dagogia da participação pop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bilidades cognitivas e atitud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773000"/>
            <a:ext cx="9070920" cy="49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Habilidade específica: Comportamento fiscal; Educación fiscal (personalidade, cidadania, profissionalizaçã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ortalecer a coesão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overno, universidade e estudantes de grad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ducación Fis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artilhar conhecimentos e </a:t>
            </a:r>
            <a:r>
              <a:rPr b="1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interagir com a socieda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obre a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origem, aplicação e controle dos recurs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úblicos, favorecendo a participação social”. (ESAF-BR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eta, síntese e avali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14320"/>
            <a:ext cx="907092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ibuir para a melhoria da gestão de programas e projetos de políticas públicas com o apoio dos estudantes do ensino sup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ar o diálogo entre o governo e a socie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oyar el control institucional y el control so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ender o ciclo da gestão: Formulação, avaliação e implementação das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ção da disciplina: Prova para a socie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ublicação relatório internet com fotograf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ttp://ricardomatheus.blogspot.com.br/2013/11/larissa-matheus-cidade-constituciona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5:28:57Z</dcterms:created>
  <dc:creator>Marcelo Arno Nerling</dc:creator>
  <dc:description/>
  <dc:language>en-US</dc:language>
  <cp:lastModifiedBy/>
  <cp:revision>1</cp:revision>
  <dc:subject/>
  <dc:title/>
</cp:coreProperties>
</file>