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64D-94FE-4D73-B2E1-BCCE2225F3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1EA-37E0-4AB5-8429-C0F233AEDC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59F-45DF-40D5-8CF1-88221D027D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0AB-3852-4103-82A4-9860626BE5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D5F-A8B4-4D94-B595-BD31D07733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B14-86B6-4095-8D5D-ED0522E82B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1B81-1D30-49BA-B159-CF2E0A85F5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DA0-1B25-47E1-B83F-D67FB738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782-1C56-4EB3-86A4-63B8C1D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DD6F-3538-4B04-BC2C-AA7FCC3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8FDF5-74AD-4D3F-AFD3-079C340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1CFC3-1136-492B-ABBB-15892AE9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91F9F-2ED7-446F-BBA9-8D7F0D6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F98F8-E215-4DBF-9627-5662046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3F8D-0E33-4F24-AA4E-B9903FB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427AA-8C0D-4ADC-9E24-B63FDC0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BFBD4-6445-4566-AD53-1819A587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739B1-B59B-43AC-8FD9-052522A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70155-5B14-4137-8C1B-1E3463D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01A-E101-48FE-B037-A56266B4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CC992-0102-4F9D-95BC-AF094C6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5F17-29A2-450B-A93B-44CDC7B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B540-8E79-4C44-AB73-BDC0041B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9581-EC1B-4EFC-A408-B58129F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25C7B-0BA8-417E-8A3B-1A37FF4A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DD8AF-9318-4F81-8536-F05DDBC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83F8-57A1-4BD1-80F4-F145995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3F76D-0805-4A4F-A47A-D27B7E0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4EF3-B27B-4BFF-891D-D654EA8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B749F-4BE5-4FF8-BE67-E3D3EF9E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968-2570-46E1-9238-DE47E196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1BAF2-FF0E-4652-9E7B-7713DAB9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36C0-423A-4A18-92B3-29E9CD5A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179B-C75C-4A04-95EE-2B0FF2A7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A7CB6-6A0E-43C1-BC01-773A9D32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719E9-BBC6-4206-966B-ABDBF96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DBAAC-C8E8-42F0-9D95-B0C76EE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8F82-8285-457F-AD4B-3AB479DA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72ECC-3583-4B3F-820A-E4D6F33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6FDCC-8875-42E0-9B70-B9AA7E7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97AD6-D51A-4C80-8B78-C3CD05C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D89-6FE5-4E38-B5BE-0400EC09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E632-CD41-4E07-BA66-1C6654B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C356-B9D5-45F7-8823-D8032DAD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B5236-11DD-432B-BE00-02ADCE8F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A5975-9485-46FB-BDA3-BB9DBABB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C45C6-8536-4A40-9C35-5FC3F40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9CD1C-A1A3-434D-8D67-43D617F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BD3F5-F08D-42E5-BD3D-99EA6B1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75B1A-8E96-47FA-8A55-53CAAE3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3F068-3773-44BB-BE36-9901B815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BC890-02B3-4619-96BC-BA85624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4B0-A637-464B-9B3A-073B662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2D324-72A1-416C-982F-4AEF13B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ADEA4-AEED-47BE-9958-27FBDEF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81C2E-28C1-46F9-8CDE-2936358B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22399-830C-47C7-B4A3-8F05B56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86A3-7770-4C2A-B8FD-BA76E067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1497D-A89F-40E1-A75E-E117F75C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C3E23-4A80-4F74-A937-788A9A2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8BCCD-168E-47BC-BCC6-6BDB4FE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EE046-53B8-49BD-A48D-BBEB34B9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2E1C6-886B-4A02-8F7D-132983B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4C5-63C5-40EA-A8DA-F3D7FD9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6965D-CCC2-4CC9-8522-F67D632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2F575-56F0-4F4A-AF04-54C6A5D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8A3B6-ED7C-4072-8E41-D6FEC4C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7F2FC-6148-4227-804D-BB4E4C3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9355F-7AD3-4ACC-84CB-6072A20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B24A5-5E90-4AC1-8350-A1B5743B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DCB47-048D-46DA-B848-0D6B030C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B3378-0AA0-43FE-949B-CCC8256E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2ADD2-4DFC-4D5C-9E24-E9EA0A56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3B890-833C-4DF1-B1BC-0F80D1CC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EB28-C14C-4DE1-8ACD-1FE02935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95279-A1CE-4A5D-ABEE-3F3DFF59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B6C10-7255-4DC2-9C9F-6717AD98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F1801-6AB7-4C38-BEF2-FCD95EE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7141F-9F0C-4909-AE6D-0A91C03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8C01B-3F5A-4D49-A1BF-B74AB1D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9843F-1AB5-4B30-A58E-477A9EB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28A18-86C5-4A63-B2E4-38516354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786E4-9484-4B82-8761-88114178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16A34-BA67-4746-919D-7E7E13B3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3996-8BF1-4FC3-ACC4-9E5C21E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6E8A-CCFB-4CD4-B040-E714D76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D1D-BC40-4664-90B2-820D218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DD6-9920-4C04-95FC-05FD789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C19-3D81-4AA6-8DEC-F3DE389E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E52-AF8B-44ED-BBEA-9BD86EE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A29-E016-42D0-85AD-E8D740CE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DE3-30AB-41DE-BB95-264DF816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AF9-565C-4721-87BA-71A07683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A981-1385-4706-A4AC-6D0A682A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A98D-BA7A-4442-914C-E2A2940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0239-4E00-4567-8A29-0553A45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6DDE-1379-46DC-BDC4-E8BBA516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A621-D611-434C-839E-FA01AF7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5C2-9B06-4F40-A056-0397733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ED23-7AF3-426B-98A2-7273FAB7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6C5D-A90D-45C2-A10B-3213ACD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4198-870A-4754-8730-8CCE27F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ADD0-5ACB-4F5E-804A-12F7512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8717-679A-4AB9-B23C-A7B1EEE3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83C8-FE3A-4226-AF2C-0046D8FA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BA6E-B4E8-4358-8C5F-DFB29F78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831B-49DE-41F6-B231-11909B5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7CD5-AD65-418A-BE09-5C8DA50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E0A9-C464-4EAE-8581-63F8936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3A1-B47F-4310-B814-1E0F6286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88A6-B92A-4827-8382-ABBF744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2F75-6118-41F1-9009-8CBB5B4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332E-2568-499B-BDE2-F0B980CE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5BFB-F58B-418F-ACDA-CB2ECBA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AEB2-9291-4074-BC67-3B9AF84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43A1-12E3-4283-935B-7B7CF61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EE6A-0C83-436E-B7CF-5EF0CE5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60DA-9034-4EB2-A9D5-55BAADB1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1E0D-EA65-43A8-BFA7-2487AC66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F727-CD70-45DA-9E81-ED95022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AC2-D3C8-47E9-92C4-F01F6C7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6E45-987A-43B7-994C-8E7EF826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315F-9A47-4915-BD49-81AC06A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F4E1-D164-4AEB-96F8-C747FA9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9D8D-9B85-42A3-B2F3-3AFFD074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2FA9-9ACC-49AB-A5C2-D46C258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21AE-DC1C-44F6-B58D-151BD52E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F9DF7-3609-4791-B80D-D02D23E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BEAF-4A47-4F7D-B305-108EF08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6334-2F17-4CAE-934D-8FB0472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41A1-F411-46EE-8856-CADA2DA9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A95-394A-4C78-86E0-E18E47D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8EBD-5918-4AB2-AD60-7E9B6BEA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E98E-696A-4987-A0E4-54377E2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59ED-8BEA-4A52-8605-C93C009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B574-BB43-46F6-978F-2C7ED64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73B5-B011-4459-98A7-5A166D1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21E8-35F6-4960-BE12-202A2BB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DEB8-2178-4680-B308-432F20B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767B-A3B6-4CD5-A419-80EB18B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3C0D-A9D1-4ADC-A448-DAA1E4D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86263-5A82-4CB6-A593-6C19E02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9DA-8142-461A-B9DB-1411B67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EE0F-E2FC-47B2-9B0F-F831CF25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9432-7D26-4E34-95C0-58058F49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60D0-5D94-4088-8CEF-1FF3020A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CC424-2607-411A-8141-ABDB467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A982C-0087-4503-AED5-3C838BC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7BC1-60E3-4FCB-800A-3CE6543B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50DC-68E8-4F4A-9EAE-C7A605FC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BDD0-4CCC-4E10-934D-54F7F35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9492-95EA-4109-A35C-3EE09FA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59DC1-BD78-46E7-8DD6-BD5B322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1B-03C6-4E49-B008-F9B84B0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76E2-3C0A-4A2F-AF3B-984B20C0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998E1-BB9D-426C-9941-88710FA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CEC0-2990-441E-9A26-77F0C458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06229-9836-4331-9E90-6C9EA569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33423-B42D-4A7D-B5E0-514C433E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4D62-8BFB-47A5-BDC0-C3030597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EDAD2-7F16-46C4-B6F1-0AEB343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21171-6FC9-4E72-852F-09EC6F7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DE66D-0B3A-48EA-BD75-3084BCC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0170-9128-4F97-88AC-919ECD6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648-46AA-4A56-9CB0-E581290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BED98-F183-4AC8-8A84-D3D49A64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C4FE-6572-4E22-B2A6-E494A28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8323-244E-4B7D-BBFB-22B4277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996E2-F34E-44E0-8CE5-0EFE069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24796-F8FE-4B96-BA9C-D1C8548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4F29-51D0-4F65-ACD0-86ED80C6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9E45-66AA-4C13-9009-8E2B9356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5DD7E-85DB-4D34-8844-8B285688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98C12-DE4F-4D1E-BD67-20B6196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8DEB-6635-4D05-85F7-83089C3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4AB-BC21-4095-9BBA-28EEE9E5CBF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0238-686C-41DF-A408-46F2AC80AE9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A73A-9194-4F3A-AD49-E1011262FA4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26BA-4619-488E-BC42-3F667080321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B865-41BB-4A67-975F-373C37354FF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3AA-01B1-4CEE-951F-42CA79CE61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560-0C16-46EA-884E-7A90D1D5779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189B-D53D-4F50-B86C-D9355E1401C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6909-EBD0-45D6-8957-CC67A080990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A84-D366-4DAF-956A-840BC3788C6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482-D0BC-427C-854E-763C0941696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00D-3D14-4182-A1F5-5F37E217776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56C1-51A3-406D-BE0B-9B604DA7F43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97D-1FE3-41B0-9B8B-0FD5EA66BCE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630-2E3A-4174-B8F6-8CC7788E065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4241-E892-4C98-B2F9-CDED2B6B339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0D5-0880-495F-83FE-319EC7D50D2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C549-B57F-4390-AB6E-A9588C7B22D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02A1-DD05-4863-AF87-F45BF9603B9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7990-8361-497F-A4E2-11F408A8C6A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884-CA1E-4044-A7AF-42F30FA13DF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DC99-6358-442C-8692-9A65E1F2CB6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4C1D-84E8-4681-970A-D8A6F12F58B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A27-07AB-472B-9C4F-0C21B3F4B2A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9EF-582B-41DA-9FC5-F2F8A691BAC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22C7-0CAA-4D43-A0A6-9B29924F081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351-A5BE-44A6-BEAE-61D3180ACCE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CA4-A268-4A06-B7CB-BE4753D84CF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760320" y="195732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vance adaptación Guía Universitarios del SAT de México a la realidad de Ch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 Rectángulo"/>
          <p:cNvSpPr/>
          <p:nvPr/>
        </p:nvSpPr>
        <p:spPr>
          <a:xfrm>
            <a:off x="3897360" y="1749600"/>
            <a:ext cx="475920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esde el 2005 al 2011 el Programa de Educación Fiscal del SII se concentra en educación bás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2011 se establece como meta institucional abarcar todos los niveles de educación. (Hasta el 201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urante el 2012 se lanza la etapa de educación media, con “El debut de la banda” y el 2013 con etapa “Jóvenes” en sitio web www.siieduca.c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establece como meta lanzar el 2014 (marzo) etapa de educación superio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identifica trabajo del SAT de México como referente y se gestiona adaptación de Guía para universitario, a través de la coordinación de 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realiza alianza estratégica con Instituto profesional AIEP, de la Universidad Andrés Bello, Escuela de Negocios 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C:\Users\Jorge\Desktop\GUIA DE ESTUDIO PARA LA ASIGNATURA FORMACIÓN E INFORMACIÓN TRIBUTARIA (2)-1.jpg"/>
          <p:cNvPicPr/>
          <p:nvPr/>
        </p:nvPicPr>
        <p:blipFill>
          <a:blip r:embed="rId2"/>
          <a:stretch/>
        </p:blipFill>
        <p:spPr>
          <a:xfrm>
            <a:off x="938160" y="1886040"/>
            <a:ext cx="278928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6 Rectángulo"/>
          <p:cNvSpPr/>
          <p:nvPr/>
        </p:nvSpPr>
        <p:spPr>
          <a:xfrm>
            <a:off x="782640" y="749160"/>
            <a:ext cx="76312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a SAT de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Revisión de Contenidos de Guía para universitari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propuesta de contenidos a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propuesta de México e identificación de necesidades de conteni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5.- Generación de metodologí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6.- Propuesta de cronogram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Envío de información y generación de adap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Revisión y validación de contenidos, expertos SII y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9.- Revisión final del material (versión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0.- Maque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1.- Adaptación a módulo online en currículo de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2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6 Rectángulo"/>
          <p:cNvSpPr/>
          <p:nvPr/>
        </p:nvSpPr>
        <p:spPr>
          <a:xfrm>
            <a:off x="684360" y="965160"/>
            <a:ext cx="76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ntenidos Anexad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0" name="2 Rectángulo"/>
          <p:cNvSpPr/>
          <p:nvPr/>
        </p:nvSpPr>
        <p:spPr>
          <a:xfrm>
            <a:off x="728640" y="1371600"/>
            <a:ext cx="754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1. Ética y Cultura Tributar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2.- Antecedentes de los Organismos públicos del sistema tributari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1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2 Servicio Nacional de Aduan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3 Tribunales Tributarios y Aduaner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3. Bases jurídica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1 Bases constitucion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Garantías constitucionales referentes a la tributación en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 Bases leg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Códig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2 Ley de Impuesto a la Rent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3 Ley de Impuesto al valor agregado (IVA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4 Ley sobre cumplimient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5 Ley Orgánica del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6 Ley que Fortalece y Perfecciona la Jurisdicción Tributaria y Aduaner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7 Ley de Transparenc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4. Antecedentes históricos de los impuest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5. Tipos de Impuest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6. Creación de empresa en un día (RES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7. Principales trámites en el SII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8. Factura Electrónic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2" descr=""/>
          <p:cNvPicPr/>
          <p:nvPr/>
        </p:nvPicPr>
        <p:blipFill>
          <a:blip r:embed="rId1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  <p:sp>
        <p:nvSpPr>
          <p:cNvPr id="602" name="1 CuadroTexto"/>
          <p:cNvSpPr/>
          <p:nvPr/>
        </p:nvSpPr>
        <p:spPr>
          <a:xfrm>
            <a:off x="587520" y="1566720"/>
            <a:ext cx="791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nvío de información para el trabajo de adaptación comenzará la semana del 25 de noviembre de 2013, con plazos para construcción, revisión y corrección del materi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 espera tener la versión final de la Guía adaptada y maquetada en febrero de 2014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0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3B5-D195-43D8-A820-A96EFBEB918E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2:00:52Z</dcterms:modified>
  <cp:revision>2119</cp:revision>
  <dc:subject/>
  <dc:title>Diapositiva 1</dc:title>
</cp:coreProperties>
</file>