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FF5F-1811-498B-AA62-C5758FB107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7FDE-524E-46A5-8E52-F5FE1F3330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0FF0-B73A-4E9B-BB82-A96D3FE8A4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6C5-09D7-46F0-BAED-25F1D165BC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A94D-425E-491B-9C87-2883931428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89F-9969-40D8-ADB8-7DBCFD5CCC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32D1-6C41-418B-8186-07766CA42B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852-4AAF-41A0-A6DA-951633EB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066-D8BC-4E08-A51E-487C2E87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D1A7D-C873-40B2-A9C9-D5892065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0F7EA-F8F7-47BE-ADBB-93063376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036DE-C93D-4318-B156-E725BEDE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5576D-EB2A-4A04-A0E0-86BDA74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2E9F2-095D-4A7D-996B-76B1ABA5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1A57F-2154-4E4F-A80F-0D82854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79013-D490-4864-852D-83FC3CBD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F7D0F-30E8-4F87-800D-3F51C269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A290C-CA3A-4F1A-B6DC-AAFD5729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5628D-E865-43DA-B715-BB67A2C2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13F-B4E2-4AE9-A6A8-0068074C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9ED81-2DE6-4700-B616-C84B234D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B6DD1-EF9D-4FE6-BEA6-9B394706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DC86B-5773-4FCB-A816-7F92A247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9D30D-5349-4478-AE76-2EB204CA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7C630-4231-4FCA-9FBE-0152AAB0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AFA7E-9FD2-45C1-A002-CD19BAEF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C19B7-9C42-4699-AFDF-C1DF0FB5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712FE-F10D-4DE5-A9E1-E6448849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86DDC-28A5-4558-8FAA-E90584D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8570E-8784-4170-90C5-E2F49575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2BB-CD2E-4E3E-B0FC-A0D92C23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3A0B8-ED3C-45CB-8D35-C9B852DC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BCEB8-386D-47A5-8747-CA369CFC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29D60-6DD1-4A9D-8BD5-40DF62E5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1E860-5C75-440A-BBDA-EFA94251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7167B-29D2-4A6F-B871-3D87E3B5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0F1B2-6220-42C2-9975-AE5A576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B4D7F-39C7-482D-86BF-26C1A1A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810A3-0240-43DB-9738-CD7774F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8160-AC5F-489A-A9DA-3AC989F6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808B0-9336-4D45-A47F-455818D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5B01-C5DC-458C-BCE3-99040573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3111B-1019-409E-9379-9317292B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1129A-B4BC-4A43-B858-4540BD0D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D6AA7-B054-4047-9BE2-53B02753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9E6D5-B5EE-4F86-834C-7C6863F3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9C20C-3D04-4287-B09C-C0F4EAD1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609E5-5B14-4B2D-9715-3C09599A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3A5FA-4633-4C71-85A6-CF4CEF89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AEA37-5086-4FA8-8034-690A8F8B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77F83-FD5C-402E-9A92-5B27C25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0C47F-0806-42DD-B773-924F219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6914-CD8C-4FCD-A456-EFB67CCB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4FAC5-8509-4ABC-80EA-B94A39C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3A8DF-4A30-46E1-AA6A-6A521E23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FBFD1-693E-4EE5-9992-5A204207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64F54-7A59-4636-B275-B6F2A496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45B01-43D3-4954-9AE1-09CCCE6C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15866-0096-4ECA-B0A7-623AE2DE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21C24-B102-4913-B1F3-35ED66C3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05061-AB4F-440E-B702-F2D7DDA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BEBF9-0CD4-4538-9BEA-19A06A16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1BA01-A8A3-40BE-A052-773F6F8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A208-C62D-40DD-A66E-76B619E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8C15B-832F-4ABC-869A-88791BE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61A46-1430-4542-976D-24D648B3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E8137-A73E-4161-80E5-B99F058F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2648F-953D-4350-9F94-E2FECBB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C260E-DD90-4AE2-ABC9-30994001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8A6BF-9970-41A1-BA9E-82A19744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54AC3-E1AE-4477-BB4E-94F96554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14627-9F06-4BB7-ABF4-0E10E2F0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A1B18-F55B-4826-A7EA-C7E07984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760C9-B86E-4588-A3F5-B5D32117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F642-3B95-4086-89BD-8D1EDD5B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51E3D-CC8B-4027-AFBF-4016D510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48273-6FDB-4432-8698-35EA35C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E654C-716C-41BE-953E-7E28279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242FC-3089-4CAB-AA28-8E954654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88193-E6B4-4168-8CA7-87115A0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D08E9-1BBB-4434-A702-1BC4517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1D748-A306-40CA-9C99-0C9D1E89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99B5E-F87A-4587-8485-C90EAF27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26D65-8356-4C07-AD24-ACE0FA30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E200-040A-44A4-B7B5-9C3FC988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191A-3111-43B5-96EE-26B6FED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A4F8-F9B3-4A79-BE4F-DA3DC68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96F-6AD2-4286-AC77-D9FE3E6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F731-0D9D-4DFF-AEB2-54E3F8FA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F3DA-D0D8-4F57-854B-DEB3473E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1E50-406B-417E-8579-5CC40A88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42EC-9EBF-4597-9D5A-439787A6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B923-C31A-4EE4-855C-94764FA4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2051-A89B-40D2-9432-E4C8A5D3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07F8-7B9C-4361-8DE9-0B87E783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3D52-10F8-40DF-B4C3-1B0E2E4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5743-87B5-46C0-9DE4-86650ABA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5C16-1600-4DFD-937A-EC84785C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63D-F433-432C-B4A8-AF3A4908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99951-E3EA-4F5A-BDD0-A78F1999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E31C-25E9-4FA5-8B34-FA591AA6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F44B-CA38-4CDD-BFDC-2B31D61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ADDC-2450-4815-8757-58D7E85B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C64D-5E69-4E47-8B6D-ECCF94F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8F2C-B42A-46DA-B5E4-5B23B04E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E3C1-351F-4DAB-9490-630E9BF0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1729D-6DEE-4C18-A197-20F2A54A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DE3C2-A967-4683-A0D4-627D831B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C30A-B6CB-452B-987E-3FD39445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EA9-F63A-41FA-80F9-DDF81DC5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032A-E03B-42A9-B676-CE17C0C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E7AD-144C-4767-A8C6-5A71C69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47C7-E87E-4516-9885-786DE36C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E35E7-C516-4D06-9567-17A82C1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60D3-1C97-4D4B-8486-9A3E382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97D4-E7C5-4ABB-99C2-A3BE7FF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1EA1-92B0-4B2A-B9C4-AB05A58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34AAF-2F1E-456F-B641-528A49E2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96C9-51D2-46B9-9304-E61DB295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FD27-94DB-4587-ACEE-58D089B0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830-FAFF-4602-84E7-0FD24A12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1D204-0E90-4D8F-8A93-C2CE83DC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1DF6-F9F5-43E0-B6E1-A9AD3912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A1D8-760A-417E-BD51-E54070B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926C5-3B6E-4110-93D3-E5B64E4A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6D07-FD53-4751-BC9F-8D97A438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AA386-A10C-4370-8A31-C47C9790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C10F-F51B-4B7D-9B5F-AD3A0CF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59EB-DA13-4CB3-8FC5-B56843F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CAA47-26A7-4CF4-8542-B5FF0981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B682-453F-4731-96B5-2BAF10D4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CE7-F4F4-47AF-827B-56820400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A422-F611-45C2-BF6E-1ACE71F7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83570-BF23-4A55-BE92-174E1407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B52DB-B2FA-4109-AB59-A11F7E7D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9CF59-00FD-4C4D-AE69-96ED3732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D9BB6-AD97-42B1-88FB-73372223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FEBA-9455-4B01-BAF4-4E8B6862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5C5CA-6245-44F4-BBD0-1A492884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1C81-B5EB-43A4-B4C7-63219520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3FF8-928B-4758-9926-A7233AE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22D8-4920-437E-8D85-A708A7B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3DD-CCDC-4CE0-972D-C133B75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68977-9C19-459F-AAD4-14ACCE1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FEEA-A287-419A-ADC4-97F9F89F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15B78-D835-4F7A-B5F4-C5086E0B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A4270-14A7-4AED-BC4D-61DFEC11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041E5-2C75-4D1D-83F9-2DA4561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3CDF6-7101-40CB-A355-52F677C3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68615-8CF6-4286-BDFC-30E4D100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631C-8044-4A01-8483-9911AB30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8B17D-65A2-4815-AACE-F29297F2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E9C7C-7A6C-4273-AD45-44AE727D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CB7-F8C0-4177-9FC4-2AD06C6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C7F4F-CBC5-43E1-A900-4AC8946E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A484B-7531-4A35-A1DF-7506707D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7FC79-CF4C-4AA6-BD86-6B266193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37936-01E3-4F55-B9D1-70BD9351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2AB0E-4DDD-42EC-8ED3-3F92ABA2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A5BBC-8EB8-4C9D-8BC8-44EEBD21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735E8-B5E0-4E1E-B4DA-A10DE43A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7A539-52DB-4AB7-BF31-7F3326E8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8A02-C97A-4508-A831-81757840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D76D6-FC3B-49CF-8E67-61ABAE40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203-5393-4893-B6B0-6993246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D442F-297F-43B1-BB7E-235E39F0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141F3-A262-40FF-A9D1-42E4580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FE42-31CD-4794-A423-EB76F31D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02CD9-EBD1-4C59-9B8C-C07740E2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0FDDB-01AB-491B-AE2F-E9C29473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A8EA-827C-4A53-96D1-CAE0DCA3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E4515-C420-4F45-B707-622EB22D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4C5C4-4527-4C68-BBF0-672C2190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69C3B-E8A9-4BBE-9161-63FFD143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53E5E-38D0-454C-A20B-DEDC439B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C562-E1BC-4FE1-A09A-FBECEA50C53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6FFC-9137-4EA8-B75A-256B7E399EA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E76-53B2-4554-AD40-BEE18C9F357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56C-84BE-4F00-92EA-DF4633291BD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5F9-C8C1-480E-8C26-4D01C0CA3F3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47EF-12C8-44F2-8290-07A828A695E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FE00-FBE2-4E1E-94D5-14F97E3FD43A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1189-C572-4645-8976-1C2DCF9612C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9EC-7A69-4AA3-8FDD-5FAA3E35DF21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C8D-5C93-4FA4-AB69-E59D855CF2E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6D40-C1BF-4E69-9D8A-0705242911E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D7B-D0F2-442A-B913-1C840AE09F4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6A60-2842-42A3-A3AE-C76D041F63B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3AB9-215B-49AB-B52F-D9EF359C188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D71-BDF1-4A2D-B6B5-C02F6AE8D91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7F2C-A74B-4CF9-A4EB-3C4EB06EBD2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5F42-C14F-45F2-9044-0DC280DED9A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FA2-E9E8-4531-AF55-6AE0764596C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AEA-BFA3-48C5-94FB-D85926CCE7B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1B1C-7F8D-4665-BED3-F00AEB5C7AB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9712-74F3-4596-9BF7-726DA32A408E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D1F1-F29F-4063-83BC-B2EFBA725A0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AC2B-6F0C-4CC8-8902-2BCF0F64BBF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E355-506C-499E-A1C1-5C724C0BED9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34B3-FB4A-4EA9-88B3-A801FF4CB47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4EFD-A980-4963-A42E-B6038D12AC2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DEAB-1A60-4ECD-847F-EBDC46578A1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324C-0214-4F42-A269-3ABDA24B18C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583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8"/>
          <p:cNvSpPr/>
          <p:nvPr/>
        </p:nvSpPr>
        <p:spPr>
          <a:xfrm>
            <a:off x="760320" y="1957320"/>
            <a:ext cx="81187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vance adaptación Guía Universitarios del SAT de México a la realidad de Chi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logo_sii"/>
          <p:cNvPicPr/>
          <p:nvPr/>
        </p:nvPicPr>
        <p:blipFill>
          <a:blip r:embed="rId2"/>
          <a:stretch/>
        </p:blipFill>
        <p:spPr>
          <a:xfrm>
            <a:off x="6686640" y="77940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5184720" y="5877000"/>
            <a:ext cx="435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orto Alegre, Brasi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viembre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9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2 Rectángulo"/>
          <p:cNvSpPr/>
          <p:nvPr/>
        </p:nvSpPr>
        <p:spPr>
          <a:xfrm>
            <a:off x="3897360" y="1749600"/>
            <a:ext cx="475920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Desde el 2005 al 2011 el Programa de Educación Fiscal del SII se concentra en educación básic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El 2011 se establece como meta institucional abarcar todos los niveles de educación. (Hasta el 201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Durante el 2012 se lanza la etapa de educación media, con “El debut de la banda” y el 2013 con etapa “Jóvenes” en sitio web www.siieduca.c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establece como meta lanzar el 2014 (marzo) etapa de educación superio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identifica trabajo del SAT de México como referente y se gestiona adaptación de Guía para universitario, a través de la coordinación de  EUROsociAL II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 realiza alianza estratégica con Instituto profesional AIEP, de la Universidad Andrés Bello, Escuela de Negocios 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C:\Users\Jorge\Desktop\GUIA DE ESTUDIO PARA LA ASIGNATURA FORMACIÓN E INFORMACIÓN TRIBUTARIA (2)-1.jpg"/>
          <p:cNvPicPr/>
          <p:nvPr/>
        </p:nvPicPr>
        <p:blipFill>
          <a:blip r:embed="rId2"/>
          <a:stretch/>
        </p:blipFill>
        <p:spPr>
          <a:xfrm>
            <a:off x="938160" y="1886040"/>
            <a:ext cx="278928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etodología de trabaj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6 Rectángulo"/>
          <p:cNvSpPr/>
          <p:nvPr/>
        </p:nvSpPr>
        <p:spPr>
          <a:xfrm>
            <a:off x="782640" y="749160"/>
            <a:ext cx="76312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Generación de solicitud formal a SAT de Mé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2.- Revisión de Contenidos de Guía para universitari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3.- Envío de propuesta de contenidos a Mé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4.- Recepción de propuesta de México e identificación de necesidades de contenid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5.- Generación de metodología de tra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6.- Propuesta de cronograma de tra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7.- Envío de información y generación de adap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8.- Revisión y validación de contenidos, expertos SII y AI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9.- Revisión final del material (versión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0.- Maque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1.- Adaptación a módulo online en currículo de AI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2.- Lanzamiento y puesta a disposición del mate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6 Rectángulo"/>
          <p:cNvSpPr/>
          <p:nvPr/>
        </p:nvSpPr>
        <p:spPr>
          <a:xfrm>
            <a:off x="684360" y="965160"/>
            <a:ext cx="76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Contenidos Anexad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7294680" y="5921280"/>
            <a:ext cx="933480" cy="592200"/>
          </a:xfrm>
          <a:prstGeom prst="rect">
            <a:avLst/>
          </a:prstGeom>
          <a:ln w="0">
            <a:noFill/>
          </a:ln>
        </p:spPr>
      </p:pic>
      <p:sp>
        <p:nvSpPr>
          <p:cNvPr id="600" name="2 Rectángulo"/>
          <p:cNvSpPr/>
          <p:nvPr/>
        </p:nvSpPr>
        <p:spPr>
          <a:xfrm>
            <a:off x="728640" y="1371600"/>
            <a:ext cx="7543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1. Ética y Cultura Tributar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2.- Antecedentes de los Organismos públicos del sistema tributari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1 Servicio de Impuestos Intern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2 Servicio Nacional de Aduan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.3 Tribunales Tributarios y Aduaner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3. Bases jurídica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1 Bases constituciona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1 Garantías constitucionales referentes a la tributación en Ch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 Bases lega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1 Código Tributario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2 Ley de Impuesto a la Renta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3 Ley de Impuesto al valor agregado (IVA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4 Ley sobre cumplimiento tributario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5 Ley Orgánica del Servicio de Impuestos Intern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6 Ley que Fortalece y Perfecciona la Jurisdicción Tributaria y Aduaner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.2.7 Ley de Transparenc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4. Antecedentes históricos de los impuest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5. Tipos de Impuesto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3667ca"/>
                </a:solidFill>
                <a:uFillTx/>
                <a:latin typeface="Arial"/>
              </a:rPr>
              <a:t>6. Creación de empresa en un día (RES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Arial"/>
              </a:rPr>
              <a:t>7. Principales trámites en el SII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3667ca"/>
                </a:solidFill>
                <a:uFillTx/>
                <a:latin typeface="Arial"/>
              </a:rPr>
              <a:t>8. Factura Electrónic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2" descr=""/>
          <p:cNvPicPr/>
          <p:nvPr/>
        </p:nvPicPr>
        <p:blipFill>
          <a:blip r:embed="rId1"/>
          <a:stretch/>
        </p:blipFill>
        <p:spPr>
          <a:xfrm>
            <a:off x="7763040" y="5992920"/>
            <a:ext cx="933120" cy="596880"/>
          </a:xfrm>
          <a:prstGeom prst="rect">
            <a:avLst/>
          </a:prstGeom>
          <a:ln w="0">
            <a:noFill/>
          </a:ln>
        </p:spPr>
      </p:pic>
      <p:sp>
        <p:nvSpPr>
          <p:cNvPr id="602" name="1 CuadroTexto"/>
          <p:cNvSpPr/>
          <p:nvPr/>
        </p:nvSpPr>
        <p:spPr>
          <a:xfrm>
            <a:off x="587520" y="1566720"/>
            <a:ext cx="791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envío de información para el trabajo de adaptación comenzará la semana del 25 de noviembre de 2013, con plazos para construcción, revisión y corrección del materia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Se espera tener la versión final de la Guía adaptada y maquetada en febrero de 2014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606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9" name="Picture 9" descr="logo_sii"/>
          <p:cNvPicPr/>
          <p:nvPr/>
        </p:nvPicPr>
        <p:blipFill>
          <a:blip r:embed="rId2"/>
          <a:stretch/>
        </p:blipFill>
        <p:spPr>
          <a:xfrm>
            <a:off x="819000" y="5668920"/>
            <a:ext cx="1300320" cy="6588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2D3-758E-4822-8160-AAC276156EA6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766800" y="2143080"/>
            <a:ext cx="8072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 Guzmán Espino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.guzman@sii.c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2" descr=""/>
          <p:cNvPicPr/>
          <p:nvPr/>
        </p:nvPicPr>
        <p:blipFill>
          <a:blip r:embed="rId3"/>
          <a:stretch/>
        </p:blipFill>
        <p:spPr>
          <a:xfrm>
            <a:off x="7051680" y="5668920"/>
            <a:ext cx="124452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15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799 0.42368 L 4.44444E-006 -3.15449E-006 E">
                                      <p:cBhvr>
                                        <p:cTn id="17" dur="5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2:36:47Z</dcterms:created>
  <dc:creator>Oficina Computación Personal</dc:creator>
  <dc:description/>
  <dc:language>en-US</dc:language>
  <cp:lastModifiedBy>Jorge</cp:lastModifiedBy>
  <dcterms:modified xsi:type="dcterms:W3CDTF">2013-11-22T02:00:52Z</dcterms:modified>
  <cp:revision>2119</cp:revision>
  <dc:subject/>
  <dc:title>Diapositiva 1</dc:title>
</cp:coreProperties>
</file>