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F8E-B5E7-439F-9973-56C25184A0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6C05-C421-435F-BEA5-DD06F5FFBB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980-3B9D-4346-BA62-6EBDA13661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E22F-F0C6-4509-BCDA-116B6F6EFA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7DE-6526-4CC3-8B44-A3DD69B2C1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B589-A3EE-4680-9DF6-AE19741C60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438-3EBA-462D-82F4-BC019A03F5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0887-A22F-4B8C-89E9-D701D805C4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4446-1069-4695-AA91-38929ECE27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7BC-8EAC-45E5-86D0-4397686908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134-08E6-47CB-B2A4-6C326C7F9A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2F1-56AE-4C8D-9119-40CB3AE0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888-E3C3-47A4-A87C-E498726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AFFD4-9FEB-4010-88B1-89A268C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D4DF9-CB9D-4890-85F8-EB908C4A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314C5-BE14-4049-83F3-F8DA3FB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850A5-DFE9-4ABF-BB8F-2AC9DA43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80ABF-177E-4B89-BC48-822B1D1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A66DE-AFAB-49F9-91D5-7DBE7AC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BF59E-74EC-480B-86EC-F6526408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DFEE7-02D4-480D-8F95-D61DF51F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0388F-3FA9-45A7-8EAA-83C9CE14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28000-18D0-44F3-B82B-3AAB5DDE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17C-0C4F-49AE-A150-5B6D6399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5C200-E658-4276-950E-0AAA5B18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CD570-6579-4B37-82ED-F246877B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5D44F-CBF4-4871-A20E-D6AAA3AF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8BD76-FD13-46D1-9F1B-67BB141C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ADFF1-A7A8-4AB6-99D3-BF84A241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14CE7-F206-40A8-BF39-24C2B9F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0BA14-8D4D-40F1-9ADC-EFA5F28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43EE6-DCF5-41C0-B1B6-4A98BD5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1BB88-D319-4184-A098-2C2294A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3477E-F1AC-4DEF-B708-426FB2CE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A42-A800-4838-ACA6-AE07494C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6B99B-8124-4F8D-BDCC-635C0DCD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43D2-5D67-40B0-AA80-34FF7E4F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805D9-1A5A-44F1-9B2C-3412C8ED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1985D-CD39-40F8-8EA2-577214D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A7087-B2EF-4595-BF2E-5EB2EE1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4E0E1-D5EA-4397-A83C-1591AA3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8930-45B8-4EED-B24B-45ECE36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ECA55-2E6C-4652-A0AD-9ED154D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D29E3-F317-42F1-8A41-414615A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C364-2359-4421-8822-EC8593E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B28A-F1D9-4690-9BA6-1EC93EAB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EB0E1-504E-4491-93D4-E4AD1F9E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5740A-27CD-491E-B534-FD7A02AC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EA8A8-0F2A-4EBA-9D40-2384244F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46922-1FE8-4096-93B1-06F73E6A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535C5-9159-441E-9F91-0A5F7DF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0D4BD-E1B3-428C-9ED4-2D788A8B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E14DB-33C0-4228-A9E4-B624ACB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75CCD-BEA5-4EA8-AC58-8BE0C38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DF344-C6A4-4E13-A784-99528F3C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FBE78-D7B8-4212-95D5-90951F4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32B3-0C7C-44FA-9DF6-2312F5B9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44C85-6E2E-4148-92E0-880A179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94435-1C42-499C-AA68-9FBB26B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FE2F-6C46-447B-AAD4-5A1E10FC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767F1-3E81-4B7E-BB85-5E9BA9D7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B552E-3901-425A-9113-D65F9718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60C45-8ED2-4867-A41E-C23D4BAC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5D68E-377A-45B5-95CA-4C3CE0F0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EEE29-56CA-45EE-899A-4F52B75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61D09-3C26-49F2-A47C-3518747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CE0A6-18C1-4125-BBEA-62C8CC4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187C-C5A1-4B9D-B956-78176B2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6171C-2523-410B-860A-DA26264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67BF8-DB07-40C6-AA5E-A2F4807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D1584-6645-48C3-9A56-17E6004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E124A-8C33-40CE-A977-88DA88A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86862-EF1D-499A-B184-B5A40FF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AC2A9-57C0-474B-93DC-3F00E83B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DF140-FA8F-417C-971B-D39268C0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FAF9B-BCAD-4F9C-8460-E77D31F8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CB1DE-066A-4B41-BA47-58FE669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7A9F0-B144-4FE0-9676-CCA08F41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F1A5-53B2-4637-9EDB-72C547C9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D223A-2C76-422A-B411-E731664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25B9B-A6F6-4802-BBCE-29C1638E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EA86B-389F-48ED-96FC-2A6B24E8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E8A9D-25F4-4FD5-85A8-EAF5B527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91EEB-4BA8-4CD4-8DC3-BB93DF01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921CE-CB0F-4506-9359-A2FE2AC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2C0FB-F3F8-4384-A5DC-6751EC8A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32F6B-899C-4881-B87E-23BE6408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74B93-7475-40FB-B7F9-60C409FD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31BC-AD82-4E14-BCBE-C6155811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9A7-6680-4FDD-8A5F-DD7D20F4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100-3B2A-44F3-9839-7105DB1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DB6-7A41-4B52-A13F-8864BF25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43E7-05A8-471C-9701-4A6D88F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10CD-934B-4ABA-897D-A51BADC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205F-9569-43E9-8079-B0051D56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F3C3-5E76-44A3-8A1D-7A5FC520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3842-9A57-4A98-B6E1-D0CCC3D6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3CBC-6568-4CCC-A9BA-F9F625A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A236-083C-44C1-8E6B-C48EE352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2F3B-2CBB-45C8-8230-C375E678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7C60-10EE-483E-9FAE-DA9AE745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B887-6B75-4EA4-9DD8-AA2B5B1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C07-298D-4FC3-BAEF-2EE53582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E120-2DD9-4914-B16E-7854008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BD23-2180-4137-A626-B8076DE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91C8-C869-418A-947C-7282397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7B73-E91F-4ACF-AEBC-DB8A3947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A355-FCB7-4C15-B2BE-D3F7C9E3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FE43-72F3-4689-B67C-4642E295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3A4F-E2D2-4CB7-9CDF-B7D9CD34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ADE5-543B-4DB0-AF98-E2840012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BE88-0EAE-46AA-B2F7-D1C4FD93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6DA1-C996-4503-8375-77CD664F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E70-B563-4151-8370-5D2DB43D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E371-DFDD-4C42-AFE1-B66A3627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37C7-3058-4B6D-AF0B-4E609B4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281A-59EC-44B0-9F6C-FF7C2A55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EBE5-5F6E-4705-9209-03E8480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F3D7-FBF0-4B2E-84B5-7FEFF22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B9C4-F5ED-406D-9EED-75AEAAF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7365-0E32-43BE-955F-DB5CF68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6296-8878-452C-B8AE-09B752E8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D2DF-C520-418E-BF74-CC80A939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CFD9-B0CD-4F4E-B3E1-EF870823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123-E82C-408B-851D-08621FAF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9009-87C2-4C92-A36B-1ABB5EA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E1DF-B29C-43A1-B411-E7FC26BD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FA79-FE43-4592-8A9E-DF5CFE3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4CE1D-CBF9-47D9-9A67-0A72E78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D75F-82EF-40F4-84C4-5EF75CF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002C-AD99-4868-A9A1-604F7E33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B2ED-A845-420E-9705-0F6EB26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76C1-6431-44FD-A8FA-2D1FC85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696A-E786-48F2-823A-76940BA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6C92-68F0-4932-909E-9E5D3ED2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E58-373C-482C-8FED-75B35BB2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407C-F97C-4C31-AA9E-F6B2B462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C13C-570D-4EBD-AC7E-1F35C547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5120-4AD6-4A68-A0A0-0E8C6BC0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EFBE-94C6-4385-8422-5B423979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E74E-A8E1-4956-B0C2-A360D919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9F8B-6F53-4F09-9FAE-6907A7C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BED65-8AD7-4D0A-B0D0-336E0FE7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398C-5371-46C9-843D-9860F2E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B9B5-C36C-4F87-93C5-82FF51C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21A0-8B0A-4864-94FF-F96E0A6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B7C-B852-45FB-AFF3-4A832D9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DB67-84A1-4B83-B37C-13C0CB7A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CBF3-33F4-4297-B658-EC6F7CE3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7234-02C8-44A9-9F7E-7C94B21C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F9E0-E8B0-4162-9DDF-7533DAF1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580CC-5202-4D3D-A026-21D6724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E5172-ECB7-46F3-BCB1-F4CBBD68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E7C4C-FF94-4D15-8563-C937FC81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2D83E-EECC-458E-B392-B9C16EAD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DC342-06E6-422D-B85A-70B7837D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FA6D-DD26-4B52-9C6A-081CDFF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CB8-FEE6-448D-8DA6-5D6F88D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1F65-EC73-443B-AC28-6A482D9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49BD-2EE8-44A2-A1AF-4DF51C7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B5FA-C902-4586-B071-828004E9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D0D8-BB96-44BF-BD7F-9C71D53E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2DA1-DED7-4DB0-9477-BA97CFDF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C0DB6-9E72-4CAF-AE10-E740D51E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12D9-ED86-4869-944C-F0F5881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A5143-C060-4D79-BA01-FADF6CCE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928A-C2C2-480A-8148-BD763C9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0579F-DC9E-4B71-BEFA-4FF9D898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D64-4071-4D9A-9CA3-69DD29C0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9FE23-8D13-46CD-8E81-C07EDFC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056A-2240-44BB-81D3-623A4BB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DD170-ED89-410D-830C-06E0B26E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F0B86-10CB-4388-B18D-7D5C876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CFD09-A0B3-4F6A-B169-71101110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D21E7-A318-4C8E-9C21-78A3EF8C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799C-CF74-47C0-9C1F-BDB3837A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D78FD-E6A4-4B5A-A80B-D499466B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DFFD1-474A-4CE6-8D1A-DC2C5681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F880C-6970-43B6-9DC2-C21E7167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A58B-44EE-490F-92DD-93DC14B9A02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EFA-DFDB-4E4B-ADFD-4D224DA4473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0F6B-7A0D-4547-AA88-2E4B9AF321D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3909-BCC4-4C12-B087-E57B96C4B4F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84B-182A-4057-A636-5A36BA62A0A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A4E5-0A7C-40A3-889B-A45618544AE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E219-5CCA-4D9E-A46C-A7C8A98AA55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E4E7-7A61-40D3-8961-24884957582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06A5-E005-4B87-8428-54A138DB544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DC7F-1D88-4E18-9794-068AAA3A9EB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C1A9-29DE-4203-A3C5-A1E743C2BD7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345-2E7B-45EE-AA22-CFB7EB63081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919-1DF5-4D86-91E1-7076824E626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BAC-CF4A-4FF0-9BDB-472D07A88F0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9B4-BFDA-4906-B3A5-EB4C387CEED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9CB-A7D2-4094-90DB-71665ED37C4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4AC-891E-4F7B-B0F3-6C96599C24A1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308-7033-4A2C-A0FE-97E601281A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9D50-BBC2-4C13-8EEB-2736F943076A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BC7-AA44-49F4-9AD2-607DAD1C4D8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52C-A0BD-4E6A-9721-62B536851A7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1EAD-728D-4441-BC9F-AA73CD56283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148-E45B-41A7-BC15-66AABFA55F7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DC67-6D9B-4136-859B-C634B0F6142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5F4-9D12-40BE-AF31-264EC343C73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B069-F46D-4396-841A-21B5BF2DCD5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C91-4804-48F1-95B9-476946E2E8E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0B18-E8FF-4D2A-82E1-E15F4A45952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siieduca.cl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583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8"/>
          <p:cNvSpPr/>
          <p:nvPr/>
        </p:nvSpPr>
        <p:spPr>
          <a:xfrm>
            <a:off x="171360" y="2154240"/>
            <a:ext cx="8118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daptación de la serie de TV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El Debut de la Banda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 la realidad d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logo_sii"/>
          <p:cNvPicPr/>
          <p:nvPr/>
        </p:nvPicPr>
        <p:blipFill>
          <a:blip r:embed="rId2"/>
          <a:stretch/>
        </p:blipFill>
        <p:spPr>
          <a:xfrm>
            <a:off x="6686640" y="77940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5184720" y="5877000"/>
            <a:ext cx="435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to Alegre, Brasi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viembre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9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628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9" descr="logo_sii"/>
          <p:cNvPicPr/>
          <p:nvPr/>
        </p:nvPicPr>
        <p:blipFill>
          <a:blip r:embed="rId2"/>
          <a:stretch/>
        </p:blipFill>
        <p:spPr>
          <a:xfrm>
            <a:off x="819000" y="5668920"/>
            <a:ext cx="1300320" cy="658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3E8C-BBE7-4849-865F-74C825653DC1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76680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 Guzmán Espino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.guzman@sii.c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2" descr=""/>
          <p:cNvPicPr/>
          <p:nvPr/>
        </p:nvPicPr>
        <p:blipFill>
          <a:blip r:embed="rId3"/>
          <a:stretch/>
        </p:blipFill>
        <p:spPr>
          <a:xfrm>
            <a:off x="7051680" y="5668920"/>
            <a:ext cx="124452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15" dur="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99 0.42368 L 4.44444E-006 -3.15449E-006 E">
                                      <p:cBhvr>
                                        <p:cTn id="17" dur="5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6 Rectángulo"/>
          <p:cNvSpPr/>
          <p:nvPr/>
        </p:nvSpPr>
        <p:spPr>
          <a:xfrm>
            <a:off x="684360" y="1058760"/>
            <a:ext cx="41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i="1" lang="es-CL" sz="2000" spc="-1" strike="noStrike">
                <a:solidFill>
                  <a:srgbClr val="ff6600"/>
                </a:solidFill>
                <a:latin typeface="Arial"/>
              </a:rPr>
              <a:t>El Debut de la Band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594" name="2 Rectángulo"/>
          <p:cNvSpPr/>
          <p:nvPr/>
        </p:nvSpPr>
        <p:spPr>
          <a:xfrm>
            <a:off x="4452840" y="1749600"/>
            <a:ext cx="45720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Serie  audiovisual dirigida a jóvenes de educación media, resultado de la alianza entre SII, Aduana y Tesorería, más la colaboración del Consejo Nacional de Televisión (CNTV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a serie cuenta con 4 capítulos, de 10 minutos aproximadamente, en los cuales a través de las aventuras de cuatro jóvenes músicos, se abordan aspectos generales de la Administración Tributaria de Chile, junto a contenidos de los tres ejes de la educación fiscal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Debut de la Banda” fue puesta a disposición de la Red de Educación Fiscal por el Programa de Educación Fiscal del SII, por solicitud emanada en encuentro realizado en Brasilia. La adaptación y coordinación de la misma es realizada en el marco de EUROsociAL I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1 Imagen" descr=""/>
          <p:cNvPicPr/>
          <p:nvPr/>
        </p:nvPicPr>
        <p:blipFill>
          <a:blip r:embed="rId2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5 Imagen" descr=""/>
          <p:cNvPicPr/>
          <p:nvPr/>
        </p:nvPicPr>
        <p:blipFill>
          <a:blip r:embed="rId1"/>
          <a:stretch/>
        </p:blipFill>
        <p:spPr>
          <a:xfrm>
            <a:off x="1427040" y="1195560"/>
            <a:ext cx="2438640" cy="1687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d:\jorge.guzman\Mis documentos\Escritorio\Untitled 4.jpg"/>
          <p:cNvPicPr/>
          <p:nvPr/>
        </p:nvPicPr>
        <p:blipFill>
          <a:blip r:embed="rId2"/>
          <a:stretch/>
        </p:blipFill>
        <p:spPr>
          <a:xfrm>
            <a:off x="4883040" y="1195560"/>
            <a:ext cx="2309760" cy="1699920"/>
          </a:xfrm>
          <a:prstGeom prst="rect">
            <a:avLst/>
          </a:prstGeom>
          <a:ln w="0">
            <a:noFill/>
          </a:ln>
        </p:spPr>
      </p:pic>
      <p:sp>
        <p:nvSpPr>
          <p:cNvPr id="599" name="1 CuadroTexto"/>
          <p:cNvSpPr/>
          <p:nvPr/>
        </p:nvSpPr>
        <p:spPr>
          <a:xfrm>
            <a:off x="4551480" y="866880"/>
            <a:ext cx="29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iieduca.cl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, sección Jóve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2 Rectángulo"/>
          <p:cNvSpPr/>
          <p:nvPr/>
        </p:nvSpPr>
        <p:spPr>
          <a:xfrm>
            <a:off x="1076400" y="3335400"/>
            <a:ext cx="711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 Serie es concebida como una “excusa educativa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 Se elaboraron guías educativas de cómo usar el material y cómo se vincula a temas curriculares.(Elaboradas con asesoría pedagógica del CNTV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Se potencian contenidos fiscales transversales y aquellos relacionados con la función general de la administración tributa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1 Imagen" descr=""/>
          <p:cNvPicPr/>
          <p:nvPr/>
        </p:nvPicPr>
        <p:blipFill>
          <a:blip r:embed="rId4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etodología de traba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6 Rectángulo"/>
          <p:cNvSpPr/>
          <p:nvPr/>
        </p:nvSpPr>
        <p:spPr>
          <a:xfrm>
            <a:off x="684360" y="1058760"/>
            <a:ext cx="76309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Generación de solicitud formal de los paí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2.- Envío de cuestionario para registro de modifica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3.- Envío de guiones para observaciones específic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4.- Recepción de la información (observacion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5.- Gestión con la productora audiovisual para  la realización de las adaptaciones a las realidades loc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6.- Trabajo de adaptación (productora- encargado por paí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7.- Revisión final del material (versiones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8.- Lanzamiento y puesta a disposición del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CCIONES DESTACADAS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6 Rectángulo"/>
          <p:cNvSpPr/>
          <p:nvPr/>
        </p:nvSpPr>
        <p:spPr>
          <a:xfrm>
            <a:off x="684360" y="965160"/>
            <a:ext cx="76309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Solicitud formal de los paí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Costa 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El Salv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Guatema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Méx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Per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Urugu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7294680" y="5921280"/>
            <a:ext cx="933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3" descr=""/>
          <p:cNvPicPr/>
          <p:nvPr/>
        </p:nvPicPr>
        <p:blipFill>
          <a:blip r:embed="rId1"/>
          <a:stretch/>
        </p:blipFill>
        <p:spPr>
          <a:xfrm>
            <a:off x="7969320" y="6110280"/>
            <a:ext cx="933480" cy="592200"/>
          </a:xfrm>
          <a:prstGeom prst="rect">
            <a:avLst/>
          </a:prstGeom>
          <a:ln w="0">
            <a:noFill/>
          </a:ln>
        </p:spPr>
      </p:pic>
      <p:sp>
        <p:nvSpPr>
          <p:cNvPr id="609" name="6 Rectángulo"/>
          <p:cNvSpPr/>
          <p:nvPr/>
        </p:nvSpPr>
        <p:spPr>
          <a:xfrm>
            <a:off x="804960" y="155520"/>
            <a:ext cx="763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.- Envío de cuestionario para registro de modifica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68480" y="871560"/>
          <a:ext cx="6724440" cy="941400"/>
        </p:xfrm>
        <a:graphic>
          <a:graphicData uri="http://schemas.openxmlformats.org/drawingml/2006/table">
            <a:tbl>
              <a:tblPr/>
              <a:tblGrid>
                <a:gridCol w="2241360"/>
                <a:gridCol w="2241720"/>
                <a:gridCol w="224136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: 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ón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le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9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de Contacto: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96920" y="1870200"/>
          <a:ext cx="6710400" cy="125568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238400"/>
                <a:gridCol w="1195560"/>
                <a:gridCol w="1182600"/>
                <a:gridCol w="857160"/>
              </a:tblGrid>
              <a:tr h="10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adaptar la serie (Sí-N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Capítulos posibles de adaptar (1,2,3,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de adaptación de gráficas 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especiales de doblaje (2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otros requerimien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12" name="5 Rectángulo"/>
          <p:cNvSpPr/>
          <p:nvPr/>
        </p:nvSpPr>
        <p:spPr>
          <a:xfrm>
            <a:off x="550800" y="3317760"/>
            <a:ext cx="7934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1.- Cada capítulo cuenta con una explicación gráfica, que dice relación a la función de la institución a la que se hace referencia en el capítulo. Estas gráficas deben ser adaptadas a las realidades locales, en el mismo formato, estilo y duración de las originale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2.- En este punto debe indicar si detectó algún título, palabra, frase, o diálogo, que crea deba modificarse. (por resultar ofensivo, confuso, etc.). Se debe tomar en cuenta que el doblaje se intentará realizar lo más neutral po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3.- Debe indicar cualquier requerimiento especial que usted crea sea necesario. Debe considerar que la adaptación no incluye la grabación de nuevas escena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969840" y="1181160"/>
          <a:ext cx="7204320" cy="4443480"/>
        </p:xfrm>
        <a:graphic>
          <a:graphicData uri="http://schemas.openxmlformats.org/drawingml/2006/table">
            <a:tbl>
              <a:tblPr/>
              <a:tblGrid>
                <a:gridCol w="1387440"/>
                <a:gridCol w="1374840"/>
                <a:gridCol w="1521000"/>
                <a:gridCol w="1468440"/>
                <a:gridCol w="145260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adaptar la serie (</a:t>
                      </a:r>
                      <a:r>
                        <a:rPr b="1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í-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Capítulos posibles de adaptar (1,2,3,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de adaptación de gráficas 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especiales de doblaje (2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otros requerimien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logo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“boleta” por fact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r devolución de impues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SII por DG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U por examen de admisión para la U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uatema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gos y gráfic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incorporan modismos propios (Guione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dición del capítulo 2. (Omitir devolución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éxic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adjuntan gráfic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mbio de municipalidad por escue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I por SUN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s coloquiales: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ir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o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VA por I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esto General a las Ventas  - IG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I por Dirección General Impositiv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dad por Casa de la cult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eta de Honorarios por Boleta de Servic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14" name="6 Rectángulo"/>
          <p:cNvSpPr/>
          <p:nvPr/>
        </p:nvSpPr>
        <p:spPr>
          <a:xfrm>
            <a:off x="804960" y="0"/>
            <a:ext cx="7630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 y 3- Envío de cuestionario para registro de modificaciones y observaciones a gu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"/>
          <p:cNvPicPr/>
          <p:nvPr/>
        </p:nvPicPr>
        <p:blipFill>
          <a:blip r:embed="rId1"/>
          <a:stretch/>
        </p:blipFill>
        <p:spPr>
          <a:xfrm>
            <a:off x="7502400" y="5989680"/>
            <a:ext cx="93348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C:\Users\Jorge\Desktop\Ajustes imagenes video cap I octubre 2013 Costa Rica-1.jpg"/>
          <p:cNvPicPr/>
          <p:nvPr/>
        </p:nvPicPr>
        <p:blipFill>
          <a:blip r:embed="rId1"/>
          <a:stretch/>
        </p:blipFill>
        <p:spPr>
          <a:xfrm>
            <a:off x="1225440" y="1341360"/>
            <a:ext cx="6257880" cy="4486320"/>
          </a:xfrm>
          <a:prstGeom prst="rect">
            <a:avLst/>
          </a:prstGeom>
          <a:ln w="0">
            <a:noFill/>
          </a:ln>
        </p:spPr>
      </p:pic>
      <p:sp>
        <p:nvSpPr>
          <p:cNvPr id="617" name="3 CuadroTexto"/>
          <p:cNvSpPr/>
          <p:nvPr/>
        </p:nvSpPr>
        <p:spPr>
          <a:xfrm>
            <a:off x="1243800" y="75708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Costa Rica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"/>
          <p:cNvPicPr/>
          <p:nvPr/>
        </p:nvPicPr>
        <p:blipFill>
          <a:blip r:embed="rId2"/>
          <a:stretch/>
        </p:blipFill>
        <p:spPr>
          <a:xfrm>
            <a:off x="7635960" y="5961240"/>
            <a:ext cx="93348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"/>
          <p:cNvPicPr/>
          <p:nvPr/>
        </p:nvPicPr>
        <p:blipFill>
          <a:blip r:embed="rId1"/>
          <a:stretch/>
        </p:blipFill>
        <p:spPr>
          <a:xfrm>
            <a:off x="1009800" y="1477800"/>
            <a:ext cx="3220920" cy="2081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"/>
          <p:cNvPicPr/>
          <p:nvPr/>
        </p:nvPicPr>
        <p:blipFill>
          <a:blip r:embed="rId2"/>
          <a:stretch/>
        </p:blipFill>
        <p:spPr>
          <a:xfrm>
            <a:off x="4881600" y="1477800"/>
            <a:ext cx="3009960" cy="2081520"/>
          </a:xfrm>
          <a:prstGeom prst="rect">
            <a:avLst/>
          </a:prstGeom>
          <a:ln w="0">
            <a:noFill/>
          </a:ln>
        </p:spPr>
      </p:pic>
      <p:sp>
        <p:nvSpPr>
          <p:cNvPr id="621" name="9 CuadroTexto"/>
          <p:cNvSpPr/>
          <p:nvPr/>
        </p:nvSpPr>
        <p:spPr>
          <a:xfrm>
            <a:off x="959040" y="89388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México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" descr=""/>
          <p:cNvPicPr/>
          <p:nvPr/>
        </p:nvPicPr>
        <p:blipFill>
          <a:blip r:embed="rId3"/>
          <a:stretch/>
        </p:blipFill>
        <p:spPr>
          <a:xfrm>
            <a:off x="1041480" y="3784680"/>
            <a:ext cx="3220920" cy="2208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"/>
          <p:cNvPicPr/>
          <p:nvPr/>
        </p:nvPicPr>
        <p:blipFill>
          <a:blip r:embed="rId4"/>
          <a:stretch/>
        </p:blipFill>
        <p:spPr>
          <a:xfrm>
            <a:off x="4719600" y="3784680"/>
            <a:ext cx="3171960" cy="2208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"/>
          <p:cNvPicPr/>
          <p:nvPr/>
        </p:nvPicPr>
        <p:blipFill>
          <a:blip r:embed="rId5"/>
          <a:stretch/>
        </p:blipFill>
        <p:spPr>
          <a:xfrm>
            <a:off x="7763040" y="5992920"/>
            <a:ext cx="93312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2:36:47Z</dcterms:created>
  <dc:creator>Oficina Computación Personal</dc:creator>
  <dc:description/>
  <dc:language>en-US</dc:language>
  <cp:lastModifiedBy>Jorge</cp:lastModifiedBy>
  <dcterms:modified xsi:type="dcterms:W3CDTF">2013-11-22T00:52:01Z</dcterms:modified>
  <cp:revision>2112</cp:revision>
  <dc:subject/>
  <dc:title>Diapositiva 1</dc:title>
</cp:coreProperties>
</file>