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DE35-73CC-485C-A6E6-C43D2F82202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0B0C-4B1A-4F0E-AD2B-48ABF6A308A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01CD-5157-40CF-BC33-044F14BE91B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E130-15AA-42CE-B148-0BA5C3B3610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07A7-7D1C-4DCA-9AB7-AEF4C8FF129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1E0C-D270-4F5C-BE45-257ED70C691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6208-6634-4AFD-8D8E-EC72531C6F3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1306-3EE3-4B47-A809-1C126FB202F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1C11-5DE0-4C2C-93D9-1FCBC5DF798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CBA3-1C5B-4725-B2FD-DC2B1098BBE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B3D3-E875-4E9A-AF37-4C46720D0D1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39AA-3A62-4C01-8A6E-FAE1F8630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D3B5-FD59-4AA5-B361-6A0E20D4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C534E-AB1E-464A-8AB6-0A0E275F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904EB-4F72-482F-B941-2350CA29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A2433A-7AC8-47C4-A744-E57F7A3D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B01E3-2126-4D4D-BD61-3F1A0B05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A55E6-5BD0-4CBC-B0E2-FAC81C69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34A1D-0543-428B-A44D-0A753CF9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4E663A-AFFA-4EA4-9F0B-93B5261B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2484E-601E-4F40-BEDF-807A2FCD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B5B9A-FF57-4EBD-B9C8-E2401E837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851AF-B3C7-4661-B90B-31DCDB82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811E-A90A-490A-B997-76A13A2BC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16646-1570-44AC-8BB4-33F10550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DD837C-BAD3-49B5-AA83-D479C51D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36B375-5630-4815-AF32-38DA0F51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BA0259-B52A-4F75-B4DB-7CAFE14A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7BD76-3122-4119-9786-0A188F29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FB93AC-24FD-4522-8681-77AA48D6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8B1723-0645-4F42-8DAD-971E3418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8427B-2F8F-49C5-BB5D-FDE13C3D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E4DAC-E93C-47FA-873F-828E94A0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735311-71DD-4044-B4A2-E6F165651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8066-09EE-497D-9EAA-CFB124DA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A72512-84B4-4C2E-8821-B60D00930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27688-D6AC-4B48-BF3A-F910D41B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BC701-4B34-407E-A9C6-164A1D78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F1F65-1059-415E-A036-4604B2FC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CD2F8-CA93-4E76-8271-970A5596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0D702-A6D3-4B17-91FC-FF7EB172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6C196-39D5-4A52-B6F4-50149F4B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0D3A4-F444-4420-9096-71B3CC04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B07CA-54B0-4D4E-80B8-1541C833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05557-2910-4840-BF16-DE365287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C18D-491A-447D-A32B-7D4772C3C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AF850-2E4A-4AF7-BBED-73B4BFC1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F5964B-F10D-4AD8-93A9-DF23A4526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AC4C4-7748-49A6-A276-51869F05F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1DCA3-C443-44A2-BAD7-AAC42F33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3EBA6A-0771-42A8-A900-57748C24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819B7-5D0A-4569-9D5A-DCF0B14A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3708FF-A536-42A0-AFE8-EEA36055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62519E-D8C7-4121-A864-010331FB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582FFE-7230-42CB-8834-5E816A39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25A988-BE50-43D7-8449-0C907D92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10E2-069A-46A4-8688-9331C1EE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B18601-9F9E-4693-BFF2-C864D160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8FE6D0-15DA-45A6-88A5-9FDA2E0C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0A4E2B-3570-4298-86A0-47158979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78AB73-3A4F-47B6-97E3-C2AA163A1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5B5A8D-B7C5-4DC7-9C56-61360E794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4B1227-6793-4EB8-94CC-292560855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FBE1F5-4975-41CD-82F1-E01505A2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06C0A8-0FFF-45B7-860C-0FB13187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6B439F-B580-48C7-873C-90C3AFB4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94D986-12BF-494D-BAE8-B98CB3DB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0C72-5558-433E-9167-8F9CB0EE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7EE065-3604-497F-8743-76CFCD7C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A1BEF2-E969-4A2E-9886-556E57F6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35805C-5EE6-427E-80EE-145C2BBE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7261A1-7D83-467E-B9AA-996DB3F4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320FF9-9AF2-41E8-AAFB-BDEC80DC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E68339-1515-4050-924B-5FC8AAAD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32FBBE-F128-4EDF-B9E9-44FC1663B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202652-F116-44AB-9F78-B6CF4FA20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82BBE3-D212-411E-9E79-7E885B56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6A8EC4-C9F7-41BC-A461-3795FD94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68D3-8FA6-4FB1-960B-3ADD42BB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6297D2-715B-416B-9F58-1EC9A72E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131172-1C49-4B52-8F83-41A1A650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EEE3AF-475F-4574-8536-E9CCA426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A6D8DC-62FE-4615-9312-169841C4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EE3006-9933-4ECD-83E9-99A6E415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AA899F-9429-4708-94F9-174DB2D2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091F6A-7BFD-4A10-B7A3-0BCDA7C8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259645-5FDC-4F36-A8E7-471DF51B5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FBC5E0-7A20-4725-8B7C-70F7F0248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EB2E-41C2-485B-BDD5-0BCC0F24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408C-7C30-41DE-9AE8-4CAEB76F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0836-4307-4B63-9B2E-46EF719B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6DF0-24A6-4B45-B102-C16A2FB6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E98F-5BB1-427F-969B-EEC429E7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330B-4AF7-44C0-A098-607323C1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C943-3A52-4ACB-BCBF-555D94ED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B6CD-8850-49C1-9853-B2814B900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4F90-D80B-480F-B2E6-3E1F523BC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1409A-E9DE-4042-9456-E533BF9F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7C07B-9E79-4162-B347-54A44357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A6B24-1D5A-4808-9AA7-5FD46205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096B6-8B65-41A7-B4F9-76FD97FC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211F9-BC5A-43F6-8779-93727BAE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4B06-D2B4-4ADA-8A7B-CCE915C2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DA023-3487-4F08-96E8-16B30BF2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78B33-C621-4717-8BA5-B62A2DF0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F4230-6E55-404B-90AD-82E65BBA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CC284-C0E6-4175-AAC1-294A909C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49FD4-98B4-4F4C-B826-AA8CCBD2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510C9-ABDB-49E2-8BE3-1EA24ED86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09B25-42C9-4FE4-8F38-1AB61FF52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4400E-7C66-4B37-91D3-FE9859FFB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C0F33-39B1-4A3A-97F4-F7A39EF0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70B36-620A-4EF1-B4EB-F76A82B8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E168-A91E-4638-A10A-992C4135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F1F2F-CBD8-4B70-B94B-289A2AFE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78FB2-B586-43C3-929A-17F8BB4C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92914-88A5-4F8C-90A2-36AEC89E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8E80B-3A83-4011-ADC6-5A10C89B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C7197-69C0-4419-AAC6-FC86D44D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DB0EE-1661-43D7-8301-8B2EC835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EC305-B6A6-487C-B0FF-103D155D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E481B-ED11-451D-BEB6-1D3EBB6BA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17D55-CC46-4644-9BD9-E9CE6E5AF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5F5DC-D8D7-4289-9282-BDF392A60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07AE-6FBB-405E-9594-BFFB97AD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D2015-6613-4B41-BFCB-D41FC90F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E57CA-BB4B-424C-B85F-405AA949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321C9-63AA-449D-9CBD-26BAA2B5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DF737-A369-469F-BF56-AD76EAD4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26A17-F438-479B-B9CF-FA422E23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E0BF0-5E73-486D-BA62-C38DB948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C3A78-EF48-4D4A-AED7-A83A7A87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0420D-D436-45FE-9659-1235BF1B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C2EC5-8492-4813-8667-953A14B8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14FBC-7505-4CB2-A504-245DBD11C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B592-CA7A-4468-B1EA-402ABC2F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547D2-17D4-4162-9D0B-024625B92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1557B-B5C4-4C0D-B9E6-20AFD345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DD36B-F62A-43E0-B86E-F3D5AF6D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A4B53-D2C4-47AD-A19D-3AACA4FD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40247-F404-4D3D-8FE2-EC1A646A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41529-3847-46D5-BA14-707ABED0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4F441-A944-4D08-9008-AAABE46C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D4061-8356-49C5-A231-4B9D6F99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3C9AF-55C1-408E-A56A-54F7207B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44501-CAA8-45DD-B2ED-6D206BA9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06C7-0D6A-4640-B12C-6A4C4313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87EC8-47F1-4FBA-9371-F2EF8A49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E266D-E31E-40CB-9124-AECC7BDD8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5E509-3AC2-4036-A861-959236550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D9B81-220D-45A0-8AE4-1482B8C37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31463-2564-4900-A943-F715D900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EFDE7-9B5C-4A9D-A82C-C52F4892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D5E06-A131-4D80-91FB-8BC13A68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07586-4C74-4039-A23A-AB1E7907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E7719-1254-4F90-94DD-B26B4D2A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ED500-FA10-45F6-AD21-83C66979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8497-A378-4721-8E59-EDFFF005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00C3B-DECD-4838-B903-29F28938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D8D3D-2973-4790-82DC-F1D5E8AA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CD647-E768-4EAC-9EC3-F99675AB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E97E8-B0FB-45D1-8DD6-6E78AF831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B090A-A238-4F9B-AFE4-43521766C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566C3-DFAD-4693-BEFB-960089F56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C6470-90D2-48F3-B794-143FD176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79DDD-0F55-4BB6-9D54-FC7BFB0E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97223-CFE4-47AC-9D99-51838201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0A907-1F1A-4476-A258-3ED52201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CA34-8096-48DA-BFF4-F9B2034F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F9EC0-7E8D-4242-86A2-1F3B2877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C4258-6450-4AC6-B665-416AF417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9D6AD-2FC5-48E3-B115-A7DFD42D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79A30-C954-4259-BF4E-514A82AD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C33E6-C6A4-4B25-81D2-18FB62F7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C1981-4AA0-4ED5-BBC3-89B81279D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58EEF-D218-4EFD-A807-100008F0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670DE-41C3-4A28-B493-5C551780B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53ECCD-D908-45C9-9683-C6408D5C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F03A9-4702-4CDB-87DF-9F4B89D2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83A3-4EA1-496D-A2AD-1EE1622F2602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8EB7-63FC-4177-BAE9-AA32849BE161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A9EC-9815-4D0A-A02C-621F81285B26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5E94-56BE-4F06-BC7A-5AC085978C3A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391D-F8CC-4C7D-BF1F-1CE5F6E2A85F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B8E9-9B96-41ED-8882-C7E2FE7EC277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300F-7D0C-49B6-9F7B-2C8A12AA6200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B85E-32A6-48DD-8A1F-26EAEFC2E07F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75D7-C76B-4701-8C5F-9919D58EC2C7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B8A6-82D8-45D7-A241-ABAECC8C7E2E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61D2-56F1-4D1A-AEA4-0787D758B1F7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C036-7EEB-4862-A093-6532524D553B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D55F-0C39-4274-8E6A-0AF68307994C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17DA-2E97-4B45-A43F-5BD9A524E8CA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175D-A829-4279-A42F-64AAD69103F8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58A3-B470-4A05-8B30-DBA9BEC35309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AC0C-9AB4-4639-ABE9-D4A04E893AF7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ADBD-3049-4D35-AFBC-512194215656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20E4-3508-4976-96F9-E3328999F689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2FA1-005E-4435-A77B-38354EA2D878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6146-865B-4D4D-859D-7A66BB878C74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7FFB-FB20-4E4B-A6CF-F4404D629CBE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4EDE-7BEC-47FA-AF83-91268FC0402A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E0B0-E3B5-4038-9A71-04F26BFB2DC3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861C-315A-42C0-AE04-A5AC2CEAB2FD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2950-6513-47A2-B937-7E399985C4BC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7CC6-BD8F-49F0-A3D1-847F5F6085E6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BCE3-D0AA-4820-8932-5DA98F2BA538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ww.siieduca.cl/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Oval 3"/>
          <p:cNvSpPr/>
          <p:nvPr/>
        </p:nvSpPr>
        <p:spPr>
          <a:xfrm rot="20203200">
            <a:off x="864720" y="3449160"/>
            <a:ext cx="2976840" cy="1146240"/>
          </a:xfrm>
          <a:prstGeom prst="ellips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Group 4"/>
          <p:cNvGrpSpPr/>
          <p:nvPr/>
        </p:nvGrpSpPr>
        <p:grpSpPr>
          <a:xfrm>
            <a:off x="1124280" y="2434680"/>
            <a:ext cx="6186960" cy="4772160"/>
            <a:chOff x="1124280" y="2434680"/>
            <a:chExt cx="6186960" cy="4772160"/>
          </a:xfrm>
        </p:grpSpPr>
        <p:sp>
          <p:nvSpPr>
            <p:cNvPr id="583" name="Oval 5"/>
            <p:cNvSpPr/>
            <p:nvPr/>
          </p:nvSpPr>
          <p:spPr>
            <a:xfrm rot="20203200">
              <a:off x="5797080" y="3472920"/>
              <a:ext cx="1464840" cy="549360"/>
            </a:xfrm>
            <a:prstGeom prst="ellips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6"/>
            <p:cNvSpPr/>
            <p:nvPr/>
          </p:nvSpPr>
          <p:spPr>
            <a:xfrm rot="20203200">
              <a:off x="1172880" y="2701440"/>
              <a:ext cx="1464840" cy="549360"/>
            </a:xfrm>
            <a:prstGeom prst="ellips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7"/>
            <p:cNvSpPr/>
            <p:nvPr/>
          </p:nvSpPr>
          <p:spPr>
            <a:xfrm rot="20203200">
              <a:off x="1485720" y="5544720"/>
              <a:ext cx="2991960" cy="1116000"/>
            </a:xfrm>
            <a:prstGeom prst="ellips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Rectangle 8"/>
          <p:cNvSpPr/>
          <p:nvPr/>
        </p:nvSpPr>
        <p:spPr>
          <a:xfrm>
            <a:off x="171360" y="2154240"/>
            <a:ext cx="811872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Adaptación de la serie de TV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El Debut de la Banda”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a la realidad de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América Latin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9" descr="logo_sii"/>
          <p:cNvPicPr/>
          <p:nvPr/>
        </p:nvPicPr>
        <p:blipFill>
          <a:blip r:embed="rId2"/>
          <a:stretch/>
        </p:blipFill>
        <p:spPr>
          <a:xfrm>
            <a:off x="6686640" y="779400"/>
            <a:ext cx="1299960" cy="658800"/>
          </a:xfrm>
          <a:prstGeom prst="rect">
            <a:avLst/>
          </a:prstGeom>
          <a:ln w="0">
            <a:noFill/>
          </a:ln>
        </p:spPr>
      </p:pic>
      <p:sp>
        <p:nvSpPr>
          <p:cNvPr id="588" name="Rectangle 10"/>
          <p:cNvSpPr/>
          <p:nvPr/>
        </p:nvSpPr>
        <p:spPr>
          <a:xfrm>
            <a:off x="7051680" y="5997600"/>
            <a:ext cx="18399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0"/>
          <p:cNvSpPr/>
          <p:nvPr/>
        </p:nvSpPr>
        <p:spPr>
          <a:xfrm>
            <a:off x="4397400" y="5997600"/>
            <a:ext cx="449424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"/>
          <p:cNvSpPr/>
          <p:nvPr/>
        </p:nvSpPr>
        <p:spPr>
          <a:xfrm>
            <a:off x="5184720" y="5877000"/>
            <a:ext cx="43560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orto Alegre, Brasil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noviembre 201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868 0.2692 L 3.88889E-006 -9.25069E-007 E">
                                      <p:cBhvr>
                                        <p:cTn id="9" dur="50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Oval 2"/>
          <p:cNvSpPr/>
          <p:nvPr/>
        </p:nvSpPr>
        <p:spPr>
          <a:xfrm rot="20203200">
            <a:off x="3618000" y="3425760"/>
            <a:ext cx="2158920" cy="847800"/>
          </a:xfrm>
          <a:prstGeom prst="ellips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3"/>
          <p:cNvSpPr/>
          <p:nvPr/>
        </p:nvSpPr>
        <p:spPr>
          <a:xfrm rot="20203200">
            <a:off x="864720" y="3449160"/>
            <a:ext cx="2976840" cy="1146240"/>
          </a:xfrm>
          <a:prstGeom prst="ellips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Group 4"/>
          <p:cNvGrpSpPr/>
          <p:nvPr/>
        </p:nvGrpSpPr>
        <p:grpSpPr>
          <a:xfrm>
            <a:off x="1124280" y="2434680"/>
            <a:ext cx="6186960" cy="4772160"/>
            <a:chOff x="1124280" y="2434680"/>
            <a:chExt cx="6186960" cy="4772160"/>
          </a:xfrm>
        </p:grpSpPr>
        <p:sp>
          <p:nvSpPr>
            <p:cNvPr id="628" name="Oval 5"/>
            <p:cNvSpPr/>
            <p:nvPr/>
          </p:nvSpPr>
          <p:spPr>
            <a:xfrm rot="20203200">
              <a:off x="5797080" y="3472920"/>
              <a:ext cx="1464840" cy="549360"/>
            </a:xfrm>
            <a:prstGeom prst="ellips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6"/>
            <p:cNvSpPr/>
            <p:nvPr/>
          </p:nvSpPr>
          <p:spPr>
            <a:xfrm rot="20203200">
              <a:off x="1172880" y="2701440"/>
              <a:ext cx="1464840" cy="549360"/>
            </a:xfrm>
            <a:prstGeom prst="ellips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7"/>
            <p:cNvSpPr/>
            <p:nvPr/>
          </p:nvSpPr>
          <p:spPr>
            <a:xfrm rot="20203200">
              <a:off x="1485720" y="5544720"/>
              <a:ext cx="2991960" cy="1116000"/>
            </a:xfrm>
            <a:prstGeom prst="ellips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1" name="Picture 9" descr="logo_sii"/>
          <p:cNvPicPr/>
          <p:nvPr/>
        </p:nvPicPr>
        <p:blipFill>
          <a:blip r:embed="rId2"/>
          <a:stretch/>
        </p:blipFill>
        <p:spPr>
          <a:xfrm>
            <a:off x="819000" y="5668920"/>
            <a:ext cx="1300320" cy="658800"/>
          </a:xfrm>
          <a:prstGeom prst="rect">
            <a:avLst/>
          </a:prstGeom>
          <a:ln w="0">
            <a:noFill/>
          </a:ln>
        </p:spPr>
      </p:pic>
      <p:sp>
        <p:nvSpPr>
          <p:cNvPr id="632" name="Rectangle 10"/>
          <p:cNvSpPr/>
          <p:nvPr/>
        </p:nvSpPr>
        <p:spPr>
          <a:xfrm>
            <a:off x="7051680" y="5997600"/>
            <a:ext cx="18399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1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1DD5-2C8B-4357-AA2E-BA7B2A4352CB}" type="slidenum">
              <a:rPr b="0" lang="es-CL" sz="1400" spc="-1" strike="noStrike">
                <a:solidFill>
                  <a:srgbClr val="3667ca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2"/>
          <p:cNvSpPr/>
          <p:nvPr/>
        </p:nvSpPr>
        <p:spPr>
          <a:xfrm>
            <a:off x="766800" y="2143080"/>
            <a:ext cx="80722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ffffff"/>
                </a:solidFill>
                <a:latin typeface="Arial"/>
              </a:rPr>
              <a:t>Muchas Gracia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orge Guzmán Espinoz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orge.guzman@sii.c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12" descr=""/>
          <p:cNvPicPr/>
          <p:nvPr/>
        </p:nvPicPr>
        <p:blipFill>
          <a:blip r:embed="rId3"/>
          <a:stretch/>
        </p:blipFill>
        <p:spPr>
          <a:xfrm>
            <a:off x="7051680" y="5668920"/>
            <a:ext cx="1244520" cy="814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868 0.2692 L 3.88889E-006 -9.25069E-007 E">
                                      <p:cBhvr>
                                        <p:cTn id="15" dur="5000" fill="hold"/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5799 0.42368 L 4.44444E-006 -3.15449E-006 E">
                                      <p:cBhvr>
                                        <p:cTn id="17" dur="5000" fill="hold"/>
                                        <p:tgtEl>
                                          <p:spTgt spid="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2"/>
          <p:cNvSpPr/>
          <p:nvPr/>
        </p:nvSpPr>
        <p:spPr>
          <a:xfrm>
            <a:off x="1541520" y="12600"/>
            <a:ext cx="5823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Anteceden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6 Rectángulo"/>
          <p:cNvSpPr/>
          <p:nvPr/>
        </p:nvSpPr>
        <p:spPr>
          <a:xfrm>
            <a:off x="684360" y="1058760"/>
            <a:ext cx="415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6600"/>
                </a:solidFill>
                <a:latin typeface="Arial"/>
              </a:rPr>
              <a:t>“</a:t>
            </a:r>
            <a:r>
              <a:rPr b="1" i="1" lang="es-CL" sz="2000" spc="-1" strike="noStrike">
                <a:solidFill>
                  <a:srgbClr val="ff6600"/>
                </a:solidFill>
                <a:latin typeface="Arial"/>
              </a:rPr>
              <a:t>El Debut de la Banda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1 Imagen" descr=""/>
          <p:cNvPicPr/>
          <p:nvPr/>
        </p:nvPicPr>
        <p:blipFill>
          <a:blip r:embed="rId1"/>
          <a:stretch/>
        </p:blipFill>
        <p:spPr>
          <a:xfrm>
            <a:off x="554040" y="1579680"/>
            <a:ext cx="3895560" cy="3857400"/>
          </a:xfrm>
          <a:prstGeom prst="rect">
            <a:avLst/>
          </a:prstGeom>
          <a:ln w="0">
            <a:noFill/>
          </a:ln>
        </p:spPr>
      </p:pic>
      <p:sp>
        <p:nvSpPr>
          <p:cNvPr id="594" name="2 Rectángulo"/>
          <p:cNvSpPr/>
          <p:nvPr/>
        </p:nvSpPr>
        <p:spPr>
          <a:xfrm>
            <a:off x="4452840" y="1749600"/>
            <a:ext cx="4572000" cy="40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Serie  audiovisual dirigida a jóvenes de educación media, resultado de la alianza entre SII, Aduana y Tesorería, más la colaboración del Consejo Nacional de Televisión (CNTV)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La serie cuenta con 4 capítulos, de 10 minutos aproximadamente, en los cuales a través de las aventuras de cuatro jóvenes músicos, se abordan aspectos generales de la Administración Tributaria de Chile, junto a contenidos de los tres ejes de la educación fiscal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l Debut de la Banda” fue puesta a disposición de la Red de Educación Fiscal por el Programa de Educación Fiscal del SII, por solicitud emanada en encuentro realizado en Brasilia. La adaptación y coordinación de la misma es realizada en el marco de EUROsociAL II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1 Imagen" descr=""/>
          <p:cNvPicPr/>
          <p:nvPr/>
        </p:nvPicPr>
        <p:blipFill>
          <a:blip r:embed="rId2"/>
          <a:stretch/>
        </p:blipFill>
        <p:spPr>
          <a:xfrm>
            <a:off x="7724880" y="5942160"/>
            <a:ext cx="931680" cy="593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2"/>
          <p:cNvSpPr/>
          <p:nvPr/>
        </p:nvSpPr>
        <p:spPr>
          <a:xfrm>
            <a:off x="1541520" y="12600"/>
            <a:ext cx="5823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Anteceden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5 Imagen" descr=""/>
          <p:cNvPicPr/>
          <p:nvPr/>
        </p:nvPicPr>
        <p:blipFill>
          <a:blip r:embed="rId1"/>
          <a:stretch/>
        </p:blipFill>
        <p:spPr>
          <a:xfrm>
            <a:off x="1427040" y="1195560"/>
            <a:ext cx="2438640" cy="16873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" descr="d:\jorge.guzman\Mis documentos\Escritorio\Untitled 4.jpg"/>
          <p:cNvPicPr/>
          <p:nvPr/>
        </p:nvPicPr>
        <p:blipFill>
          <a:blip r:embed="rId2"/>
          <a:stretch/>
        </p:blipFill>
        <p:spPr>
          <a:xfrm>
            <a:off x="4883040" y="1195560"/>
            <a:ext cx="2309760" cy="1699920"/>
          </a:xfrm>
          <a:prstGeom prst="rect">
            <a:avLst/>
          </a:prstGeom>
          <a:ln w="0">
            <a:noFill/>
          </a:ln>
        </p:spPr>
      </p:pic>
      <p:sp>
        <p:nvSpPr>
          <p:cNvPr id="599" name="1 CuadroTexto"/>
          <p:cNvSpPr/>
          <p:nvPr/>
        </p:nvSpPr>
        <p:spPr>
          <a:xfrm>
            <a:off x="4551480" y="866880"/>
            <a:ext cx="297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iieduca.cl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, sección Jóven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2 Rectángulo"/>
          <p:cNvSpPr/>
          <p:nvPr/>
        </p:nvSpPr>
        <p:spPr>
          <a:xfrm>
            <a:off x="1076400" y="3335400"/>
            <a:ext cx="7113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.- Serie es concebida como una “excusa educativa”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.- Se elaboraron guías educativas de cómo usar el material y cómo se vincula a temas curriculares.(Elaboradas con asesoría pedagógica del CNTV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3.- Se potencian contenidos fiscales transversales y aquellos relacionados con la función general de la administración tributari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1 Imagen" descr=""/>
          <p:cNvPicPr/>
          <p:nvPr/>
        </p:nvPicPr>
        <p:blipFill>
          <a:blip r:embed="rId4"/>
          <a:stretch/>
        </p:blipFill>
        <p:spPr>
          <a:xfrm>
            <a:off x="7724880" y="5942160"/>
            <a:ext cx="931680" cy="593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1541520" y="12600"/>
            <a:ext cx="5823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Metodología de trabaj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6 Rectángulo"/>
          <p:cNvSpPr/>
          <p:nvPr/>
        </p:nvSpPr>
        <p:spPr>
          <a:xfrm>
            <a:off x="684360" y="1058760"/>
            <a:ext cx="763092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1.- Generación de solicitud formal de los país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2.- Envío de cuestionario para registro de modificacion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3.- Envío de guiones para observaciones específica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4.- Recepción de la información (observaciones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5.- Gestión con la productora audiovisual para  la realización de las adaptaciones a las realidades loca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6.- Trabajo de adaptación (productora- encargado por país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7.- Revisión final del material (versiones)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8.- Lanzamiento y puesta a disposición del materia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1 Imagen" descr=""/>
          <p:cNvPicPr/>
          <p:nvPr/>
        </p:nvPicPr>
        <p:blipFill>
          <a:blip r:embed="rId1"/>
          <a:stretch/>
        </p:blipFill>
        <p:spPr>
          <a:xfrm>
            <a:off x="7724880" y="5942160"/>
            <a:ext cx="931680" cy="593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2"/>
          <p:cNvSpPr/>
          <p:nvPr/>
        </p:nvSpPr>
        <p:spPr>
          <a:xfrm>
            <a:off x="1541520" y="12600"/>
            <a:ext cx="5823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ACCIONES DESTACADAS 20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6 Rectángulo"/>
          <p:cNvSpPr/>
          <p:nvPr/>
        </p:nvSpPr>
        <p:spPr>
          <a:xfrm>
            <a:off x="684360" y="965160"/>
            <a:ext cx="763092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1.- Solicitud formal de los país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3667c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Costa Ri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3667c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El Salvad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3667c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Guatema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3667c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Méxic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3667c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Per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3667c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667ca"/>
                </a:solidFill>
                <a:latin typeface="Arial"/>
              </a:rPr>
              <a:t>Urugu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4" descr=""/>
          <p:cNvPicPr/>
          <p:nvPr/>
        </p:nvPicPr>
        <p:blipFill>
          <a:blip r:embed="rId1"/>
          <a:stretch/>
        </p:blipFill>
        <p:spPr>
          <a:xfrm>
            <a:off x="7294680" y="5921280"/>
            <a:ext cx="933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53" descr=""/>
          <p:cNvPicPr/>
          <p:nvPr/>
        </p:nvPicPr>
        <p:blipFill>
          <a:blip r:embed="rId1"/>
          <a:stretch/>
        </p:blipFill>
        <p:spPr>
          <a:xfrm>
            <a:off x="7969320" y="6110280"/>
            <a:ext cx="933480" cy="592200"/>
          </a:xfrm>
          <a:prstGeom prst="rect">
            <a:avLst/>
          </a:prstGeom>
          <a:ln w="0">
            <a:noFill/>
          </a:ln>
        </p:spPr>
      </p:pic>
      <p:sp>
        <p:nvSpPr>
          <p:cNvPr id="609" name="6 Rectángulo"/>
          <p:cNvSpPr/>
          <p:nvPr/>
        </p:nvSpPr>
        <p:spPr>
          <a:xfrm>
            <a:off x="804960" y="155520"/>
            <a:ext cx="7630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2.- Envío de cuestionario para registro de modificacion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1068480" y="871560"/>
          <a:ext cx="6724440" cy="941400"/>
        </p:xfrm>
        <a:graphic>
          <a:graphicData uri="http://schemas.openxmlformats.org/drawingml/2006/table">
            <a:tbl>
              <a:tblPr/>
              <a:tblGrid>
                <a:gridCol w="2241360"/>
                <a:gridCol w="2241720"/>
                <a:gridCol w="2241360"/>
              </a:tblGrid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ís:   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ción: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able: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6980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os de Contacto: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1096920" y="1870200"/>
          <a:ext cx="6710400" cy="1255680"/>
        </p:xfrm>
        <a:graphic>
          <a:graphicData uri="http://schemas.openxmlformats.org/drawingml/2006/table">
            <a:tbl>
              <a:tblPr/>
              <a:tblGrid>
                <a:gridCol w="1119240"/>
                <a:gridCol w="1117440"/>
                <a:gridCol w="1238400"/>
                <a:gridCol w="1195560"/>
                <a:gridCol w="1182600"/>
                <a:gridCol w="857160"/>
              </a:tblGrid>
              <a:tr h="1076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Posible adaptar la serie (Sí-No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que Capítulos posibles de adaptar (1,2,3,4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que requerimientos de adaptación de gráficas (1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que requerimientos especiales de doblaje (2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que otros requerimiento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79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612" name="5 Rectángulo"/>
          <p:cNvSpPr/>
          <p:nvPr/>
        </p:nvSpPr>
        <p:spPr>
          <a:xfrm>
            <a:off x="550800" y="3317760"/>
            <a:ext cx="79344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1.- Cada capítulo cuenta con una explicación gráfica, que dice relación a la función de la institución a la que se hace referencia en el capítulo. Estas gráficas deben ser adaptadas a las realidades locales, en el mismo formato, estilo y duración de las originales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2.- En este punto debe indicar si detectó algún título, palabra, frase, o diálogo, que crea deba modificarse. (por resultar ofensivo, confuso, etc.). Se debe tomar en cuenta que el doblaje se intentará realizar lo más neutral posibl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3.- Debe indicar cualquier requerimiento especial que usted crea sea necesario. Debe considerar que la adaptación no incluye la grabación de nuevas escenas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3" name=""/>
          <p:cNvGraphicFramePr/>
          <p:nvPr/>
        </p:nvGraphicFramePr>
        <p:xfrm>
          <a:off x="969840" y="1181160"/>
          <a:ext cx="7204320" cy="4443480"/>
        </p:xfrm>
        <a:graphic>
          <a:graphicData uri="http://schemas.openxmlformats.org/drawingml/2006/table">
            <a:tbl>
              <a:tblPr/>
              <a:tblGrid>
                <a:gridCol w="1387440"/>
                <a:gridCol w="1374840"/>
                <a:gridCol w="1521000"/>
                <a:gridCol w="1468440"/>
                <a:gridCol w="1452600"/>
              </a:tblGrid>
              <a:tr h="928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Posible adaptar la serie (</a:t>
                      </a:r>
                      <a:r>
                        <a:rPr b="1" lang="es-CL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í-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que Capítulos posibles de adaptar (1,2,3,4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que requerimientos de adaptación de gráficas (1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que requerimientos especiales de doblaje (2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que otros requerimiento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a Rica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-3-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biar logos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biar “boleta” por factura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minar devolución de impuesto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9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Salvado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-3-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biar SII por DGII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U por examen de admisión para la U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8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uatemala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-3-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ogos y gráfica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 incorporan modismos propios (Guiones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edición del capítulo 2. (Omitir devolución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7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éxico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-3-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 adjuntan gráfica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ambio de municipalidad por escuela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3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erú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-3-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II por SUNA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rminos coloquiales: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ro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 tiro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ola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VA por I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uesto General a las Ventas  - IGV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8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ugua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-3-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I por Dirección General Impositiva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ipalidad por Casa de la cultura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leta de Honorarios por Boleta de Servicio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614" name="6 Rectángulo"/>
          <p:cNvSpPr/>
          <p:nvPr/>
        </p:nvSpPr>
        <p:spPr>
          <a:xfrm>
            <a:off x="804960" y="0"/>
            <a:ext cx="7630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2 y 3- Envío de cuestionario para registro de modificaciones y observaciones a guion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6" descr=""/>
          <p:cNvPicPr/>
          <p:nvPr/>
        </p:nvPicPr>
        <p:blipFill>
          <a:blip r:embed="rId1"/>
          <a:stretch/>
        </p:blipFill>
        <p:spPr>
          <a:xfrm>
            <a:off x="7502400" y="5989680"/>
            <a:ext cx="933480" cy="5968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7" descr="C:\Users\Jorge\Desktop\Ajustes imagenes video cap I octubre 2013 Costa Rica-1.jpg"/>
          <p:cNvPicPr/>
          <p:nvPr/>
        </p:nvPicPr>
        <p:blipFill>
          <a:blip r:embed="rId1"/>
          <a:stretch/>
        </p:blipFill>
        <p:spPr>
          <a:xfrm>
            <a:off x="1225440" y="1341360"/>
            <a:ext cx="6257880" cy="4486320"/>
          </a:xfrm>
          <a:prstGeom prst="rect">
            <a:avLst/>
          </a:prstGeom>
          <a:ln w="0">
            <a:noFill/>
          </a:ln>
        </p:spPr>
      </p:pic>
      <p:sp>
        <p:nvSpPr>
          <p:cNvPr id="617" name="3 CuadroTexto"/>
          <p:cNvSpPr/>
          <p:nvPr/>
        </p:nvSpPr>
        <p:spPr>
          <a:xfrm>
            <a:off x="1243800" y="757080"/>
            <a:ext cx="41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 Costa Rica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8" descr=""/>
          <p:cNvPicPr/>
          <p:nvPr/>
        </p:nvPicPr>
        <p:blipFill>
          <a:blip r:embed="rId2"/>
          <a:stretch/>
        </p:blipFill>
        <p:spPr>
          <a:xfrm>
            <a:off x="7635960" y="5961240"/>
            <a:ext cx="933480" cy="59688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8" descr=""/>
          <p:cNvPicPr/>
          <p:nvPr/>
        </p:nvPicPr>
        <p:blipFill>
          <a:blip r:embed="rId1"/>
          <a:stretch/>
        </p:blipFill>
        <p:spPr>
          <a:xfrm>
            <a:off x="1009800" y="1477800"/>
            <a:ext cx="3220920" cy="208152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"/>
          <p:cNvPicPr/>
          <p:nvPr/>
        </p:nvPicPr>
        <p:blipFill>
          <a:blip r:embed="rId2"/>
          <a:stretch/>
        </p:blipFill>
        <p:spPr>
          <a:xfrm>
            <a:off x="4881600" y="1477800"/>
            <a:ext cx="3009960" cy="2081520"/>
          </a:xfrm>
          <a:prstGeom prst="rect">
            <a:avLst/>
          </a:prstGeom>
          <a:ln w="0">
            <a:noFill/>
          </a:ln>
        </p:spPr>
      </p:pic>
      <p:sp>
        <p:nvSpPr>
          <p:cNvPr id="621" name="9 CuadroTexto"/>
          <p:cNvSpPr/>
          <p:nvPr/>
        </p:nvSpPr>
        <p:spPr>
          <a:xfrm>
            <a:off x="959040" y="893880"/>
            <a:ext cx="33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 México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10" descr=""/>
          <p:cNvPicPr/>
          <p:nvPr/>
        </p:nvPicPr>
        <p:blipFill>
          <a:blip r:embed="rId3"/>
          <a:stretch/>
        </p:blipFill>
        <p:spPr>
          <a:xfrm>
            <a:off x="1041480" y="3784680"/>
            <a:ext cx="3220920" cy="22082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11" descr=""/>
          <p:cNvPicPr/>
          <p:nvPr/>
        </p:nvPicPr>
        <p:blipFill>
          <a:blip r:embed="rId4"/>
          <a:stretch/>
        </p:blipFill>
        <p:spPr>
          <a:xfrm>
            <a:off x="4719600" y="3784680"/>
            <a:ext cx="3171960" cy="220824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12" descr=""/>
          <p:cNvPicPr/>
          <p:nvPr/>
        </p:nvPicPr>
        <p:blipFill>
          <a:blip r:embed="rId5"/>
          <a:stretch/>
        </p:blipFill>
        <p:spPr>
          <a:xfrm>
            <a:off x="7763040" y="5992920"/>
            <a:ext cx="933120" cy="59688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9T12:36:47Z</dcterms:created>
  <dc:creator>Oficina Computación Personal</dc:creator>
  <dc:description/>
  <dc:language>en-US</dc:language>
  <cp:lastModifiedBy>Jorge</cp:lastModifiedBy>
  <dcterms:modified xsi:type="dcterms:W3CDTF">2013-11-22T00:52:01Z</dcterms:modified>
  <cp:revision>2112</cp:revision>
  <dc:subject/>
  <dc:title>Diapositiva 1</dc:title>
</cp:coreProperties>
</file>