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720" y="368280"/>
            <a:ext cx="7127640" cy="32400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.pdf" descr=""/>
          <p:cNvPicPr/>
          <p:nvPr/>
        </p:nvPicPr>
        <p:blipFill>
          <a:blip r:embed="rId2"/>
          <a:srcRect l="0" t="4659" r="0" b="0"/>
          <a:stretch/>
        </p:blipFill>
        <p:spPr>
          <a:xfrm>
            <a:off x="0" y="44280"/>
            <a:ext cx="1073160" cy="720720"/>
          </a:xfrm>
          <a:prstGeom prst="rect">
            <a:avLst/>
          </a:prstGeom>
          <a:ln w="0">
            <a:noFill/>
          </a:ln>
        </p:spPr>
      </p:pic>
      <p:pic>
        <p:nvPicPr>
          <p:cNvPr id="2" name="image.png" descr=""/>
          <p:cNvPicPr/>
          <p:nvPr/>
        </p:nvPicPr>
        <p:blipFill>
          <a:blip r:embed="rId3"/>
          <a:srcRect l="34357" t="43975" r="2021" b="17590"/>
          <a:stretch/>
        </p:blipFill>
        <p:spPr>
          <a:xfrm>
            <a:off x="826920" y="530280"/>
            <a:ext cx="1189080" cy="1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2249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antonio.l.baltazar@receita.fazenda.gov.b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.p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image-3.png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5486400"/>
            <a:ext cx="53118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a3"/>
                </a:solidFill>
                <a:latin typeface="Arial"/>
                <a:ea typeface="Arial"/>
              </a:rPr>
              <a:t>Porto Alegre, Brasil, Novembro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22480" y="1730520"/>
            <a:ext cx="7873920" cy="2873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700" spc="-1" strike="noStrike">
                <a:solidFill>
                  <a:srgbClr val="2929a3"/>
                </a:solidFill>
                <a:latin typeface="Arial"/>
                <a:ea typeface="Arial"/>
              </a:rPr>
              <a:t>Taller Regional de Educación Fiscal en el Ambito de la Enseñanza Superi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700" spc="-1" strike="noStrike">
                <a:solidFill>
                  <a:srgbClr val="2929a3"/>
                </a:solidFill>
                <a:latin typeface="Arial"/>
                <a:ea typeface="Arial"/>
              </a:rPr>
              <a:t>Autoatendimento Orient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-9.png" descr=""/>
          <p:cNvPicPr/>
          <p:nvPr/>
        </p:nvPicPr>
        <p:blipFill>
          <a:blip r:embed="rId3"/>
          <a:stretch/>
        </p:blipFill>
        <p:spPr>
          <a:xfrm>
            <a:off x="3630600" y="374760"/>
            <a:ext cx="3989520" cy="56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53080" y="6356520"/>
            <a:ext cx="2133720" cy="19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6F772A-3337-4A22-8916-BC121B271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asted-image.png" descr=""/>
          <p:cNvPicPr/>
          <p:nvPr/>
        </p:nvPicPr>
        <p:blipFill>
          <a:blip r:embed="rId4"/>
          <a:stretch/>
        </p:blipFill>
        <p:spPr>
          <a:xfrm>
            <a:off x="7848720" y="374760"/>
            <a:ext cx="815760" cy="47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image.jpg" descr=""/>
          <p:cNvPicPr/>
          <p:nvPr/>
        </p:nvPicPr>
        <p:blipFill>
          <a:blip r:embed="rId1"/>
          <a:stretch/>
        </p:blipFill>
        <p:spPr>
          <a:xfrm>
            <a:off x="2838600" y="797040"/>
            <a:ext cx="4686120" cy="60166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grpSp>
        <p:nvGrpSpPr>
          <p:cNvPr id="661" name=""/>
          <p:cNvGrpSpPr/>
          <p:nvPr/>
        </p:nvGrpSpPr>
        <p:grpSpPr>
          <a:xfrm>
            <a:off x="324000" y="981000"/>
            <a:ext cx="2347920" cy="662040"/>
            <a:chOff x="324000" y="981000"/>
            <a:chExt cx="2347920" cy="662040"/>
          </a:xfrm>
        </p:grpSpPr>
        <p:sp>
          <p:nvSpPr>
            <p:cNvPr id="662" name=""/>
            <p:cNvSpPr/>
            <p:nvPr/>
          </p:nvSpPr>
          <p:spPr>
            <a:xfrm>
              <a:off x="324000" y="981000"/>
              <a:ext cx="2347920" cy="6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4000" y="981000"/>
              <a:ext cx="234792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4600"/>
                  <a:tab algn="l" pos="888840"/>
                  <a:tab algn="l" pos="1346040"/>
                  <a:tab algn="l" pos="1790640"/>
                  <a:tab algn="l" pos="2235240"/>
                  <a:tab algn="l" pos="2692440"/>
                  <a:tab algn="l" pos="3137040"/>
                  <a:tab algn="l" pos="3581280"/>
                  <a:tab algn="l" pos="4038480"/>
                  <a:tab algn="l" pos="4483080"/>
                  <a:tab algn="l" pos="4940280"/>
                  <a:tab algn="l" pos="5384880"/>
                  <a:tab algn="l" pos="5829480"/>
                  <a:tab algn="l" pos="6286680"/>
                  <a:tab algn="l" pos="6730920"/>
                  <a:tab algn="l" pos="7175520"/>
                  <a:tab algn="l" pos="7632720"/>
                  <a:tab algn="l" pos="8077320"/>
                  <a:tab algn="l" pos="8534520"/>
                  <a:tab algn="l" pos="89787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EXO 3 – Formulário Eletrônico da Pesquisa de Satisf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33200" y="1141560"/>
            <a:ext cx="8875800" cy="571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OBJETIVO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reparar os colaboradores do serviço de Autoatendimento Orientado, especialmente os estudantes universitários candidatos a estagiários na RFB, para atuarem neste formato de serviço prestando atendimento de qualidade, com base na Missão e Valores da RFB e em conformidade com os fundamentos da Educação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OBJETIVOS ESPECÍF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presentar a estrutura da RFB, sua missão, visão e valores, para engajar o colaborador nos princípios que norteiam a atividade da institui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apacitar os colaboradores para instruir o contribuinte sobre o uso das ferramentas disponíveis no sítio da RFB e nos serviços do portal e-C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restar um serviço de qualidade com excelência e conclusividade no atendimento, tendo em vista a excelência no serviço público fed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Levar conhecimento e propiciar discussão crítica acerca da função social do tributo, da importância de sua correta aplicação, de modo a atuar como multiplicador no incentivo ao desenvolvimento e exercício da cidad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ÚBLICO AL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00" indent="-36720" algn="just">
              <a:lnSpc>
                <a:spcPct val="100000"/>
              </a:lnSpc>
              <a:tabLst>
                <a:tab algn="l" pos="0"/>
                <a:tab algn="l" pos="266760"/>
                <a:tab algn="l" pos="711360"/>
                <a:tab algn="l" pos="1168560"/>
                <a:tab algn="l" pos="1612800"/>
                <a:tab algn="l" pos="2057400"/>
                <a:tab algn="l" pos="2514600"/>
                <a:tab algn="l" pos="2959200"/>
                <a:tab algn="l" pos="3416400"/>
                <a:tab algn="l" pos="3860640"/>
                <a:tab algn="l" pos="4305240"/>
                <a:tab algn="l" pos="4762440"/>
                <a:tab algn="l" pos="5207040"/>
                <a:tab algn="l" pos="5651640"/>
                <a:tab algn="l" pos="6108840"/>
                <a:tab algn="l" pos="6553080"/>
                <a:tab algn="l" pos="7010280"/>
                <a:tab algn="l" pos="7454880"/>
                <a:tab algn="l" pos="7899480"/>
                <a:tab algn="l" pos="8356680"/>
                <a:tab algn="l" pos="880128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Pessoal que atuará no serviço de Autoatendimento Orientado da RFB na 3ª RF: supervisores, triadores e estagiá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17600" y="765000"/>
            <a:ext cx="6624720" cy="559080"/>
          </a:xfrm>
          <a:prstGeom prst="pie">
            <a:avLst/>
          </a:prstGeom>
          <a:solidFill>
            <a:srgbClr val="2929a3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5f5f5"/>
                </a:solidFill>
                <a:latin typeface="Tahoma"/>
                <a:ea typeface="Tahoma"/>
              </a:rPr>
              <a:t>PLANO BÁSICO PARA TREINAMENTO DO PESSOAL DO SERVIÇO DE AUTOATENDIMENTO ORIEN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987640" y="966960"/>
            <a:ext cx="5256360" cy="53316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CONTEÚDO PROGRAMÁTICO SUGER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(Carga horária total de 16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6400" y="1887480"/>
          <a:ext cx="8501040" cy="4601880"/>
        </p:xfrm>
        <a:graphic>
          <a:graphicData uri="http://schemas.openxmlformats.org/drawingml/2006/table">
            <a:tbl>
              <a:tblPr/>
              <a:tblGrid>
                <a:gridCol w="3693960"/>
                <a:gridCol w="1162440"/>
                <a:gridCol w="3644640"/>
              </a:tblGrid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CIPL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GA HORÁ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TOD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ções de Financiamento do Estado Brasileiro e a função socioeconômica do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werPoint, leitura do texto e discussão no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Nacional de Educação Fis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lestra e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rutura e Papel da Receita Federal d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esentação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celência no Atend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resentação em Powerpoi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 Atendimento na RFB e principais serviços ofere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osição oral e apresentação em Pow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boratório: Sítio da RFB na Internet e portal e-C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werpoint e vídeo sobre e-CA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vegação pelo sítio e portal e-CAC sob orientação do instrutor e monitor. Criação de códigos de acesso, ver caixa postal, opção pelo D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boratório: Autoatendimento orien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Apresentação em Powerpoint e navegação pelos serviços definidos para o Autoatendimen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tabLst>
                          <a:tab algn="l" pos="0"/>
                          <a:tab algn="l" pos="444600"/>
                          <a:tab algn="l" pos="888840"/>
                          <a:tab algn="l" pos="1346040"/>
                          <a:tab algn="l" pos="1790640"/>
                          <a:tab algn="l" pos="2235240"/>
                          <a:tab algn="l" pos="2692440"/>
                          <a:tab algn="l" pos="3137040"/>
                          <a:tab algn="l" pos="3581280"/>
                          <a:tab algn="l" pos="4038480"/>
                          <a:tab algn="l" pos="4483080"/>
                          <a:tab algn="l" pos="4940280"/>
                          <a:tab algn="l" pos="5384880"/>
                          <a:tab algn="l" pos="5829480"/>
                          <a:tab algn="l" pos="6286680"/>
                          <a:tab algn="l" pos="6730920"/>
                          <a:tab algn="l" pos="7175520"/>
                          <a:tab algn="l" pos="7632720"/>
                          <a:tab algn="l" pos="8077320"/>
                          <a:tab algn="l" pos="8534520"/>
                          <a:tab algn="l" pos="89787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Orientações sobre Autoatendimento mediante planejamentos entre Chefia do CAC, supervisores, triadores e estagi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789280" y="833400"/>
            <a:ext cx="5653080" cy="723960"/>
          </a:xfrm>
          <a:prstGeom prst="pie">
            <a:avLst/>
          </a:prstGeom>
          <a:solidFill>
            <a:srgbClr val="292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squisa de Satisfação do Autoatendimento Crítica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9640" y="1700280"/>
            <a:ext cx="8388360" cy="4965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STE ESPAÇO É ÓTIMO, ANTES A GENTE FICAVA TENTANDO UMA SENHA VARIOS DIAS ESPERANDO PARA RESOLVER UM ASSUNTO BEM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uito bom o serviço. estavamos precisando mesmo. Gra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U APRENDI TIRAR O COMPROVANTE DO MEU CPF, POIS VIVO PERDENDO  MAS A MOCA DISSE QUE POSSO TIRAR  ATÉ NA LAN PERTO DE MINHA CASA, ISSO É LEGAL ME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 esse serviço pode ser feito pela internet, porque não é explicado  quando vamos falar com as atendentes.  Seria muito melhor pra todos. Assim ninguém é prejudicado, pois todos temos compromisso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CHO QUE COM MAIS UM POUQUINHO EU CONSIGO APRENDER USAR A PAGINA DA RECE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arabenizar o auxilio prestado pelo atendente que foi de fundamental importancia para  resolver o problema, tendo sido muito prest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 tempo de espera é muito grande, seria melhor que tivesse mais computadores a disposição do contribui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4572000" y="342900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26160" y="3683160"/>
            <a:ext cx="1269720" cy="126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079960" y="393696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4191120"/>
            <a:ext cx="1269720" cy="126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87920" y="444492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42080" y="4699080"/>
            <a:ext cx="1270080" cy="12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4952880"/>
            <a:ext cx="1270080" cy="1270080"/>
          </a:xfrm>
          <a:prstGeom prst="line">
            <a:avLst/>
          </a:prstGeom>
          <a:ln w="12600">
            <a:solidFill>
              <a:srgbClr val="8e8e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6760" y="1600200"/>
            <a:ext cx="8224920" cy="525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a3"/>
                </a:solidFill>
                <a:latin typeface="Calibri"/>
                <a:ea typeface="Calibri"/>
              </a:rPr>
              <a:t>Antônio Henrique Lindemberg Balt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a3"/>
                </a:solidFill>
                <a:latin typeface="Calibri"/>
                <a:ea typeface="Calibri"/>
              </a:rPr>
              <a:t>Coordenador Nacional de Educação Fiscal e Memória Institucional - Receita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antonio.l.baltazar@receita.fazenda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6400" y="1236600"/>
            <a:ext cx="2021040" cy="63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Tahoma"/>
                <a:ea typeface="Tahoma"/>
              </a:rPr>
              <a:t>Concei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" y="2476440"/>
            <a:ext cx="8077320" cy="40593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44444"/>
                </a:solidFill>
                <a:latin typeface="Arial"/>
                <a:ea typeface="Arial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rviço de apoio ao contribuinte, especialmente àqueles menos providos de recursos tecnológicos para acesso independente ao portal de serviços eletrônicos da Receita Fedral (e-Cac). O espaço de autoatendimento reveste-se de forte aspecto educativo e de respeito à cidadania, configurando-se numa perfeita integração entre Atendimento e Educação Fisc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44444"/>
                </a:solidFill>
                <a:latin typeface="Arial"/>
                <a:ea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240" y="1101600"/>
            <a:ext cx="8153280" cy="516096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erecer autoatendimento orientado para facilitar ao contribuinte a obtenção de serviços que podem ser buscados de maneira autônoma pela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bjetivos Específ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entação personalizada ao contribuinte para obtenção dos serviços disponíveis no sítio da RFB na internet e, especialmente, no ambiente e-CA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) Informações gerais e disponibilização de folhetos educativos acerca dos serviços disponíveis por meio da inter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)  Oferecimento dos serviços públicos disponíveis no sítio da RFB que não necessitam de senha de ac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838080"/>
            <a:ext cx="8153640" cy="3862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60280" indent="-2602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cbc"/>
                </a:solidFill>
                <a:latin typeface="Arial"/>
                <a:ea typeface="Arial"/>
              </a:rPr>
              <a:t>Estrutura do Espaço de Autoat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0cb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aboradores: Supervisor de Autoatendimento e equipe de Estagi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específico com computadores e impress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soal identificado com coletes “posso ajudar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just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hetos de orientação sobre serviço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126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164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Logomarca RFB.png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image.jpg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234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268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306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372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.jpg" descr=""/>
          <p:cNvPicPr/>
          <p:nvPr/>
        </p:nvPicPr>
        <p:blipFill>
          <a:blip r:embed="rId2"/>
          <a:stretch/>
        </p:blipFill>
        <p:spPr>
          <a:xfrm>
            <a:off x="619200" y="914400"/>
            <a:ext cx="7905600" cy="593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376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410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448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514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.jpg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696440" cy="5771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0"/>
            <a:ext cx="9144000" cy="958680"/>
            <a:chOff x="0" y="0"/>
            <a:chExt cx="9144000" cy="958680"/>
          </a:xfrm>
        </p:grpSpPr>
        <p:sp>
          <p:nvSpPr>
            <p:cNvPr id="518" name=""/>
            <p:cNvSpPr/>
            <p:nvPr/>
          </p:nvSpPr>
          <p:spPr>
            <a:xfrm>
              <a:off x="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0440" y="0"/>
              <a:ext cx="2696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0440" y="0"/>
              <a:ext cx="280440" cy="95868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1240" y="0"/>
              <a:ext cx="2804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11680" y="0"/>
              <a:ext cx="269640" cy="95868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816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62480" y="0"/>
              <a:ext cx="280440" cy="95868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43280" y="0"/>
              <a:ext cx="269640" cy="9586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12920" y="0"/>
              <a:ext cx="280440" cy="95868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93720" y="0"/>
              <a:ext cx="280440" cy="95868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74520" y="0"/>
              <a:ext cx="269640" cy="9586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4520" y="0"/>
              <a:ext cx="280440" cy="95868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24960" y="0"/>
              <a:ext cx="280440" cy="95868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05760" y="0"/>
              <a:ext cx="269640" cy="95868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75760" y="0"/>
              <a:ext cx="280440" cy="9586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56200" y="0"/>
              <a:ext cx="280440" cy="95868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37000" y="0"/>
              <a:ext cx="269640" cy="95868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07000" y="0"/>
              <a:ext cx="280440" cy="95868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87800" y="0"/>
              <a:ext cx="280440" cy="95868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240" y="0"/>
              <a:ext cx="269640" cy="95868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38240" y="0"/>
              <a:ext cx="280440" cy="95868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19040" y="0"/>
              <a:ext cx="280440" cy="95868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9480" y="0"/>
              <a:ext cx="269640" cy="9586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69480" y="0"/>
              <a:ext cx="280440" cy="95868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50280" y="0"/>
              <a:ext cx="2804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1080" y="0"/>
              <a:ext cx="269640" cy="9586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0720" y="0"/>
              <a:ext cx="280440" cy="95868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81520" y="0"/>
              <a:ext cx="280440" cy="95868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62320" y="0"/>
              <a:ext cx="2696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32320" y="0"/>
              <a:ext cx="280440" cy="9586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127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593560" y="0"/>
              <a:ext cx="2696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863560" y="0"/>
              <a:ext cx="280440" cy="9586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-7920" y="789120"/>
            <a:ext cx="9144000" cy="150840"/>
            <a:chOff x="-7920" y="789120"/>
            <a:chExt cx="9144000" cy="150840"/>
          </a:xfrm>
        </p:grpSpPr>
        <p:sp>
          <p:nvSpPr>
            <p:cNvPr id="552" name=""/>
            <p:cNvSpPr/>
            <p:nvPr/>
          </p:nvSpPr>
          <p:spPr>
            <a:xfrm>
              <a:off x="-7920" y="78912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-7920" y="793080"/>
              <a:ext cx="9144000" cy="43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-7920" y="797760"/>
              <a:ext cx="9144000" cy="432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-7920" y="801720"/>
              <a:ext cx="9144000" cy="3240"/>
            </a:xfrm>
            <a:prstGeom prst="pie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-7920" y="805320"/>
              <a:ext cx="9144000" cy="4320"/>
            </a:xfrm>
            <a:prstGeom prst="pie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-7920" y="809640"/>
              <a:ext cx="9144000" cy="432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-7920" y="813960"/>
              <a:ext cx="9144000" cy="3240"/>
            </a:xfrm>
            <a:prstGeom prst="pie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-7920" y="817560"/>
              <a:ext cx="9144000" cy="432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-7920" y="821880"/>
              <a:ext cx="9144000" cy="4320"/>
            </a:xfrm>
            <a:prstGeom prst="pie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-7920" y="826200"/>
              <a:ext cx="9144000" cy="43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7920" y="830520"/>
              <a:ext cx="9144000" cy="3240"/>
            </a:xfrm>
            <a:prstGeom prst="pie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-7920" y="833760"/>
              <a:ext cx="9144000" cy="43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7920" y="838080"/>
              <a:ext cx="9144000" cy="432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7920" y="842400"/>
              <a:ext cx="9144000" cy="324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-7920" y="846000"/>
              <a:ext cx="9144000" cy="4320"/>
            </a:xfrm>
            <a:prstGeom prst="pie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-7920" y="850320"/>
              <a:ext cx="9144000" cy="43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-7920" y="854640"/>
              <a:ext cx="9144000" cy="4320"/>
            </a:xfrm>
            <a:prstGeom prst="pie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-7920" y="858960"/>
              <a:ext cx="9144000" cy="324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-7920" y="862200"/>
              <a:ext cx="9144000" cy="432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-7920" y="866520"/>
              <a:ext cx="9144000" cy="4320"/>
            </a:xfrm>
            <a:prstGeom prst="pie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-7920" y="870840"/>
              <a:ext cx="9144000" cy="3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-7920" y="874440"/>
              <a:ext cx="9144000" cy="4320"/>
            </a:xfrm>
            <a:prstGeom prst="pi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-7920" y="878760"/>
              <a:ext cx="9144000" cy="43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-7920" y="883080"/>
              <a:ext cx="9144000" cy="432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-7920" y="887400"/>
              <a:ext cx="9144000" cy="324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-7920" y="891000"/>
              <a:ext cx="9144000" cy="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-7920" y="895320"/>
              <a:ext cx="9144000" cy="4320"/>
            </a:xfrm>
            <a:prstGeom prst="pi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-7920" y="899640"/>
              <a:ext cx="9144000" cy="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-7920" y="902880"/>
              <a:ext cx="9144000" cy="4320"/>
            </a:xfrm>
            <a:prstGeom prst="pie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7920" y="907200"/>
              <a:ext cx="9144000" cy="4320"/>
            </a:xfrm>
            <a:prstGeom prst="pie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-7920" y="911520"/>
              <a:ext cx="9144000" cy="432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7920" y="915840"/>
              <a:ext cx="9144000" cy="3240"/>
            </a:xfrm>
            <a:prstGeom prst="pie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7920" y="919440"/>
              <a:ext cx="9144000" cy="4320"/>
            </a:xfrm>
            <a:prstGeom prst="pie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7920" y="923760"/>
              <a:ext cx="9144000" cy="4320"/>
            </a:xfrm>
            <a:prstGeom prst="pie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-7920" y="928080"/>
              <a:ext cx="9144000" cy="3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-7920" y="93132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7920" y="935640"/>
              <a:ext cx="9144000" cy="4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-41040" bIns="-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0" y="890640"/>
            <a:ext cx="9144000" cy="5967360"/>
            <a:chOff x="0" y="890640"/>
            <a:chExt cx="9144000" cy="5967360"/>
          </a:xfrm>
        </p:grpSpPr>
        <p:sp>
          <p:nvSpPr>
            <p:cNvPr id="590" name=""/>
            <p:cNvSpPr/>
            <p:nvPr/>
          </p:nvSpPr>
          <p:spPr>
            <a:xfrm>
              <a:off x="0" y="6680520"/>
              <a:ext cx="9144000" cy="1774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871840" y="890640"/>
              <a:ext cx="272160" cy="578988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6498000"/>
              <a:ext cx="8871840" cy="18252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594640" y="890640"/>
              <a:ext cx="276840" cy="56073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6316200"/>
              <a:ext cx="8594640" cy="18180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16360" y="890640"/>
              <a:ext cx="277920" cy="5425560"/>
            </a:xfrm>
            <a:prstGeom prst="pie">
              <a:avLst/>
            </a:pr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6138720"/>
              <a:ext cx="8316360" cy="1774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39160" y="890640"/>
              <a:ext cx="276840" cy="52480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5956920"/>
              <a:ext cx="8039160" cy="18180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1960" y="890640"/>
              <a:ext cx="276840" cy="5066280"/>
            </a:xfrm>
            <a:prstGeom prst="pie">
              <a:avLst/>
            </a:prstGeom>
            <a:solidFill>
              <a:srgbClr val="e0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5774760"/>
              <a:ext cx="7761960" cy="18180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84040" y="890640"/>
              <a:ext cx="277920" cy="4884120"/>
            </a:xfrm>
            <a:prstGeom prst="pie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592240"/>
              <a:ext cx="7484040" cy="18252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06840" y="890640"/>
              <a:ext cx="276840" cy="4701600"/>
            </a:xfrm>
            <a:prstGeom prst="pie">
              <a:avLst/>
            </a:pr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5414760"/>
              <a:ext cx="7206840" cy="17748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28560" y="890640"/>
              <a:ext cx="277920" cy="45241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5232960"/>
              <a:ext cx="6928560" cy="18180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51360" y="890640"/>
              <a:ext cx="276840" cy="4342320"/>
            </a:xfrm>
            <a:prstGeom prst="pie">
              <a:avLst/>
            </a:prstGeom>
            <a:solidFill>
              <a:srgbClr val="e3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5051160"/>
              <a:ext cx="6651360" cy="18180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3080" y="890640"/>
              <a:ext cx="277920" cy="4160520"/>
            </a:xfrm>
            <a:prstGeom prst="pie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869360"/>
              <a:ext cx="6373080" cy="181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890640"/>
              <a:ext cx="276840" cy="3978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4690800"/>
              <a:ext cx="6095880" cy="17820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23720" y="890640"/>
              <a:ext cx="272160" cy="3800160"/>
            </a:xfrm>
            <a:prstGeom prst="pie">
              <a:avLst/>
            </a:prstGeom>
            <a:solidFill>
              <a:srgbClr val="e7e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4509000"/>
              <a:ext cx="5823720" cy="18180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546520" y="890640"/>
              <a:ext cx="276840" cy="3618360"/>
            </a:xfrm>
            <a:prstGeom prst="pie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4327200"/>
              <a:ext cx="5546520" cy="18180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68240" y="890640"/>
              <a:ext cx="277920" cy="3436560"/>
            </a:xfrm>
            <a:prstGeom prst="pie">
              <a:avLst/>
            </a:prstGeom>
            <a:solidFill>
              <a:srgbClr val="ea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0" y="4148640"/>
              <a:ext cx="5268240" cy="1782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91040" y="890640"/>
              <a:ext cx="276840" cy="3258000"/>
            </a:xfrm>
            <a:prstGeom prst="pie">
              <a:avLst/>
            </a:prstGeom>
            <a:solidFill>
              <a:srgbClr val="e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3966840"/>
              <a:ext cx="4991040" cy="1818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13840" y="890640"/>
              <a:ext cx="276840" cy="3076200"/>
            </a:xfrm>
            <a:prstGeom prst="pie">
              <a:avLst/>
            </a:prstGeom>
            <a:solidFill>
              <a:srgbClr val="ed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3785040"/>
              <a:ext cx="4713840" cy="1818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35920" y="890640"/>
              <a:ext cx="277920" cy="2894400"/>
            </a:xfrm>
            <a:prstGeom prst="pie">
              <a:avLst/>
            </a:prstGeom>
            <a:solidFill>
              <a:srgbClr val="ef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3603240"/>
              <a:ext cx="4435920" cy="1818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58720" y="890640"/>
              <a:ext cx="276840" cy="2712600"/>
            </a:xfrm>
            <a:prstGeom prst="pie">
              <a:avLst/>
            </a:prstGeom>
            <a:solidFill>
              <a:srgbClr val="f1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3425760"/>
              <a:ext cx="4158720" cy="17748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0440" y="890640"/>
              <a:ext cx="277920" cy="2535120"/>
            </a:xfrm>
            <a:prstGeom prst="pie">
              <a:avLst/>
            </a:prstGeom>
            <a:solidFill>
              <a:srgbClr val="f2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3243240"/>
              <a:ext cx="3880440" cy="18252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03240" y="890640"/>
              <a:ext cx="276840" cy="2352600"/>
            </a:xfrm>
            <a:prstGeom prst="pie">
              <a:avLst/>
            </a:prstGeom>
            <a:solidFill>
              <a:srgbClr val="f4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3061080"/>
              <a:ext cx="3603240" cy="18180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24960" y="890640"/>
              <a:ext cx="277920" cy="2170440"/>
            </a:xfrm>
            <a:prstGeom prst="pie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2879280"/>
              <a:ext cx="3324960" cy="18180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48120" y="890640"/>
              <a:ext cx="276840" cy="1988640"/>
            </a:xfrm>
            <a:prstGeom prst="pie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701800"/>
              <a:ext cx="3047760" cy="17748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75600" y="890640"/>
              <a:ext cx="272160" cy="1811160"/>
            </a:xfrm>
            <a:prstGeom prst="pie">
              <a:avLst/>
            </a:prstGeom>
            <a:solidFill>
              <a:srgbClr val="f8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2520000"/>
              <a:ext cx="2775600" cy="18180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8400" y="890640"/>
              <a:ext cx="276840" cy="1629360"/>
            </a:xfrm>
            <a:prstGeom prst="pie">
              <a:avLst/>
            </a:prstGeom>
            <a:solidFill>
              <a:srgbClr val="f9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2337480"/>
              <a:ext cx="2498400" cy="18252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20120" y="890640"/>
              <a:ext cx="277920" cy="1446840"/>
            </a:xfrm>
            <a:prstGeom prst="pie">
              <a:avLst/>
            </a:prstGeom>
            <a:solidFill>
              <a:srgbClr val="fa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2160000"/>
              <a:ext cx="2220120" cy="17748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42920" y="890640"/>
              <a:ext cx="276840" cy="1269360"/>
            </a:xfrm>
            <a:prstGeom prst="pie">
              <a:avLst/>
            </a:prstGeom>
            <a:solidFill>
              <a:srgbClr val="fb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1977840"/>
              <a:ext cx="19429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65720" y="890640"/>
              <a:ext cx="276840" cy="10872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1796040"/>
              <a:ext cx="1665720" cy="1818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87800" y="890640"/>
              <a:ext cx="277920" cy="905400"/>
            </a:xfrm>
            <a:prstGeom prst="pie">
              <a:avLst/>
            </a:prstGeom>
            <a:solidFill>
              <a:srgbClr val="f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1614240"/>
              <a:ext cx="1387800" cy="1818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0600" y="890640"/>
              <a:ext cx="276840" cy="7236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436040"/>
              <a:ext cx="1110600" cy="1782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320" y="890640"/>
              <a:ext cx="277920" cy="545400"/>
            </a:xfrm>
            <a:prstGeom prst="pi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1254240"/>
              <a:ext cx="8323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5120" y="890640"/>
              <a:ext cx="276840" cy="3636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1072440"/>
              <a:ext cx="5551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6840" y="890640"/>
              <a:ext cx="277920" cy="181800"/>
            </a:xfrm>
            <a:prstGeom prst="pie">
              <a:avLst/>
            </a:prstGeom>
            <a:solidFill>
              <a:srgbClr val="fe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890640"/>
              <a:ext cx="276840" cy="18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5" name="Logomarca RFB.tif" descr=""/>
          <p:cNvPicPr/>
          <p:nvPr/>
        </p:nvPicPr>
        <p:blipFill>
          <a:blip r:embed="rId1"/>
          <a:srcRect l="0" t="0" r="64528" b="0"/>
          <a:stretch/>
        </p:blipFill>
        <p:spPr>
          <a:xfrm>
            <a:off x="76320" y="101520"/>
            <a:ext cx="914400" cy="61272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bdbdff">
                <a:alpha val="50000"/>
              </a:srgbClr>
            </a:outerShdw>
          </a:effectLst>
        </p:spPr>
      </p:pic>
      <p:sp>
        <p:nvSpPr>
          <p:cNvPr id="656" name=""/>
          <p:cNvSpPr/>
          <p:nvPr/>
        </p:nvSpPr>
        <p:spPr>
          <a:xfrm>
            <a:off x="1066680" y="120600"/>
            <a:ext cx="5410440" cy="750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0cbc"/>
                </a:solidFill>
                <a:latin typeface="Arial Black"/>
                <a:ea typeface="Arial Black"/>
              </a:rPr>
              <a:t>SRRF03 - Divisão de Interação com 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image.jpg" descr=""/>
          <p:cNvPicPr/>
          <p:nvPr/>
        </p:nvPicPr>
        <p:blipFill>
          <a:blip r:embed="rId2"/>
          <a:stretch/>
        </p:blipFill>
        <p:spPr>
          <a:xfrm>
            <a:off x="743040" y="961920"/>
            <a:ext cx="7657920" cy="5743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80880" y="1082520"/>
            <a:ext cx="8153640" cy="3922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Atendimento do Contribui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 </a:t>
            </a:r>
            <a:r>
              <a:rPr b="1" lang="en-US" sz="1900" spc="-1" strike="noStrike">
                <a:solidFill>
                  <a:srgbClr val="290cbc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 contribuinte será atendido inicialmente pelo supervisor do Autoatendimento, o qual, após ouvir sobre o serviço pretendido, direcionará o cidadão para receber orientação dos estagiá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s próprios contribuintes deverão operar o computador, sob orientação do estagiá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12960" y="5145120"/>
            <a:ext cx="7316640" cy="838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46040"/>
                <a:tab algn="l" pos="1790640"/>
                <a:tab algn="l" pos="2235240"/>
                <a:tab algn="l" pos="2692440"/>
                <a:tab algn="l" pos="3137040"/>
                <a:tab algn="l" pos="3581280"/>
                <a:tab algn="l" pos="4038480"/>
                <a:tab algn="l" pos="4483080"/>
                <a:tab algn="l" pos="4940280"/>
                <a:tab algn="l" pos="5384880"/>
                <a:tab algn="l" pos="5829480"/>
                <a:tab algn="l" pos="6286680"/>
                <a:tab algn="l" pos="6730920"/>
                <a:tab algn="l" pos="7175520"/>
                <a:tab algn="l" pos="7632720"/>
                <a:tab algn="l" pos="8077320"/>
                <a:tab algn="l" pos="853452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ncluída a utilização do Autoatendimento, o contribuinte será convidado a responder a Pesquisa de Satisfação por meio de formulário eletrônico disponibilizado no próprio terminal em que obteve o servi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