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drawing2.xml" ContentType="application/vnd.ms-office.drawingml.diagramDrawing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rawing4.xml" ContentType="application/vnd.ms-office.drawingml.diagramDrawing+xml"/>
  <Override PartName="/ppt/diagrams/quickStyle1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data4.xml" ContentType="application/vnd.openxmlformats-officedocument.drawingml.diagramData+xml"/>
  <Override PartName="/ppt/diagrams/drawing1.xml" ContentType="application/vnd.ms-office.drawingml.diagramDrawing+xml"/>
  <Override PartName="/ppt/diagrams/drawing3.xml" ContentType="application/vnd.ms-office.drawingml.diagramDrawing+xml"/>
  <Override PartName="/ppt/diagrams/quickStyle4.xml" ContentType="application/vnd.openxmlformats-officedocument.drawingml.diagramStyle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data2.xml" ContentType="application/vnd.openxmlformats-officedocument.drawingml.diagramData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gif" ContentType="image/gif"/>
  <Override PartName="/ppt/media/image12.png" ContentType="image/png"/>
  <Override PartName="/ppt/media/image4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2_2">
  <dgm:title val=""/>
  <dgm:desc val=""/>
  <dgm:catLst>
    <dgm:cat type="accent2" pri="112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lnNode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8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F3423FAA-4CB5-486B-A8AF-49A6603B77DF}" type="doc">
      <dgm:prSet loTypeId="urn:microsoft.com/office/officeart/2005/8/layout/pyramid1" loCatId="pyramid" qsTypeId="urn:microsoft.com/office/officeart/2005/8/quickstyle/3d2" qsCatId="3D" csTypeId="urn:microsoft.com/office/officeart/2005/8/colors/accent2_2" csCatId="accent2" phldr="1"/>
      <dgm:spPr/>
      <dgm:t>
        <a:bodyPr/>
        <a:lstStyle/>
        <a:p>
          <a:endParaRPr lang="es-MX"/>
        </a:p>
      </dgm:t>
    </dgm:pt>
    <dgm:pt modelId="{65FDD76F-C90F-4B9E-BC53-644C875D4814}">
      <dgm:prSet phldrT="[Texto]" custT="1"/>
      <dgm:spPr>
        <a:solidFill>
          <a:schemeClr val="accent1"/>
        </a:solidFill>
      </dgm:spPr>
      <dgm:t>
        <a:bodyPr/>
        <a:lstStyle/>
        <a:p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03938BA9-DA16-4E6F-A553-696F427CC16D}" type="parTrans" cxnId="{2CF01D8B-814A-4485-9043-0067FD3D4A12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E7A701EF-302E-4C73-BDB7-48A98D16E968}" type="sibTrans" cxnId="{2CF01D8B-814A-4485-9043-0067FD3D4A12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9DDB266A-A765-48B8-872A-2E305AC960AB}">
      <dgm:prSet phldrT="[Texto]" custT="1"/>
      <dgm:spPr>
        <a:solidFill>
          <a:schemeClr val="accent1"/>
        </a:solidFill>
      </dgm:spPr>
      <dgm:t>
        <a:bodyPr/>
        <a:lstStyle/>
        <a:p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Convenio 108 (1981</a:t>
          </a:r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  <a:t>)</a:t>
          </a:r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25FE64C2-53AA-4DC2-9E32-A87A0991A5A0}" type="parTrans" cxnId="{0AC5D095-F541-4910-9015-444412523026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443E3871-C806-4D05-929D-06441FA36C09}" type="sibTrans" cxnId="{0AC5D095-F541-4910-9015-444412523026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5D14F1C5-1E4D-448A-A3BB-0EF199183882}">
      <dgm:prSet phldrT="[Texto]" custT="1"/>
      <dgm:spPr>
        <a:solidFill>
          <a:schemeClr val="accent1"/>
        </a:solidFill>
      </dgm:spPr>
      <dgm:t>
        <a:bodyPr/>
        <a:lstStyle/>
        <a:p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Resolución 45/95 dela ONU (1990) </a:t>
          </a:r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1A91F86F-4FB5-4A67-816F-8613812AF6A9}" type="parTrans" cxnId="{DB75096F-3603-433E-B452-2746908C3435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20051AFF-E15A-4292-90F8-FCBD147EF721}" type="sibTrans" cxnId="{DB75096F-3603-433E-B452-2746908C3435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DDB12187-9083-49DC-9448-05E677458822}">
      <dgm:prSet phldrT="[Texto]" custT="1"/>
      <dgm:spPr>
        <a:solidFill>
          <a:schemeClr val="accent1"/>
        </a:solidFill>
      </dgm:spPr>
      <dgm:t>
        <a:bodyPr/>
        <a:lstStyle/>
        <a:p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Directiva 95/46/CE(1995) </a:t>
          </a:r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5E1F6B13-A8A2-4589-A29D-30902D02C7B2}" type="parTrans" cxnId="{1DEECADD-DD29-4548-A757-7F52A25FA7BC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C82609E8-A1C2-4310-8B59-6C69A9B8C294}" type="sibTrans" cxnId="{1DEECADD-DD29-4548-A757-7F52A25FA7BC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37502FEB-DA8B-498D-82FD-5F9132C22C37}">
      <dgm:prSet phldrT="[Texto]" custT="1"/>
      <dgm:spPr>
        <a:solidFill>
          <a:schemeClr val="accent1"/>
        </a:solidFill>
      </dgm:spPr>
      <dgm:t>
        <a:bodyPr/>
        <a:lstStyle/>
        <a:p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Marco de Privacidad de APEC (1999)</a:t>
          </a:r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B25C62A9-1D32-4FF0-A6F8-20B7D908DCE5}" type="parTrans" cxnId="{C1F37FFE-F96F-4591-8E2C-9926CC2CE478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61D57DB9-92B0-4443-B597-B18444838DA1}" type="sibTrans" cxnId="{C1F37FFE-F96F-4591-8E2C-9926CC2CE478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60823571-24AD-499F-963C-5653EBAD4593}">
      <dgm:prSet phldrT="[Texto]" custT="1"/>
      <dgm:spPr>
        <a:solidFill>
          <a:schemeClr val="accent1"/>
        </a:solidFill>
      </dgm:spPr>
      <dgm:t>
        <a:bodyPr/>
        <a:lstStyle/>
        <a:p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Carta de Derechos Fundamentales de la Unión Europa (2000)</a:t>
          </a:r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0443B02D-F0E8-4988-BEB2-3EA5892809B6}" type="parTrans" cxnId="{940EF7D8-1EC6-4084-BC54-212CF827B2F9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31FDC807-1CF0-4809-81D9-F2BD547A177F}" type="sibTrans" cxnId="{940EF7D8-1EC6-4084-BC54-212CF827B2F9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0945A8E1-326C-40C0-B189-D3E0EB43CF03}">
      <dgm:prSet phldrT="[Texto]" custT="1"/>
      <dgm:spPr>
        <a:solidFill>
          <a:schemeClr val="accent1"/>
        </a:solidFill>
      </dgm:spPr>
      <dgm:t>
        <a:bodyPr/>
        <a:lstStyle/>
        <a:p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Directrices de Armonización de la Red Iberoamericana (2007</a:t>
          </a:r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  <a:t>)</a:t>
          </a:r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07359FA1-1FB5-4DCA-8427-46EE8C743D1B}" type="parTrans" cxnId="{5D0C2200-9C86-4B5A-ACBA-BEACFDFCFA56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992167A6-E364-4215-B9D4-98310FA9EEBC}" type="sibTrans" cxnId="{5D0C2200-9C86-4B5A-ACBA-BEACFDFCFA56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68943C69-59C7-484B-A3E2-5B4DAC7589F4}">
      <dgm:prSet phldrT="[Texto]" custT="1"/>
      <dgm:spPr>
        <a:solidFill>
          <a:schemeClr val="accent1"/>
        </a:solidFill>
      </dgm:spPr>
      <dgm:t>
        <a:bodyPr/>
        <a:lstStyle/>
        <a:p>
          <a:r>
            <a:rPr lang="es-MX" sz="1600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  <a:t/>
          </a:r>
          <a:br>
            <a:rPr lang="es-MX" sz="1600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</a:br>
          <a:r>
            <a:rPr lang="es-MX" sz="1600" b="1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Estándares internaciones (2009)</a:t>
          </a:r>
          <a:endParaRPr lang="es-MX" sz="1600" b="1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A1C8020C-B639-4134-99A4-F8C5186EDD16}" type="parTrans" cxnId="{71DF0433-C6F3-4C97-96A8-9315C415A02F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92269015-E976-4C38-84DA-ECF6B4D1BFFF}" type="sibTrans" cxnId="{71DF0433-C6F3-4C97-96A8-9315C415A02F}">
      <dgm:prSet/>
      <dgm:spPr/>
      <dgm:t>
        <a:bodyPr/>
        <a:lstStyle/>
        <a:p>
          <a:endParaRPr lang="es-MX" sz="160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gm:t>
    </dgm:pt>
    <dgm:pt modelId="{0F8D3559-1DE9-4A16-B017-FAF3D4F18184}" type="pres">
      <dgm:prSet presAssocID="{F3423FAA-4CB5-486B-A8AF-49A6603B77D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es-ES"/>
        </a:p>
      </dgm:t>
    </dgm:pt>
    <dgm:pt modelId="{C9935CB4-E163-4780-9162-F307494CF519}" type="pres">
      <dgm:prSet presAssocID="{65FDD76F-C90F-4B9E-BC53-644C875D4814}" presName="Name8" presStyleCnt="0"/>
      <dgm:spPr/>
      <dgm:t>
        <a:bodyPr/>
        <a:lstStyle/>
        <a:p>
          <a:endParaRPr lang="es-ES"/>
        </a:p>
      </dgm:t>
    </dgm:pt>
    <dgm:pt modelId="{B76B4A96-7801-49FF-BD3F-E8085A1E70DD}" type="pres">
      <dgm:prSet presAssocID="{65FDD76F-C90F-4B9E-BC53-644C875D4814}" presName="level" presStyleLbl="node1" presStyleIdx="0" presStyleCnt="8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93D804F-105F-466F-B168-E48E940BA2E8}" type="pres">
      <dgm:prSet presAssocID="{65FDD76F-C90F-4B9E-BC53-644C875D4814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580107BC-E33F-4C2F-A3E2-4E4C8C38B8B9}" type="pres">
      <dgm:prSet presAssocID="{9DDB266A-A765-48B8-872A-2E305AC960AB}" presName="Name8" presStyleCnt="0"/>
      <dgm:spPr/>
      <dgm:t>
        <a:bodyPr/>
        <a:lstStyle/>
        <a:p>
          <a:endParaRPr lang="es-ES"/>
        </a:p>
      </dgm:t>
    </dgm:pt>
    <dgm:pt modelId="{0C8A0B72-5F2B-400B-A661-82CAEBE7CDD3}" type="pres">
      <dgm:prSet presAssocID="{9DDB266A-A765-48B8-872A-2E305AC960AB}" presName="level" presStyleLbl="node1" presStyleIdx="1" presStyleCnt="8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91BAE42E-145D-4CD8-BD82-FB9BA49F5F54}" type="pres">
      <dgm:prSet presAssocID="{9DDB266A-A765-48B8-872A-2E305AC960AB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F838A2F9-DEAB-4E78-B8C4-145ECC09392C}" type="pres">
      <dgm:prSet presAssocID="{5D14F1C5-1E4D-448A-A3BB-0EF199183882}" presName="Name8" presStyleCnt="0"/>
      <dgm:spPr/>
      <dgm:t>
        <a:bodyPr/>
        <a:lstStyle/>
        <a:p>
          <a:endParaRPr lang="es-ES"/>
        </a:p>
      </dgm:t>
    </dgm:pt>
    <dgm:pt modelId="{C2C4B6EE-4963-40B9-9EE2-6233AF8DE25B}" type="pres">
      <dgm:prSet presAssocID="{5D14F1C5-1E4D-448A-A3BB-0EF199183882}" presName="level" presStyleLbl="node1" presStyleIdx="2" presStyleCnt="8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F38580F-3C51-4284-9AB0-D42724F524D7}" type="pres">
      <dgm:prSet presAssocID="{5D14F1C5-1E4D-448A-A3BB-0EF199183882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659CD48B-2E45-4B73-A5A2-1D1671FE7364}" type="pres">
      <dgm:prSet presAssocID="{DDB12187-9083-49DC-9448-05E677458822}" presName="Name8" presStyleCnt="0"/>
      <dgm:spPr/>
      <dgm:t>
        <a:bodyPr/>
        <a:lstStyle/>
        <a:p>
          <a:endParaRPr lang="es-ES"/>
        </a:p>
      </dgm:t>
    </dgm:pt>
    <dgm:pt modelId="{D833960C-94A9-4793-827D-4F57CB7EB588}" type="pres">
      <dgm:prSet presAssocID="{DDB12187-9083-49DC-9448-05E677458822}" presName="level" presStyleLbl="node1" presStyleIdx="3" presStyleCnt="8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6033514F-2231-4F9F-BA4C-418A91FB65DE}" type="pres">
      <dgm:prSet presAssocID="{DDB12187-9083-49DC-9448-05E677458822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300C5213-1D44-44FE-BADD-64E6941ED0D2}" type="pres">
      <dgm:prSet presAssocID="{37502FEB-DA8B-498D-82FD-5F9132C22C37}" presName="Name8" presStyleCnt="0"/>
      <dgm:spPr/>
      <dgm:t>
        <a:bodyPr/>
        <a:lstStyle/>
        <a:p>
          <a:endParaRPr lang="es-ES"/>
        </a:p>
      </dgm:t>
    </dgm:pt>
    <dgm:pt modelId="{CCEB049E-5DAA-41FB-BD24-78E27BF5C291}" type="pres">
      <dgm:prSet presAssocID="{37502FEB-DA8B-498D-82FD-5F9132C22C37}" presName="level" presStyleLbl="node1" presStyleIdx="4" presStyleCnt="8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3F56D417-FC62-4C89-8FF6-16DFAAD11C3A}" type="pres">
      <dgm:prSet presAssocID="{37502FEB-DA8B-498D-82FD-5F9132C22C37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7B1B93A5-DA99-48CC-A1B1-7AD287D1B52D}" type="pres">
      <dgm:prSet presAssocID="{60823571-24AD-499F-963C-5653EBAD4593}" presName="Name8" presStyleCnt="0"/>
      <dgm:spPr/>
      <dgm:t>
        <a:bodyPr/>
        <a:lstStyle/>
        <a:p>
          <a:endParaRPr lang="es-ES"/>
        </a:p>
      </dgm:t>
    </dgm:pt>
    <dgm:pt modelId="{FC53F564-A39D-4D75-AADD-A6D31064C41D}" type="pres">
      <dgm:prSet presAssocID="{60823571-24AD-499F-963C-5653EBAD4593}" presName="level" presStyleLbl="node1" presStyleIdx="5" presStyleCnt="8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27B3C13E-FD49-4722-AA1B-AC8CC8936880}" type="pres">
      <dgm:prSet presAssocID="{60823571-24AD-499F-963C-5653EBAD4593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CC6853A7-93DD-43CE-B32A-89393848748A}" type="pres">
      <dgm:prSet presAssocID="{0945A8E1-326C-40C0-B189-D3E0EB43CF03}" presName="Name8" presStyleCnt="0"/>
      <dgm:spPr/>
      <dgm:t>
        <a:bodyPr/>
        <a:lstStyle/>
        <a:p>
          <a:endParaRPr lang="es-ES"/>
        </a:p>
      </dgm:t>
    </dgm:pt>
    <dgm:pt modelId="{AF751E29-787E-40D0-AAE9-06A05CD255BB}" type="pres">
      <dgm:prSet presAssocID="{0945A8E1-326C-40C0-B189-D3E0EB43CF03}" presName="level" presStyleLbl="node1" presStyleIdx="6" presStyleCnt="8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B53B49C4-3B2D-4D40-8BEC-26ECB35290D0}" type="pres">
      <dgm:prSet presAssocID="{0945A8E1-326C-40C0-B189-D3E0EB43CF03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3A717218-DCC0-4496-945D-9F7F7F22AF41}" type="pres">
      <dgm:prSet presAssocID="{68943C69-59C7-484B-A3E2-5B4DAC7589F4}" presName="Name8" presStyleCnt="0"/>
      <dgm:spPr/>
      <dgm:t>
        <a:bodyPr/>
        <a:lstStyle/>
        <a:p>
          <a:endParaRPr lang="es-ES"/>
        </a:p>
      </dgm:t>
    </dgm:pt>
    <dgm:pt modelId="{FAA8744C-CBEA-413B-BA67-FE8DE6236051}" type="pres">
      <dgm:prSet presAssocID="{68943C69-59C7-484B-A3E2-5B4DAC7589F4}" presName="level" presStyleLbl="node1" presStyleIdx="7" presStyleCnt="8" custScaleY="69556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8FF860C5-3199-491F-AB21-05FFF45A0EFE}" type="pres">
      <dgm:prSet presAssocID="{68943C69-59C7-484B-A3E2-5B4DAC7589F4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</dgm:ptLst>
  <dgm:cxnLst>
    <dgm:cxn modelId="{5D0C2200-9C86-4B5A-ACBA-BEACFDFCFA56}" srcId="{F3423FAA-4CB5-486B-A8AF-49A6603B77DF}" destId="{0945A8E1-326C-40C0-B189-D3E0EB43CF03}" srcOrd="6" destOrd="0" parTransId="{07359FA1-1FB5-4DCA-8427-46EE8C743D1B}" sibTransId="{992167A6-E364-4215-B9D4-98310FA9EEBC}"/>
    <dgm:cxn modelId="{50CAF082-91DF-4030-A8CA-FC7D1FBEC636}" type="presOf" srcId="{DDB12187-9083-49DC-9448-05E677458822}" destId="{6033514F-2231-4F9F-BA4C-418A91FB65DE}" srcOrd="1" destOrd="0" presId="urn:microsoft.com/office/officeart/2005/8/layout/pyramid1"/>
    <dgm:cxn modelId="{F8F06863-FBBA-495D-A5FB-EEB36AD86630}" type="presOf" srcId="{DDB12187-9083-49DC-9448-05E677458822}" destId="{D833960C-94A9-4793-827D-4F57CB7EB588}" srcOrd="0" destOrd="0" presId="urn:microsoft.com/office/officeart/2005/8/layout/pyramid1"/>
    <dgm:cxn modelId="{940EF7D8-1EC6-4084-BC54-212CF827B2F9}" srcId="{F3423FAA-4CB5-486B-A8AF-49A6603B77DF}" destId="{60823571-24AD-499F-963C-5653EBAD4593}" srcOrd="5" destOrd="0" parTransId="{0443B02D-F0E8-4988-BEB2-3EA5892809B6}" sibTransId="{31FDC807-1CF0-4809-81D9-F2BD547A177F}"/>
    <dgm:cxn modelId="{1DEECADD-DD29-4548-A757-7F52A25FA7BC}" srcId="{F3423FAA-4CB5-486B-A8AF-49A6603B77DF}" destId="{DDB12187-9083-49DC-9448-05E677458822}" srcOrd="3" destOrd="0" parTransId="{5E1F6B13-A8A2-4589-A29D-30902D02C7B2}" sibTransId="{C82609E8-A1C2-4310-8B59-6C69A9B8C294}"/>
    <dgm:cxn modelId="{C2B8B8B3-C547-4524-9558-62B8ED38CB7D}" type="presOf" srcId="{5D14F1C5-1E4D-448A-A3BB-0EF199183882}" destId="{C2C4B6EE-4963-40B9-9EE2-6233AF8DE25B}" srcOrd="0" destOrd="0" presId="urn:microsoft.com/office/officeart/2005/8/layout/pyramid1"/>
    <dgm:cxn modelId="{9C6214B7-4BCC-483F-BF22-F6108EBAE1E9}" type="presOf" srcId="{60823571-24AD-499F-963C-5653EBAD4593}" destId="{27B3C13E-FD49-4722-AA1B-AC8CC8936880}" srcOrd="1" destOrd="0" presId="urn:microsoft.com/office/officeart/2005/8/layout/pyramid1"/>
    <dgm:cxn modelId="{ED658B13-15F8-48B9-8C08-A9FB8FA817C7}" type="presOf" srcId="{0945A8E1-326C-40C0-B189-D3E0EB43CF03}" destId="{AF751E29-787E-40D0-AAE9-06A05CD255BB}" srcOrd="0" destOrd="0" presId="urn:microsoft.com/office/officeart/2005/8/layout/pyramid1"/>
    <dgm:cxn modelId="{8866610F-E290-4280-97E1-B839914D877C}" type="presOf" srcId="{65FDD76F-C90F-4B9E-BC53-644C875D4814}" destId="{C93D804F-105F-466F-B168-E48E940BA2E8}" srcOrd="1" destOrd="0" presId="urn:microsoft.com/office/officeart/2005/8/layout/pyramid1"/>
    <dgm:cxn modelId="{BFE07D0C-A98E-4C36-9EAD-1640D9BC0FD0}" type="presOf" srcId="{F3423FAA-4CB5-486B-A8AF-49A6603B77DF}" destId="{0F8D3559-1DE9-4A16-B017-FAF3D4F18184}" srcOrd="0" destOrd="0" presId="urn:microsoft.com/office/officeart/2005/8/layout/pyramid1"/>
    <dgm:cxn modelId="{C1F37FFE-F96F-4591-8E2C-9926CC2CE478}" srcId="{F3423FAA-4CB5-486B-A8AF-49A6603B77DF}" destId="{37502FEB-DA8B-498D-82FD-5F9132C22C37}" srcOrd="4" destOrd="0" parTransId="{B25C62A9-1D32-4FF0-A6F8-20B7D908DCE5}" sibTransId="{61D57DB9-92B0-4443-B597-B18444838DA1}"/>
    <dgm:cxn modelId="{F63E6F78-D691-4CED-9E52-9C0ACEDBD6C4}" type="presOf" srcId="{68943C69-59C7-484B-A3E2-5B4DAC7589F4}" destId="{FAA8744C-CBEA-413B-BA67-FE8DE6236051}" srcOrd="0" destOrd="0" presId="urn:microsoft.com/office/officeart/2005/8/layout/pyramid1"/>
    <dgm:cxn modelId="{33BEA540-0260-49D8-A8A2-CA9AC6424BB8}" type="presOf" srcId="{37502FEB-DA8B-498D-82FD-5F9132C22C37}" destId="{CCEB049E-5DAA-41FB-BD24-78E27BF5C291}" srcOrd="0" destOrd="0" presId="urn:microsoft.com/office/officeart/2005/8/layout/pyramid1"/>
    <dgm:cxn modelId="{C570501F-4CD6-49F8-B210-369412B63311}" type="presOf" srcId="{37502FEB-DA8B-498D-82FD-5F9132C22C37}" destId="{3F56D417-FC62-4C89-8FF6-16DFAAD11C3A}" srcOrd="1" destOrd="0" presId="urn:microsoft.com/office/officeart/2005/8/layout/pyramid1"/>
    <dgm:cxn modelId="{0AC5D095-F541-4910-9015-444412523026}" srcId="{F3423FAA-4CB5-486B-A8AF-49A6603B77DF}" destId="{9DDB266A-A765-48B8-872A-2E305AC960AB}" srcOrd="1" destOrd="0" parTransId="{25FE64C2-53AA-4DC2-9E32-A87A0991A5A0}" sibTransId="{443E3871-C806-4D05-929D-06441FA36C09}"/>
    <dgm:cxn modelId="{2CF01D8B-814A-4485-9043-0067FD3D4A12}" srcId="{F3423FAA-4CB5-486B-A8AF-49A6603B77DF}" destId="{65FDD76F-C90F-4B9E-BC53-644C875D4814}" srcOrd="0" destOrd="0" parTransId="{03938BA9-DA16-4E6F-A553-696F427CC16D}" sibTransId="{E7A701EF-302E-4C73-BDB7-48A98D16E968}"/>
    <dgm:cxn modelId="{10F80CD2-2D1D-4496-97F8-E5F844CB3A27}" type="presOf" srcId="{65FDD76F-C90F-4B9E-BC53-644C875D4814}" destId="{B76B4A96-7801-49FF-BD3F-E8085A1E70DD}" srcOrd="0" destOrd="0" presId="urn:microsoft.com/office/officeart/2005/8/layout/pyramid1"/>
    <dgm:cxn modelId="{29D9F5C2-96A4-4EAE-AF7B-23E71AB60EF9}" type="presOf" srcId="{9DDB266A-A765-48B8-872A-2E305AC960AB}" destId="{91BAE42E-145D-4CD8-BD82-FB9BA49F5F54}" srcOrd="1" destOrd="0" presId="urn:microsoft.com/office/officeart/2005/8/layout/pyramid1"/>
    <dgm:cxn modelId="{5D64A107-354B-4E23-A624-EA0FBC7358BE}" type="presOf" srcId="{68943C69-59C7-484B-A3E2-5B4DAC7589F4}" destId="{8FF860C5-3199-491F-AB21-05FFF45A0EFE}" srcOrd="1" destOrd="0" presId="urn:microsoft.com/office/officeart/2005/8/layout/pyramid1"/>
    <dgm:cxn modelId="{DB75096F-3603-433E-B452-2746908C3435}" srcId="{F3423FAA-4CB5-486B-A8AF-49A6603B77DF}" destId="{5D14F1C5-1E4D-448A-A3BB-0EF199183882}" srcOrd="2" destOrd="0" parTransId="{1A91F86F-4FB5-4A67-816F-8613812AF6A9}" sibTransId="{20051AFF-E15A-4292-90F8-FCBD147EF721}"/>
    <dgm:cxn modelId="{71DF0433-C6F3-4C97-96A8-9315C415A02F}" srcId="{F3423FAA-4CB5-486B-A8AF-49A6603B77DF}" destId="{68943C69-59C7-484B-A3E2-5B4DAC7589F4}" srcOrd="7" destOrd="0" parTransId="{A1C8020C-B639-4134-99A4-F8C5186EDD16}" sibTransId="{92269015-E976-4C38-84DA-ECF6B4D1BFFF}"/>
    <dgm:cxn modelId="{5A2A5A08-D0EF-4881-BBE5-5AE738CFF40D}" type="presOf" srcId="{0945A8E1-326C-40C0-B189-D3E0EB43CF03}" destId="{B53B49C4-3B2D-4D40-8BEC-26ECB35290D0}" srcOrd="1" destOrd="0" presId="urn:microsoft.com/office/officeart/2005/8/layout/pyramid1"/>
    <dgm:cxn modelId="{B8A97B45-404C-44AE-A3DA-8C19CD086C63}" type="presOf" srcId="{9DDB266A-A765-48B8-872A-2E305AC960AB}" destId="{0C8A0B72-5F2B-400B-A661-82CAEBE7CDD3}" srcOrd="0" destOrd="0" presId="urn:microsoft.com/office/officeart/2005/8/layout/pyramid1"/>
    <dgm:cxn modelId="{35880BE8-1E0F-491D-A5E7-73DA8394983B}" type="presOf" srcId="{5D14F1C5-1E4D-448A-A3BB-0EF199183882}" destId="{CF38580F-3C51-4284-9AB0-D42724F524D7}" srcOrd="1" destOrd="0" presId="urn:microsoft.com/office/officeart/2005/8/layout/pyramid1"/>
    <dgm:cxn modelId="{7B774EE5-9E8B-40D9-B089-C2DB2A5AB8AD}" type="presOf" srcId="{60823571-24AD-499F-963C-5653EBAD4593}" destId="{FC53F564-A39D-4D75-AADD-A6D31064C41D}" srcOrd="0" destOrd="0" presId="urn:microsoft.com/office/officeart/2005/8/layout/pyramid1"/>
    <dgm:cxn modelId="{3EDACD31-73A4-4AE6-87F1-7A4CA6850C39}" type="presParOf" srcId="{0F8D3559-1DE9-4A16-B017-FAF3D4F18184}" destId="{C9935CB4-E163-4780-9162-F307494CF519}" srcOrd="0" destOrd="0" presId="urn:microsoft.com/office/officeart/2005/8/layout/pyramid1"/>
    <dgm:cxn modelId="{E9B81B06-8D5B-49F4-8AB7-3C5528ADE08B}" type="presParOf" srcId="{C9935CB4-E163-4780-9162-F307494CF519}" destId="{B76B4A96-7801-49FF-BD3F-E8085A1E70DD}" srcOrd="0" destOrd="0" presId="urn:microsoft.com/office/officeart/2005/8/layout/pyramid1"/>
    <dgm:cxn modelId="{942C421A-4216-495D-87B6-4B48772BB2E2}" type="presParOf" srcId="{C9935CB4-E163-4780-9162-F307494CF519}" destId="{C93D804F-105F-466F-B168-E48E940BA2E8}" srcOrd="1" destOrd="0" presId="urn:microsoft.com/office/officeart/2005/8/layout/pyramid1"/>
    <dgm:cxn modelId="{3E8019DF-73A0-4C5E-B3AD-9315B00D1408}" type="presParOf" srcId="{0F8D3559-1DE9-4A16-B017-FAF3D4F18184}" destId="{580107BC-E33F-4C2F-A3E2-4E4C8C38B8B9}" srcOrd="1" destOrd="0" presId="urn:microsoft.com/office/officeart/2005/8/layout/pyramid1"/>
    <dgm:cxn modelId="{995A4A85-64C4-41B2-90D7-C68CE290EDE8}" type="presParOf" srcId="{580107BC-E33F-4C2F-A3E2-4E4C8C38B8B9}" destId="{0C8A0B72-5F2B-400B-A661-82CAEBE7CDD3}" srcOrd="0" destOrd="0" presId="urn:microsoft.com/office/officeart/2005/8/layout/pyramid1"/>
    <dgm:cxn modelId="{050622A4-B612-483E-A477-2C85D8F1A03E}" type="presParOf" srcId="{580107BC-E33F-4C2F-A3E2-4E4C8C38B8B9}" destId="{91BAE42E-145D-4CD8-BD82-FB9BA49F5F54}" srcOrd="1" destOrd="0" presId="urn:microsoft.com/office/officeart/2005/8/layout/pyramid1"/>
    <dgm:cxn modelId="{E15641C9-1430-4F64-9128-9056751359D4}" type="presParOf" srcId="{0F8D3559-1DE9-4A16-B017-FAF3D4F18184}" destId="{F838A2F9-DEAB-4E78-B8C4-145ECC09392C}" srcOrd="2" destOrd="0" presId="urn:microsoft.com/office/officeart/2005/8/layout/pyramid1"/>
    <dgm:cxn modelId="{79941344-E11D-4DE5-93E2-74345AB9CE29}" type="presParOf" srcId="{F838A2F9-DEAB-4E78-B8C4-145ECC09392C}" destId="{C2C4B6EE-4963-40B9-9EE2-6233AF8DE25B}" srcOrd="0" destOrd="0" presId="urn:microsoft.com/office/officeart/2005/8/layout/pyramid1"/>
    <dgm:cxn modelId="{01692088-3A4C-4F49-8643-320DBA7D2788}" type="presParOf" srcId="{F838A2F9-DEAB-4E78-B8C4-145ECC09392C}" destId="{CF38580F-3C51-4284-9AB0-D42724F524D7}" srcOrd="1" destOrd="0" presId="urn:microsoft.com/office/officeart/2005/8/layout/pyramid1"/>
    <dgm:cxn modelId="{5CB8C8FD-E3CB-4EAB-A309-A0389B909725}" type="presParOf" srcId="{0F8D3559-1DE9-4A16-B017-FAF3D4F18184}" destId="{659CD48B-2E45-4B73-A5A2-1D1671FE7364}" srcOrd="3" destOrd="0" presId="urn:microsoft.com/office/officeart/2005/8/layout/pyramid1"/>
    <dgm:cxn modelId="{07D85179-C061-4E63-AB39-CEBFD71F985A}" type="presParOf" srcId="{659CD48B-2E45-4B73-A5A2-1D1671FE7364}" destId="{D833960C-94A9-4793-827D-4F57CB7EB588}" srcOrd="0" destOrd="0" presId="urn:microsoft.com/office/officeart/2005/8/layout/pyramid1"/>
    <dgm:cxn modelId="{C4B3F4E5-23B3-454B-8F13-198B7F532E31}" type="presParOf" srcId="{659CD48B-2E45-4B73-A5A2-1D1671FE7364}" destId="{6033514F-2231-4F9F-BA4C-418A91FB65DE}" srcOrd="1" destOrd="0" presId="urn:microsoft.com/office/officeart/2005/8/layout/pyramid1"/>
    <dgm:cxn modelId="{3DC1D89D-4938-451B-8A88-A50CF104F5F5}" type="presParOf" srcId="{0F8D3559-1DE9-4A16-B017-FAF3D4F18184}" destId="{300C5213-1D44-44FE-BADD-64E6941ED0D2}" srcOrd="4" destOrd="0" presId="urn:microsoft.com/office/officeart/2005/8/layout/pyramid1"/>
    <dgm:cxn modelId="{48646161-0062-4D53-89F1-66BE01101919}" type="presParOf" srcId="{300C5213-1D44-44FE-BADD-64E6941ED0D2}" destId="{CCEB049E-5DAA-41FB-BD24-78E27BF5C291}" srcOrd="0" destOrd="0" presId="urn:microsoft.com/office/officeart/2005/8/layout/pyramid1"/>
    <dgm:cxn modelId="{F556ED42-12FB-48F5-86A8-15EC67B8E50B}" type="presParOf" srcId="{300C5213-1D44-44FE-BADD-64E6941ED0D2}" destId="{3F56D417-FC62-4C89-8FF6-16DFAAD11C3A}" srcOrd="1" destOrd="0" presId="urn:microsoft.com/office/officeart/2005/8/layout/pyramid1"/>
    <dgm:cxn modelId="{C894B4CA-C59B-4E77-9E1E-28F9B4CC5419}" type="presParOf" srcId="{0F8D3559-1DE9-4A16-B017-FAF3D4F18184}" destId="{7B1B93A5-DA99-48CC-A1B1-7AD287D1B52D}" srcOrd="5" destOrd="0" presId="urn:microsoft.com/office/officeart/2005/8/layout/pyramid1"/>
    <dgm:cxn modelId="{62DC632E-73CF-4C98-BF5D-C8BDCFFF3B1D}" type="presParOf" srcId="{7B1B93A5-DA99-48CC-A1B1-7AD287D1B52D}" destId="{FC53F564-A39D-4D75-AADD-A6D31064C41D}" srcOrd="0" destOrd="0" presId="urn:microsoft.com/office/officeart/2005/8/layout/pyramid1"/>
    <dgm:cxn modelId="{4E5DB245-A493-4ED7-B497-9846174FC688}" type="presParOf" srcId="{7B1B93A5-DA99-48CC-A1B1-7AD287D1B52D}" destId="{27B3C13E-FD49-4722-AA1B-AC8CC8936880}" srcOrd="1" destOrd="0" presId="urn:microsoft.com/office/officeart/2005/8/layout/pyramid1"/>
    <dgm:cxn modelId="{1A63DB92-E3D4-4DE4-AADD-5F348C9D7D7A}" type="presParOf" srcId="{0F8D3559-1DE9-4A16-B017-FAF3D4F18184}" destId="{CC6853A7-93DD-43CE-B32A-89393848748A}" srcOrd="6" destOrd="0" presId="urn:microsoft.com/office/officeart/2005/8/layout/pyramid1"/>
    <dgm:cxn modelId="{973D808B-EA19-4720-9A22-84B05CE35C0F}" type="presParOf" srcId="{CC6853A7-93DD-43CE-B32A-89393848748A}" destId="{AF751E29-787E-40D0-AAE9-06A05CD255BB}" srcOrd="0" destOrd="0" presId="urn:microsoft.com/office/officeart/2005/8/layout/pyramid1"/>
    <dgm:cxn modelId="{31B67B11-22A3-43C5-9F69-A381DF3D18E3}" type="presParOf" srcId="{CC6853A7-93DD-43CE-B32A-89393848748A}" destId="{B53B49C4-3B2D-4D40-8BEC-26ECB35290D0}" srcOrd="1" destOrd="0" presId="urn:microsoft.com/office/officeart/2005/8/layout/pyramid1"/>
    <dgm:cxn modelId="{7B0E5101-4BB5-4885-9F11-5F0E5D6F01AB}" type="presParOf" srcId="{0F8D3559-1DE9-4A16-B017-FAF3D4F18184}" destId="{3A717218-DCC0-4496-945D-9F7F7F22AF41}" srcOrd="7" destOrd="0" presId="urn:microsoft.com/office/officeart/2005/8/layout/pyramid1"/>
    <dgm:cxn modelId="{EDE10C41-B804-4E16-B93C-333EFD19235E}" type="presParOf" srcId="{3A717218-DCC0-4496-945D-9F7F7F22AF41}" destId="{FAA8744C-CBEA-413B-BA67-FE8DE6236051}" srcOrd="0" destOrd="0" presId="urn:microsoft.com/office/officeart/2005/8/layout/pyramid1"/>
    <dgm:cxn modelId="{D18E8603-684C-42B3-8061-07323B1981F8}" type="presParOf" srcId="{3A717218-DCC0-4496-945D-9F7F7F22AF41}" destId="{8FF860C5-3199-491F-AB21-05FFF45A0EFE}" srcOrd="1" destOrd="0" presId="urn:microsoft.com/office/officeart/2005/8/layout/pyramid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38D13DE0-EEAC-4634-94A6-91A1CA72065B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s-MX"/>
        </a:p>
      </dgm:t>
    </dgm:pt>
    <dgm:pt modelId="{74A0D5A8-5F03-4D6D-8453-518A622D792A}">
      <dgm:prSet phldrT="[Texto]"/>
      <dgm:spPr>
        <a:scene3d>
          <a:camera prst="orthographicFront"/>
          <a:lightRig rig="threePt" dir="t"/>
        </a:scene3d>
        <a:sp3d>
          <a:bevelT/>
          <a:bevelB/>
        </a:sp3d>
      </dgm:spPr>
      <dgm:t>
        <a:bodyPr/>
        <a:lstStyle/>
        <a:p>
          <a:pPr algn="ctr"/>
          <a:r>
            <a:rPr lang="es-MX" b="1" dirty="0" smtClean="0">
              <a:solidFill>
                <a:schemeClr val="tx2"/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Protección de Derechos</a:t>
          </a:r>
          <a:endParaRPr lang="es-MX" b="1" dirty="0">
            <a:solidFill>
              <a:schemeClr val="tx2"/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A453DB8E-D1AE-4988-8D08-FD6ABCF7B961}" type="parTrans" cxnId="{53499D2B-4DB1-4362-A9AB-953A77D4C9DE}">
      <dgm:prSet/>
      <dgm:spPr/>
      <dgm:t>
        <a:bodyPr/>
        <a:lstStyle/>
        <a:p>
          <a:endParaRPr lang="es-MX"/>
        </a:p>
      </dgm:t>
    </dgm:pt>
    <dgm:pt modelId="{A3FAE1F9-2261-4D77-B437-0D4D9703520D}" type="sibTrans" cxnId="{53499D2B-4DB1-4362-A9AB-953A77D4C9DE}">
      <dgm:prSet/>
      <dgm:spPr/>
      <dgm:t>
        <a:bodyPr/>
        <a:lstStyle/>
        <a:p>
          <a:endParaRPr lang="es-MX"/>
        </a:p>
      </dgm:t>
    </dgm:pt>
    <dgm:pt modelId="{595993A4-86C0-4223-9A3B-C26573B70784}">
      <dgm:prSet phldrT="[Texto]"/>
      <dgm:spPr>
        <a:scene3d>
          <a:camera prst="orthographicFront"/>
          <a:lightRig rig="threePt" dir="t"/>
        </a:scene3d>
        <a:sp3d>
          <a:bevelT/>
          <a:bevelB/>
        </a:sp3d>
      </dgm:spPr>
      <dgm:t>
        <a:bodyPr/>
        <a:lstStyle/>
        <a:p>
          <a:pPr algn="ctr"/>
          <a:r>
            <a:rPr lang="es-MX" b="1" dirty="0" smtClean="0">
              <a:solidFill>
                <a:schemeClr val="tx2"/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Verificación</a:t>
          </a:r>
          <a:endParaRPr lang="es-MX" b="1" dirty="0">
            <a:solidFill>
              <a:schemeClr val="tx2"/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6894FC18-8EEE-4513-97CB-B539B46E6053}" type="parTrans" cxnId="{0BAC195C-253B-4A91-8F2D-18819E17D42F}">
      <dgm:prSet/>
      <dgm:spPr/>
      <dgm:t>
        <a:bodyPr/>
        <a:lstStyle/>
        <a:p>
          <a:endParaRPr lang="es-MX"/>
        </a:p>
      </dgm:t>
    </dgm:pt>
    <dgm:pt modelId="{A4E519F7-5529-45E5-8B10-98D96AE7B831}" type="sibTrans" cxnId="{0BAC195C-253B-4A91-8F2D-18819E17D42F}">
      <dgm:prSet/>
      <dgm:spPr/>
      <dgm:t>
        <a:bodyPr/>
        <a:lstStyle/>
        <a:p>
          <a:endParaRPr lang="es-MX"/>
        </a:p>
      </dgm:t>
    </dgm:pt>
    <dgm:pt modelId="{6BA3CB4E-4813-4A9F-8C9A-C79410123F5E}">
      <dgm:prSet phldrT="[Texto]"/>
      <dgm:spPr>
        <a:scene3d>
          <a:camera prst="orthographicFront"/>
          <a:lightRig rig="threePt" dir="t"/>
        </a:scene3d>
        <a:sp3d>
          <a:bevelT/>
          <a:bevelB/>
        </a:sp3d>
      </dgm:spPr>
      <dgm:t>
        <a:bodyPr/>
        <a:lstStyle/>
        <a:p>
          <a:pPr algn="ctr"/>
          <a:r>
            <a:rPr lang="es-MX" b="1" dirty="0" smtClean="0">
              <a:solidFill>
                <a:schemeClr val="tx2"/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Imposición de sanciones</a:t>
          </a:r>
          <a:endParaRPr lang="es-MX" b="1" dirty="0">
            <a:solidFill>
              <a:schemeClr val="tx2"/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0FC71B93-162B-4806-BF2C-82AEE64A3892}" type="parTrans" cxnId="{72321B01-0780-4F19-B571-D1038413006F}">
      <dgm:prSet/>
      <dgm:spPr/>
      <dgm:t>
        <a:bodyPr/>
        <a:lstStyle/>
        <a:p>
          <a:endParaRPr lang="es-MX"/>
        </a:p>
      </dgm:t>
    </dgm:pt>
    <dgm:pt modelId="{A7C1DFA2-1E9A-4A29-B056-657806001AA5}" type="sibTrans" cxnId="{72321B01-0780-4F19-B571-D1038413006F}">
      <dgm:prSet/>
      <dgm:spPr/>
      <dgm:t>
        <a:bodyPr/>
        <a:lstStyle/>
        <a:p>
          <a:endParaRPr lang="es-MX"/>
        </a:p>
      </dgm:t>
    </dgm:pt>
    <dgm:pt modelId="{338CAE8D-EEB7-4B42-BF05-7541F318604C}" type="pres">
      <dgm:prSet presAssocID="{38D13DE0-EEAC-4634-94A6-91A1CA72065B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es-ES"/>
        </a:p>
      </dgm:t>
    </dgm:pt>
    <dgm:pt modelId="{DD4FFAEF-FF2A-436C-891B-40AB8276352B}" type="pres">
      <dgm:prSet presAssocID="{74A0D5A8-5F03-4D6D-8453-518A622D792A}" presName="parentLin" presStyleCnt="0"/>
      <dgm:spPr/>
    </dgm:pt>
    <dgm:pt modelId="{1CDF7F54-F17F-41A4-9AEF-A4A8485C71BC}" type="pres">
      <dgm:prSet presAssocID="{74A0D5A8-5F03-4D6D-8453-518A622D792A}" presName="parentLeftMargin" presStyleLbl="node1" presStyleIdx="0" presStyleCnt="3"/>
      <dgm:spPr/>
      <dgm:t>
        <a:bodyPr/>
        <a:lstStyle/>
        <a:p>
          <a:endParaRPr lang="es-ES"/>
        </a:p>
      </dgm:t>
    </dgm:pt>
    <dgm:pt modelId="{9DA02E5C-A024-4798-970F-47CCB5F11801}" type="pres">
      <dgm:prSet presAssocID="{74A0D5A8-5F03-4D6D-8453-518A622D792A}" presName="parentText" presStyleLbl="node1" presStyleIdx="0" presStyleCnt="3" custLinFactX="3571" custLinFactNeighborX="100000" custLinFactNeighborY="3543">
        <dgm:presLayoutVars>
          <dgm:chMax val="0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33235113-2F4A-4C63-8E65-6BA55FBCFA7D}" type="pres">
      <dgm:prSet presAssocID="{74A0D5A8-5F03-4D6D-8453-518A622D792A}" presName="negativeSpace" presStyleCnt="0"/>
      <dgm:spPr/>
    </dgm:pt>
    <dgm:pt modelId="{EC8F2A0A-72D6-490A-9CF4-AE88A1B1E715}" type="pres">
      <dgm:prSet presAssocID="{74A0D5A8-5F03-4D6D-8453-518A622D792A}" presName="childText" presStyleLbl="conFgAcc1" presStyleIdx="0" presStyleCnt="3">
        <dgm:presLayoutVars>
          <dgm:bulletEnabled val="1"/>
        </dgm:presLayoutVars>
      </dgm:prSet>
      <dgm:spPr/>
    </dgm:pt>
    <dgm:pt modelId="{9489A7E2-32AE-4A2C-B25C-BCFDAE1CC237}" type="pres">
      <dgm:prSet presAssocID="{A3FAE1F9-2261-4D77-B437-0D4D9703520D}" presName="spaceBetweenRectangles" presStyleCnt="0"/>
      <dgm:spPr/>
    </dgm:pt>
    <dgm:pt modelId="{04527CFB-D5DB-4309-99B2-66A5F2A13F4D}" type="pres">
      <dgm:prSet presAssocID="{595993A4-86C0-4223-9A3B-C26573B70784}" presName="parentLin" presStyleCnt="0"/>
      <dgm:spPr/>
    </dgm:pt>
    <dgm:pt modelId="{E93AD73D-5EDD-4953-B9C4-B3BBA0CD70B3}" type="pres">
      <dgm:prSet presAssocID="{595993A4-86C0-4223-9A3B-C26573B70784}" presName="parentLeftMargin" presStyleLbl="node1" presStyleIdx="0" presStyleCnt="3"/>
      <dgm:spPr/>
      <dgm:t>
        <a:bodyPr/>
        <a:lstStyle/>
        <a:p>
          <a:endParaRPr lang="es-ES"/>
        </a:p>
      </dgm:t>
    </dgm:pt>
    <dgm:pt modelId="{8E9998DD-0886-4D80-B9B9-93787D6335B4}" type="pres">
      <dgm:prSet presAssocID="{595993A4-86C0-4223-9A3B-C26573B70784}" presName="parentText" presStyleLbl="node1" presStyleIdx="1" presStyleCnt="3" custLinFactX="5245" custLinFactNeighborX="100000" custLinFactNeighborY="-4917">
        <dgm:presLayoutVars>
          <dgm:chMax val="0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E14C49B3-2829-4DE3-833A-DDD5CCC51090}" type="pres">
      <dgm:prSet presAssocID="{595993A4-86C0-4223-9A3B-C26573B70784}" presName="negativeSpace" presStyleCnt="0"/>
      <dgm:spPr/>
    </dgm:pt>
    <dgm:pt modelId="{28E880FE-A7E1-498B-8312-B68AB9386FFB}" type="pres">
      <dgm:prSet presAssocID="{595993A4-86C0-4223-9A3B-C26573B70784}" presName="childText" presStyleLbl="conFgAcc1" presStyleIdx="1" presStyleCnt="3">
        <dgm:presLayoutVars>
          <dgm:bulletEnabled val="1"/>
        </dgm:presLayoutVars>
      </dgm:prSet>
      <dgm:spPr/>
    </dgm:pt>
    <dgm:pt modelId="{CC9AC5F1-A442-46AC-8A46-059BE8AB4502}" type="pres">
      <dgm:prSet presAssocID="{A4E519F7-5529-45E5-8B10-98D96AE7B831}" presName="spaceBetweenRectangles" presStyleCnt="0"/>
      <dgm:spPr/>
    </dgm:pt>
    <dgm:pt modelId="{FA01903E-3137-42E5-9BBC-EDFA325D4C2B}" type="pres">
      <dgm:prSet presAssocID="{6BA3CB4E-4813-4A9F-8C9A-C79410123F5E}" presName="parentLin" presStyleCnt="0"/>
      <dgm:spPr/>
    </dgm:pt>
    <dgm:pt modelId="{83A07ED7-098C-4564-BD9F-55C005035380}" type="pres">
      <dgm:prSet presAssocID="{6BA3CB4E-4813-4A9F-8C9A-C79410123F5E}" presName="parentLeftMargin" presStyleLbl="node1" presStyleIdx="1" presStyleCnt="3"/>
      <dgm:spPr/>
      <dgm:t>
        <a:bodyPr/>
        <a:lstStyle/>
        <a:p>
          <a:endParaRPr lang="es-ES"/>
        </a:p>
      </dgm:t>
    </dgm:pt>
    <dgm:pt modelId="{44F854A9-466A-45C1-A398-591EEED2189A}" type="pres">
      <dgm:prSet presAssocID="{6BA3CB4E-4813-4A9F-8C9A-C79410123F5E}" presName="parentText" presStyleLbl="node1" presStyleIdx="2" presStyleCnt="3" custLinFactX="5245" custLinFactNeighborX="100000" custLinFactNeighborY="-5309">
        <dgm:presLayoutVars>
          <dgm:chMax val="0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9A985FED-9627-4B88-8F56-3A6C785D48BE}" type="pres">
      <dgm:prSet presAssocID="{6BA3CB4E-4813-4A9F-8C9A-C79410123F5E}" presName="negativeSpace" presStyleCnt="0"/>
      <dgm:spPr/>
    </dgm:pt>
    <dgm:pt modelId="{DFD14660-3D42-4C2A-984A-FAB44F2D364E}" type="pres">
      <dgm:prSet presAssocID="{6BA3CB4E-4813-4A9F-8C9A-C79410123F5E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53499D2B-4DB1-4362-A9AB-953A77D4C9DE}" srcId="{38D13DE0-EEAC-4634-94A6-91A1CA72065B}" destId="{74A0D5A8-5F03-4D6D-8453-518A622D792A}" srcOrd="0" destOrd="0" parTransId="{A453DB8E-D1AE-4988-8D08-FD6ABCF7B961}" sibTransId="{A3FAE1F9-2261-4D77-B437-0D4D9703520D}"/>
    <dgm:cxn modelId="{FC987D45-7E94-4F09-906C-A92D28DAAC8B}" type="presOf" srcId="{6BA3CB4E-4813-4A9F-8C9A-C79410123F5E}" destId="{83A07ED7-098C-4564-BD9F-55C005035380}" srcOrd="0" destOrd="0" presId="urn:microsoft.com/office/officeart/2005/8/layout/list1"/>
    <dgm:cxn modelId="{0476BB18-83D6-40BE-9CB2-4214F8B08E7D}" type="presOf" srcId="{595993A4-86C0-4223-9A3B-C26573B70784}" destId="{8E9998DD-0886-4D80-B9B9-93787D6335B4}" srcOrd="1" destOrd="0" presId="urn:microsoft.com/office/officeart/2005/8/layout/list1"/>
    <dgm:cxn modelId="{72321B01-0780-4F19-B571-D1038413006F}" srcId="{38D13DE0-EEAC-4634-94A6-91A1CA72065B}" destId="{6BA3CB4E-4813-4A9F-8C9A-C79410123F5E}" srcOrd="2" destOrd="0" parTransId="{0FC71B93-162B-4806-BF2C-82AEE64A3892}" sibTransId="{A7C1DFA2-1E9A-4A29-B056-657806001AA5}"/>
    <dgm:cxn modelId="{DD0A5BC8-778C-4B5F-AD23-D8BA0C9C8CC2}" type="presOf" srcId="{74A0D5A8-5F03-4D6D-8453-518A622D792A}" destId="{1CDF7F54-F17F-41A4-9AEF-A4A8485C71BC}" srcOrd="0" destOrd="0" presId="urn:microsoft.com/office/officeart/2005/8/layout/list1"/>
    <dgm:cxn modelId="{97D11F9B-8A08-4EDD-8B32-E7B2ADE93203}" type="presOf" srcId="{6BA3CB4E-4813-4A9F-8C9A-C79410123F5E}" destId="{44F854A9-466A-45C1-A398-591EEED2189A}" srcOrd="1" destOrd="0" presId="urn:microsoft.com/office/officeart/2005/8/layout/list1"/>
    <dgm:cxn modelId="{111477E9-1D8C-45E0-AF6D-F61CDC536757}" type="presOf" srcId="{74A0D5A8-5F03-4D6D-8453-518A622D792A}" destId="{9DA02E5C-A024-4798-970F-47CCB5F11801}" srcOrd="1" destOrd="0" presId="urn:microsoft.com/office/officeart/2005/8/layout/list1"/>
    <dgm:cxn modelId="{A4AADD48-8DA3-4A82-B5DD-2B57842C7F2B}" type="presOf" srcId="{595993A4-86C0-4223-9A3B-C26573B70784}" destId="{E93AD73D-5EDD-4953-B9C4-B3BBA0CD70B3}" srcOrd="0" destOrd="0" presId="urn:microsoft.com/office/officeart/2005/8/layout/list1"/>
    <dgm:cxn modelId="{81A74BF5-DE39-4B06-A941-2DE3C6D22FCD}" type="presOf" srcId="{38D13DE0-EEAC-4634-94A6-91A1CA72065B}" destId="{338CAE8D-EEB7-4B42-BF05-7541F318604C}" srcOrd="0" destOrd="0" presId="urn:microsoft.com/office/officeart/2005/8/layout/list1"/>
    <dgm:cxn modelId="{0BAC195C-253B-4A91-8F2D-18819E17D42F}" srcId="{38D13DE0-EEAC-4634-94A6-91A1CA72065B}" destId="{595993A4-86C0-4223-9A3B-C26573B70784}" srcOrd="1" destOrd="0" parTransId="{6894FC18-8EEE-4513-97CB-B539B46E6053}" sibTransId="{A4E519F7-5529-45E5-8B10-98D96AE7B831}"/>
    <dgm:cxn modelId="{4D095810-444D-4DE6-B04C-9097E0D7FB7E}" type="presParOf" srcId="{338CAE8D-EEB7-4B42-BF05-7541F318604C}" destId="{DD4FFAEF-FF2A-436C-891B-40AB8276352B}" srcOrd="0" destOrd="0" presId="urn:microsoft.com/office/officeart/2005/8/layout/list1"/>
    <dgm:cxn modelId="{72C4BBA8-B8AD-4C77-BB02-C468798D543F}" type="presParOf" srcId="{DD4FFAEF-FF2A-436C-891B-40AB8276352B}" destId="{1CDF7F54-F17F-41A4-9AEF-A4A8485C71BC}" srcOrd="0" destOrd="0" presId="urn:microsoft.com/office/officeart/2005/8/layout/list1"/>
    <dgm:cxn modelId="{322539B6-1EF7-4EB5-8E09-44F80B1C467D}" type="presParOf" srcId="{DD4FFAEF-FF2A-436C-891B-40AB8276352B}" destId="{9DA02E5C-A024-4798-970F-47CCB5F11801}" srcOrd="1" destOrd="0" presId="urn:microsoft.com/office/officeart/2005/8/layout/list1"/>
    <dgm:cxn modelId="{0DF6CC38-A733-418A-A81B-D7BD0B8BA24D}" type="presParOf" srcId="{338CAE8D-EEB7-4B42-BF05-7541F318604C}" destId="{33235113-2F4A-4C63-8E65-6BA55FBCFA7D}" srcOrd="1" destOrd="0" presId="urn:microsoft.com/office/officeart/2005/8/layout/list1"/>
    <dgm:cxn modelId="{DD66EE04-B461-4DB5-858C-6B2F90BE0AF9}" type="presParOf" srcId="{338CAE8D-EEB7-4B42-BF05-7541F318604C}" destId="{EC8F2A0A-72D6-490A-9CF4-AE88A1B1E715}" srcOrd="2" destOrd="0" presId="urn:microsoft.com/office/officeart/2005/8/layout/list1"/>
    <dgm:cxn modelId="{4F06CD83-5455-44FE-A99A-85963AFB2320}" type="presParOf" srcId="{338CAE8D-EEB7-4B42-BF05-7541F318604C}" destId="{9489A7E2-32AE-4A2C-B25C-BCFDAE1CC237}" srcOrd="3" destOrd="0" presId="urn:microsoft.com/office/officeart/2005/8/layout/list1"/>
    <dgm:cxn modelId="{EA8749A6-B1DC-40DB-8C70-250D386AC065}" type="presParOf" srcId="{338CAE8D-EEB7-4B42-BF05-7541F318604C}" destId="{04527CFB-D5DB-4309-99B2-66A5F2A13F4D}" srcOrd="4" destOrd="0" presId="urn:microsoft.com/office/officeart/2005/8/layout/list1"/>
    <dgm:cxn modelId="{6C5A0256-2B37-4906-B7B3-285BDC08B901}" type="presParOf" srcId="{04527CFB-D5DB-4309-99B2-66A5F2A13F4D}" destId="{E93AD73D-5EDD-4953-B9C4-B3BBA0CD70B3}" srcOrd="0" destOrd="0" presId="urn:microsoft.com/office/officeart/2005/8/layout/list1"/>
    <dgm:cxn modelId="{11C2713A-DE19-4E31-AB71-803C3212B728}" type="presParOf" srcId="{04527CFB-D5DB-4309-99B2-66A5F2A13F4D}" destId="{8E9998DD-0886-4D80-B9B9-93787D6335B4}" srcOrd="1" destOrd="0" presId="urn:microsoft.com/office/officeart/2005/8/layout/list1"/>
    <dgm:cxn modelId="{F37116B4-841D-44BD-BAD0-2349DDCF0EE1}" type="presParOf" srcId="{338CAE8D-EEB7-4B42-BF05-7541F318604C}" destId="{E14C49B3-2829-4DE3-833A-DDD5CCC51090}" srcOrd="5" destOrd="0" presId="urn:microsoft.com/office/officeart/2005/8/layout/list1"/>
    <dgm:cxn modelId="{0371176F-DE8C-48DC-8A70-C148A14B421E}" type="presParOf" srcId="{338CAE8D-EEB7-4B42-BF05-7541F318604C}" destId="{28E880FE-A7E1-498B-8312-B68AB9386FFB}" srcOrd="6" destOrd="0" presId="urn:microsoft.com/office/officeart/2005/8/layout/list1"/>
    <dgm:cxn modelId="{097D9F18-7243-4D2C-B206-C36B9101D05D}" type="presParOf" srcId="{338CAE8D-EEB7-4B42-BF05-7541F318604C}" destId="{CC9AC5F1-A442-46AC-8A46-059BE8AB4502}" srcOrd="7" destOrd="0" presId="urn:microsoft.com/office/officeart/2005/8/layout/list1"/>
    <dgm:cxn modelId="{A61BF511-2B6D-484A-95FD-5EA4EED861EC}" type="presParOf" srcId="{338CAE8D-EEB7-4B42-BF05-7541F318604C}" destId="{FA01903E-3137-42E5-9BBC-EDFA325D4C2B}" srcOrd="8" destOrd="0" presId="urn:microsoft.com/office/officeart/2005/8/layout/list1"/>
    <dgm:cxn modelId="{2E09A825-6E25-4390-9485-ED85F202C962}" type="presParOf" srcId="{FA01903E-3137-42E5-9BBC-EDFA325D4C2B}" destId="{83A07ED7-098C-4564-BD9F-55C005035380}" srcOrd="0" destOrd="0" presId="urn:microsoft.com/office/officeart/2005/8/layout/list1"/>
    <dgm:cxn modelId="{5EF76C75-3D76-4BBD-A59A-CD530314CCF6}" type="presParOf" srcId="{FA01903E-3137-42E5-9BBC-EDFA325D4C2B}" destId="{44F854A9-466A-45C1-A398-591EEED2189A}" srcOrd="1" destOrd="0" presId="urn:microsoft.com/office/officeart/2005/8/layout/list1"/>
    <dgm:cxn modelId="{9BE49801-7458-4BFB-9B2B-E69F04B272AA}" type="presParOf" srcId="{338CAE8D-EEB7-4B42-BF05-7541F318604C}" destId="{9A985FED-9627-4B88-8F56-3A6C785D48BE}" srcOrd="9" destOrd="0" presId="urn:microsoft.com/office/officeart/2005/8/layout/list1"/>
    <dgm:cxn modelId="{333B8955-DD36-4A90-AAE3-0E2F35400E03}" type="presParOf" srcId="{338CAE8D-EEB7-4B42-BF05-7541F318604C}" destId="{DFD14660-3D42-4C2A-984A-FAB44F2D364E}" srcOrd="10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D46FB3B7-A539-441E-BF49-7B259D56D98D}" type="doc">
      <dgm:prSet loTypeId="urn:microsoft.com/office/officeart/2005/8/layout/cycle6" loCatId="cycle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es-MX"/>
        </a:p>
      </dgm:t>
    </dgm:pt>
    <dgm:pt modelId="{9FD057EC-7743-4695-9558-01AEC608FAEA}">
      <dgm:prSet phldrT="[Texto]" custT="1"/>
      <dgm:spPr>
        <a:effectLst>
          <a:glow rad="228600">
            <a:schemeClr val="accent5">
              <a:satMod val="175000"/>
              <a:alpha val="40000"/>
            </a:schemeClr>
          </a:glow>
        </a:effectLst>
      </dgm:spPr>
      <dgm:t>
        <a:bodyPr/>
        <a:lstStyle/>
        <a:p>
          <a:r>
            <a:rPr lang="es-MX" sz="1600" b="1" dirty="0" smtClean="0">
              <a:latin typeface="Verdana" pitchFamily="34" charset="0"/>
              <a:ea typeface="Verdana" pitchFamily="34" charset="0"/>
              <a:cs typeface="Verdana" pitchFamily="34" charset="0"/>
            </a:rPr>
            <a:t>CERTEZA</a:t>
          </a:r>
        </a:p>
        <a:p>
          <a:r>
            <a:rPr lang="es-MX" sz="1600" dirty="0" smtClean="0">
              <a:latin typeface="Verdana" pitchFamily="34" charset="0"/>
              <a:ea typeface="Verdana" pitchFamily="34" charset="0"/>
              <a:cs typeface="Verdana" pitchFamily="34" charset="0"/>
            </a:rPr>
            <a:t>Clarifica las obligaciones de los responsables.</a:t>
          </a:r>
          <a:endParaRPr lang="es-MX" sz="1600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EC34056B-A872-47CA-997B-7C75A1BCCB7A}" type="parTrans" cxnId="{4E601CA9-C879-4FDE-AD84-5551CCF955A9}">
      <dgm:prSet/>
      <dgm:spPr/>
      <dgm:t>
        <a:bodyPr/>
        <a:lstStyle/>
        <a:p>
          <a:endParaRPr lang="es-MX" sz="2400"/>
        </a:p>
      </dgm:t>
    </dgm:pt>
    <dgm:pt modelId="{655CAC56-FA70-4987-90CB-2D115BFD7790}" type="sibTrans" cxnId="{4E601CA9-C879-4FDE-AD84-5551CCF955A9}">
      <dgm:prSet/>
      <dgm:spPr/>
      <dgm:t>
        <a:bodyPr/>
        <a:lstStyle/>
        <a:p>
          <a:endParaRPr lang="es-MX" sz="2400" dirty="0"/>
        </a:p>
      </dgm:t>
    </dgm:pt>
    <dgm:pt modelId="{344353B2-5509-4D3D-9BF8-517C0A42FCF1}">
      <dgm:prSet phldrT="[Texto]" custT="1"/>
      <dgm:spPr>
        <a:effectLst>
          <a:glow rad="228600">
            <a:schemeClr val="accent5">
              <a:satMod val="175000"/>
              <a:alpha val="40000"/>
            </a:schemeClr>
          </a:glow>
        </a:effectLst>
      </dgm:spPr>
      <dgm:t>
        <a:bodyPr/>
        <a:lstStyle/>
        <a:p>
          <a:r>
            <a:rPr lang="es-MX" sz="1600" b="1" dirty="0" smtClean="0">
              <a:latin typeface="Verdana" pitchFamily="34" charset="0"/>
              <a:ea typeface="Verdana" pitchFamily="34" charset="0"/>
              <a:cs typeface="Verdana" pitchFamily="34" charset="0"/>
            </a:rPr>
            <a:t>EFICACIA</a:t>
          </a:r>
        </a:p>
        <a:p>
          <a:r>
            <a:rPr lang="es-MX" sz="1600" dirty="0" smtClean="0">
              <a:latin typeface="Verdana" pitchFamily="34" charset="0"/>
              <a:ea typeface="Verdana" pitchFamily="34" charset="0"/>
              <a:cs typeface="Verdana" pitchFamily="34" charset="0"/>
            </a:rPr>
            <a:t>Procedimientos sencillos ante el IFAI y para el cumplimiento de obligaciones de los responsables.</a:t>
          </a:r>
          <a:endParaRPr lang="es-MX" sz="1600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C70605C7-00B0-4862-90A2-326480BD5EE8}" type="parTrans" cxnId="{1E6BAF5A-B169-431B-A6D6-A345461A3B84}">
      <dgm:prSet/>
      <dgm:spPr/>
      <dgm:t>
        <a:bodyPr/>
        <a:lstStyle/>
        <a:p>
          <a:endParaRPr lang="es-MX" sz="2400"/>
        </a:p>
      </dgm:t>
    </dgm:pt>
    <dgm:pt modelId="{D19DB334-2DC9-4841-8EA1-D8F9A6FA834F}" type="sibTrans" cxnId="{1E6BAF5A-B169-431B-A6D6-A345461A3B84}">
      <dgm:prSet/>
      <dgm:spPr/>
      <dgm:t>
        <a:bodyPr/>
        <a:lstStyle/>
        <a:p>
          <a:endParaRPr lang="es-MX" sz="2400" dirty="0"/>
        </a:p>
      </dgm:t>
    </dgm:pt>
    <dgm:pt modelId="{312D72E9-49F3-42CC-AC7E-99DCA8C50B5D}">
      <dgm:prSet phldrT="[Texto]" custT="1"/>
      <dgm:spPr>
        <a:effectLst>
          <a:glow rad="228600">
            <a:schemeClr val="accent5">
              <a:satMod val="175000"/>
              <a:alpha val="40000"/>
            </a:schemeClr>
          </a:glow>
        </a:effectLst>
      </dgm:spPr>
      <dgm:t>
        <a:bodyPr/>
        <a:lstStyle/>
        <a:p>
          <a:r>
            <a:rPr lang="es-MX" sz="1600" b="1" dirty="0" smtClean="0">
              <a:latin typeface="Verdana" pitchFamily="34" charset="0"/>
              <a:ea typeface="Verdana" pitchFamily="34" charset="0"/>
              <a:cs typeface="Verdana" pitchFamily="34" charset="0"/>
            </a:rPr>
            <a:t>MODERNIDAD</a:t>
          </a:r>
        </a:p>
        <a:p>
          <a:r>
            <a:rPr lang="es-MX" sz="1600" b="1" dirty="0" smtClean="0">
              <a:latin typeface="Verdana" pitchFamily="34" charset="0"/>
              <a:ea typeface="Verdana" pitchFamily="34" charset="0"/>
              <a:cs typeface="Verdana" pitchFamily="34" charset="0"/>
            </a:rPr>
            <a:t> </a:t>
          </a:r>
          <a:r>
            <a:rPr lang="es-MX" sz="1400" dirty="0" smtClean="0">
              <a:latin typeface="Verdana" pitchFamily="34" charset="0"/>
              <a:ea typeface="Verdana" pitchFamily="34" charset="0"/>
              <a:cs typeface="Verdana" pitchFamily="34" charset="0"/>
            </a:rPr>
            <a:t>Se alinea a las tendencias en el ámbito comparado (transferencias internacionales,  responsabilidad demostrada,                                    autorregulación y conciliación).</a:t>
          </a:r>
          <a:endParaRPr lang="es-MX" sz="1400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5E9BBA85-786F-4567-9B09-569D8A576534}" type="parTrans" cxnId="{220000DB-649B-4CE8-8EE8-C59C8E7DF4B4}">
      <dgm:prSet/>
      <dgm:spPr/>
      <dgm:t>
        <a:bodyPr/>
        <a:lstStyle/>
        <a:p>
          <a:endParaRPr lang="es-MX" sz="2400"/>
        </a:p>
      </dgm:t>
    </dgm:pt>
    <dgm:pt modelId="{4F39C867-9109-4147-A540-E56517321AA1}" type="sibTrans" cxnId="{220000DB-649B-4CE8-8EE8-C59C8E7DF4B4}">
      <dgm:prSet/>
      <dgm:spPr/>
      <dgm:t>
        <a:bodyPr/>
        <a:lstStyle/>
        <a:p>
          <a:endParaRPr lang="es-MX" sz="2400" dirty="0"/>
        </a:p>
      </dgm:t>
    </dgm:pt>
    <dgm:pt modelId="{5238CCAA-D66A-43EF-985D-A6FADE45EA83}">
      <dgm:prSet phldrT="[Texto]" custT="1"/>
      <dgm:spPr>
        <a:effectLst>
          <a:glow rad="228600">
            <a:schemeClr val="accent5">
              <a:satMod val="175000"/>
              <a:alpha val="40000"/>
            </a:schemeClr>
          </a:glow>
        </a:effectLst>
      </dgm:spPr>
      <dgm:t>
        <a:bodyPr/>
        <a:lstStyle/>
        <a:p>
          <a:r>
            <a:rPr lang="es-MX" sz="1600" b="1" dirty="0" smtClean="0">
              <a:latin typeface="Verdana" pitchFamily="34" charset="0"/>
              <a:ea typeface="Verdana" pitchFamily="34" charset="0"/>
              <a:cs typeface="Verdana" pitchFamily="34" charset="0"/>
            </a:rPr>
            <a:t>INNOVACIÓN</a:t>
          </a:r>
        </a:p>
        <a:p>
          <a:r>
            <a:rPr lang="es-MX" sz="1600" dirty="0" smtClean="0">
              <a:latin typeface="Verdana" pitchFamily="34" charset="0"/>
              <a:ea typeface="Verdana" pitchFamily="34" charset="0"/>
              <a:cs typeface="Verdana" pitchFamily="34" charset="0"/>
            </a:rPr>
            <a:t>Modelo auto-aplicativo de medidas de seguridad, aviso de privacidad y mecanismos de autorregulación.</a:t>
          </a:r>
          <a:endParaRPr lang="es-MX" sz="1600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B45E738A-3509-4557-8F46-0B713BAB7448}" type="parTrans" cxnId="{58479B0F-CEC4-4950-8A83-3B364C2C5C65}">
      <dgm:prSet/>
      <dgm:spPr/>
      <dgm:t>
        <a:bodyPr/>
        <a:lstStyle/>
        <a:p>
          <a:endParaRPr lang="es-MX" sz="2400"/>
        </a:p>
      </dgm:t>
    </dgm:pt>
    <dgm:pt modelId="{A44536E8-011F-4EEA-8FEB-2932C58935B1}" type="sibTrans" cxnId="{58479B0F-CEC4-4950-8A83-3B364C2C5C65}">
      <dgm:prSet/>
      <dgm:spPr/>
      <dgm:t>
        <a:bodyPr/>
        <a:lstStyle/>
        <a:p>
          <a:endParaRPr lang="es-MX" sz="2400" dirty="0"/>
        </a:p>
      </dgm:t>
    </dgm:pt>
    <dgm:pt modelId="{862CEB54-D27B-4097-926A-7F7B7EA38CAF}">
      <dgm:prSet phldrT="[Texto]" custT="1"/>
      <dgm:spPr>
        <a:effectLst>
          <a:glow rad="228600">
            <a:schemeClr val="accent5">
              <a:satMod val="175000"/>
              <a:alpha val="40000"/>
            </a:schemeClr>
          </a:glow>
        </a:effectLst>
      </dgm:spPr>
      <dgm:t>
        <a:bodyPr/>
        <a:lstStyle/>
        <a:p>
          <a:r>
            <a:rPr lang="es-MX" sz="1600" b="1" dirty="0" smtClean="0">
              <a:latin typeface="Verdana" pitchFamily="34" charset="0"/>
              <a:ea typeface="Verdana" pitchFamily="34" charset="0"/>
              <a:cs typeface="Verdana" pitchFamily="34" charset="0"/>
            </a:rPr>
            <a:t>COORDINACIÓN EFICAZ </a:t>
          </a:r>
        </a:p>
        <a:p>
          <a:r>
            <a:rPr lang="es-MX" sz="1600" dirty="0" smtClean="0">
              <a:latin typeface="Verdana" pitchFamily="34" charset="0"/>
              <a:ea typeface="Verdana" pitchFamily="34" charset="0"/>
              <a:cs typeface="Verdana" pitchFamily="34" charset="0"/>
            </a:rPr>
            <a:t>Entre el órgano garante y las dependencias reguladoras.</a:t>
          </a:r>
          <a:endParaRPr lang="es-MX" sz="1600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6F0E4611-4AB9-4A17-A5E8-53B47ED179D6}" type="parTrans" cxnId="{569783F6-8FEA-4999-9CA8-50F60AD651FA}">
      <dgm:prSet/>
      <dgm:spPr/>
      <dgm:t>
        <a:bodyPr/>
        <a:lstStyle/>
        <a:p>
          <a:endParaRPr lang="es-MX" sz="2400"/>
        </a:p>
      </dgm:t>
    </dgm:pt>
    <dgm:pt modelId="{D879B4CD-B08F-4EA5-8958-6A52D5515842}" type="sibTrans" cxnId="{569783F6-8FEA-4999-9CA8-50F60AD651FA}">
      <dgm:prSet/>
      <dgm:spPr/>
      <dgm:t>
        <a:bodyPr/>
        <a:lstStyle/>
        <a:p>
          <a:endParaRPr lang="es-MX" sz="2400" dirty="0"/>
        </a:p>
      </dgm:t>
    </dgm:pt>
    <dgm:pt modelId="{A32FDC04-865B-42BC-A1B4-780D117378C7}" type="pres">
      <dgm:prSet presAssocID="{D46FB3B7-A539-441E-BF49-7B259D56D98D}" presName="cycle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es-MX"/>
        </a:p>
      </dgm:t>
    </dgm:pt>
    <dgm:pt modelId="{06518A29-51D3-46AE-A2FF-C4EB858EBF0C}" type="pres">
      <dgm:prSet presAssocID="{9FD057EC-7743-4695-9558-01AEC608FAEA}" presName="node" presStyleLbl="node1" presStyleIdx="0" presStyleCnt="5" custScaleX="138681" custScaleY="101723" custRadScaleRad="78074" custRadScaleInc="51915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  <dgm:pt modelId="{472988C7-2C7B-4371-B486-3BF4499E643F}" type="pres">
      <dgm:prSet presAssocID="{9FD057EC-7743-4695-9558-01AEC608FAEA}" presName="spNode" presStyleCnt="0"/>
      <dgm:spPr/>
    </dgm:pt>
    <dgm:pt modelId="{9584FB23-8FDB-4DFF-8FC3-BD127FE784C7}" type="pres">
      <dgm:prSet presAssocID="{655CAC56-FA70-4987-90CB-2D115BFD7790}" presName="sibTrans" presStyleLbl="sibTrans1D1" presStyleIdx="0" presStyleCnt="5"/>
      <dgm:spPr/>
      <dgm:t>
        <a:bodyPr/>
        <a:lstStyle/>
        <a:p>
          <a:endParaRPr lang="es-MX"/>
        </a:p>
      </dgm:t>
    </dgm:pt>
    <dgm:pt modelId="{FB8A00A2-FAD3-42F1-B049-0F968C54ED72}" type="pres">
      <dgm:prSet presAssocID="{344353B2-5509-4D3D-9BF8-517C0A42FCF1}" presName="node" presStyleLbl="node1" presStyleIdx="1" presStyleCnt="5" custScaleX="129358" custScaleY="128869" custRadScaleRad="104067" custRadScaleInc="59193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  <dgm:pt modelId="{78A66D5E-5E7C-44DE-8551-9A62FAEFE245}" type="pres">
      <dgm:prSet presAssocID="{344353B2-5509-4D3D-9BF8-517C0A42FCF1}" presName="spNode" presStyleCnt="0"/>
      <dgm:spPr/>
    </dgm:pt>
    <dgm:pt modelId="{CEC27320-48C4-4EBF-88ED-A5042E051DB5}" type="pres">
      <dgm:prSet presAssocID="{D19DB334-2DC9-4841-8EA1-D8F9A6FA834F}" presName="sibTrans" presStyleLbl="sibTrans1D1" presStyleIdx="1" presStyleCnt="5"/>
      <dgm:spPr/>
      <dgm:t>
        <a:bodyPr/>
        <a:lstStyle/>
        <a:p>
          <a:endParaRPr lang="es-MX"/>
        </a:p>
      </dgm:t>
    </dgm:pt>
    <dgm:pt modelId="{95FADF3A-6291-4919-9CEF-48D906FDE3F7}" type="pres">
      <dgm:prSet presAssocID="{312D72E9-49F3-42CC-AC7E-99DCA8C50B5D}" presName="node" presStyleLbl="node1" presStyleIdx="2" presStyleCnt="5" custScaleX="151254" custScaleY="128954" custRadScaleRad="102142" custRadScaleInc="-34930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  <dgm:pt modelId="{42FAAAF2-EA84-44E9-A7CC-DCE0C4DFAC10}" type="pres">
      <dgm:prSet presAssocID="{312D72E9-49F3-42CC-AC7E-99DCA8C50B5D}" presName="spNode" presStyleCnt="0"/>
      <dgm:spPr/>
    </dgm:pt>
    <dgm:pt modelId="{F06C47A9-61A1-4574-9F1C-AEA57947661A}" type="pres">
      <dgm:prSet presAssocID="{4F39C867-9109-4147-A540-E56517321AA1}" presName="sibTrans" presStyleLbl="sibTrans1D1" presStyleIdx="2" presStyleCnt="5"/>
      <dgm:spPr/>
      <dgm:t>
        <a:bodyPr/>
        <a:lstStyle/>
        <a:p>
          <a:endParaRPr lang="es-MX"/>
        </a:p>
      </dgm:t>
    </dgm:pt>
    <dgm:pt modelId="{5A78AC06-9C54-4445-A7E5-D1C4EB004366}" type="pres">
      <dgm:prSet presAssocID="{5238CCAA-D66A-43EF-985D-A6FADE45EA83}" presName="node" presStyleLbl="node1" presStyleIdx="3" presStyleCnt="5" custScaleX="142247" custScaleY="123160" custRadScaleRad="98600" custRadScaleInc="21794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  <dgm:pt modelId="{B2937C5E-56BC-455C-A2FF-E2568EBEE4D0}" type="pres">
      <dgm:prSet presAssocID="{5238CCAA-D66A-43EF-985D-A6FADE45EA83}" presName="spNode" presStyleCnt="0"/>
      <dgm:spPr/>
    </dgm:pt>
    <dgm:pt modelId="{E972276F-4725-41A9-B2A5-CF742741BD46}" type="pres">
      <dgm:prSet presAssocID="{A44536E8-011F-4EEA-8FEB-2932C58935B1}" presName="sibTrans" presStyleLbl="sibTrans1D1" presStyleIdx="3" presStyleCnt="5"/>
      <dgm:spPr/>
      <dgm:t>
        <a:bodyPr/>
        <a:lstStyle/>
        <a:p>
          <a:endParaRPr lang="es-MX"/>
        </a:p>
      </dgm:t>
    </dgm:pt>
    <dgm:pt modelId="{2C7D4B61-8029-4E6F-8AE1-CA2E2FEFC956}" type="pres">
      <dgm:prSet presAssocID="{862CEB54-D27B-4097-926A-7F7B7EA38CAF}" presName="node" presStyleLbl="node1" presStyleIdx="4" presStyleCnt="5" custScaleX="128280" custScaleY="118100" custRadScaleRad="107437" custRadScaleInc="-37741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  <dgm:pt modelId="{C3E8E160-BCED-4AA5-94F3-1B0F0722B463}" type="pres">
      <dgm:prSet presAssocID="{862CEB54-D27B-4097-926A-7F7B7EA38CAF}" presName="spNode" presStyleCnt="0"/>
      <dgm:spPr/>
    </dgm:pt>
    <dgm:pt modelId="{B8A68790-E066-4B56-A612-9BE1FA913306}" type="pres">
      <dgm:prSet presAssocID="{D879B4CD-B08F-4EA5-8958-6A52D5515842}" presName="sibTrans" presStyleLbl="sibTrans1D1" presStyleIdx="4" presStyleCnt="5"/>
      <dgm:spPr/>
      <dgm:t>
        <a:bodyPr/>
        <a:lstStyle/>
        <a:p>
          <a:endParaRPr lang="es-MX"/>
        </a:p>
      </dgm:t>
    </dgm:pt>
  </dgm:ptLst>
  <dgm:cxnLst>
    <dgm:cxn modelId="{670A7344-A987-4C69-ACC0-E2EC0AFD2846}" type="presOf" srcId="{862CEB54-D27B-4097-926A-7F7B7EA38CAF}" destId="{2C7D4B61-8029-4E6F-8AE1-CA2E2FEFC956}" srcOrd="0" destOrd="0" presId="urn:microsoft.com/office/officeart/2005/8/layout/cycle6"/>
    <dgm:cxn modelId="{4E601CA9-C879-4FDE-AD84-5551CCF955A9}" srcId="{D46FB3B7-A539-441E-BF49-7B259D56D98D}" destId="{9FD057EC-7743-4695-9558-01AEC608FAEA}" srcOrd="0" destOrd="0" parTransId="{EC34056B-A872-47CA-997B-7C75A1BCCB7A}" sibTransId="{655CAC56-FA70-4987-90CB-2D115BFD7790}"/>
    <dgm:cxn modelId="{6DCCD996-DA46-4FC5-846F-597E877A2ADE}" type="presOf" srcId="{312D72E9-49F3-42CC-AC7E-99DCA8C50B5D}" destId="{95FADF3A-6291-4919-9CEF-48D906FDE3F7}" srcOrd="0" destOrd="0" presId="urn:microsoft.com/office/officeart/2005/8/layout/cycle6"/>
    <dgm:cxn modelId="{32673C78-4954-4195-A43C-C04220EECF66}" type="presOf" srcId="{D879B4CD-B08F-4EA5-8958-6A52D5515842}" destId="{B8A68790-E066-4B56-A612-9BE1FA913306}" srcOrd="0" destOrd="0" presId="urn:microsoft.com/office/officeart/2005/8/layout/cycle6"/>
    <dgm:cxn modelId="{1E6BAF5A-B169-431B-A6D6-A345461A3B84}" srcId="{D46FB3B7-A539-441E-BF49-7B259D56D98D}" destId="{344353B2-5509-4D3D-9BF8-517C0A42FCF1}" srcOrd="1" destOrd="0" parTransId="{C70605C7-00B0-4862-90A2-326480BD5EE8}" sibTransId="{D19DB334-2DC9-4841-8EA1-D8F9A6FA834F}"/>
    <dgm:cxn modelId="{58479B0F-CEC4-4950-8A83-3B364C2C5C65}" srcId="{D46FB3B7-A539-441E-BF49-7B259D56D98D}" destId="{5238CCAA-D66A-43EF-985D-A6FADE45EA83}" srcOrd="3" destOrd="0" parTransId="{B45E738A-3509-4557-8F46-0B713BAB7448}" sibTransId="{A44536E8-011F-4EEA-8FEB-2932C58935B1}"/>
    <dgm:cxn modelId="{4252D804-4FB6-4892-BCBB-B99B89E7AB5F}" type="presOf" srcId="{D19DB334-2DC9-4841-8EA1-D8F9A6FA834F}" destId="{CEC27320-48C4-4EBF-88ED-A5042E051DB5}" srcOrd="0" destOrd="0" presId="urn:microsoft.com/office/officeart/2005/8/layout/cycle6"/>
    <dgm:cxn modelId="{87C95B2D-F939-4469-80DD-08C0AA431C2A}" type="presOf" srcId="{344353B2-5509-4D3D-9BF8-517C0A42FCF1}" destId="{FB8A00A2-FAD3-42F1-B049-0F968C54ED72}" srcOrd="0" destOrd="0" presId="urn:microsoft.com/office/officeart/2005/8/layout/cycle6"/>
    <dgm:cxn modelId="{521707D3-4AEF-4D5A-9850-A6480C562285}" type="presOf" srcId="{9FD057EC-7743-4695-9558-01AEC608FAEA}" destId="{06518A29-51D3-46AE-A2FF-C4EB858EBF0C}" srcOrd="0" destOrd="0" presId="urn:microsoft.com/office/officeart/2005/8/layout/cycle6"/>
    <dgm:cxn modelId="{35AFEE05-0405-4C04-B471-B0CBDD341854}" type="presOf" srcId="{4F39C867-9109-4147-A540-E56517321AA1}" destId="{F06C47A9-61A1-4574-9F1C-AEA57947661A}" srcOrd="0" destOrd="0" presId="urn:microsoft.com/office/officeart/2005/8/layout/cycle6"/>
    <dgm:cxn modelId="{5BCC622D-E539-4B67-B1D6-187A32887F60}" type="presOf" srcId="{D46FB3B7-A539-441E-BF49-7B259D56D98D}" destId="{A32FDC04-865B-42BC-A1B4-780D117378C7}" srcOrd="0" destOrd="0" presId="urn:microsoft.com/office/officeart/2005/8/layout/cycle6"/>
    <dgm:cxn modelId="{5B714509-EF0C-40FB-B5EC-9E42F6104549}" type="presOf" srcId="{5238CCAA-D66A-43EF-985D-A6FADE45EA83}" destId="{5A78AC06-9C54-4445-A7E5-D1C4EB004366}" srcOrd="0" destOrd="0" presId="urn:microsoft.com/office/officeart/2005/8/layout/cycle6"/>
    <dgm:cxn modelId="{2487E796-FD15-4545-B828-7A059EA4E119}" type="presOf" srcId="{A44536E8-011F-4EEA-8FEB-2932C58935B1}" destId="{E972276F-4725-41A9-B2A5-CF742741BD46}" srcOrd="0" destOrd="0" presId="urn:microsoft.com/office/officeart/2005/8/layout/cycle6"/>
    <dgm:cxn modelId="{11A61917-AF7F-4890-97C2-545EA651C62B}" type="presOf" srcId="{655CAC56-FA70-4987-90CB-2D115BFD7790}" destId="{9584FB23-8FDB-4DFF-8FC3-BD127FE784C7}" srcOrd="0" destOrd="0" presId="urn:microsoft.com/office/officeart/2005/8/layout/cycle6"/>
    <dgm:cxn modelId="{569783F6-8FEA-4999-9CA8-50F60AD651FA}" srcId="{D46FB3B7-A539-441E-BF49-7B259D56D98D}" destId="{862CEB54-D27B-4097-926A-7F7B7EA38CAF}" srcOrd="4" destOrd="0" parTransId="{6F0E4611-4AB9-4A17-A5E8-53B47ED179D6}" sibTransId="{D879B4CD-B08F-4EA5-8958-6A52D5515842}"/>
    <dgm:cxn modelId="{220000DB-649B-4CE8-8EE8-C59C8E7DF4B4}" srcId="{D46FB3B7-A539-441E-BF49-7B259D56D98D}" destId="{312D72E9-49F3-42CC-AC7E-99DCA8C50B5D}" srcOrd="2" destOrd="0" parTransId="{5E9BBA85-786F-4567-9B09-569D8A576534}" sibTransId="{4F39C867-9109-4147-A540-E56517321AA1}"/>
    <dgm:cxn modelId="{BC5DC25D-B140-45E0-8936-884E844D2ECA}" type="presParOf" srcId="{A32FDC04-865B-42BC-A1B4-780D117378C7}" destId="{06518A29-51D3-46AE-A2FF-C4EB858EBF0C}" srcOrd="0" destOrd="0" presId="urn:microsoft.com/office/officeart/2005/8/layout/cycle6"/>
    <dgm:cxn modelId="{5BB20F2C-228D-4E16-82DD-E91A33DD9273}" type="presParOf" srcId="{A32FDC04-865B-42BC-A1B4-780D117378C7}" destId="{472988C7-2C7B-4371-B486-3BF4499E643F}" srcOrd="1" destOrd="0" presId="urn:microsoft.com/office/officeart/2005/8/layout/cycle6"/>
    <dgm:cxn modelId="{99792CF2-3884-4744-9997-D5ECE0438A30}" type="presParOf" srcId="{A32FDC04-865B-42BC-A1B4-780D117378C7}" destId="{9584FB23-8FDB-4DFF-8FC3-BD127FE784C7}" srcOrd="2" destOrd="0" presId="urn:microsoft.com/office/officeart/2005/8/layout/cycle6"/>
    <dgm:cxn modelId="{C7303B39-44A8-4B37-94B0-5536E75729B5}" type="presParOf" srcId="{A32FDC04-865B-42BC-A1B4-780D117378C7}" destId="{FB8A00A2-FAD3-42F1-B049-0F968C54ED72}" srcOrd="3" destOrd="0" presId="urn:microsoft.com/office/officeart/2005/8/layout/cycle6"/>
    <dgm:cxn modelId="{45859F6A-BE24-4A1E-B5FB-EC73375D1ADF}" type="presParOf" srcId="{A32FDC04-865B-42BC-A1B4-780D117378C7}" destId="{78A66D5E-5E7C-44DE-8551-9A62FAEFE245}" srcOrd="4" destOrd="0" presId="urn:microsoft.com/office/officeart/2005/8/layout/cycle6"/>
    <dgm:cxn modelId="{7A11B628-8F60-44D0-B7DE-30958C801764}" type="presParOf" srcId="{A32FDC04-865B-42BC-A1B4-780D117378C7}" destId="{CEC27320-48C4-4EBF-88ED-A5042E051DB5}" srcOrd="5" destOrd="0" presId="urn:microsoft.com/office/officeart/2005/8/layout/cycle6"/>
    <dgm:cxn modelId="{C1E413F3-8439-4DA9-965D-B96109E4CABA}" type="presParOf" srcId="{A32FDC04-865B-42BC-A1B4-780D117378C7}" destId="{95FADF3A-6291-4919-9CEF-48D906FDE3F7}" srcOrd="6" destOrd="0" presId="urn:microsoft.com/office/officeart/2005/8/layout/cycle6"/>
    <dgm:cxn modelId="{2A6DE56E-D80E-4039-95CC-BB77CE81E1F7}" type="presParOf" srcId="{A32FDC04-865B-42BC-A1B4-780D117378C7}" destId="{42FAAAF2-EA84-44E9-A7CC-DCE0C4DFAC10}" srcOrd="7" destOrd="0" presId="urn:microsoft.com/office/officeart/2005/8/layout/cycle6"/>
    <dgm:cxn modelId="{8B6F5583-1FCB-4DBC-9CC9-8766D6A0ACD0}" type="presParOf" srcId="{A32FDC04-865B-42BC-A1B4-780D117378C7}" destId="{F06C47A9-61A1-4574-9F1C-AEA57947661A}" srcOrd="8" destOrd="0" presId="urn:microsoft.com/office/officeart/2005/8/layout/cycle6"/>
    <dgm:cxn modelId="{F2CDA8EF-F62F-4A8C-BA20-5EA465337508}" type="presParOf" srcId="{A32FDC04-865B-42BC-A1B4-780D117378C7}" destId="{5A78AC06-9C54-4445-A7E5-D1C4EB004366}" srcOrd="9" destOrd="0" presId="urn:microsoft.com/office/officeart/2005/8/layout/cycle6"/>
    <dgm:cxn modelId="{C94894A3-5741-4C97-845C-060D5A848323}" type="presParOf" srcId="{A32FDC04-865B-42BC-A1B4-780D117378C7}" destId="{B2937C5E-56BC-455C-A2FF-E2568EBEE4D0}" srcOrd="10" destOrd="0" presId="urn:microsoft.com/office/officeart/2005/8/layout/cycle6"/>
    <dgm:cxn modelId="{DDFE0E54-9EAF-4D82-99E5-BB113BFD13FE}" type="presParOf" srcId="{A32FDC04-865B-42BC-A1B4-780D117378C7}" destId="{E972276F-4725-41A9-B2A5-CF742741BD46}" srcOrd="11" destOrd="0" presId="urn:microsoft.com/office/officeart/2005/8/layout/cycle6"/>
    <dgm:cxn modelId="{5A6A78C2-FE1A-44A5-B27D-B6DB2BF41C44}" type="presParOf" srcId="{A32FDC04-865B-42BC-A1B4-780D117378C7}" destId="{2C7D4B61-8029-4E6F-8AE1-CA2E2FEFC956}" srcOrd="12" destOrd="0" presId="urn:microsoft.com/office/officeart/2005/8/layout/cycle6"/>
    <dgm:cxn modelId="{7418A890-2135-4EEA-86BE-0682A99BFA22}" type="presParOf" srcId="{A32FDC04-865B-42BC-A1B4-780D117378C7}" destId="{C3E8E160-BCED-4AA5-94F3-1B0F0722B463}" srcOrd="13" destOrd="0" presId="urn:microsoft.com/office/officeart/2005/8/layout/cycle6"/>
    <dgm:cxn modelId="{88FD0819-C132-4B2B-8773-FE06E4D1AF7B}" type="presParOf" srcId="{A32FDC04-865B-42BC-A1B4-780D117378C7}" destId="{B8A68790-E066-4B56-A612-9BE1FA913306}" srcOrd="14" destOrd="0" presId="urn:microsoft.com/office/officeart/2005/8/layout/cycle6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7BDC8C7C-D861-4D82-B783-0CB0A4E2A0D2}" type="doc">
      <dgm:prSet loTypeId="urn:microsoft.com/office/officeart/2005/8/layout/radial4" loCatId="relationship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es-MX"/>
        </a:p>
      </dgm:t>
    </dgm:pt>
    <dgm:pt modelId="{B9BB2A2E-75F2-4BF4-950A-3EDF62E8C938}">
      <dgm:prSet phldrT="[Texto]" custT="1"/>
      <dgm:spPr>
        <a:solidFill>
          <a:srgbClr val="461D53"/>
        </a:solidFill>
      </dgm:spPr>
      <dgm:t>
        <a:bodyPr/>
        <a:lstStyle/>
        <a:p>
          <a:pPr>
            <a:lnSpc>
              <a:spcPct val="90000"/>
            </a:lnSpc>
            <a:spcAft>
              <a:spcPts val="0"/>
            </a:spcAft>
          </a:pPr>
          <a:r>
            <a:rPr lang="es-MX" sz="1600" b="1" dirty="0" smtClean="0">
              <a:effectLst>
                <a:glow rad="228600">
                  <a:schemeClr val="tx1">
                    <a:alpha val="40000"/>
                  </a:schemeClr>
                </a:glow>
              </a:effectLst>
              <a:latin typeface="Verdana" pitchFamily="34" charset="0"/>
              <a:ea typeface="Verdana" pitchFamily="34" charset="0"/>
              <a:cs typeface="Verdana" pitchFamily="34" charset="0"/>
            </a:rPr>
            <a:t>Reglamento </a:t>
          </a:r>
          <a:r>
            <a:rPr lang="es-MX" sz="1600" b="0" dirty="0" smtClean="0">
              <a:latin typeface="Verdana" pitchFamily="34" charset="0"/>
              <a:ea typeface="Verdana" pitchFamily="34" charset="0"/>
              <a:cs typeface="Verdana" pitchFamily="34" charset="0"/>
            </a:rPr>
            <a:t>de la Ley Federal de Protección de Datos Personales en Posesión de los Particulares</a:t>
          </a:r>
          <a:r>
            <a:rPr lang="es-MX" sz="1600" b="0" dirty="0" smtClean="0"/>
            <a:t>.</a:t>
          </a:r>
          <a:endParaRPr lang="es-MX" sz="1600" b="0" dirty="0"/>
        </a:p>
      </dgm:t>
    </dgm:pt>
    <dgm:pt modelId="{559729CD-151A-4F5F-88BF-68D6F46BC2C1}" type="parTrans" cxnId="{22D796AF-4C09-4BCF-AEBE-1E514DAC1ABC}">
      <dgm:prSet/>
      <dgm:spPr/>
      <dgm:t>
        <a:bodyPr/>
        <a:lstStyle/>
        <a:p>
          <a:endParaRPr lang="es-MX" sz="2400"/>
        </a:p>
      </dgm:t>
    </dgm:pt>
    <dgm:pt modelId="{6DC401C1-140A-4C70-9FD9-561753B4BB27}" type="sibTrans" cxnId="{22D796AF-4C09-4BCF-AEBE-1E514DAC1ABC}">
      <dgm:prSet/>
      <dgm:spPr/>
      <dgm:t>
        <a:bodyPr/>
        <a:lstStyle/>
        <a:p>
          <a:endParaRPr lang="es-MX" sz="2400"/>
        </a:p>
      </dgm:t>
    </dgm:pt>
    <dgm:pt modelId="{AADCC4CA-648C-498A-A801-E78FD7C44AD4}">
      <dgm:prSet phldrT="[Texto]" custT="1"/>
      <dgm:spPr>
        <a:solidFill>
          <a:srgbClr val="FFC000"/>
        </a:solidFill>
      </dgm:spPr>
      <dgm:t>
        <a:bodyPr/>
        <a:lstStyle/>
        <a:p>
          <a:pPr algn="just">
            <a:spcAft>
              <a:spcPts val="0"/>
            </a:spcAft>
          </a:pPr>
          <a:r>
            <a:rPr lang="es-ES" sz="14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Responsable establecido en México/ encargado de responsable en México/ por contrato o derecho internacional/ medios de tratamiento en México/ encargado en México de responsable fuera del país (sólo medidas de seguridad).</a:t>
          </a:r>
          <a:endParaRPr lang="es-MX" sz="1400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44189A53-C8E2-4128-8540-C2DEA8454417}" type="parTrans" cxnId="{9C376718-7BC5-40FE-B38D-69354C0D0237}">
      <dgm:prSet/>
      <dgm:spPr/>
      <dgm:t>
        <a:bodyPr/>
        <a:lstStyle/>
        <a:p>
          <a:endParaRPr lang="es-MX" sz="2400" dirty="0"/>
        </a:p>
      </dgm:t>
    </dgm:pt>
    <dgm:pt modelId="{EE0D01C0-769C-401D-848E-926E88ADD2D6}" type="sibTrans" cxnId="{9C376718-7BC5-40FE-B38D-69354C0D0237}">
      <dgm:prSet/>
      <dgm:spPr/>
      <dgm:t>
        <a:bodyPr/>
        <a:lstStyle/>
        <a:p>
          <a:endParaRPr lang="es-MX" sz="2400"/>
        </a:p>
      </dgm:t>
    </dgm:pt>
    <dgm:pt modelId="{F61F0F1D-9D6D-41A2-BA12-3BFF7D660EE0}">
      <dgm:prSet phldrT="[Texto]" custT="1"/>
      <dgm:spPr>
        <a:solidFill>
          <a:srgbClr val="92D050"/>
        </a:solidFill>
      </dgm:spPr>
      <dgm:t>
        <a:bodyPr/>
        <a:lstStyle/>
        <a:p>
          <a:pPr>
            <a:spcAft>
              <a:spcPts val="0"/>
            </a:spcAft>
          </a:pPr>
          <a:r>
            <a:rPr lang="es-ES" sz="16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Tratamiento en soportes físicos y/o electrónicos ordenados con </a:t>
          </a:r>
          <a:r>
            <a:rPr lang="es-ES" sz="1600" u="none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criterios determinados.</a:t>
          </a:r>
          <a:endParaRPr lang="es-MX" sz="1600" u="none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2F3FC1A8-B85D-4B82-9206-C83EECADF8A2}" type="parTrans" cxnId="{9E38B1A8-85FE-455C-9122-377DEA0AB788}">
      <dgm:prSet/>
      <dgm:spPr/>
      <dgm:t>
        <a:bodyPr/>
        <a:lstStyle/>
        <a:p>
          <a:endParaRPr lang="es-MX" sz="2400" dirty="0"/>
        </a:p>
      </dgm:t>
    </dgm:pt>
    <dgm:pt modelId="{D86F83FC-9366-4E7A-8CA9-948770B7CAFE}" type="sibTrans" cxnId="{9E38B1A8-85FE-455C-9122-377DEA0AB788}">
      <dgm:prSet/>
      <dgm:spPr/>
      <dgm:t>
        <a:bodyPr/>
        <a:lstStyle/>
        <a:p>
          <a:endParaRPr lang="es-MX" sz="2400"/>
        </a:p>
      </dgm:t>
    </dgm:pt>
    <dgm:pt modelId="{3D2E85DC-254D-4E47-B0E7-22EBE4228C56}">
      <dgm:prSet phldrT="[Texto]" custT="1"/>
      <dgm:spPr>
        <a:solidFill>
          <a:schemeClr val="bg2">
            <a:lumMod val="50000"/>
          </a:schemeClr>
        </a:solidFill>
      </dgm:spPr>
      <dgm:t>
        <a:bodyPr/>
        <a:lstStyle/>
        <a:p>
          <a:pPr algn="just">
            <a:lnSpc>
              <a:spcPct val="100000"/>
            </a:lnSpc>
            <a:spcAft>
              <a:spcPts val="0"/>
            </a:spcAft>
          </a:pPr>
          <a:r>
            <a:rPr lang="es-ES" sz="14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Aclara qué se entiende por uso exclusivamente personal y exceptúa: datos de contacto laboral,  información de personas físicas con actividad comercial y profesionistas</a:t>
          </a:r>
          <a:r>
            <a:rPr lang="es-ES" sz="18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. </a:t>
          </a:r>
          <a:endParaRPr lang="es-MX" sz="1800" dirty="0">
            <a:latin typeface="Verdana" pitchFamily="34" charset="0"/>
            <a:ea typeface="Verdana" pitchFamily="34" charset="0"/>
            <a:cs typeface="Verdana" pitchFamily="34" charset="0"/>
          </a:endParaRPr>
        </a:p>
      </dgm:t>
    </dgm:pt>
    <dgm:pt modelId="{13E5D571-B4AA-47FF-B958-57BC6E67D828}" type="parTrans" cxnId="{DE2732DC-8C54-44BE-802D-6D940041A1E6}">
      <dgm:prSet/>
      <dgm:spPr/>
      <dgm:t>
        <a:bodyPr/>
        <a:lstStyle/>
        <a:p>
          <a:endParaRPr lang="es-MX" sz="2400" dirty="0"/>
        </a:p>
      </dgm:t>
    </dgm:pt>
    <dgm:pt modelId="{6295F6AA-CDD0-4FF0-AAC4-040B644771A4}" type="sibTrans" cxnId="{DE2732DC-8C54-44BE-802D-6D940041A1E6}">
      <dgm:prSet/>
      <dgm:spPr/>
      <dgm:t>
        <a:bodyPr/>
        <a:lstStyle/>
        <a:p>
          <a:endParaRPr lang="es-MX" sz="2400"/>
        </a:p>
      </dgm:t>
    </dgm:pt>
    <dgm:pt modelId="{34F4AF01-997D-4C74-B2F1-005DD50DCC8C}" type="pres">
      <dgm:prSet presAssocID="{7BDC8C7C-D861-4D82-B783-0CB0A4E2A0D2}" presName="cycle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es-MX"/>
        </a:p>
      </dgm:t>
    </dgm:pt>
    <dgm:pt modelId="{5637F748-2E3E-41D8-90ED-06A0DDA2D8FF}" type="pres">
      <dgm:prSet presAssocID="{B9BB2A2E-75F2-4BF4-950A-3EDF62E8C938}" presName="centerShape" presStyleLbl="node0" presStyleIdx="0" presStyleCnt="1" custScaleX="95900" custScaleY="94312"/>
      <dgm:spPr/>
      <dgm:t>
        <a:bodyPr/>
        <a:lstStyle/>
        <a:p>
          <a:endParaRPr lang="es-MX"/>
        </a:p>
      </dgm:t>
    </dgm:pt>
    <dgm:pt modelId="{415B0783-8424-41BC-97DB-40CC67BBEA21}" type="pres">
      <dgm:prSet presAssocID="{44189A53-C8E2-4128-8540-C2DEA8454417}" presName="parTrans" presStyleLbl="bgSibTrans2D1" presStyleIdx="0" presStyleCnt="3" custLinFactNeighborX="-4303" custLinFactNeighborY="35667"/>
      <dgm:spPr/>
      <dgm:t>
        <a:bodyPr/>
        <a:lstStyle/>
        <a:p>
          <a:endParaRPr lang="es-MX"/>
        </a:p>
      </dgm:t>
    </dgm:pt>
    <dgm:pt modelId="{D7B1222A-5A0E-463F-A138-E11723409F8A}" type="pres">
      <dgm:prSet presAssocID="{AADCC4CA-648C-498A-A801-E78FD7C44AD4}" presName="node" presStyleLbl="node1" presStyleIdx="0" presStyleCnt="3" custScaleX="111948" custScaleY="135922" custRadScaleRad="104979" custRadScaleInc="-3068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  <dgm:pt modelId="{DB0D98C5-89A7-43C7-95D2-ACE54A416D7D}" type="pres">
      <dgm:prSet presAssocID="{2F3FC1A8-B85D-4B82-9206-C83EECADF8A2}" presName="parTrans" presStyleLbl="bgSibTrans2D1" presStyleIdx="1" presStyleCnt="3" custAng="153612" custLinFactNeighborX="6896" custLinFactNeighborY="-5487"/>
      <dgm:spPr/>
      <dgm:t>
        <a:bodyPr/>
        <a:lstStyle/>
        <a:p>
          <a:endParaRPr lang="es-MX"/>
        </a:p>
      </dgm:t>
    </dgm:pt>
    <dgm:pt modelId="{D9B99EA0-6ECD-46E5-8EF5-EDC958B0977A}" type="pres">
      <dgm:prSet presAssocID="{F61F0F1D-9D6D-41A2-BA12-3BFF7D660EE0}" presName="node" presStyleLbl="node1" presStyleIdx="1" presStyleCnt="3" custScaleX="125122" custScaleY="73033" custRadScaleRad="86293" custRadScaleInc="-4267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  <dgm:pt modelId="{816CF036-3C21-43B6-A40D-A053C1E1A73F}" type="pres">
      <dgm:prSet presAssocID="{13E5D571-B4AA-47FF-B958-57BC6E67D828}" presName="parTrans" presStyleLbl="bgSibTrans2D1" presStyleIdx="2" presStyleCnt="3" custAng="20968768" custLinFactNeighborX="-1367" custLinFactNeighborY="15875"/>
      <dgm:spPr/>
      <dgm:t>
        <a:bodyPr/>
        <a:lstStyle/>
        <a:p>
          <a:endParaRPr lang="es-MX"/>
        </a:p>
      </dgm:t>
    </dgm:pt>
    <dgm:pt modelId="{1E18DEE2-CC67-4184-AC8A-A07CD56A5861}" type="pres">
      <dgm:prSet presAssocID="{3D2E85DC-254D-4E47-B0E7-22EBE4228C56}" presName="node" presStyleLbl="node1" presStyleIdx="2" presStyleCnt="3" custScaleX="101861" custScaleY="116804" custRadScaleRad="104083" custRadScaleInc="-3129">
        <dgm:presLayoutVars>
          <dgm:bulletEnabled val="1"/>
        </dgm:presLayoutVars>
      </dgm:prSet>
      <dgm:spPr/>
      <dgm:t>
        <a:bodyPr/>
        <a:lstStyle/>
        <a:p>
          <a:endParaRPr lang="es-MX"/>
        </a:p>
      </dgm:t>
    </dgm:pt>
  </dgm:ptLst>
  <dgm:cxnLst>
    <dgm:cxn modelId="{9C376718-7BC5-40FE-B38D-69354C0D0237}" srcId="{B9BB2A2E-75F2-4BF4-950A-3EDF62E8C938}" destId="{AADCC4CA-648C-498A-A801-E78FD7C44AD4}" srcOrd="0" destOrd="0" parTransId="{44189A53-C8E2-4128-8540-C2DEA8454417}" sibTransId="{EE0D01C0-769C-401D-848E-926E88ADD2D6}"/>
    <dgm:cxn modelId="{D37BDACF-5172-4507-942A-DF36B89798B4}" type="presOf" srcId="{AADCC4CA-648C-498A-A801-E78FD7C44AD4}" destId="{D7B1222A-5A0E-463F-A138-E11723409F8A}" srcOrd="0" destOrd="0" presId="urn:microsoft.com/office/officeart/2005/8/layout/radial4"/>
    <dgm:cxn modelId="{15230A9D-4565-49DD-A48D-20ED1B7F6E9B}" type="presOf" srcId="{44189A53-C8E2-4128-8540-C2DEA8454417}" destId="{415B0783-8424-41BC-97DB-40CC67BBEA21}" srcOrd="0" destOrd="0" presId="urn:microsoft.com/office/officeart/2005/8/layout/radial4"/>
    <dgm:cxn modelId="{4116421C-C952-4611-85E1-4D2D21061387}" type="presOf" srcId="{7BDC8C7C-D861-4D82-B783-0CB0A4E2A0D2}" destId="{34F4AF01-997D-4C74-B2F1-005DD50DCC8C}" srcOrd="0" destOrd="0" presId="urn:microsoft.com/office/officeart/2005/8/layout/radial4"/>
    <dgm:cxn modelId="{A3301BF1-811F-4656-9B6E-8AF5CD447F98}" type="presOf" srcId="{2F3FC1A8-B85D-4B82-9206-C83EECADF8A2}" destId="{DB0D98C5-89A7-43C7-95D2-ACE54A416D7D}" srcOrd="0" destOrd="0" presId="urn:microsoft.com/office/officeart/2005/8/layout/radial4"/>
    <dgm:cxn modelId="{00D25A90-6266-4D1B-87B7-DFC2708FD8FE}" type="presOf" srcId="{B9BB2A2E-75F2-4BF4-950A-3EDF62E8C938}" destId="{5637F748-2E3E-41D8-90ED-06A0DDA2D8FF}" srcOrd="0" destOrd="0" presId="urn:microsoft.com/office/officeart/2005/8/layout/radial4"/>
    <dgm:cxn modelId="{9E38B1A8-85FE-455C-9122-377DEA0AB788}" srcId="{B9BB2A2E-75F2-4BF4-950A-3EDF62E8C938}" destId="{F61F0F1D-9D6D-41A2-BA12-3BFF7D660EE0}" srcOrd="1" destOrd="0" parTransId="{2F3FC1A8-B85D-4B82-9206-C83EECADF8A2}" sibTransId="{D86F83FC-9366-4E7A-8CA9-948770B7CAFE}"/>
    <dgm:cxn modelId="{DE2732DC-8C54-44BE-802D-6D940041A1E6}" srcId="{B9BB2A2E-75F2-4BF4-950A-3EDF62E8C938}" destId="{3D2E85DC-254D-4E47-B0E7-22EBE4228C56}" srcOrd="2" destOrd="0" parTransId="{13E5D571-B4AA-47FF-B958-57BC6E67D828}" sibTransId="{6295F6AA-CDD0-4FF0-AAC4-040B644771A4}"/>
    <dgm:cxn modelId="{ED1FD901-8A64-48CB-AAB3-A1A1B022DEDF}" type="presOf" srcId="{F61F0F1D-9D6D-41A2-BA12-3BFF7D660EE0}" destId="{D9B99EA0-6ECD-46E5-8EF5-EDC958B0977A}" srcOrd="0" destOrd="0" presId="urn:microsoft.com/office/officeart/2005/8/layout/radial4"/>
    <dgm:cxn modelId="{3D676406-710C-4D97-A125-600D85A76584}" type="presOf" srcId="{13E5D571-B4AA-47FF-B958-57BC6E67D828}" destId="{816CF036-3C21-43B6-A40D-A053C1E1A73F}" srcOrd="0" destOrd="0" presId="urn:microsoft.com/office/officeart/2005/8/layout/radial4"/>
    <dgm:cxn modelId="{9D50B1B3-CC25-4A0A-BA29-436DA9FCAF4C}" type="presOf" srcId="{3D2E85DC-254D-4E47-B0E7-22EBE4228C56}" destId="{1E18DEE2-CC67-4184-AC8A-A07CD56A5861}" srcOrd="0" destOrd="0" presId="urn:microsoft.com/office/officeart/2005/8/layout/radial4"/>
    <dgm:cxn modelId="{22D796AF-4C09-4BCF-AEBE-1E514DAC1ABC}" srcId="{7BDC8C7C-D861-4D82-B783-0CB0A4E2A0D2}" destId="{B9BB2A2E-75F2-4BF4-950A-3EDF62E8C938}" srcOrd="0" destOrd="0" parTransId="{559729CD-151A-4F5F-88BF-68D6F46BC2C1}" sibTransId="{6DC401C1-140A-4C70-9FD9-561753B4BB27}"/>
    <dgm:cxn modelId="{7F0CDE2E-6653-4680-82AC-F542C1431288}" type="presParOf" srcId="{34F4AF01-997D-4C74-B2F1-005DD50DCC8C}" destId="{5637F748-2E3E-41D8-90ED-06A0DDA2D8FF}" srcOrd="0" destOrd="0" presId="urn:microsoft.com/office/officeart/2005/8/layout/radial4"/>
    <dgm:cxn modelId="{0775C6F5-B6A2-4AB3-9EBC-74D47E17862B}" type="presParOf" srcId="{34F4AF01-997D-4C74-B2F1-005DD50DCC8C}" destId="{415B0783-8424-41BC-97DB-40CC67BBEA21}" srcOrd="1" destOrd="0" presId="urn:microsoft.com/office/officeart/2005/8/layout/radial4"/>
    <dgm:cxn modelId="{448A3D1E-199D-48A1-9373-FF578D388D62}" type="presParOf" srcId="{34F4AF01-997D-4C74-B2F1-005DD50DCC8C}" destId="{D7B1222A-5A0E-463F-A138-E11723409F8A}" srcOrd="2" destOrd="0" presId="urn:microsoft.com/office/officeart/2005/8/layout/radial4"/>
    <dgm:cxn modelId="{E48181A7-1CDA-41F1-B2F5-2410C731D85F}" type="presParOf" srcId="{34F4AF01-997D-4C74-B2F1-005DD50DCC8C}" destId="{DB0D98C5-89A7-43C7-95D2-ACE54A416D7D}" srcOrd="3" destOrd="0" presId="urn:microsoft.com/office/officeart/2005/8/layout/radial4"/>
    <dgm:cxn modelId="{C3C486D8-7CD1-4320-A95A-4EE7DE223332}" type="presParOf" srcId="{34F4AF01-997D-4C74-B2F1-005DD50DCC8C}" destId="{D9B99EA0-6ECD-46E5-8EF5-EDC958B0977A}" srcOrd="4" destOrd="0" presId="urn:microsoft.com/office/officeart/2005/8/layout/radial4"/>
    <dgm:cxn modelId="{D12CC96D-2C5C-43FC-94DB-C31906A1A942}" type="presParOf" srcId="{34F4AF01-997D-4C74-B2F1-005DD50DCC8C}" destId="{816CF036-3C21-43B6-A40D-A053C1E1A73F}" srcOrd="5" destOrd="0" presId="urn:microsoft.com/office/officeart/2005/8/layout/radial4"/>
    <dgm:cxn modelId="{85A5760F-1B5C-47E6-8A09-ABA36F72B074}" type="presParOf" srcId="{34F4AF01-997D-4C74-B2F1-005DD50DCC8C}" destId="{1E18DEE2-CC67-4184-AC8A-A07CD56A5861}" srcOrd="6" destOrd="0" presId="urn:microsoft.com/office/officeart/2005/8/layout/radial4"/>
  </dgm:cxnLst>
  <dgm:bg>
    <a:effectLst>
      <a:outerShdw blurRad="50800" dist="38100" algn="l" rotWithShape="0">
        <a:prstClr val="black">
          <a:alpha val="40000"/>
        </a:prstClr>
      </a:outerShdw>
    </a:effectLst>
  </dgm:bg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76B4A96-7801-49FF-BD3F-E8085A1E70DD}">
      <dsp:nvSpPr>
        <dsp:cNvPr id="0" name=""/>
        <dsp:cNvSpPr/>
      </dsp:nvSpPr>
      <dsp:spPr>
        <a:xfrm>
          <a:off x="3477125" y="0"/>
          <a:ext cx="1038636" cy="701781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sp:txBody>
      <dsp:txXfrm>
        <a:off x="3477125" y="0"/>
        <a:ext cx="1038636" cy="701781"/>
      </dsp:txXfrm>
    </dsp:sp>
    <dsp:sp modelId="{0C8A0B72-5F2B-400B-A661-82CAEBE7CDD3}">
      <dsp:nvSpPr>
        <dsp:cNvPr id="0" name=""/>
        <dsp:cNvSpPr/>
      </dsp:nvSpPr>
      <dsp:spPr>
        <a:xfrm>
          <a:off x="2957807" y="701781"/>
          <a:ext cx="2077272" cy="701781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Convenio 108 (1981</a:t>
          </a: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  <a:t>)</a:t>
          </a: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sp:txBody>
      <dsp:txXfrm>
        <a:off x="3321330" y="701781"/>
        <a:ext cx="1350227" cy="701781"/>
      </dsp:txXfrm>
    </dsp:sp>
    <dsp:sp modelId="{C2C4B6EE-4963-40B9-9EE2-6233AF8DE25B}">
      <dsp:nvSpPr>
        <dsp:cNvPr id="0" name=""/>
        <dsp:cNvSpPr/>
      </dsp:nvSpPr>
      <dsp:spPr>
        <a:xfrm>
          <a:off x="2438489" y="1403562"/>
          <a:ext cx="3115908" cy="701781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Resolución 45/95 dela ONU (1990) </a:t>
          </a: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2983773" y="1403562"/>
        <a:ext cx="2025340" cy="701781"/>
      </dsp:txXfrm>
    </dsp:sp>
    <dsp:sp modelId="{D833960C-94A9-4793-827D-4F57CB7EB588}">
      <dsp:nvSpPr>
        <dsp:cNvPr id="0" name=""/>
        <dsp:cNvSpPr/>
      </dsp:nvSpPr>
      <dsp:spPr>
        <a:xfrm>
          <a:off x="1919171" y="2105343"/>
          <a:ext cx="4154545" cy="701781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Directiva 95/46/CE(1995) </a:t>
          </a: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2646216" y="2105343"/>
        <a:ext cx="2700454" cy="701781"/>
      </dsp:txXfrm>
    </dsp:sp>
    <dsp:sp modelId="{CCEB049E-5DAA-41FB-BD24-78E27BF5C291}">
      <dsp:nvSpPr>
        <dsp:cNvPr id="0" name=""/>
        <dsp:cNvSpPr/>
      </dsp:nvSpPr>
      <dsp:spPr>
        <a:xfrm>
          <a:off x="1399853" y="2807125"/>
          <a:ext cx="5193181" cy="701781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Marco de Privacidad de APEC (1999)</a:t>
          </a: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2308660" y="2807125"/>
        <a:ext cx="3375567" cy="701781"/>
      </dsp:txXfrm>
    </dsp:sp>
    <dsp:sp modelId="{FC53F564-A39D-4D75-AADD-A6D31064C41D}">
      <dsp:nvSpPr>
        <dsp:cNvPr id="0" name=""/>
        <dsp:cNvSpPr/>
      </dsp:nvSpPr>
      <dsp:spPr>
        <a:xfrm>
          <a:off x="880535" y="3508906"/>
          <a:ext cx="6231817" cy="701781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Carta de Derechos Fundamentales de la Unión Europa (2000)</a:t>
          </a: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1971103" y="3508906"/>
        <a:ext cx="4050681" cy="701781"/>
      </dsp:txXfrm>
    </dsp:sp>
    <dsp:sp modelId="{AF751E29-787E-40D0-AAE9-06A05CD255BB}">
      <dsp:nvSpPr>
        <dsp:cNvPr id="0" name=""/>
        <dsp:cNvSpPr/>
      </dsp:nvSpPr>
      <dsp:spPr>
        <a:xfrm>
          <a:off x="361216" y="4210687"/>
          <a:ext cx="7270454" cy="701781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Directrices de Armonización de la Red Iberoamericana (2007</a:t>
          </a: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  <a:t>)</a:t>
          </a: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+mj-lt"/>
          </a:endParaRPr>
        </a:p>
      </dsp:txBody>
      <dsp:txXfrm>
        <a:off x="1633546" y="4210687"/>
        <a:ext cx="4725795" cy="701781"/>
      </dsp:txXfrm>
    </dsp:sp>
    <dsp:sp modelId="{FAA8744C-CBEA-413B-BA67-FE8DE6236051}">
      <dsp:nvSpPr>
        <dsp:cNvPr id="0" name=""/>
        <dsp:cNvSpPr/>
      </dsp:nvSpPr>
      <dsp:spPr>
        <a:xfrm>
          <a:off x="0" y="4912469"/>
          <a:ext cx="7992888" cy="488130"/>
        </a:xfrm>
        <a:prstGeom prst="trapezoid">
          <a:avLst>
            <a:gd name="adj" fmla="val 74000"/>
          </a:avLst>
        </a:prstGeom>
        <a:solidFill>
          <a:schemeClr val="accent1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kern="1200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  <a:t/>
          </a:r>
          <a:br>
            <a:rPr lang="es-MX" sz="1600" kern="1200" dirty="0" smtClean="0">
              <a:solidFill>
                <a:schemeClr val="tx2">
                  <a:lumMod val="75000"/>
                </a:schemeClr>
              </a:solidFill>
              <a:effectLst/>
              <a:latin typeface="+mj-lt"/>
            </a:rPr>
          </a:br>
          <a:r>
            <a:rPr lang="es-MX" sz="1600" b="1" kern="1200" dirty="0" smtClean="0">
              <a:solidFill>
                <a:schemeClr val="tx2">
                  <a:lumMod val="75000"/>
                </a:schemeClr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Estándares internaciones (2009)</a:t>
          </a:r>
          <a:endParaRPr lang="es-MX" sz="1600" b="1" kern="1200" dirty="0">
            <a:solidFill>
              <a:schemeClr val="tx2">
                <a:lumMod val="75000"/>
              </a:schemeClr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1398755" y="4912469"/>
        <a:ext cx="5195377" cy="488130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EC8F2A0A-72D6-490A-9CF4-AE88A1B1E715}">
      <dsp:nvSpPr>
        <dsp:cNvPr id="0" name=""/>
        <dsp:cNvSpPr/>
      </dsp:nvSpPr>
      <dsp:spPr>
        <a:xfrm>
          <a:off x="0" y="887504"/>
          <a:ext cx="6096000" cy="5544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64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9DA02E5C-A024-4798-970F-47CCB5F11801}">
      <dsp:nvSpPr>
        <dsp:cNvPr id="0" name=""/>
        <dsp:cNvSpPr/>
      </dsp:nvSpPr>
      <dsp:spPr>
        <a:xfrm>
          <a:off x="761981" y="585793"/>
          <a:ext cx="4267200" cy="64944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642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threePt" dir="t"/>
        </a:scene3d>
        <a:sp3d>
          <a:bevelT/>
          <a:bevelB/>
        </a:sp3d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61290" tIns="0" rIns="161290" bIns="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2200" b="1" kern="1200" dirty="0" smtClean="0">
              <a:solidFill>
                <a:schemeClr val="tx2"/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Protección de Derechos</a:t>
          </a:r>
          <a:endParaRPr lang="es-MX" sz="2200" b="1" kern="1200" dirty="0">
            <a:solidFill>
              <a:schemeClr val="tx2"/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793684" y="617496"/>
        <a:ext cx="4203794" cy="586034"/>
      </dsp:txXfrm>
    </dsp:sp>
    <dsp:sp modelId="{28E880FE-A7E1-498B-8312-B68AB9386FFB}">
      <dsp:nvSpPr>
        <dsp:cNvPr id="0" name=""/>
        <dsp:cNvSpPr/>
      </dsp:nvSpPr>
      <dsp:spPr>
        <a:xfrm>
          <a:off x="0" y="1885424"/>
          <a:ext cx="6096000" cy="5544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64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8E9998DD-0886-4D80-B9B9-93787D6335B4}">
      <dsp:nvSpPr>
        <dsp:cNvPr id="0" name=""/>
        <dsp:cNvSpPr/>
      </dsp:nvSpPr>
      <dsp:spPr>
        <a:xfrm>
          <a:off x="833414" y="1528771"/>
          <a:ext cx="4267200" cy="64944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642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threePt" dir="t"/>
        </a:scene3d>
        <a:sp3d>
          <a:bevelT/>
          <a:bevelB/>
        </a:sp3d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61290" tIns="0" rIns="161290" bIns="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2200" b="1" kern="1200" dirty="0" smtClean="0">
              <a:solidFill>
                <a:schemeClr val="tx2"/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Verificación</a:t>
          </a:r>
          <a:endParaRPr lang="es-MX" sz="2200" b="1" kern="1200" dirty="0">
            <a:solidFill>
              <a:schemeClr val="tx2"/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865117" y="1560474"/>
        <a:ext cx="4203794" cy="586034"/>
      </dsp:txXfrm>
    </dsp:sp>
    <dsp:sp modelId="{DFD14660-3D42-4C2A-984A-FAB44F2D364E}">
      <dsp:nvSpPr>
        <dsp:cNvPr id="0" name=""/>
        <dsp:cNvSpPr/>
      </dsp:nvSpPr>
      <dsp:spPr>
        <a:xfrm>
          <a:off x="0" y="2883344"/>
          <a:ext cx="6096000" cy="5544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64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44F854A9-466A-45C1-A398-591EEED2189A}">
      <dsp:nvSpPr>
        <dsp:cNvPr id="0" name=""/>
        <dsp:cNvSpPr/>
      </dsp:nvSpPr>
      <dsp:spPr>
        <a:xfrm>
          <a:off x="833414" y="2524145"/>
          <a:ext cx="4267200" cy="64944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642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threePt" dir="t"/>
        </a:scene3d>
        <a:sp3d>
          <a:bevelT/>
          <a:bevelB/>
        </a:sp3d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61290" tIns="0" rIns="161290" bIns="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2200" b="1" kern="1200" dirty="0" smtClean="0">
              <a:solidFill>
                <a:schemeClr val="tx2"/>
              </a:solidFill>
              <a:effectLst/>
              <a:latin typeface="Verdana" pitchFamily="34" charset="0"/>
              <a:ea typeface="Verdana" pitchFamily="34" charset="0"/>
              <a:cs typeface="Verdana" pitchFamily="34" charset="0"/>
            </a:rPr>
            <a:t>Imposición de sanciones</a:t>
          </a:r>
          <a:endParaRPr lang="es-MX" sz="2200" b="1" kern="1200" dirty="0">
            <a:solidFill>
              <a:schemeClr val="tx2"/>
            </a:solidFill>
            <a:effectLst/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865117" y="2555848"/>
        <a:ext cx="4203794" cy="586034"/>
      </dsp:txXfrm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6518A29-51D3-46AE-A2FF-C4EB858EBF0C}">
      <dsp:nvSpPr>
        <dsp:cNvPr id="0" name=""/>
        <dsp:cNvSpPr/>
      </dsp:nvSpPr>
      <dsp:spPr>
        <a:xfrm>
          <a:off x="3563886" y="594215"/>
          <a:ext cx="2928763" cy="1396368"/>
        </a:xfrm>
        <a:prstGeom prst="roundRect">
          <a:avLst/>
        </a:prstGeom>
        <a:gradFill rotWithShape="0">
          <a:gsLst>
            <a:gs pos="0">
              <a:schemeClr val="accent4">
                <a:hueOff val="0"/>
                <a:satOff val="0"/>
                <a:lumOff val="0"/>
                <a:alphaOff val="0"/>
                <a:shade val="70000"/>
                <a:satMod val="150000"/>
              </a:schemeClr>
            </a:gs>
            <a:gs pos="34000">
              <a:schemeClr val="accent4">
                <a:hueOff val="0"/>
                <a:satOff val="0"/>
                <a:lumOff val="0"/>
                <a:alphaOff val="0"/>
                <a:shade val="70000"/>
                <a:satMod val="140000"/>
              </a:schemeClr>
            </a:gs>
            <a:gs pos="70000">
              <a:schemeClr val="accent4">
                <a:hueOff val="0"/>
                <a:satOff val="0"/>
                <a:lumOff val="0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0"/>
                <a:satOff val="0"/>
                <a:lumOff val="0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glow rad="228600">
            <a:schemeClr val="accent5">
              <a:satMod val="175000"/>
              <a:alpha val="40000"/>
            </a:schemeClr>
          </a:glo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rgbClr r="0" g="0" b="0">
              <a:shade val="30000"/>
              <a:satMod val="130000"/>
            </a:scrgb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CERTEZA</a:t>
          </a:r>
        </a:p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Clarifica las obligaciones de los responsables.</a:t>
          </a:r>
          <a:endParaRPr lang="es-MX" sz="1600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3632051" y="662380"/>
        <a:ext cx="2792433" cy="1260038"/>
      </dsp:txXfrm>
    </dsp:sp>
    <dsp:sp modelId="{9584FB23-8FDB-4DFF-8FC3-BD127FE784C7}">
      <dsp:nvSpPr>
        <dsp:cNvPr id="0" name=""/>
        <dsp:cNvSpPr/>
      </dsp:nvSpPr>
      <dsp:spPr>
        <a:xfrm>
          <a:off x="3154419" y="1974577"/>
          <a:ext cx="5484981" cy="5484981"/>
        </a:xfrm>
        <a:custGeom>
          <a:avLst/>
          <a:gdLst/>
          <a:ahLst/>
          <a:cxnLst/>
          <a:rect l="0" t="0" r="0" b="0"/>
          <a:pathLst>
            <a:path>
              <a:moveTo>
                <a:pt x="3048960" y="17177"/>
              </a:moveTo>
              <a:arcTo wR="2742490" hR="2742490" stAng="16584968" swAng="1319227"/>
            </a:path>
          </a:pathLst>
        </a:custGeom>
        <a:noFill/>
        <a:ln w="9525" cap="flat" cmpd="sng" algn="ctr">
          <a:solidFill>
            <a:schemeClr val="accent4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FB8A00A2-FAD3-42F1-B049-0F968C54ED72}">
      <dsp:nvSpPr>
        <dsp:cNvPr id="0" name=""/>
        <dsp:cNvSpPr/>
      </dsp:nvSpPr>
      <dsp:spPr>
        <a:xfrm>
          <a:off x="6048145" y="2309807"/>
          <a:ext cx="2731874" cy="1769005"/>
        </a:xfrm>
        <a:prstGeom prst="roundRect">
          <a:avLst/>
        </a:prstGeom>
        <a:gradFill rotWithShape="0">
          <a:gsLst>
            <a:gs pos="0">
              <a:schemeClr val="accent4">
                <a:hueOff val="-664640"/>
                <a:satOff val="496"/>
                <a:lumOff val="2157"/>
                <a:alphaOff val="0"/>
                <a:shade val="70000"/>
                <a:satMod val="150000"/>
              </a:schemeClr>
            </a:gs>
            <a:gs pos="34000">
              <a:schemeClr val="accent4">
                <a:hueOff val="-664640"/>
                <a:satOff val="496"/>
                <a:lumOff val="2157"/>
                <a:alphaOff val="0"/>
                <a:shade val="70000"/>
                <a:satMod val="140000"/>
              </a:schemeClr>
            </a:gs>
            <a:gs pos="70000">
              <a:schemeClr val="accent4">
                <a:hueOff val="-664640"/>
                <a:satOff val="496"/>
                <a:lumOff val="2157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-664640"/>
                <a:satOff val="496"/>
                <a:lumOff val="2157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glow rad="228600">
            <a:schemeClr val="accent5">
              <a:satMod val="175000"/>
              <a:alpha val="40000"/>
            </a:schemeClr>
          </a:glo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rgbClr r="0" g="0" b="0">
              <a:shade val="30000"/>
              <a:satMod val="130000"/>
            </a:scrgb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EFICACIA</a:t>
          </a:r>
        </a:p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Procedimientos sencillos ante el IFAI y para el cumplimiento de obligaciones de los responsables.</a:t>
          </a:r>
          <a:endParaRPr lang="es-MX" sz="1600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6134501" y="2396163"/>
        <a:ext cx="2559162" cy="1596293"/>
      </dsp:txXfrm>
    </dsp:sp>
    <dsp:sp modelId="{CEC27320-48C4-4EBF-88ED-A5042E051DB5}">
      <dsp:nvSpPr>
        <dsp:cNvPr id="0" name=""/>
        <dsp:cNvSpPr/>
      </dsp:nvSpPr>
      <dsp:spPr>
        <a:xfrm>
          <a:off x="2021534" y="379669"/>
          <a:ext cx="5484981" cy="5484981"/>
        </a:xfrm>
        <a:custGeom>
          <a:avLst/>
          <a:gdLst/>
          <a:ahLst/>
          <a:cxnLst/>
          <a:rect l="0" t="0" r="0" b="0"/>
          <a:pathLst>
            <a:path>
              <a:moveTo>
                <a:pt x="5311090" y="3703508"/>
              </a:moveTo>
              <a:arcTo wR="2742490" hR="2742490" stAng="1230772" swAng="572996"/>
            </a:path>
          </a:pathLst>
        </a:custGeom>
        <a:noFill/>
        <a:ln w="9525" cap="flat" cmpd="sng" algn="ctr">
          <a:solidFill>
            <a:schemeClr val="accent4">
              <a:hueOff val="-664640"/>
              <a:satOff val="496"/>
              <a:lumOff val="2157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95FADF3A-6291-4919-9CEF-48D906FDE3F7}">
      <dsp:nvSpPr>
        <dsp:cNvPr id="0" name=""/>
        <dsp:cNvSpPr/>
      </dsp:nvSpPr>
      <dsp:spPr>
        <a:xfrm>
          <a:off x="4928498" y="4500037"/>
          <a:ext cx="3194289" cy="1770172"/>
        </a:xfrm>
        <a:prstGeom prst="roundRect">
          <a:avLst/>
        </a:prstGeom>
        <a:gradFill rotWithShape="0">
          <a:gsLst>
            <a:gs pos="0">
              <a:schemeClr val="accent4">
                <a:hueOff val="-1329280"/>
                <a:satOff val="993"/>
                <a:lumOff val="4314"/>
                <a:alphaOff val="0"/>
                <a:shade val="70000"/>
                <a:satMod val="150000"/>
              </a:schemeClr>
            </a:gs>
            <a:gs pos="34000">
              <a:schemeClr val="accent4">
                <a:hueOff val="-1329280"/>
                <a:satOff val="993"/>
                <a:lumOff val="4314"/>
                <a:alphaOff val="0"/>
                <a:shade val="70000"/>
                <a:satMod val="140000"/>
              </a:schemeClr>
            </a:gs>
            <a:gs pos="70000">
              <a:schemeClr val="accent4">
                <a:hueOff val="-1329280"/>
                <a:satOff val="993"/>
                <a:lumOff val="4314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-1329280"/>
                <a:satOff val="993"/>
                <a:lumOff val="4314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glow rad="228600">
            <a:schemeClr val="accent5">
              <a:satMod val="175000"/>
              <a:alpha val="40000"/>
            </a:schemeClr>
          </a:glo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rgbClr r="0" g="0" b="0">
              <a:shade val="30000"/>
              <a:satMod val="130000"/>
            </a:scrgb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MODERNIDAD</a:t>
          </a:r>
        </a:p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 </a:t>
          </a:r>
          <a:r>
            <a:rPr lang="es-MX" sz="1400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Se alinea a las tendencias en el ámbito comparado (transferencias internacionales,  responsabilidad demostrada,                                    autorregulación y conciliación).</a:t>
          </a:r>
          <a:endParaRPr lang="es-MX" sz="1400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5014911" y="4586450"/>
        <a:ext cx="3021463" cy="1597346"/>
      </dsp:txXfrm>
    </dsp:sp>
    <dsp:sp modelId="{F06C47A9-61A1-4574-9F1C-AEA57947661A}">
      <dsp:nvSpPr>
        <dsp:cNvPr id="0" name=""/>
        <dsp:cNvSpPr/>
      </dsp:nvSpPr>
      <dsp:spPr>
        <a:xfrm>
          <a:off x="2235160" y="676323"/>
          <a:ext cx="5484981" cy="5484981"/>
        </a:xfrm>
        <a:custGeom>
          <a:avLst/>
          <a:gdLst/>
          <a:ahLst/>
          <a:cxnLst/>
          <a:rect l="0" t="0" r="0" b="0"/>
          <a:pathLst>
            <a:path>
              <a:moveTo>
                <a:pt x="2686854" y="5484417"/>
              </a:moveTo>
              <a:arcTo wR="2742490" hR="2742490" stAng="5469745" swAng="798454"/>
            </a:path>
          </a:pathLst>
        </a:custGeom>
        <a:noFill/>
        <a:ln w="9525" cap="flat" cmpd="sng" algn="ctr">
          <a:solidFill>
            <a:schemeClr val="accent4">
              <a:hueOff val="-1329280"/>
              <a:satOff val="993"/>
              <a:lumOff val="4314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A78AC06-9C54-4445-A7E5-D1C4EB004366}">
      <dsp:nvSpPr>
        <dsp:cNvPr id="0" name=""/>
        <dsp:cNvSpPr/>
      </dsp:nvSpPr>
      <dsp:spPr>
        <a:xfrm>
          <a:off x="1282027" y="4571476"/>
          <a:ext cx="3004073" cy="1690637"/>
        </a:xfrm>
        <a:prstGeom prst="roundRect">
          <a:avLst/>
        </a:prstGeom>
        <a:gradFill rotWithShape="0">
          <a:gsLst>
            <a:gs pos="0">
              <a:schemeClr val="accent4">
                <a:hueOff val="-1993920"/>
                <a:satOff val="1489"/>
                <a:lumOff val="6470"/>
                <a:alphaOff val="0"/>
                <a:shade val="70000"/>
                <a:satMod val="150000"/>
              </a:schemeClr>
            </a:gs>
            <a:gs pos="34000">
              <a:schemeClr val="accent4">
                <a:hueOff val="-1993920"/>
                <a:satOff val="1489"/>
                <a:lumOff val="6470"/>
                <a:alphaOff val="0"/>
                <a:shade val="70000"/>
                <a:satMod val="140000"/>
              </a:schemeClr>
            </a:gs>
            <a:gs pos="70000">
              <a:schemeClr val="accent4">
                <a:hueOff val="-1993920"/>
                <a:satOff val="1489"/>
                <a:lumOff val="6470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-1993920"/>
                <a:satOff val="1489"/>
                <a:lumOff val="6470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glow rad="228600">
            <a:schemeClr val="accent5">
              <a:satMod val="175000"/>
              <a:alpha val="40000"/>
            </a:schemeClr>
          </a:glo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rgbClr r="0" g="0" b="0">
              <a:shade val="30000"/>
              <a:satMod val="130000"/>
            </a:scrgb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INNOVACIÓN</a:t>
          </a:r>
        </a:p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Modelo auto-aplicativo de medidas de seguridad, aviso de privacidad y mecanismos de autorregulación.</a:t>
          </a:r>
          <a:endParaRPr lang="es-MX" sz="1600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1364557" y="4654006"/>
        <a:ext cx="2839013" cy="1525577"/>
      </dsp:txXfrm>
    </dsp:sp>
    <dsp:sp modelId="{E972276F-4725-41A9-B2A5-CF742741BD46}">
      <dsp:nvSpPr>
        <dsp:cNvPr id="0" name=""/>
        <dsp:cNvSpPr/>
      </dsp:nvSpPr>
      <dsp:spPr>
        <a:xfrm>
          <a:off x="1467422" y="32990"/>
          <a:ext cx="5484981" cy="5484981"/>
        </a:xfrm>
        <a:custGeom>
          <a:avLst/>
          <a:gdLst/>
          <a:ahLst/>
          <a:cxnLst/>
          <a:rect l="0" t="0" r="0" b="0"/>
          <a:pathLst>
            <a:path>
              <a:moveTo>
                <a:pt x="663541" y="4531129"/>
              </a:moveTo>
              <a:arcTo wR="2742490" hR="2742490" stAng="8357563" swAng="1200491"/>
            </a:path>
          </a:pathLst>
        </a:custGeom>
        <a:noFill/>
        <a:ln w="9525" cap="flat" cmpd="sng" algn="ctr">
          <a:solidFill>
            <a:schemeClr val="accent4">
              <a:hueOff val="-1993920"/>
              <a:satOff val="1489"/>
              <a:lumOff val="647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C7D4B61-8029-4E6F-8AE1-CA2E2FEFC956}">
      <dsp:nvSpPr>
        <dsp:cNvPr id="0" name=""/>
        <dsp:cNvSpPr/>
      </dsp:nvSpPr>
      <dsp:spPr>
        <a:xfrm>
          <a:off x="301116" y="2114566"/>
          <a:ext cx="2709108" cy="1621177"/>
        </a:xfrm>
        <a:prstGeom prst="roundRect">
          <a:avLst/>
        </a:prstGeom>
        <a:gradFill rotWithShape="0">
          <a:gsLst>
            <a:gs pos="0">
              <a:schemeClr val="accent4">
                <a:hueOff val="-2658560"/>
                <a:satOff val="1986"/>
                <a:lumOff val="8627"/>
                <a:alphaOff val="0"/>
                <a:shade val="70000"/>
                <a:satMod val="150000"/>
              </a:schemeClr>
            </a:gs>
            <a:gs pos="34000">
              <a:schemeClr val="accent4">
                <a:hueOff val="-2658560"/>
                <a:satOff val="1986"/>
                <a:lumOff val="8627"/>
                <a:alphaOff val="0"/>
                <a:shade val="70000"/>
                <a:satMod val="140000"/>
              </a:schemeClr>
            </a:gs>
            <a:gs pos="70000">
              <a:schemeClr val="accent4">
                <a:hueOff val="-2658560"/>
                <a:satOff val="1986"/>
                <a:lumOff val="8627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-2658560"/>
                <a:satOff val="1986"/>
                <a:lumOff val="8627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glow rad="228600">
            <a:schemeClr val="accent5">
              <a:satMod val="175000"/>
              <a:alpha val="40000"/>
            </a:schemeClr>
          </a:glo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rgbClr r="0" g="0" b="0">
              <a:shade val="30000"/>
              <a:satMod val="130000"/>
            </a:scrgb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b="1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COORDINACIÓN EFICAZ </a:t>
          </a:r>
        </a:p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MX" sz="1600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Entre el órgano garante y las dependencias reguladoras.</a:t>
          </a:r>
          <a:endParaRPr lang="es-MX" sz="1600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380255" y="2193705"/>
        <a:ext cx="2550830" cy="1462899"/>
      </dsp:txXfrm>
    </dsp:sp>
    <dsp:sp modelId="{B8A68790-E066-4B56-A612-9BE1FA913306}">
      <dsp:nvSpPr>
        <dsp:cNvPr id="0" name=""/>
        <dsp:cNvSpPr/>
      </dsp:nvSpPr>
      <dsp:spPr>
        <a:xfrm>
          <a:off x="907023" y="1489778"/>
          <a:ext cx="5484981" cy="5484981"/>
        </a:xfrm>
        <a:custGeom>
          <a:avLst/>
          <a:gdLst/>
          <a:ahLst/>
          <a:cxnLst/>
          <a:rect l="0" t="0" r="0" b="0"/>
          <a:pathLst>
            <a:path>
              <a:moveTo>
                <a:pt x="1013616" y="613583"/>
              </a:moveTo>
              <a:arcTo wR="2742490" hR="2742490" stAng="13855208" swAng="2215248"/>
            </a:path>
          </a:pathLst>
        </a:custGeom>
        <a:noFill/>
        <a:ln w="9525" cap="flat" cmpd="sng" algn="ctr">
          <a:solidFill>
            <a:schemeClr val="accent4">
              <a:hueOff val="-2658560"/>
              <a:satOff val="1986"/>
              <a:lumOff val="8627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637F748-2E3E-41D8-90ED-06A0DDA2D8FF}">
      <dsp:nvSpPr>
        <dsp:cNvPr id="0" name=""/>
        <dsp:cNvSpPr/>
      </dsp:nvSpPr>
      <dsp:spPr>
        <a:xfrm>
          <a:off x="3393465" y="3191902"/>
          <a:ext cx="2330669" cy="2292075"/>
        </a:xfrm>
        <a:prstGeom prst="ellipse">
          <a:avLst/>
        </a:prstGeom>
        <a:solidFill>
          <a:srgbClr val="461D53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hemeClr val="accent3">
              <a:hueOff val="0"/>
              <a:satOff val="0"/>
              <a:lumOff val="0"/>
              <a:alphaOff val="0"/>
              <a:shade val="30000"/>
              <a:satMod val="13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10160" tIns="10160" rIns="10160" bIns="101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ts val="0"/>
            </a:spcAft>
          </a:pPr>
          <a:r>
            <a:rPr lang="es-MX" sz="1600" b="1" kern="1200" dirty="0" smtClean="0">
              <a:effectLst>
                <a:glow rad="228600">
                  <a:schemeClr val="tx1">
                    <a:alpha val="40000"/>
                  </a:schemeClr>
                </a:glow>
              </a:effectLst>
              <a:latin typeface="Verdana" pitchFamily="34" charset="0"/>
              <a:ea typeface="Verdana" pitchFamily="34" charset="0"/>
              <a:cs typeface="Verdana" pitchFamily="34" charset="0"/>
            </a:rPr>
            <a:t>Reglamento </a:t>
          </a:r>
          <a:r>
            <a:rPr lang="es-MX" sz="1600" b="0" kern="1200" dirty="0" smtClean="0">
              <a:latin typeface="Verdana" pitchFamily="34" charset="0"/>
              <a:ea typeface="Verdana" pitchFamily="34" charset="0"/>
              <a:cs typeface="Verdana" pitchFamily="34" charset="0"/>
            </a:rPr>
            <a:t>de la Ley Federal de Protección de Datos Personales en Posesión de los Particulares</a:t>
          </a:r>
          <a:r>
            <a:rPr lang="es-MX" sz="1600" b="0" kern="1200" dirty="0" smtClean="0"/>
            <a:t>.</a:t>
          </a:r>
          <a:endParaRPr lang="es-MX" sz="1600" b="0" kern="1200" dirty="0"/>
        </a:p>
      </dsp:txBody>
      <dsp:txXfrm>
        <a:off x="3734784" y="3527569"/>
        <a:ext cx="1648031" cy="1620741"/>
      </dsp:txXfrm>
    </dsp:sp>
    <dsp:sp modelId="{415B0783-8424-41BC-97DB-40CC67BBEA21}">
      <dsp:nvSpPr>
        <dsp:cNvPr id="0" name=""/>
        <dsp:cNvSpPr/>
      </dsp:nvSpPr>
      <dsp:spPr>
        <a:xfrm rot="12789552">
          <a:off x="1183237" y="2877721"/>
          <a:ext cx="2380327" cy="692638"/>
        </a:xfrm>
        <a:prstGeom prst="leftArrow">
          <a:avLst>
            <a:gd name="adj1" fmla="val 60000"/>
            <a:gd name="adj2" fmla="val 50000"/>
          </a:avLst>
        </a:prstGeom>
        <a:gradFill rotWithShape="0">
          <a:gsLst>
            <a:gs pos="0">
              <a:schemeClr val="accent4">
                <a:hueOff val="0"/>
                <a:satOff val="0"/>
                <a:lumOff val="0"/>
                <a:alphaOff val="0"/>
                <a:shade val="70000"/>
                <a:satMod val="150000"/>
              </a:schemeClr>
            </a:gs>
            <a:gs pos="34000">
              <a:schemeClr val="accent4">
                <a:hueOff val="0"/>
                <a:satOff val="0"/>
                <a:lumOff val="0"/>
                <a:alphaOff val="0"/>
                <a:shade val="70000"/>
                <a:satMod val="140000"/>
              </a:schemeClr>
            </a:gs>
            <a:gs pos="70000">
              <a:schemeClr val="accent4">
                <a:hueOff val="0"/>
                <a:satOff val="0"/>
                <a:lumOff val="0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0"/>
                <a:satOff val="0"/>
                <a:lumOff val="0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hemeClr val="accent4">
              <a:hueOff val="0"/>
              <a:satOff val="0"/>
              <a:lumOff val="0"/>
              <a:alphaOff val="0"/>
              <a:shade val="30000"/>
              <a:satMod val="13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D7B1222A-5A0E-463F-A138-E11723409F8A}">
      <dsp:nvSpPr>
        <dsp:cNvPr id="0" name=""/>
        <dsp:cNvSpPr/>
      </dsp:nvSpPr>
      <dsp:spPr>
        <a:xfrm>
          <a:off x="187150" y="1070752"/>
          <a:ext cx="2584651" cy="2510529"/>
        </a:xfrm>
        <a:prstGeom prst="roundRect">
          <a:avLst>
            <a:gd name="adj" fmla="val 10000"/>
          </a:avLst>
        </a:prstGeom>
        <a:solidFill>
          <a:srgbClr val="FFC000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hemeClr val="accent4">
              <a:hueOff val="0"/>
              <a:satOff val="0"/>
              <a:lumOff val="0"/>
              <a:alphaOff val="0"/>
              <a:shade val="30000"/>
              <a:satMod val="13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6670" tIns="26670" rIns="26670" bIns="26670" numCol="1" spcCol="1270" anchor="ctr" anchorCtr="0">
          <a:noAutofit/>
        </a:bodyPr>
        <a:lstStyle/>
        <a:p>
          <a:pPr lvl="0" algn="just" defTabSz="622300">
            <a:lnSpc>
              <a:spcPct val="90000"/>
            </a:lnSpc>
            <a:spcBef>
              <a:spcPct val="0"/>
            </a:spcBef>
            <a:spcAft>
              <a:spcPts val="0"/>
            </a:spcAft>
          </a:pPr>
          <a:r>
            <a:rPr lang="es-ES" sz="1400" kern="12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Responsable establecido en México/ encargado de responsable en México/ por contrato o derecho internacional/ medios de tratamiento en México/ encargado en México de responsable fuera del país (sólo medidas de seguridad).</a:t>
          </a:r>
          <a:endParaRPr lang="es-MX" sz="1400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260681" y="1144283"/>
        <a:ext cx="2437589" cy="2363467"/>
      </dsp:txXfrm>
    </dsp:sp>
    <dsp:sp modelId="{DB0D98C5-89A7-43C7-95D2-ACE54A416D7D}">
      <dsp:nvSpPr>
        <dsp:cNvPr id="0" name=""/>
        <dsp:cNvSpPr/>
      </dsp:nvSpPr>
      <dsp:spPr>
        <a:xfrm rot="16200000">
          <a:off x="3698592" y="1819282"/>
          <a:ext cx="1774253" cy="692638"/>
        </a:xfrm>
        <a:prstGeom prst="leftArrow">
          <a:avLst>
            <a:gd name="adj1" fmla="val 60000"/>
            <a:gd name="adj2" fmla="val 50000"/>
          </a:avLst>
        </a:prstGeom>
        <a:gradFill rotWithShape="0">
          <a:gsLst>
            <a:gs pos="0">
              <a:schemeClr val="accent4">
                <a:hueOff val="-1329280"/>
                <a:satOff val="993"/>
                <a:lumOff val="4314"/>
                <a:alphaOff val="0"/>
                <a:shade val="70000"/>
                <a:satMod val="150000"/>
              </a:schemeClr>
            </a:gs>
            <a:gs pos="34000">
              <a:schemeClr val="accent4">
                <a:hueOff val="-1329280"/>
                <a:satOff val="993"/>
                <a:lumOff val="4314"/>
                <a:alphaOff val="0"/>
                <a:shade val="70000"/>
                <a:satMod val="140000"/>
              </a:schemeClr>
            </a:gs>
            <a:gs pos="70000">
              <a:schemeClr val="accent4">
                <a:hueOff val="-1329280"/>
                <a:satOff val="993"/>
                <a:lumOff val="4314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-1329280"/>
                <a:satOff val="993"/>
                <a:lumOff val="4314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hemeClr val="accent4">
              <a:hueOff val="-1329280"/>
              <a:satOff val="993"/>
              <a:lumOff val="4314"/>
              <a:alphaOff val="0"/>
              <a:shade val="30000"/>
              <a:satMod val="13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D9B99EA0-6ECD-46E5-8EF5-EDC958B0977A}">
      <dsp:nvSpPr>
        <dsp:cNvPr id="0" name=""/>
        <dsp:cNvSpPr/>
      </dsp:nvSpPr>
      <dsp:spPr>
        <a:xfrm>
          <a:off x="2979332" y="642892"/>
          <a:ext cx="2888812" cy="1348946"/>
        </a:xfrm>
        <a:prstGeom prst="roundRect">
          <a:avLst>
            <a:gd name="adj" fmla="val 10000"/>
          </a:avLst>
        </a:prstGeom>
        <a:solidFill>
          <a:srgbClr val="92D050"/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hemeClr val="accent4">
              <a:hueOff val="-1329280"/>
              <a:satOff val="993"/>
              <a:lumOff val="4314"/>
              <a:alphaOff val="0"/>
              <a:shade val="30000"/>
              <a:satMod val="13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30480" tIns="30480" rIns="30480" bIns="3048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ts val="0"/>
            </a:spcAft>
          </a:pPr>
          <a:r>
            <a:rPr lang="es-ES" sz="1600" kern="12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Tratamiento en soportes físicos y/o electrónicos ordenados con </a:t>
          </a:r>
          <a:r>
            <a:rPr lang="es-ES" sz="1600" u="none" kern="12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criterios determinados.</a:t>
          </a:r>
          <a:endParaRPr lang="es-MX" sz="1600" u="none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3018841" y="682401"/>
        <a:ext cx="2809794" cy="1269928"/>
      </dsp:txXfrm>
    </dsp:sp>
    <dsp:sp modelId="{816CF036-3C21-43B6-A40D-A053C1E1A73F}">
      <dsp:nvSpPr>
        <dsp:cNvPr id="0" name=""/>
        <dsp:cNvSpPr/>
      </dsp:nvSpPr>
      <dsp:spPr>
        <a:xfrm rot="18756124">
          <a:off x="5327398" y="2618694"/>
          <a:ext cx="2351780" cy="692638"/>
        </a:xfrm>
        <a:prstGeom prst="leftArrow">
          <a:avLst>
            <a:gd name="adj1" fmla="val 60000"/>
            <a:gd name="adj2" fmla="val 50000"/>
          </a:avLst>
        </a:prstGeom>
        <a:gradFill rotWithShape="0">
          <a:gsLst>
            <a:gs pos="0">
              <a:schemeClr val="accent4">
                <a:hueOff val="-2658560"/>
                <a:satOff val="1986"/>
                <a:lumOff val="8627"/>
                <a:alphaOff val="0"/>
                <a:shade val="70000"/>
                <a:satMod val="150000"/>
              </a:schemeClr>
            </a:gs>
            <a:gs pos="34000">
              <a:schemeClr val="accent4">
                <a:hueOff val="-2658560"/>
                <a:satOff val="1986"/>
                <a:lumOff val="8627"/>
                <a:alphaOff val="0"/>
                <a:shade val="70000"/>
                <a:satMod val="140000"/>
              </a:schemeClr>
            </a:gs>
            <a:gs pos="70000">
              <a:schemeClr val="accent4">
                <a:hueOff val="-2658560"/>
                <a:satOff val="1986"/>
                <a:lumOff val="8627"/>
                <a:alphaOff val="0"/>
                <a:tint val="100000"/>
                <a:shade val="90000"/>
                <a:satMod val="140000"/>
              </a:schemeClr>
            </a:gs>
            <a:gs pos="100000">
              <a:schemeClr val="accent4">
                <a:hueOff val="-2658560"/>
                <a:satOff val="1986"/>
                <a:lumOff val="8627"/>
                <a:alphaOff val="0"/>
                <a:tint val="100000"/>
                <a:shade val="100000"/>
                <a:satMod val="100000"/>
              </a:schemeClr>
            </a:gs>
          </a:gsLst>
          <a:path path="circle">
            <a:fillToRect l="100000" t="100000" r="100000" b="100000"/>
          </a:path>
        </a:gra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hemeClr val="accent4">
              <a:hueOff val="-2658560"/>
              <a:satOff val="1986"/>
              <a:lumOff val="8627"/>
              <a:alphaOff val="0"/>
              <a:shade val="30000"/>
              <a:satMod val="13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1E18DEE2-CC67-4184-AC8A-A07CD56A5861}">
      <dsp:nvSpPr>
        <dsp:cNvPr id="0" name=""/>
        <dsp:cNvSpPr/>
      </dsp:nvSpPr>
      <dsp:spPr>
        <a:xfrm>
          <a:off x="6300175" y="1070693"/>
          <a:ext cx="2351763" cy="2157413"/>
        </a:xfrm>
        <a:prstGeom prst="roundRect">
          <a:avLst>
            <a:gd name="adj" fmla="val 10000"/>
          </a:avLst>
        </a:prstGeom>
        <a:solidFill>
          <a:schemeClr val="bg2">
            <a:lumMod val="50000"/>
          </a:schemeClr>
        </a:solidFill>
        <a:ln>
          <a:noFill/>
        </a:ln>
        <a:effectLst>
          <a:outerShdw blurRad="38100" dist="25400" dir="2700000" algn="br" rotWithShape="0">
            <a:srgbClr val="000000">
              <a:alpha val="60000"/>
            </a:srgbClr>
          </a:outerShdw>
        </a:effectLst>
        <a:scene3d>
          <a:camera prst="orthographicFront">
            <a:rot lat="0" lon="0" rev="0"/>
          </a:camera>
          <a:lightRig rig="balanced" dir="t">
            <a:rot lat="0" lon="0" rev="5100000"/>
          </a:lightRig>
        </a:scene3d>
        <a:sp3d contourW="6350">
          <a:bevelT w="29210" h="12700"/>
          <a:contourClr>
            <a:schemeClr val="accent4">
              <a:hueOff val="-2658560"/>
              <a:satOff val="1986"/>
              <a:lumOff val="8627"/>
              <a:alphaOff val="0"/>
              <a:shade val="30000"/>
              <a:satMod val="13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6670" tIns="26670" rIns="26670" bIns="26670" numCol="1" spcCol="1270" anchor="ctr" anchorCtr="0">
          <a:noAutofit/>
        </a:bodyPr>
        <a:lstStyle/>
        <a:p>
          <a:pPr lvl="0" algn="just" defTabSz="622300">
            <a:lnSpc>
              <a:spcPct val="100000"/>
            </a:lnSpc>
            <a:spcBef>
              <a:spcPct val="0"/>
            </a:spcBef>
            <a:spcAft>
              <a:spcPts val="0"/>
            </a:spcAft>
          </a:pPr>
          <a:r>
            <a:rPr lang="es-ES" sz="1400" kern="12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Aclara qué se entiende por uso exclusivamente personal y exceptúa: datos de contacto laboral,  información de personas físicas con actividad comercial y profesionistas</a:t>
          </a:r>
          <a:r>
            <a:rPr lang="es-ES" sz="1800" kern="1200" dirty="0" smtClean="0">
              <a:solidFill>
                <a:schemeClr val="tx1"/>
              </a:solidFill>
              <a:latin typeface="Verdana" pitchFamily="34" charset="0"/>
              <a:ea typeface="Verdana" pitchFamily="34" charset="0"/>
              <a:cs typeface="Verdana" pitchFamily="34" charset="0"/>
            </a:rPr>
            <a:t>. </a:t>
          </a:r>
          <a:endParaRPr lang="es-MX" sz="1800" kern="1200" dirty="0">
            <a:latin typeface="Verdana" pitchFamily="34" charset="0"/>
            <a:ea typeface="Verdana" pitchFamily="34" charset="0"/>
            <a:cs typeface="Verdana" pitchFamily="34" charset="0"/>
          </a:endParaRPr>
        </a:p>
      </dsp:txBody>
      <dsp:txXfrm>
        <a:off x="6363363" y="1133881"/>
        <a:ext cx="2225387" cy="2031037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yramid1">
  <dgm:title val=""/>
  <dgm:desc val=""/>
  <dgm:catLst>
    <dgm:cat type="pyramid" pri="1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pyra">
          <dgm:param type="linDir" val="fromB"/>
          <dgm:param type="txDir" val="fromT"/>
          <dgm:param type="pyraAcctPos" val="aft"/>
          <dgm:param type="pyraAcctTxMar" val="step"/>
          <dgm:param type="pyraAcctBkgdNode" val="acctBkgd"/>
          <dgm:param type="pyraAcctTxNode" val="acctTx"/>
          <dgm:param type="pyraLvlNode" val="level"/>
        </dgm:alg>
      </dgm:if>
      <dgm:else name="Name3">
        <dgm:alg type="pyra">
          <dgm:param type="linDir" val="fromB"/>
          <dgm:param type="txDir" val="fromT"/>
          <dgm:param type="pyraAcctPos" val="bef"/>
          <dgm:param type="pyraAcctTxMar" val="step"/>
          <dgm:param type="pyraAcctBkgdNode" val="acctBkgd"/>
          <dgm:param type="pyraAcctTxNode" val="acctTx"/>
          <dgm:param type="pyraLvlNode" val="level"/>
        </dgm:alg>
      </dgm:else>
    </dgm:choose>
    <dgm:shape xmlns:r="http://schemas.openxmlformats.org/officeDocument/2006/relationships" r:blip="">
      <dgm:adjLst/>
    </dgm:shape>
    <dgm:presOf/>
    <dgm:choose name="Name4">
      <dgm:if name="Name5" axis="root des" ptType="all node" func="maxDepth" op="gte" val="2">
        <dgm:constrLst>
          <dgm:constr type="primFontSz" for="des" forName="levelTx" op="equ"/>
          <dgm:constr type="secFontSz" for="des" forName="acctTx" op="equ"/>
          <dgm:constr type="pyraAcctRatio" val="0.32"/>
        </dgm:constrLst>
      </dgm:if>
      <dgm:else name="Name6">
        <dgm:constrLst>
          <dgm:constr type="primFontSz" for="des" forName="levelTx" op="equ"/>
          <dgm:constr type="secFontSz" for="des" forName="acctTx" op="equ"/>
          <dgm:constr type="pyraAcctRatio"/>
        </dgm:constrLst>
      </dgm:else>
    </dgm:choose>
    <dgm:ruleLst/>
    <dgm:forEach name="Name7" axis="ch" ptType="node">
      <dgm:layoutNode name="Name8">
        <dgm:alg type="composite">
          <dgm:param type="horzAlign" val="none"/>
        </dgm:alg>
        <dgm:shape xmlns:r="http://schemas.openxmlformats.org/officeDocument/2006/relationships" r:blip="">
          <dgm:adjLst/>
        </dgm:shape>
        <dgm:presOf/>
        <dgm:choose name="Name9">
          <dgm:if name="Name10" axis="self" ptType="node" func="pos" op="equ" val="1">
            <dgm:constrLst>
              <dgm:constr type="ctrX" for="ch" forName="acctBkgd" val="1"/>
              <dgm:constr type="ctrY" for="ch" forName="acctBkgd" val="1"/>
              <dgm:constr type="w" for="ch" forName="acctBkgd" val="1"/>
              <dgm:constr type="h" for="ch" forName="acctBkgd" val="1"/>
              <dgm:constr type="ctrX" for="ch" forName="acctTx" val="1"/>
              <dgm:constr type="ctrY" for="ch" forName="acctTx" val="1"/>
              <dgm:constr type="w" for="ch" forName="acctTx" val="1"/>
              <dgm:constr type="h" for="ch" forName="acctTx" val="1"/>
              <dgm:constr type="ctrX" for="ch" forName="level" val="1"/>
              <dgm:constr type="ctrY" for="ch" forName="level" val="1"/>
              <dgm:constr type="w" for="ch" forName="level" val="1"/>
              <dgm:constr type="h" for="ch" forName="level" val="1"/>
              <dgm:constr type="ctrX" for="ch" forName="levelTx" refType="ctrX" refFor="ch" refForName="level"/>
              <dgm:constr type="ctrY" for="ch" forName="levelTx" refType="ctrY" refFor="ch" refForName="level"/>
              <dgm:constr type="w" for="ch" forName="levelTx" refType="w" refFor="ch" refForName="level"/>
              <dgm:constr type="h" for="ch" forName="levelTx" refType="h" refFor="ch" refForName="level"/>
            </dgm:constrLst>
          </dgm:if>
          <dgm:else name="Name11">
            <dgm:constrLst>
              <dgm:constr type="ctrX" for="ch" forName="acctBkgd" val="1"/>
              <dgm:constr type="ctrY" for="ch" forName="acctBkgd" val="1"/>
              <dgm:constr type="w" for="ch" forName="acctBkgd" val="1"/>
              <dgm:constr type="h" for="ch" forName="acctBkgd" val="1"/>
              <dgm:constr type="ctrX" for="ch" forName="acctTx" val="1"/>
              <dgm:constr type="ctrY" for="ch" forName="acctTx" val="1"/>
              <dgm:constr type="w" for="ch" forName="acctTx" val="1"/>
              <dgm:constr type="h" for="ch" forName="acctTx" val="1"/>
              <dgm:constr type="ctrX" for="ch" forName="level" val="1"/>
              <dgm:constr type="ctrY" for="ch" forName="level" val="1"/>
              <dgm:constr type="w" for="ch" forName="level" val="1"/>
              <dgm:constr type="h" for="ch" forName="level" val="1"/>
              <dgm:constr type="ctrX" for="ch" forName="levelTx" refType="ctrX" refFor="ch" refForName="level"/>
              <dgm:constr type="ctrY" for="ch" forName="levelTx" refType="ctrY" refFor="ch" refForName="level"/>
              <dgm:constr type="w" for="ch" forName="levelTx" refType="w" refFor="ch" refForName="level" fact="0.65"/>
              <dgm:constr type="h" for="ch" forName="levelTx" refType="h" refFor="ch" refForName="level"/>
            </dgm:constrLst>
          </dgm:else>
        </dgm:choose>
        <dgm:ruleLst/>
        <dgm:choose name="Name12">
          <dgm:if name="Name13" axis="ch" ptType="node" func="cnt" op="gte" val="1">
            <dgm:layoutNode name="acctBkgd" styleLbl="alignAcc1">
              <dgm:alg type="sp"/>
              <dgm:shape xmlns:r="http://schemas.openxmlformats.org/officeDocument/2006/relationships" type="nonIsoscelesTrapezoid" r:blip="">
                <dgm:adjLst/>
              </dgm:shape>
              <dgm:presOf axis="des" ptType="node"/>
              <dgm:constrLst/>
              <dgm:ruleLst/>
            </dgm:layoutNode>
            <dgm:layoutNode name="acctTx" styleLbl="alignAcc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type="nonIsoscelesTrapezoid" r:blip="" hideGeom="1">
                <dgm:adjLst/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3"/>
                <dgm:constr type="bMarg" refType="secFontSz" fact="0.3"/>
                <dgm:constr type="lMarg" refType="secFontSz" fact="0.3"/>
                <dgm:constr type="rMarg" refType="secFontSz" fact="0.3"/>
              </dgm:constrLst>
              <dgm:ruleLst>
                <dgm:rule type="secFontSz" val="5" fact="NaN" max="NaN"/>
              </dgm:ruleLst>
            </dgm:layoutNode>
          </dgm:if>
          <dgm:else name="Name14"/>
        </dgm:choose>
        <dgm:layoutNode name="level">
          <dgm:varLst>
            <dgm:chMax val="1"/>
            <dgm:bulletEnabled val="1"/>
          </dgm:varLst>
          <dgm:alg type="sp"/>
          <dgm:shape xmlns:r="http://schemas.openxmlformats.org/officeDocument/2006/relationships" type="trapezoid" r:blip="">
            <dgm:adjLst/>
          </dgm:shape>
          <dgm:presOf axis="self"/>
          <dgm:constrLst>
            <dgm:constr type="h" val="500"/>
            <dgm:constr type="w" val="1"/>
          </dgm:constrLst>
          <dgm:ruleLst/>
        </dgm:layoutNode>
        <dgm:layoutNode name="levelTx" styleLbl="revTx">
          <dgm:varLst>
            <dgm:chMax val="1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layoutNod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cycle6">
  <dgm:title val=""/>
  <dgm:desc val=""/>
  <dgm:catLst>
    <dgm:cat type="cycle" pri="4000"/>
    <dgm:cat type="relationship" pri="2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func="var" arg="dir" op="equ" val="norm">
        <dgm:choose name="Name2">
          <dgm:if name="Name3" axis="ch" ptType="node" func="cnt" op="gt" val="2">
            <dgm:alg type="cycle">
              <dgm:param type="stAng" val="0"/>
              <dgm:param type="spanAng" val="360"/>
            </dgm:alg>
          </dgm:if>
          <dgm:else name="Name4">
            <dgm:alg type="cycle">
              <dgm:param type="stAng" val="-90"/>
              <dgm:param type="spanAng" val="360"/>
            </dgm:alg>
          </dgm:else>
        </dgm:choose>
      </dgm:if>
      <dgm:else name="Name5">
        <dgm:choose name="Name6">
          <dgm:if name="Name7" axis="ch" ptType="node" func="cnt" op="gt" val="2">
            <dgm:alg type="cycle">
              <dgm:param type="stAng" val="0"/>
              <dgm:param type="spanAng" val="-360"/>
            </dgm:alg>
          </dgm:if>
          <dgm:else name="Name8">
            <dgm:alg type="cycle">
              <dgm:param type="stAng" val="90"/>
              <dgm:param type="spanAng" val="-360"/>
            </dgm:alg>
          </dgm:else>
        </dgm:choose>
      </dgm:else>
    </dgm:choose>
    <dgm:shape xmlns:r="http://schemas.openxmlformats.org/officeDocument/2006/relationships" r:blip="">
      <dgm:adjLst/>
    </dgm:shape>
    <dgm:presOf/>
    <dgm:choose name="Name9">
      <dgm:if name="Name10" func="var" arg="dir" op="equ" val="norm">
        <dgm:constrLst>
          <dgm:constr type="w" for="ch" forName="node" refType="w"/>
          <dgm:constr type="w" for="ch" ptType="sibTrans" refType="w" refFor="ch" refForName="node" op="equ" fact="0.3"/>
          <dgm:constr type="diam" for="ch" ptType="sibTrans" refType="diam" op="equ"/>
          <dgm:constr type="sibSp" refType="w" refFor="ch" refForName="node" op="equ" fact="0.15"/>
          <dgm:constr type="w" for="ch" forName="spNode" refType="sibSp" fact="1.6"/>
          <dgm:constr type="primFontSz" for="ch" forName="node" op="equ" val="65"/>
        </dgm:constrLst>
      </dgm:if>
      <dgm:else name="Name11">
        <dgm:constrLst>
          <dgm:constr type="w" for="ch" forName="node" refType="w"/>
          <dgm:constr type="w" for="ch" ptType="sibTrans" refType="w" refFor="ch" refForName="node" op="equ" fact="0.3"/>
          <dgm:constr type="diam" for="ch" ptType="sibTrans" refType="diam" op="equ" fact="-1"/>
          <dgm:constr type="sibSp" refType="w" refFor="ch" refForName="node" op="equ" fact="0.15"/>
          <dgm:constr type="w" for="ch" forName="spNode" refType="sibSp" fact="1.6"/>
          <dgm:constr type="primFontSz" for="ch" forName="node" op="equ" val="65"/>
        </dgm:constrLst>
      </dgm:else>
    </dgm:choose>
    <dgm:ruleLst/>
    <dgm:forEach name="Name12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/>
        </dgm:shape>
        <dgm:presOf axis="desOrSelf" ptType="node"/>
        <dgm:constrLst>
          <dgm:constr type="h" refType="w" fact="0.65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5" fact="NaN" max="NaN"/>
        </dgm:ruleLst>
      </dgm:layoutNode>
      <dgm:choose name="Name13">
        <dgm:if name="Name14" axis="par ch" ptType="doc node" func="cnt" op="gt" val="1">
          <dgm:layoutNode name="spNode">
            <dgm:alg type="sp"/>
            <dgm:shape xmlns:r="http://schemas.openxmlformats.org/officeDocument/2006/relationships" r:blip="">
              <dgm:adjLst/>
            </dgm:shape>
            <dgm:presOf/>
            <dgm:constrLst>
              <dgm:constr type="h" refType="w"/>
            </dgm:constrLst>
            <dgm:ruleLst/>
          </dgm:layoutNode>
          <dgm:forEach name="Name15" axis="followSib" ptType="sibTrans" hideLastTrans="0" cnt="1">
            <dgm:layoutNode name="sibTrans">
              <dgm:alg type="conn">
                <dgm:param type="dim" val="1D"/>
                <dgm:param type="connRout" val="curve"/>
                <dgm:param type="begPts" val="radial"/>
                <dgm:param type="endPts" val="radial"/>
                <dgm:param type="endSty" val="noArr"/>
              </dgm:alg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0.65"/>
                <dgm:constr type="connDist"/>
                <dgm:constr type="begPad" refType="connDist" fact="0.01"/>
                <dgm:constr type="endPad" refType="connDist" fact="0.01"/>
              </dgm:constrLst>
              <dgm:ruleLst/>
            </dgm:layoutNode>
          </dgm:forEach>
        </dgm:if>
        <dgm:else name="Name16"/>
      </dgm:choose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radial4">
  <dgm:title val=""/>
  <dgm:desc val=""/>
  <dgm:catLst>
    <dgm:cat type="relationship" pri="19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5" srcId="1" destId="11" srcOrd="0" destOrd="0"/>
        <dgm:cxn modelId="16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ycle">
    <dgm:varLst>
      <dgm:chMax val="1"/>
      <dgm:dir/>
      <dgm:animLvl val="ctr"/>
      <dgm:resizeHandles val="exact"/>
    </dgm:varLst>
    <dgm:choose name="Name0">
      <dgm:if name="Name1" func="var" arg="dir" op="equ" val="norm">
        <dgm:choose name="Name2">
          <dgm:if name="Name3" axis="ch ch" ptType="node node" st="1 1" cnt="1 0" func="cnt" op="lte" val="1">
            <dgm:alg type="cycle">
              <dgm:param type="stAng" val="0"/>
              <dgm:param type="spanAng" val="360"/>
              <dgm:param type="ctrShpMap" val="fNode"/>
            </dgm:alg>
          </dgm:if>
          <dgm:else name="Name4">
            <dgm:choose name="Name5">
              <dgm:if name="Name6" axis="ch ch" ptType="node node" st="1 1" cnt="1 0" func="cnt" op="lte" val="3">
                <dgm:alg type="cycle">
                  <dgm:param type="stAng" val="-55"/>
                  <dgm:param type="spanAng" val="110"/>
                  <dgm:param type="ctrShpMap" val="fNode"/>
                </dgm:alg>
              </dgm:if>
              <dgm:else name="Name7">
                <dgm:choose name="Name8">
                  <dgm:if name="Name9" axis="ch ch" ptType="node node" st="1 1" cnt="1 0" func="cnt" op="equ" val="4">
                    <dgm:alg type="cycle">
                      <dgm:param type="stAng" val="-75"/>
                      <dgm:param type="spanAng" val="150"/>
                      <dgm:param type="ctrShpMap" val="fNode"/>
                    </dgm:alg>
                  </dgm:if>
                  <dgm:else name="Name10">
                    <dgm:alg type="cycle">
                      <dgm:param type="stAng" val="-90"/>
                      <dgm:param type="spanAng" val="180"/>
                      <dgm:param type="ctrShpMap" val="fNode"/>
                    </dgm:alg>
                  </dgm:else>
                </dgm:choose>
              </dgm:else>
            </dgm:choose>
          </dgm:else>
        </dgm:choose>
      </dgm:if>
      <dgm:else name="Name11">
        <dgm:choose name="Name12">
          <dgm:if name="Name13" axis="ch ch" ptType="node node" st="1 1" cnt="1 0" func="cnt" op="lte" val="1">
            <dgm:alg type="cycle">
              <dgm:param type="stAng" val="0"/>
              <dgm:param type="spanAng" val="-360"/>
              <dgm:param type="ctrShpMap" val="fNode"/>
            </dgm:alg>
          </dgm:if>
          <dgm:else name="Name14">
            <dgm:choose name="Name15">
              <dgm:if name="Name16" axis="ch ch" ptType="node node" st="1 1" cnt="1 0" func="cnt" op="lte" val="3">
                <dgm:alg type="cycle">
                  <dgm:param type="stAng" val="55"/>
                  <dgm:param type="spanAng" val="-110"/>
                  <dgm:param type="ctrShpMap" val="fNode"/>
                </dgm:alg>
              </dgm:if>
              <dgm:else name="Name17">
                <dgm:choose name="Name18">
                  <dgm:if name="Name19" axis="ch ch" ptType="node node" st="1 1" cnt="1 0" func="cnt" op="equ" val="4">
                    <dgm:alg type="cycle">
                      <dgm:param type="stAng" val="75"/>
                      <dgm:param type="spanAng" val="-150"/>
                      <dgm:param type="ctrShpMap" val="fNode"/>
                    </dgm:alg>
                  </dgm:if>
                  <dgm:else name="Name20">
                    <dgm:alg type="cycle">
                      <dgm:param type="stAng" val="90"/>
                      <dgm:param type="spanAng" val="-180"/>
                      <dgm:param type="ctrShpMap" val="fNode"/>
                    </dgm:alg>
                  </dgm:else>
                </dgm:choose>
              </dgm:else>
            </dgm:choose>
          </dgm:else>
        </dgm:choose>
      </dgm:else>
    </dgm:choose>
    <dgm:shape xmlns:r="http://schemas.openxmlformats.org/officeDocument/2006/relationships" r:blip="">
      <dgm:adjLst/>
    </dgm:shape>
    <dgm:presOf/>
    <dgm:constrLst>
      <dgm:constr type="w" for="ch" forName="centerShape" refType="w"/>
      <dgm:constr type="w" for="ch" forName="node" refType="w" refFor="ch" refForName="centerShape" fact="0.95"/>
      <dgm:constr type="h" for="ch" forName="parTrans" refType="w" refFor="ch" refForName="centerShape" fact="0.285"/>
      <dgm:constr type="sp" refType="w" refFor="ch" refForName="centerShape" op="equ" fact="0.23"/>
      <dgm:constr type="sibSp" refType="w" refFor="ch" refForName="node" fact="0.1"/>
      <dgm:constr type="primFontSz" for="ch" forName="node" op="equ"/>
    </dgm:constrLst>
    <dgm:choose name="Name21">
      <dgm:if name="Name22" axis="ch ch" ptType="node node" st="1 1" cnt="1 0" func="cnt" op="lte" val="5">
        <dgm:ruleLst>
          <dgm:rule type="w" for="ch" forName="centerShape" val="NaN" fact="0.27" max="NaN"/>
        </dgm:ruleLst>
      </dgm:if>
      <dgm:else name="Name23">
        <dgm:ruleLst>
          <dgm:rule type="w" for="ch" forName="centerShape" val="NaN" fact="0.27" max="NaN"/>
          <dgm:rule type="w" for="ch" forName="node" val="NaN" fact="0.7" max="NaN"/>
        </dgm:ruleLst>
      </dgm:else>
    </dgm:choose>
    <dgm:forEach name="Name24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tMarg" refType="primFontSz" fact="0.05"/>
          <dgm:constr type="bMarg" refType="primFontSz" fact="0.05"/>
          <dgm:constr type="lMarg" refType="primFontSz" fact="0.05"/>
          <dgm:constr type="rMarg" refType="primFontSz" fact="0.05"/>
          <dgm:constr type="primFontSz" val="65"/>
          <dgm:constr type="h" refType="w"/>
        </dgm:constrLst>
        <dgm:ruleLst>
          <dgm:rule type="primFontSz" val="5" fact="NaN" max="NaN"/>
        </dgm:ruleLst>
      </dgm:layoutNode>
      <dgm:forEach name="Name25" axis="ch">
        <dgm:forEach name="Name26" axis="self" ptType="parTrans">
          <dgm:layoutNode name="parTrans" styleLbl="bgSibTrans2D1">
            <dgm:alg type="conn">
              <dgm:param type="begPts" val="auto"/>
              <dgm:param type="endPts" val="ctr"/>
              <dgm:param type="endSty" val="noArr"/>
              <dgm:param type="begSty" val="arr"/>
            </dgm:alg>
            <dgm:shape xmlns:r="http://schemas.openxmlformats.org/officeDocument/2006/relationships" type="conn" r:blip="">
              <dgm:adjLst/>
            </dgm:shape>
            <dgm:presOf axis="self"/>
            <dgm:constrLst>
              <dgm:constr type="begPad" refType="connDist" fact="0.055"/>
              <dgm:constr type="endPad"/>
            </dgm:constrLst>
            <dgm:ruleLst/>
          </dgm:layoutNode>
        </dgm:forEach>
        <dgm:forEach name="Name27" axis="self" ptType="node">
          <dgm:layoutNode name="node" styleLbl="node1">
            <dgm:varLst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OrSelf" ptType="node"/>
            <dgm:constrLst>
              <dgm:constr type="primFontSz" val="65"/>
              <dgm:constr type="h" refType="w" fact="0.8"/>
              <dgm:constr type="tMarg" refType="primFontSz" fact="0.15"/>
              <dgm:constr type="bMarg" refType="primFontSz" fact="0.15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</dgm:forEach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2">
  <dgm:title val=""/>
  <dgm:desc val=""/>
  <dgm:catLst>
    <dgm:cat type="3D" pri="11200"/>
  </dgm:catLst>
  <dgm:scene3d>
    <a:camera prst="orthographicFront"/>
    <a:lightRig rig="threePt" dir="t"/>
  </dgm:scene3d>
  <dgm:styleLbl name="node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ng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>
        <a:rot lat="0" lon="0" rev="7500000"/>
      </a:lightRig>
    </dgm:scene3d>
    <dgm:sp3d z="2540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>
        <a:rot lat="0" lon="0" rev="7500000"/>
      </a:lightRig>
    </dgm:scene3d>
    <dgm:sp3d z="-1524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>
        <a:rot lat="0" lon="0" rev="7500000"/>
      </a:lightRig>
    </dgm:scene3d>
    <dgm:sp3d z="-700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>
        <a:rot lat="0" lon="0" rev="7500000"/>
      </a:lightRig>
    </dgm:scene3d>
    <dgm:sp3d z="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>
        <a:rot lat="0" lon="0" rev="7500000"/>
      </a:lightRig>
    </dgm:scene3d>
    <dgm:sp3d z="-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>
        <a:rot lat="0" lon="0" rev="7500000"/>
      </a:lightRig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>
        <a:rot lat="0" lon="0" rev="7500000"/>
      </a:lightRig>
    </dgm:scene3d>
    <dgm:sp3d extrusionH="190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>
        <a:rot lat="0" lon="0" rev="7500000"/>
      </a:lightRig>
    </dgm:scene3d>
    <dgm:sp3d prstMaterial="plastic">
      <a:bevelT w="127000" h="3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2445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0800" h="190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bevelB w="120650" h="571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>
        <a:rot lat="0" lon="0" rev="7500000"/>
      </a:lightRig>
    </dgm:scene3d>
    <dgm:sp3d z="-152400" extrusionH="63500" prstMaterial="matte">
      <a:bevelT w="144450" h="6350" prst="relaxedInset"/>
      <a:contourClr>
        <a:schemeClr val="bg1"/>
      </a:contourClr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  <a:bevelB w="88900" h="121750" prst="angle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1524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36E67F-A607-4355-956E-CF68BF0E4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-914400" y="685800"/>
            <a:ext cx="8686440" cy="6516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 algn="just">
              <a:lnSpc>
                <a:spcPct val="100000"/>
              </a:lnSpc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C28892-9011-48E7-AA8F-C6F972FAD73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696652-F04B-49B3-AF90-773AB421A771}" type="slidenum">
              <a:rPr b="0" lang="es-E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</a:pPr>
            <a:fld id="{F9285BBF-EE39-4A6C-AF99-8B983EE28E0E}" type="slidenum">
              <a:rPr b="0" lang="es-E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F64C48-D75E-4607-8DD6-6DC36415DD59}" type="slidenum">
              <a:rPr b="0" lang="es-E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618696-AD67-4956-BCC1-999C582D37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926FE5-B192-4E16-B204-D9E75C18C46F}" type="slidenum">
              <a:rPr b="0" lang="es-E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F64448-0C04-4910-A922-B28EAFDEC7E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5F3F87-D15F-4648-A1C6-A627F7DE6EF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Trebuchet MS"/>
              </a:rPr>
              <a:t>Procedimiento sencillo y expedito 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para que las personas puedan ejercer los derechos ARCO ante los responsables, cuyo plazo máximo de respuesta es de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Trebuchet MS"/>
              </a:rPr>
              <a:t>20 días hábiles,  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contados a partir de la recepción de la solicitu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86C9B5-F9B3-4C8E-BDAD-76CD285CA1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7284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128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7284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128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0EE-CC19-409E-A201-DA277F62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10BB-4935-4084-991B-297BFBED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217-5A9B-4B7F-9816-F02E1B35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920-560F-4903-83FB-5A65DF20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1051-EC7F-43E8-A246-17436190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2280" y="677880"/>
            <a:ext cx="80841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198-AAC5-43E4-9E5D-918666DB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75CE-EC2C-416D-9FAC-138968F5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92D-2464-462A-A125-7CA4BAC6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01F-CBA9-46B8-882F-555F0DF3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A136-BA65-40AD-9C5E-F7F0C596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727-DB8E-4FA5-925B-83E96D1E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7284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3128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7284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3128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5369-F033-41C5-9050-E082DC55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2280" y="677880"/>
            <a:ext cx="80841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84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83128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1440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84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83128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0DF1-BA02-400A-ADA2-926B9B1D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A812-87A4-45F1-A7E4-82060D59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1115-CFB8-46EC-B39F-2F99BCB8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48C5-B851-45A3-A118-0F7CBD80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D3AB-4655-42E0-95C7-63EA63E6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2280" y="677880"/>
            <a:ext cx="80841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C457-CD0B-47DC-B8F1-353A8324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9167-4A5B-4E5B-8E97-68D6F5D0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4750-9EE5-4AB2-826B-DF7641BB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D42F-0ABA-457D-9AA3-BAF49180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3AEC-7B44-46E9-9F0B-7BA8FB26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3B39-697B-47B8-A4DE-C891E991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7284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31280" y="160272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91440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7284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831280" y="3619800"/>
            <a:ext cx="234108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0A0C-681A-4E1A-AED4-A625143F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2280" y="677880"/>
            <a:ext cx="80841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0760" y="361980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602720"/>
            <a:ext cx="35485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619800"/>
            <a:ext cx="7271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66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ES" sz="2800" spc="-100" strike="noStrike">
                <a:solidFill>
                  <a:srgbClr val="000000"/>
                </a:solidFill>
                <a:latin typeface="Verdana"/>
                <a:ea typeface="Verdana"/>
              </a:rPr>
              <a:t>Haga clic para modificar el estilo de título del pat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5000"/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ga clic para modificar el estilo de texto del pat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5000"/>
              <a:buFont typeface="Arial"/>
              <a:buChar char="•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gundo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82880">
              <a:lnSpc>
                <a:spcPct val="100000"/>
              </a:lnSpc>
              <a:spcBef>
                <a:spcPts val="360"/>
              </a:spcBef>
              <a:buClr>
                <a:srgbClr val="6ea0b0"/>
              </a:buClr>
              <a:buSzPct val="90000"/>
              <a:buFont typeface="Arial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cer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05840" indent="-182880">
              <a:lnSpc>
                <a:spcPct val="100000"/>
              </a:lnSpc>
              <a:spcBef>
                <a:spcPts val="320"/>
              </a:spcBef>
              <a:buClr>
                <a:srgbClr val="6ea0b0"/>
              </a:buClr>
              <a:buFont typeface="Arial"/>
              <a:buChar char="•"/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rto ni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88720" indent="-137160">
              <a:lnSpc>
                <a:spcPct val="100000"/>
              </a:lnSpc>
              <a:spcBef>
                <a:spcPts val="281"/>
              </a:spcBef>
              <a:buClr>
                <a:srgbClr val="6ea0b0"/>
              </a:buClr>
              <a:buFont typeface="Arial"/>
              <a:buChar char="•"/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Quinto ni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9F67AFB-AB57-4B9B-9DF8-E778A2467A9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7 Conector recto"/>
          <p:cNvCxnSpPr/>
          <p:nvPr/>
        </p:nvCxnSpPr>
        <p:spPr>
          <a:xfrm>
            <a:off x="467280" y="1268640"/>
            <a:ext cx="8209440" cy="360"/>
          </a:xfrm>
          <a:prstGeom prst="straightConnector1">
            <a:avLst/>
          </a:prstGeom>
          <a:ln>
            <a:solidFill>
              <a:srgbClr val="6ea0b0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400" y="1602720"/>
            <a:ext cx="7271640" cy="386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561"/>
              </a:spcBef>
              <a:buClr>
                <a:srgbClr val="6ea0b0"/>
              </a:buClr>
              <a:buSzPct val="8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82880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05840" indent="-182880">
              <a:lnSpc>
                <a:spcPct val="100000"/>
              </a:lnSpc>
              <a:spcBef>
                <a:spcPts val="360"/>
              </a:spcBef>
              <a:buClr>
                <a:srgbClr val="6ea0b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8720" indent="-137160">
              <a:lnSpc>
                <a:spcPct val="100000"/>
              </a:lnSpc>
              <a:spcBef>
                <a:spcPts val="360"/>
              </a:spcBef>
              <a:buClr>
                <a:srgbClr val="6ea0b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02280" y="677880"/>
            <a:ext cx="8084160" cy="73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00" strike="noStrike">
                <a:solidFill>
                  <a:srgbClr val="3b3b3b"/>
                </a:solidFill>
                <a:latin typeface="Verdana"/>
                <a:ea typeface="Verdana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A90AA70-6985-4458-AB21-3B0D7B842FD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1 CuadroTexto"/>
          <p:cNvSpPr/>
          <p:nvPr/>
        </p:nvSpPr>
        <p:spPr>
          <a:xfrm>
            <a:off x="1540800" y="2493000"/>
            <a:ext cx="644472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  <a:ea typeface="Verdana"/>
              </a:rPr>
              <a:t>Algunas consideraciones sobre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  <a:ea typeface="Verdana"/>
              </a:rPr>
              <a:t>Ley Federal de Protección de Da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  <a:ea typeface="Verdana"/>
              </a:rPr>
              <a:t>Personales en Posesión de l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  <a:ea typeface="Verdana"/>
              </a:rPr>
              <a:t>Partic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2 CuadroTexto"/>
          <p:cNvSpPr/>
          <p:nvPr/>
        </p:nvSpPr>
        <p:spPr>
          <a:xfrm>
            <a:off x="3857760" y="5429160"/>
            <a:ext cx="50004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Alfonso  Oñate  Labor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Secretario de Protección Datos  Persona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Noviembre 20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3348000" y="980640"/>
            <a:ext cx="18000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70080" y="476640"/>
            <a:ext cx="7009920" cy="83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Procedimientos ante el IF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14280" y="1643040"/>
            <a:ext cx="7929360" cy="49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111524164"/>
              </p:ext>
            </p:extLst>
          </p:nvPr>
        </p:nvGraphicFramePr>
        <p:xfrm>
          <a:off x="1523880" y="1785960"/>
          <a:ext cx="6095520" cy="4000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255" name="Picture 3" descr=""/>
          <p:cNvPicPr/>
          <p:nvPr/>
        </p:nvPicPr>
        <p:blipFill>
          <a:blip r:embed="rId6"/>
          <a:stretch/>
        </p:blipFill>
        <p:spPr>
          <a:xfrm>
            <a:off x="76251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286782193"/>
              </p:ext>
            </p:extLst>
          </p:nvPr>
        </p:nvGraphicFramePr>
        <p:xfrm>
          <a:off x="0" y="214200"/>
          <a:ext cx="9143640" cy="64292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56" name="20 Rectángulo"/>
          <p:cNvSpPr/>
          <p:nvPr/>
        </p:nvSpPr>
        <p:spPr>
          <a:xfrm>
            <a:off x="3714840" y="2503080"/>
            <a:ext cx="53532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s-ES" sz="11500" spc="-1" strike="noStrike" cap="all">
                <a:solidFill>
                  <a:schemeClr val="accent1"/>
                </a:solidFill>
                <a:latin typeface="Arial"/>
              </a:rPr>
              <a:t>5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1 CuadroTexto"/>
          <p:cNvSpPr/>
          <p:nvPr/>
        </p:nvSpPr>
        <p:spPr>
          <a:xfrm>
            <a:off x="4394160" y="3153240"/>
            <a:ext cx="121572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Ej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Re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3640" y="332640"/>
            <a:ext cx="3344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Aspectos relevantes del Regl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6"/>
          <a:stretch/>
        </p:blipFill>
        <p:spPr>
          <a:xfrm>
            <a:off x="76251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1825261728"/>
              </p:ext>
            </p:extLst>
          </p:nvPr>
        </p:nvGraphicFramePr>
        <p:xfrm>
          <a:off x="0" y="1214280"/>
          <a:ext cx="9000720" cy="5643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60" name="7 CuadroTexto"/>
          <p:cNvSpPr/>
          <p:nvPr/>
        </p:nvSpPr>
        <p:spPr>
          <a:xfrm>
            <a:off x="3610080" y="1337400"/>
            <a:ext cx="1153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8 CuadroTexto"/>
          <p:cNvSpPr/>
          <p:nvPr/>
        </p:nvSpPr>
        <p:spPr>
          <a:xfrm>
            <a:off x="6693840" y="1712880"/>
            <a:ext cx="1564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Excep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9 CuadroTexto"/>
          <p:cNvSpPr/>
          <p:nvPr/>
        </p:nvSpPr>
        <p:spPr>
          <a:xfrm>
            <a:off x="53640" y="1549440"/>
            <a:ext cx="25714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Ámbito de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 CuadroTexto"/>
          <p:cNvSpPr/>
          <p:nvPr/>
        </p:nvSpPr>
        <p:spPr>
          <a:xfrm>
            <a:off x="598680" y="601560"/>
            <a:ext cx="3998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Disposiciones gener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6"/>
          <a:stretch/>
        </p:blipFill>
        <p:spPr>
          <a:xfrm>
            <a:off x="7625160" y="620640"/>
            <a:ext cx="978840" cy="668160"/>
          </a:xfrm>
          <a:prstGeom prst="rect">
            <a:avLst/>
          </a:prstGeom>
          <a:ln w="0">
            <a:noFill/>
          </a:ln>
        </p:spPr>
      </p:pic>
      <p:cxnSp>
        <p:nvCxnSpPr>
          <p:cNvPr id="265" name="10 Conector recto"/>
          <p:cNvCxnSpPr/>
          <p:nvPr/>
        </p:nvCxnSpPr>
        <p:spPr>
          <a:xfrm>
            <a:off x="397800" y="1268640"/>
            <a:ext cx="6694560" cy="360"/>
          </a:xfrm>
          <a:prstGeom prst="straightConnector1">
            <a:avLst/>
          </a:prstGeom>
          <a:ln>
            <a:solidFill>
              <a:srgbClr val="6ea0b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914400" y="1000080"/>
            <a:ext cx="727164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  <a:ea typeface="Verdana"/>
              </a:rPr>
              <a:t>GRACI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8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8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8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Alfonso Oñate  Labor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8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Secretari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 de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Protecció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 de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Dat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Pers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88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alfonso.onate@ifai.org.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3708000" y="1340640"/>
            <a:ext cx="180000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http://4.bp.blogspot.com/-hoaqx1CdiEM/Te-4da3mnrI/AAAAAAAAABU/H4S4_etQ9U4/s1600/CorreoArroba.jpg"/>
          <p:cNvPicPr/>
          <p:nvPr/>
        </p:nvPicPr>
        <p:blipFill>
          <a:blip r:embed="rId1"/>
          <a:stretch/>
        </p:blipFill>
        <p:spPr>
          <a:xfrm>
            <a:off x="2699640" y="2781000"/>
            <a:ext cx="2142720" cy="2142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http://4.bp.blogspot.com/-_cF7UjOAIq4/TW1cuIKYTPI/AAAAAAAADl0/VY8x9vNLtpE/s1600/Izq%2By%2Bderecha%2Btest.gif"/>
          <p:cNvPicPr/>
          <p:nvPr/>
        </p:nvPicPr>
        <p:blipFill>
          <a:blip r:embed="rId2"/>
          <a:stretch/>
        </p:blipFill>
        <p:spPr>
          <a:xfrm>
            <a:off x="4559040" y="4266720"/>
            <a:ext cx="3142800" cy="2285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2292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¿Qué son los Datos Pers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3080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  <a:ea typeface="Verdana"/>
              </a:rPr>
              <a:t>Toda información concerniente o relativa a una persona física identificada o identific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http://impuestosblog.com.ar/wp-content/uploads/datosbiometricos.jpg"/>
          <p:cNvPicPr/>
          <p:nvPr/>
        </p:nvPicPr>
        <p:blipFill>
          <a:blip r:embed="rId3"/>
          <a:stretch/>
        </p:blipFill>
        <p:spPr>
          <a:xfrm>
            <a:off x="585720" y="4396680"/>
            <a:ext cx="2499840" cy="161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http://cuidatusaludcondiane.com/wordpress/wp-content/uploads/2011/05/Preferencias-sexuales.jpg"/>
          <p:cNvPicPr/>
          <p:nvPr/>
        </p:nvPicPr>
        <p:blipFill>
          <a:blip r:embed="rId4"/>
          <a:stretch/>
        </p:blipFill>
        <p:spPr>
          <a:xfrm>
            <a:off x="6744600" y="27810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5"/>
          <a:stretch/>
        </p:blipFill>
        <p:spPr>
          <a:xfrm>
            <a:off x="76971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2" descr="http://3.bp.blogspot.com/_P97-Dt8992g/SS8c5qHL5SI/AAAAAAAAAEM/ul_U-zwg67c/s320/BEBE.bmp"/>
          <p:cNvPicPr/>
          <p:nvPr/>
        </p:nvPicPr>
        <p:blipFill>
          <a:blip r:embed="rId1"/>
          <a:stretch/>
        </p:blipFill>
        <p:spPr>
          <a:xfrm>
            <a:off x="3286080" y="2643120"/>
            <a:ext cx="2142720" cy="214272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2"/>
          <p:cNvSpPr/>
          <p:nvPr/>
        </p:nvSpPr>
        <p:spPr>
          <a:xfrm>
            <a:off x="120600" y="-703440"/>
            <a:ext cx="799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http://dattatecblog.com/wp-content/uploads/2009/10/phishing.jpg"/>
          <p:cNvPicPr/>
          <p:nvPr/>
        </p:nvPicPr>
        <p:blipFill>
          <a:blip r:embed="rId2"/>
          <a:stretch/>
        </p:blipFill>
        <p:spPr>
          <a:xfrm>
            <a:off x="945360" y="1530360"/>
            <a:ext cx="2142720" cy="2012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http://www.visualbeta.es/files/2009/02/spam.jpg"/>
          <p:cNvPicPr/>
          <p:nvPr/>
        </p:nvPicPr>
        <p:blipFill>
          <a:blip r:embed="rId3"/>
          <a:stretch/>
        </p:blipFill>
        <p:spPr>
          <a:xfrm>
            <a:off x="6254640" y="1743480"/>
            <a:ext cx="2214360" cy="1798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http://t1.gstatic.com/images?q=tbn:ANd9GcSbxi8-gH1ilZ1zf3V56kam0xtnRbF7Y6SweiE7AsKl398ULGHS"/>
          <p:cNvPicPr/>
          <p:nvPr/>
        </p:nvPicPr>
        <p:blipFill>
          <a:blip r:embed="rId4"/>
          <a:stretch/>
        </p:blipFill>
        <p:spPr>
          <a:xfrm>
            <a:off x="6759360" y="4629600"/>
            <a:ext cx="1709640" cy="1709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t1.gstatic.com/images?q=tbn:ANd9GcR15LEdMMblqwLYWD5xMMhRwmPb9UrLe-UrCCTgUFgp2xhS2_o7"/>
          <p:cNvPicPr/>
          <p:nvPr/>
        </p:nvPicPr>
        <p:blipFill>
          <a:blip r:embed="rId5"/>
          <a:stretch/>
        </p:blipFill>
        <p:spPr>
          <a:xfrm>
            <a:off x="591480" y="4206600"/>
            <a:ext cx="2295000" cy="1990440"/>
          </a:xfrm>
          <a:prstGeom prst="rect">
            <a:avLst/>
          </a:prstGeom>
          <a:ln w="0">
            <a:noFill/>
          </a:ln>
        </p:spPr>
      </p:pic>
      <p:sp>
        <p:nvSpPr>
          <p:cNvPr id="189" name="9 Estrella de 10 puntas"/>
          <p:cNvSpPr/>
          <p:nvPr/>
        </p:nvSpPr>
        <p:spPr>
          <a:xfrm>
            <a:off x="3756600" y="2975040"/>
            <a:ext cx="2497680" cy="2509200"/>
          </a:xfrm>
          <a:prstGeom prst="star10">
            <a:avLst>
              <a:gd name="adj" fmla="val 42533"/>
              <a:gd name="hf" fmla="val 105146"/>
            </a:avLst>
          </a:prstGeom>
          <a:solidFill>
            <a:srgbClr val="ffc000">
              <a:alpha val="21000"/>
            </a:srgbClr>
          </a:solidFill>
          <a:ln w="92075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90" name="1 Título"/>
          <p:cNvSpPr/>
          <p:nvPr/>
        </p:nvSpPr>
        <p:spPr>
          <a:xfrm>
            <a:off x="285840" y="476640"/>
            <a:ext cx="830052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  <a:scene3d>
              <a:camera prst="orthographicFront"/>
              <a:lightRig dir="t" rig="soft"/>
            </a:scene3d>
            <a:sp3d prstMaterial="softEdge">
              <a:bevelT w="25400" h="25400"/>
            </a:sp3d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¿Por qué es importan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6"/>
          <a:stretch/>
        </p:blipFill>
        <p:spPr>
          <a:xfrm>
            <a:off x="76683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5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8760" y="548640"/>
            <a:ext cx="6120360" cy="7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Antecedentes Inter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314197501"/>
              </p:ext>
            </p:extLst>
          </p:nvPr>
        </p:nvGraphicFramePr>
        <p:xfrm>
          <a:off x="827640" y="1196640"/>
          <a:ext cx="7992360" cy="5400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93" name="7 CuadroTexto"/>
          <p:cNvSpPr/>
          <p:nvPr/>
        </p:nvSpPr>
        <p:spPr>
          <a:xfrm>
            <a:off x="4428000" y="1412640"/>
            <a:ext cx="27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  <a:ea typeface="Verdana"/>
              </a:rPr>
              <a:t>Directrices de la OC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  <a:ea typeface="Verdana"/>
              </a:rPr>
              <a:t>(198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6"/>
          <a:stretch/>
        </p:blipFill>
        <p:spPr>
          <a:xfrm>
            <a:off x="76683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7120" y="573120"/>
            <a:ext cx="8183880" cy="76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Antecedentes 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10 Conector recto de flecha"/>
          <p:cNvCxnSpPr/>
          <p:nvPr/>
        </p:nvCxnSpPr>
        <p:spPr>
          <a:xfrm>
            <a:off x="754920" y="3562200"/>
            <a:ext cx="7777800" cy="1800"/>
          </a:xfrm>
          <a:prstGeom prst="straightConnector1">
            <a:avLst/>
          </a:prstGeom>
          <a:ln w="107950">
            <a:solidFill>
              <a:srgbClr val="748560">
                <a:lumMod val="75000"/>
              </a:srgbClr>
            </a:solidFill>
            <a:round/>
            <a:headEnd len="med" type="arrow" w="med"/>
            <a:tailEnd len="med" type="arrow" w="med"/>
          </a:ln>
        </p:spPr>
      </p:cxnSp>
      <p:cxnSp>
        <p:nvCxnSpPr>
          <p:cNvPr id="197" name="11 Conector recto"/>
          <p:cNvCxnSpPr/>
          <p:nvPr/>
        </p:nvCxnSpPr>
        <p:spPr>
          <a:xfrm>
            <a:off x="7255800" y="3348000"/>
            <a:ext cx="360" cy="576720"/>
          </a:xfrm>
          <a:prstGeom prst="straightConnector1">
            <a:avLst/>
          </a:prstGeom>
          <a:ln w="31750">
            <a:solidFill>
              <a:srgbClr val="6ea0b0"/>
            </a:solidFill>
            <a:round/>
          </a:ln>
        </p:spPr>
      </p:cxnSp>
      <p:cxnSp>
        <p:nvCxnSpPr>
          <p:cNvPr id="198" name="17 Conector recto"/>
          <p:cNvCxnSpPr/>
          <p:nvPr/>
        </p:nvCxnSpPr>
        <p:spPr>
          <a:xfrm>
            <a:off x="3326760" y="3276360"/>
            <a:ext cx="360" cy="576720"/>
          </a:xfrm>
          <a:prstGeom prst="straightConnector1">
            <a:avLst/>
          </a:prstGeom>
          <a:ln w="31750">
            <a:solidFill>
              <a:srgbClr val="6ea0b0"/>
            </a:solidFill>
            <a:round/>
          </a:ln>
        </p:spPr>
      </p:cxnSp>
      <p:cxnSp>
        <p:nvCxnSpPr>
          <p:cNvPr id="199" name="18 Conector recto"/>
          <p:cNvCxnSpPr/>
          <p:nvPr/>
        </p:nvCxnSpPr>
        <p:spPr>
          <a:xfrm>
            <a:off x="5755680" y="3276360"/>
            <a:ext cx="360" cy="576720"/>
          </a:xfrm>
          <a:prstGeom prst="straightConnector1">
            <a:avLst/>
          </a:prstGeom>
          <a:ln w="31750">
            <a:solidFill>
              <a:srgbClr val="6ea0b0"/>
            </a:solidFill>
            <a:round/>
          </a:ln>
        </p:spPr>
      </p:cxnSp>
      <p:sp>
        <p:nvSpPr>
          <p:cNvPr id="200" name="18 CuadroTexto"/>
          <p:cNvSpPr/>
          <p:nvPr/>
        </p:nvSpPr>
        <p:spPr>
          <a:xfrm>
            <a:off x="867960" y="4138560"/>
            <a:ext cx="79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9 CuadroTexto"/>
          <p:cNvSpPr/>
          <p:nvPr/>
        </p:nvSpPr>
        <p:spPr>
          <a:xfrm>
            <a:off x="2612520" y="4133880"/>
            <a:ext cx="1213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23 Conector recto"/>
          <p:cNvCxnSpPr/>
          <p:nvPr/>
        </p:nvCxnSpPr>
        <p:spPr>
          <a:xfrm>
            <a:off x="1397880" y="3276360"/>
            <a:ext cx="360" cy="576720"/>
          </a:xfrm>
          <a:prstGeom prst="straightConnector1">
            <a:avLst/>
          </a:prstGeom>
          <a:ln w="31750">
            <a:solidFill>
              <a:srgbClr val="6ea0b0"/>
            </a:solidFill>
            <a:round/>
          </a:ln>
        </p:spPr>
      </p:cxnSp>
      <p:sp>
        <p:nvSpPr>
          <p:cNvPr id="203" name="24 CuadroTexto"/>
          <p:cNvSpPr/>
          <p:nvPr/>
        </p:nvSpPr>
        <p:spPr>
          <a:xfrm>
            <a:off x="5403600" y="4138560"/>
            <a:ext cx="995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25 CuadroTexto"/>
          <p:cNvSpPr/>
          <p:nvPr/>
        </p:nvSpPr>
        <p:spPr>
          <a:xfrm>
            <a:off x="6899040" y="4133880"/>
            <a:ext cx="840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26 CuadroTexto"/>
          <p:cNvSpPr/>
          <p:nvPr/>
        </p:nvSpPr>
        <p:spPr>
          <a:xfrm>
            <a:off x="755280" y="2419560"/>
            <a:ext cx="167760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Legislación Secto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Verdana"/>
              </a:rPr>
              <a:t>(insuficien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27 CuadroTexto"/>
          <p:cNvSpPr/>
          <p:nvPr/>
        </p:nvSpPr>
        <p:spPr>
          <a:xfrm>
            <a:off x="398160" y="4562640"/>
            <a:ext cx="207144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Primera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iniciativa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 de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ley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de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Protecció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de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Dato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28 CuadroTexto"/>
          <p:cNvSpPr/>
          <p:nvPr/>
        </p:nvSpPr>
        <p:spPr>
          <a:xfrm>
            <a:off x="2327040" y="2633760"/>
            <a:ext cx="1999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LFTAI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30 CuadroTexto"/>
          <p:cNvSpPr/>
          <p:nvPr/>
        </p:nvSpPr>
        <p:spPr>
          <a:xfrm>
            <a:off x="4684320" y="2347920"/>
            <a:ext cx="257148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La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Protecció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de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Dato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com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un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  <a:ea typeface="Verdana"/>
              </a:rPr>
              <a:t>Derech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Fundament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31 CuadroTexto"/>
          <p:cNvSpPr/>
          <p:nvPr/>
        </p:nvSpPr>
        <p:spPr>
          <a:xfrm>
            <a:off x="6684480" y="4562640"/>
            <a:ext cx="1428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LFPD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3 Conector recto"/>
          <p:cNvCxnSpPr/>
          <p:nvPr/>
        </p:nvCxnSpPr>
        <p:spPr>
          <a:xfrm>
            <a:off x="397800" y="1268640"/>
            <a:ext cx="6694560" cy="360"/>
          </a:xfrm>
          <a:prstGeom prst="straightConnector1">
            <a:avLst/>
          </a:prstGeom>
          <a:ln>
            <a:solidFill>
              <a:srgbClr val="6ea0b0"/>
            </a:solidFill>
            <a:round/>
          </a:ln>
        </p:spPr>
      </p:cxn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73803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2280" y="404640"/>
            <a:ext cx="7119720" cy="90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La Ley…. ¿A quien le apl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45760" cy="35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78200" indent="0" algn="just">
              <a:lnSpc>
                <a:spcPct val="12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Verdana"/>
              </a:rPr>
              <a:t>   </a:t>
            </a:r>
            <a:r>
              <a:rPr b="1" lang="es-ES" sz="2900" spc="-1" strike="noStrike">
                <a:solidFill>
                  <a:srgbClr val="000000"/>
                </a:solidFill>
                <a:latin typeface="Verdana"/>
                <a:ea typeface="Verdana"/>
              </a:rPr>
              <a:t>Todas las personas físicas o morales que para sus actividades cotidianas recaben, manejen y utilicen información personal, con excepción de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46400" indent="-178200" algn="just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6ea0b0"/>
              </a:buClr>
              <a:buSzPct val="85000"/>
              <a:buFont typeface="Symbol" charset="2"/>
              <a:buChar char=""/>
              <a:tabLst>
                <a:tab algn="l" pos="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  <a:ea typeface="Verdana"/>
              </a:rPr>
              <a:t>Las Sociedades de Información Creditici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46400" indent="-17820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6ea0b0"/>
              </a:buClr>
              <a:buSzPct val="85000"/>
              <a:buFont typeface="Symbol" charset="2"/>
              <a:buChar char=""/>
              <a:tabLst>
                <a:tab algn="l" pos="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2900" spc="-1" strike="noStrike">
                <a:solidFill>
                  <a:srgbClr val="000000"/>
                </a:solidFill>
                <a:latin typeface="Verdana"/>
                <a:ea typeface="Verdana"/>
              </a:rPr>
              <a:t>Las personas que recolectan y almacenan datos personales para uso exclusivamente personal o doméstic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782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76251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404640"/>
            <a:ext cx="822924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¿Qué obligaciones hay que cumpl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57200" y="1700640"/>
            <a:ext cx="700992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4 Marcador de contenido"/>
          <p:cNvSpPr/>
          <p:nvPr/>
        </p:nvSpPr>
        <p:spPr>
          <a:xfrm>
            <a:off x="5452920" y="3314880"/>
            <a:ext cx="383328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Lic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Consent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Fin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Leal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Proporcion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 algn="just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82000"/>
              <a:buFont typeface="Arial"/>
              <a:buAutoNum type="arabicPeriod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Respons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7 Rectángulo redondeado"/>
          <p:cNvSpPr/>
          <p:nvPr/>
        </p:nvSpPr>
        <p:spPr>
          <a:xfrm>
            <a:off x="5357880" y="3100320"/>
            <a:ext cx="2999880" cy="32144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Verdana"/>
              <a:ea typeface="Verdana"/>
            </a:endParaRPr>
          </a:p>
        </p:txBody>
      </p:sp>
      <p:sp>
        <p:nvSpPr>
          <p:cNvPr id="219" name="8 CuadroTexto"/>
          <p:cNvSpPr/>
          <p:nvPr/>
        </p:nvSpPr>
        <p:spPr>
          <a:xfrm>
            <a:off x="642960" y="2214720"/>
            <a:ext cx="392868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Aviso de Priv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Nombrar persona o á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Medidas de seg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Ventanilla de que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Atender derechos 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</a:pPr>
            <a:r>
              <a:rPr b="0" lang="es-MX" sz="2000" spc="-1" strike="noStrike" u="heavy">
                <a:solidFill>
                  <a:srgbClr val="000000"/>
                </a:solidFill>
                <a:uFillTx/>
                <a:latin typeface="Verdana"/>
                <a:ea typeface="Verdana"/>
              </a:rPr>
              <a:t>TRATAR LOS DA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9 Flecha derecha"/>
          <p:cNvSpPr/>
          <p:nvPr/>
        </p:nvSpPr>
        <p:spPr>
          <a:xfrm>
            <a:off x="3857760" y="4786200"/>
            <a:ext cx="107136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76251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155520" y="-1287360"/>
            <a:ext cx="2695320" cy="26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http://t2.gstatic.com/images?q=tbn:ANd9GcQj1yNldj-OLogYHFfqpElar8EmypsVhWcP0IqpTBSlx50klFYZC8nNevv9rw"/>
          <p:cNvPicPr/>
          <p:nvPr/>
        </p:nvPicPr>
        <p:blipFill>
          <a:blip r:embed="rId1"/>
          <a:stretch/>
        </p:blipFill>
        <p:spPr>
          <a:xfrm>
            <a:off x="3429000" y="2786040"/>
            <a:ext cx="2571480" cy="2571480"/>
          </a:xfrm>
          <a:prstGeom prst="rect">
            <a:avLst/>
          </a:prstGeom>
          <a:ln w="0">
            <a:noFill/>
          </a:ln>
        </p:spPr>
      </p:pic>
      <p:sp>
        <p:nvSpPr>
          <p:cNvPr id="224" name="5 Flecha izquierda"/>
          <p:cNvSpPr/>
          <p:nvPr/>
        </p:nvSpPr>
        <p:spPr>
          <a:xfrm>
            <a:off x="2714760" y="3929040"/>
            <a:ext cx="428400" cy="4996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5" name="6 Flecha izquierda"/>
          <p:cNvSpPr/>
          <p:nvPr/>
        </p:nvSpPr>
        <p:spPr>
          <a:xfrm rot="16200000">
            <a:off x="4643280" y="5429520"/>
            <a:ext cx="356760" cy="4996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6" name="7 Flecha izquierda"/>
          <p:cNvSpPr/>
          <p:nvPr/>
        </p:nvSpPr>
        <p:spPr>
          <a:xfrm rot="10800000">
            <a:off x="6215400" y="3715200"/>
            <a:ext cx="428400" cy="4996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7" name="8 Flecha izquierda"/>
          <p:cNvSpPr/>
          <p:nvPr/>
        </p:nvSpPr>
        <p:spPr>
          <a:xfrm rot="5400000">
            <a:off x="4608000" y="2250360"/>
            <a:ext cx="428400" cy="4996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8" name="11 CuadroTexto"/>
          <p:cNvSpPr/>
          <p:nvPr/>
        </p:nvSpPr>
        <p:spPr>
          <a:xfrm>
            <a:off x="857160" y="3357720"/>
            <a:ext cx="2142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Acuerdo de Voluntade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Alc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Compromi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13 Flecha circular"/>
          <p:cNvSpPr/>
          <p:nvPr/>
        </p:nvSpPr>
        <p:spPr>
          <a:xfrm rot="18549600">
            <a:off x="1434240" y="1935000"/>
            <a:ext cx="2285640" cy="1285560"/>
          </a:xfrm>
          <a:prstGeom prst="circularArrow">
            <a:avLst>
              <a:gd name="adj1" fmla="val 5995"/>
              <a:gd name="adj2" fmla="val 865111"/>
              <a:gd name="adj3" fmla="val 20597357"/>
              <a:gd name="adj4" fmla="val 12064448"/>
              <a:gd name="adj5" fmla="val 13936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18 CuadroTexto"/>
          <p:cNvSpPr/>
          <p:nvPr/>
        </p:nvSpPr>
        <p:spPr>
          <a:xfrm>
            <a:off x="3714840" y="1285920"/>
            <a:ext cx="2214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Acota el uso de los datos pers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19 CuadroTexto"/>
          <p:cNvSpPr/>
          <p:nvPr/>
        </p:nvSpPr>
        <p:spPr>
          <a:xfrm>
            <a:off x="6786720" y="3357720"/>
            <a:ext cx="22143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Determina las medidas de seguridad requer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20 Flecha circular"/>
          <p:cNvSpPr/>
          <p:nvPr/>
        </p:nvSpPr>
        <p:spPr>
          <a:xfrm rot="2049000">
            <a:off x="5479920" y="1744920"/>
            <a:ext cx="2285640" cy="1285560"/>
          </a:xfrm>
          <a:prstGeom prst="circularArrow">
            <a:avLst>
              <a:gd name="adj1" fmla="val 5995"/>
              <a:gd name="adj2" fmla="val 865111"/>
              <a:gd name="adj3" fmla="val 20597357"/>
              <a:gd name="adj4" fmla="val 12064448"/>
              <a:gd name="adj5" fmla="val 13936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21 Flecha circular"/>
          <p:cNvSpPr/>
          <p:nvPr/>
        </p:nvSpPr>
        <p:spPr>
          <a:xfrm rot="7855200">
            <a:off x="5735520" y="4713480"/>
            <a:ext cx="2285640" cy="1285560"/>
          </a:xfrm>
          <a:prstGeom prst="circularArrow">
            <a:avLst>
              <a:gd name="adj1" fmla="val 5995"/>
              <a:gd name="adj2" fmla="val 865111"/>
              <a:gd name="adj3" fmla="val 20597357"/>
              <a:gd name="adj4" fmla="val 12064448"/>
              <a:gd name="adj5" fmla="val 13936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22 Flecha circular"/>
          <p:cNvSpPr/>
          <p:nvPr/>
        </p:nvSpPr>
        <p:spPr>
          <a:xfrm rot="12469200">
            <a:off x="1689840" y="5173920"/>
            <a:ext cx="2285640" cy="1285560"/>
          </a:xfrm>
          <a:prstGeom prst="circularArrow">
            <a:avLst>
              <a:gd name="adj1" fmla="val 5995"/>
              <a:gd name="adj2" fmla="val 865111"/>
              <a:gd name="adj3" fmla="val 20597357"/>
              <a:gd name="adj4" fmla="val 12064448"/>
              <a:gd name="adj5" fmla="val 13936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23 CuadroTexto"/>
          <p:cNvSpPr/>
          <p:nvPr/>
        </p:nvSpPr>
        <p:spPr>
          <a:xfrm>
            <a:off x="3786120" y="5929200"/>
            <a:ext cx="2214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Fundamenta la intervención del IF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404640"/>
            <a:ext cx="822924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Aviso de Priv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76251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MX" sz="2800" spc="-100" strike="noStrike">
                <a:solidFill>
                  <a:srgbClr val="000000"/>
                </a:solidFill>
                <a:latin typeface="Verdana"/>
                <a:ea typeface="Verdana"/>
              </a:rPr>
              <a:t>Ejercicio de los derechos AR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8" descr="C:\Users\paulina.mancebo\AppData\Local\Microsoft\Windows\Temporary Internet Files\Content.IE5\B4ZOROAH\MC900432610[1].png"/>
          <p:cNvPicPr/>
          <p:nvPr/>
        </p:nvPicPr>
        <p:blipFill>
          <a:blip r:embed="rId1"/>
          <a:stretch/>
        </p:blipFill>
        <p:spPr>
          <a:xfrm>
            <a:off x="468360" y="1989000"/>
            <a:ext cx="1827000" cy="1828440"/>
          </a:xfrm>
          <a:prstGeom prst="rect">
            <a:avLst/>
          </a:prstGeom>
          <a:ln w="0">
            <a:noFill/>
          </a:ln>
        </p:spPr>
      </p:pic>
      <p:sp>
        <p:nvSpPr>
          <p:cNvPr id="240" name="4 CuadroTexto"/>
          <p:cNvSpPr/>
          <p:nvPr/>
        </p:nvSpPr>
        <p:spPr>
          <a:xfrm>
            <a:off x="755640" y="3327480"/>
            <a:ext cx="1399680" cy="454680"/>
          </a:xfrm>
          <a:prstGeom prst="rect">
            <a:avLst/>
          </a:prstGeom>
          <a:solidFill>
            <a:schemeClr val="tx1"/>
          </a:solidFill>
          <a:ln w="0">
            <a:noFill/>
          </a:ln>
          <a:effectLst>
            <a:outerShdw algn="br" blurRad="38160" dir="2700000" dist="25455" rotWithShape="0">
              <a:srgbClr val="000000">
                <a:alpha val="60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200" spc="-1" strike="noStrike">
                <a:solidFill>
                  <a:schemeClr val="lt1"/>
                </a:solidFill>
                <a:latin typeface="Verdana"/>
                <a:ea typeface="Verdana"/>
              </a:rPr>
              <a:t>Titular o Representant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5 Flecha derecha"/>
          <p:cNvSpPr/>
          <p:nvPr/>
        </p:nvSpPr>
        <p:spPr>
          <a:xfrm>
            <a:off x="2500200" y="2928960"/>
            <a:ext cx="499680" cy="4996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2">
              <a:lumMod val="75000"/>
            </a:schemeClr>
          </a:solidFill>
          <a:ln>
            <a:solidFill>
              <a:srgbClr val="ccaf0a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242" name="Picture 29" descr="C:\Users\paulina.mancebo\AppData\Local\Microsoft\Windows\Temporary Internet Files\Content.IE5\KJ03KL53\MC900090318[1].wmf"/>
          <p:cNvPicPr/>
          <p:nvPr/>
        </p:nvPicPr>
        <p:blipFill>
          <a:blip r:embed="rId2"/>
          <a:stretch/>
        </p:blipFill>
        <p:spPr>
          <a:xfrm>
            <a:off x="3214800" y="2193840"/>
            <a:ext cx="2491920" cy="2428560"/>
          </a:xfrm>
          <a:prstGeom prst="rect">
            <a:avLst/>
          </a:prstGeom>
          <a:ln w="9525">
            <a:noFill/>
          </a:ln>
        </p:spPr>
      </p:pic>
      <p:sp>
        <p:nvSpPr>
          <p:cNvPr id="243" name="7 CuadroTexto"/>
          <p:cNvSpPr/>
          <p:nvPr/>
        </p:nvSpPr>
        <p:spPr>
          <a:xfrm>
            <a:off x="3733200" y="4345560"/>
            <a:ext cx="1276920" cy="363960"/>
          </a:xfrm>
          <a:prstGeom prst="rect">
            <a:avLst/>
          </a:prstGeom>
          <a:solidFill>
            <a:schemeClr val="tx1"/>
          </a:solidFill>
          <a:ln w="0">
            <a:noFill/>
          </a:ln>
          <a:effectLst>
            <a:outerShdw algn="br" blurRad="38160" dir="2700000" dist="25455" rotWithShape="0">
              <a:srgbClr val="000000">
                <a:alpha val="60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>
                <a:solidFill>
                  <a:schemeClr val="lt1"/>
                </a:solidFill>
                <a:latin typeface="Verdana"/>
                <a:ea typeface="Verdana"/>
              </a:rPr>
              <a:t>Solicit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8 Flecha derecha"/>
          <p:cNvSpPr/>
          <p:nvPr/>
        </p:nvSpPr>
        <p:spPr>
          <a:xfrm>
            <a:off x="5568120" y="4221000"/>
            <a:ext cx="58320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2">
              <a:lumMod val="75000"/>
            </a:schemeClr>
          </a:solidFill>
          <a:ln>
            <a:solidFill>
              <a:srgbClr val="ccaf0a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245" name="Picture 24" descr="C:\Users\paulina.mancebo\AppData\Local\Microsoft\Windows\Temporary Internet Files\Content.IE5\88MI2Z14\MC900434874[1].png"/>
          <p:cNvPicPr/>
          <p:nvPr/>
        </p:nvPicPr>
        <p:blipFill>
          <a:blip r:embed="rId3"/>
          <a:stretch/>
        </p:blipFill>
        <p:spPr>
          <a:xfrm>
            <a:off x="6143760" y="3786120"/>
            <a:ext cx="2285640" cy="2285640"/>
          </a:xfrm>
          <a:prstGeom prst="rect">
            <a:avLst/>
          </a:prstGeom>
          <a:ln w="9525">
            <a:noFill/>
          </a:ln>
        </p:spPr>
      </p:pic>
      <p:sp>
        <p:nvSpPr>
          <p:cNvPr id="246" name="10 CuadroTexto"/>
          <p:cNvSpPr/>
          <p:nvPr/>
        </p:nvSpPr>
        <p:spPr>
          <a:xfrm>
            <a:off x="6715080" y="5947920"/>
            <a:ext cx="1499760" cy="333000"/>
          </a:xfrm>
          <a:prstGeom prst="rect">
            <a:avLst/>
          </a:prstGeom>
          <a:solidFill>
            <a:schemeClr val="tx1"/>
          </a:solidFill>
          <a:ln w="0">
            <a:noFill/>
          </a:ln>
          <a:effectLst>
            <a:outerShdw algn="br" blurRad="38160" dir="2700000" dist="25455" rotWithShape="0">
              <a:srgbClr val="000000">
                <a:alpha val="60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600" spc="-1" strike="noStrike">
                <a:solidFill>
                  <a:schemeClr val="lt1"/>
                </a:solidFill>
                <a:latin typeface="Verdana"/>
                <a:ea typeface="Verdana"/>
              </a:rPr>
              <a:t>Respons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2" descr="C:\Users\monica.moreno\Pictures\logo nuevo IFAI.jpg"/>
          <p:cNvPicPr/>
          <p:nvPr/>
        </p:nvPicPr>
        <p:blipFill>
          <a:blip r:embed="rId4"/>
          <a:stretch/>
        </p:blipFill>
        <p:spPr>
          <a:xfrm>
            <a:off x="1071360" y="5143680"/>
            <a:ext cx="686520" cy="1441440"/>
          </a:xfrm>
          <a:prstGeom prst="rect">
            <a:avLst/>
          </a:prstGeom>
          <a:ln w="0">
            <a:noFill/>
          </a:ln>
        </p:spPr>
      </p:pic>
      <p:sp>
        <p:nvSpPr>
          <p:cNvPr id="248" name="14 Flecha derecha"/>
          <p:cNvSpPr/>
          <p:nvPr/>
        </p:nvSpPr>
        <p:spPr>
          <a:xfrm rot="16200000">
            <a:off x="6554520" y="2732760"/>
            <a:ext cx="1821240" cy="3567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2">
              <a:lumMod val="75000"/>
            </a:schemeClr>
          </a:solidFill>
          <a:ln>
            <a:solidFill>
              <a:srgbClr val="ccaf0a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49" name="15 Flecha derecha"/>
          <p:cNvSpPr/>
          <p:nvPr/>
        </p:nvSpPr>
        <p:spPr>
          <a:xfrm flipV="1" rot="10800000">
            <a:off x="1857960" y="1642680"/>
            <a:ext cx="5178600" cy="3567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2">
              <a:lumMod val="75000"/>
            </a:schemeClr>
          </a:solidFill>
          <a:ln>
            <a:solidFill>
              <a:srgbClr val="ccaf0a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50" name="16 Flecha derecha"/>
          <p:cNvSpPr/>
          <p:nvPr/>
        </p:nvSpPr>
        <p:spPr>
          <a:xfrm rot="5400000">
            <a:off x="768240" y="4232520"/>
            <a:ext cx="117828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2">
              <a:lumMod val="75000"/>
            </a:schemeClr>
          </a:solidFill>
          <a:ln>
            <a:solidFill>
              <a:srgbClr val="ccaf0a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51" name="17 Flecha derecha"/>
          <p:cNvSpPr/>
          <p:nvPr/>
        </p:nvSpPr>
        <p:spPr>
          <a:xfrm>
            <a:off x="2268360" y="5590080"/>
            <a:ext cx="380376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2">
              <a:lumMod val="75000"/>
            </a:schemeClr>
          </a:solidFill>
          <a:ln>
            <a:solidFill>
              <a:srgbClr val="ccaf0a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5"/>
          <a:stretch/>
        </p:blipFill>
        <p:spPr>
          <a:xfrm>
            <a:off x="7625160" y="620640"/>
            <a:ext cx="9788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laridad">
  <a:themeElements>
    <a:clrScheme name="Técnico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laridad">
  <a:themeElements>
    <a:clrScheme name="Técnico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laridad">
  <a:themeElements>
    <a:clrScheme name="Técnico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Claridad">
  <a:themeElements>
    <a:clrScheme name="Técnico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larity</Template>
  <TotalTime>1658</TotalTime>
  <Application>LibreOffice/7.4.7.2$Linux_X86_64 LibreOffice_project/40$Build-2</Application>
  <AppVersion>15.0000</AppVersion>
  <Words>512</Words>
  <Paragraphs>1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14:27:39Z</dcterms:created>
  <dc:creator>Christy Hobin</dc:creator>
  <dc:description/>
  <dc:language>en-US</dc:language>
  <cp:lastModifiedBy>ruben.carbajal</cp:lastModifiedBy>
  <dcterms:modified xsi:type="dcterms:W3CDTF">2012-11-13T02:05:52Z</dcterms:modified>
  <cp:revision>1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13</vt:r8>
  </property>
</Properties>
</file>