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s-ES_tradnl" sz="1400" spc="-1" strike="noStrike">
                <a:solidFill>
                  <a:srgbClr val="002060"/>
                </a:solidFill>
                <a:latin typeface="Arial Narrow"/>
                <a:ea typeface="ＭＳ Ｐゴシック"/>
              </a:defRPr>
            </a:pPr>
            <a:r>
              <a:rPr b="1" lang="es-ES_tradnl" sz="1400" spc="-1" strike="noStrike">
                <a:solidFill>
                  <a:srgbClr val="002060"/>
                </a:solidFill>
                <a:latin typeface="Arial Narrow"/>
                <a:ea typeface="ＭＳ Ｐゴシック"/>
              </a:rPr>
              <a:t>Distribución de municipios según 
puntaje de cumplimiento</a:t>
            </a:r>
          </a:p>
        </c:rich>
      </c:tx>
      <c:layout>
        <c:manualLayout>
          <c:xMode val="edge"/>
          <c:yMode val="edge"/>
          <c:x val="0.534585099939431"/>
          <c:y val="0.14493045756903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18655360387644"/>
          <c:y val="0.112678895383995"/>
          <c:w val="0.861477892186554"/>
          <c:h val="0.678089094940536"/>
        </c:manualLayout>
      </c:layout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9b9cb1"/>
                </a:gs>
                <a:gs pos="100000">
                  <a:srgbClr val="c3c3ce"/>
                </a:gs>
              </a:gsLst>
              <a:lin ang="0"/>
            </a:gradFill>
            <a:ln w="0">
              <a:noFill/>
            </a:ln>
          </c:spPr>
          <c:invertIfNegative val="0"/>
          <c:dPt>
            <c:idx val="3"/>
            <c:invertIfNegative val="0"/>
            <c:spPr>
              <a:gradFill>
                <a:gsLst>
                  <a:gs pos="0">
                    <a:srgbClr val="9b9cb1"/>
                  </a:gs>
                  <a:gs pos="100000">
                    <a:srgbClr val="c3c3ce"/>
                  </a:gs>
                </a:gsLst>
                <a:lin ang="0"/>
              </a:gradFill>
              <a:ln w="0">
                <a:noFill/>
              </a:ln>
            </c:spPr>
          </c:dPt>
          <c:dPt>
            <c:idx val="7"/>
            <c:invertIfNegative val="0"/>
            <c:spPr>
              <a:gradFill>
                <a:gsLst>
                  <a:gs pos="0">
                    <a:srgbClr val="9b9cb1"/>
                  </a:gs>
                  <a:gs pos="100000">
                    <a:srgbClr val="c3c3ce"/>
                  </a:gs>
                </a:gsLst>
                <a:lin ang="0"/>
              </a:gradFill>
              <a:ln w="0">
                <a:noFill/>
              </a:ln>
            </c:spPr>
          </c:dPt>
          <c:dLbls>
            <c:numFmt formatCode="General" sourceLinked="0"/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lang="es-ES_tradnl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6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7"/>
              <c:numFmt formatCode="General" sourceLinked="0"/>
              <c:txPr>
                <a:bodyPr wrap="square"/>
                <a:lstStyle/>
                <a:p>
                  <a:pPr>
                    <a:defRPr b="0" lang="es-ES_tradnl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15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trendline>
            <c:spPr>
              <a:ln w="9360">
                <a:solidFill>
                  <a:srgbClr val="000000"/>
                </a:solidFill>
                <a:round/>
              </a:ln>
            </c:spPr>
            <c:trendlineType val="poly"/>
            <c:order val="6"/>
            <c:forward val="0"/>
            <c:backward val="0"/>
            <c:dispRSqr val="0"/>
            <c:dispEq val="0"/>
          </c:trendline>
          <c:cat>
            <c:strRef>
              <c:f>categories</c:f>
              <c:strCache>
                <c:ptCount val="11"/>
                <c:pt idx="0">
                  <c:v>0 Puntos</c:v>
                </c:pt>
                <c:pt idx="1">
                  <c:v>]0 - 10[</c:v>
                </c:pt>
                <c:pt idx="2">
                  <c:v>[10 - 20[</c:v>
                </c:pt>
                <c:pt idx="3">
                  <c:v>[20 - 30[</c:v>
                </c:pt>
                <c:pt idx="4">
                  <c:v>[30 - 40[</c:v>
                </c:pt>
                <c:pt idx="5">
                  <c:v>[40 - 50[</c:v>
                </c:pt>
                <c:pt idx="6">
                  <c:v>[50 - 60[</c:v>
                </c:pt>
                <c:pt idx="7">
                  <c:v>[60 - 70[</c:v>
                </c:pt>
                <c:pt idx="8">
                  <c:v>[70 -80[</c:v>
                </c:pt>
                <c:pt idx="9">
                  <c:v>[80 -90[</c:v>
                </c:pt>
                <c:pt idx="10">
                  <c:v>[90 – 100]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1"/>
                <c:pt idx="0">
                  <c:v>8</c:v>
                </c:pt>
                <c:pt idx="1">
                  <c:v>43</c:v>
                </c:pt>
                <c:pt idx="2">
                  <c:v>82</c:v>
                </c:pt>
                <c:pt idx="3">
                  <c:v>59</c:v>
                </c:pt>
                <c:pt idx="4">
                  <c:v>57</c:v>
                </c:pt>
                <c:pt idx="5">
                  <c:v>34</c:v>
                </c:pt>
                <c:pt idx="6">
                  <c:v>25</c:v>
                </c:pt>
                <c:pt idx="7">
                  <c:v>16</c:v>
                </c:pt>
                <c:pt idx="8">
                  <c:v>10</c:v>
                </c:pt>
                <c:pt idx="9">
                  <c:v>6</c:v>
                </c:pt>
                <c:pt idx="10">
                  <c:v>5</c:v>
                </c:pt>
              </c:numCache>
            </c:numRef>
          </c:val>
        </c:ser>
        <c:gapWidth val="4"/>
        <c:overlap val="40"/>
        <c:axId val="7514440"/>
        <c:axId val="5949062"/>
      </c:barChart>
      <c:catAx>
        <c:axId val="751444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untaje de cumplimiento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5949062"/>
        <c:crosses val="autoZero"/>
        <c:auto val="1"/>
        <c:lblAlgn val="ctr"/>
        <c:lblOffset val="100"/>
        <c:noMultiLvlLbl val="0"/>
      </c:catAx>
      <c:valAx>
        <c:axId val="5949062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1" lang="es-ES_tradnl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  <a:r>
                  <a:rPr b="1" lang="es-ES_tradnl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º de Municipios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751444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936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gradFill>
              <a:gsLst>
                <a:gs pos="0">
                  <a:srgbClr val="9b9cb1"/>
                </a:gs>
                <a:gs pos="100000">
                  <a:srgbClr val="c3c3ce"/>
                </a:gs>
              </a:gsLst>
              <a:lin ang="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lang="es-ES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4"/>
                <c:pt idx="0">
                  <c:v> 1.13: Participación en entidades</c:v>
                </c:pt>
                <c:pt idx="1">
                  <c:v> 1.10: Mecanismos de participación ciudadana</c:v>
                </c:pt>
                <c:pt idx="2">
                  <c:v>  1.12: Auditorías</c:v>
                </c:pt>
                <c:pt idx="3">
                  <c:v> 1.6: Transferencias</c:v>
                </c:pt>
                <c:pt idx="4">
                  <c:v> 1.4: Personal y Remun.</c:v>
                </c:pt>
                <c:pt idx="5">
                  <c:v> 1.1: Actos y Documentos D.O.</c:v>
                </c:pt>
                <c:pt idx="6">
                  <c:v> 1.3: Estructura orgánica </c:v>
                </c:pt>
                <c:pt idx="7">
                  <c:v> 1.11: Presupuesto</c:v>
                </c:pt>
                <c:pt idx="8">
                  <c:v> 1.8: Trámites</c:v>
                </c:pt>
                <c:pt idx="9">
                  <c:v> 1.9: Subsidios y Beneficios</c:v>
                </c:pt>
                <c:pt idx="10">
                  <c:v> 1.5: Contrataciones y compras</c:v>
                </c:pt>
                <c:pt idx="11">
                  <c:v> 1.2: Potestades y competencias</c:v>
                </c:pt>
                <c:pt idx="12">
                  <c:v> G: Aspectos Generales</c:v>
                </c:pt>
                <c:pt idx="13">
                  <c:v> 1.7: Actos y Res. con efectos Sobre Tercero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0.173900869565217</c:v>
                </c:pt>
                <c:pt idx="1">
                  <c:v>0.201857391304348</c:v>
                </c:pt>
                <c:pt idx="2">
                  <c:v>0.20212231884058</c:v>
                </c:pt>
                <c:pt idx="3">
                  <c:v>0.239420289855074</c:v>
                </c:pt>
                <c:pt idx="4">
                  <c:v>0.242223188405798</c:v>
                </c:pt>
                <c:pt idx="5">
                  <c:v>0.287457391304351</c:v>
                </c:pt>
                <c:pt idx="6">
                  <c:v>0.297101449275362</c:v>
                </c:pt>
                <c:pt idx="7">
                  <c:v>0.309284927536232</c:v>
                </c:pt>
                <c:pt idx="8">
                  <c:v>0.321288115942032</c:v>
                </c:pt>
                <c:pt idx="9">
                  <c:v>0.340344927536232</c:v>
                </c:pt>
                <c:pt idx="10">
                  <c:v>0.35966</c:v>
                </c:pt>
                <c:pt idx="11">
                  <c:v>0.368244637681159</c:v>
                </c:pt>
                <c:pt idx="12">
                  <c:v>0.427501449275364</c:v>
                </c:pt>
                <c:pt idx="13">
                  <c:v>0.460430724637681</c:v>
                </c:pt>
              </c:numCache>
            </c:numRef>
          </c:val>
        </c:ser>
        <c:gapWidth val="150"/>
        <c:overlap val="0"/>
        <c:axId val="61486922"/>
        <c:axId val="7226556"/>
      </c:barChart>
      <c:catAx>
        <c:axId val="61486922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" sz="105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7226556"/>
        <c:crosses val="autoZero"/>
        <c:auto val="1"/>
        <c:lblAlgn val="ctr"/>
        <c:lblOffset val="100"/>
        <c:noMultiLvlLbl val="0"/>
      </c:catAx>
      <c:valAx>
        <c:axId val="7226556"/>
        <c:scaling>
          <c:orientation val="minMax"/>
        </c:scaling>
        <c:delete val="0"/>
        <c:axPos val="l"/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" sz="105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61486922"/>
        <c:crosses val="autoZero"/>
        <c:crossBetween val="between"/>
        <c:majorUnit val="0.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4_2">
  <dgm:title val=""/>
  <dgm:desc val=""/>
  <dgm:catLst>
    <dgm:cat type="accent4" pri="112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lnNode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8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FDDAEF9-4E05-48DF-A788-18FE2133B8BF}" type="doc">
      <dgm:prSet loTypeId="urn:microsoft.com/office/officeart/2005/8/layout/hProcess4" loCatId="process" qsTypeId="urn:microsoft.com/office/officeart/2005/8/quickstyle/simple5" qsCatId="simple" csTypeId="urn:microsoft.com/office/officeart/2005/8/colors/accent1_2" csCatId="accent1" phldr="1"/>
      <dgm:spPr/>
    </dgm:pt>
    <dgm:pt modelId="{101BD353-B031-4FD1-BC68-3A18FAE6E28A}">
      <dgm:prSet phldrT="[Texto]" custT="1"/>
      <dgm:spPr>
        <a:xfrm>
          <a:off x="259811" y="2924607"/>
          <a:ext cx="1025969" cy="407994"/>
        </a:xfrm>
        <a:solidFill>
          <a:srgbClr val="C7D7F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chemeClr val="tx1">
                  <a:lumMod val="50000"/>
                  <a:lumOff val="50000"/>
                </a:schemeClr>
              </a:solidFill>
              <a:latin typeface="Calibri"/>
              <a:ea typeface="+mn-ea"/>
              <a:cs typeface="+mn-cs"/>
            </a:rPr>
            <a:t>Necesidad Normativa</a:t>
          </a:r>
          <a:endParaRPr lang="es-ES" sz="1300" b="1" dirty="0">
            <a:solidFill>
              <a:schemeClr val="tx1">
                <a:lumMod val="50000"/>
                <a:lumOff val="50000"/>
              </a:schemeClr>
            </a:solidFill>
            <a:latin typeface="Calibri"/>
            <a:ea typeface="+mn-ea"/>
            <a:cs typeface="+mn-cs"/>
          </a:endParaRPr>
        </a:p>
      </dgm:t>
    </dgm:pt>
    <dgm:pt modelId="{01EE17CA-5D1C-45F2-80DD-9311B1D22594}" type="parTrans" cxnId="{3545CEB2-AAEF-43AD-AD4D-9AA868CCCC7A}">
      <dgm:prSet/>
      <dgm:spPr/>
      <dgm:t>
        <a:bodyPr/>
        <a:lstStyle/>
        <a:p>
          <a:endParaRPr lang="es-ES" sz="2400"/>
        </a:p>
      </dgm:t>
    </dgm:pt>
    <dgm:pt modelId="{7C13E593-F175-40A8-B34F-51D959072528}" type="sibTrans" cxnId="{3545CEB2-AAEF-43AD-AD4D-9AA868CCCC7A}">
      <dgm:prSet/>
      <dgm:spPr>
        <a:xfrm>
          <a:off x="658286" y="2289640"/>
          <a:ext cx="1450798" cy="1450798"/>
        </a:xfr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 dirty="0"/>
        </a:p>
      </dgm:t>
    </dgm:pt>
    <dgm:pt modelId="{BD911B32-D779-478C-BF79-D9DA5D12E095}">
      <dgm:prSet phldrT="[Texto]" custT="1"/>
      <dgm:spPr>
        <a:xfrm>
          <a:off x="1913083" y="1849857"/>
          <a:ext cx="1019270" cy="581147"/>
        </a:xfrm>
        <a:solidFill>
          <a:srgbClr val="78A6DE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chemeClr val="bg1"/>
              </a:solidFill>
              <a:latin typeface="Calibri"/>
              <a:ea typeface="+mn-ea"/>
              <a:cs typeface="+mn-cs"/>
            </a:rPr>
            <a:t>Instrucción general  sobre TA</a:t>
          </a:r>
          <a:endParaRPr lang="es-ES" sz="1300" b="1" dirty="0">
            <a:solidFill>
              <a:schemeClr val="bg1"/>
            </a:solidFill>
            <a:latin typeface="Calibri"/>
            <a:ea typeface="+mn-ea"/>
            <a:cs typeface="+mn-cs"/>
          </a:endParaRPr>
        </a:p>
      </dgm:t>
    </dgm:pt>
    <dgm:pt modelId="{7B9A9D62-7B36-4831-8BEA-F44084D5E9CC}" type="parTrans" cxnId="{3F96EC76-9A61-4904-8474-EE9846F065D5}">
      <dgm:prSet/>
      <dgm:spPr/>
      <dgm:t>
        <a:bodyPr/>
        <a:lstStyle/>
        <a:p>
          <a:endParaRPr lang="es-ES" sz="2400"/>
        </a:p>
      </dgm:t>
    </dgm:pt>
    <dgm:pt modelId="{FC0364A1-7140-4E53-AC1F-9735E9C9FAEB}" type="sibTrans" cxnId="{3F96EC76-9A61-4904-8474-EE9846F065D5}">
      <dgm:prSet/>
      <dgm:spPr>
        <a:xfrm>
          <a:off x="2271895" y="1507358"/>
          <a:ext cx="1440588" cy="1440588"/>
        </a:xfr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89561D36-7195-4154-A09B-81AAC6AD4039}">
      <dgm:prSet phldrT="[Texto]" custT="1"/>
      <dgm:spPr>
        <a:xfrm>
          <a:off x="3324158" y="2803111"/>
          <a:ext cx="1196845" cy="569988"/>
        </a:xfrm>
        <a:gradFill rotWithShape="0">
          <a:gsLst>
            <a:gs pos="0">
              <a:srgbClr val="4F81BD"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2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Construcción Herramienta de Fiscalización</a:t>
          </a:r>
          <a:endParaRPr lang="es-ES" sz="12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897043FC-BF9B-4415-A3A4-AB0D5A68538A}" type="parTrans" cxnId="{76C9D053-817D-446B-8EF3-7E7BC445B03D}">
      <dgm:prSet/>
      <dgm:spPr/>
      <dgm:t>
        <a:bodyPr/>
        <a:lstStyle/>
        <a:p>
          <a:endParaRPr lang="es-ES" sz="2400"/>
        </a:p>
      </dgm:t>
    </dgm:pt>
    <dgm:pt modelId="{2F31CE0A-421B-46D0-869A-FF63D3B26822}" type="sibTrans" cxnId="{76C9D053-817D-446B-8EF3-7E7BC445B03D}">
      <dgm:prSet/>
      <dgm:spPr>
        <a:xfrm>
          <a:off x="3792174" y="2381284"/>
          <a:ext cx="1325466" cy="1325466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E20E0091-456B-45D4-A6D1-2F677AE01ADD}">
      <dgm:prSet custT="1"/>
      <dgm:spPr>
        <a:xfrm>
          <a:off x="6384359" y="2924607"/>
          <a:ext cx="1025969" cy="407994"/>
        </a:xfrm>
        <a:solidFill>
          <a:srgbClr val="0000FF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Fiscalización</a:t>
          </a:r>
          <a:endParaRPr lang="es-ES" sz="13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1BCA64F6-18A5-476E-9DE1-E03963B16BCE}" type="parTrans" cxnId="{E67B2F2E-30E0-47D8-A120-AFAB25569CDB}">
      <dgm:prSet/>
      <dgm:spPr/>
      <dgm:t>
        <a:bodyPr/>
        <a:lstStyle/>
        <a:p>
          <a:endParaRPr lang="es-ES" sz="2400"/>
        </a:p>
      </dgm:t>
    </dgm:pt>
    <dgm:pt modelId="{F6B68279-4D28-45A7-A2BA-DE9638CE1A79}" type="sibTrans" cxnId="{E67B2F2E-30E0-47D8-A120-AFAB25569CDB}">
      <dgm:prSet/>
      <dgm:spPr>
        <a:xfrm>
          <a:off x="6785278" y="2434854"/>
          <a:ext cx="1226346" cy="1226346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76A9AAA3-D827-4E03-8D88-F1047D8D130F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Focus</a:t>
          </a:r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 </a:t>
          </a:r>
          <a:r>
            <a:rPr lang="es-CL" sz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Group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15063AB2-4476-491A-A8F9-91212929F7C3}" type="parTrans" cxnId="{14D1C88E-42E0-41C8-994C-1A9E449FA82B}">
      <dgm:prSet/>
      <dgm:spPr/>
      <dgm:t>
        <a:bodyPr/>
        <a:lstStyle/>
        <a:p>
          <a:endParaRPr lang="es-ES" sz="2400"/>
        </a:p>
      </dgm:t>
    </dgm:pt>
    <dgm:pt modelId="{4D6B8AB0-A8D5-4D86-B46D-73E8DABF7E9D}" type="sibTrans" cxnId="{14D1C88E-42E0-41C8-994C-1A9E449FA82B}">
      <dgm:prSet/>
      <dgm:spPr/>
      <dgm:t>
        <a:bodyPr/>
        <a:lstStyle/>
        <a:p>
          <a:endParaRPr lang="es-ES" sz="2400"/>
        </a:p>
      </dgm:t>
    </dgm:pt>
    <dgm:pt modelId="{A09625BC-D79E-4F92-93AD-06F812BAF1E9}">
      <dgm:prSet custT="1"/>
      <dgm:spPr>
        <a:xfrm>
          <a:off x="7829022" y="1972620"/>
          <a:ext cx="1025969" cy="407994"/>
        </a:xfrm>
        <a:solidFill>
          <a:srgbClr val="00B050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4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Resultados</a:t>
          </a:r>
          <a:endParaRPr lang="es-ES" sz="14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1F2F2772-F53F-446B-A4C5-9DCD996BE810}" type="parTrans" cxnId="{19A3F4BA-7A9A-490A-AEE8-45CDEA2251E2}">
      <dgm:prSet/>
      <dgm:spPr/>
      <dgm:t>
        <a:bodyPr/>
        <a:lstStyle/>
        <a:p>
          <a:endParaRPr lang="es-ES" sz="2400"/>
        </a:p>
      </dgm:t>
    </dgm:pt>
    <dgm:pt modelId="{0FC1FA01-05D6-4C07-AFB8-C580332E6AEA}" type="sibTrans" cxnId="{19A3F4BA-7A9A-490A-AEE8-45CDEA2251E2}">
      <dgm:prSet/>
      <dgm:spPr/>
      <dgm:t>
        <a:bodyPr/>
        <a:lstStyle/>
        <a:p>
          <a:endParaRPr lang="es-ES" sz="2400"/>
        </a:p>
      </dgm:t>
    </dgm:pt>
    <dgm:pt modelId="{9AD29AA7-27AA-48F9-9603-2F14577A311E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Taller expertos</a:t>
          </a:r>
        </a:p>
      </dgm:t>
    </dgm:pt>
    <dgm:pt modelId="{BA1F3CDC-ECBA-46D8-8C3C-630571FD256C}" type="parTrans" cxnId="{12DE1507-4B5F-4A08-8DC1-967396DFB2FA}">
      <dgm:prSet/>
      <dgm:spPr/>
      <dgm:t>
        <a:bodyPr/>
        <a:lstStyle/>
        <a:p>
          <a:endParaRPr lang="es-ES" sz="2400"/>
        </a:p>
      </dgm:t>
    </dgm:pt>
    <dgm:pt modelId="{E0B9819B-D98B-45A4-BE24-26AA27F2DDFC}" type="sibTrans" cxnId="{12DE1507-4B5F-4A08-8DC1-967396DFB2FA}">
      <dgm:prSet/>
      <dgm:spPr/>
      <dgm:t>
        <a:bodyPr/>
        <a:lstStyle/>
        <a:p>
          <a:endParaRPr lang="es-ES" sz="2400"/>
        </a:p>
      </dgm:t>
    </dgm:pt>
    <dgm:pt modelId="{68C1D841-7BB2-4AB1-88A6-A70CDED7548B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Consulta Pública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EEAA913C-807D-4D5E-BC07-F1D43DDDCE87}" type="parTrans" cxnId="{BCB1EB76-68A2-46BF-A6AA-0BE6638A0428}">
      <dgm:prSet/>
      <dgm:spPr/>
      <dgm:t>
        <a:bodyPr/>
        <a:lstStyle/>
        <a:p>
          <a:endParaRPr lang="es-ES" sz="2400"/>
        </a:p>
      </dgm:t>
    </dgm:pt>
    <dgm:pt modelId="{99A10623-D44D-4731-BA68-724AA410C610}" type="sibTrans" cxnId="{BCB1EB76-68A2-46BF-A6AA-0BE6638A0428}">
      <dgm:prSet/>
      <dgm:spPr/>
      <dgm:t>
        <a:bodyPr/>
        <a:lstStyle/>
        <a:p>
          <a:endParaRPr lang="es-ES" sz="2400"/>
        </a:p>
      </dgm:t>
    </dgm:pt>
    <dgm:pt modelId="{4A3B652C-4DE9-4C2C-901B-BCAB8257A8A7}">
      <dgm:prSet custT="1"/>
      <dgm:spPr>
        <a:xfrm>
          <a:off x="3319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800" dirty="0" smtClean="0">
              <a:solidFill>
                <a:sysClr val="windowText" lastClr="000000">
                  <a:hueOff val="0"/>
                  <a:satOff val="0"/>
                  <a:lumOff val="0"/>
                  <a:alphaOff val="0"/>
                </a:sysClr>
              </a:solidFill>
              <a:latin typeface="Calibri"/>
              <a:ea typeface="+mn-ea"/>
              <a:cs typeface="+mn-cs"/>
            </a:rPr>
            <a:t>Ley 20.285</a:t>
          </a:r>
          <a:endParaRPr lang="es-ES" sz="1800" dirty="0">
            <a:solidFill>
              <a:sysClr val="windowText" lastClr="000000">
                <a:hueOff val="0"/>
                <a:satOff val="0"/>
                <a:lumOff val="0"/>
                <a:alphaOff val="0"/>
              </a:sysClr>
            </a:solidFill>
            <a:latin typeface="Calibri"/>
            <a:ea typeface="+mn-ea"/>
            <a:cs typeface="+mn-cs"/>
          </a:endParaRPr>
        </a:p>
      </dgm:t>
    </dgm:pt>
    <dgm:pt modelId="{DAE55C9A-5178-4AC8-94B4-CE8BA9E408DC}" type="parTrans" cxnId="{049FA14E-2853-446E-8FE6-0FAA19CF76F4}">
      <dgm:prSet/>
      <dgm:spPr/>
      <dgm:t>
        <a:bodyPr/>
        <a:lstStyle/>
        <a:p>
          <a:endParaRPr lang="es-ES" sz="2400"/>
        </a:p>
      </dgm:t>
    </dgm:pt>
    <dgm:pt modelId="{151E15AA-A1B7-4E27-BC35-94C67232A6C4}" type="sibTrans" cxnId="{049FA14E-2853-446E-8FE6-0FAA19CF76F4}">
      <dgm:prSet/>
      <dgm:spPr/>
      <dgm:t>
        <a:bodyPr/>
        <a:lstStyle/>
        <a:p>
          <a:endParaRPr lang="es-ES" sz="2400"/>
        </a:p>
      </dgm:t>
    </dgm:pt>
    <dgm:pt modelId="{D55653A9-C123-4D86-A419-7D7429D33348}">
      <dgm:prSet/>
      <dgm:spPr>
        <a:xfrm>
          <a:off x="6127867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Ponderador ciudadano</a:t>
          </a:r>
          <a:endParaRPr lang="es-ES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DA27A97E-D99A-4926-A23F-4F46E8CAE3B7}" type="parTrans" cxnId="{4063709D-80BD-448B-9CD4-1D34DFE71545}">
      <dgm:prSet/>
      <dgm:spPr/>
      <dgm:t>
        <a:bodyPr/>
        <a:lstStyle/>
        <a:p>
          <a:endParaRPr lang="es-ES"/>
        </a:p>
      </dgm:t>
    </dgm:pt>
    <dgm:pt modelId="{D436A50D-4D13-4ACD-B0C2-B7A8C9CDD4E2}" type="sibTrans" cxnId="{4063709D-80BD-448B-9CD4-1D34DFE71545}">
      <dgm:prSet/>
      <dgm:spPr/>
      <dgm:t>
        <a:bodyPr/>
        <a:lstStyle/>
        <a:p>
          <a:endParaRPr lang="es-ES"/>
        </a:p>
      </dgm:t>
    </dgm:pt>
    <dgm:pt modelId="{97CC74FE-536C-42B1-86A9-83719C894910}">
      <dgm:prSet/>
      <dgm:spPr>
        <a:xfrm>
          <a:off x="6127867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ón Instituciones</a:t>
          </a:r>
          <a:endParaRPr lang="es-ES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8F1969E0-153C-4C5D-8D11-0D6C9846DB69}" type="parTrans" cxnId="{26EC0F8A-8F43-4076-A903-1647B4639F4A}">
      <dgm:prSet/>
      <dgm:spPr/>
      <dgm:t>
        <a:bodyPr/>
        <a:lstStyle/>
        <a:p>
          <a:endParaRPr lang="es-ES"/>
        </a:p>
      </dgm:t>
    </dgm:pt>
    <dgm:pt modelId="{A0633C2C-B312-455A-8FD4-D3EE0113A614}" type="sibTrans" cxnId="{26EC0F8A-8F43-4076-A903-1647B4639F4A}">
      <dgm:prSet/>
      <dgm:spPr/>
      <dgm:t>
        <a:bodyPr/>
        <a:lstStyle/>
        <a:p>
          <a:endParaRPr lang="es-ES"/>
        </a:p>
      </dgm:t>
    </dgm:pt>
    <dgm:pt modelId="{04E38FF7-CF21-4BB5-863A-0EAEBF7BCE4D}">
      <dgm:prSet/>
      <dgm:spPr>
        <a:xfrm>
          <a:off x="7572530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0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Retroalimentación</a:t>
          </a:r>
          <a:endParaRPr lang="es-ES" sz="10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5EDE1BB6-C1CE-4CD7-9FB0-D40771563D70}" type="parTrans" cxnId="{C04302C9-C994-4883-A451-1FFDE316F927}">
      <dgm:prSet/>
      <dgm:spPr/>
      <dgm:t>
        <a:bodyPr/>
        <a:lstStyle/>
        <a:p>
          <a:endParaRPr lang="es-ES"/>
        </a:p>
      </dgm:t>
    </dgm:pt>
    <dgm:pt modelId="{D2257AAB-63D4-44B2-A073-75C61329D5DA}" type="sibTrans" cxnId="{C04302C9-C994-4883-A451-1FFDE316F927}">
      <dgm:prSet/>
      <dgm:spPr/>
      <dgm:t>
        <a:bodyPr/>
        <a:lstStyle/>
        <a:p>
          <a:endParaRPr lang="es-ES"/>
        </a:p>
      </dgm:t>
    </dgm:pt>
    <dgm:pt modelId="{A870578C-F12C-4E49-9899-BF107ED61FFD}">
      <dgm:prSet custT="1"/>
      <dgm:spPr>
        <a:xfrm>
          <a:off x="3153104" y="2136119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Usabilidad y accesibilidad 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79003357-0711-45AF-98E2-6192566D2F68}" type="parTrans" cxnId="{318D3341-C66D-4C2D-A4B2-B50634D8FF82}">
      <dgm:prSet/>
      <dgm:spPr/>
      <dgm:t>
        <a:bodyPr/>
        <a:lstStyle/>
        <a:p>
          <a:endParaRPr lang="es-ES"/>
        </a:p>
      </dgm:t>
    </dgm:pt>
    <dgm:pt modelId="{30939650-1921-43BF-AAF6-0DBA1A4F2CD9}" type="sibTrans" cxnId="{318D3341-C66D-4C2D-A4B2-B50634D8FF82}">
      <dgm:prSet/>
      <dgm:spPr/>
      <dgm:t>
        <a:bodyPr/>
        <a:lstStyle/>
        <a:p>
          <a:endParaRPr lang="es-ES"/>
        </a:p>
      </dgm:t>
    </dgm:pt>
    <dgm:pt modelId="{6B6AE68E-5B2C-4576-810B-0FE33C8D18A8}">
      <dgm:prSet/>
      <dgm:spPr>
        <a:xfrm>
          <a:off x="4939697" y="1972620"/>
          <a:ext cx="1025969" cy="407994"/>
        </a:xfrm>
        <a:solidFill>
          <a:srgbClr val="2950F7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Auto Evaluación</a:t>
          </a:r>
          <a:endParaRPr lang="es-ES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8F8251FE-1E4D-4777-B7EF-E8620780E106}" type="parTrans" cxnId="{E5E61B98-289B-4859-9CCF-74E9D4FD14D2}">
      <dgm:prSet/>
      <dgm:spPr/>
      <dgm:t>
        <a:bodyPr/>
        <a:lstStyle/>
        <a:p>
          <a:endParaRPr lang="es-ES"/>
        </a:p>
      </dgm:t>
    </dgm:pt>
    <dgm:pt modelId="{7A604F6F-C763-494A-B91D-3E3AF1C46F3B}" type="sibTrans" cxnId="{E5E61B98-289B-4859-9CCF-74E9D4FD14D2}">
      <dgm:prSet/>
      <dgm:spPr>
        <a:xfrm>
          <a:off x="5330996" y="1606694"/>
          <a:ext cx="1373829" cy="1373829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/>
        </a:p>
      </dgm:t>
    </dgm:pt>
    <dgm:pt modelId="{EDF387B3-7786-4B48-A722-9197007A8FA3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87321A3A-0F21-415E-A316-286D7C7F45E2}" type="parTrans" cxnId="{742DE6A0-E550-46E1-AD0D-6B9297CAD3C1}">
      <dgm:prSet/>
      <dgm:spPr/>
      <dgm:t>
        <a:bodyPr/>
        <a:lstStyle/>
        <a:p>
          <a:endParaRPr lang="es-ES"/>
        </a:p>
      </dgm:t>
    </dgm:pt>
    <dgm:pt modelId="{064DBD9D-DF4A-4D34-9300-EE03E23F085D}" type="sibTrans" cxnId="{742DE6A0-E550-46E1-AD0D-6B9297CAD3C1}">
      <dgm:prSet/>
      <dgm:spPr/>
      <dgm:t>
        <a:bodyPr/>
        <a:lstStyle/>
        <a:p>
          <a:endParaRPr lang="es-ES"/>
        </a:p>
      </dgm:t>
    </dgm:pt>
    <dgm:pt modelId="{D43523A3-FD40-48DA-AA1B-7A353884DA38}">
      <dgm:prSet/>
      <dgm:spPr>
        <a:xfrm>
          <a:off x="4683204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0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ones</a:t>
          </a:r>
          <a:endParaRPr lang="es-ES" sz="10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623789B7-42A6-4536-9C27-042BBFFB036C}" type="parTrans" cxnId="{97058F82-2A00-46FF-8011-A38E7CA5A2C0}">
      <dgm:prSet/>
      <dgm:spPr/>
      <dgm:t>
        <a:bodyPr/>
        <a:lstStyle/>
        <a:p>
          <a:endParaRPr lang="es-ES"/>
        </a:p>
      </dgm:t>
    </dgm:pt>
    <dgm:pt modelId="{E5E6AE40-9E1B-4B04-BFA1-B11344EB49F8}" type="sibTrans" cxnId="{97058F82-2A00-46FF-8011-A38E7CA5A2C0}">
      <dgm:prSet/>
      <dgm:spPr/>
      <dgm:t>
        <a:bodyPr/>
        <a:lstStyle/>
        <a:p>
          <a:endParaRPr lang="es-ES"/>
        </a:p>
      </dgm:t>
    </dgm:pt>
    <dgm:pt modelId="{E906FC48-87C6-4EC1-86F0-DA6112B87CCE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ES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Encuesta Nacional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BA0157A6-6383-4954-AAD1-1E708DBD0C18}" type="parTrans" cxnId="{666DB3DE-9FB4-4863-9BCB-121F47B31776}">
      <dgm:prSet/>
      <dgm:spPr/>
      <dgm:t>
        <a:bodyPr/>
        <a:lstStyle/>
        <a:p>
          <a:endParaRPr lang="es-CL"/>
        </a:p>
      </dgm:t>
    </dgm:pt>
    <dgm:pt modelId="{2DAF63AE-8037-4F5E-A8D6-50A029604230}" type="sibTrans" cxnId="{666DB3DE-9FB4-4863-9BCB-121F47B31776}">
      <dgm:prSet/>
      <dgm:spPr/>
      <dgm:t>
        <a:bodyPr/>
        <a:lstStyle/>
        <a:p>
          <a:endParaRPr lang="es-CL"/>
        </a:p>
      </dgm:t>
    </dgm:pt>
    <dgm:pt modelId="{1834CB59-1698-4C2E-AF92-A59DB6AF5969}">
      <dgm:prSet custT="1"/>
      <dgm:spPr>
        <a:xfrm>
          <a:off x="4683204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6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91F783C8-0AA6-4DF5-8E51-579913769930}" type="parTrans" cxnId="{A748FBEF-02F8-41B6-A6A1-5A9B27160D25}">
      <dgm:prSet/>
      <dgm:spPr/>
      <dgm:t>
        <a:bodyPr/>
        <a:lstStyle/>
        <a:p>
          <a:endParaRPr lang="es-ES"/>
        </a:p>
      </dgm:t>
    </dgm:pt>
    <dgm:pt modelId="{760DBB73-6951-4411-B5E8-6CAFEC2D5C56}" type="sibTrans" cxnId="{A748FBEF-02F8-41B6-A6A1-5A9B27160D25}">
      <dgm:prSet/>
      <dgm:spPr/>
      <dgm:t>
        <a:bodyPr/>
        <a:lstStyle/>
        <a:p>
          <a:endParaRPr lang="es-ES"/>
        </a:p>
      </dgm:t>
    </dgm:pt>
    <dgm:pt modelId="{0AC41CF8-C33E-490A-851F-A4A3719A9AC5}">
      <dgm:prSet custT="1"/>
      <dgm:spPr>
        <a:xfrm>
          <a:off x="7572530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6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34FB31F1-A44D-4BD2-A2C7-2036FA74D675}" type="parTrans" cxnId="{A065BDC5-56AB-4438-BCAD-008EF5A79D88}">
      <dgm:prSet/>
      <dgm:spPr/>
      <dgm:t>
        <a:bodyPr/>
        <a:lstStyle/>
        <a:p>
          <a:endParaRPr lang="es-ES"/>
        </a:p>
      </dgm:t>
    </dgm:pt>
    <dgm:pt modelId="{F159B654-BAB9-45DA-9A1E-054C36386A86}" type="sibTrans" cxnId="{A065BDC5-56AB-4438-BCAD-008EF5A79D88}">
      <dgm:prSet/>
      <dgm:spPr/>
      <dgm:t>
        <a:bodyPr/>
        <a:lstStyle/>
        <a:p>
          <a:endParaRPr lang="es-ES"/>
        </a:p>
      </dgm:t>
    </dgm:pt>
    <dgm:pt modelId="{2F3FFAAA-BE3E-4647-858E-19FE79DC5251}" type="pres">
      <dgm:prSet presAssocID="{5FDDAEF9-4E05-48DF-A788-18FE2133B8BF}" presName="Name0" presStyleCnt="0">
        <dgm:presLayoutVars>
          <dgm:dir/>
          <dgm:animLvl val="lvl"/>
          <dgm:resizeHandles val="exact"/>
        </dgm:presLayoutVars>
      </dgm:prSet>
      <dgm:spPr/>
    </dgm:pt>
    <dgm:pt modelId="{7A2EDC57-1738-4DA9-9E9A-9F54C9E86CFC}" type="pres">
      <dgm:prSet presAssocID="{5FDDAEF9-4E05-48DF-A788-18FE2133B8BF}" presName="tSp" presStyleCnt="0"/>
      <dgm:spPr/>
    </dgm:pt>
    <dgm:pt modelId="{3C01A0DA-4546-40EE-9844-34F37A0548AE}" type="pres">
      <dgm:prSet presAssocID="{5FDDAEF9-4E05-48DF-A788-18FE2133B8BF}" presName="bSp" presStyleCnt="0"/>
      <dgm:spPr/>
    </dgm:pt>
    <dgm:pt modelId="{8057042A-F6FC-414A-A55B-16D0D57BCBB0}" type="pres">
      <dgm:prSet presAssocID="{5FDDAEF9-4E05-48DF-A788-18FE2133B8BF}" presName="process" presStyleCnt="0"/>
      <dgm:spPr/>
    </dgm:pt>
    <dgm:pt modelId="{A02EF168-37C9-4295-B587-0CDE8CA68F91}" type="pres">
      <dgm:prSet presAssocID="{101BD353-B031-4FD1-BC68-3A18FAE6E28A}" presName="composite1" presStyleCnt="0"/>
      <dgm:spPr/>
    </dgm:pt>
    <dgm:pt modelId="{04A76635-7E83-4411-881D-90D07805B978}" type="pres">
      <dgm:prSet presAssocID="{101BD353-B031-4FD1-BC68-3A18FAE6E28A}" presName="dummyNode1" presStyleLbl="node1" presStyleIdx="0" presStyleCnt="6"/>
      <dgm:spPr/>
    </dgm:pt>
    <dgm:pt modelId="{3A141D5C-5918-4BA0-8A33-7F4036F02B67}" type="pres">
      <dgm:prSet presAssocID="{101BD353-B031-4FD1-BC68-3A18FAE6E28A}" presName="childNode1" presStyleLbl="bgAcc1" presStyleIdx="0" presStyleCnt="6" custLinFactNeighborX="7288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D1F81683-00EE-4528-9E5F-952720D5C422}" type="pres">
      <dgm:prSet presAssocID="{101BD353-B031-4FD1-BC68-3A18FAE6E28A}" presName="childNode1tx" presStyleLbl="bgAcc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5512D4F8-B3E2-4834-9DC3-CE3DB0FDD805}" type="pres">
      <dgm:prSet presAssocID="{101BD353-B031-4FD1-BC68-3A18FAE6E28A}" presName="parentNode1" presStyleLbl="node1" presStyleIdx="0" presStyleCnt="6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1A302247-DF39-4192-815B-0A7D12982FB9}" type="pres">
      <dgm:prSet presAssocID="{101BD353-B031-4FD1-BC68-3A18FAE6E28A}" presName="connSite1" presStyleCnt="0"/>
      <dgm:spPr/>
    </dgm:pt>
    <dgm:pt modelId="{1F70468B-4A50-45C9-A20C-B6C7DBF38602}" type="pres">
      <dgm:prSet presAssocID="{7C13E593-F175-40A8-B34F-51D959072528}" presName="Name9" presStyleLbl="sibTrans2D1" presStyleIdx="0" presStyleCnt="5"/>
      <dgm:spPr>
        <a:prstGeom prst="leftCircularArrow">
          <a:avLst>
            <a:gd name="adj1" fmla="val 2348"/>
            <a:gd name="adj2" fmla="val 283540"/>
            <a:gd name="adj3" fmla="val 2186542"/>
            <a:gd name="adj4" fmla="val 9151980"/>
            <a:gd name="adj5" fmla="val 2739"/>
          </a:avLst>
        </a:prstGeom>
      </dgm:spPr>
      <dgm:t>
        <a:bodyPr/>
        <a:lstStyle/>
        <a:p>
          <a:endParaRPr lang="es-ES"/>
        </a:p>
      </dgm:t>
    </dgm:pt>
    <dgm:pt modelId="{12A27272-09E9-4781-93B4-CD1E87DBC0ED}" type="pres">
      <dgm:prSet presAssocID="{BD911B32-D779-478C-BF79-D9DA5D12E095}" presName="composite2" presStyleCnt="0"/>
      <dgm:spPr/>
    </dgm:pt>
    <dgm:pt modelId="{DCC70EE8-4C39-466C-82F0-3B3974B1C586}" type="pres">
      <dgm:prSet presAssocID="{BD911B32-D779-478C-BF79-D9DA5D12E095}" presName="dummyNode2" presStyleLbl="node1" presStyleIdx="0" presStyleCnt="6"/>
      <dgm:spPr/>
    </dgm:pt>
    <dgm:pt modelId="{BF9ABE7F-57D7-4435-9561-88D4011225D1}" type="pres">
      <dgm:prSet presAssocID="{BD911B32-D779-478C-BF79-D9DA5D12E095}" presName="childNode2" presStyleLbl="bgAcc1" presStyleIdx="1" presStyleCnt="6" custScaleX="133677" custScaleY="13257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8CF34882-E20A-4B5B-880A-01E9EBBAAD30}" type="pres">
      <dgm:prSet presAssocID="{BD911B32-D779-478C-BF79-D9DA5D12E095}" presName="childNode2tx" presStyleLbl="bgAcc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428D54F-F5AE-4D15-91E9-A5C08A2DC041}" type="pres">
      <dgm:prSet presAssocID="{BD911B32-D779-478C-BF79-D9DA5D12E095}" presName="parentNode2" presStyleLbl="node1" presStyleIdx="1" presStyleCnt="6" custScaleX="99347" custScaleY="142440" custLinFactNeighborX="1063" custLinFactNeighborY="-19208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0C21BE4E-76C7-45E6-A49B-E522C8E570BF}" type="pres">
      <dgm:prSet presAssocID="{BD911B32-D779-478C-BF79-D9DA5D12E095}" presName="connSite2" presStyleCnt="0"/>
      <dgm:spPr/>
    </dgm:pt>
    <dgm:pt modelId="{DB180D09-083B-4F53-A176-7F32C2682FE0}" type="pres">
      <dgm:prSet presAssocID="{FC0364A1-7140-4E53-AC1F-9735E9C9FAEB}" presName="Name18" presStyleLbl="sibTrans2D1" presStyleIdx="1" presStyleCnt="5"/>
      <dgm:spPr>
        <a:prstGeom prst="circularArrow">
          <a:avLst>
            <a:gd name="adj1" fmla="val 2364"/>
            <a:gd name="adj2" fmla="val 285659"/>
            <a:gd name="adj3" fmla="val 19776970"/>
            <a:gd name="adj4" fmla="val 12813651"/>
            <a:gd name="adj5" fmla="val 2759"/>
          </a:avLst>
        </a:prstGeom>
      </dgm:spPr>
      <dgm:t>
        <a:bodyPr/>
        <a:lstStyle/>
        <a:p>
          <a:endParaRPr lang="es-ES"/>
        </a:p>
      </dgm:t>
    </dgm:pt>
    <dgm:pt modelId="{19F254EB-B882-406A-98AF-833D5CC480C5}" type="pres">
      <dgm:prSet presAssocID="{89561D36-7195-4154-A09B-81AAC6AD4039}" presName="composite1" presStyleCnt="0"/>
      <dgm:spPr/>
    </dgm:pt>
    <dgm:pt modelId="{DE2B7744-6102-42EE-9BF1-896C2B5E08D3}" type="pres">
      <dgm:prSet presAssocID="{89561D36-7195-4154-A09B-81AAC6AD4039}" presName="dummyNode1" presStyleLbl="node1" presStyleIdx="1" presStyleCnt="6"/>
      <dgm:spPr/>
    </dgm:pt>
    <dgm:pt modelId="{2B61E0ED-F3E7-4BA5-ADEF-7A7E4B4A456B}" type="pres">
      <dgm:prSet presAssocID="{89561D36-7195-4154-A09B-81AAC6AD4039}" presName="childNode1" presStyleLbl="bgAcc1" presStyleIdx="2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6CAF491B-F352-4C7D-87F3-E205CD07298D}" type="pres">
      <dgm:prSet presAssocID="{89561D36-7195-4154-A09B-81AAC6AD4039}" presName="childNode1tx" presStyleLbl="bgAcc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BDE1C365-1140-400C-96D0-3BFEF12B84AE}" type="pres">
      <dgm:prSet presAssocID="{89561D36-7195-4154-A09B-81AAC6AD4039}" presName="parentNode1" presStyleLbl="node1" presStyleIdx="2" presStyleCnt="6" custScaleX="116655" custScaleY="139705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38FD3185-0801-43AE-92C7-0FC884C2B771}" type="pres">
      <dgm:prSet presAssocID="{89561D36-7195-4154-A09B-81AAC6AD4039}" presName="connSite1" presStyleCnt="0"/>
      <dgm:spPr/>
    </dgm:pt>
    <dgm:pt modelId="{EC2866A4-B125-4F2A-BFD1-86FA15FD5111}" type="pres">
      <dgm:prSet presAssocID="{2F31CE0A-421B-46D0-869A-FF63D3B26822}" presName="Name9" presStyleLbl="sibTrans2D1" presStyleIdx="2" presStyleCnt="5"/>
      <dgm:spPr>
        <a:prstGeom prst="leftCircularArrow">
          <a:avLst>
            <a:gd name="adj1" fmla="val 2570"/>
            <a:gd name="adj2" fmla="val 311950"/>
            <a:gd name="adj3" fmla="val 1959516"/>
            <a:gd name="adj4" fmla="val 8896544"/>
            <a:gd name="adj5" fmla="val 2998"/>
          </a:avLst>
        </a:prstGeom>
      </dgm:spPr>
      <dgm:t>
        <a:bodyPr/>
        <a:lstStyle/>
        <a:p>
          <a:endParaRPr lang="es-ES"/>
        </a:p>
      </dgm:t>
    </dgm:pt>
    <dgm:pt modelId="{1D88A551-19EA-49B1-A37B-6EC0656FDFE8}" type="pres">
      <dgm:prSet presAssocID="{6B6AE68E-5B2C-4576-810B-0FE33C8D18A8}" presName="composite2" presStyleCnt="0"/>
      <dgm:spPr/>
    </dgm:pt>
    <dgm:pt modelId="{D7CC7088-1662-4577-815D-D77C27370C1F}" type="pres">
      <dgm:prSet presAssocID="{6B6AE68E-5B2C-4576-810B-0FE33C8D18A8}" presName="dummyNode2" presStyleLbl="node1" presStyleIdx="2" presStyleCnt="6"/>
      <dgm:spPr/>
    </dgm:pt>
    <dgm:pt modelId="{E423C7C0-95FF-4667-A854-8D4686B4CA7D}" type="pres">
      <dgm:prSet presAssocID="{6B6AE68E-5B2C-4576-810B-0FE33C8D18A8}" presName="childNode2" presStyleLbl="bgAcc1" presStyleIdx="3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810ED968-E049-4E22-9221-3F85BA05EB56}" type="pres">
      <dgm:prSet presAssocID="{6B6AE68E-5B2C-4576-810B-0FE33C8D18A8}" presName="childNode2tx" presStyleLbl="bgAcc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E6C73452-62D9-4791-AECB-E215143E70A8}" type="pres">
      <dgm:prSet presAssocID="{6B6AE68E-5B2C-4576-810B-0FE33C8D18A8}" presName="parentNode2" presStyleLbl="node1" presStyleIdx="3" presStyleCnt="6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B3AB4213-10D3-477B-9744-FB4138340C17}" type="pres">
      <dgm:prSet presAssocID="{6B6AE68E-5B2C-4576-810B-0FE33C8D18A8}" presName="connSite2" presStyleCnt="0"/>
      <dgm:spPr/>
    </dgm:pt>
    <dgm:pt modelId="{3212BFFE-11FE-479C-ADA9-31ABAEA1C6F7}" type="pres">
      <dgm:prSet presAssocID="{7A604F6F-C763-494A-B91D-3E3AF1C46F3B}" presName="Name18" presStyleLbl="sibTrans2D1" presStyleIdx="3" presStyleCnt="5"/>
      <dgm:spPr>
        <a:prstGeom prst="circularArrow">
          <a:avLst>
            <a:gd name="adj1" fmla="val 2479"/>
            <a:gd name="adj2" fmla="val 300337"/>
            <a:gd name="adj3" fmla="val 19524152"/>
            <a:gd name="adj4" fmla="val 12575511"/>
            <a:gd name="adj5" fmla="val 2893"/>
          </a:avLst>
        </a:prstGeom>
      </dgm:spPr>
      <dgm:t>
        <a:bodyPr/>
        <a:lstStyle/>
        <a:p>
          <a:endParaRPr lang="es-ES"/>
        </a:p>
      </dgm:t>
    </dgm:pt>
    <dgm:pt modelId="{D5A091F4-22A8-47C8-810C-E29C143AF4C6}" type="pres">
      <dgm:prSet presAssocID="{E20E0091-456B-45D4-A6D1-2F677AE01ADD}" presName="composite1" presStyleCnt="0"/>
      <dgm:spPr/>
    </dgm:pt>
    <dgm:pt modelId="{5D0CEA1B-A5EC-4C35-9768-9917F10B404B}" type="pres">
      <dgm:prSet presAssocID="{E20E0091-456B-45D4-A6D1-2F677AE01ADD}" presName="dummyNode1" presStyleLbl="node1" presStyleIdx="3" presStyleCnt="6"/>
      <dgm:spPr/>
    </dgm:pt>
    <dgm:pt modelId="{A328FD12-0C7D-4FE5-B579-092AEB4676B1}" type="pres">
      <dgm:prSet presAssocID="{E20E0091-456B-45D4-A6D1-2F677AE01ADD}" presName="childNode1" presStyleLbl="bgAcc1" presStyleIdx="4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22CC0B3E-598D-4502-9AB6-2DC83060F80C}" type="pres">
      <dgm:prSet presAssocID="{E20E0091-456B-45D4-A6D1-2F677AE01ADD}" presName="childNode1tx" presStyleLbl="bgAcc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8C42836E-6432-4CAB-A5D0-7CEA3CF08D8A}" type="pres">
      <dgm:prSet presAssocID="{E20E0091-456B-45D4-A6D1-2F677AE01ADD}" presName="parentNode1" presStyleLbl="node1" presStyleIdx="4" presStyleCnt="6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F63A4CCD-F166-4604-ADCF-4A7FB6B06A20}" type="pres">
      <dgm:prSet presAssocID="{E20E0091-456B-45D4-A6D1-2F677AE01ADD}" presName="connSite1" presStyleCnt="0"/>
      <dgm:spPr/>
    </dgm:pt>
    <dgm:pt modelId="{AFDD9E89-72C2-4567-8590-2A963FBE6F87}" type="pres">
      <dgm:prSet presAssocID="{F6B68279-4D28-45A7-A2BA-DE9638CE1A79}" presName="Name9" presStyleLbl="sibTrans2D1" presStyleIdx="4" presStyleCnt="5"/>
      <dgm:spPr>
        <a:prstGeom prst="leftCircularArrow">
          <a:avLst>
            <a:gd name="adj1" fmla="val 2778"/>
            <a:gd name="adj2" fmla="val 338799"/>
            <a:gd name="adj3" fmla="val 2114310"/>
            <a:gd name="adj4" fmla="val 9024489"/>
            <a:gd name="adj5" fmla="val 3240"/>
          </a:avLst>
        </a:prstGeom>
      </dgm:spPr>
      <dgm:t>
        <a:bodyPr/>
        <a:lstStyle/>
        <a:p>
          <a:endParaRPr lang="es-ES"/>
        </a:p>
      </dgm:t>
    </dgm:pt>
    <dgm:pt modelId="{94867DC3-79AC-4EC8-AC2E-B6CFBC3E7793}" type="pres">
      <dgm:prSet presAssocID="{A09625BC-D79E-4F92-93AD-06F812BAF1E9}" presName="composite2" presStyleCnt="0"/>
      <dgm:spPr/>
    </dgm:pt>
    <dgm:pt modelId="{9B68C03B-B2B8-4E68-9A4E-A3BF85596F86}" type="pres">
      <dgm:prSet presAssocID="{A09625BC-D79E-4F92-93AD-06F812BAF1E9}" presName="dummyNode2" presStyleLbl="node1" presStyleIdx="4" presStyleCnt="6"/>
      <dgm:spPr/>
    </dgm:pt>
    <dgm:pt modelId="{FFA2EBE0-7186-414E-8A3D-D60355655D50}" type="pres">
      <dgm:prSet presAssocID="{A09625BC-D79E-4F92-93AD-06F812BAF1E9}" presName="childNode2" presStyleLbl="bgAcc1" presStyleIdx="5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E42C4A58-E67A-40E7-A8DD-4DE865A7F91B}" type="pres">
      <dgm:prSet presAssocID="{A09625BC-D79E-4F92-93AD-06F812BAF1E9}" presName="childNode2tx" presStyleLbl="bgAcc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9BF5103-830A-456C-8500-08DC42C7B224}" type="pres">
      <dgm:prSet presAssocID="{A09625BC-D79E-4F92-93AD-06F812BAF1E9}" presName="parentNode2" presStyleLbl="node1" presStyleIdx="5" presStyleCnt="6" custLinFactNeighborX="-10240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691AA063-FE93-487D-A9D7-2094D2B40CCE}" type="pres">
      <dgm:prSet presAssocID="{A09625BC-D79E-4F92-93AD-06F812BAF1E9}" presName="connSite2" presStyleCnt="0"/>
      <dgm:spPr/>
    </dgm:pt>
  </dgm:ptLst>
  <dgm:cxnLst>
    <dgm:cxn modelId="{19A3F4BA-7A9A-490A-AEE8-45CDEA2251E2}" srcId="{5FDDAEF9-4E05-48DF-A788-18FE2133B8BF}" destId="{A09625BC-D79E-4F92-93AD-06F812BAF1E9}" srcOrd="5" destOrd="0" parTransId="{1F2F2772-F53F-446B-A4C5-9DCD996BE810}" sibTransId="{0FC1FA01-05D6-4C07-AFB8-C580332E6AEA}"/>
    <dgm:cxn modelId="{BCB1EB76-68A2-46BF-A6AA-0BE6638A0428}" srcId="{BD911B32-D779-478C-BF79-D9DA5D12E095}" destId="{68C1D841-7BB2-4AB1-88A6-A70CDED7548B}" srcOrd="3" destOrd="0" parTransId="{EEAA913C-807D-4D5E-BC07-F1D43DDDCE87}" sibTransId="{99A10623-D44D-4731-BA68-724AA410C610}"/>
    <dgm:cxn modelId="{59702829-1FA1-4EB7-89AA-D18CCE1B0D1D}" type="presOf" srcId="{76A9AAA3-D827-4E03-8D88-F1047D8D130F}" destId="{BF9ABE7F-57D7-4435-9561-88D4011225D1}" srcOrd="0" destOrd="1" presId="urn:microsoft.com/office/officeart/2005/8/layout/hProcess4"/>
    <dgm:cxn modelId="{1F206545-A278-46AA-9DB9-AF3408A43E49}" type="presOf" srcId="{6B6AE68E-5B2C-4576-810B-0FE33C8D18A8}" destId="{E6C73452-62D9-4791-AECB-E215143E70A8}" srcOrd="0" destOrd="0" presId="urn:microsoft.com/office/officeart/2005/8/layout/hProcess4"/>
    <dgm:cxn modelId="{57D6DAB9-185C-4F54-BAFC-5A7B0F4249F1}" type="presOf" srcId="{97CC74FE-536C-42B1-86A9-83719C894910}" destId="{A328FD12-0C7D-4FE5-B579-092AEB4676B1}" srcOrd="0" destOrd="1" presId="urn:microsoft.com/office/officeart/2005/8/layout/hProcess4"/>
    <dgm:cxn modelId="{14D1C88E-42E0-41C8-994C-1A9E449FA82B}" srcId="{BD911B32-D779-478C-BF79-D9DA5D12E095}" destId="{76A9AAA3-D827-4E03-8D88-F1047D8D130F}" srcOrd="1" destOrd="0" parTransId="{15063AB2-4476-491A-A8F9-91212929F7C3}" sibTransId="{4D6B8AB0-A8D5-4D86-B46D-73E8DABF7E9D}"/>
    <dgm:cxn modelId="{631FD546-75B5-4882-A10E-532DE97062A2}" type="presOf" srcId="{D55653A9-C123-4D86-A419-7D7429D33348}" destId="{A328FD12-0C7D-4FE5-B579-092AEB4676B1}" srcOrd="0" destOrd="0" presId="urn:microsoft.com/office/officeart/2005/8/layout/hProcess4"/>
    <dgm:cxn modelId="{4063709D-80BD-448B-9CD4-1D34DFE71545}" srcId="{E20E0091-456B-45D4-A6D1-2F677AE01ADD}" destId="{D55653A9-C123-4D86-A419-7D7429D33348}" srcOrd="0" destOrd="0" parTransId="{DA27A97E-D99A-4926-A23F-4F46E8CAE3B7}" sibTransId="{D436A50D-4D13-4ACD-B0C2-B7A8C9CDD4E2}"/>
    <dgm:cxn modelId="{26EC0F8A-8F43-4076-A903-1647B4639F4A}" srcId="{E20E0091-456B-45D4-A6D1-2F677AE01ADD}" destId="{97CC74FE-536C-42B1-86A9-83719C894910}" srcOrd="1" destOrd="0" parTransId="{8F1969E0-153C-4C5D-8D11-0D6C9846DB69}" sibTransId="{A0633C2C-B312-455A-8FD4-D3EE0113A614}"/>
    <dgm:cxn modelId="{076F2AC6-53E5-4650-A72E-E27CB6B8CA49}" type="presOf" srcId="{BD911B32-D779-478C-BF79-D9DA5D12E095}" destId="{2428D54F-F5AE-4D15-91E9-A5C08A2DC041}" srcOrd="0" destOrd="0" presId="urn:microsoft.com/office/officeart/2005/8/layout/hProcess4"/>
    <dgm:cxn modelId="{3545CEB2-AAEF-43AD-AD4D-9AA868CCCC7A}" srcId="{5FDDAEF9-4E05-48DF-A788-18FE2133B8BF}" destId="{101BD353-B031-4FD1-BC68-3A18FAE6E28A}" srcOrd="0" destOrd="0" parTransId="{01EE17CA-5D1C-45F2-80DD-9311B1D22594}" sibTransId="{7C13E593-F175-40A8-B34F-51D959072528}"/>
    <dgm:cxn modelId="{BEF68C1F-DB73-49FA-9953-0D5069C46C24}" type="presOf" srcId="{76A9AAA3-D827-4E03-8D88-F1047D8D130F}" destId="{8CF34882-E20A-4B5B-880A-01E9EBBAAD30}" srcOrd="1" destOrd="1" presId="urn:microsoft.com/office/officeart/2005/8/layout/hProcess4"/>
    <dgm:cxn modelId="{7FBE5E5A-EECA-4C47-B68B-71C9A53A6EBF}" type="presOf" srcId="{A870578C-F12C-4E49-9899-BF107ED61FFD}" destId="{2B61E0ED-F3E7-4BA5-ADEF-7A7E4B4A456B}" srcOrd="0" destOrd="0" presId="urn:microsoft.com/office/officeart/2005/8/layout/hProcess4"/>
    <dgm:cxn modelId="{315447AB-A15C-4504-876B-7C85406C2F37}" type="presOf" srcId="{D55653A9-C123-4D86-A419-7D7429D33348}" destId="{22CC0B3E-598D-4502-9AB6-2DC83060F80C}" srcOrd="1" destOrd="0" presId="urn:microsoft.com/office/officeart/2005/8/layout/hProcess4"/>
    <dgm:cxn modelId="{679DFAEC-95AE-4E6C-A3C3-42162AF4A3FB}" type="presOf" srcId="{68C1D841-7BB2-4AB1-88A6-A70CDED7548B}" destId="{8CF34882-E20A-4B5B-880A-01E9EBBAAD30}" srcOrd="1" destOrd="3" presId="urn:microsoft.com/office/officeart/2005/8/layout/hProcess4"/>
    <dgm:cxn modelId="{66848EB6-BA73-4678-89F7-36B6DBF143E9}" type="presOf" srcId="{D43523A3-FD40-48DA-AA1B-7A353884DA38}" destId="{E423C7C0-95FF-4667-A854-8D4686B4CA7D}" srcOrd="0" destOrd="1" presId="urn:microsoft.com/office/officeart/2005/8/layout/hProcess4"/>
    <dgm:cxn modelId="{E5E61B98-289B-4859-9CCF-74E9D4FD14D2}" srcId="{5FDDAEF9-4E05-48DF-A788-18FE2133B8BF}" destId="{6B6AE68E-5B2C-4576-810B-0FE33C8D18A8}" srcOrd="3" destOrd="0" parTransId="{8F8251FE-1E4D-4777-B7EF-E8620780E106}" sibTransId="{7A604F6F-C763-494A-B91D-3E3AF1C46F3B}"/>
    <dgm:cxn modelId="{72C53FF4-EBE7-4029-A86A-A5902B05D171}" type="presOf" srcId="{89561D36-7195-4154-A09B-81AAC6AD4039}" destId="{BDE1C365-1140-400C-96D0-3BFEF12B84AE}" srcOrd="0" destOrd="0" presId="urn:microsoft.com/office/officeart/2005/8/layout/hProcess4"/>
    <dgm:cxn modelId="{3F96EC76-9A61-4904-8474-EE9846F065D5}" srcId="{5FDDAEF9-4E05-48DF-A788-18FE2133B8BF}" destId="{BD911B32-D779-478C-BF79-D9DA5D12E095}" srcOrd="1" destOrd="0" parTransId="{7B9A9D62-7B36-4831-8BEA-F44084D5E9CC}" sibTransId="{FC0364A1-7140-4E53-AC1F-9735E9C9FAEB}"/>
    <dgm:cxn modelId="{08E95398-2921-4FCD-8A40-B9EE5389C4DB}" type="presOf" srcId="{101BD353-B031-4FD1-BC68-3A18FAE6E28A}" destId="{5512D4F8-B3E2-4834-9DC3-CE3DB0FDD805}" srcOrd="0" destOrd="0" presId="urn:microsoft.com/office/officeart/2005/8/layout/hProcess4"/>
    <dgm:cxn modelId="{8DFC6E66-4A2B-4B05-B733-44EE2E562290}" type="presOf" srcId="{A870578C-F12C-4E49-9899-BF107ED61FFD}" destId="{6CAF491B-F352-4C7D-87F3-E205CD07298D}" srcOrd="1" destOrd="0" presId="urn:microsoft.com/office/officeart/2005/8/layout/hProcess4"/>
    <dgm:cxn modelId="{3A044AB4-142D-42AE-8CA5-722729011AE9}" type="presOf" srcId="{9AD29AA7-27AA-48F9-9603-2F14577A311E}" destId="{BF9ABE7F-57D7-4435-9561-88D4011225D1}" srcOrd="0" destOrd="2" presId="urn:microsoft.com/office/officeart/2005/8/layout/hProcess4"/>
    <dgm:cxn modelId="{2D97E39C-52C1-47D5-A8A3-29533ACBF4B9}" type="presOf" srcId="{A09625BC-D79E-4F92-93AD-06F812BAF1E9}" destId="{D9BF5103-830A-456C-8500-08DC42C7B224}" srcOrd="0" destOrd="0" presId="urn:microsoft.com/office/officeart/2005/8/layout/hProcess4"/>
    <dgm:cxn modelId="{049FA14E-2853-446E-8FE6-0FAA19CF76F4}" srcId="{101BD353-B031-4FD1-BC68-3A18FAE6E28A}" destId="{4A3B652C-4DE9-4C2C-901B-BCAB8257A8A7}" srcOrd="0" destOrd="0" parTransId="{DAE55C9A-5178-4AC8-94B4-CE8BA9E408DC}" sibTransId="{151E15AA-A1B7-4E27-BC35-94C67232A6C4}"/>
    <dgm:cxn modelId="{212033C1-2338-4634-B62F-677AC55FC284}" type="presOf" srcId="{4A3B652C-4DE9-4C2C-901B-BCAB8257A8A7}" destId="{3A141D5C-5918-4BA0-8A33-7F4036F02B67}" srcOrd="0" destOrd="0" presId="urn:microsoft.com/office/officeart/2005/8/layout/hProcess4"/>
    <dgm:cxn modelId="{666DB3DE-9FB4-4863-9BCB-121F47B31776}" srcId="{BD911B32-D779-478C-BF79-D9DA5D12E095}" destId="{E906FC48-87C6-4EC1-86F0-DA6112B87CCE}" srcOrd="4" destOrd="0" parTransId="{BA0157A6-6383-4954-AAD1-1E708DBD0C18}" sibTransId="{2DAF63AE-8037-4F5E-A8D6-50A029604230}"/>
    <dgm:cxn modelId="{E6377D9D-3EF9-4459-B9CC-8D7C544CD9B8}" type="presOf" srcId="{68C1D841-7BB2-4AB1-88A6-A70CDED7548B}" destId="{BF9ABE7F-57D7-4435-9561-88D4011225D1}" srcOrd="0" destOrd="3" presId="urn:microsoft.com/office/officeart/2005/8/layout/hProcess4"/>
    <dgm:cxn modelId="{B81D9BBF-582C-422B-A090-B833A1BAD6AF}" type="presOf" srcId="{9AD29AA7-27AA-48F9-9603-2F14577A311E}" destId="{8CF34882-E20A-4B5B-880A-01E9EBBAAD30}" srcOrd="1" destOrd="2" presId="urn:microsoft.com/office/officeart/2005/8/layout/hProcess4"/>
    <dgm:cxn modelId="{E67B2F2E-30E0-47D8-A120-AFAB25569CDB}" srcId="{5FDDAEF9-4E05-48DF-A788-18FE2133B8BF}" destId="{E20E0091-456B-45D4-A6D1-2F677AE01ADD}" srcOrd="4" destOrd="0" parTransId="{1BCA64F6-18A5-476E-9DE1-E03963B16BCE}" sibTransId="{F6B68279-4D28-45A7-A2BA-DE9638CE1A79}"/>
    <dgm:cxn modelId="{D619D470-EC73-4A54-A1B8-9841F37B90F8}" type="presOf" srcId="{04E38FF7-CF21-4BB5-863A-0EAEBF7BCE4D}" destId="{FFA2EBE0-7186-414E-8A3D-D60355655D50}" srcOrd="0" destOrd="1" presId="urn:microsoft.com/office/officeart/2005/8/layout/hProcess4"/>
    <dgm:cxn modelId="{12DE1507-4B5F-4A08-8DC1-967396DFB2FA}" srcId="{BD911B32-D779-478C-BF79-D9DA5D12E095}" destId="{9AD29AA7-27AA-48F9-9603-2F14577A311E}" srcOrd="2" destOrd="0" parTransId="{BA1F3CDC-ECBA-46D8-8C3C-630571FD256C}" sibTransId="{E0B9819B-D98B-45A4-BE24-26AA27F2DDFC}"/>
    <dgm:cxn modelId="{81BCEA64-3202-4E6B-AC69-99412927B944}" type="presOf" srcId="{1834CB59-1698-4C2E-AF92-A59DB6AF5969}" destId="{E423C7C0-95FF-4667-A854-8D4686B4CA7D}" srcOrd="0" destOrd="0" presId="urn:microsoft.com/office/officeart/2005/8/layout/hProcess4"/>
    <dgm:cxn modelId="{787EB88E-96A3-4E6E-96C8-41B73B43D402}" type="presOf" srcId="{E20E0091-456B-45D4-A6D1-2F677AE01ADD}" destId="{8C42836E-6432-4CAB-A5D0-7CEA3CF08D8A}" srcOrd="0" destOrd="0" presId="urn:microsoft.com/office/officeart/2005/8/layout/hProcess4"/>
    <dgm:cxn modelId="{891AEF2C-04EB-40F7-8AC6-857AB36E8C1D}" type="presOf" srcId="{2F31CE0A-421B-46D0-869A-FF63D3B26822}" destId="{EC2866A4-B125-4F2A-BFD1-86FA15FD5111}" srcOrd="0" destOrd="0" presId="urn:microsoft.com/office/officeart/2005/8/layout/hProcess4"/>
    <dgm:cxn modelId="{072343FA-5D53-4A75-89C4-3DEFFDC5FABB}" type="presOf" srcId="{97CC74FE-536C-42B1-86A9-83719C894910}" destId="{22CC0B3E-598D-4502-9AB6-2DC83060F80C}" srcOrd="1" destOrd="1" presId="urn:microsoft.com/office/officeart/2005/8/layout/hProcess4"/>
    <dgm:cxn modelId="{742DE6A0-E550-46E1-AD0D-6B9297CAD3C1}" srcId="{BD911B32-D779-478C-BF79-D9DA5D12E095}" destId="{EDF387B3-7786-4B48-A722-9197007A8FA3}" srcOrd="0" destOrd="0" parTransId="{87321A3A-0F21-415E-A316-286D7C7F45E2}" sibTransId="{064DBD9D-DF4A-4D34-9300-EE03E23F085D}"/>
    <dgm:cxn modelId="{54A4799F-AE06-40DB-A43F-33420A2AA6F3}" type="presOf" srcId="{EDF387B3-7786-4B48-A722-9197007A8FA3}" destId="{BF9ABE7F-57D7-4435-9561-88D4011225D1}" srcOrd="0" destOrd="0" presId="urn:microsoft.com/office/officeart/2005/8/layout/hProcess4"/>
    <dgm:cxn modelId="{A748FBEF-02F8-41B6-A6A1-5A9B27160D25}" srcId="{6B6AE68E-5B2C-4576-810B-0FE33C8D18A8}" destId="{1834CB59-1698-4C2E-AF92-A59DB6AF5969}" srcOrd="0" destOrd="0" parTransId="{91F783C8-0AA6-4DF5-8E51-579913769930}" sibTransId="{760DBB73-6951-4411-B5E8-6CAFEC2D5C56}"/>
    <dgm:cxn modelId="{508DE940-7C0D-4DCF-ADA0-E08BF030B0DC}" type="presOf" srcId="{F6B68279-4D28-45A7-A2BA-DE9638CE1A79}" destId="{AFDD9E89-72C2-4567-8590-2A963FBE6F87}" srcOrd="0" destOrd="0" presId="urn:microsoft.com/office/officeart/2005/8/layout/hProcess4"/>
    <dgm:cxn modelId="{D11B218E-D1B9-4693-82C1-AD71B3585BE2}" type="presOf" srcId="{4A3B652C-4DE9-4C2C-901B-BCAB8257A8A7}" destId="{D1F81683-00EE-4528-9E5F-952720D5C422}" srcOrd="1" destOrd="0" presId="urn:microsoft.com/office/officeart/2005/8/layout/hProcess4"/>
    <dgm:cxn modelId="{C6DFBC98-5518-471C-BD8C-31B879EF413A}" type="presOf" srcId="{D43523A3-FD40-48DA-AA1B-7A353884DA38}" destId="{810ED968-E049-4E22-9221-3F85BA05EB56}" srcOrd="1" destOrd="1" presId="urn:microsoft.com/office/officeart/2005/8/layout/hProcess4"/>
    <dgm:cxn modelId="{A04CA4CD-970C-4333-A1AD-E52DA85EAA85}" type="presOf" srcId="{7A604F6F-C763-494A-B91D-3E3AF1C46F3B}" destId="{3212BFFE-11FE-479C-ADA9-31ABAEA1C6F7}" srcOrd="0" destOrd="0" presId="urn:microsoft.com/office/officeart/2005/8/layout/hProcess4"/>
    <dgm:cxn modelId="{B7864E59-0822-46FA-9B1D-83DCD58D8345}" type="presOf" srcId="{0AC41CF8-C33E-490A-851F-A4A3719A9AC5}" destId="{E42C4A58-E67A-40E7-A8DD-4DE865A7F91B}" srcOrd="1" destOrd="0" presId="urn:microsoft.com/office/officeart/2005/8/layout/hProcess4"/>
    <dgm:cxn modelId="{B6D77CBD-057A-4015-A8C3-DE2854F2BEA3}" type="presOf" srcId="{7C13E593-F175-40A8-B34F-51D959072528}" destId="{1F70468B-4A50-45C9-A20C-B6C7DBF38602}" srcOrd="0" destOrd="0" presId="urn:microsoft.com/office/officeart/2005/8/layout/hProcess4"/>
    <dgm:cxn modelId="{C8D3F648-3AEA-40B4-9D6B-4FCB3AF5A1CB}" type="presOf" srcId="{5FDDAEF9-4E05-48DF-A788-18FE2133B8BF}" destId="{2F3FFAAA-BE3E-4647-858E-19FE79DC5251}" srcOrd="0" destOrd="0" presId="urn:microsoft.com/office/officeart/2005/8/layout/hProcess4"/>
    <dgm:cxn modelId="{76C9D053-817D-446B-8EF3-7E7BC445B03D}" srcId="{5FDDAEF9-4E05-48DF-A788-18FE2133B8BF}" destId="{89561D36-7195-4154-A09B-81AAC6AD4039}" srcOrd="2" destOrd="0" parTransId="{897043FC-BF9B-4415-A3A4-AB0D5A68538A}" sibTransId="{2F31CE0A-421B-46D0-869A-FF63D3B26822}"/>
    <dgm:cxn modelId="{2D91A6DC-D61B-4920-A3E0-B46F87F063D1}" type="presOf" srcId="{E906FC48-87C6-4EC1-86F0-DA6112B87CCE}" destId="{BF9ABE7F-57D7-4435-9561-88D4011225D1}" srcOrd="0" destOrd="4" presId="urn:microsoft.com/office/officeart/2005/8/layout/hProcess4"/>
    <dgm:cxn modelId="{3CCAD81A-E918-4090-82E8-8766A080942D}" type="presOf" srcId="{1834CB59-1698-4C2E-AF92-A59DB6AF5969}" destId="{810ED968-E049-4E22-9221-3F85BA05EB56}" srcOrd="1" destOrd="0" presId="urn:microsoft.com/office/officeart/2005/8/layout/hProcess4"/>
    <dgm:cxn modelId="{A065BDC5-56AB-4438-BCAD-008EF5A79D88}" srcId="{A09625BC-D79E-4F92-93AD-06F812BAF1E9}" destId="{0AC41CF8-C33E-490A-851F-A4A3719A9AC5}" srcOrd="0" destOrd="0" parTransId="{34FB31F1-A44D-4BD2-A2C7-2036FA74D675}" sibTransId="{F159B654-BAB9-45DA-9A1E-054C36386A86}"/>
    <dgm:cxn modelId="{2CD86B47-1F00-4BE4-8806-8EDB92BC0456}" type="presOf" srcId="{EDF387B3-7786-4B48-A722-9197007A8FA3}" destId="{8CF34882-E20A-4B5B-880A-01E9EBBAAD30}" srcOrd="1" destOrd="0" presId="urn:microsoft.com/office/officeart/2005/8/layout/hProcess4"/>
    <dgm:cxn modelId="{C04302C9-C994-4883-A451-1FFDE316F927}" srcId="{A09625BC-D79E-4F92-93AD-06F812BAF1E9}" destId="{04E38FF7-CF21-4BB5-863A-0EAEBF7BCE4D}" srcOrd="1" destOrd="0" parTransId="{5EDE1BB6-C1CE-4CD7-9FB0-D40771563D70}" sibTransId="{D2257AAB-63D4-44B2-A073-75C61329D5DA}"/>
    <dgm:cxn modelId="{318D3341-C66D-4C2D-A4B2-B50634D8FF82}" srcId="{89561D36-7195-4154-A09B-81AAC6AD4039}" destId="{A870578C-F12C-4E49-9899-BF107ED61FFD}" srcOrd="0" destOrd="0" parTransId="{79003357-0711-45AF-98E2-6192566D2F68}" sibTransId="{30939650-1921-43BF-AAF6-0DBA1A4F2CD9}"/>
    <dgm:cxn modelId="{B9D609A8-C127-42EB-9F7F-AC09A03DA4B0}" type="presOf" srcId="{04E38FF7-CF21-4BB5-863A-0EAEBF7BCE4D}" destId="{E42C4A58-E67A-40E7-A8DD-4DE865A7F91B}" srcOrd="1" destOrd="1" presId="urn:microsoft.com/office/officeart/2005/8/layout/hProcess4"/>
    <dgm:cxn modelId="{97058F82-2A00-46FF-8011-A38E7CA5A2C0}" srcId="{6B6AE68E-5B2C-4576-810B-0FE33C8D18A8}" destId="{D43523A3-FD40-48DA-AA1B-7A353884DA38}" srcOrd="1" destOrd="0" parTransId="{623789B7-42A6-4536-9C27-042BBFFB036C}" sibTransId="{E5E6AE40-9E1B-4B04-BFA1-B11344EB49F8}"/>
    <dgm:cxn modelId="{5579D931-76D8-49A4-A7B2-84FB505AF651}" type="presOf" srcId="{E906FC48-87C6-4EC1-86F0-DA6112B87CCE}" destId="{8CF34882-E20A-4B5B-880A-01E9EBBAAD30}" srcOrd="1" destOrd="4" presId="urn:microsoft.com/office/officeart/2005/8/layout/hProcess4"/>
    <dgm:cxn modelId="{04045C91-5597-4ED0-90E8-2DBE37F70DD2}" type="presOf" srcId="{0AC41CF8-C33E-490A-851F-A4A3719A9AC5}" destId="{FFA2EBE0-7186-414E-8A3D-D60355655D50}" srcOrd="0" destOrd="0" presId="urn:microsoft.com/office/officeart/2005/8/layout/hProcess4"/>
    <dgm:cxn modelId="{50D1A1E7-2B2A-4FB5-81C2-1B881D4F54F3}" type="presOf" srcId="{FC0364A1-7140-4E53-AC1F-9735E9C9FAEB}" destId="{DB180D09-083B-4F53-A176-7F32C2682FE0}" srcOrd="0" destOrd="0" presId="urn:microsoft.com/office/officeart/2005/8/layout/hProcess4"/>
    <dgm:cxn modelId="{F9198505-C7A2-44BA-AED5-34A938437147}" type="presParOf" srcId="{2F3FFAAA-BE3E-4647-858E-19FE79DC5251}" destId="{7A2EDC57-1738-4DA9-9E9A-9F54C9E86CFC}" srcOrd="0" destOrd="0" presId="urn:microsoft.com/office/officeart/2005/8/layout/hProcess4"/>
    <dgm:cxn modelId="{701315C1-324D-4A81-8BCF-27E989002E9C}" type="presParOf" srcId="{2F3FFAAA-BE3E-4647-858E-19FE79DC5251}" destId="{3C01A0DA-4546-40EE-9844-34F37A0548AE}" srcOrd="1" destOrd="0" presId="urn:microsoft.com/office/officeart/2005/8/layout/hProcess4"/>
    <dgm:cxn modelId="{547EEDCB-E7FA-4665-9E14-E72E32945FCF}" type="presParOf" srcId="{2F3FFAAA-BE3E-4647-858E-19FE79DC5251}" destId="{8057042A-F6FC-414A-A55B-16D0D57BCBB0}" srcOrd="2" destOrd="0" presId="urn:microsoft.com/office/officeart/2005/8/layout/hProcess4"/>
    <dgm:cxn modelId="{46CFE0D9-C51E-4862-BFEF-70C61978E4EC}" type="presParOf" srcId="{8057042A-F6FC-414A-A55B-16D0D57BCBB0}" destId="{A02EF168-37C9-4295-B587-0CDE8CA68F91}" srcOrd="0" destOrd="0" presId="urn:microsoft.com/office/officeart/2005/8/layout/hProcess4"/>
    <dgm:cxn modelId="{186D2DCC-799F-48D9-8FF4-5772F57F5181}" type="presParOf" srcId="{A02EF168-37C9-4295-B587-0CDE8CA68F91}" destId="{04A76635-7E83-4411-881D-90D07805B978}" srcOrd="0" destOrd="0" presId="urn:microsoft.com/office/officeart/2005/8/layout/hProcess4"/>
    <dgm:cxn modelId="{C59C7D00-A42A-4AC1-8824-42C79E56A535}" type="presParOf" srcId="{A02EF168-37C9-4295-B587-0CDE8CA68F91}" destId="{3A141D5C-5918-4BA0-8A33-7F4036F02B67}" srcOrd="1" destOrd="0" presId="urn:microsoft.com/office/officeart/2005/8/layout/hProcess4"/>
    <dgm:cxn modelId="{F7F39DCC-B9B2-4236-80F3-4ED19F654673}" type="presParOf" srcId="{A02EF168-37C9-4295-B587-0CDE8CA68F91}" destId="{D1F81683-00EE-4528-9E5F-952720D5C422}" srcOrd="2" destOrd="0" presId="urn:microsoft.com/office/officeart/2005/8/layout/hProcess4"/>
    <dgm:cxn modelId="{856C6203-946F-41C4-840E-E84853AEE1D1}" type="presParOf" srcId="{A02EF168-37C9-4295-B587-0CDE8CA68F91}" destId="{5512D4F8-B3E2-4834-9DC3-CE3DB0FDD805}" srcOrd="3" destOrd="0" presId="urn:microsoft.com/office/officeart/2005/8/layout/hProcess4"/>
    <dgm:cxn modelId="{89C8BA08-864A-4258-9D4C-7CB17F5D048B}" type="presParOf" srcId="{A02EF168-37C9-4295-B587-0CDE8CA68F91}" destId="{1A302247-DF39-4192-815B-0A7D12982FB9}" srcOrd="4" destOrd="0" presId="urn:microsoft.com/office/officeart/2005/8/layout/hProcess4"/>
    <dgm:cxn modelId="{86B863AA-6C4F-4A42-84F8-896C04A98E9F}" type="presParOf" srcId="{8057042A-F6FC-414A-A55B-16D0D57BCBB0}" destId="{1F70468B-4A50-45C9-A20C-B6C7DBF38602}" srcOrd="1" destOrd="0" presId="urn:microsoft.com/office/officeart/2005/8/layout/hProcess4"/>
    <dgm:cxn modelId="{E5D400FE-1E6A-4AAB-807D-4A7CB7DE0CD3}" type="presParOf" srcId="{8057042A-F6FC-414A-A55B-16D0D57BCBB0}" destId="{12A27272-09E9-4781-93B4-CD1E87DBC0ED}" srcOrd="2" destOrd="0" presId="urn:microsoft.com/office/officeart/2005/8/layout/hProcess4"/>
    <dgm:cxn modelId="{B1358A06-A656-44B8-9B68-90E1DF18057F}" type="presParOf" srcId="{12A27272-09E9-4781-93B4-CD1E87DBC0ED}" destId="{DCC70EE8-4C39-466C-82F0-3B3974B1C586}" srcOrd="0" destOrd="0" presId="urn:microsoft.com/office/officeart/2005/8/layout/hProcess4"/>
    <dgm:cxn modelId="{017CDC8D-1DD2-4D46-A48D-957C2509D131}" type="presParOf" srcId="{12A27272-09E9-4781-93B4-CD1E87DBC0ED}" destId="{BF9ABE7F-57D7-4435-9561-88D4011225D1}" srcOrd="1" destOrd="0" presId="urn:microsoft.com/office/officeart/2005/8/layout/hProcess4"/>
    <dgm:cxn modelId="{5256E0B1-8891-4399-80B1-6466572FF7AA}" type="presParOf" srcId="{12A27272-09E9-4781-93B4-CD1E87DBC0ED}" destId="{8CF34882-E20A-4B5B-880A-01E9EBBAAD30}" srcOrd="2" destOrd="0" presId="urn:microsoft.com/office/officeart/2005/8/layout/hProcess4"/>
    <dgm:cxn modelId="{0999D655-DDF6-4DA6-8BC7-FF33B1E2A320}" type="presParOf" srcId="{12A27272-09E9-4781-93B4-CD1E87DBC0ED}" destId="{2428D54F-F5AE-4D15-91E9-A5C08A2DC041}" srcOrd="3" destOrd="0" presId="urn:microsoft.com/office/officeart/2005/8/layout/hProcess4"/>
    <dgm:cxn modelId="{EC82F583-1F96-4C21-B327-B24EB37659A4}" type="presParOf" srcId="{12A27272-09E9-4781-93B4-CD1E87DBC0ED}" destId="{0C21BE4E-76C7-45E6-A49B-E522C8E570BF}" srcOrd="4" destOrd="0" presId="urn:microsoft.com/office/officeart/2005/8/layout/hProcess4"/>
    <dgm:cxn modelId="{669EA038-076A-4417-AEC2-3391E5AC3FEF}" type="presParOf" srcId="{8057042A-F6FC-414A-A55B-16D0D57BCBB0}" destId="{DB180D09-083B-4F53-A176-7F32C2682FE0}" srcOrd="3" destOrd="0" presId="urn:microsoft.com/office/officeart/2005/8/layout/hProcess4"/>
    <dgm:cxn modelId="{0CC03463-F93C-415E-B7BD-2BF3A63A3E36}" type="presParOf" srcId="{8057042A-F6FC-414A-A55B-16D0D57BCBB0}" destId="{19F254EB-B882-406A-98AF-833D5CC480C5}" srcOrd="4" destOrd="0" presId="urn:microsoft.com/office/officeart/2005/8/layout/hProcess4"/>
    <dgm:cxn modelId="{B9F89308-676E-4743-88A5-F8F0ECFA9B23}" type="presParOf" srcId="{19F254EB-B882-406A-98AF-833D5CC480C5}" destId="{DE2B7744-6102-42EE-9BF1-896C2B5E08D3}" srcOrd="0" destOrd="0" presId="urn:microsoft.com/office/officeart/2005/8/layout/hProcess4"/>
    <dgm:cxn modelId="{67F16386-31D4-4694-A792-3933544EBBAD}" type="presParOf" srcId="{19F254EB-B882-406A-98AF-833D5CC480C5}" destId="{2B61E0ED-F3E7-4BA5-ADEF-7A7E4B4A456B}" srcOrd="1" destOrd="0" presId="urn:microsoft.com/office/officeart/2005/8/layout/hProcess4"/>
    <dgm:cxn modelId="{EB43FFA1-B67E-429F-AF33-11D4A09BA8BB}" type="presParOf" srcId="{19F254EB-B882-406A-98AF-833D5CC480C5}" destId="{6CAF491B-F352-4C7D-87F3-E205CD07298D}" srcOrd="2" destOrd="0" presId="urn:microsoft.com/office/officeart/2005/8/layout/hProcess4"/>
    <dgm:cxn modelId="{85B019CB-ED31-4830-B121-321D0698B3B5}" type="presParOf" srcId="{19F254EB-B882-406A-98AF-833D5CC480C5}" destId="{BDE1C365-1140-400C-96D0-3BFEF12B84AE}" srcOrd="3" destOrd="0" presId="urn:microsoft.com/office/officeart/2005/8/layout/hProcess4"/>
    <dgm:cxn modelId="{D1A4E73F-81BE-48A5-B811-A9CBD99C750D}" type="presParOf" srcId="{19F254EB-B882-406A-98AF-833D5CC480C5}" destId="{38FD3185-0801-43AE-92C7-0FC884C2B771}" srcOrd="4" destOrd="0" presId="urn:microsoft.com/office/officeart/2005/8/layout/hProcess4"/>
    <dgm:cxn modelId="{F59D4BD1-E5F4-4F0D-84C5-AF8E13C23504}" type="presParOf" srcId="{8057042A-F6FC-414A-A55B-16D0D57BCBB0}" destId="{EC2866A4-B125-4F2A-BFD1-86FA15FD5111}" srcOrd="5" destOrd="0" presId="urn:microsoft.com/office/officeart/2005/8/layout/hProcess4"/>
    <dgm:cxn modelId="{95618D33-1BC8-41DD-8382-0806E3756B29}" type="presParOf" srcId="{8057042A-F6FC-414A-A55B-16D0D57BCBB0}" destId="{1D88A551-19EA-49B1-A37B-6EC0656FDFE8}" srcOrd="6" destOrd="0" presId="urn:microsoft.com/office/officeart/2005/8/layout/hProcess4"/>
    <dgm:cxn modelId="{F1AD8011-4568-4A08-AA0A-C22D8B16DE83}" type="presParOf" srcId="{1D88A551-19EA-49B1-A37B-6EC0656FDFE8}" destId="{D7CC7088-1662-4577-815D-D77C27370C1F}" srcOrd="0" destOrd="0" presId="urn:microsoft.com/office/officeart/2005/8/layout/hProcess4"/>
    <dgm:cxn modelId="{07A186F3-0CA5-476E-B9D6-B0F13AA419ED}" type="presParOf" srcId="{1D88A551-19EA-49B1-A37B-6EC0656FDFE8}" destId="{E423C7C0-95FF-4667-A854-8D4686B4CA7D}" srcOrd="1" destOrd="0" presId="urn:microsoft.com/office/officeart/2005/8/layout/hProcess4"/>
    <dgm:cxn modelId="{2308A394-06D2-45FB-AC06-08F5018CE9F8}" type="presParOf" srcId="{1D88A551-19EA-49B1-A37B-6EC0656FDFE8}" destId="{810ED968-E049-4E22-9221-3F85BA05EB56}" srcOrd="2" destOrd="0" presId="urn:microsoft.com/office/officeart/2005/8/layout/hProcess4"/>
    <dgm:cxn modelId="{94462E64-CCE7-4362-9B04-4AE6A34D21D9}" type="presParOf" srcId="{1D88A551-19EA-49B1-A37B-6EC0656FDFE8}" destId="{E6C73452-62D9-4791-AECB-E215143E70A8}" srcOrd="3" destOrd="0" presId="urn:microsoft.com/office/officeart/2005/8/layout/hProcess4"/>
    <dgm:cxn modelId="{9F5FC7E7-9358-45A6-AEFE-83998D9D2BF5}" type="presParOf" srcId="{1D88A551-19EA-49B1-A37B-6EC0656FDFE8}" destId="{B3AB4213-10D3-477B-9744-FB4138340C17}" srcOrd="4" destOrd="0" presId="urn:microsoft.com/office/officeart/2005/8/layout/hProcess4"/>
    <dgm:cxn modelId="{C794E198-3ADF-4422-AE5D-568198C5DA92}" type="presParOf" srcId="{8057042A-F6FC-414A-A55B-16D0D57BCBB0}" destId="{3212BFFE-11FE-479C-ADA9-31ABAEA1C6F7}" srcOrd="7" destOrd="0" presId="urn:microsoft.com/office/officeart/2005/8/layout/hProcess4"/>
    <dgm:cxn modelId="{D5A54107-495B-4E05-B637-8AF93022B497}" type="presParOf" srcId="{8057042A-F6FC-414A-A55B-16D0D57BCBB0}" destId="{D5A091F4-22A8-47C8-810C-E29C143AF4C6}" srcOrd="8" destOrd="0" presId="urn:microsoft.com/office/officeart/2005/8/layout/hProcess4"/>
    <dgm:cxn modelId="{457A701A-3371-45EC-889F-944DE18BDBB4}" type="presParOf" srcId="{D5A091F4-22A8-47C8-810C-E29C143AF4C6}" destId="{5D0CEA1B-A5EC-4C35-9768-9917F10B404B}" srcOrd="0" destOrd="0" presId="urn:microsoft.com/office/officeart/2005/8/layout/hProcess4"/>
    <dgm:cxn modelId="{89B6AC09-6A82-4005-8462-7AA1FD6B7B4A}" type="presParOf" srcId="{D5A091F4-22A8-47C8-810C-E29C143AF4C6}" destId="{A328FD12-0C7D-4FE5-B579-092AEB4676B1}" srcOrd="1" destOrd="0" presId="urn:microsoft.com/office/officeart/2005/8/layout/hProcess4"/>
    <dgm:cxn modelId="{165DDDB8-9685-434C-B908-01FBC004694D}" type="presParOf" srcId="{D5A091F4-22A8-47C8-810C-E29C143AF4C6}" destId="{22CC0B3E-598D-4502-9AB6-2DC83060F80C}" srcOrd="2" destOrd="0" presId="urn:microsoft.com/office/officeart/2005/8/layout/hProcess4"/>
    <dgm:cxn modelId="{3C28B0A8-DC95-4512-9F6A-481EB6DEDA32}" type="presParOf" srcId="{D5A091F4-22A8-47C8-810C-E29C143AF4C6}" destId="{8C42836E-6432-4CAB-A5D0-7CEA3CF08D8A}" srcOrd="3" destOrd="0" presId="urn:microsoft.com/office/officeart/2005/8/layout/hProcess4"/>
    <dgm:cxn modelId="{AEFE0BB1-96E3-4D17-BB11-8C008D5DE69F}" type="presParOf" srcId="{D5A091F4-22A8-47C8-810C-E29C143AF4C6}" destId="{F63A4CCD-F166-4604-ADCF-4A7FB6B06A20}" srcOrd="4" destOrd="0" presId="urn:microsoft.com/office/officeart/2005/8/layout/hProcess4"/>
    <dgm:cxn modelId="{134DDCEC-8A7F-4385-BEB6-77E2FD91420A}" type="presParOf" srcId="{8057042A-F6FC-414A-A55B-16D0D57BCBB0}" destId="{AFDD9E89-72C2-4567-8590-2A963FBE6F87}" srcOrd="9" destOrd="0" presId="urn:microsoft.com/office/officeart/2005/8/layout/hProcess4"/>
    <dgm:cxn modelId="{F9ACBF91-05D8-4992-B8B5-6DE254DB0C03}" type="presParOf" srcId="{8057042A-F6FC-414A-A55B-16D0D57BCBB0}" destId="{94867DC3-79AC-4EC8-AC2E-B6CFBC3E7793}" srcOrd="10" destOrd="0" presId="urn:microsoft.com/office/officeart/2005/8/layout/hProcess4"/>
    <dgm:cxn modelId="{9DE819E9-E786-4287-B591-BC54A6D617FB}" type="presParOf" srcId="{94867DC3-79AC-4EC8-AC2E-B6CFBC3E7793}" destId="{9B68C03B-B2B8-4E68-9A4E-A3BF85596F86}" srcOrd="0" destOrd="0" presId="urn:microsoft.com/office/officeart/2005/8/layout/hProcess4"/>
    <dgm:cxn modelId="{7EC5389D-1C62-4C45-BC35-E0F6E09B978B}" type="presParOf" srcId="{94867DC3-79AC-4EC8-AC2E-B6CFBC3E7793}" destId="{FFA2EBE0-7186-414E-8A3D-D60355655D50}" srcOrd="1" destOrd="0" presId="urn:microsoft.com/office/officeart/2005/8/layout/hProcess4"/>
    <dgm:cxn modelId="{9D61E34A-6FA6-44C1-9CAA-4F8C14EF2FE2}" type="presParOf" srcId="{94867DC3-79AC-4EC8-AC2E-B6CFBC3E7793}" destId="{E42C4A58-E67A-40E7-A8DD-4DE865A7F91B}" srcOrd="2" destOrd="0" presId="urn:microsoft.com/office/officeart/2005/8/layout/hProcess4"/>
    <dgm:cxn modelId="{2C716476-768D-4B00-B84F-9EEA4D8E2371}" type="presParOf" srcId="{94867DC3-79AC-4EC8-AC2E-B6CFBC3E7793}" destId="{D9BF5103-830A-456C-8500-08DC42C7B224}" srcOrd="3" destOrd="0" presId="urn:microsoft.com/office/officeart/2005/8/layout/hProcess4"/>
    <dgm:cxn modelId="{14D0278F-6B36-4EAD-9276-F5337BE304D7}" type="presParOf" srcId="{94867DC3-79AC-4EC8-AC2E-B6CFBC3E7793}" destId="{691AA063-FE93-487D-A9D7-2094D2B40CCE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138A870-490D-4515-8BE9-F7B8685CCF15}" type="doc">
      <dgm:prSet loTypeId="urn:microsoft.com/office/officeart/2005/8/layout/cycle1" loCatId="cycle" qsTypeId="urn:microsoft.com/office/officeart/2005/8/quickstyle/simple1" qsCatId="simple" csTypeId="urn:microsoft.com/office/officeart/2005/8/colors/accent4_2" csCatId="accent4" phldr="1"/>
      <dgm:spPr/>
      <dgm:t>
        <a:bodyPr/>
        <a:lstStyle/>
        <a:p>
          <a:endParaRPr lang="es-ES"/>
        </a:p>
      </dgm:t>
    </dgm:pt>
    <dgm:pt modelId="{A4E98528-2A15-4344-B01E-8E491A9571DE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RESULTADOS</a:t>
          </a:r>
          <a:endParaRPr lang="es-ES" b="1" dirty="0">
            <a:solidFill>
              <a:srgbClr val="0070C0"/>
            </a:solidFill>
          </a:endParaRPr>
        </a:p>
      </dgm:t>
    </dgm:pt>
    <dgm:pt modelId="{D8457A38-D1C6-49A0-8090-3115BAB7EA18}" type="parTrans" cxnId="{CE19EB7F-70BD-444B-AC3E-19894336606C}">
      <dgm:prSet/>
      <dgm:spPr/>
      <dgm:t>
        <a:bodyPr/>
        <a:lstStyle/>
        <a:p>
          <a:endParaRPr lang="es-ES"/>
        </a:p>
      </dgm:t>
    </dgm:pt>
    <dgm:pt modelId="{EB8FA345-8F8A-457F-92F0-2B1EEEA09B90}" type="sibTrans" cxnId="{CE19EB7F-70BD-444B-AC3E-19894336606C}">
      <dgm:prSet/>
      <dgm:spPr/>
      <dgm:t>
        <a:bodyPr/>
        <a:lstStyle/>
        <a:p>
          <a:endParaRPr lang="es-ES" dirty="0"/>
        </a:p>
      </dgm:t>
    </dgm:pt>
    <dgm:pt modelId="{6AB4FB30-0C87-4593-B861-A0DC2062367A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IMPACTO</a:t>
          </a:r>
          <a:endParaRPr lang="es-ES" b="1" dirty="0">
            <a:solidFill>
              <a:srgbClr val="0070C0"/>
            </a:solidFill>
          </a:endParaRPr>
        </a:p>
      </dgm:t>
    </dgm:pt>
    <dgm:pt modelId="{438E4DB8-6BEC-4C2F-BA53-2F477EF9088F}" type="parTrans" cxnId="{0688CB39-73B4-4FEE-8D1D-49C7BA633179}">
      <dgm:prSet/>
      <dgm:spPr/>
      <dgm:t>
        <a:bodyPr/>
        <a:lstStyle/>
        <a:p>
          <a:endParaRPr lang="es-ES"/>
        </a:p>
      </dgm:t>
    </dgm:pt>
    <dgm:pt modelId="{990230A9-3B9F-4E73-AC7D-072551B8220B}" type="sibTrans" cxnId="{0688CB39-73B4-4FEE-8D1D-49C7BA633179}">
      <dgm:prSet/>
      <dgm:spPr/>
      <dgm:t>
        <a:bodyPr/>
        <a:lstStyle/>
        <a:p>
          <a:endParaRPr lang="es-ES" dirty="0"/>
        </a:p>
      </dgm:t>
    </dgm:pt>
    <dgm:pt modelId="{5B69DF39-8C99-4514-8838-69292E55073A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FISCALIZACIÓN</a:t>
          </a:r>
          <a:endParaRPr lang="es-ES" b="1" dirty="0">
            <a:solidFill>
              <a:srgbClr val="0070C0"/>
            </a:solidFill>
          </a:endParaRPr>
        </a:p>
      </dgm:t>
    </dgm:pt>
    <dgm:pt modelId="{A7E56DBC-7BF6-494B-BCAF-EB03630F225E}" type="parTrans" cxnId="{106BF3F3-78E4-4B6D-9D3C-3176172A3E29}">
      <dgm:prSet/>
      <dgm:spPr/>
      <dgm:t>
        <a:bodyPr/>
        <a:lstStyle/>
        <a:p>
          <a:endParaRPr lang="es-ES"/>
        </a:p>
      </dgm:t>
    </dgm:pt>
    <dgm:pt modelId="{B74DFEC7-CC19-4437-8BB3-9E20D84273A7}" type="sibTrans" cxnId="{106BF3F3-78E4-4B6D-9D3C-3176172A3E29}">
      <dgm:prSet/>
      <dgm:spPr/>
      <dgm:t>
        <a:bodyPr/>
        <a:lstStyle/>
        <a:p>
          <a:endParaRPr lang="es-ES" dirty="0"/>
        </a:p>
      </dgm:t>
    </dgm:pt>
    <dgm:pt modelId="{5BB3FF3F-23DD-4C2D-BB55-D040E866BE10}" type="pres">
      <dgm:prSet presAssocID="{F138A870-490D-4515-8BE9-F7B8685CCF15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5931539E-9BEA-4273-899D-BF7AB1C2B793}" type="pres">
      <dgm:prSet presAssocID="{A4E98528-2A15-4344-B01E-8E491A9571DE}" presName="dummy" presStyleCnt="0"/>
      <dgm:spPr/>
    </dgm:pt>
    <dgm:pt modelId="{66B8A6A0-4CD7-4AC2-B5C2-1DA287D6EC10}" type="pres">
      <dgm:prSet presAssocID="{A4E98528-2A15-4344-B01E-8E491A9571DE}" presName="node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1DA0B99-BB9C-414A-AFB4-C6E1DA8C7CA9}" type="pres">
      <dgm:prSet presAssocID="{EB8FA345-8F8A-457F-92F0-2B1EEEA09B90}" presName="sibTrans" presStyleLbl="node1" presStyleIdx="0" presStyleCnt="3"/>
      <dgm:spPr/>
      <dgm:t>
        <a:bodyPr/>
        <a:lstStyle/>
        <a:p>
          <a:endParaRPr lang="es-ES"/>
        </a:p>
      </dgm:t>
    </dgm:pt>
    <dgm:pt modelId="{65457499-AE64-4401-85EF-E413C5A9964A}" type="pres">
      <dgm:prSet presAssocID="{6AB4FB30-0C87-4593-B861-A0DC2062367A}" presName="dummy" presStyleCnt="0"/>
      <dgm:spPr/>
    </dgm:pt>
    <dgm:pt modelId="{82C02BA0-A04B-44C7-88A0-853C5D4532D3}" type="pres">
      <dgm:prSet presAssocID="{6AB4FB30-0C87-4593-B861-A0DC2062367A}" presName="node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F02E5AC-673B-4D61-A38E-2719D58EA038}" type="pres">
      <dgm:prSet presAssocID="{990230A9-3B9F-4E73-AC7D-072551B8220B}" presName="sibTrans" presStyleLbl="node1" presStyleIdx="1" presStyleCnt="3"/>
      <dgm:spPr/>
      <dgm:t>
        <a:bodyPr/>
        <a:lstStyle/>
        <a:p>
          <a:endParaRPr lang="es-ES"/>
        </a:p>
      </dgm:t>
    </dgm:pt>
    <dgm:pt modelId="{8A2A3039-750B-4F1C-9727-99DB30FF209A}" type="pres">
      <dgm:prSet presAssocID="{5B69DF39-8C99-4514-8838-69292E55073A}" presName="dummy" presStyleCnt="0"/>
      <dgm:spPr/>
    </dgm:pt>
    <dgm:pt modelId="{4EDFE48E-7DE0-4880-8D89-F4B25851A989}" type="pres">
      <dgm:prSet presAssocID="{5B69DF39-8C99-4514-8838-69292E55073A}" presName="node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B8BDEDD-8B43-4977-811B-8A89DB113820}" type="pres">
      <dgm:prSet presAssocID="{B74DFEC7-CC19-4437-8BB3-9E20D84273A7}" presName="sibTrans" presStyleLbl="node1" presStyleIdx="2" presStyleCnt="3"/>
      <dgm:spPr/>
      <dgm:t>
        <a:bodyPr/>
        <a:lstStyle/>
        <a:p>
          <a:endParaRPr lang="es-ES"/>
        </a:p>
      </dgm:t>
    </dgm:pt>
  </dgm:ptLst>
  <dgm:cxnLst>
    <dgm:cxn modelId="{7C6A8456-E1EA-453E-9CFC-FE9075171049}" type="presOf" srcId="{990230A9-3B9F-4E73-AC7D-072551B8220B}" destId="{CF02E5AC-673B-4D61-A38E-2719D58EA038}" srcOrd="0" destOrd="0" presId="urn:microsoft.com/office/officeart/2005/8/layout/cycle1"/>
    <dgm:cxn modelId="{D4022243-0AA0-4A81-AC25-488C1903ABB7}" type="presOf" srcId="{EB8FA345-8F8A-457F-92F0-2B1EEEA09B90}" destId="{31DA0B99-BB9C-414A-AFB4-C6E1DA8C7CA9}" srcOrd="0" destOrd="0" presId="urn:microsoft.com/office/officeart/2005/8/layout/cycle1"/>
    <dgm:cxn modelId="{7E743542-14F4-44E3-B5AA-17F525018BFB}" type="presOf" srcId="{F138A870-490D-4515-8BE9-F7B8685CCF15}" destId="{5BB3FF3F-23DD-4C2D-BB55-D040E866BE10}" srcOrd="0" destOrd="0" presId="urn:microsoft.com/office/officeart/2005/8/layout/cycle1"/>
    <dgm:cxn modelId="{67690D4F-1F61-4FCF-93A9-2281C35CB03E}" type="presOf" srcId="{B74DFEC7-CC19-4437-8BB3-9E20D84273A7}" destId="{2B8BDEDD-8B43-4977-811B-8A89DB113820}" srcOrd="0" destOrd="0" presId="urn:microsoft.com/office/officeart/2005/8/layout/cycle1"/>
    <dgm:cxn modelId="{0688CB39-73B4-4FEE-8D1D-49C7BA633179}" srcId="{F138A870-490D-4515-8BE9-F7B8685CCF15}" destId="{6AB4FB30-0C87-4593-B861-A0DC2062367A}" srcOrd="1" destOrd="0" parTransId="{438E4DB8-6BEC-4C2F-BA53-2F477EF9088F}" sibTransId="{990230A9-3B9F-4E73-AC7D-072551B8220B}"/>
    <dgm:cxn modelId="{53D3E525-E528-4264-B43D-AA1C84010918}" type="presOf" srcId="{6AB4FB30-0C87-4593-B861-A0DC2062367A}" destId="{82C02BA0-A04B-44C7-88A0-853C5D4532D3}" srcOrd="0" destOrd="0" presId="urn:microsoft.com/office/officeart/2005/8/layout/cycle1"/>
    <dgm:cxn modelId="{C1F4F147-D2EF-4787-9E65-A3EDB067583E}" type="presOf" srcId="{A4E98528-2A15-4344-B01E-8E491A9571DE}" destId="{66B8A6A0-4CD7-4AC2-B5C2-1DA287D6EC10}" srcOrd="0" destOrd="0" presId="urn:microsoft.com/office/officeart/2005/8/layout/cycle1"/>
    <dgm:cxn modelId="{CE19EB7F-70BD-444B-AC3E-19894336606C}" srcId="{F138A870-490D-4515-8BE9-F7B8685CCF15}" destId="{A4E98528-2A15-4344-B01E-8E491A9571DE}" srcOrd="0" destOrd="0" parTransId="{D8457A38-D1C6-49A0-8090-3115BAB7EA18}" sibTransId="{EB8FA345-8F8A-457F-92F0-2B1EEEA09B90}"/>
    <dgm:cxn modelId="{ACB53C62-866E-4181-8289-41F6CB20E88C}" type="presOf" srcId="{5B69DF39-8C99-4514-8838-69292E55073A}" destId="{4EDFE48E-7DE0-4880-8D89-F4B25851A989}" srcOrd="0" destOrd="0" presId="urn:microsoft.com/office/officeart/2005/8/layout/cycle1"/>
    <dgm:cxn modelId="{106BF3F3-78E4-4B6D-9D3C-3176172A3E29}" srcId="{F138A870-490D-4515-8BE9-F7B8685CCF15}" destId="{5B69DF39-8C99-4514-8838-69292E55073A}" srcOrd="2" destOrd="0" parTransId="{A7E56DBC-7BF6-494B-BCAF-EB03630F225E}" sibTransId="{B74DFEC7-CC19-4437-8BB3-9E20D84273A7}"/>
    <dgm:cxn modelId="{4930D29B-095A-4A69-991E-2AE3329B5D65}" type="presParOf" srcId="{5BB3FF3F-23DD-4C2D-BB55-D040E866BE10}" destId="{5931539E-9BEA-4273-899D-BF7AB1C2B793}" srcOrd="0" destOrd="0" presId="urn:microsoft.com/office/officeart/2005/8/layout/cycle1"/>
    <dgm:cxn modelId="{D1B253BA-0C07-411F-9153-E9A9C7BA1B5A}" type="presParOf" srcId="{5BB3FF3F-23DD-4C2D-BB55-D040E866BE10}" destId="{66B8A6A0-4CD7-4AC2-B5C2-1DA287D6EC10}" srcOrd="1" destOrd="0" presId="urn:microsoft.com/office/officeart/2005/8/layout/cycle1"/>
    <dgm:cxn modelId="{239DACA0-9697-43C8-97CF-D7631C942264}" type="presParOf" srcId="{5BB3FF3F-23DD-4C2D-BB55-D040E866BE10}" destId="{31DA0B99-BB9C-414A-AFB4-C6E1DA8C7CA9}" srcOrd="2" destOrd="0" presId="urn:microsoft.com/office/officeart/2005/8/layout/cycle1"/>
    <dgm:cxn modelId="{83FD84F6-54E6-45DC-A03E-92584D2829FB}" type="presParOf" srcId="{5BB3FF3F-23DD-4C2D-BB55-D040E866BE10}" destId="{65457499-AE64-4401-85EF-E413C5A9964A}" srcOrd="3" destOrd="0" presId="urn:microsoft.com/office/officeart/2005/8/layout/cycle1"/>
    <dgm:cxn modelId="{3BDE3313-8928-45DA-8675-B1A8DAEB0BC4}" type="presParOf" srcId="{5BB3FF3F-23DD-4C2D-BB55-D040E866BE10}" destId="{82C02BA0-A04B-44C7-88A0-853C5D4532D3}" srcOrd="4" destOrd="0" presId="urn:microsoft.com/office/officeart/2005/8/layout/cycle1"/>
    <dgm:cxn modelId="{6E1ED065-F8AE-4C77-B4DF-C3E8CBA5783E}" type="presParOf" srcId="{5BB3FF3F-23DD-4C2D-BB55-D040E866BE10}" destId="{CF02E5AC-673B-4D61-A38E-2719D58EA038}" srcOrd="5" destOrd="0" presId="urn:microsoft.com/office/officeart/2005/8/layout/cycle1"/>
    <dgm:cxn modelId="{A1D3F0A0-723E-4F11-BC87-AE9A3DAF051A}" type="presParOf" srcId="{5BB3FF3F-23DD-4C2D-BB55-D040E866BE10}" destId="{8A2A3039-750B-4F1C-9727-99DB30FF209A}" srcOrd="6" destOrd="0" presId="urn:microsoft.com/office/officeart/2005/8/layout/cycle1"/>
    <dgm:cxn modelId="{8C9AE148-A0D3-4B36-BFC3-0C890C6A4EF1}" type="presParOf" srcId="{5BB3FF3F-23DD-4C2D-BB55-D040E866BE10}" destId="{4EDFE48E-7DE0-4880-8D89-F4B25851A989}" srcOrd="7" destOrd="0" presId="urn:microsoft.com/office/officeart/2005/8/layout/cycle1"/>
    <dgm:cxn modelId="{3E7E70E8-F7F5-4878-959B-9616CD036F6D}" type="presParOf" srcId="{5BB3FF3F-23DD-4C2D-BB55-D040E866BE10}" destId="{2B8BDEDD-8B43-4977-811B-8A89DB113820}" srcOrd="8" destOrd="0" presId="urn:microsoft.com/office/officeart/2005/8/layout/cycle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FC030C4-46AF-4D20-8908-2CA4293FDCE7}" type="doc">
      <dgm:prSet loTypeId="urn:microsoft.com/office/officeart/2005/8/layout/hList9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B16B714A-D41A-4F29-BC1B-E728601652E2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1era Etapa </a:t>
          </a:r>
        </a:p>
        <a:p>
          <a:r>
            <a:rPr lang="es-CL" sz="1800" b="1" dirty="0" smtClean="0">
              <a:latin typeface="+mn-lt"/>
              <a:ea typeface="+mn-ea"/>
              <a:cs typeface="+mn-cs"/>
            </a:rPr>
            <a:t>2010</a:t>
          </a:r>
          <a:endParaRPr lang="es-ES" sz="1800" dirty="0"/>
        </a:p>
      </dgm:t>
    </dgm:pt>
    <dgm:pt modelId="{426E0D60-B0C9-4977-AA52-0195CD43A536}" type="parTrans" cxnId="{CF5D2A04-3EFE-427D-A87F-E8C150D8752D}">
      <dgm:prSet/>
      <dgm:spPr/>
      <dgm:t>
        <a:bodyPr/>
        <a:lstStyle/>
        <a:p>
          <a:endParaRPr lang="es-ES" sz="1600"/>
        </a:p>
      </dgm:t>
    </dgm:pt>
    <dgm:pt modelId="{9655315E-EFFE-416B-B691-E58FD9A6C6AD}" type="sibTrans" cxnId="{CF5D2A04-3EFE-427D-A87F-E8C150D8752D}">
      <dgm:prSet/>
      <dgm:spPr/>
      <dgm:t>
        <a:bodyPr/>
        <a:lstStyle/>
        <a:p>
          <a:endParaRPr lang="es-ES" sz="1600"/>
        </a:p>
      </dgm:t>
    </dgm:pt>
    <dgm:pt modelId="{FB3269C4-B162-42C8-9F5F-E736C8939AC6}">
      <dgm:prSet phldrT="[Texto]"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/>
          <a:r>
            <a:rPr lang="es-CL" sz="1800" dirty="0" smtClean="0"/>
            <a:t>88,18%</a:t>
          </a:r>
          <a:endParaRPr lang="es-ES" sz="1800" dirty="0">
            <a:solidFill>
              <a:srgbClr val="002060"/>
            </a:solidFill>
          </a:endParaRPr>
        </a:p>
      </dgm:t>
    </dgm:pt>
    <dgm:pt modelId="{2B627B84-7D84-4952-BBCE-088E3237C0AE}" type="parTrans" cxnId="{71C7F1A7-1F87-46F8-B2BF-EE31F24B93EA}">
      <dgm:prSet/>
      <dgm:spPr/>
      <dgm:t>
        <a:bodyPr/>
        <a:lstStyle/>
        <a:p>
          <a:endParaRPr lang="es-ES" sz="1600"/>
        </a:p>
      </dgm:t>
    </dgm:pt>
    <dgm:pt modelId="{7D30B722-AB90-4C42-8AFB-2EF070F88D80}" type="sibTrans" cxnId="{71C7F1A7-1F87-46F8-B2BF-EE31F24B93EA}">
      <dgm:prSet/>
      <dgm:spPr/>
      <dgm:t>
        <a:bodyPr/>
        <a:lstStyle/>
        <a:p>
          <a:endParaRPr lang="es-ES" sz="1600"/>
        </a:p>
      </dgm:t>
    </dgm:pt>
    <dgm:pt modelId="{15815EF9-F314-4715-A434-550F1F8DC166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2da Etapa </a:t>
          </a:r>
        </a:p>
        <a:p>
          <a:r>
            <a:rPr lang="es-CL" sz="1800" b="1" dirty="0" smtClean="0">
              <a:latin typeface="+mn-lt"/>
              <a:ea typeface="+mn-ea"/>
              <a:cs typeface="+mn-cs"/>
            </a:rPr>
            <a:t>2010</a:t>
          </a:r>
          <a:endParaRPr lang="es-ES" sz="1200" dirty="0"/>
        </a:p>
      </dgm:t>
    </dgm:pt>
    <dgm:pt modelId="{2EB05F05-DEB3-48CF-94F2-A3C5C1D6E9A4}" type="parTrans" cxnId="{B87312EA-F44C-4870-B71C-991233C14594}">
      <dgm:prSet/>
      <dgm:spPr/>
      <dgm:t>
        <a:bodyPr/>
        <a:lstStyle/>
        <a:p>
          <a:endParaRPr lang="es-ES" sz="1600"/>
        </a:p>
      </dgm:t>
    </dgm:pt>
    <dgm:pt modelId="{4DEB72B9-8DF2-483F-A6C5-45561DF41596}" type="sibTrans" cxnId="{B87312EA-F44C-4870-B71C-991233C14594}">
      <dgm:prSet/>
      <dgm:spPr/>
      <dgm:t>
        <a:bodyPr/>
        <a:lstStyle/>
        <a:p>
          <a:endParaRPr lang="es-ES" sz="1600"/>
        </a:p>
      </dgm:t>
    </dgm:pt>
    <dgm:pt modelId="{BD69ACB8-C3D2-41D9-8CDA-8A70743B26A7}">
      <dgm:prSet phldrT="[Texto]" custT="1"/>
      <dgm:spPr>
        <a:solidFill>
          <a:srgbClr val="21C5FF">
            <a:alpha val="89804"/>
          </a:srgbClr>
        </a:solidFill>
      </dgm:spPr>
      <dgm:t>
        <a:bodyPr/>
        <a:lstStyle/>
        <a:p>
          <a:pPr algn="l" rtl="0"/>
          <a:r>
            <a:rPr kumimoji="0" lang="es-CL" sz="900" b="0" i="0" u="none" strike="noStrike" cap="none" spc="0" normalizeH="0" baseline="0" noProof="0" dirty="0" smtClean="0">
              <a:ln>
                <a:noFill/>
              </a:ln>
              <a:solidFill>
                <a:schemeClr val="tx1"/>
              </a:solidFill>
              <a:effectLst/>
              <a:uLnTx/>
              <a:uFillTx/>
              <a:latin typeface="+mn-lt"/>
              <a:ea typeface="+mn-ea"/>
              <a:cs typeface="+mn-cs"/>
            </a:rPr>
            <a:t>(19/11/2010 – 17/12/2010)</a:t>
          </a:r>
          <a:endParaRPr lang="es-ES" sz="900" b="1" dirty="0">
            <a:solidFill>
              <a:schemeClr val="tx1"/>
            </a:solidFill>
            <a:latin typeface="Calibri" pitchFamily="34" charset="0"/>
          </a:endParaRPr>
        </a:p>
      </dgm:t>
    </dgm:pt>
    <dgm:pt modelId="{F54ACB54-5073-481B-A8D5-9E9287329F33}" type="parTrans" cxnId="{59D9C655-8E79-4DF1-8DD0-D3D57C8F8C39}">
      <dgm:prSet/>
      <dgm:spPr/>
      <dgm:t>
        <a:bodyPr/>
        <a:lstStyle/>
        <a:p>
          <a:endParaRPr lang="es-ES" sz="1600"/>
        </a:p>
      </dgm:t>
    </dgm:pt>
    <dgm:pt modelId="{951E4C2A-B077-43E2-9115-104A222B1144}" type="sibTrans" cxnId="{59D9C655-8E79-4DF1-8DD0-D3D57C8F8C39}">
      <dgm:prSet/>
      <dgm:spPr/>
      <dgm:t>
        <a:bodyPr/>
        <a:lstStyle/>
        <a:p>
          <a:endParaRPr lang="es-ES" sz="1600"/>
        </a:p>
      </dgm:t>
    </dgm:pt>
    <dgm:pt modelId="{9EBB0D65-5195-4B81-8234-25D5D5E3EA04}">
      <dgm:prSet phldrT="[Texto]"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es-CL" sz="1200" kern="1200" dirty="0" smtClean="0">
              <a:solidFill>
                <a:schemeClr val="dk1">
                  <a:hueOff val="0"/>
                  <a:satOff val="0"/>
                  <a:lumOff val="0"/>
                  <a:alphaOff val="0"/>
                </a:schemeClr>
              </a:solidFill>
              <a:latin typeface="+mn-lt"/>
              <a:ea typeface="+mn-ea"/>
              <a:cs typeface="+mn-cs"/>
            </a:rPr>
            <a:t>16,1</a:t>
          </a:r>
          <a:r>
            <a:rPr lang="es-CL" sz="800" kern="1200" dirty="0" smtClean="0">
              <a:solidFill>
                <a:schemeClr val="dk1"/>
              </a:solidFill>
              <a:latin typeface="+mn-lt"/>
              <a:ea typeface="+mn-ea"/>
              <a:cs typeface="+mn-cs"/>
            </a:rPr>
            <a:t>%                                       </a:t>
          </a:r>
          <a:r>
            <a:rPr lang="es-CL" sz="800" b="0" u="none" kern="1200" dirty="0" smtClean="0">
              <a:solidFill>
                <a:schemeClr val="tx1"/>
              </a:solidFill>
            </a:rPr>
            <a:t> </a:t>
          </a:r>
          <a:r>
            <a:rPr lang="es-CL" sz="800" i="1" kern="1200" dirty="0" smtClean="0"/>
            <a:t>(43  Organismos 100 puntos)</a:t>
          </a:r>
          <a:endParaRPr lang="es-ES" sz="800" i="1" kern="1200" dirty="0"/>
        </a:p>
      </dgm:t>
    </dgm:pt>
    <dgm:pt modelId="{6E85A17B-42F4-4EE3-B463-8CA28E5783A4}" type="parTrans" cxnId="{5227107F-EDCF-4A16-A511-F30D3C9A91C3}">
      <dgm:prSet/>
      <dgm:spPr/>
      <dgm:t>
        <a:bodyPr/>
        <a:lstStyle/>
        <a:p>
          <a:endParaRPr lang="es-ES" sz="1600"/>
        </a:p>
      </dgm:t>
    </dgm:pt>
    <dgm:pt modelId="{926A5E38-C70C-466D-B55B-72B4DADBA538}" type="sibTrans" cxnId="{5227107F-EDCF-4A16-A511-F30D3C9A91C3}">
      <dgm:prSet/>
      <dgm:spPr/>
      <dgm:t>
        <a:bodyPr/>
        <a:lstStyle/>
        <a:p>
          <a:endParaRPr lang="es-ES" sz="1600"/>
        </a:p>
      </dgm:t>
    </dgm:pt>
    <dgm:pt modelId="{319B289E-40EC-4BDF-BA2E-170D137BD7D1}">
      <dgm:prSet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>
            <a:spcAft>
              <a:spcPts val="0"/>
            </a:spcAft>
          </a:pPr>
          <a:r>
            <a:rPr lang="es-CL" sz="800" dirty="0" smtClean="0"/>
            <a:t>3,0%</a:t>
          </a:r>
        </a:p>
        <a:p>
          <a:pPr algn="ctr" rtl="0">
            <a:spcAft>
              <a:spcPts val="0"/>
            </a:spcAft>
          </a:pPr>
          <a:r>
            <a:rPr lang="es-CL" sz="800" i="1" dirty="0" smtClean="0"/>
            <a:t>(8  Organismos 100 puntos)</a:t>
          </a:r>
          <a:endParaRPr lang="es-ES" sz="800" i="1" dirty="0">
            <a:solidFill>
              <a:srgbClr val="002060"/>
            </a:solidFill>
          </a:endParaRPr>
        </a:p>
      </dgm:t>
    </dgm:pt>
    <dgm:pt modelId="{57A982FE-A0A5-4E47-9A7D-91BC7DC953B8}" type="parTrans" cxnId="{F68BE7FF-E2A9-4CE8-9AE0-3B0DFA28B45C}">
      <dgm:prSet/>
      <dgm:spPr/>
      <dgm:t>
        <a:bodyPr/>
        <a:lstStyle/>
        <a:p>
          <a:endParaRPr lang="es-ES" sz="1600"/>
        </a:p>
      </dgm:t>
    </dgm:pt>
    <dgm:pt modelId="{3FD846E3-B402-4B3B-9041-B3F751B3583B}" type="sibTrans" cxnId="{F68BE7FF-E2A9-4CE8-9AE0-3B0DFA28B45C}">
      <dgm:prSet/>
      <dgm:spPr/>
      <dgm:t>
        <a:bodyPr/>
        <a:lstStyle/>
        <a:p>
          <a:endParaRPr lang="es-ES" sz="1600"/>
        </a:p>
      </dgm:t>
    </dgm:pt>
    <dgm:pt modelId="{5C3A0CB1-2EA9-4156-926E-3D97B6E41F31}">
      <dgm:prSet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 rtl="0"/>
          <a:r>
            <a:rPr lang="es-CL" sz="1800" b="0" dirty="0" smtClean="0"/>
            <a:t>93,82%</a:t>
          </a:r>
          <a:endParaRPr lang="es-ES" sz="1800" b="0" dirty="0">
            <a:solidFill>
              <a:srgbClr val="002060"/>
            </a:solidFill>
          </a:endParaRPr>
        </a:p>
      </dgm:t>
    </dgm:pt>
    <dgm:pt modelId="{EBA2C5AE-727D-426C-89B9-599A933AACD4}" type="parTrans" cxnId="{E8B3DAD4-220D-4C23-99AE-A8F2D430AEDC}">
      <dgm:prSet/>
      <dgm:spPr/>
      <dgm:t>
        <a:bodyPr/>
        <a:lstStyle/>
        <a:p>
          <a:endParaRPr lang="es-ES" sz="1600"/>
        </a:p>
      </dgm:t>
    </dgm:pt>
    <dgm:pt modelId="{AC83A738-5D2F-437F-92E9-0CD0F9DEE15B}" type="sibTrans" cxnId="{E8B3DAD4-220D-4C23-99AE-A8F2D430AEDC}">
      <dgm:prSet/>
      <dgm:spPr/>
      <dgm:t>
        <a:bodyPr/>
        <a:lstStyle/>
        <a:p>
          <a:endParaRPr lang="es-ES" sz="1600"/>
        </a:p>
      </dgm:t>
    </dgm:pt>
    <dgm:pt modelId="{6C1DDAB7-5429-4433-A989-AC2B20B64E18}">
      <dgm:prSet phldrT="[Texto]" custT="1"/>
      <dgm:spPr>
        <a:solidFill>
          <a:srgbClr val="21C5FF"/>
        </a:solidFill>
      </dgm:spPr>
      <dgm:t>
        <a:bodyPr anchor="ctr" anchorCtr="0"/>
        <a:lstStyle/>
        <a:p>
          <a:pPr algn="l"/>
          <a:r>
            <a:rPr kumimoji="0" lang="es-CL" sz="900" b="0" i="0" u="none" strike="noStrike" cap="none" spc="0" normalizeH="0" baseline="0" noProof="0" dirty="0" smtClean="0">
              <a:ln>
                <a:noFill/>
              </a:ln>
              <a:solidFill>
                <a:schemeClr val="tx1"/>
              </a:solidFill>
              <a:effectLst/>
              <a:uLnTx/>
              <a:uFillTx/>
              <a:latin typeface="+mn-lt"/>
              <a:ea typeface="+mn-ea"/>
              <a:cs typeface="+mn-cs"/>
            </a:rPr>
            <a:t>(15/09/2010 – 22/10/2010)</a:t>
          </a:r>
          <a:endParaRPr kumimoji="0" lang="es-ES" sz="900" b="1" i="0" u="none" strike="noStrike" cap="none" spc="0" normalizeH="0" baseline="0" noProof="0" dirty="0" smtClean="0">
            <a:ln>
              <a:noFill/>
            </a:ln>
            <a:solidFill>
              <a:srgbClr val="002060"/>
            </a:solidFill>
            <a:effectLst/>
            <a:uLnTx/>
            <a:uFillTx/>
            <a:latin typeface="+mn-lt"/>
            <a:ea typeface="+mn-ea"/>
            <a:cs typeface="+mn-cs"/>
          </a:endParaRPr>
        </a:p>
      </dgm:t>
    </dgm:pt>
    <dgm:pt modelId="{08AFDCEB-9F4A-4642-8391-3819A0B10F33}" type="sibTrans" cxnId="{FC4320E0-E40C-4E57-B27E-50F085900A18}">
      <dgm:prSet/>
      <dgm:spPr/>
      <dgm:t>
        <a:bodyPr/>
        <a:lstStyle/>
        <a:p>
          <a:endParaRPr lang="es-ES" sz="1600"/>
        </a:p>
      </dgm:t>
    </dgm:pt>
    <dgm:pt modelId="{1FA0E56F-C72C-49F4-AB34-035AD8BFD5B4}" type="parTrans" cxnId="{FC4320E0-E40C-4E57-B27E-50F085900A18}">
      <dgm:prSet/>
      <dgm:spPr/>
      <dgm:t>
        <a:bodyPr/>
        <a:lstStyle/>
        <a:p>
          <a:endParaRPr lang="es-ES" sz="1600"/>
        </a:p>
      </dgm:t>
    </dgm:pt>
    <dgm:pt modelId="{BFF28638-E5AB-4EE7-B641-3638A3A92147}" type="pres">
      <dgm:prSet presAssocID="{BFC030C4-46AF-4D20-8908-2CA4293FDCE7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es-ES"/>
        </a:p>
      </dgm:t>
    </dgm:pt>
    <dgm:pt modelId="{FB50815C-A0E0-4FC0-BD19-6EECD26EA0ED}" type="pres">
      <dgm:prSet presAssocID="{B16B714A-D41A-4F29-BC1B-E728601652E2}" presName="posSpace" presStyleCnt="0"/>
      <dgm:spPr/>
    </dgm:pt>
    <dgm:pt modelId="{90FCC19F-5F1E-4801-AD0E-79FC5EB81555}" type="pres">
      <dgm:prSet presAssocID="{B16B714A-D41A-4F29-BC1B-E728601652E2}" presName="vertFlow" presStyleCnt="0"/>
      <dgm:spPr/>
    </dgm:pt>
    <dgm:pt modelId="{E0DB5AC0-BF40-47A6-8C88-048E03EF7BAC}" type="pres">
      <dgm:prSet presAssocID="{B16B714A-D41A-4F29-BC1B-E728601652E2}" presName="topSpace" presStyleCnt="0"/>
      <dgm:spPr/>
    </dgm:pt>
    <dgm:pt modelId="{C8448151-25B8-493F-BB97-D40A8D3C1DB7}" type="pres">
      <dgm:prSet presAssocID="{B16B714A-D41A-4F29-BC1B-E728601652E2}" presName="firstComp" presStyleCnt="0"/>
      <dgm:spPr/>
    </dgm:pt>
    <dgm:pt modelId="{187117A7-BBE0-415F-877E-B4B6F3A2CB39}" type="pres">
      <dgm:prSet presAssocID="{B16B714A-D41A-4F29-BC1B-E728601652E2}" presName="firstChild" presStyleLbl="bgAccFollowNode1" presStyleIdx="0" presStyleCnt="6" custScaleX="98553" custScaleY="37522" custLinFactNeighborX="-296"/>
      <dgm:spPr/>
      <dgm:t>
        <a:bodyPr/>
        <a:lstStyle/>
        <a:p>
          <a:endParaRPr lang="es-ES"/>
        </a:p>
      </dgm:t>
    </dgm:pt>
    <dgm:pt modelId="{DC06F298-AB4A-4331-91F0-6FEF2F1AA0FD}" type="pres">
      <dgm:prSet presAssocID="{B16B714A-D41A-4F29-BC1B-E728601652E2}" presName="firstChildTx" presStyleLbl="b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05046F3-A76F-432A-AD3C-FBE3D2D538D1}" type="pres">
      <dgm:prSet presAssocID="{FB3269C4-B162-42C8-9F5F-E736C8939AC6}" presName="comp" presStyleCnt="0"/>
      <dgm:spPr/>
    </dgm:pt>
    <dgm:pt modelId="{6E647B21-6905-4694-AC4D-A5EACA5B1B2F}" type="pres">
      <dgm:prSet presAssocID="{FB3269C4-B162-42C8-9F5F-E736C8939AC6}" presName="child" presStyleLbl="bgAccFollowNode1" presStyleIdx="1" presStyleCnt="6" custScaleY="38746"/>
      <dgm:spPr/>
      <dgm:t>
        <a:bodyPr/>
        <a:lstStyle/>
        <a:p>
          <a:endParaRPr lang="es-ES"/>
        </a:p>
      </dgm:t>
    </dgm:pt>
    <dgm:pt modelId="{B38E336A-862B-4100-807E-DD850F103745}" type="pres">
      <dgm:prSet presAssocID="{FB3269C4-B162-42C8-9F5F-E736C8939AC6}" presName="childTx" presStyleLbl="bg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E4903E8-0454-4855-B70D-5D75C15EF485}" type="pres">
      <dgm:prSet presAssocID="{319B289E-40EC-4BDF-BA2E-170D137BD7D1}" presName="comp" presStyleCnt="0"/>
      <dgm:spPr/>
    </dgm:pt>
    <dgm:pt modelId="{9B804902-2DC2-44CD-879D-1F0F56B744A3}" type="pres">
      <dgm:prSet presAssocID="{319B289E-40EC-4BDF-BA2E-170D137BD7D1}" presName="child" presStyleLbl="bgAccFollowNode1" presStyleIdx="2" presStyleCnt="6" custScaleY="30090"/>
      <dgm:spPr/>
      <dgm:t>
        <a:bodyPr/>
        <a:lstStyle/>
        <a:p>
          <a:endParaRPr lang="es-ES"/>
        </a:p>
      </dgm:t>
    </dgm:pt>
    <dgm:pt modelId="{9E902466-C8B0-4C3A-81E1-3A3FB0CB5E62}" type="pres">
      <dgm:prSet presAssocID="{319B289E-40EC-4BDF-BA2E-170D137BD7D1}" presName="childTx" presStyleLbl="b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D9C1F19-01CA-4A5B-BD7B-782489B7DDF0}" type="pres">
      <dgm:prSet presAssocID="{B16B714A-D41A-4F29-BC1B-E728601652E2}" presName="negSpace" presStyleCnt="0"/>
      <dgm:spPr/>
    </dgm:pt>
    <dgm:pt modelId="{1310D3BA-7AAB-4649-8215-3E11B531E204}" type="pres">
      <dgm:prSet presAssocID="{B16B714A-D41A-4F29-BC1B-E728601652E2}" presName="circle" presStyleLbl="node1" presStyleIdx="0" presStyleCnt="2" custScaleX="79884" custScaleY="77449" custLinFactNeighborX="7491" custLinFactNeighborY="-1175"/>
      <dgm:spPr/>
      <dgm:t>
        <a:bodyPr/>
        <a:lstStyle/>
        <a:p>
          <a:endParaRPr lang="es-ES"/>
        </a:p>
      </dgm:t>
    </dgm:pt>
    <dgm:pt modelId="{5923B27A-1BA3-4B61-B211-1D5CF3BD91BF}" type="pres">
      <dgm:prSet presAssocID="{9655315E-EFFE-416B-B691-E58FD9A6C6AD}" presName="transSpace" presStyleCnt="0"/>
      <dgm:spPr/>
    </dgm:pt>
    <dgm:pt modelId="{4E713FA9-E0E0-41B9-B51D-464EDB37BEE3}" type="pres">
      <dgm:prSet presAssocID="{15815EF9-F314-4715-A434-550F1F8DC166}" presName="posSpace" presStyleCnt="0"/>
      <dgm:spPr/>
    </dgm:pt>
    <dgm:pt modelId="{9F7E1146-0FBC-47A2-8E7E-404FA3326920}" type="pres">
      <dgm:prSet presAssocID="{15815EF9-F314-4715-A434-550F1F8DC166}" presName="vertFlow" presStyleCnt="0"/>
      <dgm:spPr/>
    </dgm:pt>
    <dgm:pt modelId="{0BF2C30B-4EE0-4AD8-87A6-CE21DF74106C}" type="pres">
      <dgm:prSet presAssocID="{15815EF9-F314-4715-A434-550F1F8DC166}" presName="topSpace" presStyleCnt="0"/>
      <dgm:spPr/>
    </dgm:pt>
    <dgm:pt modelId="{FBD8216E-CA4E-4836-9C34-C1CD8DC41559}" type="pres">
      <dgm:prSet presAssocID="{15815EF9-F314-4715-A434-550F1F8DC166}" presName="firstComp" presStyleCnt="0"/>
      <dgm:spPr/>
    </dgm:pt>
    <dgm:pt modelId="{BAADEACC-0C55-4CE2-9210-F12DA9BBC77D}" type="pres">
      <dgm:prSet presAssocID="{15815EF9-F314-4715-A434-550F1F8DC166}" presName="firstChild" presStyleLbl="bgAccFollowNode1" presStyleIdx="3" presStyleCnt="6" custScaleX="100243" custScaleY="37522" custLinFactNeighborX="-4532" custLinFactNeighborY="-907"/>
      <dgm:spPr/>
      <dgm:t>
        <a:bodyPr/>
        <a:lstStyle/>
        <a:p>
          <a:endParaRPr lang="es-ES"/>
        </a:p>
      </dgm:t>
    </dgm:pt>
    <dgm:pt modelId="{BF842EE5-AC8C-4B29-9B0D-DE0A89503A50}" type="pres">
      <dgm:prSet presAssocID="{15815EF9-F314-4715-A434-550F1F8DC166}" presName="firstChildTx" presStyleLbl="b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A87594C-C4A6-4DFA-A4AD-DA0E06A157EA}" type="pres">
      <dgm:prSet presAssocID="{5C3A0CB1-2EA9-4156-926E-3D97B6E41F31}" presName="comp" presStyleCnt="0"/>
      <dgm:spPr/>
    </dgm:pt>
    <dgm:pt modelId="{949E7BCD-C326-4340-A244-EC4DF5617301}" type="pres">
      <dgm:prSet presAssocID="{5C3A0CB1-2EA9-4156-926E-3D97B6E41F31}" presName="child" presStyleLbl="bgAccFollowNode1" presStyleIdx="4" presStyleCnt="6" custScaleX="100329" custScaleY="38746" custLinFactNeighborX="-4532" custLinFactNeighborY="-907"/>
      <dgm:spPr/>
      <dgm:t>
        <a:bodyPr/>
        <a:lstStyle/>
        <a:p>
          <a:endParaRPr lang="es-ES"/>
        </a:p>
      </dgm:t>
    </dgm:pt>
    <dgm:pt modelId="{0562A3A2-A92B-4EE4-92B7-C04825635D85}" type="pres">
      <dgm:prSet presAssocID="{5C3A0CB1-2EA9-4156-926E-3D97B6E41F31}" presName="childTx" presStyleLbl="b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15D738C-F34F-4B06-92CF-2B541E4601C2}" type="pres">
      <dgm:prSet presAssocID="{9EBB0D65-5195-4B81-8234-25D5D5E3EA04}" presName="comp" presStyleCnt="0"/>
      <dgm:spPr/>
    </dgm:pt>
    <dgm:pt modelId="{47E1FB40-E659-42BF-B735-3102C6DD9FBC}" type="pres">
      <dgm:prSet presAssocID="{9EBB0D65-5195-4B81-8234-25D5D5E3EA04}" presName="child" presStyleLbl="bgAccFollowNode1" presStyleIdx="5" presStyleCnt="6" custScaleX="101617" custScaleY="32507" custLinFactNeighborX="-4532" custLinFactNeighborY="-907"/>
      <dgm:spPr/>
      <dgm:t>
        <a:bodyPr/>
        <a:lstStyle/>
        <a:p>
          <a:endParaRPr lang="es-ES"/>
        </a:p>
      </dgm:t>
    </dgm:pt>
    <dgm:pt modelId="{B7CF8CFC-7DAC-4A19-8C83-833B24AE8D5B}" type="pres">
      <dgm:prSet presAssocID="{9EBB0D65-5195-4B81-8234-25D5D5E3EA04}" presName="childTx" presStyleLbl="b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43CA8D4-0040-4894-A4A1-DF65B536B32F}" type="pres">
      <dgm:prSet presAssocID="{15815EF9-F314-4715-A434-550F1F8DC166}" presName="negSpace" presStyleCnt="0"/>
      <dgm:spPr/>
    </dgm:pt>
    <dgm:pt modelId="{66D29932-A835-42F5-BE34-D1E4C882FC4A}" type="pres">
      <dgm:prSet presAssocID="{15815EF9-F314-4715-A434-550F1F8DC166}" presName="circle" presStyleLbl="node1" presStyleIdx="1" presStyleCnt="2" custScaleX="79178" custScaleY="71221" custLinFactNeighborX="7024" custLinFactNeighborY="-5017"/>
      <dgm:spPr/>
      <dgm:t>
        <a:bodyPr/>
        <a:lstStyle/>
        <a:p>
          <a:endParaRPr lang="es-ES"/>
        </a:p>
      </dgm:t>
    </dgm:pt>
  </dgm:ptLst>
  <dgm:cxnLst>
    <dgm:cxn modelId="{39F6761A-241A-4143-BC2B-32D2944DACB5}" type="presOf" srcId="{5C3A0CB1-2EA9-4156-926E-3D97B6E41F31}" destId="{0562A3A2-A92B-4EE4-92B7-C04825635D85}" srcOrd="1" destOrd="0" presId="urn:microsoft.com/office/officeart/2005/8/layout/hList9"/>
    <dgm:cxn modelId="{DE62318C-4F2A-443D-9DC9-EA775A3086EA}" type="presOf" srcId="{15815EF9-F314-4715-A434-550F1F8DC166}" destId="{66D29932-A835-42F5-BE34-D1E4C882FC4A}" srcOrd="0" destOrd="0" presId="urn:microsoft.com/office/officeart/2005/8/layout/hList9"/>
    <dgm:cxn modelId="{014E44D8-0CA3-4A7C-B2C3-5EEA41367051}" type="presOf" srcId="{6C1DDAB7-5429-4433-A989-AC2B20B64E18}" destId="{DC06F298-AB4A-4331-91F0-6FEF2F1AA0FD}" srcOrd="1" destOrd="0" presId="urn:microsoft.com/office/officeart/2005/8/layout/hList9"/>
    <dgm:cxn modelId="{B3EFD555-5D15-4E30-8EA2-9BB38C8C7FCF}" type="presOf" srcId="{319B289E-40EC-4BDF-BA2E-170D137BD7D1}" destId="{9E902466-C8B0-4C3A-81E1-3A3FB0CB5E62}" srcOrd="1" destOrd="0" presId="urn:microsoft.com/office/officeart/2005/8/layout/hList9"/>
    <dgm:cxn modelId="{CA7A12C0-D848-4346-9056-40E09E711F49}" type="presOf" srcId="{FB3269C4-B162-42C8-9F5F-E736C8939AC6}" destId="{6E647B21-6905-4694-AC4D-A5EACA5B1B2F}" srcOrd="0" destOrd="0" presId="urn:microsoft.com/office/officeart/2005/8/layout/hList9"/>
    <dgm:cxn modelId="{FC4320E0-E40C-4E57-B27E-50F085900A18}" srcId="{B16B714A-D41A-4F29-BC1B-E728601652E2}" destId="{6C1DDAB7-5429-4433-A989-AC2B20B64E18}" srcOrd="0" destOrd="0" parTransId="{1FA0E56F-C72C-49F4-AB34-035AD8BFD5B4}" sibTransId="{08AFDCEB-9F4A-4642-8391-3819A0B10F33}"/>
    <dgm:cxn modelId="{6D1A2B6F-AB1D-4739-8A3E-1FA099014E32}" type="presOf" srcId="{9EBB0D65-5195-4B81-8234-25D5D5E3EA04}" destId="{B7CF8CFC-7DAC-4A19-8C83-833B24AE8D5B}" srcOrd="1" destOrd="0" presId="urn:microsoft.com/office/officeart/2005/8/layout/hList9"/>
    <dgm:cxn modelId="{94AF36E3-D3EF-4414-929D-2D5A5851B192}" type="presOf" srcId="{BD69ACB8-C3D2-41D9-8CDA-8A70743B26A7}" destId="{BAADEACC-0C55-4CE2-9210-F12DA9BBC77D}" srcOrd="0" destOrd="0" presId="urn:microsoft.com/office/officeart/2005/8/layout/hList9"/>
    <dgm:cxn modelId="{0BB28452-3B68-4110-8AAA-5E4FFB064532}" type="presOf" srcId="{FB3269C4-B162-42C8-9F5F-E736C8939AC6}" destId="{B38E336A-862B-4100-807E-DD850F103745}" srcOrd="1" destOrd="0" presId="urn:microsoft.com/office/officeart/2005/8/layout/hList9"/>
    <dgm:cxn modelId="{59D9C655-8E79-4DF1-8DD0-D3D57C8F8C39}" srcId="{15815EF9-F314-4715-A434-550F1F8DC166}" destId="{BD69ACB8-C3D2-41D9-8CDA-8A70743B26A7}" srcOrd="0" destOrd="0" parTransId="{F54ACB54-5073-481B-A8D5-9E9287329F33}" sibTransId="{951E4C2A-B077-43E2-9115-104A222B1144}"/>
    <dgm:cxn modelId="{CF5D2A04-3EFE-427D-A87F-E8C150D8752D}" srcId="{BFC030C4-46AF-4D20-8908-2CA4293FDCE7}" destId="{B16B714A-D41A-4F29-BC1B-E728601652E2}" srcOrd="0" destOrd="0" parTransId="{426E0D60-B0C9-4977-AA52-0195CD43A536}" sibTransId="{9655315E-EFFE-416B-B691-E58FD9A6C6AD}"/>
    <dgm:cxn modelId="{5227107F-EDCF-4A16-A511-F30D3C9A91C3}" srcId="{15815EF9-F314-4715-A434-550F1F8DC166}" destId="{9EBB0D65-5195-4B81-8234-25D5D5E3EA04}" srcOrd="2" destOrd="0" parTransId="{6E85A17B-42F4-4EE3-B463-8CA28E5783A4}" sibTransId="{926A5E38-C70C-466D-B55B-72B4DADBA538}"/>
    <dgm:cxn modelId="{6617A423-7BEE-4484-965C-37460CD25132}" type="presOf" srcId="{B16B714A-D41A-4F29-BC1B-E728601652E2}" destId="{1310D3BA-7AAB-4649-8215-3E11B531E204}" srcOrd="0" destOrd="0" presId="urn:microsoft.com/office/officeart/2005/8/layout/hList9"/>
    <dgm:cxn modelId="{E8B3DAD4-220D-4C23-99AE-A8F2D430AEDC}" srcId="{15815EF9-F314-4715-A434-550F1F8DC166}" destId="{5C3A0CB1-2EA9-4156-926E-3D97B6E41F31}" srcOrd="1" destOrd="0" parTransId="{EBA2C5AE-727D-426C-89B9-599A933AACD4}" sibTransId="{AC83A738-5D2F-437F-92E9-0CD0F9DEE15B}"/>
    <dgm:cxn modelId="{71C7F1A7-1F87-46F8-B2BF-EE31F24B93EA}" srcId="{B16B714A-D41A-4F29-BC1B-E728601652E2}" destId="{FB3269C4-B162-42C8-9F5F-E736C8939AC6}" srcOrd="1" destOrd="0" parTransId="{2B627B84-7D84-4952-BBCE-088E3237C0AE}" sibTransId="{7D30B722-AB90-4C42-8AFB-2EF070F88D80}"/>
    <dgm:cxn modelId="{077EFB87-7777-4954-8C38-F45643C1CB9D}" type="presOf" srcId="{319B289E-40EC-4BDF-BA2E-170D137BD7D1}" destId="{9B804902-2DC2-44CD-879D-1F0F56B744A3}" srcOrd="0" destOrd="0" presId="urn:microsoft.com/office/officeart/2005/8/layout/hList9"/>
    <dgm:cxn modelId="{26A372CF-34BA-4DBB-8131-7AF32C3A2812}" type="presOf" srcId="{5C3A0CB1-2EA9-4156-926E-3D97B6E41F31}" destId="{949E7BCD-C326-4340-A244-EC4DF5617301}" srcOrd="0" destOrd="0" presId="urn:microsoft.com/office/officeart/2005/8/layout/hList9"/>
    <dgm:cxn modelId="{44230E8F-54EF-43E1-9E02-CB450C5E4D96}" type="presOf" srcId="{6C1DDAB7-5429-4433-A989-AC2B20B64E18}" destId="{187117A7-BBE0-415F-877E-B4B6F3A2CB39}" srcOrd="0" destOrd="0" presId="urn:microsoft.com/office/officeart/2005/8/layout/hList9"/>
    <dgm:cxn modelId="{B87312EA-F44C-4870-B71C-991233C14594}" srcId="{BFC030C4-46AF-4D20-8908-2CA4293FDCE7}" destId="{15815EF9-F314-4715-A434-550F1F8DC166}" srcOrd="1" destOrd="0" parTransId="{2EB05F05-DEB3-48CF-94F2-A3C5C1D6E9A4}" sibTransId="{4DEB72B9-8DF2-483F-A6C5-45561DF41596}"/>
    <dgm:cxn modelId="{C4344404-60DF-4388-BE20-CA6D2F806E84}" type="presOf" srcId="{9EBB0D65-5195-4B81-8234-25D5D5E3EA04}" destId="{47E1FB40-E659-42BF-B735-3102C6DD9FBC}" srcOrd="0" destOrd="0" presId="urn:microsoft.com/office/officeart/2005/8/layout/hList9"/>
    <dgm:cxn modelId="{78C2A3FA-8184-4D8C-9BCF-40ED4AB738DA}" type="presOf" srcId="{BFC030C4-46AF-4D20-8908-2CA4293FDCE7}" destId="{BFF28638-E5AB-4EE7-B641-3638A3A92147}" srcOrd="0" destOrd="0" presId="urn:microsoft.com/office/officeart/2005/8/layout/hList9"/>
    <dgm:cxn modelId="{F68BE7FF-E2A9-4CE8-9AE0-3B0DFA28B45C}" srcId="{B16B714A-D41A-4F29-BC1B-E728601652E2}" destId="{319B289E-40EC-4BDF-BA2E-170D137BD7D1}" srcOrd="2" destOrd="0" parTransId="{57A982FE-A0A5-4E47-9A7D-91BC7DC953B8}" sibTransId="{3FD846E3-B402-4B3B-9041-B3F751B3583B}"/>
    <dgm:cxn modelId="{DB91835F-E11D-4A39-8131-A5133BD4E9E9}" type="presOf" srcId="{BD69ACB8-C3D2-41D9-8CDA-8A70743B26A7}" destId="{BF842EE5-AC8C-4B29-9B0D-DE0A89503A50}" srcOrd="1" destOrd="0" presId="urn:microsoft.com/office/officeart/2005/8/layout/hList9"/>
    <dgm:cxn modelId="{0D53590C-B399-4CC8-BDA8-F60ECA9A8DC3}" type="presParOf" srcId="{BFF28638-E5AB-4EE7-B641-3638A3A92147}" destId="{FB50815C-A0E0-4FC0-BD19-6EECD26EA0ED}" srcOrd="0" destOrd="0" presId="urn:microsoft.com/office/officeart/2005/8/layout/hList9"/>
    <dgm:cxn modelId="{E22CDEA4-2D9A-4E4E-A5E2-7772FB7F737C}" type="presParOf" srcId="{BFF28638-E5AB-4EE7-B641-3638A3A92147}" destId="{90FCC19F-5F1E-4801-AD0E-79FC5EB81555}" srcOrd="1" destOrd="0" presId="urn:microsoft.com/office/officeart/2005/8/layout/hList9"/>
    <dgm:cxn modelId="{244C668B-C8C4-4983-9DF1-B3AEA7B36D79}" type="presParOf" srcId="{90FCC19F-5F1E-4801-AD0E-79FC5EB81555}" destId="{E0DB5AC0-BF40-47A6-8C88-048E03EF7BAC}" srcOrd="0" destOrd="0" presId="urn:microsoft.com/office/officeart/2005/8/layout/hList9"/>
    <dgm:cxn modelId="{B039B3C0-ADFA-4CE3-B2AE-BD1A530912FF}" type="presParOf" srcId="{90FCC19F-5F1E-4801-AD0E-79FC5EB81555}" destId="{C8448151-25B8-493F-BB97-D40A8D3C1DB7}" srcOrd="1" destOrd="0" presId="urn:microsoft.com/office/officeart/2005/8/layout/hList9"/>
    <dgm:cxn modelId="{BA7AD5CD-02C2-4384-A2DA-3D23CB047540}" type="presParOf" srcId="{C8448151-25B8-493F-BB97-D40A8D3C1DB7}" destId="{187117A7-BBE0-415F-877E-B4B6F3A2CB39}" srcOrd="0" destOrd="0" presId="urn:microsoft.com/office/officeart/2005/8/layout/hList9"/>
    <dgm:cxn modelId="{06159EEC-4676-48B0-ADCC-532205F6F177}" type="presParOf" srcId="{C8448151-25B8-493F-BB97-D40A8D3C1DB7}" destId="{DC06F298-AB4A-4331-91F0-6FEF2F1AA0FD}" srcOrd="1" destOrd="0" presId="urn:microsoft.com/office/officeart/2005/8/layout/hList9"/>
    <dgm:cxn modelId="{7087ABEC-672D-4976-9561-A3A934E67D6C}" type="presParOf" srcId="{90FCC19F-5F1E-4801-AD0E-79FC5EB81555}" destId="{D05046F3-A76F-432A-AD3C-FBE3D2D538D1}" srcOrd="2" destOrd="0" presId="urn:microsoft.com/office/officeart/2005/8/layout/hList9"/>
    <dgm:cxn modelId="{01C04D74-A0AC-4264-B912-F199DBDDB306}" type="presParOf" srcId="{D05046F3-A76F-432A-AD3C-FBE3D2D538D1}" destId="{6E647B21-6905-4694-AC4D-A5EACA5B1B2F}" srcOrd="0" destOrd="0" presId="urn:microsoft.com/office/officeart/2005/8/layout/hList9"/>
    <dgm:cxn modelId="{2C0CF143-5C13-4D7D-8901-CEF20F4A745D}" type="presParOf" srcId="{D05046F3-A76F-432A-AD3C-FBE3D2D538D1}" destId="{B38E336A-862B-4100-807E-DD850F103745}" srcOrd="1" destOrd="0" presId="urn:microsoft.com/office/officeart/2005/8/layout/hList9"/>
    <dgm:cxn modelId="{22DBC8C7-F1AF-471B-88F3-229AAB17F045}" type="presParOf" srcId="{90FCC19F-5F1E-4801-AD0E-79FC5EB81555}" destId="{3E4903E8-0454-4855-B70D-5D75C15EF485}" srcOrd="3" destOrd="0" presId="urn:microsoft.com/office/officeart/2005/8/layout/hList9"/>
    <dgm:cxn modelId="{E2DAB62A-B583-433D-80A3-24F6974AC438}" type="presParOf" srcId="{3E4903E8-0454-4855-B70D-5D75C15EF485}" destId="{9B804902-2DC2-44CD-879D-1F0F56B744A3}" srcOrd="0" destOrd="0" presId="urn:microsoft.com/office/officeart/2005/8/layout/hList9"/>
    <dgm:cxn modelId="{27FC5652-B348-42DA-9FD9-6F9B4FC4D9C0}" type="presParOf" srcId="{3E4903E8-0454-4855-B70D-5D75C15EF485}" destId="{9E902466-C8B0-4C3A-81E1-3A3FB0CB5E62}" srcOrd="1" destOrd="0" presId="urn:microsoft.com/office/officeart/2005/8/layout/hList9"/>
    <dgm:cxn modelId="{3AA5007F-82BB-4050-94AF-0A2FE6DA5A3E}" type="presParOf" srcId="{BFF28638-E5AB-4EE7-B641-3638A3A92147}" destId="{CD9C1F19-01CA-4A5B-BD7B-782489B7DDF0}" srcOrd="2" destOrd="0" presId="urn:microsoft.com/office/officeart/2005/8/layout/hList9"/>
    <dgm:cxn modelId="{7F739585-3131-4B7A-B4E1-6520D6188305}" type="presParOf" srcId="{BFF28638-E5AB-4EE7-B641-3638A3A92147}" destId="{1310D3BA-7AAB-4649-8215-3E11B531E204}" srcOrd="3" destOrd="0" presId="urn:microsoft.com/office/officeart/2005/8/layout/hList9"/>
    <dgm:cxn modelId="{4258DAE5-4284-490C-9153-638463EC5BC0}" type="presParOf" srcId="{BFF28638-E5AB-4EE7-B641-3638A3A92147}" destId="{5923B27A-1BA3-4B61-B211-1D5CF3BD91BF}" srcOrd="4" destOrd="0" presId="urn:microsoft.com/office/officeart/2005/8/layout/hList9"/>
    <dgm:cxn modelId="{E5932FEA-B474-41F4-8832-BCB186178492}" type="presParOf" srcId="{BFF28638-E5AB-4EE7-B641-3638A3A92147}" destId="{4E713FA9-E0E0-41B9-B51D-464EDB37BEE3}" srcOrd="5" destOrd="0" presId="urn:microsoft.com/office/officeart/2005/8/layout/hList9"/>
    <dgm:cxn modelId="{619F81CF-2EC9-474E-8D4E-3581DAB06D66}" type="presParOf" srcId="{BFF28638-E5AB-4EE7-B641-3638A3A92147}" destId="{9F7E1146-0FBC-47A2-8E7E-404FA3326920}" srcOrd="6" destOrd="0" presId="urn:microsoft.com/office/officeart/2005/8/layout/hList9"/>
    <dgm:cxn modelId="{52976472-02F5-4AFC-8DC3-CC51C2E91FAE}" type="presParOf" srcId="{9F7E1146-0FBC-47A2-8E7E-404FA3326920}" destId="{0BF2C30B-4EE0-4AD8-87A6-CE21DF74106C}" srcOrd="0" destOrd="0" presId="urn:microsoft.com/office/officeart/2005/8/layout/hList9"/>
    <dgm:cxn modelId="{1D03886E-D5FF-4100-9316-DD3456EC3943}" type="presParOf" srcId="{9F7E1146-0FBC-47A2-8E7E-404FA3326920}" destId="{FBD8216E-CA4E-4836-9C34-C1CD8DC41559}" srcOrd="1" destOrd="0" presId="urn:microsoft.com/office/officeart/2005/8/layout/hList9"/>
    <dgm:cxn modelId="{1A384546-CE89-402B-A002-971B91AF3D9C}" type="presParOf" srcId="{FBD8216E-CA4E-4836-9C34-C1CD8DC41559}" destId="{BAADEACC-0C55-4CE2-9210-F12DA9BBC77D}" srcOrd="0" destOrd="0" presId="urn:microsoft.com/office/officeart/2005/8/layout/hList9"/>
    <dgm:cxn modelId="{0505EADA-0B48-4029-A08A-6C90545CBBD1}" type="presParOf" srcId="{FBD8216E-CA4E-4836-9C34-C1CD8DC41559}" destId="{BF842EE5-AC8C-4B29-9B0D-DE0A89503A50}" srcOrd="1" destOrd="0" presId="urn:microsoft.com/office/officeart/2005/8/layout/hList9"/>
    <dgm:cxn modelId="{89FDBC14-4F41-4823-ACA4-D377BB0A9B50}" type="presParOf" srcId="{9F7E1146-0FBC-47A2-8E7E-404FA3326920}" destId="{CA87594C-C4A6-4DFA-A4AD-DA0E06A157EA}" srcOrd="2" destOrd="0" presId="urn:microsoft.com/office/officeart/2005/8/layout/hList9"/>
    <dgm:cxn modelId="{3F6D3FC8-336C-4655-B758-86CC1D81BE77}" type="presParOf" srcId="{CA87594C-C4A6-4DFA-A4AD-DA0E06A157EA}" destId="{949E7BCD-C326-4340-A244-EC4DF5617301}" srcOrd="0" destOrd="0" presId="urn:microsoft.com/office/officeart/2005/8/layout/hList9"/>
    <dgm:cxn modelId="{39574E8D-3701-40A9-AEF1-D3AF2682ED6C}" type="presParOf" srcId="{CA87594C-C4A6-4DFA-A4AD-DA0E06A157EA}" destId="{0562A3A2-A92B-4EE4-92B7-C04825635D85}" srcOrd="1" destOrd="0" presId="urn:microsoft.com/office/officeart/2005/8/layout/hList9"/>
    <dgm:cxn modelId="{83241DD1-4DB1-4A5A-A757-C4F712495EB9}" type="presParOf" srcId="{9F7E1146-0FBC-47A2-8E7E-404FA3326920}" destId="{215D738C-F34F-4B06-92CF-2B541E4601C2}" srcOrd="3" destOrd="0" presId="urn:microsoft.com/office/officeart/2005/8/layout/hList9"/>
    <dgm:cxn modelId="{619F06A3-0241-4EB3-9936-9B1AB45213E7}" type="presParOf" srcId="{215D738C-F34F-4B06-92CF-2B541E4601C2}" destId="{47E1FB40-E659-42BF-B735-3102C6DD9FBC}" srcOrd="0" destOrd="0" presId="urn:microsoft.com/office/officeart/2005/8/layout/hList9"/>
    <dgm:cxn modelId="{80A4B24E-AFE6-4FD7-9110-955261D70CF0}" type="presParOf" srcId="{215D738C-F34F-4B06-92CF-2B541E4601C2}" destId="{B7CF8CFC-7DAC-4A19-8C83-833B24AE8D5B}" srcOrd="1" destOrd="0" presId="urn:microsoft.com/office/officeart/2005/8/layout/hList9"/>
    <dgm:cxn modelId="{C48EEA23-BBEA-484B-8968-5D2CB2452608}" type="presParOf" srcId="{BFF28638-E5AB-4EE7-B641-3638A3A92147}" destId="{643CA8D4-0040-4894-A4A1-DF65B536B32F}" srcOrd="7" destOrd="0" presId="urn:microsoft.com/office/officeart/2005/8/layout/hList9"/>
    <dgm:cxn modelId="{351D7D23-7C0C-4DBE-8B44-8597B535A693}" type="presParOf" srcId="{BFF28638-E5AB-4EE7-B641-3638A3A92147}" destId="{66D29932-A835-42F5-BE34-D1E4C882FC4A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FC030C4-46AF-4D20-8908-2CA4293FDCE7}" type="doc">
      <dgm:prSet loTypeId="urn:microsoft.com/office/officeart/2005/8/layout/hList9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B16B714A-D41A-4F29-BC1B-E728601652E2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Ago.</a:t>
          </a:r>
        </a:p>
        <a:p>
          <a:r>
            <a:rPr lang="es-CL" sz="1100" b="1" dirty="0" smtClean="0">
              <a:latin typeface="+mn-lt"/>
              <a:ea typeface="+mn-ea"/>
              <a:cs typeface="+mn-cs"/>
            </a:rPr>
            <a:t>2011</a:t>
          </a:r>
          <a:r>
            <a:rPr lang="es-CL" sz="1800" b="1" dirty="0" smtClean="0">
              <a:latin typeface="+mn-lt"/>
              <a:ea typeface="+mn-ea"/>
              <a:cs typeface="+mn-cs"/>
            </a:rPr>
            <a:t> </a:t>
          </a:r>
          <a:endParaRPr lang="es-ES" sz="1800" dirty="0"/>
        </a:p>
      </dgm:t>
    </dgm:pt>
    <dgm:pt modelId="{426E0D60-B0C9-4977-AA52-0195CD43A536}" type="parTrans" cxnId="{CF5D2A04-3EFE-427D-A87F-E8C150D8752D}">
      <dgm:prSet/>
      <dgm:spPr/>
      <dgm:t>
        <a:bodyPr/>
        <a:lstStyle/>
        <a:p>
          <a:endParaRPr lang="es-ES" sz="1600"/>
        </a:p>
      </dgm:t>
    </dgm:pt>
    <dgm:pt modelId="{9655315E-EFFE-416B-B691-E58FD9A6C6AD}" type="sibTrans" cxnId="{CF5D2A04-3EFE-427D-A87F-E8C150D8752D}">
      <dgm:prSet/>
      <dgm:spPr/>
      <dgm:t>
        <a:bodyPr/>
        <a:lstStyle/>
        <a:p>
          <a:endParaRPr lang="es-ES" sz="1600"/>
        </a:p>
      </dgm:t>
    </dgm:pt>
    <dgm:pt modelId="{FB3269C4-B162-42C8-9F5F-E736C8939AC6}">
      <dgm:prSet phldrT="[Texto]"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/>
          <a:r>
            <a:rPr lang="es-CL" sz="1800" dirty="0" smtClean="0">
              <a:solidFill>
                <a:srgbClr val="002060"/>
              </a:solidFill>
            </a:rPr>
            <a:t>20,45%</a:t>
          </a:r>
          <a:endParaRPr lang="es-ES" sz="1800" dirty="0">
            <a:solidFill>
              <a:srgbClr val="002060"/>
            </a:solidFill>
          </a:endParaRPr>
        </a:p>
      </dgm:t>
    </dgm:pt>
    <dgm:pt modelId="{2B627B84-7D84-4952-BBCE-088E3237C0AE}" type="parTrans" cxnId="{71C7F1A7-1F87-46F8-B2BF-EE31F24B93EA}">
      <dgm:prSet/>
      <dgm:spPr/>
      <dgm:t>
        <a:bodyPr/>
        <a:lstStyle/>
        <a:p>
          <a:endParaRPr lang="es-ES" sz="1600"/>
        </a:p>
      </dgm:t>
    </dgm:pt>
    <dgm:pt modelId="{7D30B722-AB90-4C42-8AFB-2EF070F88D80}" type="sibTrans" cxnId="{71C7F1A7-1F87-46F8-B2BF-EE31F24B93EA}">
      <dgm:prSet/>
      <dgm:spPr/>
      <dgm:t>
        <a:bodyPr/>
        <a:lstStyle/>
        <a:p>
          <a:endParaRPr lang="es-ES" sz="1600"/>
        </a:p>
      </dgm:t>
    </dgm:pt>
    <dgm:pt modelId="{15815EF9-F314-4715-A434-550F1F8DC166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Dic.</a:t>
          </a:r>
        </a:p>
        <a:p>
          <a:r>
            <a:rPr lang="es-CL" sz="1100" b="1" dirty="0" smtClean="0">
              <a:latin typeface="+mn-lt"/>
              <a:ea typeface="+mn-ea"/>
              <a:cs typeface="+mn-cs"/>
            </a:rPr>
            <a:t>2011</a:t>
          </a:r>
          <a:endParaRPr lang="es-ES" sz="1200" dirty="0"/>
        </a:p>
      </dgm:t>
    </dgm:pt>
    <dgm:pt modelId="{2EB05F05-DEB3-48CF-94F2-A3C5C1D6E9A4}" type="parTrans" cxnId="{B87312EA-F44C-4870-B71C-991233C14594}">
      <dgm:prSet/>
      <dgm:spPr/>
      <dgm:t>
        <a:bodyPr/>
        <a:lstStyle/>
        <a:p>
          <a:endParaRPr lang="es-ES" sz="1600"/>
        </a:p>
      </dgm:t>
    </dgm:pt>
    <dgm:pt modelId="{4DEB72B9-8DF2-483F-A6C5-45561DF41596}" type="sibTrans" cxnId="{B87312EA-F44C-4870-B71C-991233C14594}">
      <dgm:prSet/>
      <dgm:spPr/>
      <dgm:t>
        <a:bodyPr/>
        <a:lstStyle/>
        <a:p>
          <a:endParaRPr lang="es-ES" sz="1600"/>
        </a:p>
      </dgm:t>
    </dgm:pt>
    <dgm:pt modelId="{BD69ACB8-C3D2-41D9-8CDA-8A70743B26A7}">
      <dgm:prSet phldrT="[Texto]" custT="1"/>
      <dgm:spPr>
        <a:solidFill>
          <a:srgbClr val="21C5FF">
            <a:alpha val="89804"/>
          </a:srgbClr>
        </a:solidFill>
      </dgm:spPr>
      <dgm:t>
        <a:bodyPr/>
        <a:lstStyle/>
        <a:p>
          <a:pPr algn="l" rtl="0"/>
          <a:r>
            <a:rPr lang="es-CL" sz="1000" b="1" noProof="0" dirty="0" smtClean="0">
              <a:solidFill>
                <a:schemeClr val="tx1"/>
              </a:solidFill>
              <a:latin typeface="Calibri" pitchFamily="34" charset="0"/>
            </a:rPr>
            <a:t>01/02/2012 – 03/02/2012</a:t>
          </a:r>
          <a:endParaRPr lang="es-ES" sz="1000" b="1" dirty="0">
            <a:solidFill>
              <a:schemeClr val="tx1"/>
            </a:solidFill>
            <a:latin typeface="Calibri" pitchFamily="34" charset="0"/>
          </a:endParaRPr>
        </a:p>
      </dgm:t>
    </dgm:pt>
    <dgm:pt modelId="{F54ACB54-5073-481B-A8D5-9E9287329F33}" type="parTrans" cxnId="{59D9C655-8E79-4DF1-8DD0-D3D57C8F8C39}">
      <dgm:prSet/>
      <dgm:spPr/>
      <dgm:t>
        <a:bodyPr/>
        <a:lstStyle/>
        <a:p>
          <a:endParaRPr lang="es-ES" sz="1600"/>
        </a:p>
      </dgm:t>
    </dgm:pt>
    <dgm:pt modelId="{951E4C2A-B077-43E2-9115-104A222B1144}" type="sibTrans" cxnId="{59D9C655-8E79-4DF1-8DD0-D3D57C8F8C39}">
      <dgm:prSet/>
      <dgm:spPr/>
      <dgm:t>
        <a:bodyPr/>
        <a:lstStyle/>
        <a:p>
          <a:endParaRPr lang="es-ES" sz="1600"/>
        </a:p>
      </dgm:t>
    </dgm:pt>
    <dgm:pt modelId="{9EBB0D65-5195-4B81-8234-25D5D5E3EA04}">
      <dgm:prSet phldrT="[Texto]"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es-CL" sz="800" i="1" dirty="0" smtClean="0">
              <a:solidFill>
                <a:srgbClr val="002060"/>
              </a:solidFill>
            </a:rPr>
            <a:t>(0  Organismos 100 puntos</a:t>
          </a:r>
          <a:r>
            <a:rPr lang="es-CL" sz="800" i="1" dirty="0" smtClean="0"/>
            <a:t>)</a:t>
          </a:r>
          <a:endParaRPr lang="es-ES" sz="800" i="1" dirty="0"/>
        </a:p>
      </dgm:t>
    </dgm:pt>
    <dgm:pt modelId="{6E85A17B-42F4-4EE3-B463-8CA28E5783A4}" type="parTrans" cxnId="{5227107F-EDCF-4A16-A511-F30D3C9A91C3}">
      <dgm:prSet/>
      <dgm:spPr/>
      <dgm:t>
        <a:bodyPr/>
        <a:lstStyle/>
        <a:p>
          <a:endParaRPr lang="es-ES" sz="1600"/>
        </a:p>
      </dgm:t>
    </dgm:pt>
    <dgm:pt modelId="{926A5E38-C70C-466D-B55B-72B4DADBA538}" type="sibTrans" cxnId="{5227107F-EDCF-4A16-A511-F30D3C9A91C3}">
      <dgm:prSet/>
      <dgm:spPr/>
      <dgm:t>
        <a:bodyPr/>
        <a:lstStyle/>
        <a:p>
          <a:endParaRPr lang="es-ES" sz="1600"/>
        </a:p>
      </dgm:t>
    </dgm:pt>
    <dgm:pt modelId="{319B289E-40EC-4BDF-BA2E-170D137BD7D1}">
      <dgm:prSet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>
            <a:spcAft>
              <a:spcPts val="0"/>
            </a:spcAft>
          </a:pPr>
          <a:r>
            <a:rPr lang="es-CL" sz="800" i="1" dirty="0" smtClean="0">
              <a:solidFill>
                <a:srgbClr val="002060"/>
              </a:solidFill>
            </a:rPr>
            <a:t>(0  Organismos 100 puntos)</a:t>
          </a:r>
          <a:endParaRPr lang="es-ES" sz="800" i="1" dirty="0">
            <a:solidFill>
              <a:srgbClr val="002060"/>
            </a:solidFill>
          </a:endParaRPr>
        </a:p>
      </dgm:t>
    </dgm:pt>
    <dgm:pt modelId="{57A982FE-A0A5-4E47-9A7D-91BC7DC953B8}" type="parTrans" cxnId="{F68BE7FF-E2A9-4CE8-9AE0-3B0DFA28B45C}">
      <dgm:prSet/>
      <dgm:spPr/>
      <dgm:t>
        <a:bodyPr/>
        <a:lstStyle/>
        <a:p>
          <a:endParaRPr lang="es-ES" sz="1600"/>
        </a:p>
      </dgm:t>
    </dgm:pt>
    <dgm:pt modelId="{3FD846E3-B402-4B3B-9041-B3F751B3583B}" type="sibTrans" cxnId="{F68BE7FF-E2A9-4CE8-9AE0-3B0DFA28B45C}">
      <dgm:prSet/>
      <dgm:spPr/>
      <dgm:t>
        <a:bodyPr/>
        <a:lstStyle/>
        <a:p>
          <a:endParaRPr lang="es-ES" sz="1600"/>
        </a:p>
      </dgm:t>
    </dgm:pt>
    <dgm:pt modelId="{5C3A0CB1-2EA9-4156-926E-3D97B6E41F31}">
      <dgm:prSet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 rtl="0"/>
          <a:r>
            <a:rPr lang="es-CL" sz="1800" b="0" dirty="0" smtClean="0">
              <a:solidFill>
                <a:srgbClr val="002060"/>
              </a:solidFill>
            </a:rPr>
            <a:t>76,54%</a:t>
          </a:r>
          <a:endParaRPr lang="es-ES" sz="1800" b="0" dirty="0">
            <a:solidFill>
              <a:srgbClr val="002060"/>
            </a:solidFill>
          </a:endParaRPr>
        </a:p>
      </dgm:t>
    </dgm:pt>
    <dgm:pt modelId="{EBA2C5AE-727D-426C-89B9-599A933AACD4}" type="parTrans" cxnId="{E8B3DAD4-220D-4C23-99AE-A8F2D430AEDC}">
      <dgm:prSet/>
      <dgm:spPr/>
      <dgm:t>
        <a:bodyPr/>
        <a:lstStyle/>
        <a:p>
          <a:endParaRPr lang="es-ES" sz="1600"/>
        </a:p>
      </dgm:t>
    </dgm:pt>
    <dgm:pt modelId="{AC83A738-5D2F-437F-92E9-0CD0F9DEE15B}" type="sibTrans" cxnId="{E8B3DAD4-220D-4C23-99AE-A8F2D430AEDC}">
      <dgm:prSet/>
      <dgm:spPr/>
      <dgm:t>
        <a:bodyPr/>
        <a:lstStyle/>
        <a:p>
          <a:endParaRPr lang="es-ES" sz="1600"/>
        </a:p>
      </dgm:t>
    </dgm:pt>
    <dgm:pt modelId="{6C1DDAB7-5429-4433-A989-AC2B20B64E18}">
      <dgm:prSet phldrT="[Texto]" custT="1"/>
      <dgm:spPr>
        <a:solidFill>
          <a:srgbClr val="21C5FF"/>
        </a:solidFill>
      </dgm:spPr>
      <dgm:t>
        <a:bodyPr anchor="ctr" anchorCtr="0"/>
        <a:lstStyle/>
        <a:p>
          <a:pPr algn="l"/>
          <a:r>
            <a:rPr lang="es-ES" sz="1000" b="1" dirty="0" smtClean="0">
              <a:solidFill>
                <a:srgbClr val="002060"/>
              </a:solidFill>
              <a:latin typeface="Calibri" pitchFamily="34" charset="0"/>
            </a:rPr>
            <a:t>13/10/2011 al 20/10/2011</a:t>
          </a:r>
          <a:endParaRPr kumimoji="0" lang="es-ES" sz="1000" b="1" i="0" u="none" strike="noStrike" cap="none" spc="0" normalizeH="0" baseline="0" noProof="0" dirty="0" smtClean="0">
            <a:ln>
              <a:noFill/>
            </a:ln>
            <a:solidFill>
              <a:srgbClr val="002060"/>
            </a:solidFill>
            <a:effectLst/>
            <a:uLnTx/>
            <a:uFillTx/>
            <a:latin typeface="+mn-lt"/>
            <a:ea typeface="+mn-ea"/>
            <a:cs typeface="+mn-cs"/>
          </a:endParaRPr>
        </a:p>
      </dgm:t>
    </dgm:pt>
    <dgm:pt modelId="{08AFDCEB-9F4A-4642-8391-3819A0B10F33}" type="sibTrans" cxnId="{FC4320E0-E40C-4E57-B27E-50F085900A18}">
      <dgm:prSet/>
      <dgm:spPr/>
      <dgm:t>
        <a:bodyPr/>
        <a:lstStyle/>
        <a:p>
          <a:endParaRPr lang="es-ES" sz="1600"/>
        </a:p>
      </dgm:t>
    </dgm:pt>
    <dgm:pt modelId="{1FA0E56F-C72C-49F4-AB34-035AD8BFD5B4}" type="parTrans" cxnId="{FC4320E0-E40C-4E57-B27E-50F085900A18}">
      <dgm:prSet/>
      <dgm:spPr/>
      <dgm:t>
        <a:bodyPr/>
        <a:lstStyle/>
        <a:p>
          <a:endParaRPr lang="es-ES" sz="1600"/>
        </a:p>
      </dgm:t>
    </dgm:pt>
    <dgm:pt modelId="{BFF28638-E5AB-4EE7-B641-3638A3A92147}" type="pres">
      <dgm:prSet presAssocID="{BFC030C4-46AF-4D20-8908-2CA4293FDCE7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es-ES"/>
        </a:p>
      </dgm:t>
    </dgm:pt>
    <dgm:pt modelId="{FB50815C-A0E0-4FC0-BD19-6EECD26EA0ED}" type="pres">
      <dgm:prSet presAssocID="{B16B714A-D41A-4F29-BC1B-E728601652E2}" presName="posSpace" presStyleCnt="0"/>
      <dgm:spPr/>
    </dgm:pt>
    <dgm:pt modelId="{90FCC19F-5F1E-4801-AD0E-79FC5EB81555}" type="pres">
      <dgm:prSet presAssocID="{B16B714A-D41A-4F29-BC1B-E728601652E2}" presName="vertFlow" presStyleCnt="0"/>
      <dgm:spPr/>
    </dgm:pt>
    <dgm:pt modelId="{E0DB5AC0-BF40-47A6-8C88-048E03EF7BAC}" type="pres">
      <dgm:prSet presAssocID="{B16B714A-D41A-4F29-BC1B-E728601652E2}" presName="topSpace" presStyleCnt="0"/>
      <dgm:spPr/>
    </dgm:pt>
    <dgm:pt modelId="{C8448151-25B8-493F-BB97-D40A8D3C1DB7}" type="pres">
      <dgm:prSet presAssocID="{B16B714A-D41A-4F29-BC1B-E728601652E2}" presName="firstComp" presStyleCnt="0"/>
      <dgm:spPr/>
    </dgm:pt>
    <dgm:pt modelId="{187117A7-BBE0-415F-877E-B4B6F3A2CB39}" type="pres">
      <dgm:prSet presAssocID="{B16B714A-D41A-4F29-BC1B-E728601652E2}" presName="firstChild" presStyleLbl="bgAccFollowNode1" presStyleIdx="0" presStyleCnt="6" custScaleX="98553" custScaleY="37522" custLinFactNeighborX="-296"/>
      <dgm:spPr/>
      <dgm:t>
        <a:bodyPr/>
        <a:lstStyle/>
        <a:p>
          <a:endParaRPr lang="es-ES"/>
        </a:p>
      </dgm:t>
    </dgm:pt>
    <dgm:pt modelId="{DC06F298-AB4A-4331-91F0-6FEF2F1AA0FD}" type="pres">
      <dgm:prSet presAssocID="{B16B714A-D41A-4F29-BC1B-E728601652E2}" presName="firstChildTx" presStyleLbl="b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05046F3-A76F-432A-AD3C-FBE3D2D538D1}" type="pres">
      <dgm:prSet presAssocID="{FB3269C4-B162-42C8-9F5F-E736C8939AC6}" presName="comp" presStyleCnt="0"/>
      <dgm:spPr/>
    </dgm:pt>
    <dgm:pt modelId="{6E647B21-6905-4694-AC4D-A5EACA5B1B2F}" type="pres">
      <dgm:prSet presAssocID="{FB3269C4-B162-42C8-9F5F-E736C8939AC6}" presName="child" presStyleLbl="bgAccFollowNode1" presStyleIdx="1" presStyleCnt="6" custScaleY="38746"/>
      <dgm:spPr/>
      <dgm:t>
        <a:bodyPr/>
        <a:lstStyle/>
        <a:p>
          <a:endParaRPr lang="es-ES"/>
        </a:p>
      </dgm:t>
    </dgm:pt>
    <dgm:pt modelId="{B38E336A-862B-4100-807E-DD850F103745}" type="pres">
      <dgm:prSet presAssocID="{FB3269C4-B162-42C8-9F5F-E736C8939AC6}" presName="childTx" presStyleLbl="bg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E4903E8-0454-4855-B70D-5D75C15EF485}" type="pres">
      <dgm:prSet presAssocID="{319B289E-40EC-4BDF-BA2E-170D137BD7D1}" presName="comp" presStyleCnt="0"/>
      <dgm:spPr/>
    </dgm:pt>
    <dgm:pt modelId="{9B804902-2DC2-44CD-879D-1F0F56B744A3}" type="pres">
      <dgm:prSet presAssocID="{319B289E-40EC-4BDF-BA2E-170D137BD7D1}" presName="child" presStyleLbl="bgAccFollowNode1" presStyleIdx="2" presStyleCnt="6" custScaleY="30090"/>
      <dgm:spPr/>
      <dgm:t>
        <a:bodyPr/>
        <a:lstStyle/>
        <a:p>
          <a:endParaRPr lang="es-ES"/>
        </a:p>
      </dgm:t>
    </dgm:pt>
    <dgm:pt modelId="{9E902466-C8B0-4C3A-81E1-3A3FB0CB5E62}" type="pres">
      <dgm:prSet presAssocID="{319B289E-40EC-4BDF-BA2E-170D137BD7D1}" presName="childTx" presStyleLbl="b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D9C1F19-01CA-4A5B-BD7B-782489B7DDF0}" type="pres">
      <dgm:prSet presAssocID="{B16B714A-D41A-4F29-BC1B-E728601652E2}" presName="negSpace" presStyleCnt="0"/>
      <dgm:spPr/>
    </dgm:pt>
    <dgm:pt modelId="{1310D3BA-7AAB-4649-8215-3E11B531E204}" type="pres">
      <dgm:prSet presAssocID="{B16B714A-D41A-4F29-BC1B-E728601652E2}" presName="circle" presStyleLbl="node1" presStyleIdx="0" presStyleCnt="2" custScaleX="79884" custScaleY="77449" custLinFactNeighborX="7491" custLinFactNeighborY="-1175"/>
      <dgm:spPr/>
      <dgm:t>
        <a:bodyPr/>
        <a:lstStyle/>
        <a:p>
          <a:endParaRPr lang="es-ES"/>
        </a:p>
      </dgm:t>
    </dgm:pt>
    <dgm:pt modelId="{5923B27A-1BA3-4B61-B211-1D5CF3BD91BF}" type="pres">
      <dgm:prSet presAssocID="{9655315E-EFFE-416B-B691-E58FD9A6C6AD}" presName="transSpace" presStyleCnt="0"/>
      <dgm:spPr/>
    </dgm:pt>
    <dgm:pt modelId="{4E713FA9-E0E0-41B9-B51D-464EDB37BEE3}" type="pres">
      <dgm:prSet presAssocID="{15815EF9-F314-4715-A434-550F1F8DC166}" presName="posSpace" presStyleCnt="0"/>
      <dgm:spPr/>
    </dgm:pt>
    <dgm:pt modelId="{9F7E1146-0FBC-47A2-8E7E-404FA3326920}" type="pres">
      <dgm:prSet presAssocID="{15815EF9-F314-4715-A434-550F1F8DC166}" presName="vertFlow" presStyleCnt="0"/>
      <dgm:spPr/>
    </dgm:pt>
    <dgm:pt modelId="{0BF2C30B-4EE0-4AD8-87A6-CE21DF74106C}" type="pres">
      <dgm:prSet presAssocID="{15815EF9-F314-4715-A434-550F1F8DC166}" presName="topSpace" presStyleCnt="0"/>
      <dgm:spPr/>
    </dgm:pt>
    <dgm:pt modelId="{FBD8216E-CA4E-4836-9C34-C1CD8DC41559}" type="pres">
      <dgm:prSet presAssocID="{15815EF9-F314-4715-A434-550F1F8DC166}" presName="firstComp" presStyleCnt="0"/>
      <dgm:spPr/>
    </dgm:pt>
    <dgm:pt modelId="{BAADEACC-0C55-4CE2-9210-F12DA9BBC77D}" type="pres">
      <dgm:prSet presAssocID="{15815EF9-F314-4715-A434-550F1F8DC166}" presName="firstChild" presStyleLbl="bgAccFollowNode1" presStyleIdx="3" presStyleCnt="6" custScaleX="100243" custScaleY="37522" custLinFactNeighborX="-4532" custLinFactNeighborY="-907"/>
      <dgm:spPr/>
      <dgm:t>
        <a:bodyPr/>
        <a:lstStyle/>
        <a:p>
          <a:endParaRPr lang="es-ES"/>
        </a:p>
      </dgm:t>
    </dgm:pt>
    <dgm:pt modelId="{BF842EE5-AC8C-4B29-9B0D-DE0A89503A50}" type="pres">
      <dgm:prSet presAssocID="{15815EF9-F314-4715-A434-550F1F8DC166}" presName="firstChildTx" presStyleLbl="b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A87594C-C4A6-4DFA-A4AD-DA0E06A157EA}" type="pres">
      <dgm:prSet presAssocID="{5C3A0CB1-2EA9-4156-926E-3D97B6E41F31}" presName="comp" presStyleCnt="0"/>
      <dgm:spPr/>
    </dgm:pt>
    <dgm:pt modelId="{949E7BCD-C326-4340-A244-EC4DF5617301}" type="pres">
      <dgm:prSet presAssocID="{5C3A0CB1-2EA9-4156-926E-3D97B6E41F31}" presName="child" presStyleLbl="bgAccFollowNode1" presStyleIdx="4" presStyleCnt="6" custScaleX="100329" custScaleY="38746" custLinFactNeighborX="-4532" custLinFactNeighborY="-907"/>
      <dgm:spPr/>
      <dgm:t>
        <a:bodyPr/>
        <a:lstStyle/>
        <a:p>
          <a:endParaRPr lang="es-ES"/>
        </a:p>
      </dgm:t>
    </dgm:pt>
    <dgm:pt modelId="{0562A3A2-A92B-4EE4-92B7-C04825635D85}" type="pres">
      <dgm:prSet presAssocID="{5C3A0CB1-2EA9-4156-926E-3D97B6E41F31}" presName="childTx" presStyleLbl="b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15D738C-F34F-4B06-92CF-2B541E4601C2}" type="pres">
      <dgm:prSet presAssocID="{9EBB0D65-5195-4B81-8234-25D5D5E3EA04}" presName="comp" presStyleCnt="0"/>
      <dgm:spPr/>
    </dgm:pt>
    <dgm:pt modelId="{47E1FB40-E659-42BF-B735-3102C6DD9FBC}" type="pres">
      <dgm:prSet presAssocID="{9EBB0D65-5195-4B81-8234-25D5D5E3EA04}" presName="child" presStyleLbl="bgAccFollowNode1" presStyleIdx="5" presStyleCnt="6" custScaleX="101617" custScaleY="32507" custLinFactNeighborX="-4532" custLinFactNeighborY="-907"/>
      <dgm:spPr/>
      <dgm:t>
        <a:bodyPr/>
        <a:lstStyle/>
        <a:p>
          <a:endParaRPr lang="es-ES"/>
        </a:p>
      </dgm:t>
    </dgm:pt>
    <dgm:pt modelId="{B7CF8CFC-7DAC-4A19-8C83-833B24AE8D5B}" type="pres">
      <dgm:prSet presAssocID="{9EBB0D65-5195-4B81-8234-25D5D5E3EA04}" presName="childTx" presStyleLbl="b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43CA8D4-0040-4894-A4A1-DF65B536B32F}" type="pres">
      <dgm:prSet presAssocID="{15815EF9-F314-4715-A434-550F1F8DC166}" presName="negSpace" presStyleCnt="0"/>
      <dgm:spPr/>
    </dgm:pt>
    <dgm:pt modelId="{66D29932-A835-42F5-BE34-D1E4C882FC4A}" type="pres">
      <dgm:prSet presAssocID="{15815EF9-F314-4715-A434-550F1F8DC166}" presName="circle" presStyleLbl="node1" presStyleIdx="1" presStyleCnt="2" custScaleX="79178" custScaleY="71221" custLinFactNeighborX="7024" custLinFactNeighborY="-5017"/>
      <dgm:spPr/>
      <dgm:t>
        <a:bodyPr/>
        <a:lstStyle/>
        <a:p>
          <a:endParaRPr lang="es-ES"/>
        </a:p>
      </dgm:t>
    </dgm:pt>
  </dgm:ptLst>
  <dgm:cxnLst>
    <dgm:cxn modelId="{FC4320E0-E40C-4E57-B27E-50F085900A18}" srcId="{B16B714A-D41A-4F29-BC1B-E728601652E2}" destId="{6C1DDAB7-5429-4433-A989-AC2B20B64E18}" srcOrd="0" destOrd="0" parTransId="{1FA0E56F-C72C-49F4-AB34-035AD8BFD5B4}" sibTransId="{08AFDCEB-9F4A-4642-8391-3819A0B10F33}"/>
    <dgm:cxn modelId="{79DD1B33-9FDA-4C72-BD05-FDD007A17CB3}" type="presOf" srcId="{6C1DDAB7-5429-4433-A989-AC2B20B64E18}" destId="{187117A7-BBE0-415F-877E-B4B6F3A2CB39}" srcOrd="0" destOrd="0" presId="urn:microsoft.com/office/officeart/2005/8/layout/hList9"/>
    <dgm:cxn modelId="{E70271B8-E97C-465F-B889-48A77A61FE4E}" type="presOf" srcId="{5C3A0CB1-2EA9-4156-926E-3D97B6E41F31}" destId="{949E7BCD-C326-4340-A244-EC4DF5617301}" srcOrd="0" destOrd="0" presId="urn:microsoft.com/office/officeart/2005/8/layout/hList9"/>
    <dgm:cxn modelId="{5227107F-EDCF-4A16-A511-F30D3C9A91C3}" srcId="{15815EF9-F314-4715-A434-550F1F8DC166}" destId="{9EBB0D65-5195-4B81-8234-25D5D5E3EA04}" srcOrd="2" destOrd="0" parTransId="{6E85A17B-42F4-4EE3-B463-8CA28E5783A4}" sibTransId="{926A5E38-C70C-466D-B55B-72B4DADBA538}"/>
    <dgm:cxn modelId="{D481F1F6-A568-4628-8787-4A9594F498EC}" type="presOf" srcId="{FB3269C4-B162-42C8-9F5F-E736C8939AC6}" destId="{B38E336A-862B-4100-807E-DD850F103745}" srcOrd="1" destOrd="0" presId="urn:microsoft.com/office/officeart/2005/8/layout/hList9"/>
    <dgm:cxn modelId="{DF4B0D02-44D7-4283-9079-36A33768627F}" type="presOf" srcId="{BD69ACB8-C3D2-41D9-8CDA-8A70743B26A7}" destId="{BF842EE5-AC8C-4B29-9B0D-DE0A89503A50}" srcOrd="1" destOrd="0" presId="urn:microsoft.com/office/officeart/2005/8/layout/hList9"/>
    <dgm:cxn modelId="{B9451661-9E05-4E13-9B25-E3BCEAA26832}" type="presOf" srcId="{FB3269C4-B162-42C8-9F5F-E736C8939AC6}" destId="{6E647B21-6905-4694-AC4D-A5EACA5B1B2F}" srcOrd="0" destOrd="0" presId="urn:microsoft.com/office/officeart/2005/8/layout/hList9"/>
    <dgm:cxn modelId="{1BAAE1AE-60A7-4A52-8482-F8195C7C0D78}" type="presOf" srcId="{BFC030C4-46AF-4D20-8908-2CA4293FDCE7}" destId="{BFF28638-E5AB-4EE7-B641-3638A3A92147}" srcOrd="0" destOrd="0" presId="urn:microsoft.com/office/officeart/2005/8/layout/hList9"/>
    <dgm:cxn modelId="{71C7F1A7-1F87-46F8-B2BF-EE31F24B93EA}" srcId="{B16B714A-D41A-4F29-BC1B-E728601652E2}" destId="{FB3269C4-B162-42C8-9F5F-E736C8939AC6}" srcOrd="1" destOrd="0" parTransId="{2B627B84-7D84-4952-BBCE-088E3237C0AE}" sibTransId="{7D30B722-AB90-4C42-8AFB-2EF070F88D80}"/>
    <dgm:cxn modelId="{59D9C655-8E79-4DF1-8DD0-D3D57C8F8C39}" srcId="{15815EF9-F314-4715-A434-550F1F8DC166}" destId="{BD69ACB8-C3D2-41D9-8CDA-8A70743B26A7}" srcOrd="0" destOrd="0" parTransId="{F54ACB54-5073-481B-A8D5-9E9287329F33}" sibTransId="{951E4C2A-B077-43E2-9115-104A222B1144}"/>
    <dgm:cxn modelId="{B87312EA-F44C-4870-B71C-991233C14594}" srcId="{BFC030C4-46AF-4D20-8908-2CA4293FDCE7}" destId="{15815EF9-F314-4715-A434-550F1F8DC166}" srcOrd="1" destOrd="0" parTransId="{2EB05F05-DEB3-48CF-94F2-A3C5C1D6E9A4}" sibTransId="{4DEB72B9-8DF2-483F-A6C5-45561DF41596}"/>
    <dgm:cxn modelId="{C31030BD-11F9-4CD9-A45B-47441F60113A}" type="presOf" srcId="{9EBB0D65-5195-4B81-8234-25D5D5E3EA04}" destId="{B7CF8CFC-7DAC-4A19-8C83-833B24AE8D5B}" srcOrd="1" destOrd="0" presId="urn:microsoft.com/office/officeart/2005/8/layout/hList9"/>
    <dgm:cxn modelId="{E0F4A024-DDE2-4FA9-9D7F-CAE79EFC481A}" type="presOf" srcId="{BD69ACB8-C3D2-41D9-8CDA-8A70743B26A7}" destId="{BAADEACC-0C55-4CE2-9210-F12DA9BBC77D}" srcOrd="0" destOrd="0" presId="urn:microsoft.com/office/officeart/2005/8/layout/hList9"/>
    <dgm:cxn modelId="{E8B3DAD4-220D-4C23-99AE-A8F2D430AEDC}" srcId="{15815EF9-F314-4715-A434-550F1F8DC166}" destId="{5C3A0CB1-2EA9-4156-926E-3D97B6E41F31}" srcOrd="1" destOrd="0" parTransId="{EBA2C5AE-727D-426C-89B9-599A933AACD4}" sibTransId="{AC83A738-5D2F-437F-92E9-0CD0F9DEE15B}"/>
    <dgm:cxn modelId="{E17FF5AC-9C1E-49AD-91F3-1F528C932A5B}" type="presOf" srcId="{9EBB0D65-5195-4B81-8234-25D5D5E3EA04}" destId="{47E1FB40-E659-42BF-B735-3102C6DD9FBC}" srcOrd="0" destOrd="0" presId="urn:microsoft.com/office/officeart/2005/8/layout/hList9"/>
    <dgm:cxn modelId="{937BD43B-6AFA-4540-9A92-B4845D8AE898}" type="presOf" srcId="{B16B714A-D41A-4F29-BC1B-E728601652E2}" destId="{1310D3BA-7AAB-4649-8215-3E11B531E204}" srcOrd="0" destOrd="0" presId="urn:microsoft.com/office/officeart/2005/8/layout/hList9"/>
    <dgm:cxn modelId="{1524C7A5-46A0-4482-9DD7-63B3F553A5EF}" type="presOf" srcId="{319B289E-40EC-4BDF-BA2E-170D137BD7D1}" destId="{9B804902-2DC2-44CD-879D-1F0F56B744A3}" srcOrd="0" destOrd="0" presId="urn:microsoft.com/office/officeart/2005/8/layout/hList9"/>
    <dgm:cxn modelId="{F68BE7FF-E2A9-4CE8-9AE0-3B0DFA28B45C}" srcId="{B16B714A-D41A-4F29-BC1B-E728601652E2}" destId="{319B289E-40EC-4BDF-BA2E-170D137BD7D1}" srcOrd="2" destOrd="0" parTransId="{57A982FE-A0A5-4E47-9A7D-91BC7DC953B8}" sibTransId="{3FD846E3-B402-4B3B-9041-B3F751B3583B}"/>
    <dgm:cxn modelId="{58BD50F1-8593-47C3-8C5C-4AC244716859}" type="presOf" srcId="{6C1DDAB7-5429-4433-A989-AC2B20B64E18}" destId="{DC06F298-AB4A-4331-91F0-6FEF2F1AA0FD}" srcOrd="1" destOrd="0" presId="urn:microsoft.com/office/officeart/2005/8/layout/hList9"/>
    <dgm:cxn modelId="{12DB15E6-0E7B-4A5A-A2A0-49B54E051F2C}" type="presOf" srcId="{5C3A0CB1-2EA9-4156-926E-3D97B6E41F31}" destId="{0562A3A2-A92B-4EE4-92B7-C04825635D85}" srcOrd="1" destOrd="0" presId="urn:microsoft.com/office/officeart/2005/8/layout/hList9"/>
    <dgm:cxn modelId="{56C15B8D-6A22-4276-B954-919BBA32F123}" type="presOf" srcId="{319B289E-40EC-4BDF-BA2E-170D137BD7D1}" destId="{9E902466-C8B0-4C3A-81E1-3A3FB0CB5E62}" srcOrd="1" destOrd="0" presId="urn:microsoft.com/office/officeart/2005/8/layout/hList9"/>
    <dgm:cxn modelId="{CF5D2A04-3EFE-427D-A87F-E8C150D8752D}" srcId="{BFC030C4-46AF-4D20-8908-2CA4293FDCE7}" destId="{B16B714A-D41A-4F29-BC1B-E728601652E2}" srcOrd="0" destOrd="0" parTransId="{426E0D60-B0C9-4977-AA52-0195CD43A536}" sibTransId="{9655315E-EFFE-416B-B691-E58FD9A6C6AD}"/>
    <dgm:cxn modelId="{C561B22C-6D7F-40E6-87AE-25B72479A918}" type="presOf" srcId="{15815EF9-F314-4715-A434-550F1F8DC166}" destId="{66D29932-A835-42F5-BE34-D1E4C882FC4A}" srcOrd="0" destOrd="0" presId="urn:microsoft.com/office/officeart/2005/8/layout/hList9"/>
    <dgm:cxn modelId="{D99A7FA0-2148-4336-8957-3A583017E95D}" type="presParOf" srcId="{BFF28638-E5AB-4EE7-B641-3638A3A92147}" destId="{FB50815C-A0E0-4FC0-BD19-6EECD26EA0ED}" srcOrd="0" destOrd="0" presId="urn:microsoft.com/office/officeart/2005/8/layout/hList9"/>
    <dgm:cxn modelId="{842BFB7B-8584-4A17-B5BB-2578EFB56DA3}" type="presParOf" srcId="{BFF28638-E5AB-4EE7-B641-3638A3A92147}" destId="{90FCC19F-5F1E-4801-AD0E-79FC5EB81555}" srcOrd="1" destOrd="0" presId="urn:microsoft.com/office/officeart/2005/8/layout/hList9"/>
    <dgm:cxn modelId="{3B01629D-3CAB-4090-8AC1-9E9FAEDFD5D5}" type="presParOf" srcId="{90FCC19F-5F1E-4801-AD0E-79FC5EB81555}" destId="{E0DB5AC0-BF40-47A6-8C88-048E03EF7BAC}" srcOrd="0" destOrd="0" presId="urn:microsoft.com/office/officeart/2005/8/layout/hList9"/>
    <dgm:cxn modelId="{D0BFC312-92FA-4504-BE7F-A2725F423500}" type="presParOf" srcId="{90FCC19F-5F1E-4801-AD0E-79FC5EB81555}" destId="{C8448151-25B8-493F-BB97-D40A8D3C1DB7}" srcOrd="1" destOrd="0" presId="urn:microsoft.com/office/officeart/2005/8/layout/hList9"/>
    <dgm:cxn modelId="{482502B4-3E52-4F8F-9667-F741EFBB7731}" type="presParOf" srcId="{C8448151-25B8-493F-BB97-D40A8D3C1DB7}" destId="{187117A7-BBE0-415F-877E-B4B6F3A2CB39}" srcOrd="0" destOrd="0" presId="urn:microsoft.com/office/officeart/2005/8/layout/hList9"/>
    <dgm:cxn modelId="{9588DF8B-2F63-40F9-984B-22947FBADFE3}" type="presParOf" srcId="{C8448151-25B8-493F-BB97-D40A8D3C1DB7}" destId="{DC06F298-AB4A-4331-91F0-6FEF2F1AA0FD}" srcOrd="1" destOrd="0" presId="urn:microsoft.com/office/officeart/2005/8/layout/hList9"/>
    <dgm:cxn modelId="{C121A325-DCCB-4015-A569-602192A0D491}" type="presParOf" srcId="{90FCC19F-5F1E-4801-AD0E-79FC5EB81555}" destId="{D05046F3-A76F-432A-AD3C-FBE3D2D538D1}" srcOrd="2" destOrd="0" presId="urn:microsoft.com/office/officeart/2005/8/layout/hList9"/>
    <dgm:cxn modelId="{4C1DF954-8B38-4440-BFB2-D4CDF8673A08}" type="presParOf" srcId="{D05046F3-A76F-432A-AD3C-FBE3D2D538D1}" destId="{6E647B21-6905-4694-AC4D-A5EACA5B1B2F}" srcOrd="0" destOrd="0" presId="urn:microsoft.com/office/officeart/2005/8/layout/hList9"/>
    <dgm:cxn modelId="{F836621B-9B19-4CDD-AD1D-95BC1D938AA5}" type="presParOf" srcId="{D05046F3-A76F-432A-AD3C-FBE3D2D538D1}" destId="{B38E336A-862B-4100-807E-DD850F103745}" srcOrd="1" destOrd="0" presId="urn:microsoft.com/office/officeart/2005/8/layout/hList9"/>
    <dgm:cxn modelId="{5E813569-A494-4C24-B210-B21DC538399D}" type="presParOf" srcId="{90FCC19F-5F1E-4801-AD0E-79FC5EB81555}" destId="{3E4903E8-0454-4855-B70D-5D75C15EF485}" srcOrd="3" destOrd="0" presId="urn:microsoft.com/office/officeart/2005/8/layout/hList9"/>
    <dgm:cxn modelId="{3652C86E-C752-4BA5-8B0D-2E445848782B}" type="presParOf" srcId="{3E4903E8-0454-4855-B70D-5D75C15EF485}" destId="{9B804902-2DC2-44CD-879D-1F0F56B744A3}" srcOrd="0" destOrd="0" presId="urn:microsoft.com/office/officeart/2005/8/layout/hList9"/>
    <dgm:cxn modelId="{39882CD7-6F50-4D86-973C-1DF2A4DA99A8}" type="presParOf" srcId="{3E4903E8-0454-4855-B70D-5D75C15EF485}" destId="{9E902466-C8B0-4C3A-81E1-3A3FB0CB5E62}" srcOrd="1" destOrd="0" presId="urn:microsoft.com/office/officeart/2005/8/layout/hList9"/>
    <dgm:cxn modelId="{84CF08D8-D799-45EC-954C-CC15C2EB4805}" type="presParOf" srcId="{BFF28638-E5AB-4EE7-B641-3638A3A92147}" destId="{CD9C1F19-01CA-4A5B-BD7B-782489B7DDF0}" srcOrd="2" destOrd="0" presId="urn:microsoft.com/office/officeart/2005/8/layout/hList9"/>
    <dgm:cxn modelId="{7ACC0DE7-5FE2-4472-8673-97DBE537E140}" type="presParOf" srcId="{BFF28638-E5AB-4EE7-B641-3638A3A92147}" destId="{1310D3BA-7AAB-4649-8215-3E11B531E204}" srcOrd="3" destOrd="0" presId="urn:microsoft.com/office/officeart/2005/8/layout/hList9"/>
    <dgm:cxn modelId="{2A08A762-A5CD-405A-9BE4-BA595D035D91}" type="presParOf" srcId="{BFF28638-E5AB-4EE7-B641-3638A3A92147}" destId="{5923B27A-1BA3-4B61-B211-1D5CF3BD91BF}" srcOrd="4" destOrd="0" presId="urn:microsoft.com/office/officeart/2005/8/layout/hList9"/>
    <dgm:cxn modelId="{6D6D434C-95DD-4CD9-9367-2C48C0D2F892}" type="presParOf" srcId="{BFF28638-E5AB-4EE7-B641-3638A3A92147}" destId="{4E713FA9-E0E0-41B9-B51D-464EDB37BEE3}" srcOrd="5" destOrd="0" presId="urn:microsoft.com/office/officeart/2005/8/layout/hList9"/>
    <dgm:cxn modelId="{55585BA4-4E09-4277-9E67-A90BC1A8A5F8}" type="presParOf" srcId="{BFF28638-E5AB-4EE7-B641-3638A3A92147}" destId="{9F7E1146-0FBC-47A2-8E7E-404FA3326920}" srcOrd="6" destOrd="0" presId="urn:microsoft.com/office/officeart/2005/8/layout/hList9"/>
    <dgm:cxn modelId="{19CE8DAF-4102-4DE9-8D53-E5B385E38CB7}" type="presParOf" srcId="{9F7E1146-0FBC-47A2-8E7E-404FA3326920}" destId="{0BF2C30B-4EE0-4AD8-87A6-CE21DF74106C}" srcOrd="0" destOrd="0" presId="urn:microsoft.com/office/officeart/2005/8/layout/hList9"/>
    <dgm:cxn modelId="{A70A50DE-18AE-4261-8075-C567003D31F6}" type="presParOf" srcId="{9F7E1146-0FBC-47A2-8E7E-404FA3326920}" destId="{FBD8216E-CA4E-4836-9C34-C1CD8DC41559}" srcOrd="1" destOrd="0" presId="urn:microsoft.com/office/officeart/2005/8/layout/hList9"/>
    <dgm:cxn modelId="{D6FCA9C5-92D2-4645-A46B-282A52272DBB}" type="presParOf" srcId="{FBD8216E-CA4E-4836-9C34-C1CD8DC41559}" destId="{BAADEACC-0C55-4CE2-9210-F12DA9BBC77D}" srcOrd="0" destOrd="0" presId="urn:microsoft.com/office/officeart/2005/8/layout/hList9"/>
    <dgm:cxn modelId="{FCF35F30-22F7-4C64-AE6A-12691DFB48F7}" type="presParOf" srcId="{FBD8216E-CA4E-4836-9C34-C1CD8DC41559}" destId="{BF842EE5-AC8C-4B29-9B0D-DE0A89503A50}" srcOrd="1" destOrd="0" presId="urn:microsoft.com/office/officeart/2005/8/layout/hList9"/>
    <dgm:cxn modelId="{8A2CE116-0539-4019-87A0-8AEB02D05347}" type="presParOf" srcId="{9F7E1146-0FBC-47A2-8E7E-404FA3326920}" destId="{CA87594C-C4A6-4DFA-A4AD-DA0E06A157EA}" srcOrd="2" destOrd="0" presId="urn:microsoft.com/office/officeart/2005/8/layout/hList9"/>
    <dgm:cxn modelId="{6E0A68D3-C1F9-4014-B29D-7EEFF3D64710}" type="presParOf" srcId="{CA87594C-C4A6-4DFA-A4AD-DA0E06A157EA}" destId="{949E7BCD-C326-4340-A244-EC4DF5617301}" srcOrd="0" destOrd="0" presId="urn:microsoft.com/office/officeart/2005/8/layout/hList9"/>
    <dgm:cxn modelId="{E671D040-29CE-4F9E-A001-064C7127B8E2}" type="presParOf" srcId="{CA87594C-C4A6-4DFA-A4AD-DA0E06A157EA}" destId="{0562A3A2-A92B-4EE4-92B7-C04825635D85}" srcOrd="1" destOrd="0" presId="urn:microsoft.com/office/officeart/2005/8/layout/hList9"/>
    <dgm:cxn modelId="{425E37D7-811C-47E4-8DB2-B2D7B3BA9233}" type="presParOf" srcId="{9F7E1146-0FBC-47A2-8E7E-404FA3326920}" destId="{215D738C-F34F-4B06-92CF-2B541E4601C2}" srcOrd="3" destOrd="0" presId="urn:microsoft.com/office/officeart/2005/8/layout/hList9"/>
    <dgm:cxn modelId="{A1F53AF1-7C3B-4218-8E3A-791C3E06CFAD}" type="presParOf" srcId="{215D738C-F34F-4B06-92CF-2B541E4601C2}" destId="{47E1FB40-E659-42BF-B735-3102C6DD9FBC}" srcOrd="0" destOrd="0" presId="urn:microsoft.com/office/officeart/2005/8/layout/hList9"/>
    <dgm:cxn modelId="{657AC3D5-EAD5-48B1-BE08-1346298997AE}" type="presParOf" srcId="{215D738C-F34F-4B06-92CF-2B541E4601C2}" destId="{B7CF8CFC-7DAC-4A19-8C83-833B24AE8D5B}" srcOrd="1" destOrd="0" presId="urn:microsoft.com/office/officeart/2005/8/layout/hList9"/>
    <dgm:cxn modelId="{1F84625F-890C-461A-9A46-8068BE40EFD8}" type="presParOf" srcId="{BFF28638-E5AB-4EE7-B641-3638A3A92147}" destId="{643CA8D4-0040-4894-A4A1-DF65B536B32F}" srcOrd="7" destOrd="0" presId="urn:microsoft.com/office/officeart/2005/8/layout/hList9"/>
    <dgm:cxn modelId="{8C21782B-18CC-4BB6-AD17-190D17615192}" type="presParOf" srcId="{BFF28638-E5AB-4EE7-B641-3638A3A92147}" destId="{66D29932-A835-42F5-BE34-D1E4C882FC4A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C7A04667-8934-4335-9D3B-DB05A0C65970}" type="doc">
      <dgm:prSet loTypeId="urn:microsoft.com/office/officeart/2005/8/layout/hierarchy5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CL"/>
        </a:p>
      </dgm:t>
    </dgm:pt>
    <dgm:pt modelId="{4572C8CB-53A3-4307-B326-2063D01E8E72}">
      <dgm:prSet phldrT="[Texto]" custT="1"/>
      <dgm:spPr>
        <a:solidFill>
          <a:schemeClr val="bg1">
            <a:lumMod val="50000"/>
          </a:schemeClr>
        </a:solidFill>
      </dgm:spPr>
      <dgm:t>
        <a:bodyPr/>
        <a:lstStyle/>
        <a:p>
          <a:r>
            <a:rPr lang="es-CL" sz="2000" b="1" dirty="0" smtClean="0"/>
            <a:t>2.184 (*)</a:t>
          </a:r>
          <a:endParaRPr lang="es-CL" sz="2000" b="1" dirty="0"/>
        </a:p>
      </dgm:t>
    </dgm:pt>
    <dgm:pt modelId="{44EC23D9-CC8C-435A-806D-F389DEFAF65F}" type="parTrans" cxnId="{1D0D7814-21F0-4315-B5F2-EF0BE5956B75}">
      <dgm:prSet/>
      <dgm:spPr/>
      <dgm:t>
        <a:bodyPr/>
        <a:lstStyle/>
        <a:p>
          <a:endParaRPr lang="es-CL"/>
        </a:p>
      </dgm:t>
    </dgm:pt>
    <dgm:pt modelId="{1CAEC60C-C650-4FDA-BE3A-FBBBD749EF79}" type="sibTrans" cxnId="{1D0D7814-21F0-4315-B5F2-EF0BE5956B75}">
      <dgm:prSet/>
      <dgm:spPr/>
      <dgm:t>
        <a:bodyPr/>
        <a:lstStyle/>
        <a:p>
          <a:endParaRPr lang="es-CL"/>
        </a:p>
      </dgm:t>
    </dgm:pt>
    <dgm:pt modelId="{C9F43E6E-A494-4F72-B9FB-E4A83F95B136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200" dirty="0" err="1" smtClean="0"/>
            <a:t>Num</a:t>
          </a:r>
          <a:r>
            <a:rPr lang="es-CL" sz="1200" dirty="0" smtClean="0"/>
            <a:t> Fiscalizaciones en Instituciones </a:t>
          </a:r>
        </a:p>
        <a:p>
          <a:r>
            <a:rPr lang="es-CL" sz="1400" b="1" dirty="0" smtClean="0"/>
            <a:t>Sin uso de  Auto Evaluación</a:t>
          </a:r>
        </a:p>
        <a:p>
          <a:r>
            <a:rPr lang="es-CL" sz="1800" b="1" dirty="0" smtClean="0"/>
            <a:t>560</a:t>
          </a:r>
          <a:endParaRPr lang="es-CL" sz="1200" b="1" dirty="0"/>
        </a:p>
      </dgm:t>
    </dgm:pt>
    <dgm:pt modelId="{C00D06DD-F842-4639-9036-4B921831AE07}" type="parTrans" cxnId="{CBF6BE61-8ED0-4381-AB16-9548C36FD744}">
      <dgm:prSet/>
      <dgm:spPr/>
      <dgm:t>
        <a:bodyPr/>
        <a:lstStyle/>
        <a:p>
          <a:endParaRPr lang="es-CL"/>
        </a:p>
      </dgm:t>
    </dgm:pt>
    <dgm:pt modelId="{D1A207C4-CA5E-4D1F-A9A6-3C8048F353CE}" type="sibTrans" cxnId="{CBF6BE61-8ED0-4381-AB16-9548C36FD744}">
      <dgm:prSet/>
      <dgm:spPr/>
      <dgm:t>
        <a:bodyPr/>
        <a:lstStyle/>
        <a:p>
          <a:endParaRPr lang="es-CL"/>
        </a:p>
      </dgm:t>
    </dgm:pt>
    <dgm:pt modelId="{5865FB2C-47E3-47ED-9A9C-ACDF2974C289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2000" b="1" dirty="0" smtClean="0"/>
            <a:t>63,06</a:t>
          </a:r>
          <a:r>
            <a:rPr lang="es-CL" sz="1500" dirty="0" smtClean="0"/>
            <a:t>%</a:t>
          </a:r>
          <a:endParaRPr lang="es-CL" sz="1500" dirty="0"/>
        </a:p>
      </dgm:t>
    </dgm:pt>
    <dgm:pt modelId="{0AB1D42A-183F-4821-82F7-62E7E2B47A27}" type="parTrans" cxnId="{8E4DCEE3-B3F1-473E-A6C4-510E4245AA73}">
      <dgm:prSet/>
      <dgm:spPr/>
      <dgm:t>
        <a:bodyPr/>
        <a:lstStyle/>
        <a:p>
          <a:endParaRPr lang="es-CL"/>
        </a:p>
      </dgm:t>
    </dgm:pt>
    <dgm:pt modelId="{9CFBDA9A-D309-441B-8902-2F59DF1FCF4A}" type="sibTrans" cxnId="{8E4DCEE3-B3F1-473E-A6C4-510E4245AA73}">
      <dgm:prSet/>
      <dgm:spPr/>
      <dgm:t>
        <a:bodyPr/>
        <a:lstStyle/>
        <a:p>
          <a:endParaRPr lang="es-CL"/>
        </a:p>
      </dgm:t>
    </dgm:pt>
    <dgm:pt modelId="{60F8114D-D316-48C3-8D62-3060978D8A98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dirty="0" smtClean="0"/>
            <a:t>Fiscalizaciones en Instituciones </a:t>
          </a:r>
        </a:p>
        <a:p>
          <a:r>
            <a:rPr lang="es-CL" sz="1600" b="1" dirty="0" smtClean="0"/>
            <a:t>Con uso de  Auto Evaluación</a:t>
          </a:r>
        </a:p>
        <a:p>
          <a:r>
            <a:rPr lang="es-CL" sz="2000" b="1" dirty="0" smtClean="0"/>
            <a:t>1624</a:t>
          </a:r>
          <a:endParaRPr lang="es-CL" sz="2000" b="1" dirty="0"/>
        </a:p>
      </dgm:t>
    </dgm:pt>
    <dgm:pt modelId="{0056A369-6B70-4FCF-8A71-011AA9E19D88}" type="parTrans" cxnId="{11D98AD2-1FB9-48DE-9EEA-3E191BC1E7BC}">
      <dgm:prSet/>
      <dgm:spPr/>
      <dgm:t>
        <a:bodyPr/>
        <a:lstStyle/>
        <a:p>
          <a:endParaRPr lang="es-CL"/>
        </a:p>
      </dgm:t>
    </dgm:pt>
    <dgm:pt modelId="{26918D7A-A06C-4732-A9CE-5EAD07F442E7}" type="sibTrans" cxnId="{11D98AD2-1FB9-48DE-9EEA-3E191BC1E7BC}">
      <dgm:prSet/>
      <dgm:spPr/>
      <dgm:t>
        <a:bodyPr/>
        <a:lstStyle/>
        <a:p>
          <a:endParaRPr lang="es-CL"/>
        </a:p>
      </dgm:t>
    </dgm:pt>
    <dgm:pt modelId="{81447191-7AD8-4ED8-B1BF-8DB3D99C06D1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2000" b="1" dirty="0" smtClean="0"/>
            <a:t>80,48</a:t>
          </a:r>
          <a:r>
            <a:rPr lang="es-CL" sz="1500" dirty="0" smtClean="0"/>
            <a:t>%</a:t>
          </a:r>
          <a:endParaRPr lang="es-CL" sz="1500" dirty="0"/>
        </a:p>
      </dgm:t>
    </dgm:pt>
    <dgm:pt modelId="{8C69E9D3-57C1-4B1E-BC32-E1C51ADEB34B}" type="parTrans" cxnId="{91CE32C3-9060-49A2-8CA3-4C2F718892C9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B6AFE8EC-D8CC-4313-AC32-5950BB3EB58C}" type="sibTrans" cxnId="{91CE32C3-9060-49A2-8CA3-4C2F718892C9}">
      <dgm:prSet/>
      <dgm:spPr/>
      <dgm:t>
        <a:bodyPr/>
        <a:lstStyle/>
        <a:p>
          <a:endParaRPr lang="es-CL"/>
        </a:p>
      </dgm:t>
    </dgm:pt>
    <dgm:pt modelId="{9EF21E99-1405-4E7B-8921-BD561E772D0F}">
      <dgm:prSet phldrT="[Texto]"/>
      <dgm:spPr/>
      <dgm:t>
        <a:bodyPr/>
        <a:lstStyle/>
        <a:p>
          <a:r>
            <a:rPr lang="es-CL" dirty="0" smtClean="0"/>
            <a:t>Total Fiscalizaciones en Transparencia Activa</a:t>
          </a:r>
        </a:p>
      </dgm:t>
    </dgm:pt>
    <dgm:pt modelId="{FCB48FD4-14B1-4D29-B4BB-0670AF89B0DB}" type="parTrans" cxnId="{B27DA92E-57B1-4081-9121-2315172E2233}">
      <dgm:prSet/>
      <dgm:spPr/>
      <dgm:t>
        <a:bodyPr/>
        <a:lstStyle/>
        <a:p>
          <a:endParaRPr lang="es-CL"/>
        </a:p>
      </dgm:t>
    </dgm:pt>
    <dgm:pt modelId="{8EF8D4BF-0A52-448A-B391-05F5741CC4F6}" type="sibTrans" cxnId="{B27DA92E-57B1-4081-9121-2315172E2233}">
      <dgm:prSet/>
      <dgm:spPr/>
      <dgm:t>
        <a:bodyPr/>
        <a:lstStyle/>
        <a:p>
          <a:endParaRPr lang="es-CL"/>
        </a:p>
      </dgm:t>
    </dgm:pt>
    <dgm:pt modelId="{ED002399-C8B1-4358-AB78-B1377FF85048}">
      <dgm:prSet phldrT="[Texto]" custT="1"/>
      <dgm:spPr/>
      <dgm:t>
        <a:bodyPr/>
        <a:lstStyle/>
        <a:p>
          <a:r>
            <a:rPr lang="es-CL" sz="1600" dirty="0" smtClean="0"/>
            <a:t>Número de fiscalizaciones por no uso / uso de Auto Evaluación</a:t>
          </a:r>
        </a:p>
        <a:p>
          <a:endParaRPr lang="es-CL" sz="1600" dirty="0"/>
        </a:p>
      </dgm:t>
    </dgm:pt>
    <dgm:pt modelId="{DCBD452E-D0D4-4E17-9809-34E9AE63AEB4}" type="parTrans" cxnId="{C025193E-99A9-4BBD-A5F0-5E831F22BB87}">
      <dgm:prSet/>
      <dgm:spPr/>
      <dgm:t>
        <a:bodyPr/>
        <a:lstStyle/>
        <a:p>
          <a:endParaRPr lang="es-CL"/>
        </a:p>
      </dgm:t>
    </dgm:pt>
    <dgm:pt modelId="{6FB98DBF-3EB9-46A8-9C4A-D745F4C0D78C}" type="sibTrans" cxnId="{C025193E-99A9-4BBD-A5F0-5E831F22BB87}">
      <dgm:prSet/>
      <dgm:spPr/>
      <dgm:t>
        <a:bodyPr/>
        <a:lstStyle/>
        <a:p>
          <a:endParaRPr lang="es-CL"/>
        </a:p>
      </dgm:t>
    </dgm:pt>
    <dgm:pt modelId="{B445CAC0-9F43-49B3-A2BF-E5614A729F8E}">
      <dgm:prSet phldrT="[Texto]" custT="1"/>
      <dgm:spPr/>
      <dgm:t>
        <a:bodyPr/>
        <a:lstStyle/>
        <a:p>
          <a:r>
            <a:rPr lang="es-CL" sz="1800" dirty="0" smtClean="0"/>
            <a:t>% de Cumplimiento en deberes de TA</a:t>
          </a:r>
        </a:p>
        <a:p>
          <a:endParaRPr lang="es-CL" sz="1800" dirty="0"/>
        </a:p>
      </dgm:t>
    </dgm:pt>
    <dgm:pt modelId="{12620541-D237-47EC-9693-1970F25D5633}" type="parTrans" cxnId="{E9A85317-9DBA-4B94-98CD-C8AFD4FBBE5F}">
      <dgm:prSet/>
      <dgm:spPr/>
      <dgm:t>
        <a:bodyPr/>
        <a:lstStyle/>
        <a:p>
          <a:endParaRPr lang="es-CL"/>
        </a:p>
      </dgm:t>
    </dgm:pt>
    <dgm:pt modelId="{32786BCE-9157-4CE2-87DE-A02DDD40BD19}" type="sibTrans" cxnId="{E9A85317-9DBA-4B94-98CD-C8AFD4FBBE5F}">
      <dgm:prSet/>
      <dgm:spPr/>
      <dgm:t>
        <a:bodyPr/>
        <a:lstStyle/>
        <a:p>
          <a:endParaRPr lang="es-CL"/>
        </a:p>
      </dgm:t>
    </dgm:pt>
    <dgm:pt modelId="{B1C26EDE-B145-4659-AB5F-185623417FE3}">
      <dgm:prSet phldrT="[Texto]"/>
      <dgm:spPr/>
      <dgm:t>
        <a:bodyPr/>
        <a:lstStyle/>
        <a:p>
          <a:r>
            <a:rPr lang="es-CL" dirty="0" smtClean="0"/>
            <a:t>Por Sector</a:t>
          </a:r>
          <a:endParaRPr lang="es-CL" dirty="0"/>
        </a:p>
      </dgm:t>
    </dgm:pt>
    <dgm:pt modelId="{CCC43B11-A023-4118-98CA-0651DD45F077}" type="parTrans" cxnId="{0704811F-586C-4817-9610-541A1F260B4D}">
      <dgm:prSet/>
      <dgm:spPr/>
      <dgm:t>
        <a:bodyPr/>
        <a:lstStyle/>
        <a:p>
          <a:endParaRPr lang="es-CL"/>
        </a:p>
      </dgm:t>
    </dgm:pt>
    <dgm:pt modelId="{3C2035D0-E558-40C6-9C77-49A6333277E7}" type="sibTrans" cxnId="{0704811F-586C-4817-9610-541A1F260B4D}">
      <dgm:prSet/>
      <dgm:spPr/>
      <dgm:t>
        <a:bodyPr/>
        <a:lstStyle/>
        <a:p>
          <a:endParaRPr lang="es-CL"/>
        </a:p>
      </dgm:t>
    </dgm:pt>
    <dgm:pt modelId="{2A39484A-8A93-4B6D-9B8F-7BA7FCB6FD1E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b="1" dirty="0" smtClean="0"/>
            <a:t>Municipal</a:t>
          </a:r>
        </a:p>
        <a:p>
          <a:r>
            <a:rPr lang="es-CL" sz="1600" b="1" dirty="0" smtClean="0"/>
            <a:t>40,45%</a:t>
          </a:r>
          <a:endParaRPr lang="es-CL" sz="1600" b="1" dirty="0"/>
        </a:p>
      </dgm:t>
    </dgm:pt>
    <dgm:pt modelId="{FA3E4123-FD06-47D5-BA10-C76DD126CB03}" type="parTrans" cxnId="{6E8640B6-C1D4-4CC3-A644-40A052194C3C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4F2F6D52-825B-44A2-94E7-C88BDCBC5E65}" type="sibTrans" cxnId="{6E8640B6-C1D4-4CC3-A644-40A052194C3C}">
      <dgm:prSet/>
      <dgm:spPr/>
      <dgm:t>
        <a:bodyPr/>
        <a:lstStyle/>
        <a:p>
          <a:endParaRPr lang="es-CL"/>
        </a:p>
      </dgm:t>
    </dgm:pt>
    <dgm:pt modelId="{55107D53-B977-42EF-9FB1-A7BD7A718E49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b="1" dirty="0" smtClean="0"/>
            <a:t>Administración Central + UN</a:t>
          </a:r>
        </a:p>
        <a:p>
          <a:r>
            <a:rPr lang="es-CL" sz="1600" b="1" dirty="0" smtClean="0"/>
            <a:t>90%</a:t>
          </a:r>
          <a:endParaRPr lang="es-CL" sz="1600" b="1" dirty="0"/>
        </a:p>
      </dgm:t>
    </dgm:pt>
    <dgm:pt modelId="{590E7825-4337-4862-AA00-1CC7FB8AFCFD}" type="parTrans" cxnId="{33498D05-C0CB-4EAF-850A-395009257407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ED9E768D-317A-4DA2-A0FD-A9BAFFD67819}" type="sibTrans" cxnId="{33498D05-C0CB-4EAF-850A-395009257407}">
      <dgm:prSet/>
      <dgm:spPr/>
      <dgm:t>
        <a:bodyPr/>
        <a:lstStyle/>
        <a:p>
          <a:endParaRPr lang="es-CL"/>
        </a:p>
      </dgm:t>
    </dgm:pt>
    <dgm:pt modelId="{22DC95BF-3722-4DA5-9FEE-2001E52D1E73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600" b="1" dirty="0" smtClean="0"/>
            <a:t>Administración Central + UN</a:t>
          </a:r>
        </a:p>
        <a:p>
          <a:r>
            <a:rPr lang="es-CL" sz="1600" b="1" dirty="0" smtClean="0"/>
            <a:t>86,37%</a:t>
          </a:r>
          <a:endParaRPr lang="es-CL" sz="1600" b="1" dirty="0"/>
        </a:p>
      </dgm:t>
    </dgm:pt>
    <dgm:pt modelId="{9DB9AF12-5F76-4791-83EA-B245F6003301}" type="parTrans" cxnId="{8DAED119-733E-4F87-AFFE-5898150B189E}">
      <dgm:prSet/>
      <dgm:spPr/>
      <dgm:t>
        <a:bodyPr/>
        <a:lstStyle/>
        <a:p>
          <a:endParaRPr lang="es-CL"/>
        </a:p>
      </dgm:t>
    </dgm:pt>
    <dgm:pt modelId="{218D871E-A419-45ED-88D8-992DA4CA3F66}" type="sibTrans" cxnId="{8DAED119-733E-4F87-AFFE-5898150B189E}">
      <dgm:prSet/>
      <dgm:spPr/>
      <dgm:t>
        <a:bodyPr/>
        <a:lstStyle/>
        <a:p>
          <a:endParaRPr lang="es-CL"/>
        </a:p>
      </dgm:t>
    </dgm:pt>
    <dgm:pt modelId="{5D6644D1-97E5-4BB2-A6F6-F4E438BE21D1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600" b="1" dirty="0" smtClean="0"/>
            <a:t>Municipal </a:t>
          </a:r>
        </a:p>
        <a:p>
          <a:r>
            <a:rPr lang="es-CL" sz="1600" b="1" dirty="0" smtClean="0"/>
            <a:t>27,57%</a:t>
          </a:r>
          <a:endParaRPr lang="es-CL" sz="1600" b="1" dirty="0"/>
        </a:p>
      </dgm:t>
    </dgm:pt>
    <dgm:pt modelId="{D3E1DC15-1213-4723-954B-F01B4E6BE60B}" type="parTrans" cxnId="{B7C07552-82CE-4743-BBD2-03426DD79C53}">
      <dgm:prSet/>
      <dgm:spPr/>
      <dgm:t>
        <a:bodyPr/>
        <a:lstStyle/>
        <a:p>
          <a:endParaRPr lang="es-CL"/>
        </a:p>
      </dgm:t>
    </dgm:pt>
    <dgm:pt modelId="{2FCAF9AD-4814-4810-8581-A2EB214C6808}" type="sibTrans" cxnId="{B7C07552-82CE-4743-BBD2-03426DD79C53}">
      <dgm:prSet/>
      <dgm:spPr/>
      <dgm:t>
        <a:bodyPr/>
        <a:lstStyle/>
        <a:p>
          <a:endParaRPr lang="es-CL"/>
        </a:p>
      </dgm:t>
    </dgm:pt>
    <dgm:pt modelId="{397C0F6E-2572-41D1-85CE-E0BA42B52D89}" type="pres">
      <dgm:prSet presAssocID="{C7A04667-8934-4335-9D3B-DB05A0C65970}" presName="mainComposite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es-CL"/>
        </a:p>
      </dgm:t>
    </dgm:pt>
    <dgm:pt modelId="{90A321F0-D968-4848-90E0-D583233D0110}" type="pres">
      <dgm:prSet presAssocID="{C7A04667-8934-4335-9D3B-DB05A0C65970}" presName="hierFlow" presStyleCnt="0"/>
      <dgm:spPr/>
    </dgm:pt>
    <dgm:pt modelId="{66E1C85E-A903-4BEE-B197-F2D7A245BB5E}" type="pres">
      <dgm:prSet presAssocID="{C7A04667-8934-4335-9D3B-DB05A0C65970}" presName="firstBuf" presStyleCnt="0"/>
      <dgm:spPr/>
    </dgm:pt>
    <dgm:pt modelId="{BA1CC194-442D-4F71-A79D-3D22DA1B9FEC}" type="pres">
      <dgm:prSet presAssocID="{C7A04667-8934-4335-9D3B-DB05A0C65970}" presName="hierChild1" presStyleCnt="0">
        <dgm:presLayoutVars>
          <dgm:chPref val="1"/>
          <dgm:animOne val="branch"/>
          <dgm:animLvl val="lvl"/>
        </dgm:presLayoutVars>
      </dgm:prSet>
      <dgm:spPr/>
    </dgm:pt>
    <dgm:pt modelId="{09C282D7-DF73-406E-9E0D-4927AAA36342}" type="pres">
      <dgm:prSet presAssocID="{4572C8CB-53A3-4307-B326-2063D01E8E72}" presName="Name17" presStyleCnt="0"/>
      <dgm:spPr/>
    </dgm:pt>
    <dgm:pt modelId="{BAD6CA4D-841D-4F91-BFB2-A3E3F03A1C04}" type="pres">
      <dgm:prSet presAssocID="{4572C8CB-53A3-4307-B326-2063D01E8E72}" presName="level1Shape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s-CL"/>
        </a:p>
      </dgm:t>
    </dgm:pt>
    <dgm:pt modelId="{9556611D-10DF-4AE8-BDD9-FEFB5393F96C}" type="pres">
      <dgm:prSet presAssocID="{4572C8CB-53A3-4307-B326-2063D01E8E72}" presName="hierChild2" presStyleCnt="0"/>
      <dgm:spPr/>
    </dgm:pt>
    <dgm:pt modelId="{1A71A293-0B57-4F31-A26E-C86C7D885062}" type="pres">
      <dgm:prSet presAssocID="{C00D06DD-F842-4639-9036-4B921831AE07}" presName="Name25" presStyleLbl="parChTrans1D2" presStyleIdx="0" presStyleCnt="2"/>
      <dgm:spPr/>
      <dgm:t>
        <a:bodyPr/>
        <a:lstStyle/>
        <a:p>
          <a:endParaRPr lang="es-CL"/>
        </a:p>
      </dgm:t>
    </dgm:pt>
    <dgm:pt modelId="{F5040EC0-7BC4-4EDB-8AEE-130F80E1B53B}" type="pres">
      <dgm:prSet presAssocID="{C00D06DD-F842-4639-9036-4B921831AE07}" presName="connTx" presStyleLbl="parChTrans1D2" presStyleIdx="0" presStyleCnt="2"/>
      <dgm:spPr/>
      <dgm:t>
        <a:bodyPr/>
        <a:lstStyle/>
        <a:p>
          <a:endParaRPr lang="es-CL"/>
        </a:p>
      </dgm:t>
    </dgm:pt>
    <dgm:pt modelId="{344F59F7-B1C3-4B19-A008-44B60190F979}" type="pres">
      <dgm:prSet presAssocID="{C9F43E6E-A494-4F72-B9FB-E4A83F95B136}" presName="Name30" presStyleCnt="0"/>
      <dgm:spPr/>
    </dgm:pt>
    <dgm:pt modelId="{79C592AD-EAF8-425B-82D8-2DC40D80EA5D}" type="pres">
      <dgm:prSet presAssocID="{C9F43E6E-A494-4F72-B9FB-E4A83F95B136}" presName="level2Shape" presStyleLbl="node2" presStyleIdx="0" presStyleCnt="2" custScaleY="184029" custLinFactNeighborY="-35376"/>
      <dgm:spPr/>
      <dgm:t>
        <a:bodyPr/>
        <a:lstStyle/>
        <a:p>
          <a:endParaRPr lang="es-CL"/>
        </a:p>
      </dgm:t>
    </dgm:pt>
    <dgm:pt modelId="{34FA8D9B-52B7-413D-B02C-FF3CC515A5C2}" type="pres">
      <dgm:prSet presAssocID="{C9F43E6E-A494-4F72-B9FB-E4A83F95B136}" presName="hierChild3" presStyleCnt="0"/>
      <dgm:spPr/>
    </dgm:pt>
    <dgm:pt modelId="{EA12EB28-182F-44B2-B2EF-AF277A489F2C}" type="pres">
      <dgm:prSet presAssocID="{0AB1D42A-183F-4821-82F7-62E7E2B47A27}" presName="Name25" presStyleLbl="parChTrans1D3" presStyleIdx="0" presStyleCnt="2"/>
      <dgm:spPr/>
      <dgm:t>
        <a:bodyPr/>
        <a:lstStyle/>
        <a:p>
          <a:endParaRPr lang="es-CL"/>
        </a:p>
      </dgm:t>
    </dgm:pt>
    <dgm:pt modelId="{08B2C020-5B50-404E-80F4-8D95A6D78301}" type="pres">
      <dgm:prSet presAssocID="{0AB1D42A-183F-4821-82F7-62E7E2B47A27}" presName="connTx" presStyleLbl="parChTrans1D3" presStyleIdx="0" presStyleCnt="2"/>
      <dgm:spPr/>
      <dgm:t>
        <a:bodyPr/>
        <a:lstStyle/>
        <a:p>
          <a:endParaRPr lang="es-CL"/>
        </a:p>
      </dgm:t>
    </dgm:pt>
    <dgm:pt modelId="{4990F150-E5B9-441C-A569-76D51108C7E0}" type="pres">
      <dgm:prSet presAssocID="{5865FB2C-47E3-47ED-9A9C-ACDF2974C289}" presName="Name30" presStyleCnt="0"/>
      <dgm:spPr/>
    </dgm:pt>
    <dgm:pt modelId="{1774847A-FA88-4EFE-922A-97209CFD0B89}" type="pres">
      <dgm:prSet presAssocID="{5865FB2C-47E3-47ED-9A9C-ACDF2974C289}" presName="level2Shape" presStyleLbl="node3" presStyleIdx="0" presStyleCnt="2" custLinFactNeighborY="-35376"/>
      <dgm:spPr/>
      <dgm:t>
        <a:bodyPr/>
        <a:lstStyle/>
        <a:p>
          <a:endParaRPr lang="es-CL"/>
        </a:p>
      </dgm:t>
    </dgm:pt>
    <dgm:pt modelId="{AEA23089-8A25-4543-9756-78B961BDDEC9}" type="pres">
      <dgm:prSet presAssocID="{5865FB2C-47E3-47ED-9A9C-ACDF2974C289}" presName="hierChild3" presStyleCnt="0"/>
      <dgm:spPr/>
    </dgm:pt>
    <dgm:pt modelId="{6F9EF1CF-6E69-457D-9DEC-0B73288C2D34}" type="pres">
      <dgm:prSet presAssocID="{9DB9AF12-5F76-4791-83EA-B245F6003301}" presName="Name25" presStyleLbl="parChTrans1D4" presStyleIdx="0" presStyleCnt="4"/>
      <dgm:spPr/>
      <dgm:t>
        <a:bodyPr/>
        <a:lstStyle/>
        <a:p>
          <a:endParaRPr lang="es-CL"/>
        </a:p>
      </dgm:t>
    </dgm:pt>
    <dgm:pt modelId="{6085E6AD-D428-4FE6-AB75-5CC483E2FC71}" type="pres">
      <dgm:prSet presAssocID="{9DB9AF12-5F76-4791-83EA-B245F6003301}" presName="connTx" presStyleLbl="parChTrans1D4" presStyleIdx="0" presStyleCnt="4"/>
      <dgm:spPr/>
      <dgm:t>
        <a:bodyPr/>
        <a:lstStyle/>
        <a:p>
          <a:endParaRPr lang="es-CL"/>
        </a:p>
      </dgm:t>
    </dgm:pt>
    <dgm:pt modelId="{C855FEB1-0534-4D99-954B-B0A8EA347A0B}" type="pres">
      <dgm:prSet presAssocID="{22DC95BF-3722-4DA5-9FEE-2001E52D1E73}" presName="Name30" presStyleCnt="0"/>
      <dgm:spPr/>
    </dgm:pt>
    <dgm:pt modelId="{CE7355E8-56F5-4144-8FA9-703EBFC7E49F}" type="pres">
      <dgm:prSet presAssocID="{22DC95BF-3722-4DA5-9FEE-2001E52D1E73}" presName="level2Shape" presStyleLbl="node4" presStyleIdx="0" presStyleCnt="4" custLinFactNeighborY="-35376"/>
      <dgm:spPr/>
      <dgm:t>
        <a:bodyPr/>
        <a:lstStyle/>
        <a:p>
          <a:endParaRPr lang="es-CL"/>
        </a:p>
      </dgm:t>
    </dgm:pt>
    <dgm:pt modelId="{CCAA8B91-C0B4-433F-899A-B799D68045FA}" type="pres">
      <dgm:prSet presAssocID="{22DC95BF-3722-4DA5-9FEE-2001E52D1E73}" presName="hierChild3" presStyleCnt="0"/>
      <dgm:spPr/>
    </dgm:pt>
    <dgm:pt modelId="{79D48807-EA9B-4A4F-B35D-BC6E5A4741ED}" type="pres">
      <dgm:prSet presAssocID="{D3E1DC15-1213-4723-954B-F01B4E6BE60B}" presName="Name25" presStyleLbl="parChTrans1D4" presStyleIdx="1" presStyleCnt="4"/>
      <dgm:spPr/>
      <dgm:t>
        <a:bodyPr/>
        <a:lstStyle/>
        <a:p>
          <a:endParaRPr lang="es-CL"/>
        </a:p>
      </dgm:t>
    </dgm:pt>
    <dgm:pt modelId="{EDF9FA94-1769-43D4-8EE0-8FB761FD852B}" type="pres">
      <dgm:prSet presAssocID="{D3E1DC15-1213-4723-954B-F01B4E6BE60B}" presName="connTx" presStyleLbl="parChTrans1D4" presStyleIdx="1" presStyleCnt="4"/>
      <dgm:spPr/>
      <dgm:t>
        <a:bodyPr/>
        <a:lstStyle/>
        <a:p>
          <a:endParaRPr lang="es-CL"/>
        </a:p>
      </dgm:t>
    </dgm:pt>
    <dgm:pt modelId="{EFD372FA-63AF-4ED0-8A1C-97FF98ECC2FA}" type="pres">
      <dgm:prSet presAssocID="{5D6644D1-97E5-4BB2-A6F6-F4E438BE21D1}" presName="Name30" presStyleCnt="0"/>
      <dgm:spPr/>
    </dgm:pt>
    <dgm:pt modelId="{D3BFA27A-0ADD-48E4-91F8-5C09674F6FA5}" type="pres">
      <dgm:prSet presAssocID="{5D6644D1-97E5-4BB2-A6F6-F4E438BE21D1}" presName="level2Shape" presStyleLbl="node4" presStyleIdx="1" presStyleCnt="4" custLinFactNeighborY="-35376"/>
      <dgm:spPr/>
      <dgm:t>
        <a:bodyPr/>
        <a:lstStyle/>
        <a:p>
          <a:endParaRPr lang="es-CL"/>
        </a:p>
      </dgm:t>
    </dgm:pt>
    <dgm:pt modelId="{6434D923-29FB-49AF-AC4B-7483BCAC6D88}" type="pres">
      <dgm:prSet presAssocID="{5D6644D1-97E5-4BB2-A6F6-F4E438BE21D1}" presName="hierChild3" presStyleCnt="0"/>
      <dgm:spPr/>
    </dgm:pt>
    <dgm:pt modelId="{DF424A8B-00C7-4217-890F-7820B99912BC}" type="pres">
      <dgm:prSet presAssocID="{0056A369-6B70-4FCF-8A71-011AA9E19D88}" presName="Name25" presStyleLbl="parChTrans1D2" presStyleIdx="1" presStyleCnt="2"/>
      <dgm:spPr/>
      <dgm:t>
        <a:bodyPr/>
        <a:lstStyle/>
        <a:p>
          <a:endParaRPr lang="es-CL"/>
        </a:p>
      </dgm:t>
    </dgm:pt>
    <dgm:pt modelId="{C9C201A8-6491-47AD-826C-8E0382A6FE76}" type="pres">
      <dgm:prSet presAssocID="{0056A369-6B70-4FCF-8A71-011AA9E19D88}" presName="connTx" presStyleLbl="parChTrans1D2" presStyleIdx="1" presStyleCnt="2"/>
      <dgm:spPr/>
      <dgm:t>
        <a:bodyPr/>
        <a:lstStyle/>
        <a:p>
          <a:endParaRPr lang="es-CL"/>
        </a:p>
      </dgm:t>
    </dgm:pt>
    <dgm:pt modelId="{8C883B1D-5665-4D16-AF35-6DA43B34D569}" type="pres">
      <dgm:prSet presAssocID="{60F8114D-D316-48C3-8D62-3060978D8A98}" presName="Name30" presStyleCnt="0"/>
      <dgm:spPr/>
    </dgm:pt>
    <dgm:pt modelId="{C0403B5E-FA57-4540-92CD-C4880E681423}" type="pres">
      <dgm:prSet presAssocID="{60F8114D-D316-48C3-8D62-3060978D8A98}" presName="level2Shape" presStyleLbl="node2" presStyleIdx="1" presStyleCnt="2" custScaleY="205902"/>
      <dgm:spPr/>
      <dgm:t>
        <a:bodyPr/>
        <a:lstStyle/>
        <a:p>
          <a:endParaRPr lang="es-CL"/>
        </a:p>
      </dgm:t>
    </dgm:pt>
    <dgm:pt modelId="{F29833A0-937B-4B4F-A00D-BC8B74B5F3B9}" type="pres">
      <dgm:prSet presAssocID="{60F8114D-D316-48C3-8D62-3060978D8A98}" presName="hierChild3" presStyleCnt="0"/>
      <dgm:spPr/>
    </dgm:pt>
    <dgm:pt modelId="{6943F1B9-3167-425E-AAF1-29A75D4D9CBB}" type="pres">
      <dgm:prSet presAssocID="{8C69E9D3-57C1-4B1E-BC32-E1C51ADEB34B}" presName="Name25" presStyleLbl="parChTrans1D3" presStyleIdx="1" presStyleCnt="2"/>
      <dgm:spPr/>
      <dgm:t>
        <a:bodyPr/>
        <a:lstStyle/>
        <a:p>
          <a:endParaRPr lang="es-CL"/>
        </a:p>
      </dgm:t>
    </dgm:pt>
    <dgm:pt modelId="{1DFC3C2C-0357-45AA-9153-209811448021}" type="pres">
      <dgm:prSet presAssocID="{8C69E9D3-57C1-4B1E-BC32-E1C51ADEB34B}" presName="connTx" presStyleLbl="parChTrans1D3" presStyleIdx="1" presStyleCnt="2"/>
      <dgm:spPr/>
      <dgm:t>
        <a:bodyPr/>
        <a:lstStyle/>
        <a:p>
          <a:endParaRPr lang="es-CL"/>
        </a:p>
      </dgm:t>
    </dgm:pt>
    <dgm:pt modelId="{5040F7AF-D54B-49EA-B619-F58513C798CE}" type="pres">
      <dgm:prSet presAssocID="{81447191-7AD8-4ED8-B1BF-8DB3D99C06D1}" presName="Name30" presStyleCnt="0"/>
      <dgm:spPr/>
    </dgm:pt>
    <dgm:pt modelId="{5C892DF9-835A-4232-8F0A-5B1B426DA9E4}" type="pres">
      <dgm:prSet presAssocID="{81447191-7AD8-4ED8-B1BF-8DB3D99C06D1}" presName="level2Shape" presStyleLbl="node3" presStyleIdx="1" presStyleCnt="2"/>
      <dgm:spPr/>
      <dgm:t>
        <a:bodyPr/>
        <a:lstStyle/>
        <a:p>
          <a:endParaRPr lang="es-CL"/>
        </a:p>
      </dgm:t>
    </dgm:pt>
    <dgm:pt modelId="{467FAD25-E5D3-49C8-AD04-588758EBF277}" type="pres">
      <dgm:prSet presAssocID="{81447191-7AD8-4ED8-B1BF-8DB3D99C06D1}" presName="hierChild3" presStyleCnt="0"/>
      <dgm:spPr/>
    </dgm:pt>
    <dgm:pt modelId="{39CB086F-46FD-4524-B943-3AE7F5AC0177}" type="pres">
      <dgm:prSet presAssocID="{590E7825-4337-4862-AA00-1CC7FB8AFCFD}" presName="Name25" presStyleLbl="parChTrans1D4" presStyleIdx="2" presStyleCnt="4"/>
      <dgm:spPr/>
      <dgm:t>
        <a:bodyPr/>
        <a:lstStyle/>
        <a:p>
          <a:endParaRPr lang="es-CL"/>
        </a:p>
      </dgm:t>
    </dgm:pt>
    <dgm:pt modelId="{602F1F56-E198-4EBA-BA34-D5F993674730}" type="pres">
      <dgm:prSet presAssocID="{590E7825-4337-4862-AA00-1CC7FB8AFCFD}" presName="connTx" presStyleLbl="parChTrans1D4" presStyleIdx="2" presStyleCnt="4"/>
      <dgm:spPr/>
      <dgm:t>
        <a:bodyPr/>
        <a:lstStyle/>
        <a:p>
          <a:endParaRPr lang="es-CL"/>
        </a:p>
      </dgm:t>
    </dgm:pt>
    <dgm:pt modelId="{8E990E03-2833-4546-B38F-10A11ABA2797}" type="pres">
      <dgm:prSet presAssocID="{55107D53-B977-42EF-9FB1-A7BD7A718E49}" presName="Name30" presStyleCnt="0"/>
      <dgm:spPr/>
    </dgm:pt>
    <dgm:pt modelId="{03C5E3A5-A3E2-41C6-8759-9AAA913B9347}" type="pres">
      <dgm:prSet presAssocID="{55107D53-B977-42EF-9FB1-A7BD7A718E49}" presName="level2Shape" presStyleLbl="node4" presStyleIdx="2" presStyleCnt="4"/>
      <dgm:spPr/>
      <dgm:t>
        <a:bodyPr/>
        <a:lstStyle/>
        <a:p>
          <a:endParaRPr lang="es-CL"/>
        </a:p>
      </dgm:t>
    </dgm:pt>
    <dgm:pt modelId="{F552D3A7-9660-424F-AC1A-984675C8C863}" type="pres">
      <dgm:prSet presAssocID="{55107D53-B977-42EF-9FB1-A7BD7A718E49}" presName="hierChild3" presStyleCnt="0"/>
      <dgm:spPr/>
    </dgm:pt>
    <dgm:pt modelId="{A4655639-0FC5-4244-8D78-CA160AB5F0C8}" type="pres">
      <dgm:prSet presAssocID="{FA3E4123-FD06-47D5-BA10-C76DD126CB03}" presName="Name25" presStyleLbl="parChTrans1D4" presStyleIdx="3" presStyleCnt="4"/>
      <dgm:spPr/>
      <dgm:t>
        <a:bodyPr/>
        <a:lstStyle/>
        <a:p>
          <a:endParaRPr lang="es-CL"/>
        </a:p>
      </dgm:t>
    </dgm:pt>
    <dgm:pt modelId="{43FC7E38-A07B-4B4D-969D-3C505CB6845D}" type="pres">
      <dgm:prSet presAssocID="{FA3E4123-FD06-47D5-BA10-C76DD126CB03}" presName="connTx" presStyleLbl="parChTrans1D4" presStyleIdx="3" presStyleCnt="4"/>
      <dgm:spPr/>
      <dgm:t>
        <a:bodyPr/>
        <a:lstStyle/>
        <a:p>
          <a:endParaRPr lang="es-CL"/>
        </a:p>
      </dgm:t>
    </dgm:pt>
    <dgm:pt modelId="{63F95AC8-D396-4D58-A644-E202F210A3F4}" type="pres">
      <dgm:prSet presAssocID="{2A39484A-8A93-4B6D-9B8F-7BA7FCB6FD1E}" presName="Name30" presStyleCnt="0"/>
      <dgm:spPr/>
    </dgm:pt>
    <dgm:pt modelId="{C9EA4293-6380-4005-B26E-88205DACF806}" type="pres">
      <dgm:prSet presAssocID="{2A39484A-8A93-4B6D-9B8F-7BA7FCB6FD1E}" presName="level2Shape" presStyleLbl="node4" presStyleIdx="3" presStyleCnt="4"/>
      <dgm:spPr/>
      <dgm:t>
        <a:bodyPr/>
        <a:lstStyle/>
        <a:p>
          <a:endParaRPr lang="es-CL"/>
        </a:p>
      </dgm:t>
    </dgm:pt>
    <dgm:pt modelId="{E73FDE39-4AB4-4C3E-B19D-C354463C10C1}" type="pres">
      <dgm:prSet presAssocID="{2A39484A-8A93-4B6D-9B8F-7BA7FCB6FD1E}" presName="hierChild3" presStyleCnt="0"/>
      <dgm:spPr/>
    </dgm:pt>
    <dgm:pt modelId="{2A119F8E-8EB7-48AF-BFA2-C6111271427F}" type="pres">
      <dgm:prSet presAssocID="{C7A04667-8934-4335-9D3B-DB05A0C65970}" presName="bgShapesFlow" presStyleCnt="0"/>
      <dgm:spPr/>
    </dgm:pt>
    <dgm:pt modelId="{977633E4-E969-4097-90ED-7F906D8933C1}" type="pres">
      <dgm:prSet presAssocID="{9EF21E99-1405-4E7B-8921-BD561E772D0F}" presName="rectComp" presStyleCnt="0"/>
      <dgm:spPr/>
    </dgm:pt>
    <dgm:pt modelId="{C3A0415B-F7C5-4956-8C21-34E53C5EB00A}" type="pres">
      <dgm:prSet presAssocID="{9EF21E99-1405-4E7B-8921-BD561E772D0F}" presName="bgRect" presStyleLbl="bgShp" presStyleIdx="0" presStyleCnt="4"/>
      <dgm:spPr/>
      <dgm:t>
        <a:bodyPr/>
        <a:lstStyle/>
        <a:p>
          <a:endParaRPr lang="es-CL"/>
        </a:p>
      </dgm:t>
    </dgm:pt>
    <dgm:pt modelId="{7E4C38B5-0165-4E21-B589-FC29A4134967}" type="pres">
      <dgm:prSet presAssocID="{9EF21E99-1405-4E7B-8921-BD561E772D0F}" presName="bgRectTx" presStyleLbl="bgShp" presStyleIdx="0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4653A5F4-B9A5-492A-8B30-478BB6831AA9}" type="pres">
      <dgm:prSet presAssocID="{9EF21E99-1405-4E7B-8921-BD561E772D0F}" presName="spComp" presStyleCnt="0"/>
      <dgm:spPr/>
    </dgm:pt>
    <dgm:pt modelId="{15EF8927-3233-4AA7-8AC6-D3A2E53515BA}" type="pres">
      <dgm:prSet presAssocID="{9EF21E99-1405-4E7B-8921-BD561E772D0F}" presName="hSp" presStyleCnt="0"/>
      <dgm:spPr/>
    </dgm:pt>
    <dgm:pt modelId="{6A112575-1D79-48CD-B662-C850C0E5701A}" type="pres">
      <dgm:prSet presAssocID="{ED002399-C8B1-4358-AB78-B1377FF85048}" presName="rectComp" presStyleCnt="0"/>
      <dgm:spPr/>
    </dgm:pt>
    <dgm:pt modelId="{66D4C0BF-2595-4A59-BD45-D8830FE2B8D4}" type="pres">
      <dgm:prSet presAssocID="{ED002399-C8B1-4358-AB78-B1377FF85048}" presName="bgRect" presStyleLbl="bgShp" presStyleIdx="1" presStyleCnt="4"/>
      <dgm:spPr/>
      <dgm:t>
        <a:bodyPr/>
        <a:lstStyle/>
        <a:p>
          <a:endParaRPr lang="es-CL"/>
        </a:p>
      </dgm:t>
    </dgm:pt>
    <dgm:pt modelId="{5BE23670-C957-4B68-8B75-C8BD1A97C22B}" type="pres">
      <dgm:prSet presAssocID="{ED002399-C8B1-4358-AB78-B1377FF85048}" presName="bgRectTx" presStyleLbl="bgShp" presStyleIdx="1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F0B9B64D-5C06-4B86-B1BE-985C405A2410}" type="pres">
      <dgm:prSet presAssocID="{ED002399-C8B1-4358-AB78-B1377FF85048}" presName="spComp" presStyleCnt="0"/>
      <dgm:spPr/>
    </dgm:pt>
    <dgm:pt modelId="{D12686D6-299D-4945-8351-29DEE2EC973F}" type="pres">
      <dgm:prSet presAssocID="{ED002399-C8B1-4358-AB78-B1377FF85048}" presName="hSp" presStyleCnt="0"/>
      <dgm:spPr/>
    </dgm:pt>
    <dgm:pt modelId="{37AE5667-55AE-4EA7-8AF8-C30C1CB465F7}" type="pres">
      <dgm:prSet presAssocID="{B445CAC0-9F43-49B3-A2BF-E5614A729F8E}" presName="rectComp" presStyleCnt="0"/>
      <dgm:spPr/>
    </dgm:pt>
    <dgm:pt modelId="{FBDAFBD0-EEBA-47BF-95A1-A181007973CF}" type="pres">
      <dgm:prSet presAssocID="{B445CAC0-9F43-49B3-A2BF-E5614A729F8E}" presName="bgRect" presStyleLbl="bgShp" presStyleIdx="2" presStyleCnt="4"/>
      <dgm:spPr/>
      <dgm:t>
        <a:bodyPr/>
        <a:lstStyle/>
        <a:p>
          <a:endParaRPr lang="es-CL"/>
        </a:p>
      </dgm:t>
    </dgm:pt>
    <dgm:pt modelId="{9613EB9D-EDFE-483A-BF84-567CB7685C4B}" type="pres">
      <dgm:prSet presAssocID="{B445CAC0-9F43-49B3-A2BF-E5614A729F8E}" presName="bgRectTx" presStyleLbl="bgShp" presStyleIdx="2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65653445-7DCC-4E94-BBC6-F98E9DF7AA3E}" type="pres">
      <dgm:prSet presAssocID="{B445CAC0-9F43-49B3-A2BF-E5614A729F8E}" presName="spComp" presStyleCnt="0"/>
      <dgm:spPr/>
    </dgm:pt>
    <dgm:pt modelId="{95D7F271-14E1-4448-89AE-56F8EA206EA0}" type="pres">
      <dgm:prSet presAssocID="{B445CAC0-9F43-49B3-A2BF-E5614A729F8E}" presName="hSp" presStyleCnt="0"/>
      <dgm:spPr/>
    </dgm:pt>
    <dgm:pt modelId="{3EDDA167-271F-4B8D-9273-DFE8F57D8C68}" type="pres">
      <dgm:prSet presAssocID="{B1C26EDE-B145-4659-AB5F-185623417FE3}" presName="rectComp" presStyleCnt="0"/>
      <dgm:spPr/>
    </dgm:pt>
    <dgm:pt modelId="{6F748150-A27A-4FA9-82FF-84681E0E580E}" type="pres">
      <dgm:prSet presAssocID="{B1C26EDE-B145-4659-AB5F-185623417FE3}" presName="bgRect" presStyleLbl="bgShp" presStyleIdx="3" presStyleCnt="4"/>
      <dgm:spPr/>
      <dgm:t>
        <a:bodyPr/>
        <a:lstStyle/>
        <a:p>
          <a:endParaRPr lang="es-CL"/>
        </a:p>
      </dgm:t>
    </dgm:pt>
    <dgm:pt modelId="{D7C1F637-B66E-4990-BEF3-E0DA7A3DC46E}" type="pres">
      <dgm:prSet presAssocID="{B1C26EDE-B145-4659-AB5F-185623417FE3}" presName="bgRectTx" presStyleLbl="bgShp" presStyleIdx="3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</dgm:ptLst>
  <dgm:cxnLst>
    <dgm:cxn modelId="{1B8EC4DE-8BAD-4B67-91D6-817BC74303E7}" type="presOf" srcId="{0AB1D42A-183F-4821-82F7-62E7E2B47A27}" destId="{EA12EB28-182F-44B2-B2EF-AF277A489F2C}" srcOrd="0" destOrd="0" presId="urn:microsoft.com/office/officeart/2005/8/layout/hierarchy5"/>
    <dgm:cxn modelId="{E21D3BF6-07B1-4CD8-9E75-7D996F97F6DB}" type="presOf" srcId="{55107D53-B977-42EF-9FB1-A7BD7A718E49}" destId="{03C5E3A5-A3E2-41C6-8759-9AAA913B9347}" srcOrd="0" destOrd="0" presId="urn:microsoft.com/office/officeart/2005/8/layout/hierarchy5"/>
    <dgm:cxn modelId="{B7C07552-82CE-4743-BBD2-03426DD79C53}" srcId="{5865FB2C-47E3-47ED-9A9C-ACDF2974C289}" destId="{5D6644D1-97E5-4BB2-A6F6-F4E438BE21D1}" srcOrd="1" destOrd="0" parTransId="{D3E1DC15-1213-4723-954B-F01B4E6BE60B}" sibTransId="{2FCAF9AD-4814-4810-8581-A2EB214C6808}"/>
    <dgm:cxn modelId="{091FA1FC-382C-4D40-8EE6-3C634CB5DF95}" type="presOf" srcId="{FA3E4123-FD06-47D5-BA10-C76DD126CB03}" destId="{43FC7E38-A07B-4B4D-969D-3C505CB6845D}" srcOrd="1" destOrd="0" presId="urn:microsoft.com/office/officeart/2005/8/layout/hierarchy5"/>
    <dgm:cxn modelId="{8016285B-B3E9-40CC-BB21-A64DED42A89D}" type="presOf" srcId="{C9F43E6E-A494-4F72-B9FB-E4A83F95B136}" destId="{79C592AD-EAF8-425B-82D8-2DC40D80EA5D}" srcOrd="0" destOrd="0" presId="urn:microsoft.com/office/officeart/2005/8/layout/hierarchy5"/>
    <dgm:cxn modelId="{A0AE7ACF-BC51-4F1D-8CE4-5CF256E64ECA}" type="presOf" srcId="{C7A04667-8934-4335-9D3B-DB05A0C65970}" destId="{397C0F6E-2572-41D1-85CE-E0BA42B52D89}" srcOrd="0" destOrd="0" presId="urn:microsoft.com/office/officeart/2005/8/layout/hierarchy5"/>
    <dgm:cxn modelId="{C025193E-99A9-4BBD-A5F0-5E831F22BB87}" srcId="{C7A04667-8934-4335-9D3B-DB05A0C65970}" destId="{ED002399-C8B1-4358-AB78-B1377FF85048}" srcOrd="2" destOrd="0" parTransId="{DCBD452E-D0D4-4E17-9809-34E9AE63AEB4}" sibTransId="{6FB98DBF-3EB9-46A8-9C4A-D745F4C0D78C}"/>
    <dgm:cxn modelId="{916578F6-DA38-458E-8532-089AF5943F6B}" type="presOf" srcId="{0AB1D42A-183F-4821-82F7-62E7E2B47A27}" destId="{08B2C020-5B50-404E-80F4-8D95A6D78301}" srcOrd="1" destOrd="0" presId="urn:microsoft.com/office/officeart/2005/8/layout/hierarchy5"/>
    <dgm:cxn modelId="{9E55AD64-57D0-4E25-B29B-A1EBF7D510E5}" type="presOf" srcId="{5D6644D1-97E5-4BB2-A6F6-F4E438BE21D1}" destId="{D3BFA27A-0ADD-48E4-91F8-5C09674F6FA5}" srcOrd="0" destOrd="0" presId="urn:microsoft.com/office/officeart/2005/8/layout/hierarchy5"/>
    <dgm:cxn modelId="{48423D49-E4B4-495F-8E41-5D27A145D561}" type="presOf" srcId="{8C69E9D3-57C1-4B1E-BC32-E1C51ADEB34B}" destId="{1DFC3C2C-0357-45AA-9153-209811448021}" srcOrd="1" destOrd="0" presId="urn:microsoft.com/office/officeart/2005/8/layout/hierarchy5"/>
    <dgm:cxn modelId="{CA8CDE44-33A6-4FDA-920B-72BD074EFFAA}" type="presOf" srcId="{590E7825-4337-4862-AA00-1CC7FB8AFCFD}" destId="{602F1F56-E198-4EBA-BA34-D5F993674730}" srcOrd="1" destOrd="0" presId="urn:microsoft.com/office/officeart/2005/8/layout/hierarchy5"/>
    <dgm:cxn modelId="{B27DA92E-57B1-4081-9121-2315172E2233}" srcId="{C7A04667-8934-4335-9D3B-DB05A0C65970}" destId="{9EF21E99-1405-4E7B-8921-BD561E772D0F}" srcOrd="1" destOrd="0" parTransId="{FCB48FD4-14B1-4D29-B4BB-0670AF89B0DB}" sibTransId="{8EF8D4BF-0A52-448A-B391-05F5741CC4F6}"/>
    <dgm:cxn modelId="{1D0D7814-21F0-4315-B5F2-EF0BE5956B75}" srcId="{C7A04667-8934-4335-9D3B-DB05A0C65970}" destId="{4572C8CB-53A3-4307-B326-2063D01E8E72}" srcOrd="0" destOrd="0" parTransId="{44EC23D9-CC8C-435A-806D-F389DEFAF65F}" sibTransId="{1CAEC60C-C650-4FDA-BE3A-FBBBD749EF79}"/>
    <dgm:cxn modelId="{CBF6BE61-8ED0-4381-AB16-9548C36FD744}" srcId="{4572C8CB-53A3-4307-B326-2063D01E8E72}" destId="{C9F43E6E-A494-4F72-B9FB-E4A83F95B136}" srcOrd="0" destOrd="0" parTransId="{C00D06DD-F842-4639-9036-4B921831AE07}" sibTransId="{D1A207C4-CA5E-4D1F-A9A6-3C8048F353CE}"/>
    <dgm:cxn modelId="{BFA4B71B-2283-4BCE-8218-5DFDA49903AA}" type="presOf" srcId="{8C69E9D3-57C1-4B1E-BC32-E1C51ADEB34B}" destId="{6943F1B9-3167-425E-AAF1-29A75D4D9CBB}" srcOrd="0" destOrd="0" presId="urn:microsoft.com/office/officeart/2005/8/layout/hierarchy5"/>
    <dgm:cxn modelId="{5236548C-1E2D-41C9-90E3-CFC4F41CD18D}" type="presOf" srcId="{22DC95BF-3722-4DA5-9FEE-2001E52D1E73}" destId="{CE7355E8-56F5-4144-8FA9-703EBFC7E49F}" srcOrd="0" destOrd="0" presId="urn:microsoft.com/office/officeart/2005/8/layout/hierarchy5"/>
    <dgm:cxn modelId="{407BF354-D65C-4E64-8FA2-0485FB66C7AD}" type="presOf" srcId="{2A39484A-8A93-4B6D-9B8F-7BA7FCB6FD1E}" destId="{C9EA4293-6380-4005-B26E-88205DACF806}" srcOrd="0" destOrd="0" presId="urn:microsoft.com/office/officeart/2005/8/layout/hierarchy5"/>
    <dgm:cxn modelId="{8F847F9C-8490-461D-B944-8B927C58462A}" type="presOf" srcId="{C00D06DD-F842-4639-9036-4B921831AE07}" destId="{1A71A293-0B57-4F31-A26E-C86C7D885062}" srcOrd="0" destOrd="0" presId="urn:microsoft.com/office/officeart/2005/8/layout/hierarchy5"/>
    <dgm:cxn modelId="{8E4DCEE3-B3F1-473E-A6C4-510E4245AA73}" srcId="{C9F43E6E-A494-4F72-B9FB-E4A83F95B136}" destId="{5865FB2C-47E3-47ED-9A9C-ACDF2974C289}" srcOrd="0" destOrd="0" parTransId="{0AB1D42A-183F-4821-82F7-62E7E2B47A27}" sibTransId="{9CFBDA9A-D309-441B-8902-2F59DF1FCF4A}"/>
    <dgm:cxn modelId="{9F432162-2C1E-407A-AC83-849BB93B70F5}" type="presOf" srcId="{4572C8CB-53A3-4307-B326-2063D01E8E72}" destId="{BAD6CA4D-841D-4F91-BFB2-A3E3F03A1C04}" srcOrd="0" destOrd="0" presId="urn:microsoft.com/office/officeart/2005/8/layout/hierarchy5"/>
    <dgm:cxn modelId="{28154F7E-6596-430A-972A-F0C18AE3D676}" type="presOf" srcId="{590E7825-4337-4862-AA00-1CC7FB8AFCFD}" destId="{39CB086F-46FD-4524-B943-3AE7F5AC0177}" srcOrd="0" destOrd="0" presId="urn:microsoft.com/office/officeart/2005/8/layout/hierarchy5"/>
    <dgm:cxn modelId="{E9A85317-9DBA-4B94-98CD-C8AFD4FBBE5F}" srcId="{C7A04667-8934-4335-9D3B-DB05A0C65970}" destId="{B445CAC0-9F43-49B3-A2BF-E5614A729F8E}" srcOrd="3" destOrd="0" parTransId="{12620541-D237-47EC-9693-1970F25D5633}" sibTransId="{32786BCE-9157-4CE2-87DE-A02DDD40BD19}"/>
    <dgm:cxn modelId="{43A30E70-A50F-4F90-8173-467F2F7D95B5}" type="presOf" srcId="{FA3E4123-FD06-47D5-BA10-C76DD126CB03}" destId="{A4655639-0FC5-4244-8D78-CA160AB5F0C8}" srcOrd="0" destOrd="0" presId="urn:microsoft.com/office/officeart/2005/8/layout/hierarchy5"/>
    <dgm:cxn modelId="{A3D09A9C-0252-4034-968C-4198D41CFA81}" type="presOf" srcId="{C00D06DD-F842-4639-9036-4B921831AE07}" destId="{F5040EC0-7BC4-4EDB-8AEE-130F80E1B53B}" srcOrd="1" destOrd="0" presId="urn:microsoft.com/office/officeart/2005/8/layout/hierarchy5"/>
    <dgm:cxn modelId="{AFEA5FCD-FC2C-442C-B4D9-D3C8D40138BA}" type="presOf" srcId="{0056A369-6B70-4FCF-8A71-011AA9E19D88}" destId="{DF424A8B-00C7-4217-890F-7820B99912BC}" srcOrd="0" destOrd="0" presId="urn:microsoft.com/office/officeart/2005/8/layout/hierarchy5"/>
    <dgm:cxn modelId="{DD9FEE6D-E39A-4A8A-9D5F-9697BA26DA25}" type="presOf" srcId="{5865FB2C-47E3-47ED-9A9C-ACDF2974C289}" destId="{1774847A-FA88-4EFE-922A-97209CFD0B89}" srcOrd="0" destOrd="0" presId="urn:microsoft.com/office/officeart/2005/8/layout/hierarchy5"/>
    <dgm:cxn modelId="{CCA3DE87-44D5-43B1-800C-81D6619B5A23}" type="presOf" srcId="{0056A369-6B70-4FCF-8A71-011AA9E19D88}" destId="{C9C201A8-6491-47AD-826C-8E0382A6FE76}" srcOrd="1" destOrd="0" presId="urn:microsoft.com/office/officeart/2005/8/layout/hierarchy5"/>
    <dgm:cxn modelId="{E2AFF100-B370-4005-8AE5-CDE306B3B81F}" type="presOf" srcId="{B445CAC0-9F43-49B3-A2BF-E5614A729F8E}" destId="{FBDAFBD0-EEBA-47BF-95A1-A181007973CF}" srcOrd="0" destOrd="0" presId="urn:microsoft.com/office/officeart/2005/8/layout/hierarchy5"/>
    <dgm:cxn modelId="{6E8640B6-C1D4-4CC3-A644-40A052194C3C}" srcId="{81447191-7AD8-4ED8-B1BF-8DB3D99C06D1}" destId="{2A39484A-8A93-4B6D-9B8F-7BA7FCB6FD1E}" srcOrd="1" destOrd="0" parTransId="{FA3E4123-FD06-47D5-BA10-C76DD126CB03}" sibTransId="{4F2F6D52-825B-44A2-94E7-C88BDCBC5E65}"/>
    <dgm:cxn modelId="{D5D91FEC-FB04-47DD-93E9-F92FCEBA7F2A}" type="presOf" srcId="{B1C26EDE-B145-4659-AB5F-185623417FE3}" destId="{D7C1F637-B66E-4990-BEF3-E0DA7A3DC46E}" srcOrd="1" destOrd="0" presId="urn:microsoft.com/office/officeart/2005/8/layout/hierarchy5"/>
    <dgm:cxn modelId="{2169ED40-D38E-43A2-AD47-3B88D104280F}" type="presOf" srcId="{81447191-7AD8-4ED8-B1BF-8DB3D99C06D1}" destId="{5C892DF9-835A-4232-8F0A-5B1B426DA9E4}" srcOrd="0" destOrd="0" presId="urn:microsoft.com/office/officeart/2005/8/layout/hierarchy5"/>
    <dgm:cxn modelId="{167A70D9-6C15-4CF5-B387-A7F92DEE2179}" type="presOf" srcId="{9EF21E99-1405-4E7B-8921-BD561E772D0F}" destId="{7E4C38B5-0165-4E21-B589-FC29A4134967}" srcOrd="1" destOrd="0" presId="urn:microsoft.com/office/officeart/2005/8/layout/hierarchy5"/>
    <dgm:cxn modelId="{E3524858-8897-462C-911E-E25DA46706F6}" type="presOf" srcId="{9DB9AF12-5F76-4791-83EA-B245F6003301}" destId="{6F9EF1CF-6E69-457D-9DEC-0B73288C2D34}" srcOrd="0" destOrd="0" presId="urn:microsoft.com/office/officeart/2005/8/layout/hierarchy5"/>
    <dgm:cxn modelId="{B3FFEADD-BF37-4809-B1ED-E09F27452D39}" type="presOf" srcId="{ED002399-C8B1-4358-AB78-B1377FF85048}" destId="{5BE23670-C957-4B68-8B75-C8BD1A97C22B}" srcOrd="1" destOrd="0" presId="urn:microsoft.com/office/officeart/2005/8/layout/hierarchy5"/>
    <dgm:cxn modelId="{11D98AD2-1FB9-48DE-9EEA-3E191BC1E7BC}" srcId="{4572C8CB-53A3-4307-B326-2063D01E8E72}" destId="{60F8114D-D316-48C3-8D62-3060978D8A98}" srcOrd="1" destOrd="0" parTransId="{0056A369-6B70-4FCF-8A71-011AA9E19D88}" sibTransId="{26918D7A-A06C-4732-A9CE-5EAD07F442E7}"/>
    <dgm:cxn modelId="{6B581EDF-990E-490A-AEB4-B30C90AF9608}" type="presOf" srcId="{D3E1DC15-1213-4723-954B-F01B4E6BE60B}" destId="{EDF9FA94-1769-43D4-8EE0-8FB761FD852B}" srcOrd="1" destOrd="0" presId="urn:microsoft.com/office/officeart/2005/8/layout/hierarchy5"/>
    <dgm:cxn modelId="{33498D05-C0CB-4EAF-850A-395009257407}" srcId="{81447191-7AD8-4ED8-B1BF-8DB3D99C06D1}" destId="{55107D53-B977-42EF-9FB1-A7BD7A718E49}" srcOrd="0" destOrd="0" parTransId="{590E7825-4337-4862-AA00-1CC7FB8AFCFD}" sibTransId="{ED9E768D-317A-4DA2-A0FD-A9BAFFD67819}"/>
    <dgm:cxn modelId="{9989085C-1B60-4D52-A64D-F51CBE071407}" type="presOf" srcId="{D3E1DC15-1213-4723-954B-F01B4E6BE60B}" destId="{79D48807-EA9B-4A4F-B35D-BC6E5A4741ED}" srcOrd="0" destOrd="0" presId="urn:microsoft.com/office/officeart/2005/8/layout/hierarchy5"/>
    <dgm:cxn modelId="{81C2E8F5-F58D-4794-BFBF-4F89BFF57BB3}" type="presOf" srcId="{B445CAC0-9F43-49B3-A2BF-E5614A729F8E}" destId="{9613EB9D-EDFE-483A-BF84-567CB7685C4B}" srcOrd="1" destOrd="0" presId="urn:microsoft.com/office/officeart/2005/8/layout/hierarchy5"/>
    <dgm:cxn modelId="{0704811F-586C-4817-9610-541A1F260B4D}" srcId="{C7A04667-8934-4335-9D3B-DB05A0C65970}" destId="{B1C26EDE-B145-4659-AB5F-185623417FE3}" srcOrd="4" destOrd="0" parTransId="{CCC43B11-A023-4118-98CA-0651DD45F077}" sibTransId="{3C2035D0-E558-40C6-9C77-49A6333277E7}"/>
    <dgm:cxn modelId="{8DAED119-733E-4F87-AFFE-5898150B189E}" srcId="{5865FB2C-47E3-47ED-9A9C-ACDF2974C289}" destId="{22DC95BF-3722-4DA5-9FEE-2001E52D1E73}" srcOrd="0" destOrd="0" parTransId="{9DB9AF12-5F76-4791-83EA-B245F6003301}" sibTransId="{218D871E-A419-45ED-88D8-992DA4CA3F66}"/>
    <dgm:cxn modelId="{24E18047-02C3-4AFA-BA24-22D677429C6B}" type="presOf" srcId="{9EF21E99-1405-4E7B-8921-BD561E772D0F}" destId="{C3A0415B-F7C5-4956-8C21-34E53C5EB00A}" srcOrd="0" destOrd="0" presId="urn:microsoft.com/office/officeart/2005/8/layout/hierarchy5"/>
    <dgm:cxn modelId="{91CE32C3-9060-49A2-8CA3-4C2F718892C9}" srcId="{60F8114D-D316-48C3-8D62-3060978D8A98}" destId="{81447191-7AD8-4ED8-B1BF-8DB3D99C06D1}" srcOrd="0" destOrd="0" parTransId="{8C69E9D3-57C1-4B1E-BC32-E1C51ADEB34B}" sibTransId="{B6AFE8EC-D8CC-4313-AC32-5950BB3EB58C}"/>
    <dgm:cxn modelId="{7E9EF614-D8DC-4430-8B71-90BFA84A2AD2}" type="presOf" srcId="{B1C26EDE-B145-4659-AB5F-185623417FE3}" destId="{6F748150-A27A-4FA9-82FF-84681E0E580E}" srcOrd="0" destOrd="0" presId="urn:microsoft.com/office/officeart/2005/8/layout/hierarchy5"/>
    <dgm:cxn modelId="{81E2B2F2-74EC-42C3-8668-30CCC66DC334}" type="presOf" srcId="{9DB9AF12-5F76-4791-83EA-B245F6003301}" destId="{6085E6AD-D428-4FE6-AB75-5CC483E2FC71}" srcOrd="1" destOrd="0" presId="urn:microsoft.com/office/officeart/2005/8/layout/hierarchy5"/>
    <dgm:cxn modelId="{90665C20-0809-42D7-84E8-46DDCF4FE439}" type="presOf" srcId="{ED002399-C8B1-4358-AB78-B1377FF85048}" destId="{66D4C0BF-2595-4A59-BD45-D8830FE2B8D4}" srcOrd="0" destOrd="0" presId="urn:microsoft.com/office/officeart/2005/8/layout/hierarchy5"/>
    <dgm:cxn modelId="{287BA7FA-D543-4352-AFEA-F55E4EA120A7}" type="presOf" srcId="{60F8114D-D316-48C3-8D62-3060978D8A98}" destId="{C0403B5E-FA57-4540-92CD-C4880E681423}" srcOrd="0" destOrd="0" presId="urn:microsoft.com/office/officeart/2005/8/layout/hierarchy5"/>
    <dgm:cxn modelId="{026ED121-F1A1-4485-A438-C4483E8BBF39}" type="presParOf" srcId="{397C0F6E-2572-41D1-85CE-E0BA42B52D89}" destId="{90A321F0-D968-4848-90E0-D583233D0110}" srcOrd="0" destOrd="0" presId="urn:microsoft.com/office/officeart/2005/8/layout/hierarchy5"/>
    <dgm:cxn modelId="{FABAF06F-3816-4590-85CE-F03F033D2219}" type="presParOf" srcId="{90A321F0-D968-4848-90E0-D583233D0110}" destId="{66E1C85E-A903-4BEE-B197-F2D7A245BB5E}" srcOrd="0" destOrd="0" presId="urn:microsoft.com/office/officeart/2005/8/layout/hierarchy5"/>
    <dgm:cxn modelId="{6F069571-672B-4154-93B5-60FA6A82A2D8}" type="presParOf" srcId="{90A321F0-D968-4848-90E0-D583233D0110}" destId="{BA1CC194-442D-4F71-A79D-3D22DA1B9FEC}" srcOrd="1" destOrd="0" presId="urn:microsoft.com/office/officeart/2005/8/layout/hierarchy5"/>
    <dgm:cxn modelId="{F2C396AB-9161-4364-BEA6-54B0CA78935C}" type="presParOf" srcId="{BA1CC194-442D-4F71-A79D-3D22DA1B9FEC}" destId="{09C282D7-DF73-406E-9E0D-4927AAA36342}" srcOrd="0" destOrd="0" presId="urn:microsoft.com/office/officeart/2005/8/layout/hierarchy5"/>
    <dgm:cxn modelId="{8E820D36-BF1E-4B49-9C49-F240D03AA44E}" type="presParOf" srcId="{09C282D7-DF73-406E-9E0D-4927AAA36342}" destId="{BAD6CA4D-841D-4F91-BFB2-A3E3F03A1C04}" srcOrd="0" destOrd="0" presId="urn:microsoft.com/office/officeart/2005/8/layout/hierarchy5"/>
    <dgm:cxn modelId="{E6EB9C50-0534-4D03-B6BC-FD368054AB9A}" type="presParOf" srcId="{09C282D7-DF73-406E-9E0D-4927AAA36342}" destId="{9556611D-10DF-4AE8-BDD9-FEFB5393F96C}" srcOrd="1" destOrd="0" presId="urn:microsoft.com/office/officeart/2005/8/layout/hierarchy5"/>
    <dgm:cxn modelId="{69142DA0-4C23-47FA-9949-1EC02531729B}" type="presParOf" srcId="{9556611D-10DF-4AE8-BDD9-FEFB5393F96C}" destId="{1A71A293-0B57-4F31-A26E-C86C7D885062}" srcOrd="0" destOrd="0" presId="urn:microsoft.com/office/officeart/2005/8/layout/hierarchy5"/>
    <dgm:cxn modelId="{F91A3B22-2805-4C32-BF45-7C83F64AD421}" type="presParOf" srcId="{1A71A293-0B57-4F31-A26E-C86C7D885062}" destId="{F5040EC0-7BC4-4EDB-8AEE-130F80E1B53B}" srcOrd="0" destOrd="0" presId="urn:microsoft.com/office/officeart/2005/8/layout/hierarchy5"/>
    <dgm:cxn modelId="{4294736A-8A68-4C73-B7AA-B64DBF8F1DF0}" type="presParOf" srcId="{9556611D-10DF-4AE8-BDD9-FEFB5393F96C}" destId="{344F59F7-B1C3-4B19-A008-44B60190F979}" srcOrd="1" destOrd="0" presId="urn:microsoft.com/office/officeart/2005/8/layout/hierarchy5"/>
    <dgm:cxn modelId="{8AAC203C-9855-456D-9900-8582D7E781D9}" type="presParOf" srcId="{344F59F7-B1C3-4B19-A008-44B60190F979}" destId="{79C592AD-EAF8-425B-82D8-2DC40D80EA5D}" srcOrd="0" destOrd="0" presId="urn:microsoft.com/office/officeart/2005/8/layout/hierarchy5"/>
    <dgm:cxn modelId="{74B6D75D-EEA7-4780-AA87-E286DD9CD39C}" type="presParOf" srcId="{344F59F7-B1C3-4B19-A008-44B60190F979}" destId="{34FA8D9B-52B7-413D-B02C-FF3CC515A5C2}" srcOrd="1" destOrd="0" presId="urn:microsoft.com/office/officeart/2005/8/layout/hierarchy5"/>
    <dgm:cxn modelId="{F897A2FC-E652-431C-88FC-A073CDA9B7F1}" type="presParOf" srcId="{34FA8D9B-52B7-413D-B02C-FF3CC515A5C2}" destId="{EA12EB28-182F-44B2-B2EF-AF277A489F2C}" srcOrd="0" destOrd="0" presId="urn:microsoft.com/office/officeart/2005/8/layout/hierarchy5"/>
    <dgm:cxn modelId="{2AFFF21A-A33E-4BDC-9D03-E9011815CA42}" type="presParOf" srcId="{EA12EB28-182F-44B2-B2EF-AF277A489F2C}" destId="{08B2C020-5B50-404E-80F4-8D95A6D78301}" srcOrd="0" destOrd="0" presId="urn:microsoft.com/office/officeart/2005/8/layout/hierarchy5"/>
    <dgm:cxn modelId="{098F9798-3E36-45E9-B188-648B4B5E14F2}" type="presParOf" srcId="{34FA8D9B-52B7-413D-B02C-FF3CC515A5C2}" destId="{4990F150-E5B9-441C-A569-76D51108C7E0}" srcOrd="1" destOrd="0" presId="urn:microsoft.com/office/officeart/2005/8/layout/hierarchy5"/>
    <dgm:cxn modelId="{813EBF92-55C6-4FEA-AF97-8AFECBEBAD31}" type="presParOf" srcId="{4990F150-E5B9-441C-A569-76D51108C7E0}" destId="{1774847A-FA88-4EFE-922A-97209CFD0B89}" srcOrd="0" destOrd="0" presId="urn:microsoft.com/office/officeart/2005/8/layout/hierarchy5"/>
    <dgm:cxn modelId="{F3FE17A8-0BAD-4003-9F20-3E16464D8D4C}" type="presParOf" srcId="{4990F150-E5B9-441C-A569-76D51108C7E0}" destId="{AEA23089-8A25-4543-9756-78B961BDDEC9}" srcOrd="1" destOrd="0" presId="urn:microsoft.com/office/officeart/2005/8/layout/hierarchy5"/>
    <dgm:cxn modelId="{C2740348-8C88-4527-9C84-C7020AA9B5F4}" type="presParOf" srcId="{AEA23089-8A25-4543-9756-78B961BDDEC9}" destId="{6F9EF1CF-6E69-457D-9DEC-0B73288C2D34}" srcOrd="0" destOrd="0" presId="urn:microsoft.com/office/officeart/2005/8/layout/hierarchy5"/>
    <dgm:cxn modelId="{EEBB3E3F-5CCF-49A3-BF76-C1A30DD306D7}" type="presParOf" srcId="{6F9EF1CF-6E69-457D-9DEC-0B73288C2D34}" destId="{6085E6AD-D428-4FE6-AB75-5CC483E2FC71}" srcOrd="0" destOrd="0" presId="urn:microsoft.com/office/officeart/2005/8/layout/hierarchy5"/>
    <dgm:cxn modelId="{3176B5B0-43E8-4911-95E2-3F51A63F7FCB}" type="presParOf" srcId="{AEA23089-8A25-4543-9756-78B961BDDEC9}" destId="{C855FEB1-0534-4D99-954B-B0A8EA347A0B}" srcOrd="1" destOrd="0" presId="urn:microsoft.com/office/officeart/2005/8/layout/hierarchy5"/>
    <dgm:cxn modelId="{AFEC5ADC-8865-4D0B-840B-A30DE017C361}" type="presParOf" srcId="{C855FEB1-0534-4D99-954B-B0A8EA347A0B}" destId="{CE7355E8-56F5-4144-8FA9-703EBFC7E49F}" srcOrd="0" destOrd="0" presId="urn:microsoft.com/office/officeart/2005/8/layout/hierarchy5"/>
    <dgm:cxn modelId="{04F67370-6868-4616-A8AC-35141BC042A0}" type="presParOf" srcId="{C855FEB1-0534-4D99-954B-B0A8EA347A0B}" destId="{CCAA8B91-C0B4-433F-899A-B799D68045FA}" srcOrd="1" destOrd="0" presId="urn:microsoft.com/office/officeart/2005/8/layout/hierarchy5"/>
    <dgm:cxn modelId="{1A0E0079-4D4A-45CF-A71D-DCB5F03FB338}" type="presParOf" srcId="{AEA23089-8A25-4543-9756-78B961BDDEC9}" destId="{79D48807-EA9B-4A4F-B35D-BC6E5A4741ED}" srcOrd="2" destOrd="0" presId="urn:microsoft.com/office/officeart/2005/8/layout/hierarchy5"/>
    <dgm:cxn modelId="{0B7267DE-49A2-42BF-9897-37E9314EB682}" type="presParOf" srcId="{79D48807-EA9B-4A4F-B35D-BC6E5A4741ED}" destId="{EDF9FA94-1769-43D4-8EE0-8FB761FD852B}" srcOrd="0" destOrd="0" presId="urn:microsoft.com/office/officeart/2005/8/layout/hierarchy5"/>
    <dgm:cxn modelId="{71B33E7B-88C2-42F3-A1FF-71C40CAC305C}" type="presParOf" srcId="{AEA23089-8A25-4543-9756-78B961BDDEC9}" destId="{EFD372FA-63AF-4ED0-8A1C-97FF98ECC2FA}" srcOrd="3" destOrd="0" presId="urn:microsoft.com/office/officeart/2005/8/layout/hierarchy5"/>
    <dgm:cxn modelId="{4BAAA767-94D6-451B-AB8C-C8C77BF3FD49}" type="presParOf" srcId="{EFD372FA-63AF-4ED0-8A1C-97FF98ECC2FA}" destId="{D3BFA27A-0ADD-48E4-91F8-5C09674F6FA5}" srcOrd="0" destOrd="0" presId="urn:microsoft.com/office/officeart/2005/8/layout/hierarchy5"/>
    <dgm:cxn modelId="{D2278650-485E-4043-8ACA-909D2B084D0F}" type="presParOf" srcId="{EFD372FA-63AF-4ED0-8A1C-97FF98ECC2FA}" destId="{6434D923-29FB-49AF-AC4B-7483BCAC6D88}" srcOrd="1" destOrd="0" presId="urn:microsoft.com/office/officeart/2005/8/layout/hierarchy5"/>
    <dgm:cxn modelId="{19394CE9-6EB5-4813-8A5C-50F475054867}" type="presParOf" srcId="{9556611D-10DF-4AE8-BDD9-FEFB5393F96C}" destId="{DF424A8B-00C7-4217-890F-7820B99912BC}" srcOrd="2" destOrd="0" presId="urn:microsoft.com/office/officeart/2005/8/layout/hierarchy5"/>
    <dgm:cxn modelId="{E884A724-8B49-4AAE-99D8-53342518A38B}" type="presParOf" srcId="{DF424A8B-00C7-4217-890F-7820B99912BC}" destId="{C9C201A8-6491-47AD-826C-8E0382A6FE76}" srcOrd="0" destOrd="0" presId="urn:microsoft.com/office/officeart/2005/8/layout/hierarchy5"/>
    <dgm:cxn modelId="{EDA64075-18E8-499E-9A76-8EC883287538}" type="presParOf" srcId="{9556611D-10DF-4AE8-BDD9-FEFB5393F96C}" destId="{8C883B1D-5665-4D16-AF35-6DA43B34D569}" srcOrd="3" destOrd="0" presId="urn:microsoft.com/office/officeart/2005/8/layout/hierarchy5"/>
    <dgm:cxn modelId="{4EA82BC3-3FD6-435E-868A-AF9BCA7B2426}" type="presParOf" srcId="{8C883B1D-5665-4D16-AF35-6DA43B34D569}" destId="{C0403B5E-FA57-4540-92CD-C4880E681423}" srcOrd="0" destOrd="0" presId="urn:microsoft.com/office/officeart/2005/8/layout/hierarchy5"/>
    <dgm:cxn modelId="{C5355ACD-EF92-422C-8CD6-C85BB6264E7E}" type="presParOf" srcId="{8C883B1D-5665-4D16-AF35-6DA43B34D569}" destId="{F29833A0-937B-4B4F-A00D-BC8B74B5F3B9}" srcOrd="1" destOrd="0" presId="urn:microsoft.com/office/officeart/2005/8/layout/hierarchy5"/>
    <dgm:cxn modelId="{1FFD1927-1725-4D9E-B05F-B618452E6433}" type="presParOf" srcId="{F29833A0-937B-4B4F-A00D-BC8B74B5F3B9}" destId="{6943F1B9-3167-425E-AAF1-29A75D4D9CBB}" srcOrd="0" destOrd="0" presId="urn:microsoft.com/office/officeart/2005/8/layout/hierarchy5"/>
    <dgm:cxn modelId="{0EE631EA-9356-4BC1-84CA-966C14C67B4A}" type="presParOf" srcId="{6943F1B9-3167-425E-AAF1-29A75D4D9CBB}" destId="{1DFC3C2C-0357-45AA-9153-209811448021}" srcOrd="0" destOrd="0" presId="urn:microsoft.com/office/officeart/2005/8/layout/hierarchy5"/>
    <dgm:cxn modelId="{6BBDC878-92ED-4588-B0FE-132FA1F22C04}" type="presParOf" srcId="{F29833A0-937B-4B4F-A00D-BC8B74B5F3B9}" destId="{5040F7AF-D54B-49EA-B619-F58513C798CE}" srcOrd="1" destOrd="0" presId="urn:microsoft.com/office/officeart/2005/8/layout/hierarchy5"/>
    <dgm:cxn modelId="{1BCFD951-D477-4ED9-957D-983E98A8591C}" type="presParOf" srcId="{5040F7AF-D54B-49EA-B619-F58513C798CE}" destId="{5C892DF9-835A-4232-8F0A-5B1B426DA9E4}" srcOrd="0" destOrd="0" presId="urn:microsoft.com/office/officeart/2005/8/layout/hierarchy5"/>
    <dgm:cxn modelId="{E8F14318-7EF7-49E8-81CA-D4FA601798A0}" type="presParOf" srcId="{5040F7AF-D54B-49EA-B619-F58513C798CE}" destId="{467FAD25-E5D3-49C8-AD04-588758EBF277}" srcOrd="1" destOrd="0" presId="urn:microsoft.com/office/officeart/2005/8/layout/hierarchy5"/>
    <dgm:cxn modelId="{0F01F11C-8A6A-49E0-8F03-E75204B817CB}" type="presParOf" srcId="{467FAD25-E5D3-49C8-AD04-588758EBF277}" destId="{39CB086F-46FD-4524-B943-3AE7F5AC0177}" srcOrd="0" destOrd="0" presId="urn:microsoft.com/office/officeart/2005/8/layout/hierarchy5"/>
    <dgm:cxn modelId="{76393F34-1C1D-4B7A-B95C-816DB47300CA}" type="presParOf" srcId="{39CB086F-46FD-4524-B943-3AE7F5AC0177}" destId="{602F1F56-E198-4EBA-BA34-D5F993674730}" srcOrd="0" destOrd="0" presId="urn:microsoft.com/office/officeart/2005/8/layout/hierarchy5"/>
    <dgm:cxn modelId="{45CF0AFC-257F-4623-9423-521D863D5AA4}" type="presParOf" srcId="{467FAD25-E5D3-49C8-AD04-588758EBF277}" destId="{8E990E03-2833-4546-B38F-10A11ABA2797}" srcOrd="1" destOrd="0" presId="urn:microsoft.com/office/officeart/2005/8/layout/hierarchy5"/>
    <dgm:cxn modelId="{5D13824C-01CF-42BE-8BE1-2464AA44F1A4}" type="presParOf" srcId="{8E990E03-2833-4546-B38F-10A11ABA2797}" destId="{03C5E3A5-A3E2-41C6-8759-9AAA913B9347}" srcOrd="0" destOrd="0" presId="urn:microsoft.com/office/officeart/2005/8/layout/hierarchy5"/>
    <dgm:cxn modelId="{CA7CDA27-778D-480E-A03E-4CDDA3B087D0}" type="presParOf" srcId="{8E990E03-2833-4546-B38F-10A11ABA2797}" destId="{F552D3A7-9660-424F-AC1A-984675C8C863}" srcOrd="1" destOrd="0" presId="urn:microsoft.com/office/officeart/2005/8/layout/hierarchy5"/>
    <dgm:cxn modelId="{1FA05F93-8B00-40B4-8450-1983B39DAAF5}" type="presParOf" srcId="{467FAD25-E5D3-49C8-AD04-588758EBF277}" destId="{A4655639-0FC5-4244-8D78-CA160AB5F0C8}" srcOrd="2" destOrd="0" presId="urn:microsoft.com/office/officeart/2005/8/layout/hierarchy5"/>
    <dgm:cxn modelId="{43D068A1-7D36-444C-8899-D242E20A7E54}" type="presParOf" srcId="{A4655639-0FC5-4244-8D78-CA160AB5F0C8}" destId="{43FC7E38-A07B-4B4D-969D-3C505CB6845D}" srcOrd="0" destOrd="0" presId="urn:microsoft.com/office/officeart/2005/8/layout/hierarchy5"/>
    <dgm:cxn modelId="{5979CAE5-91D2-4722-8194-3C2607C0C513}" type="presParOf" srcId="{467FAD25-E5D3-49C8-AD04-588758EBF277}" destId="{63F95AC8-D396-4D58-A644-E202F210A3F4}" srcOrd="3" destOrd="0" presId="urn:microsoft.com/office/officeart/2005/8/layout/hierarchy5"/>
    <dgm:cxn modelId="{AF5FD546-37E9-4953-B228-4D35DDD0E3A6}" type="presParOf" srcId="{63F95AC8-D396-4D58-A644-E202F210A3F4}" destId="{C9EA4293-6380-4005-B26E-88205DACF806}" srcOrd="0" destOrd="0" presId="urn:microsoft.com/office/officeart/2005/8/layout/hierarchy5"/>
    <dgm:cxn modelId="{0218B915-89EC-48BC-B4B0-13345FDA21C1}" type="presParOf" srcId="{63F95AC8-D396-4D58-A644-E202F210A3F4}" destId="{E73FDE39-4AB4-4C3E-B19D-C354463C10C1}" srcOrd="1" destOrd="0" presId="urn:microsoft.com/office/officeart/2005/8/layout/hierarchy5"/>
    <dgm:cxn modelId="{1CB55494-7BB9-4063-879F-DA9C500854C0}" type="presParOf" srcId="{397C0F6E-2572-41D1-85CE-E0BA42B52D89}" destId="{2A119F8E-8EB7-48AF-BFA2-C6111271427F}" srcOrd="1" destOrd="0" presId="urn:microsoft.com/office/officeart/2005/8/layout/hierarchy5"/>
    <dgm:cxn modelId="{4E2CC497-7A7E-454D-B860-DD290F49D265}" type="presParOf" srcId="{2A119F8E-8EB7-48AF-BFA2-C6111271427F}" destId="{977633E4-E969-4097-90ED-7F906D8933C1}" srcOrd="0" destOrd="0" presId="urn:microsoft.com/office/officeart/2005/8/layout/hierarchy5"/>
    <dgm:cxn modelId="{A139BB38-ED4B-413B-8094-8CBAAB91EB6A}" type="presParOf" srcId="{977633E4-E969-4097-90ED-7F906D8933C1}" destId="{C3A0415B-F7C5-4956-8C21-34E53C5EB00A}" srcOrd="0" destOrd="0" presId="urn:microsoft.com/office/officeart/2005/8/layout/hierarchy5"/>
    <dgm:cxn modelId="{B4E336AB-4B1B-4F4F-A2DA-86B3B085DD84}" type="presParOf" srcId="{977633E4-E969-4097-90ED-7F906D8933C1}" destId="{7E4C38B5-0165-4E21-B589-FC29A4134967}" srcOrd="1" destOrd="0" presId="urn:microsoft.com/office/officeart/2005/8/layout/hierarchy5"/>
    <dgm:cxn modelId="{56612C00-3A65-4D2F-A50F-E6D2B454B17D}" type="presParOf" srcId="{2A119F8E-8EB7-48AF-BFA2-C6111271427F}" destId="{4653A5F4-B9A5-492A-8B30-478BB6831AA9}" srcOrd="1" destOrd="0" presId="urn:microsoft.com/office/officeart/2005/8/layout/hierarchy5"/>
    <dgm:cxn modelId="{FF7CDC64-24DA-40D1-B915-3AB9E296F75A}" type="presParOf" srcId="{4653A5F4-B9A5-492A-8B30-478BB6831AA9}" destId="{15EF8927-3233-4AA7-8AC6-D3A2E53515BA}" srcOrd="0" destOrd="0" presId="urn:microsoft.com/office/officeart/2005/8/layout/hierarchy5"/>
    <dgm:cxn modelId="{4B498F62-CD4B-4D71-8A97-C8257B5FC4BA}" type="presParOf" srcId="{2A119F8E-8EB7-48AF-BFA2-C6111271427F}" destId="{6A112575-1D79-48CD-B662-C850C0E5701A}" srcOrd="2" destOrd="0" presId="urn:microsoft.com/office/officeart/2005/8/layout/hierarchy5"/>
    <dgm:cxn modelId="{450E0003-4866-4275-810C-FBB8EA9319C7}" type="presParOf" srcId="{6A112575-1D79-48CD-B662-C850C0E5701A}" destId="{66D4C0BF-2595-4A59-BD45-D8830FE2B8D4}" srcOrd="0" destOrd="0" presId="urn:microsoft.com/office/officeart/2005/8/layout/hierarchy5"/>
    <dgm:cxn modelId="{23DEC20F-D7DC-49BA-A038-D6C35D295A83}" type="presParOf" srcId="{6A112575-1D79-48CD-B662-C850C0E5701A}" destId="{5BE23670-C957-4B68-8B75-C8BD1A97C22B}" srcOrd="1" destOrd="0" presId="urn:microsoft.com/office/officeart/2005/8/layout/hierarchy5"/>
    <dgm:cxn modelId="{9DCA57B3-5010-4616-890F-CC4AED952B49}" type="presParOf" srcId="{2A119F8E-8EB7-48AF-BFA2-C6111271427F}" destId="{F0B9B64D-5C06-4B86-B1BE-985C405A2410}" srcOrd="3" destOrd="0" presId="urn:microsoft.com/office/officeart/2005/8/layout/hierarchy5"/>
    <dgm:cxn modelId="{9D73601C-F970-4A1A-85AC-1CB4E90A01B3}" type="presParOf" srcId="{F0B9B64D-5C06-4B86-B1BE-985C405A2410}" destId="{D12686D6-299D-4945-8351-29DEE2EC973F}" srcOrd="0" destOrd="0" presId="urn:microsoft.com/office/officeart/2005/8/layout/hierarchy5"/>
    <dgm:cxn modelId="{31CC316B-ACFD-4710-8E04-559026C93A6E}" type="presParOf" srcId="{2A119F8E-8EB7-48AF-BFA2-C6111271427F}" destId="{37AE5667-55AE-4EA7-8AF8-C30C1CB465F7}" srcOrd="4" destOrd="0" presId="urn:microsoft.com/office/officeart/2005/8/layout/hierarchy5"/>
    <dgm:cxn modelId="{7B418028-3311-439A-B3CC-5ABB6594D85F}" type="presParOf" srcId="{37AE5667-55AE-4EA7-8AF8-C30C1CB465F7}" destId="{FBDAFBD0-EEBA-47BF-95A1-A181007973CF}" srcOrd="0" destOrd="0" presId="urn:microsoft.com/office/officeart/2005/8/layout/hierarchy5"/>
    <dgm:cxn modelId="{533E03DC-1D3C-4BB3-9B94-45FAEAE1FCB4}" type="presParOf" srcId="{37AE5667-55AE-4EA7-8AF8-C30C1CB465F7}" destId="{9613EB9D-EDFE-483A-BF84-567CB7685C4B}" srcOrd="1" destOrd="0" presId="urn:microsoft.com/office/officeart/2005/8/layout/hierarchy5"/>
    <dgm:cxn modelId="{DDA489E5-9F28-4703-A576-1CB376FFFAE5}" type="presParOf" srcId="{2A119F8E-8EB7-48AF-BFA2-C6111271427F}" destId="{65653445-7DCC-4E94-BBC6-F98E9DF7AA3E}" srcOrd="5" destOrd="0" presId="urn:microsoft.com/office/officeart/2005/8/layout/hierarchy5"/>
    <dgm:cxn modelId="{7DE39615-F1AF-4306-87FB-6B03F4D01F75}" type="presParOf" srcId="{65653445-7DCC-4E94-BBC6-F98E9DF7AA3E}" destId="{95D7F271-14E1-4448-89AE-56F8EA206EA0}" srcOrd="0" destOrd="0" presId="urn:microsoft.com/office/officeart/2005/8/layout/hierarchy5"/>
    <dgm:cxn modelId="{9B0B9EE2-6E63-491A-AA84-E8CF5C0AB378}" type="presParOf" srcId="{2A119F8E-8EB7-48AF-BFA2-C6111271427F}" destId="{3EDDA167-271F-4B8D-9273-DFE8F57D8C68}" srcOrd="6" destOrd="0" presId="urn:microsoft.com/office/officeart/2005/8/layout/hierarchy5"/>
    <dgm:cxn modelId="{8BFCD80A-EC63-4CFE-914F-F2615639299E}" type="presParOf" srcId="{3EDDA167-271F-4B8D-9273-DFE8F57D8C68}" destId="{6F748150-A27A-4FA9-82FF-84681E0E580E}" srcOrd="0" destOrd="0" presId="urn:microsoft.com/office/officeart/2005/8/layout/hierarchy5"/>
    <dgm:cxn modelId="{0B57D41E-6D1B-45B7-91BD-1161CB14698A}" type="presParOf" srcId="{3EDDA167-271F-4B8D-9273-DFE8F57D8C68}" destId="{D7C1F637-B66E-4990-BEF3-E0DA7A3DC46E}" srcOrd="1" destOrd="0" presId="urn:microsoft.com/office/officeart/2005/8/layout/hierarchy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A141D5C-5918-4BA0-8A33-7F4036F02B67}">
      <dsp:nvSpPr>
        <dsp:cNvPr id="0" name=""/>
        <dsp:cNvSpPr/>
      </dsp:nvSpPr>
      <dsp:spPr>
        <a:xfrm>
          <a:off x="87438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800" kern="1200" dirty="0" smtClean="0">
              <a:solidFill>
                <a:sysClr val="windowText" lastClr="000000">
                  <a:hueOff val="0"/>
                  <a:satOff val="0"/>
                  <a:lumOff val="0"/>
                  <a:alphaOff val="0"/>
                </a:sysClr>
              </a:solidFill>
              <a:latin typeface="Calibri"/>
              <a:ea typeface="+mn-ea"/>
              <a:cs typeface="+mn-cs"/>
            </a:rPr>
            <a:t>Ley 20.285</a:t>
          </a:r>
          <a:endParaRPr lang="es-ES" sz="1800" kern="1200" dirty="0">
            <a:solidFill>
              <a:sysClr val="windowText" lastClr="000000">
                <a:hueOff val="0"/>
                <a:satOff val="0"/>
                <a:lumOff val="0"/>
                <a:alphaOff val="0"/>
              </a:sysClr>
            </a:solidFill>
            <a:latin typeface="Calibri"/>
            <a:ea typeface="+mn-ea"/>
            <a:cs typeface="+mn-cs"/>
          </a:endParaRPr>
        </a:p>
      </dsp:txBody>
      <dsp:txXfrm>
        <a:off x="87438" y="2176617"/>
        <a:ext cx="1154216" cy="747989"/>
      </dsp:txXfrm>
    </dsp:sp>
    <dsp:sp modelId="{1F70468B-4A50-45C9-A20C-B6C7DBF38602}">
      <dsp:nvSpPr>
        <dsp:cNvPr id="0" name=""/>
        <dsp:cNvSpPr/>
      </dsp:nvSpPr>
      <dsp:spPr>
        <a:xfrm>
          <a:off x="658286" y="2289640"/>
          <a:ext cx="1450798" cy="1450798"/>
        </a:xfrm>
        <a:prstGeom prst="leftCircularArrow">
          <a:avLst>
            <a:gd name="adj1" fmla="val 2348"/>
            <a:gd name="adj2" fmla="val 283540"/>
            <a:gd name="adj3" fmla="val 2186542"/>
            <a:gd name="adj4" fmla="val 9151980"/>
            <a:gd name="adj5" fmla="val 2739"/>
          </a:avLst>
        </a:prstGeo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5512D4F8-B3E2-4834-9DC3-CE3DB0FDD805}">
      <dsp:nvSpPr>
        <dsp:cNvPr id="0" name=""/>
        <dsp:cNvSpPr/>
      </dsp:nvSpPr>
      <dsp:spPr>
        <a:xfrm>
          <a:off x="259811" y="2924607"/>
          <a:ext cx="1025969" cy="407994"/>
        </a:xfrm>
        <a:prstGeom prst="roundRect">
          <a:avLst>
            <a:gd name="adj" fmla="val 10000"/>
          </a:avLst>
        </a:prstGeom>
        <a:solidFill>
          <a:srgbClr val="C7D7F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chemeClr val="tx1">
                  <a:lumMod val="50000"/>
                  <a:lumOff val="50000"/>
                </a:schemeClr>
              </a:solidFill>
              <a:latin typeface="Calibri"/>
              <a:ea typeface="+mn-ea"/>
              <a:cs typeface="+mn-cs"/>
            </a:rPr>
            <a:t>Necesidad Normativa</a:t>
          </a:r>
          <a:endParaRPr lang="es-ES" sz="1300" b="1" kern="1200" dirty="0">
            <a:solidFill>
              <a:schemeClr val="tx1">
                <a:lumMod val="50000"/>
                <a:lumOff val="50000"/>
              </a:schemeClr>
            </a:solidFill>
            <a:latin typeface="Calibri"/>
            <a:ea typeface="+mn-ea"/>
            <a:cs typeface="+mn-cs"/>
          </a:endParaRPr>
        </a:p>
      </dsp:txBody>
      <dsp:txXfrm>
        <a:off x="259811" y="2924607"/>
        <a:ext cx="1025969" cy="407994"/>
      </dsp:txXfrm>
    </dsp:sp>
    <dsp:sp modelId="{BF9ABE7F-57D7-4435-9561-88D4011225D1}">
      <dsp:nvSpPr>
        <dsp:cNvPr id="0" name=""/>
        <dsp:cNvSpPr/>
      </dsp:nvSpPr>
      <dsp:spPr>
        <a:xfrm>
          <a:off x="1447982" y="2063738"/>
          <a:ext cx="1542921" cy="126210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Focus</a:t>
          </a: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 </a:t>
          </a:r>
          <a:r>
            <a:rPr lang="es-CL" sz="1200" kern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Group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Taller expertos</a:t>
          </a: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Consulta Pública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ES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Encuesta Nacional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sp:txBody>
      <dsp:txXfrm>
        <a:off x="1447982" y="2334189"/>
        <a:ext cx="1542921" cy="991654"/>
      </dsp:txXfrm>
    </dsp:sp>
    <dsp:sp modelId="{DB180D09-083B-4F53-A176-7F32C2682FE0}">
      <dsp:nvSpPr>
        <dsp:cNvPr id="0" name=""/>
        <dsp:cNvSpPr/>
      </dsp:nvSpPr>
      <dsp:spPr>
        <a:xfrm>
          <a:off x="2271895" y="1507358"/>
          <a:ext cx="1440588" cy="1440588"/>
        </a:xfrm>
        <a:prstGeom prst="circularArrow">
          <a:avLst>
            <a:gd name="adj1" fmla="val 2364"/>
            <a:gd name="adj2" fmla="val 285659"/>
            <a:gd name="adj3" fmla="val 19776970"/>
            <a:gd name="adj4" fmla="val 12813651"/>
            <a:gd name="adj5" fmla="val 2759"/>
          </a:avLst>
        </a:prstGeo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2428D54F-F5AE-4D15-91E9-A5C08A2DC041}">
      <dsp:nvSpPr>
        <dsp:cNvPr id="0" name=""/>
        <dsp:cNvSpPr/>
      </dsp:nvSpPr>
      <dsp:spPr>
        <a:xfrm>
          <a:off x="1913083" y="1849857"/>
          <a:ext cx="1019270" cy="581147"/>
        </a:xfrm>
        <a:prstGeom prst="roundRect">
          <a:avLst>
            <a:gd name="adj" fmla="val 10000"/>
          </a:avLst>
        </a:prstGeom>
        <a:solidFill>
          <a:srgbClr val="78A6DE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chemeClr val="bg1"/>
              </a:solidFill>
              <a:latin typeface="Calibri"/>
              <a:ea typeface="+mn-ea"/>
              <a:cs typeface="+mn-cs"/>
            </a:rPr>
            <a:t>Instrucción general  sobre TA</a:t>
          </a:r>
          <a:endParaRPr lang="es-ES" sz="1300" b="1" kern="1200" dirty="0">
            <a:solidFill>
              <a:schemeClr val="bg1"/>
            </a:solidFill>
            <a:latin typeface="Calibri"/>
            <a:ea typeface="+mn-ea"/>
            <a:cs typeface="+mn-cs"/>
          </a:endParaRPr>
        </a:p>
      </dsp:txBody>
      <dsp:txXfrm>
        <a:off x="1913083" y="1849857"/>
        <a:ext cx="1019270" cy="581147"/>
      </dsp:txXfrm>
    </dsp:sp>
    <dsp:sp modelId="{2B61E0ED-F3E7-4BA5-ADEF-7A7E4B4A456B}">
      <dsp:nvSpPr>
        <dsp:cNvPr id="0" name=""/>
        <dsp:cNvSpPr/>
      </dsp:nvSpPr>
      <dsp:spPr>
        <a:xfrm>
          <a:off x="3153104" y="2136119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Usabilidad y accesibilidad 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sp:txBody>
      <dsp:txXfrm>
        <a:off x="3153104" y="2136119"/>
        <a:ext cx="1154216" cy="747989"/>
      </dsp:txXfrm>
    </dsp:sp>
    <dsp:sp modelId="{EC2866A4-B125-4F2A-BFD1-86FA15FD5111}">
      <dsp:nvSpPr>
        <dsp:cNvPr id="0" name=""/>
        <dsp:cNvSpPr/>
      </dsp:nvSpPr>
      <dsp:spPr>
        <a:xfrm>
          <a:off x="3792174" y="2381284"/>
          <a:ext cx="1325466" cy="1325466"/>
        </a:xfrm>
        <a:prstGeom prst="leftCircularArrow">
          <a:avLst>
            <a:gd name="adj1" fmla="val 2570"/>
            <a:gd name="adj2" fmla="val 311950"/>
            <a:gd name="adj3" fmla="val 1959516"/>
            <a:gd name="adj4" fmla="val 8896544"/>
            <a:gd name="adj5" fmla="val 2998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BDE1C365-1140-400C-96D0-3BFEF12B84AE}">
      <dsp:nvSpPr>
        <dsp:cNvPr id="0" name=""/>
        <dsp:cNvSpPr/>
      </dsp:nvSpPr>
      <dsp:spPr>
        <a:xfrm>
          <a:off x="3324158" y="2803111"/>
          <a:ext cx="1196845" cy="569988"/>
        </a:xfrm>
        <a:prstGeom prst="roundRect">
          <a:avLst>
            <a:gd name="adj" fmla="val 10000"/>
          </a:avLst>
        </a:prstGeom>
        <a:gradFill rotWithShape="0">
          <a:gsLst>
            <a:gs pos="0">
              <a:srgbClr val="4F81BD"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860" tIns="15240" rIns="22860" bIns="1524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2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Construcción Herramienta de Fiscalización</a:t>
          </a:r>
          <a:endParaRPr lang="es-ES" sz="12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3324158" y="2803111"/>
        <a:ext cx="1196845" cy="569988"/>
      </dsp:txXfrm>
    </dsp:sp>
    <dsp:sp modelId="{E423C7C0-95FF-4667-A854-8D4686B4CA7D}">
      <dsp:nvSpPr>
        <dsp:cNvPr id="0" name=""/>
        <dsp:cNvSpPr/>
      </dsp:nvSpPr>
      <dsp:spPr>
        <a:xfrm>
          <a:off x="4683204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2667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6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  <a:p>
          <a:pPr marL="57150" lvl="1" indent="-57150" algn="l" defTabSz="4445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0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ones</a:t>
          </a:r>
          <a:endParaRPr lang="es-ES" sz="10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4683204" y="2380614"/>
        <a:ext cx="1154216" cy="747989"/>
      </dsp:txXfrm>
    </dsp:sp>
    <dsp:sp modelId="{3212BFFE-11FE-479C-ADA9-31ABAEA1C6F7}">
      <dsp:nvSpPr>
        <dsp:cNvPr id="0" name=""/>
        <dsp:cNvSpPr/>
      </dsp:nvSpPr>
      <dsp:spPr>
        <a:xfrm>
          <a:off x="5330996" y="1606694"/>
          <a:ext cx="1373829" cy="1373829"/>
        </a:xfrm>
        <a:prstGeom prst="circularArrow">
          <a:avLst>
            <a:gd name="adj1" fmla="val 2479"/>
            <a:gd name="adj2" fmla="val 300337"/>
            <a:gd name="adj3" fmla="val 19524152"/>
            <a:gd name="adj4" fmla="val 12575511"/>
            <a:gd name="adj5" fmla="val 2893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E6C73452-62D9-4791-AECB-E215143E70A8}">
      <dsp:nvSpPr>
        <dsp:cNvPr id="0" name=""/>
        <dsp:cNvSpPr/>
      </dsp:nvSpPr>
      <dsp:spPr>
        <a:xfrm>
          <a:off x="4939697" y="1972620"/>
          <a:ext cx="1025969" cy="407994"/>
        </a:xfrm>
        <a:prstGeom prst="roundRect">
          <a:avLst>
            <a:gd name="adj" fmla="val 10000"/>
          </a:avLst>
        </a:prstGeom>
        <a:solidFill>
          <a:srgbClr val="2950F7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860" tIns="15240" rIns="22860" bIns="1524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2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Auto Evaluación</a:t>
          </a:r>
          <a:endParaRPr lang="es-ES" sz="12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4939697" y="1972620"/>
        <a:ext cx="1025969" cy="407994"/>
      </dsp:txXfrm>
    </dsp:sp>
    <dsp:sp modelId="{A328FD12-0C7D-4FE5-B579-092AEB4676B1}">
      <dsp:nvSpPr>
        <dsp:cNvPr id="0" name=""/>
        <dsp:cNvSpPr/>
      </dsp:nvSpPr>
      <dsp:spPr>
        <a:xfrm>
          <a:off x="6127867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1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Ponderador ciudadano</a:t>
          </a:r>
          <a:endParaRPr lang="es-ES" sz="11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1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ón Instituciones</a:t>
          </a:r>
          <a:endParaRPr lang="es-ES" sz="11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6127867" y="2176617"/>
        <a:ext cx="1154216" cy="747989"/>
      </dsp:txXfrm>
    </dsp:sp>
    <dsp:sp modelId="{AFDD9E89-72C2-4567-8590-2A963FBE6F87}">
      <dsp:nvSpPr>
        <dsp:cNvPr id="0" name=""/>
        <dsp:cNvSpPr/>
      </dsp:nvSpPr>
      <dsp:spPr>
        <a:xfrm>
          <a:off x="6785278" y="2434854"/>
          <a:ext cx="1226346" cy="1226346"/>
        </a:xfrm>
        <a:prstGeom prst="leftCircularArrow">
          <a:avLst>
            <a:gd name="adj1" fmla="val 2778"/>
            <a:gd name="adj2" fmla="val 338799"/>
            <a:gd name="adj3" fmla="val 2114310"/>
            <a:gd name="adj4" fmla="val 9024489"/>
            <a:gd name="adj5" fmla="val 3240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8C42836E-6432-4CAB-A5D0-7CEA3CF08D8A}">
      <dsp:nvSpPr>
        <dsp:cNvPr id="0" name=""/>
        <dsp:cNvSpPr/>
      </dsp:nvSpPr>
      <dsp:spPr>
        <a:xfrm>
          <a:off x="6384359" y="2924607"/>
          <a:ext cx="1025969" cy="407994"/>
        </a:xfrm>
        <a:prstGeom prst="roundRect">
          <a:avLst>
            <a:gd name="adj" fmla="val 10000"/>
          </a:avLst>
        </a:prstGeom>
        <a:solidFill>
          <a:srgbClr val="0000FF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Fiscalización</a:t>
          </a:r>
          <a:endParaRPr lang="es-ES" sz="13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6384359" y="2924607"/>
        <a:ext cx="1025969" cy="407994"/>
      </dsp:txXfrm>
    </dsp:sp>
    <dsp:sp modelId="{FFA2EBE0-7186-414E-8A3D-D60355655D50}">
      <dsp:nvSpPr>
        <dsp:cNvPr id="0" name=""/>
        <dsp:cNvSpPr/>
      </dsp:nvSpPr>
      <dsp:spPr>
        <a:xfrm>
          <a:off x="7572530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2667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6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  <a:p>
          <a:pPr marL="57150" lvl="1" indent="-57150" algn="l" defTabSz="4445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0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Retroalimentación</a:t>
          </a:r>
          <a:endParaRPr lang="es-ES" sz="10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7572530" y="2380614"/>
        <a:ext cx="1154216" cy="747989"/>
      </dsp:txXfrm>
    </dsp:sp>
    <dsp:sp modelId="{D9BF5103-830A-456C-8500-08DC42C7B224}">
      <dsp:nvSpPr>
        <dsp:cNvPr id="0" name=""/>
        <dsp:cNvSpPr/>
      </dsp:nvSpPr>
      <dsp:spPr>
        <a:xfrm>
          <a:off x="7723963" y="1972620"/>
          <a:ext cx="1025969" cy="407994"/>
        </a:xfrm>
        <a:prstGeom prst="roundRect">
          <a:avLst>
            <a:gd name="adj" fmla="val 10000"/>
          </a:avLst>
        </a:prstGeom>
        <a:solidFill>
          <a:srgbClr val="00B050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17780" rIns="2667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4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Resultados</a:t>
          </a:r>
          <a:endParaRPr lang="es-ES" sz="14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7723963" y="1972620"/>
        <a:ext cx="1025969" cy="40799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1">
  <dgm:title val=""/>
  <dgm:desc val=""/>
  <dgm:catLst>
    <dgm:cat type="cycle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alg type="cycle">
          <dgm:param type="stAng" val="0"/>
          <dgm:param type="spanAng" val="360"/>
        </dgm:alg>
      </dgm:if>
      <dgm:else name="Name2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hoose name="Name3">
      <dgm:if name="Name4" func="var" arg="dir" op="equ" val="norm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if>
      <dgm:else name="Name5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 fact="-1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else>
    </dgm:choose>
    <dgm:ruleLst>
      <dgm:rule type="diam" val="INF" fact="NaN" max="NaN"/>
    </dgm:ruleLst>
    <dgm:forEach name="nodesForEach" axis="ch" ptType="node">
      <dgm:choose name="Name6">
        <dgm:if name="Name7" axis="par ch" ptType="doc node" func="cnt" op="gt" val="1">
          <dgm:layoutNode name="dummy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</dgm:if>
        <dgm:else name="Name8"/>
      </dgm:choose>
      <dgm:layoutNode name="node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Name11" axis="followSib" ptType="sibTrans" hideLastTrans="0" cnt="1">
            <dgm:layoutNode name="sibTrans" styleLbl="node1">
              <dgm:alg type="conn"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begPad"/>
                <dgm:constr type="endPad"/>
              </dgm:constrLst>
              <dgm:ruleLst/>
            </dgm:layoutNode>
          </dgm:forEach>
        </dgm:if>
        <dgm:else name="Name12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5">
  <dgm:title val=""/>
  <dgm:desc val=""/>
  <dgm:catLst>
    <dgm:cat type="hierarchy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</dgm:ptLst>
      <dgm:cxnLst>
        <dgm:cxn modelId="7" srcId="0" destId="1" srcOrd="0" destOrd="0"/>
        <dgm:cxn modelId="8" srcId="1" destId="2" srcOrd="0" destOrd="0"/>
        <dgm:cxn modelId="9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10" srcId="0" destId="4" srcOrd="1" destOrd="0"/>
        <dgm:cxn modelId="11" srcId="0" destId="5" srcOrd="2" destOrd="0"/>
        <dgm:cxn modelId="12" srcId="0" destId="6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2"/>
        <dgm:pt modelId="3"/>
      </dgm:ptLst>
      <dgm:cxnLst>
        <dgm:cxn modelId="4" srcId="0" destId="1" srcOrd="0" destOrd="0"/>
        <dgm:cxn modelId="13" srcId="1" destId="11" srcOrd="0" destOrd="0"/>
        <dgm:cxn modelId="14" srcId="1" destId="12" srcOrd="1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  <dgm:pt modelId="4"/>
        <dgm:pt modelId="5"/>
        <dgm:pt modelId="6"/>
        <dgm:pt modelId="7"/>
      </dgm:ptLst>
      <dgm:cxnLst>
        <dgm:cxn modelId="8" srcId="0" destId="1" srcOrd="0" destOrd="0"/>
        <dgm:cxn modelId="9" srcId="1" destId="2" srcOrd="0" destOrd="0"/>
        <dgm:cxn modelId="10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  <dgm:cxn modelId="11" srcId="0" destId="4" srcOrd="1" destOrd="0"/>
        <dgm:cxn modelId="12" srcId="0" destId="5" srcOrd="2" destOrd="0"/>
        <dgm:cxn modelId="13" srcId="0" destId="6" srcOrd="3" destOrd="0"/>
        <dgm:cxn modelId="14" srcId="0" destId="7" srcOrd="4" destOrd="0"/>
      </dgm:cxnLst>
      <dgm:bg/>
      <dgm:whole/>
    </dgm:dataModel>
  </dgm:clrData>
  <dgm:layoutNode name="mainComposite">
    <dgm:varLst>
      <dgm:chPref val="1"/>
      <dgm:dir/>
      <dgm:animOne val="branch"/>
      <dgm:animLvl val="lvl"/>
      <dgm:resizeHandles val="exact"/>
    </dgm:varLst>
    <dgm:alg type="composite"/>
    <dgm:presOf/>
    <dgm:shape xmlns:r="http://schemas.openxmlformats.org/officeDocument/2006/relationships" r:blip="">
      <dgm:adjLst/>
    </dgm:shape>
    <dgm:choose name="Name0">
      <dgm:if name="Name1" axis="ch" ptType="node" func="cnt" op="gte" val="2">
        <dgm:choose name="Name2">
          <dgm:if name="Name3" func="var" arg="dir" op="equ" val="norm">
            <dgm:constrLst>
              <dgm:constr type="l" for="ch" forName="hierFlow"/>
              <dgm:constr type="t" for="ch" forName="hierFlow" refType="h" fact="0.3"/>
              <dgm:constr type="r" for="ch" forName="hierFlow" refType="w" fact="0.98"/>
              <dgm:constr type="b" for="ch" forName="hierFlow" refType="h" fact="0.96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h" for="des" forName="level1Shape" refType="h"/>
              <dgm:constr type="w" for="des" forName="level1Shape" refType="h" refFor="des" refForName="level1Shape" fact="2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w" refFor="des" refForName="level1Shape" op="equ" fact="0.4"/>
              <dgm:constr type="sibSp" for="des" forName="hierChild1" refType="h" refFor="des" refForName="level1Shape" op="equ" fact="0.15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w" refFor="des" refForName="level1Shape" op="equ"/>
              <dgm:constr type="userB" for="des" refType="sp" refFor="des" op="equ"/>
              <dgm:constr type="w" for="des" forName="firstBuf" refType="w" refFor="des" refForName="level1Shape" fact="0.1"/>
            </dgm:constrLst>
          </dgm:if>
          <dgm:else name="Name4">
            <dgm:constrLst>
              <dgm:constr type="l" for="ch" forName="hierFlow" refType="w" fact="0.02"/>
              <dgm:constr type="t" for="ch" forName="hierFlow" refType="h" fact="0.3"/>
              <dgm:constr type="r" for="ch" forName="hierFlow" refType="w"/>
              <dgm:constr type="b" for="ch" forName="hierFlow" refType="h" fact="0.96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h" for="des" forName="level1Shape" refType="h"/>
              <dgm:constr type="w" for="des" forName="level1Shape" refType="h" refFor="des" refForName="level1Shape" fact="2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w" refFor="des" refForName="level1Shape" op="equ" fact="0.4"/>
              <dgm:constr type="sibSp" for="des" forName="hierChild1" refType="h" refFor="des" refForName="level1Shape" op="equ" fact="0.15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w" refFor="des" refForName="level1Shape" op="equ"/>
              <dgm:constr type="userB" for="des" refType="sp" refFor="des" op="equ"/>
              <dgm:constr type="w" for="des" forName="firstBuf" refType="w" refFor="des" refForName="level1Shape" fact="0.1"/>
            </dgm:constrLst>
          </dgm:else>
        </dgm:choose>
      </dgm:if>
      <dgm:else name="Name5">
        <dgm:constrLst>
          <dgm:constr type="l" for="ch" forName="hierFlow"/>
          <dgm:constr type="t" for="ch" forName="hierFlow"/>
          <dgm:constr type="r" for="ch" forName="hierFlow" refType="w"/>
          <dgm:constr type="b" for="ch" forName="hierFlow" refType="h"/>
          <dgm:constr type="l" for="ch" forName="bgShapesFlow"/>
          <dgm:constr type="t" for="ch" forName="bgShapesFlow"/>
          <dgm:constr type="r" for="ch" forName="bgShapesFlow" refType="w"/>
          <dgm:constr type="b" for="ch" forName="bgShapesFlow" refType="h"/>
          <dgm:constr type="h" for="des" forName="level1Shape" refType="h"/>
          <dgm:constr type="w" for="des" forName="level1Shape" refType="h" refFor="des" refForName="level1Shape" fact="2"/>
          <dgm:constr type="w" for="des" forName="level2Shape" refType="w" refFor="des" refForName="level1Shape" op="equ"/>
          <dgm:constr type="h" for="des" forName="level2Shape" refType="h" refFor="des" refForName="level1Shape" op="equ"/>
          <dgm:constr type="sp" for="des" refType="w" refFor="des" refForName="level1Shape" op="equ" fact="0.4"/>
          <dgm:constr type="sibSp" for="des" forName="hierChild1" refType="h" refFor="des" refForName="level1Shape" op="equ" fact="0.15"/>
          <dgm:constr type="sibSp" for="des" forName="hierChild2" refType="sibSp" refFor="des" refForName="hierChild1" op="equ"/>
          <dgm:constr type="sibSp" for="des" forName="hierChild3" refType="sibSp" refFor="des" refForName="hierChild1" op="equ"/>
          <dgm:constr type="userA" for="des" refType="w" refFor="des" refForName="level1Shape" op="equ"/>
          <dgm:constr type="userB" for="des" refType="sp" refFor="des" op="equ"/>
          <dgm:constr type="w" for="des" forName="firstBuf" refType="w" refFor="des" refForName="level1Shape" fact="0.1"/>
        </dgm:constrLst>
      </dgm:else>
    </dgm:choose>
    <dgm:ruleLst/>
    <dgm:layoutNode name="hierFlow">
      <dgm:choose name="Name6">
        <dgm:if name="Name7" func="var" arg="dir" op="equ" val="norm">
          <dgm:alg type="lin">
            <dgm:param type="linDir" val="fromL"/>
            <dgm:param type="nodeVertAlign" val="mid"/>
            <dgm:param type="vertAlign" val="mid"/>
            <dgm:param type="nodeHorzAlign" val="l"/>
            <dgm:param type="horzAlign" val="l"/>
            <dgm:param type="fallback" val="2D"/>
          </dgm:alg>
        </dgm:if>
        <dgm:else name="Name8">
          <dgm:alg type="lin">
            <dgm:param type="linDir" val="fromR"/>
            <dgm:param type="nodeVertAlign" val="mid"/>
            <dgm:param type="vertAlign" val="mid"/>
            <dgm:param type="nodeHorzAlign" val="r"/>
            <dgm:param type="horzAlign" val="r"/>
            <dgm:param type="fallback" val="2D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primFontSz" for="des" ptType="node" op="equ" val="65"/>
        <dgm:constr type="primFontSz" for="des" forName="connTx" op="equ" val="55"/>
        <dgm:constr type="primFontSz" for="des" forName="connTx" refType="primFontSz" refFor="des" refPtType="node" op="lte" fact="0.8"/>
      </dgm:constrLst>
      <dgm:ruleLst/>
      <dgm:choose name="Name9">
        <dgm:if name="Name10" axis="ch" ptType="node" func="cnt" op="gte" val="2">
          <dgm:layoutNode name="firstBuf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1"/>
      </dgm:choose>
      <dgm:layoutNode name="hierChild1">
        <dgm:varLst>
          <dgm:chPref val="1"/>
          <dgm:animOne val="branch"/>
          <dgm:animLvl val="lvl"/>
        </dgm:varLst>
        <dgm:choose name="Name12">
          <dgm:if name="Name13" func="var" arg="dir" op="equ" val="norm">
            <dgm:alg type="hierChild">
              <dgm:param type="linDir" val="fromT"/>
              <dgm:param type="chAlign" val="l"/>
            </dgm:alg>
          </dgm:if>
          <dgm:else name="Name14">
            <dgm:alg type="hierChild">
              <dgm:param type="linDir" val="fromT"/>
              <dgm:param type="ch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forEach name="Name15" axis="ch" cnt="3">
          <dgm:forEach name="Name16" axis="self" ptType="node">
            <dgm:layoutNode name="Name17">
              <dgm:choose name="Name18">
                <dgm:if name="Name19" func="var" arg="dir" op="equ" val="norm">
                  <dgm:alg type="hierRoot">
                    <dgm:param type="hierAlign" val="lCtrCh"/>
                  </dgm:alg>
                </dgm:if>
                <dgm:else name="Name20">
                  <dgm:alg type="hierRoot">
                    <dgm:param type="hierAlign" val="rCtrCh"/>
                  </dgm:alg>
                </dgm:else>
              </dgm:choose>
              <dgm:shape xmlns:r="http://schemas.openxmlformats.org/officeDocument/2006/relationships" r:blip="">
                <dgm:adjLst/>
              </dgm:shape>
              <dgm:presOf/>
              <dgm:constrLst/>
              <dgm:ruleLst/>
              <dgm:layoutNode name="level1Shape" styleLbl="node0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tMarg" refType="primFontSz" fact="0.05"/>
                  <dgm:constr type="bMarg" refType="primFontSz" fact="0.05"/>
                  <dgm:constr type="lMarg" refType="primFontSz" fact="0.05"/>
                  <dgm:constr type="rMarg" refType="primFontSz" fact="0.05"/>
                </dgm:constrLst>
                <dgm:ruleLst>
                  <dgm:rule type="primFontSz" val="5" fact="NaN" max="NaN"/>
                </dgm:ruleLst>
              </dgm:layoutNode>
              <dgm:layoutNode name="hierChild2">
                <dgm:choose name="Name21">
                  <dgm:if name="Name22" func="var" arg="dir" op="equ" val="norm">
                    <dgm:alg type="hierChild">
                      <dgm:param type="linDir" val="fromT"/>
                      <dgm:param type="chAlign" val="l"/>
                    </dgm:alg>
                  </dgm:if>
                  <dgm:else name="Name23">
                    <dgm:alg type="hierChild">
                      <dgm:param type="linDir" val="fromT"/>
                      <dgm:param type="chAlign" val="r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  <dgm:forEach name="repeat" axis="ch">
                  <dgm:forEach name="Name24" axis="self" ptType="parTrans" cnt="1">
                    <dgm:layoutNode name="Name25">
                      <dgm:choose name="Name26">
                        <dgm:if name="Name27" func="var" arg="dir" op="equ" val="norm">
                          <dgm:alg type="conn">
                            <dgm:param type="dim" val="1D"/>
                            <dgm:param type="begPts" val="midR"/>
                            <dgm:param type="endPts" val="midL"/>
                            <dgm:param type="endSty" val="noArr"/>
                          </dgm:alg>
                        </dgm:if>
                        <dgm:else name="Name28">
                          <dgm:alg type="conn">
                            <dgm:param type="dim" val="1D"/>
                            <dgm:param type="begPts" val="midL"/>
                            <dgm:param type="endPts" val="midR"/>
                            <dgm:param type="endSty" val="noArr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 axis="self"/>
                      <dgm:constrLst>
                        <dgm:constr type="w" val="1"/>
                        <dgm:constr type="h" val="5"/>
                        <dgm:constr type="connDist"/>
                        <dgm:constr type="begPad"/>
                        <dgm:constr type="endPad"/>
                        <dgm:constr type="userA" for="ch" refType="connDist"/>
                      </dgm:constrLst>
                      <dgm:ruleLst/>
                      <dgm:layoutNode name="connTx">
                        <dgm:alg type="tx">
                          <dgm:param type="autoTxRot" val="grav"/>
                        </dgm:alg>
                        <dgm:shape xmlns:r="http://schemas.openxmlformats.org/officeDocument/2006/relationships" type="rect" r:blip="" hideGeom="1">
                          <dgm:adjLst/>
                        </dgm:shape>
                        <dgm:presOf axis="self"/>
                        <dgm:constrLst>
                          <dgm:constr type="userA"/>
                          <dgm:constr type="w" refType="userA" fact="0.05"/>
                          <dgm:constr type="h" refType="userA" fact="0.05"/>
                          <dgm:constr type="lMarg" val="1"/>
                          <dgm:constr type="rMarg" val="1"/>
                          <dgm:constr type="tMarg"/>
                          <dgm:constr type="bMarg"/>
                        </dgm:constrLst>
                        <dgm:ruleLst>
                          <dgm:rule type="h" val="NaN" fact="0.25" max="NaN"/>
                          <dgm:rule type="w" val="NaN" fact="0.8" max="NaN"/>
                          <dgm:rule type="primFontSz" val="5" fact="NaN" max="NaN"/>
                        </dgm:ruleLst>
                      </dgm:layoutNode>
                    </dgm:layoutNode>
                  </dgm:forEach>
                  <dgm:forEach name="Name29" axis="self" ptType="node">
                    <dgm:layoutNode name="Name30">
                      <dgm:choose name="Name31">
                        <dgm:if name="Name32" func="var" arg="dir" op="equ" val="norm">
                          <dgm:alg type="hierRoot">
                            <dgm:param type="hierAlign" val="lCtrCh"/>
                          </dgm:alg>
                        </dgm:if>
                        <dgm:else name="Name33">
                          <dgm:alg type="hierRoot">
                            <dgm:param type="hierAlign" val="rCtrCh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/>
                      <dgm:layoutNode name="level2Shape">
                        <dgm:alg type="tx"/>
                        <dgm:shape xmlns:r="http://schemas.openxmlformats.org/officeDocument/2006/relationships" type="roundRect" r:blip="">
                          <dgm:adjLst>
                            <dgm:adj idx="1" val="0.1"/>
                          </dgm:adjLst>
                        </dgm:shape>
                        <dgm:presOf axis="self"/>
                        <dgm:constrLst>
                          <dgm:constr type="tMarg" refType="primFontSz" fact="0.05"/>
                          <dgm:constr type="bMarg" refType="primFontSz" fact="0.05"/>
                          <dgm:constr type="lMarg" refType="primFontSz" fact="0.05"/>
                          <dgm:constr type="rMarg" refType="primFontSz" fact="0.05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hierChild3">
                        <dgm:choose name="Name34">
                          <dgm:if name="Name35" func="var" arg="dir" op="equ" val="norm">
                            <dgm:alg type="hierChild">
                              <dgm:param type="linDir" val="fromT"/>
                              <dgm:param type="chAlign" val="l"/>
                            </dgm:alg>
                          </dgm:if>
                          <dgm:else name="Name36">
                            <dgm:alg type="hierChild">
                              <dgm:param type="linDir" val="fromT"/>
                              <dgm:param type="chAlign" val="r"/>
                            </dgm:alg>
                          </dgm:else>
                        </dgm:choose>
                        <dgm:shape xmlns:r="http://schemas.openxmlformats.org/officeDocument/2006/relationships" r:blip="">
                          <dgm:adjLst/>
                        </dgm:shape>
                        <dgm:presOf/>
                        <dgm:constrLst/>
                        <dgm:ruleLst/>
                        <dgm:forEach name="Name37" ref="repeat"/>
                      </dgm:layoutNode>
                    </dgm:layoutNode>
                  </dgm:forEach>
                </dgm:forEach>
              </dgm:layoutNode>
            </dgm:layoutNode>
          </dgm:forEach>
        </dgm:forEach>
      </dgm:layoutNode>
    </dgm:layoutNode>
    <dgm:layoutNode name="bgShapesFlow">
      <dgm:choose name="Name38">
        <dgm:if name="Name39" func="var" arg="dir" op="equ" val="norm">
          <dgm:alg type="lin">
            <dgm:param type="linDir" val="fromL"/>
            <dgm:param type="nodeVertAlign" val="mid"/>
            <dgm:param type="vertAlign" val="mid"/>
            <dgm:param type="nodeHorzAlign" val="l"/>
            <dgm:param type="horzAlign" val="l"/>
          </dgm:alg>
        </dgm:if>
        <dgm:else name="Name40">
          <dgm:alg type="lin">
            <dgm:param type="linDir" val="fromR"/>
            <dgm:param type="nodeVertAlign" val="mid"/>
            <dgm:param type="vertAlign" val="mid"/>
            <dgm:param type="nodeHorzAlign" val="r"/>
            <dgm:param type="horzAlign" val="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rectComp" refType="w"/>
        <dgm:constr type="h" for="ch" forName="rectComp" refType="h"/>
        <dgm:constr type="h" for="des" forName="bgRect" refType="h"/>
        <dgm:constr type="primFontSz" for="des" forName="bgRectTx" op="equ" val="65"/>
      </dgm:constrLst>
      <dgm:ruleLst/>
      <dgm:forEach name="Name41" axis="ch" ptType="node" st="2">
        <dgm:layoutNode name="rectComp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userA"/>
            <dgm:constr type="l" for="ch" forName="bgRect"/>
            <dgm:constr type="t" for="ch" forName="bgRect"/>
            <dgm:constr type="w" for="ch" forName="bgRect" refType="userA" fact="1.2"/>
            <dgm:constr type="l" for="ch" forName="bgRectTx"/>
            <dgm:constr type="t" for="ch" forName="bgRectTx"/>
            <dgm:constr type="h" for="ch" forName="bgRectTx" refType="h" refFor="ch" refForName="bgRect" fact="0.3"/>
            <dgm:constr type="w" for="ch" forName="bgRectTx" refType="w" refFor="ch" refForName="bgRect" op="equ"/>
          </dgm:constrLst>
          <dgm:ruleLst/>
          <dgm:layoutNode name="bgRect" styleLbl="bgShp">
            <dgm:alg type="sp"/>
            <dgm:shape xmlns:r="http://schemas.openxmlformats.org/officeDocument/2006/relationships" type="roundRect" r:blip="" zOrderOff="-999">
              <dgm:adjLst>
                <dgm:adj idx="1" val="0.1"/>
              </dgm:adjLst>
            </dgm:shape>
            <dgm:presOf axis="desOrSelf" ptType="node"/>
            <dgm:constrLst/>
            <dgm:ruleLst/>
          </dgm:layoutNode>
          <dgm:layoutNode name="bgRectTx" styleLbl="bgShp">
            <dgm:varLst>
              <dgm:bulletEnabled val="1"/>
            </dgm:varLst>
            <dgm:alg type="tx"/>
            <dgm:shape xmlns:r="http://schemas.openxmlformats.org/officeDocument/2006/relationships" type="rect" r:blip="" zOrderOff="-999" hideGeom="1">
              <dgm:adjLst/>
            </dgm:shape>
            <dgm:presOf axis="desOrSelf" ptType="node"/>
            <dgm:constrLst/>
            <dgm:ruleLst>
              <dgm:rule type="primFontSz" val="5" fact="NaN" max="NaN"/>
            </dgm:ruleLst>
          </dgm:layoutNode>
        </dgm:layoutNode>
        <dgm:choose name="Name42">
          <dgm:if name="Name43" axis="self" ptType="node" func="revPos" op="gte" val="2">
            <dgm:layoutNode name="spComp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userA"/>
                <dgm:constr type="userB"/>
                <dgm:constr type="l" for="ch" forName="hSp"/>
                <dgm:constr type="t" for="ch" forName="hSp"/>
                <dgm:constr type="w" for="ch" forName="hSp" refType="userB"/>
                <dgm:constr type="wOff" for="ch" forName="hSp" refType="userA" fact="-0.2"/>
              </dgm:constrLst>
              <dgm:ruleLst/>
              <dgm:layoutNode name="hSp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44"/>
        </dgm:choose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4C16E-EC7C-4113-9AA3-D10C29889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1B8E84-DBF3-40D1-A731-E5049FE960D3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B6FE0E-E602-4A2D-86C5-413C52BC15AA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02E7C9-5B45-46F5-B530-0E0869020B44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C82-1E29-4D80-8401-BF927043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A2C-A0D1-4CC1-B8D6-4C455030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81886-1B26-4B0F-A55A-291C8DE5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FB4-77B5-42BD-98A1-DC9D81B5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A831A-685B-4590-8883-6A9EF23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0AC51-085A-4742-9FC1-65E3C17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4216-1A97-4BAD-893B-5E4F1C3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417FE-AA00-4F4A-BCCB-591C2D7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D0F59-CA8B-4C2B-8F90-D43B283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D7F5E-6CE0-44E3-9C7F-7EF6FC2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4E558-BDF3-42AF-AA24-923F5D8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1AB52-E83B-4FE2-9594-E620D3F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6D5C-578A-48D1-83DB-3CB7E2C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40F93-CE07-471A-A41B-BEA8E126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020-ABA1-47BE-BAE7-759D7991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3EBB2-4802-4920-907B-607A762A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6069-7836-41DB-95AC-6DFB3A1D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FEEE-84AF-453B-BDFC-D876ED92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CE90-6A92-4C32-8525-6EE010B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B7FE-687C-4F93-974C-94584F4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1F87-22FD-42EB-8F0C-0D52794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C0E6-D8CF-4CFE-B690-84697DB0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875-F526-4AD7-AF26-0F13CA1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6ED-D5BD-458C-9492-E0D4FCCA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DDE0-016E-4FF3-8CD8-47C75E9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0B5-6672-4DAE-BAF3-CEEB735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8799-B5D8-4B40-AA3C-1517D3C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E260-2D22-47BE-9AAB-C74495F1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62C3-400D-44FD-96F7-204FB31C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C4AD-D149-4488-A382-A6C90918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8FBD-F441-4968-9E6B-52C9976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B5AC-8565-48F1-B12D-18D6F40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498A-A5B4-4542-8928-C9F3EE7B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09C1-77CC-46DC-8965-9B2D6AEB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3BE-46E9-4EE1-8B5E-C8B09327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402D-5C38-4328-9378-FA8408C9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650E-1B02-4997-9130-4DD9E97A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0500-7D3D-486F-889C-1DED503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CDE1-9E99-4F5E-9CF5-0E8FE69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3F9E-2BFB-4C75-9D5F-F1786AC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0046-55F8-44F0-B30F-D3CCBAC0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B858-8CDB-45E1-B5D9-B17346E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BFCD-2178-4A55-BA52-D7BC86EC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1E3E-B8AE-468B-903E-B83DA9F3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64DF-C4E7-4A32-967F-4BF011F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E0F-8C26-45EC-8ECD-AF2540B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FF76-87F2-4F6A-95D3-AEC79AE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49F4-0C45-43A6-83DA-C82FCA4E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88AA-4C26-45B4-B23A-0342988F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40C2-2FDC-4263-B801-5AA8659B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883B-3839-4BA7-904F-AC94B20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1DDE-F5DC-4ACB-8156-5C9BAD6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C47B-93AD-4543-99B5-D42997E5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9E06-9D53-427A-B427-A48FC96C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EF2D-A78B-42F3-9512-AD2CF05B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0897-CD53-4DCE-B309-43C76343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3AF-6B99-40AF-B1DF-EB3C2C1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A40B-A9E1-4A6A-A2A3-7F58CA1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105DD-9C7D-4EB6-BA15-A1C252E0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D420-00E3-4ECA-BF15-D3EA687F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535D-7071-4E26-A6DF-8325BB1F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E32B-01B8-4021-A4E2-AD790BA8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7F4A-F8F8-44D3-A00D-C4FFECE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ED35-6B11-44A9-9985-850F60F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086F-8AB9-4332-87B2-FA56BD9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4995-0558-42D7-8B74-BF9CBEA9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B381-356D-4D23-B255-6C05EB29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A14-2232-4879-BE3C-5A87FE43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2E92A-2F01-40EB-805D-C0A3FC7E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922DD-00DB-49B5-9D1A-E2289875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BE89-3751-43C3-915C-DCEA4ED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C4EC5-9175-4E81-8158-71087487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F919-143E-4A8C-A599-A48B8F8D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3D739-7688-4957-A7D1-EB6A8D07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8703-C3AD-4470-B75D-599CE62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6365-3224-4182-A89C-FF499CE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12D5-99AD-4740-9858-F47F4F28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07F3D-51CB-4CDB-B05B-9181FC4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EFE-83E3-4AC9-A9BB-A1E5F55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CC26-1EFC-4ACD-AA70-9F15A16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803B-2CAC-4C82-ABDD-50127A55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F29FA-78DF-443A-A3EE-F937C5B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D23-E3D5-455B-AAB9-8FB35D5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988-04D6-4E32-9B63-3FE52167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013806-6BF1-49CF-90FF-E93A5E1D0074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0A274A-C21E-4600-9952-C3F11299E1B9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805314-C0AE-44A5-8DCB-7D681C278437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82B9A-03CE-4646-8667-9412DD155353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83A642-A544-4EBE-88AF-A328B0052C7A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4A2FC2-8EE1-4597-9F79-EED3124DC92B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2CE631-2DB3-4EC9-8362-CAD592CA9508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7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7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apassi@minsal.cl" TargetMode="External"/><Relationship Id="rId2" Type="http://schemas.openxmlformats.org/officeDocument/2006/relationships/hyperlink" Target="mailto:pgalaz@minsal.cl" TargetMode="External"/><Relationship Id="rId3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ortal.maipu.cl/t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CuadroTexto"/>
          <p:cNvSpPr/>
          <p:nvPr/>
        </p:nvSpPr>
        <p:spPr>
          <a:xfrm>
            <a:off x="285840" y="3141000"/>
            <a:ext cx="8496720" cy="1978920"/>
          </a:xfrm>
          <a:prstGeom prst="rect">
            <a:avLst/>
          </a:prstGeom>
          <a:noFill/>
          <a:ln w="0">
            <a:noFill/>
          </a:ln>
          <a:effectLst>
            <a:outerShdw blurRad="152280" dir="5400000" dist="317520" rotWithShape="0" sx="90000" sy="-1900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4000" spc="-1" strike="noStrike">
                <a:solidFill>
                  <a:srgbClr val="003cfb"/>
                </a:solidFill>
                <a:latin typeface="Calibri"/>
              </a:rPr>
              <a:t>Modelo para la divulgación de la información y el cumplimiento de la </a:t>
            </a:r>
            <a:r>
              <a:rPr b="1" i="1" lang="es-ES" sz="4400" spc="-1" strike="noStrike">
                <a:solidFill>
                  <a:srgbClr val="003cfb"/>
                </a:solidFill>
                <a:latin typeface="Calibri"/>
              </a:rPr>
              <a:t>TRANSPARENCI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214200" y="650088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Lunes 29 de abril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7 CuadroTexto"/>
          <p:cNvSpPr/>
          <p:nvPr/>
        </p:nvSpPr>
        <p:spPr>
          <a:xfrm>
            <a:off x="323640" y="5517720"/>
            <a:ext cx="342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Mauricio Godoy God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Coordinador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rección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8 CuadroTexto"/>
          <p:cNvSpPr/>
          <p:nvPr/>
        </p:nvSpPr>
        <p:spPr>
          <a:xfrm>
            <a:off x="5652000" y="5517720"/>
            <a:ext cx="331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Gastón Avendaño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Jefe Unidad de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rección de Operaciones y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65840" y="1037880"/>
            <a:ext cx="8415360" cy="548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mente el proyecto cuenta con las siguientes características: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componentes: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o o Front End: Acceso para los OR. Componente de Auto Evaluación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o o Back End: Acceso para el CPLT. Componente de Fiscalización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a la medi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ción con personal interno de la Unidad de Sistemas del Consejo para la Transparencia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o de metodología de desarrollo de Software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ción de normas de desarrollo interno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quitectur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Para cada componente: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ones Web: .NET 4.0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s de Datos: MS SQL 2008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s: WCF en .NET 4.0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ódulo y repositorio de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ma de Electrónica Avanza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cción de dat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sde Data Ware House institucional, de acuerdo modelo de datos corporativo.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A00655-E7BB-4B13-93CA-729B070F7E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5683680" y="3960360"/>
            <a:ext cx="1724040" cy="13615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457" name="5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Descripción técnic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39 Rectángulo redondeado"/>
          <p:cNvSpPr/>
          <p:nvPr/>
        </p:nvSpPr>
        <p:spPr>
          <a:xfrm>
            <a:off x="555480" y="1029240"/>
            <a:ext cx="8060040" cy="188856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nente de Auto Evaluación – Acceso a Sistema Externo Órganos Regul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1307D7-BE39-4548-9279-FD4244E91D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4 Rectángulo redondeado"/>
          <p:cNvSpPr/>
          <p:nvPr/>
        </p:nvSpPr>
        <p:spPr>
          <a:xfrm>
            <a:off x="555480" y="3644280"/>
            <a:ext cx="8060040" cy="21668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nente de Fiscalización - Consejo Para la 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9 Flecha abajo"/>
          <p:cNvSpPr/>
          <p:nvPr/>
        </p:nvSpPr>
        <p:spPr>
          <a:xfrm rot="16200000">
            <a:off x="4045320" y="418860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2" name="10 Flecha abajo"/>
          <p:cNvSpPr/>
          <p:nvPr/>
        </p:nvSpPr>
        <p:spPr>
          <a:xfrm rot="16200000">
            <a:off x="2375640" y="162072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3" name="11 Flecha abajo"/>
          <p:cNvSpPr/>
          <p:nvPr/>
        </p:nvSpPr>
        <p:spPr>
          <a:xfrm rot="10800000">
            <a:off x="7297560" y="2282400"/>
            <a:ext cx="503640" cy="160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4" name="14 Rectángulo redondeado"/>
          <p:cNvSpPr/>
          <p:nvPr/>
        </p:nvSpPr>
        <p:spPr>
          <a:xfrm>
            <a:off x="871560" y="3982680"/>
            <a:ext cx="1315080" cy="66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525"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8 Rectángulo redondeado"/>
          <p:cNvSpPr/>
          <p:nvPr/>
        </p:nvSpPr>
        <p:spPr>
          <a:xfrm>
            <a:off x="4629600" y="39891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9 Rectángulo redondeado"/>
          <p:cNvSpPr/>
          <p:nvPr/>
        </p:nvSpPr>
        <p:spPr>
          <a:xfrm>
            <a:off x="2365200" y="4864320"/>
            <a:ext cx="6076080" cy="341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ejo 360° (Cuadro de Mando 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28 Rectángulo redondeado"/>
          <p:cNvSpPr/>
          <p:nvPr/>
        </p:nvSpPr>
        <p:spPr>
          <a:xfrm>
            <a:off x="735480" y="147204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uto Evaluación de 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1 Rectángulo redondeado"/>
          <p:cNvSpPr/>
          <p:nvPr/>
        </p:nvSpPr>
        <p:spPr>
          <a:xfrm>
            <a:off x="2386440" y="400032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calización de 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3 Rectángulo redondeado"/>
          <p:cNvSpPr/>
          <p:nvPr/>
        </p:nvSpPr>
        <p:spPr>
          <a:xfrm>
            <a:off x="6690240" y="3982680"/>
            <a:ext cx="175068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ma Electrónica Avan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4 Flecha abajo"/>
          <p:cNvSpPr/>
          <p:nvPr/>
        </p:nvSpPr>
        <p:spPr>
          <a:xfrm rot="16200000">
            <a:off x="6190920" y="418860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71" name="35 Rectángulo redondeado"/>
          <p:cNvSpPr/>
          <p:nvPr/>
        </p:nvSpPr>
        <p:spPr>
          <a:xfrm>
            <a:off x="6755400" y="14763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tificación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40 Rectángulo redondeado"/>
          <p:cNvSpPr/>
          <p:nvPr/>
        </p:nvSpPr>
        <p:spPr>
          <a:xfrm>
            <a:off x="2940840" y="14763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orte y % de Cumpl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41 Flecha abajo"/>
          <p:cNvSpPr/>
          <p:nvPr/>
        </p:nvSpPr>
        <p:spPr>
          <a:xfrm rot="10800000">
            <a:off x="1277640" y="2236680"/>
            <a:ext cx="503640" cy="160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74" name="1 CuadroTexto"/>
          <p:cNvSpPr/>
          <p:nvPr/>
        </p:nvSpPr>
        <p:spPr>
          <a:xfrm>
            <a:off x="196560" y="3112560"/>
            <a:ext cx="115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de funcion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3 Elipse"/>
          <p:cNvSpPr/>
          <p:nvPr/>
        </p:nvSpPr>
        <p:spPr>
          <a:xfrm>
            <a:off x="646560" y="2005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45 Elipse"/>
          <p:cNvSpPr/>
          <p:nvPr/>
        </p:nvSpPr>
        <p:spPr>
          <a:xfrm>
            <a:off x="2828160" y="200016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46 Elipse"/>
          <p:cNvSpPr/>
          <p:nvPr/>
        </p:nvSpPr>
        <p:spPr>
          <a:xfrm>
            <a:off x="786960" y="45054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47 Elipse"/>
          <p:cNvSpPr/>
          <p:nvPr/>
        </p:nvSpPr>
        <p:spPr>
          <a:xfrm>
            <a:off x="2285280" y="45054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48 Elipse"/>
          <p:cNvSpPr/>
          <p:nvPr/>
        </p:nvSpPr>
        <p:spPr>
          <a:xfrm>
            <a:off x="4528080" y="4498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49 Elipse"/>
          <p:cNvSpPr/>
          <p:nvPr/>
        </p:nvSpPr>
        <p:spPr>
          <a:xfrm>
            <a:off x="6601320" y="4498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50 Elipse"/>
          <p:cNvSpPr/>
          <p:nvPr/>
        </p:nvSpPr>
        <p:spPr>
          <a:xfrm>
            <a:off x="2274120" y="509148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51 Elipse"/>
          <p:cNvSpPr/>
          <p:nvPr/>
        </p:nvSpPr>
        <p:spPr>
          <a:xfrm>
            <a:off x="6642720" y="198828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2 CuadroTexto"/>
          <p:cNvSpPr/>
          <p:nvPr/>
        </p:nvSpPr>
        <p:spPr>
          <a:xfrm>
            <a:off x="7733520" y="3093480"/>
            <a:ext cx="115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es de Fis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30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Num" idx="3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838EFA-7C49-49C7-BA6E-732E8F3997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2 Grupo"/>
          <p:cNvGrpSpPr/>
          <p:nvPr/>
        </p:nvGrpSpPr>
        <p:grpSpPr>
          <a:xfrm>
            <a:off x="268560" y="894240"/>
            <a:ext cx="8129880" cy="1744920"/>
            <a:chOff x="268560" y="894240"/>
            <a:chExt cx="8129880" cy="1744920"/>
          </a:xfrm>
        </p:grpSpPr>
        <p:sp>
          <p:nvSpPr>
            <p:cNvPr id="487" name="11 Rectángulo redondeado"/>
            <p:cNvSpPr/>
            <p:nvPr/>
          </p:nvSpPr>
          <p:spPr>
            <a:xfrm>
              <a:off x="380880" y="1008720"/>
              <a:ext cx="3750480" cy="142056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to Evaluación de 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el acceso externo por parte de los Órganos Regulados y permite el uso de la herramienta de Auto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3 Elipse"/>
            <p:cNvSpPr/>
            <p:nvPr/>
          </p:nvSpPr>
          <p:spPr>
            <a:xfrm>
              <a:off x="268560" y="89424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3" descr=""/>
            <p:cNvPicPr/>
            <p:nvPr/>
          </p:nvPicPr>
          <p:blipFill>
            <a:blip r:embed="rId1"/>
            <a:stretch/>
          </p:blipFill>
          <p:spPr>
            <a:xfrm>
              <a:off x="4700520" y="894240"/>
              <a:ext cx="3697920" cy="17449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sp>
          <p:nvSpPr>
            <p:cNvPr id="490" name="16 Flecha abajo"/>
            <p:cNvSpPr/>
            <p:nvPr/>
          </p:nvSpPr>
          <p:spPr>
            <a:xfrm rot="16200000">
              <a:off x="4164120" y="158724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</p:grpSp>
      <p:grpSp>
        <p:nvGrpSpPr>
          <p:cNvPr id="491" name="4 Grupo"/>
          <p:cNvGrpSpPr/>
          <p:nvPr/>
        </p:nvGrpSpPr>
        <p:grpSpPr>
          <a:xfrm>
            <a:off x="257760" y="2782440"/>
            <a:ext cx="8499600" cy="1960920"/>
            <a:chOff x="257760" y="2782440"/>
            <a:chExt cx="8499600" cy="1960920"/>
          </a:xfrm>
        </p:grpSpPr>
        <p:sp>
          <p:nvSpPr>
            <p:cNvPr id="492" name="12 Rectángulo redondeado"/>
            <p:cNvSpPr/>
            <p:nvPr/>
          </p:nvSpPr>
          <p:spPr>
            <a:xfrm>
              <a:off x="370080" y="2985120"/>
              <a:ext cx="3761280" cy="1629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e y % de Cumpli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obtener el % de cumplimiento junto al detalle por ítem de fiscalización. SI no están todas las respuestas contestadas muestra el % de avance de Auto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13 Elipse"/>
            <p:cNvSpPr/>
            <p:nvPr/>
          </p:nvSpPr>
          <p:spPr>
            <a:xfrm>
              <a:off x="257760" y="2870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17 Flecha abajo"/>
            <p:cNvSpPr/>
            <p:nvPr/>
          </p:nvSpPr>
          <p:spPr>
            <a:xfrm rot="16200000">
              <a:off x="4160520" y="351576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495" name="Picture 4" descr=""/>
            <p:cNvPicPr/>
            <p:nvPr/>
          </p:nvPicPr>
          <p:blipFill>
            <a:blip r:embed="rId2"/>
            <a:stretch/>
          </p:blipFill>
          <p:spPr>
            <a:xfrm>
              <a:off x="4700520" y="2782440"/>
              <a:ext cx="4056840" cy="19609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grpSp>
        <p:nvGrpSpPr>
          <p:cNvPr id="496" name="5 Grupo"/>
          <p:cNvGrpSpPr/>
          <p:nvPr/>
        </p:nvGrpSpPr>
        <p:grpSpPr>
          <a:xfrm>
            <a:off x="230040" y="4850280"/>
            <a:ext cx="8791560" cy="1567080"/>
            <a:chOff x="230040" y="4850280"/>
            <a:chExt cx="8791560" cy="1567080"/>
          </a:xfrm>
        </p:grpSpPr>
        <p:sp>
          <p:nvSpPr>
            <p:cNvPr id="497" name="19 Rectángulo redondeado"/>
            <p:cNvSpPr/>
            <p:nvPr/>
          </p:nvSpPr>
          <p:spPr>
            <a:xfrm>
              <a:off x="342360" y="4965120"/>
              <a:ext cx="3761280" cy="138456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M – Gestión de Clientes del CP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 el CRM se administran las cuentas de los funcionarios de los OR. Se da de alta, baja, se actualizan datos y se envía contraseñ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20 Elipse"/>
            <p:cNvSpPr/>
            <p:nvPr/>
          </p:nvSpPr>
          <p:spPr>
            <a:xfrm>
              <a:off x="230040" y="4850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21 Flecha abajo"/>
            <p:cNvSpPr/>
            <p:nvPr/>
          </p:nvSpPr>
          <p:spPr>
            <a:xfrm rot="16200000">
              <a:off x="4132800" y="545364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500" name="Picture 5" descr=""/>
            <p:cNvPicPr/>
            <p:nvPr/>
          </p:nvPicPr>
          <p:blipFill>
            <a:blip r:embed="rId3"/>
            <a:stretch/>
          </p:blipFill>
          <p:spPr>
            <a:xfrm>
              <a:off x="4700520" y="4917960"/>
              <a:ext cx="4321080" cy="149940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501" name="18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 -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95396E-F7E9-4302-96CB-6D05E29A71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2 Grupo"/>
          <p:cNvGrpSpPr/>
          <p:nvPr/>
        </p:nvGrpSpPr>
        <p:grpSpPr>
          <a:xfrm>
            <a:off x="153720" y="737280"/>
            <a:ext cx="3873960" cy="1235160"/>
            <a:chOff x="153720" y="737280"/>
            <a:chExt cx="3873960" cy="1235160"/>
          </a:xfrm>
        </p:grpSpPr>
        <p:sp>
          <p:nvSpPr>
            <p:cNvPr id="504" name="11 Rectángulo redondeado"/>
            <p:cNvSpPr/>
            <p:nvPr/>
          </p:nvSpPr>
          <p:spPr>
            <a:xfrm>
              <a:off x="266400" y="852120"/>
              <a:ext cx="3761280" cy="112032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scalización de 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ódulo interno para fiscalización de la Dirección de Fiscalización. Usa el mismo instrumento de fiscalización que Auto Evaluación. Solo se le incorpora registro de evidencias y generación de Informe de Fiscaliz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12 Elipse"/>
            <p:cNvSpPr/>
            <p:nvPr/>
          </p:nvSpPr>
          <p:spPr>
            <a:xfrm>
              <a:off x="153720" y="737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3 Grupo"/>
          <p:cNvGrpSpPr/>
          <p:nvPr/>
        </p:nvGrpSpPr>
        <p:grpSpPr>
          <a:xfrm>
            <a:off x="153720" y="2194560"/>
            <a:ext cx="3873960" cy="1319040"/>
            <a:chOff x="153720" y="2194560"/>
            <a:chExt cx="3873960" cy="1319040"/>
          </a:xfrm>
        </p:grpSpPr>
        <p:sp>
          <p:nvSpPr>
            <p:cNvPr id="507" name="13 Rectángulo redondeado"/>
            <p:cNvSpPr/>
            <p:nvPr/>
          </p:nvSpPr>
          <p:spPr>
            <a:xfrm>
              <a:off x="266400" y="2309400"/>
              <a:ext cx="3761280" cy="12042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forme de Fis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la generación y tratamiento de los Informes de Fiscalización. Este documento se genera a partir de una plantilla que se autocompleta con los datos propios de cada procesos de fiscaliz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14 Elipse"/>
            <p:cNvSpPr/>
            <p:nvPr/>
          </p:nvSpPr>
          <p:spPr>
            <a:xfrm>
              <a:off x="153720" y="219456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4 Grupo"/>
          <p:cNvGrpSpPr/>
          <p:nvPr/>
        </p:nvGrpSpPr>
        <p:grpSpPr>
          <a:xfrm>
            <a:off x="153720" y="3768120"/>
            <a:ext cx="3873960" cy="1158840"/>
            <a:chOff x="153720" y="3768120"/>
            <a:chExt cx="3873960" cy="1158840"/>
          </a:xfrm>
        </p:grpSpPr>
        <p:sp>
          <p:nvSpPr>
            <p:cNvPr id="510" name="15 Rectángulo redondeado"/>
            <p:cNvSpPr/>
            <p:nvPr/>
          </p:nvSpPr>
          <p:spPr>
            <a:xfrm>
              <a:off x="266400" y="388296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rma Electrónica Avanz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la firma de los Informes de Fiscalización por parte del Director General (Jefe de Servicio) del CPLT. Además, se notifica a los OR fiscaliz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16 Elipse"/>
            <p:cNvSpPr/>
            <p:nvPr/>
          </p:nvSpPr>
          <p:spPr>
            <a:xfrm>
              <a:off x="153720" y="376812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6 Grupo"/>
          <p:cNvGrpSpPr/>
          <p:nvPr/>
        </p:nvGrpSpPr>
        <p:grpSpPr>
          <a:xfrm>
            <a:off x="4283280" y="737280"/>
            <a:ext cx="4690800" cy="3786120"/>
            <a:chOff x="4283280" y="737280"/>
            <a:chExt cx="4690800" cy="3786120"/>
          </a:xfrm>
        </p:grpSpPr>
        <p:sp>
          <p:nvSpPr>
            <p:cNvPr id="513" name="17 Rectángulo redondeado"/>
            <p:cNvSpPr/>
            <p:nvPr/>
          </p:nvSpPr>
          <p:spPr>
            <a:xfrm>
              <a:off x="4395600" y="85212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tificación Electró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recibir y ver los Informes de Fiscalización Firmados con Firma Electrónica Avanzada, por parte de los funcionarios habilitados de cada 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18 Elipse"/>
            <p:cNvSpPr/>
            <p:nvPr/>
          </p:nvSpPr>
          <p:spPr>
            <a:xfrm>
              <a:off x="4283280" y="737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5" descr=""/>
            <p:cNvPicPr/>
            <p:nvPr/>
          </p:nvPicPr>
          <p:blipFill>
            <a:blip r:embed="rId1"/>
            <a:stretch/>
          </p:blipFill>
          <p:spPr>
            <a:xfrm>
              <a:off x="4508280" y="1704600"/>
              <a:ext cx="4465800" cy="80244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2"/>
            <a:stretch/>
          </p:blipFill>
          <p:spPr>
            <a:xfrm>
              <a:off x="6143400" y="2137680"/>
              <a:ext cx="2517480" cy="23857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grpSp>
        <p:nvGrpSpPr>
          <p:cNvPr id="517" name="5 Grupo"/>
          <p:cNvGrpSpPr/>
          <p:nvPr/>
        </p:nvGrpSpPr>
        <p:grpSpPr>
          <a:xfrm>
            <a:off x="153720" y="4766760"/>
            <a:ext cx="8976960" cy="1897920"/>
            <a:chOff x="153720" y="4766760"/>
            <a:chExt cx="8976960" cy="1897920"/>
          </a:xfrm>
        </p:grpSpPr>
        <p:sp>
          <p:nvSpPr>
            <p:cNvPr id="518" name="20 Rectángulo redondeado"/>
            <p:cNvSpPr/>
            <p:nvPr/>
          </p:nvSpPr>
          <p:spPr>
            <a:xfrm>
              <a:off x="266400" y="519264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adro de Ma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revisar en forma agregada y desagregada la información recopilada de las fiscalizaciones. Esto para gestión del proceso de fiscalización y mediciones promedio de % de cumpl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21 Elipse"/>
            <p:cNvSpPr/>
            <p:nvPr/>
          </p:nvSpPr>
          <p:spPr>
            <a:xfrm>
              <a:off x="153720" y="507780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24 Flecha abajo"/>
            <p:cNvSpPr/>
            <p:nvPr/>
          </p:nvSpPr>
          <p:spPr>
            <a:xfrm rot="16200000">
              <a:off x="4065120" y="548748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521" name="Picture 4" descr=""/>
            <p:cNvPicPr/>
            <p:nvPr/>
          </p:nvPicPr>
          <p:blipFill>
            <a:blip r:embed="rId3"/>
            <a:stretch/>
          </p:blipFill>
          <p:spPr>
            <a:xfrm>
              <a:off x="4582440" y="4766760"/>
              <a:ext cx="4548240" cy="87444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pic>
          <p:nvPicPr>
            <p:cNvPr id="522" name="Picture 5" descr=""/>
            <p:cNvPicPr/>
            <p:nvPr/>
          </p:nvPicPr>
          <p:blipFill>
            <a:blip r:embed="rId4"/>
            <a:stretch/>
          </p:blipFill>
          <p:spPr>
            <a:xfrm>
              <a:off x="4809240" y="5690880"/>
              <a:ext cx="3728160" cy="97380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523" name="23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 -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3FBA3E-02C6-40CE-915D-4F70406EE8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1 Rectángulo"/>
          <p:cNvSpPr/>
          <p:nvPr/>
        </p:nvSpPr>
        <p:spPr>
          <a:xfrm>
            <a:off x="6766560" y="2430360"/>
            <a:ext cx="2331360" cy="35575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Observ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1.- El nivel de aplicación es .NE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2.- El nivel de base de datos es MS SQL 2008 R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3.- La comunicación entre el Front End y el Back End es solo a través del nivel de servicios (Web Services en W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4.- La comunicación entre sistemas es a través de servicios (Web Services en WCF), con excepción del cuadro de mando institucional, que puede acceder mediante sinónimos directamente a bases de da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6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39680" y="786240"/>
            <a:ext cx="6591960" cy="60267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4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53CB40-8065-4429-BDEC-F3DAEACDDF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4 Rectángulo redondeado"/>
          <p:cNvSpPr/>
          <p:nvPr/>
        </p:nvSpPr>
        <p:spPr>
          <a:xfrm>
            <a:off x="291600" y="1494360"/>
            <a:ext cx="4568040" cy="170352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s de Fiscalización de TA con Firma Electrónica Avanzada (FEA) Firmados y Not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1.5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: 1.168 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345 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5 Rectángulo redondeado"/>
          <p:cNvSpPr/>
          <p:nvPr/>
        </p:nvSpPr>
        <p:spPr>
          <a:xfrm>
            <a:off x="5004000" y="1494360"/>
            <a:ext cx="3800880" cy="170352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ituciones Públicas que han recibido Informes de Fiscalización de TA con F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6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: 35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34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6 Rectángulo redondeado"/>
          <p:cNvSpPr/>
          <p:nvPr/>
        </p:nvSpPr>
        <p:spPr>
          <a:xfrm>
            <a:off x="291600" y="3636360"/>
            <a:ext cx="8513280" cy="2026440"/>
          </a:xfrm>
          <a:prstGeom prst="roundRect">
            <a:avLst>
              <a:gd name="adj" fmla="val 7355"/>
            </a:avLst>
          </a:prstGeom>
          <a:solidFill>
            <a:srgbClr val="ffcc99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ituciones Públicas que han utilizado Auto Evaluación, han sido fiscalizadas y notificadas electrónicamente con Firma Electrónica Avanzada (FE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462 OR han usado Auto Evaluación de 695 fiscalizadas. Penetración = 6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 (UN): 275 d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0 fiscaliz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etración = 7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 187 d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45 fiscaliz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etración = 54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7 CuadroTexto"/>
          <p:cNvSpPr/>
          <p:nvPr/>
        </p:nvSpPr>
        <p:spPr>
          <a:xfrm>
            <a:off x="285840" y="357120"/>
            <a:ext cx="741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Uso de Fiscalización TA con Auto Evaluación y Firma Electrónica Avanzada (F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BE90BA-35EA-4F19-8FA4-CAEEBAB812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4 Rectángulo redondeado"/>
          <p:cNvSpPr/>
          <p:nvPr/>
        </p:nvSpPr>
        <p:spPr>
          <a:xfrm>
            <a:off x="1475640" y="1917000"/>
            <a:ext cx="5904360" cy="244800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stema de Fiscalización en Transparencia A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75000">
              <a:srgbClr val="0087e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465402-A83A-46D1-A0DE-6FEB39645BA3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4 CuadroTexto"/>
          <p:cNvSpPr/>
          <p:nvPr/>
        </p:nvSpPr>
        <p:spPr>
          <a:xfrm>
            <a:off x="-36360" y="3102120"/>
            <a:ext cx="604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SCALIZ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4 CuadroTexto"/>
          <p:cNvSpPr/>
          <p:nvPr/>
        </p:nvSpPr>
        <p:spPr>
          <a:xfrm>
            <a:off x="2843640" y="4842360"/>
            <a:ext cx="557172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r">
              <a:lnSpc>
                <a:spcPct val="100000"/>
              </a:lnSpc>
            </a:pPr>
            <a:r>
              <a:rPr b="1" i="1" lang="es-CL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lgunos Resultad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Num" idx="4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D5885F-D207-4710-AD9C-703EC99AF843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815991243"/>
              </p:ext>
            </p:extLst>
          </p:nvPr>
        </p:nvGraphicFramePr>
        <p:xfrm>
          <a:off x="1835640" y="1124640"/>
          <a:ext cx="6095520" cy="403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539" name="Picture 4" descr="msoC7C70"/>
          <p:cNvPicPr/>
          <p:nvPr/>
        </p:nvPicPr>
        <p:blipFill>
          <a:blip r:embed="rId5"/>
          <a:stretch/>
        </p:blipFill>
        <p:spPr>
          <a:xfrm rot="21180000">
            <a:off x="467280" y="4437000"/>
            <a:ext cx="2975760" cy="2092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40" name="5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A5278-F249-4A11-AEA1-8CF8F4E61C5B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456395118"/>
              </p:ext>
            </p:extLst>
          </p:nvPr>
        </p:nvGraphicFramePr>
        <p:xfrm>
          <a:off x="323640" y="1700640"/>
          <a:ext cx="5616360" cy="244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42" name="3 Marcador de contenido"/>
          <p:cNvSpPr/>
          <p:nvPr/>
        </p:nvSpPr>
        <p:spPr>
          <a:xfrm>
            <a:off x="467640" y="1124640"/>
            <a:ext cx="82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44" name="10 Rectángulo"/>
          <p:cNvSpPr/>
          <p:nvPr/>
        </p:nvSpPr>
        <p:spPr>
          <a:xfrm>
            <a:off x="2483640" y="4797000"/>
            <a:ext cx="5143320" cy="1151640"/>
          </a:xfrm>
          <a:prstGeom prst="rect">
            <a:avLst/>
          </a:prstGeom>
          <a:noFill/>
          <a:ln w="0">
            <a:solidFill>
              <a:srgbClr val="92d05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1003">
            <a:schemeClr val="lt1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CL" sz="1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ARIACIÓN PUNTAJE 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+ 5,64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puntos</a:t>
            </a: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+ 1,42 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5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</a:t>
            </a: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(2da.2010 – 1era.2010)                      (2011 – 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8 Rectángulo"/>
          <p:cNvSpPr/>
          <p:nvPr/>
        </p:nvSpPr>
        <p:spPr>
          <a:xfrm>
            <a:off x="4644000" y="602136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: Dirección de Fiscalización, Consejo para la Transparenc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23 Grupo"/>
          <p:cNvGrpSpPr/>
          <p:nvPr/>
        </p:nvGrpSpPr>
        <p:grpSpPr>
          <a:xfrm>
            <a:off x="6737400" y="2451960"/>
            <a:ext cx="1854000" cy="455040"/>
            <a:chOff x="6737400" y="2451960"/>
            <a:chExt cx="1854000" cy="455040"/>
          </a:xfrm>
        </p:grpSpPr>
        <p:sp>
          <p:nvSpPr>
            <p:cNvPr id="547" name="33 Rectángulo"/>
            <p:cNvSpPr/>
            <p:nvPr/>
          </p:nvSpPr>
          <p:spPr>
            <a:xfrm>
              <a:off x="6737400" y="2451960"/>
              <a:ext cx="1854000" cy="455040"/>
            </a:xfrm>
            <a:prstGeom prst="rect">
              <a:avLst/>
            </a:prstGeom>
            <a:solidFill>
              <a:srgbClr val="21c5ff">
                <a:alpha val="90000"/>
              </a:srgbClr>
            </a:solidFill>
            <a:ln>
              <a:solidFill>
                <a:srgbClr val="e0ede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34 Rectángulo"/>
            <p:cNvSpPr/>
            <p:nvPr/>
          </p:nvSpPr>
          <p:spPr>
            <a:xfrm>
              <a:off x="7034040" y="2451960"/>
              <a:ext cx="1557360" cy="4550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71280" tIns="71280" bIns="7128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19/11/2011 – 14/12/201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24 Grupo"/>
          <p:cNvGrpSpPr/>
          <p:nvPr/>
        </p:nvGrpSpPr>
        <p:grpSpPr>
          <a:xfrm>
            <a:off x="6736680" y="2907720"/>
            <a:ext cx="1855440" cy="470160"/>
            <a:chOff x="6736680" y="2907720"/>
            <a:chExt cx="1855440" cy="470160"/>
          </a:xfrm>
        </p:grpSpPr>
        <p:sp>
          <p:nvSpPr>
            <p:cNvPr id="550" name="31 Rectángulo"/>
            <p:cNvSpPr/>
            <p:nvPr/>
          </p:nvSpPr>
          <p:spPr>
            <a:xfrm>
              <a:off x="6736680" y="2907720"/>
              <a:ext cx="1855440" cy="47016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32 Rectángulo"/>
            <p:cNvSpPr/>
            <p:nvPr/>
          </p:nvSpPr>
          <p:spPr>
            <a:xfrm>
              <a:off x="7033680" y="2907720"/>
              <a:ext cx="1558440" cy="470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128160" tIns="128160" bIns="12816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CL" sz="18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95,2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25 Grupo"/>
          <p:cNvGrpSpPr/>
          <p:nvPr/>
        </p:nvGrpSpPr>
        <p:grpSpPr>
          <a:xfrm>
            <a:off x="6724800" y="3378240"/>
            <a:ext cx="1879200" cy="394200"/>
            <a:chOff x="6724800" y="3378240"/>
            <a:chExt cx="1879200" cy="394200"/>
          </a:xfrm>
        </p:grpSpPr>
        <p:sp>
          <p:nvSpPr>
            <p:cNvPr id="553" name="29 Rectángulo"/>
            <p:cNvSpPr/>
            <p:nvPr/>
          </p:nvSpPr>
          <p:spPr>
            <a:xfrm>
              <a:off x="6724800" y="3378240"/>
              <a:ext cx="1879200" cy="3942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aedef"/>
              </a:solidFill>
              <a:round/>
            </a:ln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30 Rectángulo"/>
            <p:cNvSpPr/>
            <p:nvPr/>
          </p:nvSpPr>
          <p:spPr>
            <a:xfrm>
              <a:off x="7025400" y="3378240"/>
              <a:ext cx="1578600" cy="3942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56880" tIns="56880" bIns="5688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CL" sz="12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17,2%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s-CL" sz="8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(43  Organismos 100 punt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281"/>
                </a:spcAf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26 Grupo"/>
          <p:cNvGrpSpPr/>
          <p:nvPr/>
        </p:nvGrpSpPr>
        <p:grpSpPr>
          <a:xfrm>
            <a:off x="6093000" y="1917000"/>
            <a:ext cx="960480" cy="864000"/>
            <a:chOff x="6093000" y="1917000"/>
            <a:chExt cx="960480" cy="864000"/>
          </a:xfrm>
        </p:grpSpPr>
        <p:sp>
          <p:nvSpPr>
            <p:cNvPr id="556" name="27 Elipse"/>
            <p:cNvSpPr/>
            <p:nvPr/>
          </p:nvSpPr>
          <p:spPr>
            <a:xfrm>
              <a:off x="6093000" y="1917000"/>
              <a:ext cx="960480" cy="864000"/>
            </a:xfrm>
            <a:prstGeom prst="ellipse">
              <a:avLst/>
            </a:prstGeom>
            <a:solidFill>
              <a:srgbClr val="2950f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Elipse 10"/>
            <p:cNvSpPr/>
            <p:nvPr/>
          </p:nvSpPr>
          <p:spPr>
            <a:xfrm>
              <a:off x="6233760" y="2043360"/>
              <a:ext cx="678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CL" sz="18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2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Administración Central 201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7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7 Subtítulo"/>
          <p:cNvSpPr/>
          <p:nvPr/>
        </p:nvSpPr>
        <p:spPr>
          <a:xfrm>
            <a:off x="285840" y="285840"/>
            <a:ext cx="7857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9 Rectángulo redondeado"/>
          <p:cNvSpPr/>
          <p:nvPr/>
        </p:nvSpPr>
        <p:spPr>
          <a:xfrm>
            <a:off x="899640" y="1484640"/>
            <a:ext cx="511236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o de Fiscalización en Transparenci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0 Rectángulo redondeado"/>
          <p:cNvSpPr/>
          <p:nvPr/>
        </p:nvSpPr>
        <p:spPr>
          <a:xfrm>
            <a:off x="1691640" y="2853000"/>
            <a:ext cx="525636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rramienta de Fiscalización (Sistema) +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1 Rectángulo redondeado"/>
          <p:cNvSpPr/>
          <p:nvPr/>
        </p:nvSpPr>
        <p:spPr>
          <a:xfrm>
            <a:off x="2616480" y="4221000"/>
            <a:ext cx="526752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calizaciones – Algunos Resultados Ob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827640" y="1196640"/>
            <a:ext cx="6978600" cy="5137200"/>
          </a:xfrm>
          <a:prstGeom prst="rect">
            <a:avLst/>
          </a:prstGeom>
          <a:ln w="9525">
            <a:noFill/>
          </a:ln>
        </p:spPr>
      </p:pic>
      <p:sp>
        <p:nvSpPr>
          <p:cNvPr id="560" name="Rectangle 5"/>
          <p:cNvSpPr/>
          <p:nvPr/>
        </p:nvSpPr>
        <p:spPr>
          <a:xfrm>
            <a:off x="971640" y="6311520"/>
            <a:ext cx="2785680" cy="21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es-CL" sz="800" spc="-1" strike="noStrike">
                <a:solidFill>
                  <a:srgbClr val="000000"/>
                </a:solidFill>
                <a:latin typeface="Segoe UI"/>
                <a:ea typeface="Times New Roman"/>
              </a:rPr>
              <a:t>Fuente: Dirección de Fiscalización - CP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4 CuadroTexto"/>
          <p:cNvSpPr/>
          <p:nvPr/>
        </p:nvSpPr>
        <p:spPr>
          <a:xfrm>
            <a:off x="285840" y="357120"/>
            <a:ext cx="7416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2300" spc="-1" strike="noStrike">
                <a:solidFill>
                  <a:srgbClr val="0033cc"/>
                </a:solidFill>
                <a:latin typeface="Segoe UI"/>
                <a:ea typeface="ＭＳ Ｐゴシック"/>
              </a:rPr>
              <a:t>Variación puntajes 2011 v/s 2010 por ma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80C6F2-FB23-4F02-9109-D1B93E12DBBF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17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Fiscalización Municipa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11 Tabla"/>
          <p:cNvGraphicFramePr/>
          <p:nvPr/>
        </p:nvGraphicFramePr>
        <p:xfrm>
          <a:off x="344520" y="1571760"/>
          <a:ext cx="2715120" cy="3705120"/>
        </p:xfrm>
        <a:graphic>
          <a:graphicData uri="http://schemas.openxmlformats.org/drawingml/2006/table">
            <a:tbl>
              <a:tblPr/>
              <a:tblGrid>
                <a:gridCol w="1203120"/>
                <a:gridCol w="504000"/>
                <a:gridCol w="1008000"/>
              </a:tblGrid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Punta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N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Acumula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0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]0 - 1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10 - 2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20 - 3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30 - 4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40 - 5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50 - 6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60 - 7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70 -8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80 -9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90 – 100]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1 Gráfico"/>
          <p:cNvGraphicFramePr/>
          <p:nvPr/>
        </p:nvGraphicFramePr>
        <p:xfrm>
          <a:off x="2857320" y="1785960"/>
          <a:ext cx="5943240" cy="357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66" name="4 Tabla"/>
          <p:cNvGraphicFramePr/>
          <p:nvPr/>
        </p:nvGraphicFramePr>
        <p:xfrm>
          <a:off x="4212000" y="5373360"/>
          <a:ext cx="2160000" cy="1051920"/>
        </p:xfrm>
        <a:graphic>
          <a:graphicData uri="http://schemas.openxmlformats.org/drawingml/2006/table">
            <a:tbl>
              <a:tblPr>
                <a:effectLst>
                  <a:outerShdw dist="37674" dir="2700000" blurRad="50760" rotWithShape="0">
                    <a:srgbClr val="000000">
                      <a:alpha val="40000"/>
                    </a:srgbClr>
                  </a:outerShdw>
                </a:effectLst>
              </a:tblPr>
              <a:tblGrid>
                <a:gridCol w="2160000"/>
              </a:tblGrid>
              <a:tr h="52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CL" sz="2000" spc="-1" strike="noStrike">
                          <a:solidFill>
                            <a:srgbClr val="002060"/>
                          </a:solidFill>
                          <a:latin typeface="Segoe UI"/>
                          <a:ea typeface="ＭＳ Ｐゴシック"/>
                        </a:rPr>
                        <a:t>30,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2060"/>
                      </a:solidFill>
                    </a:lnL>
                    <a:lnR w="38160">
                      <a:solidFill>
                        <a:srgbClr val="002060"/>
                      </a:solidFill>
                    </a:lnR>
                    <a:lnT w="38160">
                      <a:solidFill>
                        <a:srgbClr val="002060"/>
                      </a:solidFill>
                    </a:lnT>
                    <a:lnB w="3816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CL" sz="105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Puntaje Promedio</a:t>
                      </a:r>
                      <a:endParaRPr b="0" lang="en-US" sz="10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s-CL" sz="8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(345 municipios fiscalizados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2060"/>
                      </a:solidFill>
                    </a:lnL>
                    <a:lnR w="38160">
                      <a:solidFill>
                        <a:srgbClr val="002060"/>
                      </a:solidFill>
                    </a:lnR>
                    <a:lnT w="38160">
                      <a:noFill/>
                    </a:lnT>
                    <a:lnB w="38160">
                      <a:solidFill>
                        <a:srgbClr val="002060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14 CuadroTexto"/>
          <p:cNvSpPr/>
          <p:nvPr/>
        </p:nvSpPr>
        <p:spPr>
          <a:xfrm>
            <a:off x="1076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2060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Fiscalización Municipal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2 Gráfico"/>
          <p:cNvGraphicFramePr/>
          <p:nvPr/>
        </p:nvGraphicFramePr>
        <p:xfrm>
          <a:off x="357120" y="1214280"/>
          <a:ext cx="4745880" cy="4876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69" name="3 CuadroTexto"/>
          <p:cNvSpPr/>
          <p:nvPr/>
        </p:nvSpPr>
        <p:spPr>
          <a:xfrm>
            <a:off x="5292000" y="2521080"/>
            <a:ext cx="35928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Link inexistentes o no op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desactu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incompl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no estandar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Num" idx="47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8CCF19-3044-42F8-BC18-E22C902B0509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396138550"/>
              </p:ext>
            </p:extLst>
          </p:nvPr>
        </p:nvGraphicFramePr>
        <p:xfrm>
          <a:off x="323640" y="1700640"/>
          <a:ext cx="5616360" cy="244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71" name="3 Marcador de contenido"/>
          <p:cNvSpPr/>
          <p:nvPr/>
        </p:nvSpPr>
        <p:spPr>
          <a:xfrm>
            <a:off x="467640" y="1124640"/>
            <a:ext cx="82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9 CuadroTexto"/>
          <p:cNvSpPr/>
          <p:nvPr/>
        </p:nvSpPr>
        <p:spPr>
          <a:xfrm>
            <a:off x="1076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000" spc="-1" strike="noStrike">
                <a:solidFill>
                  <a:srgbClr val="0000ff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untajes promedio Uni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74" name="10 Rectángulo"/>
          <p:cNvSpPr/>
          <p:nvPr/>
        </p:nvSpPr>
        <p:spPr>
          <a:xfrm>
            <a:off x="2483640" y="4797000"/>
            <a:ext cx="5143320" cy="1151640"/>
          </a:xfrm>
          <a:prstGeom prst="rect">
            <a:avLst/>
          </a:prstGeom>
          <a:noFill/>
          <a:ln w="0">
            <a:solidFill>
              <a:srgbClr val="92d05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1003">
            <a:schemeClr val="lt1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CL" sz="1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ARIACIÓN PUNTAJE 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+ 56,10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puntos</a:t>
            </a: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+ 1,39 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5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</a:t>
            </a: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(Ago.2011 – Dic.2011)                      (Dic.2011 – Abr.20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8 Rectángulo"/>
          <p:cNvSpPr/>
          <p:nvPr/>
        </p:nvSpPr>
        <p:spPr>
          <a:xfrm>
            <a:off x="4644000" y="602136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: Dirección de Fiscalización, Consejo para la Transparenc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23 Grupo"/>
          <p:cNvGrpSpPr/>
          <p:nvPr/>
        </p:nvGrpSpPr>
        <p:grpSpPr>
          <a:xfrm>
            <a:off x="6737400" y="2451960"/>
            <a:ext cx="1854000" cy="455040"/>
            <a:chOff x="6737400" y="2451960"/>
            <a:chExt cx="1854000" cy="455040"/>
          </a:xfrm>
        </p:grpSpPr>
        <p:sp>
          <p:nvSpPr>
            <p:cNvPr id="577" name="33 Rectángulo"/>
            <p:cNvSpPr/>
            <p:nvPr/>
          </p:nvSpPr>
          <p:spPr>
            <a:xfrm>
              <a:off x="6737400" y="2451960"/>
              <a:ext cx="1854000" cy="455040"/>
            </a:xfrm>
            <a:prstGeom prst="rect">
              <a:avLst/>
            </a:prstGeom>
            <a:solidFill>
              <a:srgbClr val="21c5ff">
                <a:alpha val="90000"/>
              </a:srgbClr>
            </a:solidFill>
            <a:ln>
              <a:solidFill>
                <a:srgbClr val="e0ede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34 Rectángulo"/>
            <p:cNvSpPr/>
            <p:nvPr/>
          </p:nvSpPr>
          <p:spPr>
            <a:xfrm>
              <a:off x="7034040" y="2451960"/>
              <a:ext cx="1557360" cy="4550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349"/>
                </a:spcAft>
              </a:pPr>
              <a:r>
                <a:rPr b="1" lang="es-CL" sz="1000" spc="-1" strike="noStrike">
                  <a:solidFill>
                    <a:srgbClr val="002060"/>
                  </a:solidFill>
                  <a:latin typeface="Calibri"/>
                  <a:ea typeface="ＭＳ Ｐゴシック"/>
                </a:rPr>
                <a:t>17/05/2012 – 24/05/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24 Grupo"/>
          <p:cNvGrpSpPr/>
          <p:nvPr/>
        </p:nvGrpSpPr>
        <p:grpSpPr>
          <a:xfrm>
            <a:off x="6736680" y="2907720"/>
            <a:ext cx="1855440" cy="470160"/>
            <a:chOff x="6736680" y="2907720"/>
            <a:chExt cx="1855440" cy="470160"/>
          </a:xfrm>
        </p:grpSpPr>
        <p:sp>
          <p:nvSpPr>
            <p:cNvPr id="580" name="31 Rectángulo"/>
            <p:cNvSpPr/>
            <p:nvPr/>
          </p:nvSpPr>
          <p:spPr>
            <a:xfrm>
              <a:off x="6736680" y="2907720"/>
              <a:ext cx="1855440" cy="47016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32 Rectángulo"/>
            <p:cNvSpPr/>
            <p:nvPr/>
          </p:nvSpPr>
          <p:spPr>
            <a:xfrm>
              <a:off x="7033680" y="2907720"/>
              <a:ext cx="1558440" cy="470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128160" tIns="128160" bIns="12816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0" lang="es-CL" sz="1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77,9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25 Grupo"/>
          <p:cNvGrpSpPr/>
          <p:nvPr/>
        </p:nvGrpSpPr>
        <p:grpSpPr>
          <a:xfrm>
            <a:off x="6724800" y="3378240"/>
            <a:ext cx="1879200" cy="394200"/>
            <a:chOff x="6724800" y="3378240"/>
            <a:chExt cx="1879200" cy="394200"/>
          </a:xfrm>
        </p:grpSpPr>
        <p:sp>
          <p:nvSpPr>
            <p:cNvPr id="583" name="29 Rectángulo"/>
            <p:cNvSpPr/>
            <p:nvPr/>
          </p:nvSpPr>
          <p:spPr>
            <a:xfrm>
              <a:off x="6724800" y="3378240"/>
              <a:ext cx="1879200" cy="3942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aedef"/>
              </a:solidFill>
              <a:round/>
            </a:ln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30 Rectángulo"/>
            <p:cNvSpPr/>
            <p:nvPr/>
          </p:nvSpPr>
          <p:spPr>
            <a:xfrm>
              <a:off x="7025400" y="3378240"/>
              <a:ext cx="1578600" cy="3942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56880" tIns="56880" bIns="56880" anchor="ctr">
              <a:noAutofit/>
            </a:bodyPr>
            <a:p>
              <a:pPr algn="ctr">
                <a:lnSpc>
                  <a:spcPct val="90000"/>
                </a:lnSpc>
                <a:spcAft>
                  <a:spcPts val="281"/>
                </a:spcAft>
              </a:pPr>
              <a:r>
                <a:rPr b="0" i="1" lang="es-CL" sz="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(0  Organismos 100 punt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26 Grupo"/>
          <p:cNvGrpSpPr/>
          <p:nvPr/>
        </p:nvGrpSpPr>
        <p:grpSpPr>
          <a:xfrm>
            <a:off x="6093000" y="1917000"/>
            <a:ext cx="960480" cy="864000"/>
            <a:chOff x="6093000" y="1917000"/>
            <a:chExt cx="960480" cy="864000"/>
          </a:xfrm>
        </p:grpSpPr>
        <p:sp>
          <p:nvSpPr>
            <p:cNvPr id="586" name="27 Elipse"/>
            <p:cNvSpPr/>
            <p:nvPr/>
          </p:nvSpPr>
          <p:spPr>
            <a:xfrm>
              <a:off x="6093000" y="1917000"/>
              <a:ext cx="960480" cy="864000"/>
            </a:xfrm>
            <a:prstGeom prst="ellipse">
              <a:avLst/>
            </a:prstGeom>
            <a:solidFill>
              <a:srgbClr val="2950f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Elipse 10"/>
            <p:cNvSpPr/>
            <p:nvPr/>
          </p:nvSpPr>
          <p:spPr>
            <a:xfrm>
              <a:off x="6233760" y="2043360"/>
              <a:ext cx="678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CL" sz="18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Ab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es-CL" sz="11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20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F71184C-86D5-44EA-8B8B-725D27A52640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3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2060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Comparación de se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rcRect l="0" t="0" r="0" b="3453"/>
          <a:stretch/>
        </p:blipFill>
        <p:spPr>
          <a:xfrm>
            <a:off x="1605960" y="1124640"/>
            <a:ext cx="5537520" cy="5400360"/>
          </a:xfrm>
          <a:prstGeom prst="rect">
            <a:avLst/>
          </a:prstGeom>
          <a:ln w="0">
            <a:solidFill>
              <a:srgbClr val="bbe0e3">
                <a:lumMod val="75000"/>
              </a:srgbClr>
            </a:solidFill>
          </a:ln>
        </p:spPr>
      </p:pic>
      <p:sp>
        <p:nvSpPr>
          <p:cNvPr id="591" name="4 CuadroTexto"/>
          <p:cNvSpPr/>
          <p:nvPr/>
        </p:nvSpPr>
        <p:spPr>
          <a:xfrm>
            <a:off x="228600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95,24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343800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77,7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451836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30,2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567036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76,54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1A54976-2885-472E-B5E2-B9EF7A04E14E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2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395640" y="1346040"/>
            <a:ext cx="84967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CIONES A NIVEL MINIS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LIGATORIEDAD DEL USO  MENSUAL HERRAMIENTA AUTO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PLIMIENTOS EN ÍTEM CON ALTA  IMPORTANCIA CIUDADAN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UBSIDIO Y BENEFI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ÑO DE MODELOS DE GESTIÓN (S. SALUD ATACAM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CI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IZACIÓN DE EN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DE SUM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ÓN DE INSTANCIAS DE CONTROL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800280" y="1214280"/>
            <a:ext cx="7772040" cy="21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icio A102 N°813, 09/03/2012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e de Gabinete Ministro de Salud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ye: a todas las Direcciones de Salud, Seremi y Hospitale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4 Rectángulo"/>
          <p:cNvSpPr/>
          <p:nvPr/>
        </p:nvSpPr>
        <p:spPr>
          <a:xfrm>
            <a:off x="1571760" y="3443040"/>
            <a:ext cx="6000480" cy="118692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ción mensual de autoevaluación con herram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NET del Consejo para la Transparencia, por los equipos de transparencia de las instituciones de Salud d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5 Rectángulo"/>
          <p:cNvSpPr/>
          <p:nvPr/>
        </p:nvSpPr>
        <p:spPr>
          <a:xfrm>
            <a:off x="1357200" y="4842360"/>
            <a:ext cx="6214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informes deben ser dirigidos a Ia Sra. Sara Martínez Medina Jefa del Dpto. de Atención al Usuario y por correo electrónico a la Unidad de Transparencia a los Sres. Álvaro Passi coordinador de la unidad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apassi@minsal.cl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Juan Pablo Galaz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pgalaz@minsal.cl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cargado d transparencia activa. entre los días 10 al 15 hábil de cada 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6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3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323640" y="982440"/>
            <a:ext cx="69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Uso de Herramienta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5 Tabla"/>
          <p:cNvGraphicFramePr/>
          <p:nvPr/>
        </p:nvGraphicFramePr>
        <p:xfrm>
          <a:off x="539640" y="2198880"/>
          <a:ext cx="7448040" cy="4311000"/>
        </p:xfrm>
        <a:graphic>
          <a:graphicData uri="http://schemas.openxmlformats.org/drawingml/2006/table">
            <a:tbl>
              <a:tblPr/>
              <a:tblGrid>
                <a:gridCol w="2148840"/>
                <a:gridCol w="561600"/>
                <a:gridCol w="457200"/>
                <a:gridCol w="576000"/>
                <a:gridCol w="432000"/>
                <a:gridCol w="504000"/>
                <a:gridCol w="441360"/>
                <a:gridCol w="338400"/>
                <a:gridCol w="97200"/>
                <a:gridCol w="97200"/>
                <a:gridCol w="262080"/>
                <a:gridCol w="191160"/>
                <a:gridCol w="97200"/>
                <a:gridCol w="97200"/>
                <a:gridCol w="97200"/>
                <a:gridCol w="288720"/>
                <a:gridCol w="64440"/>
                <a:gridCol w="104040"/>
                <a:gridCol w="97200"/>
                <a:gridCol w="387000"/>
                <a:gridCol w="104040"/>
              </a:tblGrid>
              <a:tr h="224640">
                <a:tc gridSpan="1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cesos finalizados de AutoEvaluación de Transparencia Ac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 rowSpan="2">
                  <a:txBody>
                    <a:bodyPr lIns="39240" rIns="392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io del formul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del formul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s-ES" sz="1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05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Var. Sept - Enero</a:t>
                      </a:r>
                      <a:endParaRPr b="0" lang="en-US" sz="10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IOS DE SALUD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BIERNOS REGION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DENCIA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BERNACIONES PROVINCI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U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32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5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1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EDIO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5" name="Rectangle 2"/>
          <p:cNvSpPr/>
          <p:nvPr/>
        </p:nvSpPr>
        <p:spPr>
          <a:xfrm>
            <a:off x="395640" y="1558440"/>
            <a:ext cx="5616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Trabajo sectorial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(184 organis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3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"/>
          <p:cNvSpPr/>
          <p:nvPr/>
        </p:nvSpPr>
        <p:spPr>
          <a:xfrm>
            <a:off x="323640" y="982440"/>
            <a:ext cx="69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Uso de Herramienta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395640" y="1558440"/>
            <a:ext cx="5616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unicipi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345 municip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6 Tabla"/>
          <p:cNvGraphicFramePr/>
          <p:nvPr/>
        </p:nvGraphicFramePr>
        <p:xfrm>
          <a:off x="395640" y="2205000"/>
          <a:ext cx="6881040" cy="1484640"/>
        </p:xfrm>
        <a:graphic>
          <a:graphicData uri="http://schemas.openxmlformats.org/drawingml/2006/table">
            <a:tbl>
              <a:tblPr/>
              <a:tblGrid>
                <a:gridCol w="1538640"/>
                <a:gridCol w="390960"/>
                <a:gridCol w="390960"/>
                <a:gridCol w="390960"/>
                <a:gridCol w="395280"/>
                <a:gridCol w="401760"/>
                <a:gridCol w="468360"/>
                <a:gridCol w="422640"/>
                <a:gridCol w="422640"/>
                <a:gridCol w="576000"/>
                <a:gridCol w="113040"/>
                <a:gridCol w="1368720"/>
              </a:tblGrid>
              <a:tr h="7423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io del formul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del formul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120" marR="421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Var. Sept - Ene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4232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3 CuadroTexto"/>
          <p:cNvSpPr/>
          <p:nvPr/>
        </p:nvSpPr>
        <p:spPr>
          <a:xfrm>
            <a:off x="285840" y="5760"/>
            <a:ext cx="741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Comparativo de cumplimiento según uso de Auto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413959405"/>
              </p:ext>
            </p:extLst>
          </p:nvPr>
        </p:nvGraphicFramePr>
        <p:xfrm>
          <a:off x="0" y="950400"/>
          <a:ext cx="9023400" cy="532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611" name="7 Rectángulo redondeado"/>
          <p:cNvSpPr/>
          <p:nvPr/>
        </p:nvSpPr>
        <p:spPr>
          <a:xfrm>
            <a:off x="380880" y="4707360"/>
            <a:ext cx="161676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10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6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8 Rectángulo redondeado"/>
          <p:cNvSpPr/>
          <p:nvPr/>
        </p:nvSpPr>
        <p:spPr>
          <a:xfrm>
            <a:off x="2604600" y="3776040"/>
            <a:ext cx="159120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05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22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9 Rectángulo redondeado"/>
          <p:cNvSpPr/>
          <p:nvPr/>
        </p:nvSpPr>
        <p:spPr>
          <a:xfrm>
            <a:off x="2590560" y="5943600"/>
            <a:ext cx="159984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10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4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0 Flecha derecha"/>
          <p:cNvSpPr/>
          <p:nvPr/>
        </p:nvSpPr>
        <p:spPr>
          <a:xfrm rot="16200000">
            <a:off x="5914080" y="4690800"/>
            <a:ext cx="346680" cy="253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5" name="11 Rectángulo"/>
          <p:cNvSpPr/>
          <p:nvPr/>
        </p:nvSpPr>
        <p:spPr>
          <a:xfrm>
            <a:off x="2328480" y="2218320"/>
            <a:ext cx="6561360" cy="1794600"/>
          </a:xfrm>
          <a:prstGeom prst="rect">
            <a:avLst/>
          </a:prstGeom>
          <a:noFill/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6" name="12 Rectángulo redondeado"/>
          <p:cNvSpPr/>
          <p:nvPr/>
        </p:nvSpPr>
        <p:spPr>
          <a:xfrm>
            <a:off x="5367960" y="4004640"/>
            <a:ext cx="3521880" cy="21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stituciones que </a:t>
            </a:r>
            <a:r>
              <a:rPr b="1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 HAN </a:t>
            </a: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sado Auto 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3 Rectángulo"/>
          <p:cNvSpPr/>
          <p:nvPr/>
        </p:nvSpPr>
        <p:spPr>
          <a:xfrm>
            <a:off x="2328480" y="4309560"/>
            <a:ext cx="6561360" cy="1913040"/>
          </a:xfrm>
          <a:prstGeom prst="rect">
            <a:avLst/>
          </a:prstGeom>
          <a:noFill/>
          <a:ln>
            <a:solidFill>
              <a:srgbClr val="00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8" name="14 Rectángulo redondeado"/>
          <p:cNvSpPr/>
          <p:nvPr/>
        </p:nvSpPr>
        <p:spPr>
          <a:xfrm>
            <a:off x="5435640" y="6222960"/>
            <a:ext cx="3445560" cy="2293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stituciones que </a:t>
            </a:r>
            <a:r>
              <a:rPr b="1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I HAN </a:t>
            </a: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sado Auto Evalu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15 Rectángulo"/>
          <p:cNvSpPr/>
          <p:nvPr/>
        </p:nvSpPr>
        <p:spPr>
          <a:xfrm>
            <a:off x="1210680" y="6390720"/>
            <a:ext cx="183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Univers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6 Rectángulo"/>
          <p:cNvSpPr/>
          <p:nvPr/>
        </p:nvSpPr>
        <p:spPr>
          <a:xfrm>
            <a:off x="1210320" y="6608520"/>
            <a:ext cx="691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*)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antidad total de fiscalizaciones con % de cumplimiento. No necesariamente han sido notific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7857720" cy="406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Transparencia Activa (Artículo N°7,  Ley 20.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571680" y="1136520"/>
            <a:ext cx="73576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a Transparencia activa es la oblig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que impone la Ley de Transparencia a los 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ganos y servicios de la Administr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del Estado de mantener publicada a disposi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permanente de las personas cierta inform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referente a la organiz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, personal, funcionamiento y servicios que pres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5 Rectángulo"/>
          <p:cNvSpPr/>
          <p:nvPr/>
        </p:nvSpPr>
        <p:spPr>
          <a:xfrm>
            <a:off x="609480" y="2666880"/>
            <a:ext cx="75006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os 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ganos de la Administr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del Estado deber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tener en sus sitios Web un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anner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e Gobierno Transpa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Banner no animado"/>
          <p:cNvPicPr/>
          <p:nvPr/>
        </p:nvPicPr>
        <p:blipFill>
          <a:blip r:embed="rId1"/>
          <a:stretch/>
        </p:blipFill>
        <p:spPr>
          <a:xfrm>
            <a:off x="1643040" y="4214880"/>
            <a:ext cx="2285640" cy="571320"/>
          </a:xfrm>
          <a:prstGeom prst="rect">
            <a:avLst/>
          </a:prstGeom>
          <a:ln w="9525">
            <a:noFill/>
          </a:ln>
        </p:spPr>
      </p:pic>
      <p:pic>
        <p:nvPicPr>
          <p:cNvPr id="426" name="Picture 4" descr="Transparencia Municip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4203720"/>
            <a:ext cx="1747440" cy="582120"/>
          </a:xfrm>
          <a:prstGeom prst="rect">
            <a:avLst/>
          </a:prstGeom>
          <a:ln w="9525">
            <a:noFill/>
          </a:ln>
        </p:spPr>
      </p:pic>
      <p:sp>
        <p:nvSpPr>
          <p:cNvPr id="427" name="7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2 Rectángulo"/>
          <p:cNvSpPr/>
          <p:nvPr/>
        </p:nvSpPr>
        <p:spPr>
          <a:xfrm>
            <a:off x="2214720" y="2588040"/>
            <a:ext cx="48574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s-CL" sz="4400" spc="-1" strike="noStrike">
                <a:solidFill>
                  <a:srgbClr val="0000cc"/>
                </a:solidFill>
                <a:latin typeface="Verdana"/>
                <a:ea typeface="ＭＳ Ｐゴシック"/>
              </a:rPr>
              <a:t>La No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3362040" cy="1266480"/>
          </a:xfrm>
          <a:prstGeom prst="rect">
            <a:avLst/>
          </a:prstGeom>
          <a:ln w="9525">
            <a:solidFill>
              <a:srgbClr val="00b0f0"/>
            </a:solidFill>
            <a:miter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785840" cy="167760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pic>
        <p:nvPicPr>
          <p:cNvPr id="625" name="Picture 5" descr=""/>
          <p:cNvPicPr/>
          <p:nvPr/>
        </p:nvPicPr>
        <p:blipFill>
          <a:blip r:embed="rId3"/>
          <a:stretch/>
        </p:blipFill>
        <p:spPr>
          <a:xfrm>
            <a:off x="736560" y="2714760"/>
            <a:ext cx="2692080" cy="339048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pic>
        <p:nvPicPr>
          <p:cNvPr id="626" name="Picture 7" descr=""/>
          <p:cNvPicPr/>
          <p:nvPr/>
        </p:nvPicPr>
        <p:blipFill>
          <a:blip r:embed="rId4"/>
          <a:stretch/>
        </p:blipFill>
        <p:spPr>
          <a:xfrm>
            <a:off x="4343400" y="1143000"/>
            <a:ext cx="3943080" cy="182520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428840" y="1214280"/>
            <a:ext cx="6324120" cy="495252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cxnSp>
        <p:nvCxnSpPr>
          <p:cNvPr id="628" name="3 Conector recto"/>
          <p:cNvCxnSpPr/>
          <p:nvPr/>
        </p:nvCxnSpPr>
        <p:spPr>
          <a:xfrm>
            <a:off x="4857480" y="1927080"/>
            <a:ext cx="1572120" cy="1800"/>
          </a:xfrm>
          <a:prstGeom prst="straightConnector1">
            <a:avLst/>
          </a:prstGeom>
          <a:ln w="15875">
            <a:solidFill>
              <a:srgbClr val="ff0000"/>
            </a:solidFill>
            <a:round/>
          </a:ln>
        </p:spPr>
      </p:cxnSp>
      <p:sp>
        <p:nvSpPr>
          <p:cNvPr id="629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857400" cy="298584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sp>
        <p:nvSpPr>
          <p:cNvPr id="631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2"/>
          <a:stretch/>
        </p:blipFill>
        <p:spPr>
          <a:xfrm>
            <a:off x="4500720" y="928800"/>
            <a:ext cx="4149360" cy="3357360"/>
          </a:xfrm>
          <a:prstGeom prst="rect">
            <a:avLst/>
          </a:prstGeom>
          <a:ln w="9525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3"/>
          <a:stretch/>
        </p:blipFill>
        <p:spPr>
          <a:xfrm>
            <a:off x="714240" y="4054320"/>
            <a:ext cx="3557160" cy="2517840"/>
          </a:xfrm>
          <a:prstGeom prst="rect">
            <a:avLst/>
          </a:prstGeom>
          <a:ln w="9525">
            <a:solidFill>
              <a:srgbClr val="000000">
                <a:lumMod val="50000"/>
                <a:lumOff val="50000"/>
              </a:srgbClr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824040" y="916920"/>
            <a:ext cx="7495920" cy="5248080"/>
          </a:xfrm>
          <a:prstGeom prst="rect">
            <a:avLst/>
          </a:prstGeom>
          <a:ln w="9525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213120" y="357120"/>
            <a:ext cx="781488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Num" idx="5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F78CA-2650-4C08-80F8-A16CB3AE98E8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13120" y="357120"/>
            <a:ext cx="781488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827640" y="1052640"/>
            <a:ext cx="7603560" cy="499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81800F-F03D-4491-AE0D-37B4F3947510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8211829"/>
              </p:ext>
            </p:extLst>
          </p:nvPr>
        </p:nvGraphicFramePr>
        <p:xfrm>
          <a:off x="142920" y="1052640"/>
          <a:ext cx="8857800" cy="530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9" name="5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Fiscalización Transparencia A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1 CuadroTexto"/>
          <p:cNvSpPr/>
          <p:nvPr/>
        </p:nvSpPr>
        <p:spPr>
          <a:xfrm>
            <a:off x="1979640" y="2266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2 CuadroTexto"/>
          <p:cNvSpPr/>
          <p:nvPr/>
        </p:nvSpPr>
        <p:spPr>
          <a:xfrm>
            <a:off x="5364000" y="22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3 CuadroTexto"/>
          <p:cNvSpPr/>
          <p:nvPr/>
        </p:nvSpPr>
        <p:spPr>
          <a:xfrm>
            <a:off x="539640" y="5300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4 CuadroTexto"/>
          <p:cNvSpPr/>
          <p:nvPr/>
        </p:nvSpPr>
        <p:spPr>
          <a:xfrm>
            <a:off x="3348000" y="50846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compañamiento Institu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5 CuadroTexto"/>
          <p:cNvSpPr/>
          <p:nvPr/>
        </p:nvSpPr>
        <p:spPr>
          <a:xfrm>
            <a:off x="6300720" y="515772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compañamiento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357120" y="357120"/>
            <a:ext cx="645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ONDE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2 Tabla"/>
          <p:cNvGraphicFramePr/>
          <p:nvPr/>
        </p:nvGraphicFramePr>
        <p:xfrm>
          <a:off x="571680" y="1071720"/>
          <a:ext cx="8143560" cy="5294880"/>
        </p:xfrm>
        <a:graphic>
          <a:graphicData uri="http://schemas.openxmlformats.org/drawingml/2006/table">
            <a:tbl>
              <a:tblPr/>
              <a:tblGrid>
                <a:gridCol w="1180440"/>
                <a:gridCol w="408240"/>
                <a:gridCol w="4911480"/>
                <a:gridCol w="824760"/>
                <a:gridCol w="817920"/>
              </a:tblGrid>
              <a:tr h="523440"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ar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ntos del Instru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derador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ción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pectos Gene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anner visible y operativo, Actualización, Acceso formulario de solicitudes, Lista de archivos reservados, Costos de Reproducción, Restricciones de Uso, et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 rowSpan="3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os y decisiones del organis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os y documentos del organismo que hayan sido objeto de publicación en el diario ofi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actos y resoluciones que tengan efectos sobre terc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os que afectan PYM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rowSpan="3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ganización Intern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potestades, competencias, responsabilidades, funciones, atribuciones y/o tareas del organismo respectivo, y el marco normativo que le sea aplicable, el que comprenderá las leyes, reglamentos, instrucciones y resoluciones que las establezcan, incluidas las referidas a su organización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3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estructura orgánica del organismo y las facultades, funciones y atribuciones de cada una de las unidades u órganos inter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as las entidades en que tengan participación, representación e intervención, cualquiera sea su naturaleza y el fundamento normativo que la justif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34596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y Remuner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 personal de planta, a contrata y el que se desempeñe en virtud de un contrato de trabajo, y las personas naturales contratadas a honorarios, con las correspondientes remuneracio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ras y Licit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contrataciones para el suministro de bienes muebles, para la prestación de servicios, para la ejecución de acciones de apoyo y para la ejecución de obras, y las contrataciones de estudios, asesorías y consultorías relacionadas con proyectos de inversión, con indicación de los contratistas e identificación de los socios y accionistas principales de las sociedades o empresas prestadoras, en su cas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sidios y Transfer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transferencias de fondos públicos que efectúen, incluyendo todo aporte económico entregado a personas jurídicas o naturales, directamente o mediante procedimientos concursales, sin que éstas o aquéllas realicen una contraprestación recíproca en bienes o servicio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 diseño, montos asignados y criterio de acceso a los programas de subsidios y otros beneficios que entregue el respectivo órgano, además de las nóminas de beneficiarios de los programas sociales en ejecu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34596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supuesto y auditor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información sobre el presupuesto asignado, así como los informes sobre su ejecución, en los términos previstos en la respectiva Ley de Presupuestos de cada añ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resultados de las auditorías al ejercicio presupuestario del respectivo órgano y, en su caso, las aclaraciones que proced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2212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lación con la Ciudadan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trámites y requisitos que debe cumplir el interesado para tener acceso a los servicios que preste el respectivo órgan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mecanismos de participación ciudad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61360-7BB3-403B-BBF5-1DAF27C8A007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5000">
              <a:srgbClr val="0070c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11 CuadroTexto"/>
          <p:cNvSpPr/>
          <p:nvPr/>
        </p:nvSpPr>
        <p:spPr>
          <a:xfrm>
            <a:off x="646920" y="3929040"/>
            <a:ext cx="8496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6000" spc="-151" strike="noStrike">
                <a:solidFill>
                  <a:srgbClr val="ffffff"/>
                </a:solidFill>
                <a:latin typeface="Century Gothic"/>
              </a:rPr>
              <a:t>Herramienta de Fiscaliz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41920" y="1052640"/>
            <a:ext cx="8578080" cy="510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enmarca dentro de los roles de Fiscalización (componente de Fiscalización) y de Promoción (componente de Auto Evaluación) del CPLT. Sus objetivos son: 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ta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as instituciones públicas de una herramienta para evaluar su cumplimiento según las exigencias que establece la Ley de Transparencia, de acuerdo a un model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acompañamiento y mejora continu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De esta manera, se les entrega la pauta de Fiscalización (Componente de Auto Evaluación), para su uso no vinculante, y luego se les Fiscaliza (Componente de Fiscalización) con la misma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r la Visión Ciudadan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través del uso de ponderadores (cada una de las secciones de TA tiene una ponderación) de cumplimiento basados en esta dimensión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menta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uso regular de la Auto Evaluación, apuntando a la mejora continua de las instituciones, a través de programas de capacitación a nivel nacion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ompaña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s instituciones, en el desarrollo de la cultura de la Transparencia institucion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ilitar la Fiscalización de las Instituciones Pública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CPLT, de acuerdo al instrumento de fiscalización, entregando  informes de fiscalización automatizados y despachados con firma electrónica avanzada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ve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l uso de documentos firmados electrónicamente, catalogados y de carácter ofici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as facultades institucionales d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ción (Auto Evaluación) y Sanción (Fiscalización)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33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D9E402-5CDF-4C64-8B8E-16EEA4F8D5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2 Grupo"/>
          <p:cNvGrpSpPr/>
          <p:nvPr/>
        </p:nvGrpSpPr>
        <p:grpSpPr>
          <a:xfrm>
            <a:off x="1677960" y="5400360"/>
            <a:ext cx="6317280" cy="980640"/>
            <a:chOff x="1677960" y="5400360"/>
            <a:chExt cx="6317280" cy="980640"/>
          </a:xfrm>
        </p:grpSpPr>
        <p:pic>
          <p:nvPicPr>
            <p:cNvPr id="442" name="Picture 2" descr="C:\Users\egonzalez\AppData\Local\Microsoft\Windows\Temporary Internet Files\Low\Content.IE5\Q1ENH3QE\zanahoria-23218[1].jpg"/>
            <p:cNvPicPr/>
            <p:nvPr/>
          </p:nvPicPr>
          <p:blipFill>
            <a:blip r:embed="rId1"/>
            <a:stretch/>
          </p:blipFill>
          <p:spPr>
            <a:xfrm>
              <a:off x="1677960" y="5400360"/>
              <a:ext cx="69408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" descr=""/>
            <p:cNvPicPr/>
            <p:nvPr/>
          </p:nvPicPr>
          <p:blipFill>
            <a:blip r:embed="rId2"/>
            <a:stretch/>
          </p:blipFill>
          <p:spPr>
            <a:xfrm>
              <a:off x="2734560" y="5531040"/>
              <a:ext cx="763560" cy="7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1 CuadroTexto"/>
            <p:cNvSpPr/>
            <p:nvPr/>
          </p:nvSpPr>
          <p:spPr>
            <a:xfrm>
              <a:off x="2323440" y="5540400"/>
              <a:ext cx="418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8 CuadroTexto"/>
            <p:cNvSpPr/>
            <p:nvPr/>
          </p:nvSpPr>
          <p:spPr>
            <a:xfrm>
              <a:off x="3728880" y="5538960"/>
              <a:ext cx="418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9 CuadroTexto"/>
            <p:cNvSpPr/>
            <p:nvPr/>
          </p:nvSpPr>
          <p:spPr>
            <a:xfrm>
              <a:off x="4426200" y="5658120"/>
              <a:ext cx="3569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stema de Fiscalización 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Objetivos de la herramienta (Siste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Num" idx="34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10793-A165-486B-8D82-F830C2304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La primera herramienta de Fiscalización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791640" y="913680"/>
            <a:ext cx="756072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Num" idx="35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A4BCAD-CAE2-47AE-A9A2-18EF4F57BB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La primera herramienta de Fiscalización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331640" y="1088640"/>
            <a:ext cx="6105240" cy="54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Tema de Office">
  <a:themeElements>
    <a:clrScheme name="cplt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1_Tema de Office">
  <a:themeElements>
    <a:clrScheme name="cplt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  <Words>2520</Words>
  <Paragraphs>5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5:21:37Z</dcterms:created>
  <dc:creator>mgodoy</dc:creator>
  <dc:description/>
  <dc:language>en-US</dc:language>
  <cp:lastModifiedBy> </cp:lastModifiedBy>
  <dcterms:modified xsi:type="dcterms:W3CDTF">2012-11-28T16:01:02Z</dcterms:modified>
  <cp:revision>7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36</vt:r8>
  </property>
</Properties>
</file>