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24F4-83E9-4EAB-A525-015FFFFFB300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67B6-B400-4181-9D50-4E6068D7704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A156-2042-460B-B100-41DFA17650C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8B0A-78B9-4FA2-A14B-4D2B0FDD79F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11BB-4522-41A8-B680-951B00E0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F4AE-5470-410D-B4CF-A6ADA3A7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DA19-8956-46C1-8DAB-875F65A8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6A0A-9F48-4D32-BA18-9C863EAC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6E2B-0BAE-4745-A2FE-E227FD14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9531-40BB-4D66-9119-74472BEC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75DA-08D1-46A9-B8FA-A2BCAB18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B2F9-DB64-4BEB-8932-86998841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96B6-AC37-4708-9970-BB0DC68E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B64F-C542-44FA-808A-EE203B44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9257-D2D2-45D2-AE3C-2D639B93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07E1-3E64-469E-A6F8-08AE919D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526D-5786-461A-A3A4-62E21C6C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FB1F-8265-40AA-93C2-61ACC635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C800-ABAF-4480-B996-9E018922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334C-820C-4E73-AC42-31BE85F8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6E03-3602-4D70-9E8F-9023A63B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0DD21-C71E-40CA-ABBE-D1452D28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C073C-CA62-4C00-A32D-E49B0D3E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637E1-CB6D-4AC0-8658-A1F5E9BA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0DDE7-CF92-4BBC-AF6C-DF33D7DD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27EEA-BF75-4B4F-94A0-FDF99BD9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5029-48BC-4D3D-BDB3-2501E981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4A8EB-94D5-4DC3-A549-4852C75F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782D8-C072-4B28-A390-CDBD3B1D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8BBA5-813A-453A-9F51-C33D439A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0CB26-2DAB-43DD-9C06-79A00559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BD613-A8DC-4C69-BAA4-BB39486D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0CD17-2D0B-4C67-B1BC-CF3C41B2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263DA-26C5-47E0-A7E0-E80F08B9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028F9-EB98-49E1-8430-24A0758D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0A8F3-88C8-461F-9FC1-BBF5440B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14E16-9BA0-4195-8F0D-D0A08E20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5D1-3FA2-4073-95F0-8256D704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06506-306D-48C1-A2D2-384ABA93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15787-31CB-47E3-8637-9F386999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F03BB-6138-4BDF-BD57-0EE1703F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B5AFF-A879-41AF-B631-8ED20044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6D3C1-62B9-43B3-B74D-5E7ACCD2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B76CD-AC26-482F-9656-54629A4B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19854-F86D-417B-BB3D-E86555ED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DF0AA-3492-4171-9032-DE1618A7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80EEA-A17F-4B09-98DF-408EE29E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8ECA-1A87-486F-B16C-C908C155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5059-370F-4184-B22A-BB092460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AD75-D950-4ACA-8BB3-612F50B8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F16-3448-4959-AB4C-E1B001A6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D214-D118-4465-BDAF-384DE25D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23F8-A3EA-4D87-B33A-B02F21F28BB7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55F3-B06D-4F46-A40E-8CDC0DA53736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8CF0-806E-44A5-83C2-4A4BE092EE51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A4BD-DD3B-49CA-8B40-FB5E4A59975C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img408.imageshack.us/img408/1613/bbxa7dz5bl1.gif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1 Título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5496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nstantia"/>
              </a:rPr>
              <a:t>MSc. Roxana Mesén Fonsec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990000"/>
                </a:solidFill>
                <a:latin typeface="Calibri"/>
              </a:rPr>
              <a:t>	</a:t>
            </a:r>
            <a:r>
              <a:rPr b="0" lang="es-CR" sz="36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es-CR" sz="3600" spc="-1" strike="noStrike">
                <a:solidFill>
                  <a:srgbClr val="990000"/>
                </a:solidFill>
                <a:latin typeface="Calibri"/>
              </a:rPr>
              <a:t>Momentos críticos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_ Mujer toma decisión de separarse</a:t>
            </a:r>
            <a:br>
              <a:rPr sz="2000"/>
            </a:br>
            <a:br>
              <a:rPr sz="2000"/>
            </a:b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_ Primera denuncia por malos tratos </a:t>
            </a:r>
            <a:br>
              <a:rPr sz="2000"/>
            </a:br>
            <a:br>
              <a:rPr sz="2000"/>
            </a:b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_ Solicitud de medidas de protección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Atenciones inmediat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599840"/>
            <a:ext cx="82296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Previo a la denu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Durante la denu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Luego de la denu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ud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4 Diagrama" descr=""/>
          <p:cNvPicPr/>
          <p:nvPr/>
        </p:nvPicPr>
        <p:blipFill>
          <a:blip r:embed="rId1"/>
          <a:stretch/>
        </p:blipFill>
        <p:spPr>
          <a:xfrm>
            <a:off x="3638520" y="2073240"/>
            <a:ext cx="6108840" cy="4151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Seguimien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57120" y="1928880"/>
            <a:ext cx="822960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En domicilio u ofici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Vinculación, factores de riesgo, protectores, situaciones de violencia, plan de segur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Riesgo- coordin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3 Diagrama" descr=""/>
          <p:cNvPicPr/>
          <p:nvPr/>
        </p:nvPicPr>
        <p:blipFill>
          <a:blip r:embed="rId1"/>
          <a:stretch/>
        </p:blipFill>
        <p:spPr>
          <a:xfrm>
            <a:off x="1359000" y="2786040"/>
            <a:ext cx="6273720" cy="407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7 Título" descr=""/>
          <p:cNvPicPr/>
          <p:nvPr/>
        </p:nvPicPr>
        <p:blipFill>
          <a:blip r:embed="rId1"/>
          <a:stretch/>
        </p:blipFill>
        <p:spPr>
          <a:xfrm>
            <a:off x="79200" y="476280"/>
            <a:ext cx="8583840" cy="36147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1500120" y="4286160"/>
            <a:ext cx="2314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34" name="9 Rectángulo"/>
          <p:cNvGrpSpPr/>
          <p:nvPr/>
        </p:nvGrpSpPr>
        <p:grpSpPr>
          <a:xfrm>
            <a:off x="3913200" y="3486240"/>
            <a:ext cx="4743360" cy="1927080"/>
            <a:chOff x="3913200" y="3486240"/>
            <a:chExt cx="4743360" cy="1927080"/>
          </a:xfrm>
        </p:grpSpPr>
        <p:pic>
          <p:nvPicPr>
            <p:cNvPr id="235" name="9 Rectángulo" descr=""/>
            <p:cNvPicPr/>
            <p:nvPr/>
          </p:nvPicPr>
          <p:blipFill>
            <a:blip r:embed="rId3"/>
            <a:stretch/>
          </p:blipFill>
          <p:spPr>
            <a:xfrm>
              <a:off x="3913200" y="3486240"/>
              <a:ext cx="4743360" cy="19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000680" y="3571920"/>
              <a:ext cx="4572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1800" spc="-1" strike="noStrike">
                  <a:solidFill>
                    <a:srgbClr val="000000"/>
                  </a:solidFill>
                  <a:latin typeface="Constantia"/>
                </a:rPr>
                <a:t>Servicios de Asistencia a la Víctima y/u otros servicios especializados informan  de los recursos sociales gratuitos y  facilitan el contacto con los servicios sociales correspondientes a fin de que puedan acceder a dichos recursos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 rot="673800">
            <a:off x="5724360" y="907920"/>
            <a:ext cx="2436840" cy="1681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Ver imagen en tamaño complet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00160" y="2357280"/>
            <a:ext cx="4357800" cy="370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Ambito Jurisdicc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zgados  y Tribunales (Juezas y jueces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Ambito Auxiliar de la Justic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IJ, Defensa Publica y Fiscal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Ambito Administrativo 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reccion Ejecutiva:       Depto. de Trabajo Social y Psicologí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5" name="Group 2"/>
          <p:cNvGrpSpPr/>
          <p:nvPr/>
        </p:nvGrpSpPr>
        <p:grpSpPr>
          <a:xfrm>
            <a:off x="450720" y="665280"/>
            <a:ext cx="8240760" cy="942840"/>
            <a:chOff x="450720" y="665280"/>
            <a:chExt cx="8240760" cy="942840"/>
          </a:xfrm>
        </p:grpSpPr>
        <p:pic>
          <p:nvPicPr>
            <p:cNvPr id="206" name="Picture 3" descr=""/>
            <p:cNvPicPr/>
            <p:nvPr/>
          </p:nvPicPr>
          <p:blipFill>
            <a:blip r:embed="rId1"/>
            <a:stretch/>
          </p:blipFill>
          <p:spPr>
            <a:xfrm>
              <a:off x="450720" y="665280"/>
              <a:ext cx="824076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4"/>
            <p:cNvSpPr/>
            <p:nvPr/>
          </p:nvSpPr>
          <p:spPr>
            <a:xfrm>
              <a:off x="450720" y="665280"/>
              <a:ext cx="824076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08" name="AutoShape 5"/>
          <p:cNvSpPr/>
          <p:nvPr/>
        </p:nvSpPr>
        <p:spPr>
          <a:xfrm>
            <a:off x="3786120" y="5013360"/>
            <a:ext cx="533520" cy="228600"/>
          </a:xfrm>
          <a:prstGeom prst="rightArrow">
            <a:avLst>
              <a:gd name="adj1" fmla="val 50000"/>
              <a:gd name="adj2" fmla="val 4719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1 CuadroTexto" descr=""/>
          <p:cNvPicPr/>
          <p:nvPr/>
        </p:nvPicPr>
        <p:blipFill>
          <a:blip r:embed="rId1"/>
          <a:stretch/>
        </p:blipFill>
        <p:spPr>
          <a:xfrm>
            <a:off x="281160" y="1006560"/>
            <a:ext cx="8869320" cy="5333760"/>
          </a:xfrm>
          <a:prstGeom prst="rect">
            <a:avLst/>
          </a:prstGeom>
          <a:ln w="0">
            <a:noFill/>
          </a:ln>
        </p:spPr>
      </p:pic>
      <p:sp>
        <p:nvSpPr>
          <p:cNvPr id="210" name="2 CuadroTexto"/>
          <p:cNvSpPr/>
          <p:nvPr/>
        </p:nvSpPr>
        <p:spPr>
          <a:xfrm>
            <a:off x="971640" y="18576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e6d"/>
                </a:solidFill>
                <a:latin typeface="Arial"/>
                <a:ea typeface="Microsoft YaHei"/>
              </a:rPr>
              <a:t>OFICINA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9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39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aloración psicosocial, a las personas vinculadas en procesos judiciales, con el propósito de darle respuesta  a las solicitudes de las diferentes instancias judiciales</a:t>
            </a:r>
            <a:r>
              <a:rPr b="0" lang="en-US" sz="3600" spc="-1" strike="noStrike">
                <a:solidFill>
                  <a:srgbClr val="a3171e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2" name="Group 2"/>
          <p:cNvGrpSpPr/>
          <p:nvPr/>
        </p:nvGrpSpPr>
        <p:grpSpPr>
          <a:xfrm>
            <a:off x="450720" y="530280"/>
            <a:ext cx="8240760" cy="1077840"/>
            <a:chOff x="450720" y="530280"/>
            <a:chExt cx="8240760" cy="1077840"/>
          </a:xfrm>
        </p:grpSpPr>
        <p:pic>
          <p:nvPicPr>
            <p:cNvPr id="213" name="Picture 3" descr=""/>
            <p:cNvPicPr/>
            <p:nvPr/>
          </p:nvPicPr>
          <p:blipFill>
            <a:blip r:embed="rId1"/>
            <a:stretch/>
          </p:blipFill>
          <p:spPr>
            <a:xfrm>
              <a:off x="450720" y="530280"/>
              <a:ext cx="82407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4"/>
            <p:cNvSpPr/>
            <p:nvPr/>
          </p:nvSpPr>
          <p:spPr>
            <a:xfrm>
              <a:off x="450720" y="530280"/>
              <a:ext cx="8240760" cy="10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3 Marcador de contenido" descr=""/>
          <p:cNvPicPr/>
          <p:nvPr/>
        </p:nvPicPr>
        <p:blipFill>
          <a:blip r:embed="rId1"/>
          <a:stretch/>
        </p:blipFill>
        <p:spPr>
          <a:xfrm>
            <a:off x="390600" y="1925640"/>
            <a:ext cx="8442360" cy="4462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3 Marcador de contenido" descr=""/>
          <p:cNvPicPr/>
          <p:nvPr/>
        </p:nvPicPr>
        <p:blipFill>
          <a:blip r:embed="rId1"/>
          <a:stretch/>
        </p:blipFill>
        <p:spPr>
          <a:xfrm>
            <a:off x="420840" y="493560"/>
            <a:ext cx="8302320" cy="565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00040" y="35676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Evaluaciones individu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S e emite un solo informe cuando ambas partes son referidas (protec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Se señalan elementos vulnerabilizantes en historia de vida, dinámica de pareja, situaciones de violencia,  riesgo, protect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5 Diagrama" descr=""/>
          <p:cNvPicPr/>
          <p:nvPr/>
        </p:nvPicPr>
        <p:blipFill>
          <a:blip r:embed="rId1"/>
          <a:stretch/>
        </p:blipFill>
        <p:spPr>
          <a:xfrm>
            <a:off x="3029040" y="3067200"/>
            <a:ext cx="6134040" cy="4039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3 Marcador de contenido" descr=""/>
          <p:cNvPicPr/>
          <p:nvPr/>
        </p:nvPicPr>
        <p:blipFill>
          <a:blip r:embed="rId1"/>
          <a:stretch/>
        </p:blipFill>
        <p:spPr>
          <a:xfrm>
            <a:off x="390600" y="1925640"/>
            <a:ext cx="8485200" cy="4462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990000"/>
                </a:solidFill>
                <a:latin typeface="Calibri"/>
              </a:rPr>
              <a:t>Evaluación del riesg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_Variables que permiten un mayor conocimiento:</a:t>
            </a:r>
            <a:br>
              <a:rPr sz="2000"/>
            </a:br>
            <a:br>
              <a:rPr sz="2000"/>
            </a:b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* características de la agresión</a:t>
            </a:r>
            <a:br>
              <a:rPr sz="2000"/>
            </a:b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* características de la víctima</a:t>
            </a:r>
            <a:br>
              <a:rPr sz="2000"/>
            </a:b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* características del ofenso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05:22:32Z</dcterms:created>
  <dc:creator>Roxana</dc:creator>
  <dc:description/>
  <dc:language>en-US</dc:language>
  <cp:lastModifiedBy>Roxana</cp:lastModifiedBy>
  <dcterms:modified xsi:type="dcterms:W3CDTF">2014-12-04T15:45:17Z</dcterms:modified>
  <cp:revision>22</cp:revision>
  <dc:subject/>
  <dc:title>Departamento Trabajo Social y Psicología</dc:title>
</cp:coreProperties>
</file>