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776-4799-4E2A-A3E2-C108C14BA8D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889-9A87-454A-9DE7-2CC25AE927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9C9-2D1F-4528-86D1-A925F0C815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737-532C-436A-92BB-75075A9FFF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239-C630-44EF-B0B7-B9F2424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5F3-FDB6-45B9-A31C-14CCEDF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CC8-D16C-4AA7-9634-83115098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1AD-5BD0-4E25-97CA-88866D5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A0F-DF02-4D7B-8954-0874071E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D155-F967-49F7-BCD1-FDCCC402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AD08-2983-4F30-8E5A-0CEFF33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D6CB-9AC2-40F6-B165-0596290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5BC5-3AB5-4F8B-B440-0B53C476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F989-7FB4-4ACA-AF0D-4B1F07D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2556-F890-4286-9E26-130E867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7F6-DEAC-4E8D-A4E4-CAE75BF7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914-595A-493A-A6B1-2C61588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E913-1D55-46B0-92E4-7A250CD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D19-376E-4984-89FA-726DB582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AEC-87FF-4CB5-B1EF-73C8C618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7F8-D287-46A9-AF08-ABC76A67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939F-9933-4716-A6FB-BD35D30B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6EE2-E2B2-4C93-928A-31F541C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3C65-950D-40AF-8D5E-D85F827E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6B30-C08B-4BB7-B465-55B42A9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6431-2C96-472B-8A0A-185FEE79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5FC-2B67-4BAC-8B3E-945E4BD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7AB1-8703-499D-A986-21F7BCEA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BE0B-5156-4799-8A93-8260A9CB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D593-E1D4-43AC-8EA3-259AA613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0DA8-31FB-4290-B98E-DDA798A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7D14-8D43-434B-A09B-E6634832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177F-B071-4624-BE7A-133AFCFF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C7A0-73CD-4E2A-A128-AE74CECD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3A91-B055-49D4-ACF8-BF4C888F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594E-F1BF-4C2F-866E-901BE90B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4FCB-604B-483D-99B0-E03A385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814-2ACB-481F-9CA8-0902285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0E10-083B-4C18-97E8-DB0A071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2E49-D930-4512-B3B2-A010D5D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93A3-62B0-469B-B103-E5D6F2DD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A969-396E-41CC-8581-2D3E9CB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8613-F81C-4A44-9BCD-F0D0CA1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A430-D120-4D3C-AE62-6F6D898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9DEE-FC20-4483-B7D1-4E9D586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6CF5-3DF8-48BD-884E-319F3912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B064-BD78-4BBE-BC7D-FD133152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175-93FD-4E36-B773-557E94E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D43-7F56-4673-AA85-7788D95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9D4-6D0C-44C2-BC69-636022B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D1B-6EDB-4622-A464-F58E196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468-EC55-4017-A8C9-CEB77E2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5457-22F0-4124-BD87-8B379876345E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7D39-A209-4731-9B5A-FF7A9BEEBAC5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CB6-AEEE-4F9A-B741-00744583056A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B81-ACBD-49FF-91D1-B9FE9723FE1E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g408.imageshack.us/img408/1613/bbxa7dz5bl1.gi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MSc. Roxana Mesén Fonse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	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Momentos crítico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Mujer toma decisión de separarse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Primera denuncia por malos tratos 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 Solicitud de medidas de protecció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tenciones inmedia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evio a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urant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Luego de la denu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ud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4 Diagrama" descr=""/>
          <p:cNvPicPr/>
          <p:nvPr/>
        </p:nvPicPr>
        <p:blipFill>
          <a:blip r:embed="rId1"/>
          <a:stretch/>
        </p:blipFill>
        <p:spPr>
          <a:xfrm>
            <a:off x="3638520" y="2073240"/>
            <a:ext cx="6108840" cy="415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Seguimi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19288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n domicilio u ofici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Vinculación, factores de riesgo, protectores, situaciones de violencia, plan de segur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Riesgo- coordin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3 Diagrama" descr=""/>
          <p:cNvPicPr/>
          <p:nvPr/>
        </p:nvPicPr>
        <p:blipFill>
          <a:blip r:embed="rId1"/>
          <a:stretch/>
        </p:blipFill>
        <p:spPr>
          <a:xfrm>
            <a:off x="1359000" y="2786040"/>
            <a:ext cx="6273720" cy="407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7 Título" descr=""/>
          <p:cNvPicPr/>
          <p:nvPr/>
        </p:nvPicPr>
        <p:blipFill>
          <a:blip r:embed="rId1"/>
          <a:stretch/>
        </p:blipFill>
        <p:spPr>
          <a:xfrm>
            <a:off x="79200" y="476280"/>
            <a:ext cx="858384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500120" y="4286160"/>
            <a:ext cx="2314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9 Rectángulo"/>
          <p:cNvGrpSpPr/>
          <p:nvPr/>
        </p:nvGrpSpPr>
        <p:grpSpPr>
          <a:xfrm>
            <a:off x="3913200" y="3486240"/>
            <a:ext cx="4743360" cy="1927080"/>
            <a:chOff x="3913200" y="3486240"/>
            <a:chExt cx="4743360" cy="1927080"/>
          </a:xfrm>
        </p:grpSpPr>
        <p:pic>
          <p:nvPicPr>
            <p:cNvPr id="235" name="9 Rectángulo" descr=""/>
            <p:cNvPicPr/>
            <p:nvPr/>
          </p:nvPicPr>
          <p:blipFill>
            <a:blip r:embed="rId3"/>
            <a:stretch/>
          </p:blipFill>
          <p:spPr>
            <a:xfrm>
              <a:off x="3913200" y="3486240"/>
              <a:ext cx="47433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000680" y="3571920"/>
              <a:ext cx="45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1800" spc="-1" strike="noStrike">
                  <a:solidFill>
                    <a:srgbClr val="000000"/>
                  </a:solidFill>
                  <a:latin typeface="Constantia"/>
                </a:rPr>
                <a:t>Servicios de Asistencia a la Víctima y/u otros servicios especializados informan  de los recursos sociales gratuitos y  facilitan el contacto con los servicios sociales correspondientes a fin de que puedan acceder a dichos recursos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 rot="673800">
            <a:off x="5724360" y="907920"/>
            <a:ext cx="2436840" cy="1681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0160" y="2357280"/>
            <a:ext cx="4357800" cy="37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Ambito Jurisdic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zgados  y Tribunales (Juezas y jueces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Ambito Auxiliar de la Justi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IJ, Defensa Publica y Fiscal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mbito Administrativo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cion Ejecutiva:       Depto. de Trabajo Social y Psicologí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450720" y="665280"/>
            <a:ext cx="8240760" cy="942840"/>
            <a:chOff x="450720" y="665280"/>
            <a:chExt cx="8240760" cy="942840"/>
          </a:xfrm>
        </p:grpSpPr>
        <p:pic>
          <p:nvPicPr>
            <p:cNvPr id="206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665280"/>
              <a:ext cx="82407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"/>
            <p:cNvSpPr/>
            <p:nvPr/>
          </p:nvSpPr>
          <p:spPr>
            <a:xfrm>
              <a:off x="450720" y="665280"/>
              <a:ext cx="8240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8" name="AutoShape 5"/>
          <p:cNvSpPr/>
          <p:nvPr/>
        </p:nvSpPr>
        <p:spPr>
          <a:xfrm>
            <a:off x="3786120" y="5013360"/>
            <a:ext cx="533520" cy="228600"/>
          </a:xfrm>
          <a:prstGeom prst="rightArrow">
            <a:avLst>
              <a:gd name="adj1" fmla="val 50000"/>
              <a:gd name="adj2" fmla="val 47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1 CuadroTexto" descr=""/>
          <p:cNvPicPr/>
          <p:nvPr/>
        </p:nvPicPr>
        <p:blipFill>
          <a:blip r:embed="rId1"/>
          <a:stretch/>
        </p:blipFill>
        <p:spPr>
          <a:xfrm>
            <a:off x="281160" y="1006560"/>
            <a:ext cx="8869320" cy="5333760"/>
          </a:xfrm>
          <a:prstGeom prst="rect">
            <a:avLst/>
          </a:prstGeom>
          <a:ln w="0">
            <a:noFill/>
          </a:ln>
        </p:spPr>
      </p:pic>
      <p:sp>
        <p:nvSpPr>
          <p:cNvPr id="210" name="2 CuadroTexto"/>
          <p:cNvSpPr/>
          <p:nvPr/>
        </p:nvSpPr>
        <p:spPr>
          <a:xfrm>
            <a:off x="971640" y="1857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Microsoft YaHei"/>
              </a:rPr>
              <a:t>OFICINA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39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oración psicosocial, a las personas vinculadas en procesos judiciales, con el propósito de darle respuesta  a las solicitudes de las diferentes instancias judiciales</a:t>
            </a:r>
            <a:r>
              <a:rPr b="0" lang="en-US" sz="3600" spc="-1" strike="noStrike">
                <a:solidFill>
                  <a:srgbClr val="a3171e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450720" y="530280"/>
            <a:ext cx="8240760" cy="1077840"/>
            <a:chOff x="450720" y="530280"/>
            <a:chExt cx="8240760" cy="1077840"/>
          </a:xfrm>
        </p:grpSpPr>
        <p:pic>
          <p:nvPicPr>
            <p:cNvPr id="21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530280"/>
              <a:ext cx="8240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450720" y="530280"/>
              <a:ext cx="824076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4236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3 Marcador de contenido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302320" cy="56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35676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valuaciones individ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 e emite un solo informe cuando ambas partes son referidas (protec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Se señalan elementos vulnerabilizantes en historia de vida, dinámica de pareja, situaciones de violencia,  riesgo, protect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1"/>
          <a:stretch/>
        </p:blipFill>
        <p:spPr>
          <a:xfrm>
            <a:off x="3029040" y="3067200"/>
            <a:ext cx="6134040" cy="403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3 Marcador de contenido" descr=""/>
          <p:cNvPicPr/>
          <p:nvPr/>
        </p:nvPicPr>
        <p:blipFill>
          <a:blip r:embed="rId1"/>
          <a:stretch/>
        </p:blipFill>
        <p:spPr>
          <a:xfrm>
            <a:off x="390600" y="1925640"/>
            <a:ext cx="8485200" cy="446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990000"/>
                </a:solidFill>
                <a:latin typeface="Calibri"/>
              </a:rPr>
              <a:t>Evaluación del riesg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_Variables que permiten un mayor conocimiento:</a:t>
            </a:r>
            <a:br>
              <a:rPr sz="2000"/>
            </a:b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agresión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 la víctima</a:t>
            </a:r>
            <a:br>
              <a:rPr sz="2000"/>
            </a:br>
            <a:r>
              <a:rPr b="0" lang="es-CR" sz="2000" spc="-1" strike="noStrike">
                <a:solidFill>
                  <a:srgbClr val="000000"/>
                </a:solidFill>
                <a:latin typeface="Constantia"/>
              </a:rPr>
              <a:t>* características del ofens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5:22:32Z</dcterms:created>
  <dc:creator>Roxana</dc:creator>
  <dc:description/>
  <dc:language>en-US</dc:language>
  <cp:lastModifiedBy>Roxana</cp:lastModifiedBy>
  <dcterms:modified xsi:type="dcterms:W3CDTF">2014-12-04T15:45:17Z</dcterms:modified>
  <cp:revision>22</cp:revision>
  <dc:subject/>
  <dc:title>Departamento Trabajo Social y Psicología</dc:title>
</cp:coreProperties>
</file>