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4" y="0"/>
                </a:moveTo>
                <a:arcTo wR="4" hR="4" stAng="16200000" swAng="-5400000"/>
                <a:lnTo>
                  <a:pt x="0" y="28796"/>
                </a:lnTo>
                <a:arcTo wR="4" hR="4" stAng="10800000" swAng="-5400000"/>
                <a:lnTo>
                  <a:pt x="21596" y="2880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4" y="0"/>
                </a:moveTo>
                <a:arcTo wR="4" hR="4" stAng="16200000" swAng="-5400000"/>
                <a:lnTo>
                  <a:pt x="0" y="28796"/>
                </a:lnTo>
                <a:arcTo wR="4" hR="4" stAng="10800000" swAng="-5400000"/>
                <a:lnTo>
                  <a:pt x="21596" y="2880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4" y="0"/>
                </a:moveTo>
                <a:arcTo wR="4" hR="4" stAng="16200000" swAng="-5400000"/>
                <a:lnTo>
                  <a:pt x="0" y="28796"/>
                </a:lnTo>
                <a:arcTo wR="4" hR="4" stAng="10800000" swAng="-5400000"/>
                <a:lnTo>
                  <a:pt x="21596" y="2880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4" y="0"/>
                </a:moveTo>
                <a:arcTo wR="4" hR="4" stAng="16200000" swAng="-5400000"/>
                <a:lnTo>
                  <a:pt x="0" y="28796"/>
                </a:lnTo>
                <a:arcTo wR="4" hR="4" stAng="10800000" swAng="-5400000"/>
                <a:lnTo>
                  <a:pt x="21596" y="2880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3884760" y="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5880" y="685440"/>
            <a:ext cx="4560840" cy="342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8200" rIns="88200" tIns="46080" bIns="4608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440" y="4344480"/>
            <a:ext cx="5481720" cy="41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3"/>
          </p:nvPr>
        </p:nvSpPr>
        <p:spPr>
          <a:xfrm>
            <a:off x="388440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D206F4-22DB-4DA1-AD96-4209C26BB1F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CB2936-B76D-4D22-8593-53AEDC75C2FA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C21F82-6831-4EBC-A74A-320AD5BC1F5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4291F5-6C69-46D9-A26D-365C01C77896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796C92-27BF-4CB8-81A2-58EBA9CE210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FBBA22-48A9-4E31-9512-BD0AD9D548CB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6AB7E1-3C1D-45B6-90B0-337AD535B55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7CFAB-A094-459D-907C-837F55581DFC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442814-203D-4556-9F6E-CBF6BBA8B1A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4AFD13-CC23-4933-94DF-07BB3CE268CB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2057D-ADA1-404F-A424-66FE9BB027F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E012F3-0A48-4ABF-812E-20E95BEB9B95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988981-5A24-44E0-869A-42DD15789CF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AC7122-F72C-45F4-A3DD-25D5F746D760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DB43A7-24FA-44EA-A905-D3EB38B8D32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EFC346-5F2C-4B53-BF40-A31D87E316B1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68804C-C221-4DD5-BC5C-580A3B35D7F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571342-155B-45ED-BA4C-A72E00A2763B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C62EE-60B6-43BD-898B-415412671D9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D3BB8D-0D47-4579-966D-026C68112E4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A80030-0601-48A3-86F8-715189204BC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C75B0B-9CEE-44E5-9BF1-351772CFD341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1E3E79-0EB4-4661-8BB5-098B289E876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D70AFC-D969-43F3-A823-5F44D08ED390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64011F-5711-4B2C-9058-49A9CC2AC30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F38B5-6AA8-48D7-8CF5-F7F3FE25716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7D8235-CC4F-4068-A23D-2C80F9CD9B2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559F2-B867-4D98-A6C9-967E1B884FCD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1470F4-D5A6-4E70-8EAB-5D5BB081323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D562E7-4CEF-49B8-AF45-E9139E1F0DB5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1A3979-A104-4E77-A444-B849BE3EC3A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A67EEC-9CC8-4C11-817B-423E965ABAA6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671CC4-9215-4767-A1D5-44C17953CC8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3818A-04CD-478D-8655-C7E1FD321989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B447C1-79C1-4423-8686-7BFD4240055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6840A0-91D7-46C4-AB80-15B7A9235CA0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2A1912-BDAF-4063-A8B3-9469E9C731A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FE10FB-A2A7-4FD8-9EAD-C24A35243C26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D830E0-6F10-4403-8951-C3A88A4400D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ECBAC-2940-498E-969C-ECBE4038017E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EA0ABB-1202-4131-A08D-90C9749D4E7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F9C44E-1DAE-4885-B94E-F1D1E7824861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992268-F60D-428C-9157-C34D8FB251C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383D70-E921-48D5-8503-54764FEC7A2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C66384-76E9-42FA-96FD-50540A166C4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095D50-9A6E-4F06-A215-E7F61D5D2BF3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148B24-3549-4E6A-9EE4-4163AF5D3EC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B50EFD-81A5-49F9-B4AE-C54C1DE70504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C2FE73-7775-4F54-A452-0CBA63CBEE0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22141-9D21-42F6-83E4-CA139C380D99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C0992-40EE-4F0A-BB45-C416BFA319E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D3BF3-243C-4D0C-89EB-7D70B75EC7A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E78DF8-F437-4A61-BD60-A9C96C0E63D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6F231F-9871-4F18-BD85-4F40F1F17561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5C1C61-F4D9-410F-9987-2A82B7BE06A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0"/>
          <p:cNvSpPr/>
          <p:nvPr/>
        </p:nvSpPr>
        <p:spPr>
          <a:xfrm>
            <a:off x="3884760" y="8686800"/>
            <a:ext cx="2966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09560"/>
                <a:tab algn="l" pos="1420920"/>
                <a:tab algn="l" pos="2130480"/>
                <a:tab algn="l" pos="2841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64C1D9-EF3E-48AF-82D4-29DDF8BC6EF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"/>
          <p:cNvSpPr/>
          <p:nvPr/>
        </p:nvSpPr>
        <p:spPr>
          <a:xfrm>
            <a:off x="3884760" y="868680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456A21-CB8A-402A-8934-B3922A4D3C4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1155600" y="685800"/>
            <a:ext cx="4548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E1A4B-60C9-40D5-B21C-8F41654566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6D19D-9C49-43B0-A38B-7EBF5A9111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20459-8A7F-44FF-9078-B23A37CDFC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8AE9A-6BFD-4BBA-87A4-4E9D6AC77A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2FE00-90FD-4C8A-91A1-3C56777331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26790-6602-4938-85D4-86370843D3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0E5A9-631C-40EB-B23E-E4C66002F1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81384-9606-4DD9-A364-553192170F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3C634-5A81-4DDA-80C7-419C80A37B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B8759-0652-4F55-833B-DAB0044D63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32A2B-728A-490A-8322-6362FB602B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3A437-7AD7-471A-BA2E-F004945E76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7F4D6-2571-40FA-B3BB-6914BAFDDBF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F7002-EA78-4092-A0F1-FB3A36D384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2870C-7487-46B1-BF20-41B3705546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96A1C-EA4F-4A0A-8597-141879B7AE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3F04D-CDD4-4586-8FCC-CF9F26E825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F1434-86F4-4BEC-92F2-0678B3F7C9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60F4C-9380-4641-A252-64CCA37925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3B7A0-E261-45DF-9386-BD76942AED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8FFD5-DD29-46A2-87D6-DC143CDD32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45CEC-4C2C-46D5-93F6-9173A7E43D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C4B78-3523-45D4-B228-7EE17F0EF5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1C64D-DFBD-4BB2-B29C-A89751EC2F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-136440"/>
            <a:ext cx="9144000" cy="6994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457200" y="6356520"/>
            <a:ext cx="21304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17BD8B3-D39E-4936-A7D2-25CA7F976FEA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2"/>
          <a:stretch/>
        </p:blipFill>
        <p:spPr>
          <a:xfrm>
            <a:off x="0" y="-136440"/>
            <a:ext cx="9144000" cy="7130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457200" y="6356520"/>
            <a:ext cx="21304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7134D94-3A40-4966-844E-5A69124AFA6C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C:/Users/mrojase/Desktop/curso%20%20viol%20genero/Ficha%20de%20valoraci&#243;n%20de%20peligrosidad.pptx" TargetMode="External"/><Relationship Id="rId2" Type="http://schemas.openxmlformats.org/officeDocument/2006/relationships/hyperlink" Target="file:///../Ficha%20de%20valoraci&#243;n%20de%20peligrosidad.docx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685800" y="1357200"/>
            <a:ext cx="7772400" cy="22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826920" y="3933720"/>
            <a:ext cx="7344000" cy="26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000"/>
                </a:solidFill>
                <a:latin typeface="Arial"/>
              </a:rPr>
              <a:t>Oficina de Atención y Protección a la Víctima de Delit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253-2935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253-294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x  2253-294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5589720"/>
            <a:ext cx="703440" cy="7207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"/>
          <p:cNvSpPr/>
          <p:nvPr/>
        </p:nvSpPr>
        <p:spPr>
          <a:xfrm>
            <a:off x="838080" y="1509840"/>
            <a:ext cx="7772400" cy="22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c000"/>
                </a:solidFill>
                <a:latin typeface="Arial"/>
              </a:rPr>
              <a:t>Curso de formación sobre el contenido del Protocolo Regional de Investigación y los procesos de adaptación nacional dirigido a fiscales y policías en Costa 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04617b"/>
                </a:solidFill>
                <a:latin typeface="Arial"/>
              </a:rPr>
              <a:t>  </a:t>
            </a:r>
            <a:r>
              <a:rPr b="0" lang="en-GB" sz="4000" spc="-1" strike="noStrike">
                <a:solidFill>
                  <a:srgbClr val="04617b"/>
                </a:solidFill>
                <a:latin typeface="Arial"/>
              </a:rPr>
              <a:t>Administración del Progra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539640" y="1500120"/>
            <a:ext cx="8229600" cy="91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6600" algn="just">
              <a:spcBef>
                <a:spcPts val="700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idad de Protección = conformada por los equipos técnicos evaluador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00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fesional en Criminologí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fesional en Psicologí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fesional en Trabajo Social o Sociologí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fesional en Derech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00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00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quipo de protección = conformado por agentes de seguridad del  O.I.J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675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675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675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spcBef>
                <a:spcPts val="799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spcBef>
                <a:spcPts val="499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99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99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99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457200" y="785880"/>
            <a:ext cx="8229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4617b"/>
                </a:solidFill>
                <a:latin typeface="Arial"/>
              </a:rPr>
              <a:t>Referencia al program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539640" y="2060640"/>
            <a:ext cx="8229600" cy="51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6600">
              <a:spcBef>
                <a:spcPts val="700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e2d7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2d7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2d7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2d7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2d7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2d7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scalía  ( circular 1-2004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dicatu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ens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cía Judic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 querella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.S.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oluntariam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r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spcBef>
                <a:spcPts val="700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04617b"/>
                </a:solidFill>
                <a:latin typeface="Arial"/>
              </a:rPr>
              <a:t>  </a:t>
            </a:r>
            <a:r>
              <a:rPr b="0" lang="en-GB" sz="4000" spc="-1" strike="noStrike">
                <a:solidFill>
                  <a:srgbClr val="04617b"/>
                </a:solidFill>
                <a:latin typeface="Arial"/>
              </a:rPr>
              <a:t>Administración del Progra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539640" y="1500120"/>
            <a:ext cx="8229600" cy="9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6600" algn="just">
              <a:spcBef>
                <a:spcPts val="700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quipos técnicos evaluadores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00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mitir informe para el otorgamiento, la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ificación o la supresión de las medida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 protección solicitad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mendar las medidas de protección qu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écnicamente considere convenientes para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da cas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licitar, a las instituciones públicas o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vadas, la información necesaria para s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ctam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675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675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675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spcBef>
                <a:spcPts val="799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spcBef>
                <a:spcPts val="499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99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99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99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04617b"/>
                </a:solidFill>
                <a:latin typeface="Arial"/>
              </a:rPr>
              <a:t>  </a:t>
            </a:r>
            <a:r>
              <a:rPr b="0" lang="en-GB" sz="4000" spc="-1" strike="noStrike">
                <a:solidFill>
                  <a:srgbClr val="04617b"/>
                </a:solidFill>
                <a:latin typeface="Arial"/>
              </a:rPr>
              <a:t>Administración del Progra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539640" y="1500120"/>
            <a:ext cx="8229600" cy="83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6600" algn="just">
              <a:spcBef>
                <a:spcPts val="700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quipos técnicos evaluador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601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stionar la asistencia necesaria para la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sonas sujetas a protec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r seguimiento a los casos de las persona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jo protec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visar, cada seis meses, las medidas d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ección en ejecución y rendir un informe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ando la medida acordada supere es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z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00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675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spcBef>
                <a:spcPts val="799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spcBef>
                <a:spcPts val="499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99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99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99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04617b"/>
                </a:solidFill>
                <a:latin typeface="Arial"/>
              </a:rPr>
              <a:t>  </a:t>
            </a:r>
            <a:r>
              <a:rPr b="0" lang="en-GB" sz="4000" spc="-1" strike="noStrike">
                <a:solidFill>
                  <a:srgbClr val="04617b"/>
                </a:solidFill>
                <a:latin typeface="Arial"/>
              </a:rPr>
              <a:t>Administración del Progra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539640" y="1500120"/>
            <a:ext cx="8229600" cy="83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6600" algn="just">
              <a:spcBef>
                <a:spcPts val="700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quipos de Protecció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601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cutar las medidas materiales de protección, en los casos en que se requieran acompañamiento o vigilancia de la persona protegi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formar a los equipos técnicos evaluadores sobre el desarrollo de la protec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mplir las demás actividades que le encomiende la OAVD del Ministerio Públ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00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675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spcBef>
                <a:spcPts val="799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spcBef>
                <a:spcPts val="499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99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99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99"/>
              </a:spcBef>
              <a:tabLst>
                <a:tab algn="l" pos="0"/>
                <a:tab algn="l" pos="3398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1979640" y="274680"/>
            <a:ext cx="6707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b4a83"/>
                </a:solidFill>
                <a:latin typeface="Arial"/>
              </a:rPr>
              <a:t>PROTECCIÓN PROCES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6600" algn="just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erva de la ident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cción de las características físicas individualiza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2124000" y="176040"/>
            <a:ext cx="65739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b4a83"/>
                </a:solidFill>
                <a:latin typeface="Arial"/>
              </a:rPr>
              <a:t>PROTECCIÓN EXTRAPROCES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99"/>
              </a:spcBef>
              <a:buClr>
                <a:srgbClr val="ff8633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trulla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ff8633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sto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ff8633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ompañamiento a diligencias judici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ff8633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bicación tempo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ff8633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bicación perman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ff8633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didas bland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1714680" y="333360"/>
            <a:ext cx="6114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b5395"/>
                </a:solidFill>
                <a:latin typeface="Arial"/>
              </a:rPr>
              <a:t>ORGANIZACIONES</a:t>
            </a:r>
            <a:br>
              <a:rPr sz="3600"/>
            </a:br>
            <a:r>
              <a:rPr b="1" lang="en-GB" sz="3600" spc="-1" strike="noStrike">
                <a:solidFill>
                  <a:srgbClr val="0b5395"/>
                </a:solidFill>
                <a:latin typeface="Arial"/>
              </a:rPr>
              <a:t>COOPERAN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50004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6600" indent="-3366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stodia y patrulla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-2793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Ministerio de Seguridad Pública (MSP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Unidad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Especia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de Apoyo (UEA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licía de Proxim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-2793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Organismo de Investigación Judicial (OIJ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Oficina de Planes y Operaciones (OPO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gentes de protección (establecido en la Ley de Protección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-2793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Ministerio de la Preside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rección de Inteligencia y Seguridad (DI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-2793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Ministerio de Justi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ivados de libert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b5395"/>
                </a:solidFill>
                <a:latin typeface="Arial"/>
              </a:rPr>
              <a:t>ORGANIZACIONES</a:t>
            </a:r>
            <a:br>
              <a:rPr sz="3600"/>
            </a:br>
            <a:r>
              <a:rPr b="1" lang="en-GB" sz="3600" spc="-1" strike="noStrike">
                <a:solidFill>
                  <a:srgbClr val="0b5395"/>
                </a:solidFill>
                <a:latin typeface="Arial"/>
              </a:rPr>
              <a:t>COOPERAN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ubicación y albergu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336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ja Costarricense del Seguro Soci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336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Ministerio de Salu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336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stituto Mixto de Ayuda Social (IMAS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336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stituto de Vivienda y Urbanismo (INVU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336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Ministerio de Trabajo y Seguridad Soci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793800" indent="-33660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termediación y Prospección de Emple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793800" indent="-33660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NAMYP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336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stituto Nacional de las Mujeres (INAMU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793800" indent="-336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Centro Operativo de Atención a la Violencia Intrafamiliar (COAVIF)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793800" indent="-336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Delegación de la Muj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336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Patronato Nacional de la Infancia (PANI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336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stituto sobre Alcoholismo y Farmacodependencia (IAFA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5881680" y="1952640"/>
            <a:ext cx="3094200" cy="4308480"/>
          </a:xfrm>
          <a:prstGeom prst="rect">
            <a:avLst/>
          </a:prstGeom>
          <a:solidFill>
            <a:srgbClr val="0f6fc6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263520" indent="-22860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Alcohólicos Anónim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263520" indent="-22860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Hogar Salvando al Alcohól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263520" indent="-22860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Alianza Por tus Derech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263520" indent="-22860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sa Alianza Internacion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263520" indent="-22860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Asociación Cep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263520" indent="-22860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Hogares Cre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263520" indent="-22860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Cefém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263520" indent="-22860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0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Organización Internacional del Trabajo (OIT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263520" indent="-22860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Fundación Ser y Crec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263520" indent="-22860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Fundación Vid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1 Elipse"/>
          <p:cNvSpPr/>
          <p:nvPr/>
        </p:nvSpPr>
        <p:spPr>
          <a:xfrm>
            <a:off x="3306600" y="5581800"/>
            <a:ext cx="1533600" cy="885600"/>
          </a:xfrm>
          <a:prstGeom prst="ellipse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R" sz="1000" spc="-1" strike="noStrike">
                <a:solidFill>
                  <a:srgbClr val="000000"/>
                </a:solidFill>
                <a:latin typeface="Arial"/>
              </a:rPr>
              <a:t>Seguimient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R" sz="1000" spc="-1" strike="noStrike">
                <a:solidFill>
                  <a:srgbClr val="000000"/>
                </a:solidFill>
                <a:latin typeface="Arial"/>
              </a:rPr>
              <a:t>(coordinación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R" sz="1000" spc="-1" strike="noStrike">
                <a:solidFill>
                  <a:srgbClr val="000000"/>
                </a:solidFill>
                <a:latin typeface="Arial"/>
              </a:rPr>
              <a:t>Intersectorial 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2 Elipse"/>
          <p:cNvSpPr/>
          <p:nvPr/>
        </p:nvSpPr>
        <p:spPr>
          <a:xfrm>
            <a:off x="442800" y="3500280"/>
            <a:ext cx="1609920" cy="1084320"/>
          </a:xfrm>
          <a:prstGeom prst="ellipse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R" sz="1000" spc="-1" strike="noStrike">
                <a:solidFill>
                  <a:srgbClr val="000000"/>
                </a:solidFill>
                <a:latin typeface="Arial"/>
              </a:rPr>
              <a:t>Acompañamient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R" sz="1000" spc="-1" strike="noStrike">
                <a:solidFill>
                  <a:srgbClr val="000000"/>
                </a:solidFill>
                <a:latin typeface="Arial"/>
              </a:rPr>
              <a:t>a diligencias judiciales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3 Elipse"/>
          <p:cNvSpPr/>
          <p:nvPr/>
        </p:nvSpPr>
        <p:spPr>
          <a:xfrm>
            <a:off x="6586560" y="3645000"/>
            <a:ext cx="1851120" cy="960480"/>
          </a:xfrm>
          <a:prstGeom prst="ellipse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R" sz="1000" spc="-1" strike="noStrike">
                <a:solidFill>
                  <a:srgbClr val="000000"/>
                </a:solidFill>
                <a:latin typeface="Arial"/>
              </a:rPr>
              <a:t>Entrevista  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R" sz="1000" spc="-1" strike="noStrike">
                <a:solidFill>
                  <a:srgbClr val="000000"/>
                </a:solidFill>
                <a:latin typeface="Arial"/>
              </a:rPr>
              <a:t>valoración de riesg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4 Elipse"/>
          <p:cNvSpPr/>
          <p:nvPr/>
        </p:nvSpPr>
        <p:spPr>
          <a:xfrm>
            <a:off x="2387520" y="1484280"/>
            <a:ext cx="2452680" cy="1147680"/>
          </a:xfrm>
          <a:prstGeom prst="ellipse">
            <a:avLst/>
          </a:prstGeom>
          <a:solidFill>
            <a:srgbClr val="bfbfb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R" sz="1000" spc="-1" strike="noStrike">
                <a:solidFill>
                  <a:srgbClr val="000000"/>
                </a:solidFill>
                <a:latin typeface="Arial"/>
              </a:rPr>
              <a:t>Forma de ingres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R" sz="1000" spc="-1" strike="noStrike">
                <a:solidFill>
                  <a:srgbClr val="000000"/>
                </a:solidFill>
                <a:latin typeface="Arial"/>
              </a:rPr>
              <a:t>abordaje inicial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5 Elipse"/>
          <p:cNvSpPr/>
          <p:nvPr/>
        </p:nvSpPr>
        <p:spPr>
          <a:xfrm>
            <a:off x="2195640" y="3357720"/>
            <a:ext cx="3889080" cy="1587240"/>
          </a:xfrm>
          <a:prstGeom prst="ellipse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R" sz="1400" spc="-1" strike="noStrike">
                <a:solidFill>
                  <a:srgbClr val="000000"/>
                </a:solidFill>
                <a:latin typeface="Arial"/>
              </a:rPr>
              <a:t>intervención  del equipo de protecció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6 Elipse"/>
          <p:cNvSpPr/>
          <p:nvPr/>
        </p:nvSpPr>
        <p:spPr>
          <a:xfrm>
            <a:off x="5672160" y="5634000"/>
            <a:ext cx="1828800" cy="609480"/>
          </a:xfrm>
          <a:prstGeom prst="ellipse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R" sz="1000" spc="-1" strike="noStrike">
                <a:solidFill>
                  <a:srgbClr val="000000"/>
                </a:solidFill>
                <a:latin typeface="Arial"/>
              </a:rPr>
              <a:t>Dictame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R" sz="1000" spc="-1" strike="noStrike">
                <a:solidFill>
                  <a:srgbClr val="000000"/>
                </a:solidFill>
                <a:latin typeface="Arial"/>
              </a:rPr>
              <a:t>interdisciplinario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7 Flecha derecha"/>
          <p:cNvSpPr/>
          <p:nvPr/>
        </p:nvSpPr>
        <p:spPr>
          <a:xfrm>
            <a:off x="4965840" y="2492280"/>
            <a:ext cx="830160" cy="453960"/>
          </a:xfrm>
          <a:prstGeom prst="rightArrow">
            <a:avLst>
              <a:gd name="adj1" fmla="val 50000"/>
              <a:gd name="adj2" fmla="val 39622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8 Flecha abajo"/>
          <p:cNvSpPr/>
          <p:nvPr/>
        </p:nvSpPr>
        <p:spPr>
          <a:xfrm>
            <a:off x="6249960" y="4605480"/>
            <a:ext cx="380880" cy="785520"/>
          </a:xfrm>
          <a:prstGeom prst="downArrow">
            <a:avLst>
              <a:gd name="adj1" fmla="val 50000"/>
              <a:gd name="adj2" fmla="val 28749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9 Flecha izquierda"/>
          <p:cNvSpPr/>
          <p:nvPr/>
        </p:nvSpPr>
        <p:spPr>
          <a:xfrm>
            <a:off x="4840200" y="6048360"/>
            <a:ext cx="762120" cy="419040"/>
          </a:xfrm>
          <a:prstGeom prst="leftArrow">
            <a:avLst>
              <a:gd name="adj1" fmla="val 50000"/>
              <a:gd name="adj2" fmla="val 4546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10 Flecha izquierda"/>
          <p:cNvSpPr/>
          <p:nvPr/>
        </p:nvSpPr>
        <p:spPr>
          <a:xfrm>
            <a:off x="2077920" y="5581800"/>
            <a:ext cx="866880" cy="409320"/>
          </a:xfrm>
          <a:prstGeom prst="leftArrow">
            <a:avLst>
              <a:gd name="adj1" fmla="val 54231"/>
              <a:gd name="adj2" fmla="val 46661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183960" y="427680"/>
            <a:ext cx="440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152280" y="60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4617b"/>
                </a:solidFill>
                <a:latin typeface="Arial"/>
              </a:rPr>
              <a:t>Ley 872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660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TIV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ger los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derecho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de las víctimas, testigos y otros sujetos intervinientes en el proceso pe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ular las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medidas de protecció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raprocesales y su procedimie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1 Rectángulo"/>
          <p:cNvSpPr/>
          <p:nvPr/>
        </p:nvSpPr>
        <p:spPr>
          <a:xfrm>
            <a:off x="1258920" y="1720800"/>
            <a:ext cx="6408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ordinaciones  interinstituciona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aloraciones domicilia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guimientos telefónicos tanto a usuarios como a instituciones donde se tienen trámites pend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ordinaciones con centros educativos para ingreso y egreso de estudiantes usuarios del programa que se reubic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esorías en trámites socia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ención  e intervención en cris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úsqueda permanente de recursos institucionales y redes de apoy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1979640" y="274680"/>
            <a:ext cx="6707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b4a83"/>
                </a:solidFill>
                <a:latin typeface="Calibri"/>
              </a:rPr>
              <a:t>Programa de Atenci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66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eg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sicologí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rabajo Soc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1979640" y="190440"/>
            <a:ext cx="67071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b4a83"/>
                </a:solidFill>
                <a:latin typeface="Calibri"/>
              </a:rPr>
              <a:t>Programa de Atención</a:t>
            </a:r>
            <a:br>
              <a:rPr sz="4000"/>
            </a:br>
            <a:r>
              <a:rPr b="1" lang="en-GB" sz="4000" spc="-1" strike="noStrike">
                <a:solidFill>
                  <a:srgbClr val="0b4a83"/>
                </a:solidFill>
                <a:latin typeface="Calibri"/>
              </a:rPr>
              <a:t>área Lega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457200" y="1600200"/>
            <a:ext cx="822960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No sustituye la obligación del Fiscal de información y tra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ientación  sobre los procedimientos judiciales, derechos de las víctimas, proceso de denuncia y participación proces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fensa de los derechos de las personas víctimas, sin asumir represent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1979640" y="190440"/>
            <a:ext cx="67071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b4a83"/>
                </a:solidFill>
                <a:latin typeface="Calibri"/>
              </a:rPr>
              <a:t>Programa de Atención</a:t>
            </a:r>
            <a:br>
              <a:rPr sz="4000"/>
            </a:br>
            <a:r>
              <a:rPr b="1" lang="en-GB" sz="4000" spc="-1" strike="noStrike">
                <a:solidFill>
                  <a:srgbClr val="0b4a83"/>
                </a:solidFill>
                <a:latin typeface="Calibri"/>
              </a:rPr>
              <a:t>área Lega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457200" y="1600200"/>
            <a:ext cx="82296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formación sobre la solicitud y trámite de mediidas de protec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eguimiento de caus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compañamiento a audienci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tr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979640" y="190440"/>
            <a:ext cx="67071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b4a83"/>
                </a:solidFill>
                <a:latin typeface="Calibri"/>
              </a:rPr>
              <a:t>Programa de Atención</a:t>
            </a:r>
            <a:br>
              <a:rPr sz="4000"/>
            </a:br>
            <a:r>
              <a:rPr b="1" lang="en-GB" sz="4000" spc="-1" strike="noStrike">
                <a:solidFill>
                  <a:srgbClr val="0b4a83"/>
                </a:solidFill>
                <a:latin typeface="Calibri"/>
              </a:rPr>
              <a:t>área Psicologí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457200" y="1600200"/>
            <a:ext cx="82296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tención psicoterapéutica individual y/o grupal a la víctima que reduzca el impacto emocional sufrido por el delito, facilitándole alternativas para la recuperación integral y empoderamie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nstrucción de procesos de intervención dirigidos al ajuste emocional y físico de la víctima, que permitan su participación dentro del espacio judicial, evitando su revictimiz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"/>
          <p:cNvSpPr/>
          <p:nvPr/>
        </p:nvSpPr>
        <p:spPr>
          <a:xfrm>
            <a:off x="1979640" y="190440"/>
            <a:ext cx="67071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b4a83"/>
                </a:solidFill>
                <a:latin typeface="Calibri"/>
              </a:rPr>
              <a:t>Programa de Atención</a:t>
            </a:r>
            <a:br>
              <a:rPr sz="4000"/>
            </a:br>
            <a:r>
              <a:rPr b="1" lang="en-GB" sz="4000" spc="-1" strike="noStrike">
                <a:solidFill>
                  <a:srgbClr val="0b4a83"/>
                </a:solidFill>
                <a:latin typeface="Calibri"/>
              </a:rPr>
              <a:t>área Psicologí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2"/>
          <p:cNvSpPr/>
          <p:nvPr/>
        </p:nvSpPr>
        <p:spPr>
          <a:xfrm>
            <a:off x="457200" y="1600200"/>
            <a:ext cx="82296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a sensibilización del personal judicial que atiende esta pobl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"/>
          <p:cNvSpPr/>
          <p:nvPr/>
        </p:nvSpPr>
        <p:spPr>
          <a:xfrm>
            <a:off x="1979640" y="190440"/>
            <a:ext cx="67071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b4a83"/>
                </a:solidFill>
                <a:latin typeface="Calibri"/>
              </a:rPr>
              <a:t>Programa de Atención</a:t>
            </a:r>
            <a:br>
              <a:rPr sz="4000"/>
            </a:br>
            <a:r>
              <a:rPr b="1" lang="en-GB" sz="4000" spc="-1" strike="noStrike">
                <a:solidFill>
                  <a:srgbClr val="0b4a83"/>
                </a:solidFill>
                <a:latin typeface="Calibri"/>
              </a:rPr>
              <a:t>área Trabajo Socia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457200" y="1600200"/>
            <a:ext cx="82296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a construcción de estrategias de afrontamiento de la situación denunciada con la persona referi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a movilización de recursos personales, comunales y/o institucionales que permitan a la persona articularse a un proceso pe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979640" y="190440"/>
            <a:ext cx="67071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b4a83"/>
                </a:solidFill>
                <a:latin typeface="Calibri"/>
              </a:rPr>
              <a:t>Programa de Atención</a:t>
            </a:r>
            <a:br>
              <a:rPr sz="4000"/>
            </a:br>
            <a:r>
              <a:rPr b="1" lang="en-GB" sz="4000" spc="-1" strike="noStrike">
                <a:solidFill>
                  <a:srgbClr val="0b4a83"/>
                </a:solidFill>
                <a:latin typeface="Calibri"/>
              </a:rPr>
              <a:t>área Trabajo Socia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457200" y="1600200"/>
            <a:ext cx="822960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a promoción de procesos de apoyo y/o contención durante el proceso pe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a identificación de aspectos adversos que puedan incidir en la participación de la  persona en el proceso pe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a participación en las redes de apoyo local que procuren la sensibilización  sobre las poblaciones atendiidas y que se reconocen más vulnerab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"/>
          <p:cNvSpPr/>
          <p:nvPr/>
        </p:nvSpPr>
        <p:spPr>
          <a:xfrm>
            <a:off x="1979640" y="190440"/>
            <a:ext cx="67071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b4a83"/>
                </a:solidFill>
                <a:latin typeface="Calibri"/>
              </a:rPr>
              <a:t>Programa de Atención</a:t>
            </a:r>
            <a:br>
              <a:rPr sz="4000"/>
            </a:br>
            <a:r>
              <a:rPr b="1" lang="en-GB" sz="4000" spc="-1" strike="noStrike">
                <a:solidFill>
                  <a:srgbClr val="0b4a83"/>
                </a:solidFill>
                <a:latin typeface="Calibri"/>
              </a:rPr>
              <a:t>área Trabajo Socia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457200" y="1600200"/>
            <a:ext cx="82296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a sensibilización del personal judicial con respecto a las víctimas y su participación en los espacios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Arial"/>
              </a:rPr>
              <a:t>Elaborar un instrumento de valoración de riesgo especifico para violencia de genero </a:t>
            </a:r>
            <a:r>
              <a:rPr b="0" lang="es-CR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                     </a:t>
            </a:r>
            <a:r>
              <a:rPr b="0" lang="es-CR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Ficha de valoración de peligros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4 Objeto"/>
          <p:cNvGraphicFramePr/>
          <p:nvPr/>
        </p:nvGraphicFramePr>
        <p:xfrm>
          <a:off x="3708360" y="4005360"/>
          <a:ext cx="914400" cy="77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4 Objeto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400536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4617b"/>
                </a:solidFill>
                <a:latin typeface="Arial"/>
              </a:rPr>
              <a:t>Visión legal integral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539640" y="1500120"/>
            <a:ext cx="8229600" cy="50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 reforma el Código Procesal Penal, para introducir normas que rescatan los derechos de la víctima en el proceso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Arial"/>
              </a:rPr>
              <a:t>Formulario de referencia  y contrareferen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3 Objeto"/>
          <p:cNvGraphicFramePr/>
          <p:nvPr/>
        </p:nvGraphicFramePr>
        <p:xfrm>
          <a:off x="3851280" y="2997360"/>
          <a:ext cx="91440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3 Objeto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99736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flex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Group 2"/>
          <p:cNvGrpSpPr/>
          <p:nvPr/>
        </p:nvGrpSpPr>
        <p:grpSpPr>
          <a:xfrm>
            <a:off x="450720" y="1878120"/>
            <a:ext cx="8585280" cy="4249800"/>
            <a:chOff x="450720" y="1878120"/>
            <a:chExt cx="8585280" cy="4249800"/>
          </a:xfrm>
        </p:grpSpPr>
        <p:pic>
          <p:nvPicPr>
            <p:cNvPr id="181" name="Picture 3" descr=""/>
            <p:cNvPicPr/>
            <p:nvPr/>
          </p:nvPicPr>
          <p:blipFill>
            <a:blip r:embed="rId1"/>
            <a:stretch/>
          </p:blipFill>
          <p:spPr>
            <a:xfrm>
              <a:off x="450720" y="1878120"/>
              <a:ext cx="8585280" cy="424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4"/>
            <p:cNvSpPr/>
            <p:nvPr/>
          </p:nvSpPr>
          <p:spPr>
            <a:xfrm>
              <a:off x="450720" y="1878120"/>
              <a:ext cx="8585280" cy="42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1390680" y="2700360"/>
            <a:ext cx="6524640" cy="1571760"/>
            <a:chOff x="1390680" y="2700360"/>
            <a:chExt cx="6524640" cy="1571760"/>
          </a:xfrm>
        </p:grpSpPr>
        <p:pic>
          <p:nvPicPr>
            <p:cNvPr id="184" name="Picture 2" descr=""/>
            <p:cNvPicPr/>
            <p:nvPr/>
          </p:nvPicPr>
          <p:blipFill>
            <a:blip r:embed="rId1"/>
            <a:stretch/>
          </p:blipFill>
          <p:spPr>
            <a:xfrm>
              <a:off x="1390680" y="2700360"/>
              <a:ext cx="65246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3"/>
            <p:cNvSpPr/>
            <p:nvPr/>
          </p:nvSpPr>
          <p:spPr>
            <a:xfrm>
              <a:off x="1452600" y="2733840"/>
              <a:ext cx="641016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GB" sz="4400" spc="-1" strike="noStrike">
                  <a:solidFill>
                    <a:srgbClr val="ffffff"/>
                  </a:solidFill>
                  <a:latin typeface="Calibri"/>
                </a:rPr>
                <a:t>¡Muchas Gracias!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4617b"/>
                </a:solidFill>
                <a:latin typeface="Arial"/>
              </a:rPr>
              <a:t>Visión legal integr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damentada en los enfoques de derechos, género, generacional, etnicos y contextu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 accesible, continúa, eficaz, ágil, oportuna, confiable, confidencial, segura, de calidad, que garantice la integridad de las person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e contemple la atención de los diferentes tipos de violenc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4617b"/>
                </a:solidFill>
                <a:latin typeface="Arial"/>
              </a:rPr>
              <a:t>PRINCIPI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2"/>
          <p:cNvSpPr/>
          <p:nvPr/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e2d7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50004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e2d7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652320" y="2224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e2d7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642960" y="1571760"/>
            <a:ext cx="822960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e2d7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2890800" y="98280"/>
            <a:ext cx="2304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642960" y="1571760"/>
            <a:ext cx="822960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oda persona es sujeto de derech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Nada justifica la viole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La violencia es aprendida y se puede desapre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La violencia es un problema multifactorial por lo que requiere un abordaje interdisciplinario intersectori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457200" y="785880"/>
            <a:ext cx="8229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4617b"/>
                </a:solidFill>
                <a:latin typeface="Arial"/>
              </a:rPr>
              <a:t>Áreas de competenci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539640" y="2060640"/>
            <a:ext cx="8229600" cy="55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e2d7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2d7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2d7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CES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TECCIÓ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TRAPROCESAL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APV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G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ENCIÓ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TRABAJO SO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SICOLOG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e2d7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2d7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2d7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3"/>
          <p:cNvSpPr/>
          <p:nvPr/>
        </p:nvSpPr>
        <p:spPr>
          <a:xfrm>
            <a:off x="4464000" y="2179800"/>
            <a:ext cx="214200" cy="1069920"/>
          </a:xfrm>
          <a:custGeom>
            <a:avLst/>
            <a:gdLst>
              <a:gd name="textAreaLeft" fmla="*/ 136800 w 214200"/>
              <a:gd name="textAreaRight" fmla="*/ 214560 w 214200"/>
              <a:gd name="textAreaTop" fmla="*/ 5400 h 1069920"/>
              <a:gd name="textAreaBottom" fmla="*/ 1064520 h 1069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0"/>
                  <a:pt x="10800" y="360"/>
                </a:cubicBezTo>
                <a:lnTo>
                  <a:pt x="10800" y="10440"/>
                </a:lnTo>
                <a:cubicBezTo>
                  <a:pt x="10800" y="10620"/>
                  <a:pt x="5400" y="10800"/>
                  <a:pt x="0" y="10800"/>
                </a:cubicBezTo>
                <a:cubicBezTo>
                  <a:pt x="5400" y="10800"/>
                  <a:pt x="10800" y="10980"/>
                  <a:pt x="10800" y="11160"/>
                </a:cubicBezTo>
                <a:lnTo>
                  <a:pt x="10800" y="21240"/>
                </a:lnTo>
                <a:cubicBezTo>
                  <a:pt x="10800" y="2142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a6d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4154400" y="4861080"/>
            <a:ext cx="500040" cy="128556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1285560"/>
              <a:gd name="textAreaBottom" fmla="*/ 1272600 h 1285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50"/>
                  <a:pt x="10800" y="700"/>
                </a:cubicBezTo>
                <a:lnTo>
                  <a:pt x="10800" y="10100"/>
                </a:lnTo>
                <a:cubicBezTo>
                  <a:pt x="10800" y="10450"/>
                  <a:pt x="5400" y="10800"/>
                  <a:pt x="0" y="10800"/>
                </a:cubicBezTo>
                <a:cubicBezTo>
                  <a:pt x="5400" y="10800"/>
                  <a:pt x="10800" y="11150"/>
                  <a:pt x="10800" y="11500"/>
                </a:cubicBezTo>
                <a:lnTo>
                  <a:pt x="10800" y="20900"/>
                </a:lnTo>
                <a:cubicBezTo>
                  <a:pt x="10800" y="2125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a6d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1547640" y="2565360"/>
            <a:ext cx="857520" cy="2714760"/>
          </a:xfrm>
          <a:custGeom>
            <a:avLst/>
            <a:gdLst>
              <a:gd name="textAreaLeft" fmla="*/ 547920 w 857520"/>
              <a:gd name="textAreaRight" fmla="*/ 857880 w 857520"/>
              <a:gd name="textAreaTop" fmla="*/ 22320 h 2714760"/>
              <a:gd name="textAreaBottom" fmla="*/ 2692440 h 271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84"/>
                  <a:pt x="10800" y="568"/>
                </a:cubicBezTo>
                <a:lnTo>
                  <a:pt x="10800" y="10232"/>
                </a:lnTo>
                <a:cubicBezTo>
                  <a:pt x="10800" y="10516"/>
                  <a:pt x="5400" y="10800"/>
                  <a:pt x="0" y="10800"/>
                </a:cubicBezTo>
                <a:cubicBezTo>
                  <a:pt x="5400" y="10800"/>
                  <a:pt x="10800" y="11084"/>
                  <a:pt x="10800" y="11368"/>
                </a:cubicBezTo>
                <a:lnTo>
                  <a:pt x="10800" y="21032"/>
                </a:lnTo>
                <a:cubicBezTo>
                  <a:pt x="10800" y="21316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a6d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4617b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4617b"/>
                </a:solidFill>
                <a:latin typeface="Arial"/>
              </a:rPr>
              <a:t>Ámbito de Aplicación en Protecció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539640" y="1500120"/>
            <a:ext cx="8229600" cy="77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6600" algn="just"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Que se trate de una persona bajo protecció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67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Presunción fundada de que existe un </a:t>
            </a:r>
            <a:r>
              <a:rPr b="1" lang="en-GB" sz="2700" spc="-1" strike="noStrike" u="sng">
                <a:solidFill>
                  <a:srgbClr val="000000"/>
                </a:solidFill>
                <a:uFillTx/>
                <a:latin typeface="Arial"/>
              </a:rPr>
              <a:t>riesgo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 para la vida o integridad física de la persona, como consecuencia de su intervención y/o su nexo con quien interviene en la investigación de un hecho </a:t>
            </a:r>
            <a:r>
              <a:rPr b="1" lang="en-GB" sz="2700" spc="-1" strike="noStrike" u="sng">
                <a:solidFill>
                  <a:srgbClr val="000000"/>
                </a:solidFill>
                <a:uFillTx/>
                <a:latin typeface="Arial"/>
              </a:rPr>
              <a:t>presuntamente delictivo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art.4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67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Podrá otorgarse la protección aun cuando la denuncia no se haya interpuesto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 algn="just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04617b"/>
                </a:solidFill>
                <a:latin typeface="Arial"/>
              </a:rPr>
              <a:t>  </a:t>
            </a:r>
            <a:r>
              <a:rPr b="0" lang="en-GB" sz="4000" spc="-1" strike="noStrike">
                <a:solidFill>
                  <a:srgbClr val="04617b"/>
                </a:solidFill>
                <a:latin typeface="Arial"/>
              </a:rPr>
              <a:t>Administración del Progra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539640" y="1500120"/>
            <a:ext cx="8229600" cy="75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75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rresponde a la Oficina de Atención a la Víctima del Delito del Ministerio Público,(OAVD) dentro de sus funciones d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tención y asistencia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das las víctimas de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elito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ministrar el Programa de protección de víctimas, testigos y demás sujetos intervinientes en el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oceso pena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rt.6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04617b"/>
                </a:solidFill>
                <a:latin typeface="Arial"/>
              </a:rPr>
              <a:t>  </a:t>
            </a:r>
            <a:r>
              <a:rPr b="0" lang="en-GB" sz="4000" spc="-1" strike="noStrike">
                <a:solidFill>
                  <a:srgbClr val="04617b"/>
                </a:solidFill>
                <a:latin typeface="Arial"/>
              </a:rPr>
              <a:t>Principios del programa de protecció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539640" y="1714680"/>
            <a:ext cx="8229600" cy="86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75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700" spc="-1" strike="noStrike">
                <a:solidFill>
                  <a:srgbClr val="000000"/>
                </a:solidFill>
                <a:latin typeface="Arial"/>
              </a:rPr>
              <a:t>Protección:  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Primordial la protección de la vida, la integridad física, la libertad y la segurida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700" spc="-1" strike="noStrike">
                <a:solidFill>
                  <a:srgbClr val="000000"/>
                </a:solidFill>
                <a:latin typeface="Arial"/>
              </a:rPr>
              <a:t>Proporcionalidad y necesidad: 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Las medidas responderán al nivel de riesgo o peligro, y solo podrán ser aplicadas en cuanto sean necesarias para garantizar su seguridad o reducir el riesgo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700" spc="-1" strike="noStrike">
                <a:solidFill>
                  <a:srgbClr val="000000"/>
                </a:solidFill>
                <a:latin typeface="Arial"/>
              </a:rPr>
              <a:t>Confidencialidad: 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La información es reservada para los fines del proceso e investigación respectiva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33804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rancisco</dc:creator>
  <dc:description/>
  <dc:language>en-US</dc:language>
  <cp:lastModifiedBy>Marielos Rojas Espinoza</cp:lastModifiedBy>
  <cp:lastPrinted>2014-12-02T22:16:59Z</cp:lastPrinted>
  <dcterms:modified xsi:type="dcterms:W3CDTF">2014-12-02T22:19:12Z</dcterms:modified>
  <cp:revision>22</cp:revision>
  <dc:subject/>
  <dc:title>Diapositiva 1</dc:title>
</cp:coreProperties>
</file>