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884760" y="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6084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6080" bIns="46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172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C5184-91A9-45FB-A5C9-C0E8B334E69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3A238-045C-4BA6-BB25-6701C817A9E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98EE1-F548-4598-AB22-D9B853BB57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13DE6-BD3D-43D1-9119-B71B3F92E85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576FE-A847-4934-BCE8-BDC1DB678D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51CCF-2502-42D5-ADDA-6980A1AC6CB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9A6CB-EFFB-4118-8D34-D520031BE9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75B9-2531-47A4-9ED7-50050544294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5792-C3DD-471E-9475-08AC37BF30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8AE6A-75FB-4E38-9434-463F9271D9B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87E5B-A36E-4807-BAE7-76506FCEBD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E426F-8D8E-40EA-B2C3-CF2D6E7F497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17990-EB9B-41C1-8AD8-6676B0BD3E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5B4C4-9C14-4BC5-9B74-5E7C6CD1946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76BEC-6F04-46D2-8404-A704EAD5CC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1069D-997E-4F04-8D90-1D0E9D4FE43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953CC-7BC6-45C2-A20D-4615234DF1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18C09-8F8E-4C73-A8BA-5D9D642CD65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9AF88-07B6-4DB8-BCF2-846144B290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651F1-E597-439F-B061-8DD8A5274D9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5B91D-09C4-46FF-9D9D-FE73E81849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29B7-A54B-4B9B-9745-6481DF29AF9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60B3C-A77F-421D-9A28-246CB08F7B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5338-F05A-44EE-9979-EC866D341A4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66F8B-6147-483E-9BC3-9871240832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22FA4-772E-4E78-BC6C-0B73CDEAFF0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F6F1-B9D6-4EC3-8B82-51B5CD1DF9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3A784-3B47-491A-A80C-5ECAA0136FF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94C99-C996-437B-A4D0-DC9D771C41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8065A-7EEA-4A89-9400-958E291DD5C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DC716-080A-4F3D-8319-7CEF6EB331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BB2F2-431E-4FB0-B791-26C1D664A49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F660-04AF-4044-BBB3-1D378E5863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1F648-26D1-444D-84A8-223FEAB4C1F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F1AB1-F2C4-44B2-89A0-12E072F424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B5325-1152-4F17-BEE0-975E064019B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4F5CB-DAA3-413B-A83D-2625E422DB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8F652-BCEA-47CE-85D3-0D05A8C00DD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BF3F-5DFF-43CD-9146-9AD4ED5028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9AB0-B9A0-4158-8192-E3BE61559FE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AB8E4-976F-4C10-85A3-87A217B685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D14F3-BA63-4236-823D-31EF962E53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AC6B4-4E10-46D0-8B05-997C962E10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54AD5-C76D-4422-8BEB-E0C27D00619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0F208-DCD6-4ACC-BA22-6AADB5CBA7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D5AF-8F1D-462F-81AF-97138A2CF82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12C69-C9C2-4B6F-9CDE-39D95934D7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335BA-F5E0-4326-BCD1-51579277956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69056-E27A-4A19-8CC4-80D3F477B4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A90DB-FA88-467D-9CA6-BAD841DFD8B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FB44B-289D-4BAC-83EF-B064261FA9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4CA81-71FA-4DFA-A4A0-FACEA408DCA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2972C-E30C-4DF4-ADF0-E6E8EDC454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F2BBF-1D08-470E-B529-5CCE3DCB497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63A17-4ED9-41E4-A61F-828E010E83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6BB44-B90A-4E5D-BD12-5AEE9760745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9719C-DACE-452F-BE8D-F426DBE85B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F391-FB59-4A4B-86A1-222AB0AA8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8773-B757-4CCE-96FD-D981562AD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B5D4-9575-4F4C-84A7-15EC9B2BA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A758-6E1C-43D8-A66E-486D66B0A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DC2D-CB3F-447D-939C-511FDED105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BFD7-36BC-4E5B-8501-36C56B26F3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1160-253E-40E5-9AFA-4B08C31E01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3D5A-E59D-4069-A465-3B548F4EE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DFEE-17C2-45DC-80AF-4BBDD22FF2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B292-A4CF-4AB8-A6EE-286906C4B6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7DD3-491D-4640-B81A-EF9DF418A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F0E7-70E2-4F23-B656-DA4C74212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235D-FC0D-49D3-BDC1-CBF5336EB5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6F17-943F-4495-8099-E3020F04A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73E4-AF56-4B63-A3EC-A94045ADF4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522C-7E43-4E42-A376-5F3ECFD4BB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28CC-722A-4AD1-9675-23560F018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C97A-363C-4576-8925-DB9501409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3E09-1CBA-4A22-A434-DBD68C565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77CF-D9F4-462F-927F-2102DC94D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F713-FC88-41FC-9A46-8B0B427B1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9AD2-7190-40BB-8FB3-865A6C24B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1E8B-12EE-4F9A-A835-AFCEF2E04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D3E2-7E5A-4E94-8864-DFE89CA08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356520"/>
            <a:ext cx="2130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A5EA21-C494-47E3-B1E6-D04932366FD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-13644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57200" y="6356520"/>
            <a:ext cx="2130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C0F494-170A-4C8A-8A1B-D64C053012CD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Users/mrojase/Desktop/curso%20%20viol%20genero/Ficha%20de%20valoraci&#243;n%20de%20peligrosidad.pptx" TargetMode="External"/><Relationship Id="rId2" Type="http://schemas.openxmlformats.org/officeDocument/2006/relationships/hyperlink" Target="file:///../Ficha%20de%20valoraci&#243;n%20de%20peligrosidad.docx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85800" y="1357200"/>
            <a:ext cx="77724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826920" y="3933720"/>
            <a:ext cx="7344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Arial"/>
              </a:rPr>
              <a:t>Oficina de Atención y Protección a la Víctima de Deli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53-293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53-294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x  2253-294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5589720"/>
            <a:ext cx="70344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"/>
          <p:cNvSpPr/>
          <p:nvPr/>
        </p:nvSpPr>
        <p:spPr>
          <a:xfrm>
            <a:off x="838080" y="1509840"/>
            <a:ext cx="77724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Arial"/>
              </a:rPr>
              <a:t>Curso de formación sobre el contenido del Protocolo Regional de Investigación y los procesos de adaptación nacional dirigido a fiscales y policías en Costa 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39640" y="1500120"/>
            <a:ext cx="8229600" cy="9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dad de Protección = conformada por los equipos técnicos evaluado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Crimi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Psic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Trabajo Social o Soci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Derec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po de protección = conformado por agentes de seguridad del  O.I.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Referencia al program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39640" y="2060640"/>
            <a:ext cx="82296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scalía  ( circular 1-2004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dica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ía Jud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querell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.S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ntari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539640" y="1500120"/>
            <a:ext cx="8229600" cy="9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técnicos evaluador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itir informe para el otorgamiento, l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icación o la supresión de las medi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protección solicit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endar las medidas de protección 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écnicamente considere convenientes par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ca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citar, a las instituciones públicas 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vadas, la información necesaria para s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cta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9640" y="1500120"/>
            <a:ext cx="8229600" cy="83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técnicos evaluado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tionar la asistencia necesaria para l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s sujetas a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 seguimiento a los casos de las person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jo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sar, cada seis meses, las medidas 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ción en ejecución y rendir un informe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ndo la medida acordada supere e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539640" y="1500120"/>
            <a:ext cx="8229600" cy="83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de Protec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cutar las medidas materiales de protección, en los casos en que se requieran acompañamiento o vigilancia de la persona proteg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r a los equipos técnicos evaluadores sobre el desarrollo de la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mplir las demás actividades que le encomiende la OAVD del Ministerio Públ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979640" y="274680"/>
            <a:ext cx="67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Arial"/>
              </a:rPr>
              <a:t>PROTECCIÓN PROCE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a de la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cción de las características físicas individualiz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24000" y="176040"/>
            <a:ext cx="6573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Arial"/>
              </a:rPr>
              <a:t>PROTECCIÓN EXTRAPROCE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rull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ompañamiento a diligencias judi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bicación temp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bicación perman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das blan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714680" y="333360"/>
            <a:ext cx="6114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ORGANIZACIONES</a:t>
            </a:r>
            <a:br>
              <a:rPr sz="3600"/>
            </a:b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COOPER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dia y patrull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Seguridad Pública (MS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idad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pec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Apoyo (UE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licía de Proxim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smo de Investigación Judicial (OIJ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icina de Planes y Operaciones (OP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entes de protección (establecido en la Ley de Protecció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la Presi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rección de Inteligencia y Seguridad (D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Jus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vados de libert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ORGANIZACIONES</a:t>
            </a:r>
            <a:br>
              <a:rPr sz="3600"/>
            </a:b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COOPER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ubicación y alberg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ja Costarricense del Segur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Mixto de Ayuda Social (IMA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de Vivienda y Urbanismo (INVU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Trabajo y Seguridad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mediación y Prospección de Emp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NAM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Nacional de las Mujeres (INAMU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ntro Operativo de Atención a la Violencia Intrafamiliar (COAVIF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legación de la Muj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tronato Nacional de la Infancia (PANI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sobre Alcoholismo y Farmacodependencia (IAFA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881680" y="1952640"/>
            <a:ext cx="3094200" cy="4308480"/>
          </a:xfrm>
          <a:prstGeom prst="rect">
            <a:avLst/>
          </a:prstGeom>
          <a:solidFill>
            <a:srgbClr val="0f6f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cohólicos Anónim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gar Salvando al Alcohó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ianza Por tu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sa Alianza Intern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ociación Cep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gares C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fém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zación Internacional del Trabajo (OIT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dación Ser y Cre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dación V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Elipse"/>
          <p:cNvSpPr/>
          <p:nvPr/>
        </p:nvSpPr>
        <p:spPr>
          <a:xfrm>
            <a:off x="3306600" y="5581800"/>
            <a:ext cx="1533600" cy="8856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Segu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(coordinació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Intersectorial 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2 Elipse"/>
          <p:cNvSpPr/>
          <p:nvPr/>
        </p:nvSpPr>
        <p:spPr>
          <a:xfrm>
            <a:off x="442800" y="3500280"/>
            <a:ext cx="1609920" cy="10843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compañamien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 diligencias judicial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3 Elipse"/>
          <p:cNvSpPr/>
          <p:nvPr/>
        </p:nvSpPr>
        <p:spPr>
          <a:xfrm>
            <a:off x="6586560" y="3645000"/>
            <a:ext cx="1851120" cy="9604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Entrevista  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valoración de riesg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4 Elipse"/>
          <p:cNvSpPr/>
          <p:nvPr/>
        </p:nvSpPr>
        <p:spPr>
          <a:xfrm>
            <a:off x="2387520" y="1484280"/>
            <a:ext cx="2452680" cy="11476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Forma de ingre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bordaje inici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5 Elipse"/>
          <p:cNvSpPr/>
          <p:nvPr/>
        </p:nvSpPr>
        <p:spPr>
          <a:xfrm>
            <a:off x="2195640" y="3357720"/>
            <a:ext cx="3889080" cy="158724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intervención  del equipo de prote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6 Elipse"/>
          <p:cNvSpPr/>
          <p:nvPr/>
        </p:nvSpPr>
        <p:spPr>
          <a:xfrm>
            <a:off x="5672160" y="5634000"/>
            <a:ext cx="1828800" cy="6094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Dictam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interdisciplinario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7 Flecha derecha"/>
          <p:cNvSpPr/>
          <p:nvPr/>
        </p:nvSpPr>
        <p:spPr>
          <a:xfrm>
            <a:off x="4965840" y="2492280"/>
            <a:ext cx="830160" cy="453960"/>
          </a:xfrm>
          <a:prstGeom prst="rightArrow">
            <a:avLst>
              <a:gd name="adj1" fmla="val 50000"/>
              <a:gd name="adj2" fmla="val 39622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8 Flecha abajo"/>
          <p:cNvSpPr/>
          <p:nvPr/>
        </p:nvSpPr>
        <p:spPr>
          <a:xfrm>
            <a:off x="6249960" y="4605480"/>
            <a:ext cx="380880" cy="785520"/>
          </a:xfrm>
          <a:prstGeom prst="downArrow">
            <a:avLst>
              <a:gd name="adj1" fmla="val 50000"/>
              <a:gd name="adj2" fmla="val 28749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9 Flecha izquierda"/>
          <p:cNvSpPr/>
          <p:nvPr/>
        </p:nvSpPr>
        <p:spPr>
          <a:xfrm>
            <a:off x="4840200" y="6048360"/>
            <a:ext cx="762120" cy="419040"/>
          </a:xfrm>
          <a:prstGeom prst="leftArrow">
            <a:avLst>
              <a:gd name="adj1" fmla="val 50000"/>
              <a:gd name="adj2" fmla="val 4546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10 Flecha izquierda"/>
          <p:cNvSpPr/>
          <p:nvPr/>
        </p:nvSpPr>
        <p:spPr>
          <a:xfrm>
            <a:off x="2077920" y="5581800"/>
            <a:ext cx="866880" cy="409320"/>
          </a:xfrm>
          <a:prstGeom prst="leftArrow">
            <a:avLst>
              <a:gd name="adj1" fmla="val 54231"/>
              <a:gd name="adj2" fmla="val 46661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83960" y="4276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Ley 87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ger lo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rech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 las víctimas, testigos y otros sujetos intervinientes en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r la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edidas de protecció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procesales y su procedi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Rectángulo"/>
          <p:cNvSpPr/>
          <p:nvPr/>
        </p:nvSpPr>
        <p:spPr>
          <a:xfrm>
            <a:off x="1258920" y="1720800"/>
            <a:ext cx="640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ones  interinstitucio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aciones domicili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imientos telefónicos tanto a usuarios como a instituciones donde se tienen trámites pend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ones con centros educativos para ingreso y egreso de estudiantes usuarios del programa que se reubic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sorías en trámites so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nción  e intervención en cri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úsqueda permanente de recursos institucionales y redes de apo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979640" y="274680"/>
            <a:ext cx="67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sic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bajo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Leg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60020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o sustituye la obligación del Fiscal de información y tr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entación  sobre los procedimientos judiciales, derechos de las víctimas, proceso de denuncia y participación proce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ensa de los derechos de las personas víctimas, sin asumir represen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Leg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ción sobre la solicitud y trámite de mediidas de prot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guimiento de cau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ompañamiento a audi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Psicolog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ención psicoterapéutica individual y/o grupal a la víctima que reduzca el impacto emocional sufrido por el delito, facilitándole alternativas para la recuperación integral y empoder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trucción de procesos de intervención dirigidos al ajuste emocional y físico de la víctima, que permitan su participación dentro del espacio judicial, evitando su revictim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Psicolog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sensibilización del personal judicial que atiende est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construcción de estrategias de afrontamiento de la situación denunciada con la persona refe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movilización de recursos personales, comunales y/o institucionales que permitan a la persona articularse a un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60020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promoción de procesos de apoyo y/o contención durante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identificación de aspectos adversos que puedan incidir en la participación de la  persona en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participación en las redes de apoyo local que procuren la sensibilización  sobre las poblaciones atendiidas y que se reconocen más vulne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sensibilización del personal judicial con respecto a las víctimas y su participación en los espacio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aborar un instrumento de valoración de riesgo especifico para violencia de genero </a:t>
            </a:r>
            <a:r>
              <a:rPr b="0" lang="es-CR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                    </a:t>
            </a:r>
            <a:r>
              <a:rPr b="0" lang="es-C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icha de valoración de peligr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4 Objeto"/>
          <p:cNvGraphicFramePr/>
          <p:nvPr/>
        </p:nvGraphicFramePr>
        <p:xfrm>
          <a:off x="3708360" y="4005360"/>
          <a:ext cx="9144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4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Visión legal integr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50012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reforma el Código Procesal Penal, para introducir normas que rescatan los derechos de la víctima en el proceso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Formulario de referencia  y contraref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3 Objeto"/>
          <p:cNvGraphicFramePr/>
          <p:nvPr/>
        </p:nvGraphicFramePr>
        <p:xfrm>
          <a:off x="3851280" y="299736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3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lex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450720" y="1878120"/>
            <a:ext cx="8585280" cy="4249800"/>
            <a:chOff x="450720" y="1878120"/>
            <a:chExt cx="8585280" cy="4249800"/>
          </a:xfrm>
        </p:grpSpPr>
        <p:pic>
          <p:nvPicPr>
            <p:cNvPr id="181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1878120"/>
              <a:ext cx="85852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450720" y="1878120"/>
              <a:ext cx="8585280" cy="42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390680" y="2700360"/>
            <a:ext cx="6524640" cy="1571760"/>
            <a:chOff x="1390680" y="2700360"/>
            <a:chExt cx="6524640" cy="1571760"/>
          </a:xfrm>
        </p:grpSpPr>
        <p:pic>
          <p:nvPicPr>
            <p:cNvPr id="184" name="Picture 2" descr=""/>
            <p:cNvPicPr/>
            <p:nvPr/>
          </p:nvPicPr>
          <p:blipFill>
            <a:blip r:embed="rId1"/>
            <a:stretch/>
          </p:blipFill>
          <p:spPr>
            <a:xfrm>
              <a:off x="1390680" y="2700360"/>
              <a:ext cx="65246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"/>
            <p:cNvSpPr/>
            <p:nvPr/>
          </p:nvSpPr>
          <p:spPr>
            <a:xfrm>
              <a:off x="1452600" y="2733840"/>
              <a:ext cx="64101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4400" spc="-1" strike="noStrike">
                  <a:solidFill>
                    <a:srgbClr val="ffffff"/>
                  </a:solidFill>
                  <a:latin typeface="Calibri"/>
                </a:rPr>
                <a:t>¡Muchas Gracias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Visión legal integ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amentada en los enfoques de derechos, género, generacional, etnicos y contex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 accesible, continúa, eficaz, ágil, oportuna, confiable, confidencial, segura, de calidad, que garantice la integridad de las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 contemple la atención de los diferentes tipos de viol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PRINCIP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2320" y="222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4296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890800" y="98280"/>
            <a:ext cx="230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4296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sujeto de derec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ada justifica la viol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violencia es aprendida y se puede des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violencia es un problema multifactorial por lo que requiere un abordaje interdisciplinario intersector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Áreas de competenc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539640" y="2060640"/>
            <a:ext cx="822960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TEC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RAPROCESAL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A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TRABAJ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SIC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64000" y="2179800"/>
            <a:ext cx="214200" cy="1069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69920"/>
              <a:gd name="textAreaBottom" fmla="*/ 1064520 h 106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154400" y="4861080"/>
            <a:ext cx="500040" cy="12855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285560"/>
              <a:gd name="textAreaBottom" fmla="*/ 1272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547640" y="2565360"/>
            <a:ext cx="857520" cy="2714760"/>
          </a:xfrm>
          <a:custGeom>
            <a:avLst/>
            <a:gdLst>
              <a:gd name="textAreaLeft" fmla="*/ 547920 w 857520"/>
              <a:gd name="textAreaRight" fmla="*/ 857880 w 857520"/>
              <a:gd name="textAreaTop" fmla="*/ 22320 h 2714760"/>
              <a:gd name="textAreaBottom" fmla="*/ 269244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Ámbito de Aplicación en Protec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39640" y="1500120"/>
            <a:ext cx="8229600" cy="77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Que se trate de una persona bajo protecció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esunción fundada de que existe un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Arial"/>
              </a:rPr>
              <a:t>riesgo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para la vida o integridad física de la persona, como consecuencia de su intervención y/o su nexo con quien interviene en la investigación de un hecho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Arial"/>
              </a:rPr>
              <a:t>presuntamente delictiv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rt.4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odrá otorgarse la protección aun cuando la denuncia no se haya interpuest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39640" y="1500120"/>
            <a:ext cx="822960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sponde a la Oficina de Atención a la Víctima del Delito del Ministerio Público,(OAVD) dentro de sus funciones d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ención y asistenci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s las víctimas d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lito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r el Programa de protección de víctimas, testigos y demás sujetos intervinientes en el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o pen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6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Principios del programa de prot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539640" y="1714680"/>
            <a:ext cx="8229600" cy="86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Protección: 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imordial la protección de la vida, la integridad física, la libertad y la segurida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Proporcionalidad y necesidad: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s medidas responderán al nivel de riesgo o peligro, y solo podrán ser aplicadas en cuanto sean necesarias para garantizar su seguridad o reducir el riesg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Confidencialidad: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 información es reservada para los fines del proceso e investigación respectiv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cisco</dc:creator>
  <dc:description/>
  <dc:language>en-US</dc:language>
  <cp:lastModifiedBy>Marielos Rojas Espinoza</cp:lastModifiedBy>
  <cp:lastPrinted>2014-12-02T22:16:59Z</cp:lastPrinted>
  <dcterms:modified xsi:type="dcterms:W3CDTF">2014-12-02T22:19:12Z</dcterms:modified>
  <cp:revision>22</cp:revision>
  <dc:subject/>
  <dc:title>Diapositiva 1</dc:title>
</cp:coreProperties>
</file>