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CO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Porcentaje del PIB nacional en la(s) principale(s) ciudad(es)
(alrededor del 2002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rimera ciudad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60.7</c:v>
                </c:pt>
                <c:pt idx="1">
                  <c:v>49.7</c:v>
                </c:pt>
                <c:pt idx="2">
                  <c:v>47.8</c:v>
                </c:pt>
                <c:pt idx="3">
                  <c:v>32.6</c:v>
                </c:pt>
                <c:pt idx="4">
                  <c:v>22.1</c:v>
                </c:pt>
                <c:pt idx="5">
                  <c:v>21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iudades seguidora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Argentina</c:v>
                </c:pt>
                <c:pt idx="1">
                  <c:v>Perú</c:v>
                </c:pt>
                <c:pt idx="2">
                  <c:v>Chile</c:v>
                </c:pt>
                <c:pt idx="3">
                  <c:v>Brasil</c:v>
                </c:pt>
                <c:pt idx="4">
                  <c:v>Colombia</c:v>
                </c:pt>
                <c:pt idx="5">
                  <c:v>México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3">
                  <c:v>21.9</c:v>
                </c:pt>
                <c:pt idx="4">
                  <c:v>26.9</c:v>
                </c:pt>
                <c:pt idx="5">
                  <c:v>23.9</c:v>
                </c:pt>
              </c:numCache>
            </c:numRef>
          </c:val>
        </c:ser>
        <c:gapWidth val="150"/>
        <c:overlap val="100"/>
        <c:axId val="2957034"/>
        <c:axId val="65337855"/>
      </c:barChart>
      <c:catAx>
        <c:axId val="295703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337855"/>
        <c:crosses val="autoZero"/>
        <c:auto val="1"/>
        <c:lblAlgn val="ctr"/>
        <c:lblOffset val="100"/>
        <c:noMultiLvlLbl val="0"/>
      </c:catAx>
      <c:valAx>
        <c:axId val="65337855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57034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1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189221919467153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Chocó</c:v>
                </c:pt>
                <c:pt idx="1">
                  <c:v>Guaviare</c:v>
                </c:pt>
                <c:pt idx="2">
                  <c:v>Putumayo</c:v>
                </c:pt>
                <c:pt idx="3">
                  <c:v>La Guajira</c:v>
                </c:pt>
                <c:pt idx="4">
                  <c:v>Amazonas</c:v>
                </c:pt>
                <c:pt idx="5">
                  <c:v>Arauca</c:v>
                </c:pt>
                <c:pt idx="6">
                  <c:v>Caquetá</c:v>
                </c:pt>
                <c:pt idx="7">
                  <c:v>Casanare</c:v>
                </c:pt>
                <c:pt idx="8">
                  <c:v>Magdalena</c:v>
                </c:pt>
                <c:pt idx="9">
                  <c:v>Córdoba</c:v>
                </c:pt>
                <c:pt idx="10">
                  <c:v>Cauca</c:v>
                </c:pt>
                <c:pt idx="11">
                  <c:v>Cesar</c:v>
                </c:pt>
                <c:pt idx="12">
                  <c:v>Bolívar</c:v>
                </c:pt>
                <c:pt idx="13">
                  <c:v>Sucre</c:v>
                </c:pt>
                <c:pt idx="14">
                  <c:v>Nariño</c:v>
                </c:pt>
                <c:pt idx="15">
                  <c:v>Huila</c:v>
                </c:pt>
                <c:pt idx="16">
                  <c:v>Boyacá</c:v>
                </c:pt>
                <c:pt idx="17">
                  <c:v>San Andrés</c:v>
                </c:pt>
                <c:pt idx="18">
                  <c:v>N. de Santander</c:v>
                </c:pt>
                <c:pt idx="19">
                  <c:v>Tolima</c:v>
                </c:pt>
                <c:pt idx="20">
                  <c:v>Meta</c:v>
                </c:pt>
                <c:pt idx="21">
                  <c:v>Atlántico</c:v>
                </c:pt>
                <c:pt idx="22">
                  <c:v>Caldas</c:v>
                </c:pt>
                <c:pt idx="23">
                  <c:v>Antioquia</c:v>
                </c:pt>
                <c:pt idx="24">
                  <c:v>Santander</c:v>
                </c:pt>
                <c:pt idx="25">
                  <c:v>Quindío</c:v>
                </c:pt>
                <c:pt idx="26">
                  <c:v>Risaralda</c:v>
                </c:pt>
                <c:pt idx="27">
                  <c:v>Valle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6023698481051</c:v>
                </c:pt>
                <c:pt idx="1">
                  <c:v>37.9107676601668</c:v>
                </c:pt>
                <c:pt idx="2">
                  <c:v>41.833809540238</c:v>
                </c:pt>
                <c:pt idx="3">
                  <c:v>43.3262163662538</c:v>
                </c:pt>
                <c:pt idx="4">
                  <c:v>45.8487277277872</c:v>
                </c:pt>
                <c:pt idx="5">
                  <c:v>46.5750543377692</c:v>
                </c:pt>
                <c:pt idx="6">
                  <c:v>56.6084724578862</c:v>
                </c:pt>
                <c:pt idx="7">
                  <c:v>60.0388656186979</c:v>
                </c:pt>
                <c:pt idx="8">
                  <c:v>60.6542036105997</c:v>
                </c:pt>
                <c:pt idx="9">
                  <c:v>61.121598596784</c:v>
                </c:pt>
                <c:pt idx="10">
                  <c:v>61.1358906846402</c:v>
                </c:pt>
                <c:pt idx="11">
                  <c:v>63.0457025332535</c:v>
                </c:pt>
                <c:pt idx="12">
                  <c:v>64.0117896493217</c:v>
                </c:pt>
                <c:pt idx="13">
                  <c:v>64.0824738347561</c:v>
                </c:pt>
                <c:pt idx="14">
                  <c:v>66.3595850883989</c:v>
                </c:pt>
                <c:pt idx="15">
                  <c:v>73.4594223103196</c:v>
                </c:pt>
                <c:pt idx="16">
                  <c:v>75.3605542295641</c:v>
                </c:pt>
                <c:pt idx="17">
                  <c:v>78.1956685035389</c:v>
                </c:pt>
                <c:pt idx="18">
                  <c:v>78.3845236153677</c:v>
                </c:pt>
                <c:pt idx="19">
                  <c:v>79.9062438252535</c:v>
                </c:pt>
                <c:pt idx="20">
                  <c:v>80.0886007514765</c:v>
                </c:pt>
                <c:pt idx="21">
                  <c:v>85.4534753433551</c:v>
                </c:pt>
                <c:pt idx="22">
                  <c:v>86.331569381412</c:v>
                </c:pt>
                <c:pt idx="23">
                  <c:v>86.6489611528075</c:v>
                </c:pt>
                <c:pt idx="24">
                  <c:v>90.0549140788925</c:v>
                </c:pt>
                <c:pt idx="25">
                  <c:v>92.216349787824</c:v>
                </c:pt>
                <c:pt idx="26">
                  <c:v>92.2397550174221</c:v>
                </c:pt>
                <c:pt idx="27">
                  <c:v>92.8207496573505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30017446"/>
        <c:axId val="53893389"/>
      </c:barChart>
      <c:catAx>
        <c:axId val="300174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3389"/>
        <c:crosses val="autoZero"/>
        <c:auto val="1"/>
        <c:lblAlgn val="ctr"/>
        <c:lblOffset val="100"/>
        <c:noMultiLvlLbl val="0"/>
      </c:catAx>
      <c:valAx>
        <c:axId val="53893389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17446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28"/>
            <c:invertIfNegative val="0"/>
            <c:spPr>
              <a:solidFill>
                <a:srgbClr val="000000"/>
              </a:solidFill>
              <a:ln w="0">
                <a:noFill/>
              </a:ln>
            </c:spPr>
          </c:dPt>
          <c:dLbls>
            <c:numFmt formatCode="0.0" sourceLinked="0"/>
            <c:dLbl>
              <c:idx val="0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8"/>
              <c:layout>
                <c:manualLayout>
                  <c:x val="0"/>
                  <c:y val="-0.00793448584644276"/>
                </c:manualLayout>
              </c:layout>
              <c:numFmt formatCode="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29"/>
                <c:pt idx="0">
                  <c:v>Guaviare</c:v>
                </c:pt>
                <c:pt idx="1">
                  <c:v>Chocó</c:v>
                </c:pt>
                <c:pt idx="2">
                  <c:v>Putumayo</c:v>
                </c:pt>
                <c:pt idx="3">
                  <c:v>La Guajira</c:v>
                </c:pt>
                <c:pt idx="4">
                  <c:v>Sucre</c:v>
                </c:pt>
                <c:pt idx="5">
                  <c:v>Caquetá</c:v>
                </c:pt>
                <c:pt idx="6">
                  <c:v>Arauca</c:v>
                </c:pt>
                <c:pt idx="7">
                  <c:v>Córdoba</c:v>
                </c:pt>
                <c:pt idx="8">
                  <c:v>Casanare</c:v>
                </c:pt>
                <c:pt idx="9">
                  <c:v>Amazonas</c:v>
                </c:pt>
                <c:pt idx="10">
                  <c:v>Cesar</c:v>
                </c:pt>
                <c:pt idx="11">
                  <c:v>Cauca</c:v>
                </c:pt>
                <c:pt idx="12">
                  <c:v>Nariño</c:v>
                </c:pt>
                <c:pt idx="13">
                  <c:v>Magdalena</c:v>
                </c:pt>
                <c:pt idx="14">
                  <c:v>Huila</c:v>
                </c:pt>
                <c:pt idx="15">
                  <c:v>Meta</c:v>
                </c:pt>
                <c:pt idx="16">
                  <c:v>Tolima</c:v>
                </c:pt>
                <c:pt idx="17">
                  <c:v>San Andrés</c:v>
                </c:pt>
                <c:pt idx="18">
                  <c:v>Bolívar</c:v>
                </c:pt>
                <c:pt idx="19">
                  <c:v>N. de Santander</c:v>
                </c:pt>
                <c:pt idx="20">
                  <c:v>Boyacá</c:v>
                </c:pt>
                <c:pt idx="21">
                  <c:v>Quindío</c:v>
                </c:pt>
                <c:pt idx="22">
                  <c:v>Caldas</c:v>
                </c:pt>
                <c:pt idx="23">
                  <c:v>Risaralda</c:v>
                </c:pt>
                <c:pt idx="24">
                  <c:v>Atlántico</c:v>
                </c:pt>
                <c:pt idx="25">
                  <c:v>Santander</c:v>
                </c:pt>
                <c:pt idx="26">
                  <c:v>Valle</c:v>
                </c:pt>
                <c:pt idx="27">
                  <c:v>Antioquia</c:v>
                </c:pt>
                <c:pt idx="28">
                  <c:v>Bogotá/Cundinamar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9"/>
                <c:pt idx="0">
                  <c:v>19.1206745926962</c:v>
                </c:pt>
                <c:pt idx="1">
                  <c:v>21.9439377996807</c:v>
                </c:pt>
                <c:pt idx="2">
                  <c:v>23.0129173541346</c:v>
                </c:pt>
                <c:pt idx="3">
                  <c:v>24.9610731746305</c:v>
                </c:pt>
                <c:pt idx="4">
                  <c:v>27.274118388716</c:v>
                </c:pt>
                <c:pt idx="5">
                  <c:v>27.8938787263567</c:v>
                </c:pt>
                <c:pt idx="6">
                  <c:v>28.1912664024317</c:v>
                </c:pt>
                <c:pt idx="7">
                  <c:v>28.2760838028574</c:v>
                </c:pt>
                <c:pt idx="8">
                  <c:v>32.5608032671879</c:v>
                </c:pt>
                <c:pt idx="9">
                  <c:v>34.111096090759</c:v>
                </c:pt>
                <c:pt idx="10">
                  <c:v>34.2081545470592</c:v>
                </c:pt>
                <c:pt idx="11">
                  <c:v>34.2711915870561</c:v>
                </c:pt>
                <c:pt idx="12">
                  <c:v>34.4071032541285</c:v>
                </c:pt>
                <c:pt idx="13">
                  <c:v>35.3269013933424</c:v>
                </c:pt>
                <c:pt idx="14">
                  <c:v>36.7895775497276</c:v>
                </c:pt>
                <c:pt idx="15">
                  <c:v>39.2805731460452</c:v>
                </c:pt>
                <c:pt idx="16">
                  <c:v>40.4541752956677</c:v>
                </c:pt>
                <c:pt idx="17">
                  <c:v>45.0071750331409</c:v>
                </c:pt>
                <c:pt idx="18">
                  <c:v>45.6420693847216</c:v>
                </c:pt>
                <c:pt idx="19">
                  <c:v>45.8850052036914</c:v>
                </c:pt>
                <c:pt idx="20">
                  <c:v>46.3262281543901</c:v>
                </c:pt>
                <c:pt idx="21">
                  <c:v>48.5555362861646</c:v>
                </c:pt>
                <c:pt idx="22">
                  <c:v>59.769245962813</c:v>
                </c:pt>
                <c:pt idx="23">
                  <c:v>60.2394080545077</c:v>
                </c:pt>
                <c:pt idx="24">
                  <c:v>64.0021369265922</c:v>
                </c:pt>
                <c:pt idx="25">
                  <c:v>66.874387301883</c:v>
                </c:pt>
                <c:pt idx="26">
                  <c:v>69.5334421554654</c:v>
                </c:pt>
                <c:pt idx="27">
                  <c:v>81.106784952258</c:v>
                </c:pt>
                <c:pt idx="28">
                  <c:v>100</c:v>
                </c:pt>
              </c:numCache>
            </c:numRef>
          </c:val>
        </c:ser>
        <c:gapWidth val="150"/>
        <c:overlap val="0"/>
        <c:axId val="53639209"/>
        <c:axId val="88055136"/>
      </c:barChart>
      <c:catAx>
        <c:axId val="5363920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55136"/>
        <c:crosses val="autoZero"/>
        <c:auto val="1"/>
        <c:lblAlgn val="ctr"/>
        <c:lblOffset val="100"/>
        <c:noMultiLvlLbl val="0"/>
      </c:catAx>
      <c:valAx>
        <c:axId val="88055136"/>
        <c:scaling>
          <c:orientation val="minMax"/>
          <c:max val="100"/>
        </c:scaling>
        <c:delete val="0"/>
        <c:axPos val="l"/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9209"/>
        <c:crosses val="autoZero"/>
        <c:crossBetween val="between"/>
        <c:majorUnit val="10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973E7-FEA1-472C-A57A-6EC1FC35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E94CCEF5-40C8-4471-A647-917099045A11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7720" cy="34635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640" y="4387680"/>
            <a:ext cx="5606640" cy="4155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arcador de número de diapositiva 3"/>
          <p:cNvSpPr/>
          <p:nvPr/>
        </p:nvSpPr>
        <p:spPr>
          <a:xfrm>
            <a:off x="3970440" y="8772480"/>
            <a:ext cx="303804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B6F1573A-A791-445D-B29D-2D63949E0BA0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0E9-F7DC-468C-94C6-77C38A5B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933-F5BB-4F1A-81F6-BFAF48DA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417-CF22-44A0-BA8F-437DE265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2C6-1BB0-43C5-9500-09C71D99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425-0FD4-47D2-9954-78BCF9F2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8608-BAAF-4F9F-9860-5994EA44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0B3-E90F-46BE-9B9A-6F59B099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6357-F9CB-4F40-95E0-1679245F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277-00E9-477F-B444-10CE7BCD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E95-9895-48A5-95F9-2049D34A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91B2-3845-4489-AE19-31F46CE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E1B-E720-42B2-BFDD-2FA0B30E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50E-30DE-4412-BE0D-7526623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E61-16FE-45A3-B749-E38EB25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FDA1-4F09-437F-969B-C752F8EB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8700-0C0B-4EFC-8FF8-0C78D83A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E64-3710-4238-AD0C-E9910A3E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CA67-85BB-4E24-BB58-A46A1452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0292-9026-4A8E-B815-6005925D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8570-8F6D-4A4F-BD18-74A286A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A104-F2EB-4E28-B9A0-8989E1E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3BA1-0226-42CA-B2AE-DC562D4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0CB-C591-4038-A0B7-E05C6EC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88A8-3636-4C4E-A846-E542E4C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07F7-1773-43B8-8187-8292708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3403-6079-42A0-8938-C53EFA7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D197-8268-4E49-8F4F-97AEEED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E9A0-3B9D-4C85-A7D1-04009CE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92B0-318D-46E7-B7CD-9BB6D3F0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6C4C-9F33-4336-AF00-77EB554E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AD31-4B79-4504-9F2B-180F1D1A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CE7D-DC4A-444C-AE5F-E1BF935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C6F6-58B8-4CC5-9B4E-B87B3FD5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C95-D3F3-43C0-8576-1DA9FF9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B6FA-0E35-4195-84C0-7853D219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2A0E-AD3F-4C7A-989E-843693D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7581-B19B-4A85-B282-EEFBCBDA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CC1D-BC73-4D20-A70D-E819C12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10A1-85F0-4901-90E7-AA62B431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5C75-6C38-4E71-BBF6-66E5D2B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2CCA-32EF-434C-AC30-8D764A1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6AFD-B300-42CD-8536-05396800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3E5C-E96E-45F6-8DC7-45013C81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A512-9124-4DC1-A601-BC6567AF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C6B-5AFA-431D-8CE7-15E3D83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F16C-697D-4515-A749-D95AAA6F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5D88-2C5F-4DA4-A216-C227C50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F2BC-1D17-433B-AD07-93F250C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8E58-3BC5-4A54-A8C7-2E0B1E0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0292-3063-4414-88D7-AC52647D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051D-0366-490C-8CB5-F680F2F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34BC4-8C42-445E-B177-94DF2A6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3339-FC7B-44DB-80CE-5F08BC4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CA91-7A6B-404E-AE35-33E26DE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3521-0AF3-42B0-A691-E203647F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AF3-84BD-4751-BD03-9A914FA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3726-2169-498A-92E0-9E0B0B01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144-19CD-41A4-9F13-6F60EEB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8CA-0DEF-4FFD-A33F-13C6022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1E4-D2E9-4C5A-818E-2E0A131D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C3CC7E-A785-47FF-9980-1C8C986A7B60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295E95-8DDF-4027-AF15-DAF3071741DA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2E2ADF-1049-47D6-8DE2-5AF883778D73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3F1CA-BC28-4E93-9F30-0CDB6E75FD14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CO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CO" sz="1200" spc="-1" strike="noStrike">
                <a:solidFill>
                  <a:srgbClr val="8b8b8b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E872FF-845A-4B30-A7F2-15A80A0A92E7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836640"/>
            <a:ext cx="838152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4000" spc="-1" strike="noStrike">
                <a:solidFill>
                  <a:srgbClr val="0070c0"/>
                </a:solidFill>
                <a:latin typeface="Arial"/>
              </a:rPr>
              <a:t>Desarrollo y cohesión territorial en América Latina</a:t>
            </a:r>
            <a:endParaRPr b="0" lang="es-CO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B7B64E-BA76-49FD-9AC7-75DB5BFFDD98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84360" y="256536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Juan Carlos Ramírez J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irector CEPAL-Colo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Bogotá, septiembre 26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logo%20pantone%20300"/>
          <p:cNvPicPr/>
          <p:nvPr/>
        </p:nvPicPr>
        <p:blipFill>
          <a:blip r:embed="rId1"/>
          <a:stretch/>
        </p:blipFill>
        <p:spPr>
          <a:xfrm>
            <a:off x="3579840" y="4076640"/>
            <a:ext cx="1928520" cy="235224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663480" y="287280"/>
            <a:ext cx="8076960" cy="6597360"/>
            <a:chOff x="663480" y="287280"/>
            <a:chExt cx="8076960" cy="6597360"/>
          </a:xfrm>
        </p:grpSpPr>
        <p:sp>
          <p:nvSpPr>
            <p:cNvPr id="245" name="AutoShape 4"/>
            <p:cNvSpPr/>
            <p:nvPr/>
          </p:nvSpPr>
          <p:spPr>
            <a:xfrm>
              <a:off x="663480" y="365040"/>
              <a:ext cx="8076960" cy="6519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B 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2008440" y="287280"/>
              <a:ext cx="135144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v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2222640" y="71928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794960" y="934920"/>
              <a:ext cx="145944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jamarca - Per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704880" y="684360"/>
              <a:ext cx="3909600" cy="139500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1395000"/>
                <a:gd name="textAreaBottom" fmla="*/ 1395360 h 1395000"/>
              </a:gdLst>
              <a:ahLst/>
              <a:rect l="textAreaLeft" t="textAreaTop" r="textAreaRight" b="textAreaBottom"/>
              <a:pathLst>
                <a:path w="3927" h="1402">
                  <a:moveTo>
                    <a:pt x="233" y="0"/>
                  </a:moveTo>
                  <a:lnTo>
                    <a:pt x="222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7" y="4"/>
                  </a:lnTo>
                  <a:lnTo>
                    <a:pt x="175" y="7"/>
                  </a:lnTo>
                  <a:lnTo>
                    <a:pt x="164" y="10"/>
                  </a:lnTo>
                  <a:lnTo>
                    <a:pt x="153" y="14"/>
                  </a:lnTo>
                  <a:lnTo>
                    <a:pt x="142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2" y="33"/>
                  </a:lnTo>
                  <a:lnTo>
                    <a:pt x="102" y="39"/>
                  </a:lnTo>
                  <a:lnTo>
                    <a:pt x="94" y="46"/>
                  </a:lnTo>
                  <a:lnTo>
                    <a:pt x="84" y="53"/>
                  </a:lnTo>
                  <a:lnTo>
                    <a:pt x="76" y="60"/>
                  </a:lnTo>
                  <a:lnTo>
                    <a:pt x="67" y="68"/>
                  </a:lnTo>
                  <a:lnTo>
                    <a:pt x="60" y="75"/>
                  </a:lnTo>
                  <a:lnTo>
                    <a:pt x="53" y="84"/>
                  </a:lnTo>
                  <a:lnTo>
                    <a:pt x="46" y="94"/>
                  </a:lnTo>
                  <a:lnTo>
                    <a:pt x="39" y="102"/>
                  </a:lnTo>
                  <a:lnTo>
                    <a:pt x="34" y="112"/>
                  </a:lnTo>
                  <a:lnTo>
                    <a:pt x="28" y="122"/>
                  </a:lnTo>
                  <a:lnTo>
                    <a:pt x="23" y="132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0" y="164"/>
                  </a:lnTo>
                  <a:lnTo>
                    <a:pt x="7" y="175"/>
                  </a:lnTo>
                  <a:lnTo>
                    <a:pt x="4" y="186"/>
                  </a:lnTo>
                  <a:lnTo>
                    <a:pt x="1" y="197"/>
                  </a:lnTo>
                  <a:lnTo>
                    <a:pt x="0" y="209"/>
                  </a:lnTo>
                  <a:lnTo>
                    <a:pt x="0" y="221"/>
                  </a:lnTo>
                  <a:lnTo>
                    <a:pt x="0" y="232"/>
                  </a:lnTo>
                  <a:lnTo>
                    <a:pt x="0" y="1168"/>
                  </a:lnTo>
                  <a:lnTo>
                    <a:pt x="0" y="1180"/>
                  </a:lnTo>
                  <a:lnTo>
                    <a:pt x="0" y="1192"/>
                  </a:lnTo>
                  <a:lnTo>
                    <a:pt x="1" y="1203"/>
                  </a:lnTo>
                  <a:lnTo>
                    <a:pt x="4" y="1215"/>
                  </a:lnTo>
                  <a:lnTo>
                    <a:pt x="7" y="1227"/>
                  </a:lnTo>
                  <a:lnTo>
                    <a:pt x="10" y="1238"/>
                  </a:lnTo>
                  <a:lnTo>
                    <a:pt x="14" y="1248"/>
                  </a:lnTo>
                  <a:lnTo>
                    <a:pt x="18" y="1259"/>
                  </a:lnTo>
                  <a:lnTo>
                    <a:pt x="23" y="1269"/>
                  </a:lnTo>
                  <a:lnTo>
                    <a:pt x="28" y="1279"/>
                  </a:lnTo>
                  <a:lnTo>
                    <a:pt x="34" y="1288"/>
                  </a:lnTo>
                  <a:lnTo>
                    <a:pt x="39" y="1298"/>
                  </a:lnTo>
                  <a:lnTo>
                    <a:pt x="46" y="1308"/>
                  </a:lnTo>
                  <a:lnTo>
                    <a:pt x="53" y="1316"/>
                  </a:lnTo>
                  <a:lnTo>
                    <a:pt x="60" y="1325"/>
                  </a:lnTo>
                  <a:lnTo>
                    <a:pt x="67" y="1333"/>
                  </a:lnTo>
                  <a:lnTo>
                    <a:pt x="76" y="1340"/>
                  </a:lnTo>
                  <a:lnTo>
                    <a:pt x="84" y="1349"/>
                  </a:lnTo>
                  <a:lnTo>
                    <a:pt x="94" y="1356"/>
                  </a:lnTo>
                  <a:lnTo>
                    <a:pt x="102" y="1361"/>
                  </a:lnTo>
                  <a:lnTo>
                    <a:pt x="112" y="1368"/>
                  </a:lnTo>
                  <a:lnTo>
                    <a:pt x="122" y="1374"/>
                  </a:lnTo>
                  <a:lnTo>
                    <a:pt x="132" y="1378"/>
                  </a:lnTo>
                  <a:lnTo>
                    <a:pt x="142" y="1384"/>
                  </a:lnTo>
                  <a:lnTo>
                    <a:pt x="153" y="1388"/>
                  </a:lnTo>
                  <a:lnTo>
                    <a:pt x="164" y="1391"/>
                  </a:lnTo>
                  <a:lnTo>
                    <a:pt x="175" y="1393"/>
                  </a:lnTo>
                  <a:lnTo>
                    <a:pt x="187" y="1396"/>
                  </a:lnTo>
                  <a:lnTo>
                    <a:pt x="198" y="1399"/>
                  </a:lnTo>
                  <a:lnTo>
                    <a:pt x="209" y="1400"/>
                  </a:lnTo>
                  <a:lnTo>
                    <a:pt x="222" y="1400"/>
                  </a:lnTo>
                  <a:lnTo>
                    <a:pt x="233" y="1402"/>
                  </a:lnTo>
                  <a:lnTo>
                    <a:pt x="3693" y="1402"/>
                  </a:lnTo>
                  <a:lnTo>
                    <a:pt x="3704" y="1400"/>
                  </a:lnTo>
                  <a:lnTo>
                    <a:pt x="3717" y="1400"/>
                  </a:lnTo>
                  <a:lnTo>
                    <a:pt x="3728" y="1399"/>
                  </a:lnTo>
                  <a:lnTo>
                    <a:pt x="3739" y="1396"/>
                  </a:lnTo>
                  <a:lnTo>
                    <a:pt x="3752" y="1393"/>
                  </a:lnTo>
                  <a:lnTo>
                    <a:pt x="3762" y="1391"/>
                  </a:lnTo>
                  <a:lnTo>
                    <a:pt x="3773" y="1388"/>
                  </a:lnTo>
                  <a:lnTo>
                    <a:pt x="3784" y="1384"/>
                  </a:lnTo>
                  <a:lnTo>
                    <a:pt x="3794" y="1378"/>
                  </a:lnTo>
                  <a:lnTo>
                    <a:pt x="3804" y="1374"/>
                  </a:lnTo>
                  <a:lnTo>
                    <a:pt x="3814" y="1368"/>
                  </a:lnTo>
                  <a:lnTo>
                    <a:pt x="3824" y="1361"/>
                  </a:lnTo>
                  <a:lnTo>
                    <a:pt x="3833" y="1356"/>
                  </a:lnTo>
                  <a:lnTo>
                    <a:pt x="3842" y="1349"/>
                  </a:lnTo>
                  <a:lnTo>
                    <a:pt x="3850" y="1340"/>
                  </a:lnTo>
                  <a:lnTo>
                    <a:pt x="3859" y="1333"/>
                  </a:lnTo>
                  <a:lnTo>
                    <a:pt x="3866" y="1325"/>
                  </a:lnTo>
                  <a:lnTo>
                    <a:pt x="3873" y="1316"/>
                  </a:lnTo>
                  <a:lnTo>
                    <a:pt x="3880" y="1308"/>
                  </a:lnTo>
                  <a:lnTo>
                    <a:pt x="3887" y="1298"/>
                  </a:lnTo>
                  <a:lnTo>
                    <a:pt x="3892" y="1288"/>
                  </a:lnTo>
                  <a:lnTo>
                    <a:pt x="3898" y="1279"/>
                  </a:lnTo>
                  <a:lnTo>
                    <a:pt x="3903" y="1269"/>
                  </a:lnTo>
                  <a:lnTo>
                    <a:pt x="3908" y="1259"/>
                  </a:lnTo>
                  <a:lnTo>
                    <a:pt x="3912" y="1248"/>
                  </a:lnTo>
                  <a:lnTo>
                    <a:pt x="3916" y="1238"/>
                  </a:lnTo>
                  <a:lnTo>
                    <a:pt x="3919" y="1227"/>
                  </a:lnTo>
                  <a:lnTo>
                    <a:pt x="3922" y="1215"/>
                  </a:lnTo>
                  <a:lnTo>
                    <a:pt x="3925" y="1203"/>
                  </a:lnTo>
                  <a:lnTo>
                    <a:pt x="3926" y="1192"/>
                  </a:lnTo>
                  <a:lnTo>
                    <a:pt x="3926" y="1180"/>
                  </a:lnTo>
                  <a:lnTo>
                    <a:pt x="3927" y="1168"/>
                  </a:lnTo>
                  <a:lnTo>
                    <a:pt x="3927" y="232"/>
                  </a:lnTo>
                  <a:lnTo>
                    <a:pt x="3926" y="221"/>
                  </a:lnTo>
                  <a:lnTo>
                    <a:pt x="3926" y="209"/>
                  </a:lnTo>
                  <a:lnTo>
                    <a:pt x="3925" y="197"/>
                  </a:lnTo>
                  <a:lnTo>
                    <a:pt x="3922" y="186"/>
                  </a:lnTo>
                  <a:lnTo>
                    <a:pt x="3919" y="175"/>
                  </a:lnTo>
                  <a:lnTo>
                    <a:pt x="3916" y="164"/>
                  </a:lnTo>
                  <a:lnTo>
                    <a:pt x="3912" y="153"/>
                  </a:lnTo>
                  <a:lnTo>
                    <a:pt x="3908" y="143"/>
                  </a:lnTo>
                  <a:lnTo>
                    <a:pt x="3903" y="132"/>
                  </a:lnTo>
                  <a:lnTo>
                    <a:pt x="3898" y="122"/>
                  </a:lnTo>
                  <a:lnTo>
                    <a:pt x="3892" y="112"/>
                  </a:lnTo>
                  <a:lnTo>
                    <a:pt x="3887" y="102"/>
                  </a:lnTo>
                  <a:lnTo>
                    <a:pt x="3880" y="94"/>
                  </a:lnTo>
                  <a:lnTo>
                    <a:pt x="3873" y="84"/>
                  </a:lnTo>
                  <a:lnTo>
                    <a:pt x="3866" y="75"/>
                  </a:lnTo>
                  <a:lnTo>
                    <a:pt x="3859" y="68"/>
                  </a:lnTo>
                  <a:lnTo>
                    <a:pt x="3850" y="60"/>
                  </a:lnTo>
                  <a:lnTo>
                    <a:pt x="3842" y="53"/>
                  </a:lnTo>
                  <a:lnTo>
                    <a:pt x="3833" y="46"/>
                  </a:lnTo>
                  <a:lnTo>
                    <a:pt x="3824" y="39"/>
                  </a:lnTo>
                  <a:lnTo>
                    <a:pt x="3814" y="33"/>
                  </a:lnTo>
                  <a:lnTo>
                    <a:pt x="3804" y="28"/>
                  </a:lnTo>
                  <a:lnTo>
                    <a:pt x="3794" y="22"/>
                  </a:lnTo>
                  <a:lnTo>
                    <a:pt x="3784" y="18"/>
                  </a:lnTo>
                  <a:lnTo>
                    <a:pt x="3773" y="14"/>
                  </a:lnTo>
                  <a:lnTo>
                    <a:pt x="3762" y="10"/>
                  </a:lnTo>
                  <a:lnTo>
                    <a:pt x="3752" y="7"/>
                  </a:lnTo>
                  <a:lnTo>
                    <a:pt x="3739" y="4"/>
                  </a:lnTo>
                  <a:lnTo>
                    <a:pt x="3728" y="3"/>
                  </a:lnTo>
                  <a:lnTo>
                    <a:pt x="3717" y="1"/>
                  </a:lnTo>
                  <a:lnTo>
                    <a:pt x="3704" y="0"/>
                  </a:lnTo>
                  <a:lnTo>
                    <a:pt x="3693" y="0"/>
                  </a:lnTo>
                  <a:lnTo>
                    <a:pt x="233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1793880" y="1152360"/>
              <a:ext cx="1526760" cy="21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Rondonia- Brasil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1791360" y="1557360"/>
              <a:ext cx="19641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atamarca - Argentina</a:t>
              </a:r>
              <a:r>
                <a:rPr b="1" lang="en-US" sz="1000" spc="-1" strike="noStrike">
                  <a:solidFill>
                    <a:srgbClr val="3366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1788120" y="1341360"/>
              <a:ext cx="18010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Córdoba - Colombia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735120" y="2133720"/>
            <a:ext cx="3909600" cy="767880"/>
            <a:chOff x="735120" y="2133720"/>
            <a:chExt cx="3909600" cy="767880"/>
          </a:xfrm>
        </p:grpSpPr>
        <p:sp>
          <p:nvSpPr>
            <p:cNvPr id="254" name="Freeform 14"/>
            <p:cNvSpPr/>
            <p:nvPr/>
          </p:nvSpPr>
          <p:spPr>
            <a:xfrm>
              <a:off x="735120" y="2133720"/>
              <a:ext cx="3909600" cy="76788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3927" h="771">
                  <a:moveTo>
                    <a:pt x="128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30"/>
                  </a:lnTo>
                  <a:lnTo>
                    <a:pt x="37" y="38"/>
                  </a:lnTo>
                  <a:lnTo>
                    <a:pt x="28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9"/>
                  </a:lnTo>
                  <a:lnTo>
                    <a:pt x="6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642"/>
                  </a:lnTo>
                  <a:lnTo>
                    <a:pt x="0" y="655"/>
                  </a:lnTo>
                  <a:lnTo>
                    <a:pt x="1" y="668"/>
                  </a:lnTo>
                  <a:lnTo>
                    <a:pt x="6" y="680"/>
                  </a:lnTo>
                  <a:lnTo>
                    <a:pt x="10" y="693"/>
                  </a:lnTo>
                  <a:lnTo>
                    <a:pt x="16" y="704"/>
                  </a:lnTo>
                  <a:lnTo>
                    <a:pt x="21" y="714"/>
                  </a:lnTo>
                  <a:lnTo>
                    <a:pt x="28" y="724"/>
                  </a:lnTo>
                  <a:lnTo>
                    <a:pt x="37" y="733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9" y="760"/>
                  </a:lnTo>
                  <a:lnTo>
                    <a:pt x="90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8" y="771"/>
                  </a:lnTo>
                  <a:lnTo>
                    <a:pt x="3798" y="771"/>
                  </a:lnTo>
                  <a:lnTo>
                    <a:pt x="3811" y="770"/>
                  </a:lnTo>
                  <a:lnTo>
                    <a:pt x="3824" y="769"/>
                  </a:lnTo>
                  <a:lnTo>
                    <a:pt x="3836" y="766"/>
                  </a:lnTo>
                  <a:lnTo>
                    <a:pt x="3849" y="760"/>
                  </a:lnTo>
                  <a:lnTo>
                    <a:pt x="3860" y="756"/>
                  </a:lnTo>
                  <a:lnTo>
                    <a:pt x="3870" y="749"/>
                  </a:lnTo>
                  <a:lnTo>
                    <a:pt x="3880" y="742"/>
                  </a:lnTo>
                  <a:lnTo>
                    <a:pt x="3889" y="733"/>
                  </a:lnTo>
                  <a:lnTo>
                    <a:pt x="3898" y="724"/>
                  </a:lnTo>
                  <a:lnTo>
                    <a:pt x="3905" y="714"/>
                  </a:lnTo>
                  <a:lnTo>
                    <a:pt x="3911" y="704"/>
                  </a:lnTo>
                  <a:lnTo>
                    <a:pt x="3916" y="693"/>
                  </a:lnTo>
                  <a:lnTo>
                    <a:pt x="3920" y="680"/>
                  </a:lnTo>
                  <a:lnTo>
                    <a:pt x="3925" y="668"/>
                  </a:lnTo>
                  <a:lnTo>
                    <a:pt x="3926" y="655"/>
                  </a:lnTo>
                  <a:lnTo>
                    <a:pt x="3927" y="642"/>
                  </a:lnTo>
                  <a:lnTo>
                    <a:pt x="3927" y="128"/>
                  </a:lnTo>
                  <a:lnTo>
                    <a:pt x="3926" y="115"/>
                  </a:lnTo>
                  <a:lnTo>
                    <a:pt x="3925" y="102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1" y="67"/>
                  </a:lnTo>
                  <a:lnTo>
                    <a:pt x="3905" y="56"/>
                  </a:lnTo>
                  <a:lnTo>
                    <a:pt x="3898" y="46"/>
                  </a:lnTo>
                  <a:lnTo>
                    <a:pt x="3889" y="38"/>
                  </a:lnTo>
                  <a:lnTo>
                    <a:pt x="3880" y="30"/>
                  </a:lnTo>
                  <a:lnTo>
                    <a:pt x="3870" y="21"/>
                  </a:lnTo>
                  <a:lnTo>
                    <a:pt x="3860" y="16"/>
                  </a:lnTo>
                  <a:lnTo>
                    <a:pt x="3849" y="10"/>
                  </a:lnTo>
                  <a:lnTo>
                    <a:pt x="3836" y="6"/>
                  </a:lnTo>
                  <a:lnTo>
                    <a:pt x="3824" y="3"/>
                  </a:lnTo>
                  <a:lnTo>
                    <a:pt x="3811" y="0"/>
                  </a:lnTo>
                  <a:lnTo>
                    <a:pt x="3798" y="0"/>
                  </a:lnTo>
                  <a:lnTo>
                    <a:pt x="128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2199960" y="2209680"/>
              <a:ext cx="96876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Secund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1880280" y="24400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Guanajuato - Méx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1890720" y="2649600"/>
              <a:ext cx="14839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6600"/>
                  </a:solidFill>
                  <a:latin typeface="Arial"/>
                </a:rPr>
                <a:t>Los Lagos -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19"/>
          <p:cNvSpPr/>
          <p:nvPr/>
        </p:nvSpPr>
        <p:spPr>
          <a:xfrm>
            <a:off x="806400" y="2997000"/>
            <a:ext cx="80499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4787640" y="44280"/>
            <a:ext cx="33480" cy="619272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2"/>
          <p:cNvGrpSpPr/>
          <p:nvPr/>
        </p:nvGrpSpPr>
        <p:grpSpPr>
          <a:xfrm>
            <a:off x="4983120" y="2263680"/>
            <a:ext cx="3909600" cy="517320"/>
            <a:chOff x="4983120" y="2263680"/>
            <a:chExt cx="3909600" cy="517320"/>
          </a:xfrm>
        </p:grpSpPr>
        <p:sp>
          <p:nvSpPr>
            <p:cNvPr id="261" name="Freeform 23"/>
            <p:cNvSpPr/>
            <p:nvPr/>
          </p:nvSpPr>
          <p:spPr>
            <a:xfrm>
              <a:off x="4983120" y="2263680"/>
              <a:ext cx="3909600" cy="51732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927" h="772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2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0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7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4"/>
                  </a:lnTo>
                  <a:lnTo>
                    <a:pt x="29" y="724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0"/>
                  </a:lnTo>
                  <a:lnTo>
                    <a:pt x="127" y="772"/>
                  </a:lnTo>
                  <a:lnTo>
                    <a:pt x="3798" y="772"/>
                  </a:lnTo>
                  <a:lnTo>
                    <a:pt x="3810" y="770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4"/>
                  </a:lnTo>
                  <a:lnTo>
                    <a:pt x="3904" y="714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7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0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2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4"/>
            <p:cNvSpPr/>
            <p:nvPr/>
          </p:nvSpPr>
          <p:spPr>
            <a:xfrm>
              <a:off x="6595920" y="2307240"/>
              <a:ext cx="63648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Terci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6057000" y="2498400"/>
              <a:ext cx="186336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Buenos Aires - Argent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7"/>
          <p:cNvGrpSpPr/>
          <p:nvPr/>
        </p:nvGrpSpPr>
        <p:grpSpPr>
          <a:xfrm>
            <a:off x="4983120" y="260280"/>
            <a:ext cx="3909600" cy="1260000"/>
            <a:chOff x="4983120" y="260280"/>
            <a:chExt cx="3909600" cy="1260000"/>
          </a:xfrm>
        </p:grpSpPr>
        <p:sp>
          <p:nvSpPr>
            <p:cNvPr id="265" name="Freeform 28"/>
            <p:cNvSpPr/>
            <p:nvPr/>
          </p:nvSpPr>
          <p:spPr>
            <a:xfrm>
              <a:off x="4983120" y="633240"/>
              <a:ext cx="3909600" cy="8870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887040"/>
                <a:gd name="textAreaBottom" fmla="*/ 887400 h 8870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0"/>
                  </a:lnTo>
                  <a:lnTo>
                    <a:pt x="102" y="3"/>
                  </a:lnTo>
                  <a:lnTo>
                    <a:pt x="89" y="6"/>
                  </a:lnTo>
                  <a:lnTo>
                    <a:pt x="78" y="10"/>
                  </a:lnTo>
                  <a:lnTo>
                    <a:pt x="67" y="16"/>
                  </a:lnTo>
                  <a:lnTo>
                    <a:pt x="56" y="23"/>
                  </a:lnTo>
                  <a:lnTo>
                    <a:pt x="46" y="30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8"/>
                  </a:lnTo>
                  <a:lnTo>
                    <a:pt x="15" y="68"/>
                  </a:lnTo>
                  <a:lnTo>
                    <a:pt x="9" y="79"/>
                  </a:lnTo>
                  <a:lnTo>
                    <a:pt x="5" y="91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644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2"/>
                  </a:lnTo>
                  <a:lnTo>
                    <a:pt x="9" y="693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4"/>
                  </a:lnTo>
                  <a:lnTo>
                    <a:pt x="46" y="742"/>
                  </a:lnTo>
                  <a:lnTo>
                    <a:pt x="56" y="749"/>
                  </a:lnTo>
                  <a:lnTo>
                    <a:pt x="67" y="756"/>
                  </a:lnTo>
                  <a:lnTo>
                    <a:pt x="78" y="762"/>
                  </a:lnTo>
                  <a:lnTo>
                    <a:pt x="89" y="766"/>
                  </a:lnTo>
                  <a:lnTo>
                    <a:pt x="102" y="769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9"/>
                  </a:lnTo>
                  <a:lnTo>
                    <a:pt x="3836" y="766"/>
                  </a:lnTo>
                  <a:lnTo>
                    <a:pt x="3848" y="762"/>
                  </a:lnTo>
                  <a:lnTo>
                    <a:pt x="3860" y="756"/>
                  </a:lnTo>
                  <a:lnTo>
                    <a:pt x="3869" y="749"/>
                  </a:lnTo>
                  <a:lnTo>
                    <a:pt x="3879" y="742"/>
                  </a:lnTo>
                  <a:lnTo>
                    <a:pt x="3889" y="734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3"/>
                  </a:lnTo>
                  <a:lnTo>
                    <a:pt x="3920" y="682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4"/>
                  </a:lnTo>
                  <a:lnTo>
                    <a:pt x="3927" y="129"/>
                  </a:lnTo>
                  <a:lnTo>
                    <a:pt x="3925" y="115"/>
                  </a:lnTo>
                  <a:lnTo>
                    <a:pt x="3924" y="103"/>
                  </a:lnTo>
                  <a:lnTo>
                    <a:pt x="3920" y="91"/>
                  </a:lnTo>
                  <a:lnTo>
                    <a:pt x="3916" y="79"/>
                  </a:lnTo>
                  <a:lnTo>
                    <a:pt x="3910" y="68"/>
                  </a:lnTo>
                  <a:lnTo>
                    <a:pt x="3904" y="58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30"/>
                  </a:lnTo>
                  <a:lnTo>
                    <a:pt x="3869" y="23"/>
                  </a:lnTo>
                  <a:lnTo>
                    <a:pt x="3860" y="16"/>
                  </a:lnTo>
                  <a:lnTo>
                    <a:pt x="3848" y="10"/>
                  </a:lnTo>
                  <a:lnTo>
                    <a:pt x="3836" y="6"/>
                  </a:lnTo>
                  <a:lnTo>
                    <a:pt x="3823" y="3"/>
                  </a:lnTo>
                  <a:lnTo>
                    <a:pt x="3810" y="0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11960" y="620640"/>
              <a:ext cx="725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800080"/>
                  </a:solidFill>
                  <a:latin typeface="Arial"/>
                </a:rPr>
                <a:t>Prim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6342840" y="260280"/>
              <a:ext cx="105876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n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6046920" y="836640"/>
              <a:ext cx="172332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Antofagasta - Chil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6053040" y="1052640"/>
              <a:ext cx="121104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Tarija - Boliv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6052680" y="1268280"/>
              <a:ext cx="1741680" cy="21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3333ff"/>
                  </a:solidFill>
                  <a:latin typeface="Arial"/>
                </a:rPr>
                <a:t>Neuquén - Argen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4"/>
          <p:cNvGrpSpPr/>
          <p:nvPr/>
        </p:nvGrpSpPr>
        <p:grpSpPr>
          <a:xfrm>
            <a:off x="4983120" y="1581120"/>
            <a:ext cx="3909600" cy="552240"/>
            <a:chOff x="4983120" y="1581120"/>
            <a:chExt cx="3909600" cy="552240"/>
          </a:xfrm>
        </p:grpSpPr>
        <p:sp>
          <p:nvSpPr>
            <p:cNvPr id="272" name="Freeform 35"/>
            <p:cNvSpPr/>
            <p:nvPr/>
          </p:nvSpPr>
          <p:spPr>
            <a:xfrm>
              <a:off x="4983120" y="1581120"/>
              <a:ext cx="3909600" cy="552240"/>
            </a:xfrm>
            <a:custGeom>
              <a:avLst/>
              <a:gdLst>
                <a:gd name="textAreaLeft" fmla="*/ 0 w 3909600"/>
                <a:gd name="textAreaRight" fmla="*/ 3909960 w 39096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927" h="771"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7" y="15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6" y="38"/>
                  </a:lnTo>
                  <a:lnTo>
                    <a:pt x="29" y="47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1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643"/>
                  </a:lnTo>
                  <a:lnTo>
                    <a:pt x="0" y="656"/>
                  </a:lnTo>
                  <a:lnTo>
                    <a:pt x="1" y="669"/>
                  </a:lnTo>
                  <a:lnTo>
                    <a:pt x="5" y="681"/>
                  </a:lnTo>
                  <a:lnTo>
                    <a:pt x="9" y="692"/>
                  </a:lnTo>
                  <a:lnTo>
                    <a:pt x="15" y="704"/>
                  </a:lnTo>
                  <a:lnTo>
                    <a:pt x="21" y="715"/>
                  </a:lnTo>
                  <a:lnTo>
                    <a:pt x="29" y="725"/>
                  </a:lnTo>
                  <a:lnTo>
                    <a:pt x="36" y="733"/>
                  </a:lnTo>
                  <a:lnTo>
                    <a:pt x="46" y="742"/>
                  </a:lnTo>
                  <a:lnTo>
                    <a:pt x="56" y="750"/>
                  </a:lnTo>
                  <a:lnTo>
                    <a:pt x="67" y="756"/>
                  </a:lnTo>
                  <a:lnTo>
                    <a:pt x="78" y="761"/>
                  </a:lnTo>
                  <a:lnTo>
                    <a:pt x="89" y="765"/>
                  </a:lnTo>
                  <a:lnTo>
                    <a:pt x="102" y="768"/>
                  </a:lnTo>
                  <a:lnTo>
                    <a:pt x="115" y="771"/>
                  </a:lnTo>
                  <a:lnTo>
                    <a:pt x="127" y="771"/>
                  </a:lnTo>
                  <a:lnTo>
                    <a:pt x="3798" y="771"/>
                  </a:lnTo>
                  <a:lnTo>
                    <a:pt x="3810" y="771"/>
                  </a:lnTo>
                  <a:lnTo>
                    <a:pt x="3823" y="768"/>
                  </a:lnTo>
                  <a:lnTo>
                    <a:pt x="3836" y="765"/>
                  </a:lnTo>
                  <a:lnTo>
                    <a:pt x="3848" y="761"/>
                  </a:lnTo>
                  <a:lnTo>
                    <a:pt x="3860" y="756"/>
                  </a:lnTo>
                  <a:lnTo>
                    <a:pt x="3869" y="750"/>
                  </a:lnTo>
                  <a:lnTo>
                    <a:pt x="3879" y="742"/>
                  </a:lnTo>
                  <a:lnTo>
                    <a:pt x="3889" y="733"/>
                  </a:lnTo>
                  <a:lnTo>
                    <a:pt x="3897" y="725"/>
                  </a:lnTo>
                  <a:lnTo>
                    <a:pt x="3904" y="715"/>
                  </a:lnTo>
                  <a:lnTo>
                    <a:pt x="3910" y="704"/>
                  </a:lnTo>
                  <a:lnTo>
                    <a:pt x="3916" y="692"/>
                  </a:lnTo>
                  <a:lnTo>
                    <a:pt x="3920" y="681"/>
                  </a:lnTo>
                  <a:lnTo>
                    <a:pt x="3924" y="669"/>
                  </a:lnTo>
                  <a:lnTo>
                    <a:pt x="3925" y="656"/>
                  </a:lnTo>
                  <a:lnTo>
                    <a:pt x="3927" y="643"/>
                  </a:lnTo>
                  <a:lnTo>
                    <a:pt x="3927" y="129"/>
                  </a:lnTo>
                  <a:lnTo>
                    <a:pt x="3925" y="116"/>
                  </a:lnTo>
                  <a:lnTo>
                    <a:pt x="3924" y="104"/>
                  </a:lnTo>
                  <a:lnTo>
                    <a:pt x="3920" y="91"/>
                  </a:lnTo>
                  <a:lnTo>
                    <a:pt x="3916" y="78"/>
                  </a:lnTo>
                  <a:lnTo>
                    <a:pt x="3910" y="67"/>
                  </a:lnTo>
                  <a:lnTo>
                    <a:pt x="3904" y="57"/>
                  </a:lnTo>
                  <a:lnTo>
                    <a:pt x="3897" y="47"/>
                  </a:lnTo>
                  <a:lnTo>
                    <a:pt x="3889" y="38"/>
                  </a:lnTo>
                  <a:lnTo>
                    <a:pt x="3879" y="29"/>
                  </a:lnTo>
                  <a:lnTo>
                    <a:pt x="3869" y="22"/>
                  </a:lnTo>
                  <a:lnTo>
                    <a:pt x="3860" y="15"/>
                  </a:lnTo>
                  <a:lnTo>
                    <a:pt x="3848" y="10"/>
                  </a:lnTo>
                  <a:lnTo>
                    <a:pt x="3836" y="5"/>
                  </a:lnTo>
                  <a:lnTo>
                    <a:pt x="3823" y="3"/>
                  </a:lnTo>
                  <a:lnTo>
                    <a:pt x="3810" y="1"/>
                  </a:lnTo>
                  <a:lnTo>
                    <a:pt x="3798" y="0"/>
                  </a:lnTo>
                  <a:lnTo>
                    <a:pt x="127" y="0"/>
                  </a:lnTo>
                </a:path>
              </a:pathLst>
            </a:custGeom>
            <a:noFill/>
            <a:ln w="5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s-E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6"/>
            <p:cNvSpPr/>
            <p:nvPr/>
          </p:nvSpPr>
          <p:spPr>
            <a:xfrm>
              <a:off x="6495480" y="1604520"/>
              <a:ext cx="831600" cy="18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Secund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7"/>
            <p:cNvSpPr/>
            <p:nvPr/>
          </p:nvSpPr>
          <p:spPr>
            <a:xfrm>
              <a:off x="6053040" y="179424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Santander - Colombi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9"/>
            <p:cNvSpPr/>
            <p:nvPr/>
          </p:nvSpPr>
          <p:spPr>
            <a:xfrm>
              <a:off x="6053040" y="1938600"/>
              <a:ext cx="1606320" cy="12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Coahuila - México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41"/>
          <p:cNvSpPr/>
          <p:nvPr/>
        </p:nvSpPr>
        <p:spPr>
          <a:xfrm>
            <a:off x="2101680" y="299736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n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2316240" y="342900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2108160" y="3645000"/>
            <a:ext cx="1305720" cy="3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agoas – 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hocó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2316960" y="440856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2463480" y="5129280"/>
            <a:ext cx="6364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2172240" y="5560920"/>
            <a:ext cx="11214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La Paz - B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7"/>
          <p:cNvSpPr/>
          <p:nvPr/>
        </p:nvSpPr>
        <p:spPr>
          <a:xfrm>
            <a:off x="725400" y="3341520"/>
            <a:ext cx="3909600" cy="734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3927" h="772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6"/>
                </a:lnTo>
                <a:lnTo>
                  <a:pt x="56" y="22"/>
                </a:lnTo>
                <a:lnTo>
                  <a:pt x="46" y="30"/>
                </a:lnTo>
                <a:lnTo>
                  <a:pt x="37" y="38"/>
                </a:lnTo>
                <a:lnTo>
                  <a:pt x="28" y="47"/>
                </a:lnTo>
                <a:lnTo>
                  <a:pt x="21" y="57"/>
                </a:lnTo>
                <a:lnTo>
                  <a:pt x="16" y="68"/>
                </a:lnTo>
                <a:lnTo>
                  <a:pt x="10" y="79"/>
                </a:lnTo>
                <a:lnTo>
                  <a:pt x="6" y="90"/>
                </a:lnTo>
                <a:lnTo>
                  <a:pt x="1" y="103"/>
                </a:lnTo>
                <a:lnTo>
                  <a:pt x="0" y="115"/>
                </a:lnTo>
                <a:lnTo>
                  <a:pt x="0" y="129"/>
                </a:lnTo>
                <a:lnTo>
                  <a:pt x="0" y="643"/>
                </a:lnTo>
                <a:lnTo>
                  <a:pt x="0" y="657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4"/>
                </a:lnTo>
                <a:lnTo>
                  <a:pt x="28" y="724"/>
                </a:lnTo>
                <a:lnTo>
                  <a:pt x="37" y="734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2"/>
                </a:lnTo>
                <a:lnTo>
                  <a:pt x="90" y="766"/>
                </a:lnTo>
                <a:lnTo>
                  <a:pt x="102" y="769"/>
                </a:lnTo>
                <a:lnTo>
                  <a:pt x="115" y="770"/>
                </a:lnTo>
                <a:lnTo>
                  <a:pt x="128" y="772"/>
                </a:lnTo>
                <a:lnTo>
                  <a:pt x="3798" y="772"/>
                </a:lnTo>
                <a:lnTo>
                  <a:pt x="3811" y="770"/>
                </a:lnTo>
                <a:lnTo>
                  <a:pt x="3824" y="769"/>
                </a:lnTo>
                <a:lnTo>
                  <a:pt x="3836" y="766"/>
                </a:lnTo>
                <a:lnTo>
                  <a:pt x="3849" y="762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4"/>
                </a:lnTo>
                <a:lnTo>
                  <a:pt x="3898" y="724"/>
                </a:lnTo>
                <a:lnTo>
                  <a:pt x="3905" y="714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7"/>
                </a:lnTo>
                <a:lnTo>
                  <a:pt x="3927" y="643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3"/>
                </a:lnTo>
                <a:lnTo>
                  <a:pt x="3920" y="90"/>
                </a:lnTo>
                <a:lnTo>
                  <a:pt x="3916" y="79"/>
                </a:lnTo>
                <a:lnTo>
                  <a:pt x="3911" y="68"/>
                </a:lnTo>
                <a:lnTo>
                  <a:pt x="3905" y="57"/>
                </a:lnTo>
                <a:lnTo>
                  <a:pt x="3898" y="47"/>
                </a:lnTo>
                <a:lnTo>
                  <a:pt x="3889" y="38"/>
                </a:lnTo>
                <a:lnTo>
                  <a:pt x="3880" y="30"/>
                </a:lnTo>
                <a:lnTo>
                  <a:pt x="3870" y="22"/>
                </a:lnTo>
                <a:lnTo>
                  <a:pt x="3860" y="16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8"/>
          <p:cNvSpPr/>
          <p:nvPr/>
        </p:nvSpPr>
        <p:spPr>
          <a:xfrm>
            <a:off x="733320" y="4292640"/>
            <a:ext cx="3909600" cy="720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20360"/>
              <a:gd name="textAreaBottom" fmla="*/ 720720 h 72036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3"/>
                </a:lnTo>
                <a:lnTo>
                  <a:pt x="90" y="6"/>
                </a:lnTo>
                <a:lnTo>
                  <a:pt x="79" y="10"/>
                </a:lnTo>
                <a:lnTo>
                  <a:pt x="67" y="15"/>
                </a:lnTo>
                <a:lnTo>
                  <a:pt x="56" y="22"/>
                </a:lnTo>
                <a:lnTo>
                  <a:pt x="46" y="29"/>
                </a:lnTo>
                <a:lnTo>
                  <a:pt x="37" y="38"/>
                </a:lnTo>
                <a:lnTo>
                  <a:pt x="28" y="46"/>
                </a:lnTo>
                <a:lnTo>
                  <a:pt x="21" y="56"/>
                </a:lnTo>
                <a:lnTo>
                  <a:pt x="16" y="67"/>
                </a:lnTo>
                <a:lnTo>
                  <a:pt x="10" y="79"/>
                </a:lnTo>
                <a:lnTo>
                  <a:pt x="6" y="90"/>
                </a:lnTo>
                <a:lnTo>
                  <a:pt x="1" y="102"/>
                </a:lnTo>
                <a:lnTo>
                  <a:pt x="0" y="115"/>
                </a:lnTo>
                <a:lnTo>
                  <a:pt x="0" y="129"/>
                </a:lnTo>
                <a:lnTo>
                  <a:pt x="0" y="642"/>
                </a:lnTo>
                <a:lnTo>
                  <a:pt x="0" y="656"/>
                </a:lnTo>
                <a:lnTo>
                  <a:pt x="1" y="669"/>
                </a:lnTo>
                <a:lnTo>
                  <a:pt x="6" y="681"/>
                </a:lnTo>
                <a:lnTo>
                  <a:pt x="10" y="693"/>
                </a:lnTo>
                <a:lnTo>
                  <a:pt x="16" y="704"/>
                </a:lnTo>
                <a:lnTo>
                  <a:pt x="21" y="715"/>
                </a:lnTo>
                <a:lnTo>
                  <a:pt x="28" y="725"/>
                </a:lnTo>
                <a:lnTo>
                  <a:pt x="37" y="733"/>
                </a:lnTo>
                <a:lnTo>
                  <a:pt x="46" y="742"/>
                </a:lnTo>
                <a:lnTo>
                  <a:pt x="56" y="749"/>
                </a:lnTo>
                <a:lnTo>
                  <a:pt x="67" y="756"/>
                </a:lnTo>
                <a:lnTo>
                  <a:pt x="79" y="761"/>
                </a:lnTo>
                <a:lnTo>
                  <a:pt x="90" y="766"/>
                </a:lnTo>
                <a:lnTo>
                  <a:pt x="102" y="768"/>
                </a:lnTo>
                <a:lnTo>
                  <a:pt x="115" y="770"/>
                </a:lnTo>
                <a:lnTo>
                  <a:pt x="128" y="771"/>
                </a:lnTo>
                <a:lnTo>
                  <a:pt x="3798" y="771"/>
                </a:lnTo>
                <a:lnTo>
                  <a:pt x="3811" y="770"/>
                </a:lnTo>
                <a:lnTo>
                  <a:pt x="3824" y="768"/>
                </a:lnTo>
                <a:lnTo>
                  <a:pt x="3836" y="766"/>
                </a:lnTo>
                <a:lnTo>
                  <a:pt x="3849" y="761"/>
                </a:lnTo>
                <a:lnTo>
                  <a:pt x="3860" y="756"/>
                </a:lnTo>
                <a:lnTo>
                  <a:pt x="3870" y="749"/>
                </a:lnTo>
                <a:lnTo>
                  <a:pt x="3880" y="742"/>
                </a:lnTo>
                <a:lnTo>
                  <a:pt x="3889" y="733"/>
                </a:lnTo>
                <a:lnTo>
                  <a:pt x="3898" y="725"/>
                </a:lnTo>
                <a:lnTo>
                  <a:pt x="3905" y="715"/>
                </a:lnTo>
                <a:lnTo>
                  <a:pt x="3911" y="704"/>
                </a:lnTo>
                <a:lnTo>
                  <a:pt x="3916" y="693"/>
                </a:lnTo>
                <a:lnTo>
                  <a:pt x="3920" y="681"/>
                </a:lnTo>
                <a:lnTo>
                  <a:pt x="3925" y="669"/>
                </a:lnTo>
                <a:lnTo>
                  <a:pt x="3926" y="656"/>
                </a:lnTo>
                <a:lnTo>
                  <a:pt x="3927" y="642"/>
                </a:lnTo>
                <a:lnTo>
                  <a:pt x="3927" y="129"/>
                </a:lnTo>
                <a:lnTo>
                  <a:pt x="3926" y="115"/>
                </a:lnTo>
                <a:lnTo>
                  <a:pt x="3925" y="102"/>
                </a:lnTo>
                <a:lnTo>
                  <a:pt x="3920" y="90"/>
                </a:lnTo>
                <a:lnTo>
                  <a:pt x="3916" y="79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8"/>
                </a:lnTo>
                <a:lnTo>
                  <a:pt x="3880" y="29"/>
                </a:lnTo>
                <a:lnTo>
                  <a:pt x="3870" y="22"/>
                </a:lnTo>
                <a:lnTo>
                  <a:pt x="3860" y="15"/>
                </a:lnTo>
                <a:lnTo>
                  <a:pt x="3849" y="10"/>
                </a:lnTo>
                <a:lnTo>
                  <a:pt x="3836" y="6"/>
                </a:lnTo>
                <a:lnTo>
                  <a:pt x="3824" y="3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2102040" y="4695840"/>
            <a:ext cx="10861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ío Bío -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50"/>
          <p:cNvSpPr/>
          <p:nvPr/>
        </p:nvSpPr>
        <p:spPr>
          <a:xfrm>
            <a:off x="733320" y="5084640"/>
            <a:ext cx="3909600" cy="7664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66440"/>
              <a:gd name="textAreaBottom" fmla="*/ 766800 h 766440"/>
            </a:gdLst>
            <a:ahLst/>
            <a:rect l="textAreaLeft" t="textAreaTop" r="textAreaRight" b="textAreaBottom"/>
            <a:pathLst>
              <a:path w="3927" h="771">
                <a:moveTo>
                  <a:pt x="128" y="0"/>
                </a:moveTo>
                <a:lnTo>
                  <a:pt x="115" y="0"/>
                </a:lnTo>
                <a:lnTo>
                  <a:pt x="102" y="1"/>
                </a:lnTo>
                <a:lnTo>
                  <a:pt x="90" y="5"/>
                </a:lnTo>
                <a:lnTo>
                  <a:pt x="79" y="10"/>
                </a:lnTo>
                <a:lnTo>
                  <a:pt x="67" y="15"/>
                </a:lnTo>
                <a:lnTo>
                  <a:pt x="56" y="21"/>
                </a:lnTo>
                <a:lnTo>
                  <a:pt x="46" y="29"/>
                </a:lnTo>
                <a:lnTo>
                  <a:pt x="37" y="36"/>
                </a:lnTo>
                <a:lnTo>
                  <a:pt x="30" y="46"/>
                </a:lnTo>
                <a:lnTo>
                  <a:pt x="21" y="56"/>
                </a:lnTo>
                <a:lnTo>
                  <a:pt x="16" y="67"/>
                </a:lnTo>
                <a:lnTo>
                  <a:pt x="10" y="78"/>
                </a:lnTo>
                <a:lnTo>
                  <a:pt x="6" y="89"/>
                </a:lnTo>
                <a:lnTo>
                  <a:pt x="1" y="102"/>
                </a:lnTo>
                <a:lnTo>
                  <a:pt x="0" y="115"/>
                </a:lnTo>
                <a:lnTo>
                  <a:pt x="0" y="127"/>
                </a:lnTo>
                <a:lnTo>
                  <a:pt x="0" y="642"/>
                </a:lnTo>
                <a:lnTo>
                  <a:pt x="0" y="655"/>
                </a:lnTo>
                <a:lnTo>
                  <a:pt x="1" y="667"/>
                </a:lnTo>
                <a:lnTo>
                  <a:pt x="6" y="680"/>
                </a:lnTo>
                <a:lnTo>
                  <a:pt x="10" y="692"/>
                </a:lnTo>
                <a:lnTo>
                  <a:pt x="16" y="704"/>
                </a:lnTo>
                <a:lnTo>
                  <a:pt x="21" y="713"/>
                </a:lnTo>
                <a:lnTo>
                  <a:pt x="30" y="723"/>
                </a:lnTo>
                <a:lnTo>
                  <a:pt x="37" y="733"/>
                </a:lnTo>
                <a:lnTo>
                  <a:pt x="46" y="741"/>
                </a:lnTo>
                <a:lnTo>
                  <a:pt x="56" y="748"/>
                </a:lnTo>
                <a:lnTo>
                  <a:pt x="67" y="754"/>
                </a:lnTo>
                <a:lnTo>
                  <a:pt x="79" y="760"/>
                </a:lnTo>
                <a:lnTo>
                  <a:pt x="90" y="764"/>
                </a:lnTo>
                <a:lnTo>
                  <a:pt x="102" y="768"/>
                </a:lnTo>
                <a:lnTo>
                  <a:pt x="115" y="769"/>
                </a:lnTo>
                <a:lnTo>
                  <a:pt x="128" y="771"/>
                </a:lnTo>
                <a:lnTo>
                  <a:pt x="3798" y="771"/>
                </a:lnTo>
                <a:lnTo>
                  <a:pt x="3811" y="769"/>
                </a:lnTo>
                <a:lnTo>
                  <a:pt x="3824" y="768"/>
                </a:lnTo>
                <a:lnTo>
                  <a:pt x="3836" y="764"/>
                </a:lnTo>
                <a:lnTo>
                  <a:pt x="3849" y="760"/>
                </a:lnTo>
                <a:lnTo>
                  <a:pt x="3860" y="754"/>
                </a:lnTo>
                <a:lnTo>
                  <a:pt x="3870" y="748"/>
                </a:lnTo>
                <a:lnTo>
                  <a:pt x="3880" y="741"/>
                </a:lnTo>
                <a:lnTo>
                  <a:pt x="3889" y="733"/>
                </a:lnTo>
                <a:lnTo>
                  <a:pt x="3898" y="723"/>
                </a:lnTo>
                <a:lnTo>
                  <a:pt x="3905" y="713"/>
                </a:lnTo>
                <a:lnTo>
                  <a:pt x="3911" y="704"/>
                </a:lnTo>
                <a:lnTo>
                  <a:pt x="3916" y="692"/>
                </a:lnTo>
                <a:lnTo>
                  <a:pt x="3920" y="680"/>
                </a:lnTo>
                <a:lnTo>
                  <a:pt x="3925" y="667"/>
                </a:lnTo>
                <a:lnTo>
                  <a:pt x="3926" y="655"/>
                </a:lnTo>
                <a:lnTo>
                  <a:pt x="3927" y="642"/>
                </a:lnTo>
                <a:lnTo>
                  <a:pt x="3927" y="127"/>
                </a:lnTo>
                <a:lnTo>
                  <a:pt x="3926" y="115"/>
                </a:lnTo>
                <a:lnTo>
                  <a:pt x="3925" y="102"/>
                </a:lnTo>
                <a:lnTo>
                  <a:pt x="3920" y="89"/>
                </a:lnTo>
                <a:lnTo>
                  <a:pt x="3916" y="78"/>
                </a:lnTo>
                <a:lnTo>
                  <a:pt x="3911" y="67"/>
                </a:lnTo>
                <a:lnTo>
                  <a:pt x="3905" y="56"/>
                </a:lnTo>
                <a:lnTo>
                  <a:pt x="3898" y="46"/>
                </a:lnTo>
                <a:lnTo>
                  <a:pt x="3889" y="36"/>
                </a:lnTo>
                <a:lnTo>
                  <a:pt x="3880" y="29"/>
                </a:lnTo>
                <a:lnTo>
                  <a:pt x="3870" y="21"/>
                </a:lnTo>
                <a:lnTo>
                  <a:pt x="3860" y="15"/>
                </a:lnTo>
                <a:lnTo>
                  <a:pt x="3849" y="10"/>
                </a:lnTo>
                <a:lnTo>
                  <a:pt x="3836" y="5"/>
                </a:lnTo>
                <a:lnTo>
                  <a:pt x="3824" y="1"/>
                </a:lnTo>
                <a:lnTo>
                  <a:pt x="3811" y="0"/>
                </a:lnTo>
                <a:lnTo>
                  <a:pt x="3798" y="0"/>
                </a:lnTo>
                <a:lnTo>
                  <a:pt x="128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2171160" y="5345280"/>
            <a:ext cx="13071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uerrer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6"/>
          <p:cNvSpPr/>
          <p:nvPr/>
        </p:nvSpPr>
        <p:spPr>
          <a:xfrm>
            <a:off x="6435000" y="3014640"/>
            <a:ext cx="1137960" cy="24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6505560" y="5180040"/>
            <a:ext cx="642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Terc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8"/>
          <p:cNvSpPr/>
          <p:nvPr/>
        </p:nvSpPr>
        <p:spPr>
          <a:xfrm>
            <a:off x="6147000" y="5433840"/>
            <a:ext cx="1398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gotá 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9"/>
          <p:cNvSpPr/>
          <p:nvPr/>
        </p:nvSpPr>
        <p:spPr>
          <a:xfrm>
            <a:off x="5011560" y="3375000"/>
            <a:ext cx="3909600" cy="5583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6591600" y="3467160"/>
            <a:ext cx="619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1"/>
          <p:cNvSpPr/>
          <p:nvPr/>
        </p:nvSpPr>
        <p:spPr>
          <a:xfrm>
            <a:off x="5003640" y="5041800"/>
            <a:ext cx="3909600" cy="78084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3927" h="1122">
                <a:moveTo>
                  <a:pt x="186" y="0"/>
                </a:moveTo>
                <a:lnTo>
                  <a:pt x="176" y="0"/>
                </a:lnTo>
                <a:lnTo>
                  <a:pt x="167" y="2"/>
                </a:lnTo>
                <a:lnTo>
                  <a:pt x="158" y="3"/>
                </a:lnTo>
                <a:lnTo>
                  <a:pt x="148" y="5"/>
                </a:lnTo>
                <a:lnTo>
                  <a:pt x="140" y="6"/>
                </a:lnTo>
                <a:lnTo>
                  <a:pt x="130" y="9"/>
                </a:lnTo>
                <a:lnTo>
                  <a:pt x="122" y="12"/>
                </a:lnTo>
                <a:lnTo>
                  <a:pt x="113" y="16"/>
                </a:lnTo>
                <a:lnTo>
                  <a:pt x="105" y="19"/>
                </a:lnTo>
                <a:lnTo>
                  <a:pt x="96" y="23"/>
                </a:lnTo>
                <a:lnTo>
                  <a:pt x="89" y="28"/>
                </a:lnTo>
                <a:lnTo>
                  <a:pt x="81" y="33"/>
                </a:lnTo>
                <a:lnTo>
                  <a:pt x="67" y="44"/>
                </a:lnTo>
                <a:lnTo>
                  <a:pt x="54" y="55"/>
                </a:lnTo>
                <a:lnTo>
                  <a:pt x="42" y="69"/>
                </a:lnTo>
                <a:lnTo>
                  <a:pt x="30" y="83"/>
                </a:lnTo>
                <a:lnTo>
                  <a:pt x="26" y="92"/>
                </a:lnTo>
                <a:lnTo>
                  <a:pt x="22" y="99"/>
                </a:lnTo>
                <a:lnTo>
                  <a:pt x="18" y="107"/>
                </a:lnTo>
                <a:lnTo>
                  <a:pt x="14" y="115"/>
                </a:lnTo>
                <a:lnTo>
                  <a:pt x="11" y="124"/>
                </a:lnTo>
                <a:lnTo>
                  <a:pt x="8" y="132"/>
                </a:lnTo>
                <a:lnTo>
                  <a:pt x="5" y="141"/>
                </a:lnTo>
                <a:lnTo>
                  <a:pt x="2" y="150"/>
                </a:lnTo>
                <a:lnTo>
                  <a:pt x="1" y="159"/>
                </a:lnTo>
                <a:lnTo>
                  <a:pt x="0" y="169"/>
                </a:lnTo>
                <a:lnTo>
                  <a:pt x="0" y="178"/>
                </a:lnTo>
                <a:lnTo>
                  <a:pt x="0" y="188"/>
                </a:lnTo>
                <a:lnTo>
                  <a:pt x="0" y="936"/>
                </a:lnTo>
                <a:lnTo>
                  <a:pt x="0" y="945"/>
                </a:lnTo>
                <a:lnTo>
                  <a:pt x="0" y="955"/>
                </a:lnTo>
                <a:lnTo>
                  <a:pt x="1" y="964"/>
                </a:lnTo>
                <a:lnTo>
                  <a:pt x="2" y="974"/>
                </a:lnTo>
                <a:lnTo>
                  <a:pt x="5" y="982"/>
                </a:lnTo>
                <a:lnTo>
                  <a:pt x="8" y="992"/>
                </a:lnTo>
                <a:lnTo>
                  <a:pt x="11" y="1000"/>
                </a:lnTo>
                <a:lnTo>
                  <a:pt x="14" y="1009"/>
                </a:lnTo>
                <a:lnTo>
                  <a:pt x="18" y="1017"/>
                </a:lnTo>
                <a:lnTo>
                  <a:pt x="22" y="1025"/>
                </a:lnTo>
                <a:lnTo>
                  <a:pt x="26" y="1032"/>
                </a:lnTo>
                <a:lnTo>
                  <a:pt x="30" y="1041"/>
                </a:lnTo>
                <a:lnTo>
                  <a:pt x="42" y="1055"/>
                </a:lnTo>
                <a:lnTo>
                  <a:pt x="54" y="1067"/>
                </a:lnTo>
                <a:lnTo>
                  <a:pt x="67" y="1080"/>
                </a:lnTo>
                <a:lnTo>
                  <a:pt x="81" y="1091"/>
                </a:lnTo>
                <a:lnTo>
                  <a:pt x="89" y="1095"/>
                </a:lnTo>
                <a:lnTo>
                  <a:pt x="96" y="1100"/>
                </a:lnTo>
                <a:lnTo>
                  <a:pt x="105" y="1104"/>
                </a:lnTo>
                <a:lnTo>
                  <a:pt x="113" y="1108"/>
                </a:lnTo>
                <a:lnTo>
                  <a:pt x="122" y="1111"/>
                </a:lnTo>
                <a:lnTo>
                  <a:pt x="130" y="1114"/>
                </a:lnTo>
                <a:lnTo>
                  <a:pt x="140" y="1117"/>
                </a:lnTo>
                <a:lnTo>
                  <a:pt x="148" y="1119"/>
                </a:lnTo>
                <a:lnTo>
                  <a:pt x="158" y="1121"/>
                </a:lnTo>
                <a:lnTo>
                  <a:pt x="167" y="1122"/>
                </a:lnTo>
                <a:lnTo>
                  <a:pt x="176" y="1122"/>
                </a:lnTo>
                <a:lnTo>
                  <a:pt x="186" y="1122"/>
                </a:lnTo>
                <a:lnTo>
                  <a:pt x="3739" y="1122"/>
                </a:lnTo>
                <a:lnTo>
                  <a:pt x="3749" y="1122"/>
                </a:lnTo>
                <a:lnTo>
                  <a:pt x="3759" y="1122"/>
                </a:lnTo>
                <a:lnTo>
                  <a:pt x="3768" y="1121"/>
                </a:lnTo>
                <a:lnTo>
                  <a:pt x="3777" y="1119"/>
                </a:lnTo>
                <a:lnTo>
                  <a:pt x="3787" y="1117"/>
                </a:lnTo>
                <a:lnTo>
                  <a:pt x="3795" y="1114"/>
                </a:lnTo>
                <a:lnTo>
                  <a:pt x="3803" y="1111"/>
                </a:lnTo>
                <a:lnTo>
                  <a:pt x="3812" y="1108"/>
                </a:lnTo>
                <a:lnTo>
                  <a:pt x="3820" y="1104"/>
                </a:lnTo>
                <a:lnTo>
                  <a:pt x="3829" y="1100"/>
                </a:lnTo>
                <a:lnTo>
                  <a:pt x="3836" y="1095"/>
                </a:lnTo>
                <a:lnTo>
                  <a:pt x="3844" y="1091"/>
                </a:lnTo>
                <a:lnTo>
                  <a:pt x="3858" y="1080"/>
                </a:lnTo>
                <a:lnTo>
                  <a:pt x="3872" y="1067"/>
                </a:lnTo>
                <a:lnTo>
                  <a:pt x="3883" y="1055"/>
                </a:lnTo>
                <a:lnTo>
                  <a:pt x="3895" y="1041"/>
                </a:lnTo>
                <a:lnTo>
                  <a:pt x="3899" y="1032"/>
                </a:lnTo>
                <a:lnTo>
                  <a:pt x="3903" y="1025"/>
                </a:lnTo>
                <a:lnTo>
                  <a:pt x="3907" y="1017"/>
                </a:lnTo>
                <a:lnTo>
                  <a:pt x="3911" y="1009"/>
                </a:lnTo>
                <a:lnTo>
                  <a:pt x="3914" y="1000"/>
                </a:lnTo>
                <a:lnTo>
                  <a:pt x="3918" y="992"/>
                </a:lnTo>
                <a:lnTo>
                  <a:pt x="3920" y="982"/>
                </a:lnTo>
                <a:lnTo>
                  <a:pt x="3923" y="974"/>
                </a:lnTo>
                <a:lnTo>
                  <a:pt x="3924" y="964"/>
                </a:lnTo>
                <a:lnTo>
                  <a:pt x="3925" y="955"/>
                </a:lnTo>
                <a:lnTo>
                  <a:pt x="3925" y="945"/>
                </a:lnTo>
                <a:lnTo>
                  <a:pt x="3927" y="936"/>
                </a:lnTo>
                <a:lnTo>
                  <a:pt x="3927" y="188"/>
                </a:lnTo>
                <a:lnTo>
                  <a:pt x="3925" y="178"/>
                </a:lnTo>
                <a:lnTo>
                  <a:pt x="3925" y="169"/>
                </a:lnTo>
                <a:lnTo>
                  <a:pt x="3924" y="159"/>
                </a:lnTo>
                <a:lnTo>
                  <a:pt x="3923" y="150"/>
                </a:lnTo>
                <a:lnTo>
                  <a:pt x="3920" y="141"/>
                </a:lnTo>
                <a:lnTo>
                  <a:pt x="3918" y="132"/>
                </a:lnTo>
                <a:lnTo>
                  <a:pt x="3914" y="124"/>
                </a:lnTo>
                <a:lnTo>
                  <a:pt x="3911" y="115"/>
                </a:lnTo>
                <a:lnTo>
                  <a:pt x="3907" y="107"/>
                </a:lnTo>
                <a:lnTo>
                  <a:pt x="3903" y="99"/>
                </a:lnTo>
                <a:lnTo>
                  <a:pt x="3899" y="92"/>
                </a:lnTo>
                <a:lnTo>
                  <a:pt x="3895" y="83"/>
                </a:lnTo>
                <a:lnTo>
                  <a:pt x="3883" y="69"/>
                </a:lnTo>
                <a:lnTo>
                  <a:pt x="3872" y="55"/>
                </a:lnTo>
                <a:lnTo>
                  <a:pt x="3858" y="44"/>
                </a:lnTo>
                <a:lnTo>
                  <a:pt x="3844" y="33"/>
                </a:lnTo>
                <a:lnTo>
                  <a:pt x="3836" y="28"/>
                </a:lnTo>
                <a:lnTo>
                  <a:pt x="3829" y="23"/>
                </a:lnTo>
                <a:lnTo>
                  <a:pt x="3820" y="19"/>
                </a:lnTo>
                <a:lnTo>
                  <a:pt x="3812" y="16"/>
                </a:lnTo>
                <a:lnTo>
                  <a:pt x="3803" y="12"/>
                </a:lnTo>
                <a:lnTo>
                  <a:pt x="3795" y="9"/>
                </a:lnTo>
                <a:lnTo>
                  <a:pt x="3787" y="6"/>
                </a:lnTo>
                <a:lnTo>
                  <a:pt x="3777" y="5"/>
                </a:lnTo>
                <a:lnTo>
                  <a:pt x="3768" y="3"/>
                </a:lnTo>
                <a:lnTo>
                  <a:pt x="3759" y="2"/>
                </a:lnTo>
                <a:lnTo>
                  <a:pt x="3749" y="0"/>
                </a:lnTo>
                <a:lnTo>
                  <a:pt x="3739" y="0"/>
                </a:lnTo>
                <a:lnTo>
                  <a:pt x="186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2"/>
          <p:cNvSpPr/>
          <p:nvPr/>
        </p:nvSpPr>
        <p:spPr>
          <a:xfrm>
            <a:off x="6288480" y="4713120"/>
            <a:ext cx="138492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o Paulo -  Bra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6275520" y="3637080"/>
            <a:ext cx="133308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gallanes -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4"/>
          <p:cNvSpPr/>
          <p:nvPr/>
        </p:nvSpPr>
        <p:spPr>
          <a:xfrm>
            <a:off x="5003640" y="4265640"/>
            <a:ext cx="3909600" cy="707760"/>
          </a:xfrm>
          <a:custGeom>
            <a:avLst/>
            <a:gdLst>
              <a:gd name="textAreaLeft" fmla="*/ 0 w 3909600"/>
              <a:gd name="textAreaRight" fmla="*/ 3909960 w 39096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3927" h="561">
                <a:moveTo>
                  <a:pt x="92" y="0"/>
                </a:moveTo>
                <a:lnTo>
                  <a:pt x="82" y="0"/>
                </a:lnTo>
                <a:lnTo>
                  <a:pt x="74" y="2"/>
                </a:lnTo>
                <a:lnTo>
                  <a:pt x="64" y="4"/>
                </a:lnTo>
                <a:lnTo>
                  <a:pt x="56" y="7"/>
                </a:lnTo>
                <a:lnTo>
                  <a:pt x="49" y="11"/>
                </a:lnTo>
                <a:lnTo>
                  <a:pt x="40" y="16"/>
                </a:lnTo>
                <a:lnTo>
                  <a:pt x="33" y="21"/>
                </a:lnTo>
                <a:lnTo>
                  <a:pt x="26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6" y="533"/>
                </a:lnTo>
                <a:lnTo>
                  <a:pt x="33" y="539"/>
                </a:lnTo>
                <a:lnTo>
                  <a:pt x="40" y="544"/>
                </a:lnTo>
                <a:lnTo>
                  <a:pt x="49" y="548"/>
                </a:lnTo>
                <a:lnTo>
                  <a:pt x="56" y="553"/>
                </a:lnTo>
                <a:lnTo>
                  <a:pt x="64" y="557"/>
                </a:lnTo>
                <a:lnTo>
                  <a:pt x="74" y="558"/>
                </a:lnTo>
                <a:lnTo>
                  <a:pt x="82" y="560"/>
                </a:lnTo>
                <a:lnTo>
                  <a:pt x="92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1" y="558"/>
                </a:lnTo>
                <a:lnTo>
                  <a:pt x="3861" y="557"/>
                </a:lnTo>
                <a:lnTo>
                  <a:pt x="3869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2" y="539"/>
                </a:lnTo>
                <a:lnTo>
                  <a:pt x="3899" y="533"/>
                </a:lnTo>
                <a:lnTo>
                  <a:pt x="3904" y="526"/>
                </a:lnTo>
                <a:lnTo>
                  <a:pt x="3910" y="519"/>
                </a:lnTo>
                <a:lnTo>
                  <a:pt x="3914" y="512"/>
                </a:lnTo>
                <a:lnTo>
                  <a:pt x="3918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5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5" y="83"/>
                </a:lnTo>
                <a:lnTo>
                  <a:pt x="3924" y="74"/>
                </a:lnTo>
                <a:lnTo>
                  <a:pt x="3923" y="65"/>
                </a:lnTo>
                <a:lnTo>
                  <a:pt x="3918" y="56"/>
                </a:lnTo>
                <a:lnTo>
                  <a:pt x="3914" y="49"/>
                </a:lnTo>
                <a:lnTo>
                  <a:pt x="3910" y="41"/>
                </a:lnTo>
                <a:lnTo>
                  <a:pt x="3904" y="34"/>
                </a:lnTo>
                <a:lnTo>
                  <a:pt x="3899" y="27"/>
                </a:lnTo>
                <a:lnTo>
                  <a:pt x="3892" y="21"/>
                </a:lnTo>
                <a:lnTo>
                  <a:pt x="3885" y="16"/>
                </a:lnTo>
                <a:lnTo>
                  <a:pt x="3878" y="11"/>
                </a:lnTo>
                <a:lnTo>
                  <a:pt x="3869" y="7"/>
                </a:lnTo>
                <a:lnTo>
                  <a:pt x="3861" y="4"/>
                </a:lnTo>
                <a:lnTo>
                  <a:pt x="3851" y="2"/>
                </a:lnTo>
                <a:lnTo>
                  <a:pt x="3843" y="0"/>
                </a:lnTo>
                <a:lnTo>
                  <a:pt x="3833" y="0"/>
                </a:lnTo>
                <a:lnTo>
                  <a:pt x="92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5"/>
          <p:cNvSpPr/>
          <p:nvPr/>
        </p:nvSpPr>
        <p:spPr>
          <a:xfrm>
            <a:off x="6433560" y="4281480"/>
            <a:ext cx="83160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6289560" y="4497480"/>
            <a:ext cx="15123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n Luis - Argent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6146640" y="5649840"/>
            <a:ext cx="165384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Quintana Roo - Mé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6360480" y="6010200"/>
            <a:ext cx="959760" cy="18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iversifi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6091200" y="6281640"/>
            <a:ext cx="1945800" cy="18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alle del Cauca -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0"/>
          <p:cNvSpPr/>
          <p:nvPr/>
        </p:nvSpPr>
        <p:spPr>
          <a:xfrm>
            <a:off x="5046840" y="5967360"/>
            <a:ext cx="3908160" cy="55836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3927" h="561">
                <a:moveTo>
                  <a:pt x="94" y="0"/>
                </a:moveTo>
                <a:lnTo>
                  <a:pt x="84" y="0"/>
                </a:lnTo>
                <a:lnTo>
                  <a:pt x="74" y="2"/>
                </a:lnTo>
                <a:lnTo>
                  <a:pt x="66" y="4"/>
                </a:lnTo>
                <a:lnTo>
                  <a:pt x="58" y="7"/>
                </a:lnTo>
                <a:lnTo>
                  <a:pt x="49" y="11"/>
                </a:lnTo>
                <a:lnTo>
                  <a:pt x="41" y="16"/>
                </a:lnTo>
                <a:lnTo>
                  <a:pt x="34" y="21"/>
                </a:lnTo>
                <a:lnTo>
                  <a:pt x="27" y="27"/>
                </a:lnTo>
                <a:lnTo>
                  <a:pt x="21" y="34"/>
                </a:lnTo>
                <a:lnTo>
                  <a:pt x="15" y="41"/>
                </a:lnTo>
                <a:lnTo>
                  <a:pt x="11" y="49"/>
                </a:lnTo>
                <a:lnTo>
                  <a:pt x="7" y="56"/>
                </a:lnTo>
                <a:lnTo>
                  <a:pt x="4" y="65"/>
                </a:lnTo>
                <a:lnTo>
                  <a:pt x="1" y="74"/>
                </a:lnTo>
                <a:lnTo>
                  <a:pt x="0" y="83"/>
                </a:lnTo>
                <a:lnTo>
                  <a:pt x="0" y="93"/>
                </a:lnTo>
                <a:lnTo>
                  <a:pt x="0" y="467"/>
                </a:lnTo>
                <a:lnTo>
                  <a:pt x="0" y="477"/>
                </a:lnTo>
                <a:lnTo>
                  <a:pt x="1" y="485"/>
                </a:lnTo>
                <a:lnTo>
                  <a:pt x="4" y="495"/>
                </a:lnTo>
                <a:lnTo>
                  <a:pt x="7" y="504"/>
                </a:lnTo>
                <a:lnTo>
                  <a:pt x="11" y="512"/>
                </a:lnTo>
                <a:lnTo>
                  <a:pt x="15" y="519"/>
                </a:lnTo>
                <a:lnTo>
                  <a:pt x="21" y="526"/>
                </a:lnTo>
                <a:lnTo>
                  <a:pt x="27" y="533"/>
                </a:lnTo>
                <a:lnTo>
                  <a:pt x="34" y="539"/>
                </a:lnTo>
                <a:lnTo>
                  <a:pt x="41" y="544"/>
                </a:lnTo>
                <a:lnTo>
                  <a:pt x="49" y="548"/>
                </a:lnTo>
                <a:lnTo>
                  <a:pt x="58" y="553"/>
                </a:lnTo>
                <a:lnTo>
                  <a:pt x="66" y="557"/>
                </a:lnTo>
                <a:lnTo>
                  <a:pt x="74" y="558"/>
                </a:lnTo>
                <a:lnTo>
                  <a:pt x="84" y="560"/>
                </a:lnTo>
                <a:lnTo>
                  <a:pt x="94" y="561"/>
                </a:lnTo>
                <a:lnTo>
                  <a:pt x="3833" y="561"/>
                </a:lnTo>
                <a:lnTo>
                  <a:pt x="3843" y="560"/>
                </a:lnTo>
                <a:lnTo>
                  <a:pt x="3853" y="558"/>
                </a:lnTo>
                <a:lnTo>
                  <a:pt x="3861" y="557"/>
                </a:lnTo>
                <a:lnTo>
                  <a:pt x="3870" y="553"/>
                </a:lnTo>
                <a:lnTo>
                  <a:pt x="3878" y="548"/>
                </a:lnTo>
                <a:lnTo>
                  <a:pt x="3885" y="544"/>
                </a:lnTo>
                <a:lnTo>
                  <a:pt x="3894" y="539"/>
                </a:lnTo>
                <a:lnTo>
                  <a:pt x="3899" y="533"/>
                </a:lnTo>
                <a:lnTo>
                  <a:pt x="3906" y="526"/>
                </a:lnTo>
                <a:lnTo>
                  <a:pt x="3910" y="519"/>
                </a:lnTo>
                <a:lnTo>
                  <a:pt x="3916" y="512"/>
                </a:lnTo>
                <a:lnTo>
                  <a:pt x="3920" y="504"/>
                </a:lnTo>
                <a:lnTo>
                  <a:pt x="3923" y="495"/>
                </a:lnTo>
                <a:lnTo>
                  <a:pt x="3924" y="485"/>
                </a:lnTo>
                <a:lnTo>
                  <a:pt x="3926" y="477"/>
                </a:lnTo>
                <a:lnTo>
                  <a:pt x="3927" y="467"/>
                </a:lnTo>
                <a:lnTo>
                  <a:pt x="3927" y="93"/>
                </a:lnTo>
                <a:lnTo>
                  <a:pt x="3926" y="83"/>
                </a:lnTo>
                <a:lnTo>
                  <a:pt x="3924" y="74"/>
                </a:lnTo>
                <a:lnTo>
                  <a:pt x="3923" y="65"/>
                </a:lnTo>
                <a:lnTo>
                  <a:pt x="3920" y="56"/>
                </a:lnTo>
                <a:lnTo>
                  <a:pt x="3916" y="49"/>
                </a:lnTo>
                <a:lnTo>
                  <a:pt x="3910" y="41"/>
                </a:lnTo>
                <a:lnTo>
                  <a:pt x="3906" y="34"/>
                </a:lnTo>
                <a:lnTo>
                  <a:pt x="3899" y="27"/>
                </a:lnTo>
                <a:lnTo>
                  <a:pt x="3894" y="21"/>
                </a:lnTo>
                <a:lnTo>
                  <a:pt x="3885" y="16"/>
                </a:lnTo>
                <a:lnTo>
                  <a:pt x="3878" y="11"/>
                </a:lnTo>
                <a:lnTo>
                  <a:pt x="3870" y="7"/>
                </a:lnTo>
                <a:lnTo>
                  <a:pt x="3861" y="4"/>
                </a:lnTo>
                <a:lnTo>
                  <a:pt x="3853" y="2"/>
                </a:lnTo>
                <a:lnTo>
                  <a:pt x="3843" y="0"/>
                </a:lnTo>
                <a:lnTo>
                  <a:pt x="3833" y="0"/>
                </a:lnTo>
                <a:lnTo>
                  <a:pt x="94" y="0"/>
                </a:lnTo>
              </a:path>
            </a:pathLst>
          </a:custGeom>
          <a:noFill/>
          <a:ln w="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0"/>
          <p:cNvSpPr/>
          <p:nvPr/>
        </p:nvSpPr>
        <p:spPr>
          <a:xfrm>
            <a:off x="179280" y="1989000"/>
            <a:ext cx="28872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1"/>
          <p:cNvSpPr/>
          <p:nvPr/>
        </p:nvSpPr>
        <p:spPr>
          <a:xfrm>
            <a:off x="4289400" y="6381720"/>
            <a:ext cx="7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B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ricos y ganador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omías primario exportador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ero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o generadoras de difusión y arrastre (intra o inter) regional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 estado asociados con la industr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Zonas de industrialización globalizada (Maquila plu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NTROS ECONÓMICOS MAYOR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dependientes del medio urbano y aglomera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odos gan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de la misma form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nculos de servicios. Encadenamientos con sectores líderes (minería)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usión y arrastre excluyent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Territorios convergentes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(pobres ganadore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240" cy="398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rtadores de productos primari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ícolas, pes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ufactura y diversidad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logran sostenerse para dejar de ser pobr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Economías y estructuras estancadas (perdedoras)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5640" y="1927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ociado a la agricultur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 ahora también la industria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-industrialización de zonas tradicion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industria y la agricultura pueden ser ganadoras o perdedor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bres persistente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pic>
        <p:nvPicPr>
          <p:cNvPr id="317" name="Picture 4" descr="americaLatina8"/>
          <p:cNvPicPr/>
          <p:nvPr/>
        </p:nvPicPr>
        <p:blipFill>
          <a:blip r:embed="rId1"/>
          <a:stretch/>
        </p:blipFill>
        <p:spPr>
          <a:xfrm>
            <a:off x="2124000" y="-228600"/>
            <a:ext cx="547344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7280" y="125280"/>
            <a:ext cx="8892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Dinámicas regionales y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19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trás de los casos ganadores y otros…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 habido políticas nacionales con impacto regiona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iones “impactadas” 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propiamente políticas regional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economías locales construidas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obre rentas de recursos naturales generan ingresos y empleos, impiden que pueda diversificarse en otras industrias para construir una base económica sustentable.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existencia de políticas </a:t>
            </a:r>
            <a:br>
              <a:rPr sz="4400"/>
            </a:b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familia de política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8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regional – Políticas regionales: “desde arriba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local: promoción “desde abajo”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nomías políticas ~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stenibilidad ambiental y planificación territorial: ordenamiento territorial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sectorial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de fomento productivo localizad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ramas transversales (pobreza)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La Competitividad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asocia con el desempeño económico e institucional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gros y capacidad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presenta y evalúa múltiples dimensiones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Visión integral del desarrollo</a:t>
            </a: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CO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CADF22E4-FB60-410B-AF20-988AF646F452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-27000"/>
            <a:ext cx="84960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200" spc="-1" strike="noStrike">
                <a:solidFill>
                  <a:srgbClr val="c00000"/>
                </a:solidFill>
                <a:latin typeface="Arial"/>
              </a:rPr>
              <a:t>Escalafón Global de Competitividad Departamental 2009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395280" y="652464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Extra líder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B5F7F26-D32E-466B-99E2-642D7E9C9CCB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914480" y="907920"/>
            <a:ext cx="5327280" cy="57988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240" cy="92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600" spc="-1" strike="noStrike">
                <a:solidFill>
                  <a:srgbClr val="c00000"/>
                </a:solidFill>
                <a:latin typeface="Arial"/>
              </a:rPr>
              <a:t>Escalafón de Capital Humano 2009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Imagen 8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271840" cy="5544720"/>
          </a:xfrm>
          <a:prstGeom prst="rect">
            <a:avLst/>
          </a:prstGeom>
          <a:ln w="9525">
            <a:noFill/>
          </a:ln>
        </p:spPr>
      </p:pic>
      <p:sp>
        <p:nvSpPr>
          <p:cNvPr id="336" name="TextBox 3"/>
          <p:cNvSpPr/>
          <p:nvPr/>
        </p:nvSpPr>
        <p:spPr>
          <a:xfrm>
            <a:off x="395280" y="6453360"/>
            <a:ext cx="5184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tra líder(es) y colero inferior en barras neg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O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B89D9-8763-4C35-B7BA-F9911ABB5288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755640" y="836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PÍRITU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rse como territorio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 (sin) frontera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entido que le damo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dad, diferencia 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gualdad y universalidad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otras regiones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interior de la reg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600" spc="-1" strike="noStrike">
                <a:solidFill>
                  <a:srgbClr val="c00000"/>
                </a:solidFill>
                <a:latin typeface="Arial"/>
              </a:rPr>
              <a:t>Heterogeneidad Departamental Según los Niveles de Competitividad</a:t>
            </a:r>
            <a:endParaRPr b="0" lang="es-CO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611280" y="1773360"/>
            <a:ext cx="7705440" cy="4750920"/>
            <a:chOff x="611280" y="1773360"/>
            <a:chExt cx="7705440" cy="4750920"/>
          </a:xfrm>
        </p:grpSpPr>
        <p:pic>
          <p:nvPicPr>
            <p:cNvPr id="341" name="Imagen 12" descr=""/>
            <p:cNvPicPr/>
            <p:nvPr/>
          </p:nvPicPr>
          <p:blipFill>
            <a:blip r:embed="rId1"/>
            <a:stretch/>
          </p:blipFill>
          <p:spPr>
            <a:xfrm>
              <a:off x="611280" y="1773360"/>
              <a:ext cx="7705440" cy="4750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2" name="TextBox 3"/>
            <p:cNvSpPr/>
            <p:nvPr/>
          </p:nvSpPr>
          <p:spPr>
            <a:xfrm>
              <a:off x="5796000" y="6010560"/>
              <a:ext cx="936360" cy="3639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O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Slide Number Placeholder 4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9A205EE4-FAAF-46CE-A5D0-11C0CF946195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Gráfico 1"/>
          <p:cNvGraphicFramePr/>
          <p:nvPr/>
        </p:nvGraphicFramePr>
        <p:xfrm>
          <a:off x="-9000" y="9000"/>
          <a:ext cx="4836960" cy="671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46" name="Llamada con línea 1 11"/>
          <p:cNvSpPr/>
          <p:nvPr/>
        </p:nvSpPr>
        <p:spPr>
          <a:xfrm>
            <a:off x="4910760" y="189000"/>
            <a:ext cx="1239120" cy="100980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lamada con línea 1 13"/>
          <p:cNvSpPr/>
          <p:nvPr/>
        </p:nvSpPr>
        <p:spPr>
          <a:xfrm>
            <a:off x="4910760" y="1207800"/>
            <a:ext cx="1239120" cy="62928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lamada con línea 1 14"/>
          <p:cNvSpPr/>
          <p:nvPr/>
        </p:nvSpPr>
        <p:spPr>
          <a:xfrm>
            <a:off x="4910760" y="1846080"/>
            <a:ext cx="1239120" cy="862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lamada con línea 1 15"/>
          <p:cNvSpPr/>
          <p:nvPr/>
        </p:nvSpPr>
        <p:spPr>
          <a:xfrm>
            <a:off x="4914000" y="2717280"/>
            <a:ext cx="1235880" cy="42228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lamada con línea 1 16"/>
          <p:cNvSpPr/>
          <p:nvPr/>
        </p:nvSpPr>
        <p:spPr>
          <a:xfrm>
            <a:off x="4915080" y="3105360"/>
            <a:ext cx="1235880" cy="192348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lamada con línea 1 17"/>
          <p:cNvSpPr/>
          <p:nvPr/>
        </p:nvSpPr>
        <p:spPr>
          <a:xfrm>
            <a:off x="4914720" y="5020560"/>
            <a:ext cx="1235880" cy="12582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0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D4CD8DE5-202F-43A8-B575-8214C51FE4C1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lamada con línea 1 11"/>
          <p:cNvSpPr/>
          <p:nvPr/>
        </p:nvSpPr>
        <p:spPr>
          <a:xfrm>
            <a:off x="4910760" y="189000"/>
            <a:ext cx="1239120" cy="439560"/>
          </a:xfrm>
          <a:prstGeom prst="borderCallout1">
            <a:avLst>
              <a:gd name="adj1" fmla="val 102083"/>
              <a:gd name="adj2" fmla="val 98364"/>
              <a:gd name="adj3" fmla="val 103683"/>
              <a:gd name="adj4" fmla="val -273552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Lí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lamada con línea 1 13"/>
          <p:cNvSpPr/>
          <p:nvPr/>
        </p:nvSpPr>
        <p:spPr>
          <a:xfrm>
            <a:off x="4910760" y="628560"/>
            <a:ext cx="1239120" cy="437760"/>
          </a:xfrm>
          <a:prstGeom prst="borderCallout1">
            <a:avLst>
              <a:gd name="adj1" fmla="val 100103"/>
              <a:gd name="adj2" fmla="val 1019"/>
              <a:gd name="adj3" fmla="val 101555"/>
              <a:gd name="adj4" fmla="val -273223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lamada con línea 1 14"/>
          <p:cNvSpPr/>
          <p:nvPr/>
        </p:nvSpPr>
        <p:spPr>
          <a:xfrm>
            <a:off x="4910760" y="1066680"/>
            <a:ext cx="1239120" cy="628200"/>
          </a:xfrm>
          <a:prstGeom prst="borderCallout1">
            <a:avLst>
              <a:gd name="adj1" fmla="val 98339"/>
              <a:gd name="adj2" fmla="val -113"/>
              <a:gd name="adj3" fmla="val 98900"/>
              <a:gd name="adj4" fmla="val -272229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Medio-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lamada con línea 1 15"/>
          <p:cNvSpPr/>
          <p:nvPr/>
        </p:nvSpPr>
        <p:spPr>
          <a:xfrm>
            <a:off x="4914000" y="1695600"/>
            <a:ext cx="1235880" cy="1009440"/>
          </a:xfrm>
          <a:prstGeom prst="borderCallout1">
            <a:avLst>
              <a:gd name="adj1" fmla="val 100905"/>
              <a:gd name="adj2" fmla="val -5"/>
              <a:gd name="adj3" fmla="val 101955"/>
              <a:gd name="adj4" fmla="val -274997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Medio-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lamada con línea 1 16"/>
          <p:cNvSpPr/>
          <p:nvPr/>
        </p:nvSpPr>
        <p:spPr>
          <a:xfrm>
            <a:off x="4915080" y="2705040"/>
            <a:ext cx="1235880" cy="1875960"/>
          </a:xfrm>
          <a:prstGeom prst="borderCallout1">
            <a:avLst>
              <a:gd name="adj1" fmla="val 99438"/>
              <a:gd name="adj2" fmla="val -624"/>
              <a:gd name="adj3" fmla="val 100830"/>
              <a:gd name="adj4" fmla="val -275707"/>
            </a:avLst>
          </a:prstGeom>
          <a:solidFill>
            <a:srgbClr val="00800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chemeClr val="lt1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lamada con línea 1 17"/>
          <p:cNvSpPr/>
          <p:nvPr/>
        </p:nvSpPr>
        <p:spPr>
          <a:xfrm>
            <a:off x="4914720" y="4581360"/>
            <a:ext cx="1235880" cy="1697400"/>
          </a:xfrm>
          <a:prstGeom prst="borderCallout1">
            <a:avLst>
              <a:gd name="adj1" fmla="val 100251"/>
              <a:gd name="adj2" fmla="val -112"/>
              <a:gd name="adj3" fmla="val 101077"/>
              <a:gd name="adj4" fmla="val 1146"/>
            </a:avLst>
          </a:prstGeom>
          <a:solidFill>
            <a:srgbClr val="92d050"/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  <a:effectLst>
            <a:innerShdw blurRad="63500" dir="2700000" dist="50800">
              <a:srgbClr val="000000">
                <a:alpha val="50000"/>
              </a:srgbClr>
            </a:inn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Col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ítulo 2"/>
          <p:cNvSpPr/>
          <p:nvPr/>
        </p:nvSpPr>
        <p:spPr>
          <a:xfrm>
            <a:off x="6647040" y="1854360"/>
            <a:ext cx="1747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Gráfico 1"/>
          <p:cNvGraphicFramePr/>
          <p:nvPr/>
        </p:nvGraphicFramePr>
        <p:xfrm>
          <a:off x="0" y="93240"/>
          <a:ext cx="4910400" cy="657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62" name="Slide Number Placeholder 1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1CFF6715-1601-46C1-A0D0-801258109C6E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Balance de las políticas de desarrollo region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7280" y="1855800"/>
            <a:ext cx="7499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 BUENO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icción de asumir protagonismo local en el desarroll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es múltiples y abiert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jor aprovechamiento de recursos locale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evas institucionalidades locales prometedoras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biente, social y gestión pública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ALO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scentralización no ha reducido las desigualdades (económicas)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rlocución inter niveles gubernamental no ha sido sinérgic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sión reivindicacionista, no de interés mutuo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rdinación nacional de la política regionalizad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sabilidades compartidas o no definidas.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s-CO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rtes heterogéneos x instituciones y programas</a:t>
            </a:r>
            <a:endParaRPr b="0" lang="es-CO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755640" y="1628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DESCENTRALIZACIÓN</a:t>
            </a:r>
            <a:br>
              <a:rPr sz="40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olítica de desarrollo region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lítica regional ha estado centrada por la visión de la descentralización</a:t>
            </a:r>
            <a:endParaRPr b="0" lang="es-CO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(democratización)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onómica: Gestión, eficienci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erte en desarrollo social e infraestructura bás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orientada, no sustituye, las políticas de DET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n gestión e iniciativas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 favorecer desigualdad preexistente -recaud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755640" y="1484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opósitos y contenidos </a:t>
            </a:r>
            <a:br>
              <a:rPr sz="3200"/>
            </a:b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de las políticas de desarrollo territorial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036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la capacidad de las sociedades locales, par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r sus metas colectiv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vilizar los recursos para alcanzarla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uerdos sobre el protagonismo territorial en el desarroll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MESO típic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idos y formas, institucion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veles intermedio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 de encuentro para el desarrollo regional-local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arriba y desde abajo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ordinación y articulación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políticas sectoriales y transversales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grafía variable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755640" y="141264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ladar la equidad de individuos (derechos) a la equidad territorial?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mbinación de políticas regionales de equidad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Y de eficienci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líticas locales explícitas y diferenciadas, con claras expresiones de prioridades. 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Muchas apuestas buenas…. Las que convoque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Igualadoras, no iguale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versas, diversificador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as exitosas aseguran fundamentos básicos,  mínimos, importantes en capital humano, infraestructura y finanzas públicas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condiciones transversales (institucionales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4205D19C-4D72-4F50-8815-0882F46D2CDF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CO" sz="4400" spc="-1" strike="noStrike">
                <a:solidFill>
                  <a:srgbClr val="c00000"/>
                </a:solidFill>
                <a:latin typeface="Arial"/>
              </a:rPr>
              <a:t>Conclusion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050840"/>
            <a:ext cx="8229240" cy="547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ación y distribución administrativa y política del territorio nacional. 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ianza sobre la inform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Mirada territorial, estructurada, intencion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quidad y cohesión para la conservación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ertenencia… Unidad… polìtica y cultura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ejido… con elasticidad… sin suptura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ostalgia de los Fondos Estructurales</a:t>
            </a:r>
            <a:endParaRPr b="0" lang="es-CO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920A374A-3D61-4FFE-84D0-0A9BB5882BE4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755640" y="90792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UDAD MAS POBLADA, % EN POBLACIÓN URBAN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Group 165"/>
          <p:cNvGraphicFramePr/>
          <p:nvPr/>
        </p:nvGraphicFramePr>
        <p:xfrm>
          <a:off x="1403280" y="189000"/>
          <a:ext cx="6408360" cy="6828840"/>
        </p:xfrm>
        <a:graphic>
          <a:graphicData uri="http://schemas.openxmlformats.org/drawingml/2006/table">
            <a:tbl>
              <a:tblPr/>
              <a:tblGrid>
                <a:gridCol w="1698480"/>
                <a:gridCol w="1081080"/>
                <a:gridCol w="849240"/>
                <a:gridCol w="925200"/>
                <a:gridCol w="1081080"/>
                <a:gridCol w="772920"/>
              </a:tblGrid>
              <a:tr h="482400">
                <a:tc gridSpan="5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s-ES" sz="1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s-ES" sz="2800" spc="-1" strike="noStrike">
                        <a:solidFill>
                          <a:srgbClr val="c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de transición urbana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z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+ población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0% - 8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 50% a 7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piente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nos de 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1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s-E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Primacía económic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Group 3"/>
          <p:cNvGraphicFramePr/>
          <p:nvPr/>
        </p:nvGraphicFramePr>
        <p:xfrm>
          <a:off x="468360" y="1268280"/>
          <a:ext cx="8229240" cy="6648480"/>
        </p:xfrm>
        <a:graphic>
          <a:graphicData uri="http://schemas.openxmlformats.org/drawingml/2006/table">
            <a:tbl>
              <a:tblPr/>
              <a:tblGrid>
                <a:gridCol w="1306440"/>
                <a:gridCol w="1044360"/>
                <a:gridCol w="1176120"/>
                <a:gridCol w="1174680"/>
                <a:gridCol w="1176120"/>
                <a:gridCol w="1174680"/>
                <a:gridCol w="1176120"/>
              </a:tblGrid>
              <a:tr h="306360"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nfig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erri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ambio 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conó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G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6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rgen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rowSpan="8"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lti-po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éx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endParaRPr b="0" lang="es-E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18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9"/>
          <p:cNvSpPr/>
          <p:nvPr/>
        </p:nvSpPr>
        <p:spPr>
          <a:xfrm>
            <a:off x="755640" y="105228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figuración económica territorial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Group 5"/>
          <p:cNvGraphicFramePr/>
          <p:nvPr/>
        </p:nvGraphicFramePr>
        <p:xfrm>
          <a:off x="1835280" y="1844640"/>
          <a:ext cx="6121080" cy="4547520"/>
        </p:xfrm>
        <a:graphic>
          <a:graphicData uri="http://schemas.openxmlformats.org/drawingml/2006/table">
            <a:tbl>
              <a:tblPr/>
              <a:tblGrid>
                <a:gridCol w="3189240"/>
                <a:gridCol w="2931840"/>
              </a:tblGrid>
              <a:tr h="94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aracterísticas</a:t>
                      </a:r>
                      <a:br>
                        <a:rPr sz="2400"/>
                      </a:b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domin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aí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rimacial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Pe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polariz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rasil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ultipolar estratific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México 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Colomb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2400" spc="-1" strike="noStrike">
                          <a:solidFill>
                            <a:srgbClr val="0068c6"/>
                          </a:solidFill>
                          <a:latin typeface="Maiandra GD"/>
                          <a:ea typeface="Times New Roman"/>
                        </a:rPr>
                        <a:t>Bolivia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Line 9"/>
          <p:cNvSpPr/>
          <p:nvPr/>
        </p:nvSpPr>
        <p:spPr>
          <a:xfrm>
            <a:off x="755640" y="155700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CO" sz="3200" spc="-1" strike="noStrike">
                <a:solidFill>
                  <a:srgbClr val="c00000"/>
                </a:solidFill>
                <a:latin typeface="Arial"/>
              </a:rPr>
              <a:t>Concentración espacial de las economías</a:t>
            </a:r>
            <a:endParaRPr b="0" lang="es-CO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39B3AB7F-B5B4-4366-8F30-03075381AF0D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68360" y="6524640"/>
            <a:ext cx="5398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Fuente: CEPAL Economía y territorio en América Latina y el Caribe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Chart 5"/>
          <p:cNvGraphicFramePr/>
          <p:nvPr/>
        </p:nvGraphicFramePr>
        <p:xfrm>
          <a:off x="323640" y="1196640"/>
          <a:ext cx="8208720" cy="50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1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5AC27F75-4656-4717-97FA-A71B341497AC}" type="slidenum">
              <a:rPr b="0" lang="es-CO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Convergencia y divergencia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379520"/>
            <a:ext cx="822924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finales de los años 80: convergencia lent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ntonces: estancamiento de la convergencia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omos de tendencias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rgencia: Brasil, Colombia, Chil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gentina, Bolivia y México sin cambio significativ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diferencias de producto por habitante se estabilizan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un nivel alto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hay una tendencia uniforme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s niveles altos de disparidad regional en América Latina en parte son el reflejo de una integración insuficiente de los mercados, tanto interna como externamente. </a:t>
            </a: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s-CO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Estratificación y concentración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económica y poblacional region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atificad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dencia a polarizar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dencia muy lenta a la desconcentración económica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icultad para la difusión espacial del crecimiento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centración excesiva </a:t>
            </a:r>
            <a:endParaRPr b="0" lang="es-CO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or encima del patrón) (Henderson 2000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menor crecimiento (~1.5 % pib anual)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beneficia la estabilidad macroeconómica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bilita difusión y arrastre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ciente red de difusión</a:t>
            </a:r>
            <a:endParaRPr b="0" lang="es-CO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755640" y="12189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3068640"/>
            <a:ext cx="8853120" cy="216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3000" indent="-231840">
              <a:lnSpc>
                <a:spcPct val="140000"/>
              </a:lnSpc>
              <a:tabLst>
                <a:tab algn="l" pos="0"/>
              </a:tabLst>
            </a:pPr>
            <a:endParaRPr b="0" lang="es-ES" sz="2000" spc="-1" strike="noStrike">
              <a:solidFill>
                <a:srgbClr val="000099"/>
              </a:solidFill>
              <a:latin typeface="Lucida Fax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gencia y cuadrantes</a:t>
            </a:r>
            <a:endParaRPr b="0" lang="es-C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200720" cy="4968360"/>
          </a:xfrm>
          <a:prstGeom prst="rect">
            <a:avLst/>
          </a:prstGeom>
          <a:ln w="9525">
            <a:noFill/>
          </a:ln>
        </p:spPr>
      </p:pic>
      <p:sp>
        <p:nvSpPr>
          <p:cNvPr id="243" name="Line 9"/>
          <p:cNvSpPr/>
          <p:nvPr/>
        </p:nvSpPr>
        <p:spPr>
          <a:xfrm>
            <a:off x="755640" y="1125360"/>
            <a:ext cx="7619760" cy="360"/>
          </a:xfrm>
          <a:prstGeom prst="line">
            <a:avLst/>
          </a:prstGeom>
          <a:ln w="5715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  <Words>1087</Words>
  <Paragraphs>464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05:10Z</dcterms:created>
  <dc:creator>Mario Villamil</dc:creator>
  <dc:description/>
  <dc:language>en-US</dc:language>
  <cp:lastModifiedBy>usuario</cp:lastModifiedBy>
  <dcterms:modified xsi:type="dcterms:W3CDTF">2012-09-26T15:33:30Z</dcterms:modified>
  <cp:revision>145</cp:revision>
  <dc:subject/>
  <dc:title>Escalafón de Competitividad Departamen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27</vt:r8>
  </property>
</Properties>
</file>