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7010400" cy="9236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s-CO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Porcentaje del PIB nacional en la(s) principale(s) ciudad(es)
(alrededor del 2002)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rimera ciudad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Argentina</c:v>
                </c:pt>
                <c:pt idx="1">
                  <c:v>Perú</c:v>
                </c:pt>
                <c:pt idx="2">
                  <c:v>Chile</c:v>
                </c:pt>
                <c:pt idx="3">
                  <c:v>Brasil</c:v>
                </c:pt>
                <c:pt idx="4">
                  <c:v>Colombia</c:v>
                </c:pt>
                <c:pt idx="5">
                  <c:v>Méxic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60.7</c:v>
                </c:pt>
                <c:pt idx="1">
                  <c:v>49.7</c:v>
                </c:pt>
                <c:pt idx="2">
                  <c:v>47.8</c:v>
                </c:pt>
                <c:pt idx="3">
                  <c:v>32.6</c:v>
                </c:pt>
                <c:pt idx="4">
                  <c:v>22.1</c:v>
                </c:pt>
                <c:pt idx="5">
                  <c:v>21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iudades seguidora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Argentina</c:v>
                </c:pt>
                <c:pt idx="1">
                  <c:v>Perú</c:v>
                </c:pt>
                <c:pt idx="2">
                  <c:v>Chile</c:v>
                </c:pt>
                <c:pt idx="3">
                  <c:v>Brasil</c:v>
                </c:pt>
                <c:pt idx="4">
                  <c:v>Colombia</c:v>
                </c:pt>
                <c:pt idx="5">
                  <c:v>México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3">
                  <c:v>21.9</c:v>
                </c:pt>
                <c:pt idx="4">
                  <c:v>26.9</c:v>
                </c:pt>
                <c:pt idx="5">
                  <c:v>23.9</c:v>
                </c:pt>
              </c:numCache>
            </c:numRef>
          </c:val>
        </c:ser>
        <c:gapWidth val="150"/>
        <c:overlap val="100"/>
        <c:axId val="84162035"/>
        <c:axId val="74746558"/>
      </c:barChart>
      <c:catAx>
        <c:axId val="8416203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746558"/>
        <c:crosses val="autoZero"/>
        <c:auto val="1"/>
        <c:lblAlgn val="ctr"/>
        <c:lblOffset val="100"/>
        <c:noMultiLvlLbl val="0"/>
      </c:catAx>
      <c:valAx>
        <c:axId val="74746558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162035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1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8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Lbls>
            <c:numFmt formatCode="0.0" sourceLinked="0"/>
            <c:dLbl>
              <c:idx val="0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8"/>
              <c:layout>
                <c:manualLayout>
                  <c:x val="0"/>
                  <c:y val="-0.00189221919467153"/>
                </c:manualLayout>
              </c:layout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9"/>
                <c:pt idx="0">
                  <c:v>Chocó</c:v>
                </c:pt>
                <c:pt idx="1">
                  <c:v>Guaviare</c:v>
                </c:pt>
                <c:pt idx="2">
                  <c:v>Putumayo</c:v>
                </c:pt>
                <c:pt idx="3">
                  <c:v>La Guajira</c:v>
                </c:pt>
                <c:pt idx="4">
                  <c:v>Amazonas</c:v>
                </c:pt>
                <c:pt idx="5">
                  <c:v>Arauca</c:v>
                </c:pt>
                <c:pt idx="6">
                  <c:v>Caquetá</c:v>
                </c:pt>
                <c:pt idx="7">
                  <c:v>Casanare</c:v>
                </c:pt>
                <c:pt idx="8">
                  <c:v>Magdalena</c:v>
                </c:pt>
                <c:pt idx="9">
                  <c:v>Córdoba</c:v>
                </c:pt>
                <c:pt idx="10">
                  <c:v>Cauca</c:v>
                </c:pt>
                <c:pt idx="11">
                  <c:v>Cesar</c:v>
                </c:pt>
                <c:pt idx="12">
                  <c:v>Bolívar</c:v>
                </c:pt>
                <c:pt idx="13">
                  <c:v>Sucre</c:v>
                </c:pt>
                <c:pt idx="14">
                  <c:v>Nariño</c:v>
                </c:pt>
                <c:pt idx="15">
                  <c:v>Huila</c:v>
                </c:pt>
                <c:pt idx="16">
                  <c:v>Boyacá</c:v>
                </c:pt>
                <c:pt idx="17">
                  <c:v>San Andrés</c:v>
                </c:pt>
                <c:pt idx="18">
                  <c:v>N. de Santander</c:v>
                </c:pt>
                <c:pt idx="19">
                  <c:v>Tolima</c:v>
                </c:pt>
                <c:pt idx="20">
                  <c:v>Meta</c:v>
                </c:pt>
                <c:pt idx="21">
                  <c:v>Atlántico</c:v>
                </c:pt>
                <c:pt idx="22">
                  <c:v>Caldas</c:v>
                </c:pt>
                <c:pt idx="23">
                  <c:v>Antioquia</c:v>
                </c:pt>
                <c:pt idx="24">
                  <c:v>Santander</c:v>
                </c:pt>
                <c:pt idx="25">
                  <c:v>Quindío</c:v>
                </c:pt>
                <c:pt idx="26">
                  <c:v>Risaralda</c:v>
                </c:pt>
                <c:pt idx="27">
                  <c:v>Valle</c:v>
                </c:pt>
                <c:pt idx="28">
                  <c:v>Bogotá/Cundinamar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9"/>
                <c:pt idx="0">
                  <c:v>19.6023698481051</c:v>
                </c:pt>
                <c:pt idx="1">
                  <c:v>37.9107676601668</c:v>
                </c:pt>
                <c:pt idx="2">
                  <c:v>41.833809540238</c:v>
                </c:pt>
                <c:pt idx="3">
                  <c:v>43.3262163662538</c:v>
                </c:pt>
                <c:pt idx="4">
                  <c:v>45.8487277277872</c:v>
                </c:pt>
                <c:pt idx="5">
                  <c:v>46.5750543377692</c:v>
                </c:pt>
                <c:pt idx="6">
                  <c:v>56.6084724578862</c:v>
                </c:pt>
                <c:pt idx="7">
                  <c:v>60.0388656186979</c:v>
                </c:pt>
                <c:pt idx="8">
                  <c:v>60.6542036105997</c:v>
                </c:pt>
                <c:pt idx="9">
                  <c:v>61.121598596784</c:v>
                </c:pt>
                <c:pt idx="10">
                  <c:v>61.1358906846402</c:v>
                </c:pt>
                <c:pt idx="11">
                  <c:v>63.0457025332535</c:v>
                </c:pt>
                <c:pt idx="12">
                  <c:v>64.0117896493217</c:v>
                </c:pt>
                <c:pt idx="13">
                  <c:v>64.0824738347561</c:v>
                </c:pt>
                <c:pt idx="14">
                  <c:v>66.3595850883989</c:v>
                </c:pt>
                <c:pt idx="15">
                  <c:v>73.4594223103196</c:v>
                </c:pt>
                <c:pt idx="16">
                  <c:v>75.3605542295641</c:v>
                </c:pt>
                <c:pt idx="17">
                  <c:v>78.1956685035389</c:v>
                </c:pt>
                <c:pt idx="18">
                  <c:v>78.3845236153677</c:v>
                </c:pt>
                <c:pt idx="19">
                  <c:v>79.9062438252535</c:v>
                </c:pt>
                <c:pt idx="20">
                  <c:v>80.0886007514765</c:v>
                </c:pt>
                <c:pt idx="21">
                  <c:v>85.4534753433551</c:v>
                </c:pt>
                <c:pt idx="22">
                  <c:v>86.331569381412</c:v>
                </c:pt>
                <c:pt idx="23">
                  <c:v>86.6489611528075</c:v>
                </c:pt>
                <c:pt idx="24">
                  <c:v>90.0549140788925</c:v>
                </c:pt>
                <c:pt idx="25">
                  <c:v>92.216349787824</c:v>
                </c:pt>
                <c:pt idx="26">
                  <c:v>92.2397550174221</c:v>
                </c:pt>
                <c:pt idx="27">
                  <c:v>92.8207496573505</c:v>
                </c:pt>
                <c:pt idx="28">
                  <c:v>100</c:v>
                </c:pt>
              </c:numCache>
            </c:numRef>
          </c:val>
        </c:ser>
        <c:gapWidth val="150"/>
        <c:overlap val="0"/>
        <c:axId val="95501956"/>
        <c:axId val="50753800"/>
      </c:barChart>
      <c:catAx>
        <c:axId val="955019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53800"/>
        <c:crosses val="autoZero"/>
        <c:auto val="1"/>
        <c:lblAlgn val="ctr"/>
        <c:lblOffset val="100"/>
        <c:noMultiLvlLbl val="0"/>
      </c:catAx>
      <c:valAx>
        <c:axId val="50753800"/>
        <c:scaling>
          <c:orientation val="minMax"/>
          <c:max val="100"/>
        </c:scaling>
        <c:delete val="0"/>
        <c:axPos val="l"/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1956"/>
        <c:crosses val="autoZero"/>
        <c:crossBetween val="between"/>
        <c:majorUnit val="10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8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Lbls>
            <c:numFmt formatCode="0.0" sourceLinked="0"/>
            <c:dLbl>
              <c:idx val="0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8"/>
              <c:layout>
                <c:manualLayout>
                  <c:x val="0"/>
                  <c:y val="-0.00793448584644276"/>
                </c:manualLayout>
              </c:layout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9"/>
                <c:pt idx="0">
                  <c:v>Guaviare</c:v>
                </c:pt>
                <c:pt idx="1">
                  <c:v>Chocó</c:v>
                </c:pt>
                <c:pt idx="2">
                  <c:v>Putumayo</c:v>
                </c:pt>
                <c:pt idx="3">
                  <c:v>La Guajira</c:v>
                </c:pt>
                <c:pt idx="4">
                  <c:v>Sucre</c:v>
                </c:pt>
                <c:pt idx="5">
                  <c:v>Caquetá</c:v>
                </c:pt>
                <c:pt idx="6">
                  <c:v>Arauca</c:v>
                </c:pt>
                <c:pt idx="7">
                  <c:v>Córdoba</c:v>
                </c:pt>
                <c:pt idx="8">
                  <c:v>Casanare</c:v>
                </c:pt>
                <c:pt idx="9">
                  <c:v>Amazonas</c:v>
                </c:pt>
                <c:pt idx="10">
                  <c:v>Cesar</c:v>
                </c:pt>
                <c:pt idx="11">
                  <c:v>Cauca</c:v>
                </c:pt>
                <c:pt idx="12">
                  <c:v>Nariño</c:v>
                </c:pt>
                <c:pt idx="13">
                  <c:v>Magdalena</c:v>
                </c:pt>
                <c:pt idx="14">
                  <c:v>Huila</c:v>
                </c:pt>
                <c:pt idx="15">
                  <c:v>Meta</c:v>
                </c:pt>
                <c:pt idx="16">
                  <c:v>Tolima</c:v>
                </c:pt>
                <c:pt idx="17">
                  <c:v>San Andrés</c:v>
                </c:pt>
                <c:pt idx="18">
                  <c:v>Bolívar</c:v>
                </c:pt>
                <c:pt idx="19">
                  <c:v>N. de Santander</c:v>
                </c:pt>
                <c:pt idx="20">
                  <c:v>Boyacá</c:v>
                </c:pt>
                <c:pt idx="21">
                  <c:v>Quindío</c:v>
                </c:pt>
                <c:pt idx="22">
                  <c:v>Caldas</c:v>
                </c:pt>
                <c:pt idx="23">
                  <c:v>Risaralda</c:v>
                </c:pt>
                <c:pt idx="24">
                  <c:v>Atlántico</c:v>
                </c:pt>
                <c:pt idx="25">
                  <c:v>Santander</c:v>
                </c:pt>
                <c:pt idx="26">
                  <c:v>Valle</c:v>
                </c:pt>
                <c:pt idx="27">
                  <c:v>Antioquia</c:v>
                </c:pt>
                <c:pt idx="28">
                  <c:v>Bogotá/Cundinamar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9"/>
                <c:pt idx="0">
                  <c:v>19.1206745926962</c:v>
                </c:pt>
                <c:pt idx="1">
                  <c:v>21.9439377996807</c:v>
                </c:pt>
                <c:pt idx="2">
                  <c:v>23.0129173541346</c:v>
                </c:pt>
                <c:pt idx="3">
                  <c:v>24.9610731746305</c:v>
                </c:pt>
                <c:pt idx="4">
                  <c:v>27.274118388716</c:v>
                </c:pt>
                <c:pt idx="5">
                  <c:v>27.8938787263567</c:v>
                </c:pt>
                <c:pt idx="6">
                  <c:v>28.1912664024317</c:v>
                </c:pt>
                <c:pt idx="7">
                  <c:v>28.2760838028574</c:v>
                </c:pt>
                <c:pt idx="8">
                  <c:v>32.5608032671879</c:v>
                </c:pt>
                <c:pt idx="9">
                  <c:v>34.111096090759</c:v>
                </c:pt>
                <c:pt idx="10">
                  <c:v>34.2081545470592</c:v>
                </c:pt>
                <c:pt idx="11">
                  <c:v>34.2711915870561</c:v>
                </c:pt>
                <c:pt idx="12">
                  <c:v>34.4071032541285</c:v>
                </c:pt>
                <c:pt idx="13">
                  <c:v>35.3269013933424</c:v>
                </c:pt>
                <c:pt idx="14">
                  <c:v>36.7895775497276</c:v>
                </c:pt>
                <c:pt idx="15">
                  <c:v>39.2805731460452</c:v>
                </c:pt>
                <c:pt idx="16">
                  <c:v>40.4541752956677</c:v>
                </c:pt>
                <c:pt idx="17">
                  <c:v>45.0071750331409</c:v>
                </c:pt>
                <c:pt idx="18">
                  <c:v>45.6420693847216</c:v>
                </c:pt>
                <c:pt idx="19">
                  <c:v>45.8850052036914</c:v>
                </c:pt>
                <c:pt idx="20">
                  <c:v>46.3262281543901</c:v>
                </c:pt>
                <c:pt idx="21">
                  <c:v>48.5555362861646</c:v>
                </c:pt>
                <c:pt idx="22">
                  <c:v>59.769245962813</c:v>
                </c:pt>
                <c:pt idx="23">
                  <c:v>60.2394080545077</c:v>
                </c:pt>
                <c:pt idx="24">
                  <c:v>64.0021369265922</c:v>
                </c:pt>
                <c:pt idx="25">
                  <c:v>66.874387301883</c:v>
                </c:pt>
                <c:pt idx="26">
                  <c:v>69.5334421554654</c:v>
                </c:pt>
                <c:pt idx="27">
                  <c:v>81.106784952258</c:v>
                </c:pt>
                <c:pt idx="28">
                  <c:v>100</c:v>
                </c:pt>
              </c:numCache>
            </c:numRef>
          </c:val>
        </c:ser>
        <c:gapWidth val="150"/>
        <c:overlap val="0"/>
        <c:axId val="75610357"/>
        <c:axId val="66546450"/>
      </c:barChart>
      <c:catAx>
        <c:axId val="756103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46450"/>
        <c:crosses val="autoZero"/>
        <c:auto val="1"/>
        <c:lblAlgn val="ctr"/>
        <c:lblOffset val="100"/>
        <c:noMultiLvlLbl val="0"/>
      </c:catAx>
      <c:valAx>
        <c:axId val="66546450"/>
        <c:scaling>
          <c:orientation val="minMax"/>
          <c:max val="100"/>
        </c:scaling>
        <c:delete val="0"/>
        <c:axPos val="l"/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0357"/>
        <c:crosses val="autoZero"/>
        <c:crossBetween val="between"/>
        <c:majorUnit val="10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924078-AD96-491D-A9CE-7379DEB7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7720" cy="34635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1640" y="4387680"/>
            <a:ext cx="5606640" cy="415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Marcador de número de diapositiva 3"/>
          <p:cNvSpPr/>
          <p:nvPr/>
        </p:nvSpPr>
        <p:spPr>
          <a:xfrm>
            <a:off x="3970440" y="8772480"/>
            <a:ext cx="303804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4DCF9E44-68AC-4E0A-ADE8-F2B5C74BBBAB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7720" cy="3463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1640" y="4387680"/>
            <a:ext cx="5606640" cy="415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Marcador de número de diapositiva 3"/>
          <p:cNvSpPr/>
          <p:nvPr/>
        </p:nvSpPr>
        <p:spPr>
          <a:xfrm>
            <a:off x="3970440" y="8772480"/>
            <a:ext cx="303804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6D2CFA4C-A97C-40B5-9CDD-2DE33EF0D9BB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5DE-E720-4108-9DC5-BD11206A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A60-BFF1-4A49-9805-FDA44F6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E57-BDBA-489B-BC62-D91837A3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4DF-478B-47AF-8B3C-FCC8F4C9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5D2D-FD7D-4845-B4A7-9B1557D7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8265-35F5-4A1D-982D-ABFB18E3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BA81-0ADF-4710-A88D-84D1049E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1ABF-3FCF-4FDC-85E7-EC92F472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F725-30AA-4082-A5CC-502F40E1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2158-929E-4E32-BF73-05F0D81E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9810-A1AC-40A1-AE23-9F68BE56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CD2-847D-4416-B5C1-085F1E5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C0A0-150E-479D-949D-90A6AA2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4EC-4F33-4397-88B7-BA8A6FC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5664-C695-4BA9-9C39-D9C042C6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767D-E792-4118-84FC-01021488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7268-3CE4-4C85-AD2B-CAD1CAC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ACD1-BB47-4212-AC99-28C6FD2A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3250-6ADC-422D-AF1F-D8A16528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52D6-59D0-453D-8621-E3378FD1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8BD7-4CA2-4E91-AC93-CBC3EDA9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C365-B919-4FDE-8073-B199834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BD8-5B47-42A8-9D39-4A1BA6CF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DC97-5D05-4549-A14F-E0803C93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1080-60EA-4B24-8234-08879F7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59AA-5E5D-41AA-AFD2-8F170DD6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ABA4-B584-4B76-9616-69A2F3E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DA9D-051E-42CA-9ACB-5D147529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8FFE-B416-4D6B-9593-ACE6DD6A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AA1C-E0A8-43DD-895A-8B3CA6A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B45BF-B5DD-406D-A2B2-F6697687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AEB2-2A80-4781-8567-4A331CC3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6CFE-A5A5-4BFA-A881-35E106E4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5D2-8C32-4440-BCE2-A985DD0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2240-300E-45E0-A6FE-C1A8860C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ED9C-63C2-4BE4-AA68-59608E82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6FB4-09A6-4B61-BA99-CE21E3B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038B-CFC6-45F9-83B1-B946700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0A11-7142-4544-8571-04A7FA0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3508-DAAC-4E26-9BF8-92754D2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9183-41D9-47E1-8F64-7AEB00DA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E360-F140-4B18-A391-988E9020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7289-CD85-4A36-9A14-0B04B1D7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46443-42E2-4162-97AD-FCAC9D9B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9D7-D936-49B5-A167-42E58774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8511-03B5-435C-83AB-1E097A45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8686-4E23-4797-80A7-550AC0EF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2A94-9139-40D2-986B-0D555830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C9E4-B560-4CA9-A150-AB2AEBDC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4B86-F1D7-42D6-BE41-83FDC45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069E-721B-48DB-A605-0AB5E69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A0419-2F44-4572-A7CC-94A49AE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F202-1CCE-4243-86DE-3CD70D83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E1E5-3134-4C84-8DE6-05D6EBE2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0A4B-0B87-4690-920A-7520334A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97B-1F68-41B1-8BE7-D550D13A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8F30-72D8-4599-B86F-29EACF89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D37-74E8-40E1-BD3F-7F5BB4A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330-526A-4854-A686-5ACB187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9C6-6614-4BEB-8220-FEEFA8A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82CD3F-615D-4B67-AF34-22DA4F6CCCF6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F38688-73FC-4EA0-9672-E82C1992DD74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902C6C-814E-4AD8-87A5-6805BAB5CFF5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308316-7AD4-4699-BD8B-55D96EA9A009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7BB579-01A9-4291-8EE2-30B1162A4E0F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836640"/>
            <a:ext cx="838152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000" spc="-1" strike="noStrike">
                <a:solidFill>
                  <a:srgbClr val="0070c0"/>
                </a:solidFill>
                <a:latin typeface="Arial"/>
              </a:rPr>
              <a:t>Desarrollo y cohesión territorial en América Latina</a:t>
            </a:r>
            <a:endParaRPr b="0" lang="es-CO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5E3E42-92B6-4CE3-8FA6-DB621D97186B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84360" y="256536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Juan Carlos Ramírez J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irector CEPAL-Colo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Bogotá, septiembre 26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logo%20pantone%20300"/>
          <p:cNvPicPr/>
          <p:nvPr/>
        </p:nvPicPr>
        <p:blipFill>
          <a:blip r:embed="rId1"/>
          <a:stretch/>
        </p:blipFill>
        <p:spPr>
          <a:xfrm>
            <a:off x="3579840" y="4076640"/>
            <a:ext cx="1928520" cy="235224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663480" y="287280"/>
            <a:ext cx="8076960" cy="6597360"/>
            <a:chOff x="663480" y="287280"/>
            <a:chExt cx="8076960" cy="6597360"/>
          </a:xfrm>
        </p:grpSpPr>
        <p:sp>
          <p:nvSpPr>
            <p:cNvPr id="245" name="AutoShape 4"/>
            <p:cNvSpPr/>
            <p:nvPr/>
          </p:nvSpPr>
          <p:spPr>
            <a:xfrm>
              <a:off x="663480" y="365040"/>
              <a:ext cx="8076960" cy="6519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B 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2008440" y="287280"/>
              <a:ext cx="135144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verg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2222640" y="719280"/>
              <a:ext cx="725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Prim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794960" y="934920"/>
              <a:ext cx="1459440" cy="21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ajamarca - Per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>
              <a:off x="704880" y="684360"/>
              <a:ext cx="3909600" cy="139500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1395000"/>
                <a:gd name="textAreaBottom" fmla="*/ 1395360 h 1395000"/>
              </a:gdLst>
              <a:ahLst/>
              <a:rect l="textAreaLeft" t="textAreaTop" r="textAreaRight" b="textAreaBottom"/>
              <a:pathLst>
                <a:path w="3927" h="1402">
                  <a:moveTo>
                    <a:pt x="233" y="0"/>
                  </a:moveTo>
                  <a:lnTo>
                    <a:pt x="222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7" y="4"/>
                  </a:lnTo>
                  <a:lnTo>
                    <a:pt x="175" y="7"/>
                  </a:lnTo>
                  <a:lnTo>
                    <a:pt x="164" y="10"/>
                  </a:lnTo>
                  <a:lnTo>
                    <a:pt x="153" y="14"/>
                  </a:lnTo>
                  <a:lnTo>
                    <a:pt x="142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2" y="33"/>
                  </a:lnTo>
                  <a:lnTo>
                    <a:pt x="102" y="39"/>
                  </a:lnTo>
                  <a:lnTo>
                    <a:pt x="94" y="46"/>
                  </a:lnTo>
                  <a:lnTo>
                    <a:pt x="84" y="53"/>
                  </a:lnTo>
                  <a:lnTo>
                    <a:pt x="76" y="60"/>
                  </a:lnTo>
                  <a:lnTo>
                    <a:pt x="67" y="68"/>
                  </a:lnTo>
                  <a:lnTo>
                    <a:pt x="60" y="75"/>
                  </a:lnTo>
                  <a:lnTo>
                    <a:pt x="53" y="84"/>
                  </a:lnTo>
                  <a:lnTo>
                    <a:pt x="46" y="94"/>
                  </a:lnTo>
                  <a:lnTo>
                    <a:pt x="39" y="102"/>
                  </a:lnTo>
                  <a:lnTo>
                    <a:pt x="34" y="112"/>
                  </a:lnTo>
                  <a:lnTo>
                    <a:pt x="28" y="122"/>
                  </a:lnTo>
                  <a:lnTo>
                    <a:pt x="23" y="132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0" y="164"/>
                  </a:lnTo>
                  <a:lnTo>
                    <a:pt x="7" y="175"/>
                  </a:lnTo>
                  <a:lnTo>
                    <a:pt x="4" y="186"/>
                  </a:lnTo>
                  <a:lnTo>
                    <a:pt x="1" y="197"/>
                  </a:lnTo>
                  <a:lnTo>
                    <a:pt x="0" y="209"/>
                  </a:lnTo>
                  <a:lnTo>
                    <a:pt x="0" y="221"/>
                  </a:lnTo>
                  <a:lnTo>
                    <a:pt x="0" y="232"/>
                  </a:lnTo>
                  <a:lnTo>
                    <a:pt x="0" y="1168"/>
                  </a:lnTo>
                  <a:lnTo>
                    <a:pt x="0" y="1180"/>
                  </a:lnTo>
                  <a:lnTo>
                    <a:pt x="0" y="1192"/>
                  </a:lnTo>
                  <a:lnTo>
                    <a:pt x="1" y="1203"/>
                  </a:lnTo>
                  <a:lnTo>
                    <a:pt x="4" y="1215"/>
                  </a:lnTo>
                  <a:lnTo>
                    <a:pt x="7" y="1227"/>
                  </a:lnTo>
                  <a:lnTo>
                    <a:pt x="10" y="1238"/>
                  </a:lnTo>
                  <a:lnTo>
                    <a:pt x="14" y="1248"/>
                  </a:lnTo>
                  <a:lnTo>
                    <a:pt x="18" y="1259"/>
                  </a:lnTo>
                  <a:lnTo>
                    <a:pt x="23" y="1269"/>
                  </a:lnTo>
                  <a:lnTo>
                    <a:pt x="28" y="1279"/>
                  </a:lnTo>
                  <a:lnTo>
                    <a:pt x="34" y="1288"/>
                  </a:lnTo>
                  <a:lnTo>
                    <a:pt x="39" y="1298"/>
                  </a:lnTo>
                  <a:lnTo>
                    <a:pt x="46" y="1308"/>
                  </a:lnTo>
                  <a:lnTo>
                    <a:pt x="53" y="1316"/>
                  </a:lnTo>
                  <a:lnTo>
                    <a:pt x="60" y="1325"/>
                  </a:lnTo>
                  <a:lnTo>
                    <a:pt x="67" y="1333"/>
                  </a:lnTo>
                  <a:lnTo>
                    <a:pt x="76" y="1340"/>
                  </a:lnTo>
                  <a:lnTo>
                    <a:pt x="84" y="1349"/>
                  </a:lnTo>
                  <a:lnTo>
                    <a:pt x="94" y="1356"/>
                  </a:lnTo>
                  <a:lnTo>
                    <a:pt x="102" y="1361"/>
                  </a:lnTo>
                  <a:lnTo>
                    <a:pt x="112" y="1368"/>
                  </a:lnTo>
                  <a:lnTo>
                    <a:pt x="122" y="1374"/>
                  </a:lnTo>
                  <a:lnTo>
                    <a:pt x="132" y="1378"/>
                  </a:lnTo>
                  <a:lnTo>
                    <a:pt x="142" y="1384"/>
                  </a:lnTo>
                  <a:lnTo>
                    <a:pt x="153" y="1388"/>
                  </a:lnTo>
                  <a:lnTo>
                    <a:pt x="164" y="1391"/>
                  </a:lnTo>
                  <a:lnTo>
                    <a:pt x="175" y="1393"/>
                  </a:lnTo>
                  <a:lnTo>
                    <a:pt x="187" y="1396"/>
                  </a:lnTo>
                  <a:lnTo>
                    <a:pt x="198" y="1399"/>
                  </a:lnTo>
                  <a:lnTo>
                    <a:pt x="209" y="1400"/>
                  </a:lnTo>
                  <a:lnTo>
                    <a:pt x="222" y="1400"/>
                  </a:lnTo>
                  <a:lnTo>
                    <a:pt x="233" y="1402"/>
                  </a:lnTo>
                  <a:lnTo>
                    <a:pt x="3693" y="1402"/>
                  </a:lnTo>
                  <a:lnTo>
                    <a:pt x="3704" y="1400"/>
                  </a:lnTo>
                  <a:lnTo>
                    <a:pt x="3717" y="1400"/>
                  </a:lnTo>
                  <a:lnTo>
                    <a:pt x="3728" y="1399"/>
                  </a:lnTo>
                  <a:lnTo>
                    <a:pt x="3739" y="1396"/>
                  </a:lnTo>
                  <a:lnTo>
                    <a:pt x="3752" y="1393"/>
                  </a:lnTo>
                  <a:lnTo>
                    <a:pt x="3762" y="1391"/>
                  </a:lnTo>
                  <a:lnTo>
                    <a:pt x="3773" y="1388"/>
                  </a:lnTo>
                  <a:lnTo>
                    <a:pt x="3784" y="1384"/>
                  </a:lnTo>
                  <a:lnTo>
                    <a:pt x="3794" y="1378"/>
                  </a:lnTo>
                  <a:lnTo>
                    <a:pt x="3804" y="1374"/>
                  </a:lnTo>
                  <a:lnTo>
                    <a:pt x="3814" y="1368"/>
                  </a:lnTo>
                  <a:lnTo>
                    <a:pt x="3824" y="1361"/>
                  </a:lnTo>
                  <a:lnTo>
                    <a:pt x="3833" y="1356"/>
                  </a:lnTo>
                  <a:lnTo>
                    <a:pt x="3842" y="1349"/>
                  </a:lnTo>
                  <a:lnTo>
                    <a:pt x="3850" y="1340"/>
                  </a:lnTo>
                  <a:lnTo>
                    <a:pt x="3859" y="1333"/>
                  </a:lnTo>
                  <a:lnTo>
                    <a:pt x="3866" y="1325"/>
                  </a:lnTo>
                  <a:lnTo>
                    <a:pt x="3873" y="1316"/>
                  </a:lnTo>
                  <a:lnTo>
                    <a:pt x="3880" y="1308"/>
                  </a:lnTo>
                  <a:lnTo>
                    <a:pt x="3887" y="1298"/>
                  </a:lnTo>
                  <a:lnTo>
                    <a:pt x="3892" y="1288"/>
                  </a:lnTo>
                  <a:lnTo>
                    <a:pt x="3898" y="1279"/>
                  </a:lnTo>
                  <a:lnTo>
                    <a:pt x="3903" y="1269"/>
                  </a:lnTo>
                  <a:lnTo>
                    <a:pt x="3908" y="1259"/>
                  </a:lnTo>
                  <a:lnTo>
                    <a:pt x="3912" y="1248"/>
                  </a:lnTo>
                  <a:lnTo>
                    <a:pt x="3916" y="1238"/>
                  </a:lnTo>
                  <a:lnTo>
                    <a:pt x="3919" y="1227"/>
                  </a:lnTo>
                  <a:lnTo>
                    <a:pt x="3922" y="1215"/>
                  </a:lnTo>
                  <a:lnTo>
                    <a:pt x="3925" y="1203"/>
                  </a:lnTo>
                  <a:lnTo>
                    <a:pt x="3926" y="1192"/>
                  </a:lnTo>
                  <a:lnTo>
                    <a:pt x="3926" y="1180"/>
                  </a:lnTo>
                  <a:lnTo>
                    <a:pt x="3927" y="1168"/>
                  </a:lnTo>
                  <a:lnTo>
                    <a:pt x="3927" y="232"/>
                  </a:lnTo>
                  <a:lnTo>
                    <a:pt x="3926" y="221"/>
                  </a:lnTo>
                  <a:lnTo>
                    <a:pt x="3926" y="209"/>
                  </a:lnTo>
                  <a:lnTo>
                    <a:pt x="3925" y="197"/>
                  </a:lnTo>
                  <a:lnTo>
                    <a:pt x="3922" y="186"/>
                  </a:lnTo>
                  <a:lnTo>
                    <a:pt x="3919" y="175"/>
                  </a:lnTo>
                  <a:lnTo>
                    <a:pt x="3916" y="164"/>
                  </a:lnTo>
                  <a:lnTo>
                    <a:pt x="3912" y="153"/>
                  </a:lnTo>
                  <a:lnTo>
                    <a:pt x="3908" y="143"/>
                  </a:lnTo>
                  <a:lnTo>
                    <a:pt x="3903" y="132"/>
                  </a:lnTo>
                  <a:lnTo>
                    <a:pt x="3898" y="122"/>
                  </a:lnTo>
                  <a:lnTo>
                    <a:pt x="3892" y="112"/>
                  </a:lnTo>
                  <a:lnTo>
                    <a:pt x="3887" y="102"/>
                  </a:lnTo>
                  <a:lnTo>
                    <a:pt x="3880" y="94"/>
                  </a:lnTo>
                  <a:lnTo>
                    <a:pt x="3873" y="84"/>
                  </a:lnTo>
                  <a:lnTo>
                    <a:pt x="3866" y="75"/>
                  </a:lnTo>
                  <a:lnTo>
                    <a:pt x="3859" y="68"/>
                  </a:lnTo>
                  <a:lnTo>
                    <a:pt x="3850" y="60"/>
                  </a:lnTo>
                  <a:lnTo>
                    <a:pt x="3842" y="53"/>
                  </a:lnTo>
                  <a:lnTo>
                    <a:pt x="3833" y="46"/>
                  </a:lnTo>
                  <a:lnTo>
                    <a:pt x="3824" y="39"/>
                  </a:lnTo>
                  <a:lnTo>
                    <a:pt x="3814" y="33"/>
                  </a:lnTo>
                  <a:lnTo>
                    <a:pt x="3804" y="28"/>
                  </a:lnTo>
                  <a:lnTo>
                    <a:pt x="3794" y="22"/>
                  </a:lnTo>
                  <a:lnTo>
                    <a:pt x="3784" y="18"/>
                  </a:lnTo>
                  <a:lnTo>
                    <a:pt x="3773" y="14"/>
                  </a:lnTo>
                  <a:lnTo>
                    <a:pt x="3762" y="10"/>
                  </a:lnTo>
                  <a:lnTo>
                    <a:pt x="3752" y="7"/>
                  </a:lnTo>
                  <a:lnTo>
                    <a:pt x="3739" y="4"/>
                  </a:lnTo>
                  <a:lnTo>
                    <a:pt x="3728" y="3"/>
                  </a:lnTo>
                  <a:lnTo>
                    <a:pt x="3717" y="1"/>
                  </a:lnTo>
                  <a:lnTo>
                    <a:pt x="3704" y="0"/>
                  </a:lnTo>
                  <a:lnTo>
                    <a:pt x="3693" y="0"/>
                  </a:lnTo>
                  <a:lnTo>
                    <a:pt x="233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1793880" y="1152360"/>
              <a:ext cx="1526760" cy="21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Rondonia- Brasil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1"/>
            <p:cNvSpPr/>
            <p:nvPr/>
          </p:nvSpPr>
          <p:spPr>
            <a:xfrm>
              <a:off x="1791360" y="1557360"/>
              <a:ext cx="19641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atamarca - Argentina</a:t>
              </a:r>
              <a:r>
                <a:rPr b="1" lang="en-US" sz="1000" spc="-1" strike="noStrike">
                  <a:solidFill>
                    <a:srgbClr val="3366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"/>
            <p:cNvSpPr/>
            <p:nvPr/>
          </p:nvSpPr>
          <p:spPr>
            <a:xfrm>
              <a:off x="1788120" y="1341360"/>
              <a:ext cx="18010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órdoba - Colombia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735120" y="2133720"/>
            <a:ext cx="3909600" cy="767880"/>
            <a:chOff x="735120" y="2133720"/>
            <a:chExt cx="3909600" cy="767880"/>
          </a:xfrm>
        </p:grpSpPr>
        <p:sp>
          <p:nvSpPr>
            <p:cNvPr id="254" name="Freeform 14"/>
            <p:cNvSpPr/>
            <p:nvPr/>
          </p:nvSpPr>
          <p:spPr>
            <a:xfrm>
              <a:off x="735120" y="2133720"/>
              <a:ext cx="3909600" cy="76788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3927" h="771">
                  <a:moveTo>
                    <a:pt x="128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30"/>
                  </a:lnTo>
                  <a:lnTo>
                    <a:pt x="37" y="38"/>
                  </a:lnTo>
                  <a:lnTo>
                    <a:pt x="28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9"/>
                  </a:lnTo>
                  <a:lnTo>
                    <a:pt x="6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642"/>
                  </a:lnTo>
                  <a:lnTo>
                    <a:pt x="0" y="655"/>
                  </a:lnTo>
                  <a:lnTo>
                    <a:pt x="1" y="668"/>
                  </a:lnTo>
                  <a:lnTo>
                    <a:pt x="6" y="680"/>
                  </a:lnTo>
                  <a:lnTo>
                    <a:pt x="10" y="693"/>
                  </a:lnTo>
                  <a:lnTo>
                    <a:pt x="16" y="704"/>
                  </a:lnTo>
                  <a:lnTo>
                    <a:pt x="21" y="714"/>
                  </a:lnTo>
                  <a:lnTo>
                    <a:pt x="28" y="724"/>
                  </a:lnTo>
                  <a:lnTo>
                    <a:pt x="37" y="733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9" y="760"/>
                  </a:lnTo>
                  <a:lnTo>
                    <a:pt x="90" y="766"/>
                  </a:lnTo>
                  <a:lnTo>
                    <a:pt x="102" y="769"/>
                  </a:lnTo>
                  <a:lnTo>
                    <a:pt x="115" y="770"/>
                  </a:lnTo>
                  <a:lnTo>
                    <a:pt x="128" y="771"/>
                  </a:lnTo>
                  <a:lnTo>
                    <a:pt x="3798" y="771"/>
                  </a:lnTo>
                  <a:lnTo>
                    <a:pt x="3811" y="770"/>
                  </a:lnTo>
                  <a:lnTo>
                    <a:pt x="3824" y="769"/>
                  </a:lnTo>
                  <a:lnTo>
                    <a:pt x="3836" y="766"/>
                  </a:lnTo>
                  <a:lnTo>
                    <a:pt x="3849" y="760"/>
                  </a:lnTo>
                  <a:lnTo>
                    <a:pt x="3860" y="756"/>
                  </a:lnTo>
                  <a:lnTo>
                    <a:pt x="3870" y="749"/>
                  </a:lnTo>
                  <a:lnTo>
                    <a:pt x="3880" y="742"/>
                  </a:lnTo>
                  <a:lnTo>
                    <a:pt x="3889" y="733"/>
                  </a:lnTo>
                  <a:lnTo>
                    <a:pt x="3898" y="724"/>
                  </a:lnTo>
                  <a:lnTo>
                    <a:pt x="3905" y="714"/>
                  </a:lnTo>
                  <a:lnTo>
                    <a:pt x="3911" y="704"/>
                  </a:lnTo>
                  <a:lnTo>
                    <a:pt x="3916" y="693"/>
                  </a:lnTo>
                  <a:lnTo>
                    <a:pt x="3920" y="680"/>
                  </a:lnTo>
                  <a:lnTo>
                    <a:pt x="3925" y="668"/>
                  </a:lnTo>
                  <a:lnTo>
                    <a:pt x="3926" y="655"/>
                  </a:lnTo>
                  <a:lnTo>
                    <a:pt x="3927" y="642"/>
                  </a:lnTo>
                  <a:lnTo>
                    <a:pt x="3927" y="128"/>
                  </a:lnTo>
                  <a:lnTo>
                    <a:pt x="3926" y="115"/>
                  </a:lnTo>
                  <a:lnTo>
                    <a:pt x="3925" y="102"/>
                  </a:lnTo>
                  <a:lnTo>
                    <a:pt x="3920" y="90"/>
                  </a:lnTo>
                  <a:lnTo>
                    <a:pt x="3916" y="79"/>
                  </a:lnTo>
                  <a:lnTo>
                    <a:pt x="3911" y="67"/>
                  </a:lnTo>
                  <a:lnTo>
                    <a:pt x="3905" y="56"/>
                  </a:lnTo>
                  <a:lnTo>
                    <a:pt x="3898" y="46"/>
                  </a:lnTo>
                  <a:lnTo>
                    <a:pt x="3889" y="38"/>
                  </a:lnTo>
                  <a:lnTo>
                    <a:pt x="3880" y="30"/>
                  </a:lnTo>
                  <a:lnTo>
                    <a:pt x="3870" y="21"/>
                  </a:lnTo>
                  <a:lnTo>
                    <a:pt x="3860" y="16"/>
                  </a:lnTo>
                  <a:lnTo>
                    <a:pt x="3849" y="10"/>
                  </a:lnTo>
                  <a:lnTo>
                    <a:pt x="3836" y="6"/>
                  </a:lnTo>
                  <a:lnTo>
                    <a:pt x="3824" y="3"/>
                  </a:lnTo>
                  <a:lnTo>
                    <a:pt x="3811" y="0"/>
                  </a:lnTo>
                  <a:lnTo>
                    <a:pt x="3798" y="0"/>
                  </a:lnTo>
                  <a:lnTo>
                    <a:pt x="128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"/>
            <p:cNvSpPr/>
            <p:nvPr/>
          </p:nvSpPr>
          <p:spPr>
            <a:xfrm>
              <a:off x="2199960" y="2209680"/>
              <a:ext cx="9687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Secund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6"/>
            <p:cNvSpPr/>
            <p:nvPr/>
          </p:nvSpPr>
          <p:spPr>
            <a:xfrm>
              <a:off x="1880280" y="2440080"/>
              <a:ext cx="17416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Guanajuato - Méx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"/>
            <p:cNvSpPr/>
            <p:nvPr/>
          </p:nvSpPr>
          <p:spPr>
            <a:xfrm>
              <a:off x="1890720" y="2649600"/>
              <a:ext cx="148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Los Lagos -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19"/>
          <p:cNvSpPr/>
          <p:nvPr/>
        </p:nvSpPr>
        <p:spPr>
          <a:xfrm>
            <a:off x="806400" y="2997000"/>
            <a:ext cx="80499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4787640" y="44280"/>
            <a:ext cx="33480" cy="619272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2"/>
          <p:cNvGrpSpPr/>
          <p:nvPr/>
        </p:nvGrpSpPr>
        <p:grpSpPr>
          <a:xfrm>
            <a:off x="4983120" y="2263680"/>
            <a:ext cx="3909600" cy="517320"/>
            <a:chOff x="4983120" y="2263680"/>
            <a:chExt cx="3909600" cy="517320"/>
          </a:xfrm>
        </p:grpSpPr>
        <p:sp>
          <p:nvSpPr>
            <p:cNvPr id="261" name="Freeform 23"/>
            <p:cNvSpPr/>
            <p:nvPr/>
          </p:nvSpPr>
          <p:spPr>
            <a:xfrm>
              <a:off x="4983120" y="2263680"/>
              <a:ext cx="3909600" cy="51732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927" h="772">
                  <a:moveTo>
                    <a:pt x="127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89" y="6"/>
                  </a:lnTo>
                  <a:lnTo>
                    <a:pt x="78" y="10"/>
                  </a:lnTo>
                  <a:lnTo>
                    <a:pt x="67" y="16"/>
                  </a:lnTo>
                  <a:lnTo>
                    <a:pt x="56" y="22"/>
                  </a:lnTo>
                  <a:lnTo>
                    <a:pt x="46" y="30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5" y="68"/>
                  </a:lnTo>
                  <a:lnTo>
                    <a:pt x="9" y="79"/>
                  </a:lnTo>
                  <a:lnTo>
                    <a:pt x="5" y="90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643"/>
                  </a:lnTo>
                  <a:lnTo>
                    <a:pt x="0" y="657"/>
                  </a:lnTo>
                  <a:lnTo>
                    <a:pt x="1" y="669"/>
                  </a:lnTo>
                  <a:lnTo>
                    <a:pt x="5" y="681"/>
                  </a:lnTo>
                  <a:lnTo>
                    <a:pt x="9" y="693"/>
                  </a:lnTo>
                  <a:lnTo>
                    <a:pt x="15" y="704"/>
                  </a:lnTo>
                  <a:lnTo>
                    <a:pt x="21" y="714"/>
                  </a:lnTo>
                  <a:lnTo>
                    <a:pt x="29" y="724"/>
                  </a:lnTo>
                  <a:lnTo>
                    <a:pt x="36" y="734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8" y="762"/>
                  </a:lnTo>
                  <a:lnTo>
                    <a:pt x="89" y="766"/>
                  </a:lnTo>
                  <a:lnTo>
                    <a:pt x="102" y="769"/>
                  </a:lnTo>
                  <a:lnTo>
                    <a:pt x="115" y="770"/>
                  </a:lnTo>
                  <a:lnTo>
                    <a:pt x="127" y="772"/>
                  </a:lnTo>
                  <a:lnTo>
                    <a:pt x="3798" y="772"/>
                  </a:lnTo>
                  <a:lnTo>
                    <a:pt x="3810" y="770"/>
                  </a:lnTo>
                  <a:lnTo>
                    <a:pt x="3823" y="769"/>
                  </a:lnTo>
                  <a:lnTo>
                    <a:pt x="3836" y="766"/>
                  </a:lnTo>
                  <a:lnTo>
                    <a:pt x="3848" y="762"/>
                  </a:lnTo>
                  <a:lnTo>
                    <a:pt x="3860" y="756"/>
                  </a:lnTo>
                  <a:lnTo>
                    <a:pt x="3869" y="749"/>
                  </a:lnTo>
                  <a:lnTo>
                    <a:pt x="3879" y="742"/>
                  </a:lnTo>
                  <a:lnTo>
                    <a:pt x="3889" y="734"/>
                  </a:lnTo>
                  <a:lnTo>
                    <a:pt x="3897" y="724"/>
                  </a:lnTo>
                  <a:lnTo>
                    <a:pt x="3904" y="714"/>
                  </a:lnTo>
                  <a:lnTo>
                    <a:pt x="3910" y="704"/>
                  </a:lnTo>
                  <a:lnTo>
                    <a:pt x="3916" y="693"/>
                  </a:lnTo>
                  <a:lnTo>
                    <a:pt x="3920" y="681"/>
                  </a:lnTo>
                  <a:lnTo>
                    <a:pt x="3924" y="669"/>
                  </a:lnTo>
                  <a:lnTo>
                    <a:pt x="3925" y="657"/>
                  </a:lnTo>
                  <a:lnTo>
                    <a:pt x="3927" y="643"/>
                  </a:lnTo>
                  <a:lnTo>
                    <a:pt x="3927" y="129"/>
                  </a:lnTo>
                  <a:lnTo>
                    <a:pt x="3925" y="115"/>
                  </a:lnTo>
                  <a:lnTo>
                    <a:pt x="3924" y="103"/>
                  </a:lnTo>
                  <a:lnTo>
                    <a:pt x="3920" y="90"/>
                  </a:lnTo>
                  <a:lnTo>
                    <a:pt x="3916" y="79"/>
                  </a:lnTo>
                  <a:lnTo>
                    <a:pt x="3910" y="68"/>
                  </a:lnTo>
                  <a:lnTo>
                    <a:pt x="3904" y="57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30"/>
                  </a:lnTo>
                  <a:lnTo>
                    <a:pt x="3869" y="22"/>
                  </a:lnTo>
                  <a:lnTo>
                    <a:pt x="3860" y="16"/>
                  </a:lnTo>
                  <a:lnTo>
                    <a:pt x="3848" y="10"/>
                  </a:lnTo>
                  <a:lnTo>
                    <a:pt x="3836" y="6"/>
                  </a:lnTo>
                  <a:lnTo>
                    <a:pt x="3823" y="3"/>
                  </a:lnTo>
                  <a:lnTo>
                    <a:pt x="3810" y="0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4"/>
            <p:cNvSpPr/>
            <p:nvPr/>
          </p:nvSpPr>
          <p:spPr>
            <a:xfrm>
              <a:off x="6595920" y="2307240"/>
              <a:ext cx="63648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Terci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>
              <a:off x="6057000" y="2498400"/>
              <a:ext cx="186336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Buenos Aires - Argent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7"/>
          <p:cNvGrpSpPr/>
          <p:nvPr/>
        </p:nvGrpSpPr>
        <p:grpSpPr>
          <a:xfrm>
            <a:off x="4983120" y="260280"/>
            <a:ext cx="3909600" cy="1260000"/>
            <a:chOff x="4983120" y="260280"/>
            <a:chExt cx="3909600" cy="1260000"/>
          </a:xfrm>
        </p:grpSpPr>
        <p:sp>
          <p:nvSpPr>
            <p:cNvPr id="265" name="Freeform 28"/>
            <p:cNvSpPr/>
            <p:nvPr/>
          </p:nvSpPr>
          <p:spPr>
            <a:xfrm>
              <a:off x="4983120" y="633240"/>
              <a:ext cx="3909600" cy="88704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3927" h="771">
                  <a:moveTo>
                    <a:pt x="127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89" y="6"/>
                  </a:lnTo>
                  <a:lnTo>
                    <a:pt x="78" y="10"/>
                  </a:lnTo>
                  <a:lnTo>
                    <a:pt x="67" y="16"/>
                  </a:lnTo>
                  <a:lnTo>
                    <a:pt x="56" y="23"/>
                  </a:lnTo>
                  <a:lnTo>
                    <a:pt x="46" y="30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8"/>
                  </a:lnTo>
                  <a:lnTo>
                    <a:pt x="15" y="68"/>
                  </a:lnTo>
                  <a:lnTo>
                    <a:pt x="9" y="79"/>
                  </a:lnTo>
                  <a:lnTo>
                    <a:pt x="5" y="91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644"/>
                  </a:lnTo>
                  <a:lnTo>
                    <a:pt x="0" y="656"/>
                  </a:lnTo>
                  <a:lnTo>
                    <a:pt x="1" y="669"/>
                  </a:lnTo>
                  <a:lnTo>
                    <a:pt x="5" y="682"/>
                  </a:lnTo>
                  <a:lnTo>
                    <a:pt x="9" y="693"/>
                  </a:lnTo>
                  <a:lnTo>
                    <a:pt x="15" y="704"/>
                  </a:lnTo>
                  <a:lnTo>
                    <a:pt x="21" y="715"/>
                  </a:lnTo>
                  <a:lnTo>
                    <a:pt x="29" y="725"/>
                  </a:lnTo>
                  <a:lnTo>
                    <a:pt x="36" y="734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8" y="762"/>
                  </a:lnTo>
                  <a:lnTo>
                    <a:pt x="89" y="766"/>
                  </a:lnTo>
                  <a:lnTo>
                    <a:pt x="102" y="769"/>
                  </a:lnTo>
                  <a:lnTo>
                    <a:pt x="115" y="771"/>
                  </a:lnTo>
                  <a:lnTo>
                    <a:pt x="127" y="771"/>
                  </a:lnTo>
                  <a:lnTo>
                    <a:pt x="3798" y="771"/>
                  </a:lnTo>
                  <a:lnTo>
                    <a:pt x="3810" y="771"/>
                  </a:lnTo>
                  <a:lnTo>
                    <a:pt x="3823" y="769"/>
                  </a:lnTo>
                  <a:lnTo>
                    <a:pt x="3836" y="766"/>
                  </a:lnTo>
                  <a:lnTo>
                    <a:pt x="3848" y="762"/>
                  </a:lnTo>
                  <a:lnTo>
                    <a:pt x="3860" y="756"/>
                  </a:lnTo>
                  <a:lnTo>
                    <a:pt x="3869" y="749"/>
                  </a:lnTo>
                  <a:lnTo>
                    <a:pt x="3879" y="742"/>
                  </a:lnTo>
                  <a:lnTo>
                    <a:pt x="3889" y="734"/>
                  </a:lnTo>
                  <a:lnTo>
                    <a:pt x="3897" y="725"/>
                  </a:lnTo>
                  <a:lnTo>
                    <a:pt x="3904" y="715"/>
                  </a:lnTo>
                  <a:lnTo>
                    <a:pt x="3910" y="704"/>
                  </a:lnTo>
                  <a:lnTo>
                    <a:pt x="3916" y="693"/>
                  </a:lnTo>
                  <a:lnTo>
                    <a:pt x="3920" y="682"/>
                  </a:lnTo>
                  <a:lnTo>
                    <a:pt x="3924" y="669"/>
                  </a:lnTo>
                  <a:lnTo>
                    <a:pt x="3925" y="656"/>
                  </a:lnTo>
                  <a:lnTo>
                    <a:pt x="3927" y="644"/>
                  </a:lnTo>
                  <a:lnTo>
                    <a:pt x="3927" y="129"/>
                  </a:lnTo>
                  <a:lnTo>
                    <a:pt x="3925" y="115"/>
                  </a:lnTo>
                  <a:lnTo>
                    <a:pt x="3924" y="103"/>
                  </a:lnTo>
                  <a:lnTo>
                    <a:pt x="3920" y="91"/>
                  </a:lnTo>
                  <a:lnTo>
                    <a:pt x="3916" y="79"/>
                  </a:lnTo>
                  <a:lnTo>
                    <a:pt x="3910" y="68"/>
                  </a:lnTo>
                  <a:lnTo>
                    <a:pt x="3904" y="58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30"/>
                  </a:lnTo>
                  <a:lnTo>
                    <a:pt x="3869" y="23"/>
                  </a:lnTo>
                  <a:lnTo>
                    <a:pt x="3860" y="16"/>
                  </a:lnTo>
                  <a:lnTo>
                    <a:pt x="3848" y="10"/>
                  </a:lnTo>
                  <a:lnTo>
                    <a:pt x="3836" y="6"/>
                  </a:lnTo>
                  <a:lnTo>
                    <a:pt x="3823" y="3"/>
                  </a:lnTo>
                  <a:lnTo>
                    <a:pt x="3810" y="0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6411960" y="620640"/>
              <a:ext cx="725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800080"/>
                  </a:solidFill>
                  <a:latin typeface="Arial"/>
                </a:rPr>
                <a:t>Prim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6342840" y="260280"/>
              <a:ext cx="105876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n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6046920" y="836640"/>
              <a:ext cx="17233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Antofagasta - Chil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6053040" y="1052640"/>
              <a:ext cx="1211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Tarija - Boliv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6052680" y="1268280"/>
              <a:ext cx="17416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Neuquén - Argen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4"/>
          <p:cNvGrpSpPr/>
          <p:nvPr/>
        </p:nvGrpSpPr>
        <p:grpSpPr>
          <a:xfrm>
            <a:off x="4983120" y="1581120"/>
            <a:ext cx="3909600" cy="552240"/>
            <a:chOff x="4983120" y="1581120"/>
            <a:chExt cx="3909600" cy="552240"/>
          </a:xfrm>
        </p:grpSpPr>
        <p:sp>
          <p:nvSpPr>
            <p:cNvPr id="272" name="Freeform 35"/>
            <p:cNvSpPr/>
            <p:nvPr/>
          </p:nvSpPr>
          <p:spPr>
            <a:xfrm>
              <a:off x="4983120" y="1581120"/>
              <a:ext cx="3909600" cy="55224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927" h="771"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7" y="15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1"/>
                  </a:lnTo>
                  <a:lnTo>
                    <a:pt x="1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643"/>
                  </a:lnTo>
                  <a:lnTo>
                    <a:pt x="0" y="656"/>
                  </a:lnTo>
                  <a:lnTo>
                    <a:pt x="1" y="669"/>
                  </a:lnTo>
                  <a:lnTo>
                    <a:pt x="5" y="681"/>
                  </a:lnTo>
                  <a:lnTo>
                    <a:pt x="9" y="692"/>
                  </a:lnTo>
                  <a:lnTo>
                    <a:pt x="15" y="704"/>
                  </a:lnTo>
                  <a:lnTo>
                    <a:pt x="21" y="715"/>
                  </a:lnTo>
                  <a:lnTo>
                    <a:pt x="29" y="725"/>
                  </a:lnTo>
                  <a:lnTo>
                    <a:pt x="36" y="733"/>
                  </a:lnTo>
                  <a:lnTo>
                    <a:pt x="46" y="742"/>
                  </a:lnTo>
                  <a:lnTo>
                    <a:pt x="56" y="750"/>
                  </a:lnTo>
                  <a:lnTo>
                    <a:pt x="67" y="756"/>
                  </a:lnTo>
                  <a:lnTo>
                    <a:pt x="78" y="761"/>
                  </a:lnTo>
                  <a:lnTo>
                    <a:pt x="89" y="765"/>
                  </a:lnTo>
                  <a:lnTo>
                    <a:pt x="102" y="768"/>
                  </a:lnTo>
                  <a:lnTo>
                    <a:pt x="115" y="771"/>
                  </a:lnTo>
                  <a:lnTo>
                    <a:pt x="127" y="771"/>
                  </a:lnTo>
                  <a:lnTo>
                    <a:pt x="3798" y="771"/>
                  </a:lnTo>
                  <a:lnTo>
                    <a:pt x="3810" y="771"/>
                  </a:lnTo>
                  <a:lnTo>
                    <a:pt x="3823" y="768"/>
                  </a:lnTo>
                  <a:lnTo>
                    <a:pt x="3836" y="765"/>
                  </a:lnTo>
                  <a:lnTo>
                    <a:pt x="3848" y="761"/>
                  </a:lnTo>
                  <a:lnTo>
                    <a:pt x="3860" y="756"/>
                  </a:lnTo>
                  <a:lnTo>
                    <a:pt x="3869" y="750"/>
                  </a:lnTo>
                  <a:lnTo>
                    <a:pt x="3879" y="742"/>
                  </a:lnTo>
                  <a:lnTo>
                    <a:pt x="3889" y="733"/>
                  </a:lnTo>
                  <a:lnTo>
                    <a:pt x="3897" y="725"/>
                  </a:lnTo>
                  <a:lnTo>
                    <a:pt x="3904" y="715"/>
                  </a:lnTo>
                  <a:lnTo>
                    <a:pt x="3910" y="704"/>
                  </a:lnTo>
                  <a:lnTo>
                    <a:pt x="3916" y="692"/>
                  </a:lnTo>
                  <a:lnTo>
                    <a:pt x="3920" y="681"/>
                  </a:lnTo>
                  <a:lnTo>
                    <a:pt x="3924" y="669"/>
                  </a:lnTo>
                  <a:lnTo>
                    <a:pt x="3925" y="656"/>
                  </a:lnTo>
                  <a:lnTo>
                    <a:pt x="3927" y="643"/>
                  </a:lnTo>
                  <a:lnTo>
                    <a:pt x="3927" y="129"/>
                  </a:lnTo>
                  <a:lnTo>
                    <a:pt x="3925" y="116"/>
                  </a:lnTo>
                  <a:lnTo>
                    <a:pt x="3924" y="104"/>
                  </a:lnTo>
                  <a:lnTo>
                    <a:pt x="3920" y="91"/>
                  </a:lnTo>
                  <a:lnTo>
                    <a:pt x="3916" y="78"/>
                  </a:lnTo>
                  <a:lnTo>
                    <a:pt x="3910" y="67"/>
                  </a:lnTo>
                  <a:lnTo>
                    <a:pt x="3904" y="57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29"/>
                  </a:lnTo>
                  <a:lnTo>
                    <a:pt x="3869" y="22"/>
                  </a:lnTo>
                  <a:lnTo>
                    <a:pt x="3860" y="15"/>
                  </a:lnTo>
                  <a:lnTo>
                    <a:pt x="3848" y="10"/>
                  </a:lnTo>
                  <a:lnTo>
                    <a:pt x="3836" y="5"/>
                  </a:lnTo>
                  <a:lnTo>
                    <a:pt x="3823" y="3"/>
                  </a:lnTo>
                  <a:lnTo>
                    <a:pt x="3810" y="1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6"/>
            <p:cNvSpPr/>
            <p:nvPr/>
          </p:nvSpPr>
          <p:spPr>
            <a:xfrm>
              <a:off x="6495480" y="1604520"/>
              <a:ext cx="83160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Secund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7"/>
            <p:cNvSpPr/>
            <p:nvPr/>
          </p:nvSpPr>
          <p:spPr>
            <a:xfrm>
              <a:off x="6053040" y="1794240"/>
              <a:ext cx="1606320" cy="12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Santander - Colombi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9"/>
            <p:cNvSpPr/>
            <p:nvPr/>
          </p:nvSpPr>
          <p:spPr>
            <a:xfrm>
              <a:off x="6053040" y="1938600"/>
              <a:ext cx="1606320" cy="12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Coahuila - México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41"/>
          <p:cNvSpPr/>
          <p:nvPr/>
        </p:nvSpPr>
        <p:spPr>
          <a:xfrm>
            <a:off x="2101680" y="2997360"/>
            <a:ext cx="1137960" cy="24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n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2316240" y="3429000"/>
            <a:ext cx="619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3"/>
          <p:cNvSpPr/>
          <p:nvPr/>
        </p:nvSpPr>
        <p:spPr>
          <a:xfrm>
            <a:off x="2108160" y="3645000"/>
            <a:ext cx="1305720" cy="3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agoas – 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hocó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2316960" y="4408560"/>
            <a:ext cx="831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2463480" y="5129280"/>
            <a:ext cx="63648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Ter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2172240" y="5560920"/>
            <a:ext cx="11214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La Paz - Bo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7"/>
          <p:cNvSpPr/>
          <p:nvPr/>
        </p:nvSpPr>
        <p:spPr>
          <a:xfrm>
            <a:off x="725400" y="3341520"/>
            <a:ext cx="3909600" cy="7347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3927" h="772">
                <a:moveTo>
                  <a:pt x="128" y="0"/>
                </a:moveTo>
                <a:lnTo>
                  <a:pt x="115" y="0"/>
                </a:lnTo>
                <a:lnTo>
                  <a:pt x="102" y="3"/>
                </a:lnTo>
                <a:lnTo>
                  <a:pt x="90" y="6"/>
                </a:lnTo>
                <a:lnTo>
                  <a:pt x="79" y="10"/>
                </a:lnTo>
                <a:lnTo>
                  <a:pt x="67" y="16"/>
                </a:lnTo>
                <a:lnTo>
                  <a:pt x="56" y="22"/>
                </a:lnTo>
                <a:lnTo>
                  <a:pt x="46" y="30"/>
                </a:lnTo>
                <a:lnTo>
                  <a:pt x="37" y="38"/>
                </a:lnTo>
                <a:lnTo>
                  <a:pt x="28" y="47"/>
                </a:lnTo>
                <a:lnTo>
                  <a:pt x="21" y="57"/>
                </a:lnTo>
                <a:lnTo>
                  <a:pt x="16" y="68"/>
                </a:lnTo>
                <a:lnTo>
                  <a:pt x="10" y="79"/>
                </a:lnTo>
                <a:lnTo>
                  <a:pt x="6" y="90"/>
                </a:lnTo>
                <a:lnTo>
                  <a:pt x="1" y="103"/>
                </a:lnTo>
                <a:lnTo>
                  <a:pt x="0" y="115"/>
                </a:lnTo>
                <a:lnTo>
                  <a:pt x="0" y="129"/>
                </a:lnTo>
                <a:lnTo>
                  <a:pt x="0" y="643"/>
                </a:lnTo>
                <a:lnTo>
                  <a:pt x="0" y="657"/>
                </a:lnTo>
                <a:lnTo>
                  <a:pt x="1" y="669"/>
                </a:lnTo>
                <a:lnTo>
                  <a:pt x="6" y="681"/>
                </a:lnTo>
                <a:lnTo>
                  <a:pt x="10" y="693"/>
                </a:lnTo>
                <a:lnTo>
                  <a:pt x="16" y="704"/>
                </a:lnTo>
                <a:lnTo>
                  <a:pt x="21" y="714"/>
                </a:lnTo>
                <a:lnTo>
                  <a:pt x="28" y="724"/>
                </a:lnTo>
                <a:lnTo>
                  <a:pt x="37" y="734"/>
                </a:lnTo>
                <a:lnTo>
                  <a:pt x="46" y="742"/>
                </a:lnTo>
                <a:lnTo>
                  <a:pt x="56" y="749"/>
                </a:lnTo>
                <a:lnTo>
                  <a:pt x="67" y="756"/>
                </a:lnTo>
                <a:lnTo>
                  <a:pt x="79" y="762"/>
                </a:lnTo>
                <a:lnTo>
                  <a:pt x="90" y="766"/>
                </a:lnTo>
                <a:lnTo>
                  <a:pt x="102" y="769"/>
                </a:lnTo>
                <a:lnTo>
                  <a:pt x="115" y="770"/>
                </a:lnTo>
                <a:lnTo>
                  <a:pt x="128" y="772"/>
                </a:lnTo>
                <a:lnTo>
                  <a:pt x="3798" y="772"/>
                </a:lnTo>
                <a:lnTo>
                  <a:pt x="3811" y="770"/>
                </a:lnTo>
                <a:lnTo>
                  <a:pt x="3824" y="769"/>
                </a:lnTo>
                <a:lnTo>
                  <a:pt x="3836" y="766"/>
                </a:lnTo>
                <a:lnTo>
                  <a:pt x="3849" y="762"/>
                </a:lnTo>
                <a:lnTo>
                  <a:pt x="3860" y="756"/>
                </a:lnTo>
                <a:lnTo>
                  <a:pt x="3870" y="749"/>
                </a:lnTo>
                <a:lnTo>
                  <a:pt x="3880" y="742"/>
                </a:lnTo>
                <a:lnTo>
                  <a:pt x="3889" y="734"/>
                </a:lnTo>
                <a:lnTo>
                  <a:pt x="3898" y="724"/>
                </a:lnTo>
                <a:lnTo>
                  <a:pt x="3905" y="714"/>
                </a:lnTo>
                <a:lnTo>
                  <a:pt x="3911" y="704"/>
                </a:lnTo>
                <a:lnTo>
                  <a:pt x="3916" y="693"/>
                </a:lnTo>
                <a:lnTo>
                  <a:pt x="3920" y="681"/>
                </a:lnTo>
                <a:lnTo>
                  <a:pt x="3925" y="669"/>
                </a:lnTo>
                <a:lnTo>
                  <a:pt x="3926" y="657"/>
                </a:lnTo>
                <a:lnTo>
                  <a:pt x="3927" y="643"/>
                </a:lnTo>
                <a:lnTo>
                  <a:pt x="3927" y="129"/>
                </a:lnTo>
                <a:lnTo>
                  <a:pt x="3926" y="115"/>
                </a:lnTo>
                <a:lnTo>
                  <a:pt x="3925" y="103"/>
                </a:lnTo>
                <a:lnTo>
                  <a:pt x="3920" y="90"/>
                </a:lnTo>
                <a:lnTo>
                  <a:pt x="3916" y="79"/>
                </a:lnTo>
                <a:lnTo>
                  <a:pt x="3911" y="68"/>
                </a:lnTo>
                <a:lnTo>
                  <a:pt x="3905" y="57"/>
                </a:lnTo>
                <a:lnTo>
                  <a:pt x="3898" y="47"/>
                </a:lnTo>
                <a:lnTo>
                  <a:pt x="3889" y="38"/>
                </a:lnTo>
                <a:lnTo>
                  <a:pt x="3880" y="30"/>
                </a:lnTo>
                <a:lnTo>
                  <a:pt x="3870" y="22"/>
                </a:lnTo>
                <a:lnTo>
                  <a:pt x="3860" y="16"/>
                </a:lnTo>
                <a:lnTo>
                  <a:pt x="3849" y="10"/>
                </a:lnTo>
                <a:lnTo>
                  <a:pt x="3836" y="6"/>
                </a:lnTo>
                <a:lnTo>
                  <a:pt x="3824" y="3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8"/>
          <p:cNvSpPr/>
          <p:nvPr/>
        </p:nvSpPr>
        <p:spPr>
          <a:xfrm>
            <a:off x="733320" y="4292640"/>
            <a:ext cx="3909600" cy="7203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20360"/>
              <a:gd name="textAreaBottom" fmla="*/ 720720 h 720360"/>
            </a:gdLst>
            <a:ahLst/>
            <a:rect l="textAreaLeft" t="textAreaTop" r="textAreaRight" b="textAreaBottom"/>
            <a:pathLst>
              <a:path w="3927" h="771">
                <a:moveTo>
                  <a:pt x="128" y="0"/>
                </a:moveTo>
                <a:lnTo>
                  <a:pt x="115" y="0"/>
                </a:lnTo>
                <a:lnTo>
                  <a:pt x="102" y="3"/>
                </a:lnTo>
                <a:lnTo>
                  <a:pt x="90" y="6"/>
                </a:lnTo>
                <a:lnTo>
                  <a:pt x="79" y="10"/>
                </a:lnTo>
                <a:lnTo>
                  <a:pt x="67" y="15"/>
                </a:lnTo>
                <a:lnTo>
                  <a:pt x="56" y="22"/>
                </a:lnTo>
                <a:lnTo>
                  <a:pt x="46" y="29"/>
                </a:lnTo>
                <a:lnTo>
                  <a:pt x="37" y="38"/>
                </a:lnTo>
                <a:lnTo>
                  <a:pt x="28" y="46"/>
                </a:lnTo>
                <a:lnTo>
                  <a:pt x="21" y="56"/>
                </a:lnTo>
                <a:lnTo>
                  <a:pt x="16" y="67"/>
                </a:lnTo>
                <a:lnTo>
                  <a:pt x="10" y="79"/>
                </a:lnTo>
                <a:lnTo>
                  <a:pt x="6" y="90"/>
                </a:lnTo>
                <a:lnTo>
                  <a:pt x="1" y="102"/>
                </a:lnTo>
                <a:lnTo>
                  <a:pt x="0" y="115"/>
                </a:lnTo>
                <a:lnTo>
                  <a:pt x="0" y="129"/>
                </a:lnTo>
                <a:lnTo>
                  <a:pt x="0" y="642"/>
                </a:lnTo>
                <a:lnTo>
                  <a:pt x="0" y="656"/>
                </a:lnTo>
                <a:lnTo>
                  <a:pt x="1" y="669"/>
                </a:lnTo>
                <a:lnTo>
                  <a:pt x="6" y="681"/>
                </a:lnTo>
                <a:lnTo>
                  <a:pt x="10" y="693"/>
                </a:lnTo>
                <a:lnTo>
                  <a:pt x="16" y="704"/>
                </a:lnTo>
                <a:lnTo>
                  <a:pt x="21" y="715"/>
                </a:lnTo>
                <a:lnTo>
                  <a:pt x="28" y="725"/>
                </a:lnTo>
                <a:lnTo>
                  <a:pt x="37" y="733"/>
                </a:lnTo>
                <a:lnTo>
                  <a:pt x="46" y="742"/>
                </a:lnTo>
                <a:lnTo>
                  <a:pt x="56" y="749"/>
                </a:lnTo>
                <a:lnTo>
                  <a:pt x="67" y="756"/>
                </a:lnTo>
                <a:lnTo>
                  <a:pt x="79" y="761"/>
                </a:lnTo>
                <a:lnTo>
                  <a:pt x="90" y="766"/>
                </a:lnTo>
                <a:lnTo>
                  <a:pt x="102" y="768"/>
                </a:lnTo>
                <a:lnTo>
                  <a:pt x="115" y="770"/>
                </a:lnTo>
                <a:lnTo>
                  <a:pt x="128" y="771"/>
                </a:lnTo>
                <a:lnTo>
                  <a:pt x="3798" y="771"/>
                </a:lnTo>
                <a:lnTo>
                  <a:pt x="3811" y="770"/>
                </a:lnTo>
                <a:lnTo>
                  <a:pt x="3824" y="768"/>
                </a:lnTo>
                <a:lnTo>
                  <a:pt x="3836" y="766"/>
                </a:lnTo>
                <a:lnTo>
                  <a:pt x="3849" y="761"/>
                </a:lnTo>
                <a:lnTo>
                  <a:pt x="3860" y="756"/>
                </a:lnTo>
                <a:lnTo>
                  <a:pt x="3870" y="749"/>
                </a:lnTo>
                <a:lnTo>
                  <a:pt x="3880" y="742"/>
                </a:lnTo>
                <a:lnTo>
                  <a:pt x="3889" y="733"/>
                </a:lnTo>
                <a:lnTo>
                  <a:pt x="3898" y="725"/>
                </a:lnTo>
                <a:lnTo>
                  <a:pt x="3905" y="715"/>
                </a:lnTo>
                <a:lnTo>
                  <a:pt x="3911" y="704"/>
                </a:lnTo>
                <a:lnTo>
                  <a:pt x="3916" y="693"/>
                </a:lnTo>
                <a:lnTo>
                  <a:pt x="3920" y="681"/>
                </a:lnTo>
                <a:lnTo>
                  <a:pt x="3925" y="669"/>
                </a:lnTo>
                <a:lnTo>
                  <a:pt x="3926" y="656"/>
                </a:lnTo>
                <a:lnTo>
                  <a:pt x="3927" y="642"/>
                </a:lnTo>
                <a:lnTo>
                  <a:pt x="3927" y="129"/>
                </a:lnTo>
                <a:lnTo>
                  <a:pt x="3926" y="115"/>
                </a:lnTo>
                <a:lnTo>
                  <a:pt x="3925" y="102"/>
                </a:lnTo>
                <a:lnTo>
                  <a:pt x="3920" y="90"/>
                </a:lnTo>
                <a:lnTo>
                  <a:pt x="3916" y="79"/>
                </a:lnTo>
                <a:lnTo>
                  <a:pt x="3911" y="67"/>
                </a:lnTo>
                <a:lnTo>
                  <a:pt x="3905" y="56"/>
                </a:lnTo>
                <a:lnTo>
                  <a:pt x="3898" y="46"/>
                </a:lnTo>
                <a:lnTo>
                  <a:pt x="3889" y="38"/>
                </a:lnTo>
                <a:lnTo>
                  <a:pt x="3880" y="29"/>
                </a:lnTo>
                <a:lnTo>
                  <a:pt x="3870" y="22"/>
                </a:lnTo>
                <a:lnTo>
                  <a:pt x="3860" y="15"/>
                </a:lnTo>
                <a:lnTo>
                  <a:pt x="3849" y="10"/>
                </a:lnTo>
                <a:lnTo>
                  <a:pt x="3836" y="6"/>
                </a:lnTo>
                <a:lnTo>
                  <a:pt x="3824" y="3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9"/>
          <p:cNvSpPr/>
          <p:nvPr/>
        </p:nvSpPr>
        <p:spPr>
          <a:xfrm>
            <a:off x="2102040" y="4695840"/>
            <a:ext cx="10861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ío Bío -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50"/>
          <p:cNvSpPr/>
          <p:nvPr/>
        </p:nvSpPr>
        <p:spPr>
          <a:xfrm>
            <a:off x="733320" y="5084640"/>
            <a:ext cx="3909600" cy="76644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66440"/>
              <a:gd name="textAreaBottom" fmla="*/ 766800 h 766440"/>
            </a:gdLst>
            <a:ahLst/>
            <a:rect l="textAreaLeft" t="textAreaTop" r="textAreaRight" b="textAreaBottom"/>
            <a:pathLst>
              <a:path w="3927" h="771">
                <a:moveTo>
                  <a:pt x="128" y="0"/>
                </a:moveTo>
                <a:lnTo>
                  <a:pt x="115" y="0"/>
                </a:lnTo>
                <a:lnTo>
                  <a:pt x="102" y="1"/>
                </a:lnTo>
                <a:lnTo>
                  <a:pt x="90" y="5"/>
                </a:lnTo>
                <a:lnTo>
                  <a:pt x="79" y="10"/>
                </a:lnTo>
                <a:lnTo>
                  <a:pt x="67" y="15"/>
                </a:lnTo>
                <a:lnTo>
                  <a:pt x="56" y="21"/>
                </a:lnTo>
                <a:lnTo>
                  <a:pt x="46" y="29"/>
                </a:lnTo>
                <a:lnTo>
                  <a:pt x="37" y="36"/>
                </a:lnTo>
                <a:lnTo>
                  <a:pt x="30" y="46"/>
                </a:lnTo>
                <a:lnTo>
                  <a:pt x="21" y="56"/>
                </a:lnTo>
                <a:lnTo>
                  <a:pt x="16" y="67"/>
                </a:lnTo>
                <a:lnTo>
                  <a:pt x="10" y="78"/>
                </a:lnTo>
                <a:lnTo>
                  <a:pt x="6" y="89"/>
                </a:lnTo>
                <a:lnTo>
                  <a:pt x="1" y="102"/>
                </a:lnTo>
                <a:lnTo>
                  <a:pt x="0" y="115"/>
                </a:lnTo>
                <a:lnTo>
                  <a:pt x="0" y="127"/>
                </a:lnTo>
                <a:lnTo>
                  <a:pt x="0" y="642"/>
                </a:lnTo>
                <a:lnTo>
                  <a:pt x="0" y="655"/>
                </a:lnTo>
                <a:lnTo>
                  <a:pt x="1" y="667"/>
                </a:lnTo>
                <a:lnTo>
                  <a:pt x="6" y="680"/>
                </a:lnTo>
                <a:lnTo>
                  <a:pt x="10" y="692"/>
                </a:lnTo>
                <a:lnTo>
                  <a:pt x="16" y="704"/>
                </a:lnTo>
                <a:lnTo>
                  <a:pt x="21" y="713"/>
                </a:lnTo>
                <a:lnTo>
                  <a:pt x="30" y="723"/>
                </a:lnTo>
                <a:lnTo>
                  <a:pt x="37" y="733"/>
                </a:lnTo>
                <a:lnTo>
                  <a:pt x="46" y="741"/>
                </a:lnTo>
                <a:lnTo>
                  <a:pt x="56" y="748"/>
                </a:lnTo>
                <a:lnTo>
                  <a:pt x="67" y="754"/>
                </a:lnTo>
                <a:lnTo>
                  <a:pt x="79" y="760"/>
                </a:lnTo>
                <a:lnTo>
                  <a:pt x="90" y="764"/>
                </a:lnTo>
                <a:lnTo>
                  <a:pt x="102" y="768"/>
                </a:lnTo>
                <a:lnTo>
                  <a:pt x="115" y="769"/>
                </a:lnTo>
                <a:lnTo>
                  <a:pt x="128" y="771"/>
                </a:lnTo>
                <a:lnTo>
                  <a:pt x="3798" y="771"/>
                </a:lnTo>
                <a:lnTo>
                  <a:pt x="3811" y="769"/>
                </a:lnTo>
                <a:lnTo>
                  <a:pt x="3824" y="768"/>
                </a:lnTo>
                <a:lnTo>
                  <a:pt x="3836" y="764"/>
                </a:lnTo>
                <a:lnTo>
                  <a:pt x="3849" y="760"/>
                </a:lnTo>
                <a:lnTo>
                  <a:pt x="3860" y="754"/>
                </a:lnTo>
                <a:lnTo>
                  <a:pt x="3870" y="748"/>
                </a:lnTo>
                <a:lnTo>
                  <a:pt x="3880" y="741"/>
                </a:lnTo>
                <a:lnTo>
                  <a:pt x="3889" y="733"/>
                </a:lnTo>
                <a:lnTo>
                  <a:pt x="3898" y="723"/>
                </a:lnTo>
                <a:lnTo>
                  <a:pt x="3905" y="713"/>
                </a:lnTo>
                <a:lnTo>
                  <a:pt x="3911" y="704"/>
                </a:lnTo>
                <a:lnTo>
                  <a:pt x="3916" y="692"/>
                </a:lnTo>
                <a:lnTo>
                  <a:pt x="3920" y="680"/>
                </a:lnTo>
                <a:lnTo>
                  <a:pt x="3925" y="667"/>
                </a:lnTo>
                <a:lnTo>
                  <a:pt x="3926" y="655"/>
                </a:lnTo>
                <a:lnTo>
                  <a:pt x="3927" y="642"/>
                </a:lnTo>
                <a:lnTo>
                  <a:pt x="3927" y="127"/>
                </a:lnTo>
                <a:lnTo>
                  <a:pt x="3926" y="115"/>
                </a:lnTo>
                <a:lnTo>
                  <a:pt x="3925" y="102"/>
                </a:lnTo>
                <a:lnTo>
                  <a:pt x="3920" y="89"/>
                </a:lnTo>
                <a:lnTo>
                  <a:pt x="3916" y="78"/>
                </a:lnTo>
                <a:lnTo>
                  <a:pt x="3911" y="67"/>
                </a:lnTo>
                <a:lnTo>
                  <a:pt x="3905" y="56"/>
                </a:lnTo>
                <a:lnTo>
                  <a:pt x="3898" y="46"/>
                </a:lnTo>
                <a:lnTo>
                  <a:pt x="3889" y="36"/>
                </a:lnTo>
                <a:lnTo>
                  <a:pt x="3880" y="29"/>
                </a:lnTo>
                <a:lnTo>
                  <a:pt x="3870" y="21"/>
                </a:lnTo>
                <a:lnTo>
                  <a:pt x="3860" y="15"/>
                </a:lnTo>
                <a:lnTo>
                  <a:pt x="3849" y="10"/>
                </a:lnTo>
                <a:lnTo>
                  <a:pt x="3836" y="5"/>
                </a:lnTo>
                <a:lnTo>
                  <a:pt x="3824" y="1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1"/>
          <p:cNvSpPr/>
          <p:nvPr/>
        </p:nvSpPr>
        <p:spPr>
          <a:xfrm>
            <a:off x="2171160" y="5345280"/>
            <a:ext cx="13071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Guerrero -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6"/>
          <p:cNvSpPr/>
          <p:nvPr/>
        </p:nvSpPr>
        <p:spPr>
          <a:xfrm>
            <a:off x="6435000" y="3014640"/>
            <a:ext cx="1137960" cy="24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6505560" y="5180040"/>
            <a:ext cx="642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Ter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8"/>
          <p:cNvSpPr/>
          <p:nvPr/>
        </p:nvSpPr>
        <p:spPr>
          <a:xfrm>
            <a:off x="6147000" y="5433840"/>
            <a:ext cx="1398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gotá 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59"/>
          <p:cNvSpPr/>
          <p:nvPr/>
        </p:nvSpPr>
        <p:spPr>
          <a:xfrm>
            <a:off x="5011560" y="3375000"/>
            <a:ext cx="3909600" cy="5583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927" h="561">
                <a:moveTo>
                  <a:pt x="94" y="0"/>
                </a:moveTo>
                <a:lnTo>
                  <a:pt x="84" y="0"/>
                </a:lnTo>
                <a:lnTo>
                  <a:pt x="74" y="2"/>
                </a:lnTo>
                <a:lnTo>
                  <a:pt x="66" y="4"/>
                </a:lnTo>
                <a:lnTo>
                  <a:pt x="58" y="7"/>
                </a:lnTo>
                <a:lnTo>
                  <a:pt x="49" y="11"/>
                </a:lnTo>
                <a:lnTo>
                  <a:pt x="41" y="16"/>
                </a:lnTo>
                <a:lnTo>
                  <a:pt x="34" y="21"/>
                </a:lnTo>
                <a:lnTo>
                  <a:pt x="27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7" y="533"/>
                </a:lnTo>
                <a:lnTo>
                  <a:pt x="34" y="539"/>
                </a:lnTo>
                <a:lnTo>
                  <a:pt x="41" y="544"/>
                </a:lnTo>
                <a:lnTo>
                  <a:pt x="49" y="548"/>
                </a:lnTo>
                <a:lnTo>
                  <a:pt x="58" y="553"/>
                </a:lnTo>
                <a:lnTo>
                  <a:pt x="66" y="557"/>
                </a:lnTo>
                <a:lnTo>
                  <a:pt x="74" y="558"/>
                </a:lnTo>
                <a:lnTo>
                  <a:pt x="84" y="560"/>
                </a:lnTo>
                <a:lnTo>
                  <a:pt x="94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3" y="558"/>
                </a:lnTo>
                <a:lnTo>
                  <a:pt x="3861" y="557"/>
                </a:lnTo>
                <a:lnTo>
                  <a:pt x="3870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4" y="539"/>
                </a:lnTo>
                <a:lnTo>
                  <a:pt x="3899" y="533"/>
                </a:lnTo>
                <a:lnTo>
                  <a:pt x="3906" y="526"/>
                </a:lnTo>
                <a:lnTo>
                  <a:pt x="3910" y="519"/>
                </a:lnTo>
                <a:lnTo>
                  <a:pt x="3916" y="512"/>
                </a:lnTo>
                <a:lnTo>
                  <a:pt x="3920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6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6" y="83"/>
                </a:lnTo>
                <a:lnTo>
                  <a:pt x="3924" y="74"/>
                </a:lnTo>
                <a:lnTo>
                  <a:pt x="3923" y="65"/>
                </a:lnTo>
                <a:lnTo>
                  <a:pt x="3920" y="56"/>
                </a:lnTo>
                <a:lnTo>
                  <a:pt x="3916" y="49"/>
                </a:lnTo>
                <a:lnTo>
                  <a:pt x="3910" y="41"/>
                </a:lnTo>
                <a:lnTo>
                  <a:pt x="3906" y="34"/>
                </a:lnTo>
                <a:lnTo>
                  <a:pt x="3899" y="27"/>
                </a:lnTo>
                <a:lnTo>
                  <a:pt x="3894" y="21"/>
                </a:lnTo>
                <a:lnTo>
                  <a:pt x="3885" y="16"/>
                </a:lnTo>
                <a:lnTo>
                  <a:pt x="3878" y="11"/>
                </a:lnTo>
                <a:lnTo>
                  <a:pt x="3870" y="7"/>
                </a:lnTo>
                <a:lnTo>
                  <a:pt x="3861" y="4"/>
                </a:lnTo>
                <a:lnTo>
                  <a:pt x="3853" y="2"/>
                </a:lnTo>
                <a:lnTo>
                  <a:pt x="3843" y="0"/>
                </a:lnTo>
                <a:lnTo>
                  <a:pt x="3833" y="0"/>
                </a:lnTo>
                <a:lnTo>
                  <a:pt x="94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6591600" y="3467160"/>
            <a:ext cx="619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1"/>
          <p:cNvSpPr/>
          <p:nvPr/>
        </p:nvSpPr>
        <p:spPr>
          <a:xfrm>
            <a:off x="5003640" y="5041800"/>
            <a:ext cx="3909600" cy="78084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3927" h="1122">
                <a:moveTo>
                  <a:pt x="186" y="0"/>
                </a:moveTo>
                <a:lnTo>
                  <a:pt x="176" y="0"/>
                </a:lnTo>
                <a:lnTo>
                  <a:pt x="167" y="2"/>
                </a:lnTo>
                <a:lnTo>
                  <a:pt x="158" y="3"/>
                </a:lnTo>
                <a:lnTo>
                  <a:pt x="148" y="5"/>
                </a:lnTo>
                <a:lnTo>
                  <a:pt x="140" y="6"/>
                </a:lnTo>
                <a:lnTo>
                  <a:pt x="130" y="9"/>
                </a:lnTo>
                <a:lnTo>
                  <a:pt x="122" y="12"/>
                </a:lnTo>
                <a:lnTo>
                  <a:pt x="113" y="16"/>
                </a:lnTo>
                <a:lnTo>
                  <a:pt x="105" y="19"/>
                </a:lnTo>
                <a:lnTo>
                  <a:pt x="96" y="23"/>
                </a:lnTo>
                <a:lnTo>
                  <a:pt x="89" y="28"/>
                </a:lnTo>
                <a:lnTo>
                  <a:pt x="81" y="33"/>
                </a:lnTo>
                <a:lnTo>
                  <a:pt x="67" y="44"/>
                </a:lnTo>
                <a:lnTo>
                  <a:pt x="54" y="55"/>
                </a:lnTo>
                <a:lnTo>
                  <a:pt x="42" y="69"/>
                </a:lnTo>
                <a:lnTo>
                  <a:pt x="30" y="83"/>
                </a:lnTo>
                <a:lnTo>
                  <a:pt x="26" y="92"/>
                </a:lnTo>
                <a:lnTo>
                  <a:pt x="22" y="99"/>
                </a:lnTo>
                <a:lnTo>
                  <a:pt x="18" y="107"/>
                </a:lnTo>
                <a:lnTo>
                  <a:pt x="14" y="115"/>
                </a:lnTo>
                <a:lnTo>
                  <a:pt x="11" y="124"/>
                </a:lnTo>
                <a:lnTo>
                  <a:pt x="8" y="132"/>
                </a:lnTo>
                <a:lnTo>
                  <a:pt x="5" y="141"/>
                </a:lnTo>
                <a:lnTo>
                  <a:pt x="2" y="150"/>
                </a:lnTo>
                <a:lnTo>
                  <a:pt x="1" y="159"/>
                </a:lnTo>
                <a:lnTo>
                  <a:pt x="0" y="169"/>
                </a:lnTo>
                <a:lnTo>
                  <a:pt x="0" y="178"/>
                </a:lnTo>
                <a:lnTo>
                  <a:pt x="0" y="188"/>
                </a:lnTo>
                <a:lnTo>
                  <a:pt x="0" y="936"/>
                </a:lnTo>
                <a:lnTo>
                  <a:pt x="0" y="945"/>
                </a:lnTo>
                <a:lnTo>
                  <a:pt x="0" y="955"/>
                </a:lnTo>
                <a:lnTo>
                  <a:pt x="1" y="964"/>
                </a:lnTo>
                <a:lnTo>
                  <a:pt x="2" y="974"/>
                </a:lnTo>
                <a:lnTo>
                  <a:pt x="5" y="982"/>
                </a:lnTo>
                <a:lnTo>
                  <a:pt x="8" y="992"/>
                </a:lnTo>
                <a:lnTo>
                  <a:pt x="11" y="1000"/>
                </a:lnTo>
                <a:lnTo>
                  <a:pt x="14" y="1009"/>
                </a:lnTo>
                <a:lnTo>
                  <a:pt x="18" y="1017"/>
                </a:lnTo>
                <a:lnTo>
                  <a:pt x="22" y="1025"/>
                </a:lnTo>
                <a:lnTo>
                  <a:pt x="26" y="1032"/>
                </a:lnTo>
                <a:lnTo>
                  <a:pt x="30" y="1041"/>
                </a:lnTo>
                <a:lnTo>
                  <a:pt x="42" y="1055"/>
                </a:lnTo>
                <a:lnTo>
                  <a:pt x="54" y="1067"/>
                </a:lnTo>
                <a:lnTo>
                  <a:pt x="67" y="1080"/>
                </a:lnTo>
                <a:lnTo>
                  <a:pt x="81" y="1091"/>
                </a:lnTo>
                <a:lnTo>
                  <a:pt x="89" y="1095"/>
                </a:lnTo>
                <a:lnTo>
                  <a:pt x="96" y="1100"/>
                </a:lnTo>
                <a:lnTo>
                  <a:pt x="105" y="1104"/>
                </a:lnTo>
                <a:lnTo>
                  <a:pt x="113" y="1108"/>
                </a:lnTo>
                <a:lnTo>
                  <a:pt x="122" y="1111"/>
                </a:lnTo>
                <a:lnTo>
                  <a:pt x="130" y="1114"/>
                </a:lnTo>
                <a:lnTo>
                  <a:pt x="140" y="1117"/>
                </a:lnTo>
                <a:lnTo>
                  <a:pt x="148" y="1119"/>
                </a:lnTo>
                <a:lnTo>
                  <a:pt x="158" y="1121"/>
                </a:lnTo>
                <a:lnTo>
                  <a:pt x="167" y="1122"/>
                </a:lnTo>
                <a:lnTo>
                  <a:pt x="176" y="1122"/>
                </a:lnTo>
                <a:lnTo>
                  <a:pt x="186" y="1122"/>
                </a:lnTo>
                <a:lnTo>
                  <a:pt x="3739" y="1122"/>
                </a:lnTo>
                <a:lnTo>
                  <a:pt x="3749" y="1122"/>
                </a:lnTo>
                <a:lnTo>
                  <a:pt x="3759" y="1122"/>
                </a:lnTo>
                <a:lnTo>
                  <a:pt x="3768" y="1121"/>
                </a:lnTo>
                <a:lnTo>
                  <a:pt x="3777" y="1119"/>
                </a:lnTo>
                <a:lnTo>
                  <a:pt x="3787" y="1117"/>
                </a:lnTo>
                <a:lnTo>
                  <a:pt x="3795" y="1114"/>
                </a:lnTo>
                <a:lnTo>
                  <a:pt x="3803" y="1111"/>
                </a:lnTo>
                <a:lnTo>
                  <a:pt x="3812" y="1108"/>
                </a:lnTo>
                <a:lnTo>
                  <a:pt x="3820" y="1104"/>
                </a:lnTo>
                <a:lnTo>
                  <a:pt x="3829" y="1100"/>
                </a:lnTo>
                <a:lnTo>
                  <a:pt x="3836" y="1095"/>
                </a:lnTo>
                <a:lnTo>
                  <a:pt x="3844" y="1091"/>
                </a:lnTo>
                <a:lnTo>
                  <a:pt x="3858" y="1080"/>
                </a:lnTo>
                <a:lnTo>
                  <a:pt x="3872" y="1067"/>
                </a:lnTo>
                <a:lnTo>
                  <a:pt x="3883" y="1055"/>
                </a:lnTo>
                <a:lnTo>
                  <a:pt x="3895" y="1041"/>
                </a:lnTo>
                <a:lnTo>
                  <a:pt x="3899" y="1032"/>
                </a:lnTo>
                <a:lnTo>
                  <a:pt x="3903" y="1025"/>
                </a:lnTo>
                <a:lnTo>
                  <a:pt x="3907" y="1017"/>
                </a:lnTo>
                <a:lnTo>
                  <a:pt x="3911" y="1009"/>
                </a:lnTo>
                <a:lnTo>
                  <a:pt x="3914" y="1000"/>
                </a:lnTo>
                <a:lnTo>
                  <a:pt x="3918" y="992"/>
                </a:lnTo>
                <a:lnTo>
                  <a:pt x="3920" y="982"/>
                </a:lnTo>
                <a:lnTo>
                  <a:pt x="3923" y="974"/>
                </a:lnTo>
                <a:lnTo>
                  <a:pt x="3924" y="964"/>
                </a:lnTo>
                <a:lnTo>
                  <a:pt x="3925" y="955"/>
                </a:lnTo>
                <a:lnTo>
                  <a:pt x="3925" y="945"/>
                </a:lnTo>
                <a:lnTo>
                  <a:pt x="3927" y="936"/>
                </a:lnTo>
                <a:lnTo>
                  <a:pt x="3927" y="188"/>
                </a:lnTo>
                <a:lnTo>
                  <a:pt x="3925" y="178"/>
                </a:lnTo>
                <a:lnTo>
                  <a:pt x="3925" y="169"/>
                </a:lnTo>
                <a:lnTo>
                  <a:pt x="3924" y="159"/>
                </a:lnTo>
                <a:lnTo>
                  <a:pt x="3923" y="150"/>
                </a:lnTo>
                <a:lnTo>
                  <a:pt x="3920" y="141"/>
                </a:lnTo>
                <a:lnTo>
                  <a:pt x="3918" y="132"/>
                </a:lnTo>
                <a:lnTo>
                  <a:pt x="3914" y="124"/>
                </a:lnTo>
                <a:lnTo>
                  <a:pt x="3911" y="115"/>
                </a:lnTo>
                <a:lnTo>
                  <a:pt x="3907" y="107"/>
                </a:lnTo>
                <a:lnTo>
                  <a:pt x="3903" y="99"/>
                </a:lnTo>
                <a:lnTo>
                  <a:pt x="3899" y="92"/>
                </a:lnTo>
                <a:lnTo>
                  <a:pt x="3895" y="83"/>
                </a:lnTo>
                <a:lnTo>
                  <a:pt x="3883" y="69"/>
                </a:lnTo>
                <a:lnTo>
                  <a:pt x="3872" y="55"/>
                </a:lnTo>
                <a:lnTo>
                  <a:pt x="3858" y="44"/>
                </a:lnTo>
                <a:lnTo>
                  <a:pt x="3844" y="33"/>
                </a:lnTo>
                <a:lnTo>
                  <a:pt x="3836" y="28"/>
                </a:lnTo>
                <a:lnTo>
                  <a:pt x="3829" y="23"/>
                </a:lnTo>
                <a:lnTo>
                  <a:pt x="3820" y="19"/>
                </a:lnTo>
                <a:lnTo>
                  <a:pt x="3812" y="16"/>
                </a:lnTo>
                <a:lnTo>
                  <a:pt x="3803" y="12"/>
                </a:lnTo>
                <a:lnTo>
                  <a:pt x="3795" y="9"/>
                </a:lnTo>
                <a:lnTo>
                  <a:pt x="3787" y="6"/>
                </a:lnTo>
                <a:lnTo>
                  <a:pt x="3777" y="5"/>
                </a:lnTo>
                <a:lnTo>
                  <a:pt x="3768" y="3"/>
                </a:lnTo>
                <a:lnTo>
                  <a:pt x="3759" y="2"/>
                </a:lnTo>
                <a:lnTo>
                  <a:pt x="3749" y="0"/>
                </a:lnTo>
                <a:lnTo>
                  <a:pt x="3739" y="0"/>
                </a:lnTo>
                <a:lnTo>
                  <a:pt x="186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6288480" y="4713120"/>
            <a:ext cx="1384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o Paulo -  Bras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3"/>
          <p:cNvSpPr/>
          <p:nvPr/>
        </p:nvSpPr>
        <p:spPr>
          <a:xfrm>
            <a:off x="6275520" y="3637080"/>
            <a:ext cx="133308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gallanes -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64"/>
          <p:cNvSpPr/>
          <p:nvPr/>
        </p:nvSpPr>
        <p:spPr>
          <a:xfrm>
            <a:off x="5003640" y="4265640"/>
            <a:ext cx="3909600" cy="7077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3927" h="561">
                <a:moveTo>
                  <a:pt x="92" y="0"/>
                </a:moveTo>
                <a:lnTo>
                  <a:pt x="82" y="0"/>
                </a:lnTo>
                <a:lnTo>
                  <a:pt x="74" y="2"/>
                </a:lnTo>
                <a:lnTo>
                  <a:pt x="64" y="4"/>
                </a:lnTo>
                <a:lnTo>
                  <a:pt x="56" y="7"/>
                </a:lnTo>
                <a:lnTo>
                  <a:pt x="49" y="11"/>
                </a:lnTo>
                <a:lnTo>
                  <a:pt x="40" y="16"/>
                </a:lnTo>
                <a:lnTo>
                  <a:pt x="33" y="21"/>
                </a:lnTo>
                <a:lnTo>
                  <a:pt x="26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6" y="533"/>
                </a:lnTo>
                <a:lnTo>
                  <a:pt x="33" y="539"/>
                </a:lnTo>
                <a:lnTo>
                  <a:pt x="40" y="544"/>
                </a:lnTo>
                <a:lnTo>
                  <a:pt x="49" y="548"/>
                </a:lnTo>
                <a:lnTo>
                  <a:pt x="56" y="553"/>
                </a:lnTo>
                <a:lnTo>
                  <a:pt x="64" y="557"/>
                </a:lnTo>
                <a:lnTo>
                  <a:pt x="74" y="558"/>
                </a:lnTo>
                <a:lnTo>
                  <a:pt x="82" y="560"/>
                </a:lnTo>
                <a:lnTo>
                  <a:pt x="92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1" y="558"/>
                </a:lnTo>
                <a:lnTo>
                  <a:pt x="3861" y="557"/>
                </a:lnTo>
                <a:lnTo>
                  <a:pt x="3869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2" y="539"/>
                </a:lnTo>
                <a:lnTo>
                  <a:pt x="3899" y="533"/>
                </a:lnTo>
                <a:lnTo>
                  <a:pt x="3904" y="526"/>
                </a:lnTo>
                <a:lnTo>
                  <a:pt x="3910" y="519"/>
                </a:lnTo>
                <a:lnTo>
                  <a:pt x="3914" y="512"/>
                </a:lnTo>
                <a:lnTo>
                  <a:pt x="3918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5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5" y="83"/>
                </a:lnTo>
                <a:lnTo>
                  <a:pt x="3924" y="74"/>
                </a:lnTo>
                <a:lnTo>
                  <a:pt x="3923" y="65"/>
                </a:lnTo>
                <a:lnTo>
                  <a:pt x="3918" y="56"/>
                </a:lnTo>
                <a:lnTo>
                  <a:pt x="3914" y="49"/>
                </a:lnTo>
                <a:lnTo>
                  <a:pt x="3910" y="41"/>
                </a:lnTo>
                <a:lnTo>
                  <a:pt x="3904" y="34"/>
                </a:lnTo>
                <a:lnTo>
                  <a:pt x="3899" y="27"/>
                </a:lnTo>
                <a:lnTo>
                  <a:pt x="3892" y="21"/>
                </a:lnTo>
                <a:lnTo>
                  <a:pt x="3885" y="16"/>
                </a:lnTo>
                <a:lnTo>
                  <a:pt x="3878" y="11"/>
                </a:lnTo>
                <a:lnTo>
                  <a:pt x="3869" y="7"/>
                </a:lnTo>
                <a:lnTo>
                  <a:pt x="3861" y="4"/>
                </a:lnTo>
                <a:lnTo>
                  <a:pt x="3851" y="2"/>
                </a:lnTo>
                <a:lnTo>
                  <a:pt x="3843" y="0"/>
                </a:lnTo>
                <a:lnTo>
                  <a:pt x="3833" y="0"/>
                </a:lnTo>
                <a:lnTo>
                  <a:pt x="92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5"/>
          <p:cNvSpPr/>
          <p:nvPr/>
        </p:nvSpPr>
        <p:spPr>
          <a:xfrm>
            <a:off x="6433560" y="4281480"/>
            <a:ext cx="831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6289560" y="4497480"/>
            <a:ext cx="15123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n Luis - Argent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7"/>
          <p:cNvSpPr/>
          <p:nvPr/>
        </p:nvSpPr>
        <p:spPr>
          <a:xfrm>
            <a:off x="6146640" y="5649840"/>
            <a:ext cx="165384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Quintana Roo -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6360480" y="6010200"/>
            <a:ext cx="9597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iversifi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9"/>
          <p:cNvSpPr/>
          <p:nvPr/>
        </p:nvSpPr>
        <p:spPr>
          <a:xfrm>
            <a:off x="6091200" y="6281640"/>
            <a:ext cx="1945800" cy="18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Valle del Cauca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0"/>
          <p:cNvSpPr/>
          <p:nvPr/>
        </p:nvSpPr>
        <p:spPr>
          <a:xfrm>
            <a:off x="5046840" y="5967360"/>
            <a:ext cx="3908160" cy="55836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927" h="561">
                <a:moveTo>
                  <a:pt x="94" y="0"/>
                </a:moveTo>
                <a:lnTo>
                  <a:pt x="84" y="0"/>
                </a:lnTo>
                <a:lnTo>
                  <a:pt x="74" y="2"/>
                </a:lnTo>
                <a:lnTo>
                  <a:pt x="66" y="4"/>
                </a:lnTo>
                <a:lnTo>
                  <a:pt x="58" y="7"/>
                </a:lnTo>
                <a:lnTo>
                  <a:pt x="49" y="11"/>
                </a:lnTo>
                <a:lnTo>
                  <a:pt x="41" y="16"/>
                </a:lnTo>
                <a:lnTo>
                  <a:pt x="34" y="21"/>
                </a:lnTo>
                <a:lnTo>
                  <a:pt x="27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7" y="533"/>
                </a:lnTo>
                <a:lnTo>
                  <a:pt x="34" y="539"/>
                </a:lnTo>
                <a:lnTo>
                  <a:pt x="41" y="544"/>
                </a:lnTo>
                <a:lnTo>
                  <a:pt x="49" y="548"/>
                </a:lnTo>
                <a:lnTo>
                  <a:pt x="58" y="553"/>
                </a:lnTo>
                <a:lnTo>
                  <a:pt x="66" y="557"/>
                </a:lnTo>
                <a:lnTo>
                  <a:pt x="74" y="558"/>
                </a:lnTo>
                <a:lnTo>
                  <a:pt x="84" y="560"/>
                </a:lnTo>
                <a:lnTo>
                  <a:pt x="94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3" y="558"/>
                </a:lnTo>
                <a:lnTo>
                  <a:pt x="3861" y="557"/>
                </a:lnTo>
                <a:lnTo>
                  <a:pt x="3870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4" y="539"/>
                </a:lnTo>
                <a:lnTo>
                  <a:pt x="3899" y="533"/>
                </a:lnTo>
                <a:lnTo>
                  <a:pt x="3906" y="526"/>
                </a:lnTo>
                <a:lnTo>
                  <a:pt x="3910" y="519"/>
                </a:lnTo>
                <a:lnTo>
                  <a:pt x="3916" y="512"/>
                </a:lnTo>
                <a:lnTo>
                  <a:pt x="3920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6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6" y="83"/>
                </a:lnTo>
                <a:lnTo>
                  <a:pt x="3924" y="74"/>
                </a:lnTo>
                <a:lnTo>
                  <a:pt x="3923" y="65"/>
                </a:lnTo>
                <a:lnTo>
                  <a:pt x="3920" y="56"/>
                </a:lnTo>
                <a:lnTo>
                  <a:pt x="3916" y="49"/>
                </a:lnTo>
                <a:lnTo>
                  <a:pt x="3910" y="41"/>
                </a:lnTo>
                <a:lnTo>
                  <a:pt x="3906" y="34"/>
                </a:lnTo>
                <a:lnTo>
                  <a:pt x="3899" y="27"/>
                </a:lnTo>
                <a:lnTo>
                  <a:pt x="3894" y="21"/>
                </a:lnTo>
                <a:lnTo>
                  <a:pt x="3885" y="16"/>
                </a:lnTo>
                <a:lnTo>
                  <a:pt x="3878" y="11"/>
                </a:lnTo>
                <a:lnTo>
                  <a:pt x="3870" y="7"/>
                </a:lnTo>
                <a:lnTo>
                  <a:pt x="3861" y="4"/>
                </a:lnTo>
                <a:lnTo>
                  <a:pt x="3853" y="2"/>
                </a:lnTo>
                <a:lnTo>
                  <a:pt x="3843" y="0"/>
                </a:lnTo>
                <a:lnTo>
                  <a:pt x="3833" y="0"/>
                </a:lnTo>
                <a:lnTo>
                  <a:pt x="94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0"/>
          <p:cNvSpPr/>
          <p:nvPr/>
        </p:nvSpPr>
        <p:spPr>
          <a:xfrm>
            <a:off x="179280" y="1989000"/>
            <a:ext cx="28872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1"/>
          <p:cNvSpPr/>
          <p:nvPr/>
        </p:nvSpPr>
        <p:spPr>
          <a:xfrm>
            <a:off x="4289400" y="6381720"/>
            <a:ext cx="7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B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Territorios ricos y ganador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onomías primario exportador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ero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o generadoras de difusión y arrastre (intra o inter) regiona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an estado asociados con la industri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-industrialización de zonas tradicion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Zonas de industrialización globalizada (Maquila plu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dustria y la agricultura pueden ser ganadoras o perdedoras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NTROS ECONÓMICOS MAYOR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dependientes del medio urbano y aglomerad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odos gan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de la misma form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nculos de servicios. Encadenamientos con sectores líderes (minería)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usión y arrastre excluyente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Territorios convergentes</a:t>
            </a:r>
            <a:br>
              <a:rPr sz="4400"/>
            </a:b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(pobres ganadores)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240" cy="398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rtadores de productos primario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rícolas, pes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ufactura y diversidad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logran sostenerse para dejar de ser pobr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Economías y estructuras estancadas (perdedoras)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5640" y="1927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ociado a la agricultura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 ahora también la industria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-industrialización de zonas tradicion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industria y la agricultura pueden ser ganadoras o perdedora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bres persistente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pic>
        <p:nvPicPr>
          <p:cNvPr id="317" name="Picture 4" descr="americaLatina8"/>
          <p:cNvPicPr/>
          <p:nvPr/>
        </p:nvPicPr>
        <p:blipFill>
          <a:blip r:embed="rId1"/>
          <a:stretch/>
        </p:blipFill>
        <p:spPr>
          <a:xfrm>
            <a:off x="2124000" y="-228600"/>
            <a:ext cx="5473440" cy="70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7280" y="125280"/>
            <a:ext cx="8892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Dinámicas regionales y política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19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trás de los casos ganadores y otros…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 habido políticas nacionales con impacto regional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iones “impactadas” 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propiamente políticas regional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economías locales construidas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bre rentas de recursos naturales generan ingresos y empleos, impiden que pueda diversificarse en otras industrias para construir una base económica sustentable.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existencia de políticas </a:t>
            </a:r>
            <a:br>
              <a:rPr sz="4400"/>
            </a:b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familia de política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8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regional – Políticas regionales: “desde arriba”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local: promoción “desde abajo”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nomías políticas ~ descentralizac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stenibilidad ambiental y planificación territorial: ordenamiento territorial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s sectorial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s de fomento productivo localizad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s transversales (pobreza)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755640" y="1412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La Competitividad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asocia con el desempeño económico e institucional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gros y capacidad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presenta y evalúa múltiples dimension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Visión integral del desarrollo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3AC01411-70FC-42B9-94C4-D3B7A496A24C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-27000"/>
            <a:ext cx="8496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200" spc="-1" strike="noStrike">
                <a:solidFill>
                  <a:srgbClr val="c00000"/>
                </a:solidFill>
                <a:latin typeface="Arial"/>
              </a:rPr>
              <a:t>Escalafón Global de Competitividad Departamental 2009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395280" y="6524640"/>
            <a:ext cx="5184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tra líder y colero inferior en barras neg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0098D821-E997-4497-8163-75ED1D0167C5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914480" y="907920"/>
            <a:ext cx="5327280" cy="579888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240" cy="92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600" spc="-1" strike="noStrike">
                <a:solidFill>
                  <a:srgbClr val="c00000"/>
                </a:solidFill>
                <a:latin typeface="Arial"/>
              </a:rPr>
              <a:t>Escalafón de Capital Humano 2009</a:t>
            </a:r>
            <a:endParaRPr b="0" lang="es-CO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Imagen 8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271840" cy="5544720"/>
          </a:xfrm>
          <a:prstGeom prst="rect">
            <a:avLst/>
          </a:prstGeom>
          <a:ln w="9525">
            <a:noFill/>
          </a:ln>
        </p:spPr>
      </p:pic>
      <p:sp>
        <p:nvSpPr>
          <p:cNvPr id="336" name="TextBox 3"/>
          <p:cNvSpPr/>
          <p:nvPr/>
        </p:nvSpPr>
        <p:spPr>
          <a:xfrm>
            <a:off x="395280" y="6453360"/>
            <a:ext cx="5184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xtra líder(es) y colero inferior en barras neg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DBD9C6-17D4-4808-9D79-338119651EE3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755640" y="836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ESPÍRITU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se como territorio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 (sin) frontera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entido que le damo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dad, diferencia 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gualdad y universalidad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te a otras region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interior de la reg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3600" spc="-1" strike="noStrike">
                <a:solidFill>
                  <a:srgbClr val="c00000"/>
                </a:solidFill>
                <a:latin typeface="Arial"/>
              </a:rPr>
              <a:t>Heterogeneidad Departamental Según los Niveles de Competitividad</a:t>
            </a:r>
            <a:endParaRPr b="0" lang="es-CO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611280" y="1773360"/>
            <a:ext cx="7705440" cy="4750920"/>
            <a:chOff x="611280" y="1773360"/>
            <a:chExt cx="7705440" cy="4750920"/>
          </a:xfrm>
        </p:grpSpPr>
        <p:pic>
          <p:nvPicPr>
            <p:cNvPr id="341" name="Imagen 12" descr=""/>
            <p:cNvPicPr/>
            <p:nvPr/>
          </p:nvPicPr>
          <p:blipFill>
            <a:blip r:embed="rId1"/>
            <a:stretch/>
          </p:blipFill>
          <p:spPr>
            <a:xfrm>
              <a:off x="611280" y="1773360"/>
              <a:ext cx="7705440" cy="4750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2" name="TextBox 3"/>
            <p:cNvSpPr/>
            <p:nvPr/>
          </p:nvSpPr>
          <p:spPr>
            <a:xfrm>
              <a:off x="5796000" y="6010560"/>
              <a:ext cx="936360" cy="3639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1800" spc="-1" strike="noStrike">
                  <a:solidFill>
                    <a:srgbClr val="000000"/>
                  </a:solidFill>
                  <a:latin typeface="Calibri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Slide Number Placeholder 4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79AFA4A0-0C32-42CB-B76B-AC281C6A0220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755640" y="1484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Gráfico 1"/>
          <p:cNvGraphicFramePr/>
          <p:nvPr/>
        </p:nvGraphicFramePr>
        <p:xfrm>
          <a:off x="-9000" y="9000"/>
          <a:ext cx="4836960" cy="671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46" name="Llamada con línea 1 11"/>
          <p:cNvSpPr/>
          <p:nvPr/>
        </p:nvSpPr>
        <p:spPr>
          <a:xfrm>
            <a:off x="4910760" y="189000"/>
            <a:ext cx="1239120" cy="1009800"/>
          </a:xfrm>
          <a:prstGeom prst="borderCallout1">
            <a:avLst>
              <a:gd name="adj1" fmla="val 102083"/>
              <a:gd name="adj2" fmla="val 98364"/>
              <a:gd name="adj3" fmla="val 103683"/>
              <a:gd name="adj4" fmla="val -273552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Lí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lamada con línea 1 13"/>
          <p:cNvSpPr/>
          <p:nvPr/>
        </p:nvSpPr>
        <p:spPr>
          <a:xfrm>
            <a:off x="4910760" y="1207800"/>
            <a:ext cx="1239120" cy="629280"/>
          </a:xfrm>
          <a:prstGeom prst="borderCallout1">
            <a:avLst>
              <a:gd name="adj1" fmla="val 100103"/>
              <a:gd name="adj2" fmla="val 1019"/>
              <a:gd name="adj3" fmla="val 101555"/>
              <a:gd name="adj4" fmla="val -273223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lamada con línea 1 14"/>
          <p:cNvSpPr/>
          <p:nvPr/>
        </p:nvSpPr>
        <p:spPr>
          <a:xfrm>
            <a:off x="4910760" y="1846080"/>
            <a:ext cx="1239120" cy="862200"/>
          </a:xfrm>
          <a:prstGeom prst="borderCallout1">
            <a:avLst>
              <a:gd name="adj1" fmla="val 98339"/>
              <a:gd name="adj2" fmla="val -113"/>
              <a:gd name="adj3" fmla="val 98900"/>
              <a:gd name="adj4" fmla="val -272229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Medio-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lamada con línea 1 15"/>
          <p:cNvSpPr/>
          <p:nvPr/>
        </p:nvSpPr>
        <p:spPr>
          <a:xfrm>
            <a:off x="4914000" y="2717280"/>
            <a:ext cx="1235880" cy="422280"/>
          </a:xfrm>
          <a:prstGeom prst="borderCallout1">
            <a:avLst>
              <a:gd name="adj1" fmla="val 100905"/>
              <a:gd name="adj2" fmla="val -5"/>
              <a:gd name="adj3" fmla="val 101955"/>
              <a:gd name="adj4" fmla="val -274997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Medio-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lamada con línea 1 16"/>
          <p:cNvSpPr/>
          <p:nvPr/>
        </p:nvSpPr>
        <p:spPr>
          <a:xfrm>
            <a:off x="4915080" y="3105360"/>
            <a:ext cx="1235880" cy="1923480"/>
          </a:xfrm>
          <a:prstGeom prst="borderCallout1">
            <a:avLst>
              <a:gd name="adj1" fmla="val 99438"/>
              <a:gd name="adj2" fmla="val -624"/>
              <a:gd name="adj3" fmla="val 100830"/>
              <a:gd name="adj4" fmla="val -275707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lamada con línea 1 17"/>
          <p:cNvSpPr/>
          <p:nvPr/>
        </p:nvSpPr>
        <p:spPr>
          <a:xfrm>
            <a:off x="4914720" y="5020560"/>
            <a:ext cx="1235880" cy="1258200"/>
          </a:xfrm>
          <a:prstGeom prst="borderCallout1">
            <a:avLst>
              <a:gd name="adj1" fmla="val 100251"/>
              <a:gd name="adj2" fmla="val -112"/>
              <a:gd name="adj3" fmla="val 101077"/>
              <a:gd name="adj4" fmla="val 1146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Col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ítulo 2"/>
          <p:cNvSpPr/>
          <p:nvPr/>
        </p:nvSpPr>
        <p:spPr>
          <a:xfrm>
            <a:off x="6647040" y="1854360"/>
            <a:ext cx="1747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10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EF78A513-49C9-4C99-8586-05FB5DC6E427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lamada con línea 1 11"/>
          <p:cNvSpPr/>
          <p:nvPr/>
        </p:nvSpPr>
        <p:spPr>
          <a:xfrm>
            <a:off x="4910760" y="189000"/>
            <a:ext cx="1239120" cy="439560"/>
          </a:xfrm>
          <a:prstGeom prst="borderCallout1">
            <a:avLst>
              <a:gd name="adj1" fmla="val 102083"/>
              <a:gd name="adj2" fmla="val 98364"/>
              <a:gd name="adj3" fmla="val 103683"/>
              <a:gd name="adj4" fmla="val -273552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Lí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lamada con línea 1 13"/>
          <p:cNvSpPr/>
          <p:nvPr/>
        </p:nvSpPr>
        <p:spPr>
          <a:xfrm>
            <a:off x="4910760" y="628560"/>
            <a:ext cx="1239120" cy="437760"/>
          </a:xfrm>
          <a:prstGeom prst="borderCallout1">
            <a:avLst>
              <a:gd name="adj1" fmla="val 100103"/>
              <a:gd name="adj2" fmla="val 1019"/>
              <a:gd name="adj3" fmla="val 101555"/>
              <a:gd name="adj4" fmla="val -273223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lamada con línea 1 14"/>
          <p:cNvSpPr/>
          <p:nvPr/>
        </p:nvSpPr>
        <p:spPr>
          <a:xfrm>
            <a:off x="4910760" y="1066680"/>
            <a:ext cx="1239120" cy="628200"/>
          </a:xfrm>
          <a:prstGeom prst="borderCallout1">
            <a:avLst>
              <a:gd name="adj1" fmla="val 98339"/>
              <a:gd name="adj2" fmla="val -113"/>
              <a:gd name="adj3" fmla="val 98900"/>
              <a:gd name="adj4" fmla="val -272229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Medio-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lamada con línea 1 15"/>
          <p:cNvSpPr/>
          <p:nvPr/>
        </p:nvSpPr>
        <p:spPr>
          <a:xfrm>
            <a:off x="4914000" y="1695600"/>
            <a:ext cx="1235880" cy="1009440"/>
          </a:xfrm>
          <a:prstGeom prst="borderCallout1">
            <a:avLst>
              <a:gd name="adj1" fmla="val 100905"/>
              <a:gd name="adj2" fmla="val -5"/>
              <a:gd name="adj3" fmla="val 101955"/>
              <a:gd name="adj4" fmla="val -274997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Medio-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lamada con línea 1 16"/>
          <p:cNvSpPr/>
          <p:nvPr/>
        </p:nvSpPr>
        <p:spPr>
          <a:xfrm>
            <a:off x="4915080" y="2705040"/>
            <a:ext cx="1235880" cy="1875960"/>
          </a:xfrm>
          <a:prstGeom prst="borderCallout1">
            <a:avLst>
              <a:gd name="adj1" fmla="val 99438"/>
              <a:gd name="adj2" fmla="val -624"/>
              <a:gd name="adj3" fmla="val 100830"/>
              <a:gd name="adj4" fmla="val -275707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lamada con línea 1 17"/>
          <p:cNvSpPr/>
          <p:nvPr/>
        </p:nvSpPr>
        <p:spPr>
          <a:xfrm>
            <a:off x="4914720" y="4581360"/>
            <a:ext cx="1235880" cy="1697400"/>
          </a:xfrm>
          <a:prstGeom prst="borderCallout1">
            <a:avLst>
              <a:gd name="adj1" fmla="val 100251"/>
              <a:gd name="adj2" fmla="val -112"/>
              <a:gd name="adj3" fmla="val 101077"/>
              <a:gd name="adj4" fmla="val 1146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Col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ítulo 2"/>
          <p:cNvSpPr/>
          <p:nvPr/>
        </p:nvSpPr>
        <p:spPr>
          <a:xfrm>
            <a:off x="6647040" y="1854360"/>
            <a:ext cx="1747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Gráfico 1"/>
          <p:cNvGraphicFramePr/>
          <p:nvPr/>
        </p:nvGraphicFramePr>
        <p:xfrm>
          <a:off x="0" y="93240"/>
          <a:ext cx="4910400" cy="6573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62" name="Slide Number Placeholder 12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0686D075-CFA4-416C-A582-FCB7F3F46667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Balance de las políticas de desarrollo regional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7280" y="1855800"/>
            <a:ext cx="7499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 BUENO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icción de asumir protagonismo local en el desarroll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bilidades múltiples y abiert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jor aprovechamiento de recursos locales</a:t>
            </a:r>
            <a:endParaRPr b="0" lang="es-CO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evas institucionalidades locales prometedoras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biente, social y gestión pública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ALO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scentralización no ha reducido las desigualdades (económicas)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rlocución inter niveles gubernamental no ha sido sinérgic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sión reivindicacionista, no de interés mutuo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rdinación nacional de la política regionalizad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sabilidades compartidas o no definidas.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blemas de coordinación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rtes heterogéneos x instituciones y programas</a:t>
            </a:r>
            <a:endParaRPr b="0" lang="es-CO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DESCENTRALIZACIÓN</a:t>
            </a:r>
            <a:br>
              <a:rPr sz="40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olítica de desarrollo regional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lítica regional ha estado centrada por la visión de la descentralizac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 (democratización)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onómica: Gestión, eficienci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rte en desarrollo social e infraestructura bási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tá orientada, no sustituye, las políticas de DET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n gestión e iniciativas 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 favorecer desigualdad preexistente -recaud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755640" y="1484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Propósitos y contenidos </a:t>
            </a:r>
            <a:br>
              <a:rPr sz="3200"/>
            </a:b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de las políticas de desarrollo territorial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036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la capacidad de las sociedades locales, par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ular sus metas colectiv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vilizar los recursos para alcanzarl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uerdos sobre el protagonismo territorial en el desarroll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MESO típic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idos y formas, institucione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veles intermedio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nto de encuentro para el desarrollo regional-loca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arriba y desde abaj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ordinación y articulación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políticas sectoriales y transversale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grafía variable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755640" y="1412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Conclusion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sladar la equidad de individuos (derechos) a la equidad territorial?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mbinación de políticas regionales de equidad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Y de eficienci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líticas locales explícitas y diferenciadas, con claras expresiones de prioridades.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Muchas apuestas buenas…. Las que convoquen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gualadoras, no igu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versas, diversificador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as exitosas aseguran fundamentos básicos,  mínimos, importantes en capital humano, infraestructura y finanzas públic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condiciones transversales (institucionales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C66E4842-1D97-437E-A685-C24780E1F23E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755640" y="1052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Conclusion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050840"/>
            <a:ext cx="8229240" cy="547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ación y distribución administrativa y política del territorio nacional. 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ianza sobre la información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irada territorial, estructurada, intenciona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quidad y cohesión para la conservación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ertenencia… Unidad… polìtica y cultur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ejido… con elasticidad… sin supturas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Nostalgia de los Fondos Estructurales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6916FB26-0DE7-4C62-8D09-29BDD29663BB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755640" y="90792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UDAD MAS POBLADA, % EN POBLACIÓN URBAN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Group 165"/>
          <p:cNvGraphicFramePr/>
          <p:nvPr/>
        </p:nvGraphicFramePr>
        <p:xfrm>
          <a:off x="1403280" y="189000"/>
          <a:ext cx="6408360" cy="6828840"/>
        </p:xfrm>
        <a:graphic>
          <a:graphicData uri="http://schemas.openxmlformats.org/drawingml/2006/table">
            <a:tbl>
              <a:tblPr/>
              <a:tblGrid>
                <a:gridCol w="1698480"/>
                <a:gridCol w="1081080"/>
                <a:gridCol w="849240"/>
                <a:gridCol w="925200"/>
                <a:gridCol w="1081080"/>
                <a:gridCol w="772920"/>
              </a:tblGrid>
              <a:tr h="482400">
                <a:tc gridSpan="5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s-E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s-ES" sz="2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de transición urbana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z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+ población urb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% - 8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 50% a 7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piente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nos de 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Primacía económica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Group 3"/>
          <p:cNvGraphicFramePr/>
          <p:nvPr/>
        </p:nvGraphicFramePr>
        <p:xfrm>
          <a:off x="468360" y="1268280"/>
          <a:ext cx="8229240" cy="6648480"/>
        </p:xfrm>
        <a:graphic>
          <a:graphicData uri="http://schemas.openxmlformats.org/drawingml/2006/table">
            <a:tbl>
              <a:tblPr/>
              <a:tblGrid>
                <a:gridCol w="1306440"/>
                <a:gridCol w="1044360"/>
                <a:gridCol w="1176120"/>
                <a:gridCol w="1174680"/>
                <a:gridCol w="1176120"/>
                <a:gridCol w="1174680"/>
                <a:gridCol w="1176120"/>
              </a:tblGrid>
              <a:tr h="306360"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fig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erri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mbio 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G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mbio 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G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6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8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ulti-po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18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9"/>
          <p:cNvSpPr/>
          <p:nvPr/>
        </p:nvSpPr>
        <p:spPr>
          <a:xfrm>
            <a:off x="755640" y="1052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nfiguración económica territorial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Group 5"/>
          <p:cNvGraphicFramePr/>
          <p:nvPr/>
        </p:nvGraphicFramePr>
        <p:xfrm>
          <a:off x="1835280" y="1844640"/>
          <a:ext cx="6121080" cy="4547520"/>
        </p:xfrm>
        <a:graphic>
          <a:graphicData uri="http://schemas.openxmlformats.org/drawingml/2006/table">
            <a:tbl>
              <a:tblPr/>
              <a:tblGrid>
                <a:gridCol w="3189240"/>
                <a:gridCol w="2931840"/>
              </a:tblGrid>
              <a:tr h="94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aracterísticas</a:t>
                      </a:r>
                      <a:br>
                        <a:rPr sz="2400"/>
                      </a:b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domin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aí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rimacial polariz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e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ultipolar polariz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Brasil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ultipolar estratific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éxico 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olombia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Bolivia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Line 9"/>
          <p:cNvSpPr/>
          <p:nvPr/>
        </p:nvSpPr>
        <p:spPr>
          <a:xfrm>
            <a:off x="755640" y="155700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3200" spc="-1" strike="noStrike">
                <a:solidFill>
                  <a:srgbClr val="c00000"/>
                </a:solidFill>
                <a:latin typeface="Arial"/>
              </a:rPr>
              <a:t>Concentración espacial de las economía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7310A7E1-D22C-4E2B-B50F-4E1E749C30E6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68360" y="6524640"/>
            <a:ext cx="53985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Fuente: CEPAL Economía y territorio en América Latina y el Caribe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Chart 5"/>
          <p:cNvGraphicFramePr/>
          <p:nvPr/>
        </p:nvGraphicFramePr>
        <p:xfrm>
          <a:off x="323640" y="1196640"/>
          <a:ext cx="8208720" cy="50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1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AAA9122A-C964-4064-885F-A0048CCFC109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nvergencia y divergencia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37952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sta finales de los años 80: convergencia lenta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entonces: estancamiento de la convergencia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omos de tendencias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rgencia: Brasil, Colombia, Chile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gentina, Bolivia y México sin cambio significativo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diferencias de producto por habitante se estabilizan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un nivel alto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hay una tendencia uniforme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s niveles altos de disparidad regional en América Latina en parte son el reflejo de una integración insuficiente de los mercados, tanto interna como externamente. 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Estratificación y concentración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ructura económica y poblacional regiona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atificad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ndencia a polarizar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dencia muy lenta a la desconcentración económi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icultad para la difusión espacial del crecimient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ncentración excesiva 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or encima del patrón) (Henderson 2000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menor crecimiento (~1.5 % pib anual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beneficia la estabilidad macroeconómic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bilita difusión y arrastre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iciente red de difusión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nvergencia y cuadrant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200720" cy="4968360"/>
          </a:xfrm>
          <a:prstGeom prst="rect">
            <a:avLst/>
          </a:prstGeom>
          <a:ln w="9525">
            <a:noFill/>
          </a:ln>
        </p:spPr>
      </p:pic>
      <p:sp>
        <p:nvSpPr>
          <p:cNvPr id="243" name="Line 9"/>
          <p:cNvSpPr/>
          <p:nvPr/>
        </p:nvSpPr>
        <p:spPr>
          <a:xfrm>
            <a:off x="755640" y="11253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8</TotalTime>
  <Application>LibreOffice/7.4.7.2$Linux_X86_64 LibreOffice_project/40$Build-2</Application>
  <AppVersion>15.0000</AppVersion>
  <Words>1087</Words>
  <Paragraphs>464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5:10Z</dcterms:created>
  <dc:creator>Mario Villamil</dc:creator>
  <dc:description/>
  <dc:language>en-US</dc:language>
  <cp:lastModifiedBy>usuario</cp:lastModifiedBy>
  <dcterms:modified xsi:type="dcterms:W3CDTF">2012-09-26T15:33:30Z</dcterms:modified>
  <cp:revision>145</cp:revision>
  <dc:subject/>
  <dc:title>Escalafón de Competitividad Departamen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27</vt:r8>
  </property>
</Properties>
</file>