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notesMasterIdLst>
    <p:notesMasterId r:id="rId86"/>
  </p:notesMasterIdLst>
  <p:sldIdLst>
    <p:sldId id="256" r:id="rId87"/>
    <p:sldId id="257" r:id="rId88"/>
    <p:sldId id="258" r:id="rId89"/>
    <p:sldId id="259" r:id="rId90"/>
    <p:sldId id="260" r:id="rId91"/>
    <p:sldId id="261" r:id="rId92"/>
    <p:sldId id="262" r:id="rId93"/>
    <p:sldId id="263" r:id="rId94"/>
    <p:sldId id="264" r:id="rId95"/>
    <p:sldId id="265" r:id="rId96"/>
    <p:sldId id="266" r:id="rId97"/>
    <p:sldId id="267" r:id="rId98"/>
    <p:sldId id="268" r:id="rId99"/>
    <p:sldId id="269" r:id="rId100"/>
    <p:sldId id="270" r:id="rId101"/>
    <p:sldId id="271" r:id="rId102"/>
    <p:sldId id="272" r:id="rId103"/>
    <p:sldId id="273" r:id="rId104"/>
    <p:sldId id="274" r:id="rId105"/>
    <p:sldId id="275" r:id="rId106"/>
    <p:sldId id="276" r:id="rId107"/>
    <p:sldId id="277" r:id="rId108"/>
    <p:sldId id="278" r:id="rId109"/>
    <p:sldId id="279" r:id="rId110"/>
    <p:sldId id="280" r:id="rId111"/>
    <p:sldId id="281" r:id="rId112"/>
    <p:sldId id="282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notesMaster" Target="notesMasters/notesMaster1.xml"/><Relationship Id="rId87" Type="http://schemas.openxmlformats.org/officeDocument/2006/relationships/slide" Target="slides/slide1.xml"/><Relationship Id="rId88" Type="http://schemas.openxmlformats.org/officeDocument/2006/relationships/slide" Target="slides/slide2.xml"/><Relationship Id="rId89" Type="http://schemas.openxmlformats.org/officeDocument/2006/relationships/slide" Target="slides/slide3.xml"/><Relationship Id="rId90" Type="http://schemas.openxmlformats.org/officeDocument/2006/relationships/slide" Target="slides/slide4.xml"/><Relationship Id="rId91" Type="http://schemas.openxmlformats.org/officeDocument/2006/relationships/slide" Target="slides/slide5.xml"/><Relationship Id="rId92" Type="http://schemas.openxmlformats.org/officeDocument/2006/relationships/slide" Target="slides/slide6.xml"/><Relationship Id="rId93" Type="http://schemas.openxmlformats.org/officeDocument/2006/relationships/slide" Target="slides/slide7.xml"/><Relationship Id="rId94" Type="http://schemas.openxmlformats.org/officeDocument/2006/relationships/slide" Target="slides/slide8.xml"/><Relationship Id="rId95" Type="http://schemas.openxmlformats.org/officeDocument/2006/relationships/slide" Target="slides/slide9.xml"/><Relationship Id="rId96" Type="http://schemas.openxmlformats.org/officeDocument/2006/relationships/slide" Target="slides/slide10.xml"/><Relationship Id="rId97" Type="http://schemas.openxmlformats.org/officeDocument/2006/relationships/slide" Target="slides/slide11.xml"/><Relationship Id="rId98" Type="http://schemas.openxmlformats.org/officeDocument/2006/relationships/slide" Target="slides/slide12.xml"/><Relationship Id="rId99" Type="http://schemas.openxmlformats.org/officeDocument/2006/relationships/slide" Target="slides/slide13.xml"/><Relationship Id="rId100" Type="http://schemas.openxmlformats.org/officeDocument/2006/relationships/slide" Target="slides/slide14.xml"/><Relationship Id="rId101" Type="http://schemas.openxmlformats.org/officeDocument/2006/relationships/slide" Target="slides/slide15.xml"/><Relationship Id="rId102" Type="http://schemas.openxmlformats.org/officeDocument/2006/relationships/slide" Target="slides/slide16.xml"/><Relationship Id="rId103" Type="http://schemas.openxmlformats.org/officeDocument/2006/relationships/slide" Target="slides/slide17.xml"/><Relationship Id="rId104" Type="http://schemas.openxmlformats.org/officeDocument/2006/relationships/slide" Target="slides/slide18.xml"/><Relationship Id="rId105" Type="http://schemas.openxmlformats.org/officeDocument/2006/relationships/slide" Target="slides/slide19.xml"/><Relationship Id="rId106" Type="http://schemas.openxmlformats.org/officeDocument/2006/relationships/slide" Target="slides/slide20.xml"/><Relationship Id="rId107" Type="http://schemas.openxmlformats.org/officeDocument/2006/relationships/slide" Target="slides/slide21.xml"/><Relationship Id="rId108" Type="http://schemas.openxmlformats.org/officeDocument/2006/relationships/slide" Target="slides/slide22.xml"/><Relationship Id="rId109" Type="http://schemas.openxmlformats.org/officeDocument/2006/relationships/slide" Target="slides/slide23.xml"/><Relationship Id="rId110" Type="http://schemas.openxmlformats.org/officeDocument/2006/relationships/slide" Target="slides/slide24.xml"/><Relationship Id="rId111" Type="http://schemas.openxmlformats.org/officeDocument/2006/relationships/slide" Target="slides/slide25.xml"/><Relationship Id="rId112" Type="http://schemas.openxmlformats.org/officeDocument/2006/relationships/slide" Target="slides/slide26.xml"/><Relationship Id="rId113" Type="http://schemas.openxmlformats.org/officeDocument/2006/relationships/slide" Target="slides/slide2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dt" idx="25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5"/>
          <p:cNvSpPr>
            <a:spLocks noGrp="1"/>
          </p:cNvSpPr>
          <p:nvPr>
            <p:ph type="ftr" idx="25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6"/>
          <p:cNvSpPr>
            <a:spLocks noGrp="1"/>
          </p:cNvSpPr>
          <p:nvPr>
            <p:ph type="sldNum" idx="25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66F8-B23D-4BC4-8F24-96261C0E972C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E30-6D9E-469D-B879-85FB5E4944CE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791-F7C4-4433-BE8F-3B486D29AE2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692E-75A1-43B3-8F35-6198BFE17D81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883-5BBE-488F-AA08-1967344388A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505-A197-4EB2-B499-9602189C2904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4E0-7740-48A2-83C4-5E7EA96DB76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F4F-C8B0-43D5-89F7-FED0D17E0A4E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F054-2760-49D6-949E-168976388B2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944-8910-47C9-9167-14B7D6B8E92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3242-FE2C-454C-9941-F32CB5BE84CC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7C26-26CA-4551-8D62-B41C541D54E2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1EC6-E471-4FBE-AF05-8122BE7C32A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6D3-0176-44F3-9007-06A84483F5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En cuanto a las instituciones en salud, el sector lo constituye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Funciones recto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Atención a las personas, pensi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Seguros de riesgos laborales y accide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esarrollo RRHH e investig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A33-C985-47FC-8410-8705E25C11BB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44E-8316-4EFC-832C-293885A838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70CC-EC98-441A-B6DE-AA213934676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6D05-1B00-41F4-9B00-4FA307FDA8F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0E6-30A2-4211-B23D-AF43327CBF5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83D-77F3-4A87-8BA5-70300607588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AC8-46DB-4CA2-9188-3EC9F9FFB2A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0B32-803F-4813-86F6-AB9EA342BCAE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27BA-7BEA-43E5-89A6-A6C2CEF5866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C3BD-CF85-4468-A1D7-DAE7FF2055C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D9C3-EFAE-40F7-A806-7B172536ECDC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5E45-A6C5-4EE5-8839-186C5BA24350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A45B-2802-47F1-AD49-D7124984C4F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1ED-BF21-44A0-94F8-74D26E5B1C15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866-E62B-4F5B-9E1C-ED0B98E6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6D2-55FE-4476-AC0F-92D3F18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F6C5E-6DF8-4545-9EB7-8000D1C8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092F04E-E0BB-4F1D-82D8-1C202F2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A8478D0-A165-4A33-91D2-3FE1FAC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92DEF78-2A95-4B74-A627-D28CC34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20645B6-E3CC-4CF6-B705-64F8044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D2F4B2E-627D-4F89-97D1-620942C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5B4541-0BFC-4776-98EE-26F9460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2CE153F-CD50-45DA-B848-D1D2E9E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4E40900-36C4-4977-BC19-48B3C1FE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321D942-909B-41F7-920A-B5DCEBE5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2187A-9EFE-47CC-9A92-89E555B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18969-49EB-4647-8724-637E44D0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5D9C4-DF83-46BD-BC89-0249AB6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BCB13-6E83-42E0-A827-EC3C574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D16BF-F75E-4FF7-9302-79832D0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F60E-677F-4844-8557-80C0FAD9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BA173-DE21-451F-8C06-E48C57F6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DEECA-C02D-4AF2-812A-F179EBC7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4095-5BE8-4FC7-998E-19110664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150-ED87-4625-B39F-3390F04A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BE33F-935C-4EFF-8040-E540CFC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54F47-CAFC-41A8-AB74-53F2ABCF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6F0B9-8FA8-47CA-8377-8A53D7A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35D8D-CD9E-4D57-B8C1-9E2B273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F3F98-1FAD-4751-8D38-19E6EC9E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59CD8-9E13-4F5D-846A-7DC5033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C0D71-55E5-4419-8F37-9F8F37F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A0A09-60E3-4934-82AB-087C553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D606-9872-4148-A7DA-BA44401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80449-2CCC-412F-9C8A-FCEE0A0D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2CD-E9B6-4C82-BDC1-A55FBB5E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B159D-7685-4BF0-8E80-F624ED9D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1BAC2-B1FF-46FA-9D06-4DA7EFC3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E1FD3-A8D2-4523-B6A7-CD6588B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F68C-94F3-4BC8-80E4-F826D3D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6531-4A6E-4A3B-B715-0649F880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C8547-1F71-4978-840E-7460F1B9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3F804-06BC-44B7-B8AF-65C0F1B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8518-F945-4ECD-9A50-553BA76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E34C9-6911-4985-8AA4-B21E4BD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6124B-6C58-4E9C-BB6A-6B77C0F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1BAA-7A80-4B1D-925B-B503F26A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084E-A88E-4E87-AE45-E3838CB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BF0B8-FD79-45D0-922A-E3A59B07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F3C61-090F-484B-954E-B1B5F53A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B0E4-8E2C-4E75-A844-DF7793AC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AAD6-2E32-43CA-9B88-8159163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20C03-4E1E-4AE0-A728-6E2812F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4AD22-7EF8-4E15-AF0E-9E49262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76A8D-A104-4AE3-9B6E-0AD8A17C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1476-29AB-4984-97E1-96CD45A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5B914-5599-4086-AC64-23FB33B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D277-1C8E-4F1A-AC0B-2A541593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26CBC-7C70-49A4-A5BD-B355488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DF6E8-FF5E-419E-9DC0-866EC57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E02B4-A7BC-4B57-9412-BDE9296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BC0EE-90CC-4E28-ADA6-F8C929DA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A2493-C71A-4F12-8A85-C566973C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90C71-497F-4688-8B84-92A7F1D7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6E998-D379-497D-AC8F-25E537AC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71020-69D4-4C57-B014-C9E86A2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D7731-2116-4124-879D-09551A21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3E0B6-02C5-4244-9A87-C31C28F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BB1-D3AD-4C30-A35E-85DB31A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6EF65-F5BE-4CFE-9B2A-9B1AD427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0464C-4D85-4AFB-ADE3-1DC3093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2BDB1-00F0-476D-BB1F-F65445DD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EC57A-83E4-4B75-BBC2-1F47C9E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D16F1-DE5E-4DA1-BB28-03FDF583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82E90-FCCF-48DE-8456-51C1F0C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A703D-6E14-40B1-9DC3-B48CCA79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AF3E1-DFB6-4292-A5A5-F937531F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4DE27-F083-4D9B-B129-2E06E409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B38CA-3A71-49A1-95A3-FBB6B420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D0D9-6857-4C49-A6D6-4424D138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09BB5-F862-45FB-8432-7EBA20A2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38D16-613A-407B-A9CA-122B03C1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DFA94-BECF-4305-82C3-EA1885B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F7078-2B7C-46F3-A3A8-01CCF6A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4CF21-4829-4547-AFAA-411966F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CBFE4-B61A-455F-A82A-DF3F0E5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82EA3-C592-41F5-90CD-2DFE6A8E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B4609-EFB0-4C3C-9D61-3871D9E5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67C20-DB64-4C45-955B-8D85CD7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1F5FC-FF34-402E-A5B9-CF158F1E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E63D-ED9D-475D-BE7C-DA195BF1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C69FA-9425-4D0C-8400-0DA8C61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080FA-37CA-4AE7-9A78-19E3222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6B3FE-EDDC-4947-8D5E-4273236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A2F4-1567-4E3D-87F6-2E2F0B70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AEDCA-E073-4F75-B2EE-AF0D29E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3A94D-D273-4EBD-BC3A-704DE40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46EA2-B935-45F1-8CB0-553EE07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75C6A-B831-4057-B209-7562289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93FA7-3837-42AA-8582-520398F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AA176-4325-4E42-B02D-53FEA156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495-05FA-4E4A-A27E-66C0C6C0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CC56F-F849-49DA-8ED4-936144A7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E2963-8A3D-4ECF-9AB3-2E5989C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26879-DE9B-4F74-BFDB-BDA89D56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D2531-8B18-497D-8DE7-E0016D7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782B7-1077-4421-9BC6-BF9CB192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7A5F7-BE84-4D40-84E9-FAD44FC0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8A395-1B2C-4975-996E-70C77C4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6A6C-1E21-401C-A319-2B9E820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86BCE-7647-471E-B5D3-4DD7D6D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34F70-A14C-4BBC-BE23-75ED36B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4C7-BE29-42A1-B858-622824F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41413-2DCE-49BA-BD78-CA944E05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310F5-1051-468B-9743-0D65F90D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E0920-B98B-4C3A-8CCA-EEADD037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19F53-33E4-4B41-8469-C232666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CAC1A-E2FB-41E7-8D1D-67BBCA6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CCE55-3A72-487B-8813-633894B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D19B2-99A4-425B-BF68-90EFA640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3F7ED-E1F4-416B-B0E5-445B13F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E2226-A961-456F-A678-6884E79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2248A-289E-409F-8751-2CB9078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3BE-3F75-4D1E-A593-7E573F4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FBE7-E419-4BE8-9ECD-2398C28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C3AC8-DF11-40FA-BC7F-C2EB9D3D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E6DA6-EC33-41BB-9DE5-AADB961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4C2B5-289B-4873-B52A-CB31C53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50CDD-9485-4BDF-9B10-D596C6CB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B749C-6263-45C6-AF5F-1A972D0C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98A33-1718-4D3C-85FD-077679B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F0A3D-CF86-4D2A-81D2-FF686B24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D4966-E338-4DE8-BFC3-162B16CA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A95F4-6A67-47D7-9098-886E794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CDEE1-045E-4C54-B6B8-334CDD1B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52A5-099E-4022-B576-F8F01CB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085B9-223E-479E-96BE-3110672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C72D3-BCB3-4268-9DD0-1D65C89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852DC-7B5C-4A4F-B1C3-A8111C9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A13E6-72D6-4CDA-B593-9648037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55FAC-8996-416D-8C20-BE6AEEC1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4405F-E9A8-4E50-9AEB-8D64D73F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82D60-3BA6-4577-B016-C83E74EA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99D6C-2389-487A-BE95-D7781335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F84C4-0C82-48F2-BB0A-FD5C0766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9F68B-B4D1-48D4-83B4-13189997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3EDF-E770-4E25-95D5-FC23D992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F402C-12E2-48EF-B485-A451555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64C0A-D610-4FC4-B9E2-54B3DA6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B1D20-249A-4DB6-AC2A-74CF55E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D6192-6FDC-4F0F-BFB2-432D80E1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39266-6EAA-464D-9E7C-2BAC39B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9C3E3-1583-4461-994F-F56449A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D6E87-1487-4AE7-B2A1-D3BA85DF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1865F-B4CA-4797-93CD-E932034A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08E24-688D-4D29-9AC8-EAE620F1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1DF7C-56DD-449F-A738-0B1746C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50B4-C58A-447B-B04B-DEE21A82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AF67B-408D-4CBB-8818-403DE5C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607EE-2372-434F-B548-8E9A50E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90D17-091D-4DD1-A063-EB42E31E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C938E-67F7-4819-B10B-158D746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2C8F6-B837-4FBE-A041-D5D969F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774B2-B38E-4E77-9434-2EF37E8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E833D-4AB4-4BB4-AB42-8EE652B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7950D-7A18-4F8E-8657-B2AF487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B3242-EF86-4389-A7D8-05D68B4E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F17A4-FA73-4790-8802-B5BB7A77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2995-3C9E-4979-B61B-6D6541B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1BA07-AE09-4C3D-A462-7EA3209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7DFCD-D8C2-4779-B1DE-AEB0ACFF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F928A-A3F2-45EB-BE37-E84895D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1F298-F135-412B-8851-FFAADF27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159F2-B281-41DD-8546-EF7AC28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51654-450B-4B80-B50F-5B1537B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D7D42-6B69-48A4-8CBD-0965B094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BD7EE-3441-4D1A-A795-9B75269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E62F5-BA97-473C-986F-65E9083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00B23-6A08-4DCA-B029-886F152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8119-7F84-43CF-85B4-E5BE26E7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DB0C1-A6A3-4F66-87B3-F59EA851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EAC8E-B6C3-4FB4-B216-2FB5D408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A7DE1-C2E6-4D2F-8C93-E25ED12B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603F4E-A1B5-4429-B45C-522589EF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CBB05-40EB-433B-BDBC-A9752AA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3E9BCD-FC2E-4EF5-B4F0-F64880A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FA957-5625-4F5F-91D8-5AAEBBDE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3B439C-DAF8-4C16-9549-4A1E0F4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0BFF6-9BA4-4497-8E6D-9892562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3F214D-07E0-4125-BBCA-B9FDBA5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3868-5614-4E9D-8B1A-B2627FF6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54173-5FEB-4D5C-B3AC-D069175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A3E88-E126-4BDA-8363-F69E975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F9E9C5-8C0D-4363-A05A-6E73D19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9BDCB-2B1B-4881-BCEA-899C125E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FB666B-91F0-45EC-BF69-DE108C0F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7F0C6-F3D6-4C4E-9532-F938DF7D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852249-43A1-46C2-B938-7B88866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79B21-943B-404D-A963-7B2B1ED6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8972B-D00C-41AE-8809-DCA6FFA0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110C6-48FE-4C8D-BEC4-8D3DE48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A00C-CD33-4A8A-89F0-CCAB3A8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C3C9F-A5E0-4B56-A17B-3E279C52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E9A0E-1614-47EC-9BA0-3E04FEBF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E206C-1262-4E99-B1A8-3BA9AA3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38DB9B-D7E7-4C63-A9F0-2FBE385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E6A64-5772-45EE-9817-0A078726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DD54F-0F71-4085-B8C0-A1CDBCE0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08102-8B56-45A4-9FE1-903291F8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58CA7-5AEE-404B-BE3D-A0E3A901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600ED-00BF-4F7B-B5ED-B5D84CA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069A1F-2CD3-409F-95FA-3C089441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51C7-EC41-4CAA-9139-0953293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A5FF51-D07A-458B-86D0-1538BE3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2F9475-9A27-4EA1-B026-DA77991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4FAD3-D028-4729-912E-AE9EFE7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3ED7E-B6A0-403D-8F56-728DD58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A8758B-C181-4BDD-A73B-90BE797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81F7F-E604-4775-91AC-7D46191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9B096-79F6-41AD-AF3D-988158E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F86409-4D4F-4039-941F-88639B1F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6B945-8796-41A5-A468-758E6E17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1C96B-5D32-4A4E-A555-4BC0C856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C7FF-5613-4C2C-B694-060A8B6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DF141E-3EB6-4726-BC81-37943159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E8D34F-9DC8-4700-8E00-EDC313F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FE5EE-43DC-4B55-B952-E038CAE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6FB33-A07A-4EC6-9E3D-2715BDE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0B910-25BD-42BE-98FC-09FDF28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EA456C-DA39-4657-9A35-E1587C5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7016C-6E14-450A-8FD7-A82AF55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00B66B-5CC7-4B13-B8D7-E93168B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0F6607-F450-437F-8E24-7720254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AD1562-E738-434B-89AC-B2CA1526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17A-6702-46BE-8ABA-B70961D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3D9C-CC73-4B78-9B25-762A65DF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0E670B-EEB7-42AE-8D8A-5FCA5856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7C94E6-8ECE-4305-981F-F91F8B03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B458C2-C5A1-4A88-AAE4-2A563191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1A78A5-0262-4067-AA64-529EEDD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EE24C-79C5-4819-B381-BC53F90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2AE51A-3979-40FE-B425-7EF78BB9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247B4C-3879-4C41-ABEB-22FCA4B1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282655-0ED5-4A75-8C61-47E65B2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1C241A-0168-433A-B824-ADB156F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04BB59-4C66-4B56-B647-DC74D89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BA6B-75BB-413F-9819-4924A4D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F60F18-31AE-4D44-BE8E-42EA7DB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93B5BA-6101-4B18-988F-741D520F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DD15DF-88D5-44E2-96E9-2E8C614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9EFBC2-0BED-4405-B46F-B39416EC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D44983-14EA-4257-AAF5-B4E7E2C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7603B0-91D7-45C4-AAAA-7B668AD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55FDE-0034-42CF-939D-24622CC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C3BA23-8716-4281-8A79-E8F9112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64848F-A607-4A42-8136-FD605EA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3ACB48-7D25-41FF-8B2E-36DD02AC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75C1-6AD8-4D75-861B-2D6DC86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837282-BEF6-4854-8989-FD50A77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B3933A-3A51-487E-B795-4C5D827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517483-C738-4161-BEBA-ED82A6D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0746B8-6A94-4F2F-A226-53C20F14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AAE8BC-786F-46AF-9E4E-74609205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E194B-31B9-47A4-95F8-53370E8D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25A60F-2E38-4749-ACBC-D97CAC23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631AA2-4006-4C7B-A261-D7B824B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33CA8-9807-4F8F-9D1B-A6372874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01CF1D-9CB9-41E8-8F70-9143B32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CF5E-01E3-41AE-83E5-A950766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2DA41-079F-460B-94E6-B4F305B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DD6C92-701B-43EE-8638-4B8B62CB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F05600-427C-433F-A1C1-66A5505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270AD8-D3CF-4555-83E3-38EEEC8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13D20C-F35C-48F5-9316-F015F5E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A228BB-204F-4884-A866-E7B50DD5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457E9E-47F5-4E9C-9D94-34D6609A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1FA818-CAF8-4CBF-B716-25319B22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41AC86-DBB2-4691-8686-250429A0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884FB8-67A8-4FD0-9108-D883AAA8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A901-7029-47B3-B52F-716BCEE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52BCE1-95D0-450A-9215-977A75C9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4D1FFC-90CB-4A75-989D-E5CB255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C45FAF-4C0F-4050-9B4A-4EE15FE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F7D7EF-65B6-4D57-B35A-166BC6B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16D578-79D3-4B2B-8D4B-6355754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F8EE34-9DC1-4B28-9021-E79D668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7428FC-4B9E-49F3-9B60-6B029CF3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2894D9-6BE6-4269-A7B1-301D4381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D6190-6779-4F0E-BFFA-7C4CBD90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E838B4-1E06-4673-85CD-A11862E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3869-8658-4132-8502-E9F0B39A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00916-9212-4013-8690-BA02C25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ED6BC7-972E-48B9-9298-9EC2088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A47365-0ED2-4B7B-B343-7BAD198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8EDDB5-0D9C-4F26-88E5-D227465C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28267-6D3F-4346-AE1C-994D23DC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F15FC9-B6E4-489A-AEF1-0A3FA26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D91BA2-AA11-4548-B73D-094F89B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61DBB0-DAFE-4BB6-A2BB-2DE34C4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8980CD-608E-4334-A16D-09D0485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5383A4-2D1E-4DCD-B3E1-B67D4A23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73EE-E27C-4C65-AE56-9D18A95D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42D266-6EB8-4983-B545-FA2B2E4A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6E47CF-5759-4CE1-ACCB-7B38CE9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3472EC-3F74-4DB9-9AA2-7A02CE6A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8C03FB-7699-4934-BAFE-DC05E21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54A801-EFE9-4A2C-AAA5-6003239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877F8C-3865-4830-88A0-44D87C9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4F5FD6-02A9-4BFD-AF84-8B9E2B7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FAC154-3E21-430D-A2B4-B8CA410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3211C7-51DA-4924-B6A0-6E5A5F0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35F249-3D9C-41BA-AA32-F181B79F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91E2-FF0C-41E0-B927-44630BDF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D1C5A-3931-4580-A4D6-FB03F261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702BA3-E059-469C-821C-970B15A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8EA3CB-26FA-4CA2-9912-2596432C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66E9D5-AF07-4078-B689-F5090355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261C86-B711-4041-A79F-D99A3F2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B86020-A6A8-4067-8B2C-262A6B1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6E0A30-9561-415A-A673-377C434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77F696-B8C1-45BA-82EB-22780B7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9CE3BD-0B11-4E76-BB1A-2B08260A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AF40E2-18F4-49EA-946C-086685C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42C2-4AE0-45F3-AE65-11470A5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33A567-BF0C-4A28-A467-9309712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31B893-D858-475D-8EC3-229720D7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508FA1-DE8B-40E6-B355-F002EAB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ED378C-A1D6-4D16-8135-56FD1F15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DF9462-E323-478D-BD34-3B8AD66C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CD1DB5-CC0E-4B82-A818-5F89390A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E75E67-F562-4848-AFBA-A9CF50A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4E8859-448B-4DDE-AE00-ECC8C25D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93CDC4-1507-452E-B551-55DA841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673DAD-F59D-4468-9C9A-48FE1FB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0E10-7124-4A59-BA76-358448A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AB6851-7230-4507-8C5B-22FA606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D576E7-84A5-4753-9BBA-EEBA1A34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E6DAF3-BD2A-4850-924A-99D78D3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6F3EC3-1ECC-491D-A3B2-FD37AAF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D50B90-1CDC-459F-A6FB-5767892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C6EA74-B571-48D5-943C-20558DC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F0EF11-782E-4AF1-B365-E8845A6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8E1C38-6AD7-400D-9579-EFAA3B29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F71B6B-7EC7-48B9-8C89-38A3242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1135AC-EE85-45FF-B905-9CDC7B1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9E8-7892-4976-A77F-A39141D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34FF-A0AF-48B1-AC62-3F9D6F2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6A9605-4E79-459B-A0C1-17D47BD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B2D66A-BAD3-4BF3-8126-44C6D56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10D165-EA7C-493A-AB3A-D926C49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FF99B5-9E7C-46EB-9C78-14D903A2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9EA168-30E1-4CBF-8570-C0BCDD1A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88AD16-63D5-44A5-A7C7-E56FE56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0E5DA3-043E-4DB8-AA8B-5661869E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07142D-1DB7-4749-A70E-941B92F0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CFC297-E494-4035-A7CD-27A57063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CC044A-6A58-4158-8976-3A19623D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5F6E-F848-4A52-B2C2-7EAB0687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842E07-A61D-485B-80A4-51DE994C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B3D40D-CE59-4E9E-AF12-AAA453B9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3FC176-2E6C-4420-9917-E9C7CE08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B65E65-2271-4687-ADC3-D28B9F07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468BB1-AF68-41A8-9164-1D78E47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AE6DCC-0372-4DEB-B80E-C47DE38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372AF3-6AA0-4B9F-91B1-C8B301B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BA8989-F099-4733-8851-FC2F3F8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CE9227-1CCA-48BE-86D6-2A0B6DDE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E957D3-967E-40A6-95C5-979F08DF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42FE-50C5-4C75-8621-355048C0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1BDFD3-FF73-4852-A0D7-8F4059A0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9A5A29-424D-4320-94D5-4F3C3B63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718FA7-424E-4643-A30D-36F84E6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9177A5-D0AB-4F1A-96C3-ED0C9EB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AABCBD-B9F3-48AB-9080-4C9DF02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522EE7-C4CE-4BFA-91A1-5BEA976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50641A-2B44-4216-A41A-B8620F2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C5BF58-A1CC-4120-966C-1E348BD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CB4E0F-2A31-4297-8654-E6B070F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112E21-CABB-47AD-943C-8B09322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715E-0C61-437E-991D-77EB636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4F0517-3CE3-422B-B154-825F8B89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DB5EA0-82BF-49A6-8448-29E2E266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42806D-1B90-4284-8EA2-A5701E3C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58C636-8E25-4BDA-B6A1-9F0A03F8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B6DE30-995C-472D-BEE5-9E1CF44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5CD3D7-0D14-4BEA-8694-579D7BC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B5D763-C25D-4605-A1B7-66956F4E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F95DE1-5BD7-4347-8DA0-1C717E7F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684D12-1024-4064-8068-D197EBA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F0B49B-596C-4AA7-8328-D8E57A7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41BA-145C-4591-A021-AB798EA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77B32F-0A23-4B24-B945-35F1D83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DA3BAA-3B14-4161-B952-70C8165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529978-0A53-4315-8748-96C1C18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C970A2-03B0-411A-972F-C1FD2A58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CD29B0-83B5-4245-A65A-C5C1180E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4C636F-E76E-4400-A87A-801B33B7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85C0BB-7865-47A8-9824-51AB841F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842AFF-D2A7-491F-B239-F7DFFF4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1B0282-2778-406B-B359-08933F4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7BBEF8-8511-418C-BB64-69599A3C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4579-6F00-43F2-A07D-DF57FD3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46874F-7E37-4EA3-975E-3B75D1B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131737-A6C1-44F6-A5F6-48A934A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7CC82B-5D33-4DCA-8085-59DCF62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48F5E9-228B-43DD-8E74-6F8B833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32AB08-30EC-4CB8-8855-6C41A8B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2284C9-C69A-4FDD-A604-22EF235E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E9A221-E469-4381-B06D-281D7D68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AAEF63-1610-46EA-93AD-816F7012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C43D46-B4DF-4273-A475-EF0CBD6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570699-C5F6-4D96-BB95-13E4E4C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0CDE-F41F-41BB-8FFB-AAF5A1D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1E6ECA-6265-489D-83C8-857939E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10D3D6-CFB1-45A2-AB2B-16F41D4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1E94FC-0CB8-42BA-8EE0-45B3256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0D3D6-9981-4B3E-85D3-59AE4F6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9BDE80-2FAF-43B8-BD52-4CE94B7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9E836F-32C1-4A6D-8B2E-8937D26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C4A0B5-2788-45DC-B589-57F084AE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0EE9AF-35F3-47B7-A63F-D379202A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D9BF2C-4D84-416A-A9B2-0F86235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5D2655-669D-4766-B7C0-65CA72FA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F1D5-84F0-44A1-A2EF-11265D05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2E5B2C-64FA-468F-ABB2-A61B195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0C9E1C-1D21-4593-B58C-85F544E0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2B45AD-80A7-4762-BCA4-16E3529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360033-EC38-44A0-95D0-4D7E13B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47DAAD-72E9-43C4-A319-FEA0112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C38377-6D4E-4A09-B37D-77DB430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5ABAE5-6AA4-46E7-95D0-0551E61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08BDDE-87B2-475D-B3DE-A965AA7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FB76C9-AF33-4B47-8E07-731F23B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C51ECE-E86E-4FA1-8BBE-F9FADB3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C7E2-D433-46FD-A495-D4EAE08C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333569-66E0-4126-812D-66F654AF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C56FCD-4EF5-4ACF-A198-C256201A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E09E82-71B3-4E78-B124-57E2FF56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6354DE-536A-4A8A-9105-E2F61113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E5131A-E22C-4950-9FBF-D84A0B1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6D40D1-719F-4830-ABDC-3EFA715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BA4224-5AB6-408C-BCD6-5BF03C6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17231B-F5B3-41E2-8B09-2E32CD2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F36CFC-72C6-486C-9D09-ED8F42B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62F257-B255-49D5-93EB-AD0F31E5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CC4C-00FF-4A3B-85B8-8C8CD451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0F507C-1A21-4987-85C1-4A06230F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ACA0DC-F07D-440D-A2B4-CDA9388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A51EBA-83DD-4D2C-B3D0-9563B029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7C9808-1D6F-4F56-9CD0-3E13BC8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F82EA0-C59A-4D35-A994-BE48D47E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2DACDE-E299-4670-9F9F-DDBB8EE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AAAAD5-52EA-484E-B1E8-942AD5E7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B99BB0-6960-47DB-9522-740CDFB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D47F79-D7B7-4212-ADF3-75A1CBED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FB6248-8C18-48CA-A57B-685E81C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DBD-4822-418C-82FE-9C154DE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9B939-F69A-4E9A-8955-EC742586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A86010-67F1-4D65-9E1A-EC58656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7CB929-069B-448F-A15A-129DC17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0BA1E8-C860-4005-8048-F395C94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4A221F-8A38-46DF-938B-16EA6F03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8086E1-2BFA-4EA2-BA9C-7CCDD97D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01208E-6F42-4002-A719-86306FE3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87A30D-DC61-4368-B037-779417B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3722D1-E3C8-43F8-90B2-7DB9BB5B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0CDFDD-0C76-42BB-AFC8-5B670AFF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D68A1F-49C6-4F14-8001-98B5D92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D6A7-2F4C-4965-A965-C68A121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B683CC-9493-494E-BF35-5C8D61F6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7C4104-22AE-4FB1-A03B-B85A7CC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0E9EF9-2B18-4BD8-9D3A-54FEB95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97FF8F-7103-4380-AE22-7B63BA6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82B3AE-894D-46A7-8B55-05CB2522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86A215-9EA1-4BE4-9A51-D578A802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7C070D-425B-41E5-BC68-5436AE44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BBF822-C878-49C6-9DB6-6A153DC0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403E2E-926C-4F37-B12D-6E7D92B4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4A66A1-F1D9-4CE8-9589-02FEF47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FFEF-A1B1-44EA-A627-09A4A70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4F397D-D956-4930-A0B1-7DB1E83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8E1272-5800-4EA0-80E8-87277FA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CB4E50-054C-4D6E-9D32-5B70349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2ED69B-4D00-402B-8134-8D3E84B7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57AD85-C802-4563-8C6E-CAF302B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1F863D-CB11-4A4D-8A6B-2B11AD8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10A210-7859-4FCC-89AF-16AEEDB4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D75BD7-0482-415A-8392-43C99D7C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69E327-A920-4B8D-B33E-7FAB097B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471045-A901-4EE6-9954-A5E1CE22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1AD1-6B61-4018-AAF6-74E5C45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AB1A90-5E0F-4CA4-9F47-3C112E4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8CB3E9-C491-4072-8CAD-13FED59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5B7127-F896-454B-B82B-E8E1DB8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CCD193-98E7-4D5E-AF4D-AD108DC9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222279-93C5-4D8B-8B09-1C20A0B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B42151-4DFB-4670-B6DE-73FBD22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372C67-BC32-424B-9C85-33ABCDB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D5DACE7-3DF9-4D4C-AA9A-847D29F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F14F19-61E6-4C2F-894D-170F75E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8983BB-984B-47D3-A9A3-7CA9793A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3C63-B215-4F40-A3FF-E8B58CD3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CFBC43-E484-4998-B8AE-1570B6E9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FED127-1290-4D24-AD2D-EC1974FA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6E115D-87FC-4C8F-947A-34D7716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E89492-0FA6-4E97-8D66-AE6C6FE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D9B1B88-E7DC-47B2-ACF7-EB34EF0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CE5055-8549-432F-86DF-E081F47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BF926E-81C0-4D3F-85CE-9CAB11A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95B58B-8EC7-40F2-AC58-EDB9272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30FA67-B5A9-4C30-816D-205B2C2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DBBC59-1EB6-4402-A3BE-B187B3B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49BF-218A-4CC5-A14E-2B8E208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7A5EEC-4F47-4017-8A50-4306EEAB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3EA459-BE05-4B48-9489-DD498B2A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6A51DD-B5A2-4BC0-A928-D511DA43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643DBBC-7C94-4A28-AAA3-6FF9024F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0A7E92-7092-4EAC-9D82-FF55D37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332846-66DC-4369-963C-4A192AE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849811-0B37-4277-8A02-A9F3E38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C3CA25-5EEA-4C64-9020-B2E4692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C493A3-103B-4989-BE7E-056A4ED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0430CD-551B-4990-A145-60968A1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DE7A7-E6CD-4FA9-A3F9-828C684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1140F1-C49A-4013-AC3C-3C2CD22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9015B8-BF1A-401A-A6DA-A5C6464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AB8D1B-AF97-4820-A00E-F5189A2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2FD7922-839E-4986-9F90-18C175B8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AC10D8-104A-465C-8F85-5EE787AD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6CA101-5571-4488-9B34-F164B19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EA45EF-8ECF-4B66-AE02-26142E4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E49041-FC38-452B-B872-DF67857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6340D9-5F30-49DF-93F8-358DAC3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B9679D-25A3-41B9-A84E-B679807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81F8-4450-41D0-93AB-EB4E0E9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403CF9-9BEC-4F4B-A7C5-447C27C6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086E0A-8621-4F5D-8603-FBE5E75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704B47-F483-4611-A638-DCFBDF3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81447C-1D9F-476D-ABC1-762419E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7C4B22-6B26-4914-ACEC-BACE30FE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10C6C1-1469-40B0-9F7D-98A56B66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7E402A-4168-490A-94E3-2394E833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303DB1-5480-4FCE-9AAE-A29C1A0D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97043D-BC22-44FA-86B4-04E4A8EA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2BE9F6-BE7F-46FF-A935-EB6A5166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E4F3-5A78-46DC-969E-07337274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9364C6-3043-4169-AA98-4063B62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D99F6D-30FF-4A4E-A4EA-C372ABA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B7EFD4-97B2-4F56-B6EC-BDDAE47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250006-AF4A-4B01-8FED-266176CC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A69B2F-6F38-4524-95AD-0FF9FD1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DCB826-0180-43A8-836A-3B69A00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FA8041-4379-4FD8-B051-3259BC3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065D8A-7CDC-4C2C-9EB5-1710498B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9C14FF-8665-47F3-A770-80573622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5B9BCE-F487-4CED-A5BE-680C5E54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224D-292C-4716-A656-089D3DFF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C9527D-49CD-4BE2-B555-4C8436E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FABC4C-94FB-4F85-8388-1EACC4F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89A0E4-289A-46FC-87BB-D929EB03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0B5930-D5E1-4B31-A701-2D5E0668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49BCF7F-C21C-4F34-98C4-15B827A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8982A3-34D9-4B0E-869C-7862B2D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53143C-CF7E-4B14-96E3-A3C4D32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E3C84F-D757-4093-AED8-204FC18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77D663-AF57-48BA-A07F-4C3328D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6E6D52-04BF-4776-982B-6EA4E25D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E65-7C8B-42CC-B3D3-019D09A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F5DF-8212-481C-B129-B0EAD95B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32A5AB-9070-4AEB-9622-18DE07DE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EE70EE7-EB08-4F05-863F-BD79059D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C55B740-3E3F-47C7-B87E-9A32E2F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3322BE2-D6E7-4F51-8B5D-4ED6BA32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C345A0-2C76-4F91-B5C6-109EC7F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88ED77-500B-4BFA-BBD2-FD511A86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66FAF0-8030-40AB-B5D2-7565B8F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A64FA2-B85D-4EBF-8499-9E326F6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EE6C18-918B-4BCE-A310-50B25DE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04662A-1634-4628-8BFE-50E2AA5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AE0C-4012-45C8-8051-388725A8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9C33B6-A53E-4C03-B6AC-ED34593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A9180A-C7B9-4E77-A653-C7B03DCD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395464-CF62-485C-B451-64631BDD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8859932-7471-4028-ADE0-F9BEB78E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F10720-0042-4BE8-B12B-F0BDCCA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0BD5E8-2D8F-42C7-94EF-058226C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888333-AF78-4BD7-B9B6-9EEA7D0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DA203E-1034-4B56-A635-B5973A35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426459-8103-4EC9-AB53-B6D3A21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04C9060-7096-454E-A999-8C7D192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0AB5F-D9E9-4A59-A314-790A876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DBE9418-8F82-4121-B180-BAA6D62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75583F-D292-41B4-A2BC-F2337D2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94EB8DE-AD24-473D-8C84-0F54BA95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0BE227-ACC8-45AD-B854-BB559A4B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ACD54E-8E21-4443-B84A-EBDC6E2E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27FD3BE-D0ED-4E22-A21F-8726DEA1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A091C3-DB70-46D6-AA4F-21FDCD94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BA7971-C3BE-4440-8163-8851CBB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83E76C-3E4E-4D31-81A3-8F8AB577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C5F503-DE84-4AD9-8264-62829A9C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E391-C20A-43A5-B644-500C7B9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CC257D-519A-498B-9893-4B4A032B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4C0B36-E121-4CC6-8EBC-370C35B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6CD347-434D-4037-AA0A-6557C05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8C6C8E7-28AD-4E76-8C55-34DB578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4C18A2B-EB2C-43BA-9956-5D879A4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D7052E-A383-457D-A940-3C2255E5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1F27316-50CE-4267-83DE-C6FF9B5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E0E178-79FD-4384-985B-8925FE90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F7AE2F-CF25-4B10-918F-1297463D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F5602A-AC69-4E8F-8846-DA780B28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93E12-7294-4295-9DB0-00479D50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03B336-1568-4CB2-AD36-2EE0A7F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FE1C7B-CC96-46D6-AA2C-66DC2FA3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E23E14-3F52-41DD-A86B-AE0C9B5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ACCF51-6FA9-4558-B702-6505119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351C44-A1B7-4AC5-A13F-A3628A3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7664956-6AFB-45DB-AFFF-CB536A1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128B49-246B-4C3B-AE35-7DB1A33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D4BA35A-C2EA-43B5-AC1D-60A91D44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1102D72-DD05-4D8C-A8AC-93EFEDB0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EA3F69-9A05-40CB-8A14-EE38ACDA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ACF0-7E76-4EEF-9BC9-67A6503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3FBB2B-42A2-4361-9C56-F719D997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F40031-6CF8-4F19-B018-901339CA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66E5B2D-CD5D-4AD6-83E4-F16413E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8E77BA-740A-4A97-90FD-7B3B8D3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1948DA-95C3-4A4F-AD56-0A8430C9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475EF7-50A2-4007-A3F8-8053B56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09E2E0-8DE9-4589-A016-8247A6F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51FCA69-4250-4C90-9E28-2847AB9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9EB29EF-B818-40A9-861A-93B1639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B593FA-A6EA-442C-8491-D75C2A8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72F2-67B6-4C73-9D14-A1E9D314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720D2C-5A1D-44FC-BE67-90C89A9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C42BE3-44DE-4765-9EB2-0D22E4D4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FC6074-1602-48ED-B97C-932FD8A3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F7D6EA-F1E0-44AB-B6AF-5E0C7995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6ECFBD-BC3B-47A3-96A7-2DDC8DE1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FA784B-D4C1-4726-A2BE-BD4CE77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27AE55-708C-4BEB-B027-9462EC66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FFC7B9-9971-47E1-B2DF-C62197B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5978EC-59CD-48CE-8BE5-C24606E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6C99AF-A7B9-46D3-A5A8-12DD155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4173-F14C-4993-B66B-500A7A6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53B23C6-A51A-42F9-BC70-281F094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602278C-DB9C-464E-A188-55F408ED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81D04B-F1C2-4781-BC86-71B7A5F6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7ED401-AF60-4753-8A46-78606C3D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2E572A-45DB-444E-B792-B655E266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8F5C88-ADA3-4F57-A7DA-0EFE84F9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71FE4C-AA95-484A-9F03-D3E3A0C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A846D6-2733-475F-80A6-4507C8E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253055-02FC-431C-8725-78C1074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95FAF7-3C6D-4FD0-A2DC-9FF7D34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4B4A-0710-47DD-B595-1D491A2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778772-5CA5-444E-910C-8B8BE4D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E477C3-6718-45D1-A1AF-DF1EB98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387B11-8C3D-4BEF-A83E-13760929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F09D40-A348-4001-9F35-3563531E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9EEA357-D029-4A41-8415-D9A3A824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35C00A-5253-4C2C-ADBC-C69F2B07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DBE5144-5048-4680-8DFB-4953044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0AB3D1-8F51-4FCF-97A0-91D1C914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E8EF21-2C64-40BD-9373-610FCE3B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B54389-A765-45EB-B3B5-9AFC4AE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C31F-5532-4FCA-80C8-2A930ED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3CA69E-8363-45A0-8F6D-1B1293BE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1656C8A-C909-4E01-B1F5-7D95C42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154A0A4-1B12-44F6-B266-55F0AA0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F6A6F4-86D5-4CF1-94E2-074746A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A52E48-5B61-4B9B-B269-12BFB051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DBBFB8-8C74-4FDF-911A-97276AF5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2FC7724-759D-46E8-BA40-A29E883B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3D8CC32-59E0-48D2-A9BD-F3B0A947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1FD9BD5-F377-41EF-82F6-0D1BFE7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21C33B-B720-40FB-A03A-BE81680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34B-8BAF-4BC3-99C3-CF73FCB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18247-DBA7-42D2-A17F-2EB54C24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03C07AA-71F0-481A-8CA2-C68C35C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6BF143-D3CE-4678-8652-D8B33E0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2A19F1-3B96-470A-B9D9-B42BC472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D2AE85-1720-4E0F-85FA-BBF0B4F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7907CF8-80C5-482B-86C8-DA5FFB4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1480A21-A122-44C0-811C-3BA1714F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18CFB5D-4093-42BA-994B-87891C7B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7AAF56F-3B32-497B-8FB3-98A9445F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CC4F583-7F55-4A6C-85A6-B9FAA989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B2A7B4-F088-4129-BAB1-03046A92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ECA8-D75B-45EC-8E68-4D5A7BFA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DFF3E08-7974-4886-90C8-79EF43E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02D52E-4B8B-45F4-B054-3A3C447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55E35F-A94E-41CB-B97B-2961E59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5062F5-682A-40EF-88FC-DF907E99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7A71466-FF38-4040-9372-8398C962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C9B11E5-592B-4855-A170-28E1985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560D586-F344-4915-94C5-4D06EB1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35C07EC-5A8C-49FE-A4D7-4625754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F5BD97-DBC6-4ABE-9493-6640DED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BBAAF1-1B33-49AA-9F8B-3F8C6F9D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3F5BA-C1DA-42C0-BA43-4BF9D0B2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7E300D-6903-40F0-B93C-302F6CAA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6BA3537-15B9-4AED-871F-42697DF9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9387557-D4A2-4BA7-9307-86A57C2A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170B455-3526-4196-B670-E032C43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D146AFC-86F2-40C9-BCA6-AFE8D3DA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CD5C393-AB3B-4E6A-9C9D-BF4D5DC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D5BD9C9-F8E5-4D48-B715-E51E1B75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4DD7B98-776E-4D16-AAD5-0A1ED78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1AC95B2-7BFE-4C13-9683-F1B5E85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5492B97-1481-4505-8281-58EB08F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0748-E788-4847-93C2-8E99AC51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54A488-9083-458B-9B8F-AE82019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734A548-F589-4DE9-A67A-3D7D1412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B6A06C-C980-4F1A-ACD3-6965C491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6F532E7-24CC-415D-A8E7-DCD9F80F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A9B6E76-D3A1-44A4-8D19-0DF47A28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A565284-67B5-4E9C-A87F-4A0DFF4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E9E84C-1C2E-4DC7-8E3E-8DB4209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A483765-D8C4-4FE7-B9E6-6F6595D4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E8D4DA8-2D9E-4334-BDD4-893AC20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793421-9EF2-47B7-A097-81F2935B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FDFD-E55B-477A-8A7A-01D7779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DBDC4DC-CB7B-4E0A-ADBD-C678C89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E90D4E-1618-4D60-BA16-3445C4C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8C1D7F9-16E5-4875-8F9A-15E61B0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E202F70-F390-466B-A73E-016DA0EC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C681DD4-32B2-448F-8437-980B4C3B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D2C724A-7842-4CFA-ACDE-8B7D569B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B1B5FF5-84CA-4B72-82D2-3ADA9E0C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D683229-A2B5-4B09-BCBB-0764313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15B247C-B689-445D-918B-8D4BBF9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370061-1DAE-48F7-9621-E85B131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8A7FC-7A86-42BB-8D37-B1A65169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A05219-ED89-4C14-9100-36F0B3A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031A70A-8329-4346-B970-38194B9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3699F55-FFA7-4D8F-B61F-9741F58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11A092B-81FF-48DD-9C40-02CCEA0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DE0B4C4-3E48-402A-AF3C-11887ACC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F75515F-0B1F-421D-AC1C-A75B59D0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4DCA9F-AC81-45F9-9788-F4AC96C6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83DAD97-9EBF-43A5-8B09-C023627A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9046504-03C3-444F-A17D-3FCC7747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326296D-C509-435D-A0CC-F1424865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E4C14-062D-47BD-948B-D6F8B2DA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951FD18-B603-455E-A688-AEFE061F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E5C101A-1811-47A1-8194-5EB98FF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97914D-796C-497D-A0D6-5A61ACE6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BE95A63-D908-4E2A-9D7A-22F1FF6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E63D135-52C9-4BBE-9A3F-8B2E895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AFDEB2D-3E90-4AB2-B4EC-BB55D29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DD30D54-5BFC-4E01-950F-4F787CB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1B9E240-DFD5-4B48-B154-16B6D046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7B712FC-61FC-495F-B409-33F5FE8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D5A81FD-99C7-4CE1-A616-AB213932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F9EA0-3341-4AB6-9B69-431A3A2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F4168E-8B41-4037-80CB-DEB0A4B9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939573F-DA08-406C-8788-726E1343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DF84A43-51B8-473D-89E8-2399623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7EA6B7E-CB7E-4EC4-BC85-458BDDF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FF156C2-5026-410A-8CAF-9383325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AB8B4AA-CCAE-4B72-8F5D-AA7DC64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48B2E8-1B3F-4E07-8736-261D1ED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ECCEF18-16E2-422B-BC6C-D571D55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2CFA0EE-0D4B-4845-B462-641816F6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B61D4A-E054-4837-81C7-A0F58345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EA96-E48B-4224-AAF5-F0D16BD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39B9EF-D8EC-4BB6-B3AA-08F527F4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8DEBFA9-791D-4B5A-BD94-1C8E5DC8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6B5B81A-1DD2-448A-BEF5-EFA6282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3D3EA4F-C7B6-488B-AFBC-491EC993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CD6509-EA81-4359-9AE0-95F9FC3E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B80FE2B-FED0-4C97-9DBF-7C3D74B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C1A7AF-1922-4E3A-BC5A-A7C7B93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62C0CE-5D83-4261-94DB-909226E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AD2C62-1EBB-42A3-8888-0626D72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3D1C1D1-4E15-4704-AE28-4C9DD2A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CE0D-E05D-45F7-B2C5-A987F07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25C663B-9179-4AC9-BA23-728043E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82843E-887C-4A7A-837C-58DC9371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4AB2E77-367D-4D2E-A36B-96CA132B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06728E0-F36C-442C-B863-8335B9F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D4B3402-788A-40DF-8AEC-41F51F2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B45D322-4B5D-43E4-B611-7DEAD3E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FEDF2A-1369-48BF-AAE4-46B678F7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A370E34-3508-471D-B3D4-5C6BA29B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54DC469-533F-4249-B863-F193F0E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E0B1755-CB5E-41FD-8D2C-9DAA87D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A8F-98DC-4031-A99F-7A1B8D5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4CAA-2842-478A-9224-8624B2F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E25ED2-EBE8-48A0-B167-A3E735F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E5C76D-2237-45A2-A964-C5B90D5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CA664D5-5FD0-43C1-9E76-CF8663E0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05ABCA-CBBE-40FE-A9EC-029394AA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385A6CB-BB4C-428B-AFB5-9F871671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D735ECF-B21B-4A6C-A8B7-69456275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7F552D-20B1-4ECC-A10E-715CD5D3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5E82C7-A633-4D7D-B31F-56A8BC5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A08A6D-3842-44BA-87AA-3B1599D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C7DFA56-7E70-4159-9E3A-15294F6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5E7F-10A8-47F6-B395-03B84EA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C18D53-063F-4BB6-A47D-C4F0A76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FD570D2-4DD1-4E4F-81E9-1B33C30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29D589A-4C11-453F-9BCC-F080603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738981A-E6E6-4FF3-BD28-B37EC48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AEBDC10-61BE-4E00-839C-4BB1281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27CC85A-5335-4F01-A0EC-ED31988E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0E56DB7-E058-4037-A8BA-D6083E56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19F3F05-1C4C-472A-839E-EB313A9A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42F00EE-1030-4F60-BB4C-23750455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F13A500-A334-41D0-9DEC-D195CB1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5817D-2879-4D4C-95A8-40FAD1CB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47D17B5-0801-4ACF-839B-92B13AAF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1C05C4-2165-4192-B0FD-9F0A594C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C29A46C-9FBE-4C43-A51B-68AF137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C83E8AC-95C3-46D9-96CA-E332352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F657288-5090-4DBD-9281-B43E2F5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C4A811E-BD17-4D71-927C-3D96128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F0CE27-5C95-430D-AC24-F219CF0D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C2BBF36-E1F9-444A-9C1B-4B157A4F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8C0913B-9B50-4F06-B374-135E32C1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26DDCD5-7594-4BAD-B33B-BB85DEFF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D59E-836E-4F8D-9A76-D96F9FF4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A665008-20EB-48AA-AA8B-AC9A719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2BF7B7F-6096-4976-B9A2-B8FF401E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8B2C1A9-D728-42A2-B176-657EFD59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1CFFC6-C8E2-4DAB-936B-A5883E0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5BDBD7-8F47-442C-AC67-7991960E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12D04E6-3C07-44F6-869D-864D224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576121-72B8-43F6-8747-C63B99D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FBD7802-BE44-4807-BE60-0BC1429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C241644-0C7E-412B-8ED8-6CEE6E57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11A523D-6A26-48EF-A9FE-90EEFF32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545CE-C8C6-425F-8814-03745D6F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CDE0ED1-D48D-405A-87FA-20553CE9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79085BF-12A7-4511-8A99-E94A9787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F8C777F-9810-46B7-AC0A-0AE8017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11DF480-0006-4FCE-B4C4-1B5641B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6AB399-3EA8-4993-B533-20827209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FEF611B-EBCC-406F-B507-C3A82E2F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AEA62B1-955C-44BF-A0E5-2A42869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738654C-E382-4C9A-87C6-78E5255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2145417-A576-43AA-BDA8-61D18BE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4F52FFB-A9C9-4793-8EC2-22A927E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013DA-8487-480D-A910-CD57F5B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58FD68F-E345-4435-98C7-B6D1954B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334BA99-F2DA-48A2-8878-8201C1BA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91C44B-D9C6-4CE1-8805-F5ED115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203A2D0-E73D-4B49-99B8-498603B8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028F145-601B-4E80-B471-E87D4E4E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E5B42B9-DE42-49F6-9965-45497948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3B47106-F4E6-41A7-B969-9E22FF7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F398204-24BA-446D-B12E-EEF0D87F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F6EABF-A1EB-4B0B-A343-6AA0C779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4D4D6F2-D0AE-492C-AAA4-689AA02F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8446B-CF68-4450-A13D-B36F46D5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B07A69F-ACDD-4A12-B1CB-F6D58C3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4F5A040-A259-4757-BE3B-161637B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10F86BB-0BF4-4A31-BADA-C4FB141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5DBF59D-A700-418C-AB18-7A20CCE4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8269829-CD98-4562-A7B6-DA3855D6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4F17EE2-88C2-4695-910C-9B04E572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4BBC311-AB38-499D-BD1F-B7B0AFB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8A15E44-99BC-4466-89CB-0D2398F0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3D011BA-3C4C-4AFB-B230-FF83982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1A86BC7-5952-480A-9FC4-AF82E9DF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58A0-2814-4743-B456-737C746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7A21B06-4528-4E15-8840-65EB57D8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7457F5F-1D69-4591-BF1D-BB9793C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533610C-C9A9-4697-9E3B-8619119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26FC747-A259-4858-9E5D-AB7183C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B12B024-2010-40F2-B2B0-238B383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CEC1D31-E36C-4FDB-8DF5-2CEB8AD5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B2A509-7E8B-487A-B69E-943F2245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F7D62B8-55DA-42CC-B75B-A63E9C8C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429ED3D-39FE-4E9A-AF0A-A73484EB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81DD039-7CC5-4A09-AB46-A655415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602E-AB3F-4CC0-A05E-2D9C61BC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83724E6-2893-438D-81FC-5966046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D73FCFE-17F0-4A76-A6E1-FE930FD9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40DC935-898A-4C44-9014-B763693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44A7C73-0875-47B7-8C30-8D220F1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E039924-2BDE-4E08-8F45-A45CC9D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C228407-0625-4B88-BDD5-3F01675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4CD82B0-8F98-4D0C-B35F-3E6B7C2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65E86AF-B2F7-455F-8DB2-82DDD6CF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3C0579E-4FF1-4253-A97E-C14F5733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F218F1B-FDEC-4D5B-B042-0D2264BB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9672-3867-49FD-A3A9-DB27726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B8FAF36-8F93-4573-9629-96DFF34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6EBE9BE-F3C8-4E3F-A77A-461780E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891CAF1-F9C9-4546-9250-01209273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34A6583-BCF2-4869-B195-1AC73795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2B31B29-3B96-43A5-A05E-C3BBCE5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E32F8C5-3E2B-4237-A166-671D54C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636AE87-D9B6-4617-8F92-556691B5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AA1427F-BA1B-4A74-8362-97DFEE4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A6BFBF2-169C-4FA9-9012-3612F66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187BB27-93D9-4D88-A8A5-B96826C4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DE2-F464-4851-A8AF-8EA63F2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3B7AA-1D4D-4084-B8A3-02D8939D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0EF4E0-AF94-4AA4-91C5-50D62B2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FC87E26-D9E4-44CA-A509-A4AF89E9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BCF6098-3FBC-4302-B41C-840AE7C5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9E51B35-EB2F-48FD-8B40-7380DCD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16E1A19-3FAF-4A56-80E5-7061EDB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5C34BD1-8830-4182-A357-AA181561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ADAA686-036F-4254-B678-45A9653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0DF59D4-A647-45C8-8FB9-FB8D833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BC55B2-8A96-48D3-A546-3B32C3C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5014543-EBC7-46C4-80A5-F557EFC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10A0-594C-404D-9299-1BEF8E71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9E1297D-A01D-4F44-9618-BC62D65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8A5EAAF-6620-4F49-8128-CF62944D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EA1810F-B1B9-4A26-81E1-EE7337C3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E9653EE-C80C-4E0B-BCC9-2E1993F8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55CAFC4-A800-4059-A82E-60B7789A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549A5FB-A95C-41F2-98F6-46723D7F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783E2FD-41DF-4A50-A418-3EDED3E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9D4D27F-2591-427E-B8F9-F2BADCB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F06E43C-24E3-451B-A6F0-2FE21610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F87E31A-FEDE-4AF0-97BA-E0CC613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E7E1-ECD7-4673-949E-577898F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B97D56-4AED-42B6-87D2-8724621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B62A2F-AF71-4B45-94BF-E70A741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61CBB2A-4802-4AC2-A415-419E3C3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E9E7C11-CE0F-4D87-A512-D73B9987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8D54598-6B99-498C-B3BB-8B543D5B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81BF46-B7D1-4836-8E0F-99D3DACC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CE9C058-2359-4C97-A971-28B17587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C4DE9CA-1B25-42A8-AF85-70BFB5A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5C02811-4D3A-4E94-9FCA-3D95A36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66BDAE3-A69B-4ACC-96AD-E56F4A9B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EB66-5287-4FE0-91EB-268A72E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C19B796-52E7-4B10-A961-CF15D89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D97C091-0C57-4BD2-8C6E-A37D575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D1331C-DAF8-47CE-888A-B6B2456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9B08A5F-0C76-4E77-830A-AF8F6BC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8DA9E9B-C950-4367-B509-486362F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4253A1-C812-40A8-8C0A-A3621DF2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56B9215-9E98-4765-A83D-C8D7F2DE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7CAB14F-48DD-4959-8FA8-8D18D3B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DE98ED3-3594-45DE-B851-FBF7CA8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A3C968-3B53-4717-A474-C5020C64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2BD97-8D5A-4E91-8E21-0828937A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2D4E2AD-25B5-46BD-846D-AA13A3F8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EB0DAF9-AC36-4C65-861C-3855AF0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E5744FB-1BE0-4B50-970A-242C2AC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39B139E-36B3-4106-A390-4E41BF6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E096C7B-DC9C-40B0-BF75-20EBFCC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1D9F889-4779-40DD-8BAF-BFDBE97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67456A2-83BA-417B-AD28-6FCB48A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29025CB-FD1D-4775-9F4C-6C964C31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0F501A6-530B-41FA-860A-0AF21E8D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48D9ED8-6CB1-49AC-90E7-A13493C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6FED-7158-4DF6-8718-6A310AB1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F976D14-8E07-47A9-9898-AEBE706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FBD344E-691D-4FE1-BAF8-301326DA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00A1EDD-6739-46B6-8686-1E4A4E5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AFCBCC-B6FA-4C32-A47A-E1B234B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F4DC34E-8445-46E5-9721-CA47F33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B17796-A888-424C-9335-6893ACC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6118C0D-5CDE-4273-A7BB-02AC33E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C8955FE-7FE5-492D-B339-0A24218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949D2D6-8CE2-46E3-A438-A9BB099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A69C488-1A81-4B2E-B297-2EACF35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D078-4699-47A4-A009-58B898B0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F848349-6A42-4221-83C1-E125511E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1BEB8E3-DE81-4B6C-BFCF-7E494DBC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F8CC47A-D30A-4A7F-83E5-64AF74D0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6A8272C-2E86-4FED-AFCA-A3A905B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1CF8A18-27A7-4F98-9F68-AD824C2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8CFF3E3-4671-437F-BB89-F3A11AF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0AE6887-6B93-4CB9-9837-C39ABAF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43A60FF-CD6B-4122-B96C-052E630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A2296AD-9074-4699-9C42-3D9292D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BFC923B-6F79-425D-9779-F8316686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9B5CB-1272-4033-9FE0-F52E9C1E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0105D67-D4EF-41E3-8F03-38C3E38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57C20B3-8212-4267-94D1-FE0C7DA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B05F8D3-1B14-4239-87B6-3ABE0529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BBC0EC0-3CAD-4679-8C13-5CFCDF41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29CEC23-1C5C-43B8-ACCC-CF4E514C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6FC5C23-2428-49E6-AEE8-4BA23C6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9D44FAE-3E95-459F-A093-A567ABC1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19D509-2A0A-429B-AAAD-EF62F589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8CFB505-624F-4639-949E-11CD502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F94776B-2613-4375-9012-7C58FEC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67F1-7505-41B6-8652-FAB9BD17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B40CB17-1B77-4B02-AA84-FE99B367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D98283E-198D-48FE-A06D-94E99B5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2972ADB-43DE-457C-BEEC-7958EBD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2FF4614-A5E2-42DA-89C2-F6BC341E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0DF001C-0C59-4614-AF1F-AB492490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25268E9-3B99-457D-AB19-934D94CD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C06BBA2-2762-4A60-B6D4-9E00C8B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F6DDB10-5BDD-4331-B670-F72551C4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07601E2-3B51-4234-A00B-5EE23373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A97AF18-39FA-46E8-9943-450194EE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0022-1FCA-49BA-ADFF-E238A5E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D04D87D-DA5D-4A1B-9654-188C4CF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B9A8EDC-0953-4B6F-91FD-F9EE051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741D280-9ECF-4457-93D1-9EAC92CB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E877BE3-A980-48B7-B3B1-018B8BD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2C0F59-F71C-42EA-9640-067DBB10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7ADB62D-8192-4A16-8937-C402F29F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845360A-3259-4F63-A2E7-DF6C1D58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D6A23A6-2683-47DE-AF6D-D00EDE5D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DA94D20-BD2A-4DBE-8A8B-9F5EA9F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701F6C1-3C24-4A80-9A3D-A2DB558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082-6E37-4326-BDEF-CAB2839639E1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AFA-A061-4C68-BFD0-A688DAE0462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A16C-8A3F-45DA-B33B-5354328C536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14FA-5117-4A95-A551-DBB47750C9A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4B8-DAAF-433F-9C18-EF1C68D0860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499E-5EAF-45F6-9520-28E4C48259F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9E3C-F176-4CD1-84F0-E165917E6B7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CD74-43F6-4C5C-A7AB-EA49A788B37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203-98DC-468D-ADB6-96F1674102E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FF5-6615-4696-807D-24BCCA99F03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494-137F-4274-9F73-E5B34563114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FF9F-E8D7-418E-8803-6D54406058CB}" type="slidenum">
              <a:rPr b="0" lang="es-CR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422-30A4-4816-A2CB-FA5D86ABA7D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F281-928A-46B4-8122-77EB9795E7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71B-BCFE-4700-AA0E-18F7E3FEB3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E5C-9754-494B-BBF6-D4BBA0AB5B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74A2-56B2-423C-85FE-088B66A590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748F-A071-4746-8943-74F08E0E75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B5D-DCB5-46BA-BC46-BF2F778C20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FCD-DDE0-4ACE-AB4B-1FE1C158F2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911-0328-487C-8435-804071505D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B9B-6FE4-41A0-9A53-69834A974F7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B3A-B343-4584-B2A2-846E57704A4D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0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7C0-141C-42AF-A42D-0AE2376C52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5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CBE-6EE5-4F44-9FC8-4F5477C483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0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F91-93DE-4ACF-88B4-772C772921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132-7159-430F-A14A-41C9D19021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6AE-2216-41E0-8D2B-C68FA124C6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283A-82F5-447C-AA44-62C5441470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A26-2C34-4AAB-A6E5-1603651983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766B-71DC-4C79-9E97-983A5651C8A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9698-458A-4670-9298-2809226CE83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AD7A-4364-45F3-A74C-701F5C6B04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01D-C3E1-4613-AA6A-15C2F23F5F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4688-2180-447C-AE6F-DD7F7337A14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2E66-2E2A-4A0D-87A1-4097CD7131B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A2C-CB79-4C96-9FB6-8CAC176CB7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708-A4C3-4E52-85B6-790BBA84BD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806-9AEA-4836-8F11-3314F8B0544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0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6751-EDDC-4040-93BA-A5D2AA2AF0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E28-66D2-4651-826F-00C6641A88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39A0-84BE-4315-9CC5-D5B48BCD55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5A7-EF2E-45A7-8725-84910B1582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FDF5-8BE6-4BD9-ABF9-B7316626F84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A71-A176-4494-A937-E4D8393804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CDFE-53F2-4AFB-885D-BF685B5C70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D03-E68A-49C8-BBCB-B7CD9C46C9E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4F7-72FA-45B2-9547-71344E5E27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DCD-EA1C-44BF-A233-9EAF2C7FEE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33E-88B6-42F0-A6A5-A7DC7F750D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1B07-AC2E-4075-B9AB-0D5D47E153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 type="dt" idx="1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2CB-F31F-44AC-AC62-40EDA8EAB8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D83-07C7-403D-A3A5-07168F7914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 type="dt" idx="1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D5E-99BA-4F8F-95E3-BDA5F9794E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67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74F-7B2C-4C64-BA87-002F2DE889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7B1-33D8-4CF0-977B-8020CA4C4E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 type="dt" idx="1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336-AAB4-42A0-A4A0-7C6019D00A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0420-D8C7-4D27-A0BB-67437BC2697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dt" idx="1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CF04-6524-4BE1-BC5E-B0E0671309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1DE-F388-41EF-9040-7F3EE65F7A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dt" idx="1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A945-BD98-4B5A-A985-DE099343A2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 type="dt" idx="19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BF1-C944-41CC-AB31-4F501198C7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 type="dt" idx="1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0DD7-E88F-43A1-A5F9-615CB4B332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 type="dt" idx="19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F0E-905E-4D5B-A471-07B5877250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 type="dt" idx="2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E97-9E45-44EF-B42B-4BAA4EA349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 type="dt" idx="20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A537-4D3F-473A-9D71-E9767FB26D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F7E4-40D4-47B2-B1A1-8F0557ACE2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 type="dt" idx="2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023-3E2E-42A7-B135-8D2A61A09D8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 type="dt" idx="2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8E48-A275-4D51-9683-C03B3AD88B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 type="dt" idx="2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F50D-A9A7-485C-9075-37A21AEACB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3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 type="dt" idx="2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E9F-74B2-4BA7-827E-A7825E3690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7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 type="dt" idx="2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313-E77A-4950-A9CB-8708555EE35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2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 type="dt" idx="2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 type="sldNum" idx="2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278-E9DA-45A6-B006-04ABEA690E9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7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 type="dt" idx="2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 type="sldNum" idx="2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C6C-2C88-4DB8-ADB5-F61CEF03F8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 type="dt" idx="2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 type="sldNum" idx="2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6E3-F116-4418-A702-11E63E3F8F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dt" idx="2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E963-2D06-405E-ADD2-334E1748C00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 type="dt" idx="2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 type="sldNum" idx="2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71B0-B59A-43C3-85B4-BA4A4EED30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4B2-F014-4435-801A-6E3A3BB793D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 type="dt" idx="2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5"/>
          <p:cNvSpPr>
            <a:spLocks noGrp="1"/>
          </p:cNvSpPr>
          <p:nvPr>
            <p:ph type="sldNum" idx="2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4877-3623-4D03-817D-B5A9D8E05B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 type="dt" idx="24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 type="sldNum" idx="2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0735-20FE-4CEC-92AA-365A413472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 type="dt" idx="2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 type="ftr" idx="2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 type="sldNum" idx="24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BFC3-3CE3-4E76-96E1-C94AECA5E6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 type="dt" idx="24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 type="ftr" idx="2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B4C8-CDA1-4373-8754-DF03A43BAA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5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D5D-0B89-428E-86BD-2EAA7CD750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A38-1221-4AEA-92FF-49F6E01840B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2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376092"/>
                </a:solidFill>
                <a:latin typeface="Calibri"/>
              </a:rPr>
              <a:t>Equidad en el acceso a los servicios de salud en Centroamérica: La experiencia de Costa 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2° Congreso Latinoamericano y del Caribe sob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Salud Global, Chile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Dr. Adolfo Ortiz Barbo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Viceministro de Salud, Costa 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4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905" name="Picture 4" descr=""/>
          <p:cNvPicPr/>
          <p:nvPr/>
        </p:nvPicPr>
        <p:blipFill>
          <a:blip r:embed="rId2"/>
          <a:stretch/>
        </p:blipFill>
        <p:spPr>
          <a:xfrm>
            <a:off x="7380360" y="2379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2" name="Picture 2" descr=""/>
          <p:cNvPicPr/>
          <p:nvPr/>
        </p:nvPicPr>
        <p:blipFill>
          <a:blip r:embed="rId1"/>
          <a:stretch/>
        </p:blipFill>
        <p:spPr>
          <a:xfrm>
            <a:off x="923760" y="404640"/>
            <a:ext cx="7296480" cy="5600880"/>
          </a:xfrm>
          <a:prstGeom prst="rect">
            <a:avLst/>
          </a:prstGeom>
          <a:ln w="0">
            <a:noFill/>
          </a:ln>
        </p:spPr>
      </p:pic>
      <p:sp>
        <p:nvSpPr>
          <p:cNvPr id="3923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STA 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3e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7" name="Picture 3" descr="X 1950"/>
          <p:cNvPicPr/>
          <p:nvPr/>
        </p:nvPicPr>
        <p:blipFill>
          <a:blip r:embed="rId1"/>
          <a:stretch/>
        </p:blipFill>
        <p:spPr>
          <a:xfrm>
            <a:off x="1000080" y="966960"/>
            <a:ext cx="2610000" cy="2747880"/>
          </a:xfrm>
          <a:prstGeom prst="rect">
            <a:avLst/>
          </a:prstGeom>
          <a:ln w="0">
            <a:noFill/>
          </a:ln>
        </p:spPr>
      </p:pic>
      <p:pic>
        <p:nvPicPr>
          <p:cNvPr id="3928" name="Picture 4" descr="X 1984"/>
          <p:cNvPicPr/>
          <p:nvPr/>
        </p:nvPicPr>
        <p:blipFill>
          <a:blip r:embed="rId2"/>
          <a:stretch/>
        </p:blipFill>
        <p:spPr>
          <a:xfrm>
            <a:off x="5183280" y="1000080"/>
            <a:ext cx="2571480" cy="27147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5" descr="X 2000"/>
          <p:cNvPicPr/>
          <p:nvPr/>
        </p:nvPicPr>
        <p:blipFill>
          <a:blip r:embed="rId3"/>
          <a:stretch/>
        </p:blipFill>
        <p:spPr>
          <a:xfrm>
            <a:off x="1000080" y="3714840"/>
            <a:ext cx="2671920" cy="268272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" descr="X 2025"/>
          <p:cNvPicPr/>
          <p:nvPr/>
        </p:nvPicPr>
        <p:blipFill>
          <a:blip r:embed="rId4"/>
          <a:stretch/>
        </p:blipFill>
        <p:spPr>
          <a:xfrm>
            <a:off x="5113440" y="3714840"/>
            <a:ext cx="2673360" cy="2684520"/>
          </a:xfrm>
          <a:prstGeom prst="rect">
            <a:avLst/>
          </a:prstGeom>
          <a:ln w="0">
            <a:noFill/>
          </a:ln>
        </p:spPr>
      </p:pic>
      <p:pic>
        <p:nvPicPr>
          <p:cNvPr id="3931" name="Rectangle 7" descr=""/>
          <p:cNvPicPr/>
          <p:nvPr/>
        </p:nvPicPr>
        <p:blipFill>
          <a:blip r:embed="rId5"/>
          <a:stretch/>
        </p:blipFill>
        <p:spPr>
          <a:xfrm>
            <a:off x="682560" y="-12600"/>
            <a:ext cx="7991640" cy="927000"/>
          </a:xfrm>
          <a:prstGeom prst="rect">
            <a:avLst/>
          </a:prstGeom>
          <a:ln w="0">
            <a:noFill/>
          </a:ln>
        </p:spPr>
      </p:pic>
      <p:sp>
        <p:nvSpPr>
          <p:cNvPr id="3932" name="Text Box 8"/>
          <p:cNvSpPr/>
          <p:nvPr/>
        </p:nvSpPr>
        <p:spPr>
          <a:xfrm>
            <a:off x="152280" y="647712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99"/>
                </a:solidFill>
                <a:latin typeface="Calibri"/>
                <a:ea typeface="Arial"/>
              </a:rPr>
              <a:t>Fuente: Censo año 2000 Instituto Nacional de Estadísticas y Ce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3" name="Picture 3" descr="Imagen 001"/>
          <p:cNvPicPr/>
          <p:nvPr/>
        </p:nvPicPr>
        <p:blipFill>
          <a:blip r:embed="rId1"/>
          <a:stretch/>
        </p:blipFill>
        <p:spPr>
          <a:xfrm>
            <a:off x="1116000" y="1052640"/>
            <a:ext cx="7010280" cy="484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4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23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5" name="Group 2"/>
          <p:cNvGrpSpPr/>
          <p:nvPr/>
        </p:nvGrpSpPr>
        <p:grpSpPr>
          <a:xfrm>
            <a:off x="71280" y="404640"/>
            <a:ext cx="8893440" cy="5976720"/>
            <a:chOff x="71280" y="404640"/>
            <a:chExt cx="8893440" cy="5976720"/>
          </a:xfrm>
        </p:grpSpPr>
        <p:sp>
          <p:nvSpPr>
            <p:cNvPr id="3936" name="Text Box 3"/>
            <p:cNvSpPr/>
            <p:nvPr/>
          </p:nvSpPr>
          <p:spPr>
            <a:xfrm>
              <a:off x="71280" y="6099480"/>
              <a:ext cx="63378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Fuente: Elaboración propia. Departamento de Estadística. Dirección Actuarial. CCS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7" name="Picture 4" descr=""/>
            <p:cNvPicPr/>
            <p:nvPr/>
          </p:nvPicPr>
          <p:blipFill>
            <a:blip r:embed="rId1"/>
            <a:stretch/>
          </p:blipFill>
          <p:spPr>
            <a:xfrm>
              <a:off x="71280" y="404640"/>
              <a:ext cx="8893440" cy="55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8" name="Title 1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37680" cy="1054080"/>
          </a:xfrm>
          <a:prstGeom prst="rect">
            <a:avLst/>
          </a:prstGeom>
          <a:ln w="0">
            <a:noFill/>
          </a:ln>
        </p:spPr>
      </p:pic>
      <p:pic>
        <p:nvPicPr>
          <p:cNvPr id="3939" name="Content Placeholder 4" descr="no_fumar.jpg"/>
          <p:cNvPicPr/>
          <p:nvPr/>
        </p:nvPicPr>
        <p:blipFill>
          <a:blip r:embed="rId2"/>
          <a:stretch/>
        </p:blipFill>
        <p:spPr>
          <a:xfrm>
            <a:off x="4648320" y="2708280"/>
            <a:ext cx="4038480" cy="3119400"/>
          </a:xfrm>
          <a:prstGeom prst="rect">
            <a:avLst/>
          </a:prstGeom>
          <a:ln w="0">
            <a:noFill/>
          </a:ln>
        </p:spPr>
      </p:pic>
      <p:pic>
        <p:nvPicPr>
          <p:cNvPr id="3940" name="Content Placeholder 4" descr="obesidad.jpg"/>
          <p:cNvPicPr/>
          <p:nvPr/>
        </p:nvPicPr>
        <p:blipFill>
          <a:blip r:embed="rId3"/>
          <a:stretch/>
        </p:blipFill>
        <p:spPr>
          <a:xfrm>
            <a:off x="461880" y="2852640"/>
            <a:ext cx="4038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ctangle 4"/>
          <p:cNvSpPr/>
          <p:nvPr/>
        </p:nvSpPr>
        <p:spPr>
          <a:xfrm>
            <a:off x="457200" y="380880"/>
            <a:ext cx="830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alibri"/>
              </a:rPr>
              <a:t>EVOLUCIÓN DE LA ÉTICA/IDEOLOGÍA/VALORES SOCIALES QUE ORIENTARAN LOS CAMBIOS EN LOS SISTEMA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5"/>
          <p:cNvSpPr/>
          <p:nvPr/>
        </p:nvSpPr>
        <p:spPr>
          <a:xfrm>
            <a:off x="324000" y="5229360"/>
            <a:ext cx="84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6"/>
          <p:cNvSpPr/>
          <p:nvPr/>
        </p:nvSpPr>
        <p:spPr>
          <a:xfrm flipV="1">
            <a:off x="190800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Line 7"/>
          <p:cNvSpPr/>
          <p:nvPr/>
        </p:nvSpPr>
        <p:spPr>
          <a:xfrm flipV="1">
            <a:off x="399564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8"/>
          <p:cNvSpPr/>
          <p:nvPr/>
        </p:nvSpPr>
        <p:spPr>
          <a:xfrm flipV="1">
            <a:off x="5724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Line 9"/>
          <p:cNvSpPr/>
          <p:nvPr/>
        </p:nvSpPr>
        <p:spPr>
          <a:xfrm flipV="1">
            <a:off x="7812000" y="5373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0"/>
          <p:cNvSpPr/>
          <p:nvPr/>
        </p:nvSpPr>
        <p:spPr>
          <a:xfrm>
            <a:off x="1476360" y="595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0’s/4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1"/>
          <p:cNvSpPr/>
          <p:nvPr/>
        </p:nvSpPr>
        <p:spPr>
          <a:xfrm>
            <a:off x="529272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80’s/9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"/>
          <p:cNvSpPr/>
          <p:nvPr/>
        </p:nvSpPr>
        <p:spPr>
          <a:xfrm>
            <a:off x="349236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0’s/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3"/>
          <p:cNvSpPr/>
          <p:nvPr/>
        </p:nvSpPr>
        <p:spPr>
          <a:xfrm>
            <a:off x="7086600" y="609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tangle 14"/>
          <p:cNvSpPr/>
          <p:nvPr/>
        </p:nvSpPr>
        <p:spPr>
          <a:xfrm>
            <a:off x="971640" y="3716280"/>
            <a:ext cx="2016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guridad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ormal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ust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15"/>
          <p:cNvSpPr/>
          <p:nvPr/>
        </p:nvSpPr>
        <p:spPr>
          <a:xfrm>
            <a:off x="179280" y="1989000"/>
            <a:ext cx="2160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sistencia Pub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y Caridad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16"/>
          <p:cNvSpPr/>
          <p:nvPr/>
        </p:nvSpPr>
        <p:spPr>
          <a:xfrm flipV="1">
            <a:off x="468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7"/>
          <p:cNvSpPr/>
          <p:nvPr/>
        </p:nvSpPr>
        <p:spPr>
          <a:xfrm>
            <a:off x="17928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glo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AutoShape 18"/>
          <p:cNvSpPr/>
          <p:nvPr/>
        </p:nvSpPr>
        <p:spPr>
          <a:xfrm>
            <a:off x="2700360" y="2133720"/>
            <a:ext cx="2519280" cy="1439640"/>
          </a:xfrm>
          <a:prstGeom prst="flowChartDecision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BENE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8" name="Object 11" descr=""/>
          <p:cNvPicPr/>
          <p:nvPr/>
        </p:nvPicPr>
        <p:blipFill>
          <a:blip r:embed="rId1"/>
          <a:stretch/>
        </p:blipFill>
        <p:spPr>
          <a:xfrm>
            <a:off x="4649760" y="3048120"/>
            <a:ext cx="1836720" cy="2057400"/>
          </a:xfrm>
          <a:prstGeom prst="rect">
            <a:avLst/>
          </a:prstGeom>
          <a:ln w="0">
            <a:noFill/>
          </a:ln>
        </p:spPr>
      </p:pic>
      <p:sp>
        <p:nvSpPr>
          <p:cNvPr id="3959" name="Text Box 20"/>
          <p:cNvSpPr/>
          <p:nvPr/>
        </p:nvSpPr>
        <p:spPr>
          <a:xfrm rot="18513000">
            <a:off x="4518000" y="342180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istemas segmentados según capacidad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21"/>
          <p:cNvSpPr/>
          <p:nvPr/>
        </p:nvSpPr>
        <p:spPr>
          <a:xfrm>
            <a:off x="6516720" y="1413000"/>
            <a:ext cx="2376360" cy="3168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22"/>
          <p:cNvSpPr/>
          <p:nvPr/>
        </p:nvSpPr>
        <p:spPr>
          <a:xfrm>
            <a:off x="6659640" y="2060640"/>
            <a:ext cx="208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OTECCIÓN SOCIAL UNIVERSAL COMO DERECH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800" spc="-1" strike="noStrike">
                <a:solidFill>
                  <a:srgbClr val="002060"/>
                </a:solidFill>
                <a:latin typeface="Arial"/>
              </a:rPr>
              <a:t>PACTO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La Seguridad Social Costarricense: Salud y Pensiones, Regímenes Contributivo y No Contributivo, son el resultado de un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Pacto Social y Político</a:t>
            </a: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, donde los riesgos de Enfermar y Parir; de Envejecer, Invalidarse y Morir,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son todos riesgos sociales y no individuales.</a:t>
            </a:r>
            <a:r>
              <a:rPr b="0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Pacto de Ochomogo, 19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USAS DE LA MEJORA DE LA SALUD EN 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Group 4"/>
          <p:cNvGrpSpPr/>
          <p:nvPr/>
        </p:nvGrpSpPr>
        <p:grpSpPr>
          <a:xfrm>
            <a:off x="1476360" y="1413000"/>
            <a:ext cx="6120000" cy="1485720"/>
            <a:chOff x="1476360" y="1413000"/>
            <a:chExt cx="6120000" cy="1485720"/>
          </a:xfrm>
        </p:grpSpPr>
        <p:sp>
          <p:nvSpPr>
            <p:cNvPr id="3966" name="Oval 5"/>
            <p:cNvSpPr/>
            <p:nvPr/>
          </p:nvSpPr>
          <p:spPr>
            <a:xfrm>
              <a:off x="3852720" y="1413000"/>
              <a:ext cx="1295640" cy="1257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Text Box 6"/>
            <p:cNvSpPr/>
            <p:nvPr/>
          </p:nvSpPr>
          <p:spPr>
            <a:xfrm>
              <a:off x="3851280" y="160344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EJ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SAL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Line 7"/>
            <p:cNvSpPr/>
            <p:nvPr/>
          </p:nvSpPr>
          <p:spPr>
            <a:xfrm flipV="1">
              <a:off x="1476360" y="1962000"/>
              <a:ext cx="23749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Line 8"/>
            <p:cNvSpPr/>
            <p:nvPr/>
          </p:nvSpPr>
          <p:spPr>
            <a:xfrm flipH="1" flipV="1">
              <a:off x="4838760" y="2556000"/>
              <a:ext cx="3808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Line 9"/>
            <p:cNvSpPr/>
            <p:nvPr/>
          </p:nvSpPr>
          <p:spPr>
            <a:xfrm flipV="1">
              <a:off x="3610080" y="25560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Line 10"/>
            <p:cNvSpPr/>
            <p:nvPr/>
          </p:nvSpPr>
          <p:spPr>
            <a:xfrm>
              <a:off x="5148360" y="1962000"/>
              <a:ext cx="244800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2" name="Group 11" descr=""/>
          <p:cNvPicPr/>
          <p:nvPr/>
        </p:nvPicPr>
        <p:blipFill>
          <a:blip r:embed="rId1"/>
          <a:stretch/>
        </p:blipFill>
        <p:spPr>
          <a:xfrm>
            <a:off x="378000" y="2908440"/>
            <a:ext cx="8388000" cy="3352680"/>
          </a:xfrm>
          <a:prstGeom prst="rect">
            <a:avLst/>
          </a:prstGeom>
          <a:ln w="0">
            <a:noFill/>
          </a:ln>
        </p:spPr>
      </p:pic>
      <p:sp>
        <p:nvSpPr>
          <p:cNvPr id="3973" name="Text Box 31"/>
          <p:cNvSpPr/>
          <p:nvPr/>
        </p:nvSpPr>
        <p:spPr>
          <a:xfrm>
            <a:off x="333360" y="6372360"/>
            <a:ext cx="573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UTOR: Dr. Guido Miranda Gutierrez, Expresidente Ejecutivo, CC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NTEX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</a:t>
            </a: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Sector Salu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AutoShape 3"/>
          <p:cNvSpPr/>
          <p:nvPr/>
        </p:nvSpPr>
        <p:spPr>
          <a:xfrm>
            <a:off x="3695760" y="5106960"/>
            <a:ext cx="17398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AutoShape 4"/>
          <p:cNvSpPr/>
          <p:nvPr/>
        </p:nvSpPr>
        <p:spPr>
          <a:xfrm>
            <a:off x="1679400" y="414324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AutoShape 5"/>
          <p:cNvSpPr/>
          <p:nvPr/>
        </p:nvSpPr>
        <p:spPr>
          <a:xfrm>
            <a:off x="5724360" y="4149720"/>
            <a:ext cx="19432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AutoShape 6"/>
          <p:cNvSpPr/>
          <p:nvPr/>
        </p:nvSpPr>
        <p:spPr>
          <a:xfrm>
            <a:off x="5724360" y="249228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.C.S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AutoShape 7"/>
          <p:cNvSpPr/>
          <p:nvPr/>
        </p:nvSpPr>
        <p:spPr>
          <a:xfrm>
            <a:off x="1390680" y="2308320"/>
            <a:ext cx="2028960" cy="126504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cue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cantar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Line 8"/>
          <p:cNvSpPr/>
          <p:nvPr/>
        </p:nvSpPr>
        <p:spPr>
          <a:xfrm>
            <a:off x="3225960" y="5278320"/>
            <a:ext cx="355320" cy="35568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9"/>
          <p:cNvSpPr/>
          <p:nvPr/>
        </p:nvSpPr>
        <p:spPr>
          <a:xfrm>
            <a:off x="4229280" y="59436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Line 10"/>
          <p:cNvSpPr/>
          <p:nvPr/>
        </p:nvSpPr>
        <p:spPr>
          <a:xfrm>
            <a:off x="6012000" y="2133720"/>
            <a:ext cx="253800" cy="25380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11"/>
          <p:cNvSpPr/>
          <p:nvPr/>
        </p:nvSpPr>
        <p:spPr>
          <a:xfrm>
            <a:off x="1476360" y="4221000"/>
            <a:ext cx="17524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12"/>
          <p:cNvSpPr/>
          <p:nvPr/>
        </p:nvSpPr>
        <p:spPr>
          <a:xfrm>
            <a:off x="533520" y="4267080"/>
            <a:ext cx="19047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13"/>
          <p:cNvSpPr/>
          <p:nvPr/>
        </p:nvSpPr>
        <p:spPr>
          <a:xfrm>
            <a:off x="6705720" y="4267080"/>
            <a:ext cx="1904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4"/>
          <p:cNvSpPr/>
          <p:nvPr/>
        </p:nvSpPr>
        <p:spPr>
          <a:xfrm>
            <a:off x="1670040" y="4226040"/>
            <a:ext cx="1749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stituto Nacional de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15"/>
          <p:cNvSpPr/>
          <p:nvPr/>
        </p:nvSpPr>
        <p:spPr>
          <a:xfrm>
            <a:off x="3635280" y="5157720"/>
            <a:ext cx="1901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16"/>
          <p:cNvSpPr/>
          <p:nvPr/>
        </p:nvSpPr>
        <p:spPr>
          <a:xfrm>
            <a:off x="5435640" y="4532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Univers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17"/>
          <p:cNvSpPr/>
          <p:nvPr/>
        </p:nvSpPr>
        <p:spPr>
          <a:xfrm flipH="1">
            <a:off x="5516640" y="5138640"/>
            <a:ext cx="30456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Line 18"/>
          <p:cNvSpPr/>
          <p:nvPr/>
        </p:nvSpPr>
        <p:spPr>
          <a:xfrm flipH="1">
            <a:off x="2366640" y="364500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19"/>
          <p:cNvSpPr/>
          <p:nvPr/>
        </p:nvSpPr>
        <p:spPr>
          <a:xfrm>
            <a:off x="6597720" y="365436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Line 20"/>
          <p:cNvSpPr/>
          <p:nvPr/>
        </p:nvSpPr>
        <p:spPr>
          <a:xfrm flipH="1">
            <a:off x="2971440" y="1989000"/>
            <a:ext cx="30492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AutoShape 21"/>
          <p:cNvSpPr/>
          <p:nvPr/>
        </p:nvSpPr>
        <p:spPr>
          <a:xfrm>
            <a:off x="3348000" y="1413000"/>
            <a:ext cx="2592360" cy="120168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Line 22"/>
          <p:cNvSpPr/>
          <p:nvPr/>
        </p:nvSpPr>
        <p:spPr>
          <a:xfrm>
            <a:off x="1601640" y="1268280"/>
            <a:ext cx="693432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400" spc="-1" strike="noStrike" u="sng">
                <a:solidFill>
                  <a:srgbClr val="002060"/>
                </a:solidFill>
                <a:uFillTx/>
                <a:latin typeface="Arial"/>
              </a:rPr>
              <a:t>Principios de la Seguridad Social Costarrice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599760" y="2122560"/>
            <a:ext cx="777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Solid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Univers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Particip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Freeform 2"/>
          <p:cNvSpPr/>
          <p:nvPr/>
        </p:nvSpPr>
        <p:spPr>
          <a:xfrm>
            <a:off x="4184640" y="2133720"/>
            <a:ext cx="1971720" cy="17557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42" h="1106">
                <a:moveTo>
                  <a:pt x="832" y="223"/>
                </a:moveTo>
                <a:lnTo>
                  <a:pt x="841" y="223"/>
                </a:lnTo>
                <a:lnTo>
                  <a:pt x="952" y="300"/>
                </a:lnTo>
                <a:lnTo>
                  <a:pt x="1003" y="300"/>
                </a:lnTo>
                <a:lnTo>
                  <a:pt x="1105" y="300"/>
                </a:lnTo>
                <a:lnTo>
                  <a:pt x="1173" y="300"/>
                </a:lnTo>
                <a:lnTo>
                  <a:pt x="1241" y="300"/>
                </a:lnTo>
                <a:lnTo>
                  <a:pt x="1241" y="310"/>
                </a:lnTo>
                <a:lnTo>
                  <a:pt x="1232" y="310"/>
                </a:lnTo>
                <a:lnTo>
                  <a:pt x="1232" y="320"/>
                </a:lnTo>
                <a:lnTo>
                  <a:pt x="1224" y="320"/>
                </a:lnTo>
                <a:lnTo>
                  <a:pt x="1224" y="329"/>
                </a:lnTo>
                <a:lnTo>
                  <a:pt x="1215" y="329"/>
                </a:lnTo>
                <a:lnTo>
                  <a:pt x="1215" y="339"/>
                </a:lnTo>
                <a:lnTo>
                  <a:pt x="1207" y="339"/>
                </a:lnTo>
                <a:lnTo>
                  <a:pt x="1207" y="349"/>
                </a:lnTo>
                <a:lnTo>
                  <a:pt x="1215" y="349"/>
                </a:lnTo>
                <a:lnTo>
                  <a:pt x="1215" y="359"/>
                </a:lnTo>
                <a:lnTo>
                  <a:pt x="1207" y="359"/>
                </a:lnTo>
                <a:lnTo>
                  <a:pt x="1207" y="368"/>
                </a:lnTo>
                <a:lnTo>
                  <a:pt x="1198" y="368"/>
                </a:lnTo>
                <a:lnTo>
                  <a:pt x="1198" y="378"/>
                </a:lnTo>
                <a:lnTo>
                  <a:pt x="1207" y="378"/>
                </a:lnTo>
                <a:lnTo>
                  <a:pt x="1198" y="378"/>
                </a:lnTo>
                <a:lnTo>
                  <a:pt x="1198" y="388"/>
                </a:lnTo>
                <a:lnTo>
                  <a:pt x="1207" y="397"/>
                </a:lnTo>
                <a:lnTo>
                  <a:pt x="1207" y="407"/>
                </a:lnTo>
                <a:lnTo>
                  <a:pt x="1207" y="417"/>
                </a:lnTo>
                <a:lnTo>
                  <a:pt x="1198" y="417"/>
                </a:lnTo>
                <a:lnTo>
                  <a:pt x="1207" y="417"/>
                </a:lnTo>
                <a:lnTo>
                  <a:pt x="1207" y="426"/>
                </a:lnTo>
                <a:lnTo>
                  <a:pt x="1207" y="436"/>
                </a:lnTo>
                <a:lnTo>
                  <a:pt x="1207" y="426"/>
                </a:lnTo>
                <a:lnTo>
                  <a:pt x="1215" y="436"/>
                </a:lnTo>
                <a:lnTo>
                  <a:pt x="1207" y="436"/>
                </a:lnTo>
                <a:lnTo>
                  <a:pt x="1215" y="436"/>
                </a:lnTo>
                <a:lnTo>
                  <a:pt x="1215" y="446"/>
                </a:lnTo>
                <a:lnTo>
                  <a:pt x="1215" y="456"/>
                </a:lnTo>
                <a:lnTo>
                  <a:pt x="1215" y="465"/>
                </a:lnTo>
                <a:lnTo>
                  <a:pt x="1215" y="475"/>
                </a:lnTo>
                <a:lnTo>
                  <a:pt x="1215" y="485"/>
                </a:lnTo>
                <a:lnTo>
                  <a:pt x="1215" y="494"/>
                </a:lnTo>
                <a:lnTo>
                  <a:pt x="1215" y="504"/>
                </a:lnTo>
                <a:lnTo>
                  <a:pt x="1224" y="504"/>
                </a:lnTo>
                <a:lnTo>
                  <a:pt x="1215" y="504"/>
                </a:lnTo>
                <a:lnTo>
                  <a:pt x="1215" y="514"/>
                </a:lnTo>
                <a:lnTo>
                  <a:pt x="1215" y="523"/>
                </a:lnTo>
                <a:lnTo>
                  <a:pt x="1215" y="533"/>
                </a:lnTo>
                <a:lnTo>
                  <a:pt x="1215" y="543"/>
                </a:lnTo>
                <a:lnTo>
                  <a:pt x="1207" y="543"/>
                </a:lnTo>
                <a:lnTo>
                  <a:pt x="1207" y="553"/>
                </a:lnTo>
                <a:lnTo>
                  <a:pt x="1198" y="562"/>
                </a:lnTo>
                <a:lnTo>
                  <a:pt x="1198" y="572"/>
                </a:lnTo>
                <a:lnTo>
                  <a:pt x="1198" y="582"/>
                </a:lnTo>
                <a:lnTo>
                  <a:pt x="1190" y="582"/>
                </a:lnTo>
                <a:lnTo>
                  <a:pt x="1190" y="591"/>
                </a:lnTo>
                <a:lnTo>
                  <a:pt x="1181" y="591"/>
                </a:lnTo>
                <a:lnTo>
                  <a:pt x="1181" y="601"/>
                </a:lnTo>
                <a:lnTo>
                  <a:pt x="1173" y="601"/>
                </a:lnTo>
                <a:lnTo>
                  <a:pt x="1173" y="611"/>
                </a:lnTo>
                <a:lnTo>
                  <a:pt x="1173" y="620"/>
                </a:lnTo>
                <a:lnTo>
                  <a:pt x="1164" y="620"/>
                </a:lnTo>
                <a:lnTo>
                  <a:pt x="1164" y="630"/>
                </a:lnTo>
                <a:lnTo>
                  <a:pt x="1164" y="640"/>
                </a:lnTo>
                <a:lnTo>
                  <a:pt x="1156" y="640"/>
                </a:lnTo>
                <a:lnTo>
                  <a:pt x="1156" y="650"/>
                </a:lnTo>
                <a:lnTo>
                  <a:pt x="1156" y="659"/>
                </a:lnTo>
                <a:lnTo>
                  <a:pt x="1147" y="659"/>
                </a:lnTo>
                <a:lnTo>
                  <a:pt x="1147" y="669"/>
                </a:lnTo>
                <a:lnTo>
                  <a:pt x="1147" y="679"/>
                </a:lnTo>
                <a:lnTo>
                  <a:pt x="1139" y="679"/>
                </a:lnTo>
                <a:lnTo>
                  <a:pt x="1139" y="688"/>
                </a:lnTo>
                <a:lnTo>
                  <a:pt x="1130" y="688"/>
                </a:lnTo>
                <a:lnTo>
                  <a:pt x="1130" y="698"/>
                </a:lnTo>
                <a:lnTo>
                  <a:pt x="1130" y="708"/>
                </a:lnTo>
                <a:lnTo>
                  <a:pt x="1122" y="708"/>
                </a:lnTo>
                <a:lnTo>
                  <a:pt x="1122" y="717"/>
                </a:lnTo>
                <a:lnTo>
                  <a:pt x="1130" y="717"/>
                </a:lnTo>
                <a:lnTo>
                  <a:pt x="1130" y="727"/>
                </a:lnTo>
                <a:lnTo>
                  <a:pt x="1130" y="737"/>
                </a:lnTo>
                <a:lnTo>
                  <a:pt x="1122" y="737"/>
                </a:lnTo>
                <a:lnTo>
                  <a:pt x="1130" y="737"/>
                </a:lnTo>
                <a:lnTo>
                  <a:pt x="1130" y="747"/>
                </a:lnTo>
                <a:lnTo>
                  <a:pt x="1122" y="747"/>
                </a:lnTo>
                <a:lnTo>
                  <a:pt x="1122" y="756"/>
                </a:lnTo>
                <a:lnTo>
                  <a:pt x="1113" y="756"/>
                </a:lnTo>
                <a:lnTo>
                  <a:pt x="1113" y="766"/>
                </a:lnTo>
                <a:lnTo>
                  <a:pt x="1113" y="776"/>
                </a:lnTo>
                <a:lnTo>
                  <a:pt x="1113" y="785"/>
                </a:lnTo>
                <a:lnTo>
                  <a:pt x="1105" y="785"/>
                </a:lnTo>
                <a:lnTo>
                  <a:pt x="1105" y="795"/>
                </a:lnTo>
                <a:lnTo>
                  <a:pt x="1096" y="795"/>
                </a:lnTo>
                <a:lnTo>
                  <a:pt x="1096" y="805"/>
                </a:lnTo>
                <a:lnTo>
                  <a:pt x="1088" y="805"/>
                </a:lnTo>
                <a:lnTo>
                  <a:pt x="1088" y="814"/>
                </a:lnTo>
                <a:lnTo>
                  <a:pt x="1079" y="814"/>
                </a:lnTo>
                <a:lnTo>
                  <a:pt x="1071" y="814"/>
                </a:lnTo>
                <a:lnTo>
                  <a:pt x="1071" y="824"/>
                </a:lnTo>
                <a:lnTo>
                  <a:pt x="1071" y="834"/>
                </a:lnTo>
                <a:lnTo>
                  <a:pt x="1062" y="834"/>
                </a:lnTo>
                <a:lnTo>
                  <a:pt x="1062" y="844"/>
                </a:lnTo>
                <a:lnTo>
                  <a:pt x="1062" y="853"/>
                </a:lnTo>
                <a:lnTo>
                  <a:pt x="1054" y="853"/>
                </a:lnTo>
                <a:lnTo>
                  <a:pt x="1054" y="863"/>
                </a:lnTo>
                <a:lnTo>
                  <a:pt x="1045" y="863"/>
                </a:lnTo>
                <a:lnTo>
                  <a:pt x="1045" y="873"/>
                </a:lnTo>
                <a:lnTo>
                  <a:pt x="1054" y="873"/>
                </a:lnTo>
                <a:lnTo>
                  <a:pt x="1054" y="882"/>
                </a:lnTo>
                <a:lnTo>
                  <a:pt x="1054" y="892"/>
                </a:lnTo>
                <a:lnTo>
                  <a:pt x="1054" y="902"/>
                </a:lnTo>
                <a:lnTo>
                  <a:pt x="1045" y="902"/>
                </a:lnTo>
                <a:lnTo>
                  <a:pt x="1045" y="911"/>
                </a:lnTo>
                <a:lnTo>
                  <a:pt x="1045" y="921"/>
                </a:lnTo>
                <a:lnTo>
                  <a:pt x="1045" y="931"/>
                </a:lnTo>
                <a:lnTo>
                  <a:pt x="1037" y="931"/>
                </a:lnTo>
                <a:lnTo>
                  <a:pt x="1045" y="931"/>
                </a:lnTo>
                <a:lnTo>
                  <a:pt x="1045" y="941"/>
                </a:lnTo>
                <a:lnTo>
                  <a:pt x="1045" y="950"/>
                </a:lnTo>
                <a:lnTo>
                  <a:pt x="1045" y="960"/>
                </a:lnTo>
                <a:lnTo>
                  <a:pt x="1054" y="960"/>
                </a:lnTo>
                <a:lnTo>
                  <a:pt x="1054" y="970"/>
                </a:lnTo>
                <a:lnTo>
                  <a:pt x="1062" y="970"/>
                </a:lnTo>
                <a:lnTo>
                  <a:pt x="1062" y="979"/>
                </a:lnTo>
                <a:lnTo>
                  <a:pt x="1062" y="989"/>
                </a:lnTo>
                <a:lnTo>
                  <a:pt x="1062" y="999"/>
                </a:lnTo>
                <a:lnTo>
                  <a:pt x="1071" y="999"/>
                </a:lnTo>
                <a:lnTo>
                  <a:pt x="1071" y="1008"/>
                </a:lnTo>
                <a:lnTo>
                  <a:pt x="1071" y="1018"/>
                </a:lnTo>
                <a:lnTo>
                  <a:pt x="1071" y="1028"/>
                </a:lnTo>
                <a:lnTo>
                  <a:pt x="1062" y="1028"/>
                </a:lnTo>
                <a:lnTo>
                  <a:pt x="1062" y="1018"/>
                </a:lnTo>
                <a:lnTo>
                  <a:pt x="1054" y="1018"/>
                </a:lnTo>
                <a:lnTo>
                  <a:pt x="1054" y="1008"/>
                </a:lnTo>
                <a:lnTo>
                  <a:pt x="1045" y="1008"/>
                </a:lnTo>
                <a:lnTo>
                  <a:pt x="1045" y="999"/>
                </a:lnTo>
                <a:lnTo>
                  <a:pt x="1037" y="999"/>
                </a:lnTo>
                <a:lnTo>
                  <a:pt x="1028" y="999"/>
                </a:lnTo>
                <a:lnTo>
                  <a:pt x="1020" y="989"/>
                </a:lnTo>
                <a:lnTo>
                  <a:pt x="1020" y="979"/>
                </a:lnTo>
                <a:lnTo>
                  <a:pt x="1011" y="979"/>
                </a:lnTo>
                <a:lnTo>
                  <a:pt x="1011" y="970"/>
                </a:lnTo>
                <a:lnTo>
                  <a:pt x="1011" y="960"/>
                </a:lnTo>
                <a:lnTo>
                  <a:pt x="1003" y="960"/>
                </a:lnTo>
                <a:lnTo>
                  <a:pt x="994" y="960"/>
                </a:lnTo>
                <a:lnTo>
                  <a:pt x="986" y="960"/>
                </a:lnTo>
                <a:lnTo>
                  <a:pt x="986" y="950"/>
                </a:lnTo>
                <a:lnTo>
                  <a:pt x="977" y="950"/>
                </a:lnTo>
                <a:lnTo>
                  <a:pt x="969" y="950"/>
                </a:lnTo>
                <a:lnTo>
                  <a:pt x="969" y="941"/>
                </a:lnTo>
                <a:lnTo>
                  <a:pt x="960" y="941"/>
                </a:lnTo>
                <a:lnTo>
                  <a:pt x="960" y="931"/>
                </a:lnTo>
                <a:lnTo>
                  <a:pt x="952" y="931"/>
                </a:lnTo>
                <a:lnTo>
                  <a:pt x="952" y="921"/>
                </a:lnTo>
                <a:lnTo>
                  <a:pt x="943" y="921"/>
                </a:lnTo>
                <a:lnTo>
                  <a:pt x="935" y="921"/>
                </a:lnTo>
                <a:lnTo>
                  <a:pt x="935" y="911"/>
                </a:lnTo>
                <a:lnTo>
                  <a:pt x="926" y="911"/>
                </a:lnTo>
                <a:lnTo>
                  <a:pt x="926" y="902"/>
                </a:lnTo>
                <a:lnTo>
                  <a:pt x="935" y="902"/>
                </a:lnTo>
                <a:lnTo>
                  <a:pt x="926" y="902"/>
                </a:lnTo>
                <a:lnTo>
                  <a:pt x="926" y="892"/>
                </a:lnTo>
                <a:lnTo>
                  <a:pt x="918" y="892"/>
                </a:lnTo>
                <a:lnTo>
                  <a:pt x="918" y="882"/>
                </a:lnTo>
                <a:lnTo>
                  <a:pt x="909" y="882"/>
                </a:lnTo>
                <a:lnTo>
                  <a:pt x="909" y="892"/>
                </a:lnTo>
                <a:lnTo>
                  <a:pt x="901" y="892"/>
                </a:lnTo>
                <a:lnTo>
                  <a:pt x="901" y="902"/>
                </a:lnTo>
                <a:lnTo>
                  <a:pt x="892" y="902"/>
                </a:lnTo>
                <a:lnTo>
                  <a:pt x="892" y="911"/>
                </a:lnTo>
                <a:lnTo>
                  <a:pt x="892" y="921"/>
                </a:lnTo>
                <a:lnTo>
                  <a:pt x="884" y="921"/>
                </a:lnTo>
                <a:lnTo>
                  <a:pt x="884" y="931"/>
                </a:lnTo>
                <a:lnTo>
                  <a:pt x="875" y="931"/>
                </a:lnTo>
                <a:lnTo>
                  <a:pt x="867" y="931"/>
                </a:lnTo>
                <a:lnTo>
                  <a:pt x="858" y="931"/>
                </a:lnTo>
                <a:lnTo>
                  <a:pt x="858" y="921"/>
                </a:lnTo>
                <a:lnTo>
                  <a:pt x="849" y="921"/>
                </a:lnTo>
                <a:lnTo>
                  <a:pt x="849" y="931"/>
                </a:lnTo>
                <a:lnTo>
                  <a:pt x="841" y="931"/>
                </a:lnTo>
                <a:lnTo>
                  <a:pt x="841" y="921"/>
                </a:lnTo>
                <a:lnTo>
                  <a:pt x="832" y="921"/>
                </a:lnTo>
                <a:lnTo>
                  <a:pt x="824" y="921"/>
                </a:lnTo>
                <a:lnTo>
                  <a:pt x="815" y="921"/>
                </a:lnTo>
                <a:lnTo>
                  <a:pt x="807" y="921"/>
                </a:lnTo>
                <a:lnTo>
                  <a:pt x="807" y="911"/>
                </a:lnTo>
                <a:lnTo>
                  <a:pt x="807" y="902"/>
                </a:lnTo>
                <a:lnTo>
                  <a:pt x="807" y="892"/>
                </a:lnTo>
                <a:lnTo>
                  <a:pt x="798" y="892"/>
                </a:lnTo>
                <a:lnTo>
                  <a:pt x="798" y="882"/>
                </a:lnTo>
                <a:lnTo>
                  <a:pt x="807" y="873"/>
                </a:lnTo>
                <a:lnTo>
                  <a:pt x="807" y="863"/>
                </a:lnTo>
                <a:lnTo>
                  <a:pt x="798" y="863"/>
                </a:lnTo>
                <a:lnTo>
                  <a:pt x="790" y="863"/>
                </a:lnTo>
                <a:lnTo>
                  <a:pt x="781" y="863"/>
                </a:lnTo>
                <a:lnTo>
                  <a:pt x="781" y="873"/>
                </a:lnTo>
                <a:lnTo>
                  <a:pt x="773" y="873"/>
                </a:lnTo>
                <a:lnTo>
                  <a:pt x="773" y="882"/>
                </a:lnTo>
                <a:lnTo>
                  <a:pt x="764" y="892"/>
                </a:lnTo>
                <a:lnTo>
                  <a:pt x="764" y="902"/>
                </a:lnTo>
                <a:lnTo>
                  <a:pt x="764" y="911"/>
                </a:lnTo>
                <a:lnTo>
                  <a:pt x="764" y="921"/>
                </a:lnTo>
                <a:lnTo>
                  <a:pt x="756" y="921"/>
                </a:lnTo>
                <a:lnTo>
                  <a:pt x="756" y="931"/>
                </a:lnTo>
                <a:lnTo>
                  <a:pt x="756" y="941"/>
                </a:lnTo>
                <a:lnTo>
                  <a:pt x="747" y="941"/>
                </a:lnTo>
                <a:lnTo>
                  <a:pt x="747" y="950"/>
                </a:lnTo>
                <a:lnTo>
                  <a:pt x="747" y="960"/>
                </a:lnTo>
                <a:lnTo>
                  <a:pt x="747" y="950"/>
                </a:lnTo>
                <a:lnTo>
                  <a:pt x="739" y="950"/>
                </a:lnTo>
                <a:lnTo>
                  <a:pt x="739" y="960"/>
                </a:lnTo>
                <a:lnTo>
                  <a:pt x="730" y="960"/>
                </a:lnTo>
                <a:lnTo>
                  <a:pt x="722" y="960"/>
                </a:lnTo>
                <a:lnTo>
                  <a:pt x="713" y="960"/>
                </a:lnTo>
                <a:lnTo>
                  <a:pt x="705" y="960"/>
                </a:lnTo>
                <a:lnTo>
                  <a:pt x="705" y="970"/>
                </a:lnTo>
                <a:lnTo>
                  <a:pt x="696" y="970"/>
                </a:lnTo>
                <a:lnTo>
                  <a:pt x="696" y="979"/>
                </a:lnTo>
                <a:lnTo>
                  <a:pt x="688" y="979"/>
                </a:lnTo>
                <a:lnTo>
                  <a:pt x="688" y="989"/>
                </a:lnTo>
                <a:lnTo>
                  <a:pt x="688" y="999"/>
                </a:lnTo>
                <a:lnTo>
                  <a:pt x="679" y="999"/>
                </a:lnTo>
                <a:lnTo>
                  <a:pt x="679" y="1008"/>
                </a:lnTo>
                <a:lnTo>
                  <a:pt x="679" y="999"/>
                </a:lnTo>
                <a:lnTo>
                  <a:pt x="671" y="999"/>
                </a:lnTo>
                <a:lnTo>
                  <a:pt x="671" y="1008"/>
                </a:lnTo>
                <a:lnTo>
                  <a:pt x="662" y="1008"/>
                </a:lnTo>
                <a:lnTo>
                  <a:pt x="662" y="1018"/>
                </a:lnTo>
                <a:lnTo>
                  <a:pt x="662" y="1008"/>
                </a:lnTo>
                <a:lnTo>
                  <a:pt x="662" y="1018"/>
                </a:lnTo>
                <a:lnTo>
                  <a:pt x="654" y="1018"/>
                </a:lnTo>
                <a:lnTo>
                  <a:pt x="654" y="1008"/>
                </a:lnTo>
                <a:lnTo>
                  <a:pt x="645" y="1008"/>
                </a:lnTo>
                <a:lnTo>
                  <a:pt x="645" y="1018"/>
                </a:lnTo>
                <a:lnTo>
                  <a:pt x="654" y="1018"/>
                </a:lnTo>
                <a:lnTo>
                  <a:pt x="645" y="1018"/>
                </a:lnTo>
                <a:lnTo>
                  <a:pt x="645" y="1028"/>
                </a:lnTo>
                <a:lnTo>
                  <a:pt x="637" y="1028"/>
                </a:lnTo>
                <a:lnTo>
                  <a:pt x="628" y="1028"/>
                </a:lnTo>
                <a:lnTo>
                  <a:pt x="628" y="1018"/>
                </a:lnTo>
                <a:lnTo>
                  <a:pt x="628" y="1028"/>
                </a:lnTo>
                <a:lnTo>
                  <a:pt x="621" y="1038"/>
                </a:lnTo>
                <a:lnTo>
                  <a:pt x="621" y="1047"/>
                </a:lnTo>
                <a:lnTo>
                  <a:pt x="621" y="1057"/>
                </a:lnTo>
                <a:lnTo>
                  <a:pt x="621" y="1067"/>
                </a:lnTo>
                <a:lnTo>
                  <a:pt x="621" y="1076"/>
                </a:lnTo>
                <a:lnTo>
                  <a:pt x="628" y="1076"/>
                </a:lnTo>
                <a:lnTo>
                  <a:pt x="621" y="1076"/>
                </a:lnTo>
                <a:lnTo>
                  <a:pt x="621" y="1086"/>
                </a:lnTo>
                <a:lnTo>
                  <a:pt x="621" y="1096"/>
                </a:lnTo>
                <a:lnTo>
                  <a:pt x="621" y="1105"/>
                </a:lnTo>
                <a:lnTo>
                  <a:pt x="612" y="1105"/>
                </a:lnTo>
                <a:lnTo>
                  <a:pt x="604" y="1105"/>
                </a:lnTo>
                <a:lnTo>
                  <a:pt x="604" y="1096"/>
                </a:lnTo>
                <a:lnTo>
                  <a:pt x="604" y="1086"/>
                </a:lnTo>
                <a:lnTo>
                  <a:pt x="604" y="1076"/>
                </a:lnTo>
                <a:lnTo>
                  <a:pt x="595" y="1076"/>
                </a:lnTo>
                <a:lnTo>
                  <a:pt x="595" y="1067"/>
                </a:lnTo>
                <a:lnTo>
                  <a:pt x="587" y="1057"/>
                </a:lnTo>
                <a:lnTo>
                  <a:pt x="578" y="1057"/>
                </a:lnTo>
                <a:lnTo>
                  <a:pt x="578" y="1067"/>
                </a:lnTo>
                <a:lnTo>
                  <a:pt x="578" y="1076"/>
                </a:lnTo>
                <a:lnTo>
                  <a:pt x="570" y="1076"/>
                </a:lnTo>
                <a:lnTo>
                  <a:pt x="578" y="1076"/>
                </a:lnTo>
                <a:lnTo>
                  <a:pt x="578" y="1086"/>
                </a:lnTo>
                <a:lnTo>
                  <a:pt x="570" y="1086"/>
                </a:lnTo>
                <a:lnTo>
                  <a:pt x="570" y="1076"/>
                </a:lnTo>
                <a:lnTo>
                  <a:pt x="561" y="1076"/>
                </a:lnTo>
                <a:lnTo>
                  <a:pt x="553" y="1067"/>
                </a:lnTo>
                <a:lnTo>
                  <a:pt x="544" y="1067"/>
                </a:lnTo>
                <a:lnTo>
                  <a:pt x="544" y="1057"/>
                </a:lnTo>
                <a:lnTo>
                  <a:pt x="536" y="1057"/>
                </a:lnTo>
                <a:lnTo>
                  <a:pt x="536" y="1047"/>
                </a:lnTo>
                <a:lnTo>
                  <a:pt x="527" y="1047"/>
                </a:lnTo>
                <a:lnTo>
                  <a:pt x="527" y="1038"/>
                </a:lnTo>
                <a:lnTo>
                  <a:pt x="519" y="1038"/>
                </a:lnTo>
                <a:lnTo>
                  <a:pt x="519" y="1028"/>
                </a:lnTo>
                <a:lnTo>
                  <a:pt x="519" y="1018"/>
                </a:lnTo>
                <a:lnTo>
                  <a:pt x="510" y="1018"/>
                </a:lnTo>
                <a:lnTo>
                  <a:pt x="510" y="1008"/>
                </a:lnTo>
                <a:lnTo>
                  <a:pt x="502" y="1008"/>
                </a:lnTo>
                <a:lnTo>
                  <a:pt x="493" y="1008"/>
                </a:lnTo>
                <a:lnTo>
                  <a:pt x="493" y="99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93" y="979"/>
                </a:lnTo>
                <a:lnTo>
                  <a:pt x="502" y="979"/>
                </a:lnTo>
                <a:lnTo>
                  <a:pt x="502" y="970"/>
                </a:lnTo>
                <a:lnTo>
                  <a:pt x="502" y="960"/>
                </a:lnTo>
                <a:lnTo>
                  <a:pt x="502" y="950"/>
                </a:lnTo>
                <a:lnTo>
                  <a:pt x="502" y="941"/>
                </a:lnTo>
                <a:lnTo>
                  <a:pt x="502" y="931"/>
                </a:lnTo>
                <a:lnTo>
                  <a:pt x="493" y="931"/>
                </a:lnTo>
                <a:lnTo>
                  <a:pt x="493" y="921"/>
                </a:lnTo>
                <a:lnTo>
                  <a:pt x="502" y="921"/>
                </a:lnTo>
                <a:lnTo>
                  <a:pt x="493" y="921"/>
                </a:lnTo>
                <a:lnTo>
                  <a:pt x="502" y="911"/>
                </a:lnTo>
                <a:lnTo>
                  <a:pt x="502" y="902"/>
                </a:lnTo>
                <a:lnTo>
                  <a:pt x="502" y="911"/>
                </a:lnTo>
                <a:lnTo>
                  <a:pt x="493" y="911"/>
                </a:lnTo>
                <a:lnTo>
                  <a:pt x="485" y="911"/>
                </a:lnTo>
                <a:lnTo>
                  <a:pt x="476" y="911"/>
                </a:lnTo>
                <a:lnTo>
                  <a:pt x="468" y="911"/>
                </a:lnTo>
                <a:lnTo>
                  <a:pt x="468" y="921"/>
                </a:lnTo>
                <a:lnTo>
                  <a:pt x="459" y="921"/>
                </a:lnTo>
                <a:lnTo>
                  <a:pt x="451" y="921"/>
                </a:lnTo>
                <a:lnTo>
                  <a:pt x="451" y="931"/>
                </a:lnTo>
                <a:lnTo>
                  <a:pt x="451" y="921"/>
                </a:lnTo>
                <a:lnTo>
                  <a:pt x="451" y="911"/>
                </a:lnTo>
                <a:lnTo>
                  <a:pt x="442" y="911"/>
                </a:lnTo>
                <a:lnTo>
                  <a:pt x="442" y="902"/>
                </a:lnTo>
                <a:lnTo>
                  <a:pt x="434" y="902"/>
                </a:lnTo>
                <a:lnTo>
                  <a:pt x="434" y="892"/>
                </a:lnTo>
                <a:lnTo>
                  <a:pt x="434" y="882"/>
                </a:lnTo>
                <a:lnTo>
                  <a:pt x="434" y="873"/>
                </a:lnTo>
                <a:lnTo>
                  <a:pt x="434" y="863"/>
                </a:lnTo>
                <a:lnTo>
                  <a:pt x="434" y="853"/>
                </a:lnTo>
                <a:lnTo>
                  <a:pt x="434" y="844"/>
                </a:lnTo>
                <a:lnTo>
                  <a:pt x="434" y="834"/>
                </a:lnTo>
                <a:lnTo>
                  <a:pt x="425" y="834"/>
                </a:lnTo>
                <a:lnTo>
                  <a:pt x="425" y="824"/>
                </a:lnTo>
                <a:lnTo>
                  <a:pt x="425" y="814"/>
                </a:lnTo>
                <a:lnTo>
                  <a:pt x="425" y="824"/>
                </a:lnTo>
                <a:lnTo>
                  <a:pt x="417" y="824"/>
                </a:lnTo>
                <a:lnTo>
                  <a:pt x="408" y="824"/>
                </a:lnTo>
                <a:lnTo>
                  <a:pt x="400" y="824"/>
                </a:lnTo>
                <a:lnTo>
                  <a:pt x="391" y="824"/>
                </a:lnTo>
                <a:lnTo>
                  <a:pt x="391" y="834"/>
                </a:lnTo>
                <a:lnTo>
                  <a:pt x="382" y="834"/>
                </a:lnTo>
                <a:lnTo>
                  <a:pt x="374" y="834"/>
                </a:lnTo>
                <a:lnTo>
                  <a:pt x="365" y="834"/>
                </a:lnTo>
                <a:lnTo>
                  <a:pt x="365" y="824"/>
                </a:lnTo>
                <a:lnTo>
                  <a:pt x="365" y="834"/>
                </a:lnTo>
                <a:lnTo>
                  <a:pt x="357" y="834"/>
                </a:lnTo>
                <a:lnTo>
                  <a:pt x="357" y="824"/>
                </a:lnTo>
                <a:lnTo>
                  <a:pt x="348" y="824"/>
                </a:lnTo>
                <a:lnTo>
                  <a:pt x="340" y="814"/>
                </a:lnTo>
                <a:lnTo>
                  <a:pt x="340" y="776"/>
                </a:lnTo>
                <a:lnTo>
                  <a:pt x="340" y="766"/>
                </a:lnTo>
                <a:lnTo>
                  <a:pt x="331" y="737"/>
                </a:lnTo>
                <a:lnTo>
                  <a:pt x="323" y="737"/>
                </a:lnTo>
                <a:lnTo>
                  <a:pt x="314" y="737"/>
                </a:lnTo>
                <a:lnTo>
                  <a:pt x="323" y="727"/>
                </a:lnTo>
                <a:lnTo>
                  <a:pt x="306" y="727"/>
                </a:lnTo>
                <a:lnTo>
                  <a:pt x="306" y="717"/>
                </a:lnTo>
                <a:lnTo>
                  <a:pt x="306" y="727"/>
                </a:lnTo>
                <a:lnTo>
                  <a:pt x="297" y="727"/>
                </a:lnTo>
                <a:lnTo>
                  <a:pt x="297" y="737"/>
                </a:lnTo>
                <a:lnTo>
                  <a:pt x="297" y="747"/>
                </a:lnTo>
                <a:lnTo>
                  <a:pt x="289" y="747"/>
                </a:lnTo>
                <a:lnTo>
                  <a:pt x="289" y="756"/>
                </a:lnTo>
                <a:lnTo>
                  <a:pt x="280" y="756"/>
                </a:lnTo>
                <a:lnTo>
                  <a:pt x="280" y="766"/>
                </a:lnTo>
                <a:lnTo>
                  <a:pt x="272" y="766"/>
                </a:lnTo>
                <a:lnTo>
                  <a:pt x="280" y="766"/>
                </a:lnTo>
                <a:lnTo>
                  <a:pt x="280" y="776"/>
                </a:lnTo>
                <a:lnTo>
                  <a:pt x="272" y="776"/>
                </a:lnTo>
                <a:lnTo>
                  <a:pt x="272" y="785"/>
                </a:lnTo>
                <a:lnTo>
                  <a:pt x="272" y="795"/>
                </a:lnTo>
                <a:lnTo>
                  <a:pt x="272" y="805"/>
                </a:lnTo>
                <a:lnTo>
                  <a:pt x="263" y="805"/>
                </a:lnTo>
                <a:lnTo>
                  <a:pt x="263" y="795"/>
                </a:lnTo>
                <a:lnTo>
                  <a:pt x="263" y="805"/>
                </a:lnTo>
                <a:lnTo>
                  <a:pt x="255" y="805"/>
                </a:lnTo>
                <a:lnTo>
                  <a:pt x="246" y="805"/>
                </a:lnTo>
                <a:lnTo>
                  <a:pt x="238" y="805"/>
                </a:lnTo>
                <a:lnTo>
                  <a:pt x="238" y="814"/>
                </a:lnTo>
                <a:lnTo>
                  <a:pt x="238" y="805"/>
                </a:lnTo>
                <a:lnTo>
                  <a:pt x="238" y="814"/>
                </a:lnTo>
                <a:lnTo>
                  <a:pt x="229" y="814"/>
                </a:lnTo>
                <a:lnTo>
                  <a:pt x="229" y="805"/>
                </a:lnTo>
                <a:lnTo>
                  <a:pt x="221" y="805"/>
                </a:lnTo>
                <a:lnTo>
                  <a:pt x="221" y="814"/>
                </a:lnTo>
                <a:lnTo>
                  <a:pt x="212" y="814"/>
                </a:lnTo>
                <a:lnTo>
                  <a:pt x="212" y="805"/>
                </a:lnTo>
                <a:lnTo>
                  <a:pt x="212" y="814"/>
                </a:lnTo>
                <a:lnTo>
                  <a:pt x="212" y="805"/>
                </a:lnTo>
                <a:lnTo>
                  <a:pt x="204" y="805"/>
                </a:lnTo>
                <a:lnTo>
                  <a:pt x="204" y="814"/>
                </a:lnTo>
                <a:lnTo>
                  <a:pt x="204" y="805"/>
                </a:lnTo>
                <a:lnTo>
                  <a:pt x="204" y="814"/>
                </a:lnTo>
                <a:lnTo>
                  <a:pt x="195" y="814"/>
                </a:lnTo>
                <a:lnTo>
                  <a:pt x="195" y="805"/>
                </a:lnTo>
                <a:lnTo>
                  <a:pt x="187" y="805"/>
                </a:lnTo>
                <a:lnTo>
                  <a:pt x="187" y="814"/>
                </a:lnTo>
                <a:lnTo>
                  <a:pt x="178" y="814"/>
                </a:lnTo>
                <a:lnTo>
                  <a:pt x="187" y="814"/>
                </a:lnTo>
                <a:lnTo>
                  <a:pt x="187" y="824"/>
                </a:lnTo>
                <a:lnTo>
                  <a:pt x="187" y="834"/>
                </a:lnTo>
                <a:lnTo>
                  <a:pt x="178" y="844"/>
                </a:lnTo>
                <a:lnTo>
                  <a:pt x="187" y="844"/>
                </a:lnTo>
                <a:lnTo>
                  <a:pt x="187" y="853"/>
                </a:lnTo>
                <a:lnTo>
                  <a:pt x="187" y="863"/>
                </a:lnTo>
                <a:lnTo>
                  <a:pt x="187" y="873"/>
                </a:lnTo>
                <a:lnTo>
                  <a:pt x="178" y="873"/>
                </a:lnTo>
                <a:lnTo>
                  <a:pt x="178" y="882"/>
                </a:lnTo>
                <a:lnTo>
                  <a:pt x="178" y="892"/>
                </a:lnTo>
                <a:lnTo>
                  <a:pt x="178" y="882"/>
                </a:lnTo>
                <a:lnTo>
                  <a:pt x="178" y="89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61" y="892"/>
                </a:lnTo>
                <a:lnTo>
                  <a:pt x="170" y="892"/>
                </a:lnTo>
                <a:lnTo>
                  <a:pt x="170" y="902"/>
                </a:lnTo>
                <a:lnTo>
                  <a:pt x="161" y="902"/>
                </a:lnTo>
                <a:lnTo>
                  <a:pt x="170" y="902"/>
                </a:lnTo>
                <a:lnTo>
                  <a:pt x="161" y="902"/>
                </a:lnTo>
                <a:lnTo>
                  <a:pt x="161" y="911"/>
                </a:lnTo>
                <a:lnTo>
                  <a:pt x="153" y="911"/>
                </a:lnTo>
                <a:lnTo>
                  <a:pt x="161" y="911"/>
                </a:lnTo>
                <a:lnTo>
                  <a:pt x="161" y="921"/>
                </a:lnTo>
                <a:lnTo>
                  <a:pt x="153" y="911"/>
                </a:lnTo>
                <a:lnTo>
                  <a:pt x="153" y="921"/>
                </a:lnTo>
                <a:lnTo>
                  <a:pt x="144" y="921"/>
                </a:lnTo>
                <a:lnTo>
                  <a:pt x="144" y="911"/>
                </a:lnTo>
                <a:lnTo>
                  <a:pt x="144" y="902"/>
                </a:lnTo>
                <a:lnTo>
                  <a:pt x="136" y="902"/>
                </a:lnTo>
                <a:lnTo>
                  <a:pt x="144" y="902"/>
                </a:lnTo>
                <a:lnTo>
                  <a:pt x="136" y="902"/>
                </a:lnTo>
                <a:lnTo>
                  <a:pt x="136" y="892"/>
                </a:lnTo>
                <a:lnTo>
                  <a:pt x="136" y="902"/>
                </a:lnTo>
                <a:lnTo>
                  <a:pt x="127" y="902"/>
                </a:lnTo>
                <a:lnTo>
                  <a:pt x="127" y="892"/>
                </a:lnTo>
                <a:lnTo>
                  <a:pt x="119" y="892"/>
                </a:lnTo>
                <a:lnTo>
                  <a:pt x="119" y="902"/>
                </a:lnTo>
                <a:lnTo>
                  <a:pt x="110" y="902"/>
                </a:lnTo>
                <a:lnTo>
                  <a:pt x="102" y="902"/>
                </a:lnTo>
                <a:lnTo>
                  <a:pt x="102" y="892"/>
                </a:lnTo>
                <a:lnTo>
                  <a:pt x="102" y="902"/>
                </a:lnTo>
                <a:lnTo>
                  <a:pt x="93" y="902"/>
                </a:lnTo>
                <a:lnTo>
                  <a:pt x="85" y="902"/>
                </a:lnTo>
                <a:lnTo>
                  <a:pt x="76" y="902"/>
                </a:lnTo>
                <a:lnTo>
                  <a:pt x="68" y="902"/>
                </a:lnTo>
                <a:lnTo>
                  <a:pt x="59" y="902"/>
                </a:lnTo>
                <a:lnTo>
                  <a:pt x="59" y="892"/>
                </a:lnTo>
                <a:lnTo>
                  <a:pt x="59" y="902"/>
                </a:lnTo>
                <a:lnTo>
                  <a:pt x="51" y="902"/>
                </a:lnTo>
                <a:lnTo>
                  <a:pt x="51" y="892"/>
                </a:lnTo>
                <a:lnTo>
                  <a:pt x="51" y="882"/>
                </a:lnTo>
                <a:lnTo>
                  <a:pt x="51" y="873"/>
                </a:lnTo>
                <a:lnTo>
                  <a:pt x="59" y="873"/>
                </a:lnTo>
                <a:lnTo>
                  <a:pt x="59" y="863"/>
                </a:lnTo>
                <a:lnTo>
                  <a:pt x="59" y="853"/>
                </a:lnTo>
                <a:lnTo>
                  <a:pt x="59" y="844"/>
                </a:lnTo>
                <a:lnTo>
                  <a:pt x="59" y="834"/>
                </a:lnTo>
                <a:lnTo>
                  <a:pt x="59" y="824"/>
                </a:lnTo>
                <a:lnTo>
                  <a:pt x="59" y="814"/>
                </a:lnTo>
                <a:lnTo>
                  <a:pt x="59" y="824"/>
                </a:lnTo>
                <a:lnTo>
                  <a:pt x="68" y="814"/>
                </a:lnTo>
                <a:lnTo>
                  <a:pt x="68" y="805"/>
                </a:lnTo>
                <a:lnTo>
                  <a:pt x="59" y="805"/>
                </a:lnTo>
                <a:lnTo>
                  <a:pt x="68" y="805"/>
                </a:lnTo>
                <a:lnTo>
                  <a:pt x="59" y="805"/>
                </a:lnTo>
                <a:lnTo>
                  <a:pt x="59" y="795"/>
                </a:lnTo>
                <a:lnTo>
                  <a:pt x="59" y="785"/>
                </a:lnTo>
                <a:lnTo>
                  <a:pt x="59" y="795"/>
                </a:lnTo>
                <a:lnTo>
                  <a:pt x="51" y="795"/>
                </a:lnTo>
                <a:lnTo>
                  <a:pt x="51" y="785"/>
                </a:lnTo>
                <a:lnTo>
                  <a:pt x="42" y="785"/>
                </a:lnTo>
                <a:lnTo>
                  <a:pt x="42" y="776"/>
                </a:lnTo>
                <a:lnTo>
                  <a:pt x="42" y="766"/>
                </a:lnTo>
                <a:lnTo>
                  <a:pt x="42" y="756"/>
                </a:lnTo>
                <a:lnTo>
                  <a:pt x="34" y="756"/>
                </a:lnTo>
                <a:lnTo>
                  <a:pt x="42" y="756"/>
                </a:lnTo>
                <a:lnTo>
                  <a:pt x="34" y="756"/>
                </a:lnTo>
                <a:lnTo>
                  <a:pt x="34" y="747"/>
                </a:lnTo>
                <a:lnTo>
                  <a:pt x="42" y="747"/>
                </a:lnTo>
                <a:lnTo>
                  <a:pt x="34" y="747"/>
                </a:lnTo>
                <a:lnTo>
                  <a:pt x="42" y="747"/>
                </a:lnTo>
                <a:lnTo>
                  <a:pt x="42" y="737"/>
                </a:lnTo>
                <a:lnTo>
                  <a:pt x="34" y="737"/>
                </a:lnTo>
                <a:lnTo>
                  <a:pt x="42" y="737"/>
                </a:lnTo>
                <a:lnTo>
                  <a:pt x="42" y="727"/>
                </a:lnTo>
                <a:lnTo>
                  <a:pt x="42" y="737"/>
                </a:lnTo>
                <a:lnTo>
                  <a:pt x="51" y="737"/>
                </a:lnTo>
                <a:lnTo>
                  <a:pt x="51" y="727"/>
                </a:lnTo>
                <a:lnTo>
                  <a:pt x="51" y="737"/>
                </a:lnTo>
                <a:lnTo>
                  <a:pt x="51" y="747"/>
                </a:lnTo>
                <a:lnTo>
                  <a:pt x="59" y="747"/>
                </a:lnTo>
                <a:lnTo>
                  <a:pt x="59" y="737"/>
                </a:lnTo>
                <a:lnTo>
                  <a:pt x="68" y="737"/>
                </a:lnTo>
                <a:lnTo>
                  <a:pt x="59" y="737"/>
                </a:lnTo>
                <a:lnTo>
                  <a:pt x="59" y="727"/>
                </a:lnTo>
                <a:lnTo>
                  <a:pt x="68" y="727"/>
                </a:lnTo>
                <a:lnTo>
                  <a:pt x="59" y="727"/>
                </a:lnTo>
                <a:lnTo>
                  <a:pt x="59" y="717"/>
                </a:lnTo>
                <a:lnTo>
                  <a:pt x="59" y="727"/>
                </a:lnTo>
                <a:lnTo>
                  <a:pt x="59" y="717"/>
                </a:lnTo>
                <a:lnTo>
                  <a:pt x="59" y="708"/>
                </a:lnTo>
                <a:lnTo>
                  <a:pt x="51" y="708"/>
                </a:lnTo>
                <a:lnTo>
                  <a:pt x="51" y="698"/>
                </a:lnTo>
                <a:lnTo>
                  <a:pt x="51" y="688"/>
                </a:lnTo>
                <a:lnTo>
                  <a:pt x="51" y="679"/>
                </a:lnTo>
                <a:lnTo>
                  <a:pt x="42" y="669"/>
                </a:lnTo>
                <a:lnTo>
                  <a:pt x="42" y="659"/>
                </a:lnTo>
                <a:lnTo>
                  <a:pt x="42" y="650"/>
                </a:lnTo>
                <a:lnTo>
                  <a:pt x="42" y="640"/>
                </a:lnTo>
                <a:lnTo>
                  <a:pt x="42" y="630"/>
                </a:lnTo>
                <a:lnTo>
                  <a:pt x="34" y="630"/>
                </a:lnTo>
                <a:lnTo>
                  <a:pt x="34" y="620"/>
                </a:lnTo>
                <a:lnTo>
                  <a:pt x="42" y="620"/>
                </a:lnTo>
                <a:lnTo>
                  <a:pt x="42" y="611"/>
                </a:lnTo>
                <a:lnTo>
                  <a:pt x="42" y="601"/>
                </a:lnTo>
                <a:lnTo>
                  <a:pt x="42" y="591"/>
                </a:lnTo>
                <a:lnTo>
                  <a:pt x="42" y="601"/>
                </a:lnTo>
                <a:lnTo>
                  <a:pt x="34" y="601"/>
                </a:lnTo>
                <a:lnTo>
                  <a:pt x="34" y="591"/>
                </a:lnTo>
                <a:lnTo>
                  <a:pt x="25" y="591"/>
                </a:lnTo>
                <a:lnTo>
                  <a:pt x="25" y="582"/>
                </a:lnTo>
                <a:lnTo>
                  <a:pt x="25" y="572"/>
                </a:lnTo>
                <a:lnTo>
                  <a:pt x="17" y="572"/>
                </a:lnTo>
                <a:lnTo>
                  <a:pt x="17" y="562"/>
                </a:lnTo>
                <a:lnTo>
                  <a:pt x="17" y="553"/>
                </a:lnTo>
                <a:lnTo>
                  <a:pt x="8" y="553"/>
                </a:lnTo>
                <a:lnTo>
                  <a:pt x="8" y="562"/>
                </a:lnTo>
                <a:lnTo>
                  <a:pt x="8" y="553"/>
                </a:lnTo>
                <a:lnTo>
                  <a:pt x="8" y="562"/>
                </a:lnTo>
                <a:lnTo>
                  <a:pt x="0" y="562"/>
                </a:lnTo>
                <a:lnTo>
                  <a:pt x="8" y="553"/>
                </a:lnTo>
                <a:lnTo>
                  <a:pt x="0" y="543"/>
                </a:lnTo>
                <a:lnTo>
                  <a:pt x="0" y="533"/>
                </a:lnTo>
                <a:lnTo>
                  <a:pt x="8" y="533"/>
                </a:lnTo>
                <a:lnTo>
                  <a:pt x="17" y="523"/>
                </a:lnTo>
                <a:lnTo>
                  <a:pt x="17" y="533"/>
                </a:lnTo>
                <a:lnTo>
                  <a:pt x="17" y="523"/>
                </a:lnTo>
                <a:lnTo>
                  <a:pt x="25" y="523"/>
                </a:lnTo>
                <a:lnTo>
                  <a:pt x="25" y="514"/>
                </a:lnTo>
                <a:lnTo>
                  <a:pt x="25" y="504"/>
                </a:lnTo>
                <a:lnTo>
                  <a:pt x="34" y="50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34" y="485"/>
                </a:lnTo>
                <a:lnTo>
                  <a:pt x="34" y="475"/>
                </a:lnTo>
                <a:lnTo>
                  <a:pt x="42" y="475"/>
                </a:lnTo>
                <a:lnTo>
                  <a:pt x="42" y="485"/>
                </a:lnTo>
                <a:lnTo>
                  <a:pt x="42" y="475"/>
                </a:lnTo>
                <a:lnTo>
                  <a:pt x="42" y="465"/>
                </a:lnTo>
                <a:lnTo>
                  <a:pt x="42" y="456"/>
                </a:lnTo>
                <a:lnTo>
                  <a:pt x="42" y="465"/>
                </a:lnTo>
                <a:lnTo>
                  <a:pt x="51" y="465"/>
                </a:lnTo>
                <a:lnTo>
                  <a:pt x="51" y="456"/>
                </a:lnTo>
                <a:lnTo>
                  <a:pt x="59" y="456"/>
                </a:lnTo>
                <a:lnTo>
                  <a:pt x="59" y="446"/>
                </a:lnTo>
                <a:lnTo>
                  <a:pt x="68" y="446"/>
                </a:lnTo>
                <a:lnTo>
                  <a:pt x="68" y="436"/>
                </a:lnTo>
                <a:lnTo>
                  <a:pt x="76" y="436"/>
                </a:lnTo>
                <a:lnTo>
                  <a:pt x="76" y="446"/>
                </a:lnTo>
                <a:lnTo>
                  <a:pt x="76" y="436"/>
                </a:lnTo>
                <a:lnTo>
                  <a:pt x="76" y="426"/>
                </a:lnTo>
                <a:lnTo>
                  <a:pt x="85" y="426"/>
                </a:lnTo>
                <a:lnTo>
                  <a:pt x="85" y="417"/>
                </a:lnTo>
                <a:lnTo>
                  <a:pt x="85" y="407"/>
                </a:lnTo>
                <a:lnTo>
                  <a:pt x="85" y="417"/>
                </a:lnTo>
                <a:lnTo>
                  <a:pt x="93" y="417"/>
                </a:lnTo>
                <a:lnTo>
                  <a:pt x="93" y="407"/>
                </a:lnTo>
                <a:lnTo>
                  <a:pt x="102" y="407"/>
                </a:lnTo>
                <a:lnTo>
                  <a:pt x="110" y="407"/>
                </a:lnTo>
                <a:lnTo>
                  <a:pt x="110" y="397"/>
                </a:lnTo>
                <a:lnTo>
                  <a:pt x="119" y="397"/>
                </a:lnTo>
                <a:lnTo>
                  <a:pt x="119" y="388"/>
                </a:lnTo>
                <a:lnTo>
                  <a:pt x="119" y="397"/>
                </a:lnTo>
                <a:lnTo>
                  <a:pt x="127" y="397"/>
                </a:lnTo>
                <a:lnTo>
                  <a:pt x="127" y="388"/>
                </a:lnTo>
                <a:lnTo>
                  <a:pt x="127" y="397"/>
                </a:lnTo>
                <a:lnTo>
                  <a:pt x="136" y="397"/>
                </a:lnTo>
                <a:lnTo>
                  <a:pt x="136" y="388"/>
                </a:lnTo>
                <a:lnTo>
                  <a:pt x="144" y="388"/>
                </a:lnTo>
                <a:lnTo>
                  <a:pt x="144" y="397"/>
                </a:lnTo>
                <a:lnTo>
                  <a:pt x="153" y="388"/>
                </a:lnTo>
                <a:lnTo>
                  <a:pt x="161" y="388"/>
                </a:lnTo>
                <a:lnTo>
                  <a:pt x="161" y="397"/>
                </a:lnTo>
                <a:lnTo>
                  <a:pt x="161" y="388"/>
                </a:lnTo>
                <a:lnTo>
                  <a:pt x="170" y="388"/>
                </a:lnTo>
                <a:lnTo>
                  <a:pt x="170" y="378"/>
                </a:lnTo>
                <a:lnTo>
                  <a:pt x="170" y="388"/>
                </a:lnTo>
                <a:lnTo>
                  <a:pt x="178" y="388"/>
                </a:lnTo>
                <a:lnTo>
                  <a:pt x="178" y="378"/>
                </a:lnTo>
                <a:lnTo>
                  <a:pt x="187" y="378"/>
                </a:lnTo>
                <a:lnTo>
                  <a:pt x="187" y="368"/>
                </a:lnTo>
                <a:lnTo>
                  <a:pt x="195" y="368"/>
                </a:lnTo>
                <a:lnTo>
                  <a:pt x="195" y="378"/>
                </a:lnTo>
                <a:lnTo>
                  <a:pt x="204" y="378"/>
                </a:lnTo>
                <a:lnTo>
                  <a:pt x="204" y="388"/>
                </a:lnTo>
                <a:lnTo>
                  <a:pt x="212" y="388"/>
                </a:lnTo>
                <a:lnTo>
                  <a:pt x="212" y="378"/>
                </a:lnTo>
                <a:lnTo>
                  <a:pt x="212" y="388"/>
                </a:lnTo>
                <a:lnTo>
                  <a:pt x="221" y="388"/>
                </a:lnTo>
                <a:lnTo>
                  <a:pt x="221" y="397"/>
                </a:lnTo>
                <a:lnTo>
                  <a:pt x="221" y="388"/>
                </a:lnTo>
                <a:lnTo>
                  <a:pt x="229" y="397"/>
                </a:lnTo>
                <a:lnTo>
                  <a:pt x="221" y="397"/>
                </a:lnTo>
                <a:lnTo>
                  <a:pt x="229" y="397"/>
                </a:lnTo>
                <a:lnTo>
                  <a:pt x="238" y="397"/>
                </a:lnTo>
                <a:lnTo>
                  <a:pt x="238" y="407"/>
                </a:lnTo>
                <a:lnTo>
                  <a:pt x="238" y="397"/>
                </a:lnTo>
                <a:lnTo>
                  <a:pt x="246" y="397"/>
                </a:lnTo>
                <a:lnTo>
                  <a:pt x="246" y="407"/>
                </a:lnTo>
                <a:lnTo>
                  <a:pt x="255" y="407"/>
                </a:lnTo>
                <a:lnTo>
                  <a:pt x="255" y="397"/>
                </a:lnTo>
                <a:lnTo>
                  <a:pt x="263" y="397"/>
                </a:lnTo>
                <a:lnTo>
                  <a:pt x="263" y="388"/>
                </a:lnTo>
                <a:lnTo>
                  <a:pt x="272" y="388"/>
                </a:lnTo>
                <a:lnTo>
                  <a:pt x="280" y="388"/>
                </a:lnTo>
                <a:lnTo>
                  <a:pt x="280" y="378"/>
                </a:lnTo>
                <a:lnTo>
                  <a:pt x="289" y="378"/>
                </a:lnTo>
                <a:lnTo>
                  <a:pt x="297" y="378"/>
                </a:lnTo>
                <a:lnTo>
                  <a:pt x="306" y="378"/>
                </a:lnTo>
                <a:lnTo>
                  <a:pt x="314" y="378"/>
                </a:lnTo>
                <a:lnTo>
                  <a:pt x="323" y="378"/>
                </a:lnTo>
                <a:lnTo>
                  <a:pt x="323" y="388"/>
                </a:lnTo>
                <a:lnTo>
                  <a:pt x="323" y="378"/>
                </a:lnTo>
                <a:lnTo>
                  <a:pt x="331" y="378"/>
                </a:lnTo>
                <a:lnTo>
                  <a:pt x="331" y="368"/>
                </a:lnTo>
                <a:lnTo>
                  <a:pt x="340" y="368"/>
                </a:lnTo>
                <a:lnTo>
                  <a:pt x="340" y="359"/>
                </a:lnTo>
                <a:lnTo>
                  <a:pt x="348" y="359"/>
                </a:lnTo>
                <a:lnTo>
                  <a:pt x="357" y="359"/>
                </a:lnTo>
                <a:lnTo>
                  <a:pt x="357" y="349"/>
                </a:lnTo>
                <a:lnTo>
                  <a:pt x="357" y="339"/>
                </a:lnTo>
                <a:lnTo>
                  <a:pt x="365" y="339"/>
                </a:lnTo>
                <a:lnTo>
                  <a:pt x="365" y="329"/>
                </a:lnTo>
                <a:lnTo>
                  <a:pt x="365" y="339"/>
                </a:lnTo>
                <a:lnTo>
                  <a:pt x="374" y="339"/>
                </a:lnTo>
                <a:lnTo>
                  <a:pt x="374" y="329"/>
                </a:lnTo>
                <a:lnTo>
                  <a:pt x="374" y="339"/>
                </a:lnTo>
                <a:lnTo>
                  <a:pt x="374" y="329"/>
                </a:lnTo>
                <a:lnTo>
                  <a:pt x="382" y="329"/>
                </a:lnTo>
                <a:lnTo>
                  <a:pt x="382" y="320"/>
                </a:lnTo>
                <a:lnTo>
                  <a:pt x="391" y="320"/>
                </a:lnTo>
                <a:lnTo>
                  <a:pt x="391" y="329"/>
                </a:lnTo>
                <a:lnTo>
                  <a:pt x="391" y="320"/>
                </a:lnTo>
                <a:lnTo>
                  <a:pt x="400" y="320"/>
                </a:lnTo>
                <a:lnTo>
                  <a:pt x="408" y="329"/>
                </a:lnTo>
                <a:lnTo>
                  <a:pt x="417" y="329"/>
                </a:lnTo>
                <a:lnTo>
                  <a:pt x="417" y="320"/>
                </a:lnTo>
                <a:lnTo>
                  <a:pt x="417" y="329"/>
                </a:lnTo>
                <a:lnTo>
                  <a:pt x="425" y="329"/>
                </a:lnTo>
                <a:lnTo>
                  <a:pt x="434" y="329"/>
                </a:lnTo>
                <a:lnTo>
                  <a:pt x="442" y="329"/>
                </a:lnTo>
                <a:lnTo>
                  <a:pt x="451" y="329"/>
                </a:lnTo>
                <a:lnTo>
                  <a:pt x="459" y="329"/>
                </a:lnTo>
                <a:lnTo>
                  <a:pt x="459" y="339"/>
                </a:lnTo>
                <a:lnTo>
                  <a:pt x="468" y="339"/>
                </a:lnTo>
                <a:lnTo>
                  <a:pt x="468" y="329"/>
                </a:lnTo>
                <a:lnTo>
                  <a:pt x="468" y="339"/>
                </a:lnTo>
                <a:lnTo>
                  <a:pt x="476" y="339"/>
                </a:lnTo>
                <a:lnTo>
                  <a:pt x="476" y="349"/>
                </a:lnTo>
                <a:lnTo>
                  <a:pt x="485" y="349"/>
                </a:lnTo>
                <a:lnTo>
                  <a:pt x="485" y="359"/>
                </a:lnTo>
                <a:lnTo>
                  <a:pt x="493" y="359"/>
                </a:lnTo>
                <a:lnTo>
                  <a:pt x="493" y="368"/>
                </a:lnTo>
                <a:lnTo>
                  <a:pt x="502" y="368"/>
                </a:lnTo>
                <a:lnTo>
                  <a:pt x="510" y="368"/>
                </a:lnTo>
                <a:lnTo>
                  <a:pt x="519" y="368"/>
                </a:lnTo>
                <a:lnTo>
                  <a:pt x="510" y="368"/>
                </a:lnTo>
                <a:lnTo>
                  <a:pt x="510" y="359"/>
                </a:lnTo>
                <a:lnTo>
                  <a:pt x="519" y="359"/>
                </a:lnTo>
                <a:lnTo>
                  <a:pt x="519" y="368"/>
                </a:lnTo>
                <a:lnTo>
                  <a:pt x="519" y="359"/>
                </a:lnTo>
                <a:lnTo>
                  <a:pt x="527" y="359"/>
                </a:lnTo>
                <a:lnTo>
                  <a:pt x="527" y="349"/>
                </a:lnTo>
                <a:lnTo>
                  <a:pt x="536" y="349"/>
                </a:lnTo>
                <a:lnTo>
                  <a:pt x="536" y="359"/>
                </a:lnTo>
                <a:lnTo>
                  <a:pt x="544" y="359"/>
                </a:lnTo>
                <a:lnTo>
                  <a:pt x="553" y="359"/>
                </a:lnTo>
                <a:lnTo>
                  <a:pt x="561" y="359"/>
                </a:lnTo>
                <a:lnTo>
                  <a:pt x="561" y="349"/>
                </a:lnTo>
                <a:lnTo>
                  <a:pt x="570" y="349"/>
                </a:lnTo>
                <a:lnTo>
                  <a:pt x="570" y="339"/>
                </a:lnTo>
                <a:lnTo>
                  <a:pt x="578" y="339"/>
                </a:lnTo>
                <a:lnTo>
                  <a:pt x="578" y="349"/>
                </a:lnTo>
                <a:lnTo>
                  <a:pt x="587" y="349"/>
                </a:lnTo>
                <a:lnTo>
                  <a:pt x="595" y="349"/>
                </a:lnTo>
                <a:lnTo>
                  <a:pt x="604" y="349"/>
                </a:lnTo>
                <a:lnTo>
                  <a:pt x="604" y="339"/>
                </a:lnTo>
                <a:lnTo>
                  <a:pt x="612" y="339"/>
                </a:lnTo>
                <a:lnTo>
                  <a:pt x="612" y="349"/>
                </a:lnTo>
                <a:lnTo>
                  <a:pt x="621" y="349"/>
                </a:lnTo>
                <a:lnTo>
                  <a:pt x="621" y="339"/>
                </a:lnTo>
                <a:lnTo>
                  <a:pt x="628" y="339"/>
                </a:lnTo>
                <a:lnTo>
                  <a:pt x="628" y="349"/>
                </a:lnTo>
                <a:lnTo>
                  <a:pt x="637" y="349"/>
                </a:lnTo>
                <a:lnTo>
                  <a:pt x="645" y="349"/>
                </a:lnTo>
                <a:lnTo>
                  <a:pt x="654" y="349"/>
                </a:lnTo>
                <a:lnTo>
                  <a:pt x="654" y="339"/>
                </a:lnTo>
                <a:lnTo>
                  <a:pt x="662" y="339"/>
                </a:lnTo>
                <a:lnTo>
                  <a:pt x="662" y="329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9" y="320"/>
                </a:lnTo>
                <a:lnTo>
                  <a:pt x="671" y="320"/>
                </a:lnTo>
                <a:lnTo>
                  <a:pt x="662" y="320"/>
                </a:lnTo>
                <a:lnTo>
                  <a:pt x="654" y="320"/>
                </a:lnTo>
                <a:lnTo>
                  <a:pt x="645" y="320"/>
                </a:lnTo>
                <a:lnTo>
                  <a:pt x="645" y="329"/>
                </a:lnTo>
                <a:lnTo>
                  <a:pt x="637" y="329"/>
                </a:lnTo>
                <a:lnTo>
                  <a:pt x="628" y="329"/>
                </a:lnTo>
                <a:lnTo>
                  <a:pt x="621" y="329"/>
                </a:lnTo>
                <a:lnTo>
                  <a:pt x="612" y="329"/>
                </a:lnTo>
                <a:lnTo>
                  <a:pt x="604" y="329"/>
                </a:lnTo>
                <a:lnTo>
                  <a:pt x="604" y="320"/>
                </a:lnTo>
                <a:lnTo>
                  <a:pt x="595" y="320"/>
                </a:lnTo>
                <a:lnTo>
                  <a:pt x="587" y="320"/>
                </a:lnTo>
                <a:lnTo>
                  <a:pt x="578" y="320"/>
                </a:lnTo>
                <a:lnTo>
                  <a:pt x="578" y="329"/>
                </a:lnTo>
                <a:lnTo>
                  <a:pt x="578" y="320"/>
                </a:lnTo>
                <a:lnTo>
                  <a:pt x="570" y="320"/>
                </a:lnTo>
                <a:lnTo>
                  <a:pt x="561" y="320"/>
                </a:lnTo>
                <a:lnTo>
                  <a:pt x="553" y="320"/>
                </a:lnTo>
                <a:lnTo>
                  <a:pt x="553" y="329"/>
                </a:lnTo>
                <a:lnTo>
                  <a:pt x="544" y="329"/>
                </a:lnTo>
                <a:lnTo>
                  <a:pt x="536" y="329"/>
                </a:lnTo>
                <a:lnTo>
                  <a:pt x="536" y="320"/>
                </a:lnTo>
                <a:lnTo>
                  <a:pt x="536" y="329"/>
                </a:lnTo>
                <a:lnTo>
                  <a:pt x="536" y="320"/>
                </a:lnTo>
                <a:lnTo>
                  <a:pt x="544" y="320"/>
                </a:lnTo>
                <a:lnTo>
                  <a:pt x="544" y="310"/>
                </a:lnTo>
                <a:lnTo>
                  <a:pt x="544" y="300"/>
                </a:lnTo>
                <a:lnTo>
                  <a:pt x="553" y="300"/>
                </a:lnTo>
                <a:lnTo>
                  <a:pt x="544" y="300"/>
                </a:lnTo>
                <a:lnTo>
                  <a:pt x="544" y="291"/>
                </a:lnTo>
                <a:lnTo>
                  <a:pt x="553" y="291"/>
                </a:lnTo>
                <a:lnTo>
                  <a:pt x="561" y="291"/>
                </a:lnTo>
                <a:lnTo>
                  <a:pt x="561" y="281"/>
                </a:lnTo>
                <a:lnTo>
                  <a:pt x="553" y="281"/>
                </a:lnTo>
                <a:lnTo>
                  <a:pt x="561" y="281"/>
                </a:lnTo>
                <a:lnTo>
                  <a:pt x="561" y="271"/>
                </a:lnTo>
                <a:lnTo>
                  <a:pt x="570" y="271"/>
                </a:lnTo>
                <a:lnTo>
                  <a:pt x="570" y="281"/>
                </a:lnTo>
                <a:lnTo>
                  <a:pt x="570" y="271"/>
                </a:lnTo>
                <a:lnTo>
                  <a:pt x="570" y="262"/>
                </a:lnTo>
                <a:lnTo>
                  <a:pt x="570" y="252"/>
                </a:lnTo>
                <a:lnTo>
                  <a:pt x="578" y="252"/>
                </a:lnTo>
                <a:lnTo>
                  <a:pt x="578" y="242"/>
                </a:lnTo>
                <a:lnTo>
                  <a:pt x="578" y="232"/>
                </a:lnTo>
                <a:lnTo>
                  <a:pt x="578" y="223"/>
                </a:lnTo>
                <a:lnTo>
                  <a:pt x="578" y="213"/>
                </a:lnTo>
                <a:lnTo>
                  <a:pt x="587" y="213"/>
                </a:lnTo>
                <a:lnTo>
                  <a:pt x="578" y="213"/>
                </a:lnTo>
                <a:lnTo>
                  <a:pt x="578" y="203"/>
                </a:lnTo>
                <a:lnTo>
                  <a:pt x="587" y="203"/>
                </a:lnTo>
                <a:lnTo>
                  <a:pt x="587" y="194"/>
                </a:lnTo>
                <a:lnTo>
                  <a:pt x="578" y="194"/>
                </a:lnTo>
                <a:lnTo>
                  <a:pt x="587" y="194"/>
                </a:lnTo>
                <a:lnTo>
                  <a:pt x="587" y="184"/>
                </a:lnTo>
                <a:lnTo>
                  <a:pt x="595" y="184"/>
                </a:lnTo>
                <a:lnTo>
                  <a:pt x="587" y="184"/>
                </a:lnTo>
                <a:lnTo>
                  <a:pt x="578" y="184"/>
                </a:lnTo>
                <a:lnTo>
                  <a:pt x="578" y="194"/>
                </a:lnTo>
                <a:lnTo>
                  <a:pt x="578" y="184"/>
                </a:lnTo>
                <a:lnTo>
                  <a:pt x="578" y="194"/>
                </a:lnTo>
                <a:lnTo>
                  <a:pt x="570" y="194"/>
                </a:lnTo>
                <a:lnTo>
                  <a:pt x="561" y="194"/>
                </a:lnTo>
                <a:lnTo>
                  <a:pt x="553" y="194"/>
                </a:lnTo>
                <a:lnTo>
                  <a:pt x="544" y="194"/>
                </a:lnTo>
                <a:lnTo>
                  <a:pt x="544" y="184"/>
                </a:lnTo>
                <a:lnTo>
                  <a:pt x="544" y="194"/>
                </a:lnTo>
                <a:lnTo>
                  <a:pt x="544" y="184"/>
                </a:lnTo>
                <a:lnTo>
                  <a:pt x="544" y="174"/>
                </a:lnTo>
                <a:lnTo>
                  <a:pt x="544" y="155"/>
                </a:lnTo>
                <a:lnTo>
                  <a:pt x="553" y="155"/>
                </a:lnTo>
                <a:lnTo>
                  <a:pt x="553" y="165"/>
                </a:lnTo>
                <a:lnTo>
                  <a:pt x="553" y="155"/>
                </a:lnTo>
                <a:lnTo>
                  <a:pt x="561" y="155"/>
                </a:lnTo>
                <a:lnTo>
                  <a:pt x="570" y="155"/>
                </a:lnTo>
                <a:lnTo>
                  <a:pt x="570" y="145"/>
                </a:lnTo>
                <a:lnTo>
                  <a:pt x="561" y="145"/>
                </a:lnTo>
                <a:lnTo>
                  <a:pt x="570" y="145"/>
                </a:lnTo>
                <a:lnTo>
                  <a:pt x="578" y="145"/>
                </a:lnTo>
                <a:lnTo>
                  <a:pt x="578" y="135"/>
                </a:lnTo>
                <a:lnTo>
                  <a:pt x="578" y="145"/>
                </a:lnTo>
                <a:lnTo>
                  <a:pt x="578" y="135"/>
                </a:lnTo>
                <a:lnTo>
                  <a:pt x="587" y="135"/>
                </a:lnTo>
                <a:lnTo>
                  <a:pt x="587" y="126"/>
                </a:lnTo>
                <a:lnTo>
                  <a:pt x="587" y="116"/>
                </a:lnTo>
                <a:lnTo>
                  <a:pt x="587" y="106"/>
                </a:lnTo>
                <a:lnTo>
                  <a:pt x="587" y="97"/>
                </a:lnTo>
                <a:lnTo>
                  <a:pt x="595" y="87"/>
                </a:lnTo>
                <a:lnTo>
                  <a:pt x="587" y="87"/>
                </a:lnTo>
                <a:lnTo>
                  <a:pt x="587" y="77"/>
                </a:lnTo>
                <a:lnTo>
                  <a:pt x="587" y="68"/>
                </a:lnTo>
                <a:lnTo>
                  <a:pt x="587" y="58"/>
                </a:lnTo>
                <a:lnTo>
                  <a:pt x="595" y="58"/>
                </a:lnTo>
                <a:lnTo>
                  <a:pt x="595" y="48"/>
                </a:lnTo>
                <a:lnTo>
                  <a:pt x="595" y="38"/>
                </a:lnTo>
                <a:lnTo>
                  <a:pt x="595" y="29"/>
                </a:lnTo>
                <a:lnTo>
                  <a:pt x="604" y="29"/>
                </a:lnTo>
                <a:lnTo>
                  <a:pt x="612" y="29"/>
                </a:lnTo>
                <a:lnTo>
                  <a:pt x="612" y="19"/>
                </a:lnTo>
                <a:lnTo>
                  <a:pt x="621" y="19"/>
                </a:lnTo>
                <a:lnTo>
                  <a:pt x="621" y="9"/>
                </a:lnTo>
                <a:lnTo>
                  <a:pt x="628" y="9"/>
                </a:lnTo>
                <a:lnTo>
                  <a:pt x="637" y="0"/>
                </a:lnTo>
                <a:lnTo>
                  <a:pt x="637" y="9"/>
                </a:lnTo>
                <a:lnTo>
                  <a:pt x="628" y="9"/>
                </a:lnTo>
                <a:lnTo>
                  <a:pt x="628" y="19"/>
                </a:lnTo>
                <a:lnTo>
                  <a:pt x="628" y="29"/>
                </a:lnTo>
                <a:lnTo>
                  <a:pt x="628" y="38"/>
                </a:lnTo>
                <a:lnTo>
                  <a:pt x="621" y="48"/>
                </a:lnTo>
                <a:lnTo>
                  <a:pt x="621" y="58"/>
                </a:lnTo>
                <a:lnTo>
                  <a:pt x="621" y="68"/>
                </a:lnTo>
                <a:lnTo>
                  <a:pt x="747" y="155"/>
                </a:lnTo>
                <a:lnTo>
                  <a:pt x="790" y="184"/>
                </a:lnTo>
                <a:lnTo>
                  <a:pt x="824" y="213"/>
                </a:lnTo>
                <a:lnTo>
                  <a:pt x="832" y="22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Freeform 3"/>
          <p:cNvSpPr/>
          <p:nvPr/>
        </p:nvSpPr>
        <p:spPr>
          <a:xfrm>
            <a:off x="2627280" y="4257720"/>
            <a:ext cx="731880" cy="695160"/>
          </a:xfrm>
          <a:custGeom>
            <a:avLst/>
            <a:gdLst>
              <a:gd name="textAreaLeft" fmla="*/ 0 w 731880"/>
              <a:gd name="textAreaRight" fmla="*/ 732240 w 7318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461" h="438">
                <a:moveTo>
                  <a:pt x="358" y="282"/>
                </a:moveTo>
                <a:lnTo>
                  <a:pt x="460" y="437"/>
                </a:lnTo>
                <a:lnTo>
                  <a:pt x="452" y="437"/>
                </a:lnTo>
                <a:lnTo>
                  <a:pt x="443" y="437"/>
                </a:lnTo>
                <a:lnTo>
                  <a:pt x="435" y="437"/>
                </a:lnTo>
                <a:lnTo>
                  <a:pt x="435" y="427"/>
                </a:lnTo>
                <a:lnTo>
                  <a:pt x="426" y="427"/>
                </a:lnTo>
                <a:lnTo>
                  <a:pt x="418" y="427"/>
                </a:lnTo>
                <a:lnTo>
                  <a:pt x="409" y="427"/>
                </a:lnTo>
                <a:lnTo>
                  <a:pt x="401" y="427"/>
                </a:lnTo>
                <a:lnTo>
                  <a:pt x="392" y="427"/>
                </a:lnTo>
                <a:lnTo>
                  <a:pt x="392" y="418"/>
                </a:lnTo>
                <a:lnTo>
                  <a:pt x="384" y="418"/>
                </a:lnTo>
                <a:lnTo>
                  <a:pt x="375" y="418"/>
                </a:lnTo>
                <a:lnTo>
                  <a:pt x="375" y="408"/>
                </a:lnTo>
                <a:lnTo>
                  <a:pt x="375" y="418"/>
                </a:lnTo>
                <a:lnTo>
                  <a:pt x="367" y="418"/>
                </a:lnTo>
                <a:lnTo>
                  <a:pt x="358" y="418"/>
                </a:lnTo>
                <a:lnTo>
                  <a:pt x="358" y="408"/>
                </a:lnTo>
                <a:lnTo>
                  <a:pt x="358" y="398"/>
                </a:lnTo>
                <a:lnTo>
                  <a:pt x="350" y="398"/>
                </a:lnTo>
                <a:lnTo>
                  <a:pt x="350" y="408"/>
                </a:lnTo>
                <a:lnTo>
                  <a:pt x="341" y="408"/>
                </a:lnTo>
                <a:lnTo>
                  <a:pt x="341" y="398"/>
                </a:lnTo>
                <a:lnTo>
                  <a:pt x="333" y="398"/>
                </a:lnTo>
                <a:lnTo>
                  <a:pt x="324" y="398"/>
                </a:lnTo>
                <a:lnTo>
                  <a:pt x="316" y="398"/>
                </a:lnTo>
                <a:lnTo>
                  <a:pt x="324" y="398"/>
                </a:lnTo>
                <a:lnTo>
                  <a:pt x="324" y="388"/>
                </a:lnTo>
                <a:lnTo>
                  <a:pt x="324" y="379"/>
                </a:lnTo>
                <a:lnTo>
                  <a:pt x="324" y="369"/>
                </a:lnTo>
                <a:lnTo>
                  <a:pt x="333" y="359"/>
                </a:lnTo>
                <a:lnTo>
                  <a:pt x="324" y="359"/>
                </a:lnTo>
                <a:lnTo>
                  <a:pt x="324" y="350"/>
                </a:lnTo>
                <a:lnTo>
                  <a:pt x="333" y="350"/>
                </a:lnTo>
                <a:lnTo>
                  <a:pt x="333" y="340"/>
                </a:lnTo>
                <a:lnTo>
                  <a:pt x="333" y="330"/>
                </a:lnTo>
                <a:lnTo>
                  <a:pt x="333" y="321"/>
                </a:lnTo>
                <a:lnTo>
                  <a:pt x="324" y="321"/>
                </a:lnTo>
                <a:lnTo>
                  <a:pt x="324" y="311"/>
                </a:lnTo>
                <a:lnTo>
                  <a:pt x="324" y="301"/>
                </a:lnTo>
                <a:lnTo>
                  <a:pt x="324" y="291"/>
                </a:lnTo>
                <a:lnTo>
                  <a:pt x="324" y="282"/>
                </a:lnTo>
                <a:lnTo>
                  <a:pt x="316" y="282"/>
                </a:lnTo>
                <a:lnTo>
                  <a:pt x="316" y="272"/>
                </a:lnTo>
                <a:lnTo>
                  <a:pt x="307" y="262"/>
                </a:lnTo>
                <a:lnTo>
                  <a:pt x="307" y="253"/>
                </a:lnTo>
                <a:lnTo>
                  <a:pt x="299" y="253"/>
                </a:lnTo>
                <a:lnTo>
                  <a:pt x="299" y="262"/>
                </a:lnTo>
                <a:lnTo>
                  <a:pt x="290" y="262"/>
                </a:lnTo>
                <a:lnTo>
                  <a:pt x="282" y="262"/>
                </a:lnTo>
                <a:lnTo>
                  <a:pt x="273" y="262"/>
                </a:lnTo>
                <a:lnTo>
                  <a:pt x="265" y="262"/>
                </a:lnTo>
                <a:lnTo>
                  <a:pt x="256" y="262"/>
                </a:lnTo>
                <a:lnTo>
                  <a:pt x="256" y="272"/>
                </a:lnTo>
                <a:lnTo>
                  <a:pt x="248" y="272"/>
                </a:lnTo>
                <a:lnTo>
                  <a:pt x="248" y="262"/>
                </a:lnTo>
                <a:lnTo>
                  <a:pt x="239" y="262"/>
                </a:lnTo>
                <a:lnTo>
                  <a:pt x="231" y="262"/>
                </a:lnTo>
                <a:lnTo>
                  <a:pt x="231" y="253"/>
                </a:lnTo>
                <a:lnTo>
                  <a:pt x="221" y="253"/>
                </a:lnTo>
                <a:lnTo>
                  <a:pt x="221" y="243"/>
                </a:lnTo>
                <a:lnTo>
                  <a:pt x="212" y="243"/>
                </a:lnTo>
                <a:lnTo>
                  <a:pt x="212" y="233"/>
                </a:lnTo>
                <a:lnTo>
                  <a:pt x="212" y="224"/>
                </a:lnTo>
                <a:lnTo>
                  <a:pt x="212" y="214"/>
                </a:lnTo>
                <a:lnTo>
                  <a:pt x="204" y="214"/>
                </a:lnTo>
                <a:lnTo>
                  <a:pt x="204" y="204"/>
                </a:lnTo>
                <a:lnTo>
                  <a:pt x="195" y="204"/>
                </a:lnTo>
                <a:lnTo>
                  <a:pt x="195" y="214"/>
                </a:lnTo>
                <a:lnTo>
                  <a:pt x="187" y="214"/>
                </a:lnTo>
                <a:lnTo>
                  <a:pt x="187" y="224"/>
                </a:lnTo>
                <a:lnTo>
                  <a:pt x="178" y="214"/>
                </a:lnTo>
                <a:lnTo>
                  <a:pt x="178" y="224"/>
                </a:lnTo>
                <a:lnTo>
                  <a:pt x="170" y="224"/>
                </a:lnTo>
                <a:lnTo>
                  <a:pt x="161" y="224"/>
                </a:lnTo>
                <a:lnTo>
                  <a:pt x="153" y="224"/>
                </a:lnTo>
                <a:lnTo>
                  <a:pt x="153" y="233"/>
                </a:lnTo>
                <a:lnTo>
                  <a:pt x="161" y="243"/>
                </a:lnTo>
                <a:lnTo>
                  <a:pt x="161" y="253"/>
                </a:lnTo>
                <a:lnTo>
                  <a:pt x="153" y="253"/>
                </a:lnTo>
                <a:lnTo>
                  <a:pt x="153" y="262"/>
                </a:lnTo>
                <a:lnTo>
                  <a:pt x="144" y="262"/>
                </a:lnTo>
                <a:lnTo>
                  <a:pt x="144" y="272"/>
                </a:lnTo>
                <a:lnTo>
                  <a:pt x="144" y="282"/>
                </a:lnTo>
                <a:lnTo>
                  <a:pt x="144" y="291"/>
                </a:lnTo>
                <a:lnTo>
                  <a:pt x="136" y="291"/>
                </a:lnTo>
                <a:lnTo>
                  <a:pt x="136" y="301"/>
                </a:lnTo>
                <a:lnTo>
                  <a:pt x="136" y="311"/>
                </a:lnTo>
                <a:lnTo>
                  <a:pt x="136" y="321"/>
                </a:lnTo>
                <a:lnTo>
                  <a:pt x="127" y="321"/>
                </a:lnTo>
                <a:lnTo>
                  <a:pt x="127" y="330"/>
                </a:lnTo>
                <a:lnTo>
                  <a:pt x="119" y="330"/>
                </a:lnTo>
                <a:lnTo>
                  <a:pt x="119" y="321"/>
                </a:lnTo>
                <a:lnTo>
                  <a:pt x="110" y="321"/>
                </a:lnTo>
                <a:lnTo>
                  <a:pt x="102" y="311"/>
                </a:lnTo>
                <a:lnTo>
                  <a:pt x="110" y="311"/>
                </a:lnTo>
                <a:lnTo>
                  <a:pt x="102" y="311"/>
                </a:lnTo>
                <a:lnTo>
                  <a:pt x="102" y="301"/>
                </a:lnTo>
                <a:lnTo>
                  <a:pt x="93" y="301"/>
                </a:lnTo>
                <a:lnTo>
                  <a:pt x="93" y="291"/>
                </a:lnTo>
                <a:lnTo>
                  <a:pt x="85" y="291"/>
                </a:lnTo>
                <a:lnTo>
                  <a:pt x="85" y="282"/>
                </a:lnTo>
                <a:lnTo>
                  <a:pt x="76" y="272"/>
                </a:lnTo>
                <a:lnTo>
                  <a:pt x="76" y="262"/>
                </a:lnTo>
                <a:lnTo>
                  <a:pt x="68" y="262"/>
                </a:lnTo>
                <a:lnTo>
                  <a:pt x="68" y="253"/>
                </a:lnTo>
                <a:lnTo>
                  <a:pt x="59" y="253"/>
                </a:lnTo>
                <a:lnTo>
                  <a:pt x="59" y="243"/>
                </a:lnTo>
                <a:lnTo>
                  <a:pt x="51" y="243"/>
                </a:lnTo>
                <a:lnTo>
                  <a:pt x="51" y="233"/>
                </a:lnTo>
                <a:lnTo>
                  <a:pt x="42" y="233"/>
                </a:lnTo>
                <a:lnTo>
                  <a:pt x="42" y="224"/>
                </a:lnTo>
                <a:lnTo>
                  <a:pt x="34" y="214"/>
                </a:lnTo>
                <a:lnTo>
                  <a:pt x="25" y="214"/>
                </a:lnTo>
                <a:lnTo>
                  <a:pt x="25" y="204"/>
                </a:lnTo>
                <a:lnTo>
                  <a:pt x="17" y="204"/>
                </a:lnTo>
                <a:lnTo>
                  <a:pt x="25" y="194"/>
                </a:lnTo>
                <a:lnTo>
                  <a:pt x="25" y="185"/>
                </a:lnTo>
                <a:lnTo>
                  <a:pt x="25" y="175"/>
                </a:lnTo>
                <a:lnTo>
                  <a:pt x="34" y="165"/>
                </a:lnTo>
                <a:lnTo>
                  <a:pt x="34" y="156"/>
                </a:lnTo>
                <a:lnTo>
                  <a:pt x="34" y="146"/>
                </a:lnTo>
                <a:lnTo>
                  <a:pt x="34" y="136"/>
                </a:lnTo>
                <a:lnTo>
                  <a:pt x="34" y="126"/>
                </a:lnTo>
                <a:lnTo>
                  <a:pt x="34" y="117"/>
                </a:lnTo>
                <a:lnTo>
                  <a:pt x="25" y="117"/>
                </a:lnTo>
                <a:lnTo>
                  <a:pt x="25" y="107"/>
                </a:lnTo>
                <a:lnTo>
                  <a:pt x="25" y="97"/>
                </a:lnTo>
                <a:lnTo>
                  <a:pt x="17" y="97"/>
                </a:lnTo>
                <a:lnTo>
                  <a:pt x="17" y="88"/>
                </a:lnTo>
                <a:lnTo>
                  <a:pt x="8" y="88"/>
                </a:lnTo>
                <a:lnTo>
                  <a:pt x="8" y="78"/>
                </a:lnTo>
                <a:lnTo>
                  <a:pt x="0" y="78"/>
                </a:lnTo>
                <a:lnTo>
                  <a:pt x="0" y="68"/>
                </a:lnTo>
                <a:lnTo>
                  <a:pt x="8" y="6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42" y="68"/>
                </a:lnTo>
                <a:lnTo>
                  <a:pt x="51" y="68"/>
                </a:lnTo>
                <a:lnTo>
                  <a:pt x="59" y="68"/>
                </a:lnTo>
                <a:lnTo>
                  <a:pt x="59" y="78"/>
                </a:lnTo>
                <a:lnTo>
                  <a:pt x="68" y="78"/>
                </a:lnTo>
                <a:lnTo>
                  <a:pt x="68" y="88"/>
                </a:lnTo>
                <a:lnTo>
                  <a:pt x="76" y="88"/>
                </a:lnTo>
                <a:lnTo>
                  <a:pt x="76" y="97"/>
                </a:lnTo>
                <a:lnTo>
                  <a:pt x="76" y="107"/>
                </a:lnTo>
                <a:lnTo>
                  <a:pt x="76" y="117"/>
                </a:lnTo>
                <a:lnTo>
                  <a:pt x="76" y="126"/>
                </a:lnTo>
                <a:lnTo>
                  <a:pt x="85" y="126"/>
                </a:lnTo>
                <a:lnTo>
                  <a:pt x="85" y="136"/>
                </a:lnTo>
                <a:lnTo>
                  <a:pt x="93" y="136"/>
                </a:lnTo>
                <a:lnTo>
                  <a:pt x="85" y="126"/>
                </a:lnTo>
                <a:lnTo>
                  <a:pt x="85" y="117"/>
                </a:lnTo>
                <a:lnTo>
                  <a:pt x="85" y="107"/>
                </a:lnTo>
                <a:lnTo>
                  <a:pt x="93" y="107"/>
                </a:lnTo>
                <a:lnTo>
                  <a:pt x="85" y="107"/>
                </a:lnTo>
                <a:lnTo>
                  <a:pt x="85" y="97"/>
                </a:lnTo>
                <a:lnTo>
                  <a:pt x="85" y="88"/>
                </a:lnTo>
                <a:lnTo>
                  <a:pt x="85" y="78"/>
                </a:lnTo>
                <a:lnTo>
                  <a:pt x="85" y="68"/>
                </a:lnTo>
                <a:lnTo>
                  <a:pt x="110" y="20"/>
                </a:lnTo>
                <a:lnTo>
                  <a:pt x="136" y="10"/>
                </a:lnTo>
                <a:lnTo>
                  <a:pt x="161" y="0"/>
                </a:lnTo>
                <a:lnTo>
                  <a:pt x="170" y="0"/>
                </a:lnTo>
                <a:lnTo>
                  <a:pt x="358" y="272"/>
                </a:lnTo>
                <a:lnTo>
                  <a:pt x="358" y="282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reeform 4"/>
          <p:cNvSpPr/>
          <p:nvPr/>
        </p:nvSpPr>
        <p:spPr>
          <a:xfrm>
            <a:off x="2627280" y="4581360"/>
            <a:ext cx="189000" cy="387360"/>
          </a:xfrm>
          <a:custGeom>
            <a:avLst/>
            <a:gdLst>
              <a:gd name="textAreaLeft" fmla="*/ 0 w 189000"/>
              <a:gd name="textAreaRight" fmla="*/ 189360 w 189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19" h="244">
                <a:moveTo>
                  <a:pt x="34" y="204"/>
                </a:moveTo>
                <a:lnTo>
                  <a:pt x="26" y="204"/>
                </a:lnTo>
                <a:lnTo>
                  <a:pt x="17" y="214"/>
                </a:lnTo>
                <a:lnTo>
                  <a:pt x="9" y="204"/>
                </a:lnTo>
                <a:lnTo>
                  <a:pt x="0" y="194"/>
                </a:lnTo>
                <a:lnTo>
                  <a:pt x="0" y="107"/>
                </a:lnTo>
                <a:lnTo>
                  <a:pt x="0" y="97"/>
                </a:lnTo>
                <a:lnTo>
                  <a:pt x="9" y="97"/>
                </a:lnTo>
                <a:lnTo>
                  <a:pt x="9" y="87"/>
                </a:lnTo>
                <a:lnTo>
                  <a:pt x="9" y="78"/>
                </a:lnTo>
                <a:lnTo>
                  <a:pt x="9" y="68"/>
                </a:lnTo>
                <a:lnTo>
                  <a:pt x="17" y="58"/>
                </a:lnTo>
                <a:lnTo>
                  <a:pt x="17" y="49"/>
                </a:lnTo>
                <a:lnTo>
                  <a:pt x="17" y="39"/>
                </a:lnTo>
                <a:lnTo>
                  <a:pt x="17" y="29"/>
                </a:lnTo>
                <a:lnTo>
                  <a:pt x="26" y="29"/>
                </a:lnTo>
                <a:lnTo>
                  <a:pt x="26" y="20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43" y="10"/>
                </a:lnTo>
                <a:lnTo>
                  <a:pt x="51" y="20"/>
                </a:lnTo>
                <a:lnTo>
                  <a:pt x="51" y="29"/>
                </a:lnTo>
                <a:lnTo>
                  <a:pt x="59" y="29"/>
                </a:lnTo>
                <a:lnTo>
                  <a:pt x="59" y="39"/>
                </a:lnTo>
                <a:lnTo>
                  <a:pt x="67" y="39"/>
                </a:lnTo>
                <a:lnTo>
                  <a:pt x="67" y="49"/>
                </a:lnTo>
                <a:lnTo>
                  <a:pt x="76" y="49"/>
                </a:lnTo>
                <a:lnTo>
                  <a:pt x="76" y="58"/>
                </a:lnTo>
                <a:lnTo>
                  <a:pt x="84" y="58"/>
                </a:lnTo>
                <a:lnTo>
                  <a:pt x="84" y="68"/>
                </a:lnTo>
                <a:lnTo>
                  <a:pt x="93" y="78"/>
                </a:lnTo>
                <a:lnTo>
                  <a:pt x="93" y="87"/>
                </a:lnTo>
                <a:lnTo>
                  <a:pt x="101" y="87"/>
                </a:lnTo>
                <a:lnTo>
                  <a:pt x="101" y="97"/>
                </a:lnTo>
                <a:lnTo>
                  <a:pt x="110" y="97"/>
                </a:lnTo>
                <a:lnTo>
                  <a:pt x="110" y="107"/>
                </a:lnTo>
                <a:lnTo>
                  <a:pt x="118" y="107"/>
                </a:lnTo>
                <a:lnTo>
                  <a:pt x="110" y="107"/>
                </a:lnTo>
                <a:lnTo>
                  <a:pt x="118" y="117"/>
                </a:lnTo>
                <a:lnTo>
                  <a:pt x="118" y="126"/>
                </a:lnTo>
                <a:lnTo>
                  <a:pt x="93" y="155"/>
                </a:lnTo>
                <a:lnTo>
                  <a:pt x="93" y="175"/>
                </a:lnTo>
                <a:lnTo>
                  <a:pt x="84" y="175"/>
                </a:lnTo>
                <a:lnTo>
                  <a:pt x="84" y="194"/>
                </a:lnTo>
                <a:lnTo>
                  <a:pt x="76" y="204"/>
                </a:lnTo>
                <a:lnTo>
                  <a:pt x="67" y="214"/>
                </a:lnTo>
                <a:lnTo>
                  <a:pt x="67" y="223"/>
                </a:lnTo>
                <a:lnTo>
                  <a:pt x="67" y="233"/>
                </a:lnTo>
                <a:lnTo>
                  <a:pt x="51" y="243"/>
                </a:lnTo>
                <a:lnTo>
                  <a:pt x="43" y="233"/>
                </a:lnTo>
                <a:lnTo>
                  <a:pt x="43" y="214"/>
                </a:lnTo>
                <a:lnTo>
                  <a:pt x="34" y="20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Freeform 5"/>
          <p:cNvSpPr/>
          <p:nvPr/>
        </p:nvSpPr>
        <p:spPr>
          <a:xfrm>
            <a:off x="2627280" y="4581360"/>
            <a:ext cx="852480" cy="1203480"/>
          </a:xfrm>
          <a:custGeom>
            <a:avLst/>
            <a:gdLst>
              <a:gd name="textAreaLeft" fmla="*/ 0 w 852480"/>
              <a:gd name="textAreaRight" fmla="*/ 852840 w 852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537" h="758">
                <a:moveTo>
                  <a:pt x="9" y="543"/>
                </a:moveTo>
                <a:lnTo>
                  <a:pt x="0" y="204"/>
                </a:lnTo>
                <a:lnTo>
                  <a:pt x="0" y="194"/>
                </a:lnTo>
                <a:lnTo>
                  <a:pt x="9" y="204"/>
                </a:lnTo>
                <a:lnTo>
                  <a:pt x="17" y="214"/>
                </a:lnTo>
                <a:lnTo>
                  <a:pt x="26" y="204"/>
                </a:lnTo>
                <a:lnTo>
                  <a:pt x="34" y="204"/>
                </a:lnTo>
                <a:lnTo>
                  <a:pt x="43" y="214"/>
                </a:lnTo>
                <a:lnTo>
                  <a:pt x="43" y="233"/>
                </a:lnTo>
                <a:lnTo>
                  <a:pt x="51" y="243"/>
                </a:lnTo>
                <a:lnTo>
                  <a:pt x="68" y="233"/>
                </a:lnTo>
                <a:lnTo>
                  <a:pt x="68" y="223"/>
                </a:lnTo>
                <a:lnTo>
                  <a:pt x="68" y="214"/>
                </a:lnTo>
                <a:lnTo>
                  <a:pt x="77" y="204"/>
                </a:lnTo>
                <a:lnTo>
                  <a:pt x="85" y="194"/>
                </a:lnTo>
                <a:lnTo>
                  <a:pt x="85" y="175"/>
                </a:lnTo>
                <a:lnTo>
                  <a:pt x="94" y="175"/>
                </a:lnTo>
                <a:lnTo>
                  <a:pt x="94" y="155"/>
                </a:lnTo>
                <a:lnTo>
                  <a:pt x="119" y="126"/>
                </a:lnTo>
                <a:lnTo>
                  <a:pt x="119" y="117"/>
                </a:lnTo>
                <a:lnTo>
                  <a:pt x="128" y="117"/>
                </a:lnTo>
                <a:lnTo>
                  <a:pt x="128" y="126"/>
                </a:lnTo>
                <a:lnTo>
                  <a:pt x="136" y="126"/>
                </a:lnTo>
                <a:lnTo>
                  <a:pt x="136" y="117"/>
                </a:lnTo>
                <a:lnTo>
                  <a:pt x="145" y="117"/>
                </a:lnTo>
                <a:lnTo>
                  <a:pt x="145" y="107"/>
                </a:lnTo>
                <a:lnTo>
                  <a:pt x="145" y="97"/>
                </a:lnTo>
                <a:lnTo>
                  <a:pt x="145" y="87"/>
                </a:lnTo>
                <a:lnTo>
                  <a:pt x="153" y="87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2" y="58"/>
                </a:lnTo>
                <a:lnTo>
                  <a:pt x="162" y="49"/>
                </a:lnTo>
                <a:lnTo>
                  <a:pt x="170" y="49"/>
                </a:lnTo>
                <a:lnTo>
                  <a:pt x="170" y="39"/>
                </a:lnTo>
                <a:lnTo>
                  <a:pt x="162" y="29"/>
                </a:lnTo>
                <a:lnTo>
                  <a:pt x="162" y="20"/>
                </a:lnTo>
                <a:lnTo>
                  <a:pt x="170" y="20"/>
                </a:lnTo>
                <a:lnTo>
                  <a:pt x="179" y="20"/>
                </a:lnTo>
                <a:lnTo>
                  <a:pt x="187" y="20"/>
                </a:lnTo>
                <a:lnTo>
                  <a:pt x="187" y="10"/>
                </a:lnTo>
                <a:lnTo>
                  <a:pt x="196" y="20"/>
                </a:lnTo>
                <a:lnTo>
                  <a:pt x="196" y="10"/>
                </a:lnTo>
                <a:lnTo>
                  <a:pt x="204" y="10"/>
                </a:lnTo>
                <a:lnTo>
                  <a:pt x="204" y="0"/>
                </a:lnTo>
                <a:lnTo>
                  <a:pt x="213" y="0"/>
                </a:lnTo>
                <a:lnTo>
                  <a:pt x="213" y="10"/>
                </a:lnTo>
                <a:lnTo>
                  <a:pt x="221" y="10"/>
                </a:lnTo>
                <a:lnTo>
                  <a:pt x="221" y="20"/>
                </a:lnTo>
                <a:lnTo>
                  <a:pt x="221" y="29"/>
                </a:lnTo>
                <a:lnTo>
                  <a:pt x="221" y="39"/>
                </a:lnTo>
                <a:lnTo>
                  <a:pt x="230" y="39"/>
                </a:lnTo>
                <a:lnTo>
                  <a:pt x="230" y="49"/>
                </a:lnTo>
                <a:lnTo>
                  <a:pt x="239" y="49"/>
                </a:lnTo>
                <a:lnTo>
                  <a:pt x="239" y="58"/>
                </a:lnTo>
                <a:lnTo>
                  <a:pt x="247" y="58"/>
                </a:lnTo>
                <a:lnTo>
                  <a:pt x="256" y="58"/>
                </a:lnTo>
                <a:lnTo>
                  <a:pt x="256" y="68"/>
                </a:lnTo>
                <a:lnTo>
                  <a:pt x="264" y="68"/>
                </a:lnTo>
                <a:lnTo>
                  <a:pt x="264" y="58"/>
                </a:lnTo>
                <a:lnTo>
                  <a:pt x="273" y="58"/>
                </a:lnTo>
                <a:lnTo>
                  <a:pt x="281" y="58"/>
                </a:lnTo>
                <a:lnTo>
                  <a:pt x="290" y="58"/>
                </a:lnTo>
                <a:lnTo>
                  <a:pt x="298" y="58"/>
                </a:lnTo>
                <a:lnTo>
                  <a:pt x="307" y="58"/>
                </a:lnTo>
                <a:lnTo>
                  <a:pt x="307" y="49"/>
                </a:lnTo>
                <a:lnTo>
                  <a:pt x="315" y="49"/>
                </a:lnTo>
                <a:lnTo>
                  <a:pt x="315" y="58"/>
                </a:lnTo>
                <a:lnTo>
                  <a:pt x="324" y="68"/>
                </a:lnTo>
                <a:lnTo>
                  <a:pt x="324" y="78"/>
                </a:lnTo>
                <a:lnTo>
                  <a:pt x="332" y="78"/>
                </a:lnTo>
                <a:lnTo>
                  <a:pt x="332" y="87"/>
                </a:lnTo>
                <a:lnTo>
                  <a:pt x="332" y="97"/>
                </a:lnTo>
                <a:lnTo>
                  <a:pt x="332" y="107"/>
                </a:lnTo>
                <a:lnTo>
                  <a:pt x="332" y="117"/>
                </a:lnTo>
                <a:lnTo>
                  <a:pt x="341" y="117"/>
                </a:lnTo>
                <a:lnTo>
                  <a:pt x="341" y="126"/>
                </a:lnTo>
                <a:lnTo>
                  <a:pt x="341" y="136"/>
                </a:lnTo>
                <a:lnTo>
                  <a:pt x="341" y="146"/>
                </a:lnTo>
                <a:lnTo>
                  <a:pt x="332" y="146"/>
                </a:lnTo>
                <a:lnTo>
                  <a:pt x="332" y="155"/>
                </a:lnTo>
                <a:lnTo>
                  <a:pt x="341" y="155"/>
                </a:lnTo>
                <a:lnTo>
                  <a:pt x="332" y="165"/>
                </a:lnTo>
                <a:lnTo>
                  <a:pt x="332" y="175"/>
                </a:lnTo>
                <a:lnTo>
                  <a:pt x="332" y="184"/>
                </a:lnTo>
                <a:lnTo>
                  <a:pt x="332" y="194"/>
                </a:lnTo>
                <a:lnTo>
                  <a:pt x="324" y="194"/>
                </a:lnTo>
                <a:lnTo>
                  <a:pt x="332" y="194"/>
                </a:lnTo>
                <a:lnTo>
                  <a:pt x="341" y="194"/>
                </a:lnTo>
                <a:lnTo>
                  <a:pt x="349" y="194"/>
                </a:lnTo>
                <a:lnTo>
                  <a:pt x="349" y="204"/>
                </a:lnTo>
                <a:lnTo>
                  <a:pt x="358" y="204"/>
                </a:lnTo>
                <a:lnTo>
                  <a:pt x="358" y="194"/>
                </a:lnTo>
                <a:lnTo>
                  <a:pt x="366" y="194"/>
                </a:lnTo>
                <a:lnTo>
                  <a:pt x="366" y="204"/>
                </a:lnTo>
                <a:lnTo>
                  <a:pt x="366" y="214"/>
                </a:lnTo>
                <a:lnTo>
                  <a:pt x="375" y="214"/>
                </a:lnTo>
                <a:lnTo>
                  <a:pt x="383" y="214"/>
                </a:lnTo>
                <a:lnTo>
                  <a:pt x="383" y="204"/>
                </a:lnTo>
                <a:lnTo>
                  <a:pt x="383" y="214"/>
                </a:lnTo>
                <a:lnTo>
                  <a:pt x="392" y="214"/>
                </a:lnTo>
                <a:lnTo>
                  <a:pt x="400" y="214"/>
                </a:lnTo>
                <a:lnTo>
                  <a:pt x="400" y="223"/>
                </a:lnTo>
                <a:lnTo>
                  <a:pt x="409" y="223"/>
                </a:lnTo>
                <a:lnTo>
                  <a:pt x="417" y="223"/>
                </a:lnTo>
                <a:lnTo>
                  <a:pt x="426" y="223"/>
                </a:lnTo>
                <a:lnTo>
                  <a:pt x="434" y="223"/>
                </a:lnTo>
                <a:lnTo>
                  <a:pt x="443" y="223"/>
                </a:lnTo>
                <a:lnTo>
                  <a:pt x="443" y="233"/>
                </a:lnTo>
                <a:lnTo>
                  <a:pt x="451" y="233"/>
                </a:lnTo>
                <a:lnTo>
                  <a:pt x="460" y="233"/>
                </a:lnTo>
                <a:lnTo>
                  <a:pt x="468" y="233"/>
                </a:lnTo>
                <a:lnTo>
                  <a:pt x="477" y="233"/>
                </a:lnTo>
                <a:lnTo>
                  <a:pt x="477" y="243"/>
                </a:lnTo>
                <a:lnTo>
                  <a:pt x="485" y="243"/>
                </a:lnTo>
                <a:lnTo>
                  <a:pt x="485" y="252"/>
                </a:lnTo>
                <a:lnTo>
                  <a:pt x="494" y="252"/>
                </a:lnTo>
                <a:lnTo>
                  <a:pt x="502" y="252"/>
                </a:lnTo>
                <a:lnTo>
                  <a:pt x="511" y="252"/>
                </a:lnTo>
                <a:lnTo>
                  <a:pt x="519" y="252"/>
                </a:lnTo>
                <a:lnTo>
                  <a:pt x="528" y="252"/>
                </a:lnTo>
                <a:lnTo>
                  <a:pt x="528" y="262"/>
                </a:lnTo>
                <a:lnTo>
                  <a:pt x="536" y="262"/>
                </a:lnTo>
                <a:lnTo>
                  <a:pt x="528" y="262"/>
                </a:lnTo>
                <a:lnTo>
                  <a:pt x="519" y="262"/>
                </a:lnTo>
                <a:lnTo>
                  <a:pt x="511" y="262"/>
                </a:lnTo>
                <a:lnTo>
                  <a:pt x="511" y="272"/>
                </a:lnTo>
                <a:lnTo>
                  <a:pt x="502" y="272"/>
                </a:lnTo>
                <a:lnTo>
                  <a:pt x="494" y="272"/>
                </a:lnTo>
                <a:lnTo>
                  <a:pt x="494" y="281"/>
                </a:lnTo>
                <a:lnTo>
                  <a:pt x="485" y="281"/>
                </a:lnTo>
                <a:lnTo>
                  <a:pt x="485" y="291"/>
                </a:lnTo>
                <a:lnTo>
                  <a:pt x="477" y="291"/>
                </a:lnTo>
                <a:lnTo>
                  <a:pt x="468" y="291"/>
                </a:lnTo>
                <a:lnTo>
                  <a:pt x="468" y="301"/>
                </a:lnTo>
                <a:lnTo>
                  <a:pt x="468" y="311"/>
                </a:lnTo>
                <a:lnTo>
                  <a:pt x="460" y="311"/>
                </a:lnTo>
                <a:lnTo>
                  <a:pt x="460" y="320"/>
                </a:lnTo>
                <a:lnTo>
                  <a:pt x="451" y="320"/>
                </a:lnTo>
                <a:lnTo>
                  <a:pt x="451" y="330"/>
                </a:lnTo>
                <a:lnTo>
                  <a:pt x="443" y="330"/>
                </a:lnTo>
                <a:lnTo>
                  <a:pt x="443" y="340"/>
                </a:lnTo>
                <a:lnTo>
                  <a:pt x="443" y="349"/>
                </a:lnTo>
                <a:lnTo>
                  <a:pt x="443" y="359"/>
                </a:lnTo>
                <a:lnTo>
                  <a:pt x="451" y="359"/>
                </a:lnTo>
                <a:lnTo>
                  <a:pt x="443" y="359"/>
                </a:lnTo>
                <a:lnTo>
                  <a:pt x="443" y="369"/>
                </a:lnTo>
                <a:lnTo>
                  <a:pt x="443" y="378"/>
                </a:lnTo>
                <a:lnTo>
                  <a:pt x="443" y="388"/>
                </a:lnTo>
                <a:lnTo>
                  <a:pt x="434" y="388"/>
                </a:lnTo>
                <a:lnTo>
                  <a:pt x="434" y="398"/>
                </a:lnTo>
                <a:lnTo>
                  <a:pt x="426" y="398"/>
                </a:lnTo>
                <a:lnTo>
                  <a:pt x="426" y="408"/>
                </a:lnTo>
                <a:lnTo>
                  <a:pt x="426" y="417"/>
                </a:lnTo>
                <a:lnTo>
                  <a:pt x="417" y="417"/>
                </a:lnTo>
                <a:lnTo>
                  <a:pt x="409" y="427"/>
                </a:lnTo>
                <a:lnTo>
                  <a:pt x="409" y="437"/>
                </a:lnTo>
                <a:lnTo>
                  <a:pt x="400" y="437"/>
                </a:lnTo>
                <a:lnTo>
                  <a:pt x="400" y="446"/>
                </a:lnTo>
                <a:lnTo>
                  <a:pt x="392" y="446"/>
                </a:lnTo>
                <a:lnTo>
                  <a:pt x="392" y="456"/>
                </a:lnTo>
                <a:lnTo>
                  <a:pt x="392" y="466"/>
                </a:lnTo>
                <a:lnTo>
                  <a:pt x="383" y="466"/>
                </a:lnTo>
                <a:lnTo>
                  <a:pt x="375" y="466"/>
                </a:lnTo>
                <a:lnTo>
                  <a:pt x="366" y="466"/>
                </a:lnTo>
                <a:lnTo>
                  <a:pt x="358" y="466"/>
                </a:lnTo>
                <a:lnTo>
                  <a:pt x="358" y="456"/>
                </a:lnTo>
                <a:lnTo>
                  <a:pt x="349" y="456"/>
                </a:lnTo>
                <a:lnTo>
                  <a:pt x="341" y="456"/>
                </a:lnTo>
                <a:lnTo>
                  <a:pt x="332" y="456"/>
                </a:lnTo>
                <a:lnTo>
                  <a:pt x="324" y="456"/>
                </a:lnTo>
                <a:lnTo>
                  <a:pt x="324" y="466"/>
                </a:lnTo>
                <a:lnTo>
                  <a:pt x="315" y="466"/>
                </a:lnTo>
                <a:lnTo>
                  <a:pt x="307" y="466"/>
                </a:lnTo>
                <a:lnTo>
                  <a:pt x="307" y="475"/>
                </a:lnTo>
                <a:lnTo>
                  <a:pt x="298" y="47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81" y="495"/>
                </a:lnTo>
                <a:lnTo>
                  <a:pt x="273" y="495"/>
                </a:lnTo>
                <a:lnTo>
                  <a:pt x="264" y="495"/>
                </a:lnTo>
                <a:lnTo>
                  <a:pt x="264" y="505"/>
                </a:lnTo>
                <a:lnTo>
                  <a:pt x="273" y="505"/>
                </a:lnTo>
                <a:lnTo>
                  <a:pt x="273" y="514"/>
                </a:lnTo>
                <a:lnTo>
                  <a:pt x="264" y="524"/>
                </a:lnTo>
                <a:lnTo>
                  <a:pt x="256" y="524"/>
                </a:lnTo>
                <a:lnTo>
                  <a:pt x="256" y="534"/>
                </a:lnTo>
                <a:lnTo>
                  <a:pt x="247" y="534"/>
                </a:lnTo>
                <a:lnTo>
                  <a:pt x="247" y="543"/>
                </a:lnTo>
                <a:lnTo>
                  <a:pt x="239" y="543"/>
                </a:lnTo>
                <a:lnTo>
                  <a:pt x="230" y="543"/>
                </a:lnTo>
                <a:lnTo>
                  <a:pt x="230" y="553"/>
                </a:lnTo>
                <a:lnTo>
                  <a:pt x="221" y="553"/>
                </a:lnTo>
                <a:lnTo>
                  <a:pt x="221" y="563"/>
                </a:lnTo>
                <a:lnTo>
                  <a:pt x="213" y="563"/>
                </a:lnTo>
                <a:lnTo>
                  <a:pt x="204" y="563"/>
                </a:lnTo>
                <a:lnTo>
                  <a:pt x="196" y="563"/>
                </a:lnTo>
                <a:lnTo>
                  <a:pt x="187" y="572"/>
                </a:lnTo>
                <a:lnTo>
                  <a:pt x="187" y="563"/>
                </a:lnTo>
                <a:lnTo>
                  <a:pt x="179" y="563"/>
                </a:lnTo>
                <a:lnTo>
                  <a:pt x="170" y="563"/>
                </a:lnTo>
                <a:lnTo>
                  <a:pt x="170" y="572"/>
                </a:lnTo>
                <a:lnTo>
                  <a:pt x="170" y="582"/>
                </a:lnTo>
                <a:lnTo>
                  <a:pt x="170" y="592"/>
                </a:lnTo>
                <a:lnTo>
                  <a:pt x="162" y="592"/>
                </a:lnTo>
                <a:lnTo>
                  <a:pt x="153" y="592"/>
                </a:lnTo>
                <a:lnTo>
                  <a:pt x="153" y="602"/>
                </a:lnTo>
                <a:lnTo>
                  <a:pt x="145" y="602"/>
                </a:lnTo>
                <a:lnTo>
                  <a:pt x="145" y="592"/>
                </a:lnTo>
                <a:lnTo>
                  <a:pt x="145" y="602"/>
                </a:lnTo>
                <a:lnTo>
                  <a:pt x="145" y="592"/>
                </a:lnTo>
                <a:lnTo>
                  <a:pt x="136" y="592"/>
                </a:lnTo>
                <a:lnTo>
                  <a:pt x="136" y="602"/>
                </a:lnTo>
                <a:lnTo>
                  <a:pt x="136" y="592"/>
                </a:lnTo>
                <a:lnTo>
                  <a:pt x="128" y="592"/>
                </a:lnTo>
                <a:lnTo>
                  <a:pt x="128" y="582"/>
                </a:lnTo>
                <a:lnTo>
                  <a:pt x="119" y="582"/>
                </a:lnTo>
                <a:lnTo>
                  <a:pt x="119" y="592"/>
                </a:lnTo>
                <a:lnTo>
                  <a:pt x="111" y="592"/>
                </a:lnTo>
                <a:lnTo>
                  <a:pt x="111" y="602"/>
                </a:lnTo>
                <a:lnTo>
                  <a:pt x="111" y="611"/>
                </a:lnTo>
                <a:lnTo>
                  <a:pt x="111" y="621"/>
                </a:lnTo>
                <a:lnTo>
                  <a:pt x="111" y="631"/>
                </a:lnTo>
                <a:lnTo>
                  <a:pt x="111" y="640"/>
                </a:lnTo>
                <a:lnTo>
                  <a:pt x="111" y="650"/>
                </a:lnTo>
                <a:lnTo>
                  <a:pt x="111" y="660"/>
                </a:lnTo>
                <a:lnTo>
                  <a:pt x="111" y="669"/>
                </a:lnTo>
                <a:lnTo>
                  <a:pt x="111" y="679"/>
                </a:lnTo>
                <a:lnTo>
                  <a:pt x="111" y="689"/>
                </a:lnTo>
                <a:lnTo>
                  <a:pt x="111" y="699"/>
                </a:lnTo>
                <a:lnTo>
                  <a:pt x="111" y="708"/>
                </a:lnTo>
                <a:lnTo>
                  <a:pt x="111" y="718"/>
                </a:lnTo>
                <a:lnTo>
                  <a:pt x="102" y="718"/>
                </a:lnTo>
                <a:lnTo>
                  <a:pt x="102" y="728"/>
                </a:lnTo>
                <a:lnTo>
                  <a:pt x="102" y="737"/>
                </a:lnTo>
                <a:lnTo>
                  <a:pt x="94" y="737"/>
                </a:lnTo>
                <a:lnTo>
                  <a:pt x="94" y="747"/>
                </a:lnTo>
                <a:lnTo>
                  <a:pt x="94" y="757"/>
                </a:lnTo>
                <a:lnTo>
                  <a:pt x="85" y="757"/>
                </a:lnTo>
                <a:lnTo>
                  <a:pt x="77" y="757"/>
                </a:lnTo>
                <a:lnTo>
                  <a:pt x="68" y="757"/>
                </a:lnTo>
                <a:lnTo>
                  <a:pt x="68" y="747"/>
                </a:lnTo>
                <a:lnTo>
                  <a:pt x="60" y="747"/>
                </a:lnTo>
                <a:lnTo>
                  <a:pt x="60" y="737"/>
                </a:lnTo>
                <a:lnTo>
                  <a:pt x="60" y="728"/>
                </a:lnTo>
                <a:lnTo>
                  <a:pt x="60" y="718"/>
                </a:lnTo>
                <a:lnTo>
                  <a:pt x="60" y="708"/>
                </a:lnTo>
                <a:lnTo>
                  <a:pt x="51" y="708"/>
                </a:lnTo>
                <a:lnTo>
                  <a:pt x="60" y="708"/>
                </a:lnTo>
                <a:lnTo>
                  <a:pt x="60" y="699"/>
                </a:lnTo>
                <a:lnTo>
                  <a:pt x="51" y="699"/>
                </a:lnTo>
                <a:lnTo>
                  <a:pt x="43" y="699"/>
                </a:lnTo>
                <a:lnTo>
                  <a:pt x="43" y="689"/>
                </a:lnTo>
                <a:lnTo>
                  <a:pt x="43" y="679"/>
                </a:lnTo>
                <a:lnTo>
                  <a:pt x="43" y="669"/>
                </a:lnTo>
                <a:lnTo>
                  <a:pt x="34" y="669"/>
                </a:lnTo>
                <a:lnTo>
                  <a:pt x="34" y="660"/>
                </a:lnTo>
                <a:lnTo>
                  <a:pt x="26" y="660"/>
                </a:lnTo>
                <a:lnTo>
                  <a:pt x="17" y="660"/>
                </a:lnTo>
                <a:lnTo>
                  <a:pt x="9" y="660"/>
                </a:lnTo>
                <a:lnTo>
                  <a:pt x="0" y="660"/>
                </a:lnTo>
                <a:lnTo>
                  <a:pt x="0" y="650"/>
                </a:lnTo>
                <a:lnTo>
                  <a:pt x="0" y="611"/>
                </a:lnTo>
                <a:lnTo>
                  <a:pt x="0" y="582"/>
                </a:lnTo>
                <a:lnTo>
                  <a:pt x="9" y="553"/>
                </a:lnTo>
                <a:lnTo>
                  <a:pt x="9" y="543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Freeform 6"/>
          <p:cNvSpPr/>
          <p:nvPr/>
        </p:nvSpPr>
        <p:spPr>
          <a:xfrm>
            <a:off x="2424240" y="4673520"/>
            <a:ext cx="204840" cy="233280"/>
          </a:xfrm>
          <a:custGeom>
            <a:avLst/>
            <a:gdLst>
              <a:gd name="textAreaLeft" fmla="*/ 0 w 204840"/>
              <a:gd name="textAreaRight" fmla="*/ 205200 w 2048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9" h="147">
                <a:moveTo>
                  <a:pt x="8" y="29"/>
                </a:moveTo>
                <a:lnTo>
                  <a:pt x="17" y="29"/>
                </a:lnTo>
                <a:lnTo>
                  <a:pt x="17" y="2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25" y="10"/>
                </a:lnTo>
                <a:lnTo>
                  <a:pt x="34" y="20"/>
                </a:lnTo>
                <a:lnTo>
                  <a:pt x="42" y="10"/>
                </a:lnTo>
                <a:lnTo>
                  <a:pt x="51" y="10"/>
                </a:lnTo>
                <a:lnTo>
                  <a:pt x="59" y="20"/>
                </a:lnTo>
                <a:lnTo>
                  <a:pt x="69" y="20"/>
                </a:lnTo>
                <a:lnTo>
                  <a:pt x="77" y="20"/>
                </a:lnTo>
                <a:lnTo>
                  <a:pt x="86" y="39"/>
                </a:lnTo>
                <a:lnTo>
                  <a:pt x="103" y="49"/>
                </a:lnTo>
                <a:lnTo>
                  <a:pt x="111" y="49"/>
                </a:lnTo>
                <a:lnTo>
                  <a:pt x="120" y="49"/>
                </a:lnTo>
                <a:lnTo>
                  <a:pt x="128" y="49"/>
                </a:lnTo>
                <a:lnTo>
                  <a:pt x="128" y="136"/>
                </a:lnTo>
                <a:lnTo>
                  <a:pt x="128" y="146"/>
                </a:lnTo>
                <a:lnTo>
                  <a:pt x="120" y="146"/>
                </a:lnTo>
                <a:lnTo>
                  <a:pt x="120" y="136"/>
                </a:lnTo>
                <a:lnTo>
                  <a:pt x="120" y="146"/>
                </a:lnTo>
                <a:lnTo>
                  <a:pt x="111" y="146"/>
                </a:lnTo>
                <a:lnTo>
                  <a:pt x="103" y="146"/>
                </a:lnTo>
                <a:lnTo>
                  <a:pt x="94" y="136"/>
                </a:lnTo>
                <a:lnTo>
                  <a:pt x="86" y="126"/>
                </a:lnTo>
                <a:lnTo>
                  <a:pt x="86" y="117"/>
                </a:lnTo>
                <a:lnTo>
                  <a:pt x="77" y="117"/>
                </a:lnTo>
                <a:lnTo>
                  <a:pt x="77" y="107"/>
                </a:lnTo>
                <a:lnTo>
                  <a:pt x="69" y="107"/>
                </a:lnTo>
                <a:lnTo>
                  <a:pt x="69" y="97"/>
                </a:lnTo>
                <a:lnTo>
                  <a:pt x="59" y="88"/>
                </a:lnTo>
                <a:lnTo>
                  <a:pt x="51" y="88"/>
                </a:lnTo>
                <a:lnTo>
                  <a:pt x="51" y="78"/>
                </a:lnTo>
                <a:lnTo>
                  <a:pt x="42" y="78"/>
                </a:lnTo>
                <a:lnTo>
                  <a:pt x="42" y="68"/>
                </a:lnTo>
                <a:lnTo>
                  <a:pt x="34" y="68"/>
                </a:lnTo>
                <a:lnTo>
                  <a:pt x="34" y="59"/>
                </a:lnTo>
                <a:lnTo>
                  <a:pt x="25" y="59"/>
                </a:lnTo>
                <a:lnTo>
                  <a:pt x="25" y="49"/>
                </a:lnTo>
                <a:lnTo>
                  <a:pt x="17" y="49"/>
                </a:lnTo>
                <a:lnTo>
                  <a:pt x="17" y="39"/>
                </a:lnTo>
                <a:lnTo>
                  <a:pt x="8" y="49"/>
                </a:lnTo>
                <a:lnTo>
                  <a:pt x="8" y="39"/>
                </a:lnTo>
                <a:lnTo>
                  <a:pt x="0" y="39"/>
                </a:lnTo>
                <a:lnTo>
                  <a:pt x="0" y="29"/>
                </a:lnTo>
                <a:lnTo>
                  <a:pt x="8" y="29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Freeform 7"/>
          <p:cNvSpPr/>
          <p:nvPr/>
        </p:nvSpPr>
        <p:spPr>
          <a:xfrm>
            <a:off x="2017800" y="4489560"/>
            <a:ext cx="382680" cy="339480"/>
          </a:xfrm>
          <a:custGeom>
            <a:avLst/>
            <a:gdLst>
              <a:gd name="textAreaLeft" fmla="*/ 0 w 382680"/>
              <a:gd name="textAreaRight" fmla="*/ 383040 w 38268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241" h="214">
                <a:moveTo>
                  <a:pt x="0" y="145"/>
                </a:moveTo>
                <a:lnTo>
                  <a:pt x="0" y="136"/>
                </a:lnTo>
                <a:lnTo>
                  <a:pt x="0" y="126"/>
                </a:lnTo>
                <a:lnTo>
                  <a:pt x="9" y="126"/>
                </a:lnTo>
                <a:lnTo>
                  <a:pt x="9" y="116"/>
                </a:lnTo>
                <a:lnTo>
                  <a:pt x="0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26" y="87"/>
                </a:lnTo>
                <a:lnTo>
                  <a:pt x="26" y="78"/>
                </a:lnTo>
                <a:lnTo>
                  <a:pt x="34" y="78"/>
                </a:lnTo>
                <a:lnTo>
                  <a:pt x="34" y="68"/>
                </a:lnTo>
                <a:lnTo>
                  <a:pt x="43" y="68"/>
                </a:lnTo>
                <a:lnTo>
                  <a:pt x="43" y="58"/>
                </a:lnTo>
                <a:lnTo>
                  <a:pt x="51" y="58"/>
                </a:lnTo>
                <a:lnTo>
                  <a:pt x="51" y="48"/>
                </a:lnTo>
                <a:lnTo>
                  <a:pt x="60" y="48"/>
                </a:lnTo>
                <a:lnTo>
                  <a:pt x="60" y="39"/>
                </a:lnTo>
                <a:lnTo>
                  <a:pt x="68" y="39"/>
                </a:lnTo>
                <a:lnTo>
                  <a:pt x="68" y="29"/>
                </a:lnTo>
                <a:lnTo>
                  <a:pt x="77" y="29"/>
                </a:lnTo>
                <a:lnTo>
                  <a:pt x="77" y="19"/>
                </a:lnTo>
                <a:lnTo>
                  <a:pt x="85" y="19"/>
                </a:lnTo>
                <a:lnTo>
                  <a:pt x="94" y="19"/>
                </a:lnTo>
                <a:lnTo>
                  <a:pt x="102" y="19"/>
                </a:lnTo>
                <a:lnTo>
                  <a:pt x="102" y="10"/>
                </a:lnTo>
                <a:lnTo>
                  <a:pt x="111" y="10"/>
                </a:lnTo>
                <a:lnTo>
                  <a:pt x="111" y="0"/>
                </a:lnTo>
                <a:lnTo>
                  <a:pt x="119" y="0"/>
                </a:lnTo>
                <a:lnTo>
                  <a:pt x="129" y="0"/>
                </a:lnTo>
                <a:lnTo>
                  <a:pt x="138" y="0"/>
                </a:lnTo>
                <a:lnTo>
                  <a:pt x="138" y="10"/>
                </a:lnTo>
                <a:lnTo>
                  <a:pt x="146" y="10"/>
                </a:lnTo>
                <a:lnTo>
                  <a:pt x="146" y="0"/>
                </a:lnTo>
                <a:lnTo>
                  <a:pt x="146" y="10"/>
                </a:lnTo>
                <a:lnTo>
                  <a:pt x="155" y="10"/>
                </a:lnTo>
                <a:lnTo>
                  <a:pt x="163" y="10"/>
                </a:lnTo>
                <a:lnTo>
                  <a:pt x="163" y="19"/>
                </a:lnTo>
                <a:lnTo>
                  <a:pt x="172" y="19"/>
                </a:lnTo>
                <a:lnTo>
                  <a:pt x="180" y="19"/>
                </a:lnTo>
                <a:lnTo>
                  <a:pt x="180" y="29"/>
                </a:lnTo>
                <a:lnTo>
                  <a:pt x="180" y="39"/>
                </a:lnTo>
                <a:lnTo>
                  <a:pt x="189" y="39"/>
                </a:lnTo>
                <a:lnTo>
                  <a:pt x="197" y="39"/>
                </a:lnTo>
                <a:lnTo>
                  <a:pt x="197" y="48"/>
                </a:lnTo>
                <a:lnTo>
                  <a:pt x="206" y="48"/>
                </a:lnTo>
                <a:lnTo>
                  <a:pt x="206" y="58"/>
                </a:lnTo>
                <a:lnTo>
                  <a:pt x="214" y="58"/>
                </a:lnTo>
                <a:lnTo>
                  <a:pt x="206" y="58"/>
                </a:lnTo>
                <a:lnTo>
                  <a:pt x="206" y="68"/>
                </a:lnTo>
                <a:lnTo>
                  <a:pt x="214" y="68"/>
                </a:lnTo>
                <a:lnTo>
                  <a:pt x="214" y="78"/>
                </a:lnTo>
                <a:lnTo>
                  <a:pt x="223" y="87"/>
                </a:lnTo>
                <a:lnTo>
                  <a:pt x="240" y="87"/>
                </a:lnTo>
                <a:lnTo>
                  <a:pt x="240" y="97"/>
                </a:lnTo>
                <a:lnTo>
                  <a:pt x="231" y="116"/>
                </a:lnTo>
                <a:lnTo>
                  <a:pt x="240" y="126"/>
                </a:lnTo>
                <a:lnTo>
                  <a:pt x="240" y="136"/>
                </a:lnTo>
                <a:lnTo>
                  <a:pt x="214" y="136"/>
                </a:lnTo>
                <a:lnTo>
                  <a:pt x="214" y="145"/>
                </a:lnTo>
                <a:lnTo>
                  <a:pt x="223" y="155"/>
                </a:lnTo>
                <a:lnTo>
                  <a:pt x="223" y="165"/>
                </a:lnTo>
                <a:lnTo>
                  <a:pt x="214" y="165"/>
                </a:lnTo>
                <a:lnTo>
                  <a:pt x="206" y="165"/>
                </a:lnTo>
                <a:lnTo>
                  <a:pt x="197" y="165"/>
                </a:lnTo>
                <a:lnTo>
                  <a:pt x="189" y="175"/>
                </a:lnTo>
                <a:lnTo>
                  <a:pt x="189" y="165"/>
                </a:lnTo>
                <a:lnTo>
                  <a:pt x="189" y="175"/>
                </a:lnTo>
                <a:lnTo>
                  <a:pt x="180" y="175"/>
                </a:lnTo>
                <a:lnTo>
                  <a:pt x="172" y="175"/>
                </a:lnTo>
                <a:lnTo>
                  <a:pt x="172" y="184"/>
                </a:lnTo>
                <a:lnTo>
                  <a:pt x="163" y="184"/>
                </a:lnTo>
                <a:lnTo>
                  <a:pt x="163" y="194"/>
                </a:lnTo>
                <a:lnTo>
                  <a:pt x="155" y="194"/>
                </a:lnTo>
                <a:lnTo>
                  <a:pt x="146" y="194"/>
                </a:lnTo>
                <a:lnTo>
                  <a:pt x="146" y="184"/>
                </a:lnTo>
                <a:lnTo>
                  <a:pt x="138" y="184"/>
                </a:lnTo>
                <a:lnTo>
                  <a:pt x="138" y="194"/>
                </a:lnTo>
                <a:lnTo>
                  <a:pt x="129" y="194"/>
                </a:lnTo>
                <a:lnTo>
                  <a:pt x="129" y="204"/>
                </a:lnTo>
                <a:lnTo>
                  <a:pt x="129" y="194"/>
                </a:lnTo>
                <a:lnTo>
                  <a:pt x="119" y="194"/>
                </a:lnTo>
                <a:lnTo>
                  <a:pt x="111" y="194"/>
                </a:lnTo>
                <a:lnTo>
                  <a:pt x="102" y="184"/>
                </a:lnTo>
                <a:lnTo>
                  <a:pt x="102" y="194"/>
                </a:lnTo>
                <a:lnTo>
                  <a:pt x="94" y="194"/>
                </a:lnTo>
                <a:lnTo>
                  <a:pt x="85" y="194"/>
                </a:lnTo>
                <a:lnTo>
                  <a:pt x="85" y="204"/>
                </a:lnTo>
                <a:lnTo>
                  <a:pt x="77" y="213"/>
                </a:lnTo>
                <a:lnTo>
                  <a:pt x="68" y="213"/>
                </a:lnTo>
                <a:lnTo>
                  <a:pt x="60" y="213"/>
                </a:lnTo>
                <a:lnTo>
                  <a:pt x="60" y="204"/>
                </a:lnTo>
                <a:lnTo>
                  <a:pt x="60" y="194"/>
                </a:lnTo>
                <a:lnTo>
                  <a:pt x="51" y="194"/>
                </a:lnTo>
                <a:lnTo>
                  <a:pt x="51" y="184"/>
                </a:lnTo>
                <a:lnTo>
                  <a:pt x="60" y="184"/>
                </a:lnTo>
                <a:lnTo>
                  <a:pt x="60" y="175"/>
                </a:lnTo>
                <a:lnTo>
                  <a:pt x="51" y="175"/>
                </a:lnTo>
                <a:lnTo>
                  <a:pt x="51" y="184"/>
                </a:lnTo>
                <a:lnTo>
                  <a:pt x="43" y="175"/>
                </a:lnTo>
                <a:lnTo>
                  <a:pt x="43" y="165"/>
                </a:lnTo>
                <a:lnTo>
                  <a:pt x="43" y="155"/>
                </a:lnTo>
                <a:lnTo>
                  <a:pt x="43" y="145"/>
                </a:lnTo>
                <a:lnTo>
                  <a:pt x="34" y="145"/>
                </a:lnTo>
                <a:lnTo>
                  <a:pt x="26" y="145"/>
                </a:lnTo>
                <a:lnTo>
                  <a:pt x="17" y="145"/>
                </a:lnTo>
                <a:lnTo>
                  <a:pt x="9" y="145"/>
                </a:lnTo>
                <a:lnTo>
                  <a:pt x="0" y="14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Freeform 8"/>
          <p:cNvSpPr/>
          <p:nvPr/>
        </p:nvSpPr>
        <p:spPr>
          <a:xfrm>
            <a:off x="2220840" y="4303800"/>
            <a:ext cx="474840" cy="249120"/>
          </a:xfrm>
          <a:custGeom>
            <a:avLst/>
            <a:gdLst>
              <a:gd name="textAreaLeft" fmla="*/ 0 w 474840"/>
              <a:gd name="textAreaRight" fmla="*/ 475200 w 474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99" h="157">
                <a:moveTo>
                  <a:pt x="26" y="127"/>
                </a:moveTo>
                <a:lnTo>
                  <a:pt x="17" y="127"/>
                </a:lnTo>
                <a:lnTo>
                  <a:pt x="17" y="117"/>
                </a:lnTo>
                <a:lnTo>
                  <a:pt x="17" y="107"/>
                </a:lnTo>
                <a:lnTo>
                  <a:pt x="17" y="97"/>
                </a:lnTo>
                <a:lnTo>
                  <a:pt x="17" y="88"/>
                </a:lnTo>
                <a:lnTo>
                  <a:pt x="17" y="78"/>
                </a:lnTo>
                <a:lnTo>
                  <a:pt x="17" y="68"/>
                </a:lnTo>
                <a:lnTo>
                  <a:pt x="17" y="78"/>
                </a:lnTo>
                <a:lnTo>
                  <a:pt x="9" y="78"/>
                </a:lnTo>
                <a:lnTo>
                  <a:pt x="17" y="68"/>
                </a:lnTo>
                <a:lnTo>
                  <a:pt x="17" y="59"/>
                </a:lnTo>
                <a:lnTo>
                  <a:pt x="17" y="49"/>
                </a:lnTo>
                <a:lnTo>
                  <a:pt x="9" y="49"/>
                </a:lnTo>
                <a:lnTo>
                  <a:pt x="9" y="39"/>
                </a:lnTo>
                <a:lnTo>
                  <a:pt x="0" y="39"/>
                </a:lnTo>
                <a:lnTo>
                  <a:pt x="0" y="30"/>
                </a:lnTo>
                <a:lnTo>
                  <a:pt x="9" y="3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0" y="10"/>
                </a:lnTo>
                <a:lnTo>
                  <a:pt x="9" y="10"/>
                </a:lnTo>
                <a:lnTo>
                  <a:pt x="9" y="0"/>
                </a:lnTo>
                <a:lnTo>
                  <a:pt x="17" y="0"/>
                </a:lnTo>
                <a:lnTo>
                  <a:pt x="17" y="10"/>
                </a:lnTo>
                <a:lnTo>
                  <a:pt x="26" y="20"/>
                </a:lnTo>
                <a:lnTo>
                  <a:pt x="34" y="20"/>
                </a:lnTo>
                <a:lnTo>
                  <a:pt x="43" y="20"/>
                </a:lnTo>
                <a:lnTo>
                  <a:pt x="43" y="30"/>
                </a:lnTo>
                <a:lnTo>
                  <a:pt x="51" y="30"/>
                </a:lnTo>
                <a:lnTo>
                  <a:pt x="60" y="30"/>
                </a:lnTo>
                <a:lnTo>
                  <a:pt x="68" y="30"/>
                </a:lnTo>
                <a:lnTo>
                  <a:pt x="77" y="30"/>
                </a:lnTo>
                <a:lnTo>
                  <a:pt x="85" y="30"/>
                </a:lnTo>
                <a:lnTo>
                  <a:pt x="94" y="30"/>
                </a:lnTo>
                <a:lnTo>
                  <a:pt x="94" y="20"/>
                </a:lnTo>
                <a:lnTo>
                  <a:pt x="102" y="30"/>
                </a:lnTo>
                <a:lnTo>
                  <a:pt x="102" y="20"/>
                </a:lnTo>
                <a:lnTo>
                  <a:pt x="111" y="20"/>
                </a:lnTo>
                <a:lnTo>
                  <a:pt x="119" y="20"/>
                </a:lnTo>
                <a:lnTo>
                  <a:pt x="119" y="30"/>
                </a:lnTo>
                <a:lnTo>
                  <a:pt x="128" y="30"/>
                </a:lnTo>
                <a:lnTo>
                  <a:pt x="136" y="30"/>
                </a:lnTo>
                <a:lnTo>
                  <a:pt x="145" y="30"/>
                </a:lnTo>
                <a:lnTo>
                  <a:pt x="153" y="30"/>
                </a:lnTo>
                <a:lnTo>
                  <a:pt x="162" y="30"/>
                </a:lnTo>
                <a:lnTo>
                  <a:pt x="170" y="30"/>
                </a:lnTo>
                <a:lnTo>
                  <a:pt x="179" y="30"/>
                </a:lnTo>
                <a:lnTo>
                  <a:pt x="179" y="39"/>
                </a:lnTo>
                <a:lnTo>
                  <a:pt x="187" y="39"/>
                </a:lnTo>
                <a:lnTo>
                  <a:pt x="196" y="39"/>
                </a:lnTo>
                <a:lnTo>
                  <a:pt x="196" y="30"/>
                </a:lnTo>
                <a:lnTo>
                  <a:pt x="204" y="30"/>
                </a:lnTo>
                <a:lnTo>
                  <a:pt x="213" y="30"/>
                </a:lnTo>
                <a:lnTo>
                  <a:pt x="221" y="30"/>
                </a:lnTo>
                <a:lnTo>
                  <a:pt x="221" y="39"/>
                </a:lnTo>
                <a:lnTo>
                  <a:pt x="230" y="39"/>
                </a:lnTo>
                <a:lnTo>
                  <a:pt x="238" y="39"/>
                </a:lnTo>
                <a:lnTo>
                  <a:pt x="247" y="39"/>
                </a:lnTo>
                <a:lnTo>
                  <a:pt x="255" y="39"/>
                </a:lnTo>
                <a:lnTo>
                  <a:pt x="264" y="39"/>
                </a:lnTo>
                <a:lnTo>
                  <a:pt x="264" y="49"/>
                </a:lnTo>
                <a:lnTo>
                  <a:pt x="272" y="49"/>
                </a:lnTo>
                <a:lnTo>
                  <a:pt x="272" y="59"/>
                </a:lnTo>
                <a:lnTo>
                  <a:pt x="281" y="59"/>
                </a:lnTo>
                <a:lnTo>
                  <a:pt x="281" y="68"/>
                </a:lnTo>
                <a:lnTo>
                  <a:pt x="289" y="68"/>
                </a:lnTo>
                <a:lnTo>
                  <a:pt x="289" y="78"/>
                </a:lnTo>
                <a:lnTo>
                  <a:pt x="289" y="88"/>
                </a:lnTo>
                <a:lnTo>
                  <a:pt x="298" y="88"/>
                </a:lnTo>
                <a:lnTo>
                  <a:pt x="298" y="97"/>
                </a:lnTo>
                <a:lnTo>
                  <a:pt x="298" y="107"/>
                </a:lnTo>
                <a:lnTo>
                  <a:pt x="289" y="107"/>
                </a:lnTo>
                <a:lnTo>
                  <a:pt x="281" y="107"/>
                </a:lnTo>
                <a:lnTo>
                  <a:pt x="281" y="97"/>
                </a:lnTo>
                <a:lnTo>
                  <a:pt x="272" y="97"/>
                </a:lnTo>
                <a:lnTo>
                  <a:pt x="264" y="97"/>
                </a:lnTo>
                <a:lnTo>
                  <a:pt x="255" y="97"/>
                </a:lnTo>
                <a:lnTo>
                  <a:pt x="247" y="97"/>
                </a:lnTo>
                <a:lnTo>
                  <a:pt x="238" y="107"/>
                </a:lnTo>
                <a:lnTo>
                  <a:pt x="230" y="107"/>
                </a:lnTo>
                <a:lnTo>
                  <a:pt x="230" y="117"/>
                </a:lnTo>
                <a:lnTo>
                  <a:pt x="221" y="117"/>
                </a:lnTo>
                <a:lnTo>
                  <a:pt x="213" y="117"/>
                </a:lnTo>
                <a:lnTo>
                  <a:pt x="213" y="127"/>
                </a:lnTo>
                <a:lnTo>
                  <a:pt x="204" y="127"/>
                </a:lnTo>
                <a:lnTo>
                  <a:pt x="204" y="136"/>
                </a:lnTo>
                <a:lnTo>
                  <a:pt x="196" y="136"/>
                </a:lnTo>
                <a:lnTo>
                  <a:pt x="187" y="136"/>
                </a:lnTo>
                <a:lnTo>
                  <a:pt x="179" y="136"/>
                </a:lnTo>
                <a:lnTo>
                  <a:pt x="170" y="136"/>
                </a:lnTo>
                <a:lnTo>
                  <a:pt x="170" y="127"/>
                </a:lnTo>
                <a:lnTo>
                  <a:pt x="170" y="136"/>
                </a:lnTo>
                <a:lnTo>
                  <a:pt x="162" y="136"/>
                </a:lnTo>
                <a:lnTo>
                  <a:pt x="162" y="127"/>
                </a:lnTo>
                <a:lnTo>
                  <a:pt x="153" y="127"/>
                </a:lnTo>
                <a:lnTo>
                  <a:pt x="136" y="136"/>
                </a:lnTo>
                <a:lnTo>
                  <a:pt x="111" y="136"/>
                </a:lnTo>
                <a:lnTo>
                  <a:pt x="102" y="146"/>
                </a:lnTo>
                <a:lnTo>
                  <a:pt x="94" y="146"/>
                </a:lnTo>
                <a:lnTo>
                  <a:pt x="85" y="146"/>
                </a:lnTo>
                <a:lnTo>
                  <a:pt x="85" y="156"/>
                </a:lnTo>
                <a:lnTo>
                  <a:pt x="77" y="156"/>
                </a:lnTo>
                <a:lnTo>
                  <a:pt x="68" y="156"/>
                </a:lnTo>
                <a:lnTo>
                  <a:pt x="60" y="156"/>
                </a:lnTo>
                <a:lnTo>
                  <a:pt x="51" y="156"/>
                </a:lnTo>
                <a:lnTo>
                  <a:pt x="51" y="146"/>
                </a:lnTo>
                <a:lnTo>
                  <a:pt x="51" y="136"/>
                </a:lnTo>
                <a:lnTo>
                  <a:pt x="43" y="136"/>
                </a:lnTo>
                <a:lnTo>
                  <a:pt x="34" y="136"/>
                </a:lnTo>
                <a:lnTo>
                  <a:pt x="34" y="127"/>
                </a:lnTo>
                <a:lnTo>
                  <a:pt x="26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Freeform 9"/>
          <p:cNvSpPr/>
          <p:nvPr/>
        </p:nvSpPr>
        <p:spPr>
          <a:xfrm>
            <a:off x="2328840" y="4505400"/>
            <a:ext cx="204840" cy="231840"/>
          </a:xfrm>
          <a:custGeom>
            <a:avLst/>
            <a:gdLst>
              <a:gd name="textAreaLeft" fmla="*/ 0 w 204840"/>
              <a:gd name="textAreaRight" fmla="*/ 205200 w 20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9" h="146">
                <a:moveTo>
                  <a:pt x="68" y="135"/>
                </a:moveTo>
                <a:lnTo>
                  <a:pt x="60" y="135"/>
                </a:lnTo>
                <a:lnTo>
                  <a:pt x="60" y="145"/>
                </a:lnTo>
                <a:lnTo>
                  <a:pt x="51" y="145"/>
                </a:lnTo>
                <a:lnTo>
                  <a:pt x="43" y="145"/>
                </a:lnTo>
                <a:lnTo>
                  <a:pt x="43" y="135"/>
                </a:lnTo>
                <a:lnTo>
                  <a:pt x="34" y="135"/>
                </a:lnTo>
                <a:lnTo>
                  <a:pt x="26" y="135"/>
                </a:lnTo>
                <a:lnTo>
                  <a:pt x="26" y="145"/>
                </a:lnTo>
                <a:lnTo>
                  <a:pt x="17" y="135"/>
                </a:lnTo>
                <a:lnTo>
                  <a:pt x="17" y="126"/>
                </a:lnTo>
                <a:lnTo>
                  <a:pt x="43" y="126"/>
                </a:lnTo>
                <a:lnTo>
                  <a:pt x="43" y="116"/>
                </a:lnTo>
                <a:lnTo>
                  <a:pt x="34" y="106"/>
                </a:lnTo>
                <a:lnTo>
                  <a:pt x="43" y="87"/>
                </a:lnTo>
                <a:lnTo>
                  <a:pt x="43" y="77"/>
                </a:lnTo>
                <a:lnTo>
                  <a:pt x="26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9" y="48"/>
                </a:lnTo>
                <a:lnTo>
                  <a:pt x="17" y="48"/>
                </a:lnTo>
                <a:lnTo>
                  <a:pt x="9" y="48"/>
                </a:lnTo>
                <a:lnTo>
                  <a:pt x="9" y="38"/>
                </a:lnTo>
                <a:lnTo>
                  <a:pt x="0" y="38"/>
                </a:lnTo>
                <a:lnTo>
                  <a:pt x="0" y="29"/>
                </a:lnTo>
                <a:lnTo>
                  <a:pt x="9" y="2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34" y="19"/>
                </a:lnTo>
                <a:lnTo>
                  <a:pt x="43" y="9"/>
                </a:lnTo>
                <a:lnTo>
                  <a:pt x="68" y="9"/>
                </a:lnTo>
                <a:lnTo>
                  <a:pt x="85" y="0"/>
                </a:lnTo>
                <a:lnTo>
                  <a:pt x="94" y="0"/>
                </a:lnTo>
                <a:lnTo>
                  <a:pt x="94" y="9"/>
                </a:lnTo>
                <a:lnTo>
                  <a:pt x="102" y="9"/>
                </a:lnTo>
                <a:lnTo>
                  <a:pt x="102" y="0"/>
                </a:lnTo>
                <a:lnTo>
                  <a:pt x="102" y="9"/>
                </a:lnTo>
                <a:lnTo>
                  <a:pt x="111" y="9"/>
                </a:lnTo>
                <a:lnTo>
                  <a:pt x="119" y="9"/>
                </a:lnTo>
                <a:lnTo>
                  <a:pt x="128" y="9"/>
                </a:lnTo>
                <a:lnTo>
                  <a:pt x="119" y="9"/>
                </a:lnTo>
                <a:lnTo>
                  <a:pt x="119" y="19"/>
                </a:lnTo>
                <a:lnTo>
                  <a:pt x="119" y="29"/>
                </a:lnTo>
                <a:lnTo>
                  <a:pt x="111" y="38"/>
                </a:lnTo>
                <a:lnTo>
                  <a:pt x="119" y="38"/>
                </a:lnTo>
                <a:lnTo>
                  <a:pt x="119" y="48"/>
                </a:lnTo>
                <a:lnTo>
                  <a:pt x="128" y="48"/>
                </a:lnTo>
                <a:lnTo>
                  <a:pt x="119" y="58"/>
                </a:lnTo>
                <a:lnTo>
                  <a:pt x="111" y="58"/>
                </a:lnTo>
                <a:lnTo>
                  <a:pt x="111" y="48"/>
                </a:lnTo>
                <a:lnTo>
                  <a:pt x="111" y="58"/>
                </a:lnTo>
                <a:lnTo>
                  <a:pt x="102" y="5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94" y="68"/>
                </a:lnTo>
                <a:lnTo>
                  <a:pt x="102" y="77"/>
                </a:lnTo>
                <a:lnTo>
                  <a:pt x="94" y="77"/>
                </a:lnTo>
                <a:lnTo>
                  <a:pt x="94" y="87"/>
                </a:lnTo>
                <a:lnTo>
                  <a:pt x="85" y="87"/>
                </a:lnTo>
                <a:lnTo>
                  <a:pt x="85" y="97"/>
                </a:lnTo>
                <a:lnTo>
                  <a:pt x="85" y="106"/>
                </a:lnTo>
                <a:lnTo>
                  <a:pt x="85" y="116"/>
                </a:lnTo>
                <a:lnTo>
                  <a:pt x="77" y="116"/>
                </a:lnTo>
                <a:lnTo>
                  <a:pt x="77" y="126"/>
                </a:lnTo>
                <a:lnTo>
                  <a:pt x="77" y="135"/>
                </a:lnTo>
                <a:lnTo>
                  <a:pt x="68" y="13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reeform 10"/>
          <p:cNvSpPr/>
          <p:nvPr/>
        </p:nvSpPr>
        <p:spPr>
          <a:xfrm>
            <a:off x="2004840" y="4705200"/>
            <a:ext cx="636840" cy="1001880"/>
          </a:xfrm>
          <a:custGeom>
            <a:avLst/>
            <a:gdLst>
              <a:gd name="textAreaLeft" fmla="*/ 0 w 636840"/>
              <a:gd name="textAreaRight" fmla="*/ 637200 w 6368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401" h="631">
                <a:moveTo>
                  <a:pt x="17" y="9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9"/>
                </a:lnTo>
                <a:lnTo>
                  <a:pt x="8" y="19"/>
                </a:lnTo>
                <a:lnTo>
                  <a:pt x="8" y="29"/>
                </a:lnTo>
                <a:lnTo>
                  <a:pt x="17" y="29"/>
                </a:lnTo>
                <a:lnTo>
                  <a:pt x="17" y="39"/>
                </a:lnTo>
                <a:lnTo>
                  <a:pt x="25" y="39"/>
                </a:lnTo>
                <a:lnTo>
                  <a:pt x="25" y="48"/>
                </a:lnTo>
                <a:lnTo>
                  <a:pt x="25" y="58"/>
                </a:lnTo>
                <a:lnTo>
                  <a:pt x="25" y="68"/>
                </a:lnTo>
                <a:lnTo>
                  <a:pt x="34" y="68"/>
                </a:lnTo>
                <a:lnTo>
                  <a:pt x="25" y="7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25" y="97"/>
                </a:lnTo>
                <a:lnTo>
                  <a:pt x="25" y="106"/>
                </a:lnTo>
                <a:lnTo>
                  <a:pt x="25" y="116"/>
                </a:lnTo>
                <a:lnTo>
                  <a:pt x="25" y="126"/>
                </a:lnTo>
                <a:lnTo>
                  <a:pt x="34" y="126"/>
                </a:lnTo>
                <a:lnTo>
                  <a:pt x="34" y="136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42" y="184"/>
                </a:lnTo>
                <a:lnTo>
                  <a:pt x="42" y="194"/>
                </a:lnTo>
                <a:lnTo>
                  <a:pt x="42" y="203"/>
                </a:lnTo>
                <a:lnTo>
                  <a:pt x="42" y="213"/>
                </a:lnTo>
                <a:lnTo>
                  <a:pt x="42" y="223"/>
                </a:lnTo>
                <a:lnTo>
                  <a:pt x="42" y="233"/>
                </a:lnTo>
                <a:lnTo>
                  <a:pt x="34" y="233"/>
                </a:lnTo>
                <a:lnTo>
                  <a:pt x="34" y="242"/>
                </a:lnTo>
                <a:lnTo>
                  <a:pt x="34" y="252"/>
                </a:lnTo>
                <a:lnTo>
                  <a:pt x="42" y="252"/>
                </a:lnTo>
                <a:lnTo>
                  <a:pt x="51" y="262"/>
                </a:lnTo>
                <a:lnTo>
                  <a:pt x="51" y="271"/>
                </a:lnTo>
                <a:lnTo>
                  <a:pt x="59" y="271"/>
                </a:lnTo>
                <a:lnTo>
                  <a:pt x="68" y="271"/>
                </a:lnTo>
                <a:lnTo>
                  <a:pt x="68" y="281"/>
                </a:lnTo>
                <a:lnTo>
                  <a:pt x="76" y="281"/>
                </a:lnTo>
                <a:lnTo>
                  <a:pt x="76" y="291"/>
                </a:lnTo>
                <a:lnTo>
                  <a:pt x="76" y="300"/>
                </a:lnTo>
                <a:lnTo>
                  <a:pt x="76" y="310"/>
                </a:lnTo>
                <a:lnTo>
                  <a:pt x="85" y="310"/>
                </a:lnTo>
                <a:lnTo>
                  <a:pt x="85" y="320"/>
                </a:lnTo>
                <a:lnTo>
                  <a:pt x="85" y="310"/>
                </a:lnTo>
                <a:lnTo>
                  <a:pt x="93" y="310"/>
                </a:lnTo>
                <a:lnTo>
                  <a:pt x="93" y="300"/>
                </a:lnTo>
                <a:lnTo>
                  <a:pt x="102" y="300"/>
                </a:lnTo>
                <a:lnTo>
                  <a:pt x="110" y="300"/>
                </a:lnTo>
                <a:lnTo>
                  <a:pt x="110" y="291"/>
                </a:lnTo>
                <a:lnTo>
                  <a:pt x="119" y="291"/>
                </a:lnTo>
                <a:lnTo>
                  <a:pt x="127" y="291"/>
                </a:lnTo>
                <a:lnTo>
                  <a:pt x="127" y="281"/>
                </a:lnTo>
                <a:lnTo>
                  <a:pt x="136" y="281"/>
                </a:lnTo>
                <a:lnTo>
                  <a:pt x="136" y="271"/>
                </a:lnTo>
                <a:lnTo>
                  <a:pt x="145" y="281"/>
                </a:lnTo>
                <a:lnTo>
                  <a:pt x="153" y="281"/>
                </a:lnTo>
                <a:lnTo>
                  <a:pt x="162" y="281"/>
                </a:lnTo>
                <a:lnTo>
                  <a:pt x="162" y="291"/>
                </a:lnTo>
                <a:lnTo>
                  <a:pt x="170" y="291"/>
                </a:lnTo>
                <a:lnTo>
                  <a:pt x="179" y="291"/>
                </a:lnTo>
                <a:lnTo>
                  <a:pt x="187" y="291"/>
                </a:lnTo>
                <a:lnTo>
                  <a:pt x="187" y="281"/>
                </a:lnTo>
                <a:lnTo>
                  <a:pt x="196" y="281"/>
                </a:lnTo>
                <a:lnTo>
                  <a:pt x="196" y="271"/>
                </a:lnTo>
                <a:lnTo>
                  <a:pt x="204" y="271"/>
                </a:lnTo>
                <a:lnTo>
                  <a:pt x="204" y="281"/>
                </a:lnTo>
                <a:lnTo>
                  <a:pt x="196" y="281"/>
                </a:lnTo>
                <a:lnTo>
                  <a:pt x="196" y="291"/>
                </a:lnTo>
                <a:lnTo>
                  <a:pt x="196" y="300"/>
                </a:lnTo>
                <a:lnTo>
                  <a:pt x="196" y="310"/>
                </a:lnTo>
                <a:lnTo>
                  <a:pt x="196" y="320"/>
                </a:lnTo>
                <a:lnTo>
                  <a:pt x="204" y="320"/>
                </a:lnTo>
                <a:lnTo>
                  <a:pt x="204" y="330"/>
                </a:lnTo>
                <a:lnTo>
                  <a:pt x="204" y="339"/>
                </a:lnTo>
                <a:lnTo>
                  <a:pt x="204" y="349"/>
                </a:lnTo>
                <a:lnTo>
                  <a:pt x="204" y="359"/>
                </a:lnTo>
                <a:lnTo>
                  <a:pt x="204" y="368"/>
                </a:lnTo>
                <a:lnTo>
                  <a:pt x="204" y="378"/>
                </a:lnTo>
                <a:lnTo>
                  <a:pt x="204" y="388"/>
                </a:lnTo>
                <a:lnTo>
                  <a:pt x="204" y="397"/>
                </a:lnTo>
                <a:lnTo>
                  <a:pt x="204" y="407"/>
                </a:lnTo>
                <a:lnTo>
                  <a:pt x="196" y="407"/>
                </a:lnTo>
                <a:lnTo>
                  <a:pt x="196" y="417"/>
                </a:lnTo>
                <a:lnTo>
                  <a:pt x="196" y="427"/>
                </a:lnTo>
                <a:lnTo>
                  <a:pt x="187" y="427"/>
                </a:lnTo>
                <a:lnTo>
                  <a:pt x="179" y="427"/>
                </a:lnTo>
                <a:lnTo>
                  <a:pt x="179" y="436"/>
                </a:lnTo>
                <a:lnTo>
                  <a:pt x="170" y="436"/>
                </a:lnTo>
                <a:lnTo>
                  <a:pt x="170" y="446"/>
                </a:lnTo>
                <a:lnTo>
                  <a:pt x="162" y="446"/>
                </a:lnTo>
                <a:lnTo>
                  <a:pt x="170" y="446"/>
                </a:lnTo>
                <a:lnTo>
                  <a:pt x="179" y="446"/>
                </a:lnTo>
                <a:lnTo>
                  <a:pt x="179" y="436"/>
                </a:lnTo>
                <a:lnTo>
                  <a:pt x="179" y="446"/>
                </a:lnTo>
                <a:lnTo>
                  <a:pt x="187" y="446"/>
                </a:lnTo>
                <a:lnTo>
                  <a:pt x="187" y="436"/>
                </a:lnTo>
                <a:lnTo>
                  <a:pt x="187" y="446"/>
                </a:lnTo>
                <a:lnTo>
                  <a:pt x="187" y="456"/>
                </a:lnTo>
                <a:lnTo>
                  <a:pt x="196" y="456"/>
                </a:lnTo>
                <a:lnTo>
                  <a:pt x="196" y="46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21" y="475"/>
                </a:lnTo>
                <a:lnTo>
                  <a:pt x="221" y="485"/>
                </a:lnTo>
                <a:lnTo>
                  <a:pt x="230" y="485"/>
                </a:lnTo>
                <a:lnTo>
                  <a:pt x="230" y="494"/>
                </a:lnTo>
                <a:lnTo>
                  <a:pt x="238" y="494"/>
                </a:lnTo>
                <a:lnTo>
                  <a:pt x="238" y="504"/>
                </a:lnTo>
                <a:lnTo>
                  <a:pt x="247" y="504"/>
                </a:lnTo>
                <a:lnTo>
                  <a:pt x="247" y="514"/>
                </a:lnTo>
                <a:lnTo>
                  <a:pt x="247" y="524"/>
                </a:lnTo>
                <a:lnTo>
                  <a:pt x="255" y="524"/>
                </a:lnTo>
                <a:lnTo>
                  <a:pt x="255" y="533"/>
                </a:lnTo>
                <a:lnTo>
                  <a:pt x="264" y="533"/>
                </a:lnTo>
                <a:lnTo>
                  <a:pt x="264" y="543"/>
                </a:lnTo>
                <a:lnTo>
                  <a:pt x="272" y="543"/>
                </a:lnTo>
                <a:lnTo>
                  <a:pt x="272" y="553"/>
                </a:lnTo>
                <a:lnTo>
                  <a:pt x="281" y="553"/>
                </a:lnTo>
                <a:lnTo>
                  <a:pt x="289" y="553"/>
                </a:lnTo>
                <a:lnTo>
                  <a:pt x="289" y="562"/>
                </a:lnTo>
                <a:lnTo>
                  <a:pt x="298" y="562"/>
                </a:lnTo>
                <a:lnTo>
                  <a:pt x="298" y="572"/>
                </a:lnTo>
                <a:lnTo>
                  <a:pt x="298" y="582"/>
                </a:lnTo>
                <a:lnTo>
                  <a:pt x="306" y="582"/>
                </a:lnTo>
                <a:lnTo>
                  <a:pt x="306" y="591"/>
                </a:lnTo>
                <a:lnTo>
                  <a:pt x="315" y="591"/>
                </a:lnTo>
                <a:lnTo>
                  <a:pt x="323" y="591"/>
                </a:lnTo>
                <a:lnTo>
                  <a:pt x="332" y="591"/>
                </a:lnTo>
                <a:lnTo>
                  <a:pt x="332" y="601"/>
                </a:lnTo>
                <a:lnTo>
                  <a:pt x="340" y="601"/>
                </a:lnTo>
                <a:lnTo>
                  <a:pt x="340" y="611"/>
                </a:lnTo>
                <a:lnTo>
                  <a:pt x="349" y="611"/>
                </a:lnTo>
                <a:lnTo>
                  <a:pt x="357" y="611"/>
                </a:lnTo>
                <a:lnTo>
                  <a:pt x="357" y="621"/>
                </a:lnTo>
                <a:lnTo>
                  <a:pt x="366" y="621"/>
                </a:lnTo>
                <a:lnTo>
                  <a:pt x="374" y="621"/>
                </a:lnTo>
                <a:lnTo>
                  <a:pt x="374" y="630"/>
                </a:lnTo>
                <a:lnTo>
                  <a:pt x="383" y="630"/>
                </a:lnTo>
                <a:lnTo>
                  <a:pt x="383" y="621"/>
                </a:lnTo>
                <a:lnTo>
                  <a:pt x="374" y="621"/>
                </a:lnTo>
                <a:lnTo>
                  <a:pt x="374" y="611"/>
                </a:lnTo>
                <a:lnTo>
                  <a:pt x="383" y="611"/>
                </a:lnTo>
                <a:lnTo>
                  <a:pt x="391" y="611"/>
                </a:lnTo>
                <a:lnTo>
                  <a:pt x="391" y="601"/>
                </a:lnTo>
                <a:lnTo>
                  <a:pt x="383" y="601"/>
                </a:lnTo>
                <a:lnTo>
                  <a:pt x="383" y="591"/>
                </a:lnTo>
                <a:lnTo>
                  <a:pt x="383" y="582"/>
                </a:lnTo>
                <a:lnTo>
                  <a:pt x="391" y="582"/>
                </a:lnTo>
                <a:lnTo>
                  <a:pt x="391" y="572"/>
                </a:lnTo>
                <a:lnTo>
                  <a:pt x="391" y="533"/>
                </a:lnTo>
                <a:lnTo>
                  <a:pt x="391" y="504"/>
                </a:lnTo>
                <a:lnTo>
                  <a:pt x="400" y="475"/>
                </a:lnTo>
                <a:lnTo>
                  <a:pt x="400" y="465"/>
                </a:lnTo>
                <a:lnTo>
                  <a:pt x="391" y="126"/>
                </a:lnTo>
                <a:lnTo>
                  <a:pt x="383" y="126"/>
                </a:lnTo>
                <a:lnTo>
                  <a:pt x="383" y="116"/>
                </a:lnTo>
                <a:lnTo>
                  <a:pt x="383" y="126"/>
                </a:lnTo>
                <a:lnTo>
                  <a:pt x="374" y="126"/>
                </a:lnTo>
                <a:lnTo>
                  <a:pt x="366" y="126"/>
                </a:lnTo>
                <a:lnTo>
                  <a:pt x="357" y="116"/>
                </a:lnTo>
                <a:lnTo>
                  <a:pt x="349" y="106"/>
                </a:lnTo>
                <a:lnTo>
                  <a:pt x="349" y="97"/>
                </a:lnTo>
                <a:lnTo>
                  <a:pt x="340" y="97"/>
                </a:lnTo>
                <a:lnTo>
                  <a:pt x="340" y="87"/>
                </a:lnTo>
                <a:lnTo>
                  <a:pt x="332" y="87"/>
                </a:lnTo>
                <a:lnTo>
                  <a:pt x="332" y="77"/>
                </a:lnTo>
                <a:lnTo>
                  <a:pt x="323" y="68"/>
                </a:lnTo>
                <a:lnTo>
                  <a:pt x="315" y="68"/>
                </a:lnTo>
                <a:lnTo>
                  <a:pt x="315" y="58"/>
                </a:lnTo>
                <a:lnTo>
                  <a:pt x="306" y="58"/>
                </a:lnTo>
                <a:lnTo>
                  <a:pt x="306" y="48"/>
                </a:lnTo>
                <a:lnTo>
                  <a:pt x="298" y="48"/>
                </a:lnTo>
                <a:lnTo>
                  <a:pt x="298" y="39"/>
                </a:lnTo>
                <a:lnTo>
                  <a:pt x="289" y="39"/>
                </a:lnTo>
                <a:lnTo>
                  <a:pt x="289" y="29"/>
                </a:lnTo>
                <a:lnTo>
                  <a:pt x="281" y="29"/>
                </a:lnTo>
                <a:lnTo>
                  <a:pt x="281" y="19"/>
                </a:lnTo>
                <a:lnTo>
                  <a:pt x="272" y="29"/>
                </a:lnTo>
                <a:lnTo>
                  <a:pt x="272" y="19"/>
                </a:lnTo>
                <a:lnTo>
                  <a:pt x="264" y="19"/>
                </a:lnTo>
                <a:lnTo>
                  <a:pt x="255" y="19"/>
                </a:lnTo>
                <a:lnTo>
                  <a:pt x="247" y="19"/>
                </a:lnTo>
                <a:lnTo>
                  <a:pt x="247" y="9"/>
                </a:lnTo>
                <a:lnTo>
                  <a:pt x="238" y="9"/>
                </a:lnTo>
                <a:lnTo>
                  <a:pt x="230" y="9"/>
                </a:lnTo>
                <a:lnTo>
                  <a:pt x="230" y="19"/>
                </a:lnTo>
                <a:lnTo>
                  <a:pt x="230" y="29"/>
                </a:lnTo>
                <a:lnTo>
                  <a:pt x="221" y="29"/>
                </a:lnTo>
                <a:lnTo>
                  <a:pt x="213" y="29"/>
                </a:lnTo>
                <a:lnTo>
                  <a:pt x="204" y="29"/>
                </a:lnTo>
                <a:lnTo>
                  <a:pt x="196" y="39"/>
                </a:lnTo>
                <a:lnTo>
                  <a:pt x="196" y="29"/>
                </a:lnTo>
                <a:lnTo>
                  <a:pt x="196" y="39"/>
                </a:lnTo>
                <a:lnTo>
                  <a:pt x="187" y="39"/>
                </a:lnTo>
                <a:lnTo>
                  <a:pt x="179" y="39"/>
                </a:lnTo>
                <a:lnTo>
                  <a:pt x="179" y="48"/>
                </a:lnTo>
                <a:lnTo>
                  <a:pt x="170" y="48"/>
                </a:lnTo>
                <a:lnTo>
                  <a:pt x="170" y="58"/>
                </a:lnTo>
                <a:lnTo>
                  <a:pt x="162" y="58"/>
                </a:lnTo>
                <a:lnTo>
                  <a:pt x="153" y="58"/>
                </a:lnTo>
                <a:lnTo>
                  <a:pt x="153" y="48"/>
                </a:lnTo>
                <a:lnTo>
                  <a:pt x="145" y="48"/>
                </a:lnTo>
                <a:lnTo>
                  <a:pt x="145" y="58"/>
                </a:lnTo>
                <a:lnTo>
                  <a:pt x="136" y="58"/>
                </a:lnTo>
                <a:lnTo>
                  <a:pt x="136" y="68"/>
                </a:lnTo>
                <a:lnTo>
                  <a:pt x="136" y="58"/>
                </a:lnTo>
                <a:lnTo>
                  <a:pt x="127" y="58"/>
                </a:lnTo>
                <a:lnTo>
                  <a:pt x="119" y="58"/>
                </a:lnTo>
                <a:lnTo>
                  <a:pt x="110" y="48"/>
                </a:lnTo>
                <a:lnTo>
                  <a:pt x="110" y="58"/>
                </a:lnTo>
                <a:lnTo>
                  <a:pt x="102" y="58"/>
                </a:lnTo>
                <a:lnTo>
                  <a:pt x="93" y="58"/>
                </a:lnTo>
                <a:lnTo>
                  <a:pt x="93" y="68"/>
                </a:lnTo>
                <a:lnTo>
                  <a:pt x="85" y="77"/>
                </a:lnTo>
                <a:lnTo>
                  <a:pt x="76" y="77"/>
                </a:lnTo>
                <a:lnTo>
                  <a:pt x="68" y="77"/>
                </a:lnTo>
                <a:lnTo>
                  <a:pt x="68" y="68"/>
                </a:lnTo>
                <a:lnTo>
                  <a:pt x="68" y="58"/>
                </a:lnTo>
                <a:lnTo>
                  <a:pt x="59" y="58"/>
                </a:lnTo>
                <a:lnTo>
                  <a:pt x="59" y="48"/>
                </a:lnTo>
                <a:lnTo>
                  <a:pt x="68" y="48"/>
                </a:lnTo>
                <a:lnTo>
                  <a:pt x="68" y="39"/>
                </a:lnTo>
                <a:lnTo>
                  <a:pt x="59" y="39"/>
                </a:lnTo>
                <a:lnTo>
                  <a:pt x="59" y="48"/>
                </a:lnTo>
                <a:lnTo>
                  <a:pt x="51" y="3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42" y="9"/>
                </a:lnTo>
                <a:lnTo>
                  <a:pt x="34" y="9"/>
                </a:lnTo>
                <a:lnTo>
                  <a:pt x="25" y="9"/>
                </a:lnTo>
                <a:lnTo>
                  <a:pt x="17" y="9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Freeform 11"/>
          <p:cNvSpPr/>
          <p:nvPr/>
        </p:nvSpPr>
        <p:spPr>
          <a:xfrm>
            <a:off x="2463840" y="4457880"/>
            <a:ext cx="231840" cy="295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6" h="186">
                <a:moveTo>
                  <a:pt x="0" y="127"/>
                </a:moveTo>
                <a:lnTo>
                  <a:pt x="0" y="136"/>
                </a:lnTo>
                <a:lnTo>
                  <a:pt x="0" y="146"/>
                </a:lnTo>
                <a:lnTo>
                  <a:pt x="9" y="156"/>
                </a:lnTo>
                <a:lnTo>
                  <a:pt x="17" y="146"/>
                </a:lnTo>
                <a:lnTo>
                  <a:pt x="26" y="146"/>
                </a:lnTo>
                <a:lnTo>
                  <a:pt x="34" y="156"/>
                </a:lnTo>
                <a:lnTo>
                  <a:pt x="43" y="156"/>
                </a:lnTo>
                <a:lnTo>
                  <a:pt x="51" y="156"/>
                </a:lnTo>
                <a:lnTo>
                  <a:pt x="60" y="175"/>
                </a:lnTo>
                <a:lnTo>
                  <a:pt x="77" y="185"/>
                </a:lnTo>
                <a:lnTo>
                  <a:pt x="85" y="185"/>
                </a:lnTo>
                <a:lnTo>
                  <a:pt x="94" y="185"/>
                </a:lnTo>
                <a:lnTo>
                  <a:pt x="102" y="185"/>
                </a:lnTo>
                <a:lnTo>
                  <a:pt x="102" y="175"/>
                </a:lnTo>
                <a:lnTo>
                  <a:pt x="111" y="175"/>
                </a:lnTo>
                <a:lnTo>
                  <a:pt x="111" y="165"/>
                </a:lnTo>
                <a:lnTo>
                  <a:pt x="111" y="156"/>
                </a:lnTo>
                <a:lnTo>
                  <a:pt x="111" y="146"/>
                </a:lnTo>
                <a:lnTo>
                  <a:pt x="119" y="136"/>
                </a:lnTo>
                <a:lnTo>
                  <a:pt x="119" y="127"/>
                </a:lnTo>
                <a:lnTo>
                  <a:pt x="119" y="117"/>
                </a:lnTo>
                <a:lnTo>
                  <a:pt x="119" y="107"/>
                </a:lnTo>
                <a:lnTo>
                  <a:pt x="128" y="107"/>
                </a:lnTo>
                <a:lnTo>
                  <a:pt x="128" y="98"/>
                </a:lnTo>
                <a:lnTo>
                  <a:pt x="128" y="88"/>
                </a:lnTo>
                <a:lnTo>
                  <a:pt x="128" y="78"/>
                </a:lnTo>
                <a:lnTo>
                  <a:pt x="136" y="68"/>
                </a:lnTo>
                <a:lnTo>
                  <a:pt x="136" y="59"/>
                </a:lnTo>
                <a:lnTo>
                  <a:pt x="136" y="49"/>
                </a:lnTo>
                <a:lnTo>
                  <a:pt x="145" y="39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6" y="10"/>
                </a:lnTo>
                <a:lnTo>
                  <a:pt x="128" y="10"/>
                </a:lnTo>
                <a:lnTo>
                  <a:pt x="128" y="0"/>
                </a:lnTo>
                <a:lnTo>
                  <a:pt x="119" y="0"/>
                </a:lnTo>
                <a:lnTo>
                  <a:pt x="111" y="0"/>
                </a:lnTo>
                <a:lnTo>
                  <a:pt x="102" y="0"/>
                </a:lnTo>
                <a:lnTo>
                  <a:pt x="94" y="0"/>
                </a:lnTo>
                <a:lnTo>
                  <a:pt x="85" y="10"/>
                </a:lnTo>
                <a:lnTo>
                  <a:pt x="77" y="10"/>
                </a:lnTo>
                <a:lnTo>
                  <a:pt x="77" y="20"/>
                </a:lnTo>
                <a:lnTo>
                  <a:pt x="68" y="20"/>
                </a:lnTo>
                <a:lnTo>
                  <a:pt x="60" y="20"/>
                </a:lnTo>
                <a:lnTo>
                  <a:pt x="60" y="30"/>
                </a:lnTo>
                <a:lnTo>
                  <a:pt x="51" y="30"/>
                </a:lnTo>
                <a:lnTo>
                  <a:pt x="51" y="39"/>
                </a:lnTo>
                <a:lnTo>
                  <a:pt x="43" y="39"/>
                </a:lnTo>
                <a:lnTo>
                  <a:pt x="34" y="39"/>
                </a:lnTo>
                <a:lnTo>
                  <a:pt x="34" y="49"/>
                </a:lnTo>
                <a:lnTo>
                  <a:pt x="34" y="59"/>
                </a:lnTo>
                <a:lnTo>
                  <a:pt x="26" y="68"/>
                </a:lnTo>
                <a:lnTo>
                  <a:pt x="34" y="68"/>
                </a:lnTo>
                <a:lnTo>
                  <a:pt x="34" y="78"/>
                </a:lnTo>
                <a:lnTo>
                  <a:pt x="43" y="78"/>
                </a:lnTo>
                <a:lnTo>
                  <a:pt x="34" y="88"/>
                </a:lnTo>
                <a:lnTo>
                  <a:pt x="26" y="88"/>
                </a:lnTo>
                <a:lnTo>
                  <a:pt x="26" y="78"/>
                </a:lnTo>
                <a:lnTo>
                  <a:pt x="26" y="88"/>
                </a:lnTo>
                <a:lnTo>
                  <a:pt x="17" y="88"/>
                </a:lnTo>
                <a:lnTo>
                  <a:pt x="17" y="98"/>
                </a:lnTo>
                <a:lnTo>
                  <a:pt x="9" y="98"/>
                </a:lnTo>
                <a:lnTo>
                  <a:pt x="9" y="88"/>
                </a:lnTo>
                <a:lnTo>
                  <a:pt x="9" y="98"/>
                </a:lnTo>
                <a:lnTo>
                  <a:pt x="17" y="107"/>
                </a:lnTo>
                <a:lnTo>
                  <a:pt x="9" y="107"/>
                </a:lnTo>
                <a:lnTo>
                  <a:pt x="9" y="117"/>
                </a:lnTo>
                <a:lnTo>
                  <a:pt x="0" y="117"/>
                </a:lnTo>
                <a:lnTo>
                  <a:pt x="0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2"/>
          <p:cNvSpPr/>
          <p:nvPr/>
        </p:nvSpPr>
        <p:spPr>
          <a:xfrm>
            <a:off x="7408800" y="1886040"/>
            <a:ext cx="1166760" cy="162540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735" h="1024">
                <a:moveTo>
                  <a:pt x="102" y="49"/>
                </a:move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76" y="49"/>
                </a:lnTo>
                <a:lnTo>
                  <a:pt x="76" y="59"/>
                </a:lnTo>
                <a:lnTo>
                  <a:pt x="76" y="49"/>
                </a:lnTo>
                <a:lnTo>
                  <a:pt x="76" y="59"/>
                </a:lnTo>
                <a:lnTo>
                  <a:pt x="67" y="59"/>
                </a:lnTo>
                <a:lnTo>
                  <a:pt x="67" y="68"/>
                </a:lnTo>
                <a:lnTo>
                  <a:pt x="67" y="59"/>
                </a:lnTo>
                <a:lnTo>
                  <a:pt x="67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6"/>
                </a:lnTo>
                <a:lnTo>
                  <a:pt x="34" y="106"/>
                </a:lnTo>
                <a:lnTo>
                  <a:pt x="34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96"/>
                </a:lnTo>
                <a:lnTo>
                  <a:pt x="17" y="96"/>
                </a:lnTo>
                <a:lnTo>
                  <a:pt x="17" y="87"/>
                </a:lnTo>
                <a:lnTo>
                  <a:pt x="9" y="87"/>
                </a:lnTo>
                <a:lnTo>
                  <a:pt x="9" y="96"/>
                </a:lnTo>
                <a:lnTo>
                  <a:pt x="0" y="96"/>
                </a:lnTo>
                <a:lnTo>
                  <a:pt x="0" y="106"/>
                </a:lnTo>
                <a:lnTo>
                  <a:pt x="9" y="106"/>
                </a:lnTo>
                <a:lnTo>
                  <a:pt x="17" y="106"/>
                </a:lnTo>
                <a:lnTo>
                  <a:pt x="17" y="116"/>
                </a:lnTo>
                <a:lnTo>
                  <a:pt x="26" y="126"/>
                </a:lnTo>
                <a:lnTo>
                  <a:pt x="26" y="135"/>
                </a:lnTo>
                <a:lnTo>
                  <a:pt x="34" y="135"/>
                </a:lnTo>
                <a:lnTo>
                  <a:pt x="43" y="135"/>
                </a:lnTo>
                <a:lnTo>
                  <a:pt x="43" y="145"/>
                </a:lnTo>
                <a:lnTo>
                  <a:pt x="43" y="135"/>
                </a:lnTo>
                <a:lnTo>
                  <a:pt x="43" y="126"/>
                </a:lnTo>
                <a:lnTo>
                  <a:pt x="51" y="126"/>
                </a:lnTo>
                <a:lnTo>
                  <a:pt x="59" y="126"/>
                </a:lnTo>
                <a:lnTo>
                  <a:pt x="59" y="135"/>
                </a:lnTo>
                <a:lnTo>
                  <a:pt x="59" y="145"/>
                </a:lnTo>
                <a:lnTo>
                  <a:pt x="67" y="145"/>
                </a:lnTo>
                <a:lnTo>
                  <a:pt x="59" y="145"/>
                </a:lnTo>
                <a:lnTo>
                  <a:pt x="67" y="145"/>
                </a:lnTo>
                <a:lnTo>
                  <a:pt x="67" y="155"/>
                </a:lnTo>
                <a:lnTo>
                  <a:pt x="76" y="155"/>
                </a:lnTo>
                <a:lnTo>
                  <a:pt x="76" y="164"/>
                </a:lnTo>
                <a:lnTo>
                  <a:pt x="85" y="164"/>
                </a:lnTo>
                <a:lnTo>
                  <a:pt x="85" y="17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84"/>
                </a:lnTo>
                <a:lnTo>
                  <a:pt x="85" y="184"/>
                </a:lnTo>
                <a:lnTo>
                  <a:pt x="85" y="193"/>
                </a:lnTo>
                <a:lnTo>
                  <a:pt x="85" y="203"/>
                </a:lnTo>
                <a:lnTo>
                  <a:pt x="85" y="213"/>
                </a:lnTo>
                <a:lnTo>
                  <a:pt x="85" y="223"/>
                </a:lnTo>
                <a:lnTo>
                  <a:pt x="76" y="223"/>
                </a:lnTo>
                <a:lnTo>
                  <a:pt x="76" y="232"/>
                </a:lnTo>
                <a:lnTo>
                  <a:pt x="85" y="232"/>
                </a:lnTo>
                <a:lnTo>
                  <a:pt x="93" y="232"/>
                </a:lnTo>
                <a:lnTo>
                  <a:pt x="93" y="242"/>
                </a:lnTo>
                <a:lnTo>
                  <a:pt x="93" y="252"/>
                </a:lnTo>
                <a:lnTo>
                  <a:pt x="102" y="252"/>
                </a:lnTo>
                <a:lnTo>
                  <a:pt x="110" y="252"/>
                </a:lnTo>
                <a:lnTo>
                  <a:pt x="110" y="260"/>
                </a:lnTo>
                <a:lnTo>
                  <a:pt x="119" y="260"/>
                </a:lnTo>
                <a:lnTo>
                  <a:pt x="127" y="260"/>
                </a:lnTo>
                <a:lnTo>
                  <a:pt x="127" y="270"/>
                </a:lnTo>
                <a:lnTo>
                  <a:pt x="136" y="270"/>
                </a:lnTo>
                <a:lnTo>
                  <a:pt x="136" y="280"/>
                </a:lnTo>
                <a:lnTo>
                  <a:pt x="144" y="280"/>
                </a:lnTo>
                <a:lnTo>
                  <a:pt x="144" y="290"/>
                </a:lnTo>
                <a:lnTo>
                  <a:pt x="144" y="299"/>
                </a:lnTo>
                <a:lnTo>
                  <a:pt x="144" y="290"/>
                </a:lnTo>
                <a:lnTo>
                  <a:pt x="153" y="290"/>
                </a:lnTo>
                <a:lnTo>
                  <a:pt x="153" y="299"/>
                </a:lnTo>
                <a:lnTo>
                  <a:pt x="160" y="299"/>
                </a:lnTo>
                <a:lnTo>
                  <a:pt x="160" y="309"/>
                </a:lnTo>
                <a:lnTo>
                  <a:pt x="169" y="309"/>
                </a:lnTo>
                <a:lnTo>
                  <a:pt x="169" y="319"/>
                </a:lnTo>
                <a:lnTo>
                  <a:pt x="177" y="319"/>
                </a:lnTo>
                <a:lnTo>
                  <a:pt x="177" y="328"/>
                </a:lnTo>
                <a:lnTo>
                  <a:pt x="186" y="328"/>
                </a:lnTo>
                <a:lnTo>
                  <a:pt x="186" y="338"/>
                </a:lnTo>
                <a:lnTo>
                  <a:pt x="194" y="338"/>
                </a:lnTo>
                <a:lnTo>
                  <a:pt x="194" y="348"/>
                </a:lnTo>
                <a:lnTo>
                  <a:pt x="194" y="357"/>
                </a:lnTo>
                <a:lnTo>
                  <a:pt x="203" y="357"/>
                </a:lnTo>
                <a:lnTo>
                  <a:pt x="203" y="348"/>
                </a:lnTo>
                <a:lnTo>
                  <a:pt x="203" y="357"/>
                </a:lnTo>
                <a:lnTo>
                  <a:pt x="211" y="357"/>
                </a:lnTo>
                <a:lnTo>
                  <a:pt x="211" y="367"/>
                </a:lnTo>
                <a:lnTo>
                  <a:pt x="211" y="357"/>
                </a:lnTo>
                <a:lnTo>
                  <a:pt x="203" y="357"/>
                </a:lnTo>
                <a:lnTo>
                  <a:pt x="203" y="367"/>
                </a:lnTo>
                <a:lnTo>
                  <a:pt x="211" y="367"/>
                </a:lnTo>
                <a:lnTo>
                  <a:pt x="211" y="377"/>
                </a:lnTo>
                <a:lnTo>
                  <a:pt x="211" y="387"/>
                </a:lnTo>
                <a:lnTo>
                  <a:pt x="211" y="396"/>
                </a:lnTo>
                <a:lnTo>
                  <a:pt x="211" y="406"/>
                </a:lnTo>
                <a:lnTo>
                  <a:pt x="211" y="416"/>
                </a:lnTo>
                <a:lnTo>
                  <a:pt x="220" y="416"/>
                </a:lnTo>
                <a:lnTo>
                  <a:pt x="211" y="416"/>
                </a:lnTo>
                <a:lnTo>
                  <a:pt x="220" y="416"/>
                </a:lnTo>
                <a:lnTo>
                  <a:pt x="220" y="425"/>
                </a:lnTo>
                <a:lnTo>
                  <a:pt x="220" y="434"/>
                </a:lnTo>
                <a:lnTo>
                  <a:pt x="220" y="444"/>
                </a:lnTo>
                <a:lnTo>
                  <a:pt x="228" y="444"/>
                </a:lnTo>
                <a:lnTo>
                  <a:pt x="228" y="453"/>
                </a:lnTo>
                <a:lnTo>
                  <a:pt x="237" y="453"/>
                </a:lnTo>
                <a:lnTo>
                  <a:pt x="237" y="463"/>
                </a:lnTo>
                <a:lnTo>
                  <a:pt x="237" y="453"/>
                </a:lnTo>
                <a:lnTo>
                  <a:pt x="228" y="453"/>
                </a:lnTo>
                <a:lnTo>
                  <a:pt x="228" y="444"/>
                </a:lnTo>
                <a:lnTo>
                  <a:pt x="228" y="453"/>
                </a:lnTo>
                <a:lnTo>
                  <a:pt x="228" y="463"/>
                </a:lnTo>
                <a:lnTo>
                  <a:pt x="220" y="463"/>
                </a:lnTo>
                <a:lnTo>
                  <a:pt x="220" y="473"/>
                </a:lnTo>
                <a:lnTo>
                  <a:pt x="228" y="473"/>
                </a:lnTo>
                <a:lnTo>
                  <a:pt x="228" y="483"/>
                </a:lnTo>
                <a:lnTo>
                  <a:pt x="237" y="483"/>
                </a:lnTo>
                <a:lnTo>
                  <a:pt x="245" y="483"/>
                </a:lnTo>
                <a:lnTo>
                  <a:pt x="237" y="483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37" y="502"/>
                </a:lnTo>
                <a:lnTo>
                  <a:pt x="228" y="502"/>
                </a:lnTo>
                <a:lnTo>
                  <a:pt x="237" y="502"/>
                </a:lnTo>
                <a:lnTo>
                  <a:pt x="228" y="502"/>
                </a:lnTo>
                <a:lnTo>
                  <a:pt x="228" y="512"/>
                </a:lnTo>
                <a:lnTo>
                  <a:pt x="228" y="502"/>
                </a:lnTo>
                <a:lnTo>
                  <a:pt x="228" y="512"/>
                </a:lnTo>
                <a:lnTo>
                  <a:pt x="220" y="512"/>
                </a:lnTo>
                <a:lnTo>
                  <a:pt x="211" y="512"/>
                </a:lnTo>
                <a:lnTo>
                  <a:pt x="211" y="521"/>
                </a:lnTo>
                <a:lnTo>
                  <a:pt x="203" y="521"/>
                </a:lnTo>
                <a:lnTo>
                  <a:pt x="203" y="531"/>
                </a:lnTo>
                <a:lnTo>
                  <a:pt x="211" y="531"/>
                </a:lnTo>
                <a:lnTo>
                  <a:pt x="211" y="541"/>
                </a:lnTo>
                <a:lnTo>
                  <a:pt x="203" y="541"/>
                </a:lnTo>
                <a:lnTo>
                  <a:pt x="203" y="550"/>
                </a:lnTo>
                <a:lnTo>
                  <a:pt x="211" y="550"/>
                </a:lnTo>
                <a:lnTo>
                  <a:pt x="211" y="560"/>
                </a:lnTo>
                <a:lnTo>
                  <a:pt x="211" y="570"/>
                </a:lnTo>
                <a:lnTo>
                  <a:pt x="203" y="570"/>
                </a:lnTo>
                <a:lnTo>
                  <a:pt x="203" y="580"/>
                </a:lnTo>
                <a:lnTo>
                  <a:pt x="203" y="589"/>
                </a:lnTo>
                <a:lnTo>
                  <a:pt x="203" y="598"/>
                </a:lnTo>
                <a:lnTo>
                  <a:pt x="194" y="598"/>
                </a:lnTo>
                <a:lnTo>
                  <a:pt x="194" y="589"/>
                </a:lnTo>
                <a:lnTo>
                  <a:pt x="186" y="589"/>
                </a:lnTo>
                <a:lnTo>
                  <a:pt x="186" y="598"/>
                </a:lnTo>
                <a:lnTo>
                  <a:pt x="177" y="589"/>
                </a:lnTo>
                <a:lnTo>
                  <a:pt x="177" y="598"/>
                </a:lnTo>
                <a:lnTo>
                  <a:pt x="169" y="598"/>
                </a:lnTo>
                <a:lnTo>
                  <a:pt x="169" y="608"/>
                </a:lnTo>
                <a:lnTo>
                  <a:pt x="169" y="617"/>
                </a:lnTo>
                <a:lnTo>
                  <a:pt x="169" y="627"/>
                </a:lnTo>
                <a:lnTo>
                  <a:pt x="160" y="627"/>
                </a:lnTo>
                <a:lnTo>
                  <a:pt x="160" y="637"/>
                </a:lnTo>
                <a:lnTo>
                  <a:pt x="153" y="637"/>
                </a:lnTo>
                <a:lnTo>
                  <a:pt x="153" y="646"/>
                </a:lnTo>
                <a:lnTo>
                  <a:pt x="153" y="656"/>
                </a:lnTo>
                <a:lnTo>
                  <a:pt x="160" y="656"/>
                </a:lnTo>
                <a:lnTo>
                  <a:pt x="153" y="656"/>
                </a:lnTo>
                <a:lnTo>
                  <a:pt x="160" y="656"/>
                </a:lnTo>
                <a:lnTo>
                  <a:pt x="160" y="666"/>
                </a:lnTo>
                <a:lnTo>
                  <a:pt x="169" y="666"/>
                </a:lnTo>
                <a:lnTo>
                  <a:pt x="177" y="666"/>
                </a:lnTo>
                <a:lnTo>
                  <a:pt x="177" y="676"/>
                </a:lnTo>
                <a:lnTo>
                  <a:pt x="186" y="676"/>
                </a:lnTo>
                <a:lnTo>
                  <a:pt x="186" y="685"/>
                </a:lnTo>
                <a:lnTo>
                  <a:pt x="194" y="685"/>
                </a:lnTo>
                <a:lnTo>
                  <a:pt x="194" y="695"/>
                </a:lnTo>
                <a:lnTo>
                  <a:pt x="203" y="695"/>
                </a:lnTo>
                <a:lnTo>
                  <a:pt x="203" y="705"/>
                </a:lnTo>
                <a:lnTo>
                  <a:pt x="211" y="705"/>
                </a:lnTo>
                <a:lnTo>
                  <a:pt x="211" y="714"/>
                </a:lnTo>
                <a:lnTo>
                  <a:pt x="220" y="714"/>
                </a:lnTo>
                <a:lnTo>
                  <a:pt x="220" y="724"/>
                </a:lnTo>
                <a:lnTo>
                  <a:pt x="228" y="724"/>
                </a:lnTo>
                <a:lnTo>
                  <a:pt x="228" y="734"/>
                </a:lnTo>
                <a:lnTo>
                  <a:pt x="237" y="734"/>
                </a:lnTo>
                <a:lnTo>
                  <a:pt x="237" y="743"/>
                </a:lnTo>
                <a:lnTo>
                  <a:pt x="237" y="753"/>
                </a:lnTo>
                <a:lnTo>
                  <a:pt x="245" y="753"/>
                </a:lnTo>
                <a:lnTo>
                  <a:pt x="254" y="753"/>
                </a:lnTo>
                <a:lnTo>
                  <a:pt x="254" y="763"/>
                </a:lnTo>
                <a:lnTo>
                  <a:pt x="262" y="763"/>
                </a:lnTo>
                <a:lnTo>
                  <a:pt x="270" y="763"/>
                </a:lnTo>
                <a:lnTo>
                  <a:pt x="270" y="753"/>
                </a:lnTo>
                <a:lnTo>
                  <a:pt x="278" y="753"/>
                </a:lnTo>
                <a:lnTo>
                  <a:pt x="287" y="753"/>
                </a:lnTo>
                <a:lnTo>
                  <a:pt x="295" y="753"/>
                </a:lnTo>
                <a:lnTo>
                  <a:pt x="304" y="753"/>
                </a:lnTo>
                <a:lnTo>
                  <a:pt x="312" y="763"/>
                </a:lnTo>
                <a:lnTo>
                  <a:pt x="321" y="763"/>
                </a:lnTo>
                <a:lnTo>
                  <a:pt x="329" y="763"/>
                </a:lnTo>
                <a:lnTo>
                  <a:pt x="338" y="763"/>
                </a:lnTo>
                <a:lnTo>
                  <a:pt x="338" y="772"/>
                </a:lnTo>
                <a:lnTo>
                  <a:pt x="346" y="772"/>
                </a:lnTo>
                <a:lnTo>
                  <a:pt x="355" y="772"/>
                </a:lnTo>
                <a:lnTo>
                  <a:pt x="355" y="781"/>
                </a:lnTo>
                <a:lnTo>
                  <a:pt x="363" y="781"/>
                </a:lnTo>
                <a:lnTo>
                  <a:pt x="371" y="781"/>
                </a:lnTo>
                <a:lnTo>
                  <a:pt x="371" y="791"/>
                </a:lnTo>
                <a:lnTo>
                  <a:pt x="379" y="791"/>
                </a:lnTo>
                <a:lnTo>
                  <a:pt x="388" y="791"/>
                </a:lnTo>
                <a:lnTo>
                  <a:pt x="396" y="791"/>
                </a:lnTo>
                <a:lnTo>
                  <a:pt x="396" y="801"/>
                </a:lnTo>
                <a:lnTo>
                  <a:pt x="405" y="801"/>
                </a:lnTo>
                <a:lnTo>
                  <a:pt x="413" y="801"/>
                </a:lnTo>
                <a:lnTo>
                  <a:pt x="413" y="791"/>
                </a:lnTo>
                <a:lnTo>
                  <a:pt x="413" y="781"/>
                </a:lnTo>
                <a:lnTo>
                  <a:pt x="413" y="772"/>
                </a:lnTo>
                <a:lnTo>
                  <a:pt x="422" y="772"/>
                </a:lnTo>
                <a:lnTo>
                  <a:pt x="422" y="763"/>
                </a:lnTo>
                <a:lnTo>
                  <a:pt x="413" y="763"/>
                </a:lnTo>
                <a:lnTo>
                  <a:pt x="413" y="753"/>
                </a:lnTo>
                <a:lnTo>
                  <a:pt x="413" y="743"/>
                </a:lnTo>
                <a:lnTo>
                  <a:pt x="422" y="743"/>
                </a:lnTo>
                <a:lnTo>
                  <a:pt x="422" y="734"/>
                </a:lnTo>
                <a:lnTo>
                  <a:pt x="413" y="734"/>
                </a:lnTo>
                <a:lnTo>
                  <a:pt x="413" y="724"/>
                </a:lnTo>
                <a:lnTo>
                  <a:pt x="405" y="724"/>
                </a:lnTo>
                <a:lnTo>
                  <a:pt x="405" y="714"/>
                </a:lnTo>
                <a:lnTo>
                  <a:pt x="413" y="714"/>
                </a:lnTo>
                <a:lnTo>
                  <a:pt x="413" y="705"/>
                </a:lnTo>
                <a:lnTo>
                  <a:pt x="413" y="695"/>
                </a:lnTo>
                <a:lnTo>
                  <a:pt x="405" y="695"/>
                </a:lnTo>
                <a:lnTo>
                  <a:pt x="413" y="695"/>
                </a:lnTo>
                <a:lnTo>
                  <a:pt x="405" y="695"/>
                </a:lnTo>
                <a:lnTo>
                  <a:pt x="396" y="695"/>
                </a:lnTo>
                <a:lnTo>
                  <a:pt x="396" y="685"/>
                </a:lnTo>
                <a:lnTo>
                  <a:pt x="396" y="676"/>
                </a:lnTo>
                <a:lnTo>
                  <a:pt x="388" y="676"/>
                </a:lnTo>
                <a:lnTo>
                  <a:pt x="379" y="676"/>
                </a:lnTo>
                <a:lnTo>
                  <a:pt x="379" y="666"/>
                </a:lnTo>
                <a:lnTo>
                  <a:pt x="371" y="666"/>
                </a:lnTo>
                <a:lnTo>
                  <a:pt x="363" y="666"/>
                </a:lnTo>
                <a:lnTo>
                  <a:pt x="355" y="666"/>
                </a:lnTo>
                <a:lnTo>
                  <a:pt x="355" y="656"/>
                </a:lnTo>
                <a:lnTo>
                  <a:pt x="346" y="656"/>
                </a:lnTo>
                <a:lnTo>
                  <a:pt x="338" y="656"/>
                </a:lnTo>
                <a:lnTo>
                  <a:pt x="338" y="646"/>
                </a:lnTo>
                <a:lnTo>
                  <a:pt x="329" y="646"/>
                </a:lnTo>
                <a:lnTo>
                  <a:pt x="329" y="637"/>
                </a:lnTo>
                <a:lnTo>
                  <a:pt x="329" y="627"/>
                </a:lnTo>
                <a:lnTo>
                  <a:pt x="329" y="617"/>
                </a:lnTo>
                <a:lnTo>
                  <a:pt x="321" y="617"/>
                </a:lnTo>
                <a:lnTo>
                  <a:pt x="321" y="608"/>
                </a:lnTo>
                <a:lnTo>
                  <a:pt x="312" y="608"/>
                </a:lnTo>
                <a:lnTo>
                  <a:pt x="312" y="598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295" y="589"/>
                </a:lnTo>
                <a:lnTo>
                  <a:pt x="304" y="589"/>
                </a:lnTo>
                <a:lnTo>
                  <a:pt x="295" y="589"/>
                </a:lnTo>
                <a:lnTo>
                  <a:pt x="295" y="580"/>
                </a:lnTo>
                <a:lnTo>
                  <a:pt x="304" y="580"/>
                </a:lnTo>
                <a:lnTo>
                  <a:pt x="304" y="570"/>
                </a:lnTo>
                <a:lnTo>
                  <a:pt x="312" y="570"/>
                </a:lnTo>
                <a:lnTo>
                  <a:pt x="312" y="58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38" y="580"/>
                </a:lnTo>
                <a:lnTo>
                  <a:pt x="338" y="570"/>
                </a:lnTo>
                <a:lnTo>
                  <a:pt x="346" y="570"/>
                </a:lnTo>
                <a:lnTo>
                  <a:pt x="355" y="570"/>
                </a:lnTo>
                <a:lnTo>
                  <a:pt x="355" y="560"/>
                </a:lnTo>
                <a:lnTo>
                  <a:pt x="363" y="560"/>
                </a:lnTo>
                <a:lnTo>
                  <a:pt x="363" y="570"/>
                </a:lnTo>
                <a:lnTo>
                  <a:pt x="363" y="560"/>
                </a:lnTo>
                <a:lnTo>
                  <a:pt x="363" y="570"/>
                </a:lnTo>
                <a:lnTo>
                  <a:pt x="371" y="570"/>
                </a:lnTo>
                <a:lnTo>
                  <a:pt x="379" y="570"/>
                </a:lnTo>
                <a:lnTo>
                  <a:pt x="388" y="570"/>
                </a:lnTo>
                <a:lnTo>
                  <a:pt x="379" y="570"/>
                </a:lnTo>
                <a:lnTo>
                  <a:pt x="379" y="58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89"/>
                </a:lnTo>
                <a:lnTo>
                  <a:pt x="388" y="598"/>
                </a:lnTo>
                <a:lnTo>
                  <a:pt x="388" y="608"/>
                </a:lnTo>
                <a:lnTo>
                  <a:pt x="388" y="598"/>
                </a:lnTo>
                <a:lnTo>
                  <a:pt x="388" y="608"/>
                </a:lnTo>
                <a:lnTo>
                  <a:pt x="396" y="608"/>
                </a:lnTo>
                <a:lnTo>
                  <a:pt x="405" y="608"/>
                </a:lnTo>
                <a:lnTo>
                  <a:pt x="405" y="617"/>
                </a:lnTo>
                <a:lnTo>
                  <a:pt x="413" y="617"/>
                </a:lnTo>
                <a:lnTo>
                  <a:pt x="422" y="617"/>
                </a:lnTo>
                <a:lnTo>
                  <a:pt x="430" y="617"/>
                </a:lnTo>
                <a:lnTo>
                  <a:pt x="430" y="627"/>
                </a:lnTo>
                <a:lnTo>
                  <a:pt x="439" y="627"/>
                </a:lnTo>
                <a:lnTo>
                  <a:pt x="439" y="637"/>
                </a:lnTo>
                <a:lnTo>
                  <a:pt x="439" y="627"/>
                </a:lnTo>
                <a:lnTo>
                  <a:pt x="447" y="627"/>
                </a:lnTo>
                <a:lnTo>
                  <a:pt x="447" y="637"/>
                </a:lnTo>
                <a:lnTo>
                  <a:pt x="456" y="637"/>
                </a:lnTo>
                <a:lnTo>
                  <a:pt x="464" y="637"/>
                </a:lnTo>
                <a:lnTo>
                  <a:pt x="472" y="637"/>
                </a:lnTo>
                <a:lnTo>
                  <a:pt x="472" y="646"/>
                </a:lnTo>
                <a:lnTo>
                  <a:pt x="472" y="656"/>
                </a:lnTo>
                <a:lnTo>
                  <a:pt x="480" y="656"/>
                </a:lnTo>
                <a:lnTo>
                  <a:pt x="480" y="666"/>
                </a:lnTo>
                <a:lnTo>
                  <a:pt x="480" y="676"/>
                </a:lnTo>
                <a:lnTo>
                  <a:pt x="489" y="685"/>
                </a:lnTo>
                <a:lnTo>
                  <a:pt x="489" y="695"/>
                </a:lnTo>
                <a:lnTo>
                  <a:pt x="497" y="705"/>
                </a:lnTo>
                <a:lnTo>
                  <a:pt x="497" y="714"/>
                </a:lnTo>
                <a:lnTo>
                  <a:pt x="506" y="714"/>
                </a:lnTo>
                <a:lnTo>
                  <a:pt x="506" y="724"/>
                </a:lnTo>
                <a:lnTo>
                  <a:pt x="514" y="724"/>
                </a:lnTo>
                <a:lnTo>
                  <a:pt x="514" y="734"/>
                </a:lnTo>
                <a:lnTo>
                  <a:pt x="514" y="743"/>
                </a:lnTo>
                <a:lnTo>
                  <a:pt x="523" y="743"/>
                </a:lnTo>
                <a:lnTo>
                  <a:pt x="523" y="753"/>
                </a:lnTo>
                <a:lnTo>
                  <a:pt x="523" y="763"/>
                </a:lnTo>
                <a:lnTo>
                  <a:pt x="514" y="763"/>
                </a:lnTo>
                <a:lnTo>
                  <a:pt x="514" y="772"/>
                </a:lnTo>
                <a:lnTo>
                  <a:pt x="514" y="781"/>
                </a:lnTo>
                <a:lnTo>
                  <a:pt x="506" y="781"/>
                </a:lnTo>
                <a:lnTo>
                  <a:pt x="497" y="781"/>
                </a:lnTo>
                <a:lnTo>
                  <a:pt x="497" y="791"/>
                </a:lnTo>
                <a:lnTo>
                  <a:pt x="489" y="791"/>
                </a:lnTo>
                <a:lnTo>
                  <a:pt x="489" y="801"/>
                </a:lnTo>
                <a:lnTo>
                  <a:pt x="489" y="810"/>
                </a:lnTo>
                <a:lnTo>
                  <a:pt x="497" y="810"/>
                </a:lnTo>
                <a:lnTo>
                  <a:pt x="497" y="820"/>
                </a:lnTo>
                <a:lnTo>
                  <a:pt x="506" y="820"/>
                </a:lnTo>
                <a:lnTo>
                  <a:pt x="506" y="830"/>
                </a:lnTo>
                <a:lnTo>
                  <a:pt x="514" y="830"/>
                </a:lnTo>
                <a:lnTo>
                  <a:pt x="523" y="830"/>
                </a:lnTo>
                <a:lnTo>
                  <a:pt x="523" y="839"/>
                </a:lnTo>
                <a:lnTo>
                  <a:pt x="531" y="839"/>
                </a:lnTo>
                <a:lnTo>
                  <a:pt x="531" y="849"/>
                </a:lnTo>
                <a:lnTo>
                  <a:pt x="540" y="849"/>
                </a:lnTo>
                <a:lnTo>
                  <a:pt x="549" y="849"/>
                </a:lnTo>
                <a:lnTo>
                  <a:pt x="549" y="859"/>
                </a:lnTo>
                <a:lnTo>
                  <a:pt x="557" y="859"/>
                </a:lnTo>
                <a:lnTo>
                  <a:pt x="557" y="869"/>
                </a:lnTo>
                <a:lnTo>
                  <a:pt x="566" y="869"/>
                </a:lnTo>
                <a:lnTo>
                  <a:pt x="574" y="869"/>
                </a:lnTo>
                <a:lnTo>
                  <a:pt x="574" y="878"/>
                </a:lnTo>
                <a:lnTo>
                  <a:pt x="582" y="878"/>
                </a:lnTo>
                <a:lnTo>
                  <a:pt x="582" y="888"/>
                </a:lnTo>
                <a:lnTo>
                  <a:pt x="590" y="888"/>
                </a:lnTo>
                <a:lnTo>
                  <a:pt x="590" y="898"/>
                </a:lnTo>
                <a:lnTo>
                  <a:pt x="599" y="898"/>
                </a:lnTo>
                <a:lnTo>
                  <a:pt x="599" y="907"/>
                </a:lnTo>
                <a:lnTo>
                  <a:pt x="607" y="907"/>
                </a:lnTo>
                <a:lnTo>
                  <a:pt x="607" y="917"/>
                </a:lnTo>
                <a:lnTo>
                  <a:pt x="607" y="927"/>
                </a:lnTo>
                <a:lnTo>
                  <a:pt x="616" y="927"/>
                </a:lnTo>
                <a:lnTo>
                  <a:pt x="616" y="936"/>
                </a:lnTo>
                <a:lnTo>
                  <a:pt x="616" y="945"/>
                </a:lnTo>
                <a:lnTo>
                  <a:pt x="624" y="945"/>
                </a:lnTo>
                <a:lnTo>
                  <a:pt x="624" y="955"/>
                </a:lnTo>
                <a:lnTo>
                  <a:pt x="624" y="965"/>
                </a:lnTo>
                <a:lnTo>
                  <a:pt x="633" y="965"/>
                </a:lnTo>
                <a:lnTo>
                  <a:pt x="633" y="974"/>
                </a:lnTo>
                <a:lnTo>
                  <a:pt x="633" y="984"/>
                </a:lnTo>
                <a:lnTo>
                  <a:pt x="633" y="994"/>
                </a:lnTo>
                <a:lnTo>
                  <a:pt x="624" y="994"/>
                </a:lnTo>
                <a:lnTo>
                  <a:pt x="624" y="1003"/>
                </a:lnTo>
                <a:lnTo>
                  <a:pt x="624" y="1013"/>
                </a:lnTo>
                <a:lnTo>
                  <a:pt x="633" y="1013"/>
                </a:lnTo>
                <a:lnTo>
                  <a:pt x="633" y="1023"/>
                </a:lnTo>
                <a:lnTo>
                  <a:pt x="633" y="1013"/>
                </a:lnTo>
                <a:lnTo>
                  <a:pt x="641" y="1013"/>
                </a:lnTo>
                <a:lnTo>
                  <a:pt x="633" y="1013"/>
                </a:lnTo>
                <a:lnTo>
                  <a:pt x="633" y="1003"/>
                </a:lnTo>
                <a:lnTo>
                  <a:pt x="641" y="1003"/>
                </a:lnTo>
                <a:lnTo>
                  <a:pt x="641" y="994"/>
                </a:lnTo>
                <a:lnTo>
                  <a:pt x="641" y="984"/>
                </a:lnTo>
                <a:lnTo>
                  <a:pt x="641" y="974"/>
                </a:lnTo>
                <a:lnTo>
                  <a:pt x="641" y="965"/>
                </a:lnTo>
                <a:lnTo>
                  <a:pt x="633" y="965"/>
                </a:lnTo>
                <a:lnTo>
                  <a:pt x="633" y="955"/>
                </a:lnTo>
                <a:lnTo>
                  <a:pt x="624" y="955"/>
                </a:lnTo>
                <a:lnTo>
                  <a:pt x="624" y="945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24" y="927"/>
                </a:lnTo>
                <a:lnTo>
                  <a:pt x="624" y="917"/>
                </a:lnTo>
                <a:lnTo>
                  <a:pt x="616" y="917"/>
                </a:lnTo>
                <a:lnTo>
                  <a:pt x="616" y="907"/>
                </a:lnTo>
                <a:lnTo>
                  <a:pt x="616" y="898"/>
                </a:lnTo>
                <a:lnTo>
                  <a:pt x="616" y="888"/>
                </a:lnTo>
                <a:lnTo>
                  <a:pt x="607" y="888"/>
                </a:lnTo>
                <a:lnTo>
                  <a:pt x="607" y="878"/>
                </a:lnTo>
                <a:lnTo>
                  <a:pt x="607" y="869"/>
                </a:lnTo>
                <a:lnTo>
                  <a:pt x="599" y="869"/>
                </a:lnTo>
                <a:lnTo>
                  <a:pt x="599" y="859"/>
                </a:lnTo>
                <a:lnTo>
                  <a:pt x="599" y="869"/>
                </a:lnTo>
                <a:lnTo>
                  <a:pt x="590" y="869"/>
                </a:lnTo>
                <a:lnTo>
                  <a:pt x="590" y="859"/>
                </a:lnTo>
                <a:lnTo>
                  <a:pt x="582" y="859"/>
                </a:lnTo>
                <a:lnTo>
                  <a:pt x="582" y="869"/>
                </a:lnTo>
                <a:lnTo>
                  <a:pt x="574" y="859"/>
                </a:lnTo>
                <a:lnTo>
                  <a:pt x="574" y="849"/>
                </a:lnTo>
                <a:lnTo>
                  <a:pt x="566" y="849"/>
                </a:lnTo>
                <a:lnTo>
                  <a:pt x="566" y="839"/>
                </a:lnTo>
                <a:lnTo>
                  <a:pt x="557" y="839"/>
                </a:lnTo>
                <a:lnTo>
                  <a:pt x="549" y="839"/>
                </a:lnTo>
                <a:lnTo>
                  <a:pt x="549" y="830"/>
                </a:lnTo>
                <a:lnTo>
                  <a:pt x="549" y="820"/>
                </a:lnTo>
                <a:lnTo>
                  <a:pt x="557" y="820"/>
                </a:lnTo>
                <a:lnTo>
                  <a:pt x="566" y="820"/>
                </a:lnTo>
                <a:lnTo>
                  <a:pt x="566" y="810"/>
                </a:lnTo>
                <a:lnTo>
                  <a:pt x="574" y="810"/>
                </a:lnTo>
                <a:lnTo>
                  <a:pt x="574" y="801"/>
                </a:lnTo>
                <a:lnTo>
                  <a:pt x="582" y="801"/>
                </a:lnTo>
                <a:lnTo>
                  <a:pt x="590" y="801"/>
                </a:lnTo>
                <a:lnTo>
                  <a:pt x="590" y="791"/>
                </a:lnTo>
                <a:lnTo>
                  <a:pt x="599" y="791"/>
                </a:lnTo>
                <a:lnTo>
                  <a:pt x="599" y="781"/>
                </a:lnTo>
                <a:lnTo>
                  <a:pt x="599" y="772"/>
                </a:lnTo>
                <a:lnTo>
                  <a:pt x="607" y="772"/>
                </a:lnTo>
                <a:lnTo>
                  <a:pt x="616" y="772"/>
                </a:lnTo>
                <a:lnTo>
                  <a:pt x="616" y="763"/>
                </a:lnTo>
                <a:lnTo>
                  <a:pt x="624" y="763"/>
                </a:lnTo>
                <a:lnTo>
                  <a:pt x="633" y="763"/>
                </a:lnTo>
                <a:lnTo>
                  <a:pt x="641" y="763"/>
                </a:lnTo>
                <a:lnTo>
                  <a:pt x="650" y="763"/>
                </a:lnTo>
                <a:lnTo>
                  <a:pt x="650" y="753"/>
                </a:lnTo>
                <a:lnTo>
                  <a:pt x="658" y="753"/>
                </a:lnTo>
                <a:lnTo>
                  <a:pt x="658" y="743"/>
                </a:lnTo>
                <a:lnTo>
                  <a:pt x="667" y="743"/>
                </a:lnTo>
                <a:lnTo>
                  <a:pt x="667" y="734"/>
                </a:lnTo>
                <a:lnTo>
                  <a:pt x="667" y="724"/>
                </a:lnTo>
                <a:lnTo>
                  <a:pt x="667" y="714"/>
                </a:lnTo>
                <a:lnTo>
                  <a:pt x="675" y="714"/>
                </a:lnTo>
                <a:lnTo>
                  <a:pt x="667" y="714"/>
                </a:lnTo>
                <a:lnTo>
                  <a:pt x="667" y="705"/>
                </a:lnTo>
                <a:lnTo>
                  <a:pt x="667" y="695"/>
                </a:lnTo>
                <a:lnTo>
                  <a:pt x="667" y="685"/>
                </a:lnTo>
                <a:lnTo>
                  <a:pt x="675" y="685"/>
                </a:lnTo>
                <a:lnTo>
                  <a:pt x="675" y="676"/>
                </a:lnTo>
                <a:lnTo>
                  <a:pt x="675" y="666"/>
                </a:lnTo>
                <a:lnTo>
                  <a:pt x="675" y="656"/>
                </a:lnTo>
                <a:lnTo>
                  <a:pt x="667" y="656"/>
                </a:lnTo>
                <a:lnTo>
                  <a:pt x="675" y="656"/>
                </a:lnTo>
                <a:lnTo>
                  <a:pt x="675" y="646"/>
                </a:lnTo>
                <a:lnTo>
                  <a:pt x="667" y="646"/>
                </a:lnTo>
                <a:lnTo>
                  <a:pt x="675" y="646"/>
                </a:lnTo>
                <a:lnTo>
                  <a:pt x="675" y="637"/>
                </a:lnTo>
                <a:lnTo>
                  <a:pt x="675" y="627"/>
                </a:lnTo>
                <a:lnTo>
                  <a:pt x="667" y="627"/>
                </a:lnTo>
                <a:lnTo>
                  <a:pt x="667" y="617"/>
                </a:lnTo>
                <a:lnTo>
                  <a:pt x="658" y="617"/>
                </a:lnTo>
                <a:lnTo>
                  <a:pt x="658" y="608"/>
                </a:lnTo>
                <a:lnTo>
                  <a:pt x="650" y="608"/>
                </a:lnTo>
                <a:lnTo>
                  <a:pt x="650" y="598"/>
                </a:lnTo>
                <a:lnTo>
                  <a:pt x="650" y="589"/>
                </a:lnTo>
                <a:lnTo>
                  <a:pt x="641" y="589"/>
                </a:lnTo>
                <a:lnTo>
                  <a:pt x="641" y="580"/>
                </a:lnTo>
                <a:lnTo>
                  <a:pt x="633" y="580"/>
                </a:lnTo>
                <a:lnTo>
                  <a:pt x="633" y="570"/>
                </a:lnTo>
                <a:lnTo>
                  <a:pt x="633" y="560"/>
                </a:lnTo>
                <a:lnTo>
                  <a:pt x="624" y="560"/>
                </a:lnTo>
                <a:lnTo>
                  <a:pt x="624" y="570"/>
                </a:lnTo>
                <a:lnTo>
                  <a:pt x="624" y="560"/>
                </a:lnTo>
                <a:lnTo>
                  <a:pt x="624" y="550"/>
                </a:lnTo>
                <a:lnTo>
                  <a:pt x="624" y="541"/>
                </a:lnTo>
                <a:lnTo>
                  <a:pt x="633" y="541"/>
                </a:lnTo>
                <a:lnTo>
                  <a:pt x="641" y="541"/>
                </a:lnTo>
                <a:lnTo>
                  <a:pt x="633" y="541"/>
                </a:lnTo>
                <a:lnTo>
                  <a:pt x="633" y="531"/>
                </a:lnTo>
                <a:lnTo>
                  <a:pt x="641" y="531"/>
                </a:lnTo>
                <a:lnTo>
                  <a:pt x="641" y="521"/>
                </a:lnTo>
                <a:lnTo>
                  <a:pt x="650" y="521"/>
                </a:lnTo>
                <a:lnTo>
                  <a:pt x="650" y="512"/>
                </a:lnTo>
                <a:lnTo>
                  <a:pt x="641" y="512"/>
                </a:lnTo>
                <a:lnTo>
                  <a:pt x="641" y="502"/>
                </a:lnTo>
                <a:lnTo>
                  <a:pt x="641" y="492"/>
                </a:lnTo>
                <a:lnTo>
                  <a:pt x="650" y="492"/>
                </a:lnTo>
                <a:lnTo>
                  <a:pt x="658" y="492"/>
                </a:lnTo>
                <a:lnTo>
                  <a:pt x="658" y="483"/>
                </a:lnTo>
                <a:lnTo>
                  <a:pt x="667" y="483"/>
                </a:lnTo>
                <a:lnTo>
                  <a:pt x="675" y="483"/>
                </a:lnTo>
                <a:lnTo>
                  <a:pt x="683" y="483"/>
                </a:lnTo>
                <a:lnTo>
                  <a:pt x="683" y="473"/>
                </a:lnTo>
                <a:lnTo>
                  <a:pt x="691" y="473"/>
                </a:lnTo>
                <a:lnTo>
                  <a:pt x="700" y="473"/>
                </a:lnTo>
                <a:lnTo>
                  <a:pt x="708" y="473"/>
                </a:lnTo>
                <a:lnTo>
                  <a:pt x="708" y="463"/>
                </a:lnTo>
                <a:lnTo>
                  <a:pt x="717" y="463"/>
                </a:lnTo>
                <a:lnTo>
                  <a:pt x="717" y="453"/>
                </a:lnTo>
                <a:lnTo>
                  <a:pt x="725" y="453"/>
                </a:lnTo>
                <a:lnTo>
                  <a:pt x="725" y="444"/>
                </a:lnTo>
                <a:lnTo>
                  <a:pt x="734" y="444"/>
                </a:lnTo>
                <a:lnTo>
                  <a:pt x="734" y="434"/>
                </a:lnTo>
                <a:lnTo>
                  <a:pt x="734" y="425"/>
                </a:lnTo>
                <a:lnTo>
                  <a:pt x="725" y="425"/>
                </a:lnTo>
                <a:lnTo>
                  <a:pt x="725" y="416"/>
                </a:lnTo>
                <a:lnTo>
                  <a:pt x="717" y="416"/>
                </a:lnTo>
                <a:lnTo>
                  <a:pt x="725" y="416"/>
                </a:lnTo>
                <a:lnTo>
                  <a:pt x="725" y="406"/>
                </a:lnTo>
                <a:lnTo>
                  <a:pt x="717" y="406"/>
                </a:lnTo>
                <a:lnTo>
                  <a:pt x="717" y="396"/>
                </a:lnTo>
                <a:lnTo>
                  <a:pt x="708" y="396"/>
                </a:lnTo>
                <a:lnTo>
                  <a:pt x="700" y="396"/>
                </a:lnTo>
                <a:lnTo>
                  <a:pt x="700" y="387"/>
                </a:lnTo>
                <a:lnTo>
                  <a:pt x="691" y="387"/>
                </a:lnTo>
                <a:lnTo>
                  <a:pt x="683" y="387"/>
                </a:lnTo>
                <a:lnTo>
                  <a:pt x="683" y="377"/>
                </a:lnTo>
                <a:lnTo>
                  <a:pt x="675" y="377"/>
                </a:lnTo>
                <a:lnTo>
                  <a:pt x="683" y="377"/>
                </a:lnTo>
                <a:lnTo>
                  <a:pt x="675" y="377"/>
                </a:lnTo>
                <a:lnTo>
                  <a:pt x="675" y="367"/>
                </a:lnTo>
                <a:lnTo>
                  <a:pt x="675" y="377"/>
                </a:lnTo>
                <a:lnTo>
                  <a:pt x="675" y="367"/>
                </a:lnTo>
                <a:lnTo>
                  <a:pt x="667" y="367"/>
                </a:lnTo>
                <a:lnTo>
                  <a:pt x="658" y="367"/>
                </a:lnTo>
                <a:lnTo>
                  <a:pt x="667" y="367"/>
                </a:lnTo>
                <a:lnTo>
                  <a:pt x="658" y="367"/>
                </a:lnTo>
                <a:lnTo>
                  <a:pt x="658" y="357"/>
                </a:lnTo>
                <a:lnTo>
                  <a:pt x="650" y="357"/>
                </a:lnTo>
                <a:lnTo>
                  <a:pt x="641" y="357"/>
                </a:lnTo>
                <a:lnTo>
                  <a:pt x="641" y="348"/>
                </a:lnTo>
                <a:lnTo>
                  <a:pt x="641" y="338"/>
                </a:lnTo>
                <a:lnTo>
                  <a:pt x="633" y="338"/>
                </a:lnTo>
                <a:lnTo>
                  <a:pt x="624" y="338"/>
                </a:lnTo>
                <a:lnTo>
                  <a:pt x="616" y="338"/>
                </a:lnTo>
                <a:lnTo>
                  <a:pt x="616" y="348"/>
                </a:lnTo>
                <a:lnTo>
                  <a:pt x="616" y="338"/>
                </a:lnTo>
                <a:lnTo>
                  <a:pt x="607" y="338"/>
                </a:lnTo>
                <a:lnTo>
                  <a:pt x="599" y="338"/>
                </a:lnTo>
                <a:lnTo>
                  <a:pt x="599" y="328"/>
                </a:lnTo>
                <a:lnTo>
                  <a:pt x="590" y="328"/>
                </a:lnTo>
                <a:lnTo>
                  <a:pt x="582" y="328"/>
                </a:lnTo>
                <a:lnTo>
                  <a:pt x="582" y="319"/>
                </a:lnTo>
                <a:lnTo>
                  <a:pt x="582" y="309"/>
                </a:lnTo>
                <a:lnTo>
                  <a:pt x="574" y="309"/>
                </a:lnTo>
                <a:lnTo>
                  <a:pt x="574" y="299"/>
                </a:lnTo>
                <a:lnTo>
                  <a:pt x="574" y="290"/>
                </a:lnTo>
                <a:lnTo>
                  <a:pt x="582" y="290"/>
                </a:lnTo>
                <a:lnTo>
                  <a:pt x="574" y="290"/>
                </a:lnTo>
                <a:lnTo>
                  <a:pt x="566" y="290"/>
                </a:lnTo>
                <a:lnTo>
                  <a:pt x="557" y="290"/>
                </a:lnTo>
                <a:lnTo>
                  <a:pt x="549" y="290"/>
                </a:lnTo>
                <a:lnTo>
                  <a:pt x="549" y="280"/>
                </a:lnTo>
                <a:lnTo>
                  <a:pt x="540" y="280"/>
                </a:lnTo>
                <a:lnTo>
                  <a:pt x="540" y="270"/>
                </a:lnTo>
                <a:lnTo>
                  <a:pt x="531" y="270"/>
                </a:lnTo>
                <a:lnTo>
                  <a:pt x="540" y="270"/>
                </a:lnTo>
                <a:lnTo>
                  <a:pt x="540" y="260"/>
                </a:lnTo>
                <a:lnTo>
                  <a:pt x="540" y="252"/>
                </a:lnTo>
                <a:lnTo>
                  <a:pt x="531" y="252"/>
                </a:lnTo>
                <a:lnTo>
                  <a:pt x="531" y="242"/>
                </a:lnTo>
                <a:lnTo>
                  <a:pt x="531" y="232"/>
                </a:lnTo>
                <a:lnTo>
                  <a:pt x="531" y="223"/>
                </a:lnTo>
                <a:lnTo>
                  <a:pt x="523" y="223"/>
                </a:lnTo>
                <a:lnTo>
                  <a:pt x="514" y="223"/>
                </a:lnTo>
                <a:lnTo>
                  <a:pt x="506" y="223"/>
                </a:lnTo>
                <a:lnTo>
                  <a:pt x="506" y="213"/>
                </a:lnTo>
                <a:lnTo>
                  <a:pt x="497" y="213"/>
                </a:lnTo>
                <a:lnTo>
                  <a:pt x="497" y="203"/>
                </a:lnTo>
                <a:lnTo>
                  <a:pt x="489" y="203"/>
                </a:lnTo>
                <a:lnTo>
                  <a:pt x="489" y="193"/>
                </a:lnTo>
                <a:lnTo>
                  <a:pt x="480" y="193"/>
                </a:lnTo>
                <a:lnTo>
                  <a:pt x="480" y="184"/>
                </a:lnTo>
                <a:lnTo>
                  <a:pt x="472" y="184"/>
                </a:lnTo>
                <a:lnTo>
                  <a:pt x="472" y="174"/>
                </a:lnTo>
                <a:lnTo>
                  <a:pt x="472" y="184"/>
                </a:lnTo>
                <a:lnTo>
                  <a:pt x="464" y="184"/>
                </a:lnTo>
                <a:lnTo>
                  <a:pt x="456" y="184"/>
                </a:lnTo>
                <a:lnTo>
                  <a:pt x="447" y="184"/>
                </a:lnTo>
                <a:lnTo>
                  <a:pt x="447" y="174"/>
                </a:lnTo>
                <a:lnTo>
                  <a:pt x="439" y="174"/>
                </a:lnTo>
                <a:lnTo>
                  <a:pt x="430" y="174"/>
                </a:lnTo>
                <a:lnTo>
                  <a:pt x="430" y="164"/>
                </a:lnTo>
                <a:lnTo>
                  <a:pt x="430" y="174"/>
                </a:lnTo>
                <a:lnTo>
                  <a:pt x="430" y="164"/>
                </a:lnTo>
                <a:lnTo>
                  <a:pt x="422" y="164"/>
                </a:lnTo>
                <a:lnTo>
                  <a:pt x="413" y="164"/>
                </a:lnTo>
                <a:lnTo>
                  <a:pt x="405" y="164"/>
                </a:lnTo>
                <a:lnTo>
                  <a:pt x="405" y="155"/>
                </a:lnTo>
                <a:lnTo>
                  <a:pt x="405" y="145"/>
                </a:lnTo>
                <a:lnTo>
                  <a:pt x="396" y="145"/>
                </a:lnTo>
                <a:lnTo>
                  <a:pt x="388" y="145"/>
                </a:lnTo>
                <a:lnTo>
                  <a:pt x="379" y="145"/>
                </a:lnTo>
                <a:lnTo>
                  <a:pt x="379" y="155"/>
                </a:lnTo>
                <a:lnTo>
                  <a:pt x="379" y="164"/>
                </a:lnTo>
                <a:lnTo>
                  <a:pt x="371" y="164"/>
                </a:lnTo>
                <a:lnTo>
                  <a:pt x="363" y="164"/>
                </a:lnTo>
                <a:lnTo>
                  <a:pt x="355" y="164"/>
                </a:lnTo>
                <a:lnTo>
                  <a:pt x="346" y="164"/>
                </a:lnTo>
                <a:lnTo>
                  <a:pt x="346" y="174"/>
                </a:lnTo>
                <a:lnTo>
                  <a:pt x="346" y="164"/>
                </a:lnTo>
                <a:lnTo>
                  <a:pt x="338" y="164"/>
                </a:lnTo>
                <a:lnTo>
                  <a:pt x="338" y="155"/>
                </a:lnTo>
                <a:lnTo>
                  <a:pt x="329" y="155"/>
                </a:lnTo>
                <a:lnTo>
                  <a:pt x="329" y="145"/>
                </a:lnTo>
                <a:lnTo>
                  <a:pt x="329" y="155"/>
                </a:lnTo>
                <a:lnTo>
                  <a:pt x="321" y="155"/>
                </a:lnTo>
                <a:lnTo>
                  <a:pt x="321" y="145"/>
                </a:lnTo>
                <a:lnTo>
                  <a:pt x="312" y="145"/>
                </a:lnTo>
                <a:lnTo>
                  <a:pt x="312" y="135"/>
                </a:lnTo>
                <a:lnTo>
                  <a:pt x="312" y="126"/>
                </a:lnTo>
                <a:lnTo>
                  <a:pt x="304" y="126"/>
                </a:lnTo>
                <a:lnTo>
                  <a:pt x="304" y="116"/>
                </a:lnTo>
                <a:lnTo>
                  <a:pt x="295" y="116"/>
                </a:lnTo>
                <a:lnTo>
                  <a:pt x="295" y="106"/>
                </a:lnTo>
                <a:lnTo>
                  <a:pt x="304" y="106"/>
                </a:lnTo>
                <a:lnTo>
                  <a:pt x="295" y="106"/>
                </a:lnTo>
                <a:lnTo>
                  <a:pt x="304" y="106"/>
                </a:lnTo>
                <a:lnTo>
                  <a:pt x="304" y="96"/>
                </a:lnTo>
                <a:lnTo>
                  <a:pt x="295" y="96"/>
                </a:lnTo>
                <a:lnTo>
                  <a:pt x="295" y="87"/>
                </a:lnTo>
                <a:lnTo>
                  <a:pt x="295" y="78"/>
                </a:lnTo>
                <a:lnTo>
                  <a:pt x="287" y="78"/>
                </a:lnTo>
                <a:lnTo>
                  <a:pt x="287" y="68"/>
                </a:lnTo>
                <a:lnTo>
                  <a:pt x="278" y="68"/>
                </a:lnTo>
                <a:lnTo>
                  <a:pt x="278" y="59"/>
                </a:lnTo>
                <a:lnTo>
                  <a:pt x="270" y="59"/>
                </a:lnTo>
                <a:lnTo>
                  <a:pt x="262" y="59"/>
                </a:lnTo>
                <a:lnTo>
                  <a:pt x="262" y="49"/>
                </a:lnTo>
                <a:lnTo>
                  <a:pt x="254" y="49"/>
                </a:lnTo>
                <a:lnTo>
                  <a:pt x="254" y="39"/>
                </a:lnTo>
                <a:lnTo>
                  <a:pt x="245" y="39"/>
                </a:lnTo>
                <a:lnTo>
                  <a:pt x="237" y="39"/>
                </a:lnTo>
                <a:lnTo>
                  <a:pt x="237" y="30"/>
                </a:lnTo>
                <a:lnTo>
                  <a:pt x="228" y="30"/>
                </a:lnTo>
                <a:lnTo>
                  <a:pt x="220" y="30"/>
                </a:lnTo>
                <a:lnTo>
                  <a:pt x="220" y="20"/>
                </a:lnTo>
                <a:lnTo>
                  <a:pt x="211" y="20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03" y="10"/>
                </a:lnTo>
                <a:lnTo>
                  <a:pt x="194" y="20"/>
                </a:lnTo>
                <a:lnTo>
                  <a:pt x="194" y="30"/>
                </a:lnTo>
                <a:lnTo>
                  <a:pt x="186" y="30"/>
                </a:lnTo>
                <a:lnTo>
                  <a:pt x="177" y="30"/>
                </a:lnTo>
                <a:lnTo>
                  <a:pt x="169" y="30"/>
                </a:lnTo>
                <a:lnTo>
                  <a:pt x="160" y="30"/>
                </a:lnTo>
                <a:lnTo>
                  <a:pt x="153" y="30"/>
                </a:lnTo>
                <a:lnTo>
                  <a:pt x="144" y="30"/>
                </a:lnTo>
                <a:lnTo>
                  <a:pt x="144" y="20"/>
                </a:lnTo>
                <a:lnTo>
                  <a:pt x="144" y="10"/>
                </a:lnTo>
                <a:lnTo>
                  <a:pt x="136" y="10"/>
                </a:lnTo>
                <a:lnTo>
                  <a:pt x="144" y="10"/>
                </a:lnTo>
                <a:lnTo>
                  <a:pt x="144" y="0"/>
                </a:lnTo>
                <a:lnTo>
                  <a:pt x="136" y="0"/>
                </a:lnTo>
                <a:lnTo>
                  <a:pt x="127" y="0"/>
                </a:lnTo>
                <a:lnTo>
                  <a:pt x="127" y="10"/>
                </a:lnTo>
                <a:lnTo>
                  <a:pt x="119" y="10"/>
                </a:lnTo>
                <a:lnTo>
                  <a:pt x="119" y="20"/>
                </a:lnTo>
                <a:lnTo>
                  <a:pt x="119" y="30"/>
                </a:lnTo>
                <a:lnTo>
                  <a:pt x="110" y="30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3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Freeform 14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15"/>
          <p:cNvSpPr/>
          <p:nvPr/>
        </p:nvSpPr>
        <p:spPr>
          <a:xfrm>
            <a:off x="6691320" y="993600"/>
            <a:ext cx="816120" cy="562320"/>
          </a:xfrm>
          <a:custGeom>
            <a:avLst/>
            <a:gdLst>
              <a:gd name="textAreaLeft" fmla="*/ 0 w 816120"/>
              <a:gd name="textAreaRight" fmla="*/ 816480 w 81612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514" h="354">
                <a:moveTo>
                  <a:pt x="160" y="134"/>
                </a:moveTo>
                <a:lnTo>
                  <a:pt x="203" y="124"/>
                </a:lnTo>
                <a:lnTo>
                  <a:pt x="211" y="124"/>
                </a:lnTo>
                <a:lnTo>
                  <a:pt x="219" y="124"/>
                </a:lnTo>
                <a:lnTo>
                  <a:pt x="227" y="124"/>
                </a:lnTo>
                <a:lnTo>
                  <a:pt x="236" y="124"/>
                </a:lnTo>
                <a:lnTo>
                  <a:pt x="236" y="134"/>
                </a:lnTo>
                <a:lnTo>
                  <a:pt x="244" y="134"/>
                </a:lnTo>
                <a:lnTo>
                  <a:pt x="253" y="134"/>
                </a:lnTo>
                <a:lnTo>
                  <a:pt x="253" y="124"/>
                </a:lnTo>
                <a:lnTo>
                  <a:pt x="261" y="124"/>
                </a:lnTo>
                <a:lnTo>
                  <a:pt x="270" y="124"/>
                </a:lnTo>
                <a:lnTo>
                  <a:pt x="270" y="134"/>
                </a:lnTo>
                <a:lnTo>
                  <a:pt x="270" y="124"/>
                </a:lnTo>
                <a:lnTo>
                  <a:pt x="278" y="124"/>
                </a:lnTo>
                <a:lnTo>
                  <a:pt x="287" y="124"/>
                </a:lnTo>
                <a:lnTo>
                  <a:pt x="295" y="124"/>
                </a:lnTo>
                <a:lnTo>
                  <a:pt x="295" y="114"/>
                </a:lnTo>
                <a:lnTo>
                  <a:pt x="303" y="114"/>
                </a:lnTo>
                <a:lnTo>
                  <a:pt x="303" y="124"/>
                </a:lnTo>
                <a:lnTo>
                  <a:pt x="303" y="134"/>
                </a:lnTo>
                <a:lnTo>
                  <a:pt x="311" y="134"/>
                </a:lnTo>
                <a:lnTo>
                  <a:pt x="311" y="143"/>
                </a:lnTo>
                <a:lnTo>
                  <a:pt x="320" y="143"/>
                </a:lnTo>
                <a:lnTo>
                  <a:pt x="320" y="152"/>
                </a:lnTo>
                <a:lnTo>
                  <a:pt x="320" y="162"/>
                </a:lnTo>
                <a:lnTo>
                  <a:pt x="320" y="171"/>
                </a:lnTo>
                <a:lnTo>
                  <a:pt x="320" y="162"/>
                </a:lnTo>
                <a:lnTo>
                  <a:pt x="328" y="162"/>
                </a:lnTo>
                <a:lnTo>
                  <a:pt x="328" y="152"/>
                </a:lnTo>
                <a:lnTo>
                  <a:pt x="337" y="162"/>
                </a:lnTo>
                <a:lnTo>
                  <a:pt x="337" y="152"/>
                </a:lnTo>
                <a:lnTo>
                  <a:pt x="345" y="152"/>
                </a:lnTo>
                <a:lnTo>
                  <a:pt x="345" y="143"/>
                </a:lnTo>
                <a:lnTo>
                  <a:pt x="345" y="134"/>
                </a:lnTo>
                <a:lnTo>
                  <a:pt x="354" y="134"/>
                </a:lnTo>
                <a:lnTo>
                  <a:pt x="354" y="124"/>
                </a:lnTo>
                <a:lnTo>
                  <a:pt x="354" y="134"/>
                </a:lnTo>
                <a:lnTo>
                  <a:pt x="362" y="134"/>
                </a:lnTo>
                <a:lnTo>
                  <a:pt x="362" y="143"/>
                </a:lnTo>
                <a:lnTo>
                  <a:pt x="362" y="105"/>
                </a:lnTo>
                <a:lnTo>
                  <a:pt x="371" y="105"/>
                </a:lnTo>
                <a:lnTo>
                  <a:pt x="371" y="114"/>
                </a:lnTo>
                <a:lnTo>
                  <a:pt x="379" y="114"/>
                </a:lnTo>
                <a:lnTo>
                  <a:pt x="379" y="124"/>
                </a:lnTo>
                <a:lnTo>
                  <a:pt x="387" y="124"/>
                </a:lnTo>
                <a:lnTo>
                  <a:pt x="387" y="134"/>
                </a:lnTo>
                <a:lnTo>
                  <a:pt x="387" y="143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87" y="162"/>
                </a:lnTo>
                <a:lnTo>
                  <a:pt x="395" y="162"/>
                </a:lnTo>
                <a:lnTo>
                  <a:pt x="395" y="171"/>
                </a:lnTo>
                <a:lnTo>
                  <a:pt x="404" y="171"/>
                </a:lnTo>
                <a:lnTo>
                  <a:pt x="404" y="162"/>
                </a:lnTo>
                <a:lnTo>
                  <a:pt x="412" y="162"/>
                </a:lnTo>
                <a:lnTo>
                  <a:pt x="421" y="162"/>
                </a:lnTo>
                <a:lnTo>
                  <a:pt x="421" y="171"/>
                </a:lnTo>
                <a:lnTo>
                  <a:pt x="429" y="171"/>
                </a:lnTo>
                <a:lnTo>
                  <a:pt x="429" y="181"/>
                </a:lnTo>
                <a:lnTo>
                  <a:pt x="429" y="171"/>
                </a:lnTo>
                <a:lnTo>
                  <a:pt x="438" y="171"/>
                </a:lnTo>
                <a:lnTo>
                  <a:pt x="446" y="171"/>
                </a:lnTo>
                <a:lnTo>
                  <a:pt x="455" y="171"/>
                </a:lnTo>
                <a:lnTo>
                  <a:pt x="463" y="171"/>
                </a:lnTo>
                <a:lnTo>
                  <a:pt x="471" y="171"/>
                </a:lnTo>
                <a:lnTo>
                  <a:pt x="479" y="171"/>
                </a:lnTo>
                <a:lnTo>
                  <a:pt x="479" y="162"/>
                </a:lnTo>
                <a:lnTo>
                  <a:pt x="488" y="162"/>
                </a:lnTo>
                <a:lnTo>
                  <a:pt x="496" y="162"/>
                </a:lnTo>
                <a:lnTo>
                  <a:pt x="496" y="171"/>
                </a:lnTo>
                <a:lnTo>
                  <a:pt x="488" y="171"/>
                </a:lnTo>
                <a:lnTo>
                  <a:pt x="479" y="171"/>
                </a:lnTo>
                <a:lnTo>
                  <a:pt x="479" y="181"/>
                </a:lnTo>
                <a:lnTo>
                  <a:pt x="471" y="181"/>
                </a:lnTo>
                <a:lnTo>
                  <a:pt x="463" y="181"/>
                </a:lnTo>
                <a:lnTo>
                  <a:pt x="463" y="191"/>
                </a:lnTo>
                <a:lnTo>
                  <a:pt x="463" y="201"/>
                </a:lnTo>
                <a:lnTo>
                  <a:pt x="463" y="209"/>
                </a:lnTo>
                <a:lnTo>
                  <a:pt x="463" y="219"/>
                </a:lnTo>
                <a:lnTo>
                  <a:pt x="463" y="229"/>
                </a:lnTo>
                <a:lnTo>
                  <a:pt x="455" y="229"/>
                </a:lnTo>
                <a:lnTo>
                  <a:pt x="455" y="238"/>
                </a:lnTo>
                <a:lnTo>
                  <a:pt x="455" y="229"/>
                </a:lnTo>
                <a:lnTo>
                  <a:pt x="455" y="238"/>
                </a:lnTo>
                <a:lnTo>
                  <a:pt x="446" y="238"/>
                </a:lnTo>
                <a:lnTo>
                  <a:pt x="438" y="238"/>
                </a:lnTo>
                <a:lnTo>
                  <a:pt x="438" y="248"/>
                </a:lnTo>
                <a:lnTo>
                  <a:pt x="438" y="238"/>
                </a:lnTo>
                <a:lnTo>
                  <a:pt x="438" y="248"/>
                </a:lnTo>
                <a:lnTo>
                  <a:pt x="438" y="258"/>
                </a:lnTo>
                <a:lnTo>
                  <a:pt x="446" y="258"/>
                </a:lnTo>
                <a:lnTo>
                  <a:pt x="455" y="258"/>
                </a:lnTo>
                <a:lnTo>
                  <a:pt x="455" y="248"/>
                </a:lnTo>
                <a:lnTo>
                  <a:pt x="463" y="248"/>
                </a:lnTo>
                <a:lnTo>
                  <a:pt x="463" y="258"/>
                </a:lnTo>
                <a:lnTo>
                  <a:pt x="455" y="258"/>
                </a:lnTo>
                <a:lnTo>
                  <a:pt x="455" y="266"/>
                </a:lnTo>
                <a:lnTo>
                  <a:pt x="455" y="276"/>
                </a:lnTo>
                <a:lnTo>
                  <a:pt x="455" y="286"/>
                </a:lnTo>
                <a:lnTo>
                  <a:pt x="446" y="286"/>
                </a:lnTo>
                <a:lnTo>
                  <a:pt x="446" y="296"/>
                </a:lnTo>
                <a:lnTo>
                  <a:pt x="438" y="296"/>
                </a:lnTo>
                <a:lnTo>
                  <a:pt x="446" y="296"/>
                </a:lnTo>
                <a:lnTo>
                  <a:pt x="438" y="296"/>
                </a:lnTo>
                <a:lnTo>
                  <a:pt x="438" y="305"/>
                </a:lnTo>
                <a:lnTo>
                  <a:pt x="438" y="315"/>
                </a:lnTo>
                <a:lnTo>
                  <a:pt x="429" y="315"/>
                </a:lnTo>
                <a:lnTo>
                  <a:pt x="438" y="315"/>
                </a:lnTo>
                <a:lnTo>
                  <a:pt x="446" y="315"/>
                </a:lnTo>
                <a:lnTo>
                  <a:pt x="455" y="315"/>
                </a:lnTo>
                <a:lnTo>
                  <a:pt x="463" y="315"/>
                </a:lnTo>
                <a:lnTo>
                  <a:pt x="471" y="315"/>
                </a:lnTo>
                <a:lnTo>
                  <a:pt x="479" y="315"/>
                </a:lnTo>
                <a:lnTo>
                  <a:pt x="488" y="315"/>
                </a:lnTo>
                <a:lnTo>
                  <a:pt x="496" y="315"/>
                </a:lnTo>
                <a:lnTo>
                  <a:pt x="505" y="315"/>
                </a:lnTo>
                <a:lnTo>
                  <a:pt x="513" y="315"/>
                </a:lnTo>
                <a:lnTo>
                  <a:pt x="505" y="315"/>
                </a:lnTo>
                <a:lnTo>
                  <a:pt x="505" y="324"/>
                </a:lnTo>
                <a:lnTo>
                  <a:pt x="496" y="324"/>
                </a:lnTo>
                <a:lnTo>
                  <a:pt x="488" y="324"/>
                </a:lnTo>
                <a:lnTo>
                  <a:pt x="479" y="324"/>
                </a:lnTo>
                <a:lnTo>
                  <a:pt x="471" y="324"/>
                </a:lnTo>
                <a:lnTo>
                  <a:pt x="463" y="324"/>
                </a:lnTo>
                <a:lnTo>
                  <a:pt x="455" y="324"/>
                </a:lnTo>
                <a:lnTo>
                  <a:pt x="446" y="324"/>
                </a:lnTo>
                <a:lnTo>
                  <a:pt x="446" y="333"/>
                </a:lnTo>
                <a:lnTo>
                  <a:pt x="446" y="324"/>
                </a:lnTo>
                <a:lnTo>
                  <a:pt x="446" y="333"/>
                </a:lnTo>
                <a:lnTo>
                  <a:pt x="438" y="333"/>
                </a:lnTo>
                <a:lnTo>
                  <a:pt x="438" y="324"/>
                </a:lnTo>
                <a:lnTo>
                  <a:pt x="438" y="333"/>
                </a:lnTo>
                <a:lnTo>
                  <a:pt x="438" y="324"/>
                </a:lnTo>
                <a:lnTo>
                  <a:pt x="429" y="324"/>
                </a:lnTo>
                <a:lnTo>
                  <a:pt x="421" y="324"/>
                </a:lnTo>
                <a:lnTo>
                  <a:pt x="421" y="333"/>
                </a:lnTo>
                <a:lnTo>
                  <a:pt x="412" y="333"/>
                </a:lnTo>
                <a:lnTo>
                  <a:pt x="404" y="333"/>
                </a:lnTo>
                <a:lnTo>
                  <a:pt x="412" y="333"/>
                </a:lnTo>
                <a:lnTo>
                  <a:pt x="404" y="333"/>
                </a:lnTo>
                <a:lnTo>
                  <a:pt x="395" y="333"/>
                </a:lnTo>
                <a:lnTo>
                  <a:pt x="395" y="324"/>
                </a:lnTo>
                <a:lnTo>
                  <a:pt x="404" y="324"/>
                </a:lnTo>
                <a:lnTo>
                  <a:pt x="395" y="324"/>
                </a:lnTo>
                <a:lnTo>
                  <a:pt x="387" y="324"/>
                </a:lnTo>
                <a:lnTo>
                  <a:pt x="387" y="315"/>
                </a:lnTo>
                <a:lnTo>
                  <a:pt x="387" y="324"/>
                </a:lnTo>
                <a:lnTo>
                  <a:pt x="387" y="315"/>
                </a:lnTo>
                <a:lnTo>
                  <a:pt x="379" y="315"/>
                </a:lnTo>
                <a:lnTo>
                  <a:pt x="371" y="315"/>
                </a:lnTo>
                <a:lnTo>
                  <a:pt x="362" y="315"/>
                </a:lnTo>
                <a:lnTo>
                  <a:pt x="354" y="315"/>
                </a:lnTo>
                <a:lnTo>
                  <a:pt x="345" y="315"/>
                </a:lnTo>
                <a:lnTo>
                  <a:pt x="337" y="315"/>
                </a:lnTo>
                <a:lnTo>
                  <a:pt x="337" y="324"/>
                </a:lnTo>
                <a:lnTo>
                  <a:pt x="337" y="315"/>
                </a:lnTo>
                <a:lnTo>
                  <a:pt x="337" y="324"/>
                </a:lnTo>
                <a:lnTo>
                  <a:pt x="328" y="324"/>
                </a:lnTo>
                <a:lnTo>
                  <a:pt x="328" y="315"/>
                </a:lnTo>
                <a:lnTo>
                  <a:pt x="328" y="324"/>
                </a:lnTo>
                <a:lnTo>
                  <a:pt x="320" y="324"/>
                </a:lnTo>
                <a:lnTo>
                  <a:pt x="320" y="333"/>
                </a:lnTo>
                <a:lnTo>
                  <a:pt x="320" y="324"/>
                </a:lnTo>
                <a:lnTo>
                  <a:pt x="320" y="333"/>
                </a:lnTo>
                <a:lnTo>
                  <a:pt x="311" y="333"/>
                </a:lnTo>
                <a:lnTo>
                  <a:pt x="311" y="343"/>
                </a:lnTo>
                <a:lnTo>
                  <a:pt x="303" y="343"/>
                </a:lnTo>
                <a:lnTo>
                  <a:pt x="303" y="333"/>
                </a:lnTo>
                <a:lnTo>
                  <a:pt x="303" y="343"/>
                </a:lnTo>
                <a:lnTo>
                  <a:pt x="295" y="343"/>
                </a:lnTo>
                <a:lnTo>
                  <a:pt x="295" y="333"/>
                </a:lnTo>
                <a:lnTo>
                  <a:pt x="295" y="343"/>
                </a:lnTo>
                <a:lnTo>
                  <a:pt x="287" y="343"/>
                </a:lnTo>
                <a:lnTo>
                  <a:pt x="278" y="343"/>
                </a:lnTo>
                <a:lnTo>
                  <a:pt x="270" y="343"/>
                </a:lnTo>
                <a:lnTo>
                  <a:pt x="270" y="353"/>
                </a:lnTo>
                <a:lnTo>
                  <a:pt x="261" y="353"/>
                </a:lnTo>
                <a:lnTo>
                  <a:pt x="261" y="343"/>
                </a:lnTo>
                <a:lnTo>
                  <a:pt x="261" y="353"/>
                </a:lnTo>
                <a:lnTo>
                  <a:pt x="253" y="353"/>
                </a:lnTo>
                <a:lnTo>
                  <a:pt x="253" y="343"/>
                </a:lnTo>
                <a:lnTo>
                  <a:pt x="244" y="343"/>
                </a:lnTo>
                <a:lnTo>
                  <a:pt x="236" y="343"/>
                </a:lnTo>
                <a:lnTo>
                  <a:pt x="236" y="333"/>
                </a:lnTo>
                <a:lnTo>
                  <a:pt x="236" y="343"/>
                </a:lnTo>
                <a:lnTo>
                  <a:pt x="227" y="343"/>
                </a:lnTo>
                <a:lnTo>
                  <a:pt x="227" y="333"/>
                </a:lnTo>
                <a:lnTo>
                  <a:pt x="227" y="343"/>
                </a:lnTo>
                <a:lnTo>
                  <a:pt x="219" y="343"/>
                </a:lnTo>
                <a:lnTo>
                  <a:pt x="211" y="343"/>
                </a:lnTo>
                <a:lnTo>
                  <a:pt x="203" y="343"/>
                </a:lnTo>
                <a:lnTo>
                  <a:pt x="194" y="343"/>
                </a:lnTo>
                <a:lnTo>
                  <a:pt x="186" y="343"/>
                </a:lnTo>
                <a:lnTo>
                  <a:pt x="186" y="333"/>
                </a:lnTo>
                <a:lnTo>
                  <a:pt x="186" y="324"/>
                </a:lnTo>
                <a:lnTo>
                  <a:pt x="194" y="324"/>
                </a:lnTo>
                <a:lnTo>
                  <a:pt x="194" y="315"/>
                </a:lnTo>
                <a:lnTo>
                  <a:pt x="194" y="305"/>
                </a:lnTo>
                <a:lnTo>
                  <a:pt x="194" y="296"/>
                </a:lnTo>
                <a:lnTo>
                  <a:pt x="186" y="296"/>
                </a:lnTo>
                <a:lnTo>
                  <a:pt x="186" y="305"/>
                </a:lnTo>
                <a:lnTo>
                  <a:pt x="169" y="305"/>
                </a:lnTo>
                <a:lnTo>
                  <a:pt x="169" y="296"/>
                </a:lnTo>
                <a:lnTo>
                  <a:pt x="169" y="286"/>
                </a:lnTo>
                <a:lnTo>
                  <a:pt x="160" y="286"/>
                </a:lnTo>
                <a:lnTo>
                  <a:pt x="152" y="286"/>
                </a:lnTo>
                <a:lnTo>
                  <a:pt x="143" y="286"/>
                </a:lnTo>
                <a:lnTo>
                  <a:pt x="143" y="296"/>
                </a:lnTo>
                <a:lnTo>
                  <a:pt x="135" y="296"/>
                </a:lnTo>
                <a:lnTo>
                  <a:pt x="135" y="286"/>
                </a:lnTo>
                <a:lnTo>
                  <a:pt x="135" y="276"/>
                </a:lnTo>
                <a:lnTo>
                  <a:pt x="127" y="276"/>
                </a:lnTo>
                <a:lnTo>
                  <a:pt x="127" y="286"/>
                </a:lnTo>
                <a:lnTo>
                  <a:pt x="127" y="276"/>
                </a:lnTo>
                <a:lnTo>
                  <a:pt x="119" y="276"/>
                </a:lnTo>
                <a:lnTo>
                  <a:pt x="119" y="266"/>
                </a:lnTo>
                <a:lnTo>
                  <a:pt x="110" y="266"/>
                </a:lnTo>
                <a:lnTo>
                  <a:pt x="102" y="266"/>
                </a:lnTo>
                <a:lnTo>
                  <a:pt x="93" y="266"/>
                </a:lnTo>
                <a:lnTo>
                  <a:pt x="93" y="258"/>
                </a:lnTo>
                <a:lnTo>
                  <a:pt x="93" y="248"/>
                </a:lnTo>
                <a:lnTo>
                  <a:pt x="85" y="248"/>
                </a:lnTo>
                <a:lnTo>
                  <a:pt x="85" y="238"/>
                </a:lnTo>
                <a:lnTo>
                  <a:pt x="85" y="229"/>
                </a:lnTo>
                <a:lnTo>
                  <a:pt x="76" y="229"/>
                </a:lnTo>
                <a:lnTo>
                  <a:pt x="76" y="219"/>
                </a:lnTo>
                <a:lnTo>
                  <a:pt x="76" y="209"/>
                </a:lnTo>
                <a:lnTo>
                  <a:pt x="68" y="209"/>
                </a:lnTo>
                <a:lnTo>
                  <a:pt x="68" y="201"/>
                </a:lnTo>
                <a:lnTo>
                  <a:pt x="76" y="201"/>
                </a:lnTo>
                <a:lnTo>
                  <a:pt x="76" y="191"/>
                </a:lnTo>
                <a:lnTo>
                  <a:pt x="76" y="201"/>
                </a:lnTo>
                <a:lnTo>
                  <a:pt x="76" y="191"/>
                </a:lnTo>
                <a:lnTo>
                  <a:pt x="68" y="191"/>
                </a:lnTo>
                <a:lnTo>
                  <a:pt x="76" y="191"/>
                </a:lnTo>
                <a:lnTo>
                  <a:pt x="76" y="181"/>
                </a:lnTo>
                <a:lnTo>
                  <a:pt x="68" y="181"/>
                </a:lnTo>
                <a:lnTo>
                  <a:pt x="59" y="181"/>
                </a:lnTo>
                <a:lnTo>
                  <a:pt x="68" y="181"/>
                </a:lnTo>
                <a:lnTo>
                  <a:pt x="68" y="171"/>
                </a:lnTo>
                <a:lnTo>
                  <a:pt x="76" y="171"/>
                </a:lnTo>
                <a:lnTo>
                  <a:pt x="76" y="162"/>
                </a:lnTo>
                <a:lnTo>
                  <a:pt x="76" y="152"/>
                </a:lnTo>
                <a:lnTo>
                  <a:pt x="76" y="143"/>
                </a:lnTo>
                <a:lnTo>
                  <a:pt x="76" y="134"/>
                </a:lnTo>
                <a:lnTo>
                  <a:pt x="76" y="124"/>
                </a:lnTo>
                <a:lnTo>
                  <a:pt x="68" y="124"/>
                </a:lnTo>
                <a:lnTo>
                  <a:pt x="68" y="114"/>
                </a:lnTo>
                <a:lnTo>
                  <a:pt x="59" y="114"/>
                </a:lnTo>
                <a:lnTo>
                  <a:pt x="59" y="124"/>
                </a:lnTo>
                <a:lnTo>
                  <a:pt x="51" y="124"/>
                </a:lnTo>
                <a:lnTo>
                  <a:pt x="43" y="124"/>
                </a:lnTo>
                <a:lnTo>
                  <a:pt x="43" y="134"/>
                </a:lnTo>
                <a:lnTo>
                  <a:pt x="34" y="134"/>
                </a:lnTo>
                <a:lnTo>
                  <a:pt x="26" y="134"/>
                </a:lnTo>
                <a:lnTo>
                  <a:pt x="26" y="124"/>
                </a:lnTo>
                <a:lnTo>
                  <a:pt x="17" y="124"/>
                </a:lnTo>
                <a:lnTo>
                  <a:pt x="17" y="114"/>
                </a:lnTo>
                <a:lnTo>
                  <a:pt x="9" y="114"/>
                </a:lnTo>
                <a:lnTo>
                  <a:pt x="9" y="105"/>
                </a:lnTo>
                <a:lnTo>
                  <a:pt x="9" y="95"/>
                </a:lnTo>
                <a:lnTo>
                  <a:pt x="0" y="95"/>
                </a:lnTo>
                <a:lnTo>
                  <a:pt x="0" y="86"/>
                </a:lnTo>
                <a:lnTo>
                  <a:pt x="9" y="86"/>
                </a:lnTo>
                <a:lnTo>
                  <a:pt x="9" y="76"/>
                </a:lnTo>
                <a:lnTo>
                  <a:pt x="9" y="67"/>
                </a:lnTo>
                <a:lnTo>
                  <a:pt x="17" y="67"/>
                </a:lnTo>
                <a:lnTo>
                  <a:pt x="17" y="57"/>
                </a:lnTo>
                <a:lnTo>
                  <a:pt x="17" y="47"/>
                </a:lnTo>
                <a:lnTo>
                  <a:pt x="9" y="47"/>
                </a:lnTo>
                <a:lnTo>
                  <a:pt x="9" y="38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8"/>
                </a:lnTo>
                <a:lnTo>
                  <a:pt x="34" y="38"/>
                </a:lnTo>
                <a:lnTo>
                  <a:pt x="43" y="38"/>
                </a:lnTo>
                <a:lnTo>
                  <a:pt x="43" y="47"/>
                </a:lnTo>
                <a:lnTo>
                  <a:pt x="51" y="38"/>
                </a:lnTo>
                <a:lnTo>
                  <a:pt x="51" y="29"/>
                </a:lnTo>
                <a:lnTo>
                  <a:pt x="51" y="19"/>
                </a:lnTo>
                <a:lnTo>
                  <a:pt x="59" y="19"/>
                </a:lnTo>
                <a:lnTo>
                  <a:pt x="59" y="10"/>
                </a:lnTo>
                <a:lnTo>
                  <a:pt x="68" y="10"/>
                </a:lnTo>
                <a:lnTo>
                  <a:pt x="68" y="19"/>
                </a:lnTo>
                <a:lnTo>
                  <a:pt x="76" y="29"/>
                </a:lnTo>
                <a:lnTo>
                  <a:pt x="76" y="19"/>
                </a:lnTo>
                <a:lnTo>
                  <a:pt x="76" y="10"/>
                </a:lnTo>
                <a:lnTo>
                  <a:pt x="85" y="10"/>
                </a:lnTo>
                <a:lnTo>
                  <a:pt x="85" y="0"/>
                </a:lnTo>
                <a:lnTo>
                  <a:pt x="93" y="0"/>
                </a:lnTo>
                <a:lnTo>
                  <a:pt x="102" y="0"/>
                </a:lnTo>
                <a:lnTo>
                  <a:pt x="102" y="10"/>
                </a:lnTo>
                <a:lnTo>
                  <a:pt x="102" y="0"/>
                </a:lnTo>
                <a:lnTo>
                  <a:pt x="102" y="10"/>
                </a:lnTo>
                <a:lnTo>
                  <a:pt x="110" y="10"/>
                </a:lnTo>
                <a:lnTo>
                  <a:pt x="119" y="10"/>
                </a:lnTo>
                <a:lnTo>
                  <a:pt x="127" y="1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43" y="10"/>
                </a:lnTo>
                <a:lnTo>
                  <a:pt x="135" y="10"/>
                </a:lnTo>
                <a:lnTo>
                  <a:pt x="135" y="19"/>
                </a:lnTo>
                <a:lnTo>
                  <a:pt x="135" y="29"/>
                </a:lnTo>
                <a:lnTo>
                  <a:pt x="135" y="38"/>
                </a:lnTo>
                <a:lnTo>
                  <a:pt x="135" y="47"/>
                </a:lnTo>
                <a:lnTo>
                  <a:pt x="127" y="47"/>
                </a:lnTo>
                <a:lnTo>
                  <a:pt x="127" y="57"/>
                </a:lnTo>
                <a:lnTo>
                  <a:pt x="119" y="57"/>
                </a:lnTo>
                <a:lnTo>
                  <a:pt x="110" y="57"/>
                </a:lnTo>
                <a:lnTo>
                  <a:pt x="102" y="57"/>
                </a:lnTo>
                <a:lnTo>
                  <a:pt x="93" y="57"/>
                </a:lnTo>
                <a:lnTo>
                  <a:pt x="93" y="67"/>
                </a:lnTo>
                <a:lnTo>
                  <a:pt x="93" y="76"/>
                </a:lnTo>
                <a:lnTo>
                  <a:pt x="93" y="86"/>
                </a:lnTo>
                <a:lnTo>
                  <a:pt x="93" y="95"/>
                </a:lnTo>
                <a:lnTo>
                  <a:pt x="102" y="95"/>
                </a:lnTo>
                <a:lnTo>
                  <a:pt x="110" y="95"/>
                </a:lnTo>
                <a:lnTo>
                  <a:pt x="119" y="95"/>
                </a:lnTo>
                <a:lnTo>
                  <a:pt x="119" y="86"/>
                </a:lnTo>
                <a:lnTo>
                  <a:pt x="119" y="76"/>
                </a:lnTo>
                <a:lnTo>
                  <a:pt x="127" y="76"/>
                </a:lnTo>
                <a:lnTo>
                  <a:pt x="135" y="76"/>
                </a:lnTo>
                <a:lnTo>
                  <a:pt x="135" y="67"/>
                </a:lnTo>
                <a:lnTo>
                  <a:pt x="143" y="67"/>
                </a:lnTo>
                <a:lnTo>
                  <a:pt x="152" y="67"/>
                </a:lnTo>
                <a:lnTo>
                  <a:pt x="152" y="57"/>
                </a:lnTo>
                <a:lnTo>
                  <a:pt x="152" y="67"/>
                </a:lnTo>
                <a:lnTo>
                  <a:pt x="160" y="67"/>
                </a:lnTo>
                <a:lnTo>
                  <a:pt x="152" y="67"/>
                </a:lnTo>
                <a:lnTo>
                  <a:pt x="152" y="76"/>
                </a:lnTo>
                <a:lnTo>
                  <a:pt x="160" y="76"/>
                </a:lnTo>
                <a:lnTo>
                  <a:pt x="160" y="86"/>
                </a:lnTo>
                <a:lnTo>
                  <a:pt x="152" y="86"/>
                </a:lnTo>
                <a:lnTo>
                  <a:pt x="152" y="95"/>
                </a:lnTo>
                <a:lnTo>
                  <a:pt x="152" y="105"/>
                </a:lnTo>
                <a:lnTo>
                  <a:pt x="152" y="114"/>
                </a:lnTo>
                <a:lnTo>
                  <a:pt x="160" y="114"/>
                </a:lnTo>
                <a:lnTo>
                  <a:pt x="160" y="124"/>
                </a:lnTo>
                <a:lnTo>
                  <a:pt x="160" y="134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Freeform 16"/>
          <p:cNvSpPr/>
          <p:nvPr/>
        </p:nvSpPr>
        <p:spPr>
          <a:xfrm>
            <a:off x="6691320" y="993600"/>
            <a:ext cx="826920" cy="571680"/>
          </a:xfrm>
          <a:custGeom>
            <a:avLst/>
            <a:gdLst>
              <a:gd name="textAreaLeft" fmla="*/ 0 w 826920"/>
              <a:gd name="textAreaRight" fmla="*/ 827280 w 8269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521" h="360">
                <a:moveTo>
                  <a:pt x="162" y="136"/>
                </a:moveTo>
                <a:lnTo>
                  <a:pt x="205" y="126"/>
                </a:lnTo>
                <a:lnTo>
                  <a:pt x="213" y="126"/>
                </a:lnTo>
                <a:lnTo>
                  <a:pt x="222" y="126"/>
                </a:lnTo>
                <a:lnTo>
                  <a:pt x="230" y="126"/>
                </a:lnTo>
                <a:lnTo>
                  <a:pt x="239" y="126"/>
                </a:lnTo>
                <a:lnTo>
                  <a:pt x="239" y="136"/>
                </a:lnTo>
                <a:lnTo>
                  <a:pt x="247" y="136"/>
                </a:lnTo>
                <a:lnTo>
                  <a:pt x="256" y="136"/>
                </a:lnTo>
                <a:lnTo>
                  <a:pt x="256" y="126"/>
                </a:lnTo>
                <a:lnTo>
                  <a:pt x="265" y="126"/>
                </a:lnTo>
                <a:lnTo>
                  <a:pt x="274" y="126"/>
                </a:lnTo>
                <a:lnTo>
                  <a:pt x="274" y="136"/>
                </a:lnTo>
                <a:lnTo>
                  <a:pt x="274" y="126"/>
                </a:lnTo>
                <a:lnTo>
                  <a:pt x="282" y="126"/>
                </a:lnTo>
                <a:lnTo>
                  <a:pt x="291" y="126"/>
                </a:lnTo>
                <a:lnTo>
                  <a:pt x="299" y="126"/>
                </a:lnTo>
                <a:lnTo>
                  <a:pt x="299" y="116"/>
                </a:lnTo>
                <a:lnTo>
                  <a:pt x="308" y="116"/>
                </a:lnTo>
                <a:lnTo>
                  <a:pt x="308" y="126"/>
                </a:lnTo>
                <a:lnTo>
                  <a:pt x="308" y="136"/>
                </a:lnTo>
                <a:lnTo>
                  <a:pt x="316" y="136"/>
                </a:lnTo>
                <a:lnTo>
                  <a:pt x="316" y="145"/>
                </a:lnTo>
                <a:lnTo>
                  <a:pt x="325" y="145"/>
                </a:lnTo>
                <a:lnTo>
                  <a:pt x="325" y="155"/>
                </a:lnTo>
                <a:lnTo>
                  <a:pt x="325" y="165"/>
                </a:lnTo>
                <a:lnTo>
                  <a:pt x="325" y="174"/>
                </a:lnTo>
                <a:lnTo>
                  <a:pt x="325" y="165"/>
                </a:lnTo>
                <a:lnTo>
                  <a:pt x="333" y="165"/>
                </a:lnTo>
                <a:lnTo>
                  <a:pt x="333" y="155"/>
                </a:lnTo>
                <a:lnTo>
                  <a:pt x="342" y="165"/>
                </a:lnTo>
                <a:lnTo>
                  <a:pt x="342" y="155"/>
                </a:lnTo>
                <a:lnTo>
                  <a:pt x="350" y="155"/>
                </a:lnTo>
                <a:lnTo>
                  <a:pt x="350" y="145"/>
                </a:lnTo>
                <a:lnTo>
                  <a:pt x="350" y="136"/>
                </a:lnTo>
                <a:lnTo>
                  <a:pt x="359" y="136"/>
                </a:lnTo>
                <a:lnTo>
                  <a:pt x="359" y="126"/>
                </a:lnTo>
                <a:lnTo>
                  <a:pt x="359" y="136"/>
                </a:lnTo>
                <a:lnTo>
                  <a:pt x="367" y="136"/>
                </a:lnTo>
                <a:lnTo>
                  <a:pt x="367" y="145"/>
                </a:lnTo>
                <a:lnTo>
                  <a:pt x="367" y="107"/>
                </a:lnTo>
                <a:lnTo>
                  <a:pt x="376" y="107"/>
                </a:lnTo>
                <a:lnTo>
                  <a:pt x="376" y="116"/>
                </a:lnTo>
                <a:lnTo>
                  <a:pt x="384" y="116"/>
                </a:lnTo>
                <a:lnTo>
                  <a:pt x="384" y="126"/>
                </a:lnTo>
                <a:lnTo>
                  <a:pt x="393" y="126"/>
                </a:lnTo>
                <a:lnTo>
                  <a:pt x="393" y="136"/>
                </a:lnTo>
                <a:lnTo>
                  <a:pt x="393" y="14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393" y="165"/>
                </a:lnTo>
                <a:lnTo>
                  <a:pt x="401" y="165"/>
                </a:lnTo>
                <a:lnTo>
                  <a:pt x="401" y="174"/>
                </a:lnTo>
                <a:lnTo>
                  <a:pt x="410" y="174"/>
                </a:lnTo>
                <a:lnTo>
                  <a:pt x="410" y="165"/>
                </a:lnTo>
                <a:lnTo>
                  <a:pt x="418" y="165"/>
                </a:lnTo>
                <a:lnTo>
                  <a:pt x="427" y="165"/>
                </a:lnTo>
                <a:lnTo>
                  <a:pt x="427" y="174"/>
                </a:lnTo>
                <a:lnTo>
                  <a:pt x="435" y="174"/>
                </a:lnTo>
                <a:lnTo>
                  <a:pt x="435" y="184"/>
                </a:lnTo>
                <a:lnTo>
                  <a:pt x="435" y="174"/>
                </a:lnTo>
                <a:lnTo>
                  <a:pt x="444" y="174"/>
                </a:lnTo>
                <a:lnTo>
                  <a:pt x="452" y="174"/>
                </a:lnTo>
                <a:lnTo>
                  <a:pt x="461" y="174"/>
                </a:lnTo>
                <a:lnTo>
                  <a:pt x="469" y="174"/>
                </a:lnTo>
                <a:lnTo>
                  <a:pt x="478" y="174"/>
                </a:lnTo>
                <a:lnTo>
                  <a:pt x="486" y="174"/>
                </a:lnTo>
                <a:lnTo>
                  <a:pt x="486" y="165"/>
                </a:lnTo>
                <a:lnTo>
                  <a:pt x="495" y="165"/>
                </a:lnTo>
                <a:lnTo>
                  <a:pt x="503" y="165"/>
                </a:lnTo>
                <a:lnTo>
                  <a:pt x="503" y="174"/>
                </a:lnTo>
                <a:lnTo>
                  <a:pt x="495" y="174"/>
                </a:lnTo>
                <a:lnTo>
                  <a:pt x="486" y="174"/>
                </a:lnTo>
                <a:lnTo>
                  <a:pt x="486" y="184"/>
                </a:lnTo>
                <a:lnTo>
                  <a:pt x="478" y="184"/>
                </a:lnTo>
                <a:lnTo>
                  <a:pt x="469" y="184"/>
                </a:lnTo>
                <a:lnTo>
                  <a:pt x="469" y="194"/>
                </a:lnTo>
                <a:lnTo>
                  <a:pt x="469" y="204"/>
                </a:lnTo>
                <a:lnTo>
                  <a:pt x="469" y="213"/>
                </a:lnTo>
                <a:lnTo>
                  <a:pt x="469" y="223"/>
                </a:lnTo>
                <a:lnTo>
                  <a:pt x="469" y="233"/>
                </a:lnTo>
                <a:lnTo>
                  <a:pt x="461" y="233"/>
                </a:lnTo>
                <a:lnTo>
                  <a:pt x="461" y="242"/>
                </a:lnTo>
                <a:lnTo>
                  <a:pt x="461" y="233"/>
                </a:lnTo>
                <a:lnTo>
                  <a:pt x="461" y="242"/>
                </a:lnTo>
                <a:lnTo>
                  <a:pt x="452" y="242"/>
                </a:lnTo>
                <a:lnTo>
                  <a:pt x="444" y="242"/>
                </a:lnTo>
                <a:lnTo>
                  <a:pt x="444" y="252"/>
                </a:lnTo>
                <a:lnTo>
                  <a:pt x="444" y="242"/>
                </a:lnTo>
                <a:lnTo>
                  <a:pt x="444" y="252"/>
                </a:lnTo>
                <a:lnTo>
                  <a:pt x="444" y="262"/>
                </a:lnTo>
                <a:lnTo>
                  <a:pt x="452" y="262"/>
                </a:lnTo>
                <a:lnTo>
                  <a:pt x="461" y="262"/>
                </a:lnTo>
                <a:lnTo>
                  <a:pt x="461" y="252"/>
                </a:lnTo>
                <a:lnTo>
                  <a:pt x="469" y="252"/>
                </a:lnTo>
                <a:lnTo>
                  <a:pt x="469" y="262"/>
                </a:lnTo>
                <a:lnTo>
                  <a:pt x="461" y="262"/>
                </a:lnTo>
                <a:lnTo>
                  <a:pt x="461" y="271"/>
                </a:lnTo>
                <a:lnTo>
                  <a:pt x="461" y="281"/>
                </a:lnTo>
                <a:lnTo>
                  <a:pt x="461" y="291"/>
                </a:lnTo>
                <a:lnTo>
                  <a:pt x="452" y="291"/>
                </a:lnTo>
                <a:lnTo>
                  <a:pt x="452" y="301"/>
                </a:lnTo>
                <a:lnTo>
                  <a:pt x="444" y="301"/>
                </a:lnTo>
                <a:lnTo>
                  <a:pt x="452" y="301"/>
                </a:lnTo>
                <a:lnTo>
                  <a:pt x="444" y="301"/>
                </a:lnTo>
                <a:lnTo>
                  <a:pt x="444" y="310"/>
                </a:lnTo>
                <a:lnTo>
                  <a:pt x="444" y="320"/>
                </a:lnTo>
                <a:lnTo>
                  <a:pt x="435" y="320"/>
                </a:lnTo>
                <a:lnTo>
                  <a:pt x="444" y="320"/>
                </a:lnTo>
                <a:lnTo>
                  <a:pt x="452" y="320"/>
                </a:lnTo>
                <a:lnTo>
                  <a:pt x="461" y="320"/>
                </a:lnTo>
                <a:lnTo>
                  <a:pt x="469" y="320"/>
                </a:lnTo>
                <a:lnTo>
                  <a:pt x="478" y="320"/>
                </a:lnTo>
                <a:lnTo>
                  <a:pt x="486" y="320"/>
                </a:lnTo>
                <a:lnTo>
                  <a:pt x="495" y="320"/>
                </a:lnTo>
                <a:lnTo>
                  <a:pt x="503" y="320"/>
                </a:lnTo>
                <a:lnTo>
                  <a:pt x="512" y="320"/>
                </a:lnTo>
                <a:lnTo>
                  <a:pt x="520" y="320"/>
                </a:lnTo>
                <a:lnTo>
                  <a:pt x="512" y="320"/>
                </a:lnTo>
                <a:lnTo>
                  <a:pt x="512" y="330"/>
                </a:lnTo>
                <a:lnTo>
                  <a:pt x="503" y="330"/>
                </a:lnTo>
                <a:lnTo>
                  <a:pt x="495" y="330"/>
                </a:lnTo>
                <a:lnTo>
                  <a:pt x="486" y="330"/>
                </a:lnTo>
                <a:lnTo>
                  <a:pt x="478" y="330"/>
                </a:lnTo>
                <a:lnTo>
                  <a:pt x="469" y="330"/>
                </a:lnTo>
                <a:lnTo>
                  <a:pt x="461" y="330"/>
                </a:lnTo>
                <a:lnTo>
                  <a:pt x="452" y="330"/>
                </a:lnTo>
                <a:lnTo>
                  <a:pt x="452" y="339"/>
                </a:lnTo>
                <a:lnTo>
                  <a:pt x="452" y="330"/>
                </a:lnTo>
                <a:lnTo>
                  <a:pt x="452" y="339"/>
                </a:lnTo>
                <a:lnTo>
                  <a:pt x="444" y="339"/>
                </a:lnTo>
                <a:lnTo>
                  <a:pt x="444" y="330"/>
                </a:lnTo>
                <a:lnTo>
                  <a:pt x="444" y="339"/>
                </a:lnTo>
                <a:lnTo>
                  <a:pt x="444" y="330"/>
                </a:lnTo>
                <a:lnTo>
                  <a:pt x="435" y="330"/>
                </a:lnTo>
                <a:lnTo>
                  <a:pt x="427" y="330"/>
                </a:lnTo>
                <a:lnTo>
                  <a:pt x="427" y="339"/>
                </a:lnTo>
                <a:lnTo>
                  <a:pt x="418" y="339"/>
                </a:lnTo>
                <a:lnTo>
                  <a:pt x="410" y="339"/>
                </a:lnTo>
                <a:lnTo>
                  <a:pt x="418" y="339"/>
                </a:lnTo>
                <a:lnTo>
                  <a:pt x="410" y="339"/>
                </a:lnTo>
                <a:lnTo>
                  <a:pt x="401" y="339"/>
                </a:lnTo>
                <a:lnTo>
                  <a:pt x="401" y="330"/>
                </a:lnTo>
                <a:lnTo>
                  <a:pt x="410" y="330"/>
                </a:lnTo>
                <a:lnTo>
                  <a:pt x="401" y="330"/>
                </a:lnTo>
                <a:lnTo>
                  <a:pt x="393" y="330"/>
                </a:lnTo>
                <a:lnTo>
                  <a:pt x="393" y="320"/>
                </a:lnTo>
                <a:lnTo>
                  <a:pt x="393" y="330"/>
                </a:lnTo>
                <a:lnTo>
                  <a:pt x="393" y="320"/>
                </a:lnTo>
                <a:lnTo>
                  <a:pt x="384" y="320"/>
                </a:lnTo>
                <a:lnTo>
                  <a:pt x="376" y="320"/>
                </a:lnTo>
                <a:lnTo>
                  <a:pt x="367" y="320"/>
                </a:lnTo>
                <a:lnTo>
                  <a:pt x="359" y="320"/>
                </a:lnTo>
                <a:lnTo>
                  <a:pt x="350" y="320"/>
                </a:lnTo>
                <a:lnTo>
                  <a:pt x="342" y="320"/>
                </a:lnTo>
                <a:lnTo>
                  <a:pt x="342" y="330"/>
                </a:lnTo>
                <a:lnTo>
                  <a:pt x="342" y="320"/>
                </a:lnTo>
                <a:lnTo>
                  <a:pt x="342" y="330"/>
                </a:lnTo>
                <a:lnTo>
                  <a:pt x="333" y="330"/>
                </a:lnTo>
                <a:lnTo>
                  <a:pt x="333" y="320"/>
                </a:lnTo>
                <a:lnTo>
                  <a:pt x="333" y="330"/>
                </a:lnTo>
                <a:lnTo>
                  <a:pt x="325" y="330"/>
                </a:lnTo>
                <a:lnTo>
                  <a:pt x="325" y="339"/>
                </a:lnTo>
                <a:lnTo>
                  <a:pt x="325" y="330"/>
                </a:lnTo>
                <a:lnTo>
                  <a:pt x="325" y="339"/>
                </a:lnTo>
                <a:lnTo>
                  <a:pt x="316" y="339"/>
                </a:lnTo>
                <a:lnTo>
                  <a:pt x="316" y="349"/>
                </a:lnTo>
                <a:lnTo>
                  <a:pt x="308" y="349"/>
                </a:lnTo>
                <a:lnTo>
                  <a:pt x="308" y="339"/>
                </a:lnTo>
                <a:lnTo>
                  <a:pt x="308" y="349"/>
                </a:lnTo>
                <a:lnTo>
                  <a:pt x="299" y="349"/>
                </a:lnTo>
                <a:lnTo>
                  <a:pt x="299" y="339"/>
                </a:lnTo>
                <a:lnTo>
                  <a:pt x="299" y="349"/>
                </a:lnTo>
                <a:lnTo>
                  <a:pt x="291" y="349"/>
                </a:lnTo>
                <a:lnTo>
                  <a:pt x="282" y="349"/>
                </a:lnTo>
                <a:lnTo>
                  <a:pt x="274" y="349"/>
                </a:lnTo>
                <a:lnTo>
                  <a:pt x="274" y="359"/>
                </a:lnTo>
                <a:lnTo>
                  <a:pt x="265" y="359"/>
                </a:lnTo>
                <a:lnTo>
                  <a:pt x="265" y="349"/>
                </a:lnTo>
                <a:lnTo>
                  <a:pt x="265" y="359"/>
                </a:lnTo>
                <a:lnTo>
                  <a:pt x="256" y="359"/>
                </a:lnTo>
                <a:lnTo>
                  <a:pt x="256" y="349"/>
                </a:lnTo>
                <a:lnTo>
                  <a:pt x="247" y="349"/>
                </a:lnTo>
                <a:lnTo>
                  <a:pt x="239" y="349"/>
                </a:lnTo>
                <a:lnTo>
                  <a:pt x="239" y="339"/>
                </a:lnTo>
                <a:lnTo>
                  <a:pt x="239" y="349"/>
                </a:lnTo>
                <a:lnTo>
                  <a:pt x="230" y="349"/>
                </a:lnTo>
                <a:lnTo>
                  <a:pt x="230" y="339"/>
                </a:lnTo>
                <a:lnTo>
                  <a:pt x="230" y="349"/>
                </a:lnTo>
                <a:lnTo>
                  <a:pt x="222" y="349"/>
                </a:lnTo>
                <a:lnTo>
                  <a:pt x="213" y="349"/>
                </a:lnTo>
                <a:lnTo>
                  <a:pt x="205" y="349"/>
                </a:lnTo>
                <a:lnTo>
                  <a:pt x="196" y="349"/>
                </a:lnTo>
                <a:lnTo>
                  <a:pt x="188" y="349"/>
                </a:lnTo>
                <a:lnTo>
                  <a:pt x="188" y="339"/>
                </a:lnTo>
                <a:lnTo>
                  <a:pt x="188" y="330"/>
                </a:lnTo>
                <a:lnTo>
                  <a:pt x="196" y="330"/>
                </a:lnTo>
                <a:lnTo>
                  <a:pt x="196" y="320"/>
                </a:lnTo>
                <a:lnTo>
                  <a:pt x="196" y="310"/>
                </a:lnTo>
                <a:lnTo>
                  <a:pt x="196" y="301"/>
                </a:lnTo>
                <a:lnTo>
                  <a:pt x="188" y="301"/>
                </a:lnTo>
                <a:lnTo>
                  <a:pt x="188" y="310"/>
                </a:lnTo>
                <a:lnTo>
                  <a:pt x="171" y="310"/>
                </a:lnTo>
                <a:lnTo>
                  <a:pt x="171" y="301"/>
                </a:lnTo>
                <a:lnTo>
                  <a:pt x="171" y="291"/>
                </a:lnTo>
                <a:lnTo>
                  <a:pt x="162" y="291"/>
                </a:lnTo>
                <a:lnTo>
                  <a:pt x="154" y="291"/>
                </a:lnTo>
                <a:lnTo>
                  <a:pt x="145" y="291"/>
                </a:lnTo>
                <a:lnTo>
                  <a:pt x="145" y="301"/>
                </a:lnTo>
                <a:lnTo>
                  <a:pt x="137" y="301"/>
                </a:lnTo>
                <a:lnTo>
                  <a:pt x="137" y="291"/>
                </a:lnTo>
                <a:lnTo>
                  <a:pt x="137" y="281"/>
                </a:lnTo>
                <a:lnTo>
                  <a:pt x="128" y="281"/>
                </a:lnTo>
                <a:lnTo>
                  <a:pt x="128" y="291"/>
                </a:lnTo>
                <a:lnTo>
                  <a:pt x="128" y="281"/>
                </a:lnTo>
                <a:lnTo>
                  <a:pt x="120" y="281"/>
                </a:lnTo>
                <a:lnTo>
                  <a:pt x="120" y="271"/>
                </a:lnTo>
                <a:lnTo>
                  <a:pt x="111" y="271"/>
                </a:lnTo>
                <a:lnTo>
                  <a:pt x="103" y="271"/>
                </a:lnTo>
                <a:lnTo>
                  <a:pt x="94" y="271"/>
                </a:lnTo>
                <a:lnTo>
                  <a:pt x="94" y="262"/>
                </a:lnTo>
                <a:lnTo>
                  <a:pt x="94" y="252"/>
                </a:lnTo>
                <a:lnTo>
                  <a:pt x="86" y="252"/>
                </a:lnTo>
                <a:lnTo>
                  <a:pt x="86" y="242"/>
                </a:lnTo>
                <a:lnTo>
                  <a:pt x="86" y="233"/>
                </a:lnTo>
                <a:lnTo>
                  <a:pt x="77" y="233"/>
                </a:lnTo>
                <a:lnTo>
                  <a:pt x="77" y="223"/>
                </a:lnTo>
                <a:lnTo>
                  <a:pt x="77" y="213"/>
                </a:lnTo>
                <a:lnTo>
                  <a:pt x="69" y="213"/>
                </a:lnTo>
                <a:lnTo>
                  <a:pt x="69" y="204"/>
                </a:lnTo>
                <a:lnTo>
                  <a:pt x="77" y="204"/>
                </a:lnTo>
                <a:lnTo>
                  <a:pt x="77" y="194"/>
                </a:lnTo>
                <a:lnTo>
                  <a:pt x="77" y="204"/>
                </a:lnTo>
                <a:lnTo>
                  <a:pt x="77" y="194"/>
                </a:lnTo>
                <a:lnTo>
                  <a:pt x="69" y="194"/>
                </a:lnTo>
                <a:lnTo>
                  <a:pt x="77" y="194"/>
                </a:lnTo>
                <a:lnTo>
                  <a:pt x="77" y="184"/>
                </a:lnTo>
                <a:lnTo>
                  <a:pt x="69" y="184"/>
                </a:lnTo>
                <a:lnTo>
                  <a:pt x="60" y="184"/>
                </a:lnTo>
                <a:lnTo>
                  <a:pt x="69" y="184"/>
                </a:lnTo>
                <a:lnTo>
                  <a:pt x="69" y="174"/>
                </a:lnTo>
                <a:lnTo>
                  <a:pt x="77" y="174"/>
                </a:lnTo>
                <a:lnTo>
                  <a:pt x="77" y="165"/>
                </a:lnTo>
                <a:lnTo>
                  <a:pt x="77" y="155"/>
                </a:lnTo>
                <a:lnTo>
                  <a:pt x="77" y="145"/>
                </a:lnTo>
                <a:lnTo>
                  <a:pt x="77" y="136"/>
                </a:lnTo>
                <a:lnTo>
                  <a:pt x="77" y="126"/>
                </a:lnTo>
                <a:lnTo>
                  <a:pt x="69" y="126"/>
                </a:lnTo>
                <a:lnTo>
                  <a:pt x="69" y="116"/>
                </a:lnTo>
                <a:lnTo>
                  <a:pt x="60" y="116"/>
                </a:lnTo>
                <a:lnTo>
                  <a:pt x="60" y="126"/>
                </a:lnTo>
                <a:lnTo>
                  <a:pt x="52" y="126"/>
                </a:lnTo>
                <a:lnTo>
                  <a:pt x="43" y="126"/>
                </a:lnTo>
                <a:lnTo>
                  <a:pt x="43" y="136"/>
                </a:lnTo>
                <a:lnTo>
                  <a:pt x="34" y="136"/>
                </a:lnTo>
                <a:lnTo>
                  <a:pt x="26" y="136"/>
                </a:lnTo>
                <a:lnTo>
                  <a:pt x="26" y="126"/>
                </a:lnTo>
                <a:lnTo>
                  <a:pt x="17" y="126"/>
                </a:lnTo>
                <a:lnTo>
                  <a:pt x="17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0" y="97"/>
                </a:lnTo>
                <a:lnTo>
                  <a:pt x="0" y="87"/>
                </a:lnTo>
                <a:lnTo>
                  <a:pt x="9" y="87"/>
                </a:lnTo>
                <a:lnTo>
                  <a:pt x="9" y="77"/>
                </a:lnTo>
                <a:lnTo>
                  <a:pt x="9" y="68"/>
                </a:lnTo>
                <a:lnTo>
                  <a:pt x="17" y="6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2" y="39"/>
                </a:lnTo>
                <a:lnTo>
                  <a:pt x="52" y="29"/>
                </a:lnTo>
                <a:lnTo>
                  <a:pt x="52" y="19"/>
                </a:lnTo>
                <a:lnTo>
                  <a:pt x="60" y="19"/>
                </a:lnTo>
                <a:lnTo>
                  <a:pt x="60" y="10"/>
                </a:lnTo>
                <a:lnTo>
                  <a:pt x="69" y="10"/>
                </a:lnTo>
                <a:lnTo>
                  <a:pt x="69" y="19"/>
                </a:lnTo>
                <a:lnTo>
                  <a:pt x="77" y="29"/>
                </a:lnTo>
                <a:lnTo>
                  <a:pt x="77" y="19"/>
                </a:lnTo>
                <a:lnTo>
                  <a:pt x="77" y="10"/>
                </a:lnTo>
                <a:lnTo>
                  <a:pt x="86" y="10"/>
                </a:lnTo>
                <a:lnTo>
                  <a:pt x="86" y="0"/>
                </a:lnTo>
                <a:lnTo>
                  <a:pt x="94" y="0"/>
                </a:lnTo>
                <a:lnTo>
                  <a:pt x="103" y="0"/>
                </a:lnTo>
                <a:lnTo>
                  <a:pt x="103" y="10"/>
                </a:lnTo>
                <a:lnTo>
                  <a:pt x="103" y="0"/>
                </a:lnTo>
                <a:lnTo>
                  <a:pt x="103" y="10"/>
                </a:lnTo>
                <a:lnTo>
                  <a:pt x="111" y="10"/>
                </a:lnTo>
                <a:lnTo>
                  <a:pt x="120" y="10"/>
                </a:lnTo>
                <a:lnTo>
                  <a:pt x="128" y="1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45" y="10"/>
                </a:lnTo>
                <a:lnTo>
                  <a:pt x="137" y="10"/>
                </a:lnTo>
                <a:lnTo>
                  <a:pt x="137" y="19"/>
                </a:lnTo>
                <a:lnTo>
                  <a:pt x="137" y="29"/>
                </a:lnTo>
                <a:lnTo>
                  <a:pt x="137" y="39"/>
                </a:lnTo>
                <a:lnTo>
                  <a:pt x="137" y="48"/>
                </a:lnTo>
                <a:lnTo>
                  <a:pt x="128" y="48"/>
                </a:lnTo>
                <a:lnTo>
                  <a:pt x="128" y="58"/>
                </a:lnTo>
                <a:lnTo>
                  <a:pt x="120" y="58"/>
                </a:lnTo>
                <a:lnTo>
                  <a:pt x="111" y="58"/>
                </a:lnTo>
                <a:lnTo>
                  <a:pt x="103" y="58"/>
                </a:lnTo>
                <a:lnTo>
                  <a:pt x="94" y="58"/>
                </a:lnTo>
                <a:lnTo>
                  <a:pt x="94" y="68"/>
                </a:lnTo>
                <a:lnTo>
                  <a:pt x="94" y="77"/>
                </a:lnTo>
                <a:lnTo>
                  <a:pt x="94" y="87"/>
                </a:lnTo>
                <a:lnTo>
                  <a:pt x="94" y="97"/>
                </a:lnTo>
                <a:lnTo>
                  <a:pt x="103" y="97"/>
                </a:lnTo>
                <a:lnTo>
                  <a:pt x="111" y="97"/>
                </a:lnTo>
                <a:lnTo>
                  <a:pt x="120" y="97"/>
                </a:lnTo>
                <a:lnTo>
                  <a:pt x="120" y="87"/>
                </a:lnTo>
                <a:lnTo>
                  <a:pt x="120" y="77"/>
                </a:lnTo>
                <a:lnTo>
                  <a:pt x="128" y="77"/>
                </a:lnTo>
                <a:lnTo>
                  <a:pt x="137" y="77"/>
                </a:lnTo>
                <a:lnTo>
                  <a:pt x="137" y="68"/>
                </a:lnTo>
                <a:lnTo>
                  <a:pt x="145" y="68"/>
                </a:lnTo>
                <a:lnTo>
                  <a:pt x="154" y="68"/>
                </a:lnTo>
                <a:lnTo>
                  <a:pt x="154" y="58"/>
                </a:lnTo>
                <a:lnTo>
                  <a:pt x="154" y="68"/>
                </a:lnTo>
                <a:lnTo>
                  <a:pt x="162" y="68"/>
                </a:lnTo>
                <a:lnTo>
                  <a:pt x="154" y="68"/>
                </a:lnTo>
                <a:lnTo>
                  <a:pt x="154" y="77"/>
                </a:lnTo>
                <a:lnTo>
                  <a:pt x="162" y="77"/>
                </a:lnTo>
                <a:lnTo>
                  <a:pt x="162" y="87"/>
                </a:lnTo>
                <a:lnTo>
                  <a:pt x="154" y="87"/>
                </a:lnTo>
                <a:lnTo>
                  <a:pt x="154" y="97"/>
                </a:lnTo>
                <a:lnTo>
                  <a:pt x="154" y="107"/>
                </a:lnTo>
                <a:lnTo>
                  <a:pt x="154" y="116"/>
                </a:lnTo>
                <a:lnTo>
                  <a:pt x="162" y="116"/>
                </a:lnTo>
                <a:lnTo>
                  <a:pt x="162" y="126"/>
                </a:lnTo>
                <a:lnTo>
                  <a:pt x="162" y="13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17"/>
          <p:cNvSpPr/>
          <p:nvPr/>
        </p:nvSpPr>
        <p:spPr>
          <a:xfrm>
            <a:off x="6246720" y="1455840"/>
            <a:ext cx="379440" cy="479160"/>
          </a:xfrm>
          <a:custGeom>
            <a:avLst/>
            <a:gdLst>
              <a:gd name="textAreaLeft" fmla="*/ 0 w 379440"/>
              <a:gd name="textAreaRight" fmla="*/ 379800 w 37944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239" h="302">
                <a:moveTo>
                  <a:pt x="204" y="165"/>
                </a:moveTo>
                <a:lnTo>
                  <a:pt x="204" y="155"/>
                </a:lnTo>
                <a:lnTo>
                  <a:pt x="212" y="155"/>
                </a:lnTo>
                <a:lnTo>
                  <a:pt x="212" y="145"/>
                </a:lnTo>
                <a:lnTo>
                  <a:pt x="204" y="145"/>
                </a:lnTo>
                <a:lnTo>
                  <a:pt x="204" y="155"/>
                </a:lnTo>
                <a:lnTo>
                  <a:pt x="204" y="145"/>
                </a:lnTo>
                <a:lnTo>
                  <a:pt x="212" y="145"/>
                </a:lnTo>
                <a:lnTo>
                  <a:pt x="221" y="145"/>
                </a:lnTo>
                <a:lnTo>
                  <a:pt x="221" y="136"/>
                </a:lnTo>
                <a:lnTo>
                  <a:pt x="221" y="126"/>
                </a:lnTo>
                <a:lnTo>
                  <a:pt x="229" y="136"/>
                </a:lnTo>
                <a:lnTo>
                  <a:pt x="229" y="126"/>
                </a:lnTo>
                <a:lnTo>
                  <a:pt x="238" y="126"/>
                </a:lnTo>
                <a:lnTo>
                  <a:pt x="238" y="116"/>
                </a:lnTo>
                <a:lnTo>
                  <a:pt x="238" y="126"/>
                </a:lnTo>
                <a:lnTo>
                  <a:pt x="238" y="116"/>
                </a:lnTo>
                <a:lnTo>
                  <a:pt x="229" y="116"/>
                </a:lnTo>
                <a:lnTo>
                  <a:pt x="221" y="116"/>
                </a:lnTo>
                <a:lnTo>
                  <a:pt x="221" y="126"/>
                </a:lnTo>
                <a:lnTo>
                  <a:pt x="212" y="126"/>
                </a:lnTo>
                <a:lnTo>
                  <a:pt x="204" y="126"/>
                </a:lnTo>
                <a:lnTo>
                  <a:pt x="212" y="126"/>
                </a:lnTo>
                <a:lnTo>
                  <a:pt x="204" y="126"/>
                </a:lnTo>
                <a:lnTo>
                  <a:pt x="204" y="116"/>
                </a:lnTo>
                <a:lnTo>
                  <a:pt x="204" y="126"/>
                </a:lnTo>
                <a:lnTo>
                  <a:pt x="204" y="116"/>
                </a:lnTo>
                <a:lnTo>
                  <a:pt x="204" y="107"/>
                </a:lnTo>
                <a:lnTo>
                  <a:pt x="204" y="116"/>
                </a:lnTo>
                <a:lnTo>
                  <a:pt x="204" y="107"/>
                </a:lnTo>
                <a:lnTo>
                  <a:pt x="212" y="107"/>
                </a:lnTo>
                <a:lnTo>
                  <a:pt x="221" y="107"/>
                </a:lnTo>
                <a:lnTo>
                  <a:pt x="212" y="107"/>
                </a:lnTo>
                <a:lnTo>
                  <a:pt x="212" y="97"/>
                </a:lnTo>
                <a:lnTo>
                  <a:pt x="204" y="97"/>
                </a:lnTo>
                <a:lnTo>
                  <a:pt x="212" y="97"/>
                </a:lnTo>
                <a:lnTo>
                  <a:pt x="204" y="97"/>
                </a:lnTo>
                <a:lnTo>
                  <a:pt x="204" y="87"/>
                </a:lnTo>
                <a:lnTo>
                  <a:pt x="195" y="87"/>
                </a:lnTo>
                <a:lnTo>
                  <a:pt x="195" y="77"/>
                </a:lnTo>
                <a:lnTo>
                  <a:pt x="204" y="77"/>
                </a:lnTo>
                <a:lnTo>
                  <a:pt x="204" y="68"/>
                </a:lnTo>
                <a:lnTo>
                  <a:pt x="212" y="68"/>
                </a:lnTo>
                <a:lnTo>
                  <a:pt x="212" y="58"/>
                </a:lnTo>
                <a:lnTo>
                  <a:pt x="204" y="58"/>
                </a:lnTo>
                <a:lnTo>
                  <a:pt x="212" y="58"/>
                </a:lnTo>
                <a:lnTo>
                  <a:pt x="204" y="58"/>
                </a:lnTo>
                <a:lnTo>
                  <a:pt x="195" y="58"/>
                </a:lnTo>
                <a:lnTo>
                  <a:pt x="204" y="58"/>
                </a:lnTo>
                <a:lnTo>
                  <a:pt x="204" y="48"/>
                </a:lnTo>
                <a:lnTo>
                  <a:pt x="195" y="48"/>
                </a:lnTo>
                <a:lnTo>
                  <a:pt x="187" y="48"/>
                </a:lnTo>
                <a:lnTo>
                  <a:pt x="178" y="48"/>
                </a:lnTo>
                <a:lnTo>
                  <a:pt x="170" y="48"/>
                </a:lnTo>
                <a:lnTo>
                  <a:pt x="161" y="48"/>
                </a:lnTo>
                <a:lnTo>
                  <a:pt x="153" y="48"/>
                </a:lnTo>
                <a:lnTo>
                  <a:pt x="153" y="39"/>
                </a:lnTo>
                <a:lnTo>
                  <a:pt x="144" y="39"/>
                </a:lnTo>
                <a:lnTo>
                  <a:pt x="153" y="3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36" y="29"/>
                </a:lnTo>
                <a:lnTo>
                  <a:pt x="136" y="19"/>
                </a:lnTo>
                <a:lnTo>
                  <a:pt x="127" y="19"/>
                </a:lnTo>
                <a:lnTo>
                  <a:pt x="127" y="29"/>
                </a:lnTo>
                <a:lnTo>
                  <a:pt x="127" y="19"/>
                </a:lnTo>
                <a:lnTo>
                  <a:pt x="127" y="29"/>
                </a:lnTo>
                <a:lnTo>
                  <a:pt x="119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19"/>
                </a:lnTo>
                <a:lnTo>
                  <a:pt x="119" y="29"/>
                </a:lnTo>
                <a:lnTo>
                  <a:pt x="119" y="19"/>
                </a:lnTo>
                <a:lnTo>
                  <a:pt x="110" y="19"/>
                </a:lnTo>
                <a:lnTo>
                  <a:pt x="110" y="29"/>
                </a:lnTo>
                <a:lnTo>
                  <a:pt x="102" y="29"/>
                </a:lnTo>
                <a:lnTo>
                  <a:pt x="102" y="19"/>
                </a:lnTo>
                <a:lnTo>
                  <a:pt x="102" y="29"/>
                </a:lnTo>
                <a:lnTo>
                  <a:pt x="102" y="19"/>
                </a:lnTo>
                <a:lnTo>
                  <a:pt x="93" y="19"/>
                </a:lnTo>
                <a:lnTo>
                  <a:pt x="93" y="10"/>
                </a:lnTo>
                <a:lnTo>
                  <a:pt x="85" y="10"/>
                </a:lnTo>
                <a:lnTo>
                  <a:pt x="93" y="10"/>
                </a:lnTo>
                <a:lnTo>
                  <a:pt x="85" y="10"/>
                </a:lnTo>
                <a:lnTo>
                  <a:pt x="76" y="10"/>
                </a:lnTo>
                <a:lnTo>
                  <a:pt x="76" y="0"/>
                </a:lnTo>
                <a:lnTo>
                  <a:pt x="68" y="0"/>
                </a:lnTo>
                <a:lnTo>
                  <a:pt x="68" y="10"/>
                </a:lnTo>
                <a:lnTo>
                  <a:pt x="68" y="19"/>
                </a:lnTo>
                <a:lnTo>
                  <a:pt x="59" y="19"/>
                </a:lnTo>
                <a:lnTo>
                  <a:pt x="59" y="29"/>
                </a:lnTo>
                <a:lnTo>
                  <a:pt x="51" y="29"/>
                </a:lnTo>
                <a:lnTo>
                  <a:pt x="42" y="29"/>
                </a:lnTo>
                <a:lnTo>
                  <a:pt x="34" y="29"/>
                </a:lnTo>
                <a:lnTo>
                  <a:pt x="25" y="29"/>
                </a:lnTo>
                <a:lnTo>
                  <a:pt x="17" y="29"/>
                </a:lnTo>
                <a:lnTo>
                  <a:pt x="8" y="29"/>
                </a:lnTo>
                <a:lnTo>
                  <a:pt x="8" y="39"/>
                </a:lnTo>
                <a:lnTo>
                  <a:pt x="8" y="48"/>
                </a:lnTo>
                <a:lnTo>
                  <a:pt x="8" y="58"/>
                </a:lnTo>
                <a:lnTo>
                  <a:pt x="0" y="58"/>
                </a:lnTo>
                <a:lnTo>
                  <a:pt x="8" y="58"/>
                </a:lnTo>
                <a:lnTo>
                  <a:pt x="8" y="68"/>
                </a:lnTo>
                <a:lnTo>
                  <a:pt x="8" y="58"/>
                </a:lnTo>
                <a:lnTo>
                  <a:pt x="17" y="5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42" y="68"/>
                </a:lnTo>
                <a:lnTo>
                  <a:pt x="42" y="77"/>
                </a:lnTo>
                <a:lnTo>
                  <a:pt x="34" y="77"/>
                </a:lnTo>
                <a:lnTo>
                  <a:pt x="42" y="77"/>
                </a:lnTo>
                <a:lnTo>
                  <a:pt x="42" y="87"/>
                </a:lnTo>
                <a:lnTo>
                  <a:pt x="51" y="87"/>
                </a:lnTo>
                <a:lnTo>
                  <a:pt x="51" y="97"/>
                </a:lnTo>
                <a:lnTo>
                  <a:pt x="51" y="107"/>
                </a:lnTo>
                <a:lnTo>
                  <a:pt x="59" y="107"/>
                </a:lnTo>
                <a:lnTo>
                  <a:pt x="59" y="97"/>
                </a:lnTo>
                <a:lnTo>
                  <a:pt x="59" y="107"/>
                </a:lnTo>
                <a:lnTo>
                  <a:pt x="59" y="116"/>
                </a:lnTo>
                <a:lnTo>
                  <a:pt x="51" y="116"/>
                </a:lnTo>
                <a:lnTo>
                  <a:pt x="59" y="116"/>
                </a:lnTo>
                <a:lnTo>
                  <a:pt x="51" y="116"/>
                </a:lnTo>
                <a:lnTo>
                  <a:pt x="51" y="126"/>
                </a:lnTo>
                <a:lnTo>
                  <a:pt x="59" y="126"/>
                </a:lnTo>
                <a:lnTo>
                  <a:pt x="51" y="126"/>
                </a:lnTo>
                <a:lnTo>
                  <a:pt x="51" y="136"/>
                </a:lnTo>
                <a:lnTo>
                  <a:pt x="51" y="126"/>
                </a:lnTo>
                <a:lnTo>
                  <a:pt x="51" y="136"/>
                </a:lnTo>
                <a:lnTo>
                  <a:pt x="51" y="145"/>
                </a:lnTo>
                <a:lnTo>
                  <a:pt x="51" y="155"/>
                </a:lnTo>
                <a:lnTo>
                  <a:pt x="59" y="155"/>
                </a:lnTo>
                <a:lnTo>
                  <a:pt x="59" y="145"/>
                </a:lnTo>
                <a:lnTo>
                  <a:pt x="59" y="155"/>
                </a:lnTo>
                <a:lnTo>
                  <a:pt x="51" y="155"/>
                </a:lnTo>
                <a:lnTo>
                  <a:pt x="51" y="165"/>
                </a:lnTo>
                <a:lnTo>
                  <a:pt x="42" y="165"/>
                </a:lnTo>
                <a:lnTo>
                  <a:pt x="42" y="174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34" y="194"/>
                </a:lnTo>
                <a:lnTo>
                  <a:pt x="42" y="194"/>
                </a:lnTo>
                <a:lnTo>
                  <a:pt x="42" y="204"/>
                </a:lnTo>
                <a:lnTo>
                  <a:pt x="42" y="213"/>
                </a:lnTo>
                <a:lnTo>
                  <a:pt x="51" y="223"/>
                </a:lnTo>
                <a:lnTo>
                  <a:pt x="51" y="233"/>
                </a:lnTo>
                <a:lnTo>
                  <a:pt x="59" y="233"/>
                </a:lnTo>
                <a:lnTo>
                  <a:pt x="59" y="242"/>
                </a:lnTo>
                <a:lnTo>
                  <a:pt x="68" y="242"/>
                </a:lnTo>
                <a:lnTo>
                  <a:pt x="68" y="252"/>
                </a:lnTo>
                <a:lnTo>
                  <a:pt x="76" y="252"/>
                </a:lnTo>
                <a:lnTo>
                  <a:pt x="76" y="262"/>
                </a:lnTo>
                <a:lnTo>
                  <a:pt x="76" y="271"/>
                </a:lnTo>
                <a:lnTo>
                  <a:pt x="76" y="262"/>
                </a:lnTo>
                <a:lnTo>
                  <a:pt x="76" y="271"/>
                </a:lnTo>
                <a:lnTo>
                  <a:pt x="85" y="271"/>
                </a:lnTo>
                <a:lnTo>
                  <a:pt x="76" y="271"/>
                </a:lnTo>
                <a:lnTo>
                  <a:pt x="76" y="281"/>
                </a:lnTo>
                <a:lnTo>
                  <a:pt x="85" y="281"/>
                </a:lnTo>
                <a:lnTo>
                  <a:pt x="85" y="291"/>
                </a:lnTo>
                <a:lnTo>
                  <a:pt x="85" y="281"/>
                </a:lnTo>
                <a:lnTo>
                  <a:pt x="85" y="291"/>
                </a:lnTo>
                <a:lnTo>
                  <a:pt x="93" y="291"/>
                </a:lnTo>
                <a:lnTo>
                  <a:pt x="93" y="301"/>
                </a:lnTo>
                <a:lnTo>
                  <a:pt x="102" y="301"/>
                </a:lnTo>
                <a:lnTo>
                  <a:pt x="102" y="291"/>
                </a:lnTo>
                <a:lnTo>
                  <a:pt x="110" y="291"/>
                </a:lnTo>
                <a:lnTo>
                  <a:pt x="110" y="281"/>
                </a:lnTo>
                <a:lnTo>
                  <a:pt x="110" y="271"/>
                </a:lnTo>
                <a:lnTo>
                  <a:pt x="110" y="262"/>
                </a:lnTo>
                <a:lnTo>
                  <a:pt x="119" y="262"/>
                </a:lnTo>
                <a:lnTo>
                  <a:pt x="119" y="252"/>
                </a:lnTo>
                <a:lnTo>
                  <a:pt x="119" y="242"/>
                </a:lnTo>
                <a:lnTo>
                  <a:pt x="127" y="242"/>
                </a:lnTo>
                <a:lnTo>
                  <a:pt x="127" y="233"/>
                </a:lnTo>
                <a:lnTo>
                  <a:pt x="127" y="223"/>
                </a:lnTo>
                <a:lnTo>
                  <a:pt x="136" y="223"/>
                </a:lnTo>
                <a:lnTo>
                  <a:pt x="144" y="223"/>
                </a:lnTo>
                <a:lnTo>
                  <a:pt x="136" y="223"/>
                </a:lnTo>
                <a:lnTo>
                  <a:pt x="144" y="223"/>
                </a:lnTo>
                <a:lnTo>
                  <a:pt x="144" y="213"/>
                </a:lnTo>
                <a:lnTo>
                  <a:pt x="153" y="213"/>
                </a:lnTo>
                <a:lnTo>
                  <a:pt x="161" y="213"/>
                </a:lnTo>
                <a:lnTo>
                  <a:pt x="161" y="204"/>
                </a:lnTo>
                <a:lnTo>
                  <a:pt x="161" y="194"/>
                </a:lnTo>
                <a:lnTo>
                  <a:pt x="153" y="194"/>
                </a:lnTo>
                <a:lnTo>
                  <a:pt x="153" y="184"/>
                </a:lnTo>
                <a:lnTo>
                  <a:pt x="153" y="174"/>
                </a:lnTo>
                <a:lnTo>
                  <a:pt x="161" y="17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8" y="174"/>
                </a:lnTo>
                <a:lnTo>
                  <a:pt x="178" y="184"/>
                </a:lnTo>
                <a:lnTo>
                  <a:pt x="187" y="184"/>
                </a:lnTo>
                <a:lnTo>
                  <a:pt x="187" y="174"/>
                </a:lnTo>
                <a:lnTo>
                  <a:pt x="187" y="165"/>
                </a:lnTo>
                <a:lnTo>
                  <a:pt x="195" y="165"/>
                </a:lnTo>
                <a:lnTo>
                  <a:pt x="204" y="165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Freeform 18"/>
          <p:cNvSpPr/>
          <p:nvPr/>
        </p:nvSpPr>
        <p:spPr>
          <a:xfrm>
            <a:off x="6437160" y="1116000"/>
            <a:ext cx="1113120" cy="1117440"/>
          </a:xfrm>
          <a:custGeom>
            <a:avLst/>
            <a:gdLst>
              <a:gd name="textAreaLeft" fmla="*/ 0 w 1113120"/>
              <a:gd name="textAreaRight" fmla="*/ 1113480 w 111312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701" h="704">
                <a:moveTo>
                  <a:pt x="295" y="327"/>
                </a:moveTo>
                <a:lnTo>
                  <a:pt x="295" y="318"/>
                </a:lnTo>
                <a:lnTo>
                  <a:pt x="303" y="318"/>
                </a:lnTo>
                <a:lnTo>
                  <a:pt x="303" y="308"/>
                </a:lnTo>
                <a:lnTo>
                  <a:pt x="303" y="298"/>
                </a:lnTo>
                <a:lnTo>
                  <a:pt x="303" y="308"/>
                </a:lnTo>
                <a:lnTo>
                  <a:pt x="312" y="308"/>
                </a:lnTo>
                <a:lnTo>
                  <a:pt x="312" y="298"/>
                </a:lnTo>
                <a:lnTo>
                  <a:pt x="303" y="298"/>
                </a:lnTo>
                <a:lnTo>
                  <a:pt x="312" y="298"/>
                </a:lnTo>
                <a:lnTo>
                  <a:pt x="320" y="298"/>
                </a:lnTo>
                <a:lnTo>
                  <a:pt x="320" y="289"/>
                </a:lnTo>
                <a:lnTo>
                  <a:pt x="320" y="298"/>
                </a:lnTo>
                <a:lnTo>
                  <a:pt x="320" y="289"/>
                </a:lnTo>
                <a:lnTo>
                  <a:pt x="329" y="289"/>
                </a:lnTo>
                <a:lnTo>
                  <a:pt x="329" y="280"/>
                </a:lnTo>
                <a:lnTo>
                  <a:pt x="337" y="280"/>
                </a:lnTo>
                <a:lnTo>
                  <a:pt x="346" y="280"/>
                </a:lnTo>
                <a:lnTo>
                  <a:pt x="346" y="270"/>
                </a:lnTo>
                <a:lnTo>
                  <a:pt x="346" y="260"/>
                </a:lnTo>
                <a:lnTo>
                  <a:pt x="346" y="251"/>
                </a:lnTo>
                <a:lnTo>
                  <a:pt x="354" y="251"/>
                </a:lnTo>
                <a:lnTo>
                  <a:pt x="354" y="241"/>
                </a:lnTo>
                <a:lnTo>
                  <a:pt x="354" y="231"/>
                </a:lnTo>
                <a:lnTo>
                  <a:pt x="354" y="222"/>
                </a:lnTo>
                <a:lnTo>
                  <a:pt x="346" y="222"/>
                </a:lnTo>
                <a:lnTo>
                  <a:pt x="346" y="231"/>
                </a:lnTo>
                <a:lnTo>
                  <a:pt x="329" y="231"/>
                </a:lnTo>
                <a:lnTo>
                  <a:pt x="329" y="222"/>
                </a:lnTo>
                <a:lnTo>
                  <a:pt x="329" y="212"/>
                </a:lnTo>
                <a:lnTo>
                  <a:pt x="320" y="212"/>
                </a:lnTo>
                <a:lnTo>
                  <a:pt x="312" y="212"/>
                </a:lnTo>
                <a:lnTo>
                  <a:pt x="303" y="212"/>
                </a:lnTo>
                <a:lnTo>
                  <a:pt x="303" y="222"/>
                </a:lnTo>
                <a:lnTo>
                  <a:pt x="295" y="222"/>
                </a:lnTo>
                <a:lnTo>
                  <a:pt x="295" y="212"/>
                </a:lnTo>
                <a:lnTo>
                  <a:pt x="295" y="202"/>
                </a:lnTo>
                <a:lnTo>
                  <a:pt x="287" y="202"/>
                </a:lnTo>
                <a:lnTo>
                  <a:pt x="287" y="212"/>
                </a:lnTo>
                <a:lnTo>
                  <a:pt x="287" y="202"/>
                </a:lnTo>
                <a:lnTo>
                  <a:pt x="279" y="202"/>
                </a:lnTo>
                <a:lnTo>
                  <a:pt x="279" y="192"/>
                </a:lnTo>
                <a:lnTo>
                  <a:pt x="270" y="192"/>
                </a:lnTo>
                <a:lnTo>
                  <a:pt x="262" y="192"/>
                </a:lnTo>
                <a:lnTo>
                  <a:pt x="253" y="192"/>
                </a:lnTo>
                <a:lnTo>
                  <a:pt x="253" y="183"/>
                </a:lnTo>
                <a:lnTo>
                  <a:pt x="253" y="174"/>
                </a:lnTo>
                <a:lnTo>
                  <a:pt x="245" y="174"/>
                </a:lnTo>
                <a:lnTo>
                  <a:pt x="245" y="164"/>
                </a:lnTo>
                <a:lnTo>
                  <a:pt x="245" y="155"/>
                </a:lnTo>
                <a:lnTo>
                  <a:pt x="236" y="155"/>
                </a:lnTo>
                <a:lnTo>
                  <a:pt x="236" y="145"/>
                </a:lnTo>
                <a:lnTo>
                  <a:pt x="236" y="135"/>
                </a:lnTo>
                <a:lnTo>
                  <a:pt x="228" y="135"/>
                </a:lnTo>
                <a:lnTo>
                  <a:pt x="228" y="126"/>
                </a:lnTo>
                <a:lnTo>
                  <a:pt x="236" y="126"/>
                </a:lnTo>
                <a:lnTo>
                  <a:pt x="236" y="116"/>
                </a:lnTo>
                <a:lnTo>
                  <a:pt x="236" y="126"/>
                </a:lnTo>
                <a:lnTo>
                  <a:pt x="236" y="116"/>
                </a:lnTo>
                <a:lnTo>
                  <a:pt x="228" y="116"/>
                </a:lnTo>
                <a:lnTo>
                  <a:pt x="236" y="116"/>
                </a:lnTo>
                <a:lnTo>
                  <a:pt x="236" y="106"/>
                </a:lnTo>
                <a:lnTo>
                  <a:pt x="228" y="106"/>
                </a:lnTo>
                <a:lnTo>
                  <a:pt x="219" y="106"/>
                </a:lnTo>
                <a:lnTo>
                  <a:pt x="228" y="106"/>
                </a:lnTo>
                <a:lnTo>
                  <a:pt x="228" y="96"/>
                </a:lnTo>
                <a:lnTo>
                  <a:pt x="236" y="96"/>
                </a:lnTo>
                <a:lnTo>
                  <a:pt x="236" y="87"/>
                </a:lnTo>
                <a:lnTo>
                  <a:pt x="236" y="77"/>
                </a:lnTo>
                <a:lnTo>
                  <a:pt x="236" y="67"/>
                </a:lnTo>
                <a:lnTo>
                  <a:pt x="236" y="59"/>
                </a:lnTo>
                <a:lnTo>
                  <a:pt x="236" y="49"/>
                </a:lnTo>
                <a:lnTo>
                  <a:pt x="228" y="49"/>
                </a:lnTo>
                <a:lnTo>
                  <a:pt x="228" y="39"/>
                </a:lnTo>
                <a:lnTo>
                  <a:pt x="219" y="39"/>
                </a:lnTo>
                <a:lnTo>
                  <a:pt x="219" y="49"/>
                </a:lnTo>
                <a:lnTo>
                  <a:pt x="211" y="49"/>
                </a:lnTo>
                <a:lnTo>
                  <a:pt x="202" y="49"/>
                </a:lnTo>
                <a:lnTo>
                  <a:pt x="202" y="59"/>
                </a:lnTo>
                <a:lnTo>
                  <a:pt x="193" y="59"/>
                </a:lnTo>
                <a:lnTo>
                  <a:pt x="185" y="59"/>
                </a:lnTo>
                <a:lnTo>
                  <a:pt x="185" y="49"/>
                </a:lnTo>
                <a:lnTo>
                  <a:pt x="176" y="49"/>
                </a:lnTo>
                <a:lnTo>
                  <a:pt x="176" y="39"/>
                </a:lnTo>
                <a:lnTo>
                  <a:pt x="169" y="39"/>
                </a:lnTo>
                <a:lnTo>
                  <a:pt x="169" y="30"/>
                </a:lnTo>
                <a:lnTo>
                  <a:pt x="169" y="20"/>
                </a:lnTo>
                <a:lnTo>
                  <a:pt x="160" y="20"/>
                </a:lnTo>
                <a:lnTo>
                  <a:pt x="160" y="10"/>
                </a:lnTo>
                <a:lnTo>
                  <a:pt x="152" y="10"/>
                </a:lnTo>
                <a:lnTo>
                  <a:pt x="152" y="0"/>
                </a:lnTo>
                <a:lnTo>
                  <a:pt x="143" y="0"/>
                </a:lnTo>
                <a:lnTo>
                  <a:pt x="135" y="0"/>
                </a:lnTo>
                <a:lnTo>
                  <a:pt x="135" y="10"/>
                </a:lnTo>
                <a:lnTo>
                  <a:pt x="135" y="20"/>
                </a:lnTo>
                <a:lnTo>
                  <a:pt x="135" y="30"/>
                </a:lnTo>
                <a:lnTo>
                  <a:pt x="126" y="30"/>
                </a:lnTo>
                <a:lnTo>
                  <a:pt x="126" y="39"/>
                </a:lnTo>
                <a:lnTo>
                  <a:pt x="118" y="39"/>
                </a:lnTo>
                <a:lnTo>
                  <a:pt x="118" y="49"/>
                </a:lnTo>
                <a:lnTo>
                  <a:pt x="118" y="59"/>
                </a:lnTo>
                <a:lnTo>
                  <a:pt x="118" y="67"/>
                </a:lnTo>
                <a:lnTo>
                  <a:pt x="109" y="67"/>
                </a:lnTo>
                <a:lnTo>
                  <a:pt x="118" y="67"/>
                </a:lnTo>
                <a:lnTo>
                  <a:pt x="109" y="67"/>
                </a:lnTo>
                <a:lnTo>
                  <a:pt x="109" y="77"/>
                </a:lnTo>
                <a:lnTo>
                  <a:pt x="109" y="87"/>
                </a:lnTo>
                <a:lnTo>
                  <a:pt x="118" y="87"/>
                </a:lnTo>
                <a:lnTo>
                  <a:pt x="118" y="96"/>
                </a:lnTo>
                <a:lnTo>
                  <a:pt x="109" y="96"/>
                </a:lnTo>
                <a:lnTo>
                  <a:pt x="109" y="106"/>
                </a:lnTo>
                <a:lnTo>
                  <a:pt x="101" y="106"/>
                </a:lnTo>
                <a:lnTo>
                  <a:pt x="92" y="106"/>
                </a:lnTo>
                <a:lnTo>
                  <a:pt x="92" y="116"/>
                </a:lnTo>
                <a:lnTo>
                  <a:pt x="84" y="116"/>
                </a:lnTo>
                <a:lnTo>
                  <a:pt x="84" y="126"/>
                </a:lnTo>
                <a:lnTo>
                  <a:pt x="75" y="126"/>
                </a:lnTo>
                <a:lnTo>
                  <a:pt x="67" y="126"/>
                </a:lnTo>
                <a:lnTo>
                  <a:pt x="58" y="126"/>
                </a:lnTo>
                <a:lnTo>
                  <a:pt x="51" y="116"/>
                </a:lnTo>
                <a:lnTo>
                  <a:pt x="42" y="116"/>
                </a:lnTo>
                <a:lnTo>
                  <a:pt x="42" y="106"/>
                </a:lnTo>
                <a:lnTo>
                  <a:pt x="34" y="106"/>
                </a:lnTo>
                <a:lnTo>
                  <a:pt x="34" y="96"/>
                </a:lnTo>
                <a:lnTo>
                  <a:pt x="25" y="96"/>
                </a:lnTo>
                <a:lnTo>
                  <a:pt x="25" y="87"/>
                </a:lnTo>
                <a:lnTo>
                  <a:pt x="25" y="96"/>
                </a:lnTo>
                <a:lnTo>
                  <a:pt x="25" y="106"/>
                </a:lnTo>
                <a:lnTo>
                  <a:pt x="25" y="116"/>
                </a:lnTo>
                <a:lnTo>
                  <a:pt x="17" y="11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0" y="116"/>
                </a:lnTo>
                <a:lnTo>
                  <a:pt x="0" y="126"/>
                </a:lnTo>
                <a:lnTo>
                  <a:pt x="0" y="135"/>
                </a:lnTo>
                <a:lnTo>
                  <a:pt x="8" y="135"/>
                </a:lnTo>
                <a:lnTo>
                  <a:pt x="17" y="126"/>
                </a:lnTo>
                <a:lnTo>
                  <a:pt x="17" y="135"/>
                </a:lnTo>
                <a:lnTo>
                  <a:pt x="25" y="135"/>
                </a:lnTo>
                <a:lnTo>
                  <a:pt x="34" y="135"/>
                </a:lnTo>
                <a:lnTo>
                  <a:pt x="34" y="145"/>
                </a:lnTo>
                <a:lnTo>
                  <a:pt x="42" y="145"/>
                </a:lnTo>
                <a:lnTo>
                  <a:pt x="42" y="155"/>
                </a:lnTo>
                <a:lnTo>
                  <a:pt x="51" y="155"/>
                </a:lnTo>
                <a:lnTo>
                  <a:pt x="58" y="155"/>
                </a:lnTo>
                <a:lnTo>
                  <a:pt x="58" y="164"/>
                </a:lnTo>
                <a:lnTo>
                  <a:pt x="67" y="164"/>
                </a:lnTo>
                <a:lnTo>
                  <a:pt x="67" y="174"/>
                </a:lnTo>
                <a:lnTo>
                  <a:pt x="58" y="174"/>
                </a:lnTo>
                <a:lnTo>
                  <a:pt x="67" y="174"/>
                </a:lnTo>
                <a:lnTo>
                  <a:pt x="67" y="183"/>
                </a:lnTo>
                <a:lnTo>
                  <a:pt x="75" y="183"/>
                </a:lnTo>
                <a:lnTo>
                  <a:pt x="84" y="183"/>
                </a:lnTo>
                <a:lnTo>
                  <a:pt x="84" y="192"/>
                </a:lnTo>
                <a:lnTo>
                  <a:pt x="92" y="192"/>
                </a:lnTo>
                <a:lnTo>
                  <a:pt x="92" y="202"/>
                </a:lnTo>
                <a:lnTo>
                  <a:pt x="101" y="202"/>
                </a:lnTo>
                <a:lnTo>
                  <a:pt x="101" y="212"/>
                </a:lnTo>
                <a:lnTo>
                  <a:pt x="109" y="212"/>
                </a:lnTo>
                <a:lnTo>
                  <a:pt x="118" y="212"/>
                </a:lnTo>
                <a:lnTo>
                  <a:pt x="118" y="222"/>
                </a:lnTo>
                <a:lnTo>
                  <a:pt x="126" y="222"/>
                </a:lnTo>
                <a:lnTo>
                  <a:pt x="135" y="222"/>
                </a:lnTo>
                <a:lnTo>
                  <a:pt x="135" y="231"/>
                </a:lnTo>
                <a:lnTo>
                  <a:pt x="135" y="222"/>
                </a:lnTo>
                <a:lnTo>
                  <a:pt x="135" y="23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52" y="231"/>
                </a:lnTo>
                <a:lnTo>
                  <a:pt x="143" y="231"/>
                </a:lnTo>
                <a:lnTo>
                  <a:pt x="135" y="231"/>
                </a:lnTo>
                <a:lnTo>
                  <a:pt x="126" y="231"/>
                </a:lnTo>
                <a:lnTo>
                  <a:pt x="126" y="241"/>
                </a:lnTo>
                <a:lnTo>
                  <a:pt x="135" y="241"/>
                </a:lnTo>
                <a:lnTo>
                  <a:pt x="143" y="24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69" y="231"/>
                </a:lnTo>
                <a:lnTo>
                  <a:pt x="176" y="231"/>
                </a:lnTo>
                <a:lnTo>
                  <a:pt x="176" y="241"/>
                </a:lnTo>
                <a:lnTo>
                  <a:pt x="185" y="241"/>
                </a:lnTo>
                <a:lnTo>
                  <a:pt x="193" y="241"/>
                </a:lnTo>
                <a:lnTo>
                  <a:pt x="193" y="251"/>
                </a:lnTo>
                <a:lnTo>
                  <a:pt x="193" y="260"/>
                </a:lnTo>
                <a:lnTo>
                  <a:pt x="202" y="260"/>
                </a:lnTo>
                <a:lnTo>
                  <a:pt x="202" y="270"/>
                </a:lnTo>
                <a:lnTo>
                  <a:pt x="211" y="270"/>
                </a:lnTo>
                <a:lnTo>
                  <a:pt x="202" y="270"/>
                </a:lnTo>
                <a:lnTo>
                  <a:pt x="211" y="270"/>
                </a:lnTo>
                <a:lnTo>
                  <a:pt x="211" y="280"/>
                </a:lnTo>
                <a:lnTo>
                  <a:pt x="202" y="280"/>
                </a:lnTo>
                <a:lnTo>
                  <a:pt x="202" y="289"/>
                </a:lnTo>
                <a:lnTo>
                  <a:pt x="193" y="289"/>
                </a:lnTo>
                <a:lnTo>
                  <a:pt x="202" y="289"/>
                </a:lnTo>
                <a:lnTo>
                  <a:pt x="202" y="298"/>
                </a:lnTo>
                <a:lnTo>
                  <a:pt x="211" y="29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1" y="318"/>
                </a:lnTo>
                <a:lnTo>
                  <a:pt x="219" y="318"/>
                </a:lnTo>
                <a:lnTo>
                  <a:pt x="228" y="318"/>
                </a:lnTo>
                <a:lnTo>
                  <a:pt x="228" y="327"/>
                </a:lnTo>
                <a:lnTo>
                  <a:pt x="228" y="337"/>
                </a:lnTo>
                <a:lnTo>
                  <a:pt x="236" y="337"/>
                </a:lnTo>
                <a:lnTo>
                  <a:pt x="236" y="347"/>
                </a:lnTo>
                <a:lnTo>
                  <a:pt x="245" y="347"/>
                </a:lnTo>
                <a:lnTo>
                  <a:pt x="245" y="356"/>
                </a:lnTo>
                <a:lnTo>
                  <a:pt x="245" y="366"/>
                </a:lnTo>
                <a:lnTo>
                  <a:pt x="253" y="366"/>
                </a:lnTo>
                <a:lnTo>
                  <a:pt x="253" y="376"/>
                </a:lnTo>
                <a:lnTo>
                  <a:pt x="253" y="366"/>
                </a:lnTo>
                <a:lnTo>
                  <a:pt x="253" y="376"/>
                </a:lnTo>
                <a:lnTo>
                  <a:pt x="253" y="385"/>
                </a:lnTo>
                <a:lnTo>
                  <a:pt x="253" y="395"/>
                </a:lnTo>
                <a:lnTo>
                  <a:pt x="245" y="395"/>
                </a:lnTo>
                <a:lnTo>
                  <a:pt x="245" y="405"/>
                </a:lnTo>
                <a:lnTo>
                  <a:pt x="236" y="405"/>
                </a:lnTo>
                <a:lnTo>
                  <a:pt x="236" y="414"/>
                </a:lnTo>
                <a:lnTo>
                  <a:pt x="228" y="414"/>
                </a:lnTo>
                <a:lnTo>
                  <a:pt x="228" y="423"/>
                </a:lnTo>
                <a:lnTo>
                  <a:pt x="228" y="433"/>
                </a:lnTo>
                <a:lnTo>
                  <a:pt x="228" y="443"/>
                </a:lnTo>
                <a:lnTo>
                  <a:pt x="228" y="452"/>
                </a:lnTo>
                <a:lnTo>
                  <a:pt x="236" y="452"/>
                </a:lnTo>
                <a:lnTo>
                  <a:pt x="236" y="443"/>
                </a:lnTo>
                <a:lnTo>
                  <a:pt x="236" y="452"/>
                </a:lnTo>
                <a:lnTo>
                  <a:pt x="236" y="462"/>
                </a:lnTo>
                <a:lnTo>
                  <a:pt x="245" y="462"/>
                </a:lnTo>
                <a:lnTo>
                  <a:pt x="245" y="472"/>
                </a:lnTo>
                <a:lnTo>
                  <a:pt x="245" y="462"/>
                </a:lnTo>
                <a:lnTo>
                  <a:pt x="245" y="472"/>
                </a:lnTo>
                <a:lnTo>
                  <a:pt x="253" y="472"/>
                </a:lnTo>
                <a:lnTo>
                  <a:pt x="253" y="481"/>
                </a:lnTo>
                <a:lnTo>
                  <a:pt x="262" y="481"/>
                </a:lnTo>
                <a:lnTo>
                  <a:pt x="253" y="481"/>
                </a:lnTo>
                <a:lnTo>
                  <a:pt x="253" y="491"/>
                </a:lnTo>
                <a:lnTo>
                  <a:pt x="262" y="491"/>
                </a:lnTo>
                <a:lnTo>
                  <a:pt x="262" y="501"/>
                </a:lnTo>
                <a:lnTo>
                  <a:pt x="270" y="501"/>
                </a:lnTo>
                <a:lnTo>
                  <a:pt x="279" y="501"/>
                </a:lnTo>
                <a:lnTo>
                  <a:pt x="279" y="511"/>
                </a:lnTo>
                <a:lnTo>
                  <a:pt x="287" y="511"/>
                </a:lnTo>
                <a:lnTo>
                  <a:pt x="287" y="520"/>
                </a:lnTo>
                <a:lnTo>
                  <a:pt x="295" y="520"/>
                </a:lnTo>
                <a:lnTo>
                  <a:pt x="303" y="529"/>
                </a:lnTo>
                <a:lnTo>
                  <a:pt x="303" y="539"/>
                </a:lnTo>
                <a:lnTo>
                  <a:pt x="312" y="539"/>
                </a:lnTo>
                <a:lnTo>
                  <a:pt x="312" y="529"/>
                </a:lnTo>
                <a:lnTo>
                  <a:pt x="320" y="529"/>
                </a:lnTo>
                <a:lnTo>
                  <a:pt x="329" y="529"/>
                </a:lnTo>
                <a:lnTo>
                  <a:pt x="337" y="529"/>
                </a:lnTo>
                <a:lnTo>
                  <a:pt x="346" y="529"/>
                </a:lnTo>
                <a:lnTo>
                  <a:pt x="354" y="529"/>
                </a:lnTo>
                <a:lnTo>
                  <a:pt x="363" y="529"/>
                </a:lnTo>
                <a:lnTo>
                  <a:pt x="363" y="539"/>
                </a:lnTo>
                <a:lnTo>
                  <a:pt x="371" y="539"/>
                </a:lnTo>
                <a:lnTo>
                  <a:pt x="380" y="539"/>
                </a:lnTo>
                <a:lnTo>
                  <a:pt x="388" y="539"/>
                </a:lnTo>
                <a:lnTo>
                  <a:pt x="388" y="548"/>
                </a:lnTo>
                <a:lnTo>
                  <a:pt x="397" y="548"/>
                </a:lnTo>
                <a:lnTo>
                  <a:pt x="405" y="548"/>
                </a:lnTo>
                <a:lnTo>
                  <a:pt x="413" y="548"/>
                </a:lnTo>
                <a:lnTo>
                  <a:pt x="421" y="548"/>
                </a:lnTo>
                <a:lnTo>
                  <a:pt x="430" y="548"/>
                </a:lnTo>
                <a:lnTo>
                  <a:pt x="430" y="558"/>
                </a:lnTo>
                <a:lnTo>
                  <a:pt x="438" y="558"/>
                </a:lnTo>
                <a:lnTo>
                  <a:pt x="447" y="558"/>
                </a:lnTo>
                <a:lnTo>
                  <a:pt x="455" y="558"/>
                </a:lnTo>
                <a:lnTo>
                  <a:pt x="464" y="558"/>
                </a:lnTo>
                <a:lnTo>
                  <a:pt x="464" y="568"/>
                </a:lnTo>
                <a:lnTo>
                  <a:pt x="472" y="568"/>
                </a:lnTo>
                <a:lnTo>
                  <a:pt x="481" y="568"/>
                </a:lnTo>
                <a:lnTo>
                  <a:pt x="481" y="577"/>
                </a:lnTo>
                <a:lnTo>
                  <a:pt x="489" y="577"/>
                </a:lnTo>
                <a:lnTo>
                  <a:pt x="498" y="577"/>
                </a:lnTo>
                <a:lnTo>
                  <a:pt x="506" y="577"/>
                </a:lnTo>
                <a:lnTo>
                  <a:pt x="506" y="587"/>
                </a:lnTo>
                <a:lnTo>
                  <a:pt x="515" y="587"/>
                </a:lnTo>
                <a:lnTo>
                  <a:pt x="515" y="597"/>
                </a:lnTo>
                <a:lnTo>
                  <a:pt x="515" y="587"/>
                </a:lnTo>
                <a:lnTo>
                  <a:pt x="515" y="597"/>
                </a:lnTo>
                <a:lnTo>
                  <a:pt x="515" y="607"/>
                </a:lnTo>
                <a:lnTo>
                  <a:pt x="515" y="616"/>
                </a:lnTo>
                <a:lnTo>
                  <a:pt x="515" y="607"/>
                </a:lnTo>
                <a:lnTo>
                  <a:pt x="515" y="616"/>
                </a:lnTo>
                <a:lnTo>
                  <a:pt x="523" y="616"/>
                </a:lnTo>
                <a:lnTo>
                  <a:pt x="531" y="616"/>
                </a:lnTo>
                <a:lnTo>
                  <a:pt x="531" y="626"/>
                </a:lnTo>
                <a:lnTo>
                  <a:pt x="523" y="626"/>
                </a:lnTo>
                <a:lnTo>
                  <a:pt x="531" y="626"/>
                </a:lnTo>
                <a:lnTo>
                  <a:pt x="539" y="626"/>
                </a:lnTo>
                <a:lnTo>
                  <a:pt x="539" y="636"/>
                </a:lnTo>
                <a:lnTo>
                  <a:pt x="539" y="626"/>
                </a:lnTo>
                <a:lnTo>
                  <a:pt x="548" y="626"/>
                </a:lnTo>
                <a:lnTo>
                  <a:pt x="556" y="626"/>
                </a:lnTo>
                <a:lnTo>
                  <a:pt x="556" y="636"/>
                </a:lnTo>
                <a:lnTo>
                  <a:pt x="565" y="636"/>
                </a:lnTo>
                <a:lnTo>
                  <a:pt x="573" y="636"/>
                </a:lnTo>
                <a:lnTo>
                  <a:pt x="582" y="644"/>
                </a:lnTo>
                <a:lnTo>
                  <a:pt x="590" y="644"/>
                </a:lnTo>
                <a:lnTo>
                  <a:pt x="599" y="644"/>
                </a:lnTo>
                <a:lnTo>
                  <a:pt x="599" y="654"/>
                </a:lnTo>
                <a:lnTo>
                  <a:pt x="607" y="654"/>
                </a:lnTo>
                <a:lnTo>
                  <a:pt x="616" y="654"/>
                </a:lnTo>
                <a:lnTo>
                  <a:pt x="607" y="654"/>
                </a:lnTo>
                <a:lnTo>
                  <a:pt x="616" y="654"/>
                </a:lnTo>
                <a:lnTo>
                  <a:pt x="624" y="654"/>
                </a:lnTo>
                <a:lnTo>
                  <a:pt x="624" y="664"/>
                </a:lnTo>
                <a:lnTo>
                  <a:pt x="633" y="664"/>
                </a:lnTo>
                <a:lnTo>
                  <a:pt x="641" y="664"/>
                </a:lnTo>
                <a:lnTo>
                  <a:pt x="641" y="673"/>
                </a:lnTo>
                <a:lnTo>
                  <a:pt x="649" y="673"/>
                </a:lnTo>
                <a:lnTo>
                  <a:pt x="649" y="683"/>
                </a:lnTo>
                <a:lnTo>
                  <a:pt x="657" y="683"/>
                </a:lnTo>
                <a:lnTo>
                  <a:pt x="666" y="683"/>
                </a:lnTo>
                <a:lnTo>
                  <a:pt x="666" y="693"/>
                </a:lnTo>
                <a:lnTo>
                  <a:pt x="666" y="683"/>
                </a:lnTo>
                <a:lnTo>
                  <a:pt x="666" y="693"/>
                </a:lnTo>
                <a:lnTo>
                  <a:pt x="674" y="693"/>
                </a:lnTo>
                <a:lnTo>
                  <a:pt x="674" y="703"/>
                </a:lnTo>
                <a:lnTo>
                  <a:pt x="683" y="703"/>
                </a:lnTo>
                <a:lnTo>
                  <a:pt x="692" y="703"/>
                </a:lnTo>
                <a:lnTo>
                  <a:pt x="692" y="693"/>
                </a:lnTo>
                <a:lnTo>
                  <a:pt x="692" y="683"/>
                </a:lnTo>
                <a:lnTo>
                  <a:pt x="692" y="673"/>
                </a:lnTo>
                <a:lnTo>
                  <a:pt x="692" y="664"/>
                </a:lnTo>
                <a:lnTo>
                  <a:pt x="700" y="66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692" y="654"/>
                </a:lnTo>
                <a:lnTo>
                  <a:pt x="692" y="644"/>
                </a:lnTo>
                <a:lnTo>
                  <a:pt x="683" y="644"/>
                </a:lnTo>
                <a:lnTo>
                  <a:pt x="683" y="636"/>
                </a:lnTo>
                <a:lnTo>
                  <a:pt x="674" y="636"/>
                </a:lnTo>
                <a:lnTo>
                  <a:pt x="674" y="626"/>
                </a:lnTo>
                <a:lnTo>
                  <a:pt x="666" y="626"/>
                </a:lnTo>
                <a:lnTo>
                  <a:pt x="674" y="626"/>
                </a:lnTo>
                <a:lnTo>
                  <a:pt x="666" y="626"/>
                </a:lnTo>
                <a:lnTo>
                  <a:pt x="666" y="616"/>
                </a:lnTo>
                <a:lnTo>
                  <a:pt x="666" y="607"/>
                </a:lnTo>
                <a:lnTo>
                  <a:pt x="657" y="607"/>
                </a:lnTo>
                <a:lnTo>
                  <a:pt x="649" y="607"/>
                </a:lnTo>
                <a:lnTo>
                  <a:pt x="649" y="616"/>
                </a:lnTo>
                <a:lnTo>
                  <a:pt x="649" y="626"/>
                </a:lnTo>
                <a:lnTo>
                  <a:pt x="649" y="616"/>
                </a:lnTo>
                <a:lnTo>
                  <a:pt x="641" y="616"/>
                </a:lnTo>
                <a:lnTo>
                  <a:pt x="633" y="616"/>
                </a:lnTo>
                <a:lnTo>
                  <a:pt x="633" y="607"/>
                </a:lnTo>
                <a:lnTo>
                  <a:pt x="624" y="597"/>
                </a:lnTo>
                <a:lnTo>
                  <a:pt x="624" y="587"/>
                </a:lnTo>
                <a:lnTo>
                  <a:pt x="616" y="587"/>
                </a:lnTo>
                <a:lnTo>
                  <a:pt x="607" y="577"/>
                </a:lnTo>
                <a:lnTo>
                  <a:pt x="599" y="577"/>
                </a:lnTo>
                <a:lnTo>
                  <a:pt x="599" y="568"/>
                </a:lnTo>
                <a:lnTo>
                  <a:pt x="590" y="568"/>
                </a:lnTo>
                <a:lnTo>
                  <a:pt x="590" y="558"/>
                </a:lnTo>
                <a:lnTo>
                  <a:pt x="582" y="558"/>
                </a:lnTo>
                <a:lnTo>
                  <a:pt x="582" y="548"/>
                </a:lnTo>
                <a:lnTo>
                  <a:pt x="573" y="548"/>
                </a:lnTo>
                <a:lnTo>
                  <a:pt x="565" y="548"/>
                </a:lnTo>
                <a:lnTo>
                  <a:pt x="565" y="539"/>
                </a:lnTo>
                <a:lnTo>
                  <a:pt x="565" y="529"/>
                </a:lnTo>
                <a:lnTo>
                  <a:pt x="573" y="529"/>
                </a:lnTo>
                <a:lnTo>
                  <a:pt x="573" y="520"/>
                </a:lnTo>
                <a:lnTo>
                  <a:pt x="573" y="511"/>
                </a:lnTo>
                <a:lnTo>
                  <a:pt x="565" y="511"/>
                </a:lnTo>
                <a:lnTo>
                  <a:pt x="565" y="501"/>
                </a:lnTo>
                <a:lnTo>
                  <a:pt x="573" y="501"/>
                </a:lnTo>
                <a:lnTo>
                  <a:pt x="565" y="501"/>
                </a:lnTo>
                <a:lnTo>
                  <a:pt x="556" y="501"/>
                </a:lnTo>
                <a:lnTo>
                  <a:pt x="548" y="501"/>
                </a:lnTo>
                <a:lnTo>
                  <a:pt x="548" y="511"/>
                </a:lnTo>
                <a:lnTo>
                  <a:pt x="539" y="511"/>
                </a:lnTo>
                <a:lnTo>
                  <a:pt x="539" y="501"/>
                </a:lnTo>
                <a:lnTo>
                  <a:pt x="531" y="501"/>
                </a:lnTo>
                <a:lnTo>
                  <a:pt x="531" y="491"/>
                </a:lnTo>
                <a:lnTo>
                  <a:pt x="531" y="481"/>
                </a:lnTo>
                <a:lnTo>
                  <a:pt x="531" y="472"/>
                </a:lnTo>
                <a:lnTo>
                  <a:pt x="523" y="462"/>
                </a:lnTo>
                <a:lnTo>
                  <a:pt x="515" y="462"/>
                </a:lnTo>
                <a:lnTo>
                  <a:pt x="506" y="462"/>
                </a:lnTo>
                <a:lnTo>
                  <a:pt x="506" y="472"/>
                </a:lnTo>
                <a:lnTo>
                  <a:pt x="498" y="472"/>
                </a:lnTo>
                <a:lnTo>
                  <a:pt x="489" y="472"/>
                </a:lnTo>
                <a:lnTo>
                  <a:pt x="489" y="462"/>
                </a:lnTo>
                <a:lnTo>
                  <a:pt x="489" y="472"/>
                </a:lnTo>
                <a:lnTo>
                  <a:pt x="489" y="462"/>
                </a:lnTo>
                <a:lnTo>
                  <a:pt x="481" y="462"/>
                </a:lnTo>
                <a:lnTo>
                  <a:pt x="472" y="443"/>
                </a:lnTo>
                <a:lnTo>
                  <a:pt x="472" y="433"/>
                </a:lnTo>
                <a:lnTo>
                  <a:pt x="472" y="423"/>
                </a:lnTo>
                <a:lnTo>
                  <a:pt x="464" y="423"/>
                </a:lnTo>
                <a:lnTo>
                  <a:pt x="455" y="423"/>
                </a:lnTo>
                <a:lnTo>
                  <a:pt x="455" y="433"/>
                </a:lnTo>
                <a:lnTo>
                  <a:pt x="447" y="433"/>
                </a:lnTo>
                <a:lnTo>
                  <a:pt x="438" y="433"/>
                </a:lnTo>
                <a:lnTo>
                  <a:pt x="438" y="443"/>
                </a:lnTo>
                <a:lnTo>
                  <a:pt x="438" y="452"/>
                </a:lnTo>
                <a:lnTo>
                  <a:pt x="430" y="452"/>
                </a:lnTo>
                <a:lnTo>
                  <a:pt x="430" y="462"/>
                </a:lnTo>
                <a:lnTo>
                  <a:pt x="421" y="462"/>
                </a:lnTo>
                <a:lnTo>
                  <a:pt x="421" y="452"/>
                </a:lnTo>
                <a:lnTo>
                  <a:pt x="421" y="462"/>
                </a:lnTo>
                <a:lnTo>
                  <a:pt x="413" y="462"/>
                </a:lnTo>
                <a:lnTo>
                  <a:pt x="421" y="462"/>
                </a:lnTo>
                <a:lnTo>
                  <a:pt x="413" y="462"/>
                </a:lnTo>
                <a:lnTo>
                  <a:pt x="413" y="45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397" y="462"/>
                </a:lnTo>
                <a:lnTo>
                  <a:pt x="397" y="452"/>
                </a:lnTo>
                <a:lnTo>
                  <a:pt x="397" y="462"/>
                </a:lnTo>
                <a:lnTo>
                  <a:pt x="388" y="462"/>
                </a:lnTo>
                <a:lnTo>
                  <a:pt x="388" y="452"/>
                </a:lnTo>
                <a:lnTo>
                  <a:pt x="388" y="462"/>
                </a:lnTo>
                <a:lnTo>
                  <a:pt x="388" y="472"/>
                </a:lnTo>
                <a:lnTo>
                  <a:pt x="388" y="481"/>
                </a:lnTo>
                <a:lnTo>
                  <a:pt x="388" y="491"/>
                </a:lnTo>
                <a:lnTo>
                  <a:pt x="380" y="491"/>
                </a:lnTo>
                <a:lnTo>
                  <a:pt x="371" y="491"/>
                </a:lnTo>
                <a:lnTo>
                  <a:pt x="380" y="491"/>
                </a:lnTo>
                <a:lnTo>
                  <a:pt x="380" y="501"/>
                </a:lnTo>
                <a:lnTo>
                  <a:pt x="371" y="501"/>
                </a:lnTo>
                <a:lnTo>
                  <a:pt x="380" y="501"/>
                </a:lnTo>
                <a:lnTo>
                  <a:pt x="371" y="501"/>
                </a:lnTo>
                <a:lnTo>
                  <a:pt x="371" y="511"/>
                </a:lnTo>
                <a:lnTo>
                  <a:pt x="371" y="501"/>
                </a:lnTo>
                <a:lnTo>
                  <a:pt x="371" y="511"/>
                </a:lnTo>
                <a:lnTo>
                  <a:pt x="363" y="511"/>
                </a:lnTo>
                <a:lnTo>
                  <a:pt x="371" y="511"/>
                </a:lnTo>
                <a:lnTo>
                  <a:pt x="363" y="511"/>
                </a:lnTo>
                <a:lnTo>
                  <a:pt x="363" y="501"/>
                </a:lnTo>
                <a:lnTo>
                  <a:pt x="354" y="501"/>
                </a:lnTo>
                <a:lnTo>
                  <a:pt x="363" y="501"/>
                </a:lnTo>
                <a:lnTo>
                  <a:pt x="354" y="501"/>
                </a:lnTo>
                <a:lnTo>
                  <a:pt x="354" y="491"/>
                </a:lnTo>
                <a:lnTo>
                  <a:pt x="346" y="491"/>
                </a:lnTo>
                <a:lnTo>
                  <a:pt x="346" y="501"/>
                </a:lnTo>
                <a:lnTo>
                  <a:pt x="337" y="501"/>
                </a:lnTo>
                <a:lnTo>
                  <a:pt x="329" y="501"/>
                </a:lnTo>
                <a:lnTo>
                  <a:pt x="320" y="501"/>
                </a:lnTo>
                <a:lnTo>
                  <a:pt x="312" y="501"/>
                </a:lnTo>
                <a:lnTo>
                  <a:pt x="312" y="491"/>
                </a:lnTo>
                <a:lnTo>
                  <a:pt x="312" y="481"/>
                </a:lnTo>
                <a:lnTo>
                  <a:pt x="312" y="47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12" y="452"/>
                </a:lnTo>
                <a:lnTo>
                  <a:pt x="303" y="452"/>
                </a:lnTo>
                <a:lnTo>
                  <a:pt x="303" y="443"/>
                </a:lnTo>
                <a:lnTo>
                  <a:pt x="303" y="433"/>
                </a:lnTo>
                <a:lnTo>
                  <a:pt x="303" y="423"/>
                </a:lnTo>
                <a:lnTo>
                  <a:pt x="312" y="423"/>
                </a:lnTo>
                <a:lnTo>
                  <a:pt x="312" y="43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12" y="414"/>
                </a:lnTo>
                <a:lnTo>
                  <a:pt x="312" y="405"/>
                </a:lnTo>
                <a:lnTo>
                  <a:pt x="312" y="395"/>
                </a:lnTo>
                <a:lnTo>
                  <a:pt x="303" y="395"/>
                </a:lnTo>
                <a:lnTo>
                  <a:pt x="303" y="385"/>
                </a:lnTo>
                <a:lnTo>
                  <a:pt x="303" y="376"/>
                </a:lnTo>
                <a:lnTo>
                  <a:pt x="295" y="376"/>
                </a:lnTo>
                <a:lnTo>
                  <a:pt x="303" y="376"/>
                </a:lnTo>
                <a:lnTo>
                  <a:pt x="303" y="366"/>
                </a:lnTo>
                <a:lnTo>
                  <a:pt x="295" y="366"/>
                </a:lnTo>
                <a:lnTo>
                  <a:pt x="295" y="356"/>
                </a:lnTo>
                <a:lnTo>
                  <a:pt x="287" y="356"/>
                </a:lnTo>
                <a:lnTo>
                  <a:pt x="287" y="347"/>
                </a:lnTo>
                <a:lnTo>
                  <a:pt x="279" y="347"/>
                </a:lnTo>
                <a:lnTo>
                  <a:pt x="279" y="337"/>
                </a:lnTo>
                <a:lnTo>
                  <a:pt x="287" y="337"/>
                </a:lnTo>
                <a:lnTo>
                  <a:pt x="287" y="327"/>
                </a:lnTo>
                <a:lnTo>
                  <a:pt x="287" y="337"/>
                </a:lnTo>
                <a:lnTo>
                  <a:pt x="287" y="327"/>
                </a:lnTo>
                <a:lnTo>
                  <a:pt x="295" y="327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Freeform 19"/>
          <p:cNvSpPr/>
          <p:nvPr/>
        </p:nvSpPr>
        <p:spPr>
          <a:xfrm>
            <a:off x="6437160" y="1116000"/>
            <a:ext cx="1121040" cy="11271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706" h="710">
                <a:moveTo>
                  <a:pt x="298" y="330"/>
                </a:moveTo>
                <a:lnTo>
                  <a:pt x="298" y="321"/>
                </a:lnTo>
                <a:lnTo>
                  <a:pt x="306" y="321"/>
                </a:lnTo>
                <a:lnTo>
                  <a:pt x="306" y="311"/>
                </a:lnTo>
                <a:lnTo>
                  <a:pt x="306" y="301"/>
                </a:lnTo>
                <a:lnTo>
                  <a:pt x="306" y="311"/>
                </a:lnTo>
                <a:lnTo>
                  <a:pt x="315" y="311"/>
                </a:lnTo>
                <a:lnTo>
                  <a:pt x="315" y="301"/>
                </a:lnTo>
                <a:lnTo>
                  <a:pt x="306" y="301"/>
                </a:lnTo>
                <a:lnTo>
                  <a:pt x="315" y="301"/>
                </a:lnTo>
                <a:lnTo>
                  <a:pt x="323" y="301"/>
                </a:lnTo>
                <a:lnTo>
                  <a:pt x="323" y="291"/>
                </a:lnTo>
                <a:lnTo>
                  <a:pt x="323" y="301"/>
                </a:lnTo>
                <a:lnTo>
                  <a:pt x="323" y="291"/>
                </a:lnTo>
                <a:lnTo>
                  <a:pt x="332" y="291"/>
                </a:lnTo>
                <a:lnTo>
                  <a:pt x="332" y="282"/>
                </a:lnTo>
                <a:lnTo>
                  <a:pt x="340" y="282"/>
                </a:lnTo>
                <a:lnTo>
                  <a:pt x="349" y="282"/>
                </a:lnTo>
                <a:lnTo>
                  <a:pt x="349" y="272"/>
                </a:lnTo>
                <a:lnTo>
                  <a:pt x="349" y="262"/>
                </a:lnTo>
                <a:lnTo>
                  <a:pt x="349" y="253"/>
                </a:lnTo>
                <a:lnTo>
                  <a:pt x="356" y="253"/>
                </a:lnTo>
                <a:lnTo>
                  <a:pt x="356" y="243"/>
                </a:lnTo>
                <a:lnTo>
                  <a:pt x="356" y="233"/>
                </a:lnTo>
                <a:lnTo>
                  <a:pt x="356" y="224"/>
                </a:lnTo>
                <a:lnTo>
                  <a:pt x="349" y="224"/>
                </a:lnTo>
                <a:lnTo>
                  <a:pt x="349" y="233"/>
                </a:lnTo>
                <a:lnTo>
                  <a:pt x="332" y="233"/>
                </a:lnTo>
                <a:lnTo>
                  <a:pt x="332" y="224"/>
                </a:lnTo>
                <a:lnTo>
                  <a:pt x="332" y="214"/>
                </a:lnTo>
                <a:lnTo>
                  <a:pt x="323" y="214"/>
                </a:lnTo>
                <a:lnTo>
                  <a:pt x="315" y="214"/>
                </a:lnTo>
                <a:lnTo>
                  <a:pt x="306" y="214"/>
                </a:lnTo>
                <a:lnTo>
                  <a:pt x="306" y="224"/>
                </a:lnTo>
                <a:lnTo>
                  <a:pt x="298" y="224"/>
                </a:lnTo>
                <a:lnTo>
                  <a:pt x="298" y="214"/>
                </a:lnTo>
                <a:lnTo>
                  <a:pt x="298" y="204"/>
                </a:lnTo>
                <a:lnTo>
                  <a:pt x="289" y="204"/>
                </a:lnTo>
                <a:lnTo>
                  <a:pt x="289" y="214"/>
                </a:lnTo>
                <a:lnTo>
                  <a:pt x="289" y="204"/>
                </a:lnTo>
                <a:lnTo>
                  <a:pt x="281" y="204"/>
                </a:lnTo>
                <a:lnTo>
                  <a:pt x="281" y="194"/>
                </a:lnTo>
                <a:lnTo>
                  <a:pt x="272" y="194"/>
                </a:lnTo>
                <a:lnTo>
                  <a:pt x="264" y="194"/>
                </a:lnTo>
                <a:lnTo>
                  <a:pt x="255" y="194"/>
                </a:lnTo>
                <a:lnTo>
                  <a:pt x="255" y="185"/>
                </a:lnTo>
                <a:lnTo>
                  <a:pt x="255" y="175"/>
                </a:lnTo>
                <a:lnTo>
                  <a:pt x="247" y="175"/>
                </a:lnTo>
                <a:lnTo>
                  <a:pt x="247" y="165"/>
                </a:lnTo>
                <a:lnTo>
                  <a:pt x="247" y="156"/>
                </a:lnTo>
                <a:lnTo>
                  <a:pt x="238" y="156"/>
                </a:lnTo>
                <a:lnTo>
                  <a:pt x="238" y="146"/>
                </a:lnTo>
                <a:lnTo>
                  <a:pt x="238" y="136"/>
                </a:lnTo>
                <a:lnTo>
                  <a:pt x="230" y="136"/>
                </a:lnTo>
                <a:lnTo>
                  <a:pt x="230" y="127"/>
                </a:lnTo>
                <a:lnTo>
                  <a:pt x="238" y="127"/>
                </a:lnTo>
                <a:lnTo>
                  <a:pt x="238" y="117"/>
                </a:lnTo>
                <a:lnTo>
                  <a:pt x="238" y="127"/>
                </a:lnTo>
                <a:lnTo>
                  <a:pt x="238" y="117"/>
                </a:lnTo>
                <a:lnTo>
                  <a:pt x="230" y="117"/>
                </a:lnTo>
                <a:lnTo>
                  <a:pt x="238" y="117"/>
                </a:lnTo>
                <a:lnTo>
                  <a:pt x="238" y="107"/>
                </a:lnTo>
                <a:lnTo>
                  <a:pt x="230" y="107"/>
                </a:lnTo>
                <a:lnTo>
                  <a:pt x="221" y="107"/>
                </a:lnTo>
                <a:lnTo>
                  <a:pt x="230" y="107"/>
                </a:lnTo>
                <a:lnTo>
                  <a:pt x="230" y="97"/>
                </a:lnTo>
                <a:lnTo>
                  <a:pt x="238" y="97"/>
                </a:lnTo>
                <a:lnTo>
                  <a:pt x="238" y="88"/>
                </a:lnTo>
                <a:lnTo>
                  <a:pt x="238" y="78"/>
                </a:lnTo>
                <a:lnTo>
                  <a:pt x="238" y="68"/>
                </a:lnTo>
                <a:lnTo>
                  <a:pt x="238" y="59"/>
                </a:lnTo>
                <a:lnTo>
                  <a:pt x="238" y="49"/>
                </a:lnTo>
                <a:lnTo>
                  <a:pt x="230" y="49"/>
                </a:lnTo>
                <a:lnTo>
                  <a:pt x="230" y="39"/>
                </a:lnTo>
                <a:lnTo>
                  <a:pt x="221" y="39"/>
                </a:lnTo>
                <a:lnTo>
                  <a:pt x="221" y="49"/>
                </a:lnTo>
                <a:lnTo>
                  <a:pt x="213" y="49"/>
                </a:lnTo>
                <a:lnTo>
                  <a:pt x="204" y="49"/>
                </a:lnTo>
                <a:lnTo>
                  <a:pt x="204" y="59"/>
                </a:lnTo>
                <a:lnTo>
                  <a:pt x="195" y="59"/>
                </a:lnTo>
                <a:lnTo>
                  <a:pt x="187" y="59"/>
                </a:lnTo>
                <a:lnTo>
                  <a:pt x="187" y="49"/>
                </a:lnTo>
                <a:lnTo>
                  <a:pt x="178" y="49"/>
                </a:lnTo>
                <a:lnTo>
                  <a:pt x="178" y="39"/>
                </a:lnTo>
                <a:lnTo>
                  <a:pt x="170" y="39"/>
                </a:lnTo>
                <a:lnTo>
                  <a:pt x="170" y="30"/>
                </a:lnTo>
                <a:lnTo>
                  <a:pt x="170" y="20"/>
                </a:lnTo>
                <a:lnTo>
                  <a:pt x="161" y="20"/>
                </a:lnTo>
                <a:lnTo>
                  <a:pt x="161" y="10"/>
                </a:lnTo>
                <a:lnTo>
                  <a:pt x="153" y="10"/>
                </a:lnTo>
                <a:lnTo>
                  <a:pt x="153" y="0"/>
                </a:lnTo>
                <a:lnTo>
                  <a:pt x="144" y="0"/>
                </a:lnTo>
                <a:lnTo>
                  <a:pt x="136" y="0"/>
                </a:lnTo>
                <a:lnTo>
                  <a:pt x="136" y="10"/>
                </a:lnTo>
                <a:lnTo>
                  <a:pt x="136" y="20"/>
                </a:lnTo>
                <a:lnTo>
                  <a:pt x="136" y="30"/>
                </a:lnTo>
                <a:lnTo>
                  <a:pt x="127" y="30"/>
                </a:lnTo>
                <a:lnTo>
                  <a:pt x="127" y="39"/>
                </a:lnTo>
                <a:lnTo>
                  <a:pt x="119" y="39"/>
                </a:lnTo>
                <a:lnTo>
                  <a:pt x="119" y="49"/>
                </a:lnTo>
                <a:lnTo>
                  <a:pt x="119" y="59"/>
                </a:lnTo>
                <a:lnTo>
                  <a:pt x="119" y="68"/>
                </a:lnTo>
                <a:lnTo>
                  <a:pt x="110" y="68"/>
                </a:lnTo>
                <a:lnTo>
                  <a:pt x="119" y="68"/>
                </a:lnTo>
                <a:lnTo>
                  <a:pt x="110" y="68"/>
                </a:lnTo>
                <a:lnTo>
                  <a:pt x="110" y="78"/>
                </a:lnTo>
                <a:lnTo>
                  <a:pt x="110" y="88"/>
                </a:lnTo>
                <a:lnTo>
                  <a:pt x="119" y="88"/>
                </a:lnTo>
                <a:lnTo>
                  <a:pt x="119" y="97"/>
                </a:lnTo>
                <a:lnTo>
                  <a:pt x="110" y="97"/>
                </a:lnTo>
                <a:lnTo>
                  <a:pt x="110" y="107"/>
                </a:lnTo>
                <a:lnTo>
                  <a:pt x="102" y="107"/>
                </a:lnTo>
                <a:lnTo>
                  <a:pt x="93" y="107"/>
                </a:lnTo>
                <a:lnTo>
                  <a:pt x="93" y="117"/>
                </a:lnTo>
                <a:lnTo>
                  <a:pt x="85" y="117"/>
                </a:lnTo>
                <a:lnTo>
                  <a:pt x="85" y="127"/>
                </a:lnTo>
                <a:lnTo>
                  <a:pt x="76" y="127"/>
                </a:lnTo>
                <a:lnTo>
                  <a:pt x="68" y="127"/>
                </a:lnTo>
                <a:lnTo>
                  <a:pt x="59" y="127"/>
                </a:lnTo>
                <a:lnTo>
                  <a:pt x="51" y="11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97"/>
                </a:lnTo>
                <a:lnTo>
                  <a:pt x="25" y="97"/>
                </a:lnTo>
                <a:lnTo>
                  <a:pt x="25" y="88"/>
                </a:lnTo>
                <a:lnTo>
                  <a:pt x="25" y="97"/>
                </a:lnTo>
                <a:lnTo>
                  <a:pt x="25" y="107"/>
                </a:lnTo>
                <a:lnTo>
                  <a:pt x="25" y="117"/>
                </a:lnTo>
                <a:lnTo>
                  <a:pt x="17" y="11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0" y="117"/>
                </a:lnTo>
                <a:lnTo>
                  <a:pt x="0" y="127"/>
                </a:lnTo>
                <a:lnTo>
                  <a:pt x="0" y="136"/>
                </a:lnTo>
                <a:lnTo>
                  <a:pt x="8" y="136"/>
                </a:lnTo>
                <a:lnTo>
                  <a:pt x="17" y="127"/>
                </a:lnTo>
                <a:lnTo>
                  <a:pt x="17" y="136"/>
                </a:lnTo>
                <a:lnTo>
                  <a:pt x="25" y="136"/>
                </a:lnTo>
                <a:lnTo>
                  <a:pt x="34" y="136"/>
                </a:lnTo>
                <a:lnTo>
                  <a:pt x="34" y="146"/>
                </a:lnTo>
                <a:lnTo>
                  <a:pt x="42" y="146"/>
                </a:lnTo>
                <a:lnTo>
                  <a:pt x="42" y="156"/>
                </a:lnTo>
                <a:lnTo>
                  <a:pt x="51" y="156"/>
                </a:lnTo>
                <a:lnTo>
                  <a:pt x="59" y="156"/>
                </a:lnTo>
                <a:lnTo>
                  <a:pt x="59" y="165"/>
                </a:lnTo>
                <a:lnTo>
                  <a:pt x="68" y="165"/>
                </a:lnTo>
                <a:lnTo>
                  <a:pt x="68" y="175"/>
                </a:lnTo>
                <a:lnTo>
                  <a:pt x="59" y="175"/>
                </a:lnTo>
                <a:lnTo>
                  <a:pt x="68" y="175"/>
                </a:lnTo>
                <a:lnTo>
                  <a:pt x="68" y="185"/>
                </a:lnTo>
                <a:lnTo>
                  <a:pt x="76" y="185"/>
                </a:lnTo>
                <a:lnTo>
                  <a:pt x="85" y="185"/>
                </a:lnTo>
                <a:lnTo>
                  <a:pt x="85" y="194"/>
                </a:lnTo>
                <a:lnTo>
                  <a:pt x="93" y="194"/>
                </a:lnTo>
                <a:lnTo>
                  <a:pt x="93" y="204"/>
                </a:lnTo>
                <a:lnTo>
                  <a:pt x="102" y="204"/>
                </a:lnTo>
                <a:lnTo>
                  <a:pt x="102" y="214"/>
                </a:lnTo>
                <a:lnTo>
                  <a:pt x="110" y="214"/>
                </a:lnTo>
                <a:lnTo>
                  <a:pt x="119" y="214"/>
                </a:lnTo>
                <a:lnTo>
                  <a:pt x="119" y="224"/>
                </a:lnTo>
                <a:lnTo>
                  <a:pt x="127" y="224"/>
                </a:lnTo>
                <a:lnTo>
                  <a:pt x="136" y="224"/>
                </a:lnTo>
                <a:lnTo>
                  <a:pt x="136" y="233"/>
                </a:lnTo>
                <a:lnTo>
                  <a:pt x="136" y="224"/>
                </a:lnTo>
                <a:lnTo>
                  <a:pt x="136" y="23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53" y="233"/>
                </a:lnTo>
                <a:lnTo>
                  <a:pt x="144" y="233"/>
                </a:lnTo>
                <a:lnTo>
                  <a:pt x="136" y="233"/>
                </a:lnTo>
                <a:lnTo>
                  <a:pt x="127" y="233"/>
                </a:lnTo>
                <a:lnTo>
                  <a:pt x="127" y="243"/>
                </a:lnTo>
                <a:lnTo>
                  <a:pt x="136" y="243"/>
                </a:lnTo>
                <a:lnTo>
                  <a:pt x="144" y="24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70" y="233"/>
                </a:lnTo>
                <a:lnTo>
                  <a:pt x="178" y="233"/>
                </a:lnTo>
                <a:lnTo>
                  <a:pt x="178" y="243"/>
                </a:lnTo>
                <a:lnTo>
                  <a:pt x="187" y="243"/>
                </a:lnTo>
                <a:lnTo>
                  <a:pt x="195" y="243"/>
                </a:lnTo>
                <a:lnTo>
                  <a:pt x="195" y="253"/>
                </a:lnTo>
                <a:lnTo>
                  <a:pt x="195" y="262"/>
                </a:lnTo>
                <a:lnTo>
                  <a:pt x="204" y="262"/>
                </a:lnTo>
                <a:lnTo>
                  <a:pt x="204" y="272"/>
                </a:lnTo>
                <a:lnTo>
                  <a:pt x="213" y="272"/>
                </a:lnTo>
                <a:lnTo>
                  <a:pt x="204" y="272"/>
                </a:lnTo>
                <a:lnTo>
                  <a:pt x="213" y="272"/>
                </a:lnTo>
                <a:lnTo>
                  <a:pt x="213" y="282"/>
                </a:lnTo>
                <a:lnTo>
                  <a:pt x="204" y="282"/>
                </a:lnTo>
                <a:lnTo>
                  <a:pt x="204" y="291"/>
                </a:lnTo>
                <a:lnTo>
                  <a:pt x="195" y="291"/>
                </a:lnTo>
                <a:lnTo>
                  <a:pt x="204" y="291"/>
                </a:lnTo>
                <a:lnTo>
                  <a:pt x="204" y="301"/>
                </a:lnTo>
                <a:lnTo>
                  <a:pt x="213" y="30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13" y="321"/>
                </a:lnTo>
                <a:lnTo>
                  <a:pt x="221" y="321"/>
                </a:lnTo>
                <a:lnTo>
                  <a:pt x="230" y="321"/>
                </a:lnTo>
                <a:lnTo>
                  <a:pt x="230" y="330"/>
                </a:lnTo>
                <a:lnTo>
                  <a:pt x="230" y="340"/>
                </a:lnTo>
                <a:lnTo>
                  <a:pt x="238" y="340"/>
                </a:lnTo>
                <a:lnTo>
                  <a:pt x="238" y="350"/>
                </a:lnTo>
                <a:lnTo>
                  <a:pt x="247" y="350"/>
                </a:lnTo>
                <a:lnTo>
                  <a:pt x="247" y="359"/>
                </a:lnTo>
                <a:lnTo>
                  <a:pt x="247" y="369"/>
                </a:lnTo>
                <a:lnTo>
                  <a:pt x="255" y="369"/>
                </a:lnTo>
                <a:lnTo>
                  <a:pt x="255" y="379"/>
                </a:lnTo>
                <a:lnTo>
                  <a:pt x="255" y="369"/>
                </a:lnTo>
                <a:lnTo>
                  <a:pt x="255" y="379"/>
                </a:lnTo>
                <a:lnTo>
                  <a:pt x="255" y="388"/>
                </a:lnTo>
                <a:lnTo>
                  <a:pt x="255" y="398"/>
                </a:lnTo>
                <a:lnTo>
                  <a:pt x="247" y="398"/>
                </a:lnTo>
                <a:lnTo>
                  <a:pt x="247" y="408"/>
                </a:lnTo>
                <a:lnTo>
                  <a:pt x="238" y="408"/>
                </a:lnTo>
                <a:lnTo>
                  <a:pt x="238" y="418"/>
                </a:lnTo>
                <a:lnTo>
                  <a:pt x="230" y="418"/>
                </a:lnTo>
                <a:lnTo>
                  <a:pt x="230" y="427"/>
                </a:lnTo>
                <a:lnTo>
                  <a:pt x="230" y="437"/>
                </a:lnTo>
                <a:lnTo>
                  <a:pt x="230" y="447"/>
                </a:lnTo>
                <a:lnTo>
                  <a:pt x="230" y="456"/>
                </a:lnTo>
                <a:lnTo>
                  <a:pt x="238" y="456"/>
                </a:lnTo>
                <a:lnTo>
                  <a:pt x="238" y="447"/>
                </a:lnTo>
                <a:lnTo>
                  <a:pt x="238" y="456"/>
                </a:lnTo>
                <a:lnTo>
                  <a:pt x="238" y="466"/>
                </a:lnTo>
                <a:lnTo>
                  <a:pt x="247" y="466"/>
                </a:lnTo>
                <a:lnTo>
                  <a:pt x="247" y="476"/>
                </a:lnTo>
                <a:lnTo>
                  <a:pt x="247" y="466"/>
                </a:lnTo>
                <a:lnTo>
                  <a:pt x="247" y="476"/>
                </a:lnTo>
                <a:lnTo>
                  <a:pt x="255" y="476"/>
                </a:lnTo>
                <a:lnTo>
                  <a:pt x="255" y="485"/>
                </a:lnTo>
                <a:lnTo>
                  <a:pt x="264" y="485"/>
                </a:lnTo>
                <a:lnTo>
                  <a:pt x="255" y="485"/>
                </a:lnTo>
                <a:lnTo>
                  <a:pt x="255" y="495"/>
                </a:lnTo>
                <a:lnTo>
                  <a:pt x="264" y="495"/>
                </a:lnTo>
                <a:lnTo>
                  <a:pt x="264" y="505"/>
                </a:lnTo>
                <a:lnTo>
                  <a:pt x="272" y="505"/>
                </a:lnTo>
                <a:lnTo>
                  <a:pt x="281" y="505"/>
                </a:lnTo>
                <a:lnTo>
                  <a:pt x="281" y="515"/>
                </a:lnTo>
                <a:lnTo>
                  <a:pt x="289" y="515"/>
                </a:lnTo>
                <a:lnTo>
                  <a:pt x="289" y="524"/>
                </a:lnTo>
                <a:lnTo>
                  <a:pt x="298" y="524"/>
                </a:lnTo>
                <a:lnTo>
                  <a:pt x="306" y="534"/>
                </a:lnTo>
                <a:lnTo>
                  <a:pt x="306" y="544"/>
                </a:lnTo>
                <a:lnTo>
                  <a:pt x="315" y="544"/>
                </a:lnTo>
                <a:lnTo>
                  <a:pt x="315" y="534"/>
                </a:lnTo>
                <a:lnTo>
                  <a:pt x="323" y="534"/>
                </a:lnTo>
                <a:lnTo>
                  <a:pt x="332" y="534"/>
                </a:lnTo>
                <a:lnTo>
                  <a:pt x="340" y="534"/>
                </a:lnTo>
                <a:lnTo>
                  <a:pt x="349" y="534"/>
                </a:lnTo>
                <a:lnTo>
                  <a:pt x="356" y="534"/>
                </a:lnTo>
                <a:lnTo>
                  <a:pt x="365" y="534"/>
                </a:lnTo>
                <a:lnTo>
                  <a:pt x="365" y="544"/>
                </a:lnTo>
                <a:lnTo>
                  <a:pt x="373" y="544"/>
                </a:lnTo>
                <a:lnTo>
                  <a:pt x="382" y="544"/>
                </a:lnTo>
                <a:lnTo>
                  <a:pt x="390" y="544"/>
                </a:lnTo>
                <a:lnTo>
                  <a:pt x="390" y="553"/>
                </a:lnTo>
                <a:lnTo>
                  <a:pt x="399" y="553"/>
                </a:lnTo>
                <a:lnTo>
                  <a:pt x="407" y="553"/>
                </a:lnTo>
                <a:lnTo>
                  <a:pt x="416" y="553"/>
                </a:lnTo>
                <a:lnTo>
                  <a:pt x="424" y="553"/>
                </a:lnTo>
                <a:lnTo>
                  <a:pt x="433" y="553"/>
                </a:lnTo>
                <a:lnTo>
                  <a:pt x="433" y="563"/>
                </a:lnTo>
                <a:lnTo>
                  <a:pt x="441" y="563"/>
                </a:lnTo>
                <a:lnTo>
                  <a:pt x="450" y="563"/>
                </a:lnTo>
                <a:lnTo>
                  <a:pt x="458" y="563"/>
                </a:lnTo>
                <a:lnTo>
                  <a:pt x="467" y="563"/>
                </a:lnTo>
                <a:lnTo>
                  <a:pt x="467" y="573"/>
                </a:lnTo>
                <a:lnTo>
                  <a:pt x="475" y="573"/>
                </a:lnTo>
                <a:lnTo>
                  <a:pt x="484" y="573"/>
                </a:lnTo>
                <a:lnTo>
                  <a:pt x="484" y="582"/>
                </a:lnTo>
                <a:lnTo>
                  <a:pt x="492" y="582"/>
                </a:lnTo>
                <a:lnTo>
                  <a:pt x="501" y="582"/>
                </a:lnTo>
                <a:lnTo>
                  <a:pt x="509" y="582"/>
                </a:lnTo>
                <a:lnTo>
                  <a:pt x="509" y="592"/>
                </a:lnTo>
                <a:lnTo>
                  <a:pt x="518" y="592"/>
                </a:lnTo>
                <a:lnTo>
                  <a:pt x="518" y="602"/>
                </a:lnTo>
                <a:lnTo>
                  <a:pt x="518" y="592"/>
                </a:lnTo>
                <a:lnTo>
                  <a:pt x="518" y="602"/>
                </a:lnTo>
                <a:lnTo>
                  <a:pt x="518" y="612"/>
                </a:lnTo>
                <a:lnTo>
                  <a:pt x="518" y="621"/>
                </a:lnTo>
                <a:lnTo>
                  <a:pt x="518" y="612"/>
                </a:lnTo>
                <a:lnTo>
                  <a:pt x="518" y="621"/>
                </a:lnTo>
                <a:lnTo>
                  <a:pt x="526" y="621"/>
                </a:lnTo>
                <a:lnTo>
                  <a:pt x="535" y="621"/>
                </a:lnTo>
                <a:lnTo>
                  <a:pt x="535" y="631"/>
                </a:lnTo>
                <a:lnTo>
                  <a:pt x="526" y="631"/>
                </a:lnTo>
                <a:lnTo>
                  <a:pt x="535" y="631"/>
                </a:lnTo>
                <a:lnTo>
                  <a:pt x="543" y="631"/>
                </a:lnTo>
                <a:lnTo>
                  <a:pt x="543" y="641"/>
                </a:lnTo>
                <a:lnTo>
                  <a:pt x="543" y="631"/>
                </a:lnTo>
                <a:lnTo>
                  <a:pt x="552" y="631"/>
                </a:lnTo>
                <a:lnTo>
                  <a:pt x="560" y="631"/>
                </a:lnTo>
                <a:lnTo>
                  <a:pt x="560" y="641"/>
                </a:lnTo>
                <a:lnTo>
                  <a:pt x="569" y="641"/>
                </a:lnTo>
                <a:lnTo>
                  <a:pt x="577" y="641"/>
                </a:lnTo>
                <a:lnTo>
                  <a:pt x="586" y="650"/>
                </a:lnTo>
                <a:lnTo>
                  <a:pt x="594" y="650"/>
                </a:lnTo>
                <a:lnTo>
                  <a:pt x="603" y="650"/>
                </a:lnTo>
                <a:lnTo>
                  <a:pt x="603" y="660"/>
                </a:lnTo>
                <a:lnTo>
                  <a:pt x="611" y="660"/>
                </a:lnTo>
                <a:lnTo>
                  <a:pt x="620" y="660"/>
                </a:lnTo>
                <a:lnTo>
                  <a:pt x="611" y="660"/>
                </a:lnTo>
                <a:lnTo>
                  <a:pt x="620" y="660"/>
                </a:lnTo>
                <a:lnTo>
                  <a:pt x="628" y="660"/>
                </a:lnTo>
                <a:lnTo>
                  <a:pt x="628" y="670"/>
                </a:lnTo>
                <a:lnTo>
                  <a:pt x="637" y="670"/>
                </a:lnTo>
                <a:lnTo>
                  <a:pt x="645" y="670"/>
                </a:lnTo>
                <a:lnTo>
                  <a:pt x="645" y="679"/>
                </a:lnTo>
                <a:lnTo>
                  <a:pt x="654" y="679"/>
                </a:lnTo>
                <a:lnTo>
                  <a:pt x="654" y="689"/>
                </a:lnTo>
                <a:lnTo>
                  <a:pt x="662" y="689"/>
                </a:lnTo>
                <a:lnTo>
                  <a:pt x="671" y="689"/>
                </a:lnTo>
                <a:lnTo>
                  <a:pt x="671" y="699"/>
                </a:lnTo>
                <a:lnTo>
                  <a:pt x="671" y="689"/>
                </a:lnTo>
                <a:lnTo>
                  <a:pt x="671" y="699"/>
                </a:lnTo>
                <a:lnTo>
                  <a:pt x="679" y="699"/>
                </a:lnTo>
                <a:lnTo>
                  <a:pt x="679" y="709"/>
                </a:lnTo>
                <a:lnTo>
                  <a:pt x="688" y="709"/>
                </a:lnTo>
                <a:lnTo>
                  <a:pt x="697" y="709"/>
                </a:lnTo>
                <a:lnTo>
                  <a:pt x="697" y="699"/>
                </a:lnTo>
                <a:lnTo>
                  <a:pt x="697" y="689"/>
                </a:lnTo>
                <a:lnTo>
                  <a:pt x="697" y="679"/>
                </a:lnTo>
                <a:lnTo>
                  <a:pt x="697" y="670"/>
                </a:lnTo>
                <a:lnTo>
                  <a:pt x="705" y="67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697" y="660"/>
                </a:lnTo>
                <a:lnTo>
                  <a:pt x="697" y="650"/>
                </a:lnTo>
                <a:lnTo>
                  <a:pt x="688" y="650"/>
                </a:lnTo>
                <a:lnTo>
                  <a:pt x="688" y="641"/>
                </a:lnTo>
                <a:lnTo>
                  <a:pt x="679" y="641"/>
                </a:lnTo>
                <a:lnTo>
                  <a:pt x="679" y="631"/>
                </a:lnTo>
                <a:lnTo>
                  <a:pt x="671" y="631"/>
                </a:lnTo>
                <a:lnTo>
                  <a:pt x="679" y="631"/>
                </a:lnTo>
                <a:lnTo>
                  <a:pt x="671" y="631"/>
                </a:lnTo>
                <a:lnTo>
                  <a:pt x="671" y="621"/>
                </a:lnTo>
                <a:lnTo>
                  <a:pt x="671" y="612"/>
                </a:lnTo>
                <a:lnTo>
                  <a:pt x="662" y="612"/>
                </a:lnTo>
                <a:lnTo>
                  <a:pt x="654" y="612"/>
                </a:lnTo>
                <a:lnTo>
                  <a:pt x="654" y="621"/>
                </a:lnTo>
                <a:lnTo>
                  <a:pt x="654" y="631"/>
                </a:lnTo>
                <a:lnTo>
                  <a:pt x="654" y="621"/>
                </a:lnTo>
                <a:lnTo>
                  <a:pt x="645" y="621"/>
                </a:lnTo>
                <a:lnTo>
                  <a:pt x="637" y="621"/>
                </a:lnTo>
                <a:lnTo>
                  <a:pt x="637" y="612"/>
                </a:lnTo>
                <a:lnTo>
                  <a:pt x="628" y="602"/>
                </a:lnTo>
                <a:lnTo>
                  <a:pt x="628" y="592"/>
                </a:lnTo>
                <a:lnTo>
                  <a:pt x="620" y="592"/>
                </a:lnTo>
                <a:lnTo>
                  <a:pt x="611" y="582"/>
                </a:lnTo>
                <a:lnTo>
                  <a:pt x="603" y="582"/>
                </a:lnTo>
                <a:lnTo>
                  <a:pt x="603" y="573"/>
                </a:lnTo>
                <a:lnTo>
                  <a:pt x="594" y="573"/>
                </a:lnTo>
                <a:lnTo>
                  <a:pt x="594" y="563"/>
                </a:lnTo>
                <a:lnTo>
                  <a:pt x="586" y="563"/>
                </a:lnTo>
                <a:lnTo>
                  <a:pt x="586" y="553"/>
                </a:lnTo>
                <a:lnTo>
                  <a:pt x="577" y="553"/>
                </a:lnTo>
                <a:lnTo>
                  <a:pt x="569" y="553"/>
                </a:lnTo>
                <a:lnTo>
                  <a:pt x="569" y="544"/>
                </a:lnTo>
                <a:lnTo>
                  <a:pt x="569" y="534"/>
                </a:lnTo>
                <a:lnTo>
                  <a:pt x="577" y="534"/>
                </a:lnTo>
                <a:lnTo>
                  <a:pt x="577" y="524"/>
                </a:lnTo>
                <a:lnTo>
                  <a:pt x="577" y="515"/>
                </a:lnTo>
                <a:lnTo>
                  <a:pt x="569" y="515"/>
                </a:lnTo>
                <a:lnTo>
                  <a:pt x="569" y="505"/>
                </a:lnTo>
                <a:lnTo>
                  <a:pt x="577" y="505"/>
                </a:lnTo>
                <a:lnTo>
                  <a:pt x="569" y="505"/>
                </a:lnTo>
                <a:lnTo>
                  <a:pt x="560" y="505"/>
                </a:lnTo>
                <a:lnTo>
                  <a:pt x="552" y="505"/>
                </a:lnTo>
                <a:lnTo>
                  <a:pt x="552" y="515"/>
                </a:lnTo>
                <a:lnTo>
                  <a:pt x="543" y="515"/>
                </a:lnTo>
                <a:lnTo>
                  <a:pt x="543" y="505"/>
                </a:lnTo>
                <a:lnTo>
                  <a:pt x="535" y="505"/>
                </a:lnTo>
                <a:lnTo>
                  <a:pt x="535" y="495"/>
                </a:lnTo>
                <a:lnTo>
                  <a:pt x="535" y="485"/>
                </a:lnTo>
                <a:lnTo>
                  <a:pt x="535" y="476"/>
                </a:lnTo>
                <a:lnTo>
                  <a:pt x="526" y="466"/>
                </a:lnTo>
                <a:lnTo>
                  <a:pt x="518" y="466"/>
                </a:lnTo>
                <a:lnTo>
                  <a:pt x="509" y="466"/>
                </a:lnTo>
                <a:lnTo>
                  <a:pt x="509" y="476"/>
                </a:lnTo>
                <a:lnTo>
                  <a:pt x="501" y="476"/>
                </a:lnTo>
                <a:lnTo>
                  <a:pt x="492" y="476"/>
                </a:lnTo>
                <a:lnTo>
                  <a:pt x="492" y="466"/>
                </a:lnTo>
                <a:lnTo>
                  <a:pt x="492" y="476"/>
                </a:lnTo>
                <a:lnTo>
                  <a:pt x="492" y="466"/>
                </a:lnTo>
                <a:lnTo>
                  <a:pt x="484" y="466"/>
                </a:lnTo>
                <a:lnTo>
                  <a:pt x="475" y="447"/>
                </a:lnTo>
                <a:lnTo>
                  <a:pt x="475" y="437"/>
                </a:lnTo>
                <a:lnTo>
                  <a:pt x="475" y="427"/>
                </a:lnTo>
                <a:lnTo>
                  <a:pt x="467" y="427"/>
                </a:lnTo>
                <a:lnTo>
                  <a:pt x="458" y="427"/>
                </a:lnTo>
                <a:lnTo>
                  <a:pt x="458" y="437"/>
                </a:lnTo>
                <a:lnTo>
                  <a:pt x="450" y="437"/>
                </a:lnTo>
                <a:lnTo>
                  <a:pt x="441" y="437"/>
                </a:lnTo>
                <a:lnTo>
                  <a:pt x="441" y="447"/>
                </a:lnTo>
                <a:lnTo>
                  <a:pt x="441" y="456"/>
                </a:lnTo>
                <a:lnTo>
                  <a:pt x="433" y="456"/>
                </a:lnTo>
                <a:lnTo>
                  <a:pt x="433" y="466"/>
                </a:lnTo>
                <a:lnTo>
                  <a:pt x="424" y="466"/>
                </a:lnTo>
                <a:lnTo>
                  <a:pt x="424" y="456"/>
                </a:lnTo>
                <a:lnTo>
                  <a:pt x="424" y="466"/>
                </a:lnTo>
                <a:lnTo>
                  <a:pt x="416" y="466"/>
                </a:lnTo>
                <a:lnTo>
                  <a:pt x="424" y="466"/>
                </a:lnTo>
                <a:lnTo>
                  <a:pt x="416" y="466"/>
                </a:lnTo>
                <a:lnTo>
                  <a:pt x="416" y="45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399" y="466"/>
                </a:lnTo>
                <a:lnTo>
                  <a:pt x="399" y="456"/>
                </a:lnTo>
                <a:lnTo>
                  <a:pt x="399" y="466"/>
                </a:lnTo>
                <a:lnTo>
                  <a:pt x="390" y="466"/>
                </a:lnTo>
                <a:lnTo>
                  <a:pt x="390" y="456"/>
                </a:lnTo>
                <a:lnTo>
                  <a:pt x="390" y="466"/>
                </a:lnTo>
                <a:lnTo>
                  <a:pt x="390" y="476"/>
                </a:lnTo>
                <a:lnTo>
                  <a:pt x="390" y="485"/>
                </a:lnTo>
                <a:lnTo>
                  <a:pt x="390" y="495"/>
                </a:lnTo>
                <a:lnTo>
                  <a:pt x="382" y="495"/>
                </a:lnTo>
                <a:lnTo>
                  <a:pt x="373" y="495"/>
                </a:lnTo>
                <a:lnTo>
                  <a:pt x="382" y="495"/>
                </a:lnTo>
                <a:lnTo>
                  <a:pt x="382" y="505"/>
                </a:lnTo>
                <a:lnTo>
                  <a:pt x="373" y="505"/>
                </a:lnTo>
                <a:lnTo>
                  <a:pt x="382" y="505"/>
                </a:lnTo>
                <a:lnTo>
                  <a:pt x="373" y="505"/>
                </a:lnTo>
                <a:lnTo>
                  <a:pt x="373" y="515"/>
                </a:lnTo>
                <a:lnTo>
                  <a:pt x="373" y="505"/>
                </a:lnTo>
                <a:lnTo>
                  <a:pt x="373" y="515"/>
                </a:lnTo>
                <a:lnTo>
                  <a:pt x="365" y="515"/>
                </a:lnTo>
                <a:lnTo>
                  <a:pt x="373" y="515"/>
                </a:lnTo>
                <a:lnTo>
                  <a:pt x="365" y="515"/>
                </a:lnTo>
                <a:lnTo>
                  <a:pt x="365" y="505"/>
                </a:lnTo>
                <a:lnTo>
                  <a:pt x="356" y="505"/>
                </a:lnTo>
                <a:lnTo>
                  <a:pt x="365" y="505"/>
                </a:lnTo>
                <a:lnTo>
                  <a:pt x="356" y="505"/>
                </a:lnTo>
                <a:lnTo>
                  <a:pt x="356" y="495"/>
                </a:lnTo>
                <a:lnTo>
                  <a:pt x="349" y="495"/>
                </a:lnTo>
                <a:lnTo>
                  <a:pt x="349" y="505"/>
                </a:lnTo>
                <a:lnTo>
                  <a:pt x="340" y="505"/>
                </a:lnTo>
                <a:lnTo>
                  <a:pt x="332" y="505"/>
                </a:lnTo>
                <a:lnTo>
                  <a:pt x="323" y="505"/>
                </a:lnTo>
                <a:lnTo>
                  <a:pt x="315" y="505"/>
                </a:lnTo>
                <a:lnTo>
                  <a:pt x="315" y="495"/>
                </a:lnTo>
                <a:lnTo>
                  <a:pt x="315" y="485"/>
                </a:lnTo>
                <a:lnTo>
                  <a:pt x="315" y="47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15" y="456"/>
                </a:lnTo>
                <a:lnTo>
                  <a:pt x="306" y="456"/>
                </a:lnTo>
                <a:lnTo>
                  <a:pt x="306" y="447"/>
                </a:lnTo>
                <a:lnTo>
                  <a:pt x="306" y="437"/>
                </a:lnTo>
                <a:lnTo>
                  <a:pt x="306" y="427"/>
                </a:lnTo>
                <a:lnTo>
                  <a:pt x="315" y="427"/>
                </a:lnTo>
                <a:lnTo>
                  <a:pt x="315" y="43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15" y="418"/>
                </a:lnTo>
                <a:lnTo>
                  <a:pt x="315" y="408"/>
                </a:lnTo>
                <a:lnTo>
                  <a:pt x="315" y="398"/>
                </a:lnTo>
                <a:lnTo>
                  <a:pt x="306" y="398"/>
                </a:lnTo>
                <a:lnTo>
                  <a:pt x="306" y="388"/>
                </a:lnTo>
                <a:lnTo>
                  <a:pt x="306" y="379"/>
                </a:lnTo>
                <a:lnTo>
                  <a:pt x="298" y="379"/>
                </a:lnTo>
                <a:lnTo>
                  <a:pt x="306" y="379"/>
                </a:lnTo>
                <a:lnTo>
                  <a:pt x="306" y="369"/>
                </a:lnTo>
                <a:lnTo>
                  <a:pt x="298" y="369"/>
                </a:lnTo>
                <a:lnTo>
                  <a:pt x="298" y="359"/>
                </a:lnTo>
                <a:lnTo>
                  <a:pt x="289" y="359"/>
                </a:lnTo>
                <a:lnTo>
                  <a:pt x="289" y="350"/>
                </a:lnTo>
                <a:lnTo>
                  <a:pt x="281" y="350"/>
                </a:lnTo>
                <a:lnTo>
                  <a:pt x="281" y="340"/>
                </a:lnTo>
                <a:lnTo>
                  <a:pt x="289" y="340"/>
                </a:lnTo>
                <a:lnTo>
                  <a:pt x="289" y="330"/>
                </a:lnTo>
                <a:lnTo>
                  <a:pt x="289" y="340"/>
                </a:lnTo>
                <a:lnTo>
                  <a:pt x="289" y="330"/>
                </a:lnTo>
                <a:lnTo>
                  <a:pt x="298" y="33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Freeform 20"/>
          <p:cNvSpPr/>
          <p:nvPr/>
        </p:nvSpPr>
        <p:spPr>
          <a:xfrm>
            <a:off x="6475320" y="331920"/>
            <a:ext cx="1195560" cy="946080"/>
          </a:xfrm>
          <a:custGeom>
            <a:avLst/>
            <a:gdLst>
              <a:gd name="textAreaLeft" fmla="*/ 0 w 1195560"/>
              <a:gd name="textAreaRight" fmla="*/ 1195560 w 11955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753" h="596">
                <a:moveTo>
                  <a:pt x="296" y="547"/>
                </a:moveTo>
                <a:lnTo>
                  <a:pt x="296" y="538"/>
                </a:lnTo>
                <a:lnTo>
                  <a:pt x="296" y="528"/>
                </a:lnTo>
                <a:lnTo>
                  <a:pt x="288" y="528"/>
                </a:lnTo>
                <a:lnTo>
                  <a:pt x="288" y="519"/>
                </a:lnTo>
                <a:lnTo>
                  <a:pt x="288" y="509"/>
                </a:lnTo>
                <a:lnTo>
                  <a:pt x="288" y="499"/>
                </a:lnTo>
                <a:lnTo>
                  <a:pt x="296" y="499"/>
                </a:lnTo>
                <a:lnTo>
                  <a:pt x="296" y="489"/>
                </a:lnTo>
                <a:lnTo>
                  <a:pt x="288" y="489"/>
                </a:lnTo>
                <a:lnTo>
                  <a:pt x="288" y="480"/>
                </a:lnTo>
                <a:lnTo>
                  <a:pt x="296" y="480"/>
                </a:lnTo>
                <a:lnTo>
                  <a:pt x="288" y="480"/>
                </a:lnTo>
                <a:lnTo>
                  <a:pt x="288" y="470"/>
                </a:lnTo>
                <a:lnTo>
                  <a:pt x="288" y="480"/>
                </a:lnTo>
                <a:lnTo>
                  <a:pt x="279" y="480"/>
                </a:lnTo>
                <a:lnTo>
                  <a:pt x="271" y="480"/>
                </a:lnTo>
                <a:lnTo>
                  <a:pt x="271" y="489"/>
                </a:lnTo>
                <a:lnTo>
                  <a:pt x="262" y="489"/>
                </a:lnTo>
                <a:lnTo>
                  <a:pt x="254" y="489"/>
                </a:lnTo>
                <a:lnTo>
                  <a:pt x="254" y="499"/>
                </a:lnTo>
                <a:lnTo>
                  <a:pt x="254" y="509"/>
                </a:lnTo>
                <a:lnTo>
                  <a:pt x="245" y="509"/>
                </a:lnTo>
                <a:lnTo>
                  <a:pt x="237" y="509"/>
                </a:lnTo>
                <a:lnTo>
                  <a:pt x="228" y="509"/>
                </a:lnTo>
                <a:lnTo>
                  <a:pt x="228" y="499"/>
                </a:lnTo>
                <a:lnTo>
                  <a:pt x="228" y="489"/>
                </a:lnTo>
                <a:lnTo>
                  <a:pt x="228" y="480"/>
                </a:lnTo>
                <a:lnTo>
                  <a:pt x="228" y="470"/>
                </a:lnTo>
                <a:lnTo>
                  <a:pt x="237" y="470"/>
                </a:lnTo>
                <a:lnTo>
                  <a:pt x="245" y="470"/>
                </a:lnTo>
                <a:lnTo>
                  <a:pt x="254" y="470"/>
                </a:lnTo>
                <a:lnTo>
                  <a:pt x="262" y="470"/>
                </a:lnTo>
                <a:lnTo>
                  <a:pt x="262" y="460"/>
                </a:lnTo>
                <a:lnTo>
                  <a:pt x="271" y="460"/>
                </a:lnTo>
                <a:lnTo>
                  <a:pt x="271" y="451"/>
                </a:lnTo>
                <a:lnTo>
                  <a:pt x="271" y="442"/>
                </a:lnTo>
                <a:lnTo>
                  <a:pt x="271" y="432"/>
                </a:lnTo>
                <a:lnTo>
                  <a:pt x="271" y="423"/>
                </a:lnTo>
                <a:lnTo>
                  <a:pt x="279" y="42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62" y="423"/>
                </a:lnTo>
                <a:lnTo>
                  <a:pt x="254" y="423"/>
                </a:lnTo>
                <a:lnTo>
                  <a:pt x="245" y="423"/>
                </a:lnTo>
                <a:lnTo>
                  <a:pt x="237" y="423"/>
                </a:lnTo>
                <a:lnTo>
                  <a:pt x="237" y="413"/>
                </a:lnTo>
                <a:lnTo>
                  <a:pt x="237" y="423"/>
                </a:lnTo>
                <a:lnTo>
                  <a:pt x="237" y="413"/>
                </a:lnTo>
                <a:lnTo>
                  <a:pt x="228" y="413"/>
                </a:lnTo>
                <a:lnTo>
                  <a:pt x="220" y="413"/>
                </a:lnTo>
                <a:lnTo>
                  <a:pt x="220" y="423"/>
                </a:lnTo>
                <a:lnTo>
                  <a:pt x="211" y="423"/>
                </a:lnTo>
                <a:lnTo>
                  <a:pt x="211" y="432"/>
                </a:lnTo>
                <a:lnTo>
                  <a:pt x="211" y="442"/>
                </a:lnTo>
                <a:lnTo>
                  <a:pt x="203" y="432"/>
                </a:lnTo>
                <a:lnTo>
                  <a:pt x="203" y="423"/>
                </a:lnTo>
                <a:lnTo>
                  <a:pt x="194" y="423"/>
                </a:lnTo>
                <a:lnTo>
                  <a:pt x="194" y="432"/>
                </a:lnTo>
                <a:lnTo>
                  <a:pt x="187" y="432"/>
                </a:lnTo>
                <a:lnTo>
                  <a:pt x="187" y="442"/>
                </a:lnTo>
                <a:lnTo>
                  <a:pt x="187" y="451"/>
                </a:lnTo>
                <a:lnTo>
                  <a:pt x="178" y="460"/>
                </a:lnTo>
                <a:lnTo>
                  <a:pt x="178" y="451"/>
                </a:lnTo>
                <a:lnTo>
                  <a:pt x="169" y="451"/>
                </a:lnTo>
                <a:lnTo>
                  <a:pt x="161" y="451"/>
                </a:lnTo>
                <a:lnTo>
                  <a:pt x="161" y="442"/>
                </a:lnTo>
                <a:lnTo>
                  <a:pt x="152" y="442"/>
                </a:lnTo>
                <a:lnTo>
                  <a:pt x="152" y="432"/>
                </a:lnTo>
                <a:lnTo>
                  <a:pt x="152" y="423"/>
                </a:lnTo>
                <a:lnTo>
                  <a:pt x="152" y="413"/>
                </a:lnTo>
                <a:lnTo>
                  <a:pt x="144" y="413"/>
                </a:lnTo>
                <a:lnTo>
                  <a:pt x="144" y="403"/>
                </a:lnTo>
                <a:lnTo>
                  <a:pt x="144" y="393"/>
                </a:lnTo>
                <a:lnTo>
                  <a:pt x="144" y="384"/>
                </a:lnTo>
                <a:lnTo>
                  <a:pt x="135" y="384"/>
                </a:lnTo>
                <a:lnTo>
                  <a:pt x="135" y="393"/>
                </a:lnTo>
                <a:lnTo>
                  <a:pt x="135" y="384"/>
                </a:lnTo>
                <a:lnTo>
                  <a:pt x="127" y="384"/>
                </a:lnTo>
                <a:lnTo>
                  <a:pt x="127" y="374"/>
                </a:lnTo>
                <a:lnTo>
                  <a:pt x="118" y="374"/>
                </a:lnTo>
                <a:lnTo>
                  <a:pt x="118" y="364"/>
                </a:lnTo>
                <a:lnTo>
                  <a:pt x="110" y="364"/>
                </a:lnTo>
                <a:lnTo>
                  <a:pt x="110" y="355"/>
                </a:lnTo>
                <a:lnTo>
                  <a:pt x="101" y="355"/>
                </a:lnTo>
                <a:lnTo>
                  <a:pt x="101" y="346"/>
                </a:lnTo>
                <a:lnTo>
                  <a:pt x="93" y="346"/>
                </a:lnTo>
                <a:lnTo>
                  <a:pt x="84" y="346"/>
                </a:lnTo>
                <a:lnTo>
                  <a:pt x="76" y="346"/>
                </a:lnTo>
                <a:lnTo>
                  <a:pt x="76" y="336"/>
                </a:lnTo>
                <a:lnTo>
                  <a:pt x="67" y="336"/>
                </a:lnTo>
                <a:lnTo>
                  <a:pt x="60" y="336"/>
                </a:lnTo>
                <a:lnTo>
                  <a:pt x="60" y="327"/>
                </a:lnTo>
                <a:lnTo>
                  <a:pt x="51" y="327"/>
                </a:lnTo>
                <a:lnTo>
                  <a:pt x="51" y="317"/>
                </a:lnTo>
                <a:lnTo>
                  <a:pt x="51" y="327"/>
                </a:lnTo>
                <a:lnTo>
                  <a:pt x="43" y="327"/>
                </a:lnTo>
                <a:lnTo>
                  <a:pt x="43" y="317"/>
                </a:lnTo>
                <a:lnTo>
                  <a:pt x="34" y="317"/>
                </a:lnTo>
                <a:lnTo>
                  <a:pt x="26" y="317"/>
                </a:lnTo>
                <a:lnTo>
                  <a:pt x="26" y="307"/>
                </a:lnTo>
                <a:lnTo>
                  <a:pt x="17" y="307"/>
                </a:lnTo>
                <a:lnTo>
                  <a:pt x="17" y="297"/>
                </a:lnTo>
                <a:lnTo>
                  <a:pt x="17" y="288"/>
                </a:lnTo>
                <a:lnTo>
                  <a:pt x="17" y="278"/>
                </a:lnTo>
                <a:lnTo>
                  <a:pt x="17" y="268"/>
                </a:lnTo>
                <a:lnTo>
                  <a:pt x="9" y="268"/>
                </a:lnTo>
                <a:lnTo>
                  <a:pt x="9" y="259"/>
                </a:lnTo>
                <a:lnTo>
                  <a:pt x="0" y="259"/>
                </a:lnTo>
                <a:lnTo>
                  <a:pt x="9" y="259"/>
                </a:lnTo>
                <a:lnTo>
                  <a:pt x="9" y="249"/>
                </a:lnTo>
                <a:lnTo>
                  <a:pt x="17" y="249"/>
                </a:lnTo>
                <a:lnTo>
                  <a:pt x="26" y="249"/>
                </a:lnTo>
                <a:lnTo>
                  <a:pt x="26" y="240"/>
                </a:lnTo>
                <a:lnTo>
                  <a:pt x="34" y="240"/>
                </a:lnTo>
                <a:lnTo>
                  <a:pt x="34" y="231"/>
                </a:lnTo>
                <a:lnTo>
                  <a:pt x="43" y="231"/>
                </a:lnTo>
                <a:lnTo>
                  <a:pt x="43" y="221"/>
                </a:lnTo>
                <a:lnTo>
                  <a:pt x="34" y="221"/>
                </a:lnTo>
                <a:lnTo>
                  <a:pt x="43" y="211"/>
                </a:lnTo>
                <a:lnTo>
                  <a:pt x="51" y="201"/>
                </a:lnTo>
                <a:lnTo>
                  <a:pt x="60" y="201"/>
                </a:lnTo>
                <a:lnTo>
                  <a:pt x="67" y="201"/>
                </a:lnTo>
                <a:lnTo>
                  <a:pt x="60" y="201"/>
                </a:lnTo>
                <a:lnTo>
                  <a:pt x="60" y="192"/>
                </a:lnTo>
                <a:lnTo>
                  <a:pt x="67" y="192"/>
                </a:lnTo>
                <a:lnTo>
                  <a:pt x="67" y="182"/>
                </a:lnTo>
                <a:lnTo>
                  <a:pt x="76" y="182"/>
                </a:lnTo>
                <a:lnTo>
                  <a:pt x="76" y="172"/>
                </a:lnTo>
                <a:lnTo>
                  <a:pt x="76" y="163"/>
                </a:lnTo>
                <a:lnTo>
                  <a:pt x="84" y="163"/>
                </a:lnTo>
                <a:lnTo>
                  <a:pt x="76" y="163"/>
                </a:lnTo>
                <a:lnTo>
                  <a:pt x="84" y="163"/>
                </a:lnTo>
                <a:lnTo>
                  <a:pt x="84" y="153"/>
                </a:lnTo>
                <a:lnTo>
                  <a:pt x="84" y="144"/>
                </a:lnTo>
                <a:lnTo>
                  <a:pt x="84" y="135"/>
                </a:lnTo>
                <a:lnTo>
                  <a:pt x="84" y="125"/>
                </a:lnTo>
                <a:lnTo>
                  <a:pt x="84" y="115"/>
                </a:lnTo>
                <a:lnTo>
                  <a:pt x="84" y="105"/>
                </a:lnTo>
                <a:lnTo>
                  <a:pt x="84" y="96"/>
                </a:lnTo>
                <a:lnTo>
                  <a:pt x="84" y="86"/>
                </a:lnTo>
                <a:lnTo>
                  <a:pt x="118" y="57"/>
                </a:lnTo>
                <a:lnTo>
                  <a:pt x="169" y="29"/>
                </a:lnTo>
                <a:lnTo>
                  <a:pt x="203" y="0"/>
                </a:lnTo>
                <a:lnTo>
                  <a:pt x="211" y="9"/>
                </a:lnTo>
                <a:lnTo>
                  <a:pt x="245" y="29"/>
                </a:lnTo>
                <a:lnTo>
                  <a:pt x="262" y="29"/>
                </a:lnTo>
                <a:lnTo>
                  <a:pt x="271" y="39"/>
                </a:lnTo>
                <a:lnTo>
                  <a:pt x="288" y="48"/>
                </a:lnTo>
                <a:lnTo>
                  <a:pt x="313" y="57"/>
                </a:lnTo>
                <a:lnTo>
                  <a:pt x="329" y="86"/>
                </a:lnTo>
                <a:lnTo>
                  <a:pt x="346" y="86"/>
                </a:lnTo>
                <a:lnTo>
                  <a:pt x="363" y="76"/>
                </a:lnTo>
                <a:lnTo>
                  <a:pt x="372" y="76"/>
                </a:lnTo>
                <a:lnTo>
                  <a:pt x="380" y="57"/>
                </a:lnTo>
                <a:lnTo>
                  <a:pt x="380" y="67"/>
                </a:lnTo>
                <a:lnTo>
                  <a:pt x="389" y="67"/>
                </a:lnTo>
                <a:lnTo>
                  <a:pt x="389" y="76"/>
                </a:lnTo>
                <a:lnTo>
                  <a:pt x="397" y="76"/>
                </a:lnTo>
                <a:lnTo>
                  <a:pt x="389" y="76"/>
                </a:lnTo>
                <a:lnTo>
                  <a:pt x="389" y="86"/>
                </a:lnTo>
                <a:lnTo>
                  <a:pt x="389" y="96"/>
                </a:lnTo>
                <a:lnTo>
                  <a:pt x="397" y="96"/>
                </a:lnTo>
                <a:lnTo>
                  <a:pt x="397" y="105"/>
                </a:lnTo>
                <a:lnTo>
                  <a:pt x="406" y="105"/>
                </a:lnTo>
                <a:lnTo>
                  <a:pt x="406" y="115"/>
                </a:lnTo>
                <a:lnTo>
                  <a:pt x="406" y="105"/>
                </a:lnTo>
                <a:lnTo>
                  <a:pt x="414" y="105"/>
                </a:lnTo>
                <a:lnTo>
                  <a:pt x="414" y="115"/>
                </a:lnTo>
                <a:lnTo>
                  <a:pt x="423" y="115"/>
                </a:lnTo>
                <a:lnTo>
                  <a:pt x="423" y="125"/>
                </a:lnTo>
                <a:lnTo>
                  <a:pt x="431" y="125"/>
                </a:lnTo>
                <a:lnTo>
                  <a:pt x="439" y="125"/>
                </a:lnTo>
                <a:lnTo>
                  <a:pt x="439" y="135"/>
                </a:lnTo>
                <a:lnTo>
                  <a:pt x="447" y="135"/>
                </a:lnTo>
                <a:lnTo>
                  <a:pt x="456" y="135"/>
                </a:lnTo>
                <a:lnTo>
                  <a:pt x="456" y="144"/>
                </a:lnTo>
                <a:lnTo>
                  <a:pt x="464" y="144"/>
                </a:lnTo>
                <a:lnTo>
                  <a:pt x="464" y="153"/>
                </a:lnTo>
                <a:lnTo>
                  <a:pt x="464" y="163"/>
                </a:lnTo>
                <a:lnTo>
                  <a:pt x="464" y="172"/>
                </a:lnTo>
                <a:lnTo>
                  <a:pt x="456" y="172"/>
                </a:lnTo>
                <a:lnTo>
                  <a:pt x="447" y="172"/>
                </a:lnTo>
                <a:lnTo>
                  <a:pt x="447" y="182"/>
                </a:lnTo>
                <a:lnTo>
                  <a:pt x="456" y="182"/>
                </a:lnTo>
                <a:lnTo>
                  <a:pt x="456" y="192"/>
                </a:lnTo>
                <a:lnTo>
                  <a:pt x="464" y="192"/>
                </a:lnTo>
                <a:lnTo>
                  <a:pt x="473" y="192"/>
                </a:lnTo>
                <a:lnTo>
                  <a:pt x="464" y="192"/>
                </a:lnTo>
                <a:lnTo>
                  <a:pt x="473" y="201"/>
                </a:lnTo>
                <a:lnTo>
                  <a:pt x="473" y="192"/>
                </a:lnTo>
                <a:lnTo>
                  <a:pt x="481" y="192"/>
                </a:lnTo>
                <a:lnTo>
                  <a:pt x="481" y="201"/>
                </a:lnTo>
                <a:lnTo>
                  <a:pt x="490" y="201"/>
                </a:lnTo>
                <a:lnTo>
                  <a:pt x="498" y="201"/>
                </a:lnTo>
                <a:lnTo>
                  <a:pt x="507" y="192"/>
                </a:lnTo>
                <a:lnTo>
                  <a:pt x="507" y="201"/>
                </a:lnTo>
                <a:lnTo>
                  <a:pt x="515" y="201"/>
                </a:lnTo>
                <a:lnTo>
                  <a:pt x="515" y="211"/>
                </a:lnTo>
                <a:lnTo>
                  <a:pt x="524" y="211"/>
                </a:lnTo>
                <a:lnTo>
                  <a:pt x="524" y="201"/>
                </a:lnTo>
                <a:lnTo>
                  <a:pt x="532" y="201"/>
                </a:lnTo>
                <a:lnTo>
                  <a:pt x="532" y="211"/>
                </a:lnTo>
                <a:lnTo>
                  <a:pt x="541" y="211"/>
                </a:lnTo>
                <a:lnTo>
                  <a:pt x="549" y="211"/>
                </a:lnTo>
                <a:lnTo>
                  <a:pt x="549" y="201"/>
                </a:lnTo>
                <a:lnTo>
                  <a:pt x="558" y="201"/>
                </a:lnTo>
                <a:lnTo>
                  <a:pt x="558" y="211"/>
                </a:lnTo>
                <a:lnTo>
                  <a:pt x="565" y="211"/>
                </a:lnTo>
                <a:lnTo>
                  <a:pt x="565" y="201"/>
                </a:lnTo>
                <a:lnTo>
                  <a:pt x="565" y="192"/>
                </a:lnTo>
                <a:lnTo>
                  <a:pt x="574" y="192"/>
                </a:lnTo>
                <a:lnTo>
                  <a:pt x="574" y="201"/>
                </a:lnTo>
                <a:lnTo>
                  <a:pt x="582" y="201"/>
                </a:lnTo>
                <a:lnTo>
                  <a:pt x="582" y="211"/>
                </a:lnTo>
                <a:lnTo>
                  <a:pt x="591" y="211"/>
                </a:lnTo>
                <a:lnTo>
                  <a:pt x="591" y="221"/>
                </a:lnTo>
                <a:lnTo>
                  <a:pt x="599" y="221"/>
                </a:lnTo>
                <a:lnTo>
                  <a:pt x="599" y="231"/>
                </a:lnTo>
                <a:lnTo>
                  <a:pt x="608" y="231"/>
                </a:lnTo>
                <a:lnTo>
                  <a:pt x="608" y="240"/>
                </a:lnTo>
                <a:lnTo>
                  <a:pt x="616" y="240"/>
                </a:lnTo>
                <a:lnTo>
                  <a:pt x="625" y="240"/>
                </a:lnTo>
                <a:lnTo>
                  <a:pt x="625" y="249"/>
                </a:lnTo>
                <a:lnTo>
                  <a:pt x="633" y="249"/>
                </a:lnTo>
                <a:lnTo>
                  <a:pt x="633" y="240"/>
                </a:lnTo>
                <a:lnTo>
                  <a:pt x="642" y="240"/>
                </a:lnTo>
                <a:lnTo>
                  <a:pt x="650" y="240"/>
                </a:lnTo>
                <a:lnTo>
                  <a:pt x="659" y="240"/>
                </a:lnTo>
                <a:lnTo>
                  <a:pt x="668" y="240"/>
                </a:lnTo>
                <a:lnTo>
                  <a:pt x="668" y="231"/>
                </a:lnTo>
                <a:lnTo>
                  <a:pt x="676" y="231"/>
                </a:lnTo>
                <a:lnTo>
                  <a:pt x="676" y="221"/>
                </a:lnTo>
                <a:lnTo>
                  <a:pt x="685" y="221"/>
                </a:lnTo>
                <a:lnTo>
                  <a:pt x="692" y="221"/>
                </a:lnTo>
                <a:lnTo>
                  <a:pt x="701" y="221"/>
                </a:lnTo>
                <a:lnTo>
                  <a:pt x="701" y="211"/>
                </a:lnTo>
                <a:lnTo>
                  <a:pt x="709" y="211"/>
                </a:lnTo>
                <a:lnTo>
                  <a:pt x="718" y="211"/>
                </a:lnTo>
                <a:lnTo>
                  <a:pt x="726" y="211"/>
                </a:lnTo>
                <a:lnTo>
                  <a:pt x="735" y="211"/>
                </a:lnTo>
                <a:lnTo>
                  <a:pt x="735" y="221"/>
                </a:lnTo>
                <a:lnTo>
                  <a:pt x="735" y="231"/>
                </a:lnTo>
                <a:lnTo>
                  <a:pt x="735" y="240"/>
                </a:lnTo>
                <a:lnTo>
                  <a:pt x="735" y="249"/>
                </a:lnTo>
                <a:lnTo>
                  <a:pt x="743" y="249"/>
                </a:lnTo>
                <a:lnTo>
                  <a:pt x="752" y="249"/>
                </a:lnTo>
                <a:lnTo>
                  <a:pt x="752" y="259"/>
                </a:lnTo>
                <a:lnTo>
                  <a:pt x="743" y="259"/>
                </a:lnTo>
                <a:lnTo>
                  <a:pt x="735" y="259"/>
                </a:lnTo>
                <a:lnTo>
                  <a:pt x="726" y="259"/>
                </a:lnTo>
                <a:lnTo>
                  <a:pt x="726" y="249"/>
                </a:lnTo>
                <a:lnTo>
                  <a:pt x="718" y="249"/>
                </a:lnTo>
                <a:lnTo>
                  <a:pt x="718" y="259"/>
                </a:lnTo>
                <a:lnTo>
                  <a:pt x="718" y="249"/>
                </a:lnTo>
                <a:lnTo>
                  <a:pt x="718" y="259"/>
                </a:lnTo>
                <a:lnTo>
                  <a:pt x="709" y="259"/>
                </a:lnTo>
                <a:lnTo>
                  <a:pt x="709" y="268"/>
                </a:lnTo>
                <a:lnTo>
                  <a:pt x="709" y="278"/>
                </a:lnTo>
                <a:lnTo>
                  <a:pt x="701" y="278"/>
                </a:lnTo>
                <a:lnTo>
                  <a:pt x="701" y="288"/>
                </a:lnTo>
                <a:lnTo>
                  <a:pt x="692" y="288"/>
                </a:lnTo>
                <a:lnTo>
                  <a:pt x="685" y="288"/>
                </a:lnTo>
                <a:lnTo>
                  <a:pt x="676" y="288"/>
                </a:lnTo>
                <a:lnTo>
                  <a:pt x="676" y="297"/>
                </a:lnTo>
                <a:lnTo>
                  <a:pt x="676" y="307"/>
                </a:lnTo>
                <a:lnTo>
                  <a:pt x="676" y="317"/>
                </a:lnTo>
                <a:lnTo>
                  <a:pt x="676" y="327"/>
                </a:lnTo>
                <a:lnTo>
                  <a:pt x="676" y="336"/>
                </a:lnTo>
                <a:lnTo>
                  <a:pt x="676" y="346"/>
                </a:lnTo>
                <a:lnTo>
                  <a:pt x="676" y="355"/>
                </a:lnTo>
                <a:lnTo>
                  <a:pt x="676" y="364"/>
                </a:lnTo>
                <a:lnTo>
                  <a:pt x="676" y="374"/>
                </a:lnTo>
                <a:lnTo>
                  <a:pt x="685" y="374"/>
                </a:lnTo>
                <a:lnTo>
                  <a:pt x="685" y="384"/>
                </a:lnTo>
                <a:lnTo>
                  <a:pt x="685" y="393"/>
                </a:lnTo>
                <a:lnTo>
                  <a:pt x="676" y="393"/>
                </a:lnTo>
                <a:lnTo>
                  <a:pt x="676" y="403"/>
                </a:lnTo>
                <a:lnTo>
                  <a:pt x="685" y="403"/>
                </a:lnTo>
                <a:lnTo>
                  <a:pt x="685" y="413"/>
                </a:lnTo>
                <a:lnTo>
                  <a:pt x="676" y="413"/>
                </a:lnTo>
                <a:lnTo>
                  <a:pt x="676" y="423"/>
                </a:lnTo>
                <a:lnTo>
                  <a:pt x="668" y="423"/>
                </a:lnTo>
                <a:lnTo>
                  <a:pt x="659" y="423"/>
                </a:lnTo>
                <a:lnTo>
                  <a:pt x="659" y="432"/>
                </a:lnTo>
                <a:lnTo>
                  <a:pt x="659" y="442"/>
                </a:lnTo>
                <a:lnTo>
                  <a:pt x="650" y="442"/>
                </a:lnTo>
                <a:lnTo>
                  <a:pt x="650" y="451"/>
                </a:lnTo>
                <a:lnTo>
                  <a:pt x="659" y="451"/>
                </a:lnTo>
                <a:lnTo>
                  <a:pt x="659" y="460"/>
                </a:lnTo>
                <a:lnTo>
                  <a:pt x="650" y="460"/>
                </a:lnTo>
                <a:lnTo>
                  <a:pt x="650" y="451"/>
                </a:lnTo>
                <a:lnTo>
                  <a:pt x="642" y="451"/>
                </a:lnTo>
                <a:lnTo>
                  <a:pt x="633" y="451"/>
                </a:lnTo>
                <a:lnTo>
                  <a:pt x="633" y="442"/>
                </a:lnTo>
                <a:lnTo>
                  <a:pt x="633" y="432"/>
                </a:lnTo>
                <a:lnTo>
                  <a:pt x="625" y="432"/>
                </a:lnTo>
                <a:lnTo>
                  <a:pt x="599" y="432"/>
                </a:lnTo>
                <a:lnTo>
                  <a:pt x="599" y="442"/>
                </a:lnTo>
                <a:lnTo>
                  <a:pt x="591" y="442"/>
                </a:lnTo>
                <a:lnTo>
                  <a:pt x="591" y="451"/>
                </a:lnTo>
                <a:lnTo>
                  <a:pt x="582" y="451"/>
                </a:lnTo>
                <a:lnTo>
                  <a:pt x="574" y="451"/>
                </a:lnTo>
                <a:lnTo>
                  <a:pt x="574" y="460"/>
                </a:lnTo>
                <a:lnTo>
                  <a:pt x="565" y="460"/>
                </a:lnTo>
                <a:lnTo>
                  <a:pt x="565" y="470"/>
                </a:lnTo>
                <a:lnTo>
                  <a:pt x="565" y="480"/>
                </a:lnTo>
                <a:lnTo>
                  <a:pt x="565" y="489"/>
                </a:lnTo>
                <a:lnTo>
                  <a:pt x="558" y="489"/>
                </a:lnTo>
                <a:lnTo>
                  <a:pt x="558" y="499"/>
                </a:lnTo>
                <a:lnTo>
                  <a:pt x="565" y="499"/>
                </a:lnTo>
                <a:lnTo>
                  <a:pt x="565" y="509"/>
                </a:lnTo>
                <a:lnTo>
                  <a:pt x="558" y="509"/>
                </a:lnTo>
                <a:lnTo>
                  <a:pt x="558" y="519"/>
                </a:lnTo>
                <a:lnTo>
                  <a:pt x="558" y="528"/>
                </a:lnTo>
                <a:lnTo>
                  <a:pt x="549" y="528"/>
                </a:lnTo>
                <a:lnTo>
                  <a:pt x="549" y="538"/>
                </a:lnTo>
                <a:lnTo>
                  <a:pt x="541" y="538"/>
                </a:lnTo>
                <a:lnTo>
                  <a:pt x="541" y="547"/>
                </a:lnTo>
                <a:lnTo>
                  <a:pt x="541" y="556"/>
                </a:lnTo>
                <a:lnTo>
                  <a:pt x="532" y="556"/>
                </a:lnTo>
                <a:lnTo>
                  <a:pt x="532" y="566"/>
                </a:lnTo>
                <a:lnTo>
                  <a:pt x="532" y="576"/>
                </a:lnTo>
                <a:lnTo>
                  <a:pt x="524" y="57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24" y="556"/>
                </a:lnTo>
                <a:lnTo>
                  <a:pt x="524" y="547"/>
                </a:lnTo>
                <a:lnTo>
                  <a:pt x="524" y="538"/>
                </a:lnTo>
                <a:lnTo>
                  <a:pt x="515" y="538"/>
                </a:lnTo>
                <a:lnTo>
                  <a:pt x="515" y="528"/>
                </a:lnTo>
                <a:lnTo>
                  <a:pt x="507" y="528"/>
                </a:lnTo>
                <a:lnTo>
                  <a:pt x="507" y="519"/>
                </a:lnTo>
                <a:lnTo>
                  <a:pt x="498" y="519"/>
                </a:lnTo>
                <a:lnTo>
                  <a:pt x="498" y="547"/>
                </a:lnTo>
                <a:lnTo>
                  <a:pt x="498" y="556"/>
                </a:lnTo>
                <a:lnTo>
                  <a:pt x="498" y="547"/>
                </a:lnTo>
                <a:lnTo>
                  <a:pt x="490" y="547"/>
                </a:lnTo>
                <a:lnTo>
                  <a:pt x="490" y="538"/>
                </a:lnTo>
                <a:lnTo>
                  <a:pt x="490" y="547"/>
                </a:lnTo>
                <a:lnTo>
                  <a:pt x="481" y="547"/>
                </a:lnTo>
                <a:lnTo>
                  <a:pt x="481" y="556"/>
                </a:lnTo>
                <a:lnTo>
                  <a:pt x="481" y="566"/>
                </a:lnTo>
                <a:lnTo>
                  <a:pt x="473" y="566"/>
                </a:lnTo>
                <a:lnTo>
                  <a:pt x="473" y="576"/>
                </a:lnTo>
                <a:lnTo>
                  <a:pt x="464" y="566"/>
                </a:lnTo>
                <a:lnTo>
                  <a:pt x="464" y="576"/>
                </a:lnTo>
                <a:lnTo>
                  <a:pt x="456" y="576"/>
                </a:lnTo>
                <a:lnTo>
                  <a:pt x="456" y="585"/>
                </a:lnTo>
                <a:lnTo>
                  <a:pt x="456" y="576"/>
                </a:lnTo>
                <a:lnTo>
                  <a:pt x="456" y="585"/>
                </a:lnTo>
                <a:lnTo>
                  <a:pt x="447" y="585"/>
                </a:lnTo>
                <a:lnTo>
                  <a:pt x="447" y="595"/>
                </a:lnTo>
                <a:lnTo>
                  <a:pt x="439" y="595"/>
                </a:lnTo>
                <a:lnTo>
                  <a:pt x="431" y="595"/>
                </a:lnTo>
                <a:lnTo>
                  <a:pt x="431" y="585"/>
                </a:lnTo>
                <a:lnTo>
                  <a:pt x="423" y="585"/>
                </a:lnTo>
                <a:lnTo>
                  <a:pt x="423" y="595"/>
                </a:lnTo>
                <a:lnTo>
                  <a:pt x="414" y="595"/>
                </a:lnTo>
                <a:lnTo>
                  <a:pt x="406" y="595"/>
                </a:lnTo>
                <a:lnTo>
                  <a:pt x="397" y="595"/>
                </a:lnTo>
                <a:lnTo>
                  <a:pt x="406" y="595"/>
                </a:lnTo>
                <a:lnTo>
                  <a:pt x="406" y="585"/>
                </a:lnTo>
                <a:lnTo>
                  <a:pt x="406" y="576"/>
                </a:lnTo>
                <a:lnTo>
                  <a:pt x="406" y="566"/>
                </a:lnTo>
                <a:lnTo>
                  <a:pt x="397" y="566"/>
                </a:lnTo>
                <a:lnTo>
                  <a:pt x="397" y="556"/>
                </a:lnTo>
                <a:lnTo>
                  <a:pt x="389" y="556"/>
                </a:lnTo>
                <a:lnTo>
                  <a:pt x="389" y="547"/>
                </a:lnTo>
                <a:lnTo>
                  <a:pt x="389" y="556"/>
                </a:lnTo>
                <a:lnTo>
                  <a:pt x="389" y="547"/>
                </a:lnTo>
                <a:lnTo>
                  <a:pt x="380" y="547"/>
                </a:lnTo>
                <a:lnTo>
                  <a:pt x="372" y="547"/>
                </a:lnTo>
                <a:lnTo>
                  <a:pt x="372" y="538"/>
                </a:lnTo>
                <a:lnTo>
                  <a:pt x="363" y="538"/>
                </a:lnTo>
                <a:lnTo>
                  <a:pt x="355" y="538"/>
                </a:lnTo>
                <a:lnTo>
                  <a:pt x="346" y="538"/>
                </a:lnTo>
                <a:lnTo>
                  <a:pt x="338" y="538"/>
                </a:lnTo>
                <a:lnTo>
                  <a:pt x="296" y="54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Freeform 21"/>
          <p:cNvSpPr/>
          <p:nvPr/>
        </p:nvSpPr>
        <p:spPr>
          <a:xfrm>
            <a:off x="6475320" y="331920"/>
            <a:ext cx="1204920" cy="95544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759" h="602">
                <a:moveTo>
                  <a:pt x="298" y="553"/>
                </a:moveTo>
                <a:lnTo>
                  <a:pt x="298" y="543"/>
                </a:lnTo>
                <a:lnTo>
                  <a:pt x="298" y="533"/>
                </a:lnTo>
                <a:lnTo>
                  <a:pt x="290" y="533"/>
                </a:lnTo>
                <a:lnTo>
                  <a:pt x="290" y="524"/>
                </a:lnTo>
                <a:lnTo>
                  <a:pt x="290" y="514"/>
                </a:lnTo>
                <a:lnTo>
                  <a:pt x="290" y="504"/>
                </a:lnTo>
                <a:lnTo>
                  <a:pt x="298" y="504"/>
                </a:lnTo>
                <a:lnTo>
                  <a:pt x="298" y="494"/>
                </a:lnTo>
                <a:lnTo>
                  <a:pt x="290" y="494"/>
                </a:lnTo>
                <a:lnTo>
                  <a:pt x="290" y="485"/>
                </a:lnTo>
                <a:lnTo>
                  <a:pt x="298" y="485"/>
                </a:lnTo>
                <a:lnTo>
                  <a:pt x="290" y="48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73" y="485"/>
                </a:lnTo>
                <a:lnTo>
                  <a:pt x="273" y="494"/>
                </a:lnTo>
                <a:lnTo>
                  <a:pt x="264" y="494"/>
                </a:lnTo>
                <a:lnTo>
                  <a:pt x="256" y="494"/>
                </a:lnTo>
                <a:lnTo>
                  <a:pt x="256" y="504"/>
                </a:lnTo>
                <a:lnTo>
                  <a:pt x="256" y="514"/>
                </a:lnTo>
                <a:lnTo>
                  <a:pt x="247" y="514"/>
                </a:lnTo>
                <a:lnTo>
                  <a:pt x="239" y="514"/>
                </a:lnTo>
                <a:lnTo>
                  <a:pt x="230" y="514"/>
                </a:lnTo>
                <a:lnTo>
                  <a:pt x="230" y="504"/>
                </a:lnTo>
                <a:lnTo>
                  <a:pt x="230" y="494"/>
                </a:lnTo>
                <a:lnTo>
                  <a:pt x="230" y="485"/>
                </a:lnTo>
                <a:lnTo>
                  <a:pt x="230" y="475"/>
                </a:lnTo>
                <a:lnTo>
                  <a:pt x="239" y="475"/>
                </a:lnTo>
                <a:lnTo>
                  <a:pt x="247" y="475"/>
                </a:lnTo>
                <a:lnTo>
                  <a:pt x="256" y="475"/>
                </a:lnTo>
                <a:lnTo>
                  <a:pt x="264" y="475"/>
                </a:lnTo>
                <a:lnTo>
                  <a:pt x="264" y="465"/>
                </a:lnTo>
                <a:lnTo>
                  <a:pt x="273" y="465"/>
                </a:lnTo>
                <a:lnTo>
                  <a:pt x="273" y="456"/>
                </a:lnTo>
                <a:lnTo>
                  <a:pt x="273" y="446"/>
                </a:lnTo>
                <a:lnTo>
                  <a:pt x="273" y="436"/>
                </a:lnTo>
                <a:lnTo>
                  <a:pt x="273" y="427"/>
                </a:lnTo>
                <a:lnTo>
                  <a:pt x="281" y="42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64" y="427"/>
                </a:lnTo>
                <a:lnTo>
                  <a:pt x="256" y="427"/>
                </a:lnTo>
                <a:lnTo>
                  <a:pt x="247" y="427"/>
                </a:lnTo>
                <a:lnTo>
                  <a:pt x="239" y="427"/>
                </a:lnTo>
                <a:lnTo>
                  <a:pt x="239" y="417"/>
                </a:lnTo>
                <a:lnTo>
                  <a:pt x="239" y="427"/>
                </a:lnTo>
                <a:lnTo>
                  <a:pt x="239" y="417"/>
                </a:lnTo>
                <a:lnTo>
                  <a:pt x="230" y="417"/>
                </a:lnTo>
                <a:lnTo>
                  <a:pt x="222" y="417"/>
                </a:lnTo>
                <a:lnTo>
                  <a:pt x="222" y="427"/>
                </a:lnTo>
                <a:lnTo>
                  <a:pt x="213" y="427"/>
                </a:lnTo>
                <a:lnTo>
                  <a:pt x="213" y="436"/>
                </a:lnTo>
                <a:lnTo>
                  <a:pt x="213" y="446"/>
                </a:lnTo>
                <a:lnTo>
                  <a:pt x="205" y="436"/>
                </a:lnTo>
                <a:lnTo>
                  <a:pt x="205" y="427"/>
                </a:lnTo>
                <a:lnTo>
                  <a:pt x="196" y="427"/>
                </a:lnTo>
                <a:lnTo>
                  <a:pt x="196" y="436"/>
                </a:lnTo>
                <a:lnTo>
                  <a:pt x="188" y="436"/>
                </a:lnTo>
                <a:lnTo>
                  <a:pt x="188" y="446"/>
                </a:lnTo>
                <a:lnTo>
                  <a:pt x="188" y="456"/>
                </a:lnTo>
                <a:lnTo>
                  <a:pt x="179" y="465"/>
                </a:lnTo>
                <a:lnTo>
                  <a:pt x="179" y="456"/>
                </a:lnTo>
                <a:lnTo>
                  <a:pt x="170" y="456"/>
                </a:lnTo>
                <a:lnTo>
                  <a:pt x="162" y="456"/>
                </a:lnTo>
                <a:lnTo>
                  <a:pt x="162" y="446"/>
                </a:lnTo>
                <a:lnTo>
                  <a:pt x="153" y="446"/>
                </a:lnTo>
                <a:lnTo>
                  <a:pt x="153" y="436"/>
                </a:lnTo>
                <a:lnTo>
                  <a:pt x="153" y="427"/>
                </a:lnTo>
                <a:lnTo>
                  <a:pt x="153" y="417"/>
                </a:lnTo>
                <a:lnTo>
                  <a:pt x="145" y="417"/>
                </a:lnTo>
                <a:lnTo>
                  <a:pt x="145" y="407"/>
                </a:lnTo>
                <a:lnTo>
                  <a:pt x="145" y="397"/>
                </a:lnTo>
                <a:lnTo>
                  <a:pt x="145" y="388"/>
                </a:lnTo>
                <a:lnTo>
                  <a:pt x="136" y="388"/>
                </a:lnTo>
                <a:lnTo>
                  <a:pt x="136" y="397"/>
                </a:lnTo>
                <a:lnTo>
                  <a:pt x="136" y="388"/>
                </a:lnTo>
                <a:lnTo>
                  <a:pt x="128" y="388"/>
                </a:lnTo>
                <a:lnTo>
                  <a:pt x="128" y="378"/>
                </a:lnTo>
                <a:lnTo>
                  <a:pt x="119" y="378"/>
                </a:lnTo>
                <a:lnTo>
                  <a:pt x="119" y="368"/>
                </a:lnTo>
                <a:lnTo>
                  <a:pt x="111" y="368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94" y="349"/>
                </a:lnTo>
                <a:lnTo>
                  <a:pt x="85" y="349"/>
                </a:lnTo>
                <a:lnTo>
                  <a:pt x="77" y="349"/>
                </a:lnTo>
                <a:lnTo>
                  <a:pt x="77" y="339"/>
                </a:lnTo>
                <a:lnTo>
                  <a:pt x="68" y="339"/>
                </a:lnTo>
                <a:lnTo>
                  <a:pt x="60" y="339"/>
                </a:lnTo>
                <a:lnTo>
                  <a:pt x="60" y="330"/>
                </a:lnTo>
                <a:lnTo>
                  <a:pt x="51" y="330"/>
                </a:lnTo>
                <a:lnTo>
                  <a:pt x="51" y="320"/>
                </a:lnTo>
                <a:lnTo>
                  <a:pt x="51" y="330"/>
                </a:lnTo>
                <a:lnTo>
                  <a:pt x="43" y="330"/>
                </a:lnTo>
                <a:lnTo>
                  <a:pt x="43" y="320"/>
                </a:lnTo>
                <a:lnTo>
                  <a:pt x="34" y="320"/>
                </a:lnTo>
                <a:lnTo>
                  <a:pt x="26" y="320"/>
                </a:lnTo>
                <a:lnTo>
                  <a:pt x="26" y="310"/>
                </a:lnTo>
                <a:lnTo>
                  <a:pt x="17" y="310"/>
                </a:lnTo>
                <a:lnTo>
                  <a:pt x="17" y="300"/>
                </a:lnTo>
                <a:lnTo>
                  <a:pt x="17" y="291"/>
                </a:lnTo>
                <a:lnTo>
                  <a:pt x="17" y="281"/>
                </a:lnTo>
                <a:lnTo>
                  <a:pt x="17" y="271"/>
                </a:lnTo>
                <a:lnTo>
                  <a:pt x="9" y="271"/>
                </a:lnTo>
                <a:lnTo>
                  <a:pt x="9" y="262"/>
                </a:lnTo>
                <a:lnTo>
                  <a:pt x="0" y="262"/>
                </a:lnTo>
                <a:lnTo>
                  <a:pt x="9" y="262"/>
                </a:lnTo>
                <a:lnTo>
                  <a:pt x="9" y="252"/>
                </a:lnTo>
                <a:lnTo>
                  <a:pt x="17" y="252"/>
                </a:lnTo>
                <a:lnTo>
                  <a:pt x="26" y="252"/>
                </a:lnTo>
                <a:lnTo>
                  <a:pt x="26" y="242"/>
                </a:lnTo>
                <a:lnTo>
                  <a:pt x="34" y="242"/>
                </a:lnTo>
                <a:lnTo>
                  <a:pt x="34" y="233"/>
                </a:lnTo>
                <a:lnTo>
                  <a:pt x="43" y="233"/>
                </a:lnTo>
                <a:lnTo>
                  <a:pt x="43" y="223"/>
                </a:lnTo>
                <a:lnTo>
                  <a:pt x="34" y="223"/>
                </a:lnTo>
                <a:lnTo>
                  <a:pt x="43" y="213"/>
                </a:lnTo>
                <a:lnTo>
                  <a:pt x="51" y="203"/>
                </a:lnTo>
                <a:lnTo>
                  <a:pt x="60" y="203"/>
                </a:lnTo>
                <a:lnTo>
                  <a:pt x="68" y="203"/>
                </a:lnTo>
                <a:lnTo>
                  <a:pt x="60" y="203"/>
                </a:lnTo>
                <a:lnTo>
                  <a:pt x="60" y="194"/>
                </a:lnTo>
                <a:lnTo>
                  <a:pt x="68" y="194"/>
                </a:lnTo>
                <a:lnTo>
                  <a:pt x="68" y="184"/>
                </a:lnTo>
                <a:lnTo>
                  <a:pt x="77" y="184"/>
                </a:lnTo>
                <a:lnTo>
                  <a:pt x="77" y="174"/>
                </a:lnTo>
                <a:lnTo>
                  <a:pt x="77" y="165"/>
                </a:lnTo>
                <a:lnTo>
                  <a:pt x="85" y="165"/>
                </a:lnTo>
                <a:lnTo>
                  <a:pt x="77" y="16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85" y="126"/>
                </a:lnTo>
                <a:lnTo>
                  <a:pt x="85" y="116"/>
                </a:lnTo>
                <a:lnTo>
                  <a:pt x="85" y="106"/>
                </a:lnTo>
                <a:lnTo>
                  <a:pt x="85" y="97"/>
                </a:lnTo>
                <a:lnTo>
                  <a:pt x="85" y="87"/>
                </a:lnTo>
                <a:lnTo>
                  <a:pt x="119" y="58"/>
                </a:lnTo>
                <a:lnTo>
                  <a:pt x="170" y="29"/>
                </a:lnTo>
                <a:lnTo>
                  <a:pt x="205" y="0"/>
                </a:lnTo>
                <a:lnTo>
                  <a:pt x="213" y="9"/>
                </a:lnTo>
                <a:lnTo>
                  <a:pt x="247" y="29"/>
                </a:lnTo>
                <a:lnTo>
                  <a:pt x="264" y="29"/>
                </a:lnTo>
                <a:lnTo>
                  <a:pt x="273" y="39"/>
                </a:lnTo>
                <a:lnTo>
                  <a:pt x="290" y="48"/>
                </a:lnTo>
                <a:lnTo>
                  <a:pt x="315" y="58"/>
                </a:lnTo>
                <a:lnTo>
                  <a:pt x="332" y="87"/>
                </a:lnTo>
                <a:lnTo>
                  <a:pt x="349" y="87"/>
                </a:lnTo>
                <a:lnTo>
                  <a:pt x="366" y="77"/>
                </a:lnTo>
                <a:lnTo>
                  <a:pt x="375" y="77"/>
                </a:lnTo>
                <a:lnTo>
                  <a:pt x="383" y="58"/>
                </a:lnTo>
                <a:lnTo>
                  <a:pt x="383" y="68"/>
                </a:lnTo>
                <a:lnTo>
                  <a:pt x="392" y="68"/>
                </a:lnTo>
                <a:lnTo>
                  <a:pt x="392" y="77"/>
                </a:lnTo>
                <a:lnTo>
                  <a:pt x="400" y="77"/>
                </a:lnTo>
                <a:lnTo>
                  <a:pt x="392" y="77"/>
                </a:lnTo>
                <a:lnTo>
                  <a:pt x="392" y="87"/>
                </a:lnTo>
                <a:lnTo>
                  <a:pt x="392" y="97"/>
                </a:lnTo>
                <a:lnTo>
                  <a:pt x="400" y="97"/>
                </a:lnTo>
                <a:lnTo>
                  <a:pt x="400" y="106"/>
                </a:lnTo>
                <a:lnTo>
                  <a:pt x="409" y="106"/>
                </a:lnTo>
                <a:lnTo>
                  <a:pt x="409" y="116"/>
                </a:lnTo>
                <a:lnTo>
                  <a:pt x="409" y="106"/>
                </a:lnTo>
                <a:lnTo>
                  <a:pt x="417" y="106"/>
                </a:lnTo>
                <a:lnTo>
                  <a:pt x="417" y="116"/>
                </a:lnTo>
                <a:lnTo>
                  <a:pt x="426" y="116"/>
                </a:lnTo>
                <a:lnTo>
                  <a:pt x="426" y="126"/>
                </a:lnTo>
                <a:lnTo>
                  <a:pt x="434" y="126"/>
                </a:lnTo>
                <a:lnTo>
                  <a:pt x="443" y="126"/>
                </a:lnTo>
                <a:lnTo>
                  <a:pt x="443" y="136"/>
                </a:lnTo>
                <a:lnTo>
                  <a:pt x="451" y="136"/>
                </a:lnTo>
                <a:lnTo>
                  <a:pt x="460" y="136"/>
                </a:lnTo>
                <a:lnTo>
                  <a:pt x="460" y="145"/>
                </a:lnTo>
                <a:lnTo>
                  <a:pt x="468" y="145"/>
                </a:lnTo>
                <a:lnTo>
                  <a:pt x="468" y="155"/>
                </a:lnTo>
                <a:lnTo>
                  <a:pt x="468" y="165"/>
                </a:lnTo>
                <a:lnTo>
                  <a:pt x="468" y="174"/>
                </a:lnTo>
                <a:lnTo>
                  <a:pt x="460" y="174"/>
                </a:lnTo>
                <a:lnTo>
                  <a:pt x="451" y="174"/>
                </a:lnTo>
                <a:lnTo>
                  <a:pt x="451" y="184"/>
                </a:lnTo>
                <a:lnTo>
                  <a:pt x="460" y="184"/>
                </a:lnTo>
                <a:lnTo>
                  <a:pt x="460" y="194"/>
                </a:lnTo>
                <a:lnTo>
                  <a:pt x="468" y="194"/>
                </a:lnTo>
                <a:lnTo>
                  <a:pt x="477" y="194"/>
                </a:lnTo>
                <a:lnTo>
                  <a:pt x="468" y="194"/>
                </a:lnTo>
                <a:lnTo>
                  <a:pt x="477" y="203"/>
                </a:lnTo>
                <a:lnTo>
                  <a:pt x="477" y="194"/>
                </a:lnTo>
                <a:lnTo>
                  <a:pt x="485" y="194"/>
                </a:lnTo>
                <a:lnTo>
                  <a:pt x="485" y="203"/>
                </a:lnTo>
                <a:lnTo>
                  <a:pt x="494" y="203"/>
                </a:lnTo>
                <a:lnTo>
                  <a:pt x="502" y="203"/>
                </a:lnTo>
                <a:lnTo>
                  <a:pt x="511" y="194"/>
                </a:lnTo>
                <a:lnTo>
                  <a:pt x="511" y="203"/>
                </a:lnTo>
                <a:lnTo>
                  <a:pt x="519" y="203"/>
                </a:lnTo>
                <a:lnTo>
                  <a:pt x="519" y="213"/>
                </a:lnTo>
                <a:lnTo>
                  <a:pt x="528" y="213"/>
                </a:lnTo>
                <a:lnTo>
                  <a:pt x="528" y="203"/>
                </a:lnTo>
                <a:lnTo>
                  <a:pt x="536" y="203"/>
                </a:lnTo>
                <a:lnTo>
                  <a:pt x="536" y="213"/>
                </a:lnTo>
                <a:lnTo>
                  <a:pt x="545" y="213"/>
                </a:lnTo>
                <a:lnTo>
                  <a:pt x="553" y="213"/>
                </a:lnTo>
                <a:lnTo>
                  <a:pt x="553" y="203"/>
                </a:lnTo>
                <a:lnTo>
                  <a:pt x="562" y="203"/>
                </a:lnTo>
                <a:lnTo>
                  <a:pt x="562" y="213"/>
                </a:lnTo>
                <a:lnTo>
                  <a:pt x="570" y="213"/>
                </a:lnTo>
                <a:lnTo>
                  <a:pt x="570" y="203"/>
                </a:lnTo>
                <a:lnTo>
                  <a:pt x="570" y="194"/>
                </a:lnTo>
                <a:lnTo>
                  <a:pt x="579" y="194"/>
                </a:lnTo>
                <a:lnTo>
                  <a:pt x="579" y="203"/>
                </a:lnTo>
                <a:lnTo>
                  <a:pt x="587" y="203"/>
                </a:lnTo>
                <a:lnTo>
                  <a:pt x="587" y="213"/>
                </a:lnTo>
                <a:lnTo>
                  <a:pt x="596" y="213"/>
                </a:lnTo>
                <a:lnTo>
                  <a:pt x="596" y="223"/>
                </a:lnTo>
                <a:lnTo>
                  <a:pt x="604" y="223"/>
                </a:lnTo>
                <a:lnTo>
                  <a:pt x="604" y="233"/>
                </a:lnTo>
                <a:lnTo>
                  <a:pt x="613" y="233"/>
                </a:lnTo>
                <a:lnTo>
                  <a:pt x="613" y="242"/>
                </a:lnTo>
                <a:lnTo>
                  <a:pt x="621" y="242"/>
                </a:lnTo>
                <a:lnTo>
                  <a:pt x="630" y="242"/>
                </a:lnTo>
                <a:lnTo>
                  <a:pt x="630" y="252"/>
                </a:lnTo>
                <a:lnTo>
                  <a:pt x="638" y="252"/>
                </a:lnTo>
                <a:lnTo>
                  <a:pt x="638" y="242"/>
                </a:lnTo>
                <a:lnTo>
                  <a:pt x="647" y="242"/>
                </a:lnTo>
                <a:lnTo>
                  <a:pt x="655" y="242"/>
                </a:lnTo>
                <a:lnTo>
                  <a:pt x="664" y="242"/>
                </a:lnTo>
                <a:lnTo>
                  <a:pt x="673" y="242"/>
                </a:lnTo>
                <a:lnTo>
                  <a:pt x="673" y="233"/>
                </a:lnTo>
                <a:lnTo>
                  <a:pt x="681" y="233"/>
                </a:lnTo>
                <a:lnTo>
                  <a:pt x="681" y="223"/>
                </a:lnTo>
                <a:lnTo>
                  <a:pt x="690" y="223"/>
                </a:lnTo>
                <a:lnTo>
                  <a:pt x="698" y="223"/>
                </a:lnTo>
                <a:lnTo>
                  <a:pt x="707" y="223"/>
                </a:lnTo>
                <a:lnTo>
                  <a:pt x="707" y="213"/>
                </a:lnTo>
                <a:lnTo>
                  <a:pt x="715" y="213"/>
                </a:lnTo>
                <a:lnTo>
                  <a:pt x="724" y="213"/>
                </a:lnTo>
                <a:lnTo>
                  <a:pt x="732" y="213"/>
                </a:lnTo>
                <a:lnTo>
                  <a:pt x="741" y="213"/>
                </a:lnTo>
                <a:lnTo>
                  <a:pt x="741" y="223"/>
                </a:lnTo>
                <a:lnTo>
                  <a:pt x="741" y="233"/>
                </a:lnTo>
                <a:lnTo>
                  <a:pt x="741" y="242"/>
                </a:lnTo>
                <a:lnTo>
                  <a:pt x="741" y="252"/>
                </a:lnTo>
                <a:lnTo>
                  <a:pt x="749" y="252"/>
                </a:lnTo>
                <a:lnTo>
                  <a:pt x="758" y="252"/>
                </a:lnTo>
                <a:lnTo>
                  <a:pt x="758" y="262"/>
                </a:lnTo>
                <a:lnTo>
                  <a:pt x="749" y="262"/>
                </a:lnTo>
                <a:lnTo>
                  <a:pt x="741" y="262"/>
                </a:lnTo>
                <a:lnTo>
                  <a:pt x="732" y="262"/>
                </a:lnTo>
                <a:lnTo>
                  <a:pt x="732" y="252"/>
                </a:lnTo>
                <a:lnTo>
                  <a:pt x="724" y="252"/>
                </a:lnTo>
                <a:lnTo>
                  <a:pt x="724" y="262"/>
                </a:lnTo>
                <a:lnTo>
                  <a:pt x="724" y="252"/>
                </a:lnTo>
                <a:lnTo>
                  <a:pt x="724" y="262"/>
                </a:lnTo>
                <a:lnTo>
                  <a:pt x="715" y="262"/>
                </a:lnTo>
                <a:lnTo>
                  <a:pt x="715" y="271"/>
                </a:lnTo>
                <a:lnTo>
                  <a:pt x="715" y="281"/>
                </a:lnTo>
                <a:lnTo>
                  <a:pt x="707" y="281"/>
                </a:lnTo>
                <a:lnTo>
                  <a:pt x="707" y="291"/>
                </a:lnTo>
                <a:lnTo>
                  <a:pt x="698" y="291"/>
                </a:lnTo>
                <a:lnTo>
                  <a:pt x="690" y="291"/>
                </a:lnTo>
                <a:lnTo>
                  <a:pt x="681" y="291"/>
                </a:lnTo>
                <a:lnTo>
                  <a:pt x="681" y="300"/>
                </a:lnTo>
                <a:lnTo>
                  <a:pt x="681" y="310"/>
                </a:lnTo>
                <a:lnTo>
                  <a:pt x="681" y="320"/>
                </a:lnTo>
                <a:lnTo>
                  <a:pt x="681" y="330"/>
                </a:lnTo>
                <a:lnTo>
                  <a:pt x="681" y="339"/>
                </a:lnTo>
                <a:lnTo>
                  <a:pt x="681" y="349"/>
                </a:lnTo>
                <a:lnTo>
                  <a:pt x="681" y="359"/>
                </a:lnTo>
                <a:lnTo>
                  <a:pt x="681" y="368"/>
                </a:lnTo>
                <a:lnTo>
                  <a:pt x="681" y="378"/>
                </a:lnTo>
                <a:lnTo>
                  <a:pt x="690" y="378"/>
                </a:lnTo>
                <a:lnTo>
                  <a:pt x="690" y="388"/>
                </a:lnTo>
                <a:lnTo>
                  <a:pt x="690" y="397"/>
                </a:lnTo>
                <a:lnTo>
                  <a:pt x="681" y="397"/>
                </a:lnTo>
                <a:lnTo>
                  <a:pt x="681" y="407"/>
                </a:lnTo>
                <a:lnTo>
                  <a:pt x="690" y="407"/>
                </a:lnTo>
                <a:lnTo>
                  <a:pt x="690" y="417"/>
                </a:lnTo>
                <a:lnTo>
                  <a:pt x="681" y="417"/>
                </a:lnTo>
                <a:lnTo>
                  <a:pt x="681" y="427"/>
                </a:lnTo>
                <a:lnTo>
                  <a:pt x="673" y="427"/>
                </a:lnTo>
                <a:lnTo>
                  <a:pt x="664" y="427"/>
                </a:lnTo>
                <a:lnTo>
                  <a:pt x="664" y="436"/>
                </a:lnTo>
                <a:lnTo>
                  <a:pt x="664" y="446"/>
                </a:lnTo>
                <a:lnTo>
                  <a:pt x="655" y="446"/>
                </a:lnTo>
                <a:lnTo>
                  <a:pt x="655" y="456"/>
                </a:lnTo>
                <a:lnTo>
                  <a:pt x="664" y="456"/>
                </a:lnTo>
                <a:lnTo>
                  <a:pt x="664" y="465"/>
                </a:lnTo>
                <a:lnTo>
                  <a:pt x="655" y="465"/>
                </a:lnTo>
                <a:lnTo>
                  <a:pt x="655" y="456"/>
                </a:lnTo>
                <a:lnTo>
                  <a:pt x="647" y="456"/>
                </a:lnTo>
                <a:lnTo>
                  <a:pt x="638" y="456"/>
                </a:lnTo>
                <a:lnTo>
                  <a:pt x="638" y="446"/>
                </a:lnTo>
                <a:lnTo>
                  <a:pt x="638" y="436"/>
                </a:lnTo>
                <a:lnTo>
                  <a:pt x="630" y="436"/>
                </a:lnTo>
                <a:lnTo>
                  <a:pt x="604" y="436"/>
                </a:lnTo>
                <a:lnTo>
                  <a:pt x="604" y="446"/>
                </a:lnTo>
                <a:lnTo>
                  <a:pt x="596" y="446"/>
                </a:lnTo>
                <a:lnTo>
                  <a:pt x="596" y="456"/>
                </a:lnTo>
                <a:lnTo>
                  <a:pt x="587" y="456"/>
                </a:lnTo>
                <a:lnTo>
                  <a:pt x="579" y="456"/>
                </a:lnTo>
                <a:lnTo>
                  <a:pt x="579" y="465"/>
                </a:lnTo>
                <a:lnTo>
                  <a:pt x="570" y="465"/>
                </a:lnTo>
                <a:lnTo>
                  <a:pt x="570" y="475"/>
                </a:lnTo>
                <a:lnTo>
                  <a:pt x="570" y="485"/>
                </a:lnTo>
                <a:lnTo>
                  <a:pt x="570" y="494"/>
                </a:lnTo>
                <a:lnTo>
                  <a:pt x="562" y="494"/>
                </a:lnTo>
                <a:lnTo>
                  <a:pt x="562" y="504"/>
                </a:lnTo>
                <a:lnTo>
                  <a:pt x="570" y="504"/>
                </a:lnTo>
                <a:lnTo>
                  <a:pt x="570" y="514"/>
                </a:lnTo>
                <a:lnTo>
                  <a:pt x="562" y="514"/>
                </a:lnTo>
                <a:lnTo>
                  <a:pt x="562" y="524"/>
                </a:lnTo>
                <a:lnTo>
                  <a:pt x="562" y="533"/>
                </a:lnTo>
                <a:lnTo>
                  <a:pt x="553" y="533"/>
                </a:lnTo>
                <a:lnTo>
                  <a:pt x="553" y="543"/>
                </a:lnTo>
                <a:lnTo>
                  <a:pt x="545" y="543"/>
                </a:lnTo>
                <a:lnTo>
                  <a:pt x="545" y="553"/>
                </a:lnTo>
                <a:lnTo>
                  <a:pt x="545" y="562"/>
                </a:lnTo>
                <a:lnTo>
                  <a:pt x="536" y="562"/>
                </a:lnTo>
                <a:lnTo>
                  <a:pt x="536" y="572"/>
                </a:lnTo>
                <a:lnTo>
                  <a:pt x="536" y="582"/>
                </a:lnTo>
                <a:lnTo>
                  <a:pt x="528" y="58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28" y="562"/>
                </a:lnTo>
                <a:lnTo>
                  <a:pt x="528" y="553"/>
                </a:lnTo>
                <a:lnTo>
                  <a:pt x="528" y="54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53"/>
                </a:lnTo>
                <a:lnTo>
                  <a:pt x="502" y="562"/>
                </a:lnTo>
                <a:lnTo>
                  <a:pt x="502" y="553"/>
                </a:lnTo>
                <a:lnTo>
                  <a:pt x="494" y="553"/>
                </a:lnTo>
                <a:lnTo>
                  <a:pt x="494" y="543"/>
                </a:lnTo>
                <a:lnTo>
                  <a:pt x="494" y="553"/>
                </a:lnTo>
                <a:lnTo>
                  <a:pt x="485" y="553"/>
                </a:lnTo>
                <a:lnTo>
                  <a:pt x="485" y="562"/>
                </a:lnTo>
                <a:lnTo>
                  <a:pt x="485" y="572"/>
                </a:lnTo>
                <a:lnTo>
                  <a:pt x="477" y="572"/>
                </a:lnTo>
                <a:lnTo>
                  <a:pt x="477" y="582"/>
                </a:lnTo>
                <a:lnTo>
                  <a:pt x="468" y="572"/>
                </a:lnTo>
                <a:lnTo>
                  <a:pt x="468" y="582"/>
                </a:lnTo>
                <a:lnTo>
                  <a:pt x="460" y="582"/>
                </a:lnTo>
                <a:lnTo>
                  <a:pt x="460" y="591"/>
                </a:lnTo>
                <a:lnTo>
                  <a:pt x="460" y="582"/>
                </a:lnTo>
                <a:lnTo>
                  <a:pt x="460" y="591"/>
                </a:lnTo>
                <a:lnTo>
                  <a:pt x="451" y="591"/>
                </a:lnTo>
                <a:lnTo>
                  <a:pt x="451" y="601"/>
                </a:lnTo>
                <a:lnTo>
                  <a:pt x="443" y="601"/>
                </a:lnTo>
                <a:lnTo>
                  <a:pt x="434" y="601"/>
                </a:lnTo>
                <a:lnTo>
                  <a:pt x="434" y="591"/>
                </a:lnTo>
                <a:lnTo>
                  <a:pt x="426" y="591"/>
                </a:lnTo>
                <a:lnTo>
                  <a:pt x="426" y="601"/>
                </a:lnTo>
                <a:lnTo>
                  <a:pt x="417" y="601"/>
                </a:lnTo>
                <a:lnTo>
                  <a:pt x="409" y="601"/>
                </a:lnTo>
                <a:lnTo>
                  <a:pt x="400" y="601"/>
                </a:lnTo>
                <a:lnTo>
                  <a:pt x="409" y="601"/>
                </a:lnTo>
                <a:lnTo>
                  <a:pt x="409" y="591"/>
                </a:lnTo>
                <a:lnTo>
                  <a:pt x="409" y="582"/>
                </a:lnTo>
                <a:lnTo>
                  <a:pt x="409" y="572"/>
                </a:lnTo>
                <a:lnTo>
                  <a:pt x="400" y="572"/>
                </a:lnTo>
                <a:lnTo>
                  <a:pt x="400" y="562"/>
                </a:lnTo>
                <a:lnTo>
                  <a:pt x="392" y="562"/>
                </a:lnTo>
                <a:lnTo>
                  <a:pt x="392" y="553"/>
                </a:lnTo>
                <a:lnTo>
                  <a:pt x="392" y="562"/>
                </a:lnTo>
                <a:lnTo>
                  <a:pt x="392" y="553"/>
                </a:lnTo>
                <a:lnTo>
                  <a:pt x="383" y="553"/>
                </a:lnTo>
                <a:lnTo>
                  <a:pt x="375" y="553"/>
                </a:lnTo>
                <a:lnTo>
                  <a:pt x="375" y="543"/>
                </a:lnTo>
                <a:lnTo>
                  <a:pt x="366" y="543"/>
                </a:lnTo>
                <a:lnTo>
                  <a:pt x="358" y="543"/>
                </a:lnTo>
                <a:lnTo>
                  <a:pt x="349" y="543"/>
                </a:lnTo>
                <a:lnTo>
                  <a:pt x="341" y="543"/>
                </a:lnTo>
                <a:lnTo>
                  <a:pt x="298" y="553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Freeform 22"/>
          <p:cNvSpPr/>
          <p:nvPr/>
        </p:nvSpPr>
        <p:spPr>
          <a:xfrm>
            <a:off x="5651640" y="192240"/>
            <a:ext cx="1060200" cy="1547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668" h="975">
                <a:moveTo>
                  <a:pt x="380" y="820"/>
                </a:moveTo>
                <a:lnTo>
                  <a:pt x="389" y="820"/>
                </a:lnTo>
                <a:lnTo>
                  <a:pt x="397" y="820"/>
                </a:lnTo>
                <a:lnTo>
                  <a:pt x="406" y="820"/>
                </a:lnTo>
                <a:lnTo>
                  <a:pt x="414" y="820"/>
                </a:lnTo>
                <a:lnTo>
                  <a:pt x="423" y="820"/>
                </a:lnTo>
                <a:lnTo>
                  <a:pt x="431" y="820"/>
                </a:lnTo>
                <a:lnTo>
                  <a:pt x="431" y="810"/>
                </a:lnTo>
                <a:lnTo>
                  <a:pt x="440" y="810"/>
                </a:lnTo>
                <a:lnTo>
                  <a:pt x="440" y="801"/>
                </a:lnTo>
                <a:lnTo>
                  <a:pt x="440" y="791"/>
                </a:lnTo>
                <a:lnTo>
                  <a:pt x="440" y="781"/>
                </a:lnTo>
                <a:lnTo>
                  <a:pt x="448" y="781"/>
                </a:lnTo>
                <a:lnTo>
                  <a:pt x="448" y="771"/>
                </a:lnTo>
                <a:lnTo>
                  <a:pt x="448" y="762"/>
                </a:lnTo>
                <a:lnTo>
                  <a:pt x="440" y="762"/>
                </a:lnTo>
                <a:lnTo>
                  <a:pt x="440" y="752"/>
                </a:lnTo>
                <a:lnTo>
                  <a:pt x="431" y="752"/>
                </a:lnTo>
                <a:lnTo>
                  <a:pt x="423" y="752"/>
                </a:lnTo>
                <a:lnTo>
                  <a:pt x="423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14" y="752"/>
                </a:lnTo>
                <a:lnTo>
                  <a:pt x="414" y="742"/>
                </a:lnTo>
                <a:lnTo>
                  <a:pt x="406" y="742"/>
                </a:lnTo>
                <a:lnTo>
                  <a:pt x="406" y="733"/>
                </a:lnTo>
                <a:lnTo>
                  <a:pt x="397" y="733"/>
                </a:lnTo>
                <a:lnTo>
                  <a:pt x="397" y="724"/>
                </a:lnTo>
                <a:lnTo>
                  <a:pt x="397" y="733"/>
                </a:lnTo>
                <a:lnTo>
                  <a:pt x="397" y="724"/>
                </a:lnTo>
                <a:lnTo>
                  <a:pt x="397" y="714"/>
                </a:lnTo>
                <a:lnTo>
                  <a:pt x="397" y="705"/>
                </a:lnTo>
                <a:lnTo>
                  <a:pt x="397" y="695"/>
                </a:lnTo>
                <a:lnTo>
                  <a:pt x="397" y="685"/>
                </a:lnTo>
                <a:lnTo>
                  <a:pt x="397" y="675"/>
                </a:lnTo>
                <a:lnTo>
                  <a:pt x="397" y="666"/>
                </a:lnTo>
                <a:lnTo>
                  <a:pt x="397" y="656"/>
                </a:lnTo>
                <a:lnTo>
                  <a:pt x="397" y="646"/>
                </a:lnTo>
                <a:lnTo>
                  <a:pt x="397" y="637"/>
                </a:lnTo>
                <a:lnTo>
                  <a:pt x="389" y="637"/>
                </a:lnTo>
                <a:lnTo>
                  <a:pt x="397" y="637"/>
                </a:lnTo>
                <a:lnTo>
                  <a:pt x="397" y="646"/>
                </a:lnTo>
                <a:lnTo>
                  <a:pt x="406" y="646"/>
                </a:lnTo>
                <a:lnTo>
                  <a:pt x="406" y="656"/>
                </a:lnTo>
                <a:lnTo>
                  <a:pt x="397" y="656"/>
                </a:lnTo>
                <a:lnTo>
                  <a:pt x="397" y="666"/>
                </a:lnTo>
                <a:lnTo>
                  <a:pt x="406" y="666"/>
                </a:lnTo>
                <a:lnTo>
                  <a:pt x="406" y="675"/>
                </a:lnTo>
                <a:lnTo>
                  <a:pt x="414" y="675"/>
                </a:lnTo>
                <a:lnTo>
                  <a:pt x="414" y="685"/>
                </a:lnTo>
                <a:lnTo>
                  <a:pt x="414" y="675"/>
                </a:lnTo>
                <a:lnTo>
                  <a:pt x="414" y="685"/>
                </a:lnTo>
                <a:lnTo>
                  <a:pt x="423" y="685"/>
                </a:lnTo>
                <a:lnTo>
                  <a:pt x="431" y="685"/>
                </a:lnTo>
                <a:lnTo>
                  <a:pt x="440" y="685"/>
                </a:lnTo>
                <a:lnTo>
                  <a:pt x="448" y="685"/>
                </a:lnTo>
                <a:lnTo>
                  <a:pt x="440" y="685"/>
                </a:lnTo>
                <a:lnTo>
                  <a:pt x="448" y="685"/>
                </a:lnTo>
                <a:lnTo>
                  <a:pt x="448" y="695"/>
                </a:lnTo>
                <a:lnTo>
                  <a:pt x="457" y="695"/>
                </a:lnTo>
                <a:lnTo>
                  <a:pt x="457" y="685"/>
                </a:lnTo>
                <a:lnTo>
                  <a:pt x="465" y="685"/>
                </a:lnTo>
                <a:lnTo>
                  <a:pt x="473" y="685"/>
                </a:lnTo>
                <a:lnTo>
                  <a:pt x="481" y="685"/>
                </a:lnTo>
                <a:lnTo>
                  <a:pt x="473" y="685"/>
                </a:lnTo>
                <a:lnTo>
                  <a:pt x="481" y="685"/>
                </a:lnTo>
                <a:lnTo>
                  <a:pt x="481" y="695"/>
                </a:lnTo>
                <a:lnTo>
                  <a:pt x="490" y="69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705"/>
                </a:lnTo>
                <a:lnTo>
                  <a:pt x="490" y="705"/>
                </a:lnTo>
                <a:lnTo>
                  <a:pt x="490" y="69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507" y="695"/>
                </a:lnTo>
                <a:lnTo>
                  <a:pt x="515" y="695"/>
                </a:lnTo>
                <a:lnTo>
                  <a:pt x="515" y="685"/>
                </a:lnTo>
                <a:lnTo>
                  <a:pt x="515" y="675"/>
                </a:lnTo>
                <a:lnTo>
                  <a:pt x="515" y="666"/>
                </a:lnTo>
                <a:lnTo>
                  <a:pt x="515" y="675"/>
                </a:lnTo>
                <a:lnTo>
                  <a:pt x="524" y="675"/>
                </a:lnTo>
                <a:lnTo>
                  <a:pt x="524" y="685"/>
                </a:lnTo>
                <a:lnTo>
                  <a:pt x="532" y="685"/>
                </a:lnTo>
                <a:lnTo>
                  <a:pt x="532" y="695"/>
                </a:lnTo>
                <a:lnTo>
                  <a:pt x="541" y="695"/>
                </a:lnTo>
                <a:lnTo>
                  <a:pt x="549" y="705"/>
                </a:lnTo>
                <a:lnTo>
                  <a:pt x="566" y="705"/>
                </a:lnTo>
                <a:lnTo>
                  <a:pt x="575" y="705"/>
                </a:lnTo>
                <a:lnTo>
                  <a:pt x="575" y="695"/>
                </a:lnTo>
                <a:lnTo>
                  <a:pt x="583" y="695"/>
                </a:lnTo>
                <a:lnTo>
                  <a:pt x="583" y="685"/>
                </a:lnTo>
                <a:lnTo>
                  <a:pt x="592" y="685"/>
                </a:lnTo>
                <a:lnTo>
                  <a:pt x="600" y="685"/>
                </a:lnTo>
                <a:lnTo>
                  <a:pt x="600" y="675"/>
                </a:lnTo>
                <a:lnTo>
                  <a:pt x="608" y="675"/>
                </a:lnTo>
                <a:lnTo>
                  <a:pt x="608" y="666"/>
                </a:lnTo>
                <a:lnTo>
                  <a:pt x="600" y="666"/>
                </a:lnTo>
                <a:lnTo>
                  <a:pt x="600" y="656"/>
                </a:lnTo>
                <a:lnTo>
                  <a:pt x="600" y="646"/>
                </a:lnTo>
                <a:lnTo>
                  <a:pt x="608" y="646"/>
                </a:lnTo>
                <a:lnTo>
                  <a:pt x="600" y="646"/>
                </a:lnTo>
                <a:lnTo>
                  <a:pt x="608" y="646"/>
                </a:lnTo>
                <a:lnTo>
                  <a:pt x="608" y="637"/>
                </a:lnTo>
                <a:lnTo>
                  <a:pt x="608" y="627"/>
                </a:lnTo>
                <a:lnTo>
                  <a:pt x="608" y="617"/>
                </a:lnTo>
                <a:lnTo>
                  <a:pt x="616" y="617"/>
                </a:lnTo>
                <a:lnTo>
                  <a:pt x="616" y="608"/>
                </a:lnTo>
                <a:lnTo>
                  <a:pt x="625" y="608"/>
                </a:lnTo>
                <a:lnTo>
                  <a:pt x="625" y="598"/>
                </a:lnTo>
                <a:lnTo>
                  <a:pt x="625" y="588"/>
                </a:lnTo>
                <a:lnTo>
                  <a:pt x="625" y="578"/>
                </a:lnTo>
                <a:lnTo>
                  <a:pt x="633" y="578"/>
                </a:lnTo>
                <a:lnTo>
                  <a:pt x="642" y="578"/>
                </a:lnTo>
                <a:lnTo>
                  <a:pt x="642" y="588"/>
                </a:lnTo>
                <a:lnTo>
                  <a:pt x="650" y="588"/>
                </a:lnTo>
                <a:lnTo>
                  <a:pt x="659" y="588"/>
                </a:lnTo>
                <a:lnTo>
                  <a:pt x="659" y="578"/>
                </a:lnTo>
                <a:lnTo>
                  <a:pt x="659" y="569"/>
                </a:lnTo>
                <a:lnTo>
                  <a:pt x="667" y="569"/>
                </a:lnTo>
                <a:lnTo>
                  <a:pt x="667" y="560"/>
                </a:lnTo>
                <a:lnTo>
                  <a:pt x="667" y="550"/>
                </a:lnTo>
                <a:lnTo>
                  <a:pt x="659" y="550"/>
                </a:lnTo>
                <a:lnTo>
                  <a:pt x="659" y="541"/>
                </a:lnTo>
                <a:lnTo>
                  <a:pt x="667" y="531"/>
                </a:lnTo>
                <a:lnTo>
                  <a:pt x="667" y="521"/>
                </a:lnTo>
                <a:lnTo>
                  <a:pt x="667" y="512"/>
                </a:lnTo>
                <a:lnTo>
                  <a:pt x="667" y="502"/>
                </a:lnTo>
                <a:lnTo>
                  <a:pt x="659" y="502"/>
                </a:lnTo>
                <a:lnTo>
                  <a:pt x="659" y="492"/>
                </a:lnTo>
                <a:lnTo>
                  <a:pt x="659" y="482"/>
                </a:lnTo>
                <a:lnTo>
                  <a:pt x="659" y="473"/>
                </a:lnTo>
                <a:lnTo>
                  <a:pt x="650" y="473"/>
                </a:lnTo>
                <a:lnTo>
                  <a:pt x="650" y="482"/>
                </a:lnTo>
                <a:lnTo>
                  <a:pt x="650" y="473"/>
                </a:lnTo>
                <a:lnTo>
                  <a:pt x="642" y="473"/>
                </a:lnTo>
                <a:lnTo>
                  <a:pt x="642" y="463"/>
                </a:lnTo>
                <a:lnTo>
                  <a:pt x="633" y="463"/>
                </a:lnTo>
                <a:lnTo>
                  <a:pt x="633" y="453"/>
                </a:lnTo>
                <a:lnTo>
                  <a:pt x="625" y="453"/>
                </a:lnTo>
                <a:lnTo>
                  <a:pt x="625" y="444"/>
                </a:lnTo>
                <a:lnTo>
                  <a:pt x="616" y="444"/>
                </a:lnTo>
                <a:lnTo>
                  <a:pt x="616" y="434"/>
                </a:lnTo>
                <a:lnTo>
                  <a:pt x="608" y="434"/>
                </a:lnTo>
                <a:lnTo>
                  <a:pt x="600" y="434"/>
                </a:lnTo>
                <a:lnTo>
                  <a:pt x="592" y="434"/>
                </a:lnTo>
                <a:lnTo>
                  <a:pt x="592" y="424"/>
                </a:lnTo>
                <a:lnTo>
                  <a:pt x="583" y="424"/>
                </a:lnTo>
                <a:lnTo>
                  <a:pt x="575" y="424"/>
                </a:lnTo>
                <a:lnTo>
                  <a:pt x="575" y="415"/>
                </a:lnTo>
                <a:lnTo>
                  <a:pt x="566" y="415"/>
                </a:lnTo>
                <a:lnTo>
                  <a:pt x="566" y="406"/>
                </a:lnTo>
                <a:lnTo>
                  <a:pt x="566" y="415"/>
                </a:lnTo>
                <a:lnTo>
                  <a:pt x="558" y="415"/>
                </a:lnTo>
                <a:lnTo>
                  <a:pt x="558" y="406"/>
                </a:lnTo>
                <a:lnTo>
                  <a:pt x="549" y="406"/>
                </a:lnTo>
                <a:lnTo>
                  <a:pt x="541" y="406"/>
                </a:lnTo>
                <a:lnTo>
                  <a:pt x="541" y="396"/>
                </a:lnTo>
                <a:lnTo>
                  <a:pt x="532" y="396"/>
                </a:lnTo>
                <a:lnTo>
                  <a:pt x="532" y="386"/>
                </a:lnTo>
                <a:lnTo>
                  <a:pt x="532" y="377"/>
                </a:lnTo>
                <a:lnTo>
                  <a:pt x="532" y="367"/>
                </a:lnTo>
                <a:lnTo>
                  <a:pt x="532" y="357"/>
                </a:lnTo>
                <a:lnTo>
                  <a:pt x="524" y="357"/>
                </a:lnTo>
                <a:lnTo>
                  <a:pt x="524" y="348"/>
                </a:lnTo>
                <a:lnTo>
                  <a:pt x="515" y="348"/>
                </a:lnTo>
                <a:lnTo>
                  <a:pt x="524" y="348"/>
                </a:lnTo>
                <a:lnTo>
                  <a:pt x="524" y="338"/>
                </a:lnTo>
                <a:lnTo>
                  <a:pt x="532" y="338"/>
                </a:lnTo>
                <a:lnTo>
                  <a:pt x="541" y="338"/>
                </a:lnTo>
                <a:lnTo>
                  <a:pt x="541" y="328"/>
                </a:lnTo>
                <a:lnTo>
                  <a:pt x="549" y="328"/>
                </a:lnTo>
                <a:lnTo>
                  <a:pt x="549" y="319"/>
                </a:lnTo>
                <a:lnTo>
                  <a:pt x="558" y="319"/>
                </a:lnTo>
                <a:lnTo>
                  <a:pt x="558" y="309"/>
                </a:lnTo>
                <a:lnTo>
                  <a:pt x="549" y="309"/>
                </a:lnTo>
                <a:lnTo>
                  <a:pt x="558" y="299"/>
                </a:lnTo>
                <a:lnTo>
                  <a:pt x="566" y="289"/>
                </a:lnTo>
                <a:lnTo>
                  <a:pt x="575" y="289"/>
                </a:lnTo>
                <a:lnTo>
                  <a:pt x="583" y="289"/>
                </a:lnTo>
                <a:lnTo>
                  <a:pt x="575" y="289"/>
                </a:lnTo>
                <a:lnTo>
                  <a:pt x="575" y="280"/>
                </a:lnTo>
                <a:lnTo>
                  <a:pt x="583" y="280"/>
                </a:lnTo>
                <a:lnTo>
                  <a:pt x="583" y="270"/>
                </a:lnTo>
                <a:lnTo>
                  <a:pt x="592" y="270"/>
                </a:lnTo>
                <a:lnTo>
                  <a:pt x="592" y="260"/>
                </a:lnTo>
                <a:lnTo>
                  <a:pt x="592" y="251"/>
                </a:lnTo>
                <a:lnTo>
                  <a:pt x="600" y="251"/>
                </a:lnTo>
                <a:lnTo>
                  <a:pt x="592" y="251"/>
                </a:lnTo>
                <a:lnTo>
                  <a:pt x="600" y="251"/>
                </a:lnTo>
                <a:lnTo>
                  <a:pt x="600" y="242"/>
                </a:lnTo>
                <a:lnTo>
                  <a:pt x="600" y="232"/>
                </a:lnTo>
                <a:lnTo>
                  <a:pt x="600" y="223"/>
                </a:lnTo>
                <a:lnTo>
                  <a:pt x="600" y="213"/>
                </a:lnTo>
                <a:lnTo>
                  <a:pt x="600" y="203"/>
                </a:lnTo>
                <a:lnTo>
                  <a:pt x="600" y="193"/>
                </a:lnTo>
                <a:lnTo>
                  <a:pt x="600" y="184"/>
                </a:lnTo>
                <a:lnTo>
                  <a:pt x="600" y="174"/>
                </a:lnTo>
                <a:lnTo>
                  <a:pt x="583" y="184"/>
                </a:lnTo>
                <a:lnTo>
                  <a:pt x="575" y="174"/>
                </a:lnTo>
                <a:lnTo>
                  <a:pt x="566" y="174"/>
                </a:lnTo>
                <a:lnTo>
                  <a:pt x="558" y="164"/>
                </a:lnTo>
                <a:lnTo>
                  <a:pt x="549" y="164"/>
                </a:lnTo>
                <a:lnTo>
                  <a:pt x="541" y="164"/>
                </a:lnTo>
                <a:lnTo>
                  <a:pt x="532" y="164"/>
                </a:lnTo>
                <a:lnTo>
                  <a:pt x="532" y="155"/>
                </a:lnTo>
                <a:lnTo>
                  <a:pt x="524" y="155"/>
                </a:lnTo>
                <a:lnTo>
                  <a:pt x="515" y="155"/>
                </a:lnTo>
                <a:lnTo>
                  <a:pt x="507" y="145"/>
                </a:lnTo>
                <a:lnTo>
                  <a:pt x="498" y="145"/>
                </a:lnTo>
                <a:lnTo>
                  <a:pt x="490" y="145"/>
                </a:lnTo>
                <a:lnTo>
                  <a:pt x="490" y="135"/>
                </a:lnTo>
                <a:lnTo>
                  <a:pt x="481" y="135"/>
                </a:lnTo>
                <a:lnTo>
                  <a:pt x="473" y="135"/>
                </a:lnTo>
                <a:lnTo>
                  <a:pt x="465" y="126"/>
                </a:lnTo>
                <a:lnTo>
                  <a:pt x="457" y="126"/>
                </a:lnTo>
                <a:lnTo>
                  <a:pt x="440" y="116"/>
                </a:lnTo>
                <a:lnTo>
                  <a:pt x="431" y="116"/>
                </a:lnTo>
                <a:lnTo>
                  <a:pt x="414" y="106"/>
                </a:lnTo>
                <a:lnTo>
                  <a:pt x="406" y="106"/>
                </a:lnTo>
                <a:lnTo>
                  <a:pt x="330" y="59"/>
                </a:lnTo>
                <a:lnTo>
                  <a:pt x="296" y="59"/>
                </a:lnTo>
                <a:lnTo>
                  <a:pt x="245" y="39"/>
                </a:lnTo>
                <a:lnTo>
                  <a:pt x="237" y="30"/>
                </a:lnTo>
                <a:lnTo>
                  <a:pt x="237" y="20"/>
                </a:lnTo>
                <a:lnTo>
                  <a:pt x="228" y="20"/>
                </a:lnTo>
                <a:lnTo>
                  <a:pt x="219" y="10"/>
                </a:lnTo>
                <a:lnTo>
                  <a:pt x="211" y="0"/>
                </a:lnTo>
                <a:lnTo>
                  <a:pt x="202" y="0"/>
                </a:lnTo>
                <a:lnTo>
                  <a:pt x="195" y="0"/>
                </a:lnTo>
                <a:lnTo>
                  <a:pt x="186" y="0"/>
                </a:lnTo>
                <a:lnTo>
                  <a:pt x="186" y="10"/>
                </a:lnTo>
                <a:lnTo>
                  <a:pt x="178" y="20"/>
                </a:lnTo>
                <a:lnTo>
                  <a:pt x="178" y="30"/>
                </a:lnTo>
                <a:lnTo>
                  <a:pt x="169" y="39"/>
                </a:lnTo>
                <a:lnTo>
                  <a:pt x="161" y="49"/>
                </a:lnTo>
                <a:lnTo>
                  <a:pt x="161" y="59"/>
                </a:lnTo>
                <a:lnTo>
                  <a:pt x="161" y="68"/>
                </a:lnTo>
                <a:lnTo>
                  <a:pt x="144" y="87"/>
                </a:lnTo>
                <a:lnTo>
                  <a:pt x="144" y="96"/>
                </a:lnTo>
                <a:lnTo>
                  <a:pt x="152" y="96"/>
                </a:lnTo>
                <a:lnTo>
                  <a:pt x="152" y="106"/>
                </a:lnTo>
                <a:lnTo>
                  <a:pt x="161" y="106"/>
                </a:lnTo>
                <a:lnTo>
                  <a:pt x="161" y="116"/>
                </a:lnTo>
                <a:lnTo>
                  <a:pt x="152" y="116"/>
                </a:lnTo>
                <a:lnTo>
                  <a:pt x="152" y="126"/>
                </a:lnTo>
                <a:lnTo>
                  <a:pt x="144" y="126"/>
                </a:lnTo>
                <a:lnTo>
                  <a:pt x="135" y="126"/>
                </a:lnTo>
                <a:lnTo>
                  <a:pt x="127" y="126"/>
                </a:lnTo>
                <a:lnTo>
                  <a:pt x="127" y="116"/>
                </a:lnTo>
                <a:lnTo>
                  <a:pt x="127" y="106"/>
                </a:lnTo>
                <a:lnTo>
                  <a:pt x="118" y="106"/>
                </a:lnTo>
                <a:lnTo>
                  <a:pt x="118" y="116"/>
                </a:lnTo>
                <a:lnTo>
                  <a:pt x="118" y="126"/>
                </a:lnTo>
                <a:lnTo>
                  <a:pt x="110" y="126"/>
                </a:lnTo>
                <a:lnTo>
                  <a:pt x="110" y="116"/>
                </a:lnTo>
                <a:lnTo>
                  <a:pt x="110" y="126"/>
                </a:lnTo>
                <a:lnTo>
                  <a:pt x="110" y="135"/>
                </a:lnTo>
                <a:lnTo>
                  <a:pt x="118" y="135"/>
                </a:lnTo>
                <a:lnTo>
                  <a:pt x="127" y="135"/>
                </a:lnTo>
                <a:lnTo>
                  <a:pt x="127" y="145"/>
                </a:lnTo>
                <a:lnTo>
                  <a:pt x="135" y="145"/>
                </a:lnTo>
                <a:lnTo>
                  <a:pt x="135" y="155"/>
                </a:lnTo>
                <a:lnTo>
                  <a:pt x="144" y="155"/>
                </a:lnTo>
                <a:lnTo>
                  <a:pt x="144" y="164"/>
                </a:lnTo>
                <a:lnTo>
                  <a:pt x="135" y="164"/>
                </a:lnTo>
                <a:lnTo>
                  <a:pt x="135" y="174"/>
                </a:lnTo>
                <a:lnTo>
                  <a:pt x="127" y="174"/>
                </a:lnTo>
                <a:lnTo>
                  <a:pt x="135" y="174"/>
                </a:lnTo>
                <a:lnTo>
                  <a:pt x="135" y="184"/>
                </a:lnTo>
                <a:lnTo>
                  <a:pt x="127" y="184"/>
                </a:lnTo>
                <a:lnTo>
                  <a:pt x="127" y="193"/>
                </a:lnTo>
                <a:lnTo>
                  <a:pt x="135" y="193"/>
                </a:lnTo>
                <a:lnTo>
                  <a:pt x="127" y="193"/>
                </a:lnTo>
                <a:lnTo>
                  <a:pt x="127" y="184"/>
                </a:lnTo>
                <a:lnTo>
                  <a:pt x="118" y="184"/>
                </a:lnTo>
                <a:lnTo>
                  <a:pt x="110" y="184"/>
                </a:lnTo>
                <a:lnTo>
                  <a:pt x="101" y="184"/>
                </a:lnTo>
                <a:lnTo>
                  <a:pt x="93" y="184"/>
                </a:lnTo>
                <a:lnTo>
                  <a:pt x="84" y="184"/>
                </a:lnTo>
                <a:lnTo>
                  <a:pt x="84" y="193"/>
                </a:lnTo>
                <a:lnTo>
                  <a:pt x="93" y="193"/>
                </a:lnTo>
                <a:lnTo>
                  <a:pt x="93" y="203"/>
                </a:lnTo>
                <a:lnTo>
                  <a:pt x="84" y="203"/>
                </a:lnTo>
                <a:lnTo>
                  <a:pt x="76" y="203"/>
                </a:lnTo>
                <a:lnTo>
                  <a:pt x="76" y="193"/>
                </a:lnTo>
                <a:lnTo>
                  <a:pt x="67" y="193"/>
                </a:lnTo>
                <a:lnTo>
                  <a:pt x="67" y="184"/>
                </a:lnTo>
                <a:lnTo>
                  <a:pt x="76" y="184"/>
                </a:lnTo>
                <a:lnTo>
                  <a:pt x="76" y="17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0" y="184"/>
                </a:lnTo>
                <a:lnTo>
                  <a:pt x="60" y="174"/>
                </a:lnTo>
                <a:lnTo>
                  <a:pt x="51" y="174"/>
                </a:lnTo>
                <a:lnTo>
                  <a:pt x="43" y="174"/>
                </a:lnTo>
                <a:lnTo>
                  <a:pt x="34" y="174"/>
                </a:lnTo>
                <a:lnTo>
                  <a:pt x="43" y="184"/>
                </a:lnTo>
                <a:lnTo>
                  <a:pt x="51" y="184"/>
                </a:lnTo>
                <a:lnTo>
                  <a:pt x="43" y="193"/>
                </a:lnTo>
                <a:lnTo>
                  <a:pt x="34" y="193"/>
                </a:lnTo>
                <a:lnTo>
                  <a:pt x="26" y="203"/>
                </a:lnTo>
                <a:lnTo>
                  <a:pt x="17" y="203"/>
                </a:lnTo>
                <a:lnTo>
                  <a:pt x="9" y="203"/>
                </a:lnTo>
                <a:lnTo>
                  <a:pt x="9" y="213"/>
                </a:lnTo>
                <a:lnTo>
                  <a:pt x="0" y="213"/>
                </a:lnTo>
                <a:lnTo>
                  <a:pt x="9" y="213"/>
                </a:lnTo>
                <a:lnTo>
                  <a:pt x="17" y="213"/>
                </a:lnTo>
                <a:lnTo>
                  <a:pt x="26" y="213"/>
                </a:lnTo>
                <a:lnTo>
                  <a:pt x="34" y="213"/>
                </a:lnTo>
                <a:lnTo>
                  <a:pt x="34" y="223"/>
                </a:lnTo>
                <a:lnTo>
                  <a:pt x="43" y="223"/>
                </a:lnTo>
                <a:lnTo>
                  <a:pt x="51" y="232"/>
                </a:lnTo>
                <a:lnTo>
                  <a:pt x="51" y="242"/>
                </a:lnTo>
                <a:lnTo>
                  <a:pt x="51" y="232"/>
                </a:lnTo>
                <a:lnTo>
                  <a:pt x="60" y="232"/>
                </a:lnTo>
                <a:lnTo>
                  <a:pt x="60" y="242"/>
                </a:lnTo>
                <a:lnTo>
                  <a:pt x="67" y="242"/>
                </a:lnTo>
                <a:lnTo>
                  <a:pt x="76" y="242"/>
                </a:lnTo>
                <a:lnTo>
                  <a:pt x="84" y="242"/>
                </a:lnTo>
                <a:lnTo>
                  <a:pt x="84" y="232"/>
                </a:lnTo>
                <a:lnTo>
                  <a:pt x="84" y="242"/>
                </a:lnTo>
                <a:lnTo>
                  <a:pt x="84" y="251"/>
                </a:lnTo>
                <a:lnTo>
                  <a:pt x="76" y="251"/>
                </a:lnTo>
                <a:lnTo>
                  <a:pt x="84" y="260"/>
                </a:lnTo>
                <a:lnTo>
                  <a:pt x="93" y="260"/>
                </a:lnTo>
                <a:lnTo>
                  <a:pt x="93" y="270"/>
                </a:lnTo>
                <a:lnTo>
                  <a:pt x="101" y="270"/>
                </a:lnTo>
                <a:lnTo>
                  <a:pt x="110" y="260"/>
                </a:lnTo>
                <a:lnTo>
                  <a:pt x="118" y="260"/>
                </a:lnTo>
                <a:lnTo>
                  <a:pt x="118" y="270"/>
                </a:lnTo>
                <a:lnTo>
                  <a:pt x="127" y="270"/>
                </a:lnTo>
                <a:lnTo>
                  <a:pt x="135" y="270"/>
                </a:lnTo>
                <a:lnTo>
                  <a:pt x="144" y="270"/>
                </a:lnTo>
                <a:lnTo>
                  <a:pt x="152" y="280"/>
                </a:lnTo>
                <a:lnTo>
                  <a:pt x="152" y="289"/>
                </a:lnTo>
                <a:lnTo>
                  <a:pt x="161" y="289"/>
                </a:lnTo>
                <a:lnTo>
                  <a:pt x="161" y="299"/>
                </a:lnTo>
                <a:lnTo>
                  <a:pt x="161" y="309"/>
                </a:lnTo>
                <a:lnTo>
                  <a:pt x="161" y="319"/>
                </a:lnTo>
                <a:lnTo>
                  <a:pt x="161" y="328"/>
                </a:lnTo>
                <a:lnTo>
                  <a:pt x="161" y="338"/>
                </a:lnTo>
                <a:lnTo>
                  <a:pt x="161" y="348"/>
                </a:lnTo>
                <a:lnTo>
                  <a:pt x="161" y="357"/>
                </a:lnTo>
                <a:lnTo>
                  <a:pt x="161" y="367"/>
                </a:lnTo>
                <a:lnTo>
                  <a:pt x="152" y="367"/>
                </a:lnTo>
                <a:lnTo>
                  <a:pt x="152" y="377"/>
                </a:lnTo>
                <a:lnTo>
                  <a:pt x="152" y="367"/>
                </a:lnTo>
                <a:lnTo>
                  <a:pt x="152" y="377"/>
                </a:lnTo>
                <a:lnTo>
                  <a:pt x="144" y="377"/>
                </a:lnTo>
                <a:lnTo>
                  <a:pt x="152" y="377"/>
                </a:lnTo>
                <a:lnTo>
                  <a:pt x="152" y="386"/>
                </a:lnTo>
                <a:lnTo>
                  <a:pt x="144" y="386"/>
                </a:lnTo>
                <a:lnTo>
                  <a:pt x="144" y="396"/>
                </a:lnTo>
                <a:lnTo>
                  <a:pt x="135" y="396"/>
                </a:lnTo>
                <a:lnTo>
                  <a:pt x="144" y="396"/>
                </a:lnTo>
                <a:lnTo>
                  <a:pt x="144" y="406"/>
                </a:lnTo>
                <a:lnTo>
                  <a:pt x="144" y="396"/>
                </a:lnTo>
                <a:lnTo>
                  <a:pt x="152" y="396"/>
                </a:lnTo>
                <a:lnTo>
                  <a:pt x="152" y="386"/>
                </a:lnTo>
                <a:lnTo>
                  <a:pt x="161" y="386"/>
                </a:lnTo>
                <a:lnTo>
                  <a:pt x="161" y="377"/>
                </a:lnTo>
                <a:lnTo>
                  <a:pt x="169" y="377"/>
                </a:lnTo>
                <a:lnTo>
                  <a:pt x="169" y="386"/>
                </a:lnTo>
                <a:lnTo>
                  <a:pt x="178" y="386"/>
                </a:lnTo>
                <a:lnTo>
                  <a:pt x="178" y="396"/>
                </a:lnTo>
                <a:lnTo>
                  <a:pt x="169" y="396"/>
                </a:lnTo>
                <a:lnTo>
                  <a:pt x="169" y="406"/>
                </a:lnTo>
                <a:lnTo>
                  <a:pt x="169" y="415"/>
                </a:lnTo>
                <a:lnTo>
                  <a:pt x="161" y="415"/>
                </a:lnTo>
                <a:lnTo>
                  <a:pt x="161" y="406"/>
                </a:lnTo>
                <a:lnTo>
                  <a:pt x="161" y="415"/>
                </a:lnTo>
                <a:lnTo>
                  <a:pt x="152" y="415"/>
                </a:lnTo>
                <a:lnTo>
                  <a:pt x="152" y="406"/>
                </a:lnTo>
                <a:lnTo>
                  <a:pt x="152" y="415"/>
                </a:lnTo>
                <a:lnTo>
                  <a:pt x="152" y="424"/>
                </a:lnTo>
                <a:lnTo>
                  <a:pt x="144" y="424"/>
                </a:lnTo>
                <a:lnTo>
                  <a:pt x="135" y="424"/>
                </a:lnTo>
                <a:lnTo>
                  <a:pt x="144" y="424"/>
                </a:lnTo>
                <a:lnTo>
                  <a:pt x="144" y="434"/>
                </a:lnTo>
                <a:lnTo>
                  <a:pt x="135" y="434"/>
                </a:lnTo>
                <a:lnTo>
                  <a:pt x="127" y="434"/>
                </a:lnTo>
                <a:lnTo>
                  <a:pt x="127" y="444"/>
                </a:lnTo>
                <a:lnTo>
                  <a:pt x="127" y="434"/>
                </a:lnTo>
                <a:lnTo>
                  <a:pt x="127" y="444"/>
                </a:lnTo>
                <a:lnTo>
                  <a:pt x="118" y="444"/>
                </a:lnTo>
                <a:lnTo>
                  <a:pt x="110" y="444"/>
                </a:lnTo>
                <a:lnTo>
                  <a:pt x="110" y="453"/>
                </a:lnTo>
                <a:lnTo>
                  <a:pt x="101" y="453"/>
                </a:lnTo>
                <a:lnTo>
                  <a:pt x="101" y="444"/>
                </a:lnTo>
                <a:lnTo>
                  <a:pt x="93" y="444"/>
                </a:lnTo>
                <a:lnTo>
                  <a:pt x="93" y="453"/>
                </a:lnTo>
                <a:lnTo>
                  <a:pt x="84" y="453"/>
                </a:lnTo>
                <a:lnTo>
                  <a:pt x="93" y="453"/>
                </a:lnTo>
                <a:lnTo>
                  <a:pt x="84" y="453"/>
                </a:lnTo>
                <a:lnTo>
                  <a:pt x="84" y="463"/>
                </a:lnTo>
                <a:lnTo>
                  <a:pt x="84" y="453"/>
                </a:lnTo>
                <a:lnTo>
                  <a:pt x="76" y="453"/>
                </a:lnTo>
                <a:lnTo>
                  <a:pt x="76" y="463"/>
                </a:lnTo>
                <a:lnTo>
                  <a:pt x="84" y="463"/>
                </a:lnTo>
                <a:lnTo>
                  <a:pt x="84" y="473"/>
                </a:lnTo>
                <a:lnTo>
                  <a:pt x="76" y="473"/>
                </a:lnTo>
                <a:lnTo>
                  <a:pt x="84" y="473"/>
                </a:lnTo>
                <a:lnTo>
                  <a:pt x="84" y="482"/>
                </a:lnTo>
                <a:lnTo>
                  <a:pt x="93" y="482"/>
                </a:lnTo>
                <a:lnTo>
                  <a:pt x="93" y="492"/>
                </a:lnTo>
                <a:lnTo>
                  <a:pt x="93" y="502"/>
                </a:lnTo>
                <a:lnTo>
                  <a:pt x="93" y="512"/>
                </a:lnTo>
                <a:lnTo>
                  <a:pt x="84" y="512"/>
                </a:lnTo>
                <a:lnTo>
                  <a:pt x="84" y="502"/>
                </a:lnTo>
                <a:lnTo>
                  <a:pt x="84" y="512"/>
                </a:lnTo>
                <a:lnTo>
                  <a:pt x="84" y="521"/>
                </a:lnTo>
                <a:lnTo>
                  <a:pt x="84" y="531"/>
                </a:lnTo>
                <a:lnTo>
                  <a:pt x="76" y="531"/>
                </a:lnTo>
                <a:lnTo>
                  <a:pt x="76" y="541"/>
                </a:lnTo>
                <a:lnTo>
                  <a:pt x="67" y="541"/>
                </a:lnTo>
                <a:lnTo>
                  <a:pt x="67" y="531"/>
                </a:lnTo>
                <a:lnTo>
                  <a:pt x="67" y="541"/>
                </a:lnTo>
                <a:lnTo>
                  <a:pt x="60" y="541"/>
                </a:lnTo>
                <a:lnTo>
                  <a:pt x="60" y="550"/>
                </a:lnTo>
                <a:lnTo>
                  <a:pt x="51" y="550"/>
                </a:lnTo>
                <a:lnTo>
                  <a:pt x="51" y="560"/>
                </a:lnTo>
                <a:lnTo>
                  <a:pt x="51" y="550"/>
                </a:lnTo>
                <a:lnTo>
                  <a:pt x="51" y="560"/>
                </a:lnTo>
                <a:lnTo>
                  <a:pt x="43" y="560"/>
                </a:lnTo>
                <a:lnTo>
                  <a:pt x="34" y="560"/>
                </a:lnTo>
                <a:lnTo>
                  <a:pt x="34" y="569"/>
                </a:lnTo>
                <a:lnTo>
                  <a:pt x="43" y="569"/>
                </a:lnTo>
                <a:lnTo>
                  <a:pt x="51" y="569"/>
                </a:lnTo>
                <a:lnTo>
                  <a:pt x="51" y="578"/>
                </a:lnTo>
                <a:lnTo>
                  <a:pt x="60" y="588"/>
                </a:lnTo>
                <a:lnTo>
                  <a:pt x="60" y="598"/>
                </a:lnTo>
                <a:lnTo>
                  <a:pt x="51" y="598"/>
                </a:lnTo>
                <a:lnTo>
                  <a:pt x="51" y="608"/>
                </a:lnTo>
                <a:lnTo>
                  <a:pt x="51" y="617"/>
                </a:lnTo>
                <a:lnTo>
                  <a:pt x="51" y="627"/>
                </a:lnTo>
                <a:lnTo>
                  <a:pt x="51" y="637"/>
                </a:lnTo>
                <a:lnTo>
                  <a:pt x="60" y="637"/>
                </a:lnTo>
                <a:lnTo>
                  <a:pt x="60" y="646"/>
                </a:lnTo>
                <a:lnTo>
                  <a:pt x="60" y="656"/>
                </a:lnTo>
                <a:lnTo>
                  <a:pt x="60" y="666"/>
                </a:lnTo>
                <a:lnTo>
                  <a:pt x="67" y="666"/>
                </a:lnTo>
                <a:lnTo>
                  <a:pt x="67" y="675"/>
                </a:lnTo>
                <a:lnTo>
                  <a:pt x="67" y="685"/>
                </a:lnTo>
                <a:lnTo>
                  <a:pt x="76" y="685"/>
                </a:lnTo>
                <a:lnTo>
                  <a:pt x="76" y="695"/>
                </a:lnTo>
                <a:lnTo>
                  <a:pt x="76" y="705"/>
                </a:lnTo>
                <a:lnTo>
                  <a:pt x="76" y="714"/>
                </a:lnTo>
                <a:lnTo>
                  <a:pt x="84" y="714"/>
                </a:lnTo>
                <a:lnTo>
                  <a:pt x="84" y="724"/>
                </a:lnTo>
                <a:lnTo>
                  <a:pt x="84" y="733"/>
                </a:lnTo>
                <a:lnTo>
                  <a:pt x="93" y="742"/>
                </a:lnTo>
                <a:lnTo>
                  <a:pt x="93" y="752"/>
                </a:lnTo>
                <a:lnTo>
                  <a:pt x="101" y="752"/>
                </a:lnTo>
                <a:lnTo>
                  <a:pt x="101" y="762"/>
                </a:lnTo>
                <a:lnTo>
                  <a:pt x="110" y="762"/>
                </a:lnTo>
                <a:lnTo>
                  <a:pt x="110" y="771"/>
                </a:lnTo>
                <a:lnTo>
                  <a:pt x="110" y="781"/>
                </a:lnTo>
                <a:lnTo>
                  <a:pt x="118" y="781"/>
                </a:lnTo>
                <a:lnTo>
                  <a:pt x="110" y="781"/>
                </a:lnTo>
                <a:lnTo>
                  <a:pt x="118" y="781"/>
                </a:lnTo>
                <a:lnTo>
                  <a:pt x="118" y="791"/>
                </a:lnTo>
                <a:lnTo>
                  <a:pt x="127" y="791"/>
                </a:lnTo>
                <a:lnTo>
                  <a:pt x="127" y="801"/>
                </a:lnTo>
                <a:lnTo>
                  <a:pt x="135" y="801"/>
                </a:lnTo>
                <a:lnTo>
                  <a:pt x="135" y="810"/>
                </a:lnTo>
                <a:lnTo>
                  <a:pt x="144" y="810"/>
                </a:lnTo>
                <a:lnTo>
                  <a:pt x="144" y="820"/>
                </a:lnTo>
                <a:lnTo>
                  <a:pt x="152" y="820"/>
                </a:lnTo>
                <a:lnTo>
                  <a:pt x="152" y="830"/>
                </a:lnTo>
                <a:lnTo>
                  <a:pt x="152" y="839"/>
                </a:lnTo>
                <a:lnTo>
                  <a:pt x="161" y="839"/>
                </a:lnTo>
                <a:lnTo>
                  <a:pt x="161" y="849"/>
                </a:lnTo>
                <a:lnTo>
                  <a:pt x="161" y="859"/>
                </a:lnTo>
                <a:lnTo>
                  <a:pt x="152" y="859"/>
                </a:lnTo>
                <a:lnTo>
                  <a:pt x="161" y="859"/>
                </a:lnTo>
                <a:lnTo>
                  <a:pt x="161" y="868"/>
                </a:lnTo>
                <a:lnTo>
                  <a:pt x="161" y="859"/>
                </a:lnTo>
                <a:lnTo>
                  <a:pt x="169" y="859"/>
                </a:lnTo>
                <a:lnTo>
                  <a:pt x="178" y="859"/>
                </a:lnTo>
                <a:lnTo>
                  <a:pt x="178" y="868"/>
                </a:lnTo>
                <a:lnTo>
                  <a:pt x="186" y="868"/>
                </a:lnTo>
                <a:lnTo>
                  <a:pt x="195" y="868"/>
                </a:lnTo>
                <a:lnTo>
                  <a:pt x="202" y="878"/>
                </a:lnTo>
                <a:lnTo>
                  <a:pt x="211" y="878"/>
                </a:lnTo>
                <a:lnTo>
                  <a:pt x="219" y="878"/>
                </a:lnTo>
                <a:lnTo>
                  <a:pt x="228" y="878"/>
                </a:lnTo>
                <a:lnTo>
                  <a:pt x="237" y="878"/>
                </a:lnTo>
                <a:lnTo>
                  <a:pt x="245" y="878"/>
                </a:lnTo>
                <a:lnTo>
                  <a:pt x="245" y="888"/>
                </a:lnTo>
                <a:lnTo>
                  <a:pt x="254" y="888"/>
                </a:lnTo>
                <a:lnTo>
                  <a:pt x="254" y="878"/>
                </a:lnTo>
                <a:lnTo>
                  <a:pt x="254" y="868"/>
                </a:lnTo>
                <a:lnTo>
                  <a:pt x="262" y="868"/>
                </a:lnTo>
                <a:lnTo>
                  <a:pt x="262" y="878"/>
                </a:lnTo>
                <a:lnTo>
                  <a:pt x="262" y="868"/>
                </a:lnTo>
                <a:lnTo>
                  <a:pt x="271" y="868"/>
                </a:lnTo>
                <a:lnTo>
                  <a:pt x="271" y="878"/>
                </a:lnTo>
                <a:lnTo>
                  <a:pt x="262" y="878"/>
                </a:lnTo>
                <a:lnTo>
                  <a:pt x="271" y="878"/>
                </a:lnTo>
                <a:lnTo>
                  <a:pt x="279" y="878"/>
                </a:lnTo>
                <a:lnTo>
                  <a:pt x="279" y="888"/>
                </a:lnTo>
                <a:lnTo>
                  <a:pt x="288" y="888"/>
                </a:lnTo>
                <a:lnTo>
                  <a:pt x="288" y="897"/>
                </a:lnTo>
                <a:lnTo>
                  <a:pt x="296" y="897"/>
                </a:lnTo>
                <a:lnTo>
                  <a:pt x="305" y="897"/>
                </a:lnTo>
                <a:lnTo>
                  <a:pt x="313" y="897"/>
                </a:lnTo>
                <a:lnTo>
                  <a:pt x="322" y="897"/>
                </a:lnTo>
                <a:lnTo>
                  <a:pt x="322" y="906"/>
                </a:lnTo>
                <a:lnTo>
                  <a:pt x="322" y="897"/>
                </a:lnTo>
                <a:lnTo>
                  <a:pt x="330" y="897"/>
                </a:lnTo>
                <a:lnTo>
                  <a:pt x="330" y="906"/>
                </a:lnTo>
                <a:lnTo>
                  <a:pt x="338" y="906"/>
                </a:lnTo>
                <a:lnTo>
                  <a:pt x="338" y="916"/>
                </a:lnTo>
                <a:lnTo>
                  <a:pt x="346" y="916"/>
                </a:lnTo>
                <a:lnTo>
                  <a:pt x="355" y="916"/>
                </a:lnTo>
                <a:lnTo>
                  <a:pt x="355" y="926"/>
                </a:lnTo>
                <a:lnTo>
                  <a:pt x="363" y="926"/>
                </a:lnTo>
                <a:lnTo>
                  <a:pt x="372" y="926"/>
                </a:lnTo>
                <a:lnTo>
                  <a:pt x="372" y="935"/>
                </a:lnTo>
                <a:lnTo>
                  <a:pt x="380" y="935"/>
                </a:lnTo>
                <a:lnTo>
                  <a:pt x="380" y="945"/>
                </a:lnTo>
                <a:lnTo>
                  <a:pt x="389" y="945"/>
                </a:lnTo>
                <a:lnTo>
                  <a:pt x="380" y="945"/>
                </a:lnTo>
                <a:lnTo>
                  <a:pt x="380" y="955"/>
                </a:lnTo>
                <a:lnTo>
                  <a:pt x="389" y="955"/>
                </a:lnTo>
                <a:lnTo>
                  <a:pt x="389" y="964"/>
                </a:lnTo>
                <a:lnTo>
                  <a:pt x="397" y="964"/>
                </a:lnTo>
                <a:lnTo>
                  <a:pt x="397" y="974"/>
                </a:lnTo>
                <a:lnTo>
                  <a:pt x="406" y="974"/>
                </a:lnTo>
                <a:lnTo>
                  <a:pt x="414" y="974"/>
                </a:lnTo>
                <a:lnTo>
                  <a:pt x="406" y="974"/>
                </a:lnTo>
                <a:lnTo>
                  <a:pt x="406" y="964"/>
                </a:lnTo>
                <a:lnTo>
                  <a:pt x="414" y="964"/>
                </a:lnTo>
                <a:lnTo>
                  <a:pt x="414" y="955"/>
                </a:lnTo>
                <a:lnTo>
                  <a:pt x="423" y="955"/>
                </a:lnTo>
                <a:lnTo>
                  <a:pt x="423" y="945"/>
                </a:lnTo>
                <a:lnTo>
                  <a:pt x="431" y="945"/>
                </a:lnTo>
                <a:lnTo>
                  <a:pt x="431" y="935"/>
                </a:lnTo>
                <a:lnTo>
                  <a:pt x="431" y="945"/>
                </a:lnTo>
                <a:lnTo>
                  <a:pt x="423" y="945"/>
                </a:lnTo>
                <a:lnTo>
                  <a:pt x="423" y="935"/>
                </a:lnTo>
                <a:lnTo>
                  <a:pt x="423" y="926"/>
                </a:lnTo>
                <a:lnTo>
                  <a:pt x="423" y="916"/>
                </a:lnTo>
                <a:lnTo>
                  <a:pt x="423" y="926"/>
                </a:lnTo>
                <a:lnTo>
                  <a:pt x="423" y="916"/>
                </a:lnTo>
                <a:lnTo>
                  <a:pt x="431" y="916"/>
                </a:lnTo>
                <a:lnTo>
                  <a:pt x="423" y="916"/>
                </a:lnTo>
                <a:lnTo>
                  <a:pt x="423" y="906"/>
                </a:lnTo>
                <a:lnTo>
                  <a:pt x="431" y="906"/>
                </a:lnTo>
                <a:lnTo>
                  <a:pt x="423" y="906"/>
                </a:lnTo>
                <a:lnTo>
                  <a:pt x="431" y="906"/>
                </a:lnTo>
                <a:lnTo>
                  <a:pt x="431" y="897"/>
                </a:lnTo>
                <a:lnTo>
                  <a:pt x="431" y="888"/>
                </a:lnTo>
                <a:lnTo>
                  <a:pt x="431" y="897"/>
                </a:lnTo>
                <a:lnTo>
                  <a:pt x="423" y="897"/>
                </a:lnTo>
                <a:lnTo>
                  <a:pt x="423" y="888"/>
                </a:lnTo>
                <a:lnTo>
                  <a:pt x="423" y="878"/>
                </a:lnTo>
                <a:lnTo>
                  <a:pt x="414" y="878"/>
                </a:lnTo>
                <a:lnTo>
                  <a:pt x="414" y="868"/>
                </a:lnTo>
                <a:lnTo>
                  <a:pt x="406" y="868"/>
                </a:lnTo>
                <a:lnTo>
                  <a:pt x="414" y="868"/>
                </a:lnTo>
                <a:lnTo>
                  <a:pt x="414" y="859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397" y="859"/>
                </a:lnTo>
                <a:lnTo>
                  <a:pt x="389" y="859"/>
                </a:lnTo>
                <a:lnTo>
                  <a:pt x="389" y="849"/>
                </a:lnTo>
                <a:lnTo>
                  <a:pt x="380" y="849"/>
                </a:lnTo>
                <a:lnTo>
                  <a:pt x="380" y="859"/>
                </a:lnTo>
                <a:lnTo>
                  <a:pt x="380" y="849"/>
                </a:lnTo>
                <a:lnTo>
                  <a:pt x="372" y="849"/>
                </a:lnTo>
                <a:lnTo>
                  <a:pt x="380" y="849"/>
                </a:lnTo>
                <a:lnTo>
                  <a:pt x="380" y="839"/>
                </a:lnTo>
                <a:lnTo>
                  <a:pt x="380" y="830"/>
                </a:lnTo>
                <a:lnTo>
                  <a:pt x="380" y="820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Freeform 23"/>
          <p:cNvSpPr/>
          <p:nvPr/>
        </p:nvSpPr>
        <p:spPr>
          <a:xfrm>
            <a:off x="5651640" y="192240"/>
            <a:ext cx="1068120" cy="15573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673" h="981">
                <a:moveTo>
                  <a:pt x="383" y="825"/>
                </a:moveTo>
                <a:lnTo>
                  <a:pt x="392" y="825"/>
                </a:lnTo>
                <a:lnTo>
                  <a:pt x="400" y="825"/>
                </a:lnTo>
                <a:lnTo>
                  <a:pt x="409" y="825"/>
                </a:lnTo>
                <a:lnTo>
                  <a:pt x="417" y="825"/>
                </a:lnTo>
                <a:lnTo>
                  <a:pt x="426" y="825"/>
                </a:lnTo>
                <a:lnTo>
                  <a:pt x="434" y="825"/>
                </a:lnTo>
                <a:lnTo>
                  <a:pt x="434" y="815"/>
                </a:lnTo>
                <a:lnTo>
                  <a:pt x="443" y="815"/>
                </a:lnTo>
                <a:lnTo>
                  <a:pt x="443" y="806"/>
                </a:lnTo>
                <a:lnTo>
                  <a:pt x="443" y="796"/>
                </a:lnTo>
                <a:lnTo>
                  <a:pt x="443" y="786"/>
                </a:lnTo>
                <a:lnTo>
                  <a:pt x="451" y="786"/>
                </a:lnTo>
                <a:lnTo>
                  <a:pt x="451" y="776"/>
                </a:lnTo>
                <a:lnTo>
                  <a:pt x="451" y="767"/>
                </a:lnTo>
                <a:lnTo>
                  <a:pt x="443" y="767"/>
                </a:lnTo>
                <a:lnTo>
                  <a:pt x="443" y="757"/>
                </a:lnTo>
                <a:lnTo>
                  <a:pt x="434" y="757"/>
                </a:lnTo>
                <a:lnTo>
                  <a:pt x="426" y="757"/>
                </a:lnTo>
                <a:lnTo>
                  <a:pt x="426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17" y="757"/>
                </a:lnTo>
                <a:lnTo>
                  <a:pt x="417" y="747"/>
                </a:lnTo>
                <a:lnTo>
                  <a:pt x="409" y="747"/>
                </a:lnTo>
                <a:lnTo>
                  <a:pt x="409" y="738"/>
                </a:lnTo>
                <a:lnTo>
                  <a:pt x="400" y="738"/>
                </a:lnTo>
                <a:lnTo>
                  <a:pt x="400" y="728"/>
                </a:lnTo>
                <a:lnTo>
                  <a:pt x="400" y="738"/>
                </a:lnTo>
                <a:lnTo>
                  <a:pt x="400" y="728"/>
                </a:lnTo>
                <a:lnTo>
                  <a:pt x="400" y="718"/>
                </a:lnTo>
                <a:lnTo>
                  <a:pt x="400" y="709"/>
                </a:lnTo>
                <a:lnTo>
                  <a:pt x="400" y="699"/>
                </a:lnTo>
                <a:lnTo>
                  <a:pt x="400" y="689"/>
                </a:lnTo>
                <a:lnTo>
                  <a:pt x="400" y="679"/>
                </a:lnTo>
                <a:lnTo>
                  <a:pt x="400" y="670"/>
                </a:lnTo>
                <a:lnTo>
                  <a:pt x="400" y="660"/>
                </a:lnTo>
                <a:lnTo>
                  <a:pt x="400" y="650"/>
                </a:lnTo>
                <a:lnTo>
                  <a:pt x="400" y="641"/>
                </a:lnTo>
                <a:lnTo>
                  <a:pt x="392" y="641"/>
                </a:lnTo>
                <a:lnTo>
                  <a:pt x="400" y="641"/>
                </a:lnTo>
                <a:lnTo>
                  <a:pt x="400" y="650"/>
                </a:lnTo>
                <a:lnTo>
                  <a:pt x="409" y="650"/>
                </a:lnTo>
                <a:lnTo>
                  <a:pt x="409" y="660"/>
                </a:lnTo>
                <a:lnTo>
                  <a:pt x="400" y="660"/>
                </a:lnTo>
                <a:lnTo>
                  <a:pt x="400" y="670"/>
                </a:lnTo>
                <a:lnTo>
                  <a:pt x="409" y="670"/>
                </a:lnTo>
                <a:lnTo>
                  <a:pt x="409" y="679"/>
                </a:lnTo>
                <a:lnTo>
                  <a:pt x="417" y="679"/>
                </a:lnTo>
                <a:lnTo>
                  <a:pt x="417" y="689"/>
                </a:lnTo>
                <a:lnTo>
                  <a:pt x="417" y="679"/>
                </a:lnTo>
                <a:lnTo>
                  <a:pt x="417" y="689"/>
                </a:lnTo>
                <a:lnTo>
                  <a:pt x="426" y="689"/>
                </a:lnTo>
                <a:lnTo>
                  <a:pt x="434" y="689"/>
                </a:lnTo>
                <a:lnTo>
                  <a:pt x="443" y="689"/>
                </a:lnTo>
                <a:lnTo>
                  <a:pt x="451" y="689"/>
                </a:lnTo>
                <a:lnTo>
                  <a:pt x="443" y="689"/>
                </a:lnTo>
                <a:lnTo>
                  <a:pt x="451" y="689"/>
                </a:lnTo>
                <a:lnTo>
                  <a:pt x="451" y="699"/>
                </a:lnTo>
                <a:lnTo>
                  <a:pt x="460" y="699"/>
                </a:lnTo>
                <a:lnTo>
                  <a:pt x="460" y="689"/>
                </a:lnTo>
                <a:lnTo>
                  <a:pt x="468" y="689"/>
                </a:lnTo>
                <a:lnTo>
                  <a:pt x="477" y="689"/>
                </a:lnTo>
                <a:lnTo>
                  <a:pt x="485" y="689"/>
                </a:lnTo>
                <a:lnTo>
                  <a:pt x="477" y="689"/>
                </a:lnTo>
                <a:lnTo>
                  <a:pt x="485" y="689"/>
                </a:lnTo>
                <a:lnTo>
                  <a:pt x="485" y="699"/>
                </a:lnTo>
                <a:lnTo>
                  <a:pt x="494" y="69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709"/>
                </a:lnTo>
                <a:lnTo>
                  <a:pt x="494" y="709"/>
                </a:lnTo>
                <a:lnTo>
                  <a:pt x="494" y="69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11" y="699"/>
                </a:lnTo>
                <a:lnTo>
                  <a:pt x="519" y="699"/>
                </a:lnTo>
                <a:lnTo>
                  <a:pt x="519" y="689"/>
                </a:lnTo>
                <a:lnTo>
                  <a:pt x="519" y="679"/>
                </a:lnTo>
                <a:lnTo>
                  <a:pt x="519" y="670"/>
                </a:lnTo>
                <a:lnTo>
                  <a:pt x="519" y="679"/>
                </a:lnTo>
                <a:lnTo>
                  <a:pt x="528" y="679"/>
                </a:lnTo>
                <a:lnTo>
                  <a:pt x="528" y="689"/>
                </a:lnTo>
                <a:lnTo>
                  <a:pt x="536" y="689"/>
                </a:lnTo>
                <a:lnTo>
                  <a:pt x="536" y="699"/>
                </a:lnTo>
                <a:lnTo>
                  <a:pt x="545" y="699"/>
                </a:lnTo>
                <a:lnTo>
                  <a:pt x="553" y="709"/>
                </a:lnTo>
                <a:lnTo>
                  <a:pt x="570" y="709"/>
                </a:lnTo>
                <a:lnTo>
                  <a:pt x="579" y="709"/>
                </a:lnTo>
                <a:lnTo>
                  <a:pt x="579" y="699"/>
                </a:lnTo>
                <a:lnTo>
                  <a:pt x="587" y="699"/>
                </a:lnTo>
                <a:lnTo>
                  <a:pt x="587" y="689"/>
                </a:lnTo>
                <a:lnTo>
                  <a:pt x="596" y="689"/>
                </a:lnTo>
                <a:lnTo>
                  <a:pt x="604" y="689"/>
                </a:lnTo>
                <a:lnTo>
                  <a:pt x="604" y="679"/>
                </a:lnTo>
                <a:lnTo>
                  <a:pt x="613" y="679"/>
                </a:lnTo>
                <a:lnTo>
                  <a:pt x="613" y="670"/>
                </a:lnTo>
                <a:lnTo>
                  <a:pt x="604" y="670"/>
                </a:lnTo>
                <a:lnTo>
                  <a:pt x="604" y="660"/>
                </a:lnTo>
                <a:lnTo>
                  <a:pt x="604" y="650"/>
                </a:lnTo>
                <a:lnTo>
                  <a:pt x="613" y="650"/>
                </a:lnTo>
                <a:lnTo>
                  <a:pt x="604" y="650"/>
                </a:lnTo>
                <a:lnTo>
                  <a:pt x="613" y="650"/>
                </a:lnTo>
                <a:lnTo>
                  <a:pt x="613" y="641"/>
                </a:lnTo>
                <a:lnTo>
                  <a:pt x="613" y="631"/>
                </a:lnTo>
                <a:lnTo>
                  <a:pt x="613" y="621"/>
                </a:lnTo>
                <a:lnTo>
                  <a:pt x="621" y="621"/>
                </a:lnTo>
                <a:lnTo>
                  <a:pt x="621" y="612"/>
                </a:lnTo>
                <a:lnTo>
                  <a:pt x="630" y="612"/>
                </a:lnTo>
                <a:lnTo>
                  <a:pt x="630" y="602"/>
                </a:lnTo>
                <a:lnTo>
                  <a:pt x="630" y="592"/>
                </a:lnTo>
                <a:lnTo>
                  <a:pt x="630" y="582"/>
                </a:lnTo>
                <a:lnTo>
                  <a:pt x="638" y="582"/>
                </a:lnTo>
                <a:lnTo>
                  <a:pt x="647" y="582"/>
                </a:lnTo>
                <a:lnTo>
                  <a:pt x="647" y="592"/>
                </a:lnTo>
                <a:lnTo>
                  <a:pt x="655" y="592"/>
                </a:lnTo>
                <a:lnTo>
                  <a:pt x="664" y="592"/>
                </a:lnTo>
                <a:lnTo>
                  <a:pt x="664" y="582"/>
                </a:lnTo>
                <a:lnTo>
                  <a:pt x="664" y="573"/>
                </a:lnTo>
                <a:lnTo>
                  <a:pt x="672" y="573"/>
                </a:lnTo>
                <a:lnTo>
                  <a:pt x="672" y="563"/>
                </a:lnTo>
                <a:lnTo>
                  <a:pt x="672" y="553"/>
                </a:lnTo>
                <a:lnTo>
                  <a:pt x="664" y="553"/>
                </a:lnTo>
                <a:lnTo>
                  <a:pt x="664" y="544"/>
                </a:lnTo>
                <a:lnTo>
                  <a:pt x="672" y="534"/>
                </a:lnTo>
                <a:lnTo>
                  <a:pt x="672" y="524"/>
                </a:lnTo>
                <a:lnTo>
                  <a:pt x="672" y="515"/>
                </a:lnTo>
                <a:lnTo>
                  <a:pt x="672" y="505"/>
                </a:lnTo>
                <a:lnTo>
                  <a:pt x="664" y="505"/>
                </a:lnTo>
                <a:lnTo>
                  <a:pt x="664" y="495"/>
                </a:lnTo>
                <a:lnTo>
                  <a:pt x="664" y="485"/>
                </a:lnTo>
                <a:lnTo>
                  <a:pt x="664" y="476"/>
                </a:lnTo>
                <a:lnTo>
                  <a:pt x="655" y="476"/>
                </a:lnTo>
                <a:lnTo>
                  <a:pt x="655" y="485"/>
                </a:lnTo>
                <a:lnTo>
                  <a:pt x="655" y="476"/>
                </a:lnTo>
                <a:lnTo>
                  <a:pt x="647" y="476"/>
                </a:lnTo>
                <a:lnTo>
                  <a:pt x="647" y="466"/>
                </a:lnTo>
                <a:lnTo>
                  <a:pt x="638" y="466"/>
                </a:lnTo>
                <a:lnTo>
                  <a:pt x="638" y="456"/>
                </a:lnTo>
                <a:lnTo>
                  <a:pt x="630" y="456"/>
                </a:lnTo>
                <a:lnTo>
                  <a:pt x="630" y="447"/>
                </a:lnTo>
                <a:lnTo>
                  <a:pt x="621" y="447"/>
                </a:lnTo>
                <a:lnTo>
                  <a:pt x="621" y="437"/>
                </a:lnTo>
                <a:lnTo>
                  <a:pt x="613" y="437"/>
                </a:lnTo>
                <a:lnTo>
                  <a:pt x="604" y="437"/>
                </a:lnTo>
                <a:lnTo>
                  <a:pt x="596" y="437"/>
                </a:lnTo>
                <a:lnTo>
                  <a:pt x="596" y="427"/>
                </a:lnTo>
                <a:lnTo>
                  <a:pt x="587" y="427"/>
                </a:lnTo>
                <a:lnTo>
                  <a:pt x="579" y="427"/>
                </a:lnTo>
                <a:lnTo>
                  <a:pt x="579" y="418"/>
                </a:lnTo>
                <a:lnTo>
                  <a:pt x="570" y="418"/>
                </a:lnTo>
                <a:lnTo>
                  <a:pt x="570" y="408"/>
                </a:lnTo>
                <a:lnTo>
                  <a:pt x="570" y="418"/>
                </a:lnTo>
                <a:lnTo>
                  <a:pt x="562" y="418"/>
                </a:lnTo>
                <a:lnTo>
                  <a:pt x="562" y="408"/>
                </a:lnTo>
                <a:lnTo>
                  <a:pt x="553" y="408"/>
                </a:lnTo>
                <a:lnTo>
                  <a:pt x="545" y="408"/>
                </a:lnTo>
                <a:lnTo>
                  <a:pt x="545" y="398"/>
                </a:lnTo>
                <a:lnTo>
                  <a:pt x="536" y="398"/>
                </a:lnTo>
                <a:lnTo>
                  <a:pt x="536" y="388"/>
                </a:lnTo>
                <a:lnTo>
                  <a:pt x="536" y="379"/>
                </a:lnTo>
                <a:lnTo>
                  <a:pt x="536" y="369"/>
                </a:lnTo>
                <a:lnTo>
                  <a:pt x="536" y="359"/>
                </a:lnTo>
                <a:lnTo>
                  <a:pt x="528" y="359"/>
                </a:lnTo>
                <a:lnTo>
                  <a:pt x="528" y="350"/>
                </a:lnTo>
                <a:lnTo>
                  <a:pt x="519" y="350"/>
                </a:lnTo>
                <a:lnTo>
                  <a:pt x="528" y="350"/>
                </a:lnTo>
                <a:lnTo>
                  <a:pt x="528" y="340"/>
                </a:lnTo>
                <a:lnTo>
                  <a:pt x="536" y="340"/>
                </a:lnTo>
                <a:lnTo>
                  <a:pt x="545" y="340"/>
                </a:lnTo>
                <a:lnTo>
                  <a:pt x="545" y="330"/>
                </a:lnTo>
                <a:lnTo>
                  <a:pt x="553" y="330"/>
                </a:lnTo>
                <a:lnTo>
                  <a:pt x="553" y="321"/>
                </a:lnTo>
                <a:lnTo>
                  <a:pt x="562" y="321"/>
                </a:lnTo>
                <a:lnTo>
                  <a:pt x="562" y="311"/>
                </a:lnTo>
                <a:lnTo>
                  <a:pt x="553" y="311"/>
                </a:lnTo>
                <a:lnTo>
                  <a:pt x="562" y="301"/>
                </a:lnTo>
                <a:lnTo>
                  <a:pt x="570" y="291"/>
                </a:lnTo>
                <a:lnTo>
                  <a:pt x="579" y="291"/>
                </a:lnTo>
                <a:lnTo>
                  <a:pt x="587" y="291"/>
                </a:lnTo>
                <a:lnTo>
                  <a:pt x="579" y="291"/>
                </a:lnTo>
                <a:lnTo>
                  <a:pt x="579" y="282"/>
                </a:lnTo>
                <a:lnTo>
                  <a:pt x="587" y="282"/>
                </a:lnTo>
                <a:lnTo>
                  <a:pt x="587" y="272"/>
                </a:lnTo>
                <a:lnTo>
                  <a:pt x="596" y="272"/>
                </a:lnTo>
                <a:lnTo>
                  <a:pt x="596" y="262"/>
                </a:lnTo>
                <a:lnTo>
                  <a:pt x="596" y="253"/>
                </a:lnTo>
                <a:lnTo>
                  <a:pt x="604" y="253"/>
                </a:lnTo>
                <a:lnTo>
                  <a:pt x="596" y="253"/>
                </a:lnTo>
                <a:lnTo>
                  <a:pt x="604" y="253"/>
                </a:lnTo>
                <a:lnTo>
                  <a:pt x="604" y="243"/>
                </a:lnTo>
                <a:lnTo>
                  <a:pt x="604" y="233"/>
                </a:lnTo>
                <a:lnTo>
                  <a:pt x="604" y="224"/>
                </a:lnTo>
                <a:lnTo>
                  <a:pt x="604" y="214"/>
                </a:lnTo>
                <a:lnTo>
                  <a:pt x="604" y="204"/>
                </a:lnTo>
                <a:lnTo>
                  <a:pt x="604" y="194"/>
                </a:lnTo>
                <a:lnTo>
                  <a:pt x="604" y="185"/>
                </a:lnTo>
                <a:lnTo>
                  <a:pt x="604" y="175"/>
                </a:lnTo>
                <a:lnTo>
                  <a:pt x="587" y="185"/>
                </a:lnTo>
                <a:lnTo>
                  <a:pt x="579" y="175"/>
                </a:lnTo>
                <a:lnTo>
                  <a:pt x="570" y="175"/>
                </a:lnTo>
                <a:lnTo>
                  <a:pt x="562" y="165"/>
                </a:lnTo>
                <a:lnTo>
                  <a:pt x="553" y="165"/>
                </a:lnTo>
                <a:lnTo>
                  <a:pt x="545" y="165"/>
                </a:lnTo>
                <a:lnTo>
                  <a:pt x="536" y="165"/>
                </a:lnTo>
                <a:lnTo>
                  <a:pt x="536" y="156"/>
                </a:lnTo>
                <a:lnTo>
                  <a:pt x="528" y="156"/>
                </a:lnTo>
                <a:lnTo>
                  <a:pt x="519" y="156"/>
                </a:lnTo>
                <a:lnTo>
                  <a:pt x="511" y="146"/>
                </a:lnTo>
                <a:lnTo>
                  <a:pt x="502" y="146"/>
                </a:lnTo>
                <a:lnTo>
                  <a:pt x="494" y="146"/>
                </a:lnTo>
                <a:lnTo>
                  <a:pt x="494" y="136"/>
                </a:lnTo>
                <a:lnTo>
                  <a:pt x="485" y="136"/>
                </a:lnTo>
                <a:lnTo>
                  <a:pt x="477" y="136"/>
                </a:lnTo>
                <a:lnTo>
                  <a:pt x="468" y="127"/>
                </a:lnTo>
                <a:lnTo>
                  <a:pt x="460" y="127"/>
                </a:lnTo>
                <a:lnTo>
                  <a:pt x="443" y="117"/>
                </a:lnTo>
                <a:lnTo>
                  <a:pt x="434" y="117"/>
                </a:lnTo>
                <a:lnTo>
                  <a:pt x="417" y="107"/>
                </a:lnTo>
                <a:lnTo>
                  <a:pt x="409" y="107"/>
                </a:lnTo>
                <a:lnTo>
                  <a:pt x="332" y="59"/>
                </a:lnTo>
                <a:lnTo>
                  <a:pt x="298" y="59"/>
                </a:lnTo>
                <a:lnTo>
                  <a:pt x="247" y="39"/>
                </a:lnTo>
                <a:lnTo>
                  <a:pt x="239" y="30"/>
                </a:lnTo>
                <a:lnTo>
                  <a:pt x="239" y="20"/>
                </a:lnTo>
                <a:lnTo>
                  <a:pt x="230" y="20"/>
                </a:lnTo>
                <a:lnTo>
                  <a:pt x="221" y="10"/>
                </a:lnTo>
                <a:lnTo>
                  <a:pt x="213" y="0"/>
                </a:lnTo>
                <a:lnTo>
                  <a:pt x="204" y="0"/>
                </a:lnTo>
                <a:lnTo>
                  <a:pt x="196" y="0"/>
                </a:lnTo>
                <a:lnTo>
                  <a:pt x="187" y="0"/>
                </a:lnTo>
                <a:lnTo>
                  <a:pt x="187" y="10"/>
                </a:lnTo>
                <a:lnTo>
                  <a:pt x="179" y="20"/>
                </a:lnTo>
                <a:lnTo>
                  <a:pt x="179" y="30"/>
                </a:lnTo>
                <a:lnTo>
                  <a:pt x="170" y="39"/>
                </a:lnTo>
                <a:lnTo>
                  <a:pt x="162" y="49"/>
                </a:lnTo>
                <a:lnTo>
                  <a:pt x="162" y="59"/>
                </a:lnTo>
                <a:lnTo>
                  <a:pt x="162" y="68"/>
                </a:lnTo>
                <a:lnTo>
                  <a:pt x="145" y="88"/>
                </a:lnTo>
                <a:lnTo>
                  <a:pt x="145" y="97"/>
                </a:lnTo>
                <a:lnTo>
                  <a:pt x="153" y="97"/>
                </a:lnTo>
                <a:lnTo>
                  <a:pt x="153" y="107"/>
                </a:lnTo>
                <a:lnTo>
                  <a:pt x="162" y="107"/>
                </a:lnTo>
                <a:lnTo>
                  <a:pt x="162" y="117"/>
                </a:lnTo>
                <a:lnTo>
                  <a:pt x="153" y="117"/>
                </a:lnTo>
                <a:lnTo>
                  <a:pt x="153" y="127"/>
                </a:lnTo>
                <a:lnTo>
                  <a:pt x="145" y="127"/>
                </a:lnTo>
                <a:lnTo>
                  <a:pt x="136" y="127"/>
                </a:lnTo>
                <a:lnTo>
                  <a:pt x="128" y="127"/>
                </a:lnTo>
                <a:lnTo>
                  <a:pt x="128" y="117"/>
                </a:lnTo>
                <a:lnTo>
                  <a:pt x="128" y="107"/>
                </a:lnTo>
                <a:lnTo>
                  <a:pt x="119" y="107"/>
                </a:lnTo>
                <a:lnTo>
                  <a:pt x="119" y="117"/>
                </a:lnTo>
                <a:lnTo>
                  <a:pt x="119" y="127"/>
                </a:lnTo>
                <a:lnTo>
                  <a:pt x="111" y="127"/>
                </a:lnTo>
                <a:lnTo>
                  <a:pt x="111" y="117"/>
                </a:lnTo>
                <a:lnTo>
                  <a:pt x="111" y="127"/>
                </a:lnTo>
                <a:lnTo>
                  <a:pt x="111" y="136"/>
                </a:lnTo>
                <a:lnTo>
                  <a:pt x="119" y="136"/>
                </a:lnTo>
                <a:lnTo>
                  <a:pt x="128" y="136"/>
                </a:lnTo>
                <a:lnTo>
                  <a:pt x="128" y="146"/>
                </a:lnTo>
                <a:lnTo>
                  <a:pt x="136" y="146"/>
                </a:lnTo>
                <a:lnTo>
                  <a:pt x="136" y="156"/>
                </a:lnTo>
                <a:lnTo>
                  <a:pt x="145" y="156"/>
                </a:lnTo>
                <a:lnTo>
                  <a:pt x="145" y="165"/>
                </a:lnTo>
                <a:lnTo>
                  <a:pt x="136" y="165"/>
                </a:lnTo>
                <a:lnTo>
                  <a:pt x="136" y="175"/>
                </a:lnTo>
                <a:lnTo>
                  <a:pt x="128" y="175"/>
                </a:lnTo>
                <a:lnTo>
                  <a:pt x="136" y="175"/>
                </a:lnTo>
                <a:lnTo>
                  <a:pt x="136" y="185"/>
                </a:lnTo>
                <a:lnTo>
                  <a:pt x="128" y="185"/>
                </a:lnTo>
                <a:lnTo>
                  <a:pt x="128" y="194"/>
                </a:lnTo>
                <a:lnTo>
                  <a:pt x="136" y="194"/>
                </a:lnTo>
                <a:lnTo>
                  <a:pt x="128" y="194"/>
                </a:lnTo>
                <a:lnTo>
                  <a:pt x="128" y="185"/>
                </a:lnTo>
                <a:lnTo>
                  <a:pt x="119" y="185"/>
                </a:lnTo>
                <a:lnTo>
                  <a:pt x="111" y="185"/>
                </a:lnTo>
                <a:lnTo>
                  <a:pt x="102" y="185"/>
                </a:lnTo>
                <a:lnTo>
                  <a:pt x="94" y="185"/>
                </a:lnTo>
                <a:lnTo>
                  <a:pt x="85" y="185"/>
                </a:lnTo>
                <a:lnTo>
                  <a:pt x="85" y="194"/>
                </a:lnTo>
                <a:lnTo>
                  <a:pt x="94" y="194"/>
                </a:lnTo>
                <a:lnTo>
                  <a:pt x="94" y="204"/>
                </a:lnTo>
                <a:lnTo>
                  <a:pt x="85" y="204"/>
                </a:lnTo>
                <a:lnTo>
                  <a:pt x="77" y="204"/>
                </a:lnTo>
                <a:lnTo>
                  <a:pt x="77" y="194"/>
                </a:lnTo>
                <a:lnTo>
                  <a:pt x="68" y="194"/>
                </a:lnTo>
                <a:lnTo>
                  <a:pt x="68" y="185"/>
                </a:lnTo>
                <a:lnTo>
                  <a:pt x="77" y="185"/>
                </a:lnTo>
                <a:lnTo>
                  <a:pt x="77" y="17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0" y="185"/>
                </a:lnTo>
                <a:lnTo>
                  <a:pt x="60" y="175"/>
                </a:lnTo>
                <a:lnTo>
                  <a:pt x="51" y="175"/>
                </a:lnTo>
                <a:lnTo>
                  <a:pt x="43" y="175"/>
                </a:lnTo>
                <a:lnTo>
                  <a:pt x="34" y="175"/>
                </a:lnTo>
                <a:lnTo>
                  <a:pt x="43" y="185"/>
                </a:lnTo>
                <a:lnTo>
                  <a:pt x="51" y="185"/>
                </a:lnTo>
                <a:lnTo>
                  <a:pt x="43" y="194"/>
                </a:lnTo>
                <a:lnTo>
                  <a:pt x="34" y="194"/>
                </a:lnTo>
                <a:lnTo>
                  <a:pt x="26" y="204"/>
                </a:lnTo>
                <a:lnTo>
                  <a:pt x="17" y="204"/>
                </a:lnTo>
                <a:lnTo>
                  <a:pt x="9" y="204"/>
                </a:lnTo>
                <a:lnTo>
                  <a:pt x="9" y="214"/>
                </a:lnTo>
                <a:lnTo>
                  <a:pt x="0" y="214"/>
                </a:lnTo>
                <a:lnTo>
                  <a:pt x="9" y="214"/>
                </a:lnTo>
                <a:lnTo>
                  <a:pt x="17" y="214"/>
                </a:lnTo>
                <a:lnTo>
                  <a:pt x="26" y="214"/>
                </a:lnTo>
                <a:lnTo>
                  <a:pt x="34" y="214"/>
                </a:lnTo>
                <a:lnTo>
                  <a:pt x="34" y="224"/>
                </a:lnTo>
                <a:lnTo>
                  <a:pt x="43" y="224"/>
                </a:lnTo>
                <a:lnTo>
                  <a:pt x="51" y="233"/>
                </a:lnTo>
                <a:lnTo>
                  <a:pt x="51" y="243"/>
                </a:lnTo>
                <a:lnTo>
                  <a:pt x="51" y="233"/>
                </a:lnTo>
                <a:lnTo>
                  <a:pt x="60" y="233"/>
                </a:lnTo>
                <a:lnTo>
                  <a:pt x="60" y="243"/>
                </a:lnTo>
                <a:lnTo>
                  <a:pt x="68" y="243"/>
                </a:lnTo>
                <a:lnTo>
                  <a:pt x="77" y="243"/>
                </a:lnTo>
                <a:lnTo>
                  <a:pt x="85" y="243"/>
                </a:lnTo>
                <a:lnTo>
                  <a:pt x="85" y="233"/>
                </a:lnTo>
                <a:lnTo>
                  <a:pt x="85" y="243"/>
                </a:lnTo>
                <a:lnTo>
                  <a:pt x="85" y="253"/>
                </a:lnTo>
                <a:lnTo>
                  <a:pt x="77" y="253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11" y="262"/>
                </a:lnTo>
                <a:lnTo>
                  <a:pt x="119" y="262"/>
                </a:lnTo>
                <a:lnTo>
                  <a:pt x="119" y="272"/>
                </a:lnTo>
                <a:lnTo>
                  <a:pt x="128" y="272"/>
                </a:lnTo>
                <a:lnTo>
                  <a:pt x="136" y="272"/>
                </a:lnTo>
                <a:lnTo>
                  <a:pt x="145" y="272"/>
                </a:lnTo>
                <a:lnTo>
                  <a:pt x="153" y="282"/>
                </a:lnTo>
                <a:lnTo>
                  <a:pt x="153" y="291"/>
                </a:lnTo>
                <a:lnTo>
                  <a:pt x="162" y="291"/>
                </a:lnTo>
                <a:lnTo>
                  <a:pt x="162" y="301"/>
                </a:lnTo>
                <a:lnTo>
                  <a:pt x="162" y="311"/>
                </a:lnTo>
                <a:lnTo>
                  <a:pt x="162" y="321"/>
                </a:lnTo>
                <a:lnTo>
                  <a:pt x="162" y="330"/>
                </a:lnTo>
                <a:lnTo>
                  <a:pt x="162" y="340"/>
                </a:lnTo>
                <a:lnTo>
                  <a:pt x="162" y="350"/>
                </a:lnTo>
                <a:lnTo>
                  <a:pt x="162" y="359"/>
                </a:lnTo>
                <a:lnTo>
                  <a:pt x="162" y="369"/>
                </a:lnTo>
                <a:lnTo>
                  <a:pt x="153" y="369"/>
                </a:lnTo>
                <a:lnTo>
                  <a:pt x="153" y="379"/>
                </a:lnTo>
                <a:lnTo>
                  <a:pt x="153" y="369"/>
                </a:lnTo>
                <a:lnTo>
                  <a:pt x="153" y="379"/>
                </a:lnTo>
                <a:lnTo>
                  <a:pt x="145" y="379"/>
                </a:lnTo>
                <a:lnTo>
                  <a:pt x="153" y="379"/>
                </a:lnTo>
                <a:lnTo>
                  <a:pt x="153" y="388"/>
                </a:lnTo>
                <a:lnTo>
                  <a:pt x="145" y="388"/>
                </a:lnTo>
                <a:lnTo>
                  <a:pt x="145" y="398"/>
                </a:lnTo>
                <a:lnTo>
                  <a:pt x="136" y="398"/>
                </a:lnTo>
                <a:lnTo>
                  <a:pt x="145" y="398"/>
                </a:lnTo>
                <a:lnTo>
                  <a:pt x="145" y="408"/>
                </a:lnTo>
                <a:lnTo>
                  <a:pt x="145" y="398"/>
                </a:lnTo>
                <a:lnTo>
                  <a:pt x="153" y="398"/>
                </a:lnTo>
                <a:lnTo>
                  <a:pt x="153" y="388"/>
                </a:lnTo>
                <a:lnTo>
                  <a:pt x="162" y="388"/>
                </a:lnTo>
                <a:lnTo>
                  <a:pt x="162" y="379"/>
                </a:lnTo>
                <a:lnTo>
                  <a:pt x="170" y="379"/>
                </a:lnTo>
                <a:lnTo>
                  <a:pt x="170" y="388"/>
                </a:lnTo>
                <a:lnTo>
                  <a:pt x="179" y="388"/>
                </a:lnTo>
                <a:lnTo>
                  <a:pt x="179" y="398"/>
                </a:lnTo>
                <a:lnTo>
                  <a:pt x="170" y="398"/>
                </a:lnTo>
                <a:lnTo>
                  <a:pt x="170" y="408"/>
                </a:lnTo>
                <a:lnTo>
                  <a:pt x="170" y="418"/>
                </a:lnTo>
                <a:lnTo>
                  <a:pt x="162" y="418"/>
                </a:lnTo>
                <a:lnTo>
                  <a:pt x="162" y="408"/>
                </a:lnTo>
                <a:lnTo>
                  <a:pt x="162" y="418"/>
                </a:lnTo>
                <a:lnTo>
                  <a:pt x="153" y="418"/>
                </a:lnTo>
                <a:lnTo>
                  <a:pt x="153" y="408"/>
                </a:lnTo>
                <a:lnTo>
                  <a:pt x="153" y="418"/>
                </a:lnTo>
                <a:lnTo>
                  <a:pt x="153" y="427"/>
                </a:lnTo>
                <a:lnTo>
                  <a:pt x="145" y="427"/>
                </a:lnTo>
                <a:lnTo>
                  <a:pt x="136" y="427"/>
                </a:lnTo>
                <a:lnTo>
                  <a:pt x="145" y="427"/>
                </a:lnTo>
                <a:lnTo>
                  <a:pt x="145" y="437"/>
                </a:lnTo>
                <a:lnTo>
                  <a:pt x="136" y="437"/>
                </a:lnTo>
                <a:lnTo>
                  <a:pt x="128" y="437"/>
                </a:lnTo>
                <a:lnTo>
                  <a:pt x="128" y="447"/>
                </a:lnTo>
                <a:lnTo>
                  <a:pt x="128" y="437"/>
                </a:lnTo>
                <a:lnTo>
                  <a:pt x="128" y="447"/>
                </a:lnTo>
                <a:lnTo>
                  <a:pt x="119" y="447"/>
                </a:lnTo>
                <a:lnTo>
                  <a:pt x="111" y="447"/>
                </a:lnTo>
                <a:lnTo>
                  <a:pt x="111" y="456"/>
                </a:lnTo>
                <a:lnTo>
                  <a:pt x="102" y="456"/>
                </a:lnTo>
                <a:lnTo>
                  <a:pt x="102" y="447"/>
                </a:lnTo>
                <a:lnTo>
                  <a:pt x="94" y="447"/>
                </a:lnTo>
                <a:lnTo>
                  <a:pt x="94" y="456"/>
                </a:lnTo>
                <a:lnTo>
                  <a:pt x="85" y="456"/>
                </a:lnTo>
                <a:lnTo>
                  <a:pt x="94" y="456"/>
                </a:lnTo>
                <a:lnTo>
                  <a:pt x="85" y="456"/>
                </a:lnTo>
                <a:lnTo>
                  <a:pt x="85" y="466"/>
                </a:lnTo>
                <a:lnTo>
                  <a:pt x="85" y="456"/>
                </a:lnTo>
                <a:lnTo>
                  <a:pt x="77" y="456"/>
                </a:lnTo>
                <a:lnTo>
                  <a:pt x="77" y="466"/>
                </a:lnTo>
                <a:lnTo>
                  <a:pt x="85" y="466"/>
                </a:lnTo>
                <a:lnTo>
                  <a:pt x="85" y="476"/>
                </a:lnTo>
                <a:lnTo>
                  <a:pt x="77" y="476"/>
                </a:lnTo>
                <a:lnTo>
                  <a:pt x="85" y="476"/>
                </a:lnTo>
                <a:lnTo>
                  <a:pt x="85" y="485"/>
                </a:lnTo>
                <a:lnTo>
                  <a:pt x="94" y="485"/>
                </a:lnTo>
                <a:lnTo>
                  <a:pt x="94" y="495"/>
                </a:lnTo>
                <a:lnTo>
                  <a:pt x="94" y="505"/>
                </a:lnTo>
                <a:lnTo>
                  <a:pt x="94" y="515"/>
                </a:lnTo>
                <a:lnTo>
                  <a:pt x="85" y="515"/>
                </a:lnTo>
                <a:lnTo>
                  <a:pt x="85" y="505"/>
                </a:lnTo>
                <a:lnTo>
                  <a:pt x="85" y="515"/>
                </a:lnTo>
                <a:lnTo>
                  <a:pt x="85" y="524"/>
                </a:lnTo>
                <a:lnTo>
                  <a:pt x="85" y="534"/>
                </a:lnTo>
                <a:lnTo>
                  <a:pt x="77" y="534"/>
                </a:lnTo>
                <a:lnTo>
                  <a:pt x="77" y="544"/>
                </a:lnTo>
                <a:lnTo>
                  <a:pt x="68" y="544"/>
                </a:lnTo>
                <a:lnTo>
                  <a:pt x="68" y="534"/>
                </a:lnTo>
                <a:lnTo>
                  <a:pt x="68" y="544"/>
                </a:lnTo>
                <a:lnTo>
                  <a:pt x="60" y="544"/>
                </a:lnTo>
                <a:lnTo>
                  <a:pt x="60" y="553"/>
                </a:lnTo>
                <a:lnTo>
                  <a:pt x="51" y="553"/>
                </a:lnTo>
                <a:lnTo>
                  <a:pt x="51" y="563"/>
                </a:lnTo>
                <a:lnTo>
                  <a:pt x="51" y="553"/>
                </a:lnTo>
                <a:lnTo>
                  <a:pt x="51" y="563"/>
                </a:lnTo>
                <a:lnTo>
                  <a:pt x="43" y="563"/>
                </a:lnTo>
                <a:lnTo>
                  <a:pt x="34" y="563"/>
                </a:lnTo>
                <a:lnTo>
                  <a:pt x="34" y="573"/>
                </a:lnTo>
                <a:lnTo>
                  <a:pt x="43" y="573"/>
                </a:lnTo>
                <a:lnTo>
                  <a:pt x="51" y="573"/>
                </a:lnTo>
                <a:lnTo>
                  <a:pt x="51" y="582"/>
                </a:lnTo>
                <a:lnTo>
                  <a:pt x="60" y="592"/>
                </a:lnTo>
                <a:lnTo>
                  <a:pt x="60" y="602"/>
                </a:lnTo>
                <a:lnTo>
                  <a:pt x="51" y="602"/>
                </a:lnTo>
                <a:lnTo>
                  <a:pt x="51" y="612"/>
                </a:lnTo>
                <a:lnTo>
                  <a:pt x="51" y="621"/>
                </a:lnTo>
                <a:lnTo>
                  <a:pt x="51" y="631"/>
                </a:lnTo>
                <a:lnTo>
                  <a:pt x="51" y="641"/>
                </a:lnTo>
                <a:lnTo>
                  <a:pt x="60" y="641"/>
                </a:lnTo>
                <a:lnTo>
                  <a:pt x="60" y="650"/>
                </a:lnTo>
                <a:lnTo>
                  <a:pt x="60" y="660"/>
                </a:lnTo>
                <a:lnTo>
                  <a:pt x="60" y="670"/>
                </a:lnTo>
                <a:lnTo>
                  <a:pt x="68" y="670"/>
                </a:lnTo>
                <a:lnTo>
                  <a:pt x="68" y="679"/>
                </a:lnTo>
                <a:lnTo>
                  <a:pt x="68" y="689"/>
                </a:lnTo>
                <a:lnTo>
                  <a:pt x="77" y="689"/>
                </a:lnTo>
                <a:lnTo>
                  <a:pt x="77" y="699"/>
                </a:lnTo>
                <a:lnTo>
                  <a:pt x="77" y="709"/>
                </a:lnTo>
                <a:lnTo>
                  <a:pt x="77" y="718"/>
                </a:lnTo>
                <a:lnTo>
                  <a:pt x="85" y="718"/>
                </a:lnTo>
                <a:lnTo>
                  <a:pt x="85" y="728"/>
                </a:lnTo>
                <a:lnTo>
                  <a:pt x="85" y="738"/>
                </a:lnTo>
                <a:lnTo>
                  <a:pt x="94" y="747"/>
                </a:lnTo>
                <a:lnTo>
                  <a:pt x="94" y="757"/>
                </a:lnTo>
                <a:lnTo>
                  <a:pt x="102" y="757"/>
                </a:lnTo>
                <a:lnTo>
                  <a:pt x="102" y="767"/>
                </a:lnTo>
                <a:lnTo>
                  <a:pt x="111" y="767"/>
                </a:lnTo>
                <a:lnTo>
                  <a:pt x="111" y="776"/>
                </a:lnTo>
                <a:lnTo>
                  <a:pt x="111" y="786"/>
                </a:lnTo>
                <a:lnTo>
                  <a:pt x="119" y="786"/>
                </a:lnTo>
                <a:lnTo>
                  <a:pt x="111" y="786"/>
                </a:lnTo>
                <a:lnTo>
                  <a:pt x="119" y="786"/>
                </a:lnTo>
                <a:lnTo>
                  <a:pt x="119" y="796"/>
                </a:lnTo>
                <a:lnTo>
                  <a:pt x="128" y="796"/>
                </a:lnTo>
                <a:lnTo>
                  <a:pt x="128" y="806"/>
                </a:lnTo>
                <a:lnTo>
                  <a:pt x="136" y="806"/>
                </a:lnTo>
                <a:lnTo>
                  <a:pt x="136" y="815"/>
                </a:lnTo>
                <a:lnTo>
                  <a:pt x="145" y="815"/>
                </a:lnTo>
                <a:lnTo>
                  <a:pt x="145" y="825"/>
                </a:lnTo>
                <a:lnTo>
                  <a:pt x="153" y="825"/>
                </a:lnTo>
                <a:lnTo>
                  <a:pt x="153" y="835"/>
                </a:lnTo>
                <a:lnTo>
                  <a:pt x="153" y="844"/>
                </a:lnTo>
                <a:lnTo>
                  <a:pt x="162" y="844"/>
                </a:lnTo>
                <a:lnTo>
                  <a:pt x="162" y="854"/>
                </a:lnTo>
                <a:lnTo>
                  <a:pt x="162" y="864"/>
                </a:lnTo>
                <a:lnTo>
                  <a:pt x="153" y="864"/>
                </a:lnTo>
                <a:lnTo>
                  <a:pt x="162" y="864"/>
                </a:lnTo>
                <a:lnTo>
                  <a:pt x="162" y="873"/>
                </a:lnTo>
                <a:lnTo>
                  <a:pt x="162" y="864"/>
                </a:lnTo>
                <a:lnTo>
                  <a:pt x="170" y="864"/>
                </a:lnTo>
                <a:lnTo>
                  <a:pt x="179" y="864"/>
                </a:lnTo>
                <a:lnTo>
                  <a:pt x="179" y="873"/>
                </a:lnTo>
                <a:lnTo>
                  <a:pt x="187" y="873"/>
                </a:lnTo>
                <a:lnTo>
                  <a:pt x="196" y="873"/>
                </a:lnTo>
                <a:lnTo>
                  <a:pt x="204" y="883"/>
                </a:lnTo>
                <a:lnTo>
                  <a:pt x="213" y="883"/>
                </a:lnTo>
                <a:lnTo>
                  <a:pt x="221" y="883"/>
                </a:lnTo>
                <a:lnTo>
                  <a:pt x="230" y="883"/>
                </a:lnTo>
                <a:lnTo>
                  <a:pt x="239" y="883"/>
                </a:lnTo>
                <a:lnTo>
                  <a:pt x="247" y="883"/>
                </a:lnTo>
                <a:lnTo>
                  <a:pt x="247" y="893"/>
                </a:lnTo>
                <a:lnTo>
                  <a:pt x="256" y="893"/>
                </a:lnTo>
                <a:lnTo>
                  <a:pt x="256" y="883"/>
                </a:lnTo>
                <a:lnTo>
                  <a:pt x="256" y="873"/>
                </a:lnTo>
                <a:lnTo>
                  <a:pt x="264" y="873"/>
                </a:lnTo>
                <a:lnTo>
                  <a:pt x="264" y="883"/>
                </a:lnTo>
                <a:lnTo>
                  <a:pt x="264" y="873"/>
                </a:lnTo>
                <a:lnTo>
                  <a:pt x="273" y="873"/>
                </a:lnTo>
                <a:lnTo>
                  <a:pt x="273" y="883"/>
                </a:lnTo>
                <a:lnTo>
                  <a:pt x="264" y="883"/>
                </a:lnTo>
                <a:lnTo>
                  <a:pt x="273" y="883"/>
                </a:lnTo>
                <a:lnTo>
                  <a:pt x="281" y="883"/>
                </a:lnTo>
                <a:lnTo>
                  <a:pt x="281" y="893"/>
                </a:lnTo>
                <a:lnTo>
                  <a:pt x="290" y="893"/>
                </a:lnTo>
                <a:lnTo>
                  <a:pt x="290" y="903"/>
                </a:lnTo>
                <a:lnTo>
                  <a:pt x="298" y="903"/>
                </a:lnTo>
                <a:lnTo>
                  <a:pt x="307" y="903"/>
                </a:lnTo>
                <a:lnTo>
                  <a:pt x="315" y="903"/>
                </a:lnTo>
                <a:lnTo>
                  <a:pt x="324" y="903"/>
                </a:lnTo>
                <a:lnTo>
                  <a:pt x="324" y="912"/>
                </a:lnTo>
                <a:lnTo>
                  <a:pt x="324" y="903"/>
                </a:lnTo>
                <a:lnTo>
                  <a:pt x="332" y="903"/>
                </a:lnTo>
                <a:lnTo>
                  <a:pt x="332" y="912"/>
                </a:lnTo>
                <a:lnTo>
                  <a:pt x="341" y="912"/>
                </a:lnTo>
                <a:lnTo>
                  <a:pt x="341" y="922"/>
                </a:lnTo>
                <a:lnTo>
                  <a:pt x="349" y="922"/>
                </a:lnTo>
                <a:lnTo>
                  <a:pt x="358" y="922"/>
                </a:lnTo>
                <a:lnTo>
                  <a:pt x="358" y="932"/>
                </a:lnTo>
                <a:lnTo>
                  <a:pt x="366" y="932"/>
                </a:lnTo>
                <a:lnTo>
                  <a:pt x="375" y="932"/>
                </a:lnTo>
                <a:lnTo>
                  <a:pt x="375" y="941"/>
                </a:lnTo>
                <a:lnTo>
                  <a:pt x="383" y="941"/>
                </a:lnTo>
                <a:lnTo>
                  <a:pt x="383" y="951"/>
                </a:lnTo>
                <a:lnTo>
                  <a:pt x="392" y="951"/>
                </a:lnTo>
                <a:lnTo>
                  <a:pt x="383" y="951"/>
                </a:lnTo>
                <a:lnTo>
                  <a:pt x="383" y="961"/>
                </a:lnTo>
                <a:lnTo>
                  <a:pt x="392" y="961"/>
                </a:lnTo>
                <a:lnTo>
                  <a:pt x="392" y="970"/>
                </a:lnTo>
                <a:lnTo>
                  <a:pt x="400" y="970"/>
                </a:lnTo>
                <a:lnTo>
                  <a:pt x="400" y="980"/>
                </a:lnTo>
                <a:lnTo>
                  <a:pt x="409" y="980"/>
                </a:lnTo>
                <a:lnTo>
                  <a:pt x="417" y="980"/>
                </a:lnTo>
                <a:lnTo>
                  <a:pt x="409" y="980"/>
                </a:lnTo>
                <a:lnTo>
                  <a:pt x="409" y="970"/>
                </a:lnTo>
                <a:lnTo>
                  <a:pt x="417" y="970"/>
                </a:lnTo>
                <a:lnTo>
                  <a:pt x="417" y="961"/>
                </a:lnTo>
                <a:lnTo>
                  <a:pt x="426" y="961"/>
                </a:lnTo>
                <a:lnTo>
                  <a:pt x="426" y="951"/>
                </a:lnTo>
                <a:lnTo>
                  <a:pt x="434" y="951"/>
                </a:lnTo>
                <a:lnTo>
                  <a:pt x="434" y="941"/>
                </a:lnTo>
                <a:lnTo>
                  <a:pt x="434" y="951"/>
                </a:lnTo>
                <a:lnTo>
                  <a:pt x="426" y="951"/>
                </a:lnTo>
                <a:lnTo>
                  <a:pt x="426" y="941"/>
                </a:lnTo>
                <a:lnTo>
                  <a:pt x="426" y="932"/>
                </a:lnTo>
                <a:lnTo>
                  <a:pt x="426" y="922"/>
                </a:lnTo>
                <a:lnTo>
                  <a:pt x="426" y="932"/>
                </a:lnTo>
                <a:lnTo>
                  <a:pt x="426" y="922"/>
                </a:lnTo>
                <a:lnTo>
                  <a:pt x="434" y="922"/>
                </a:lnTo>
                <a:lnTo>
                  <a:pt x="426" y="922"/>
                </a:lnTo>
                <a:lnTo>
                  <a:pt x="426" y="912"/>
                </a:lnTo>
                <a:lnTo>
                  <a:pt x="434" y="912"/>
                </a:lnTo>
                <a:lnTo>
                  <a:pt x="426" y="912"/>
                </a:lnTo>
                <a:lnTo>
                  <a:pt x="434" y="912"/>
                </a:lnTo>
                <a:lnTo>
                  <a:pt x="434" y="903"/>
                </a:lnTo>
                <a:lnTo>
                  <a:pt x="434" y="893"/>
                </a:lnTo>
                <a:lnTo>
                  <a:pt x="434" y="903"/>
                </a:lnTo>
                <a:lnTo>
                  <a:pt x="426" y="903"/>
                </a:lnTo>
                <a:lnTo>
                  <a:pt x="426" y="893"/>
                </a:lnTo>
                <a:lnTo>
                  <a:pt x="426" y="883"/>
                </a:lnTo>
                <a:lnTo>
                  <a:pt x="417" y="883"/>
                </a:lnTo>
                <a:lnTo>
                  <a:pt x="417" y="873"/>
                </a:lnTo>
                <a:lnTo>
                  <a:pt x="409" y="873"/>
                </a:lnTo>
                <a:lnTo>
                  <a:pt x="417" y="873"/>
                </a:lnTo>
                <a:lnTo>
                  <a:pt x="417" y="864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0" y="864"/>
                </a:lnTo>
                <a:lnTo>
                  <a:pt x="392" y="864"/>
                </a:lnTo>
                <a:lnTo>
                  <a:pt x="392" y="854"/>
                </a:lnTo>
                <a:lnTo>
                  <a:pt x="383" y="854"/>
                </a:lnTo>
                <a:lnTo>
                  <a:pt x="383" y="864"/>
                </a:lnTo>
                <a:lnTo>
                  <a:pt x="383" y="854"/>
                </a:lnTo>
                <a:lnTo>
                  <a:pt x="375" y="854"/>
                </a:lnTo>
                <a:lnTo>
                  <a:pt x="383" y="854"/>
                </a:lnTo>
                <a:lnTo>
                  <a:pt x="383" y="844"/>
                </a:lnTo>
                <a:lnTo>
                  <a:pt x="383" y="835"/>
                </a:lnTo>
                <a:lnTo>
                  <a:pt x="383" y="825"/>
                </a:lnTo>
              </a:path>
            </a:pathLst>
          </a:custGeom>
          <a:noFill/>
          <a:ln cap="rnd" w="12600">
            <a:solidFill>
              <a:srgbClr val="c06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Freeform 24"/>
          <p:cNvSpPr/>
          <p:nvPr/>
        </p:nvSpPr>
        <p:spPr>
          <a:xfrm>
            <a:off x="7326360" y="485640"/>
            <a:ext cx="1398600" cy="193212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881" h="1217">
                <a:moveTo>
                  <a:pt x="187" y="579"/>
                </a:moveTo>
                <a:lnTo>
                  <a:pt x="279" y="627"/>
                </a:lnTo>
                <a:lnTo>
                  <a:pt x="448" y="627"/>
                </a:lnTo>
                <a:lnTo>
                  <a:pt x="440" y="627"/>
                </a:lnTo>
                <a:lnTo>
                  <a:pt x="440" y="637"/>
                </a:lnTo>
                <a:lnTo>
                  <a:pt x="432" y="637"/>
                </a:lnTo>
                <a:lnTo>
                  <a:pt x="432" y="647"/>
                </a:lnTo>
                <a:lnTo>
                  <a:pt x="432" y="656"/>
                </a:lnTo>
                <a:lnTo>
                  <a:pt x="424" y="656"/>
                </a:lnTo>
                <a:lnTo>
                  <a:pt x="424" y="666"/>
                </a:lnTo>
                <a:lnTo>
                  <a:pt x="432" y="666"/>
                </a:lnTo>
                <a:lnTo>
                  <a:pt x="432" y="676"/>
                </a:lnTo>
                <a:lnTo>
                  <a:pt x="424" y="676"/>
                </a:lnTo>
                <a:lnTo>
                  <a:pt x="424" y="685"/>
                </a:lnTo>
                <a:lnTo>
                  <a:pt x="432" y="685"/>
                </a:lnTo>
                <a:lnTo>
                  <a:pt x="424" y="685"/>
                </a:lnTo>
                <a:lnTo>
                  <a:pt x="432" y="685"/>
                </a:lnTo>
                <a:lnTo>
                  <a:pt x="432" y="695"/>
                </a:lnTo>
                <a:lnTo>
                  <a:pt x="432" y="705"/>
                </a:lnTo>
                <a:lnTo>
                  <a:pt x="432" y="714"/>
                </a:lnTo>
                <a:lnTo>
                  <a:pt x="432" y="723"/>
                </a:lnTo>
                <a:lnTo>
                  <a:pt x="432" y="733"/>
                </a:lnTo>
                <a:lnTo>
                  <a:pt x="432" y="743"/>
                </a:lnTo>
                <a:lnTo>
                  <a:pt x="424" y="743"/>
                </a:lnTo>
                <a:lnTo>
                  <a:pt x="424" y="752"/>
                </a:lnTo>
                <a:lnTo>
                  <a:pt x="415" y="752"/>
                </a:lnTo>
                <a:lnTo>
                  <a:pt x="415" y="762"/>
                </a:lnTo>
                <a:lnTo>
                  <a:pt x="407" y="762"/>
                </a:lnTo>
                <a:lnTo>
                  <a:pt x="407" y="772"/>
                </a:lnTo>
                <a:lnTo>
                  <a:pt x="407" y="781"/>
                </a:lnTo>
                <a:lnTo>
                  <a:pt x="398" y="781"/>
                </a:lnTo>
                <a:lnTo>
                  <a:pt x="398" y="791"/>
                </a:lnTo>
                <a:lnTo>
                  <a:pt x="390" y="791"/>
                </a:lnTo>
                <a:lnTo>
                  <a:pt x="390" y="801"/>
                </a:lnTo>
                <a:lnTo>
                  <a:pt x="381" y="801"/>
                </a:lnTo>
                <a:lnTo>
                  <a:pt x="381" y="811"/>
                </a:lnTo>
                <a:lnTo>
                  <a:pt x="381" y="820"/>
                </a:lnTo>
                <a:lnTo>
                  <a:pt x="381" y="830"/>
                </a:lnTo>
                <a:lnTo>
                  <a:pt x="373" y="830"/>
                </a:lnTo>
                <a:lnTo>
                  <a:pt x="373" y="840"/>
                </a:lnTo>
                <a:lnTo>
                  <a:pt x="373" y="849"/>
                </a:lnTo>
                <a:lnTo>
                  <a:pt x="364" y="849"/>
                </a:lnTo>
                <a:lnTo>
                  <a:pt x="356" y="859"/>
                </a:lnTo>
                <a:lnTo>
                  <a:pt x="347" y="859"/>
                </a:lnTo>
                <a:lnTo>
                  <a:pt x="347" y="869"/>
                </a:lnTo>
                <a:lnTo>
                  <a:pt x="339" y="869"/>
                </a:lnTo>
                <a:lnTo>
                  <a:pt x="339" y="878"/>
                </a:lnTo>
                <a:lnTo>
                  <a:pt x="330" y="878"/>
                </a:lnTo>
                <a:lnTo>
                  <a:pt x="330" y="888"/>
                </a:lnTo>
                <a:lnTo>
                  <a:pt x="339" y="888"/>
                </a:lnTo>
                <a:lnTo>
                  <a:pt x="339" y="898"/>
                </a:lnTo>
                <a:lnTo>
                  <a:pt x="330" y="898"/>
                </a:lnTo>
                <a:lnTo>
                  <a:pt x="330" y="908"/>
                </a:lnTo>
                <a:lnTo>
                  <a:pt x="330" y="916"/>
                </a:lnTo>
                <a:lnTo>
                  <a:pt x="330" y="926"/>
                </a:lnTo>
                <a:lnTo>
                  <a:pt x="339" y="926"/>
                </a:lnTo>
                <a:lnTo>
                  <a:pt x="339" y="936"/>
                </a:lnTo>
                <a:lnTo>
                  <a:pt x="347" y="936"/>
                </a:lnTo>
                <a:lnTo>
                  <a:pt x="347" y="945"/>
                </a:lnTo>
                <a:lnTo>
                  <a:pt x="347" y="955"/>
                </a:lnTo>
                <a:lnTo>
                  <a:pt x="347" y="965"/>
                </a:lnTo>
                <a:lnTo>
                  <a:pt x="347" y="974"/>
                </a:lnTo>
                <a:lnTo>
                  <a:pt x="356" y="974"/>
                </a:lnTo>
                <a:lnTo>
                  <a:pt x="356" y="984"/>
                </a:lnTo>
                <a:lnTo>
                  <a:pt x="347" y="984"/>
                </a:lnTo>
                <a:lnTo>
                  <a:pt x="356" y="984"/>
                </a:lnTo>
                <a:lnTo>
                  <a:pt x="347" y="984"/>
                </a:lnTo>
                <a:lnTo>
                  <a:pt x="347" y="994"/>
                </a:lnTo>
                <a:lnTo>
                  <a:pt x="356" y="994"/>
                </a:lnTo>
                <a:lnTo>
                  <a:pt x="356" y="1004"/>
                </a:lnTo>
                <a:lnTo>
                  <a:pt x="364" y="1004"/>
                </a:lnTo>
                <a:lnTo>
                  <a:pt x="364" y="1013"/>
                </a:lnTo>
                <a:lnTo>
                  <a:pt x="364" y="1023"/>
                </a:lnTo>
                <a:lnTo>
                  <a:pt x="373" y="1023"/>
                </a:lnTo>
                <a:lnTo>
                  <a:pt x="373" y="1033"/>
                </a:lnTo>
                <a:lnTo>
                  <a:pt x="381" y="1033"/>
                </a:lnTo>
                <a:lnTo>
                  <a:pt x="381" y="1023"/>
                </a:lnTo>
                <a:lnTo>
                  <a:pt x="381" y="1033"/>
                </a:lnTo>
                <a:lnTo>
                  <a:pt x="390" y="1033"/>
                </a:lnTo>
                <a:lnTo>
                  <a:pt x="390" y="1042"/>
                </a:lnTo>
                <a:lnTo>
                  <a:pt x="398" y="1042"/>
                </a:lnTo>
                <a:lnTo>
                  <a:pt x="398" y="1052"/>
                </a:lnTo>
                <a:lnTo>
                  <a:pt x="398" y="1042"/>
                </a:lnTo>
                <a:lnTo>
                  <a:pt x="407" y="1042"/>
                </a:lnTo>
                <a:lnTo>
                  <a:pt x="415" y="1042"/>
                </a:lnTo>
                <a:lnTo>
                  <a:pt x="424" y="1042"/>
                </a:lnTo>
                <a:lnTo>
                  <a:pt x="432" y="1042"/>
                </a:lnTo>
                <a:lnTo>
                  <a:pt x="432" y="1033"/>
                </a:lnTo>
                <a:lnTo>
                  <a:pt x="432" y="1023"/>
                </a:lnTo>
                <a:lnTo>
                  <a:pt x="440" y="1023"/>
                </a:lnTo>
                <a:lnTo>
                  <a:pt x="448" y="1023"/>
                </a:lnTo>
                <a:lnTo>
                  <a:pt x="457" y="1023"/>
                </a:lnTo>
                <a:lnTo>
                  <a:pt x="457" y="1033"/>
                </a:lnTo>
                <a:lnTo>
                  <a:pt x="457" y="1042"/>
                </a:lnTo>
                <a:lnTo>
                  <a:pt x="465" y="1042"/>
                </a:lnTo>
                <a:lnTo>
                  <a:pt x="474" y="1042"/>
                </a:lnTo>
                <a:lnTo>
                  <a:pt x="482" y="1042"/>
                </a:lnTo>
                <a:lnTo>
                  <a:pt x="482" y="1052"/>
                </a:lnTo>
                <a:lnTo>
                  <a:pt x="482" y="1042"/>
                </a:lnTo>
                <a:lnTo>
                  <a:pt x="482" y="1052"/>
                </a:lnTo>
                <a:lnTo>
                  <a:pt x="491" y="1052"/>
                </a:lnTo>
                <a:lnTo>
                  <a:pt x="499" y="1052"/>
                </a:lnTo>
                <a:lnTo>
                  <a:pt x="499" y="1062"/>
                </a:lnTo>
                <a:lnTo>
                  <a:pt x="508" y="1062"/>
                </a:lnTo>
                <a:lnTo>
                  <a:pt x="516" y="1062"/>
                </a:lnTo>
                <a:lnTo>
                  <a:pt x="525" y="1062"/>
                </a:lnTo>
                <a:lnTo>
                  <a:pt x="525" y="1052"/>
                </a:lnTo>
                <a:lnTo>
                  <a:pt x="525" y="1062"/>
                </a:lnTo>
                <a:lnTo>
                  <a:pt x="533" y="1062"/>
                </a:lnTo>
                <a:lnTo>
                  <a:pt x="533" y="1071"/>
                </a:lnTo>
                <a:lnTo>
                  <a:pt x="542" y="1071"/>
                </a:lnTo>
                <a:lnTo>
                  <a:pt x="542" y="1081"/>
                </a:lnTo>
                <a:lnTo>
                  <a:pt x="550" y="1081"/>
                </a:lnTo>
                <a:lnTo>
                  <a:pt x="550" y="1091"/>
                </a:lnTo>
                <a:lnTo>
                  <a:pt x="559" y="1091"/>
                </a:lnTo>
                <a:lnTo>
                  <a:pt x="559" y="1101"/>
                </a:lnTo>
                <a:lnTo>
                  <a:pt x="567" y="1101"/>
                </a:lnTo>
                <a:lnTo>
                  <a:pt x="576" y="1101"/>
                </a:lnTo>
                <a:lnTo>
                  <a:pt x="584" y="1101"/>
                </a:lnTo>
                <a:lnTo>
                  <a:pt x="584" y="1110"/>
                </a:lnTo>
                <a:lnTo>
                  <a:pt x="584" y="1119"/>
                </a:lnTo>
                <a:lnTo>
                  <a:pt x="584" y="1129"/>
                </a:lnTo>
                <a:lnTo>
                  <a:pt x="593" y="1129"/>
                </a:lnTo>
                <a:lnTo>
                  <a:pt x="593" y="1138"/>
                </a:lnTo>
                <a:lnTo>
                  <a:pt x="593" y="1148"/>
                </a:lnTo>
                <a:lnTo>
                  <a:pt x="584" y="1148"/>
                </a:lnTo>
                <a:lnTo>
                  <a:pt x="593" y="1148"/>
                </a:lnTo>
                <a:lnTo>
                  <a:pt x="593" y="1158"/>
                </a:lnTo>
                <a:lnTo>
                  <a:pt x="602" y="1158"/>
                </a:lnTo>
                <a:lnTo>
                  <a:pt x="602" y="1168"/>
                </a:lnTo>
                <a:lnTo>
                  <a:pt x="610" y="1168"/>
                </a:lnTo>
                <a:lnTo>
                  <a:pt x="618" y="1168"/>
                </a:lnTo>
                <a:lnTo>
                  <a:pt x="626" y="1168"/>
                </a:lnTo>
                <a:lnTo>
                  <a:pt x="635" y="1168"/>
                </a:lnTo>
                <a:lnTo>
                  <a:pt x="626" y="1168"/>
                </a:lnTo>
                <a:lnTo>
                  <a:pt x="626" y="1177"/>
                </a:lnTo>
                <a:lnTo>
                  <a:pt x="626" y="1187"/>
                </a:lnTo>
                <a:lnTo>
                  <a:pt x="635" y="1187"/>
                </a:lnTo>
                <a:lnTo>
                  <a:pt x="635" y="1197"/>
                </a:lnTo>
                <a:lnTo>
                  <a:pt x="635" y="1206"/>
                </a:lnTo>
                <a:lnTo>
                  <a:pt x="643" y="1206"/>
                </a:lnTo>
                <a:lnTo>
                  <a:pt x="652" y="1206"/>
                </a:lnTo>
                <a:lnTo>
                  <a:pt x="652" y="1216"/>
                </a:lnTo>
                <a:lnTo>
                  <a:pt x="660" y="1216"/>
                </a:lnTo>
                <a:lnTo>
                  <a:pt x="660" y="1206"/>
                </a:lnTo>
                <a:lnTo>
                  <a:pt x="660" y="1197"/>
                </a:lnTo>
                <a:lnTo>
                  <a:pt x="660" y="1187"/>
                </a:lnTo>
                <a:lnTo>
                  <a:pt x="660" y="1177"/>
                </a:lnTo>
                <a:lnTo>
                  <a:pt x="660" y="1168"/>
                </a:lnTo>
                <a:lnTo>
                  <a:pt x="660" y="1158"/>
                </a:lnTo>
                <a:lnTo>
                  <a:pt x="660" y="955"/>
                </a:lnTo>
                <a:lnTo>
                  <a:pt x="720" y="945"/>
                </a:lnTo>
                <a:lnTo>
                  <a:pt x="711" y="945"/>
                </a:lnTo>
                <a:lnTo>
                  <a:pt x="711" y="936"/>
                </a:lnTo>
                <a:lnTo>
                  <a:pt x="703" y="936"/>
                </a:lnTo>
                <a:lnTo>
                  <a:pt x="711" y="936"/>
                </a:lnTo>
                <a:lnTo>
                  <a:pt x="711" y="926"/>
                </a:lnTo>
                <a:lnTo>
                  <a:pt x="703" y="926"/>
                </a:lnTo>
                <a:lnTo>
                  <a:pt x="694" y="926"/>
                </a:lnTo>
                <a:lnTo>
                  <a:pt x="703" y="926"/>
                </a:lnTo>
                <a:lnTo>
                  <a:pt x="703" y="916"/>
                </a:lnTo>
                <a:lnTo>
                  <a:pt x="694" y="916"/>
                </a:lnTo>
                <a:lnTo>
                  <a:pt x="703" y="916"/>
                </a:lnTo>
                <a:lnTo>
                  <a:pt x="703" y="908"/>
                </a:lnTo>
                <a:lnTo>
                  <a:pt x="694" y="908"/>
                </a:lnTo>
                <a:lnTo>
                  <a:pt x="694" y="898"/>
                </a:lnTo>
                <a:lnTo>
                  <a:pt x="694" y="888"/>
                </a:lnTo>
                <a:lnTo>
                  <a:pt x="694" y="878"/>
                </a:lnTo>
                <a:lnTo>
                  <a:pt x="703" y="878"/>
                </a:lnTo>
                <a:lnTo>
                  <a:pt x="703" y="888"/>
                </a:lnTo>
                <a:lnTo>
                  <a:pt x="703" y="878"/>
                </a:lnTo>
                <a:lnTo>
                  <a:pt x="703" y="869"/>
                </a:lnTo>
                <a:lnTo>
                  <a:pt x="711" y="869"/>
                </a:lnTo>
                <a:lnTo>
                  <a:pt x="720" y="869"/>
                </a:lnTo>
                <a:lnTo>
                  <a:pt x="728" y="869"/>
                </a:lnTo>
                <a:lnTo>
                  <a:pt x="728" y="878"/>
                </a:lnTo>
                <a:lnTo>
                  <a:pt x="737" y="878"/>
                </a:lnTo>
                <a:lnTo>
                  <a:pt x="745" y="878"/>
                </a:lnTo>
                <a:lnTo>
                  <a:pt x="745" y="888"/>
                </a:lnTo>
                <a:lnTo>
                  <a:pt x="754" y="888"/>
                </a:lnTo>
                <a:lnTo>
                  <a:pt x="762" y="888"/>
                </a:lnTo>
                <a:lnTo>
                  <a:pt x="762" y="878"/>
                </a:lnTo>
                <a:lnTo>
                  <a:pt x="771" y="888"/>
                </a:lnTo>
                <a:lnTo>
                  <a:pt x="771" y="878"/>
                </a:lnTo>
                <a:lnTo>
                  <a:pt x="771" y="888"/>
                </a:lnTo>
                <a:lnTo>
                  <a:pt x="771" y="898"/>
                </a:lnTo>
                <a:lnTo>
                  <a:pt x="779" y="898"/>
                </a:lnTo>
                <a:lnTo>
                  <a:pt x="779" y="908"/>
                </a:lnTo>
                <a:lnTo>
                  <a:pt x="788" y="908"/>
                </a:lnTo>
                <a:lnTo>
                  <a:pt x="795" y="908"/>
                </a:lnTo>
                <a:lnTo>
                  <a:pt x="795" y="916"/>
                </a:lnTo>
                <a:lnTo>
                  <a:pt x="804" y="916"/>
                </a:lnTo>
                <a:lnTo>
                  <a:pt x="795" y="916"/>
                </a:lnTo>
                <a:lnTo>
                  <a:pt x="795" y="926"/>
                </a:lnTo>
                <a:lnTo>
                  <a:pt x="804" y="926"/>
                </a:lnTo>
                <a:lnTo>
                  <a:pt x="804" y="936"/>
                </a:lnTo>
                <a:lnTo>
                  <a:pt x="812" y="936"/>
                </a:lnTo>
                <a:lnTo>
                  <a:pt x="812" y="945"/>
                </a:lnTo>
                <a:lnTo>
                  <a:pt x="812" y="936"/>
                </a:lnTo>
                <a:lnTo>
                  <a:pt x="821" y="936"/>
                </a:lnTo>
                <a:lnTo>
                  <a:pt x="821" y="945"/>
                </a:lnTo>
                <a:lnTo>
                  <a:pt x="829" y="945"/>
                </a:lnTo>
                <a:lnTo>
                  <a:pt x="838" y="945"/>
                </a:lnTo>
                <a:lnTo>
                  <a:pt x="829" y="945"/>
                </a:lnTo>
                <a:lnTo>
                  <a:pt x="829" y="936"/>
                </a:lnTo>
                <a:lnTo>
                  <a:pt x="838" y="936"/>
                </a:lnTo>
                <a:lnTo>
                  <a:pt x="838" y="945"/>
                </a:lnTo>
                <a:lnTo>
                  <a:pt x="846" y="945"/>
                </a:lnTo>
                <a:lnTo>
                  <a:pt x="846" y="936"/>
                </a:lnTo>
                <a:lnTo>
                  <a:pt x="855" y="936"/>
                </a:lnTo>
                <a:lnTo>
                  <a:pt x="846" y="936"/>
                </a:lnTo>
                <a:lnTo>
                  <a:pt x="846" y="926"/>
                </a:lnTo>
                <a:lnTo>
                  <a:pt x="855" y="926"/>
                </a:lnTo>
                <a:lnTo>
                  <a:pt x="855" y="916"/>
                </a:lnTo>
                <a:lnTo>
                  <a:pt x="855" y="908"/>
                </a:lnTo>
                <a:lnTo>
                  <a:pt x="863" y="908"/>
                </a:lnTo>
                <a:lnTo>
                  <a:pt x="872" y="908"/>
                </a:lnTo>
                <a:lnTo>
                  <a:pt x="872" y="916"/>
                </a:lnTo>
                <a:lnTo>
                  <a:pt x="880" y="916"/>
                </a:lnTo>
                <a:lnTo>
                  <a:pt x="880" y="908"/>
                </a:lnTo>
                <a:lnTo>
                  <a:pt x="872" y="908"/>
                </a:lnTo>
                <a:lnTo>
                  <a:pt x="872" y="898"/>
                </a:lnTo>
                <a:lnTo>
                  <a:pt x="872" y="888"/>
                </a:lnTo>
                <a:lnTo>
                  <a:pt x="863" y="888"/>
                </a:lnTo>
                <a:lnTo>
                  <a:pt x="855" y="888"/>
                </a:lnTo>
                <a:lnTo>
                  <a:pt x="855" y="878"/>
                </a:lnTo>
                <a:lnTo>
                  <a:pt x="855" y="888"/>
                </a:lnTo>
                <a:lnTo>
                  <a:pt x="855" y="878"/>
                </a:lnTo>
                <a:lnTo>
                  <a:pt x="846" y="878"/>
                </a:lnTo>
                <a:lnTo>
                  <a:pt x="846" y="869"/>
                </a:lnTo>
                <a:lnTo>
                  <a:pt x="838" y="869"/>
                </a:lnTo>
                <a:lnTo>
                  <a:pt x="838" y="859"/>
                </a:lnTo>
                <a:lnTo>
                  <a:pt x="846" y="859"/>
                </a:lnTo>
                <a:lnTo>
                  <a:pt x="838" y="859"/>
                </a:lnTo>
                <a:lnTo>
                  <a:pt x="838" y="849"/>
                </a:lnTo>
                <a:lnTo>
                  <a:pt x="829" y="849"/>
                </a:lnTo>
                <a:lnTo>
                  <a:pt x="821" y="849"/>
                </a:lnTo>
                <a:lnTo>
                  <a:pt x="821" y="859"/>
                </a:lnTo>
                <a:lnTo>
                  <a:pt x="812" y="859"/>
                </a:lnTo>
                <a:lnTo>
                  <a:pt x="812" y="849"/>
                </a:lnTo>
                <a:lnTo>
                  <a:pt x="804" y="849"/>
                </a:lnTo>
                <a:lnTo>
                  <a:pt x="795" y="849"/>
                </a:lnTo>
                <a:lnTo>
                  <a:pt x="788" y="849"/>
                </a:lnTo>
                <a:lnTo>
                  <a:pt x="779" y="849"/>
                </a:lnTo>
                <a:lnTo>
                  <a:pt x="779" y="840"/>
                </a:lnTo>
                <a:lnTo>
                  <a:pt x="771" y="840"/>
                </a:lnTo>
                <a:lnTo>
                  <a:pt x="762" y="840"/>
                </a:lnTo>
                <a:lnTo>
                  <a:pt x="754" y="840"/>
                </a:lnTo>
                <a:lnTo>
                  <a:pt x="754" y="830"/>
                </a:lnTo>
                <a:lnTo>
                  <a:pt x="745" y="830"/>
                </a:lnTo>
                <a:lnTo>
                  <a:pt x="745" y="820"/>
                </a:lnTo>
                <a:lnTo>
                  <a:pt x="737" y="820"/>
                </a:lnTo>
                <a:lnTo>
                  <a:pt x="737" y="811"/>
                </a:lnTo>
                <a:lnTo>
                  <a:pt x="737" y="801"/>
                </a:lnTo>
                <a:lnTo>
                  <a:pt x="728" y="801"/>
                </a:lnTo>
                <a:lnTo>
                  <a:pt x="728" y="791"/>
                </a:lnTo>
                <a:lnTo>
                  <a:pt x="737" y="791"/>
                </a:lnTo>
                <a:lnTo>
                  <a:pt x="737" y="781"/>
                </a:lnTo>
                <a:lnTo>
                  <a:pt x="728" y="781"/>
                </a:lnTo>
                <a:lnTo>
                  <a:pt x="728" y="791"/>
                </a:lnTo>
                <a:lnTo>
                  <a:pt x="720" y="791"/>
                </a:lnTo>
                <a:lnTo>
                  <a:pt x="720" y="781"/>
                </a:lnTo>
                <a:lnTo>
                  <a:pt x="711" y="781"/>
                </a:lnTo>
                <a:lnTo>
                  <a:pt x="703" y="781"/>
                </a:lnTo>
                <a:lnTo>
                  <a:pt x="703" y="772"/>
                </a:lnTo>
                <a:lnTo>
                  <a:pt x="694" y="772"/>
                </a:lnTo>
                <a:lnTo>
                  <a:pt x="694" y="762"/>
                </a:lnTo>
                <a:lnTo>
                  <a:pt x="694" y="752"/>
                </a:lnTo>
                <a:lnTo>
                  <a:pt x="686" y="752"/>
                </a:lnTo>
                <a:lnTo>
                  <a:pt x="686" y="743"/>
                </a:lnTo>
                <a:lnTo>
                  <a:pt x="677" y="743"/>
                </a:lnTo>
                <a:lnTo>
                  <a:pt x="677" y="733"/>
                </a:lnTo>
                <a:lnTo>
                  <a:pt x="669" y="733"/>
                </a:lnTo>
                <a:lnTo>
                  <a:pt x="669" y="723"/>
                </a:lnTo>
                <a:lnTo>
                  <a:pt x="660" y="723"/>
                </a:lnTo>
                <a:lnTo>
                  <a:pt x="660" y="714"/>
                </a:lnTo>
                <a:lnTo>
                  <a:pt x="660" y="705"/>
                </a:lnTo>
                <a:lnTo>
                  <a:pt x="652" y="705"/>
                </a:lnTo>
                <a:lnTo>
                  <a:pt x="652" y="695"/>
                </a:lnTo>
                <a:lnTo>
                  <a:pt x="643" y="695"/>
                </a:lnTo>
                <a:lnTo>
                  <a:pt x="643" y="685"/>
                </a:lnTo>
                <a:lnTo>
                  <a:pt x="635" y="685"/>
                </a:lnTo>
                <a:lnTo>
                  <a:pt x="635" y="676"/>
                </a:lnTo>
                <a:lnTo>
                  <a:pt x="635" y="666"/>
                </a:lnTo>
                <a:lnTo>
                  <a:pt x="626" y="666"/>
                </a:lnTo>
                <a:lnTo>
                  <a:pt x="626" y="656"/>
                </a:lnTo>
                <a:lnTo>
                  <a:pt x="618" y="656"/>
                </a:lnTo>
                <a:lnTo>
                  <a:pt x="618" y="647"/>
                </a:lnTo>
                <a:lnTo>
                  <a:pt x="610" y="647"/>
                </a:lnTo>
                <a:lnTo>
                  <a:pt x="610" y="637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08"/>
                </a:lnTo>
                <a:lnTo>
                  <a:pt x="602" y="608"/>
                </a:lnTo>
                <a:lnTo>
                  <a:pt x="593" y="608"/>
                </a:lnTo>
                <a:lnTo>
                  <a:pt x="584" y="608"/>
                </a:lnTo>
                <a:lnTo>
                  <a:pt x="576" y="608"/>
                </a:lnTo>
                <a:lnTo>
                  <a:pt x="576" y="618"/>
                </a:lnTo>
                <a:lnTo>
                  <a:pt x="567" y="618"/>
                </a:lnTo>
                <a:lnTo>
                  <a:pt x="567" y="608"/>
                </a:lnTo>
                <a:lnTo>
                  <a:pt x="559" y="608"/>
                </a:lnTo>
                <a:lnTo>
                  <a:pt x="559" y="598"/>
                </a:lnTo>
                <a:lnTo>
                  <a:pt x="550" y="598"/>
                </a:lnTo>
                <a:lnTo>
                  <a:pt x="550" y="588"/>
                </a:lnTo>
                <a:lnTo>
                  <a:pt x="542" y="588"/>
                </a:lnTo>
                <a:lnTo>
                  <a:pt x="542" y="579"/>
                </a:lnTo>
                <a:lnTo>
                  <a:pt x="542" y="569"/>
                </a:lnTo>
                <a:lnTo>
                  <a:pt x="533" y="569"/>
                </a:lnTo>
                <a:lnTo>
                  <a:pt x="533" y="559"/>
                </a:lnTo>
                <a:lnTo>
                  <a:pt x="525" y="559"/>
                </a:lnTo>
                <a:lnTo>
                  <a:pt x="525" y="550"/>
                </a:lnTo>
                <a:lnTo>
                  <a:pt x="516" y="550"/>
                </a:lnTo>
                <a:lnTo>
                  <a:pt x="516" y="540"/>
                </a:lnTo>
                <a:lnTo>
                  <a:pt x="516" y="530"/>
                </a:lnTo>
                <a:lnTo>
                  <a:pt x="508" y="530"/>
                </a:lnTo>
                <a:lnTo>
                  <a:pt x="508" y="521"/>
                </a:lnTo>
                <a:lnTo>
                  <a:pt x="499" y="521"/>
                </a:lnTo>
                <a:lnTo>
                  <a:pt x="499" y="511"/>
                </a:lnTo>
                <a:lnTo>
                  <a:pt x="491" y="511"/>
                </a:lnTo>
                <a:lnTo>
                  <a:pt x="491" y="502"/>
                </a:lnTo>
                <a:lnTo>
                  <a:pt x="482" y="502"/>
                </a:lnTo>
                <a:lnTo>
                  <a:pt x="482" y="492"/>
                </a:lnTo>
                <a:lnTo>
                  <a:pt x="474" y="492"/>
                </a:lnTo>
                <a:lnTo>
                  <a:pt x="474" y="483"/>
                </a:lnTo>
                <a:lnTo>
                  <a:pt x="474" y="473"/>
                </a:lnTo>
                <a:lnTo>
                  <a:pt x="465" y="473"/>
                </a:lnTo>
                <a:lnTo>
                  <a:pt x="465" y="463"/>
                </a:lnTo>
                <a:lnTo>
                  <a:pt x="457" y="463"/>
                </a:lnTo>
                <a:lnTo>
                  <a:pt x="457" y="454"/>
                </a:lnTo>
                <a:lnTo>
                  <a:pt x="448" y="454"/>
                </a:lnTo>
                <a:lnTo>
                  <a:pt x="448" y="444"/>
                </a:lnTo>
                <a:lnTo>
                  <a:pt x="432" y="425"/>
                </a:lnTo>
                <a:lnTo>
                  <a:pt x="424" y="415"/>
                </a:lnTo>
                <a:lnTo>
                  <a:pt x="415" y="405"/>
                </a:lnTo>
                <a:lnTo>
                  <a:pt x="415" y="395"/>
                </a:lnTo>
                <a:lnTo>
                  <a:pt x="407" y="395"/>
                </a:lnTo>
                <a:lnTo>
                  <a:pt x="407" y="386"/>
                </a:lnTo>
                <a:lnTo>
                  <a:pt x="398" y="386"/>
                </a:lnTo>
                <a:lnTo>
                  <a:pt x="398" y="376"/>
                </a:lnTo>
                <a:lnTo>
                  <a:pt x="398" y="366"/>
                </a:lnTo>
                <a:lnTo>
                  <a:pt x="390" y="366"/>
                </a:lnTo>
                <a:lnTo>
                  <a:pt x="390" y="357"/>
                </a:lnTo>
                <a:lnTo>
                  <a:pt x="381" y="357"/>
                </a:lnTo>
                <a:lnTo>
                  <a:pt x="381" y="347"/>
                </a:lnTo>
                <a:lnTo>
                  <a:pt x="381" y="337"/>
                </a:lnTo>
                <a:lnTo>
                  <a:pt x="373" y="337"/>
                </a:lnTo>
                <a:lnTo>
                  <a:pt x="373" y="328"/>
                </a:lnTo>
                <a:lnTo>
                  <a:pt x="364" y="328"/>
                </a:lnTo>
                <a:lnTo>
                  <a:pt x="364" y="318"/>
                </a:lnTo>
                <a:lnTo>
                  <a:pt x="364" y="308"/>
                </a:lnTo>
                <a:lnTo>
                  <a:pt x="356" y="308"/>
                </a:lnTo>
                <a:lnTo>
                  <a:pt x="356" y="299"/>
                </a:lnTo>
                <a:lnTo>
                  <a:pt x="356" y="290"/>
                </a:lnTo>
                <a:lnTo>
                  <a:pt x="347" y="290"/>
                </a:lnTo>
                <a:lnTo>
                  <a:pt x="347" y="280"/>
                </a:lnTo>
                <a:lnTo>
                  <a:pt x="347" y="270"/>
                </a:lnTo>
                <a:lnTo>
                  <a:pt x="339" y="270"/>
                </a:lnTo>
                <a:lnTo>
                  <a:pt x="339" y="261"/>
                </a:lnTo>
                <a:lnTo>
                  <a:pt x="339" y="251"/>
                </a:lnTo>
                <a:lnTo>
                  <a:pt x="330" y="251"/>
                </a:lnTo>
                <a:lnTo>
                  <a:pt x="330" y="241"/>
                </a:lnTo>
                <a:lnTo>
                  <a:pt x="330" y="232"/>
                </a:lnTo>
                <a:lnTo>
                  <a:pt x="322" y="232"/>
                </a:lnTo>
                <a:lnTo>
                  <a:pt x="330" y="232"/>
                </a:lnTo>
                <a:lnTo>
                  <a:pt x="322" y="232"/>
                </a:lnTo>
                <a:lnTo>
                  <a:pt x="322" y="222"/>
                </a:lnTo>
                <a:lnTo>
                  <a:pt x="322" y="212"/>
                </a:lnTo>
                <a:lnTo>
                  <a:pt x="313" y="212"/>
                </a:lnTo>
                <a:lnTo>
                  <a:pt x="313" y="202"/>
                </a:lnTo>
                <a:lnTo>
                  <a:pt x="313" y="193"/>
                </a:lnTo>
                <a:lnTo>
                  <a:pt x="313" y="183"/>
                </a:lnTo>
                <a:lnTo>
                  <a:pt x="305" y="183"/>
                </a:lnTo>
                <a:lnTo>
                  <a:pt x="305" y="173"/>
                </a:lnTo>
                <a:lnTo>
                  <a:pt x="305" y="164"/>
                </a:lnTo>
                <a:lnTo>
                  <a:pt x="305" y="154"/>
                </a:lnTo>
                <a:lnTo>
                  <a:pt x="296" y="154"/>
                </a:lnTo>
                <a:lnTo>
                  <a:pt x="296" y="144"/>
                </a:lnTo>
                <a:lnTo>
                  <a:pt x="296" y="135"/>
                </a:lnTo>
                <a:lnTo>
                  <a:pt x="296" y="125"/>
                </a:lnTo>
                <a:lnTo>
                  <a:pt x="288" y="125"/>
                </a:lnTo>
                <a:lnTo>
                  <a:pt x="288" y="115"/>
                </a:lnTo>
                <a:lnTo>
                  <a:pt x="288" y="105"/>
                </a:lnTo>
                <a:lnTo>
                  <a:pt x="288" y="97"/>
                </a:lnTo>
                <a:lnTo>
                  <a:pt x="288" y="87"/>
                </a:lnTo>
                <a:lnTo>
                  <a:pt x="279" y="87"/>
                </a:lnTo>
                <a:lnTo>
                  <a:pt x="279" y="77"/>
                </a:lnTo>
                <a:lnTo>
                  <a:pt x="279" y="68"/>
                </a:lnTo>
                <a:lnTo>
                  <a:pt x="279" y="58"/>
                </a:lnTo>
                <a:lnTo>
                  <a:pt x="271" y="58"/>
                </a:lnTo>
                <a:lnTo>
                  <a:pt x="271" y="48"/>
                </a:lnTo>
                <a:lnTo>
                  <a:pt x="271" y="39"/>
                </a:lnTo>
                <a:lnTo>
                  <a:pt x="271" y="29"/>
                </a:lnTo>
                <a:lnTo>
                  <a:pt x="263" y="29"/>
                </a:lnTo>
                <a:lnTo>
                  <a:pt x="263" y="19"/>
                </a:lnTo>
                <a:lnTo>
                  <a:pt x="255" y="19"/>
                </a:lnTo>
                <a:lnTo>
                  <a:pt x="255" y="9"/>
                </a:lnTo>
                <a:lnTo>
                  <a:pt x="246" y="9"/>
                </a:lnTo>
                <a:lnTo>
                  <a:pt x="246" y="0"/>
                </a:lnTo>
                <a:lnTo>
                  <a:pt x="238" y="0"/>
                </a:lnTo>
                <a:lnTo>
                  <a:pt x="229" y="0"/>
                </a:lnTo>
                <a:lnTo>
                  <a:pt x="229" y="9"/>
                </a:lnTo>
                <a:lnTo>
                  <a:pt x="238" y="9"/>
                </a:lnTo>
                <a:lnTo>
                  <a:pt x="238" y="19"/>
                </a:lnTo>
                <a:lnTo>
                  <a:pt x="238" y="29"/>
                </a:lnTo>
                <a:lnTo>
                  <a:pt x="246" y="29"/>
                </a:lnTo>
                <a:lnTo>
                  <a:pt x="246" y="39"/>
                </a:lnTo>
                <a:lnTo>
                  <a:pt x="246" y="48"/>
                </a:lnTo>
                <a:lnTo>
                  <a:pt x="238" y="48"/>
                </a:lnTo>
                <a:lnTo>
                  <a:pt x="238" y="58"/>
                </a:lnTo>
                <a:lnTo>
                  <a:pt x="238" y="68"/>
                </a:lnTo>
                <a:lnTo>
                  <a:pt x="246" y="68"/>
                </a:lnTo>
                <a:lnTo>
                  <a:pt x="246" y="77"/>
                </a:lnTo>
                <a:lnTo>
                  <a:pt x="246" y="87"/>
                </a:lnTo>
                <a:lnTo>
                  <a:pt x="246" y="97"/>
                </a:lnTo>
                <a:lnTo>
                  <a:pt x="238" y="97"/>
                </a:lnTo>
                <a:lnTo>
                  <a:pt x="229" y="97"/>
                </a:lnTo>
                <a:lnTo>
                  <a:pt x="221" y="97"/>
                </a:lnTo>
                <a:lnTo>
                  <a:pt x="212" y="97"/>
                </a:lnTo>
                <a:lnTo>
                  <a:pt x="212" y="105"/>
                </a:lnTo>
                <a:lnTo>
                  <a:pt x="204" y="105"/>
                </a:lnTo>
                <a:lnTo>
                  <a:pt x="195" y="105"/>
                </a:lnTo>
                <a:lnTo>
                  <a:pt x="187" y="105"/>
                </a:lnTo>
                <a:lnTo>
                  <a:pt x="187" y="115"/>
                </a:lnTo>
                <a:lnTo>
                  <a:pt x="195" y="115"/>
                </a:lnTo>
                <a:lnTo>
                  <a:pt x="204" y="115"/>
                </a:lnTo>
                <a:lnTo>
                  <a:pt x="204" y="125"/>
                </a:lnTo>
                <a:lnTo>
                  <a:pt x="204" y="135"/>
                </a:lnTo>
                <a:lnTo>
                  <a:pt x="204" y="144"/>
                </a:lnTo>
                <a:lnTo>
                  <a:pt x="204" y="154"/>
                </a:lnTo>
                <a:lnTo>
                  <a:pt x="212" y="154"/>
                </a:lnTo>
                <a:lnTo>
                  <a:pt x="221" y="154"/>
                </a:lnTo>
                <a:lnTo>
                  <a:pt x="221" y="164"/>
                </a:lnTo>
                <a:lnTo>
                  <a:pt x="212" y="164"/>
                </a:lnTo>
                <a:lnTo>
                  <a:pt x="204" y="164"/>
                </a:lnTo>
                <a:lnTo>
                  <a:pt x="195" y="164"/>
                </a:lnTo>
                <a:lnTo>
                  <a:pt x="195" y="154"/>
                </a:lnTo>
                <a:lnTo>
                  <a:pt x="187" y="154"/>
                </a:lnTo>
                <a:lnTo>
                  <a:pt x="187" y="164"/>
                </a:lnTo>
                <a:lnTo>
                  <a:pt x="187" y="154"/>
                </a:lnTo>
                <a:lnTo>
                  <a:pt x="187" y="164"/>
                </a:lnTo>
                <a:lnTo>
                  <a:pt x="178" y="164"/>
                </a:lnTo>
                <a:lnTo>
                  <a:pt x="178" y="173"/>
                </a:lnTo>
                <a:lnTo>
                  <a:pt x="178" y="183"/>
                </a:lnTo>
                <a:lnTo>
                  <a:pt x="170" y="183"/>
                </a:lnTo>
                <a:lnTo>
                  <a:pt x="170" y="193"/>
                </a:lnTo>
                <a:lnTo>
                  <a:pt x="161" y="193"/>
                </a:lnTo>
                <a:lnTo>
                  <a:pt x="153" y="193"/>
                </a:lnTo>
                <a:lnTo>
                  <a:pt x="144" y="193"/>
                </a:lnTo>
                <a:lnTo>
                  <a:pt x="144" y="202"/>
                </a:lnTo>
                <a:lnTo>
                  <a:pt x="144" y="212"/>
                </a:lnTo>
                <a:lnTo>
                  <a:pt x="144" y="222"/>
                </a:lnTo>
                <a:lnTo>
                  <a:pt x="144" y="232"/>
                </a:lnTo>
                <a:lnTo>
                  <a:pt x="144" y="241"/>
                </a:lnTo>
                <a:lnTo>
                  <a:pt x="144" y="251"/>
                </a:lnTo>
                <a:lnTo>
                  <a:pt x="144" y="261"/>
                </a:lnTo>
                <a:lnTo>
                  <a:pt x="144" y="270"/>
                </a:lnTo>
                <a:lnTo>
                  <a:pt x="144" y="280"/>
                </a:lnTo>
                <a:lnTo>
                  <a:pt x="153" y="280"/>
                </a:lnTo>
                <a:lnTo>
                  <a:pt x="153" y="290"/>
                </a:lnTo>
                <a:lnTo>
                  <a:pt x="153" y="299"/>
                </a:lnTo>
                <a:lnTo>
                  <a:pt x="144" y="299"/>
                </a:lnTo>
                <a:lnTo>
                  <a:pt x="144" y="308"/>
                </a:lnTo>
                <a:lnTo>
                  <a:pt x="153" y="308"/>
                </a:lnTo>
                <a:lnTo>
                  <a:pt x="153" y="318"/>
                </a:lnTo>
                <a:lnTo>
                  <a:pt x="144" y="318"/>
                </a:lnTo>
                <a:lnTo>
                  <a:pt x="144" y="328"/>
                </a:lnTo>
                <a:lnTo>
                  <a:pt x="136" y="328"/>
                </a:lnTo>
                <a:lnTo>
                  <a:pt x="127" y="328"/>
                </a:lnTo>
                <a:lnTo>
                  <a:pt x="127" y="337"/>
                </a:lnTo>
                <a:lnTo>
                  <a:pt x="127" y="347"/>
                </a:lnTo>
                <a:lnTo>
                  <a:pt x="118" y="347"/>
                </a:lnTo>
                <a:lnTo>
                  <a:pt x="118" y="357"/>
                </a:lnTo>
                <a:lnTo>
                  <a:pt x="127" y="357"/>
                </a:lnTo>
                <a:lnTo>
                  <a:pt x="127" y="366"/>
                </a:lnTo>
                <a:lnTo>
                  <a:pt x="118" y="366"/>
                </a:lnTo>
                <a:lnTo>
                  <a:pt x="118" y="357"/>
                </a:lnTo>
                <a:lnTo>
                  <a:pt x="110" y="357"/>
                </a:lnTo>
                <a:lnTo>
                  <a:pt x="101" y="357"/>
                </a:lnTo>
                <a:lnTo>
                  <a:pt x="101" y="347"/>
                </a:lnTo>
                <a:lnTo>
                  <a:pt x="101" y="337"/>
                </a:lnTo>
                <a:lnTo>
                  <a:pt x="93" y="337"/>
                </a:lnTo>
                <a:lnTo>
                  <a:pt x="68" y="337"/>
                </a:lnTo>
                <a:lnTo>
                  <a:pt x="68" y="347"/>
                </a:lnTo>
                <a:lnTo>
                  <a:pt x="60" y="347"/>
                </a:lnTo>
                <a:lnTo>
                  <a:pt x="60" y="357"/>
                </a:lnTo>
                <a:lnTo>
                  <a:pt x="51" y="357"/>
                </a:lnTo>
                <a:lnTo>
                  <a:pt x="43" y="357"/>
                </a:lnTo>
                <a:lnTo>
                  <a:pt x="43" y="366"/>
                </a:lnTo>
                <a:lnTo>
                  <a:pt x="34" y="366"/>
                </a:lnTo>
                <a:lnTo>
                  <a:pt x="34" y="376"/>
                </a:lnTo>
                <a:lnTo>
                  <a:pt x="34" y="386"/>
                </a:lnTo>
                <a:lnTo>
                  <a:pt x="34" y="395"/>
                </a:lnTo>
                <a:lnTo>
                  <a:pt x="26" y="395"/>
                </a:lnTo>
                <a:lnTo>
                  <a:pt x="26" y="405"/>
                </a:lnTo>
                <a:lnTo>
                  <a:pt x="34" y="405"/>
                </a:lnTo>
                <a:lnTo>
                  <a:pt x="34" y="415"/>
                </a:lnTo>
                <a:lnTo>
                  <a:pt x="26" y="415"/>
                </a:lnTo>
                <a:lnTo>
                  <a:pt x="26" y="425"/>
                </a:lnTo>
                <a:lnTo>
                  <a:pt x="26" y="434"/>
                </a:lnTo>
                <a:lnTo>
                  <a:pt x="17" y="434"/>
                </a:lnTo>
                <a:lnTo>
                  <a:pt x="17" y="444"/>
                </a:lnTo>
                <a:lnTo>
                  <a:pt x="9" y="444"/>
                </a:lnTo>
                <a:lnTo>
                  <a:pt x="9" y="454"/>
                </a:lnTo>
                <a:lnTo>
                  <a:pt x="9" y="463"/>
                </a:lnTo>
                <a:lnTo>
                  <a:pt x="0" y="463"/>
                </a:lnTo>
                <a:lnTo>
                  <a:pt x="0" y="473"/>
                </a:lnTo>
                <a:lnTo>
                  <a:pt x="0" y="483"/>
                </a:lnTo>
                <a:lnTo>
                  <a:pt x="0" y="492"/>
                </a:lnTo>
                <a:lnTo>
                  <a:pt x="9" y="492"/>
                </a:lnTo>
                <a:lnTo>
                  <a:pt x="9" y="483"/>
                </a:lnTo>
                <a:lnTo>
                  <a:pt x="17" y="483"/>
                </a:lnTo>
                <a:lnTo>
                  <a:pt x="26" y="483"/>
                </a:lnTo>
                <a:lnTo>
                  <a:pt x="26" y="492"/>
                </a:lnTo>
                <a:lnTo>
                  <a:pt x="34" y="492"/>
                </a:lnTo>
                <a:lnTo>
                  <a:pt x="34" y="502"/>
                </a:lnTo>
                <a:lnTo>
                  <a:pt x="34" y="492"/>
                </a:lnTo>
                <a:lnTo>
                  <a:pt x="43" y="492"/>
                </a:lnTo>
                <a:lnTo>
                  <a:pt x="51" y="492"/>
                </a:lnTo>
                <a:lnTo>
                  <a:pt x="60" y="492"/>
                </a:lnTo>
                <a:lnTo>
                  <a:pt x="68" y="492"/>
                </a:lnTo>
                <a:lnTo>
                  <a:pt x="77" y="492"/>
                </a:lnTo>
                <a:lnTo>
                  <a:pt x="85" y="492"/>
                </a:lnTo>
                <a:lnTo>
                  <a:pt x="85" y="483"/>
                </a:lnTo>
                <a:lnTo>
                  <a:pt x="93" y="483"/>
                </a:lnTo>
                <a:lnTo>
                  <a:pt x="101" y="483"/>
                </a:lnTo>
                <a:lnTo>
                  <a:pt x="101" y="492"/>
                </a:lnTo>
                <a:lnTo>
                  <a:pt x="93" y="492"/>
                </a:lnTo>
                <a:lnTo>
                  <a:pt x="93" y="502"/>
                </a:lnTo>
                <a:lnTo>
                  <a:pt x="93" y="511"/>
                </a:lnTo>
                <a:lnTo>
                  <a:pt x="85" y="511"/>
                </a:lnTo>
                <a:lnTo>
                  <a:pt x="85" y="521"/>
                </a:lnTo>
                <a:lnTo>
                  <a:pt x="161" y="559"/>
                </a:lnTo>
                <a:lnTo>
                  <a:pt x="187" y="579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Freeform 25"/>
          <p:cNvSpPr/>
          <p:nvPr/>
        </p:nvSpPr>
        <p:spPr>
          <a:xfrm>
            <a:off x="7326360" y="485640"/>
            <a:ext cx="1406520" cy="1941480"/>
          </a:xfrm>
          <a:custGeom>
            <a:avLst/>
            <a:gdLst>
              <a:gd name="textAreaLeft" fmla="*/ 0 w 1406520"/>
              <a:gd name="textAreaRight" fmla="*/ 1406520 w 1406520"/>
              <a:gd name="textAreaTop" fmla="*/ 0 h 1941480"/>
              <a:gd name="textAreaBottom" fmla="*/ 1941840 h 1941480"/>
            </a:gdLst>
            <a:ahLst/>
            <a:rect l="textAreaLeft" t="textAreaTop" r="textAreaRight" b="textAreaBottom"/>
            <a:pathLst>
              <a:path w="886" h="1223">
                <a:moveTo>
                  <a:pt x="188" y="582"/>
                </a:moveTo>
                <a:lnTo>
                  <a:pt x="281" y="630"/>
                </a:lnTo>
                <a:lnTo>
                  <a:pt x="451" y="630"/>
                </a:lnTo>
                <a:lnTo>
                  <a:pt x="443" y="630"/>
                </a:lnTo>
                <a:lnTo>
                  <a:pt x="443" y="640"/>
                </a:lnTo>
                <a:lnTo>
                  <a:pt x="434" y="640"/>
                </a:lnTo>
                <a:lnTo>
                  <a:pt x="434" y="650"/>
                </a:lnTo>
                <a:lnTo>
                  <a:pt x="434" y="659"/>
                </a:lnTo>
                <a:lnTo>
                  <a:pt x="426" y="659"/>
                </a:lnTo>
                <a:lnTo>
                  <a:pt x="426" y="669"/>
                </a:lnTo>
                <a:lnTo>
                  <a:pt x="434" y="669"/>
                </a:lnTo>
                <a:lnTo>
                  <a:pt x="434" y="679"/>
                </a:lnTo>
                <a:lnTo>
                  <a:pt x="426" y="679"/>
                </a:lnTo>
                <a:lnTo>
                  <a:pt x="426" y="688"/>
                </a:lnTo>
                <a:lnTo>
                  <a:pt x="434" y="688"/>
                </a:lnTo>
                <a:lnTo>
                  <a:pt x="426" y="688"/>
                </a:lnTo>
                <a:lnTo>
                  <a:pt x="434" y="688"/>
                </a:lnTo>
                <a:lnTo>
                  <a:pt x="434" y="698"/>
                </a:lnTo>
                <a:lnTo>
                  <a:pt x="434" y="708"/>
                </a:lnTo>
                <a:lnTo>
                  <a:pt x="434" y="718"/>
                </a:lnTo>
                <a:lnTo>
                  <a:pt x="434" y="727"/>
                </a:lnTo>
                <a:lnTo>
                  <a:pt x="434" y="737"/>
                </a:lnTo>
                <a:lnTo>
                  <a:pt x="434" y="747"/>
                </a:lnTo>
                <a:lnTo>
                  <a:pt x="426" y="747"/>
                </a:lnTo>
                <a:lnTo>
                  <a:pt x="426" y="756"/>
                </a:lnTo>
                <a:lnTo>
                  <a:pt x="417" y="756"/>
                </a:lnTo>
                <a:lnTo>
                  <a:pt x="417" y="766"/>
                </a:lnTo>
                <a:lnTo>
                  <a:pt x="409" y="766"/>
                </a:lnTo>
                <a:lnTo>
                  <a:pt x="409" y="776"/>
                </a:lnTo>
                <a:lnTo>
                  <a:pt x="409" y="785"/>
                </a:lnTo>
                <a:lnTo>
                  <a:pt x="400" y="785"/>
                </a:lnTo>
                <a:lnTo>
                  <a:pt x="400" y="795"/>
                </a:lnTo>
                <a:lnTo>
                  <a:pt x="392" y="795"/>
                </a:lnTo>
                <a:lnTo>
                  <a:pt x="392" y="805"/>
                </a:lnTo>
                <a:lnTo>
                  <a:pt x="383" y="805"/>
                </a:lnTo>
                <a:lnTo>
                  <a:pt x="383" y="815"/>
                </a:lnTo>
                <a:lnTo>
                  <a:pt x="383" y="824"/>
                </a:lnTo>
                <a:lnTo>
                  <a:pt x="383" y="834"/>
                </a:lnTo>
                <a:lnTo>
                  <a:pt x="375" y="834"/>
                </a:lnTo>
                <a:lnTo>
                  <a:pt x="375" y="844"/>
                </a:lnTo>
                <a:lnTo>
                  <a:pt x="375" y="853"/>
                </a:lnTo>
                <a:lnTo>
                  <a:pt x="366" y="853"/>
                </a:lnTo>
                <a:lnTo>
                  <a:pt x="358" y="863"/>
                </a:lnTo>
                <a:lnTo>
                  <a:pt x="349" y="863"/>
                </a:lnTo>
                <a:lnTo>
                  <a:pt x="349" y="873"/>
                </a:lnTo>
                <a:lnTo>
                  <a:pt x="341" y="873"/>
                </a:lnTo>
                <a:lnTo>
                  <a:pt x="341" y="882"/>
                </a:lnTo>
                <a:lnTo>
                  <a:pt x="332" y="882"/>
                </a:lnTo>
                <a:lnTo>
                  <a:pt x="332" y="892"/>
                </a:lnTo>
                <a:lnTo>
                  <a:pt x="341" y="892"/>
                </a:lnTo>
                <a:lnTo>
                  <a:pt x="341" y="902"/>
                </a:lnTo>
                <a:lnTo>
                  <a:pt x="332" y="902"/>
                </a:lnTo>
                <a:lnTo>
                  <a:pt x="332" y="912"/>
                </a:lnTo>
                <a:lnTo>
                  <a:pt x="332" y="921"/>
                </a:lnTo>
                <a:lnTo>
                  <a:pt x="332" y="931"/>
                </a:lnTo>
                <a:lnTo>
                  <a:pt x="341" y="931"/>
                </a:lnTo>
                <a:lnTo>
                  <a:pt x="341" y="941"/>
                </a:lnTo>
                <a:lnTo>
                  <a:pt x="349" y="941"/>
                </a:lnTo>
                <a:lnTo>
                  <a:pt x="349" y="950"/>
                </a:lnTo>
                <a:lnTo>
                  <a:pt x="349" y="960"/>
                </a:lnTo>
                <a:lnTo>
                  <a:pt x="349" y="970"/>
                </a:lnTo>
                <a:lnTo>
                  <a:pt x="349" y="979"/>
                </a:lnTo>
                <a:lnTo>
                  <a:pt x="358" y="979"/>
                </a:lnTo>
                <a:lnTo>
                  <a:pt x="358" y="989"/>
                </a:lnTo>
                <a:lnTo>
                  <a:pt x="349" y="989"/>
                </a:lnTo>
                <a:lnTo>
                  <a:pt x="358" y="989"/>
                </a:lnTo>
                <a:lnTo>
                  <a:pt x="349" y="989"/>
                </a:lnTo>
                <a:lnTo>
                  <a:pt x="349" y="999"/>
                </a:lnTo>
                <a:lnTo>
                  <a:pt x="358" y="999"/>
                </a:lnTo>
                <a:lnTo>
                  <a:pt x="358" y="1009"/>
                </a:lnTo>
                <a:lnTo>
                  <a:pt x="366" y="1009"/>
                </a:lnTo>
                <a:lnTo>
                  <a:pt x="366" y="1018"/>
                </a:lnTo>
                <a:lnTo>
                  <a:pt x="366" y="1028"/>
                </a:lnTo>
                <a:lnTo>
                  <a:pt x="375" y="1028"/>
                </a:lnTo>
                <a:lnTo>
                  <a:pt x="375" y="1038"/>
                </a:lnTo>
                <a:lnTo>
                  <a:pt x="383" y="1038"/>
                </a:lnTo>
                <a:lnTo>
                  <a:pt x="383" y="1028"/>
                </a:lnTo>
                <a:lnTo>
                  <a:pt x="383" y="1038"/>
                </a:lnTo>
                <a:lnTo>
                  <a:pt x="392" y="1038"/>
                </a:lnTo>
                <a:lnTo>
                  <a:pt x="392" y="1047"/>
                </a:lnTo>
                <a:lnTo>
                  <a:pt x="400" y="1047"/>
                </a:lnTo>
                <a:lnTo>
                  <a:pt x="400" y="1057"/>
                </a:lnTo>
                <a:lnTo>
                  <a:pt x="400" y="1047"/>
                </a:lnTo>
                <a:lnTo>
                  <a:pt x="409" y="1047"/>
                </a:lnTo>
                <a:lnTo>
                  <a:pt x="417" y="1047"/>
                </a:lnTo>
                <a:lnTo>
                  <a:pt x="426" y="1047"/>
                </a:lnTo>
                <a:lnTo>
                  <a:pt x="434" y="1047"/>
                </a:lnTo>
                <a:lnTo>
                  <a:pt x="434" y="1038"/>
                </a:lnTo>
                <a:lnTo>
                  <a:pt x="434" y="1028"/>
                </a:lnTo>
                <a:lnTo>
                  <a:pt x="443" y="1028"/>
                </a:lnTo>
                <a:lnTo>
                  <a:pt x="451" y="1028"/>
                </a:lnTo>
                <a:lnTo>
                  <a:pt x="460" y="1028"/>
                </a:lnTo>
                <a:lnTo>
                  <a:pt x="460" y="1038"/>
                </a:lnTo>
                <a:lnTo>
                  <a:pt x="460" y="1047"/>
                </a:lnTo>
                <a:lnTo>
                  <a:pt x="468" y="1047"/>
                </a:lnTo>
                <a:lnTo>
                  <a:pt x="477" y="1047"/>
                </a:lnTo>
                <a:lnTo>
                  <a:pt x="485" y="1047"/>
                </a:lnTo>
                <a:lnTo>
                  <a:pt x="485" y="1057"/>
                </a:lnTo>
                <a:lnTo>
                  <a:pt x="485" y="1047"/>
                </a:lnTo>
                <a:lnTo>
                  <a:pt x="485" y="1057"/>
                </a:lnTo>
                <a:lnTo>
                  <a:pt x="494" y="1057"/>
                </a:lnTo>
                <a:lnTo>
                  <a:pt x="502" y="1057"/>
                </a:lnTo>
                <a:lnTo>
                  <a:pt x="502" y="1067"/>
                </a:lnTo>
                <a:lnTo>
                  <a:pt x="511" y="1067"/>
                </a:lnTo>
                <a:lnTo>
                  <a:pt x="519" y="1067"/>
                </a:lnTo>
                <a:lnTo>
                  <a:pt x="528" y="1067"/>
                </a:lnTo>
                <a:lnTo>
                  <a:pt x="528" y="1057"/>
                </a:lnTo>
                <a:lnTo>
                  <a:pt x="528" y="1067"/>
                </a:lnTo>
                <a:lnTo>
                  <a:pt x="536" y="1067"/>
                </a:lnTo>
                <a:lnTo>
                  <a:pt x="536" y="1076"/>
                </a:lnTo>
                <a:lnTo>
                  <a:pt x="545" y="1076"/>
                </a:lnTo>
                <a:lnTo>
                  <a:pt x="545" y="1086"/>
                </a:lnTo>
                <a:lnTo>
                  <a:pt x="553" y="1086"/>
                </a:lnTo>
                <a:lnTo>
                  <a:pt x="553" y="1096"/>
                </a:lnTo>
                <a:lnTo>
                  <a:pt x="562" y="1096"/>
                </a:lnTo>
                <a:lnTo>
                  <a:pt x="562" y="1106"/>
                </a:lnTo>
                <a:lnTo>
                  <a:pt x="570" y="1106"/>
                </a:lnTo>
                <a:lnTo>
                  <a:pt x="579" y="1106"/>
                </a:lnTo>
                <a:lnTo>
                  <a:pt x="587" y="1106"/>
                </a:lnTo>
                <a:lnTo>
                  <a:pt x="587" y="1115"/>
                </a:lnTo>
                <a:lnTo>
                  <a:pt x="587" y="1125"/>
                </a:lnTo>
                <a:lnTo>
                  <a:pt x="587" y="1135"/>
                </a:lnTo>
                <a:lnTo>
                  <a:pt x="596" y="1135"/>
                </a:lnTo>
                <a:lnTo>
                  <a:pt x="596" y="1144"/>
                </a:lnTo>
                <a:lnTo>
                  <a:pt x="596" y="1154"/>
                </a:lnTo>
                <a:lnTo>
                  <a:pt x="587" y="1154"/>
                </a:lnTo>
                <a:lnTo>
                  <a:pt x="596" y="1154"/>
                </a:lnTo>
                <a:lnTo>
                  <a:pt x="596" y="1164"/>
                </a:lnTo>
                <a:lnTo>
                  <a:pt x="605" y="1164"/>
                </a:lnTo>
                <a:lnTo>
                  <a:pt x="605" y="1174"/>
                </a:lnTo>
                <a:lnTo>
                  <a:pt x="613" y="1174"/>
                </a:lnTo>
                <a:lnTo>
                  <a:pt x="622" y="1174"/>
                </a:lnTo>
                <a:lnTo>
                  <a:pt x="630" y="1174"/>
                </a:lnTo>
                <a:lnTo>
                  <a:pt x="639" y="1174"/>
                </a:lnTo>
                <a:lnTo>
                  <a:pt x="630" y="1174"/>
                </a:lnTo>
                <a:lnTo>
                  <a:pt x="630" y="1183"/>
                </a:lnTo>
                <a:lnTo>
                  <a:pt x="630" y="1193"/>
                </a:lnTo>
                <a:lnTo>
                  <a:pt x="639" y="1193"/>
                </a:lnTo>
                <a:lnTo>
                  <a:pt x="639" y="1203"/>
                </a:lnTo>
                <a:lnTo>
                  <a:pt x="639" y="1212"/>
                </a:lnTo>
                <a:lnTo>
                  <a:pt x="647" y="1212"/>
                </a:lnTo>
                <a:lnTo>
                  <a:pt x="656" y="1212"/>
                </a:lnTo>
                <a:lnTo>
                  <a:pt x="656" y="1222"/>
                </a:lnTo>
                <a:lnTo>
                  <a:pt x="664" y="1222"/>
                </a:lnTo>
                <a:lnTo>
                  <a:pt x="664" y="1212"/>
                </a:lnTo>
                <a:lnTo>
                  <a:pt x="664" y="1203"/>
                </a:lnTo>
                <a:lnTo>
                  <a:pt x="664" y="1193"/>
                </a:lnTo>
                <a:lnTo>
                  <a:pt x="664" y="1183"/>
                </a:lnTo>
                <a:lnTo>
                  <a:pt x="664" y="1174"/>
                </a:lnTo>
                <a:lnTo>
                  <a:pt x="664" y="1164"/>
                </a:lnTo>
                <a:lnTo>
                  <a:pt x="664" y="960"/>
                </a:lnTo>
                <a:lnTo>
                  <a:pt x="724" y="950"/>
                </a:lnTo>
                <a:lnTo>
                  <a:pt x="715" y="950"/>
                </a:lnTo>
                <a:lnTo>
                  <a:pt x="715" y="941"/>
                </a:lnTo>
                <a:lnTo>
                  <a:pt x="707" y="941"/>
                </a:lnTo>
                <a:lnTo>
                  <a:pt x="715" y="941"/>
                </a:lnTo>
                <a:lnTo>
                  <a:pt x="715" y="931"/>
                </a:lnTo>
                <a:lnTo>
                  <a:pt x="707" y="931"/>
                </a:lnTo>
                <a:lnTo>
                  <a:pt x="698" y="931"/>
                </a:lnTo>
                <a:lnTo>
                  <a:pt x="707" y="931"/>
                </a:lnTo>
                <a:lnTo>
                  <a:pt x="707" y="921"/>
                </a:lnTo>
                <a:lnTo>
                  <a:pt x="698" y="921"/>
                </a:lnTo>
                <a:lnTo>
                  <a:pt x="707" y="921"/>
                </a:lnTo>
                <a:lnTo>
                  <a:pt x="707" y="912"/>
                </a:lnTo>
                <a:lnTo>
                  <a:pt x="698" y="912"/>
                </a:lnTo>
                <a:lnTo>
                  <a:pt x="698" y="902"/>
                </a:lnTo>
                <a:lnTo>
                  <a:pt x="698" y="892"/>
                </a:lnTo>
                <a:lnTo>
                  <a:pt x="698" y="882"/>
                </a:lnTo>
                <a:lnTo>
                  <a:pt x="707" y="882"/>
                </a:lnTo>
                <a:lnTo>
                  <a:pt x="707" y="892"/>
                </a:lnTo>
                <a:lnTo>
                  <a:pt x="707" y="882"/>
                </a:lnTo>
                <a:lnTo>
                  <a:pt x="707" y="873"/>
                </a:lnTo>
                <a:lnTo>
                  <a:pt x="715" y="873"/>
                </a:lnTo>
                <a:lnTo>
                  <a:pt x="724" y="873"/>
                </a:lnTo>
                <a:lnTo>
                  <a:pt x="732" y="873"/>
                </a:lnTo>
                <a:lnTo>
                  <a:pt x="732" y="882"/>
                </a:lnTo>
                <a:lnTo>
                  <a:pt x="741" y="882"/>
                </a:lnTo>
                <a:lnTo>
                  <a:pt x="749" y="882"/>
                </a:lnTo>
                <a:lnTo>
                  <a:pt x="749" y="892"/>
                </a:lnTo>
                <a:lnTo>
                  <a:pt x="758" y="892"/>
                </a:lnTo>
                <a:lnTo>
                  <a:pt x="766" y="892"/>
                </a:lnTo>
                <a:lnTo>
                  <a:pt x="766" y="882"/>
                </a:lnTo>
                <a:lnTo>
                  <a:pt x="775" y="892"/>
                </a:lnTo>
                <a:lnTo>
                  <a:pt x="775" y="882"/>
                </a:lnTo>
                <a:lnTo>
                  <a:pt x="775" y="892"/>
                </a:lnTo>
                <a:lnTo>
                  <a:pt x="775" y="902"/>
                </a:lnTo>
                <a:lnTo>
                  <a:pt x="783" y="902"/>
                </a:lnTo>
                <a:lnTo>
                  <a:pt x="783" y="912"/>
                </a:lnTo>
                <a:lnTo>
                  <a:pt x="792" y="912"/>
                </a:lnTo>
                <a:lnTo>
                  <a:pt x="800" y="912"/>
                </a:lnTo>
                <a:lnTo>
                  <a:pt x="800" y="921"/>
                </a:lnTo>
                <a:lnTo>
                  <a:pt x="809" y="921"/>
                </a:lnTo>
                <a:lnTo>
                  <a:pt x="800" y="921"/>
                </a:lnTo>
                <a:lnTo>
                  <a:pt x="800" y="931"/>
                </a:lnTo>
                <a:lnTo>
                  <a:pt x="809" y="931"/>
                </a:lnTo>
                <a:lnTo>
                  <a:pt x="809" y="941"/>
                </a:lnTo>
                <a:lnTo>
                  <a:pt x="817" y="941"/>
                </a:lnTo>
                <a:lnTo>
                  <a:pt x="817" y="950"/>
                </a:lnTo>
                <a:lnTo>
                  <a:pt x="817" y="941"/>
                </a:lnTo>
                <a:lnTo>
                  <a:pt x="826" y="941"/>
                </a:lnTo>
                <a:lnTo>
                  <a:pt x="826" y="950"/>
                </a:lnTo>
                <a:lnTo>
                  <a:pt x="834" y="950"/>
                </a:lnTo>
                <a:lnTo>
                  <a:pt x="843" y="950"/>
                </a:lnTo>
                <a:lnTo>
                  <a:pt x="834" y="950"/>
                </a:lnTo>
                <a:lnTo>
                  <a:pt x="834" y="941"/>
                </a:lnTo>
                <a:lnTo>
                  <a:pt x="843" y="941"/>
                </a:lnTo>
                <a:lnTo>
                  <a:pt x="843" y="950"/>
                </a:lnTo>
                <a:lnTo>
                  <a:pt x="851" y="950"/>
                </a:lnTo>
                <a:lnTo>
                  <a:pt x="851" y="941"/>
                </a:lnTo>
                <a:lnTo>
                  <a:pt x="860" y="941"/>
                </a:lnTo>
                <a:lnTo>
                  <a:pt x="851" y="941"/>
                </a:lnTo>
                <a:lnTo>
                  <a:pt x="851" y="931"/>
                </a:lnTo>
                <a:lnTo>
                  <a:pt x="860" y="931"/>
                </a:lnTo>
                <a:lnTo>
                  <a:pt x="860" y="921"/>
                </a:lnTo>
                <a:lnTo>
                  <a:pt x="860" y="912"/>
                </a:lnTo>
                <a:lnTo>
                  <a:pt x="868" y="912"/>
                </a:lnTo>
                <a:lnTo>
                  <a:pt x="877" y="912"/>
                </a:lnTo>
                <a:lnTo>
                  <a:pt x="877" y="921"/>
                </a:lnTo>
                <a:lnTo>
                  <a:pt x="885" y="921"/>
                </a:lnTo>
                <a:lnTo>
                  <a:pt x="885" y="912"/>
                </a:lnTo>
                <a:lnTo>
                  <a:pt x="877" y="912"/>
                </a:lnTo>
                <a:lnTo>
                  <a:pt x="877" y="902"/>
                </a:lnTo>
                <a:lnTo>
                  <a:pt x="877" y="892"/>
                </a:lnTo>
                <a:lnTo>
                  <a:pt x="868" y="892"/>
                </a:lnTo>
                <a:lnTo>
                  <a:pt x="860" y="892"/>
                </a:lnTo>
                <a:lnTo>
                  <a:pt x="860" y="882"/>
                </a:lnTo>
                <a:lnTo>
                  <a:pt x="860" y="892"/>
                </a:lnTo>
                <a:lnTo>
                  <a:pt x="860" y="882"/>
                </a:lnTo>
                <a:lnTo>
                  <a:pt x="851" y="882"/>
                </a:lnTo>
                <a:lnTo>
                  <a:pt x="851" y="873"/>
                </a:lnTo>
                <a:lnTo>
                  <a:pt x="843" y="873"/>
                </a:lnTo>
                <a:lnTo>
                  <a:pt x="843" y="863"/>
                </a:lnTo>
                <a:lnTo>
                  <a:pt x="851" y="863"/>
                </a:lnTo>
                <a:lnTo>
                  <a:pt x="843" y="863"/>
                </a:lnTo>
                <a:lnTo>
                  <a:pt x="843" y="853"/>
                </a:lnTo>
                <a:lnTo>
                  <a:pt x="834" y="853"/>
                </a:lnTo>
                <a:lnTo>
                  <a:pt x="826" y="853"/>
                </a:lnTo>
                <a:lnTo>
                  <a:pt x="826" y="863"/>
                </a:lnTo>
                <a:lnTo>
                  <a:pt x="817" y="863"/>
                </a:lnTo>
                <a:lnTo>
                  <a:pt x="817" y="853"/>
                </a:lnTo>
                <a:lnTo>
                  <a:pt x="809" y="853"/>
                </a:lnTo>
                <a:lnTo>
                  <a:pt x="800" y="853"/>
                </a:lnTo>
                <a:lnTo>
                  <a:pt x="792" y="853"/>
                </a:lnTo>
                <a:lnTo>
                  <a:pt x="783" y="853"/>
                </a:lnTo>
                <a:lnTo>
                  <a:pt x="783" y="844"/>
                </a:lnTo>
                <a:lnTo>
                  <a:pt x="775" y="844"/>
                </a:lnTo>
                <a:lnTo>
                  <a:pt x="766" y="844"/>
                </a:lnTo>
                <a:lnTo>
                  <a:pt x="758" y="844"/>
                </a:lnTo>
                <a:lnTo>
                  <a:pt x="758" y="834"/>
                </a:lnTo>
                <a:lnTo>
                  <a:pt x="749" y="834"/>
                </a:lnTo>
                <a:lnTo>
                  <a:pt x="749" y="824"/>
                </a:lnTo>
                <a:lnTo>
                  <a:pt x="741" y="824"/>
                </a:lnTo>
                <a:lnTo>
                  <a:pt x="741" y="815"/>
                </a:lnTo>
                <a:lnTo>
                  <a:pt x="741" y="805"/>
                </a:lnTo>
                <a:lnTo>
                  <a:pt x="732" y="805"/>
                </a:lnTo>
                <a:lnTo>
                  <a:pt x="732" y="795"/>
                </a:lnTo>
                <a:lnTo>
                  <a:pt x="741" y="795"/>
                </a:lnTo>
                <a:lnTo>
                  <a:pt x="741" y="785"/>
                </a:lnTo>
                <a:lnTo>
                  <a:pt x="732" y="785"/>
                </a:lnTo>
                <a:lnTo>
                  <a:pt x="732" y="795"/>
                </a:lnTo>
                <a:lnTo>
                  <a:pt x="724" y="795"/>
                </a:lnTo>
                <a:lnTo>
                  <a:pt x="724" y="785"/>
                </a:lnTo>
                <a:lnTo>
                  <a:pt x="715" y="785"/>
                </a:lnTo>
                <a:lnTo>
                  <a:pt x="707" y="785"/>
                </a:lnTo>
                <a:lnTo>
                  <a:pt x="707" y="776"/>
                </a:lnTo>
                <a:lnTo>
                  <a:pt x="698" y="776"/>
                </a:lnTo>
                <a:lnTo>
                  <a:pt x="698" y="766"/>
                </a:lnTo>
                <a:lnTo>
                  <a:pt x="698" y="756"/>
                </a:lnTo>
                <a:lnTo>
                  <a:pt x="690" y="756"/>
                </a:lnTo>
                <a:lnTo>
                  <a:pt x="690" y="747"/>
                </a:lnTo>
                <a:lnTo>
                  <a:pt x="681" y="747"/>
                </a:lnTo>
                <a:lnTo>
                  <a:pt x="681" y="737"/>
                </a:lnTo>
                <a:lnTo>
                  <a:pt x="673" y="737"/>
                </a:lnTo>
                <a:lnTo>
                  <a:pt x="673" y="727"/>
                </a:lnTo>
                <a:lnTo>
                  <a:pt x="664" y="727"/>
                </a:lnTo>
                <a:lnTo>
                  <a:pt x="664" y="718"/>
                </a:lnTo>
                <a:lnTo>
                  <a:pt x="664" y="708"/>
                </a:lnTo>
                <a:lnTo>
                  <a:pt x="656" y="708"/>
                </a:lnTo>
                <a:lnTo>
                  <a:pt x="656" y="698"/>
                </a:lnTo>
                <a:lnTo>
                  <a:pt x="647" y="698"/>
                </a:lnTo>
                <a:lnTo>
                  <a:pt x="647" y="688"/>
                </a:lnTo>
                <a:lnTo>
                  <a:pt x="639" y="688"/>
                </a:lnTo>
                <a:lnTo>
                  <a:pt x="639" y="679"/>
                </a:lnTo>
                <a:lnTo>
                  <a:pt x="639" y="669"/>
                </a:lnTo>
                <a:lnTo>
                  <a:pt x="630" y="669"/>
                </a:lnTo>
                <a:lnTo>
                  <a:pt x="630" y="659"/>
                </a:lnTo>
                <a:lnTo>
                  <a:pt x="622" y="659"/>
                </a:lnTo>
                <a:lnTo>
                  <a:pt x="622" y="650"/>
                </a:lnTo>
                <a:lnTo>
                  <a:pt x="613" y="650"/>
                </a:lnTo>
                <a:lnTo>
                  <a:pt x="613" y="640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11"/>
                </a:lnTo>
                <a:lnTo>
                  <a:pt x="605" y="611"/>
                </a:lnTo>
                <a:lnTo>
                  <a:pt x="596" y="611"/>
                </a:lnTo>
                <a:lnTo>
                  <a:pt x="587" y="611"/>
                </a:lnTo>
                <a:lnTo>
                  <a:pt x="579" y="611"/>
                </a:lnTo>
                <a:lnTo>
                  <a:pt x="579" y="621"/>
                </a:lnTo>
                <a:lnTo>
                  <a:pt x="570" y="621"/>
                </a:lnTo>
                <a:lnTo>
                  <a:pt x="570" y="611"/>
                </a:lnTo>
                <a:lnTo>
                  <a:pt x="562" y="611"/>
                </a:lnTo>
                <a:lnTo>
                  <a:pt x="562" y="601"/>
                </a:lnTo>
                <a:lnTo>
                  <a:pt x="553" y="601"/>
                </a:lnTo>
                <a:lnTo>
                  <a:pt x="553" y="591"/>
                </a:lnTo>
                <a:lnTo>
                  <a:pt x="545" y="591"/>
                </a:lnTo>
                <a:lnTo>
                  <a:pt x="545" y="582"/>
                </a:lnTo>
                <a:lnTo>
                  <a:pt x="545" y="572"/>
                </a:lnTo>
                <a:lnTo>
                  <a:pt x="536" y="572"/>
                </a:lnTo>
                <a:lnTo>
                  <a:pt x="536" y="562"/>
                </a:lnTo>
                <a:lnTo>
                  <a:pt x="528" y="562"/>
                </a:lnTo>
                <a:lnTo>
                  <a:pt x="528" y="553"/>
                </a:lnTo>
                <a:lnTo>
                  <a:pt x="519" y="55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14"/>
                </a:lnTo>
                <a:lnTo>
                  <a:pt x="494" y="514"/>
                </a:lnTo>
                <a:lnTo>
                  <a:pt x="494" y="504"/>
                </a:lnTo>
                <a:lnTo>
                  <a:pt x="485" y="504"/>
                </a:lnTo>
                <a:lnTo>
                  <a:pt x="485" y="494"/>
                </a:lnTo>
                <a:lnTo>
                  <a:pt x="477" y="494"/>
                </a:lnTo>
                <a:lnTo>
                  <a:pt x="477" y="485"/>
                </a:lnTo>
                <a:lnTo>
                  <a:pt x="477" y="475"/>
                </a:lnTo>
                <a:lnTo>
                  <a:pt x="468" y="475"/>
                </a:lnTo>
                <a:lnTo>
                  <a:pt x="468" y="465"/>
                </a:lnTo>
                <a:lnTo>
                  <a:pt x="460" y="465"/>
                </a:lnTo>
                <a:lnTo>
                  <a:pt x="460" y="456"/>
                </a:lnTo>
                <a:lnTo>
                  <a:pt x="451" y="456"/>
                </a:lnTo>
                <a:lnTo>
                  <a:pt x="451" y="446"/>
                </a:lnTo>
                <a:lnTo>
                  <a:pt x="434" y="427"/>
                </a:lnTo>
                <a:lnTo>
                  <a:pt x="426" y="417"/>
                </a:lnTo>
                <a:lnTo>
                  <a:pt x="417" y="407"/>
                </a:lnTo>
                <a:lnTo>
                  <a:pt x="417" y="397"/>
                </a:lnTo>
                <a:lnTo>
                  <a:pt x="409" y="397"/>
                </a:lnTo>
                <a:lnTo>
                  <a:pt x="409" y="388"/>
                </a:lnTo>
                <a:lnTo>
                  <a:pt x="400" y="388"/>
                </a:lnTo>
                <a:lnTo>
                  <a:pt x="400" y="378"/>
                </a:lnTo>
                <a:lnTo>
                  <a:pt x="400" y="368"/>
                </a:lnTo>
                <a:lnTo>
                  <a:pt x="392" y="368"/>
                </a:lnTo>
                <a:lnTo>
                  <a:pt x="392" y="359"/>
                </a:lnTo>
                <a:lnTo>
                  <a:pt x="383" y="359"/>
                </a:lnTo>
                <a:lnTo>
                  <a:pt x="383" y="349"/>
                </a:lnTo>
                <a:lnTo>
                  <a:pt x="383" y="339"/>
                </a:lnTo>
                <a:lnTo>
                  <a:pt x="375" y="339"/>
                </a:lnTo>
                <a:lnTo>
                  <a:pt x="375" y="330"/>
                </a:lnTo>
                <a:lnTo>
                  <a:pt x="366" y="330"/>
                </a:lnTo>
                <a:lnTo>
                  <a:pt x="366" y="320"/>
                </a:lnTo>
                <a:lnTo>
                  <a:pt x="366" y="310"/>
                </a:lnTo>
                <a:lnTo>
                  <a:pt x="358" y="310"/>
                </a:lnTo>
                <a:lnTo>
                  <a:pt x="358" y="300"/>
                </a:lnTo>
                <a:lnTo>
                  <a:pt x="358" y="291"/>
                </a:lnTo>
                <a:lnTo>
                  <a:pt x="349" y="291"/>
                </a:lnTo>
                <a:lnTo>
                  <a:pt x="349" y="281"/>
                </a:lnTo>
                <a:lnTo>
                  <a:pt x="349" y="271"/>
                </a:lnTo>
                <a:lnTo>
                  <a:pt x="341" y="271"/>
                </a:lnTo>
                <a:lnTo>
                  <a:pt x="341" y="262"/>
                </a:lnTo>
                <a:lnTo>
                  <a:pt x="341" y="252"/>
                </a:lnTo>
                <a:lnTo>
                  <a:pt x="332" y="252"/>
                </a:lnTo>
                <a:lnTo>
                  <a:pt x="332" y="242"/>
                </a:lnTo>
                <a:lnTo>
                  <a:pt x="332" y="233"/>
                </a:lnTo>
                <a:lnTo>
                  <a:pt x="324" y="233"/>
                </a:lnTo>
                <a:lnTo>
                  <a:pt x="332" y="233"/>
                </a:lnTo>
                <a:lnTo>
                  <a:pt x="324" y="233"/>
                </a:lnTo>
                <a:lnTo>
                  <a:pt x="324" y="223"/>
                </a:lnTo>
                <a:lnTo>
                  <a:pt x="324" y="213"/>
                </a:lnTo>
                <a:lnTo>
                  <a:pt x="315" y="213"/>
                </a:lnTo>
                <a:lnTo>
                  <a:pt x="315" y="203"/>
                </a:lnTo>
                <a:lnTo>
                  <a:pt x="315" y="194"/>
                </a:lnTo>
                <a:lnTo>
                  <a:pt x="315" y="184"/>
                </a:lnTo>
                <a:lnTo>
                  <a:pt x="307" y="184"/>
                </a:lnTo>
                <a:lnTo>
                  <a:pt x="307" y="174"/>
                </a:lnTo>
                <a:lnTo>
                  <a:pt x="307" y="165"/>
                </a:lnTo>
                <a:lnTo>
                  <a:pt x="307" y="155"/>
                </a:lnTo>
                <a:lnTo>
                  <a:pt x="298" y="155"/>
                </a:lnTo>
                <a:lnTo>
                  <a:pt x="298" y="145"/>
                </a:lnTo>
                <a:lnTo>
                  <a:pt x="298" y="136"/>
                </a:lnTo>
                <a:lnTo>
                  <a:pt x="298" y="126"/>
                </a:lnTo>
                <a:lnTo>
                  <a:pt x="290" y="126"/>
                </a:lnTo>
                <a:lnTo>
                  <a:pt x="290" y="116"/>
                </a:lnTo>
                <a:lnTo>
                  <a:pt x="290" y="106"/>
                </a:lnTo>
                <a:lnTo>
                  <a:pt x="290" y="97"/>
                </a:lnTo>
                <a:lnTo>
                  <a:pt x="290" y="87"/>
                </a:lnTo>
                <a:lnTo>
                  <a:pt x="281" y="87"/>
                </a:lnTo>
                <a:lnTo>
                  <a:pt x="281" y="77"/>
                </a:lnTo>
                <a:lnTo>
                  <a:pt x="281" y="68"/>
                </a:lnTo>
                <a:lnTo>
                  <a:pt x="281" y="58"/>
                </a:lnTo>
                <a:lnTo>
                  <a:pt x="273" y="58"/>
                </a:lnTo>
                <a:lnTo>
                  <a:pt x="273" y="48"/>
                </a:lnTo>
                <a:lnTo>
                  <a:pt x="273" y="39"/>
                </a:lnTo>
                <a:lnTo>
                  <a:pt x="273" y="29"/>
                </a:lnTo>
                <a:lnTo>
                  <a:pt x="264" y="29"/>
                </a:lnTo>
                <a:lnTo>
                  <a:pt x="264" y="19"/>
                </a:lnTo>
                <a:lnTo>
                  <a:pt x="256" y="19"/>
                </a:lnTo>
                <a:lnTo>
                  <a:pt x="256" y="9"/>
                </a:lnTo>
                <a:lnTo>
                  <a:pt x="247" y="9"/>
                </a:lnTo>
                <a:lnTo>
                  <a:pt x="247" y="0"/>
                </a:lnTo>
                <a:lnTo>
                  <a:pt x="239" y="0"/>
                </a:lnTo>
                <a:lnTo>
                  <a:pt x="230" y="0"/>
                </a:lnTo>
                <a:lnTo>
                  <a:pt x="230" y="9"/>
                </a:lnTo>
                <a:lnTo>
                  <a:pt x="239" y="9"/>
                </a:lnTo>
                <a:lnTo>
                  <a:pt x="239" y="19"/>
                </a:lnTo>
                <a:lnTo>
                  <a:pt x="239" y="29"/>
                </a:lnTo>
                <a:lnTo>
                  <a:pt x="247" y="29"/>
                </a:lnTo>
                <a:lnTo>
                  <a:pt x="247" y="39"/>
                </a:lnTo>
                <a:lnTo>
                  <a:pt x="247" y="48"/>
                </a:lnTo>
                <a:lnTo>
                  <a:pt x="239" y="48"/>
                </a:lnTo>
                <a:lnTo>
                  <a:pt x="239" y="58"/>
                </a:lnTo>
                <a:lnTo>
                  <a:pt x="239" y="68"/>
                </a:lnTo>
                <a:lnTo>
                  <a:pt x="247" y="68"/>
                </a:lnTo>
                <a:lnTo>
                  <a:pt x="247" y="77"/>
                </a:lnTo>
                <a:lnTo>
                  <a:pt x="247" y="87"/>
                </a:lnTo>
                <a:lnTo>
                  <a:pt x="247" y="97"/>
                </a:lnTo>
                <a:lnTo>
                  <a:pt x="239" y="97"/>
                </a:lnTo>
                <a:lnTo>
                  <a:pt x="230" y="97"/>
                </a:lnTo>
                <a:lnTo>
                  <a:pt x="222" y="97"/>
                </a:lnTo>
                <a:lnTo>
                  <a:pt x="213" y="97"/>
                </a:lnTo>
                <a:lnTo>
                  <a:pt x="213" y="106"/>
                </a:lnTo>
                <a:lnTo>
                  <a:pt x="205" y="106"/>
                </a:lnTo>
                <a:lnTo>
                  <a:pt x="196" y="106"/>
                </a:lnTo>
                <a:lnTo>
                  <a:pt x="188" y="106"/>
                </a:lnTo>
                <a:lnTo>
                  <a:pt x="188" y="116"/>
                </a:lnTo>
                <a:lnTo>
                  <a:pt x="196" y="116"/>
                </a:lnTo>
                <a:lnTo>
                  <a:pt x="205" y="116"/>
                </a:lnTo>
                <a:lnTo>
                  <a:pt x="205" y="126"/>
                </a:lnTo>
                <a:lnTo>
                  <a:pt x="205" y="136"/>
                </a:lnTo>
                <a:lnTo>
                  <a:pt x="205" y="145"/>
                </a:lnTo>
                <a:lnTo>
                  <a:pt x="205" y="155"/>
                </a:lnTo>
                <a:lnTo>
                  <a:pt x="213" y="155"/>
                </a:lnTo>
                <a:lnTo>
                  <a:pt x="222" y="155"/>
                </a:lnTo>
                <a:lnTo>
                  <a:pt x="222" y="165"/>
                </a:lnTo>
                <a:lnTo>
                  <a:pt x="213" y="165"/>
                </a:lnTo>
                <a:lnTo>
                  <a:pt x="205" y="165"/>
                </a:lnTo>
                <a:lnTo>
                  <a:pt x="196" y="165"/>
                </a:lnTo>
                <a:lnTo>
                  <a:pt x="196" y="155"/>
                </a:lnTo>
                <a:lnTo>
                  <a:pt x="188" y="155"/>
                </a:lnTo>
                <a:lnTo>
                  <a:pt x="188" y="165"/>
                </a:lnTo>
                <a:lnTo>
                  <a:pt x="188" y="155"/>
                </a:lnTo>
                <a:lnTo>
                  <a:pt x="188" y="165"/>
                </a:lnTo>
                <a:lnTo>
                  <a:pt x="179" y="165"/>
                </a:lnTo>
                <a:lnTo>
                  <a:pt x="179" y="174"/>
                </a:lnTo>
                <a:lnTo>
                  <a:pt x="179" y="184"/>
                </a:lnTo>
                <a:lnTo>
                  <a:pt x="171" y="184"/>
                </a:lnTo>
                <a:lnTo>
                  <a:pt x="171" y="194"/>
                </a:lnTo>
                <a:lnTo>
                  <a:pt x="162" y="194"/>
                </a:lnTo>
                <a:lnTo>
                  <a:pt x="154" y="194"/>
                </a:lnTo>
                <a:lnTo>
                  <a:pt x="145" y="194"/>
                </a:lnTo>
                <a:lnTo>
                  <a:pt x="145" y="203"/>
                </a:lnTo>
                <a:lnTo>
                  <a:pt x="145" y="213"/>
                </a:lnTo>
                <a:lnTo>
                  <a:pt x="145" y="223"/>
                </a:lnTo>
                <a:lnTo>
                  <a:pt x="145" y="233"/>
                </a:lnTo>
                <a:lnTo>
                  <a:pt x="145" y="242"/>
                </a:lnTo>
                <a:lnTo>
                  <a:pt x="145" y="252"/>
                </a:lnTo>
                <a:lnTo>
                  <a:pt x="145" y="262"/>
                </a:lnTo>
                <a:lnTo>
                  <a:pt x="145" y="271"/>
                </a:lnTo>
                <a:lnTo>
                  <a:pt x="145" y="281"/>
                </a:lnTo>
                <a:lnTo>
                  <a:pt x="154" y="281"/>
                </a:lnTo>
                <a:lnTo>
                  <a:pt x="154" y="291"/>
                </a:lnTo>
                <a:lnTo>
                  <a:pt x="154" y="300"/>
                </a:lnTo>
                <a:lnTo>
                  <a:pt x="145" y="300"/>
                </a:lnTo>
                <a:lnTo>
                  <a:pt x="145" y="310"/>
                </a:lnTo>
                <a:lnTo>
                  <a:pt x="154" y="310"/>
                </a:lnTo>
                <a:lnTo>
                  <a:pt x="154" y="320"/>
                </a:lnTo>
                <a:lnTo>
                  <a:pt x="145" y="320"/>
                </a:lnTo>
                <a:lnTo>
                  <a:pt x="145" y="330"/>
                </a:lnTo>
                <a:lnTo>
                  <a:pt x="137" y="330"/>
                </a:lnTo>
                <a:lnTo>
                  <a:pt x="128" y="330"/>
                </a:lnTo>
                <a:lnTo>
                  <a:pt x="128" y="339"/>
                </a:lnTo>
                <a:lnTo>
                  <a:pt x="128" y="349"/>
                </a:lnTo>
                <a:lnTo>
                  <a:pt x="119" y="349"/>
                </a:lnTo>
                <a:lnTo>
                  <a:pt x="119" y="359"/>
                </a:lnTo>
                <a:lnTo>
                  <a:pt x="128" y="359"/>
                </a:lnTo>
                <a:lnTo>
                  <a:pt x="128" y="368"/>
                </a:lnTo>
                <a:lnTo>
                  <a:pt x="119" y="368"/>
                </a:lnTo>
                <a:lnTo>
                  <a:pt x="119" y="359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102" y="339"/>
                </a:lnTo>
                <a:lnTo>
                  <a:pt x="94" y="339"/>
                </a:lnTo>
                <a:lnTo>
                  <a:pt x="68" y="339"/>
                </a:lnTo>
                <a:lnTo>
                  <a:pt x="68" y="349"/>
                </a:lnTo>
                <a:lnTo>
                  <a:pt x="60" y="349"/>
                </a:lnTo>
                <a:lnTo>
                  <a:pt x="60" y="359"/>
                </a:lnTo>
                <a:lnTo>
                  <a:pt x="51" y="359"/>
                </a:lnTo>
                <a:lnTo>
                  <a:pt x="43" y="359"/>
                </a:lnTo>
                <a:lnTo>
                  <a:pt x="43" y="368"/>
                </a:lnTo>
                <a:lnTo>
                  <a:pt x="34" y="368"/>
                </a:lnTo>
                <a:lnTo>
                  <a:pt x="34" y="378"/>
                </a:lnTo>
                <a:lnTo>
                  <a:pt x="34" y="388"/>
                </a:lnTo>
                <a:lnTo>
                  <a:pt x="34" y="397"/>
                </a:lnTo>
                <a:lnTo>
                  <a:pt x="26" y="397"/>
                </a:lnTo>
                <a:lnTo>
                  <a:pt x="26" y="407"/>
                </a:lnTo>
                <a:lnTo>
                  <a:pt x="34" y="407"/>
                </a:lnTo>
                <a:lnTo>
                  <a:pt x="34" y="417"/>
                </a:lnTo>
                <a:lnTo>
                  <a:pt x="26" y="417"/>
                </a:lnTo>
                <a:lnTo>
                  <a:pt x="26" y="427"/>
                </a:lnTo>
                <a:lnTo>
                  <a:pt x="26" y="436"/>
                </a:lnTo>
                <a:lnTo>
                  <a:pt x="17" y="436"/>
                </a:lnTo>
                <a:lnTo>
                  <a:pt x="17" y="446"/>
                </a:lnTo>
                <a:lnTo>
                  <a:pt x="9" y="446"/>
                </a:lnTo>
                <a:lnTo>
                  <a:pt x="9" y="456"/>
                </a:lnTo>
                <a:lnTo>
                  <a:pt x="9" y="465"/>
                </a:lnTo>
                <a:lnTo>
                  <a:pt x="0" y="465"/>
                </a:lnTo>
                <a:lnTo>
                  <a:pt x="0" y="475"/>
                </a:lnTo>
                <a:lnTo>
                  <a:pt x="0" y="485"/>
                </a:lnTo>
                <a:lnTo>
                  <a:pt x="0" y="494"/>
                </a:lnTo>
                <a:lnTo>
                  <a:pt x="9" y="494"/>
                </a:lnTo>
                <a:lnTo>
                  <a:pt x="9" y="485"/>
                </a:lnTo>
                <a:lnTo>
                  <a:pt x="17" y="485"/>
                </a:lnTo>
                <a:lnTo>
                  <a:pt x="26" y="485"/>
                </a:lnTo>
                <a:lnTo>
                  <a:pt x="26" y="49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43" y="494"/>
                </a:lnTo>
                <a:lnTo>
                  <a:pt x="51" y="494"/>
                </a:lnTo>
                <a:lnTo>
                  <a:pt x="60" y="494"/>
                </a:lnTo>
                <a:lnTo>
                  <a:pt x="68" y="494"/>
                </a:lnTo>
                <a:lnTo>
                  <a:pt x="77" y="494"/>
                </a:lnTo>
                <a:lnTo>
                  <a:pt x="85" y="494"/>
                </a:lnTo>
                <a:lnTo>
                  <a:pt x="85" y="485"/>
                </a:lnTo>
                <a:lnTo>
                  <a:pt x="94" y="485"/>
                </a:lnTo>
                <a:lnTo>
                  <a:pt x="102" y="485"/>
                </a:lnTo>
                <a:lnTo>
                  <a:pt x="102" y="494"/>
                </a:lnTo>
                <a:lnTo>
                  <a:pt x="94" y="494"/>
                </a:lnTo>
                <a:lnTo>
                  <a:pt x="94" y="504"/>
                </a:lnTo>
                <a:lnTo>
                  <a:pt x="94" y="514"/>
                </a:lnTo>
                <a:lnTo>
                  <a:pt x="85" y="514"/>
                </a:lnTo>
                <a:lnTo>
                  <a:pt x="85" y="524"/>
                </a:lnTo>
                <a:lnTo>
                  <a:pt x="162" y="562"/>
                </a:lnTo>
                <a:lnTo>
                  <a:pt x="188" y="582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Freeform 26"/>
          <p:cNvSpPr/>
          <p:nvPr/>
        </p:nvSpPr>
        <p:spPr>
          <a:xfrm>
            <a:off x="6881760" y="1270080"/>
            <a:ext cx="1152720" cy="7938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26" h="500">
                <a:moveTo>
                  <a:pt x="489" y="96"/>
                </a:moveTo>
                <a:lnTo>
                  <a:pt x="556" y="134"/>
                </a:lnTo>
                <a:lnTo>
                  <a:pt x="590" y="134"/>
                </a:lnTo>
                <a:lnTo>
                  <a:pt x="641" y="134"/>
                </a:lnTo>
                <a:lnTo>
                  <a:pt x="683" y="134"/>
                </a:lnTo>
                <a:lnTo>
                  <a:pt x="725" y="134"/>
                </a:lnTo>
                <a:lnTo>
                  <a:pt x="717" y="134"/>
                </a:lnTo>
                <a:lnTo>
                  <a:pt x="717" y="144"/>
                </a:lnTo>
                <a:lnTo>
                  <a:pt x="708" y="144"/>
                </a:lnTo>
                <a:lnTo>
                  <a:pt x="708" y="154"/>
                </a:lnTo>
                <a:lnTo>
                  <a:pt x="708" y="163"/>
                </a:lnTo>
                <a:lnTo>
                  <a:pt x="700" y="163"/>
                </a:lnTo>
                <a:lnTo>
                  <a:pt x="700" y="173"/>
                </a:lnTo>
                <a:lnTo>
                  <a:pt x="708" y="173"/>
                </a:lnTo>
                <a:lnTo>
                  <a:pt x="708" y="183"/>
                </a:lnTo>
                <a:lnTo>
                  <a:pt x="700" y="183"/>
                </a:lnTo>
                <a:lnTo>
                  <a:pt x="700" y="192"/>
                </a:lnTo>
                <a:lnTo>
                  <a:pt x="708" y="192"/>
                </a:lnTo>
                <a:lnTo>
                  <a:pt x="700" y="192"/>
                </a:lnTo>
                <a:lnTo>
                  <a:pt x="708" y="192"/>
                </a:lnTo>
                <a:lnTo>
                  <a:pt x="708" y="202"/>
                </a:lnTo>
                <a:lnTo>
                  <a:pt x="708" y="211"/>
                </a:lnTo>
                <a:lnTo>
                  <a:pt x="708" y="221"/>
                </a:lnTo>
                <a:lnTo>
                  <a:pt x="708" y="230"/>
                </a:lnTo>
                <a:lnTo>
                  <a:pt x="708" y="240"/>
                </a:lnTo>
                <a:lnTo>
                  <a:pt x="708" y="250"/>
                </a:lnTo>
                <a:lnTo>
                  <a:pt x="700" y="250"/>
                </a:lnTo>
                <a:lnTo>
                  <a:pt x="700" y="259"/>
                </a:lnTo>
                <a:lnTo>
                  <a:pt x="691" y="259"/>
                </a:lnTo>
                <a:lnTo>
                  <a:pt x="691" y="269"/>
                </a:lnTo>
                <a:lnTo>
                  <a:pt x="683" y="269"/>
                </a:lnTo>
                <a:lnTo>
                  <a:pt x="683" y="279"/>
                </a:lnTo>
                <a:lnTo>
                  <a:pt x="683" y="288"/>
                </a:lnTo>
                <a:lnTo>
                  <a:pt x="674" y="288"/>
                </a:lnTo>
                <a:lnTo>
                  <a:pt x="674" y="297"/>
                </a:lnTo>
                <a:lnTo>
                  <a:pt x="666" y="297"/>
                </a:lnTo>
                <a:lnTo>
                  <a:pt x="666" y="307"/>
                </a:lnTo>
                <a:lnTo>
                  <a:pt x="658" y="307"/>
                </a:lnTo>
                <a:lnTo>
                  <a:pt x="658" y="317"/>
                </a:lnTo>
                <a:lnTo>
                  <a:pt x="658" y="326"/>
                </a:lnTo>
                <a:lnTo>
                  <a:pt x="658" y="336"/>
                </a:lnTo>
                <a:lnTo>
                  <a:pt x="650" y="336"/>
                </a:lnTo>
                <a:lnTo>
                  <a:pt x="650" y="346"/>
                </a:lnTo>
                <a:lnTo>
                  <a:pt x="650" y="355"/>
                </a:lnTo>
                <a:lnTo>
                  <a:pt x="641" y="355"/>
                </a:lnTo>
                <a:lnTo>
                  <a:pt x="633" y="365"/>
                </a:lnTo>
                <a:lnTo>
                  <a:pt x="624" y="365"/>
                </a:lnTo>
                <a:lnTo>
                  <a:pt x="624" y="374"/>
                </a:lnTo>
                <a:lnTo>
                  <a:pt x="616" y="374"/>
                </a:lnTo>
                <a:lnTo>
                  <a:pt x="616" y="383"/>
                </a:lnTo>
                <a:lnTo>
                  <a:pt x="607" y="383"/>
                </a:lnTo>
                <a:lnTo>
                  <a:pt x="607" y="393"/>
                </a:lnTo>
                <a:lnTo>
                  <a:pt x="616" y="393"/>
                </a:lnTo>
                <a:lnTo>
                  <a:pt x="616" y="403"/>
                </a:lnTo>
                <a:lnTo>
                  <a:pt x="607" y="403"/>
                </a:lnTo>
                <a:lnTo>
                  <a:pt x="607" y="413"/>
                </a:lnTo>
                <a:lnTo>
                  <a:pt x="607" y="422"/>
                </a:lnTo>
                <a:lnTo>
                  <a:pt x="607" y="432"/>
                </a:lnTo>
                <a:lnTo>
                  <a:pt x="616" y="432"/>
                </a:lnTo>
                <a:lnTo>
                  <a:pt x="616" y="442"/>
                </a:lnTo>
                <a:lnTo>
                  <a:pt x="624" y="442"/>
                </a:lnTo>
                <a:lnTo>
                  <a:pt x="624" y="451"/>
                </a:lnTo>
                <a:lnTo>
                  <a:pt x="624" y="460"/>
                </a:lnTo>
                <a:lnTo>
                  <a:pt x="616" y="460"/>
                </a:lnTo>
                <a:lnTo>
                  <a:pt x="616" y="451"/>
                </a:lnTo>
                <a:lnTo>
                  <a:pt x="607" y="451"/>
                </a:lnTo>
                <a:lnTo>
                  <a:pt x="607" y="442"/>
                </a:lnTo>
                <a:lnTo>
                  <a:pt x="599" y="442"/>
                </a:lnTo>
                <a:lnTo>
                  <a:pt x="590" y="442"/>
                </a:lnTo>
                <a:lnTo>
                  <a:pt x="590" y="432"/>
                </a:lnTo>
                <a:lnTo>
                  <a:pt x="582" y="432"/>
                </a:lnTo>
                <a:lnTo>
                  <a:pt x="582" y="422"/>
                </a:lnTo>
                <a:lnTo>
                  <a:pt x="573" y="422"/>
                </a:lnTo>
                <a:lnTo>
                  <a:pt x="565" y="422"/>
                </a:lnTo>
                <a:lnTo>
                  <a:pt x="565" y="413"/>
                </a:lnTo>
                <a:lnTo>
                  <a:pt x="556" y="413"/>
                </a:lnTo>
                <a:lnTo>
                  <a:pt x="548" y="413"/>
                </a:lnTo>
                <a:lnTo>
                  <a:pt x="548" y="403"/>
                </a:lnTo>
                <a:lnTo>
                  <a:pt x="540" y="403"/>
                </a:lnTo>
                <a:lnTo>
                  <a:pt x="548" y="403"/>
                </a:lnTo>
                <a:lnTo>
                  <a:pt x="540" y="403"/>
                </a:lnTo>
                <a:lnTo>
                  <a:pt x="540" y="393"/>
                </a:lnTo>
                <a:lnTo>
                  <a:pt x="532" y="393"/>
                </a:lnTo>
                <a:lnTo>
                  <a:pt x="523" y="403"/>
                </a:lnTo>
                <a:lnTo>
                  <a:pt x="523" y="413"/>
                </a:lnTo>
                <a:lnTo>
                  <a:pt x="515" y="413"/>
                </a:lnTo>
                <a:lnTo>
                  <a:pt x="506" y="413"/>
                </a:lnTo>
                <a:lnTo>
                  <a:pt x="498" y="413"/>
                </a:lnTo>
                <a:lnTo>
                  <a:pt x="489" y="413"/>
                </a:lnTo>
                <a:lnTo>
                  <a:pt x="481" y="413"/>
                </a:lnTo>
                <a:lnTo>
                  <a:pt x="472" y="413"/>
                </a:lnTo>
                <a:lnTo>
                  <a:pt x="472" y="403"/>
                </a:lnTo>
                <a:lnTo>
                  <a:pt x="472" y="393"/>
                </a:lnTo>
                <a:lnTo>
                  <a:pt x="464" y="393"/>
                </a:lnTo>
                <a:lnTo>
                  <a:pt x="472" y="393"/>
                </a:lnTo>
                <a:lnTo>
                  <a:pt x="472" y="383"/>
                </a:lnTo>
                <a:lnTo>
                  <a:pt x="464" y="383"/>
                </a:lnTo>
                <a:lnTo>
                  <a:pt x="455" y="383"/>
                </a:lnTo>
                <a:lnTo>
                  <a:pt x="455" y="393"/>
                </a:lnTo>
                <a:lnTo>
                  <a:pt x="447" y="393"/>
                </a:lnTo>
                <a:lnTo>
                  <a:pt x="447" y="403"/>
                </a:lnTo>
                <a:lnTo>
                  <a:pt x="447" y="413"/>
                </a:lnTo>
                <a:lnTo>
                  <a:pt x="438" y="413"/>
                </a:lnTo>
                <a:lnTo>
                  <a:pt x="438" y="422"/>
                </a:lnTo>
                <a:lnTo>
                  <a:pt x="430" y="422"/>
                </a:lnTo>
                <a:lnTo>
                  <a:pt x="430" y="43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14" y="432"/>
                </a:lnTo>
                <a:lnTo>
                  <a:pt x="405" y="432"/>
                </a:lnTo>
                <a:lnTo>
                  <a:pt x="405" y="442"/>
                </a:lnTo>
                <a:lnTo>
                  <a:pt x="405" y="432"/>
                </a:lnTo>
                <a:lnTo>
                  <a:pt x="405" y="442"/>
                </a:lnTo>
                <a:lnTo>
                  <a:pt x="396" y="442"/>
                </a:lnTo>
                <a:lnTo>
                  <a:pt x="396" y="451"/>
                </a:lnTo>
                <a:lnTo>
                  <a:pt x="396" y="442"/>
                </a:lnTo>
                <a:lnTo>
                  <a:pt x="396" y="451"/>
                </a:lnTo>
                <a:lnTo>
                  <a:pt x="388" y="451"/>
                </a:lnTo>
                <a:lnTo>
                  <a:pt x="379" y="451"/>
                </a:lnTo>
                <a:lnTo>
                  <a:pt x="379" y="460"/>
                </a:lnTo>
                <a:lnTo>
                  <a:pt x="371" y="460"/>
                </a:lnTo>
                <a:lnTo>
                  <a:pt x="371" y="451"/>
                </a:lnTo>
                <a:lnTo>
                  <a:pt x="371" y="460"/>
                </a:lnTo>
                <a:lnTo>
                  <a:pt x="362" y="460"/>
                </a:lnTo>
                <a:lnTo>
                  <a:pt x="362" y="470"/>
                </a:lnTo>
                <a:lnTo>
                  <a:pt x="362" y="479"/>
                </a:lnTo>
                <a:lnTo>
                  <a:pt x="362" y="489"/>
                </a:lnTo>
                <a:lnTo>
                  <a:pt x="362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79"/>
                </a:lnTo>
                <a:lnTo>
                  <a:pt x="345" y="479"/>
                </a:lnTo>
                <a:lnTo>
                  <a:pt x="345" y="470"/>
                </a:lnTo>
                <a:lnTo>
                  <a:pt x="337" y="470"/>
                </a:lnTo>
                <a:lnTo>
                  <a:pt x="337" y="479"/>
                </a:lnTo>
                <a:lnTo>
                  <a:pt x="328" y="479"/>
                </a:lnTo>
                <a:lnTo>
                  <a:pt x="320" y="479"/>
                </a:lnTo>
                <a:lnTo>
                  <a:pt x="320" y="470"/>
                </a:lnTo>
                <a:lnTo>
                  <a:pt x="311" y="470"/>
                </a:lnTo>
                <a:lnTo>
                  <a:pt x="311" y="460"/>
                </a:lnTo>
                <a:lnTo>
                  <a:pt x="303" y="460"/>
                </a:lnTo>
                <a:lnTo>
                  <a:pt x="303" y="451"/>
                </a:lnTo>
                <a:lnTo>
                  <a:pt x="295" y="451"/>
                </a:lnTo>
                <a:lnTo>
                  <a:pt x="287" y="451"/>
                </a:lnTo>
                <a:lnTo>
                  <a:pt x="287" y="442"/>
                </a:lnTo>
                <a:lnTo>
                  <a:pt x="287" y="432"/>
                </a:lnTo>
                <a:lnTo>
                  <a:pt x="295" y="432"/>
                </a:lnTo>
                <a:lnTo>
                  <a:pt x="295" y="422"/>
                </a:lnTo>
                <a:lnTo>
                  <a:pt x="295" y="413"/>
                </a:lnTo>
                <a:lnTo>
                  <a:pt x="287" y="413"/>
                </a:lnTo>
                <a:lnTo>
                  <a:pt x="287" y="403"/>
                </a:lnTo>
                <a:lnTo>
                  <a:pt x="295" y="403"/>
                </a:lnTo>
                <a:lnTo>
                  <a:pt x="287" y="403"/>
                </a:lnTo>
                <a:lnTo>
                  <a:pt x="278" y="403"/>
                </a:lnTo>
                <a:lnTo>
                  <a:pt x="270" y="403"/>
                </a:lnTo>
                <a:lnTo>
                  <a:pt x="270" y="413"/>
                </a:lnTo>
                <a:lnTo>
                  <a:pt x="261" y="413"/>
                </a:lnTo>
                <a:lnTo>
                  <a:pt x="261" y="403"/>
                </a:lnTo>
                <a:lnTo>
                  <a:pt x="253" y="403"/>
                </a:lnTo>
                <a:lnTo>
                  <a:pt x="253" y="393"/>
                </a:lnTo>
                <a:lnTo>
                  <a:pt x="253" y="383"/>
                </a:lnTo>
                <a:lnTo>
                  <a:pt x="253" y="374"/>
                </a:lnTo>
                <a:lnTo>
                  <a:pt x="244" y="365"/>
                </a:lnTo>
                <a:lnTo>
                  <a:pt x="236" y="365"/>
                </a:lnTo>
                <a:lnTo>
                  <a:pt x="227" y="365"/>
                </a:lnTo>
                <a:lnTo>
                  <a:pt x="227" y="374"/>
                </a:lnTo>
                <a:lnTo>
                  <a:pt x="219" y="374"/>
                </a:lnTo>
                <a:lnTo>
                  <a:pt x="210" y="374"/>
                </a:lnTo>
                <a:lnTo>
                  <a:pt x="210" y="365"/>
                </a:lnTo>
                <a:lnTo>
                  <a:pt x="210" y="374"/>
                </a:lnTo>
                <a:lnTo>
                  <a:pt x="210" y="365"/>
                </a:lnTo>
                <a:lnTo>
                  <a:pt x="202" y="365"/>
                </a:lnTo>
                <a:lnTo>
                  <a:pt x="193" y="346"/>
                </a:lnTo>
                <a:lnTo>
                  <a:pt x="193" y="336"/>
                </a:lnTo>
                <a:lnTo>
                  <a:pt x="193" y="326"/>
                </a:lnTo>
                <a:lnTo>
                  <a:pt x="185" y="326"/>
                </a:lnTo>
                <a:lnTo>
                  <a:pt x="177" y="326"/>
                </a:lnTo>
                <a:lnTo>
                  <a:pt x="177" y="336"/>
                </a:lnTo>
                <a:lnTo>
                  <a:pt x="169" y="336"/>
                </a:lnTo>
                <a:lnTo>
                  <a:pt x="160" y="336"/>
                </a:lnTo>
                <a:lnTo>
                  <a:pt x="160" y="346"/>
                </a:lnTo>
                <a:lnTo>
                  <a:pt x="160" y="355"/>
                </a:lnTo>
                <a:lnTo>
                  <a:pt x="152" y="355"/>
                </a:lnTo>
                <a:lnTo>
                  <a:pt x="152" y="365"/>
                </a:lnTo>
                <a:lnTo>
                  <a:pt x="143" y="365"/>
                </a:lnTo>
                <a:lnTo>
                  <a:pt x="143" y="355"/>
                </a:lnTo>
                <a:lnTo>
                  <a:pt x="143" y="365"/>
                </a:lnTo>
                <a:lnTo>
                  <a:pt x="135" y="365"/>
                </a:lnTo>
                <a:lnTo>
                  <a:pt x="143" y="365"/>
                </a:lnTo>
                <a:lnTo>
                  <a:pt x="135" y="365"/>
                </a:lnTo>
                <a:lnTo>
                  <a:pt x="135" y="35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18" y="365"/>
                </a:lnTo>
                <a:lnTo>
                  <a:pt x="118" y="355"/>
                </a:lnTo>
                <a:lnTo>
                  <a:pt x="118" y="365"/>
                </a:lnTo>
                <a:lnTo>
                  <a:pt x="109" y="365"/>
                </a:lnTo>
                <a:lnTo>
                  <a:pt x="109" y="355"/>
                </a:lnTo>
                <a:lnTo>
                  <a:pt x="109" y="365"/>
                </a:lnTo>
                <a:lnTo>
                  <a:pt x="109" y="374"/>
                </a:lnTo>
                <a:lnTo>
                  <a:pt x="109" y="383"/>
                </a:lnTo>
                <a:lnTo>
                  <a:pt x="109" y="393"/>
                </a:lnTo>
                <a:lnTo>
                  <a:pt x="101" y="393"/>
                </a:lnTo>
                <a:lnTo>
                  <a:pt x="92" y="393"/>
                </a:lnTo>
                <a:lnTo>
                  <a:pt x="101" y="393"/>
                </a:lnTo>
                <a:lnTo>
                  <a:pt x="101" y="403"/>
                </a:lnTo>
                <a:lnTo>
                  <a:pt x="92" y="403"/>
                </a:lnTo>
                <a:lnTo>
                  <a:pt x="101" y="403"/>
                </a:lnTo>
                <a:lnTo>
                  <a:pt x="92" y="403"/>
                </a:lnTo>
                <a:lnTo>
                  <a:pt x="92" y="413"/>
                </a:lnTo>
                <a:lnTo>
                  <a:pt x="92" y="403"/>
                </a:lnTo>
                <a:lnTo>
                  <a:pt x="92" y="413"/>
                </a:lnTo>
                <a:lnTo>
                  <a:pt x="84" y="413"/>
                </a:lnTo>
                <a:lnTo>
                  <a:pt x="92" y="413"/>
                </a:lnTo>
                <a:lnTo>
                  <a:pt x="84" y="413"/>
                </a:lnTo>
                <a:lnTo>
                  <a:pt x="84" y="403"/>
                </a:lnTo>
                <a:lnTo>
                  <a:pt x="75" y="403"/>
                </a:lnTo>
                <a:lnTo>
                  <a:pt x="84" y="403"/>
                </a:lnTo>
                <a:lnTo>
                  <a:pt x="75" y="403"/>
                </a:lnTo>
                <a:lnTo>
                  <a:pt x="75" y="393"/>
                </a:lnTo>
                <a:lnTo>
                  <a:pt x="67" y="393"/>
                </a:lnTo>
                <a:lnTo>
                  <a:pt x="67" y="403"/>
                </a:lnTo>
                <a:lnTo>
                  <a:pt x="59" y="403"/>
                </a:lnTo>
                <a:lnTo>
                  <a:pt x="51" y="403"/>
                </a:lnTo>
                <a:lnTo>
                  <a:pt x="42" y="403"/>
                </a:lnTo>
                <a:lnTo>
                  <a:pt x="34" y="403"/>
                </a:lnTo>
                <a:lnTo>
                  <a:pt x="34" y="393"/>
                </a:lnTo>
                <a:lnTo>
                  <a:pt x="34" y="383"/>
                </a:lnTo>
                <a:lnTo>
                  <a:pt x="34" y="374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34" y="355"/>
                </a:lnTo>
                <a:lnTo>
                  <a:pt x="25" y="355"/>
                </a:lnTo>
                <a:lnTo>
                  <a:pt x="25" y="346"/>
                </a:lnTo>
                <a:lnTo>
                  <a:pt x="25" y="336"/>
                </a:lnTo>
                <a:lnTo>
                  <a:pt x="25" y="326"/>
                </a:lnTo>
                <a:lnTo>
                  <a:pt x="34" y="326"/>
                </a:lnTo>
                <a:lnTo>
                  <a:pt x="34" y="33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34" y="317"/>
                </a:lnTo>
                <a:lnTo>
                  <a:pt x="34" y="307"/>
                </a:lnTo>
                <a:lnTo>
                  <a:pt x="34" y="297"/>
                </a:lnTo>
                <a:lnTo>
                  <a:pt x="25" y="297"/>
                </a:lnTo>
                <a:lnTo>
                  <a:pt x="25" y="288"/>
                </a:lnTo>
                <a:lnTo>
                  <a:pt x="25" y="279"/>
                </a:lnTo>
                <a:lnTo>
                  <a:pt x="17" y="279"/>
                </a:lnTo>
                <a:lnTo>
                  <a:pt x="25" y="279"/>
                </a:lnTo>
                <a:lnTo>
                  <a:pt x="25" y="269"/>
                </a:lnTo>
                <a:lnTo>
                  <a:pt x="17" y="269"/>
                </a:lnTo>
                <a:lnTo>
                  <a:pt x="17" y="259"/>
                </a:lnTo>
                <a:lnTo>
                  <a:pt x="8" y="259"/>
                </a:lnTo>
                <a:lnTo>
                  <a:pt x="8" y="250"/>
                </a:lnTo>
                <a:lnTo>
                  <a:pt x="0" y="250"/>
                </a:lnTo>
                <a:lnTo>
                  <a:pt x="0" y="240"/>
                </a:lnTo>
                <a:lnTo>
                  <a:pt x="8" y="240"/>
                </a:lnTo>
                <a:lnTo>
                  <a:pt x="8" y="230"/>
                </a:lnTo>
                <a:lnTo>
                  <a:pt x="8" y="240"/>
                </a:lnTo>
                <a:lnTo>
                  <a:pt x="8" y="230"/>
                </a:lnTo>
                <a:lnTo>
                  <a:pt x="17" y="230"/>
                </a:lnTo>
                <a:lnTo>
                  <a:pt x="17" y="221"/>
                </a:lnTo>
                <a:lnTo>
                  <a:pt x="25" y="221"/>
                </a:lnTo>
                <a:lnTo>
                  <a:pt x="25" y="211"/>
                </a:lnTo>
                <a:lnTo>
                  <a:pt x="25" y="202"/>
                </a:lnTo>
                <a:lnTo>
                  <a:pt x="25" y="211"/>
                </a:lnTo>
                <a:lnTo>
                  <a:pt x="34" y="211"/>
                </a:lnTo>
                <a:lnTo>
                  <a:pt x="34" y="202"/>
                </a:lnTo>
                <a:lnTo>
                  <a:pt x="25" y="202"/>
                </a:lnTo>
                <a:lnTo>
                  <a:pt x="34" y="202"/>
                </a:lnTo>
                <a:lnTo>
                  <a:pt x="42" y="202"/>
                </a:lnTo>
                <a:lnTo>
                  <a:pt x="42" y="192"/>
                </a:lnTo>
                <a:lnTo>
                  <a:pt x="42" y="202"/>
                </a:lnTo>
                <a:lnTo>
                  <a:pt x="42" y="192"/>
                </a:lnTo>
                <a:lnTo>
                  <a:pt x="51" y="192"/>
                </a:lnTo>
                <a:lnTo>
                  <a:pt x="51" y="183"/>
                </a:lnTo>
                <a:lnTo>
                  <a:pt x="59" y="183"/>
                </a:lnTo>
                <a:lnTo>
                  <a:pt x="67" y="183"/>
                </a:lnTo>
                <a:lnTo>
                  <a:pt x="67" y="173"/>
                </a:lnTo>
                <a:lnTo>
                  <a:pt x="75" y="173"/>
                </a:lnTo>
                <a:lnTo>
                  <a:pt x="84" y="173"/>
                </a:lnTo>
                <a:lnTo>
                  <a:pt x="92" y="173"/>
                </a:lnTo>
                <a:lnTo>
                  <a:pt x="101" y="173"/>
                </a:lnTo>
                <a:lnTo>
                  <a:pt x="109" y="173"/>
                </a:lnTo>
                <a:lnTo>
                  <a:pt x="109" y="163"/>
                </a:lnTo>
                <a:lnTo>
                  <a:pt x="109" y="173"/>
                </a:lnTo>
                <a:lnTo>
                  <a:pt x="118" y="173"/>
                </a:lnTo>
                <a:lnTo>
                  <a:pt x="118" y="163"/>
                </a:lnTo>
                <a:lnTo>
                  <a:pt x="118" y="173"/>
                </a:lnTo>
                <a:lnTo>
                  <a:pt x="126" y="173"/>
                </a:lnTo>
                <a:lnTo>
                  <a:pt x="135" y="173"/>
                </a:lnTo>
                <a:lnTo>
                  <a:pt x="135" y="183"/>
                </a:lnTo>
                <a:lnTo>
                  <a:pt x="143" y="183"/>
                </a:lnTo>
                <a:lnTo>
                  <a:pt x="143" y="173"/>
                </a:lnTo>
                <a:lnTo>
                  <a:pt x="143" y="183"/>
                </a:lnTo>
                <a:lnTo>
                  <a:pt x="152" y="183"/>
                </a:lnTo>
                <a:lnTo>
                  <a:pt x="152" y="173"/>
                </a:lnTo>
                <a:lnTo>
                  <a:pt x="160" y="173"/>
                </a:lnTo>
                <a:lnTo>
                  <a:pt x="169" y="173"/>
                </a:lnTo>
                <a:lnTo>
                  <a:pt x="177" y="173"/>
                </a:lnTo>
                <a:lnTo>
                  <a:pt x="177" y="163"/>
                </a:lnTo>
                <a:lnTo>
                  <a:pt x="177" y="173"/>
                </a:lnTo>
                <a:lnTo>
                  <a:pt x="185" y="173"/>
                </a:lnTo>
                <a:lnTo>
                  <a:pt x="185" y="163"/>
                </a:lnTo>
                <a:lnTo>
                  <a:pt x="185" y="173"/>
                </a:lnTo>
                <a:lnTo>
                  <a:pt x="193" y="173"/>
                </a:lnTo>
                <a:lnTo>
                  <a:pt x="193" y="163"/>
                </a:lnTo>
                <a:lnTo>
                  <a:pt x="202" y="163"/>
                </a:lnTo>
                <a:lnTo>
                  <a:pt x="202" y="154"/>
                </a:lnTo>
                <a:lnTo>
                  <a:pt x="202" y="163"/>
                </a:lnTo>
                <a:lnTo>
                  <a:pt x="202" y="154"/>
                </a:lnTo>
                <a:lnTo>
                  <a:pt x="210" y="154"/>
                </a:lnTo>
                <a:lnTo>
                  <a:pt x="210" y="144"/>
                </a:lnTo>
                <a:lnTo>
                  <a:pt x="210" y="154"/>
                </a:lnTo>
                <a:lnTo>
                  <a:pt x="219" y="154"/>
                </a:lnTo>
                <a:lnTo>
                  <a:pt x="219" y="144"/>
                </a:lnTo>
                <a:lnTo>
                  <a:pt x="219" y="154"/>
                </a:lnTo>
                <a:lnTo>
                  <a:pt x="219" y="144"/>
                </a:lnTo>
                <a:lnTo>
                  <a:pt x="227" y="144"/>
                </a:lnTo>
                <a:lnTo>
                  <a:pt x="236" y="144"/>
                </a:lnTo>
                <a:lnTo>
                  <a:pt x="244" y="144"/>
                </a:lnTo>
                <a:lnTo>
                  <a:pt x="253" y="144"/>
                </a:lnTo>
                <a:lnTo>
                  <a:pt x="261" y="144"/>
                </a:lnTo>
                <a:lnTo>
                  <a:pt x="270" y="144"/>
                </a:lnTo>
                <a:lnTo>
                  <a:pt x="270" y="154"/>
                </a:lnTo>
                <a:lnTo>
                  <a:pt x="270" y="144"/>
                </a:lnTo>
                <a:lnTo>
                  <a:pt x="270" y="154"/>
                </a:lnTo>
                <a:lnTo>
                  <a:pt x="278" y="154"/>
                </a:lnTo>
                <a:lnTo>
                  <a:pt x="287" y="154"/>
                </a:lnTo>
                <a:lnTo>
                  <a:pt x="278" y="154"/>
                </a:lnTo>
                <a:lnTo>
                  <a:pt x="278" y="163"/>
                </a:lnTo>
                <a:lnTo>
                  <a:pt x="287" y="163"/>
                </a:lnTo>
                <a:lnTo>
                  <a:pt x="295" y="163"/>
                </a:lnTo>
                <a:lnTo>
                  <a:pt x="287" y="163"/>
                </a:lnTo>
                <a:lnTo>
                  <a:pt x="295" y="163"/>
                </a:lnTo>
                <a:lnTo>
                  <a:pt x="303" y="163"/>
                </a:lnTo>
                <a:lnTo>
                  <a:pt x="303" y="154"/>
                </a:lnTo>
                <a:lnTo>
                  <a:pt x="311" y="154"/>
                </a:lnTo>
                <a:lnTo>
                  <a:pt x="320" y="154"/>
                </a:lnTo>
                <a:lnTo>
                  <a:pt x="320" y="163"/>
                </a:lnTo>
                <a:lnTo>
                  <a:pt x="320" y="154"/>
                </a:lnTo>
                <a:lnTo>
                  <a:pt x="320" y="163"/>
                </a:lnTo>
                <a:lnTo>
                  <a:pt x="328" y="163"/>
                </a:lnTo>
                <a:lnTo>
                  <a:pt x="328" y="154"/>
                </a:lnTo>
                <a:lnTo>
                  <a:pt x="328" y="163"/>
                </a:lnTo>
                <a:lnTo>
                  <a:pt x="328" y="154"/>
                </a:lnTo>
                <a:lnTo>
                  <a:pt x="337" y="154"/>
                </a:lnTo>
                <a:lnTo>
                  <a:pt x="345" y="154"/>
                </a:lnTo>
                <a:lnTo>
                  <a:pt x="354" y="154"/>
                </a:lnTo>
                <a:lnTo>
                  <a:pt x="362" y="154"/>
                </a:lnTo>
                <a:lnTo>
                  <a:pt x="371" y="154"/>
                </a:lnTo>
                <a:lnTo>
                  <a:pt x="379" y="154"/>
                </a:lnTo>
                <a:lnTo>
                  <a:pt x="388" y="154"/>
                </a:lnTo>
                <a:lnTo>
                  <a:pt x="388" y="144"/>
                </a:lnTo>
                <a:lnTo>
                  <a:pt x="396" y="144"/>
                </a:lnTo>
                <a:lnTo>
                  <a:pt x="388" y="144"/>
                </a:lnTo>
                <a:lnTo>
                  <a:pt x="379" y="144"/>
                </a:lnTo>
                <a:lnTo>
                  <a:pt x="371" y="144"/>
                </a:lnTo>
                <a:lnTo>
                  <a:pt x="362" y="144"/>
                </a:lnTo>
                <a:lnTo>
                  <a:pt x="354" y="144"/>
                </a:lnTo>
                <a:lnTo>
                  <a:pt x="345" y="144"/>
                </a:lnTo>
                <a:lnTo>
                  <a:pt x="337" y="144"/>
                </a:lnTo>
                <a:lnTo>
                  <a:pt x="328" y="144"/>
                </a:lnTo>
                <a:lnTo>
                  <a:pt x="320" y="144"/>
                </a:lnTo>
                <a:lnTo>
                  <a:pt x="311" y="144"/>
                </a:lnTo>
                <a:lnTo>
                  <a:pt x="320" y="144"/>
                </a:lnTo>
                <a:lnTo>
                  <a:pt x="320" y="134"/>
                </a:lnTo>
                <a:lnTo>
                  <a:pt x="320" y="125"/>
                </a:lnTo>
                <a:lnTo>
                  <a:pt x="328" y="125"/>
                </a:lnTo>
                <a:lnTo>
                  <a:pt x="320" y="125"/>
                </a:lnTo>
                <a:lnTo>
                  <a:pt x="328" y="125"/>
                </a:lnTo>
                <a:lnTo>
                  <a:pt x="328" y="116"/>
                </a:lnTo>
                <a:lnTo>
                  <a:pt x="337" y="116"/>
                </a:lnTo>
                <a:lnTo>
                  <a:pt x="337" y="106"/>
                </a:lnTo>
                <a:lnTo>
                  <a:pt x="337" y="96"/>
                </a:lnTo>
                <a:lnTo>
                  <a:pt x="337" y="87"/>
                </a:lnTo>
                <a:lnTo>
                  <a:pt x="345" y="87"/>
                </a:lnTo>
                <a:lnTo>
                  <a:pt x="345" y="77"/>
                </a:lnTo>
                <a:lnTo>
                  <a:pt x="337" y="77"/>
                </a:lnTo>
                <a:lnTo>
                  <a:pt x="337" y="87"/>
                </a:lnTo>
                <a:lnTo>
                  <a:pt x="328" y="87"/>
                </a:lnTo>
                <a:lnTo>
                  <a:pt x="320" y="87"/>
                </a:lnTo>
                <a:lnTo>
                  <a:pt x="320" y="77"/>
                </a:lnTo>
                <a:lnTo>
                  <a:pt x="320" y="67"/>
                </a:lnTo>
                <a:lnTo>
                  <a:pt x="320" y="77"/>
                </a:lnTo>
                <a:lnTo>
                  <a:pt x="320" y="67"/>
                </a:lnTo>
                <a:lnTo>
                  <a:pt x="328" y="67"/>
                </a:lnTo>
                <a:lnTo>
                  <a:pt x="337" y="67"/>
                </a:lnTo>
                <a:lnTo>
                  <a:pt x="337" y="58"/>
                </a:lnTo>
                <a:lnTo>
                  <a:pt x="337" y="67"/>
                </a:lnTo>
                <a:lnTo>
                  <a:pt x="337" y="58"/>
                </a:lnTo>
                <a:lnTo>
                  <a:pt x="345" y="58"/>
                </a:lnTo>
                <a:lnTo>
                  <a:pt x="345" y="48"/>
                </a:lnTo>
                <a:lnTo>
                  <a:pt x="345" y="39"/>
                </a:lnTo>
                <a:lnTo>
                  <a:pt x="345" y="30"/>
                </a:lnTo>
                <a:lnTo>
                  <a:pt x="345" y="20"/>
                </a:lnTo>
                <a:lnTo>
                  <a:pt x="345" y="10"/>
                </a:lnTo>
                <a:lnTo>
                  <a:pt x="354" y="10"/>
                </a:lnTo>
                <a:lnTo>
                  <a:pt x="362" y="10"/>
                </a:lnTo>
                <a:lnTo>
                  <a:pt x="362" y="0"/>
                </a:lnTo>
                <a:lnTo>
                  <a:pt x="371" y="0"/>
                </a:lnTo>
                <a:lnTo>
                  <a:pt x="371" y="10"/>
                </a:lnTo>
                <a:lnTo>
                  <a:pt x="371" y="20"/>
                </a:lnTo>
                <a:lnTo>
                  <a:pt x="362" y="20"/>
                </a:lnTo>
                <a:lnTo>
                  <a:pt x="362" y="30"/>
                </a:lnTo>
                <a:lnTo>
                  <a:pt x="438" y="67"/>
                </a:lnTo>
                <a:lnTo>
                  <a:pt x="464" y="87"/>
                </a:lnTo>
                <a:lnTo>
                  <a:pt x="481" y="96"/>
                </a:lnTo>
                <a:lnTo>
                  <a:pt x="489" y="96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27"/>
          <p:cNvSpPr/>
          <p:nvPr/>
        </p:nvSpPr>
        <p:spPr>
          <a:xfrm>
            <a:off x="6881760" y="1270080"/>
            <a:ext cx="1163520" cy="8031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33" h="506">
                <a:moveTo>
                  <a:pt x="494" y="97"/>
                </a:moveTo>
                <a:lnTo>
                  <a:pt x="562" y="136"/>
                </a:lnTo>
                <a:lnTo>
                  <a:pt x="596" y="136"/>
                </a:lnTo>
                <a:lnTo>
                  <a:pt x="647" y="136"/>
                </a:lnTo>
                <a:lnTo>
                  <a:pt x="690" y="136"/>
                </a:lnTo>
                <a:lnTo>
                  <a:pt x="732" y="136"/>
                </a:lnTo>
                <a:lnTo>
                  <a:pt x="724" y="136"/>
                </a:lnTo>
                <a:lnTo>
                  <a:pt x="724" y="146"/>
                </a:lnTo>
                <a:lnTo>
                  <a:pt x="715" y="146"/>
                </a:lnTo>
                <a:lnTo>
                  <a:pt x="715" y="156"/>
                </a:lnTo>
                <a:lnTo>
                  <a:pt x="715" y="165"/>
                </a:lnTo>
                <a:lnTo>
                  <a:pt x="707" y="165"/>
                </a:lnTo>
                <a:lnTo>
                  <a:pt x="707" y="175"/>
                </a:lnTo>
                <a:lnTo>
                  <a:pt x="715" y="175"/>
                </a:lnTo>
                <a:lnTo>
                  <a:pt x="715" y="185"/>
                </a:lnTo>
                <a:lnTo>
                  <a:pt x="707" y="185"/>
                </a:lnTo>
                <a:lnTo>
                  <a:pt x="707" y="194"/>
                </a:lnTo>
                <a:lnTo>
                  <a:pt x="715" y="194"/>
                </a:lnTo>
                <a:lnTo>
                  <a:pt x="707" y="194"/>
                </a:lnTo>
                <a:lnTo>
                  <a:pt x="715" y="194"/>
                </a:lnTo>
                <a:lnTo>
                  <a:pt x="715" y="204"/>
                </a:lnTo>
                <a:lnTo>
                  <a:pt x="715" y="214"/>
                </a:lnTo>
                <a:lnTo>
                  <a:pt x="715" y="224"/>
                </a:lnTo>
                <a:lnTo>
                  <a:pt x="715" y="233"/>
                </a:lnTo>
                <a:lnTo>
                  <a:pt x="715" y="243"/>
                </a:lnTo>
                <a:lnTo>
                  <a:pt x="715" y="253"/>
                </a:lnTo>
                <a:lnTo>
                  <a:pt x="707" y="253"/>
                </a:lnTo>
                <a:lnTo>
                  <a:pt x="707" y="262"/>
                </a:lnTo>
                <a:lnTo>
                  <a:pt x="698" y="262"/>
                </a:lnTo>
                <a:lnTo>
                  <a:pt x="698" y="272"/>
                </a:lnTo>
                <a:lnTo>
                  <a:pt x="690" y="272"/>
                </a:lnTo>
                <a:lnTo>
                  <a:pt x="690" y="282"/>
                </a:lnTo>
                <a:lnTo>
                  <a:pt x="690" y="291"/>
                </a:lnTo>
                <a:lnTo>
                  <a:pt x="681" y="291"/>
                </a:lnTo>
                <a:lnTo>
                  <a:pt x="681" y="301"/>
                </a:lnTo>
                <a:lnTo>
                  <a:pt x="673" y="301"/>
                </a:lnTo>
                <a:lnTo>
                  <a:pt x="673" y="311"/>
                </a:lnTo>
                <a:lnTo>
                  <a:pt x="664" y="311"/>
                </a:lnTo>
                <a:lnTo>
                  <a:pt x="664" y="321"/>
                </a:lnTo>
                <a:lnTo>
                  <a:pt x="664" y="330"/>
                </a:lnTo>
                <a:lnTo>
                  <a:pt x="664" y="340"/>
                </a:lnTo>
                <a:lnTo>
                  <a:pt x="656" y="340"/>
                </a:lnTo>
                <a:lnTo>
                  <a:pt x="656" y="350"/>
                </a:lnTo>
                <a:lnTo>
                  <a:pt x="656" y="359"/>
                </a:lnTo>
                <a:lnTo>
                  <a:pt x="647" y="359"/>
                </a:lnTo>
                <a:lnTo>
                  <a:pt x="639" y="369"/>
                </a:lnTo>
                <a:lnTo>
                  <a:pt x="630" y="369"/>
                </a:lnTo>
                <a:lnTo>
                  <a:pt x="630" y="379"/>
                </a:lnTo>
                <a:lnTo>
                  <a:pt x="622" y="379"/>
                </a:lnTo>
                <a:lnTo>
                  <a:pt x="622" y="388"/>
                </a:lnTo>
                <a:lnTo>
                  <a:pt x="613" y="388"/>
                </a:lnTo>
                <a:lnTo>
                  <a:pt x="613" y="398"/>
                </a:lnTo>
                <a:lnTo>
                  <a:pt x="622" y="398"/>
                </a:lnTo>
                <a:lnTo>
                  <a:pt x="622" y="408"/>
                </a:lnTo>
                <a:lnTo>
                  <a:pt x="613" y="408"/>
                </a:lnTo>
                <a:lnTo>
                  <a:pt x="613" y="418"/>
                </a:lnTo>
                <a:lnTo>
                  <a:pt x="613" y="427"/>
                </a:lnTo>
                <a:lnTo>
                  <a:pt x="613" y="437"/>
                </a:lnTo>
                <a:lnTo>
                  <a:pt x="622" y="437"/>
                </a:lnTo>
                <a:lnTo>
                  <a:pt x="622" y="447"/>
                </a:lnTo>
                <a:lnTo>
                  <a:pt x="630" y="447"/>
                </a:lnTo>
                <a:lnTo>
                  <a:pt x="630" y="456"/>
                </a:lnTo>
                <a:lnTo>
                  <a:pt x="630" y="466"/>
                </a:lnTo>
                <a:lnTo>
                  <a:pt x="622" y="466"/>
                </a:lnTo>
                <a:lnTo>
                  <a:pt x="622" y="456"/>
                </a:lnTo>
                <a:lnTo>
                  <a:pt x="613" y="456"/>
                </a:lnTo>
                <a:lnTo>
                  <a:pt x="613" y="447"/>
                </a:lnTo>
                <a:lnTo>
                  <a:pt x="605" y="447"/>
                </a:lnTo>
                <a:lnTo>
                  <a:pt x="596" y="447"/>
                </a:lnTo>
                <a:lnTo>
                  <a:pt x="596" y="437"/>
                </a:lnTo>
                <a:lnTo>
                  <a:pt x="588" y="437"/>
                </a:lnTo>
                <a:lnTo>
                  <a:pt x="588" y="427"/>
                </a:lnTo>
                <a:lnTo>
                  <a:pt x="579" y="427"/>
                </a:lnTo>
                <a:lnTo>
                  <a:pt x="571" y="427"/>
                </a:lnTo>
                <a:lnTo>
                  <a:pt x="571" y="418"/>
                </a:lnTo>
                <a:lnTo>
                  <a:pt x="562" y="418"/>
                </a:lnTo>
                <a:lnTo>
                  <a:pt x="554" y="418"/>
                </a:lnTo>
                <a:lnTo>
                  <a:pt x="554" y="408"/>
                </a:lnTo>
                <a:lnTo>
                  <a:pt x="545" y="408"/>
                </a:lnTo>
                <a:lnTo>
                  <a:pt x="554" y="408"/>
                </a:lnTo>
                <a:lnTo>
                  <a:pt x="545" y="408"/>
                </a:lnTo>
                <a:lnTo>
                  <a:pt x="545" y="398"/>
                </a:lnTo>
                <a:lnTo>
                  <a:pt x="537" y="398"/>
                </a:lnTo>
                <a:lnTo>
                  <a:pt x="528" y="408"/>
                </a:lnTo>
                <a:lnTo>
                  <a:pt x="528" y="418"/>
                </a:lnTo>
                <a:lnTo>
                  <a:pt x="520" y="418"/>
                </a:lnTo>
                <a:lnTo>
                  <a:pt x="511" y="418"/>
                </a:lnTo>
                <a:lnTo>
                  <a:pt x="503" y="418"/>
                </a:lnTo>
                <a:lnTo>
                  <a:pt x="494" y="418"/>
                </a:lnTo>
                <a:lnTo>
                  <a:pt x="486" y="418"/>
                </a:lnTo>
                <a:lnTo>
                  <a:pt x="477" y="418"/>
                </a:lnTo>
                <a:lnTo>
                  <a:pt x="477" y="408"/>
                </a:lnTo>
                <a:lnTo>
                  <a:pt x="477" y="398"/>
                </a:lnTo>
                <a:lnTo>
                  <a:pt x="469" y="398"/>
                </a:lnTo>
                <a:lnTo>
                  <a:pt x="477" y="398"/>
                </a:lnTo>
                <a:lnTo>
                  <a:pt x="477" y="388"/>
                </a:lnTo>
                <a:lnTo>
                  <a:pt x="469" y="388"/>
                </a:lnTo>
                <a:lnTo>
                  <a:pt x="460" y="388"/>
                </a:lnTo>
                <a:lnTo>
                  <a:pt x="460" y="398"/>
                </a:lnTo>
                <a:lnTo>
                  <a:pt x="452" y="398"/>
                </a:lnTo>
                <a:lnTo>
                  <a:pt x="452" y="408"/>
                </a:lnTo>
                <a:lnTo>
                  <a:pt x="452" y="418"/>
                </a:lnTo>
                <a:lnTo>
                  <a:pt x="443" y="418"/>
                </a:lnTo>
                <a:lnTo>
                  <a:pt x="443" y="427"/>
                </a:lnTo>
                <a:lnTo>
                  <a:pt x="435" y="427"/>
                </a:lnTo>
                <a:lnTo>
                  <a:pt x="435" y="43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18" y="437"/>
                </a:lnTo>
                <a:lnTo>
                  <a:pt x="409" y="437"/>
                </a:lnTo>
                <a:lnTo>
                  <a:pt x="409" y="447"/>
                </a:lnTo>
                <a:lnTo>
                  <a:pt x="409" y="437"/>
                </a:lnTo>
                <a:lnTo>
                  <a:pt x="409" y="447"/>
                </a:lnTo>
                <a:lnTo>
                  <a:pt x="400" y="447"/>
                </a:lnTo>
                <a:lnTo>
                  <a:pt x="400" y="456"/>
                </a:lnTo>
                <a:lnTo>
                  <a:pt x="400" y="447"/>
                </a:lnTo>
                <a:lnTo>
                  <a:pt x="400" y="456"/>
                </a:lnTo>
                <a:lnTo>
                  <a:pt x="392" y="456"/>
                </a:lnTo>
                <a:lnTo>
                  <a:pt x="383" y="456"/>
                </a:lnTo>
                <a:lnTo>
                  <a:pt x="383" y="466"/>
                </a:lnTo>
                <a:lnTo>
                  <a:pt x="375" y="466"/>
                </a:lnTo>
                <a:lnTo>
                  <a:pt x="375" y="456"/>
                </a:lnTo>
                <a:lnTo>
                  <a:pt x="375" y="466"/>
                </a:lnTo>
                <a:lnTo>
                  <a:pt x="365" y="466"/>
                </a:lnTo>
                <a:lnTo>
                  <a:pt x="365" y="476"/>
                </a:lnTo>
                <a:lnTo>
                  <a:pt x="365" y="485"/>
                </a:lnTo>
                <a:lnTo>
                  <a:pt x="365" y="495"/>
                </a:lnTo>
                <a:lnTo>
                  <a:pt x="365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485"/>
                </a:lnTo>
                <a:lnTo>
                  <a:pt x="348" y="485"/>
                </a:lnTo>
                <a:lnTo>
                  <a:pt x="348" y="476"/>
                </a:lnTo>
                <a:lnTo>
                  <a:pt x="340" y="476"/>
                </a:lnTo>
                <a:lnTo>
                  <a:pt x="340" y="485"/>
                </a:lnTo>
                <a:lnTo>
                  <a:pt x="331" y="485"/>
                </a:lnTo>
                <a:lnTo>
                  <a:pt x="323" y="485"/>
                </a:lnTo>
                <a:lnTo>
                  <a:pt x="323" y="476"/>
                </a:lnTo>
                <a:lnTo>
                  <a:pt x="314" y="476"/>
                </a:lnTo>
                <a:lnTo>
                  <a:pt x="314" y="466"/>
                </a:lnTo>
                <a:lnTo>
                  <a:pt x="306" y="466"/>
                </a:lnTo>
                <a:lnTo>
                  <a:pt x="306" y="456"/>
                </a:lnTo>
                <a:lnTo>
                  <a:pt x="297" y="456"/>
                </a:lnTo>
                <a:lnTo>
                  <a:pt x="289" y="456"/>
                </a:lnTo>
                <a:lnTo>
                  <a:pt x="289" y="447"/>
                </a:lnTo>
                <a:lnTo>
                  <a:pt x="289" y="437"/>
                </a:lnTo>
                <a:lnTo>
                  <a:pt x="297" y="437"/>
                </a:lnTo>
                <a:lnTo>
                  <a:pt x="297" y="427"/>
                </a:lnTo>
                <a:lnTo>
                  <a:pt x="297" y="418"/>
                </a:lnTo>
                <a:lnTo>
                  <a:pt x="289" y="418"/>
                </a:lnTo>
                <a:lnTo>
                  <a:pt x="289" y="408"/>
                </a:lnTo>
                <a:lnTo>
                  <a:pt x="297" y="408"/>
                </a:lnTo>
                <a:lnTo>
                  <a:pt x="289" y="408"/>
                </a:lnTo>
                <a:lnTo>
                  <a:pt x="280" y="408"/>
                </a:lnTo>
                <a:lnTo>
                  <a:pt x="272" y="408"/>
                </a:lnTo>
                <a:lnTo>
                  <a:pt x="272" y="418"/>
                </a:lnTo>
                <a:lnTo>
                  <a:pt x="263" y="418"/>
                </a:lnTo>
                <a:lnTo>
                  <a:pt x="263" y="408"/>
                </a:lnTo>
                <a:lnTo>
                  <a:pt x="255" y="408"/>
                </a:lnTo>
                <a:lnTo>
                  <a:pt x="255" y="398"/>
                </a:lnTo>
                <a:lnTo>
                  <a:pt x="255" y="388"/>
                </a:lnTo>
                <a:lnTo>
                  <a:pt x="255" y="379"/>
                </a:lnTo>
                <a:lnTo>
                  <a:pt x="246" y="369"/>
                </a:lnTo>
                <a:lnTo>
                  <a:pt x="238" y="369"/>
                </a:lnTo>
                <a:lnTo>
                  <a:pt x="229" y="369"/>
                </a:lnTo>
                <a:lnTo>
                  <a:pt x="229" y="379"/>
                </a:lnTo>
                <a:lnTo>
                  <a:pt x="221" y="379"/>
                </a:lnTo>
                <a:lnTo>
                  <a:pt x="212" y="379"/>
                </a:lnTo>
                <a:lnTo>
                  <a:pt x="212" y="369"/>
                </a:lnTo>
                <a:lnTo>
                  <a:pt x="212" y="379"/>
                </a:lnTo>
                <a:lnTo>
                  <a:pt x="212" y="369"/>
                </a:lnTo>
                <a:lnTo>
                  <a:pt x="204" y="369"/>
                </a:lnTo>
                <a:lnTo>
                  <a:pt x="195" y="350"/>
                </a:lnTo>
                <a:lnTo>
                  <a:pt x="195" y="340"/>
                </a:lnTo>
                <a:lnTo>
                  <a:pt x="195" y="330"/>
                </a:lnTo>
                <a:lnTo>
                  <a:pt x="187" y="330"/>
                </a:lnTo>
                <a:lnTo>
                  <a:pt x="178" y="330"/>
                </a:lnTo>
                <a:lnTo>
                  <a:pt x="178" y="340"/>
                </a:lnTo>
                <a:lnTo>
                  <a:pt x="170" y="340"/>
                </a:lnTo>
                <a:lnTo>
                  <a:pt x="161" y="340"/>
                </a:lnTo>
                <a:lnTo>
                  <a:pt x="161" y="350"/>
                </a:lnTo>
                <a:lnTo>
                  <a:pt x="161" y="359"/>
                </a:lnTo>
                <a:lnTo>
                  <a:pt x="153" y="359"/>
                </a:lnTo>
                <a:lnTo>
                  <a:pt x="153" y="369"/>
                </a:lnTo>
                <a:lnTo>
                  <a:pt x="144" y="369"/>
                </a:lnTo>
                <a:lnTo>
                  <a:pt x="144" y="359"/>
                </a:lnTo>
                <a:lnTo>
                  <a:pt x="144" y="369"/>
                </a:lnTo>
                <a:lnTo>
                  <a:pt x="136" y="369"/>
                </a:lnTo>
                <a:lnTo>
                  <a:pt x="144" y="369"/>
                </a:lnTo>
                <a:lnTo>
                  <a:pt x="136" y="369"/>
                </a:lnTo>
                <a:lnTo>
                  <a:pt x="136" y="35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19" y="369"/>
                </a:lnTo>
                <a:lnTo>
                  <a:pt x="119" y="359"/>
                </a:lnTo>
                <a:lnTo>
                  <a:pt x="119" y="369"/>
                </a:lnTo>
                <a:lnTo>
                  <a:pt x="110" y="369"/>
                </a:lnTo>
                <a:lnTo>
                  <a:pt x="110" y="359"/>
                </a:lnTo>
                <a:lnTo>
                  <a:pt x="110" y="369"/>
                </a:lnTo>
                <a:lnTo>
                  <a:pt x="110" y="379"/>
                </a:lnTo>
                <a:lnTo>
                  <a:pt x="110" y="388"/>
                </a:lnTo>
                <a:lnTo>
                  <a:pt x="110" y="398"/>
                </a:lnTo>
                <a:lnTo>
                  <a:pt x="102" y="398"/>
                </a:lnTo>
                <a:lnTo>
                  <a:pt x="93" y="398"/>
                </a:lnTo>
                <a:lnTo>
                  <a:pt x="102" y="398"/>
                </a:lnTo>
                <a:lnTo>
                  <a:pt x="102" y="408"/>
                </a:lnTo>
                <a:lnTo>
                  <a:pt x="93" y="408"/>
                </a:lnTo>
                <a:lnTo>
                  <a:pt x="102" y="408"/>
                </a:lnTo>
                <a:lnTo>
                  <a:pt x="93" y="408"/>
                </a:lnTo>
                <a:lnTo>
                  <a:pt x="93" y="418"/>
                </a:lnTo>
                <a:lnTo>
                  <a:pt x="93" y="408"/>
                </a:lnTo>
                <a:lnTo>
                  <a:pt x="93" y="418"/>
                </a:lnTo>
                <a:lnTo>
                  <a:pt x="85" y="418"/>
                </a:lnTo>
                <a:lnTo>
                  <a:pt x="93" y="418"/>
                </a:lnTo>
                <a:lnTo>
                  <a:pt x="85" y="418"/>
                </a:lnTo>
                <a:lnTo>
                  <a:pt x="85" y="408"/>
                </a:lnTo>
                <a:lnTo>
                  <a:pt x="76" y="408"/>
                </a:lnTo>
                <a:lnTo>
                  <a:pt x="85" y="408"/>
                </a:lnTo>
                <a:lnTo>
                  <a:pt x="76" y="408"/>
                </a:lnTo>
                <a:lnTo>
                  <a:pt x="76" y="398"/>
                </a:lnTo>
                <a:lnTo>
                  <a:pt x="68" y="398"/>
                </a:lnTo>
                <a:lnTo>
                  <a:pt x="68" y="408"/>
                </a:lnTo>
                <a:lnTo>
                  <a:pt x="59" y="408"/>
                </a:lnTo>
                <a:lnTo>
                  <a:pt x="51" y="408"/>
                </a:lnTo>
                <a:lnTo>
                  <a:pt x="42" y="408"/>
                </a:lnTo>
                <a:lnTo>
                  <a:pt x="34" y="408"/>
                </a:lnTo>
                <a:lnTo>
                  <a:pt x="34" y="398"/>
                </a:lnTo>
                <a:lnTo>
                  <a:pt x="34" y="388"/>
                </a:lnTo>
                <a:lnTo>
                  <a:pt x="34" y="37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34" y="359"/>
                </a:lnTo>
                <a:lnTo>
                  <a:pt x="25" y="359"/>
                </a:lnTo>
                <a:lnTo>
                  <a:pt x="25" y="350"/>
                </a:lnTo>
                <a:lnTo>
                  <a:pt x="25" y="340"/>
                </a:lnTo>
                <a:lnTo>
                  <a:pt x="25" y="330"/>
                </a:lnTo>
                <a:lnTo>
                  <a:pt x="34" y="330"/>
                </a:lnTo>
                <a:lnTo>
                  <a:pt x="34" y="34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34" y="321"/>
                </a:lnTo>
                <a:lnTo>
                  <a:pt x="34" y="311"/>
                </a:lnTo>
                <a:lnTo>
                  <a:pt x="34" y="301"/>
                </a:lnTo>
                <a:lnTo>
                  <a:pt x="25" y="301"/>
                </a:lnTo>
                <a:lnTo>
                  <a:pt x="25" y="291"/>
                </a:lnTo>
                <a:lnTo>
                  <a:pt x="25" y="282"/>
                </a:lnTo>
                <a:lnTo>
                  <a:pt x="17" y="282"/>
                </a:lnTo>
                <a:lnTo>
                  <a:pt x="25" y="282"/>
                </a:lnTo>
                <a:lnTo>
                  <a:pt x="25" y="272"/>
                </a:lnTo>
                <a:lnTo>
                  <a:pt x="17" y="272"/>
                </a:lnTo>
                <a:lnTo>
                  <a:pt x="17" y="262"/>
                </a:lnTo>
                <a:lnTo>
                  <a:pt x="8" y="262"/>
                </a:lnTo>
                <a:lnTo>
                  <a:pt x="8" y="253"/>
                </a:lnTo>
                <a:lnTo>
                  <a:pt x="0" y="253"/>
                </a:lnTo>
                <a:lnTo>
                  <a:pt x="0" y="243"/>
                </a:lnTo>
                <a:lnTo>
                  <a:pt x="8" y="243"/>
                </a:lnTo>
                <a:lnTo>
                  <a:pt x="8" y="233"/>
                </a:lnTo>
                <a:lnTo>
                  <a:pt x="8" y="243"/>
                </a:lnTo>
                <a:lnTo>
                  <a:pt x="8" y="233"/>
                </a:lnTo>
                <a:lnTo>
                  <a:pt x="17" y="233"/>
                </a:lnTo>
                <a:lnTo>
                  <a:pt x="17" y="224"/>
                </a:lnTo>
                <a:lnTo>
                  <a:pt x="25" y="224"/>
                </a:lnTo>
                <a:lnTo>
                  <a:pt x="25" y="214"/>
                </a:lnTo>
                <a:lnTo>
                  <a:pt x="25" y="204"/>
                </a:lnTo>
                <a:lnTo>
                  <a:pt x="25" y="214"/>
                </a:lnTo>
                <a:lnTo>
                  <a:pt x="34" y="214"/>
                </a:lnTo>
                <a:lnTo>
                  <a:pt x="34" y="204"/>
                </a:lnTo>
                <a:lnTo>
                  <a:pt x="25" y="204"/>
                </a:lnTo>
                <a:lnTo>
                  <a:pt x="34" y="204"/>
                </a:lnTo>
                <a:lnTo>
                  <a:pt x="42" y="204"/>
                </a:lnTo>
                <a:lnTo>
                  <a:pt x="42" y="194"/>
                </a:lnTo>
                <a:lnTo>
                  <a:pt x="42" y="204"/>
                </a:lnTo>
                <a:lnTo>
                  <a:pt x="42" y="194"/>
                </a:lnTo>
                <a:lnTo>
                  <a:pt x="51" y="194"/>
                </a:lnTo>
                <a:lnTo>
                  <a:pt x="51" y="185"/>
                </a:lnTo>
                <a:lnTo>
                  <a:pt x="59" y="185"/>
                </a:lnTo>
                <a:lnTo>
                  <a:pt x="68" y="185"/>
                </a:lnTo>
                <a:lnTo>
                  <a:pt x="68" y="175"/>
                </a:lnTo>
                <a:lnTo>
                  <a:pt x="76" y="175"/>
                </a:lnTo>
                <a:lnTo>
                  <a:pt x="85" y="175"/>
                </a:lnTo>
                <a:lnTo>
                  <a:pt x="93" y="175"/>
                </a:lnTo>
                <a:lnTo>
                  <a:pt x="102" y="175"/>
                </a:lnTo>
                <a:lnTo>
                  <a:pt x="110" y="175"/>
                </a:lnTo>
                <a:lnTo>
                  <a:pt x="110" y="165"/>
                </a:lnTo>
                <a:lnTo>
                  <a:pt x="110" y="175"/>
                </a:lnTo>
                <a:lnTo>
                  <a:pt x="119" y="175"/>
                </a:lnTo>
                <a:lnTo>
                  <a:pt x="119" y="165"/>
                </a:lnTo>
                <a:lnTo>
                  <a:pt x="119" y="175"/>
                </a:lnTo>
                <a:lnTo>
                  <a:pt x="127" y="175"/>
                </a:lnTo>
                <a:lnTo>
                  <a:pt x="136" y="175"/>
                </a:lnTo>
                <a:lnTo>
                  <a:pt x="136" y="185"/>
                </a:lnTo>
                <a:lnTo>
                  <a:pt x="144" y="185"/>
                </a:lnTo>
                <a:lnTo>
                  <a:pt x="144" y="175"/>
                </a:lnTo>
                <a:lnTo>
                  <a:pt x="144" y="185"/>
                </a:lnTo>
                <a:lnTo>
                  <a:pt x="153" y="185"/>
                </a:lnTo>
                <a:lnTo>
                  <a:pt x="153" y="175"/>
                </a:lnTo>
                <a:lnTo>
                  <a:pt x="161" y="175"/>
                </a:lnTo>
                <a:lnTo>
                  <a:pt x="170" y="175"/>
                </a:lnTo>
                <a:lnTo>
                  <a:pt x="178" y="175"/>
                </a:lnTo>
                <a:lnTo>
                  <a:pt x="178" y="165"/>
                </a:lnTo>
                <a:lnTo>
                  <a:pt x="178" y="175"/>
                </a:lnTo>
                <a:lnTo>
                  <a:pt x="187" y="175"/>
                </a:lnTo>
                <a:lnTo>
                  <a:pt x="187" y="165"/>
                </a:lnTo>
                <a:lnTo>
                  <a:pt x="187" y="175"/>
                </a:lnTo>
                <a:lnTo>
                  <a:pt x="195" y="175"/>
                </a:lnTo>
                <a:lnTo>
                  <a:pt x="195" y="165"/>
                </a:lnTo>
                <a:lnTo>
                  <a:pt x="204" y="165"/>
                </a:lnTo>
                <a:lnTo>
                  <a:pt x="204" y="156"/>
                </a:lnTo>
                <a:lnTo>
                  <a:pt x="204" y="165"/>
                </a:lnTo>
                <a:lnTo>
                  <a:pt x="204" y="156"/>
                </a:lnTo>
                <a:lnTo>
                  <a:pt x="212" y="156"/>
                </a:lnTo>
                <a:lnTo>
                  <a:pt x="212" y="146"/>
                </a:lnTo>
                <a:lnTo>
                  <a:pt x="212" y="156"/>
                </a:lnTo>
                <a:lnTo>
                  <a:pt x="221" y="156"/>
                </a:lnTo>
                <a:lnTo>
                  <a:pt x="221" y="146"/>
                </a:lnTo>
                <a:lnTo>
                  <a:pt x="221" y="156"/>
                </a:lnTo>
                <a:lnTo>
                  <a:pt x="221" y="146"/>
                </a:lnTo>
                <a:lnTo>
                  <a:pt x="229" y="146"/>
                </a:lnTo>
                <a:lnTo>
                  <a:pt x="238" y="146"/>
                </a:lnTo>
                <a:lnTo>
                  <a:pt x="246" y="146"/>
                </a:lnTo>
                <a:lnTo>
                  <a:pt x="255" y="146"/>
                </a:lnTo>
                <a:lnTo>
                  <a:pt x="263" y="146"/>
                </a:lnTo>
                <a:lnTo>
                  <a:pt x="272" y="146"/>
                </a:lnTo>
                <a:lnTo>
                  <a:pt x="272" y="156"/>
                </a:lnTo>
                <a:lnTo>
                  <a:pt x="272" y="146"/>
                </a:lnTo>
                <a:lnTo>
                  <a:pt x="272" y="156"/>
                </a:lnTo>
                <a:lnTo>
                  <a:pt x="280" y="156"/>
                </a:lnTo>
                <a:lnTo>
                  <a:pt x="289" y="156"/>
                </a:lnTo>
                <a:lnTo>
                  <a:pt x="280" y="156"/>
                </a:lnTo>
                <a:lnTo>
                  <a:pt x="280" y="165"/>
                </a:lnTo>
                <a:lnTo>
                  <a:pt x="289" y="165"/>
                </a:lnTo>
                <a:lnTo>
                  <a:pt x="297" y="165"/>
                </a:lnTo>
                <a:lnTo>
                  <a:pt x="289" y="165"/>
                </a:lnTo>
                <a:lnTo>
                  <a:pt x="297" y="165"/>
                </a:lnTo>
                <a:lnTo>
                  <a:pt x="306" y="165"/>
                </a:lnTo>
                <a:lnTo>
                  <a:pt x="306" y="156"/>
                </a:lnTo>
                <a:lnTo>
                  <a:pt x="314" y="156"/>
                </a:lnTo>
                <a:lnTo>
                  <a:pt x="323" y="156"/>
                </a:lnTo>
                <a:lnTo>
                  <a:pt x="323" y="165"/>
                </a:lnTo>
                <a:lnTo>
                  <a:pt x="323" y="156"/>
                </a:lnTo>
                <a:lnTo>
                  <a:pt x="323" y="165"/>
                </a:lnTo>
                <a:lnTo>
                  <a:pt x="331" y="165"/>
                </a:lnTo>
                <a:lnTo>
                  <a:pt x="331" y="156"/>
                </a:lnTo>
                <a:lnTo>
                  <a:pt x="331" y="165"/>
                </a:lnTo>
                <a:lnTo>
                  <a:pt x="331" y="156"/>
                </a:lnTo>
                <a:lnTo>
                  <a:pt x="340" y="156"/>
                </a:lnTo>
                <a:lnTo>
                  <a:pt x="348" y="156"/>
                </a:lnTo>
                <a:lnTo>
                  <a:pt x="357" y="156"/>
                </a:lnTo>
                <a:lnTo>
                  <a:pt x="365" y="156"/>
                </a:lnTo>
                <a:lnTo>
                  <a:pt x="375" y="156"/>
                </a:lnTo>
                <a:lnTo>
                  <a:pt x="383" y="156"/>
                </a:lnTo>
                <a:lnTo>
                  <a:pt x="392" y="156"/>
                </a:lnTo>
                <a:lnTo>
                  <a:pt x="392" y="146"/>
                </a:lnTo>
                <a:lnTo>
                  <a:pt x="400" y="146"/>
                </a:lnTo>
                <a:lnTo>
                  <a:pt x="392" y="146"/>
                </a:lnTo>
                <a:lnTo>
                  <a:pt x="383" y="146"/>
                </a:lnTo>
                <a:lnTo>
                  <a:pt x="375" y="146"/>
                </a:lnTo>
                <a:lnTo>
                  <a:pt x="365" y="146"/>
                </a:lnTo>
                <a:lnTo>
                  <a:pt x="357" y="146"/>
                </a:lnTo>
                <a:lnTo>
                  <a:pt x="348" y="146"/>
                </a:lnTo>
                <a:lnTo>
                  <a:pt x="340" y="146"/>
                </a:lnTo>
                <a:lnTo>
                  <a:pt x="331" y="146"/>
                </a:lnTo>
                <a:lnTo>
                  <a:pt x="323" y="146"/>
                </a:lnTo>
                <a:lnTo>
                  <a:pt x="314" y="146"/>
                </a:lnTo>
                <a:lnTo>
                  <a:pt x="323" y="146"/>
                </a:lnTo>
                <a:lnTo>
                  <a:pt x="323" y="136"/>
                </a:lnTo>
                <a:lnTo>
                  <a:pt x="323" y="127"/>
                </a:lnTo>
                <a:lnTo>
                  <a:pt x="331" y="127"/>
                </a:lnTo>
                <a:lnTo>
                  <a:pt x="323" y="127"/>
                </a:lnTo>
                <a:lnTo>
                  <a:pt x="331" y="127"/>
                </a:lnTo>
                <a:lnTo>
                  <a:pt x="331" y="117"/>
                </a:lnTo>
                <a:lnTo>
                  <a:pt x="340" y="117"/>
                </a:lnTo>
                <a:lnTo>
                  <a:pt x="340" y="107"/>
                </a:lnTo>
                <a:lnTo>
                  <a:pt x="340" y="97"/>
                </a:lnTo>
                <a:lnTo>
                  <a:pt x="340" y="88"/>
                </a:lnTo>
                <a:lnTo>
                  <a:pt x="348" y="88"/>
                </a:lnTo>
                <a:lnTo>
                  <a:pt x="348" y="78"/>
                </a:lnTo>
                <a:lnTo>
                  <a:pt x="340" y="78"/>
                </a:lnTo>
                <a:lnTo>
                  <a:pt x="340" y="88"/>
                </a:lnTo>
                <a:lnTo>
                  <a:pt x="331" y="88"/>
                </a:lnTo>
                <a:lnTo>
                  <a:pt x="323" y="88"/>
                </a:lnTo>
                <a:lnTo>
                  <a:pt x="323" y="78"/>
                </a:lnTo>
                <a:lnTo>
                  <a:pt x="323" y="68"/>
                </a:lnTo>
                <a:lnTo>
                  <a:pt x="323" y="78"/>
                </a:lnTo>
                <a:lnTo>
                  <a:pt x="323" y="68"/>
                </a:lnTo>
                <a:lnTo>
                  <a:pt x="331" y="68"/>
                </a:lnTo>
                <a:lnTo>
                  <a:pt x="340" y="68"/>
                </a:lnTo>
                <a:lnTo>
                  <a:pt x="340" y="59"/>
                </a:lnTo>
                <a:lnTo>
                  <a:pt x="340" y="68"/>
                </a:lnTo>
                <a:lnTo>
                  <a:pt x="340" y="59"/>
                </a:lnTo>
                <a:lnTo>
                  <a:pt x="348" y="59"/>
                </a:lnTo>
                <a:lnTo>
                  <a:pt x="348" y="49"/>
                </a:lnTo>
                <a:lnTo>
                  <a:pt x="348" y="39"/>
                </a:lnTo>
                <a:lnTo>
                  <a:pt x="348" y="30"/>
                </a:lnTo>
                <a:lnTo>
                  <a:pt x="348" y="20"/>
                </a:lnTo>
                <a:lnTo>
                  <a:pt x="348" y="10"/>
                </a:lnTo>
                <a:lnTo>
                  <a:pt x="357" y="10"/>
                </a:lnTo>
                <a:lnTo>
                  <a:pt x="365" y="10"/>
                </a:lnTo>
                <a:lnTo>
                  <a:pt x="365" y="0"/>
                </a:lnTo>
                <a:lnTo>
                  <a:pt x="375" y="0"/>
                </a:lnTo>
                <a:lnTo>
                  <a:pt x="375" y="10"/>
                </a:lnTo>
                <a:lnTo>
                  <a:pt x="375" y="20"/>
                </a:lnTo>
                <a:lnTo>
                  <a:pt x="365" y="20"/>
                </a:lnTo>
                <a:lnTo>
                  <a:pt x="365" y="30"/>
                </a:lnTo>
                <a:lnTo>
                  <a:pt x="443" y="68"/>
                </a:lnTo>
                <a:lnTo>
                  <a:pt x="469" y="88"/>
                </a:lnTo>
                <a:lnTo>
                  <a:pt x="486" y="97"/>
                </a:lnTo>
                <a:lnTo>
                  <a:pt x="494" y="97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Freeform 28"/>
          <p:cNvSpPr/>
          <p:nvPr/>
        </p:nvSpPr>
        <p:spPr>
          <a:xfrm>
            <a:off x="4192560" y="2133720"/>
            <a:ext cx="1963800" cy="174600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237" h="1100">
                <a:moveTo>
                  <a:pt x="829" y="222"/>
                </a:moveTo>
                <a:lnTo>
                  <a:pt x="838" y="222"/>
                </a:lnTo>
                <a:lnTo>
                  <a:pt x="948" y="298"/>
                </a:lnTo>
                <a:lnTo>
                  <a:pt x="999" y="298"/>
                </a:lnTo>
                <a:lnTo>
                  <a:pt x="1101" y="298"/>
                </a:lnTo>
                <a:lnTo>
                  <a:pt x="1168" y="298"/>
                </a:lnTo>
                <a:lnTo>
                  <a:pt x="1236" y="298"/>
                </a:lnTo>
                <a:lnTo>
                  <a:pt x="1236" y="308"/>
                </a:lnTo>
                <a:lnTo>
                  <a:pt x="1227" y="308"/>
                </a:lnTo>
                <a:lnTo>
                  <a:pt x="1227" y="318"/>
                </a:lnTo>
                <a:lnTo>
                  <a:pt x="1219" y="318"/>
                </a:lnTo>
                <a:lnTo>
                  <a:pt x="1219" y="327"/>
                </a:lnTo>
                <a:lnTo>
                  <a:pt x="1210" y="327"/>
                </a:lnTo>
                <a:lnTo>
                  <a:pt x="1210" y="337"/>
                </a:lnTo>
                <a:lnTo>
                  <a:pt x="1202" y="337"/>
                </a:lnTo>
                <a:lnTo>
                  <a:pt x="1202" y="347"/>
                </a:lnTo>
                <a:lnTo>
                  <a:pt x="1210" y="347"/>
                </a:lnTo>
                <a:lnTo>
                  <a:pt x="1210" y="357"/>
                </a:lnTo>
                <a:lnTo>
                  <a:pt x="1202" y="357"/>
                </a:lnTo>
                <a:lnTo>
                  <a:pt x="1202" y="366"/>
                </a:lnTo>
                <a:lnTo>
                  <a:pt x="1193" y="366"/>
                </a:lnTo>
                <a:lnTo>
                  <a:pt x="1193" y="376"/>
                </a:lnTo>
                <a:lnTo>
                  <a:pt x="1202" y="376"/>
                </a:lnTo>
                <a:lnTo>
                  <a:pt x="1193" y="376"/>
                </a:lnTo>
                <a:lnTo>
                  <a:pt x="1193" y="386"/>
                </a:lnTo>
                <a:lnTo>
                  <a:pt x="1202" y="395"/>
                </a:lnTo>
                <a:lnTo>
                  <a:pt x="1202" y="405"/>
                </a:lnTo>
                <a:lnTo>
                  <a:pt x="1202" y="415"/>
                </a:lnTo>
                <a:lnTo>
                  <a:pt x="1193" y="415"/>
                </a:lnTo>
                <a:lnTo>
                  <a:pt x="1202" y="415"/>
                </a:lnTo>
                <a:lnTo>
                  <a:pt x="1202" y="424"/>
                </a:lnTo>
                <a:lnTo>
                  <a:pt x="1202" y="434"/>
                </a:lnTo>
                <a:lnTo>
                  <a:pt x="1202" y="424"/>
                </a:lnTo>
                <a:lnTo>
                  <a:pt x="1210" y="434"/>
                </a:lnTo>
                <a:lnTo>
                  <a:pt x="1202" y="434"/>
                </a:lnTo>
                <a:lnTo>
                  <a:pt x="1210" y="434"/>
                </a:lnTo>
                <a:lnTo>
                  <a:pt x="1210" y="444"/>
                </a:lnTo>
                <a:lnTo>
                  <a:pt x="1210" y="454"/>
                </a:lnTo>
                <a:lnTo>
                  <a:pt x="1210" y="462"/>
                </a:lnTo>
                <a:lnTo>
                  <a:pt x="1210" y="472"/>
                </a:lnTo>
                <a:lnTo>
                  <a:pt x="1210" y="482"/>
                </a:lnTo>
                <a:lnTo>
                  <a:pt x="1210" y="491"/>
                </a:lnTo>
                <a:lnTo>
                  <a:pt x="1210" y="501"/>
                </a:lnTo>
                <a:lnTo>
                  <a:pt x="1219" y="501"/>
                </a:lnTo>
                <a:lnTo>
                  <a:pt x="1210" y="501"/>
                </a:lnTo>
                <a:lnTo>
                  <a:pt x="1210" y="511"/>
                </a:lnTo>
                <a:lnTo>
                  <a:pt x="1210" y="520"/>
                </a:lnTo>
                <a:lnTo>
                  <a:pt x="1210" y="530"/>
                </a:lnTo>
                <a:lnTo>
                  <a:pt x="1210" y="540"/>
                </a:lnTo>
                <a:lnTo>
                  <a:pt x="1202" y="540"/>
                </a:lnTo>
                <a:lnTo>
                  <a:pt x="1202" y="550"/>
                </a:lnTo>
                <a:lnTo>
                  <a:pt x="1193" y="559"/>
                </a:lnTo>
                <a:lnTo>
                  <a:pt x="1193" y="569"/>
                </a:lnTo>
                <a:lnTo>
                  <a:pt x="1193" y="579"/>
                </a:lnTo>
                <a:lnTo>
                  <a:pt x="1185" y="579"/>
                </a:lnTo>
                <a:lnTo>
                  <a:pt x="1185" y="588"/>
                </a:lnTo>
                <a:lnTo>
                  <a:pt x="1176" y="588"/>
                </a:lnTo>
                <a:lnTo>
                  <a:pt x="1176" y="598"/>
                </a:lnTo>
                <a:lnTo>
                  <a:pt x="1168" y="598"/>
                </a:lnTo>
                <a:lnTo>
                  <a:pt x="1168" y="608"/>
                </a:lnTo>
                <a:lnTo>
                  <a:pt x="1168" y="617"/>
                </a:lnTo>
                <a:lnTo>
                  <a:pt x="1159" y="617"/>
                </a:lnTo>
                <a:lnTo>
                  <a:pt x="1159" y="627"/>
                </a:lnTo>
                <a:lnTo>
                  <a:pt x="1159" y="637"/>
                </a:lnTo>
                <a:lnTo>
                  <a:pt x="1151" y="637"/>
                </a:lnTo>
                <a:lnTo>
                  <a:pt x="1151" y="646"/>
                </a:lnTo>
                <a:lnTo>
                  <a:pt x="1151" y="655"/>
                </a:lnTo>
                <a:lnTo>
                  <a:pt x="1142" y="655"/>
                </a:lnTo>
                <a:lnTo>
                  <a:pt x="1142" y="665"/>
                </a:lnTo>
                <a:lnTo>
                  <a:pt x="1142" y="675"/>
                </a:lnTo>
                <a:lnTo>
                  <a:pt x="1134" y="675"/>
                </a:lnTo>
                <a:lnTo>
                  <a:pt x="1134" y="684"/>
                </a:lnTo>
                <a:lnTo>
                  <a:pt x="1126" y="684"/>
                </a:lnTo>
                <a:lnTo>
                  <a:pt x="1126" y="694"/>
                </a:lnTo>
                <a:lnTo>
                  <a:pt x="1126" y="704"/>
                </a:lnTo>
                <a:lnTo>
                  <a:pt x="1118" y="704"/>
                </a:lnTo>
                <a:lnTo>
                  <a:pt x="1118" y="713"/>
                </a:lnTo>
                <a:lnTo>
                  <a:pt x="1126" y="713"/>
                </a:lnTo>
                <a:lnTo>
                  <a:pt x="1126" y="723"/>
                </a:lnTo>
                <a:lnTo>
                  <a:pt x="1126" y="733"/>
                </a:lnTo>
                <a:lnTo>
                  <a:pt x="1118" y="733"/>
                </a:lnTo>
                <a:lnTo>
                  <a:pt x="1126" y="733"/>
                </a:lnTo>
                <a:lnTo>
                  <a:pt x="1126" y="743"/>
                </a:lnTo>
                <a:lnTo>
                  <a:pt x="1118" y="743"/>
                </a:lnTo>
                <a:lnTo>
                  <a:pt x="1118" y="752"/>
                </a:lnTo>
                <a:lnTo>
                  <a:pt x="1109" y="752"/>
                </a:lnTo>
                <a:lnTo>
                  <a:pt x="1109" y="762"/>
                </a:lnTo>
                <a:lnTo>
                  <a:pt x="1109" y="772"/>
                </a:lnTo>
                <a:lnTo>
                  <a:pt x="1109" y="781"/>
                </a:lnTo>
                <a:lnTo>
                  <a:pt x="1101" y="781"/>
                </a:lnTo>
                <a:lnTo>
                  <a:pt x="1101" y="791"/>
                </a:lnTo>
                <a:lnTo>
                  <a:pt x="1092" y="791"/>
                </a:lnTo>
                <a:lnTo>
                  <a:pt x="1092" y="801"/>
                </a:lnTo>
                <a:lnTo>
                  <a:pt x="1084" y="801"/>
                </a:lnTo>
                <a:lnTo>
                  <a:pt x="1084" y="810"/>
                </a:lnTo>
                <a:lnTo>
                  <a:pt x="1075" y="810"/>
                </a:lnTo>
                <a:lnTo>
                  <a:pt x="1067" y="810"/>
                </a:lnTo>
                <a:lnTo>
                  <a:pt x="1067" y="820"/>
                </a:lnTo>
                <a:lnTo>
                  <a:pt x="1067" y="829"/>
                </a:lnTo>
                <a:lnTo>
                  <a:pt x="1058" y="829"/>
                </a:lnTo>
                <a:lnTo>
                  <a:pt x="1058" y="839"/>
                </a:lnTo>
                <a:lnTo>
                  <a:pt x="1058" y="848"/>
                </a:lnTo>
                <a:lnTo>
                  <a:pt x="1050" y="848"/>
                </a:lnTo>
                <a:lnTo>
                  <a:pt x="1050" y="858"/>
                </a:lnTo>
                <a:lnTo>
                  <a:pt x="1041" y="858"/>
                </a:lnTo>
                <a:lnTo>
                  <a:pt x="1041" y="868"/>
                </a:lnTo>
                <a:lnTo>
                  <a:pt x="1050" y="868"/>
                </a:lnTo>
                <a:lnTo>
                  <a:pt x="1050" y="877"/>
                </a:lnTo>
                <a:lnTo>
                  <a:pt x="1050" y="887"/>
                </a:lnTo>
                <a:lnTo>
                  <a:pt x="1050" y="897"/>
                </a:lnTo>
                <a:lnTo>
                  <a:pt x="1041" y="897"/>
                </a:lnTo>
                <a:lnTo>
                  <a:pt x="1041" y="906"/>
                </a:lnTo>
                <a:lnTo>
                  <a:pt x="1041" y="916"/>
                </a:lnTo>
                <a:lnTo>
                  <a:pt x="1041" y="926"/>
                </a:lnTo>
                <a:lnTo>
                  <a:pt x="1033" y="926"/>
                </a:lnTo>
                <a:lnTo>
                  <a:pt x="1041" y="926"/>
                </a:lnTo>
                <a:lnTo>
                  <a:pt x="1041" y="936"/>
                </a:lnTo>
                <a:lnTo>
                  <a:pt x="1041" y="945"/>
                </a:lnTo>
                <a:lnTo>
                  <a:pt x="1041" y="955"/>
                </a:lnTo>
                <a:lnTo>
                  <a:pt x="1050" y="955"/>
                </a:lnTo>
                <a:lnTo>
                  <a:pt x="1050" y="965"/>
                </a:lnTo>
                <a:lnTo>
                  <a:pt x="1058" y="965"/>
                </a:lnTo>
                <a:lnTo>
                  <a:pt x="1058" y="974"/>
                </a:lnTo>
                <a:lnTo>
                  <a:pt x="1058" y="984"/>
                </a:lnTo>
                <a:lnTo>
                  <a:pt x="1058" y="994"/>
                </a:lnTo>
                <a:lnTo>
                  <a:pt x="1067" y="994"/>
                </a:lnTo>
                <a:lnTo>
                  <a:pt x="1067" y="1003"/>
                </a:lnTo>
                <a:lnTo>
                  <a:pt x="1067" y="1012"/>
                </a:lnTo>
                <a:lnTo>
                  <a:pt x="1067" y="1022"/>
                </a:lnTo>
                <a:lnTo>
                  <a:pt x="1058" y="1022"/>
                </a:lnTo>
                <a:lnTo>
                  <a:pt x="1058" y="1012"/>
                </a:lnTo>
                <a:lnTo>
                  <a:pt x="1050" y="1012"/>
                </a:lnTo>
                <a:lnTo>
                  <a:pt x="1050" y="1003"/>
                </a:lnTo>
                <a:lnTo>
                  <a:pt x="1041" y="1003"/>
                </a:lnTo>
                <a:lnTo>
                  <a:pt x="1041" y="994"/>
                </a:lnTo>
                <a:lnTo>
                  <a:pt x="1033" y="994"/>
                </a:lnTo>
                <a:lnTo>
                  <a:pt x="1024" y="994"/>
                </a:lnTo>
                <a:lnTo>
                  <a:pt x="1016" y="984"/>
                </a:lnTo>
                <a:lnTo>
                  <a:pt x="1016" y="974"/>
                </a:lnTo>
                <a:lnTo>
                  <a:pt x="1007" y="974"/>
                </a:lnTo>
                <a:lnTo>
                  <a:pt x="1007" y="965"/>
                </a:lnTo>
                <a:lnTo>
                  <a:pt x="1007" y="955"/>
                </a:lnTo>
                <a:lnTo>
                  <a:pt x="999" y="955"/>
                </a:lnTo>
                <a:lnTo>
                  <a:pt x="990" y="955"/>
                </a:lnTo>
                <a:lnTo>
                  <a:pt x="982" y="955"/>
                </a:lnTo>
                <a:lnTo>
                  <a:pt x="982" y="945"/>
                </a:lnTo>
                <a:lnTo>
                  <a:pt x="973" y="945"/>
                </a:lnTo>
                <a:lnTo>
                  <a:pt x="965" y="945"/>
                </a:lnTo>
                <a:lnTo>
                  <a:pt x="965" y="936"/>
                </a:lnTo>
                <a:lnTo>
                  <a:pt x="956" y="936"/>
                </a:lnTo>
                <a:lnTo>
                  <a:pt x="956" y="926"/>
                </a:lnTo>
                <a:lnTo>
                  <a:pt x="948" y="926"/>
                </a:lnTo>
                <a:lnTo>
                  <a:pt x="948" y="916"/>
                </a:lnTo>
                <a:lnTo>
                  <a:pt x="939" y="916"/>
                </a:lnTo>
                <a:lnTo>
                  <a:pt x="931" y="916"/>
                </a:lnTo>
                <a:lnTo>
                  <a:pt x="931" y="906"/>
                </a:lnTo>
                <a:lnTo>
                  <a:pt x="923" y="906"/>
                </a:lnTo>
                <a:lnTo>
                  <a:pt x="923" y="897"/>
                </a:lnTo>
                <a:lnTo>
                  <a:pt x="931" y="897"/>
                </a:lnTo>
                <a:lnTo>
                  <a:pt x="923" y="897"/>
                </a:lnTo>
                <a:lnTo>
                  <a:pt x="923" y="887"/>
                </a:lnTo>
                <a:lnTo>
                  <a:pt x="915" y="887"/>
                </a:lnTo>
                <a:lnTo>
                  <a:pt x="915" y="877"/>
                </a:lnTo>
                <a:lnTo>
                  <a:pt x="906" y="877"/>
                </a:lnTo>
                <a:lnTo>
                  <a:pt x="906" y="887"/>
                </a:lnTo>
                <a:lnTo>
                  <a:pt x="898" y="887"/>
                </a:lnTo>
                <a:lnTo>
                  <a:pt x="898" y="897"/>
                </a:lnTo>
                <a:lnTo>
                  <a:pt x="889" y="897"/>
                </a:lnTo>
                <a:lnTo>
                  <a:pt x="889" y="906"/>
                </a:lnTo>
                <a:lnTo>
                  <a:pt x="889" y="916"/>
                </a:lnTo>
                <a:lnTo>
                  <a:pt x="881" y="916"/>
                </a:lnTo>
                <a:lnTo>
                  <a:pt x="881" y="926"/>
                </a:lnTo>
                <a:lnTo>
                  <a:pt x="872" y="926"/>
                </a:lnTo>
                <a:lnTo>
                  <a:pt x="864" y="926"/>
                </a:lnTo>
                <a:lnTo>
                  <a:pt x="855" y="926"/>
                </a:lnTo>
                <a:lnTo>
                  <a:pt x="855" y="916"/>
                </a:lnTo>
                <a:lnTo>
                  <a:pt x="846" y="916"/>
                </a:lnTo>
                <a:lnTo>
                  <a:pt x="846" y="926"/>
                </a:lnTo>
                <a:lnTo>
                  <a:pt x="838" y="926"/>
                </a:lnTo>
                <a:lnTo>
                  <a:pt x="838" y="916"/>
                </a:lnTo>
                <a:lnTo>
                  <a:pt x="829" y="916"/>
                </a:lnTo>
                <a:lnTo>
                  <a:pt x="821" y="916"/>
                </a:lnTo>
                <a:lnTo>
                  <a:pt x="812" y="916"/>
                </a:lnTo>
                <a:lnTo>
                  <a:pt x="804" y="916"/>
                </a:lnTo>
                <a:lnTo>
                  <a:pt x="804" y="906"/>
                </a:lnTo>
                <a:lnTo>
                  <a:pt x="804" y="897"/>
                </a:lnTo>
                <a:lnTo>
                  <a:pt x="804" y="887"/>
                </a:lnTo>
                <a:lnTo>
                  <a:pt x="795" y="887"/>
                </a:lnTo>
                <a:lnTo>
                  <a:pt x="795" y="877"/>
                </a:lnTo>
                <a:lnTo>
                  <a:pt x="804" y="868"/>
                </a:lnTo>
                <a:lnTo>
                  <a:pt x="804" y="858"/>
                </a:lnTo>
                <a:lnTo>
                  <a:pt x="795" y="858"/>
                </a:lnTo>
                <a:lnTo>
                  <a:pt x="787" y="858"/>
                </a:lnTo>
                <a:lnTo>
                  <a:pt x="778" y="858"/>
                </a:lnTo>
                <a:lnTo>
                  <a:pt x="778" y="868"/>
                </a:lnTo>
                <a:lnTo>
                  <a:pt x="770" y="868"/>
                </a:lnTo>
                <a:lnTo>
                  <a:pt x="770" y="877"/>
                </a:lnTo>
                <a:lnTo>
                  <a:pt x="761" y="887"/>
                </a:lnTo>
                <a:lnTo>
                  <a:pt x="761" y="897"/>
                </a:lnTo>
                <a:lnTo>
                  <a:pt x="761" y="906"/>
                </a:lnTo>
                <a:lnTo>
                  <a:pt x="761" y="916"/>
                </a:lnTo>
                <a:lnTo>
                  <a:pt x="753" y="916"/>
                </a:lnTo>
                <a:lnTo>
                  <a:pt x="753" y="926"/>
                </a:lnTo>
                <a:lnTo>
                  <a:pt x="753" y="936"/>
                </a:lnTo>
                <a:lnTo>
                  <a:pt x="744" y="936"/>
                </a:lnTo>
                <a:lnTo>
                  <a:pt x="744" y="945"/>
                </a:lnTo>
                <a:lnTo>
                  <a:pt x="744" y="955"/>
                </a:lnTo>
                <a:lnTo>
                  <a:pt x="744" y="945"/>
                </a:lnTo>
                <a:lnTo>
                  <a:pt x="736" y="945"/>
                </a:lnTo>
                <a:lnTo>
                  <a:pt x="736" y="955"/>
                </a:lnTo>
                <a:lnTo>
                  <a:pt x="727" y="955"/>
                </a:lnTo>
                <a:lnTo>
                  <a:pt x="720" y="955"/>
                </a:lnTo>
                <a:lnTo>
                  <a:pt x="711" y="955"/>
                </a:lnTo>
                <a:lnTo>
                  <a:pt x="703" y="955"/>
                </a:lnTo>
                <a:lnTo>
                  <a:pt x="703" y="965"/>
                </a:lnTo>
                <a:lnTo>
                  <a:pt x="694" y="965"/>
                </a:lnTo>
                <a:lnTo>
                  <a:pt x="694" y="974"/>
                </a:lnTo>
                <a:lnTo>
                  <a:pt x="686" y="974"/>
                </a:lnTo>
                <a:lnTo>
                  <a:pt x="686" y="984"/>
                </a:lnTo>
                <a:lnTo>
                  <a:pt x="686" y="994"/>
                </a:lnTo>
                <a:lnTo>
                  <a:pt x="677" y="994"/>
                </a:lnTo>
                <a:lnTo>
                  <a:pt x="677" y="1003"/>
                </a:lnTo>
                <a:lnTo>
                  <a:pt x="677" y="994"/>
                </a:lnTo>
                <a:lnTo>
                  <a:pt x="669" y="994"/>
                </a:lnTo>
                <a:lnTo>
                  <a:pt x="669" y="1003"/>
                </a:lnTo>
                <a:lnTo>
                  <a:pt x="660" y="1003"/>
                </a:lnTo>
                <a:lnTo>
                  <a:pt x="660" y="1012"/>
                </a:lnTo>
                <a:lnTo>
                  <a:pt x="660" y="1003"/>
                </a:lnTo>
                <a:lnTo>
                  <a:pt x="660" y="1012"/>
                </a:lnTo>
                <a:lnTo>
                  <a:pt x="652" y="1012"/>
                </a:lnTo>
                <a:lnTo>
                  <a:pt x="652" y="1003"/>
                </a:lnTo>
                <a:lnTo>
                  <a:pt x="643" y="1003"/>
                </a:lnTo>
                <a:lnTo>
                  <a:pt x="643" y="1012"/>
                </a:lnTo>
                <a:lnTo>
                  <a:pt x="652" y="1012"/>
                </a:lnTo>
                <a:lnTo>
                  <a:pt x="643" y="1012"/>
                </a:lnTo>
                <a:lnTo>
                  <a:pt x="643" y="1022"/>
                </a:lnTo>
                <a:lnTo>
                  <a:pt x="635" y="1022"/>
                </a:lnTo>
                <a:lnTo>
                  <a:pt x="626" y="1022"/>
                </a:lnTo>
                <a:lnTo>
                  <a:pt x="626" y="1012"/>
                </a:lnTo>
                <a:lnTo>
                  <a:pt x="626" y="1022"/>
                </a:lnTo>
                <a:lnTo>
                  <a:pt x="618" y="1032"/>
                </a:lnTo>
                <a:lnTo>
                  <a:pt x="618" y="1041"/>
                </a:lnTo>
                <a:lnTo>
                  <a:pt x="618" y="1051"/>
                </a:lnTo>
                <a:lnTo>
                  <a:pt x="618" y="1061"/>
                </a:lnTo>
                <a:lnTo>
                  <a:pt x="618" y="1070"/>
                </a:lnTo>
                <a:lnTo>
                  <a:pt x="626" y="1070"/>
                </a:lnTo>
                <a:lnTo>
                  <a:pt x="618" y="1070"/>
                </a:lnTo>
                <a:lnTo>
                  <a:pt x="618" y="1080"/>
                </a:lnTo>
                <a:lnTo>
                  <a:pt x="618" y="1090"/>
                </a:lnTo>
                <a:lnTo>
                  <a:pt x="618" y="1099"/>
                </a:lnTo>
                <a:lnTo>
                  <a:pt x="609" y="1099"/>
                </a:lnTo>
                <a:lnTo>
                  <a:pt x="601" y="1099"/>
                </a:lnTo>
                <a:lnTo>
                  <a:pt x="601" y="1090"/>
                </a:lnTo>
                <a:lnTo>
                  <a:pt x="601" y="1080"/>
                </a:lnTo>
                <a:lnTo>
                  <a:pt x="601" y="1070"/>
                </a:lnTo>
                <a:lnTo>
                  <a:pt x="592" y="1070"/>
                </a:lnTo>
                <a:lnTo>
                  <a:pt x="592" y="1061"/>
                </a:lnTo>
                <a:lnTo>
                  <a:pt x="584" y="1051"/>
                </a:lnTo>
                <a:lnTo>
                  <a:pt x="575" y="1051"/>
                </a:lnTo>
                <a:lnTo>
                  <a:pt x="575" y="1061"/>
                </a:lnTo>
                <a:lnTo>
                  <a:pt x="575" y="1070"/>
                </a:lnTo>
                <a:lnTo>
                  <a:pt x="567" y="1070"/>
                </a:lnTo>
                <a:lnTo>
                  <a:pt x="575" y="1070"/>
                </a:lnTo>
                <a:lnTo>
                  <a:pt x="575" y="1080"/>
                </a:lnTo>
                <a:lnTo>
                  <a:pt x="567" y="1080"/>
                </a:lnTo>
                <a:lnTo>
                  <a:pt x="567" y="1070"/>
                </a:lnTo>
                <a:lnTo>
                  <a:pt x="558" y="1070"/>
                </a:lnTo>
                <a:lnTo>
                  <a:pt x="550" y="1061"/>
                </a:lnTo>
                <a:lnTo>
                  <a:pt x="541" y="1061"/>
                </a:lnTo>
                <a:lnTo>
                  <a:pt x="541" y="1051"/>
                </a:lnTo>
                <a:lnTo>
                  <a:pt x="533" y="1051"/>
                </a:lnTo>
                <a:lnTo>
                  <a:pt x="533" y="1041"/>
                </a:lnTo>
                <a:lnTo>
                  <a:pt x="524" y="1041"/>
                </a:lnTo>
                <a:lnTo>
                  <a:pt x="524" y="1032"/>
                </a:lnTo>
                <a:lnTo>
                  <a:pt x="516" y="1032"/>
                </a:lnTo>
                <a:lnTo>
                  <a:pt x="516" y="1022"/>
                </a:lnTo>
                <a:lnTo>
                  <a:pt x="516" y="1012"/>
                </a:lnTo>
                <a:lnTo>
                  <a:pt x="508" y="1012"/>
                </a:lnTo>
                <a:lnTo>
                  <a:pt x="508" y="1003"/>
                </a:lnTo>
                <a:lnTo>
                  <a:pt x="500" y="1003"/>
                </a:lnTo>
                <a:lnTo>
                  <a:pt x="491" y="1003"/>
                </a:lnTo>
                <a:lnTo>
                  <a:pt x="491" y="99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91" y="974"/>
                </a:lnTo>
                <a:lnTo>
                  <a:pt x="500" y="974"/>
                </a:lnTo>
                <a:lnTo>
                  <a:pt x="500" y="965"/>
                </a:lnTo>
                <a:lnTo>
                  <a:pt x="500" y="955"/>
                </a:lnTo>
                <a:lnTo>
                  <a:pt x="500" y="945"/>
                </a:lnTo>
                <a:lnTo>
                  <a:pt x="500" y="936"/>
                </a:lnTo>
                <a:lnTo>
                  <a:pt x="500" y="926"/>
                </a:lnTo>
                <a:lnTo>
                  <a:pt x="491" y="926"/>
                </a:lnTo>
                <a:lnTo>
                  <a:pt x="491" y="916"/>
                </a:lnTo>
                <a:lnTo>
                  <a:pt x="500" y="916"/>
                </a:lnTo>
                <a:lnTo>
                  <a:pt x="491" y="916"/>
                </a:lnTo>
                <a:lnTo>
                  <a:pt x="500" y="906"/>
                </a:lnTo>
                <a:lnTo>
                  <a:pt x="500" y="897"/>
                </a:lnTo>
                <a:lnTo>
                  <a:pt x="500" y="906"/>
                </a:lnTo>
                <a:lnTo>
                  <a:pt x="491" y="906"/>
                </a:lnTo>
                <a:lnTo>
                  <a:pt x="483" y="906"/>
                </a:lnTo>
                <a:lnTo>
                  <a:pt x="474" y="906"/>
                </a:lnTo>
                <a:lnTo>
                  <a:pt x="466" y="906"/>
                </a:lnTo>
                <a:lnTo>
                  <a:pt x="466" y="916"/>
                </a:lnTo>
                <a:lnTo>
                  <a:pt x="457" y="916"/>
                </a:lnTo>
                <a:lnTo>
                  <a:pt x="449" y="916"/>
                </a:lnTo>
                <a:lnTo>
                  <a:pt x="449" y="926"/>
                </a:lnTo>
                <a:lnTo>
                  <a:pt x="449" y="916"/>
                </a:lnTo>
                <a:lnTo>
                  <a:pt x="449" y="906"/>
                </a:lnTo>
                <a:lnTo>
                  <a:pt x="440" y="906"/>
                </a:lnTo>
                <a:lnTo>
                  <a:pt x="440" y="897"/>
                </a:lnTo>
                <a:lnTo>
                  <a:pt x="432" y="897"/>
                </a:lnTo>
                <a:lnTo>
                  <a:pt x="432" y="887"/>
                </a:lnTo>
                <a:lnTo>
                  <a:pt x="432" y="877"/>
                </a:lnTo>
                <a:lnTo>
                  <a:pt x="432" y="868"/>
                </a:lnTo>
                <a:lnTo>
                  <a:pt x="432" y="858"/>
                </a:lnTo>
                <a:lnTo>
                  <a:pt x="432" y="848"/>
                </a:lnTo>
                <a:lnTo>
                  <a:pt x="432" y="839"/>
                </a:lnTo>
                <a:lnTo>
                  <a:pt x="432" y="829"/>
                </a:lnTo>
                <a:lnTo>
                  <a:pt x="423" y="829"/>
                </a:lnTo>
                <a:lnTo>
                  <a:pt x="423" y="820"/>
                </a:lnTo>
                <a:lnTo>
                  <a:pt x="423" y="810"/>
                </a:lnTo>
                <a:lnTo>
                  <a:pt x="423" y="820"/>
                </a:lnTo>
                <a:lnTo>
                  <a:pt x="415" y="820"/>
                </a:lnTo>
                <a:lnTo>
                  <a:pt x="406" y="820"/>
                </a:lnTo>
                <a:lnTo>
                  <a:pt x="398" y="820"/>
                </a:lnTo>
                <a:lnTo>
                  <a:pt x="389" y="820"/>
                </a:lnTo>
                <a:lnTo>
                  <a:pt x="389" y="829"/>
                </a:lnTo>
                <a:lnTo>
                  <a:pt x="380" y="829"/>
                </a:lnTo>
                <a:lnTo>
                  <a:pt x="372" y="829"/>
                </a:lnTo>
                <a:lnTo>
                  <a:pt x="363" y="829"/>
                </a:lnTo>
                <a:lnTo>
                  <a:pt x="363" y="820"/>
                </a:lnTo>
                <a:lnTo>
                  <a:pt x="363" y="829"/>
                </a:lnTo>
                <a:lnTo>
                  <a:pt x="355" y="829"/>
                </a:lnTo>
                <a:lnTo>
                  <a:pt x="355" y="820"/>
                </a:lnTo>
                <a:lnTo>
                  <a:pt x="346" y="820"/>
                </a:lnTo>
                <a:lnTo>
                  <a:pt x="338" y="810"/>
                </a:lnTo>
                <a:lnTo>
                  <a:pt x="338" y="772"/>
                </a:lnTo>
                <a:lnTo>
                  <a:pt x="338" y="762"/>
                </a:lnTo>
                <a:lnTo>
                  <a:pt x="329" y="733"/>
                </a:lnTo>
                <a:lnTo>
                  <a:pt x="321" y="733"/>
                </a:lnTo>
                <a:lnTo>
                  <a:pt x="312" y="733"/>
                </a:lnTo>
                <a:lnTo>
                  <a:pt x="321" y="723"/>
                </a:lnTo>
                <a:lnTo>
                  <a:pt x="305" y="723"/>
                </a:lnTo>
                <a:lnTo>
                  <a:pt x="305" y="713"/>
                </a:lnTo>
                <a:lnTo>
                  <a:pt x="305" y="723"/>
                </a:lnTo>
                <a:lnTo>
                  <a:pt x="296" y="723"/>
                </a:lnTo>
                <a:lnTo>
                  <a:pt x="296" y="733"/>
                </a:lnTo>
                <a:lnTo>
                  <a:pt x="296" y="743"/>
                </a:lnTo>
                <a:lnTo>
                  <a:pt x="288" y="743"/>
                </a:lnTo>
                <a:lnTo>
                  <a:pt x="288" y="752"/>
                </a:lnTo>
                <a:lnTo>
                  <a:pt x="279" y="752"/>
                </a:lnTo>
                <a:lnTo>
                  <a:pt x="279" y="762"/>
                </a:lnTo>
                <a:lnTo>
                  <a:pt x="271" y="762"/>
                </a:lnTo>
                <a:lnTo>
                  <a:pt x="279" y="762"/>
                </a:lnTo>
                <a:lnTo>
                  <a:pt x="279" y="772"/>
                </a:lnTo>
                <a:lnTo>
                  <a:pt x="271" y="772"/>
                </a:lnTo>
                <a:lnTo>
                  <a:pt x="271" y="781"/>
                </a:lnTo>
                <a:lnTo>
                  <a:pt x="271" y="791"/>
                </a:lnTo>
                <a:lnTo>
                  <a:pt x="271" y="801"/>
                </a:lnTo>
                <a:lnTo>
                  <a:pt x="262" y="801"/>
                </a:lnTo>
                <a:lnTo>
                  <a:pt x="262" y="791"/>
                </a:lnTo>
                <a:lnTo>
                  <a:pt x="262" y="801"/>
                </a:lnTo>
                <a:lnTo>
                  <a:pt x="254" y="801"/>
                </a:lnTo>
                <a:lnTo>
                  <a:pt x="245" y="801"/>
                </a:lnTo>
                <a:lnTo>
                  <a:pt x="237" y="801"/>
                </a:lnTo>
                <a:lnTo>
                  <a:pt x="237" y="810"/>
                </a:lnTo>
                <a:lnTo>
                  <a:pt x="237" y="801"/>
                </a:lnTo>
                <a:lnTo>
                  <a:pt x="237" y="810"/>
                </a:lnTo>
                <a:lnTo>
                  <a:pt x="228" y="810"/>
                </a:lnTo>
                <a:lnTo>
                  <a:pt x="228" y="801"/>
                </a:lnTo>
                <a:lnTo>
                  <a:pt x="220" y="801"/>
                </a:lnTo>
                <a:lnTo>
                  <a:pt x="220" y="810"/>
                </a:lnTo>
                <a:lnTo>
                  <a:pt x="211" y="810"/>
                </a:lnTo>
                <a:lnTo>
                  <a:pt x="211" y="801"/>
                </a:lnTo>
                <a:lnTo>
                  <a:pt x="211" y="810"/>
                </a:lnTo>
                <a:lnTo>
                  <a:pt x="211" y="801"/>
                </a:lnTo>
                <a:lnTo>
                  <a:pt x="203" y="801"/>
                </a:lnTo>
                <a:lnTo>
                  <a:pt x="203" y="810"/>
                </a:lnTo>
                <a:lnTo>
                  <a:pt x="203" y="801"/>
                </a:lnTo>
                <a:lnTo>
                  <a:pt x="203" y="810"/>
                </a:lnTo>
                <a:lnTo>
                  <a:pt x="194" y="810"/>
                </a:lnTo>
                <a:lnTo>
                  <a:pt x="194" y="801"/>
                </a:lnTo>
                <a:lnTo>
                  <a:pt x="186" y="801"/>
                </a:lnTo>
                <a:lnTo>
                  <a:pt x="186" y="810"/>
                </a:lnTo>
                <a:lnTo>
                  <a:pt x="177" y="810"/>
                </a:lnTo>
                <a:lnTo>
                  <a:pt x="186" y="810"/>
                </a:lnTo>
                <a:lnTo>
                  <a:pt x="186" y="820"/>
                </a:lnTo>
                <a:lnTo>
                  <a:pt x="186" y="829"/>
                </a:lnTo>
                <a:lnTo>
                  <a:pt x="177" y="839"/>
                </a:lnTo>
                <a:lnTo>
                  <a:pt x="186" y="839"/>
                </a:lnTo>
                <a:lnTo>
                  <a:pt x="186" y="848"/>
                </a:lnTo>
                <a:lnTo>
                  <a:pt x="186" y="858"/>
                </a:lnTo>
                <a:lnTo>
                  <a:pt x="186" y="868"/>
                </a:lnTo>
                <a:lnTo>
                  <a:pt x="177" y="868"/>
                </a:lnTo>
                <a:lnTo>
                  <a:pt x="177" y="877"/>
                </a:lnTo>
                <a:lnTo>
                  <a:pt x="177" y="887"/>
                </a:lnTo>
                <a:lnTo>
                  <a:pt x="177" y="877"/>
                </a:lnTo>
                <a:lnTo>
                  <a:pt x="177" y="88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0" y="887"/>
                </a:lnTo>
                <a:lnTo>
                  <a:pt x="169" y="887"/>
                </a:lnTo>
                <a:lnTo>
                  <a:pt x="169" y="897"/>
                </a:lnTo>
                <a:lnTo>
                  <a:pt x="160" y="897"/>
                </a:lnTo>
                <a:lnTo>
                  <a:pt x="169" y="897"/>
                </a:lnTo>
                <a:lnTo>
                  <a:pt x="160" y="897"/>
                </a:lnTo>
                <a:lnTo>
                  <a:pt x="160" y="906"/>
                </a:lnTo>
                <a:lnTo>
                  <a:pt x="152" y="906"/>
                </a:lnTo>
                <a:lnTo>
                  <a:pt x="160" y="906"/>
                </a:lnTo>
                <a:lnTo>
                  <a:pt x="160" y="916"/>
                </a:lnTo>
                <a:lnTo>
                  <a:pt x="152" y="906"/>
                </a:lnTo>
                <a:lnTo>
                  <a:pt x="152" y="916"/>
                </a:lnTo>
                <a:lnTo>
                  <a:pt x="143" y="916"/>
                </a:lnTo>
                <a:lnTo>
                  <a:pt x="143" y="906"/>
                </a:lnTo>
                <a:lnTo>
                  <a:pt x="143" y="897"/>
                </a:lnTo>
                <a:lnTo>
                  <a:pt x="135" y="897"/>
                </a:lnTo>
                <a:lnTo>
                  <a:pt x="143" y="897"/>
                </a:lnTo>
                <a:lnTo>
                  <a:pt x="135" y="897"/>
                </a:lnTo>
                <a:lnTo>
                  <a:pt x="135" y="887"/>
                </a:lnTo>
                <a:lnTo>
                  <a:pt x="135" y="897"/>
                </a:lnTo>
                <a:lnTo>
                  <a:pt x="126" y="897"/>
                </a:lnTo>
                <a:lnTo>
                  <a:pt x="126" y="887"/>
                </a:lnTo>
                <a:lnTo>
                  <a:pt x="118" y="887"/>
                </a:lnTo>
                <a:lnTo>
                  <a:pt x="118" y="897"/>
                </a:lnTo>
                <a:lnTo>
                  <a:pt x="109" y="897"/>
                </a:lnTo>
                <a:lnTo>
                  <a:pt x="102" y="897"/>
                </a:lnTo>
                <a:lnTo>
                  <a:pt x="102" y="887"/>
                </a:lnTo>
                <a:lnTo>
                  <a:pt x="102" y="897"/>
                </a:lnTo>
                <a:lnTo>
                  <a:pt x="93" y="897"/>
                </a:lnTo>
                <a:lnTo>
                  <a:pt x="85" y="897"/>
                </a:lnTo>
                <a:lnTo>
                  <a:pt x="76" y="897"/>
                </a:lnTo>
                <a:lnTo>
                  <a:pt x="68" y="897"/>
                </a:lnTo>
                <a:lnTo>
                  <a:pt x="59" y="897"/>
                </a:lnTo>
                <a:lnTo>
                  <a:pt x="59" y="887"/>
                </a:lnTo>
                <a:lnTo>
                  <a:pt x="59" y="897"/>
                </a:lnTo>
                <a:lnTo>
                  <a:pt x="51" y="897"/>
                </a:lnTo>
                <a:lnTo>
                  <a:pt x="51" y="887"/>
                </a:lnTo>
                <a:lnTo>
                  <a:pt x="51" y="877"/>
                </a:lnTo>
                <a:lnTo>
                  <a:pt x="51" y="868"/>
                </a:lnTo>
                <a:lnTo>
                  <a:pt x="59" y="868"/>
                </a:lnTo>
                <a:lnTo>
                  <a:pt x="59" y="858"/>
                </a:lnTo>
                <a:lnTo>
                  <a:pt x="59" y="848"/>
                </a:lnTo>
                <a:lnTo>
                  <a:pt x="59" y="839"/>
                </a:lnTo>
                <a:lnTo>
                  <a:pt x="59" y="829"/>
                </a:lnTo>
                <a:lnTo>
                  <a:pt x="59" y="820"/>
                </a:lnTo>
                <a:lnTo>
                  <a:pt x="59" y="810"/>
                </a:lnTo>
                <a:lnTo>
                  <a:pt x="59" y="820"/>
                </a:lnTo>
                <a:lnTo>
                  <a:pt x="68" y="810"/>
                </a:lnTo>
                <a:lnTo>
                  <a:pt x="68" y="801"/>
                </a:lnTo>
                <a:lnTo>
                  <a:pt x="59" y="801"/>
                </a:lnTo>
                <a:lnTo>
                  <a:pt x="68" y="801"/>
                </a:lnTo>
                <a:lnTo>
                  <a:pt x="59" y="801"/>
                </a:lnTo>
                <a:lnTo>
                  <a:pt x="59" y="791"/>
                </a:lnTo>
                <a:lnTo>
                  <a:pt x="59" y="781"/>
                </a:lnTo>
                <a:lnTo>
                  <a:pt x="59" y="791"/>
                </a:lnTo>
                <a:lnTo>
                  <a:pt x="51" y="791"/>
                </a:lnTo>
                <a:lnTo>
                  <a:pt x="51" y="781"/>
                </a:lnTo>
                <a:lnTo>
                  <a:pt x="42" y="781"/>
                </a:lnTo>
                <a:lnTo>
                  <a:pt x="42" y="772"/>
                </a:lnTo>
                <a:lnTo>
                  <a:pt x="42" y="762"/>
                </a:lnTo>
                <a:lnTo>
                  <a:pt x="42" y="752"/>
                </a:lnTo>
                <a:lnTo>
                  <a:pt x="34" y="752"/>
                </a:lnTo>
                <a:lnTo>
                  <a:pt x="42" y="752"/>
                </a:lnTo>
                <a:lnTo>
                  <a:pt x="34" y="752"/>
                </a:lnTo>
                <a:lnTo>
                  <a:pt x="34" y="743"/>
                </a:lnTo>
                <a:lnTo>
                  <a:pt x="42" y="743"/>
                </a:lnTo>
                <a:lnTo>
                  <a:pt x="34" y="743"/>
                </a:lnTo>
                <a:lnTo>
                  <a:pt x="42" y="743"/>
                </a:lnTo>
                <a:lnTo>
                  <a:pt x="42" y="733"/>
                </a:lnTo>
                <a:lnTo>
                  <a:pt x="34" y="733"/>
                </a:lnTo>
                <a:lnTo>
                  <a:pt x="42" y="733"/>
                </a:lnTo>
                <a:lnTo>
                  <a:pt x="42" y="723"/>
                </a:lnTo>
                <a:lnTo>
                  <a:pt x="42" y="733"/>
                </a:lnTo>
                <a:lnTo>
                  <a:pt x="51" y="733"/>
                </a:lnTo>
                <a:lnTo>
                  <a:pt x="51" y="723"/>
                </a:lnTo>
                <a:lnTo>
                  <a:pt x="51" y="733"/>
                </a:lnTo>
                <a:lnTo>
                  <a:pt x="51" y="743"/>
                </a:lnTo>
                <a:lnTo>
                  <a:pt x="59" y="743"/>
                </a:lnTo>
                <a:lnTo>
                  <a:pt x="59" y="733"/>
                </a:lnTo>
                <a:lnTo>
                  <a:pt x="68" y="733"/>
                </a:lnTo>
                <a:lnTo>
                  <a:pt x="59" y="733"/>
                </a:lnTo>
                <a:lnTo>
                  <a:pt x="59" y="723"/>
                </a:lnTo>
                <a:lnTo>
                  <a:pt x="68" y="723"/>
                </a:lnTo>
                <a:lnTo>
                  <a:pt x="59" y="723"/>
                </a:lnTo>
                <a:lnTo>
                  <a:pt x="59" y="713"/>
                </a:lnTo>
                <a:lnTo>
                  <a:pt x="59" y="723"/>
                </a:lnTo>
                <a:lnTo>
                  <a:pt x="59" y="713"/>
                </a:lnTo>
                <a:lnTo>
                  <a:pt x="59" y="704"/>
                </a:lnTo>
                <a:lnTo>
                  <a:pt x="51" y="704"/>
                </a:lnTo>
                <a:lnTo>
                  <a:pt x="51" y="694"/>
                </a:lnTo>
                <a:lnTo>
                  <a:pt x="51" y="684"/>
                </a:lnTo>
                <a:lnTo>
                  <a:pt x="51" y="675"/>
                </a:lnTo>
                <a:lnTo>
                  <a:pt x="42" y="665"/>
                </a:lnTo>
                <a:lnTo>
                  <a:pt x="42" y="655"/>
                </a:lnTo>
                <a:lnTo>
                  <a:pt x="42" y="646"/>
                </a:lnTo>
                <a:lnTo>
                  <a:pt x="42" y="637"/>
                </a:lnTo>
                <a:lnTo>
                  <a:pt x="42" y="627"/>
                </a:lnTo>
                <a:lnTo>
                  <a:pt x="34" y="627"/>
                </a:lnTo>
                <a:lnTo>
                  <a:pt x="34" y="617"/>
                </a:lnTo>
                <a:lnTo>
                  <a:pt x="42" y="617"/>
                </a:lnTo>
                <a:lnTo>
                  <a:pt x="42" y="608"/>
                </a:lnTo>
                <a:lnTo>
                  <a:pt x="42" y="598"/>
                </a:lnTo>
                <a:lnTo>
                  <a:pt x="42" y="588"/>
                </a:lnTo>
                <a:lnTo>
                  <a:pt x="42" y="598"/>
                </a:lnTo>
                <a:lnTo>
                  <a:pt x="34" y="598"/>
                </a:lnTo>
                <a:lnTo>
                  <a:pt x="34" y="588"/>
                </a:lnTo>
                <a:lnTo>
                  <a:pt x="25" y="588"/>
                </a:lnTo>
                <a:lnTo>
                  <a:pt x="25" y="579"/>
                </a:lnTo>
                <a:lnTo>
                  <a:pt x="25" y="569"/>
                </a:lnTo>
                <a:lnTo>
                  <a:pt x="17" y="569"/>
                </a:lnTo>
                <a:lnTo>
                  <a:pt x="17" y="559"/>
                </a:lnTo>
                <a:lnTo>
                  <a:pt x="17" y="550"/>
                </a:lnTo>
                <a:lnTo>
                  <a:pt x="8" y="550"/>
                </a:lnTo>
                <a:lnTo>
                  <a:pt x="8" y="559"/>
                </a:lnTo>
                <a:lnTo>
                  <a:pt x="8" y="550"/>
                </a:lnTo>
                <a:lnTo>
                  <a:pt x="8" y="559"/>
                </a:lnTo>
                <a:lnTo>
                  <a:pt x="0" y="559"/>
                </a:lnTo>
                <a:lnTo>
                  <a:pt x="8" y="550"/>
                </a:lnTo>
                <a:lnTo>
                  <a:pt x="0" y="540"/>
                </a:lnTo>
                <a:lnTo>
                  <a:pt x="0" y="530"/>
                </a:lnTo>
                <a:lnTo>
                  <a:pt x="8" y="530"/>
                </a:lnTo>
                <a:lnTo>
                  <a:pt x="17" y="520"/>
                </a:lnTo>
                <a:lnTo>
                  <a:pt x="17" y="530"/>
                </a:lnTo>
                <a:lnTo>
                  <a:pt x="17" y="520"/>
                </a:lnTo>
                <a:lnTo>
                  <a:pt x="25" y="520"/>
                </a:lnTo>
                <a:lnTo>
                  <a:pt x="25" y="511"/>
                </a:lnTo>
                <a:lnTo>
                  <a:pt x="25" y="501"/>
                </a:lnTo>
                <a:lnTo>
                  <a:pt x="34" y="501"/>
                </a:lnTo>
                <a:lnTo>
                  <a:pt x="34" y="491"/>
                </a:lnTo>
                <a:lnTo>
                  <a:pt x="34" y="501"/>
                </a:lnTo>
                <a:lnTo>
                  <a:pt x="34" y="491"/>
                </a:lnTo>
                <a:lnTo>
                  <a:pt x="34" y="482"/>
                </a:lnTo>
                <a:lnTo>
                  <a:pt x="34" y="472"/>
                </a:lnTo>
                <a:lnTo>
                  <a:pt x="42" y="472"/>
                </a:lnTo>
                <a:lnTo>
                  <a:pt x="42" y="482"/>
                </a:lnTo>
                <a:lnTo>
                  <a:pt x="42" y="472"/>
                </a:lnTo>
                <a:lnTo>
                  <a:pt x="42" y="462"/>
                </a:lnTo>
                <a:lnTo>
                  <a:pt x="42" y="454"/>
                </a:lnTo>
                <a:lnTo>
                  <a:pt x="42" y="462"/>
                </a:lnTo>
                <a:lnTo>
                  <a:pt x="51" y="462"/>
                </a:lnTo>
                <a:lnTo>
                  <a:pt x="51" y="454"/>
                </a:lnTo>
                <a:lnTo>
                  <a:pt x="59" y="454"/>
                </a:lnTo>
                <a:lnTo>
                  <a:pt x="59" y="444"/>
                </a:lnTo>
                <a:lnTo>
                  <a:pt x="68" y="444"/>
                </a:lnTo>
                <a:lnTo>
                  <a:pt x="68" y="434"/>
                </a:lnTo>
                <a:lnTo>
                  <a:pt x="76" y="434"/>
                </a:lnTo>
                <a:lnTo>
                  <a:pt x="76" y="444"/>
                </a:lnTo>
                <a:lnTo>
                  <a:pt x="76" y="434"/>
                </a:lnTo>
                <a:lnTo>
                  <a:pt x="76" y="424"/>
                </a:lnTo>
                <a:lnTo>
                  <a:pt x="85" y="424"/>
                </a:lnTo>
                <a:lnTo>
                  <a:pt x="85" y="415"/>
                </a:lnTo>
                <a:lnTo>
                  <a:pt x="85" y="405"/>
                </a:lnTo>
                <a:lnTo>
                  <a:pt x="85" y="415"/>
                </a:lnTo>
                <a:lnTo>
                  <a:pt x="93" y="415"/>
                </a:lnTo>
                <a:lnTo>
                  <a:pt x="93" y="405"/>
                </a:lnTo>
                <a:lnTo>
                  <a:pt x="102" y="405"/>
                </a:lnTo>
                <a:lnTo>
                  <a:pt x="109" y="405"/>
                </a:lnTo>
                <a:lnTo>
                  <a:pt x="109" y="395"/>
                </a:lnTo>
                <a:lnTo>
                  <a:pt x="118" y="395"/>
                </a:lnTo>
                <a:lnTo>
                  <a:pt x="118" y="386"/>
                </a:lnTo>
                <a:lnTo>
                  <a:pt x="118" y="395"/>
                </a:lnTo>
                <a:lnTo>
                  <a:pt x="126" y="395"/>
                </a:lnTo>
                <a:lnTo>
                  <a:pt x="126" y="386"/>
                </a:lnTo>
                <a:lnTo>
                  <a:pt x="126" y="395"/>
                </a:lnTo>
                <a:lnTo>
                  <a:pt x="135" y="395"/>
                </a:lnTo>
                <a:lnTo>
                  <a:pt x="135" y="386"/>
                </a:lnTo>
                <a:lnTo>
                  <a:pt x="143" y="386"/>
                </a:lnTo>
                <a:lnTo>
                  <a:pt x="143" y="395"/>
                </a:lnTo>
                <a:lnTo>
                  <a:pt x="152" y="386"/>
                </a:lnTo>
                <a:lnTo>
                  <a:pt x="160" y="386"/>
                </a:lnTo>
                <a:lnTo>
                  <a:pt x="160" y="395"/>
                </a:lnTo>
                <a:lnTo>
                  <a:pt x="160" y="386"/>
                </a:lnTo>
                <a:lnTo>
                  <a:pt x="169" y="386"/>
                </a:lnTo>
                <a:lnTo>
                  <a:pt x="169" y="376"/>
                </a:lnTo>
                <a:lnTo>
                  <a:pt x="169" y="386"/>
                </a:lnTo>
                <a:lnTo>
                  <a:pt x="177" y="386"/>
                </a:lnTo>
                <a:lnTo>
                  <a:pt x="177" y="376"/>
                </a:lnTo>
                <a:lnTo>
                  <a:pt x="186" y="376"/>
                </a:lnTo>
                <a:lnTo>
                  <a:pt x="186" y="366"/>
                </a:lnTo>
                <a:lnTo>
                  <a:pt x="194" y="366"/>
                </a:lnTo>
                <a:lnTo>
                  <a:pt x="194" y="376"/>
                </a:lnTo>
                <a:lnTo>
                  <a:pt x="203" y="376"/>
                </a:lnTo>
                <a:lnTo>
                  <a:pt x="203" y="386"/>
                </a:lnTo>
                <a:lnTo>
                  <a:pt x="211" y="386"/>
                </a:lnTo>
                <a:lnTo>
                  <a:pt x="211" y="376"/>
                </a:lnTo>
                <a:lnTo>
                  <a:pt x="211" y="386"/>
                </a:lnTo>
                <a:lnTo>
                  <a:pt x="220" y="386"/>
                </a:lnTo>
                <a:lnTo>
                  <a:pt x="220" y="395"/>
                </a:lnTo>
                <a:lnTo>
                  <a:pt x="220" y="386"/>
                </a:lnTo>
                <a:lnTo>
                  <a:pt x="228" y="395"/>
                </a:lnTo>
                <a:lnTo>
                  <a:pt x="220" y="395"/>
                </a:lnTo>
                <a:lnTo>
                  <a:pt x="228" y="395"/>
                </a:lnTo>
                <a:lnTo>
                  <a:pt x="237" y="395"/>
                </a:lnTo>
                <a:lnTo>
                  <a:pt x="237" y="405"/>
                </a:lnTo>
                <a:lnTo>
                  <a:pt x="237" y="395"/>
                </a:lnTo>
                <a:lnTo>
                  <a:pt x="245" y="395"/>
                </a:lnTo>
                <a:lnTo>
                  <a:pt x="245" y="405"/>
                </a:lnTo>
                <a:lnTo>
                  <a:pt x="254" y="405"/>
                </a:lnTo>
                <a:lnTo>
                  <a:pt x="254" y="395"/>
                </a:lnTo>
                <a:lnTo>
                  <a:pt x="262" y="395"/>
                </a:lnTo>
                <a:lnTo>
                  <a:pt x="262" y="386"/>
                </a:lnTo>
                <a:lnTo>
                  <a:pt x="271" y="386"/>
                </a:lnTo>
                <a:lnTo>
                  <a:pt x="279" y="386"/>
                </a:lnTo>
                <a:lnTo>
                  <a:pt x="279" y="376"/>
                </a:lnTo>
                <a:lnTo>
                  <a:pt x="288" y="376"/>
                </a:lnTo>
                <a:lnTo>
                  <a:pt x="296" y="376"/>
                </a:lnTo>
                <a:lnTo>
                  <a:pt x="305" y="376"/>
                </a:lnTo>
                <a:lnTo>
                  <a:pt x="312" y="376"/>
                </a:lnTo>
                <a:lnTo>
                  <a:pt x="321" y="376"/>
                </a:lnTo>
                <a:lnTo>
                  <a:pt x="321" y="386"/>
                </a:lnTo>
                <a:lnTo>
                  <a:pt x="321" y="376"/>
                </a:lnTo>
                <a:lnTo>
                  <a:pt x="329" y="376"/>
                </a:lnTo>
                <a:lnTo>
                  <a:pt x="329" y="366"/>
                </a:lnTo>
                <a:lnTo>
                  <a:pt x="338" y="366"/>
                </a:lnTo>
                <a:lnTo>
                  <a:pt x="338" y="357"/>
                </a:lnTo>
                <a:lnTo>
                  <a:pt x="346" y="357"/>
                </a:lnTo>
                <a:lnTo>
                  <a:pt x="355" y="357"/>
                </a:lnTo>
                <a:lnTo>
                  <a:pt x="355" y="347"/>
                </a:lnTo>
                <a:lnTo>
                  <a:pt x="355" y="337"/>
                </a:lnTo>
                <a:lnTo>
                  <a:pt x="363" y="337"/>
                </a:lnTo>
                <a:lnTo>
                  <a:pt x="363" y="327"/>
                </a:lnTo>
                <a:lnTo>
                  <a:pt x="363" y="337"/>
                </a:lnTo>
                <a:lnTo>
                  <a:pt x="372" y="337"/>
                </a:lnTo>
                <a:lnTo>
                  <a:pt x="372" y="327"/>
                </a:lnTo>
                <a:lnTo>
                  <a:pt x="372" y="337"/>
                </a:lnTo>
                <a:lnTo>
                  <a:pt x="372" y="327"/>
                </a:lnTo>
                <a:lnTo>
                  <a:pt x="380" y="327"/>
                </a:lnTo>
                <a:lnTo>
                  <a:pt x="380" y="318"/>
                </a:lnTo>
                <a:lnTo>
                  <a:pt x="389" y="318"/>
                </a:lnTo>
                <a:lnTo>
                  <a:pt x="389" y="327"/>
                </a:lnTo>
                <a:lnTo>
                  <a:pt x="389" y="318"/>
                </a:lnTo>
                <a:lnTo>
                  <a:pt x="398" y="318"/>
                </a:lnTo>
                <a:lnTo>
                  <a:pt x="406" y="327"/>
                </a:lnTo>
                <a:lnTo>
                  <a:pt x="415" y="327"/>
                </a:lnTo>
                <a:lnTo>
                  <a:pt x="415" y="318"/>
                </a:lnTo>
                <a:lnTo>
                  <a:pt x="415" y="327"/>
                </a:lnTo>
                <a:lnTo>
                  <a:pt x="423" y="327"/>
                </a:lnTo>
                <a:lnTo>
                  <a:pt x="432" y="327"/>
                </a:lnTo>
                <a:lnTo>
                  <a:pt x="440" y="327"/>
                </a:lnTo>
                <a:lnTo>
                  <a:pt x="449" y="327"/>
                </a:lnTo>
                <a:lnTo>
                  <a:pt x="457" y="327"/>
                </a:lnTo>
                <a:lnTo>
                  <a:pt x="457" y="337"/>
                </a:lnTo>
                <a:lnTo>
                  <a:pt x="466" y="337"/>
                </a:lnTo>
                <a:lnTo>
                  <a:pt x="466" y="327"/>
                </a:lnTo>
                <a:lnTo>
                  <a:pt x="466" y="337"/>
                </a:lnTo>
                <a:lnTo>
                  <a:pt x="474" y="337"/>
                </a:lnTo>
                <a:lnTo>
                  <a:pt x="474" y="347"/>
                </a:lnTo>
                <a:lnTo>
                  <a:pt x="483" y="347"/>
                </a:lnTo>
                <a:lnTo>
                  <a:pt x="483" y="357"/>
                </a:lnTo>
                <a:lnTo>
                  <a:pt x="491" y="357"/>
                </a:lnTo>
                <a:lnTo>
                  <a:pt x="491" y="366"/>
                </a:lnTo>
                <a:lnTo>
                  <a:pt x="500" y="366"/>
                </a:lnTo>
                <a:lnTo>
                  <a:pt x="508" y="366"/>
                </a:lnTo>
                <a:lnTo>
                  <a:pt x="516" y="366"/>
                </a:lnTo>
                <a:lnTo>
                  <a:pt x="508" y="366"/>
                </a:lnTo>
                <a:lnTo>
                  <a:pt x="508" y="357"/>
                </a:lnTo>
                <a:lnTo>
                  <a:pt x="516" y="357"/>
                </a:lnTo>
                <a:lnTo>
                  <a:pt x="516" y="366"/>
                </a:lnTo>
                <a:lnTo>
                  <a:pt x="516" y="357"/>
                </a:lnTo>
                <a:lnTo>
                  <a:pt x="524" y="357"/>
                </a:lnTo>
                <a:lnTo>
                  <a:pt x="524" y="347"/>
                </a:lnTo>
                <a:lnTo>
                  <a:pt x="533" y="347"/>
                </a:lnTo>
                <a:lnTo>
                  <a:pt x="533" y="357"/>
                </a:lnTo>
                <a:lnTo>
                  <a:pt x="541" y="357"/>
                </a:lnTo>
                <a:lnTo>
                  <a:pt x="550" y="357"/>
                </a:lnTo>
                <a:lnTo>
                  <a:pt x="558" y="357"/>
                </a:lnTo>
                <a:lnTo>
                  <a:pt x="558" y="347"/>
                </a:lnTo>
                <a:lnTo>
                  <a:pt x="567" y="347"/>
                </a:lnTo>
                <a:lnTo>
                  <a:pt x="567" y="337"/>
                </a:lnTo>
                <a:lnTo>
                  <a:pt x="575" y="337"/>
                </a:lnTo>
                <a:lnTo>
                  <a:pt x="575" y="347"/>
                </a:lnTo>
                <a:lnTo>
                  <a:pt x="584" y="347"/>
                </a:lnTo>
                <a:lnTo>
                  <a:pt x="592" y="347"/>
                </a:lnTo>
                <a:lnTo>
                  <a:pt x="601" y="347"/>
                </a:lnTo>
                <a:lnTo>
                  <a:pt x="601" y="337"/>
                </a:lnTo>
                <a:lnTo>
                  <a:pt x="609" y="337"/>
                </a:lnTo>
                <a:lnTo>
                  <a:pt x="609" y="347"/>
                </a:lnTo>
                <a:lnTo>
                  <a:pt x="618" y="347"/>
                </a:lnTo>
                <a:lnTo>
                  <a:pt x="618" y="337"/>
                </a:lnTo>
                <a:lnTo>
                  <a:pt x="626" y="337"/>
                </a:lnTo>
                <a:lnTo>
                  <a:pt x="626" y="347"/>
                </a:lnTo>
                <a:lnTo>
                  <a:pt x="635" y="347"/>
                </a:lnTo>
                <a:lnTo>
                  <a:pt x="643" y="347"/>
                </a:lnTo>
                <a:lnTo>
                  <a:pt x="652" y="347"/>
                </a:lnTo>
                <a:lnTo>
                  <a:pt x="652" y="337"/>
                </a:lnTo>
                <a:lnTo>
                  <a:pt x="660" y="337"/>
                </a:lnTo>
                <a:lnTo>
                  <a:pt x="660" y="327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77" y="318"/>
                </a:lnTo>
                <a:lnTo>
                  <a:pt x="669" y="318"/>
                </a:lnTo>
                <a:lnTo>
                  <a:pt x="660" y="318"/>
                </a:lnTo>
                <a:lnTo>
                  <a:pt x="652" y="318"/>
                </a:lnTo>
                <a:lnTo>
                  <a:pt x="643" y="318"/>
                </a:lnTo>
                <a:lnTo>
                  <a:pt x="643" y="327"/>
                </a:lnTo>
                <a:lnTo>
                  <a:pt x="635" y="327"/>
                </a:lnTo>
                <a:lnTo>
                  <a:pt x="626" y="327"/>
                </a:lnTo>
                <a:lnTo>
                  <a:pt x="618" y="327"/>
                </a:lnTo>
                <a:lnTo>
                  <a:pt x="609" y="327"/>
                </a:lnTo>
                <a:lnTo>
                  <a:pt x="601" y="327"/>
                </a:lnTo>
                <a:lnTo>
                  <a:pt x="601" y="318"/>
                </a:lnTo>
                <a:lnTo>
                  <a:pt x="592" y="318"/>
                </a:lnTo>
                <a:lnTo>
                  <a:pt x="584" y="318"/>
                </a:lnTo>
                <a:lnTo>
                  <a:pt x="575" y="318"/>
                </a:lnTo>
                <a:lnTo>
                  <a:pt x="575" y="327"/>
                </a:lnTo>
                <a:lnTo>
                  <a:pt x="575" y="318"/>
                </a:lnTo>
                <a:lnTo>
                  <a:pt x="567" y="318"/>
                </a:lnTo>
                <a:lnTo>
                  <a:pt x="558" y="318"/>
                </a:lnTo>
                <a:lnTo>
                  <a:pt x="550" y="318"/>
                </a:lnTo>
                <a:lnTo>
                  <a:pt x="550" y="327"/>
                </a:lnTo>
                <a:lnTo>
                  <a:pt x="541" y="327"/>
                </a:lnTo>
                <a:lnTo>
                  <a:pt x="533" y="327"/>
                </a:lnTo>
                <a:lnTo>
                  <a:pt x="533" y="318"/>
                </a:lnTo>
                <a:lnTo>
                  <a:pt x="533" y="327"/>
                </a:lnTo>
                <a:lnTo>
                  <a:pt x="533" y="318"/>
                </a:lnTo>
                <a:lnTo>
                  <a:pt x="541" y="318"/>
                </a:lnTo>
                <a:lnTo>
                  <a:pt x="541" y="308"/>
                </a:lnTo>
                <a:lnTo>
                  <a:pt x="541" y="298"/>
                </a:lnTo>
                <a:lnTo>
                  <a:pt x="550" y="298"/>
                </a:lnTo>
                <a:lnTo>
                  <a:pt x="541" y="298"/>
                </a:lnTo>
                <a:lnTo>
                  <a:pt x="541" y="289"/>
                </a:lnTo>
                <a:lnTo>
                  <a:pt x="550" y="289"/>
                </a:lnTo>
                <a:lnTo>
                  <a:pt x="558" y="289"/>
                </a:lnTo>
                <a:lnTo>
                  <a:pt x="558" y="279"/>
                </a:lnTo>
                <a:lnTo>
                  <a:pt x="550" y="279"/>
                </a:lnTo>
                <a:lnTo>
                  <a:pt x="558" y="279"/>
                </a:lnTo>
                <a:lnTo>
                  <a:pt x="558" y="270"/>
                </a:lnTo>
                <a:lnTo>
                  <a:pt x="567" y="270"/>
                </a:lnTo>
                <a:lnTo>
                  <a:pt x="567" y="279"/>
                </a:lnTo>
                <a:lnTo>
                  <a:pt x="567" y="270"/>
                </a:lnTo>
                <a:lnTo>
                  <a:pt x="567" y="261"/>
                </a:lnTo>
                <a:lnTo>
                  <a:pt x="567" y="251"/>
                </a:lnTo>
                <a:lnTo>
                  <a:pt x="575" y="251"/>
                </a:lnTo>
                <a:lnTo>
                  <a:pt x="575" y="241"/>
                </a:lnTo>
                <a:lnTo>
                  <a:pt x="575" y="231"/>
                </a:lnTo>
                <a:lnTo>
                  <a:pt x="575" y="222"/>
                </a:lnTo>
                <a:lnTo>
                  <a:pt x="575" y="212"/>
                </a:lnTo>
                <a:lnTo>
                  <a:pt x="584" y="212"/>
                </a:lnTo>
                <a:lnTo>
                  <a:pt x="575" y="212"/>
                </a:lnTo>
                <a:lnTo>
                  <a:pt x="575" y="202"/>
                </a:lnTo>
                <a:lnTo>
                  <a:pt x="584" y="202"/>
                </a:lnTo>
                <a:lnTo>
                  <a:pt x="584" y="193"/>
                </a:lnTo>
                <a:lnTo>
                  <a:pt x="575" y="193"/>
                </a:lnTo>
                <a:lnTo>
                  <a:pt x="584" y="193"/>
                </a:lnTo>
                <a:lnTo>
                  <a:pt x="584" y="183"/>
                </a:lnTo>
                <a:lnTo>
                  <a:pt x="592" y="183"/>
                </a:lnTo>
                <a:lnTo>
                  <a:pt x="584" y="183"/>
                </a:lnTo>
                <a:lnTo>
                  <a:pt x="575" y="183"/>
                </a:lnTo>
                <a:lnTo>
                  <a:pt x="575" y="193"/>
                </a:lnTo>
                <a:lnTo>
                  <a:pt x="575" y="183"/>
                </a:lnTo>
                <a:lnTo>
                  <a:pt x="575" y="193"/>
                </a:lnTo>
                <a:lnTo>
                  <a:pt x="567" y="193"/>
                </a:lnTo>
                <a:lnTo>
                  <a:pt x="558" y="193"/>
                </a:lnTo>
                <a:lnTo>
                  <a:pt x="550" y="193"/>
                </a:lnTo>
                <a:lnTo>
                  <a:pt x="541" y="193"/>
                </a:lnTo>
                <a:lnTo>
                  <a:pt x="541" y="183"/>
                </a:lnTo>
                <a:lnTo>
                  <a:pt x="541" y="193"/>
                </a:lnTo>
                <a:lnTo>
                  <a:pt x="541" y="183"/>
                </a:lnTo>
                <a:lnTo>
                  <a:pt x="541" y="173"/>
                </a:lnTo>
                <a:lnTo>
                  <a:pt x="541" y="154"/>
                </a:lnTo>
                <a:lnTo>
                  <a:pt x="550" y="154"/>
                </a:lnTo>
                <a:lnTo>
                  <a:pt x="550" y="164"/>
                </a:lnTo>
                <a:lnTo>
                  <a:pt x="550" y="154"/>
                </a:lnTo>
                <a:lnTo>
                  <a:pt x="558" y="154"/>
                </a:lnTo>
                <a:lnTo>
                  <a:pt x="567" y="154"/>
                </a:lnTo>
                <a:lnTo>
                  <a:pt x="567" y="144"/>
                </a:lnTo>
                <a:lnTo>
                  <a:pt x="558" y="144"/>
                </a:lnTo>
                <a:lnTo>
                  <a:pt x="567" y="144"/>
                </a:lnTo>
                <a:lnTo>
                  <a:pt x="575" y="144"/>
                </a:lnTo>
                <a:lnTo>
                  <a:pt x="575" y="134"/>
                </a:lnTo>
                <a:lnTo>
                  <a:pt x="575" y="144"/>
                </a:lnTo>
                <a:lnTo>
                  <a:pt x="575" y="134"/>
                </a:lnTo>
                <a:lnTo>
                  <a:pt x="584" y="134"/>
                </a:lnTo>
                <a:lnTo>
                  <a:pt x="584" y="125"/>
                </a:lnTo>
                <a:lnTo>
                  <a:pt x="584" y="115"/>
                </a:lnTo>
                <a:lnTo>
                  <a:pt x="584" y="105"/>
                </a:lnTo>
                <a:lnTo>
                  <a:pt x="584" y="96"/>
                </a:lnTo>
                <a:lnTo>
                  <a:pt x="592" y="87"/>
                </a:lnTo>
                <a:lnTo>
                  <a:pt x="584" y="87"/>
                </a:lnTo>
                <a:lnTo>
                  <a:pt x="584" y="77"/>
                </a:lnTo>
                <a:lnTo>
                  <a:pt x="584" y="68"/>
                </a:lnTo>
                <a:lnTo>
                  <a:pt x="584" y="58"/>
                </a:lnTo>
                <a:lnTo>
                  <a:pt x="592" y="58"/>
                </a:lnTo>
                <a:lnTo>
                  <a:pt x="592" y="48"/>
                </a:lnTo>
                <a:lnTo>
                  <a:pt x="592" y="38"/>
                </a:lnTo>
                <a:lnTo>
                  <a:pt x="592" y="29"/>
                </a:lnTo>
                <a:lnTo>
                  <a:pt x="601" y="29"/>
                </a:lnTo>
                <a:lnTo>
                  <a:pt x="609" y="29"/>
                </a:lnTo>
                <a:lnTo>
                  <a:pt x="609" y="19"/>
                </a:lnTo>
                <a:lnTo>
                  <a:pt x="618" y="19"/>
                </a:lnTo>
                <a:lnTo>
                  <a:pt x="618" y="9"/>
                </a:lnTo>
                <a:lnTo>
                  <a:pt x="626" y="9"/>
                </a:lnTo>
                <a:lnTo>
                  <a:pt x="635" y="0"/>
                </a:lnTo>
                <a:lnTo>
                  <a:pt x="635" y="9"/>
                </a:lnTo>
                <a:lnTo>
                  <a:pt x="626" y="9"/>
                </a:lnTo>
                <a:lnTo>
                  <a:pt x="626" y="19"/>
                </a:lnTo>
                <a:lnTo>
                  <a:pt x="626" y="29"/>
                </a:lnTo>
                <a:lnTo>
                  <a:pt x="626" y="38"/>
                </a:lnTo>
                <a:lnTo>
                  <a:pt x="618" y="48"/>
                </a:lnTo>
                <a:lnTo>
                  <a:pt x="618" y="58"/>
                </a:lnTo>
                <a:lnTo>
                  <a:pt x="618" y="68"/>
                </a:lnTo>
                <a:lnTo>
                  <a:pt x="744" y="154"/>
                </a:lnTo>
                <a:lnTo>
                  <a:pt x="787" y="183"/>
                </a:lnTo>
                <a:lnTo>
                  <a:pt x="821" y="212"/>
                </a:lnTo>
                <a:lnTo>
                  <a:pt x="829" y="222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Freeform 29"/>
          <p:cNvSpPr/>
          <p:nvPr/>
        </p:nvSpPr>
        <p:spPr>
          <a:xfrm>
            <a:off x="5372280" y="2349360"/>
            <a:ext cx="784080" cy="1387440"/>
          </a:xfrm>
          <a:custGeom>
            <a:avLst/>
            <a:gdLst>
              <a:gd name="textAreaLeft" fmla="*/ 0 w 784080"/>
              <a:gd name="textAreaRight" fmla="*/ 784440 w 78408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4" h="874">
                <a:moveTo>
                  <a:pt x="272" y="824"/>
                </a:moveTo>
                <a:lnTo>
                  <a:pt x="272" y="834"/>
                </a:lnTo>
                <a:lnTo>
                  <a:pt x="280" y="844"/>
                </a:lnTo>
                <a:lnTo>
                  <a:pt x="289" y="844"/>
                </a:lnTo>
                <a:lnTo>
                  <a:pt x="297" y="844"/>
                </a:lnTo>
                <a:lnTo>
                  <a:pt x="297" y="853"/>
                </a:lnTo>
                <a:lnTo>
                  <a:pt x="306" y="853"/>
                </a:lnTo>
                <a:lnTo>
                  <a:pt x="306" y="863"/>
                </a:lnTo>
                <a:lnTo>
                  <a:pt x="314" y="863"/>
                </a:lnTo>
                <a:lnTo>
                  <a:pt x="314" y="873"/>
                </a:lnTo>
                <a:lnTo>
                  <a:pt x="323" y="873"/>
                </a:lnTo>
                <a:lnTo>
                  <a:pt x="323" y="863"/>
                </a:lnTo>
                <a:lnTo>
                  <a:pt x="323" y="853"/>
                </a:lnTo>
                <a:lnTo>
                  <a:pt x="323" y="844"/>
                </a:lnTo>
                <a:lnTo>
                  <a:pt x="314" y="844"/>
                </a:lnTo>
                <a:lnTo>
                  <a:pt x="314" y="834"/>
                </a:lnTo>
                <a:lnTo>
                  <a:pt x="314" y="824"/>
                </a:lnTo>
                <a:lnTo>
                  <a:pt x="314" y="815"/>
                </a:lnTo>
                <a:lnTo>
                  <a:pt x="306" y="815"/>
                </a:lnTo>
                <a:lnTo>
                  <a:pt x="306" y="805"/>
                </a:lnTo>
                <a:lnTo>
                  <a:pt x="297" y="805"/>
                </a:lnTo>
                <a:lnTo>
                  <a:pt x="297" y="795"/>
                </a:lnTo>
                <a:lnTo>
                  <a:pt x="297" y="786"/>
                </a:lnTo>
                <a:lnTo>
                  <a:pt x="297" y="776"/>
                </a:lnTo>
                <a:lnTo>
                  <a:pt x="289" y="776"/>
                </a:lnTo>
                <a:lnTo>
                  <a:pt x="297" y="776"/>
                </a:lnTo>
                <a:lnTo>
                  <a:pt x="297" y="766"/>
                </a:lnTo>
                <a:lnTo>
                  <a:pt x="297" y="756"/>
                </a:lnTo>
                <a:lnTo>
                  <a:pt x="297" y="747"/>
                </a:lnTo>
                <a:lnTo>
                  <a:pt x="306" y="747"/>
                </a:lnTo>
                <a:lnTo>
                  <a:pt x="306" y="737"/>
                </a:lnTo>
                <a:lnTo>
                  <a:pt x="306" y="727"/>
                </a:lnTo>
                <a:lnTo>
                  <a:pt x="306" y="718"/>
                </a:lnTo>
                <a:lnTo>
                  <a:pt x="297" y="718"/>
                </a:lnTo>
                <a:lnTo>
                  <a:pt x="297" y="708"/>
                </a:lnTo>
                <a:lnTo>
                  <a:pt x="306" y="708"/>
                </a:lnTo>
                <a:lnTo>
                  <a:pt x="306" y="698"/>
                </a:lnTo>
                <a:lnTo>
                  <a:pt x="314" y="698"/>
                </a:lnTo>
                <a:lnTo>
                  <a:pt x="314" y="689"/>
                </a:lnTo>
                <a:lnTo>
                  <a:pt x="314" y="679"/>
                </a:lnTo>
                <a:lnTo>
                  <a:pt x="323" y="679"/>
                </a:lnTo>
                <a:lnTo>
                  <a:pt x="323" y="669"/>
                </a:lnTo>
                <a:lnTo>
                  <a:pt x="323" y="659"/>
                </a:lnTo>
                <a:lnTo>
                  <a:pt x="331" y="659"/>
                </a:lnTo>
                <a:lnTo>
                  <a:pt x="340" y="659"/>
                </a:lnTo>
                <a:lnTo>
                  <a:pt x="340" y="650"/>
                </a:lnTo>
                <a:lnTo>
                  <a:pt x="348" y="650"/>
                </a:lnTo>
                <a:lnTo>
                  <a:pt x="348" y="640"/>
                </a:lnTo>
                <a:lnTo>
                  <a:pt x="357" y="640"/>
                </a:lnTo>
                <a:lnTo>
                  <a:pt x="357" y="630"/>
                </a:lnTo>
                <a:lnTo>
                  <a:pt x="365" y="630"/>
                </a:lnTo>
                <a:lnTo>
                  <a:pt x="365" y="621"/>
                </a:lnTo>
                <a:lnTo>
                  <a:pt x="365" y="611"/>
                </a:lnTo>
                <a:lnTo>
                  <a:pt x="365" y="601"/>
                </a:lnTo>
                <a:lnTo>
                  <a:pt x="374" y="601"/>
                </a:lnTo>
                <a:lnTo>
                  <a:pt x="374" y="592"/>
                </a:lnTo>
                <a:lnTo>
                  <a:pt x="382" y="592"/>
                </a:lnTo>
                <a:lnTo>
                  <a:pt x="382" y="582"/>
                </a:lnTo>
                <a:lnTo>
                  <a:pt x="374" y="582"/>
                </a:lnTo>
                <a:lnTo>
                  <a:pt x="382" y="582"/>
                </a:lnTo>
                <a:lnTo>
                  <a:pt x="382" y="572"/>
                </a:lnTo>
                <a:lnTo>
                  <a:pt x="382" y="562"/>
                </a:lnTo>
                <a:lnTo>
                  <a:pt x="374" y="562"/>
                </a:lnTo>
                <a:lnTo>
                  <a:pt x="374" y="553"/>
                </a:lnTo>
                <a:lnTo>
                  <a:pt x="382" y="553"/>
                </a:lnTo>
                <a:lnTo>
                  <a:pt x="382" y="543"/>
                </a:lnTo>
                <a:lnTo>
                  <a:pt x="382" y="533"/>
                </a:lnTo>
                <a:lnTo>
                  <a:pt x="391" y="533"/>
                </a:lnTo>
                <a:lnTo>
                  <a:pt x="391" y="524"/>
                </a:lnTo>
                <a:lnTo>
                  <a:pt x="399" y="524"/>
                </a:lnTo>
                <a:lnTo>
                  <a:pt x="399" y="514"/>
                </a:lnTo>
                <a:lnTo>
                  <a:pt x="399" y="504"/>
                </a:lnTo>
                <a:lnTo>
                  <a:pt x="408" y="504"/>
                </a:lnTo>
                <a:lnTo>
                  <a:pt x="408" y="495"/>
                </a:lnTo>
                <a:lnTo>
                  <a:pt x="408" y="485"/>
                </a:lnTo>
                <a:lnTo>
                  <a:pt x="416" y="485"/>
                </a:lnTo>
                <a:lnTo>
                  <a:pt x="416" y="475"/>
                </a:lnTo>
                <a:lnTo>
                  <a:pt x="416" y="465"/>
                </a:lnTo>
                <a:lnTo>
                  <a:pt x="425" y="465"/>
                </a:lnTo>
                <a:lnTo>
                  <a:pt x="425" y="456"/>
                </a:lnTo>
                <a:lnTo>
                  <a:pt x="425" y="446"/>
                </a:lnTo>
                <a:lnTo>
                  <a:pt x="433" y="446"/>
                </a:lnTo>
                <a:lnTo>
                  <a:pt x="433" y="436"/>
                </a:lnTo>
                <a:lnTo>
                  <a:pt x="442" y="436"/>
                </a:lnTo>
                <a:lnTo>
                  <a:pt x="442" y="427"/>
                </a:lnTo>
                <a:lnTo>
                  <a:pt x="450" y="427"/>
                </a:lnTo>
                <a:lnTo>
                  <a:pt x="450" y="417"/>
                </a:lnTo>
                <a:lnTo>
                  <a:pt x="450" y="407"/>
                </a:lnTo>
                <a:lnTo>
                  <a:pt x="459" y="398"/>
                </a:lnTo>
                <a:lnTo>
                  <a:pt x="459" y="388"/>
                </a:lnTo>
                <a:lnTo>
                  <a:pt x="467" y="388"/>
                </a:lnTo>
                <a:lnTo>
                  <a:pt x="467" y="378"/>
                </a:lnTo>
                <a:lnTo>
                  <a:pt x="467" y="368"/>
                </a:lnTo>
                <a:lnTo>
                  <a:pt x="467" y="359"/>
                </a:lnTo>
                <a:lnTo>
                  <a:pt x="467" y="349"/>
                </a:lnTo>
                <a:lnTo>
                  <a:pt x="476" y="349"/>
                </a:lnTo>
                <a:lnTo>
                  <a:pt x="467" y="349"/>
                </a:lnTo>
                <a:lnTo>
                  <a:pt x="467" y="339"/>
                </a:lnTo>
                <a:lnTo>
                  <a:pt x="467" y="330"/>
                </a:lnTo>
                <a:lnTo>
                  <a:pt x="467" y="320"/>
                </a:lnTo>
                <a:lnTo>
                  <a:pt x="467" y="310"/>
                </a:lnTo>
                <a:lnTo>
                  <a:pt x="467" y="301"/>
                </a:lnTo>
                <a:lnTo>
                  <a:pt x="467" y="291"/>
                </a:lnTo>
                <a:lnTo>
                  <a:pt x="467" y="281"/>
                </a:lnTo>
                <a:lnTo>
                  <a:pt x="459" y="281"/>
                </a:lnTo>
                <a:lnTo>
                  <a:pt x="467" y="281"/>
                </a:lnTo>
                <a:lnTo>
                  <a:pt x="459" y="271"/>
                </a:lnTo>
                <a:lnTo>
                  <a:pt x="459" y="281"/>
                </a:lnTo>
                <a:lnTo>
                  <a:pt x="459" y="271"/>
                </a:lnTo>
                <a:lnTo>
                  <a:pt x="459" y="262"/>
                </a:lnTo>
                <a:lnTo>
                  <a:pt x="450" y="262"/>
                </a:lnTo>
                <a:lnTo>
                  <a:pt x="459" y="262"/>
                </a:lnTo>
                <a:lnTo>
                  <a:pt x="459" y="252"/>
                </a:lnTo>
                <a:lnTo>
                  <a:pt x="459" y="242"/>
                </a:lnTo>
                <a:lnTo>
                  <a:pt x="450" y="233"/>
                </a:lnTo>
                <a:lnTo>
                  <a:pt x="450" y="223"/>
                </a:lnTo>
                <a:lnTo>
                  <a:pt x="459" y="223"/>
                </a:lnTo>
                <a:lnTo>
                  <a:pt x="450" y="223"/>
                </a:lnTo>
                <a:lnTo>
                  <a:pt x="450" y="213"/>
                </a:lnTo>
                <a:lnTo>
                  <a:pt x="459" y="213"/>
                </a:lnTo>
                <a:lnTo>
                  <a:pt x="459" y="204"/>
                </a:lnTo>
                <a:lnTo>
                  <a:pt x="467" y="204"/>
                </a:lnTo>
                <a:lnTo>
                  <a:pt x="467" y="194"/>
                </a:lnTo>
                <a:lnTo>
                  <a:pt x="459" y="194"/>
                </a:lnTo>
                <a:lnTo>
                  <a:pt x="459" y="184"/>
                </a:lnTo>
                <a:lnTo>
                  <a:pt x="467" y="184"/>
                </a:lnTo>
                <a:lnTo>
                  <a:pt x="467" y="174"/>
                </a:lnTo>
                <a:lnTo>
                  <a:pt x="476" y="174"/>
                </a:lnTo>
                <a:lnTo>
                  <a:pt x="476" y="165"/>
                </a:lnTo>
                <a:lnTo>
                  <a:pt x="484" y="165"/>
                </a:lnTo>
                <a:lnTo>
                  <a:pt x="484" y="155"/>
                </a:lnTo>
                <a:lnTo>
                  <a:pt x="493" y="155"/>
                </a:lnTo>
                <a:lnTo>
                  <a:pt x="493" y="145"/>
                </a:lnTo>
                <a:lnTo>
                  <a:pt x="391" y="145"/>
                </a:lnTo>
                <a:lnTo>
                  <a:pt x="205" y="145"/>
                </a:lnTo>
                <a:lnTo>
                  <a:pt x="85" y="68"/>
                </a:lnTo>
                <a:lnTo>
                  <a:pt x="0" y="0"/>
                </a:lnTo>
                <a:lnTo>
                  <a:pt x="0" y="10"/>
                </a:lnTo>
                <a:lnTo>
                  <a:pt x="0" y="19"/>
                </a:lnTo>
                <a:lnTo>
                  <a:pt x="0" y="29"/>
                </a:lnTo>
                <a:lnTo>
                  <a:pt x="0" y="39"/>
                </a:lnTo>
                <a:lnTo>
                  <a:pt x="0" y="48"/>
                </a:lnTo>
                <a:lnTo>
                  <a:pt x="0" y="58"/>
                </a:lnTo>
                <a:lnTo>
                  <a:pt x="9" y="58"/>
                </a:lnTo>
                <a:lnTo>
                  <a:pt x="9" y="68"/>
                </a:lnTo>
                <a:lnTo>
                  <a:pt x="17" y="68"/>
                </a:lnTo>
                <a:lnTo>
                  <a:pt x="17" y="77"/>
                </a:lnTo>
                <a:lnTo>
                  <a:pt x="9" y="77"/>
                </a:lnTo>
                <a:lnTo>
                  <a:pt x="9" y="87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26"/>
                </a:lnTo>
                <a:lnTo>
                  <a:pt x="9" y="136"/>
                </a:lnTo>
                <a:lnTo>
                  <a:pt x="17" y="136"/>
                </a:lnTo>
                <a:lnTo>
                  <a:pt x="26" y="136"/>
                </a:lnTo>
                <a:lnTo>
                  <a:pt x="26" y="145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43" y="174"/>
                </a:lnTo>
                <a:lnTo>
                  <a:pt x="43" y="184"/>
                </a:lnTo>
                <a:lnTo>
                  <a:pt x="43" y="194"/>
                </a:lnTo>
                <a:lnTo>
                  <a:pt x="51" y="194"/>
                </a:lnTo>
                <a:lnTo>
                  <a:pt x="51" y="204"/>
                </a:lnTo>
                <a:lnTo>
                  <a:pt x="51" y="194"/>
                </a:lnTo>
                <a:lnTo>
                  <a:pt x="51" y="204"/>
                </a:lnTo>
                <a:lnTo>
                  <a:pt x="43" y="204"/>
                </a:lnTo>
                <a:lnTo>
                  <a:pt x="34" y="204"/>
                </a:lnTo>
                <a:lnTo>
                  <a:pt x="43" y="204"/>
                </a:lnTo>
                <a:lnTo>
                  <a:pt x="43" y="213"/>
                </a:lnTo>
                <a:lnTo>
                  <a:pt x="43" y="223"/>
                </a:lnTo>
                <a:lnTo>
                  <a:pt x="43" y="233"/>
                </a:lnTo>
                <a:lnTo>
                  <a:pt x="51" y="233"/>
                </a:lnTo>
                <a:lnTo>
                  <a:pt x="51" y="242"/>
                </a:lnTo>
                <a:lnTo>
                  <a:pt x="51" y="252"/>
                </a:lnTo>
                <a:lnTo>
                  <a:pt x="43" y="262"/>
                </a:lnTo>
                <a:lnTo>
                  <a:pt x="43" y="271"/>
                </a:lnTo>
                <a:lnTo>
                  <a:pt x="34" y="262"/>
                </a:lnTo>
                <a:lnTo>
                  <a:pt x="34" y="271"/>
                </a:lnTo>
                <a:lnTo>
                  <a:pt x="34" y="281"/>
                </a:lnTo>
                <a:lnTo>
                  <a:pt x="43" y="281"/>
                </a:lnTo>
                <a:lnTo>
                  <a:pt x="43" y="291"/>
                </a:lnTo>
                <a:lnTo>
                  <a:pt x="43" y="301"/>
                </a:lnTo>
                <a:lnTo>
                  <a:pt x="51" y="301"/>
                </a:lnTo>
                <a:lnTo>
                  <a:pt x="51" y="310"/>
                </a:lnTo>
                <a:lnTo>
                  <a:pt x="51" y="320"/>
                </a:lnTo>
                <a:lnTo>
                  <a:pt x="51" y="330"/>
                </a:lnTo>
                <a:lnTo>
                  <a:pt x="51" y="339"/>
                </a:lnTo>
                <a:lnTo>
                  <a:pt x="43" y="349"/>
                </a:lnTo>
                <a:lnTo>
                  <a:pt x="51" y="349"/>
                </a:lnTo>
                <a:lnTo>
                  <a:pt x="51" y="359"/>
                </a:lnTo>
                <a:lnTo>
                  <a:pt x="51" y="368"/>
                </a:lnTo>
                <a:lnTo>
                  <a:pt x="51" y="378"/>
                </a:lnTo>
                <a:lnTo>
                  <a:pt x="51" y="388"/>
                </a:lnTo>
                <a:lnTo>
                  <a:pt x="43" y="388"/>
                </a:lnTo>
                <a:lnTo>
                  <a:pt x="43" y="398"/>
                </a:lnTo>
                <a:lnTo>
                  <a:pt x="43" y="407"/>
                </a:lnTo>
                <a:lnTo>
                  <a:pt x="34" y="407"/>
                </a:lnTo>
                <a:lnTo>
                  <a:pt x="34" y="417"/>
                </a:lnTo>
                <a:lnTo>
                  <a:pt x="34" y="427"/>
                </a:lnTo>
                <a:lnTo>
                  <a:pt x="34" y="436"/>
                </a:lnTo>
                <a:lnTo>
                  <a:pt x="34" y="446"/>
                </a:lnTo>
                <a:lnTo>
                  <a:pt x="34" y="456"/>
                </a:lnTo>
                <a:lnTo>
                  <a:pt x="34" y="465"/>
                </a:lnTo>
                <a:lnTo>
                  <a:pt x="43" y="465"/>
                </a:lnTo>
                <a:lnTo>
                  <a:pt x="43" y="456"/>
                </a:lnTo>
                <a:lnTo>
                  <a:pt x="43" y="465"/>
                </a:lnTo>
                <a:lnTo>
                  <a:pt x="51" y="465"/>
                </a:lnTo>
                <a:lnTo>
                  <a:pt x="51" y="456"/>
                </a:lnTo>
                <a:lnTo>
                  <a:pt x="60" y="456"/>
                </a:lnTo>
                <a:lnTo>
                  <a:pt x="60" y="446"/>
                </a:lnTo>
                <a:lnTo>
                  <a:pt x="68" y="446"/>
                </a:lnTo>
                <a:lnTo>
                  <a:pt x="68" y="436"/>
                </a:lnTo>
                <a:lnTo>
                  <a:pt x="77" y="436"/>
                </a:lnTo>
                <a:lnTo>
                  <a:pt x="77" y="446"/>
                </a:lnTo>
                <a:lnTo>
                  <a:pt x="77" y="436"/>
                </a:lnTo>
                <a:lnTo>
                  <a:pt x="85" y="436"/>
                </a:lnTo>
                <a:lnTo>
                  <a:pt x="85" y="446"/>
                </a:lnTo>
                <a:lnTo>
                  <a:pt x="85" y="436"/>
                </a:lnTo>
                <a:lnTo>
                  <a:pt x="94" y="436"/>
                </a:lnTo>
                <a:lnTo>
                  <a:pt x="94" y="446"/>
                </a:lnTo>
                <a:lnTo>
                  <a:pt x="94" y="456"/>
                </a:lnTo>
                <a:lnTo>
                  <a:pt x="85" y="456"/>
                </a:lnTo>
                <a:lnTo>
                  <a:pt x="85" y="465"/>
                </a:lnTo>
                <a:lnTo>
                  <a:pt x="94" y="465"/>
                </a:lnTo>
                <a:lnTo>
                  <a:pt x="94" y="475"/>
                </a:lnTo>
                <a:lnTo>
                  <a:pt x="94" y="485"/>
                </a:lnTo>
                <a:lnTo>
                  <a:pt x="102" y="485"/>
                </a:lnTo>
                <a:lnTo>
                  <a:pt x="102" y="495"/>
                </a:lnTo>
                <a:lnTo>
                  <a:pt x="102" y="504"/>
                </a:lnTo>
                <a:lnTo>
                  <a:pt x="111" y="504"/>
                </a:lnTo>
                <a:lnTo>
                  <a:pt x="111" y="514"/>
                </a:lnTo>
                <a:lnTo>
                  <a:pt x="111" y="524"/>
                </a:lnTo>
                <a:lnTo>
                  <a:pt x="120" y="524"/>
                </a:lnTo>
                <a:lnTo>
                  <a:pt x="120" y="533"/>
                </a:lnTo>
                <a:lnTo>
                  <a:pt x="128" y="543"/>
                </a:lnTo>
                <a:lnTo>
                  <a:pt x="128" y="553"/>
                </a:lnTo>
                <a:lnTo>
                  <a:pt x="137" y="553"/>
                </a:lnTo>
                <a:lnTo>
                  <a:pt x="137" y="562"/>
                </a:lnTo>
                <a:lnTo>
                  <a:pt x="137" y="572"/>
                </a:lnTo>
                <a:lnTo>
                  <a:pt x="145" y="572"/>
                </a:lnTo>
                <a:lnTo>
                  <a:pt x="145" y="582"/>
                </a:lnTo>
                <a:lnTo>
                  <a:pt x="137" y="582"/>
                </a:lnTo>
                <a:lnTo>
                  <a:pt x="137" y="592"/>
                </a:lnTo>
                <a:lnTo>
                  <a:pt x="137" y="601"/>
                </a:lnTo>
                <a:lnTo>
                  <a:pt x="137" y="611"/>
                </a:lnTo>
                <a:lnTo>
                  <a:pt x="137" y="621"/>
                </a:lnTo>
                <a:lnTo>
                  <a:pt x="137" y="630"/>
                </a:lnTo>
                <a:lnTo>
                  <a:pt x="137" y="640"/>
                </a:lnTo>
                <a:lnTo>
                  <a:pt x="137" y="650"/>
                </a:lnTo>
                <a:lnTo>
                  <a:pt x="145" y="650"/>
                </a:lnTo>
                <a:lnTo>
                  <a:pt x="145" y="659"/>
                </a:lnTo>
                <a:lnTo>
                  <a:pt x="154" y="659"/>
                </a:lnTo>
                <a:lnTo>
                  <a:pt x="154" y="669"/>
                </a:lnTo>
                <a:lnTo>
                  <a:pt x="162" y="669"/>
                </a:lnTo>
                <a:lnTo>
                  <a:pt x="162" y="679"/>
                </a:lnTo>
                <a:lnTo>
                  <a:pt x="171" y="679"/>
                </a:lnTo>
                <a:lnTo>
                  <a:pt x="171" y="689"/>
                </a:lnTo>
                <a:lnTo>
                  <a:pt x="171" y="698"/>
                </a:lnTo>
                <a:lnTo>
                  <a:pt x="179" y="698"/>
                </a:lnTo>
                <a:lnTo>
                  <a:pt x="188" y="698"/>
                </a:lnTo>
                <a:lnTo>
                  <a:pt x="188" y="708"/>
                </a:lnTo>
                <a:lnTo>
                  <a:pt x="188" y="718"/>
                </a:lnTo>
                <a:lnTo>
                  <a:pt x="188" y="727"/>
                </a:lnTo>
                <a:lnTo>
                  <a:pt x="179" y="727"/>
                </a:lnTo>
                <a:lnTo>
                  <a:pt x="179" y="737"/>
                </a:lnTo>
                <a:lnTo>
                  <a:pt x="179" y="747"/>
                </a:lnTo>
                <a:lnTo>
                  <a:pt x="188" y="747"/>
                </a:lnTo>
                <a:lnTo>
                  <a:pt x="179" y="747"/>
                </a:lnTo>
                <a:lnTo>
                  <a:pt x="179" y="756"/>
                </a:lnTo>
                <a:lnTo>
                  <a:pt x="188" y="756"/>
                </a:lnTo>
                <a:lnTo>
                  <a:pt x="188" y="766"/>
                </a:lnTo>
                <a:lnTo>
                  <a:pt x="196" y="766"/>
                </a:lnTo>
                <a:lnTo>
                  <a:pt x="205" y="766"/>
                </a:lnTo>
                <a:lnTo>
                  <a:pt x="205" y="776"/>
                </a:lnTo>
                <a:lnTo>
                  <a:pt x="213" y="776"/>
                </a:lnTo>
                <a:lnTo>
                  <a:pt x="213" y="786"/>
                </a:lnTo>
                <a:lnTo>
                  <a:pt x="222" y="786"/>
                </a:lnTo>
                <a:lnTo>
                  <a:pt x="222" y="795"/>
                </a:lnTo>
                <a:lnTo>
                  <a:pt x="230" y="795"/>
                </a:lnTo>
                <a:lnTo>
                  <a:pt x="239" y="795"/>
                </a:lnTo>
                <a:lnTo>
                  <a:pt x="239" y="805"/>
                </a:lnTo>
                <a:lnTo>
                  <a:pt x="247" y="805"/>
                </a:lnTo>
                <a:lnTo>
                  <a:pt x="255" y="805"/>
                </a:lnTo>
                <a:lnTo>
                  <a:pt x="263" y="805"/>
                </a:lnTo>
                <a:lnTo>
                  <a:pt x="263" y="815"/>
                </a:lnTo>
                <a:lnTo>
                  <a:pt x="263" y="824"/>
                </a:lnTo>
                <a:lnTo>
                  <a:pt x="272" y="82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Freeform 30"/>
          <p:cNvSpPr/>
          <p:nvPr/>
        </p:nvSpPr>
        <p:spPr>
          <a:xfrm>
            <a:off x="4545000" y="3395520"/>
            <a:ext cx="608040" cy="755640"/>
          </a:xfrm>
          <a:custGeom>
            <a:avLst/>
            <a:gdLst>
              <a:gd name="textAreaLeft" fmla="*/ 0 w 608040"/>
              <a:gd name="textAreaRight" fmla="*/ 608400 w 6080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3" h="476">
                <a:moveTo>
                  <a:pt x="357" y="214"/>
                </a:moveTo>
                <a:lnTo>
                  <a:pt x="314" y="136"/>
                </a:lnTo>
                <a:lnTo>
                  <a:pt x="238" y="0"/>
                </a:lnTo>
                <a:lnTo>
                  <a:pt x="229" y="0"/>
                </a:lnTo>
                <a:lnTo>
                  <a:pt x="221" y="0"/>
                </a:lnTo>
                <a:lnTo>
                  <a:pt x="212" y="10"/>
                </a:lnTo>
                <a:lnTo>
                  <a:pt x="204" y="29"/>
                </a:lnTo>
                <a:lnTo>
                  <a:pt x="204" y="39"/>
                </a:lnTo>
                <a:lnTo>
                  <a:pt x="204" y="29"/>
                </a:lnTo>
                <a:lnTo>
                  <a:pt x="204" y="39"/>
                </a:lnTo>
                <a:lnTo>
                  <a:pt x="204" y="49"/>
                </a:lnTo>
                <a:lnTo>
                  <a:pt x="204" y="58"/>
                </a:lnTo>
                <a:lnTo>
                  <a:pt x="204" y="68"/>
                </a:lnTo>
                <a:lnTo>
                  <a:pt x="204" y="58"/>
                </a:lnTo>
                <a:lnTo>
                  <a:pt x="195" y="58"/>
                </a:lnTo>
                <a:lnTo>
                  <a:pt x="195" y="49"/>
                </a:lnTo>
                <a:lnTo>
                  <a:pt x="195" y="39"/>
                </a:lnTo>
                <a:lnTo>
                  <a:pt x="187" y="39"/>
                </a:lnTo>
                <a:lnTo>
                  <a:pt x="187" y="29"/>
                </a:lnTo>
                <a:lnTo>
                  <a:pt x="178" y="29"/>
                </a:lnTo>
                <a:lnTo>
                  <a:pt x="170" y="29"/>
                </a:lnTo>
                <a:lnTo>
                  <a:pt x="161" y="29"/>
                </a:lnTo>
                <a:lnTo>
                  <a:pt x="153" y="29"/>
                </a:lnTo>
                <a:lnTo>
                  <a:pt x="144" y="29"/>
                </a:lnTo>
                <a:lnTo>
                  <a:pt x="136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02" y="29"/>
                </a:lnTo>
                <a:lnTo>
                  <a:pt x="102" y="20"/>
                </a:lnTo>
                <a:lnTo>
                  <a:pt x="102" y="29"/>
                </a:lnTo>
                <a:lnTo>
                  <a:pt x="93" y="29"/>
                </a:lnTo>
                <a:lnTo>
                  <a:pt x="93" y="20"/>
                </a:lnTo>
                <a:lnTo>
                  <a:pt x="93" y="29"/>
                </a:lnTo>
                <a:lnTo>
                  <a:pt x="85" y="29"/>
                </a:lnTo>
                <a:lnTo>
                  <a:pt x="76" y="29"/>
                </a:lnTo>
                <a:lnTo>
                  <a:pt x="76" y="20"/>
                </a:lnTo>
                <a:lnTo>
                  <a:pt x="76" y="29"/>
                </a:lnTo>
                <a:lnTo>
                  <a:pt x="76" y="20"/>
                </a:lnTo>
                <a:lnTo>
                  <a:pt x="68" y="20"/>
                </a:lnTo>
                <a:lnTo>
                  <a:pt x="59" y="20"/>
                </a:lnTo>
                <a:lnTo>
                  <a:pt x="59" y="10"/>
                </a:lnTo>
                <a:lnTo>
                  <a:pt x="59" y="20"/>
                </a:lnTo>
                <a:lnTo>
                  <a:pt x="59" y="29"/>
                </a:lnTo>
                <a:lnTo>
                  <a:pt x="59" y="39"/>
                </a:lnTo>
                <a:lnTo>
                  <a:pt x="59" y="49"/>
                </a:lnTo>
                <a:lnTo>
                  <a:pt x="68" y="49"/>
                </a:lnTo>
                <a:lnTo>
                  <a:pt x="59" y="49"/>
                </a:lnTo>
                <a:lnTo>
                  <a:pt x="59" y="58"/>
                </a:lnTo>
                <a:lnTo>
                  <a:pt x="59" y="68"/>
                </a:lnTo>
                <a:lnTo>
                  <a:pt x="68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2" y="78"/>
                </a:lnTo>
                <a:lnTo>
                  <a:pt x="34" y="78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17" y="107"/>
                </a:lnTo>
                <a:lnTo>
                  <a:pt x="17" y="117"/>
                </a:lnTo>
                <a:lnTo>
                  <a:pt x="8" y="117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36"/>
                </a:lnTo>
                <a:lnTo>
                  <a:pt x="0" y="136"/>
                </a:lnTo>
                <a:lnTo>
                  <a:pt x="0" y="146"/>
                </a:lnTo>
                <a:lnTo>
                  <a:pt x="0" y="136"/>
                </a:lnTo>
                <a:lnTo>
                  <a:pt x="0" y="146"/>
                </a:lnTo>
                <a:lnTo>
                  <a:pt x="0" y="155"/>
                </a:lnTo>
                <a:lnTo>
                  <a:pt x="8" y="155"/>
                </a:lnTo>
                <a:lnTo>
                  <a:pt x="8" y="165"/>
                </a:lnTo>
                <a:lnTo>
                  <a:pt x="8" y="175"/>
                </a:lnTo>
                <a:lnTo>
                  <a:pt x="8" y="184"/>
                </a:lnTo>
                <a:lnTo>
                  <a:pt x="8" y="194"/>
                </a:lnTo>
                <a:lnTo>
                  <a:pt x="8" y="204"/>
                </a:lnTo>
                <a:lnTo>
                  <a:pt x="17" y="204"/>
                </a:lnTo>
                <a:lnTo>
                  <a:pt x="17" y="214"/>
                </a:lnTo>
                <a:lnTo>
                  <a:pt x="17" y="223"/>
                </a:lnTo>
                <a:lnTo>
                  <a:pt x="17" y="233"/>
                </a:lnTo>
                <a:lnTo>
                  <a:pt x="17" y="243"/>
                </a:lnTo>
                <a:lnTo>
                  <a:pt x="17" y="252"/>
                </a:lnTo>
                <a:lnTo>
                  <a:pt x="17" y="262"/>
                </a:lnTo>
                <a:lnTo>
                  <a:pt x="17" y="272"/>
                </a:lnTo>
                <a:lnTo>
                  <a:pt x="25" y="272"/>
                </a:lnTo>
                <a:lnTo>
                  <a:pt x="25" y="281"/>
                </a:lnTo>
                <a:lnTo>
                  <a:pt x="34" y="281"/>
                </a:lnTo>
                <a:lnTo>
                  <a:pt x="34" y="291"/>
                </a:lnTo>
                <a:lnTo>
                  <a:pt x="34" y="301"/>
                </a:lnTo>
                <a:lnTo>
                  <a:pt x="34" y="291"/>
                </a:lnTo>
                <a:lnTo>
                  <a:pt x="42" y="291"/>
                </a:lnTo>
                <a:lnTo>
                  <a:pt x="51" y="291"/>
                </a:lnTo>
                <a:lnTo>
                  <a:pt x="51" y="281"/>
                </a:lnTo>
                <a:lnTo>
                  <a:pt x="59" y="281"/>
                </a:lnTo>
                <a:lnTo>
                  <a:pt x="68" y="281"/>
                </a:lnTo>
                <a:lnTo>
                  <a:pt x="76" y="281"/>
                </a:lnTo>
                <a:lnTo>
                  <a:pt x="85" y="281"/>
                </a:lnTo>
                <a:lnTo>
                  <a:pt x="85" y="272"/>
                </a:lnTo>
                <a:lnTo>
                  <a:pt x="85" y="281"/>
                </a:lnTo>
                <a:lnTo>
                  <a:pt x="76" y="291"/>
                </a:lnTo>
                <a:lnTo>
                  <a:pt x="85" y="291"/>
                </a:lnTo>
                <a:lnTo>
                  <a:pt x="76" y="291"/>
                </a:lnTo>
                <a:lnTo>
                  <a:pt x="76" y="301"/>
                </a:lnTo>
                <a:lnTo>
                  <a:pt x="85" y="301"/>
                </a:lnTo>
                <a:lnTo>
                  <a:pt x="85" y="311"/>
                </a:lnTo>
                <a:lnTo>
                  <a:pt x="85" y="320"/>
                </a:lnTo>
                <a:lnTo>
                  <a:pt x="85" y="330"/>
                </a:lnTo>
                <a:lnTo>
                  <a:pt x="85" y="340"/>
                </a:lnTo>
                <a:lnTo>
                  <a:pt x="85" y="349"/>
                </a:lnTo>
                <a:lnTo>
                  <a:pt x="76" y="34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76" y="369"/>
                </a:lnTo>
                <a:lnTo>
                  <a:pt x="76" y="378"/>
                </a:lnTo>
                <a:lnTo>
                  <a:pt x="85" y="378"/>
                </a:lnTo>
                <a:lnTo>
                  <a:pt x="93" y="378"/>
                </a:lnTo>
                <a:lnTo>
                  <a:pt x="93" y="388"/>
                </a:lnTo>
                <a:lnTo>
                  <a:pt x="102" y="388"/>
                </a:lnTo>
                <a:lnTo>
                  <a:pt x="102" y="398"/>
                </a:lnTo>
                <a:lnTo>
                  <a:pt x="102" y="408"/>
                </a:lnTo>
                <a:lnTo>
                  <a:pt x="110" y="408"/>
                </a:lnTo>
                <a:lnTo>
                  <a:pt x="110" y="417"/>
                </a:lnTo>
                <a:lnTo>
                  <a:pt x="119" y="417"/>
                </a:lnTo>
                <a:lnTo>
                  <a:pt x="119" y="427"/>
                </a:lnTo>
                <a:lnTo>
                  <a:pt x="127" y="427"/>
                </a:lnTo>
                <a:lnTo>
                  <a:pt x="127" y="437"/>
                </a:lnTo>
                <a:lnTo>
                  <a:pt x="136" y="437"/>
                </a:lnTo>
                <a:lnTo>
                  <a:pt x="144" y="446"/>
                </a:lnTo>
                <a:lnTo>
                  <a:pt x="153" y="446"/>
                </a:lnTo>
                <a:lnTo>
                  <a:pt x="153" y="456"/>
                </a:lnTo>
                <a:lnTo>
                  <a:pt x="161" y="456"/>
                </a:lnTo>
                <a:lnTo>
                  <a:pt x="161" y="446"/>
                </a:lnTo>
                <a:lnTo>
                  <a:pt x="153" y="446"/>
                </a:lnTo>
                <a:lnTo>
                  <a:pt x="161" y="446"/>
                </a:lnTo>
                <a:lnTo>
                  <a:pt x="161" y="437"/>
                </a:lnTo>
                <a:lnTo>
                  <a:pt x="161" y="427"/>
                </a:lnTo>
                <a:lnTo>
                  <a:pt x="170" y="427"/>
                </a:lnTo>
                <a:lnTo>
                  <a:pt x="178" y="437"/>
                </a:lnTo>
                <a:lnTo>
                  <a:pt x="178" y="446"/>
                </a:lnTo>
                <a:lnTo>
                  <a:pt x="187" y="446"/>
                </a:lnTo>
                <a:lnTo>
                  <a:pt x="187" y="456"/>
                </a:lnTo>
                <a:lnTo>
                  <a:pt x="187" y="466"/>
                </a:lnTo>
                <a:lnTo>
                  <a:pt x="187" y="475"/>
                </a:lnTo>
                <a:lnTo>
                  <a:pt x="195" y="475"/>
                </a:lnTo>
                <a:lnTo>
                  <a:pt x="204" y="475"/>
                </a:lnTo>
                <a:lnTo>
                  <a:pt x="204" y="466"/>
                </a:lnTo>
                <a:lnTo>
                  <a:pt x="204" y="456"/>
                </a:lnTo>
                <a:lnTo>
                  <a:pt x="204" y="446"/>
                </a:lnTo>
                <a:lnTo>
                  <a:pt x="212" y="446"/>
                </a:lnTo>
                <a:lnTo>
                  <a:pt x="204" y="446"/>
                </a:lnTo>
                <a:lnTo>
                  <a:pt x="204" y="437"/>
                </a:lnTo>
                <a:lnTo>
                  <a:pt x="204" y="427"/>
                </a:lnTo>
                <a:lnTo>
                  <a:pt x="204" y="417"/>
                </a:lnTo>
                <a:lnTo>
                  <a:pt x="204" y="408"/>
                </a:lnTo>
                <a:lnTo>
                  <a:pt x="212" y="398"/>
                </a:lnTo>
                <a:lnTo>
                  <a:pt x="212" y="388"/>
                </a:lnTo>
                <a:lnTo>
                  <a:pt x="212" y="398"/>
                </a:lnTo>
                <a:lnTo>
                  <a:pt x="221" y="398"/>
                </a:lnTo>
                <a:lnTo>
                  <a:pt x="229" y="398"/>
                </a:lnTo>
                <a:lnTo>
                  <a:pt x="229" y="388"/>
                </a:lnTo>
                <a:lnTo>
                  <a:pt x="238" y="388"/>
                </a:lnTo>
                <a:lnTo>
                  <a:pt x="229" y="388"/>
                </a:lnTo>
                <a:lnTo>
                  <a:pt x="229" y="378"/>
                </a:lnTo>
                <a:lnTo>
                  <a:pt x="238" y="378"/>
                </a:lnTo>
                <a:lnTo>
                  <a:pt x="238" y="388"/>
                </a:lnTo>
                <a:lnTo>
                  <a:pt x="246" y="388"/>
                </a:lnTo>
                <a:lnTo>
                  <a:pt x="246" y="378"/>
                </a:lnTo>
                <a:lnTo>
                  <a:pt x="246" y="388"/>
                </a:lnTo>
                <a:lnTo>
                  <a:pt x="246" y="378"/>
                </a:lnTo>
                <a:lnTo>
                  <a:pt x="255" y="378"/>
                </a:lnTo>
                <a:lnTo>
                  <a:pt x="255" y="369"/>
                </a:lnTo>
                <a:lnTo>
                  <a:pt x="263" y="369"/>
                </a:lnTo>
                <a:lnTo>
                  <a:pt x="263" y="378"/>
                </a:lnTo>
                <a:lnTo>
                  <a:pt x="263" y="369"/>
                </a:lnTo>
                <a:lnTo>
                  <a:pt x="272" y="369"/>
                </a:lnTo>
                <a:lnTo>
                  <a:pt x="272" y="359"/>
                </a:lnTo>
                <a:lnTo>
                  <a:pt x="272" y="349"/>
                </a:lnTo>
                <a:lnTo>
                  <a:pt x="280" y="349"/>
                </a:lnTo>
                <a:lnTo>
                  <a:pt x="280" y="340"/>
                </a:lnTo>
                <a:lnTo>
                  <a:pt x="289" y="340"/>
                </a:lnTo>
                <a:lnTo>
                  <a:pt x="289" y="330"/>
                </a:lnTo>
                <a:lnTo>
                  <a:pt x="297" y="330"/>
                </a:lnTo>
                <a:lnTo>
                  <a:pt x="306" y="330"/>
                </a:lnTo>
                <a:lnTo>
                  <a:pt x="314" y="330"/>
                </a:lnTo>
                <a:lnTo>
                  <a:pt x="323" y="330"/>
                </a:lnTo>
                <a:lnTo>
                  <a:pt x="323" y="320"/>
                </a:lnTo>
                <a:lnTo>
                  <a:pt x="331" y="320"/>
                </a:lnTo>
                <a:lnTo>
                  <a:pt x="331" y="330"/>
                </a:lnTo>
                <a:lnTo>
                  <a:pt x="331" y="320"/>
                </a:lnTo>
                <a:lnTo>
                  <a:pt x="331" y="311"/>
                </a:lnTo>
                <a:lnTo>
                  <a:pt x="340" y="311"/>
                </a:lnTo>
                <a:lnTo>
                  <a:pt x="340" y="301"/>
                </a:lnTo>
                <a:lnTo>
                  <a:pt x="340" y="291"/>
                </a:lnTo>
                <a:lnTo>
                  <a:pt x="348" y="291"/>
                </a:lnTo>
                <a:lnTo>
                  <a:pt x="348" y="281"/>
                </a:lnTo>
                <a:lnTo>
                  <a:pt x="348" y="272"/>
                </a:lnTo>
                <a:lnTo>
                  <a:pt x="348" y="262"/>
                </a:lnTo>
                <a:lnTo>
                  <a:pt x="357" y="252"/>
                </a:lnTo>
                <a:lnTo>
                  <a:pt x="357" y="243"/>
                </a:lnTo>
                <a:lnTo>
                  <a:pt x="365" y="243"/>
                </a:lnTo>
                <a:lnTo>
                  <a:pt x="365" y="233"/>
                </a:lnTo>
                <a:lnTo>
                  <a:pt x="374" y="233"/>
                </a:lnTo>
                <a:lnTo>
                  <a:pt x="382" y="233"/>
                </a:lnTo>
                <a:lnTo>
                  <a:pt x="382" y="223"/>
                </a:lnTo>
                <a:lnTo>
                  <a:pt x="374" y="223"/>
                </a:lnTo>
                <a:lnTo>
                  <a:pt x="365" y="223"/>
                </a:lnTo>
                <a:lnTo>
                  <a:pt x="357" y="223"/>
                </a:lnTo>
                <a:lnTo>
                  <a:pt x="357" y="21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Freeform 31"/>
          <p:cNvSpPr/>
          <p:nvPr/>
        </p:nvSpPr>
        <p:spPr>
          <a:xfrm>
            <a:off x="4951440" y="3119400"/>
            <a:ext cx="420840" cy="755640"/>
          </a:xfrm>
          <a:custGeom>
            <a:avLst/>
            <a:gdLst>
              <a:gd name="textAreaLeft" fmla="*/ 0 w 420840"/>
              <a:gd name="textAreaRight" fmla="*/ 421200 w 420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65" h="476">
                <a:moveTo>
                  <a:pt x="0" y="48"/>
                </a:moveTo>
                <a:lnTo>
                  <a:pt x="8" y="48"/>
                </a:lnTo>
                <a:lnTo>
                  <a:pt x="8" y="58"/>
                </a:lnTo>
                <a:lnTo>
                  <a:pt x="8" y="67"/>
                </a:lnTo>
                <a:lnTo>
                  <a:pt x="17" y="67"/>
                </a:lnTo>
                <a:lnTo>
                  <a:pt x="25" y="67"/>
                </a:lnTo>
                <a:lnTo>
                  <a:pt x="25" y="77"/>
                </a:lnTo>
                <a:lnTo>
                  <a:pt x="34" y="87"/>
                </a:lnTo>
                <a:lnTo>
                  <a:pt x="34" y="97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25" y="106"/>
                </a:lnTo>
                <a:lnTo>
                  <a:pt x="17" y="106"/>
                </a:lnTo>
                <a:lnTo>
                  <a:pt x="25" y="106"/>
                </a:lnTo>
                <a:lnTo>
                  <a:pt x="17" y="106"/>
                </a:lnTo>
                <a:lnTo>
                  <a:pt x="17" y="116"/>
                </a:lnTo>
                <a:lnTo>
                  <a:pt x="25" y="116"/>
                </a:lnTo>
                <a:lnTo>
                  <a:pt x="25" y="126"/>
                </a:lnTo>
                <a:lnTo>
                  <a:pt x="17" y="126"/>
                </a:lnTo>
                <a:lnTo>
                  <a:pt x="25" y="126"/>
                </a:lnTo>
                <a:lnTo>
                  <a:pt x="17" y="135"/>
                </a:lnTo>
                <a:lnTo>
                  <a:pt x="25" y="135"/>
                </a:lnTo>
                <a:lnTo>
                  <a:pt x="25" y="145"/>
                </a:lnTo>
                <a:lnTo>
                  <a:pt x="25" y="155"/>
                </a:lnTo>
                <a:lnTo>
                  <a:pt x="25" y="164"/>
                </a:lnTo>
                <a:lnTo>
                  <a:pt x="76" y="271"/>
                </a:lnTo>
                <a:lnTo>
                  <a:pt x="85" y="310"/>
                </a:lnTo>
                <a:lnTo>
                  <a:pt x="93" y="310"/>
                </a:lnTo>
                <a:lnTo>
                  <a:pt x="127" y="397"/>
                </a:lnTo>
                <a:lnTo>
                  <a:pt x="127" y="407"/>
                </a:lnTo>
                <a:lnTo>
                  <a:pt x="136" y="407"/>
                </a:lnTo>
                <a:lnTo>
                  <a:pt x="136" y="417"/>
                </a:lnTo>
                <a:lnTo>
                  <a:pt x="127" y="426"/>
                </a:lnTo>
                <a:lnTo>
                  <a:pt x="127" y="436"/>
                </a:lnTo>
                <a:lnTo>
                  <a:pt x="136" y="436"/>
                </a:lnTo>
                <a:lnTo>
                  <a:pt x="136" y="446"/>
                </a:lnTo>
                <a:lnTo>
                  <a:pt x="136" y="455"/>
                </a:lnTo>
                <a:lnTo>
                  <a:pt x="136" y="465"/>
                </a:lnTo>
                <a:lnTo>
                  <a:pt x="144" y="465"/>
                </a:lnTo>
                <a:lnTo>
                  <a:pt x="153" y="465"/>
                </a:lnTo>
                <a:lnTo>
                  <a:pt x="161" y="465"/>
                </a:lnTo>
                <a:lnTo>
                  <a:pt x="170" y="465"/>
                </a:lnTo>
                <a:lnTo>
                  <a:pt x="170" y="475"/>
                </a:lnTo>
                <a:lnTo>
                  <a:pt x="178" y="475"/>
                </a:lnTo>
                <a:lnTo>
                  <a:pt x="178" y="465"/>
                </a:lnTo>
                <a:lnTo>
                  <a:pt x="187" y="465"/>
                </a:lnTo>
                <a:lnTo>
                  <a:pt x="187" y="47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13" y="465"/>
                </a:lnTo>
                <a:lnTo>
                  <a:pt x="221" y="465"/>
                </a:lnTo>
                <a:lnTo>
                  <a:pt x="221" y="455"/>
                </a:lnTo>
                <a:lnTo>
                  <a:pt x="221" y="446"/>
                </a:lnTo>
                <a:lnTo>
                  <a:pt x="230" y="446"/>
                </a:lnTo>
                <a:lnTo>
                  <a:pt x="230" y="436"/>
                </a:lnTo>
                <a:lnTo>
                  <a:pt x="238" y="436"/>
                </a:lnTo>
                <a:lnTo>
                  <a:pt x="238" y="426"/>
                </a:lnTo>
                <a:lnTo>
                  <a:pt x="247" y="426"/>
                </a:lnTo>
                <a:lnTo>
                  <a:pt x="247" y="436"/>
                </a:lnTo>
                <a:lnTo>
                  <a:pt x="255" y="436"/>
                </a:lnTo>
                <a:lnTo>
                  <a:pt x="255" y="426"/>
                </a:lnTo>
                <a:lnTo>
                  <a:pt x="264" y="426"/>
                </a:lnTo>
                <a:lnTo>
                  <a:pt x="264" y="417"/>
                </a:lnTo>
                <a:lnTo>
                  <a:pt x="264" y="407"/>
                </a:lnTo>
                <a:lnTo>
                  <a:pt x="264" y="397"/>
                </a:lnTo>
                <a:lnTo>
                  <a:pt x="255" y="397"/>
                </a:lnTo>
                <a:lnTo>
                  <a:pt x="247" y="397"/>
                </a:lnTo>
                <a:lnTo>
                  <a:pt x="247" y="388"/>
                </a:lnTo>
                <a:lnTo>
                  <a:pt x="247" y="378"/>
                </a:lnTo>
                <a:lnTo>
                  <a:pt x="238" y="378"/>
                </a:lnTo>
                <a:lnTo>
                  <a:pt x="238" y="368"/>
                </a:lnTo>
                <a:lnTo>
                  <a:pt x="230" y="368"/>
                </a:lnTo>
                <a:lnTo>
                  <a:pt x="230" y="358"/>
                </a:lnTo>
                <a:lnTo>
                  <a:pt x="221" y="358"/>
                </a:lnTo>
                <a:lnTo>
                  <a:pt x="221" y="349"/>
                </a:lnTo>
                <a:lnTo>
                  <a:pt x="213" y="349"/>
                </a:lnTo>
                <a:lnTo>
                  <a:pt x="213" y="339"/>
                </a:lnTo>
                <a:lnTo>
                  <a:pt x="213" y="329"/>
                </a:lnTo>
                <a:lnTo>
                  <a:pt x="213" y="320"/>
                </a:lnTo>
                <a:lnTo>
                  <a:pt x="213" y="310"/>
                </a:lnTo>
                <a:lnTo>
                  <a:pt x="213" y="300"/>
                </a:lnTo>
                <a:lnTo>
                  <a:pt x="213" y="291"/>
                </a:lnTo>
                <a:lnTo>
                  <a:pt x="213" y="281"/>
                </a:lnTo>
                <a:lnTo>
                  <a:pt x="221" y="281"/>
                </a:lnTo>
                <a:lnTo>
                  <a:pt x="221" y="271"/>
                </a:lnTo>
                <a:lnTo>
                  <a:pt x="213" y="271"/>
                </a:lnTo>
                <a:lnTo>
                  <a:pt x="213" y="261"/>
                </a:lnTo>
                <a:lnTo>
                  <a:pt x="213" y="252"/>
                </a:lnTo>
                <a:lnTo>
                  <a:pt x="204" y="252"/>
                </a:lnTo>
                <a:lnTo>
                  <a:pt x="204" y="242"/>
                </a:lnTo>
                <a:lnTo>
                  <a:pt x="196" y="232"/>
                </a:lnTo>
                <a:lnTo>
                  <a:pt x="196" y="223"/>
                </a:lnTo>
                <a:lnTo>
                  <a:pt x="187" y="223"/>
                </a:lnTo>
                <a:lnTo>
                  <a:pt x="187" y="213"/>
                </a:lnTo>
                <a:lnTo>
                  <a:pt x="187" y="203"/>
                </a:lnTo>
                <a:lnTo>
                  <a:pt x="178" y="203"/>
                </a:lnTo>
                <a:lnTo>
                  <a:pt x="178" y="194"/>
                </a:lnTo>
                <a:lnTo>
                  <a:pt x="178" y="184"/>
                </a:lnTo>
                <a:lnTo>
                  <a:pt x="170" y="184"/>
                </a:lnTo>
                <a:lnTo>
                  <a:pt x="170" y="174"/>
                </a:lnTo>
                <a:lnTo>
                  <a:pt x="170" y="164"/>
                </a:lnTo>
                <a:lnTo>
                  <a:pt x="161" y="164"/>
                </a:lnTo>
                <a:lnTo>
                  <a:pt x="161" y="155"/>
                </a:lnTo>
                <a:lnTo>
                  <a:pt x="170" y="155"/>
                </a:lnTo>
                <a:lnTo>
                  <a:pt x="170" y="145"/>
                </a:lnTo>
                <a:lnTo>
                  <a:pt x="170" y="135"/>
                </a:lnTo>
                <a:lnTo>
                  <a:pt x="161" y="135"/>
                </a:lnTo>
                <a:lnTo>
                  <a:pt x="161" y="145"/>
                </a:lnTo>
                <a:lnTo>
                  <a:pt x="161" y="135"/>
                </a:lnTo>
                <a:lnTo>
                  <a:pt x="153" y="135"/>
                </a:lnTo>
                <a:lnTo>
                  <a:pt x="153" y="145"/>
                </a:lnTo>
                <a:lnTo>
                  <a:pt x="153" y="135"/>
                </a:lnTo>
                <a:lnTo>
                  <a:pt x="144" y="135"/>
                </a:lnTo>
                <a:lnTo>
                  <a:pt x="144" y="145"/>
                </a:lnTo>
                <a:lnTo>
                  <a:pt x="136" y="145"/>
                </a:lnTo>
                <a:lnTo>
                  <a:pt x="136" y="155"/>
                </a:lnTo>
                <a:lnTo>
                  <a:pt x="127" y="155"/>
                </a:lnTo>
                <a:lnTo>
                  <a:pt x="127" y="164"/>
                </a:lnTo>
                <a:lnTo>
                  <a:pt x="119" y="164"/>
                </a:lnTo>
                <a:lnTo>
                  <a:pt x="119" y="155"/>
                </a:lnTo>
                <a:lnTo>
                  <a:pt x="119" y="164"/>
                </a:lnTo>
                <a:lnTo>
                  <a:pt x="110" y="164"/>
                </a:lnTo>
                <a:lnTo>
                  <a:pt x="110" y="155"/>
                </a:lnTo>
                <a:lnTo>
                  <a:pt x="110" y="145"/>
                </a:lnTo>
                <a:lnTo>
                  <a:pt x="110" y="135"/>
                </a:lnTo>
                <a:lnTo>
                  <a:pt x="110" y="126"/>
                </a:lnTo>
                <a:lnTo>
                  <a:pt x="110" y="116"/>
                </a:lnTo>
                <a:lnTo>
                  <a:pt x="110" y="106"/>
                </a:lnTo>
                <a:lnTo>
                  <a:pt x="119" y="106"/>
                </a:lnTo>
                <a:lnTo>
                  <a:pt x="110" y="106"/>
                </a:lnTo>
                <a:lnTo>
                  <a:pt x="102" y="106"/>
                </a:lnTo>
                <a:lnTo>
                  <a:pt x="102" y="116"/>
                </a:lnTo>
                <a:lnTo>
                  <a:pt x="93" y="116"/>
                </a:lnTo>
                <a:lnTo>
                  <a:pt x="93" y="126"/>
                </a:lnTo>
                <a:lnTo>
                  <a:pt x="85" y="126"/>
                </a:lnTo>
                <a:lnTo>
                  <a:pt x="76" y="126"/>
                </a:lnTo>
                <a:lnTo>
                  <a:pt x="76" y="116"/>
                </a:lnTo>
                <a:lnTo>
                  <a:pt x="68" y="116"/>
                </a:lnTo>
                <a:lnTo>
                  <a:pt x="68" y="106"/>
                </a:lnTo>
                <a:lnTo>
                  <a:pt x="59" y="106"/>
                </a:lnTo>
                <a:lnTo>
                  <a:pt x="59" y="97"/>
                </a:lnTo>
                <a:lnTo>
                  <a:pt x="59" y="87"/>
                </a:lnTo>
                <a:lnTo>
                  <a:pt x="51" y="87"/>
                </a:lnTo>
                <a:lnTo>
                  <a:pt x="51" y="77"/>
                </a:lnTo>
                <a:lnTo>
                  <a:pt x="59" y="77"/>
                </a:lnTo>
                <a:lnTo>
                  <a:pt x="51" y="77"/>
                </a:lnTo>
                <a:lnTo>
                  <a:pt x="51" y="67"/>
                </a:lnTo>
                <a:lnTo>
                  <a:pt x="51" y="58"/>
                </a:lnTo>
                <a:lnTo>
                  <a:pt x="59" y="58"/>
                </a:lnTo>
                <a:lnTo>
                  <a:pt x="59" y="48"/>
                </a:lnTo>
                <a:lnTo>
                  <a:pt x="59" y="38"/>
                </a:lnTo>
                <a:lnTo>
                  <a:pt x="59" y="2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51" y="0"/>
                </a:lnTo>
                <a:lnTo>
                  <a:pt x="42" y="0"/>
                </a:lnTo>
                <a:lnTo>
                  <a:pt x="34" y="0"/>
                </a:lnTo>
                <a:lnTo>
                  <a:pt x="34" y="9"/>
                </a:lnTo>
                <a:lnTo>
                  <a:pt x="34" y="19"/>
                </a:lnTo>
                <a:lnTo>
                  <a:pt x="25" y="19"/>
                </a:lnTo>
                <a:lnTo>
                  <a:pt x="17" y="19"/>
                </a:lnTo>
                <a:lnTo>
                  <a:pt x="8" y="19"/>
                </a:lnTo>
                <a:lnTo>
                  <a:pt x="8" y="29"/>
                </a:lnTo>
                <a:lnTo>
                  <a:pt x="8" y="38"/>
                </a:lnTo>
                <a:lnTo>
                  <a:pt x="0" y="38"/>
                </a:lnTo>
                <a:lnTo>
                  <a:pt x="0" y="4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Freeform 32"/>
          <p:cNvSpPr/>
          <p:nvPr/>
        </p:nvSpPr>
        <p:spPr>
          <a:xfrm>
            <a:off x="4408560" y="2903400"/>
            <a:ext cx="150840" cy="247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95" h="156">
                <a:moveTo>
                  <a:pt x="9" y="39"/>
                </a:moveTo>
                <a:lnTo>
                  <a:pt x="17" y="39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9"/>
                </a:lnTo>
                <a:lnTo>
                  <a:pt x="34" y="19"/>
                </a:lnTo>
                <a:lnTo>
                  <a:pt x="43" y="19"/>
                </a:lnTo>
                <a:lnTo>
                  <a:pt x="43" y="9"/>
                </a:lnTo>
                <a:lnTo>
                  <a:pt x="43" y="19"/>
                </a:lnTo>
                <a:lnTo>
                  <a:pt x="43" y="9"/>
                </a:lnTo>
                <a:lnTo>
                  <a:pt x="51" y="9"/>
                </a:lnTo>
                <a:lnTo>
                  <a:pt x="51" y="0"/>
                </a:lnTo>
                <a:lnTo>
                  <a:pt x="60" y="0"/>
                </a:lnTo>
                <a:lnTo>
                  <a:pt x="60" y="9"/>
                </a:lnTo>
                <a:lnTo>
                  <a:pt x="60" y="19"/>
                </a:lnTo>
                <a:lnTo>
                  <a:pt x="69" y="19"/>
                </a:lnTo>
                <a:lnTo>
                  <a:pt x="69" y="29"/>
                </a:lnTo>
                <a:lnTo>
                  <a:pt x="77" y="29"/>
                </a:lnTo>
                <a:lnTo>
                  <a:pt x="77" y="39"/>
                </a:lnTo>
                <a:lnTo>
                  <a:pt x="77" y="48"/>
                </a:lnTo>
                <a:lnTo>
                  <a:pt x="77" y="58"/>
                </a:lnTo>
                <a:lnTo>
                  <a:pt x="86" y="58"/>
                </a:lnTo>
                <a:lnTo>
                  <a:pt x="86" y="68"/>
                </a:lnTo>
                <a:lnTo>
                  <a:pt x="86" y="77"/>
                </a:lnTo>
                <a:lnTo>
                  <a:pt x="86" y="87"/>
                </a:lnTo>
                <a:lnTo>
                  <a:pt x="77" y="87"/>
                </a:lnTo>
                <a:lnTo>
                  <a:pt x="77" y="97"/>
                </a:lnTo>
                <a:lnTo>
                  <a:pt x="86" y="97"/>
                </a:lnTo>
                <a:lnTo>
                  <a:pt x="77" y="97"/>
                </a:lnTo>
                <a:lnTo>
                  <a:pt x="86" y="97"/>
                </a:lnTo>
                <a:lnTo>
                  <a:pt x="86" y="106"/>
                </a:lnTo>
                <a:lnTo>
                  <a:pt x="86" y="116"/>
                </a:lnTo>
                <a:lnTo>
                  <a:pt x="86" y="126"/>
                </a:lnTo>
                <a:lnTo>
                  <a:pt x="94" y="126"/>
                </a:lnTo>
                <a:lnTo>
                  <a:pt x="94" y="136"/>
                </a:lnTo>
                <a:lnTo>
                  <a:pt x="94" y="145"/>
                </a:lnTo>
                <a:lnTo>
                  <a:pt x="94" y="155"/>
                </a:lnTo>
                <a:lnTo>
                  <a:pt x="86" y="155"/>
                </a:lnTo>
                <a:lnTo>
                  <a:pt x="77" y="155"/>
                </a:lnTo>
                <a:lnTo>
                  <a:pt x="69" y="155"/>
                </a:lnTo>
                <a:lnTo>
                  <a:pt x="69" y="145"/>
                </a:lnTo>
                <a:lnTo>
                  <a:pt x="60" y="145"/>
                </a:lnTo>
                <a:lnTo>
                  <a:pt x="60" y="136"/>
                </a:lnTo>
                <a:lnTo>
                  <a:pt x="60" y="126"/>
                </a:lnTo>
                <a:lnTo>
                  <a:pt x="51" y="126"/>
                </a:lnTo>
                <a:lnTo>
                  <a:pt x="51" y="116"/>
                </a:lnTo>
                <a:lnTo>
                  <a:pt x="43" y="116"/>
                </a:lnTo>
                <a:lnTo>
                  <a:pt x="43" y="106"/>
                </a:lnTo>
                <a:lnTo>
                  <a:pt x="34" y="106"/>
                </a:lnTo>
                <a:lnTo>
                  <a:pt x="34" y="97"/>
                </a:lnTo>
                <a:lnTo>
                  <a:pt x="26" y="97"/>
                </a:lnTo>
                <a:lnTo>
                  <a:pt x="26" y="87"/>
                </a:lnTo>
                <a:lnTo>
                  <a:pt x="26" y="77"/>
                </a:lnTo>
                <a:lnTo>
                  <a:pt x="17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0" y="58"/>
                </a:lnTo>
                <a:lnTo>
                  <a:pt x="0" y="48"/>
                </a:lnTo>
                <a:lnTo>
                  <a:pt x="9" y="48"/>
                </a:lnTo>
                <a:lnTo>
                  <a:pt x="9" y="3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Freeform 33"/>
          <p:cNvSpPr/>
          <p:nvPr/>
        </p:nvSpPr>
        <p:spPr>
          <a:xfrm>
            <a:off x="4503600" y="2903400"/>
            <a:ext cx="217800" cy="169920"/>
          </a:xfrm>
          <a:custGeom>
            <a:avLst/>
            <a:gdLst>
              <a:gd name="textAreaLeft" fmla="*/ 0 w 217800"/>
              <a:gd name="textAreaRight" fmla="*/ 218160 w 2178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7" h="107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lnTo>
                  <a:pt x="9" y="9"/>
                </a:lnTo>
                <a:lnTo>
                  <a:pt x="17" y="9"/>
                </a:lnTo>
                <a:lnTo>
                  <a:pt x="17" y="19"/>
                </a:lnTo>
                <a:lnTo>
                  <a:pt x="26" y="19"/>
                </a:lnTo>
                <a:lnTo>
                  <a:pt x="26" y="29"/>
                </a:lnTo>
                <a:lnTo>
                  <a:pt x="34" y="29"/>
                </a:lnTo>
                <a:lnTo>
                  <a:pt x="34" y="39"/>
                </a:lnTo>
                <a:lnTo>
                  <a:pt x="43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1" y="48"/>
                </a:lnTo>
                <a:lnTo>
                  <a:pt x="60" y="48"/>
                </a:lnTo>
                <a:lnTo>
                  <a:pt x="60" y="58"/>
                </a:lnTo>
                <a:lnTo>
                  <a:pt x="68" y="58"/>
                </a:lnTo>
                <a:lnTo>
                  <a:pt x="68" y="68"/>
                </a:lnTo>
                <a:lnTo>
                  <a:pt x="68" y="77"/>
                </a:lnTo>
                <a:lnTo>
                  <a:pt x="68" y="87"/>
                </a:lnTo>
                <a:lnTo>
                  <a:pt x="77" y="87"/>
                </a:lnTo>
                <a:lnTo>
                  <a:pt x="85" y="87"/>
                </a:lnTo>
                <a:lnTo>
                  <a:pt x="85" y="97"/>
                </a:lnTo>
                <a:lnTo>
                  <a:pt x="94" y="106"/>
                </a:lnTo>
                <a:lnTo>
                  <a:pt x="94" y="97"/>
                </a:lnTo>
                <a:lnTo>
                  <a:pt x="94" y="106"/>
                </a:lnTo>
                <a:lnTo>
                  <a:pt x="94" y="97"/>
                </a:lnTo>
                <a:lnTo>
                  <a:pt x="102" y="97"/>
                </a:lnTo>
                <a:lnTo>
                  <a:pt x="111" y="97"/>
                </a:lnTo>
                <a:lnTo>
                  <a:pt x="111" y="87"/>
                </a:lnTo>
                <a:lnTo>
                  <a:pt x="111" y="97"/>
                </a:lnTo>
                <a:lnTo>
                  <a:pt x="119" y="97"/>
                </a:lnTo>
                <a:lnTo>
                  <a:pt x="111" y="97"/>
                </a:lnTo>
                <a:lnTo>
                  <a:pt x="119" y="97"/>
                </a:lnTo>
                <a:lnTo>
                  <a:pt x="119" y="106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36" y="97"/>
                </a:lnTo>
                <a:lnTo>
                  <a:pt x="128" y="97"/>
                </a:lnTo>
                <a:lnTo>
                  <a:pt x="128" y="87"/>
                </a:lnTo>
                <a:lnTo>
                  <a:pt x="128" y="77"/>
                </a:lnTo>
                <a:lnTo>
                  <a:pt x="128" y="68"/>
                </a:lnTo>
                <a:lnTo>
                  <a:pt x="136" y="68"/>
                </a:lnTo>
                <a:lnTo>
                  <a:pt x="128" y="68"/>
                </a:lnTo>
                <a:lnTo>
                  <a:pt x="119" y="68"/>
                </a:lnTo>
                <a:lnTo>
                  <a:pt x="119" y="58"/>
                </a:lnTo>
                <a:lnTo>
                  <a:pt x="119" y="48"/>
                </a:lnTo>
                <a:lnTo>
                  <a:pt x="111" y="48"/>
                </a:lnTo>
                <a:lnTo>
                  <a:pt x="102" y="48"/>
                </a:lnTo>
                <a:lnTo>
                  <a:pt x="102" y="39"/>
                </a:lnTo>
                <a:lnTo>
                  <a:pt x="94" y="39"/>
                </a:lnTo>
                <a:lnTo>
                  <a:pt x="94" y="29"/>
                </a:lnTo>
                <a:lnTo>
                  <a:pt x="85" y="29"/>
                </a:lnTo>
                <a:lnTo>
                  <a:pt x="85" y="19"/>
                </a:lnTo>
                <a:lnTo>
                  <a:pt x="77" y="19"/>
                </a:lnTo>
                <a:lnTo>
                  <a:pt x="77" y="9"/>
                </a:lnTo>
                <a:lnTo>
                  <a:pt x="77" y="19"/>
                </a:lnTo>
                <a:lnTo>
                  <a:pt x="68" y="19"/>
                </a:lnTo>
                <a:lnTo>
                  <a:pt x="68" y="9"/>
                </a:lnTo>
                <a:lnTo>
                  <a:pt x="60" y="9"/>
                </a:lnTo>
                <a:lnTo>
                  <a:pt x="51" y="9"/>
                </a:lnTo>
                <a:lnTo>
                  <a:pt x="43" y="9"/>
                </a:lnTo>
                <a:lnTo>
                  <a:pt x="34" y="9"/>
                </a:lnTo>
                <a:lnTo>
                  <a:pt x="26" y="9"/>
                </a:lnTo>
                <a:lnTo>
                  <a:pt x="26" y="0"/>
                </a:lnTo>
                <a:lnTo>
                  <a:pt x="26" y="9"/>
                </a:lnTo>
                <a:lnTo>
                  <a:pt x="17" y="9"/>
                </a:lnTo>
                <a:lnTo>
                  <a:pt x="9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Freeform 34"/>
          <p:cNvSpPr/>
          <p:nvPr/>
        </p:nvSpPr>
        <p:spPr>
          <a:xfrm>
            <a:off x="3884760" y="2979720"/>
            <a:ext cx="502920" cy="870120"/>
          </a:xfrm>
          <a:custGeom>
            <a:avLst/>
            <a:gdLst>
              <a:gd name="textAreaLeft" fmla="*/ 0 w 502920"/>
              <a:gd name="textAreaRight" fmla="*/ 503280 w 5029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317" h="548">
                <a:moveTo>
                  <a:pt x="249" y="67"/>
                </a:moveTo>
                <a:lnTo>
                  <a:pt x="241" y="67"/>
                </a:lnTo>
                <a:lnTo>
                  <a:pt x="241" y="57"/>
                </a:lnTo>
                <a:lnTo>
                  <a:pt x="233" y="57"/>
                </a:lnTo>
                <a:lnTo>
                  <a:pt x="233" y="48"/>
                </a:lnTo>
                <a:lnTo>
                  <a:pt x="233" y="39"/>
                </a:lnTo>
                <a:lnTo>
                  <a:pt x="224" y="39"/>
                </a:lnTo>
                <a:lnTo>
                  <a:pt x="224" y="29"/>
                </a:lnTo>
                <a:lnTo>
                  <a:pt x="216" y="29"/>
                </a:lnTo>
                <a:lnTo>
                  <a:pt x="224" y="29"/>
                </a:lnTo>
                <a:lnTo>
                  <a:pt x="216" y="20"/>
                </a:lnTo>
                <a:lnTo>
                  <a:pt x="216" y="29"/>
                </a:lnTo>
                <a:lnTo>
                  <a:pt x="216" y="20"/>
                </a:lnTo>
                <a:lnTo>
                  <a:pt x="207" y="20"/>
                </a:lnTo>
                <a:lnTo>
                  <a:pt x="207" y="10"/>
                </a:lnTo>
                <a:lnTo>
                  <a:pt x="207" y="20"/>
                </a:lnTo>
                <a:lnTo>
                  <a:pt x="200" y="20"/>
                </a:lnTo>
                <a:lnTo>
                  <a:pt x="200" y="10"/>
                </a:lnTo>
                <a:lnTo>
                  <a:pt x="191" y="10"/>
                </a:lnTo>
                <a:lnTo>
                  <a:pt x="191" y="0"/>
                </a:lnTo>
                <a:lnTo>
                  <a:pt x="183" y="0"/>
                </a:lnTo>
                <a:lnTo>
                  <a:pt x="183" y="10"/>
                </a:lnTo>
                <a:lnTo>
                  <a:pt x="174" y="10"/>
                </a:lnTo>
                <a:lnTo>
                  <a:pt x="174" y="20"/>
                </a:lnTo>
                <a:lnTo>
                  <a:pt x="166" y="20"/>
                </a:lnTo>
                <a:lnTo>
                  <a:pt x="166" y="10"/>
                </a:lnTo>
                <a:lnTo>
                  <a:pt x="166" y="20"/>
                </a:lnTo>
                <a:lnTo>
                  <a:pt x="158" y="20"/>
                </a:lnTo>
                <a:lnTo>
                  <a:pt x="158" y="29"/>
                </a:lnTo>
                <a:lnTo>
                  <a:pt x="158" y="20"/>
                </a:lnTo>
                <a:lnTo>
                  <a:pt x="150" y="20"/>
                </a:lnTo>
                <a:lnTo>
                  <a:pt x="141" y="29"/>
                </a:lnTo>
                <a:lnTo>
                  <a:pt x="141" y="20"/>
                </a:lnTo>
                <a:lnTo>
                  <a:pt x="133" y="20"/>
                </a:lnTo>
                <a:lnTo>
                  <a:pt x="133" y="29"/>
                </a:lnTo>
                <a:lnTo>
                  <a:pt x="124" y="29"/>
                </a:lnTo>
                <a:lnTo>
                  <a:pt x="124" y="20"/>
                </a:lnTo>
                <a:lnTo>
                  <a:pt x="124" y="29"/>
                </a:lnTo>
                <a:lnTo>
                  <a:pt x="116" y="29"/>
                </a:lnTo>
                <a:lnTo>
                  <a:pt x="116" y="20"/>
                </a:lnTo>
                <a:lnTo>
                  <a:pt x="116" y="29"/>
                </a:lnTo>
                <a:lnTo>
                  <a:pt x="108" y="29"/>
                </a:lnTo>
                <a:lnTo>
                  <a:pt x="108" y="39"/>
                </a:lnTo>
                <a:lnTo>
                  <a:pt x="100" y="39"/>
                </a:lnTo>
                <a:lnTo>
                  <a:pt x="91" y="39"/>
                </a:lnTo>
                <a:lnTo>
                  <a:pt x="91" y="48"/>
                </a:lnTo>
                <a:lnTo>
                  <a:pt x="83" y="48"/>
                </a:lnTo>
                <a:lnTo>
                  <a:pt x="83" y="39"/>
                </a:lnTo>
                <a:lnTo>
                  <a:pt x="83" y="48"/>
                </a:lnTo>
                <a:lnTo>
                  <a:pt x="83" y="57"/>
                </a:lnTo>
                <a:lnTo>
                  <a:pt x="74" y="57"/>
                </a:lnTo>
                <a:lnTo>
                  <a:pt x="74" y="67"/>
                </a:lnTo>
                <a:lnTo>
                  <a:pt x="74" y="77"/>
                </a:lnTo>
                <a:lnTo>
                  <a:pt x="74" y="67"/>
                </a:lnTo>
                <a:lnTo>
                  <a:pt x="67" y="67"/>
                </a:lnTo>
                <a:lnTo>
                  <a:pt x="67" y="77"/>
                </a:lnTo>
                <a:lnTo>
                  <a:pt x="58" y="77"/>
                </a:lnTo>
                <a:lnTo>
                  <a:pt x="58" y="87"/>
                </a:lnTo>
                <a:lnTo>
                  <a:pt x="50" y="87"/>
                </a:lnTo>
                <a:lnTo>
                  <a:pt x="50" y="96"/>
                </a:lnTo>
                <a:lnTo>
                  <a:pt x="41" y="96"/>
                </a:lnTo>
                <a:lnTo>
                  <a:pt x="41" y="87"/>
                </a:lnTo>
                <a:lnTo>
                  <a:pt x="41" y="96"/>
                </a:lnTo>
                <a:lnTo>
                  <a:pt x="41" y="106"/>
                </a:lnTo>
                <a:lnTo>
                  <a:pt x="41" y="116"/>
                </a:lnTo>
                <a:lnTo>
                  <a:pt x="41" y="106"/>
                </a:lnTo>
                <a:lnTo>
                  <a:pt x="33" y="106"/>
                </a:lnTo>
                <a:lnTo>
                  <a:pt x="33" y="116"/>
                </a:lnTo>
                <a:lnTo>
                  <a:pt x="33" y="125"/>
                </a:lnTo>
                <a:lnTo>
                  <a:pt x="33" y="135"/>
                </a:lnTo>
                <a:lnTo>
                  <a:pt x="33" y="125"/>
                </a:lnTo>
                <a:lnTo>
                  <a:pt x="33" y="135"/>
                </a:lnTo>
                <a:lnTo>
                  <a:pt x="24" y="135"/>
                </a:lnTo>
                <a:lnTo>
                  <a:pt x="24" y="144"/>
                </a:lnTo>
                <a:lnTo>
                  <a:pt x="24" y="153"/>
                </a:lnTo>
                <a:lnTo>
                  <a:pt x="17" y="153"/>
                </a:lnTo>
                <a:lnTo>
                  <a:pt x="17" y="163"/>
                </a:lnTo>
                <a:lnTo>
                  <a:pt x="17" y="153"/>
                </a:lnTo>
                <a:lnTo>
                  <a:pt x="8" y="163"/>
                </a:lnTo>
                <a:lnTo>
                  <a:pt x="0" y="163"/>
                </a:lnTo>
                <a:lnTo>
                  <a:pt x="0" y="173"/>
                </a:lnTo>
                <a:lnTo>
                  <a:pt x="8" y="183"/>
                </a:lnTo>
                <a:lnTo>
                  <a:pt x="0" y="192"/>
                </a:lnTo>
                <a:lnTo>
                  <a:pt x="8" y="192"/>
                </a:lnTo>
                <a:lnTo>
                  <a:pt x="8" y="183"/>
                </a:lnTo>
                <a:lnTo>
                  <a:pt x="8" y="192"/>
                </a:lnTo>
                <a:lnTo>
                  <a:pt x="8" y="183"/>
                </a:lnTo>
                <a:lnTo>
                  <a:pt x="17" y="183"/>
                </a:lnTo>
                <a:lnTo>
                  <a:pt x="17" y="192"/>
                </a:lnTo>
                <a:lnTo>
                  <a:pt x="17" y="202"/>
                </a:lnTo>
                <a:lnTo>
                  <a:pt x="24" y="202"/>
                </a:lnTo>
                <a:lnTo>
                  <a:pt x="24" y="212"/>
                </a:lnTo>
                <a:lnTo>
                  <a:pt x="24" y="221"/>
                </a:lnTo>
                <a:lnTo>
                  <a:pt x="33" y="221"/>
                </a:lnTo>
                <a:lnTo>
                  <a:pt x="33" y="230"/>
                </a:lnTo>
                <a:lnTo>
                  <a:pt x="41" y="230"/>
                </a:lnTo>
                <a:lnTo>
                  <a:pt x="41" y="221"/>
                </a:lnTo>
                <a:lnTo>
                  <a:pt x="41" y="230"/>
                </a:lnTo>
                <a:lnTo>
                  <a:pt x="41" y="240"/>
                </a:lnTo>
                <a:lnTo>
                  <a:pt x="41" y="249"/>
                </a:lnTo>
                <a:lnTo>
                  <a:pt x="33" y="249"/>
                </a:lnTo>
                <a:lnTo>
                  <a:pt x="33" y="259"/>
                </a:lnTo>
                <a:lnTo>
                  <a:pt x="41" y="259"/>
                </a:lnTo>
                <a:lnTo>
                  <a:pt x="41" y="269"/>
                </a:lnTo>
                <a:lnTo>
                  <a:pt x="41" y="279"/>
                </a:lnTo>
                <a:lnTo>
                  <a:pt x="41" y="288"/>
                </a:lnTo>
                <a:lnTo>
                  <a:pt x="41" y="298"/>
                </a:lnTo>
                <a:lnTo>
                  <a:pt x="50" y="308"/>
                </a:lnTo>
                <a:lnTo>
                  <a:pt x="50" y="317"/>
                </a:lnTo>
                <a:lnTo>
                  <a:pt x="50" y="326"/>
                </a:lnTo>
                <a:lnTo>
                  <a:pt x="50" y="336"/>
                </a:lnTo>
                <a:lnTo>
                  <a:pt x="58" y="336"/>
                </a:lnTo>
                <a:lnTo>
                  <a:pt x="58" y="345"/>
                </a:lnTo>
                <a:lnTo>
                  <a:pt x="58" y="355"/>
                </a:lnTo>
                <a:lnTo>
                  <a:pt x="58" y="345"/>
                </a:lnTo>
                <a:lnTo>
                  <a:pt x="58" y="355"/>
                </a:lnTo>
                <a:lnTo>
                  <a:pt x="67" y="355"/>
                </a:lnTo>
                <a:lnTo>
                  <a:pt x="58" y="355"/>
                </a:lnTo>
                <a:lnTo>
                  <a:pt x="58" y="365"/>
                </a:lnTo>
                <a:lnTo>
                  <a:pt x="67" y="365"/>
                </a:lnTo>
                <a:lnTo>
                  <a:pt x="58" y="365"/>
                </a:lnTo>
                <a:lnTo>
                  <a:pt x="58" y="375"/>
                </a:lnTo>
                <a:lnTo>
                  <a:pt x="50" y="375"/>
                </a:lnTo>
                <a:lnTo>
                  <a:pt x="50" y="365"/>
                </a:lnTo>
                <a:lnTo>
                  <a:pt x="50" y="355"/>
                </a:lnTo>
                <a:lnTo>
                  <a:pt x="50" y="365"/>
                </a:lnTo>
                <a:lnTo>
                  <a:pt x="41" y="365"/>
                </a:lnTo>
                <a:lnTo>
                  <a:pt x="41" y="355"/>
                </a:lnTo>
                <a:lnTo>
                  <a:pt x="41" y="365"/>
                </a:lnTo>
                <a:lnTo>
                  <a:pt x="33" y="365"/>
                </a:lnTo>
                <a:lnTo>
                  <a:pt x="41" y="365"/>
                </a:lnTo>
                <a:lnTo>
                  <a:pt x="41" y="375"/>
                </a:lnTo>
                <a:lnTo>
                  <a:pt x="33" y="375"/>
                </a:lnTo>
                <a:lnTo>
                  <a:pt x="41" y="375"/>
                </a:lnTo>
                <a:lnTo>
                  <a:pt x="33" y="375"/>
                </a:lnTo>
                <a:lnTo>
                  <a:pt x="33" y="384"/>
                </a:lnTo>
                <a:lnTo>
                  <a:pt x="41" y="384"/>
                </a:lnTo>
                <a:lnTo>
                  <a:pt x="33" y="384"/>
                </a:lnTo>
                <a:lnTo>
                  <a:pt x="41" y="384"/>
                </a:lnTo>
                <a:lnTo>
                  <a:pt x="41" y="394"/>
                </a:lnTo>
                <a:lnTo>
                  <a:pt x="41" y="404"/>
                </a:lnTo>
                <a:lnTo>
                  <a:pt x="41" y="412"/>
                </a:lnTo>
                <a:lnTo>
                  <a:pt x="50" y="412"/>
                </a:lnTo>
                <a:lnTo>
                  <a:pt x="50" y="422"/>
                </a:lnTo>
                <a:lnTo>
                  <a:pt x="58" y="422"/>
                </a:lnTo>
                <a:lnTo>
                  <a:pt x="58" y="412"/>
                </a:lnTo>
                <a:lnTo>
                  <a:pt x="58" y="422"/>
                </a:lnTo>
                <a:lnTo>
                  <a:pt x="58" y="432"/>
                </a:lnTo>
                <a:lnTo>
                  <a:pt x="67" y="432"/>
                </a:lnTo>
                <a:lnTo>
                  <a:pt x="58" y="432"/>
                </a:lnTo>
                <a:lnTo>
                  <a:pt x="67" y="432"/>
                </a:lnTo>
                <a:lnTo>
                  <a:pt x="67" y="441"/>
                </a:lnTo>
                <a:lnTo>
                  <a:pt x="58" y="451"/>
                </a:lnTo>
                <a:lnTo>
                  <a:pt x="58" y="441"/>
                </a:lnTo>
                <a:lnTo>
                  <a:pt x="58" y="451"/>
                </a:lnTo>
                <a:lnTo>
                  <a:pt x="58" y="461"/>
                </a:lnTo>
                <a:lnTo>
                  <a:pt x="58" y="471"/>
                </a:lnTo>
                <a:lnTo>
                  <a:pt x="58" y="480"/>
                </a:lnTo>
                <a:lnTo>
                  <a:pt x="58" y="490"/>
                </a:lnTo>
                <a:lnTo>
                  <a:pt x="58" y="500"/>
                </a:lnTo>
                <a:lnTo>
                  <a:pt x="50" y="500"/>
                </a:lnTo>
                <a:lnTo>
                  <a:pt x="50" y="508"/>
                </a:lnTo>
                <a:lnTo>
                  <a:pt x="50" y="518"/>
                </a:lnTo>
                <a:lnTo>
                  <a:pt x="50" y="528"/>
                </a:lnTo>
                <a:lnTo>
                  <a:pt x="58" y="528"/>
                </a:lnTo>
                <a:lnTo>
                  <a:pt x="58" y="518"/>
                </a:lnTo>
                <a:lnTo>
                  <a:pt x="58" y="528"/>
                </a:lnTo>
                <a:lnTo>
                  <a:pt x="67" y="528"/>
                </a:lnTo>
                <a:lnTo>
                  <a:pt x="74" y="528"/>
                </a:lnTo>
                <a:lnTo>
                  <a:pt x="83" y="528"/>
                </a:lnTo>
                <a:lnTo>
                  <a:pt x="91" y="528"/>
                </a:lnTo>
                <a:lnTo>
                  <a:pt x="100" y="528"/>
                </a:lnTo>
                <a:lnTo>
                  <a:pt x="100" y="518"/>
                </a:lnTo>
                <a:lnTo>
                  <a:pt x="100" y="528"/>
                </a:lnTo>
                <a:lnTo>
                  <a:pt x="108" y="528"/>
                </a:lnTo>
                <a:lnTo>
                  <a:pt x="116" y="528"/>
                </a:lnTo>
                <a:lnTo>
                  <a:pt x="116" y="518"/>
                </a:lnTo>
                <a:lnTo>
                  <a:pt x="124" y="518"/>
                </a:lnTo>
                <a:lnTo>
                  <a:pt x="124" y="528"/>
                </a:lnTo>
                <a:lnTo>
                  <a:pt x="133" y="528"/>
                </a:lnTo>
                <a:lnTo>
                  <a:pt x="133" y="518"/>
                </a:lnTo>
                <a:lnTo>
                  <a:pt x="133" y="528"/>
                </a:lnTo>
                <a:lnTo>
                  <a:pt x="141" y="528"/>
                </a:lnTo>
                <a:lnTo>
                  <a:pt x="133" y="528"/>
                </a:lnTo>
                <a:lnTo>
                  <a:pt x="141" y="528"/>
                </a:lnTo>
                <a:lnTo>
                  <a:pt x="141" y="537"/>
                </a:lnTo>
                <a:lnTo>
                  <a:pt x="141" y="547"/>
                </a:lnTo>
                <a:lnTo>
                  <a:pt x="150" y="547"/>
                </a:lnTo>
                <a:lnTo>
                  <a:pt x="150" y="537"/>
                </a:lnTo>
                <a:lnTo>
                  <a:pt x="158" y="547"/>
                </a:lnTo>
                <a:lnTo>
                  <a:pt x="158" y="537"/>
                </a:lnTo>
                <a:lnTo>
                  <a:pt x="150" y="537"/>
                </a:lnTo>
                <a:lnTo>
                  <a:pt x="158" y="537"/>
                </a:lnTo>
                <a:lnTo>
                  <a:pt x="158" y="528"/>
                </a:lnTo>
                <a:lnTo>
                  <a:pt x="166" y="528"/>
                </a:lnTo>
                <a:lnTo>
                  <a:pt x="158" y="528"/>
                </a:lnTo>
                <a:lnTo>
                  <a:pt x="166" y="528"/>
                </a:lnTo>
                <a:lnTo>
                  <a:pt x="166" y="518"/>
                </a:lnTo>
                <a:lnTo>
                  <a:pt x="158" y="51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74" y="518"/>
                </a:lnTo>
                <a:lnTo>
                  <a:pt x="174" y="508"/>
                </a:lnTo>
                <a:lnTo>
                  <a:pt x="174" y="518"/>
                </a:lnTo>
                <a:lnTo>
                  <a:pt x="174" y="508"/>
                </a:lnTo>
                <a:lnTo>
                  <a:pt x="174" y="500"/>
                </a:lnTo>
                <a:lnTo>
                  <a:pt x="183" y="500"/>
                </a:lnTo>
                <a:lnTo>
                  <a:pt x="183" y="490"/>
                </a:lnTo>
                <a:lnTo>
                  <a:pt x="183" y="480"/>
                </a:lnTo>
                <a:lnTo>
                  <a:pt x="183" y="471"/>
                </a:lnTo>
                <a:lnTo>
                  <a:pt x="174" y="471"/>
                </a:lnTo>
                <a:lnTo>
                  <a:pt x="183" y="461"/>
                </a:lnTo>
                <a:lnTo>
                  <a:pt x="183" y="451"/>
                </a:lnTo>
                <a:lnTo>
                  <a:pt x="183" y="441"/>
                </a:lnTo>
                <a:lnTo>
                  <a:pt x="174" y="441"/>
                </a:lnTo>
                <a:lnTo>
                  <a:pt x="183" y="441"/>
                </a:lnTo>
                <a:lnTo>
                  <a:pt x="183" y="432"/>
                </a:lnTo>
                <a:lnTo>
                  <a:pt x="191" y="432"/>
                </a:lnTo>
                <a:lnTo>
                  <a:pt x="191" y="441"/>
                </a:lnTo>
                <a:lnTo>
                  <a:pt x="200" y="441"/>
                </a:lnTo>
                <a:lnTo>
                  <a:pt x="200" y="432"/>
                </a:lnTo>
                <a:lnTo>
                  <a:pt x="200" y="441"/>
                </a:lnTo>
                <a:lnTo>
                  <a:pt x="200" y="432"/>
                </a:lnTo>
                <a:lnTo>
                  <a:pt x="207" y="432"/>
                </a:lnTo>
                <a:lnTo>
                  <a:pt x="207" y="441"/>
                </a:lnTo>
                <a:lnTo>
                  <a:pt x="207" y="432"/>
                </a:lnTo>
                <a:lnTo>
                  <a:pt x="207" y="441"/>
                </a:lnTo>
                <a:lnTo>
                  <a:pt x="216" y="441"/>
                </a:lnTo>
                <a:lnTo>
                  <a:pt x="216" y="432"/>
                </a:lnTo>
                <a:lnTo>
                  <a:pt x="224" y="432"/>
                </a:lnTo>
                <a:lnTo>
                  <a:pt x="224" y="441"/>
                </a:lnTo>
                <a:lnTo>
                  <a:pt x="233" y="441"/>
                </a:lnTo>
                <a:lnTo>
                  <a:pt x="233" y="432"/>
                </a:lnTo>
                <a:lnTo>
                  <a:pt x="233" y="441"/>
                </a:lnTo>
                <a:lnTo>
                  <a:pt x="233" y="432"/>
                </a:lnTo>
                <a:lnTo>
                  <a:pt x="241" y="432"/>
                </a:lnTo>
                <a:lnTo>
                  <a:pt x="249" y="432"/>
                </a:lnTo>
                <a:lnTo>
                  <a:pt x="257" y="432"/>
                </a:lnTo>
                <a:lnTo>
                  <a:pt x="257" y="422"/>
                </a:lnTo>
                <a:lnTo>
                  <a:pt x="257" y="432"/>
                </a:lnTo>
                <a:lnTo>
                  <a:pt x="266" y="432"/>
                </a:lnTo>
                <a:lnTo>
                  <a:pt x="266" y="422"/>
                </a:lnTo>
                <a:lnTo>
                  <a:pt x="266" y="412"/>
                </a:lnTo>
                <a:lnTo>
                  <a:pt x="266" y="404"/>
                </a:lnTo>
                <a:lnTo>
                  <a:pt x="274" y="404"/>
                </a:lnTo>
                <a:lnTo>
                  <a:pt x="274" y="394"/>
                </a:lnTo>
                <a:lnTo>
                  <a:pt x="266" y="394"/>
                </a:lnTo>
                <a:lnTo>
                  <a:pt x="274" y="394"/>
                </a:lnTo>
                <a:lnTo>
                  <a:pt x="274" y="384"/>
                </a:lnTo>
                <a:lnTo>
                  <a:pt x="274" y="394"/>
                </a:lnTo>
                <a:lnTo>
                  <a:pt x="274" y="384"/>
                </a:lnTo>
                <a:lnTo>
                  <a:pt x="274" y="375"/>
                </a:lnTo>
                <a:lnTo>
                  <a:pt x="266" y="375"/>
                </a:lnTo>
                <a:lnTo>
                  <a:pt x="266" y="365"/>
                </a:lnTo>
                <a:lnTo>
                  <a:pt x="266" y="355"/>
                </a:lnTo>
                <a:lnTo>
                  <a:pt x="266" y="345"/>
                </a:lnTo>
                <a:lnTo>
                  <a:pt x="257" y="345"/>
                </a:lnTo>
                <a:lnTo>
                  <a:pt x="257" y="336"/>
                </a:lnTo>
                <a:lnTo>
                  <a:pt x="249" y="336"/>
                </a:lnTo>
                <a:lnTo>
                  <a:pt x="249" y="326"/>
                </a:lnTo>
                <a:lnTo>
                  <a:pt x="241" y="326"/>
                </a:lnTo>
                <a:lnTo>
                  <a:pt x="249" y="326"/>
                </a:lnTo>
                <a:lnTo>
                  <a:pt x="241" y="326"/>
                </a:lnTo>
                <a:lnTo>
                  <a:pt x="241" y="317"/>
                </a:lnTo>
                <a:lnTo>
                  <a:pt x="241" y="308"/>
                </a:lnTo>
                <a:lnTo>
                  <a:pt x="241" y="298"/>
                </a:lnTo>
                <a:lnTo>
                  <a:pt x="233" y="298"/>
                </a:lnTo>
                <a:lnTo>
                  <a:pt x="233" y="288"/>
                </a:lnTo>
                <a:lnTo>
                  <a:pt x="233" y="279"/>
                </a:lnTo>
                <a:lnTo>
                  <a:pt x="233" y="269"/>
                </a:lnTo>
                <a:lnTo>
                  <a:pt x="241" y="269"/>
                </a:lnTo>
                <a:lnTo>
                  <a:pt x="241" y="259"/>
                </a:lnTo>
                <a:lnTo>
                  <a:pt x="233" y="259"/>
                </a:lnTo>
                <a:lnTo>
                  <a:pt x="241" y="259"/>
                </a:lnTo>
                <a:lnTo>
                  <a:pt x="241" y="249"/>
                </a:lnTo>
                <a:lnTo>
                  <a:pt x="249" y="249"/>
                </a:lnTo>
                <a:lnTo>
                  <a:pt x="249" y="240"/>
                </a:lnTo>
                <a:lnTo>
                  <a:pt x="249" y="230"/>
                </a:lnTo>
                <a:lnTo>
                  <a:pt x="257" y="230"/>
                </a:lnTo>
                <a:lnTo>
                  <a:pt x="266" y="230"/>
                </a:lnTo>
                <a:lnTo>
                  <a:pt x="274" y="230"/>
                </a:lnTo>
                <a:lnTo>
                  <a:pt x="283" y="230"/>
                </a:lnTo>
                <a:lnTo>
                  <a:pt x="291" y="230"/>
                </a:lnTo>
                <a:lnTo>
                  <a:pt x="299" y="230"/>
                </a:lnTo>
                <a:lnTo>
                  <a:pt x="299" y="221"/>
                </a:lnTo>
                <a:lnTo>
                  <a:pt x="299" y="212"/>
                </a:lnTo>
                <a:lnTo>
                  <a:pt x="299" y="202"/>
                </a:lnTo>
                <a:lnTo>
                  <a:pt x="299" y="192"/>
                </a:lnTo>
                <a:lnTo>
                  <a:pt x="307" y="192"/>
                </a:lnTo>
                <a:lnTo>
                  <a:pt x="307" y="183"/>
                </a:lnTo>
                <a:lnTo>
                  <a:pt x="307" y="173"/>
                </a:lnTo>
                <a:lnTo>
                  <a:pt x="307" y="163"/>
                </a:lnTo>
                <a:lnTo>
                  <a:pt x="307" y="153"/>
                </a:lnTo>
                <a:lnTo>
                  <a:pt x="307" y="144"/>
                </a:lnTo>
                <a:lnTo>
                  <a:pt x="316" y="144"/>
                </a:lnTo>
                <a:lnTo>
                  <a:pt x="316" y="135"/>
                </a:lnTo>
                <a:lnTo>
                  <a:pt x="307" y="135"/>
                </a:lnTo>
                <a:lnTo>
                  <a:pt x="299" y="135"/>
                </a:lnTo>
                <a:lnTo>
                  <a:pt x="299" y="125"/>
                </a:lnTo>
                <a:lnTo>
                  <a:pt x="291" y="125"/>
                </a:lnTo>
                <a:lnTo>
                  <a:pt x="291" y="116"/>
                </a:lnTo>
                <a:lnTo>
                  <a:pt x="283" y="116"/>
                </a:lnTo>
                <a:lnTo>
                  <a:pt x="283" y="106"/>
                </a:lnTo>
                <a:lnTo>
                  <a:pt x="274" y="106"/>
                </a:lnTo>
                <a:lnTo>
                  <a:pt x="274" y="96"/>
                </a:lnTo>
                <a:lnTo>
                  <a:pt x="274" y="87"/>
                </a:lnTo>
                <a:lnTo>
                  <a:pt x="266" y="87"/>
                </a:lnTo>
                <a:lnTo>
                  <a:pt x="266" y="77"/>
                </a:lnTo>
                <a:lnTo>
                  <a:pt x="257" y="77"/>
                </a:lnTo>
                <a:lnTo>
                  <a:pt x="257" y="67"/>
                </a:lnTo>
                <a:lnTo>
                  <a:pt x="249" y="67"/>
                </a:lnTo>
                <a:lnTo>
                  <a:pt x="249" y="77"/>
                </a:lnTo>
                <a:lnTo>
                  <a:pt x="249" y="6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Freeform 35"/>
          <p:cNvSpPr/>
          <p:nvPr/>
        </p:nvSpPr>
        <p:spPr>
          <a:xfrm>
            <a:off x="3884760" y="2979720"/>
            <a:ext cx="512640" cy="879480"/>
          </a:xfrm>
          <a:custGeom>
            <a:avLst/>
            <a:gdLst>
              <a:gd name="textAreaLeft" fmla="*/ 0 w 512640"/>
              <a:gd name="textAreaRight" fmla="*/ 513000 w 51264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23" h="554">
                <a:moveTo>
                  <a:pt x="254" y="68"/>
                </a:moveTo>
                <a:lnTo>
                  <a:pt x="245" y="68"/>
                </a:lnTo>
                <a:lnTo>
                  <a:pt x="245" y="58"/>
                </a:lnTo>
                <a:lnTo>
                  <a:pt x="237" y="58"/>
                </a:lnTo>
                <a:lnTo>
                  <a:pt x="237" y="49"/>
                </a:lnTo>
                <a:lnTo>
                  <a:pt x="237" y="39"/>
                </a:lnTo>
                <a:lnTo>
                  <a:pt x="228" y="39"/>
                </a:lnTo>
                <a:lnTo>
                  <a:pt x="228" y="29"/>
                </a:lnTo>
                <a:lnTo>
                  <a:pt x="220" y="29"/>
                </a:lnTo>
                <a:lnTo>
                  <a:pt x="228" y="29"/>
                </a:lnTo>
                <a:lnTo>
                  <a:pt x="220" y="20"/>
                </a:lnTo>
                <a:lnTo>
                  <a:pt x="220" y="29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11" y="20"/>
                </a:lnTo>
                <a:lnTo>
                  <a:pt x="203" y="20"/>
                </a:lnTo>
                <a:lnTo>
                  <a:pt x="203" y="10"/>
                </a:lnTo>
                <a:lnTo>
                  <a:pt x="194" y="10"/>
                </a:lnTo>
                <a:lnTo>
                  <a:pt x="194" y="0"/>
                </a:lnTo>
                <a:lnTo>
                  <a:pt x="186" y="0"/>
                </a:lnTo>
                <a:lnTo>
                  <a:pt x="186" y="10"/>
                </a:lnTo>
                <a:lnTo>
                  <a:pt x="177" y="10"/>
                </a:lnTo>
                <a:lnTo>
                  <a:pt x="177" y="20"/>
                </a:lnTo>
                <a:lnTo>
                  <a:pt x="169" y="20"/>
                </a:lnTo>
                <a:lnTo>
                  <a:pt x="169" y="10"/>
                </a:lnTo>
                <a:lnTo>
                  <a:pt x="169" y="20"/>
                </a:lnTo>
                <a:lnTo>
                  <a:pt x="161" y="20"/>
                </a:lnTo>
                <a:lnTo>
                  <a:pt x="161" y="29"/>
                </a:lnTo>
                <a:lnTo>
                  <a:pt x="161" y="20"/>
                </a:lnTo>
                <a:lnTo>
                  <a:pt x="153" y="20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29"/>
                </a:lnTo>
                <a:lnTo>
                  <a:pt x="127" y="29"/>
                </a:lnTo>
                <a:lnTo>
                  <a:pt x="127" y="20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85" y="39"/>
                </a:lnTo>
                <a:lnTo>
                  <a:pt x="85" y="49"/>
                </a:lnTo>
                <a:lnTo>
                  <a:pt x="85" y="58"/>
                </a:lnTo>
                <a:lnTo>
                  <a:pt x="76" y="58"/>
                </a:lnTo>
                <a:lnTo>
                  <a:pt x="76" y="68"/>
                </a:lnTo>
                <a:lnTo>
                  <a:pt x="76" y="78"/>
                </a:lnTo>
                <a:lnTo>
                  <a:pt x="76" y="68"/>
                </a:lnTo>
                <a:lnTo>
                  <a:pt x="68" y="68"/>
                </a:lnTo>
                <a:lnTo>
                  <a:pt x="68" y="78"/>
                </a:lnTo>
                <a:lnTo>
                  <a:pt x="59" y="78"/>
                </a:lnTo>
                <a:lnTo>
                  <a:pt x="59" y="88"/>
                </a:lnTo>
                <a:lnTo>
                  <a:pt x="51" y="88"/>
                </a:lnTo>
                <a:lnTo>
                  <a:pt x="51" y="97"/>
                </a:lnTo>
                <a:lnTo>
                  <a:pt x="42" y="97"/>
                </a:lnTo>
                <a:lnTo>
                  <a:pt x="42" y="88"/>
                </a:lnTo>
                <a:lnTo>
                  <a:pt x="42" y="97"/>
                </a:lnTo>
                <a:lnTo>
                  <a:pt x="42" y="10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117"/>
                </a:lnTo>
                <a:lnTo>
                  <a:pt x="34" y="126"/>
                </a:lnTo>
                <a:lnTo>
                  <a:pt x="34" y="136"/>
                </a:lnTo>
                <a:lnTo>
                  <a:pt x="34" y="126"/>
                </a:lnTo>
                <a:lnTo>
                  <a:pt x="34" y="136"/>
                </a:lnTo>
                <a:lnTo>
                  <a:pt x="25" y="136"/>
                </a:lnTo>
                <a:lnTo>
                  <a:pt x="25" y="146"/>
                </a:lnTo>
                <a:lnTo>
                  <a:pt x="25" y="155"/>
                </a:lnTo>
                <a:lnTo>
                  <a:pt x="17" y="155"/>
                </a:lnTo>
                <a:lnTo>
                  <a:pt x="17" y="165"/>
                </a:lnTo>
                <a:lnTo>
                  <a:pt x="17" y="155"/>
                </a:lnTo>
                <a:lnTo>
                  <a:pt x="8" y="165"/>
                </a:lnTo>
                <a:lnTo>
                  <a:pt x="0" y="165"/>
                </a:lnTo>
                <a:lnTo>
                  <a:pt x="0" y="175"/>
                </a:lnTo>
                <a:lnTo>
                  <a:pt x="8" y="185"/>
                </a:lnTo>
                <a:lnTo>
                  <a:pt x="0" y="194"/>
                </a:lnTo>
                <a:lnTo>
                  <a:pt x="8" y="194"/>
                </a:lnTo>
                <a:lnTo>
                  <a:pt x="8" y="185"/>
                </a:lnTo>
                <a:lnTo>
                  <a:pt x="8" y="194"/>
                </a:lnTo>
                <a:lnTo>
                  <a:pt x="8" y="185"/>
                </a:lnTo>
                <a:lnTo>
                  <a:pt x="17" y="185"/>
                </a:lnTo>
                <a:lnTo>
                  <a:pt x="17" y="194"/>
                </a:lnTo>
                <a:lnTo>
                  <a:pt x="17" y="204"/>
                </a:lnTo>
                <a:lnTo>
                  <a:pt x="25" y="204"/>
                </a:lnTo>
                <a:lnTo>
                  <a:pt x="25" y="214"/>
                </a:lnTo>
                <a:lnTo>
                  <a:pt x="25" y="223"/>
                </a:lnTo>
                <a:lnTo>
                  <a:pt x="34" y="223"/>
                </a:lnTo>
                <a:lnTo>
                  <a:pt x="34" y="233"/>
                </a:lnTo>
                <a:lnTo>
                  <a:pt x="42" y="233"/>
                </a:lnTo>
                <a:lnTo>
                  <a:pt x="42" y="223"/>
                </a:lnTo>
                <a:lnTo>
                  <a:pt x="42" y="233"/>
                </a:lnTo>
                <a:lnTo>
                  <a:pt x="42" y="243"/>
                </a:lnTo>
                <a:lnTo>
                  <a:pt x="42" y="252"/>
                </a:lnTo>
                <a:lnTo>
                  <a:pt x="34" y="252"/>
                </a:lnTo>
                <a:lnTo>
                  <a:pt x="34" y="262"/>
                </a:lnTo>
                <a:lnTo>
                  <a:pt x="42" y="262"/>
                </a:lnTo>
                <a:lnTo>
                  <a:pt x="42" y="272"/>
                </a:lnTo>
                <a:lnTo>
                  <a:pt x="42" y="282"/>
                </a:lnTo>
                <a:lnTo>
                  <a:pt x="42" y="291"/>
                </a:lnTo>
                <a:lnTo>
                  <a:pt x="42" y="301"/>
                </a:lnTo>
                <a:lnTo>
                  <a:pt x="51" y="311"/>
                </a:lnTo>
                <a:lnTo>
                  <a:pt x="51" y="320"/>
                </a:lnTo>
                <a:lnTo>
                  <a:pt x="51" y="330"/>
                </a:lnTo>
                <a:lnTo>
                  <a:pt x="51" y="340"/>
                </a:lnTo>
                <a:lnTo>
                  <a:pt x="59" y="340"/>
                </a:lnTo>
                <a:lnTo>
                  <a:pt x="59" y="349"/>
                </a:lnTo>
                <a:lnTo>
                  <a:pt x="59" y="359"/>
                </a:lnTo>
                <a:lnTo>
                  <a:pt x="59" y="349"/>
                </a:lnTo>
                <a:lnTo>
                  <a:pt x="59" y="359"/>
                </a:lnTo>
                <a:lnTo>
                  <a:pt x="68" y="359"/>
                </a:lnTo>
                <a:lnTo>
                  <a:pt x="59" y="359"/>
                </a:lnTo>
                <a:lnTo>
                  <a:pt x="59" y="369"/>
                </a:lnTo>
                <a:lnTo>
                  <a:pt x="68" y="369"/>
                </a:lnTo>
                <a:lnTo>
                  <a:pt x="59" y="369"/>
                </a:lnTo>
                <a:lnTo>
                  <a:pt x="59" y="379"/>
                </a:lnTo>
                <a:lnTo>
                  <a:pt x="51" y="379"/>
                </a:lnTo>
                <a:lnTo>
                  <a:pt x="51" y="369"/>
                </a:lnTo>
                <a:lnTo>
                  <a:pt x="51" y="359"/>
                </a:lnTo>
                <a:lnTo>
                  <a:pt x="51" y="369"/>
                </a:lnTo>
                <a:lnTo>
                  <a:pt x="42" y="369"/>
                </a:lnTo>
                <a:lnTo>
                  <a:pt x="42" y="35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42" y="379"/>
                </a:lnTo>
                <a:lnTo>
                  <a:pt x="34" y="379"/>
                </a:lnTo>
                <a:lnTo>
                  <a:pt x="42" y="379"/>
                </a:lnTo>
                <a:lnTo>
                  <a:pt x="34" y="379"/>
                </a:lnTo>
                <a:lnTo>
                  <a:pt x="34" y="388"/>
                </a:lnTo>
                <a:lnTo>
                  <a:pt x="42" y="388"/>
                </a:lnTo>
                <a:lnTo>
                  <a:pt x="34" y="388"/>
                </a:lnTo>
                <a:lnTo>
                  <a:pt x="42" y="388"/>
                </a:lnTo>
                <a:lnTo>
                  <a:pt x="42" y="398"/>
                </a:lnTo>
                <a:lnTo>
                  <a:pt x="42" y="408"/>
                </a:lnTo>
                <a:lnTo>
                  <a:pt x="42" y="417"/>
                </a:lnTo>
                <a:lnTo>
                  <a:pt x="51" y="417"/>
                </a:lnTo>
                <a:lnTo>
                  <a:pt x="51" y="427"/>
                </a:lnTo>
                <a:lnTo>
                  <a:pt x="59" y="427"/>
                </a:lnTo>
                <a:lnTo>
                  <a:pt x="59" y="417"/>
                </a:lnTo>
                <a:lnTo>
                  <a:pt x="59" y="427"/>
                </a:lnTo>
                <a:lnTo>
                  <a:pt x="59" y="437"/>
                </a:lnTo>
                <a:lnTo>
                  <a:pt x="68" y="437"/>
                </a:lnTo>
                <a:lnTo>
                  <a:pt x="59" y="437"/>
                </a:lnTo>
                <a:lnTo>
                  <a:pt x="68" y="437"/>
                </a:lnTo>
                <a:lnTo>
                  <a:pt x="68" y="446"/>
                </a:lnTo>
                <a:lnTo>
                  <a:pt x="59" y="456"/>
                </a:lnTo>
                <a:lnTo>
                  <a:pt x="59" y="446"/>
                </a:lnTo>
                <a:lnTo>
                  <a:pt x="59" y="456"/>
                </a:lnTo>
                <a:lnTo>
                  <a:pt x="59" y="466"/>
                </a:lnTo>
                <a:lnTo>
                  <a:pt x="59" y="476"/>
                </a:lnTo>
                <a:lnTo>
                  <a:pt x="59" y="485"/>
                </a:lnTo>
                <a:lnTo>
                  <a:pt x="59" y="495"/>
                </a:lnTo>
                <a:lnTo>
                  <a:pt x="59" y="505"/>
                </a:lnTo>
                <a:lnTo>
                  <a:pt x="51" y="505"/>
                </a:lnTo>
                <a:lnTo>
                  <a:pt x="51" y="514"/>
                </a:lnTo>
                <a:lnTo>
                  <a:pt x="51" y="524"/>
                </a:lnTo>
                <a:lnTo>
                  <a:pt x="51" y="534"/>
                </a:lnTo>
                <a:lnTo>
                  <a:pt x="59" y="534"/>
                </a:lnTo>
                <a:lnTo>
                  <a:pt x="59" y="524"/>
                </a:lnTo>
                <a:lnTo>
                  <a:pt x="59" y="534"/>
                </a:lnTo>
                <a:lnTo>
                  <a:pt x="68" y="534"/>
                </a:lnTo>
                <a:lnTo>
                  <a:pt x="76" y="534"/>
                </a:lnTo>
                <a:lnTo>
                  <a:pt x="85" y="534"/>
                </a:lnTo>
                <a:lnTo>
                  <a:pt x="93" y="534"/>
                </a:lnTo>
                <a:lnTo>
                  <a:pt x="102" y="534"/>
                </a:lnTo>
                <a:lnTo>
                  <a:pt x="102" y="524"/>
                </a:lnTo>
                <a:lnTo>
                  <a:pt x="102" y="534"/>
                </a:lnTo>
                <a:lnTo>
                  <a:pt x="110" y="534"/>
                </a:lnTo>
                <a:lnTo>
                  <a:pt x="119" y="534"/>
                </a:lnTo>
                <a:lnTo>
                  <a:pt x="119" y="524"/>
                </a:lnTo>
                <a:lnTo>
                  <a:pt x="127" y="524"/>
                </a:lnTo>
                <a:lnTo>
                  <a:pt x="127" y="534"/>
                </a:lnTo>
                <a:lnTo>
                  <a:pt x="136" y="534"/>
                </a:lnTo>
                <a:lnTo>
                  <a:pt x="136" y="524"/>
                </a:lnTo>
                <a:lnTo>
                  <a:pt x="136" y="534"/>
                </a:lnTo>
                <a:lnTo>
                  <a:pt x="144" y="534"/>
                </a:lnTo>
                <a:lnTo>
                  <a:pt x="136" y="534"/>
                </a:lnTo>
                <a:lnTo>
                  <a:pt x="144" y="534"/>
                </a:lnTo>
                <a:lnTo>
                  <a:pt x="144" y="543"/>
                </a:lnTo>
                <a:lnTo>
                  <a:pt x="144" y="553"/>
                </a:lnTo>
                <a:lnTo>
                  <a:pt x="153" y="553"/>
                </a:lnTo>
                <a:lnTo>
                  <a:pt x="153" y="543"/>
                </a:lnTo>
                <a:lnTo>
                  <a:pt x="161" y="553"/>
                </a:lnTo>
                <a:lnTo>
                  <a:pt x="161" y="543"/>
                </a:lnTo>
                <a:lnTo>
                  <a:pt x="153" y="543"/>
                </a:lnTo>
                <a:lnTo>
                  <a:pt x="161" y="543"/>
                </a:lnTo>
                <a:lnTo>
                  <a:pt x="161" y="534"/>
                </a:lnTo>
                <a:lnTo>
                  <a:pt x="169" y="534"/>
                </a:lnTo>
                <a:lnTo>
                  <a:pt x="161" y="534"/>
                </a:lnTo>
                <a:lnTo>
                  <a:pt x="169" y="534"/>
                </a:lnTo>
                <a:lnTo>
                  <a:pt x="169" y="524"/>
                </a:lnTo>
                <a:lnTo>
                  <a:pt x="161" y="52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77" y="524"/>
                </a:lnTo>
                <a:lnTo>
                  <a:pt x="177" y="514"/>
                </a:lnTo>
                <a:lnTo>
                  <a:pt x="177" y="524"/>
                </a:lnTo>
                <a:lnTo>
                  <a:pt x="177" y="514"/>
                </a:lnTo>
                <a:lnTo>
                  <a:pt x="177" y="505"/>
                </a:lnTo>
                <a:lnTo>
                  <a:pt x="186" y="505"/>
                </a:lnTo>
                <a:lnTo>
                  <a:pt x="186" y="495"/>
                </a:lnTo>
                <a:lnTo>
                  <a:pt x="186" y="485"/>
                </a:lnTo>
                <a:lnTo>
                  <a:pt x="186" y="476"/>
                </a:lnTo>
                <a:lnTo>
                  <a:pt x="177" y="476"/>
                </a:lnTo>
                <a:lnTo>
                  <a:pt x="186" y="466"/>
                </a:lnTo>
                <a:lnTo>
                  <a:pt x="186" y="456"/>
                </a:lnTo>
                <a:lnTo>
                  <a:pt x="186" y="446"/>
                </a:lnTo>
                <a:lnTo>
                  <a:pt x="177" y="446"/>
                </a:lnTo>
                <a:lnTo>
                  <a:pt x="186" y="446"/>
                </a:lnTo>
                <a:lnTo>
                  <a:pt x="186" y="437"/>
                </a:lnTo>
                <a:lnTo>
                  <a:pt x="194" y="437"/>
                </a:lnTo>
                <a:lnTo>
                  <a:pt x="194" y="446"/>
                </a:lnTo>
                <a:lnTo>
                  <a:pt x="203" y="446"/>
                </a:lnTo>
                <a:lnTo>
                  <a:pt x="203" y="437"/>
                </a:lnTo>
                <a:lnTo>
                  <a:pt x="203" y="446"/>
                </a:lnTo>
                <a:lnTo>
                  <a:pt x="203" y="437"/>
                </a:lnTo>
                <a:lnTo>
                  <a:pt x="211" y="437"/>
                </a:lnTo>
                <a:lnTo>
                  <a:pt x="211" y="446"/>
                </a:lnTo>
                <a:lnTo>
                  <a:pt x="211" y="437"/>
                </a:lnTo>
                <a:lnTo>
                  <a:pt x="211" y="446"/>
                </a:lnTo>
                <a:lnTo>
                  <a:pt x="220" y="446"/>
                </a:lnTo>
                <a:lnTo>
                  <a:pt x="220" y="437"/>
                </a:lnTo>
                <a:lnTo>
                  <a:pt x="228" y="437"/>
                </a:lnTo>
                <a:lnTo>
                  <a:pt x="228" y="446"/>
                </a:lnTo>
                <a:lnTo>
                  <a:pt x="237" y="446"/>
                </a:lnTo>
                <a:lnTo>
                  <a:pt x="237" y="437"/>
                </a:lnTo>
                <a:lnTo>
                  <a:pt x="237" y="446"/>
                </a:lnTo>
                <a:lnTo>
                  <a:pt x="237" y="437"/>
                </a:lnTo>
                <a:lnTo>
                  <a:pt x="245" y="437"/>
                </a:lnTo>
                <a:lnTo>
                  <a:pt x="254" y="437"/>
                </a:lnTo>
                <a:lnTo>
                  <a:pt x="262" y="437"/>
                </a:lnTo>
                <a:lnTo>
                  <a:pt x="262" y="427"/>
                </a:lnTo>
                <a:lnTo>
                  <a:pt x="262" y="437"/>
                </a:lnTo>
                <a:lnTo>
                  <a:pt x="271" y="437"/>
                </a:lnTo>
                <a:lnTo>
                  <a:pt x="271" y="427"/>
                </a:lnTo>
                <a:lnTo>
                  <a:pt x="271" y="417"/>
                </a:lnTo>
                <a:lnTo>
                  <a:pt x="271" y="408"/>
                </a:lnTo>
                <a:lnTo>
                  <a:pt x="279" y="408"/>
                </a:lnTo>
                <a:lnTo>
                  <a:pt x="279" y="398"/>
                </a:lnTo>
                <a:lnTo>
                  <a:pt x="271" y="398"/>
                </a:lnTo>
                <a:lnTo>
                  <a:pt x="279" y="398"/>
                </a:lnTo>
                <a:lnTo>
                  <a:pt x="279" y="388"/>
                </a:lnTo>
                <a:lnTo>
                  <a:pt x="279" y="398"/>
                </a:lnTo>
                <a:lnTo>
                  <a:pt x="279" y="388"/>
                </a:lnTo>
                <a:lnTo>
                  <a:pt x="279" y="379"/>
                </a:lnTo>
                <a:lnTo>
                  <a:pt x="271" y="379"/>
                </a:lnTo>
                <a:lnTo>
                  <a:pt x="271" y="369"/>
                </a:lnTo>
                <a:lnTo>
                  <a:pt x="271" y="359"/>
                </a:lnTo>
                <a:lnTo>
                  <a:pt x="271" y="349"/>
                </a:lnTo>
                <a:lnTo>
                  <a:pt x="262" y="349"/>
                </a:lnTo>
                <a:lnTo>
                  <a:pt x="262" y="340"/>
                </a:lnTo>
                <a:lnTo>
                  <a:pt x="254" y="340"/>
                </a:lnTo>
                <a:lnTo>
                  <a:pt x="254" y="330"/>
                </a:lnTo>
                <a:lnTo>
                  <a:pt x="245" y="330"/>
                </a:lnTo>
                <a:lnTo>
                  <a:pt x="254" y="330"/>
                </a:lnTo>
                <a:lnTo>
                  <a:pt x="245" y="330"/>
                </a:lnTo>
                <a:lnTo>
                  <a:pt x="245" y="320"/>
                </a:lnTo>
                <a:lnTo>
                  <a:pt x="245" y="311"/>
                </a:lnTo>
                <a:lnTo>
                  <a:pt x="245" y="301"/>
                </a:lnTo>
                <a:lnTo>
                  <a:pt x="237" y="301"/>
                </a:lnTo>
                <a:lnTo>
                  <a:pt x="237" y="291"/>
                </a:lnTo>
                <a:lnTo>
                  <a:pt x="237" y="282"/>
                </a:lnTo>
                <a:lnTo>
                  <a:pt x="237" y="272"/>
                </a:lnTo>
                <a:lnTo>
                  <a:pt x="245" y="272"/>
                </a:lnTo>
                <a:lnTo>
                  <a:pt x="245" y="262"/>
                </a:lnTo>
                <a:lnTo>
                  <a:pt x="237" y="262"/>
                </a:lnTo>
                <a:lnTo>
                  <a:pt x="245" y="262"/>
                </a:lnTo>
                <a:lnTo>
                  <a:pt x="245" y="252"/>
                </a:lnTo>
                <a:lnTo>
                  <a:pt x="254" y="252"/>
                </a:lnTo>
                <a:lnTo>
                  <a:pt x="254" y="243"/>
                </a:lnTo>
                <a:lnTo>
                  <a:pt x="254" y="233"/>
                </a:lnTo>
                <a:lnTo>
                  <a:pt x="262" y="233"/>
                </a:lnTo>
                <a:lnTo>
                  <a:pt x="271" y="233"/>
                </a:lnTo>
                <a:lnTo>
                  <a:pt x="279" y="233"/>
                </a:lnTo>
                <a:lnTo>
                  <a:pt x="288" y="233"/>
                </a:lnTo>
                <a:lnTo>
                  <a:pt x="296" y="233"/>
                </a:lnTo>
                <a:lnTo>
                  <a:pt x="305" y="233"/>
                </a:lnTo>
                <a:lnTo>
                  <a:pt x="305" y="223"/>
                </a:lnTo>
                <a:lnTo>
                  <a:pt x="305" y="214"/>
                </a:lnTo>
                <a:lnTo>
                  <a:pt x="305" y="204"/>
                </a:lnTo>
                <a:lnTo>
                  <a:pt x="305" y="194"/>
                </a:lnTo>
                <a:lnTo>
                  <a:pt x="313" y="194"/>
                </a:lnTo>
                <a:lnTo>
                  <a:pt x="313" y="185"/>
                </a:lnTo>
                <a:lnTo>
                  <a:pt x="313" y="175"/>
                </a:lnTo>
                <a:lnTo>
                  <a:pt x="313" y="165"/>
                </a:lnTo>
                <a:lnTo>
                  <a:pt x="313" y="155"/>
                </a:lnTo>
                <a:lnTo>
                  <a:pt x="313" y="146"/>
                </a:lnTo>
                <a:lnTo>
                  <a:pt x="322" y="146"/>
                </a:lnTo>
                <a:lnTo>
                  <a:pt x="322" y="136"/>
                </a:lnTo>
                <a:lnTo>
                  <a:pt x="313" y="136"/>
                </a:lnTo>
                <a:lnTo>
                  <a:pt x="305" y="136"/>
                </a:lnTo>
                <a:lnTo>
                  <a:pt x="305" y="126"/>
                </a:lnTo>
                <a:lnTo>
                  <a:pt x="296" y="126"/>
                </a:lnTo>
                <a:lnTo>
                  <a:pt x="296" y="117"/>
                </a:lnTo>
                <a:lnTo>
                  <a:pt x="288" y="117"/>
                </a:lnTo>
                <a:lnTo>
                  <a:pt x="288" y="107"/>
                </a:lnTo>
                <a:lnTo>
                  <a:pt x="279" y="107"/>
                </a:lnTo>
                <a:lnTo>
                  <a:pt x="279" y="97"/>
                </a:lnTo>
                <a:lnTo>
                  <a:pt x="279" y="88"/>
                </a:lnTo>
                <a:lnTo>
                  <a:pt x="271" y="88"/>
                </a:lnTo>
                <a:lnTo>
                  <a:pt x="271" y="78"/>
                </a:lnTo>
                <a:lnTo>
                  <a:pt x="262" y="78"/>
                </a:lnTo>
                <a:lnTo>
                  <a:pt x="262" y="68"/>
                </a:lnTo>
                <a:lnTo>
                  <a:pt x="254" y="68"/>
                </a:lnTo>
                <a:lnTo>
                  <a:pt x="254" y="78"/>
                </a:lnTo>
                <a:lnTo>
                  <a:pt x="254" y="6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Freeform 36"/>
          <p:cNvSpPr/>
          <p:nvPr/>
        </p:nvSpPr>
        <p:spPr>
          <a:xfrm>
            <a:off x="4260960" y="3195720"/>
            <a:ext cx="368280" cy="509400"/>
          </a:xfrm>
          <a:custGeom>
            <a:avLst/>
            <a:gdLst>
              <a:gd name="textAreaLeft" fmla="*/ 0 w 368280"/>
              <a:gd name="textAreaRight" fmla="*/ 368640 w 368280"/>
              <a:gd name="textAreaTop" fmla="*/ 0 h 509400"/>
              <a:gd name="textAreaBottom" fmla="*/ 509400 h 509400"/>
            </a:gdLst>
            <a:ahLst/>
            <a:rect l="textAreaLeft" t="textAreaTop" r="textAreaRight" b="textAreaBottom"/>
            <a:pathLst>
              <a:path w="232" h="321">
                <a:moveTo>
                  <a:pt x="154" y="19"/>
                </a:moveTo>
                <a:lnTo>
                  <a:pt x="171" y="10"/>
                </a:lnTo>
                <a:lnTo>
                  <a:pt x="180" y="10"/>
                </a:lnTo>
                <a:lnTo>
                  <a:pt x="188" y="10"/>
                </a:lnTo>
                <a:lnTo>
                  <a:pt x="197" y="0"/>
                </a:lnTo>
                <a:lnTo>
                  <a:pt x="205" y="0"/>
                </a:lnTo>
                <a:lnTo>
                  <a:pt x="214" y="0"/>
                </a:lnTo>
                <a:lnTo>
                  <a:pt x="214" y="10"/>
                </a:lnTo>
                <a:lnTo>
                  <a:pt x="214" y="19"/>
                </a:lnTo>
                <a:lnTo>
                  <a:pt x="222" y="19"/>
                </a:lnTo>
                <a:lnTo>
                  <a:pt x="231" y="19"/>
                </a:lnTo>
                <a:lnTo>
                  <a:pt x="231" y="10"/>
                </a:lnTo>
                <a:lnTo>
                  <a:pt x="231" y="19"/>
                </a:lnTo>
                <a:lnTo>
                  <a:pt x="231" y="29"/>
                </a:lnTo>
                <a:lnTo>
                  <a:pt x="231" y="39"/>
                </a:lnTo>
                <a:lnTo>
                  <a:pt x="231" y="49"/>
                </a:lnTo>
                <a:lnTo>
                  <a:pt x="231" y="58"/>
                </a:lnTo>
                <a:lnTo>
                  <a:pt x="222" y="58"/>
                </a:lnTo>
                <a:lnTo>
                  <a:pt x="222" y="68"/>
                </a:lnTo>
                <a:lnTo>
                  <a:pt x="222" y="78"/>
                </a:lnTo>
                <a:lnTo>
                  <a:pt x="214" y="78"/>
                </a:lnTo>
                <a:lnTo>
                  <a:pt x="214" y="87"/>
                </a:lnTo>
                <a:lnTo>
                  <a:pt x="214" y="97"/>
                </a:lnTo>
                <a:lnTo>
                  <a:pt x="214" y="107"/>
                </a:lnTo>
                <a:lnTo>
                  <a:pt x="205" y="107"/>
                </a:lnTo>
                <a:lnTo>
                  <a:pt x="205" y="97"/>
                </a:lnTo>
                <a:lnTo>
                  <a:pt x="197" y="97"/>
                </a:lnTo>
                <a:lnTo>
                  <a:pt x="188" y="136"/>
                </a:lnTo>
                <a:lnTo>
                  <a:pt x="197" y="136"/>
                </a:lnTo>
                <a:lnTo>
                  <a:pt x="197" y="146"/>
                </a:lnTo>
                <a:lnTo>
                  <a:pt x="205" y="165"/>
                </a:lnTo>
                <a:lnTo>
                  <a:pt x="205" y="175"/>
                </a:lnTo>
                <a:lnTo>
                  <a:pt x="197" y="175"/>
                </a:lnTo>
                <a:lnTo>
                  <a:pt x="197" y="184"/>
                </a:lnTo>
                <a:lnTo>
                  <a:pt x="197" y="175"/>
                </a:lnTo>
                <a:lnTo>
                  <a:pt x="188" y="175"/>
                </a:lnTo>
                <a:lnTo>
                  <a:pt x="188" y="184"/>
                </a:lnTo>
                <a:lnTo>
                  <a:pt x="180" y="184"/>
                </a:lnTo>
                <a:lnTo>
                  <a:pt x="180" y="194"/>
                </a:lnTo>
                <a:lnTo>
                  <a:pt x="171" y="194"/>
                </a:lnTo>
                <a:lnTo>
                  <a:pt x="171" y="204"/>
                </a:lnTo>
                <a:lnTo>
                  <a:pt x="163" y="204"/>
                </a:lnTo>
                <a:lnTo>
                  <a:pt x="163" y="213"/>
                </a:lnTo>
                <a:lnTo>
                  <a:pt x="163" y="223"/>
                </a:lnTo>
                <a:lnTo>
                  <a:pt x="154" y="223"/>
                </a:lnTo>
                <a:lnTo>
                  <a:pt x="154" y="233"/>
                </a:lnTo>
                <a:lnTo>
                  <a:pt x="145" y="233"/>
                </a:lnTo>
                <a:lnTo>
                  <a:pt x="137" y="233"/>
                </a:lnTo>
                <a:lnTo>
                  <a:pt x="137" y="243"/>
                </a:lnTo>
                <a:lnTo>
                  <a:pt x="128" y="243"/>
                </a:lnTo>
                <a:lnTo>
                  <a:pt x="128" y="252"/>
                </a:lnTo>
                <a:lnTo>
                  <a:pt x="128" y="262"/>
                </a:lnTo>
                <a:lnTo>
                  <a:pt x="128" y="272"/>
                </a:lnTo>
                <a:lnTo>
                  <a:pt x="128" y="281"/>
                </a:lnTo>
                <a:lnTo>
                  <a:pt x="128" y="291"/>
                </a:lnTo>
                <a:lnTo>
                  <a:pt x="120" y="291"/>
                </a:lnTo>
                <a:lnTo>
                  <a:pt x="120" y="301"/>
                </a:lnTo>
                <a:lnTo>
                  <a:pt x="120" y="310"/>
                </a:lnTo>
                <a:lnTo>
                  <a:pt x="110" y="310"/>
                </a:lnTo>
                <a:lnTo>
                  <a:pt x="110" y="320"/>
                </a:lnTo>
                <a:lnTo>
                  <a:pt x="102" y="310"/>
                </a:lnTo>
                <a:lnTo>
                  <a:pt x="102" y="272"/>
                </a:lnTo>
                <a:lnTo>
                  <a:pt x="102" y="262"/>
                </a:lnTo>
                <a:lnTo>
                  <a:pt x="93" y="233"/>
                </a:lnTo>
                <a:lnTo>
                  <a:pt x="85" y="233"/>
                </a:lnTo>
                <a:lnTo>
                  <a:pt x="76" y="233"/>
                </a:lnTo>
                <a:lnTo>
                  <a:pt x="85" y="223"/>
                </a:lnTo>
                <a:lnTo>
                  <a:pt x="76" y="223"/>
                </a:lnTo>
                <a:lnTo>
                  <a:pt x="68" y="223"/>
                </a:lnTo>
                <a:lnTo>
                  <a:pt x="68" y="213"/>
                </a:lnTo>
                <a:lnTo>
                  <a:pt x="68" y="223"/>
                </a:lnTo>
                <a:lnTo>
                  <a:pt x="59" y="223"/>
                </a:lnTo>
                <a:lnTo>
                  <a:pt x="59" y="233"/>
                </a:lnTo>
                <a:lnTo>
                  <a:pt x="59" y="243"/>
                </a:lnTo>
                <a:lnTo>
                  <a:pt x="51" y="243"/>
                </a:lnTo>
                <a:lnTo>
                  <a:pt x="51" y="252"/>
                </a:lnTo>
                <a:lnTo>
                  <a:pt x="42" y="252"/>
                </a:lnTo>
                <a:lnTo>
                  <a:pt x="42" y="243"/>
                </a:lnTo>
                <a:lnTo>
                  <a:pt x="34" y="243"/>
                </a:lnTo>
                <a:lnTo>
                  <a:pt x="34" y="233"/>
                </a:lnTo>
                <a:lnTo>
                  <a:pt x="34" y="223"/>
                </a:lnTo>
                <a:lnTo>
                  <a:pt x="34" y="213"/>
                </a:lnTo>
                <a:lnTo>
                  <a:pt x="25" y="213"/>
                </a:lnTo>
                <a:lnTo>
                  <a:pt x="25" y="204"/>
                </a:lnTo>
                <a:lnTo>
                  <a:pt x="17" y="204"/>
                </a:lnTo>
                <a:lnTo>
                  <a:pt x="17" y="194"/>
                </a:lnTo>
                <a:lnTo>
                  <a:pt x="8" y="194"/>
                </a:lnTo>
                <a:lnTo>
                  <a:pt x="17" y="194"/>
                </a:lnTo>
                <a:lnTo>
                  <a:pt x="8" y="194"/>
                </a:lnTo>
                <a:lnTo>
                  <a:pt x="8" y="184"/>
                </a:lnTo>
                <a:lnTo>
                  <a:pt x="8" y="175"/>
                </a:lnTo>
                <a:lnTo>
                  <a:pt x="8" y="165"/>
                </a:lnTo>
                <a:lnTo>
                  <a:pt x="0" y="165"/>
                </a:lnTo>
                <a:lnTo>
                  <a:pt x="0" y="155"/>
                </a:lnTo>
                <a:lnTo>
                  <a:pt x="0" y="146"/>
                </a:lnTo>
                <a:lnTo>
                  <a:pt x="0" y="136"/>
                </a:lnTo>
                <a:lnTo>
                  <a:pt x="8" y="136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16"/>
                </a:lnTo>
                <a:lnTo>
                  <a:pt x="17" y="116"/>
                </a:lnTo>
                <a:lnTo>
                  <a:pt x="17" y="107"/>
                </a:lnTo>
                <a:lnTo>
                  <a:pt x="17" y="97"/>
                </a:lnTo>
                <a:lnTo>
                  <a:pt x="25" y="97"/>
                </a:lnTo>
                <a:lnTo>
                  <a:pt x="34" y="97"/>
                </a:lnTo>
                <a:lnTo>
                  <a:pt x="42" y="97"/>
                </a:lnTo>
                <a:lnTo>
                  <a:pt x="51" y="97"/>
                </a:lnTo>
                <a:lnTo>
                  <a:pt x="59" y="97"/>
                </a:lnTo>
                <a:lnTo>
                  <a:pt x="68" y="97"/>
                </a:lnTo>
                <a:lnTo>
                  <a:pt x="68" y="87"/>
                </a:lnTo>
                <a:lnTo>
                  <a:pt x="68" y="78"/>
                </a:lnTo>
                <a:lnTo>
                  <a:pt x="68" y="68"/>
                </a:lnTo>
                <a:lnTo>
                  <a:pt x="68" y="58"/>
                </a:lnTo>
                <a:lnTo>
                  <a:pt x="76" y="58"/>
                </a:lnTo>
                <a:lnTo>
                  <a:pt x="76" y="49"/>
                </a:lnTo>
                <a:lnTo>
                  <a:pt x="85" y="49"/>
                </a:lnTo>
                <a:lnTo>
                  <a:pt x="93" y="49"/>
                </a:lnTo>
                <a:lnTo>
                  <a:pt x="102" y="49"/>
                </a:lnTo>
                <a:lnTo>
                  <a:pt x="102" y="58"/>
                </a:lnTo>
                <a:lnTo>
                  <a:pt x="102" y="49"/>
                </a:lnTo>
                <a:lnTo>
                  <a:pt x="110" y="49"/>
                </a:lnTo>
                <a:lnTo>
                  <a:pt x="120" y="49"/>
                </a:lnTo>
                <a:lnTo>
                  <a:pt x="120" y="39"/>
                </a:lnTo>
                <a:lnTo>
                  <a:pt x="137" y="39"/>
                </a:lnTo>
                <a:lnTo>
                  <a:pt x="145" y="19"/>
                </a:lnTo>
                <a:lnTo>
                  <a:pt x="154" y="1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37"/>
          <p:cNvSpPr/>
          <p:nvPr/>
        </p:nvSpPr>
        <p:spPr>
          <a:xfrm>
            <a:off x="4557600" y="2995560"/>
            <a:ext cx="96840" cy="201600"/>
          </a:xfrm>
          <a:custGeom>
            <a:avLst/>
            <a:gdLst>
              <a:gd name="textAreaLeft" fmla="*/ 0 w 96840"/>
              <a:gd name="textAreaRight" fmla="*/ 97200 w 968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1" h="127">
                <a:moveTo>
                  <a:pt x="34" y="87"/>
                </a:moveTo>
                <a:lnTo>
                  <a:pt x="43" y="87"/>
                </a:lnTo>
                <a:lnTo>
                  <a:pt x="34" y="87"/>
                </a:lnTo>
                <a:lnTo>
                  <a:pt x="34" y="97"/>
                </a:lnTo>
                <a:lnTo>
                  <a:pt x="26" y="97"/>
                </a:lnTo>
                <a:lnTo>
                  <a:pt x="26" y="107"/>
                </a:lnTo>
                <a:lnTo>
                  <a:pt x="17" y="107"/>
                </a:lnTo>
                <a:lnTo>
                  <a:pt x="17" y="116"/>
                </a:lnTo>
                <a:lnTo>
                  <a:pt x="17" y="126"/>
                </a:lnTo>
                <a:lnTo>
                  <a:pt x="9" y="126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17" y="78"/>
                </a:lnTo>
                <a:lnTo>
                  <a:pt x="17" y="68"/>
                </a:lnTo>
                <a:lnTo>
                  <a:pt x="17" y="58"/>
                </a:lnTo>
                <a:lnTo>
                  <a:pt x="26" y="58"/>
                </a:lnTo>
                <a:lnTo>
                  <a:pt x="26" y="48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34" y="29"/>
                </a:lnTo>
                <a:lnTo>
                  <a:pt x="34" y="19"/>
                </a:lnTo>
                <a:lnTo>
                  <a:pt x="34" y="10"/>
                </a:lnTo>
                <a:lnTo>
                  <a:pt x="34" y="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51" y="29"/>
                </a:lnTo>
                <a:lnTo>
                  <a:pt x="43" y="29"/>
                </a:lnTo>
                <a:lnTo>
                  <a:pt x="51" y="29"/>
                </a:lnTo>
                <a:lnTo>
                  <a:pt x="51" y="39"/>
                </a:lnTo>
                <a:lnTo>
                  <a:pt x="51" y="29"/>
                </a:lnTo>
                <a:lnTo>
                  <a:pt x="51" y="39"/>
                </a:lnTo>
                <a:lnTo>
                  <a:pt x="60" y="48"/>
                </a:lnTo>
                <a:lnTo>
                  <a:pt x="60" y="5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43" y="7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34" y="87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38"/>
          <p:cNvSpPr/>
          <p:nvPr/>
        </p:nvSpPr>
        <p:spPr>
          <a:xfrm>
            <a:off x="4437000" y="3087720"/>
            <a:ext cx="257400" cy="633240"/>
          </a:xfrm>
          <a:custGeom>
            <a:avLst/>
            <a:gdLst>
              <a:gd name="textAreaLeft" fmla="*/ 0 w 257400"/>
              <a:gd name="textAreaRight" fmla="*/ 257760 w 2574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62" h="399">
                <a:moveTo>
                  <a:pt x="102" y="155"/>
                </a:moveTo>
                <a:lnTo>
                  <a:pt x="102" y="165"/>
                </a:lnTo>
                <a:lnTo>
                  <a:pt x="102" y="175"/>
                </a:lnTo>
                <a:lnTo>
                  <a:pt x="93" y="175"/>
                </a:lnTo>
                <a:lnTo>
                  <a:pt x="93" y="165"/>
                </a:lnTo>
                <a:lnTo>
                  <a:pt x="85" y="165"/>
                </a:lnTo>
                <a:lnTo>
                  <a:pt x="77" y="204"/>
                </a:lnTo>
                <a:lnTo>
                  <a:pt x="85" y="204"/>
                </a:lnTo>
                <a:lnTo>
                  <a:pt x="85" y="214"/>
                </a:lnTo>
                <a:lnTo>
                  <a:pt x="93" y="233"/>
                </a:lnTo>
                <a:lnTo>
                  <a:pt x="93" y="243"/>
                </a:lnTo>
                <a:lnTo>
                  <a:pt x="85" y="243"/>
                </a:lnTo>
                <a:lnTo>
                  <a:pt x="85" y="252"/>
                </a:lnTo>
                <a:lnTo>
                  <a:pt x="85" y="243"/>
                </a:lnTo>
                <a:lnTo>
                  <a:pt x="77" y="243"/>
                </a:lnTo>
                <a:lnTo>
                  <a:pt x="77" y="252"/>
                </a:lnTo>
                <a:lnTo>
                  <a:pt x="69" y="252"/>
                </a:lnTo>
                <a:lnTo>
                  <a:pt x="69" y="262"/>
                </a:lnTo>
                <a:lnTo>
                  <a:pt x="60" y="262"/>
                </a:lnTo>
                <a:lnTo>
                  <a:pt x="60" y="272"/>
                </a:lnTo>
                <a:lnTo>
                  <a:pt x="52" y="272"/>
                </a:lnTo>
                <a:lnTo>
                  <a:pt x="52" y="281"/>
                </a:lnTo>
                <a:lnTo>
                  <a:pt x="52" y="291"/>
                </a:lnTo>
                <a:lnTo>
                  <a:pt x="43" y="291"/>
                </a:lnTo>
                <a:lnTo>
                  <a:pt x="43" y="301"/>
                </a:lnTo>
                <a:lnTo>
                  <a:pt x="34" y="301"/>
                </a:lnTo>
                <a:lnTo>
                  <a:pt x="26" y="301"/>
                </a:lnTo>
                <a:lnTo>
                  <a:pt x="26" y="311"/>
                </a:lnTo>
                <a:lnTo>
                  <a:pt x="17" y="311"/>
                </a:lnTo>
                <a:lnTo>
                  <a:pt x="17" y="320"/>
                </a:lnTo>
                <a:lnTo>
                  <a:pt x="17" y="330"/>
                </a:lnTo>
                <a:lnTo>
                  <a:pt x="17" y="340"/>
                </a:lnTo>
                <a:lnTo>
                  <a:pt x="17" y="349"/>
                </a:lnTo>
                <a:lnTo>
                  <a:pt x="17" y="359"/>
                </a:lnTo>
                <a:lnTo>
                  <a:pt x="9" y="359"/>
                </a:lnTo>
                <a:lnTo>
                  <a:pt x="9" y="369"/>
                </a:lnTo>
                <a:lnTo>
                  <a:pt x="9" y="378"/>
                </a:lnTo>
                <a:lnTo>
                  <a:pt x="0" y="378"/>
                </a:lnTo>
                <a:lnTo>
                  <a:pt x="0" y="388"/>
                </a:lnTo>
                <a:lnTo>
                  <a:pt x="9" y="388"/>
                </a:lnTo>
                <a:lnTo>
                  <a:pt x="9" y="398"/>
                </a:lnTo>
                <a:lnTo>
                  <a:pt x="17" y="398"/>
                </a:lnTo>
                <a:lnTo>
                  <a:pt x="17" y="388"/>
                </a:lnTo>
                <a:lnTo>
                  <a:pt x="17" y="398"/>
                </a:lnTo>
                <a:lnTo>
                  <a:pt x="26" y="398"/>
                </a:lnTo>
                <a:lnTo>
                  <a:pt x="34" y="398"/>
                </a:lnTo>
                <a:lnTo>
                  <a:pt x="43" y="398"/>
                </a:lnTo>
                <a:lnTo>
                  <a:pt x="43" y="388"/>
                </a:lnTo>
                <a:lnTo>
                  <a:pt x="52" y="388"/>
                </a:lnTo>
                <a:lnTo>
                  <a:pt x="60" y="388"/>
                </a:lnTo>
                <a:lnTo>
                  <a:pt x="69" y="388"/>
                </a:lnTo>
                <a:lnTo>
                  <a:pt x="77" y="388"/>
                </a:lnTo>
                <a:lnTo>
                  <a:pt x="77" y="378"/>
                </a:lnTo>
                <a:lnTo>
                  <a:pt x="77" y="369"/>
                </a:lnTo>
                <a:lnTo>
                  <a:pt x="77" y="359"/>
                </a:lnTo>
                <a:lnTo>
                  <a:pt x="77" y="349"/>
                </a:lnTo>
                <a:lnTo>
                  <a:pt x="69" y="349"/>
                </a:lnTo>
                <a:lnTo>
                  <a:pt x="69" y="340"/>
                </a:lnTo>
                <a:lnTo>
                  <a:pt x="69" y="330"/>
                </a:lnTo>
                <a:lnTo>
                  <a:pt x="69" y="340"/>
                </a:lnTo>
                <a:lnTo>
                  <a:pt x="69" y="330"/>
                </a:lnTo>
                <a:lnTo>
                  <a:pt x="77" y="330"/>
                </a:lnTo>
                <a:lnTo>
                  <a:pt x="77" y="320"/>
                </a:lnTo>
                <a:lnTo>
                  <a:pt x="69" y="320"/>
                </a:lnTo>
                <a:lnTo>
                  <a:pt x="77" y="320"/>
                </a:lnTo>
                <a:lnTo>
                  <a:pt x="77" y="311"/>
                </a:lnTo>
                <a:lnTo>
                  <a:pt x="85" y="311"/>
                </a:lnTo>
                <a:lnTo>
                  <a:pt x="85" y="301"/>
                </a:lnTo>
                <a:lnTo>
                  <a:pt x="85" y="291"/>
                </a:lnTo>
                <a:lnTo>
                  <a:pt x="93" y="291"/>
                </a:lnTo>
                <a:lnTo>
                  <a:pt x="93" y="281"/>
                </a:lnTo>
                <a:lnTo>
                  <a:pt x="102" y="281"/>
                </a:lnTo>
                <a:lnTo>
                  <a:pt x="102" y="272"/>
                </a:lnTo>
                <a:lnTo>
                  <a:pt x="110" y="272"/>
                </a:lnTo>
                <a:lnTo>
                  <a:pt x="119" y="272"/>
                </a:lnTo>
                <a:lnTo>
                  <a:pt x="119" y="262"/>
                </a:lnTo>
                <a:lnTo>
                  <a:pt x="127" y="262"/>
                </a:lnTo>
                <a:lnTo>
                  <a:pt x="136" y="262"/>
                </a:lnTo>
                <a:lnTo>
                  <a:pt x="127" y="262"/>
                </a:lnTo>
                <a:lnTo>
                  <a:pt x="127" y="252"/>
                </a:lnTo>
                <a:lnTo>
                  <a:pt x="127" y="243"/>
                </a:lnTo>
                <a:lnTo>
                  <a:pt x="136" y="243"/>
                </a:lnTo>
                <a:lnTo>
                  <a:pt x="127" y="243"/>
                </a:lnTo>
                <a:lnTo>
                  <a:pt x="127" y="233"/>
                </a:lnTo>
                <a:lnTo>
                  <a:pt x="127" y="223"/>
                </a:lnTo>
                <a:lnTo>
                  <a:pt x="127" y="214"/>
                </a:lnTo>
                <a:lnTo>
                  <a:pt x="127" y="204"/>
                </a:lnTo>
                <a:lnTo>
                  <a:pt x="119" y="204"/>
                </a:lnTo>
                <a:lnTo>
                  <a:pt x="119" y="194"/>
                </a:lnTo>
                <a:lnTo>
                  <a:pt x="119" y="184"/>
                </a:lnTo>
                <a:lnTo>
                  <a:pt x="119" y="194"/>
                </a:lnTo>
                <a:lnTo>
                  <a:pt x="119" y="184"/>
                </a:lnTo>
                <a:lnTo>
                  <a:pt x="119" y="175"/>
                </a:lnTo>
                <a:lnTo>
                  <a:pt x="127" y="175"/>
                </a:lnTo>
                <a:lnTo>
                  <a:pt x="127" y="165"/>
                </a:lnTo>
                <a:lnTo>
                  <a:pt x="127" y="155"/>
                </a:lnTo>
                <a:lnTo>
                  <a:pt x="127" y="146"/>
                </a:lnTo>
                <a:lnTo>
                  <a:pt x="127" y="136"/>
                </a:lnTo>
                <a:lnTo>
                  <a:pt x="119" y="136"/>
                </a:lnTo>
                <a:lnTo>
                  <a:pt x="119" y="126"/>
                </a:lnTo>
                <a:lnTo>
                  <a:pt x="127" y="126"/>
                </a:lnTo>
                <a:lnTo>
                  <a:pt x="136" y="126"/>
                </a:lnTo>
                <a:lnTo>
                  <a:pt x="136" y="117"/>
                </a:lnTo>
                <a:lnTo>
                  <a:pt x="136" y="107"/>
                </a:lnTo>
                <a:lnTo>
                  <a:pt x="127" y="107"/>
                </a:lnTo>
                <a:lnTo>
                  <a:pt x="127" y="97"/>
                </a:lnTo>
                <a:lnTo>
                  <a:pt x="119" y="97"/>
                </a:lnTo>
                <a:lnTo>
                  <a:pt x="127" y="97"/>
                </a:lnTo>
                <a:lnTo>
                  <a:pt x="136" y="97"/>
                </a:lnTo>
                <a:lnTo>
                  <a:pt x="144" y="97"/>
                </a:lnTo>
                <a:lnTo>
                  <a:pt x="144" y="87"/>
                </a:lnTo>
                <a:lnTo>
                  <a:pt x="153" y="87"/>
                </a:lnTo>
                <a:lnTo>
                  <a:pt x="161" y="87"/>
                </a:lnTo>
                <a:lnTo>
                  <a:pt x="161" y="78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1" y="58"/>
                </a:lnTo>
                <a:lnTo>
                  <a:pt x="161" y="49"/>
                </a:lnTo>
                <a:lnTo>
                  <a:pt x="161" y="39"/>
                </a:lnTo>
                <a:lnTo>
                  <a:pt x="153" y="39"/>
                </a:lnTo>
                <a:lnTo>
                  <a:pt x="153" y="29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10"/>
                </a:lnTo>
                <a:lnTo>
                  <a:pt x="144" y="10"/>
                </a:lnTo>
                <a:lnTo>
                  <a:pt x="136" y="10"/>
                </a:lnTo>
                <a:lnTo>
                  <a:pt x="136" y="0"/>
                </a:lnTo>
                <a:lnTo>
                  <a:pt x="136" y="10"/>
                </a:lnTo>
                <a:lnTo>
                  <a:pt x="127" y="10"/>
                </a:lnTo>
                <a:lnTo>
                  <a:pt x="127" y="20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  <a:lnTo>
                  <a:pt x="93" y="49"/>
                </a:lnTo>
                <a:lnTo>
                  <a:pt x="93" y="58"/>
                </a:lnTo>
                <a:lnTo>
                  <a:pt x="93" y="68"/>
                </a:lnTo>
                <a:lnTo>
                  <a:pt x="102" y="68"/>
                </a:lnTo>
                <a:lnTo>
                  <a:pt x="102" y="78"/>
                </a:lnTo>
                <a:lnTo>
                  <a:pt x="102" y="87"/>
                </a:lnTo>
                <a:lnTo>
                  <a:pt x="110" y="87"/>
                </a:lnTo>
                <a:lnTo>
                  <a:pt x="119" y="87"/>
                </a:lnTo>
                <a:lnTo>
                  <a:pt x="119" y="78"/>
                </a:lnTo>
                <a:lnTo>
                  <a:pt x="119" y="87"/>
                </a:lnTo>
                <a:lnTo>
                  <a:pt x="119" y="97"/>
                </a:lnTo>
                <a:lnTo>
                  <a:pt x="119" y="107"/>
                </a:lnTo>
                <a:lnTo>
                  <a:pt x="119" y="117"/>
                </a:lnTo>
                <a:lnTo>
                  <a:pt x="119" y="126"/>
                </a:lnTo>
                <a:lnTo>
                  <a:pt x="110" y="126"/>
                </a:lnTo>
                <a:lnTo>
                  <a:pt x="110" y="136"/>
                </a:lnTo>
                <a:lnTo>
                  <a:pt x="110" y="146"/>
                </a:lnTo>
                <a:lnTo>
                  <a:pt x="102" y="146"/>
                </a:lnTo>
                <a:lnTo>
                  <a:pt x="102" y="155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39"/>
          <p:cNvSpPr/>
          <p:nvPr/>
        </p:nvSpPr>
        <p:spPr>
          <a:xfrm>
            <a:off x="4627440" y="3225960"/>
            <a:ext cx="243000" cy="279360"/>
          </a:xfrm>
          <a:custGeom>
            <a:avLst/>
            <a:gdLst>
              <a:gd name="textAreaLeft" fmla="*/ 0 w 243000"/>
              <a:gd name="textAreaRight" fmla="*/ 243360 w 2430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53" h="176">
                <a:moveTo>
                  <a:pt x="76" y="49"/>
                </a:moveTo>
                <a:lnTo>
                  <a:pt x="76" y="59"/>
                </a:lnTo>
                <a:lnTo>
                  <a:pt x="76" y="68"/>
                </a:lnTo>
                <a:lnTo>
                  <a:pt x="76" y="78"/>
                </a:lnTo>
                <a:lnTo>
                  <a:pt x="84" y="78"/>
                </a:lnTo>
                <a:lnTo>
                  <a:pt x="76" y="88"/>
                </a:lnTo>
                <a:lnTo>
                  <a:pt x="84" y="88"/>
                </a:lnTo>
                <a:lnTo>
                  <a:pt x="92" y="88"/>
                </a:lnTo>
                <a:lnTo>
                  <a:pt x="92" y="78"/>
                </a:lnTo>
                <a:lnTo>
                  <a:pt x="101" y="78"/>
                </a:lnTo>
                <a:lnTo>
                  <a:pt x="101" y="68"/>
                </a:lnTo>
                <a:lnTo>
                  <a:pt x="109" y="68"/>
                </a:lnTo>
                <a:lnTo>
                  <a:pt x="109" y="78"/>
                </a:lnTo>
                <a:lnTo>
                  <a:pt x="109" y="88"/>
                </a:lnTo>
                <a:lnTo>
                  <a:pt x="118" y="88"/>
                </a:lnTo>
                <a:lnTo>
                  <a:pt x="118" y="97"/>
                </a:lnTo>
                <a:lnTo>
                  <a:pt x="118" y="107"/>
                </a:lnTo>
                <a:lnTo>
                  <a:pt x="126" y="107"/>
                </a:lnTo>
                <a:lnTo>
                  <a:pt x="126" y="117"/>
                </a:lnTo>
                <a:lnTo>
                  <a:pt x="126" y="127"/>
                </a:lnTo>
                <a:lnTo>
                  <a:pt x="118" y="127"/>
                </a:lnTo>
                <a:lnTo>
                  <a:pt x="126" y="127"/>
                </a:lnTo>
                <a:lnTo>
                  <a:pt x="135" y="136"/>
                </a:lnTo>
                <a:lnTo>
                  <a:pt x="143" y="136"/>
                </a:lnTo>
                <a:lnTo>
                  <a:pt x="143" y="127"/>
                </a:lnTo>
                <a:lnTo>
                  <a:pt x="143" y="136"/>
                </a:lnTo>
                <a:lnTo>
                  <a:pt x="152" y="136"/>
                </a:lnTo>
                <a:lnTo>
                  <a:pt x="152" y="146"/>
                </a:lnTo>
                <a:lnTo>
                  <a:pt x="152" y="136"/>
                </a:lnTo>
                <a:lnTo>
                  <a:pt x="152" y="146"/>
                </a:lnTo>
                <a:lnTo>
                  <a:pt x="152" y="156"/>
                </a:lnTo>
                <a:lnTo>
                  <a:pt x="152" y="165"/>
                </a:lnTo>
                <a:lnTo>
                  <a:pt x="152" y="175"/>
                </a:lnTo>
                <a:lnTo>
                  <a:pt x="152" y="165"/>
                </a:lnTo>
                <a:lnTo>
                  <a:pt x="143" y="165"/>
                </a:lnTo>
                <a:lnTo>
                  <a:pt x="143" y="156"/>
                </a:lnTo>
                <a:lnTo>
                  <a:pt x="143" y="146"/>
                </a:lnTo>
                <a:lnTo>
                  <a:pt x="135" y="146"/>
                </a:lnTo>
                <a:lnTo>
                  <a:pt x="135" y="136"/>
                </a:lnTo>
                <a:lnTo>
                  <a:pt x="126" y="136"/>
                </a:lnTo>
                <a:lnTo>
                  <a:pt x="118" y="136"/>
                </a:lnTo>
                <a:lnTo>
                  <a:pt x="109" y="136"/>
                </a:lnTo>
                <a:lnTo>
                  <a:pt x="101" y="136"/>
                </a:lnTo>
                <a:lnTo>
                  <a:pt x="92" y="136"/>
                </a:lnTo>
                <a:lnTo>
                  <a:pt x="84" y="136"/>
                </a:lnTo>
                <a:lnTo>
                  <a:pt x="76" y="136"/>
                </a:lnTo>
                <a:lnTo>
                  <a:pt x="68" y="136"/>
                </a:lnTo>
                <a:lnTo>
                  <a:pt x="68" y="127"/>
                </a:lnTo>
                <a:lnTo>
                  <a:pt x="68" y="136"/>
                </a:lnTo>
                <a:lnTo>
                  <a:pt x="59" y="136"/>
                </a:lnTo>
                <a:lnTo>
                  <a:pt x="51" y="136"/>
                </a:lnTo>
                <a:lnTo>
                  <a:pt x="51" y="127"/>
                </a:lnTo>
                <a:lnTo>
                  <a:pt x="51" y="136"/>
                </a:lnTo>
                <a:lnTo>
                  <a:pt x="42" y="136"/>
                </a:lnTo>
                <a:lnTo>
                  <a:pt x="42" y="127"/>
                </a:lnTo>
                <a:lnTo>
                  <a:pt x="42" y="136"/>
                </a:lnTo>
                <a:lnTo>
                  <a:pt x="34" y="136"/>
                </a:lnTo>
                <a:lnTo>
                  <a:pt x="25" y="136"/>
                </a:lnTo>
                <a:lnTo>
                  <a:pt x="25" y="127"/>
                </a:lnTo>
                <a:lnTo>
                  <a:pt x="25" y="136"/>
                </a:lnTo>
                <a:lnTo>
                  <a:pt x="25" y="127"/>
                </a:lnTo>
                <a:lnTo>
                  <a:pt x="17" y="127"/>
                </a:lnTo>
                <a:lnTo>
                  <a:pt x="8" y="127"/>
                </a:lnTo>
                <a:lnTo>
                  <a:pt x="8" y="117"/>
                </a:lnTo>
                <a:lnTo>
                  <a:pt x="0" y="117"/>
                </a:lnTo>
                <a:lnTo>
                  <a:pt x="0" y="107"/>
                </a:lnTo>
                <a:lnTo>
                  <a:pt x="0" y="97"/>
                </a:lnTo>
                <a:lnTo>
                  <a:pt x="0" y="107"/>
                </a:lnTo>
                <a:lnTo>
                  <a:pt x="0" y="97"/>
                </a:lnTo>
                <a:lnTo>
                  <a:pt x="0" y="88"/>
                </a:lnTo>
                <a:lnTo>
                  <a:pt x="8" y="88"/>
                </a:lnTo>
                <a:lnTo>
                  <a:pt x="8" y="78"/>
                </a:lnTo>
                <a:lnTo>
                  <a:pt x="8" y="68"/>
                </a:lnTo>
                <a:lnTo>
                  <a:pt x="8" y="59"/>
                </a:lnTo>
                <a:lnTo>
                  <a:pt x="8" y="49"/>
                </a:lnTo>
                <a:lnTo>
                  <a:pt x="0" y="49"/>
                </a:lnTo>
                <a:lnTo>
                  <a:pt x="0" y="39"/>
                </a:lnTo>
                <a:lnTo>
                  <a:pt x="8" y="39"/>
                </a:lnTo>
                <a:lnTo>
                  <a:pt x="17" y="39"/>
                </a:lnTo>
                <a:lnTo>
                  <a:pt x="17" y="30"/>
                </a:lnTo>
                <a:lnTo>
                  <a:pt x="17" y="20"/>
                </a:lnTo>
                <a:lnTo>
                  <a:pt x="8" y="20"/>
                </a:lnTo>
                <a:lnTo>
                  <a:pt x="8" y="10"/>
                </a:lnTo>
                <a:lnTo>
                  <a:pt x="0" y="10"/>
                </a:lnTo>
                <a:lnTo>
                  <a:pt x="8" y="1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34" y="0"/>
                </a:lnTo>
                <a:lnTo>
                  <a:pt x="42" y="0"/>
                </a:lnTo>
                <a:lnTo>
                  <a:pt x="42" y="10"/>
                </a:lnTo>
                <a:lnTo>
                  <a:pt x="42" y="0"/>
                </a:lnTo>
                <a:lnTo>
                  <a:pt x="34" y="10"/>
                </a:lnTo>
                <a:lnTo>
                  <a:pt x="34" y="20"/>
                </a:lnTo>
                <a:lnTo>
                  <a:pt x="42" y="20"/>
                </a:lnTo>
                <a:lnTo>
                  <a:pt x="34" y="20"/>
                </a:lnTo>
                <a:lnTo>
                  <a:pt x="34" y="30"/>
                </a:lnTo>
                <a:lnTo>
                  <a:pt x="34" y="39"/>
                </a:lnTo>
                <a:lnTo>
                  <a:pt x="42" y="39"/>
                </a:lnTo>
                <a:lnTo>
                  <a:pt x="42" y="30"/>
                </a:lnTo>
                <a:lnTo>
                  <a:pt x="51" y="30"/>
                </a:lnTo>
                <a:lnTo>
                  <a:pt x="59" y="30"/>
                </a:lnTo>
                <a:lnTo>
                  <a:pt x="59" y="20"/>
                </a:lnTo>
                <a:lnTo>
                  <a:pt x="59" y="30"/>
                </a:lnTo>
                <a:lnTo>
                  <a:pt x="59" y="20"/>
                </a:lnTo>
                <a:lnTo>
                  <a:pt x="68" y="20"/>
                </a:lnTo>
                <a:lnTo>
                  <a:pt x="68" y="30"/>
                </a:lnTo>
                <a:lnTo>
                  <a:pt x="76" y="30"/>
                </a:lnTo>
                <a:lnTo>
                  <a:pt x="84" y="30"/>
                </a:lnTo>
                <a:lnTo>
                  <a:pt x="84" y="39"/>
                </a:lnTo>
                <a:lnTo>
                  <a:pt x="92" y="39"/>
                </a:lnTo>
                <a:lnTo>
                  <a:pt x="84" y="39"/>
                </a:lnTo>
                <a:lnTo>
                  <a:pt x="84" y="49"/>
                </a:lnTo>
                <a:lnTo>
                  <a:pt x="76" y="4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40"/>
          <p:cNvSpPr/>
          <p:nvPr/>
        </p:nvSpPr>
        <p:spPr>
          <a:xfrm>
            <a:off x="4246560" y="2995560"/>
            <a:ext cx="326880" cy="293760"/>
          </a:xfrm>
          <a:custGeom>
            <a:avLst/>
            <a:gdLst>
              <a:gd name="textAreaLeft" fmla="*/ 0 w 326880"/>
              <a:gd name="textAreaRight" fmla="*/ 326880 w 3268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06" h="185">
                <a:moveTo>
                  <a:pt x="60" y="0"/>
                </a:moveTo>
                <a:lnTo>
                  <a:pt x="68" y="0"/>
                </a:lnTo>
                <a:lnTo>
                  <a:pt x="77" y="0"/>
                </a:lnTo>
                <a:lnTo>
                  <a:pt x="85" y="0"/>
                </a:lnTo>
                <a:lnTo>
                  <a:pt x="94" y="0"/>
                </a:lnTo>
                <a:lnTo>
                  <a:pt x="94" y="10"/>
                </a:lnTo>
                <a:lnTo>
                  <a:pt x="94" y="0"/>
                </a:lnTo>
                <a:lnTo>
                  <a:pt x="102" y="0"/>
                </a:lnTo>
                <a:lnTo>
                  <a:pt x="111" y="0"/>
                </a:lnTo>
                <a:lnTo>
                  <a:pt x="119" y="0"/>
                </a:lnTo>
                <a:lnTo>
                  <a:pt x="119" y="10"/>
                </a:lnTo>
                <a:lnTo>
                  <a:pt x="119" y="19"/>
                </a:lnTo>
                <a:lnTo>
                  <a:pt x="128" y="19"/>
                </a:lnTo>
                <a:lnTo>
                  <a:pt x="128" y="29"/>
                </a:lnTo>
                <a:lnTo>
                  <a:pt x="128" y="39"/>
                </a:lnTo>
                <a:lnTo>
                  <a:pt x="136" y="39"/>
                </a:lnTo>
                <a:lnTo>
                  <a:pt x="136" y="48"/>
                </a:lnTo>
                <a:lnTo>
                  <a:pt x="145" y="48"/>
                </a:lnTo>
                <a:lnTo>
                  <a:pt x="145" y="58"/>
                </a:lnTo>
                <a:lnTo>
                  <a:pt x="153" y="58"/>
                </a:lnTo>
                <a:lnTo>
                  <a:pt x="153" y="68"/>
                </a:lnTo>
                <a:lnTo>
                  <a:pt x="162" y="68"/>
                </a:lnTo>
                <a:lnTo>
                  <a:pt x="162" y="78"/>
                </a:lnTo>
                <a:lnTo>
                  <a:pt x="162" y="87"/>
                </a:lnTo>
                <a:lnTo>
                  <a:pt x="171" y="87"/>
                </a:lnTo>
                <a:lnTo>
                  <a:pt x="171" y="97"/>
                </a:lnTo>
                <a:lnTo>
                  <a:pt x="179" y="97"/>
                </a:lnTo>
                <a:lnTo>
                  <a:pt x="188" y="97"/>
                </a:lnTo>
                <a:lnTo>
                  <a:pt x="196" y="97"/>
                </a:lnTo>
                <a:lnTo>
                  <a:pt x="196" y="107"/>
                </a:lnTo>
                <a:lnTo>
                  <a:pt x="205" y="107"/>
                </a:lnTo>
                <a:lnTo>
                  <a:pt x="205" y="116"/>
                </a:lnTo>
                <a:lnTo>
                  <a:pt x="205" y="126"/>
                </a:lnTo>
                <a:lnTo>
                  <a:pt x="196" y="136"/>
                </a:lnTo>
                <a:lnTo>
                  <a:pt x="188" y="136"/>
                </a:lnTo>
                <a:lnTo>
                  <a:pt x="179" y="136"/>
                </a:lnTo>
                <a:lnTo>
                  <a:pt x="162" y="145"/>
                </a:lnTo>
                <a:lnTo>
                  <a:pt x="153" y="145"/>
                </a:lnTo>
                <a:lnTo>
                  <a:pt x="145" y="165"/>
                </a:lnTo>
                <a:lnTo>
                  <a:pt x="128" y="165"/>
                </a:lnTo>
                <a:lnTo>
                  <a:pt x="128" y="175"/>
                </a:lnTo>
                <a:lnTo>
                  <a:pt x="119" y="175"/>
                </a:lnTo>
                <a:lnTo>
                  <a:pt x="111" y="175"/>
                </a:lnTo>
                <a:lnTo>
                  <a:pt x="111" y="184"/>
                </a:lnTo>
                <a:lnTo>
                  <a:pt x="111" y="175"/>
                </a:lnTo>
                <a:lnTo>
                  <a:pt x="102" y="175"/>
                </a:lnTo>
                <a:lnTo>
                  <a:pt x="94" y="175"/>
                </a:lnTo>
                <a:lnTo>
                  <a:pt x="85" y="175"/>
                </a:lnTo>
                <a:lnTo>
                  <a:pt x="85" y="184"/>
                </a:lnTo>
                <a:lnTo>
                  <a:pt x="85" y="17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94" y="136"/>
                </a:lnTo>
                <a:lnTo>
                  <a:pt x="94" y="126"/>
                </a:lnTo>
                <a:lnTo>
                  <a:pt x="85" y="126"/>
                </a:lnTo>
                <a:lnTo>
                  <a:pt x="77" y="126"/>
                </a:lnTo>
                <a:lnTo>
                  <a:pt x="77" y="116"/>
                </a:lnTo>
                <a:lnTo>
                  <a:pt x="68" y="116"/>
                </a:lnTo>
                <a:lnTo>
                  <a:pt x="68" y="107"/>
                </a:lnTo>
                <a:lnTo>
                  <a:pt x="60" y="107"/>
                </a:lnTo>
                <a:lnTo>
                  <a:pt x="60" y="97"/>
                </a:lnTo>
                <a:lnTo>
                  <a:pt x="51" y="97"/>
                </a:lnTo>
                <a:lnTo>
                  <a:pt x="51" y="87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34" y="68"/>
                </a:lnTo>
                <a:lnTo>
                  <a:pt x="34" y="58"/>
                </a:lnTo>
                <a:lnTo>
                  <a:pt x="26" y="58"/>
                </a:lnTo>
                <a:lnTo>
                  <a:pt x="26" y="68"/>
                </a:lnTo>
                <a:lnTo>
                  <a:pt x="26" y="5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9" y="29"/>
                </a:lnTo>
                <a:lnTo>
                  <a:pt x="0" y="29"/>
                </a:lnTo>
                <a:lnTo>
                  <a:pt x="0" y="19"/>
                </a:lnTo>
                <a:lnTo>
                  <a:pt x="9" y="19"/>
                </a:lnTo>
                <a:lnTo>
                  <a:pt x="9" y="29"/>
                </a:lnTo>
                <a:lnTo>
                  <a:pt x="9" y="19"/>
                </a:lnTo>
                <a:lnTo>
                  <a:pt x="17" y="19"/>
                </a:lnTo>
                <a:lnTo>
                  <a:pt x="17" y="2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10"/>
                </a:lnTo>
                <a:lnTo>
                  <a:pt x="43" y="10"/>
                </a:lnTo>
                <a:lnTo>
                  <a:pt x="51" y="10"/>
                </a:lnTo>
                <a:lnTo>
                  <a:pt x="51" y="0"/>
                </a:lnTo>
                <a:lnTo>
                  <a:pt x="60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Freeform 41"/>
          <p:cNvSpPr/>
          <p:nvPr/>
        </p:nvSpPr>
        <p:spPr>
          <a:xfrm>
            <a:off x="506520" y="5659560"/>
            <a:ext cx="839520" cy="987480"/>
          </a:xfrm>
          <a:custGeom>
            <a:avLst/>
            <a:gdLst>
              <a:gd name="textAreaLeft" fmla="*/ 0 w 839520"/>
              <a:gd name="textAreaRight" fmla="*/ 839880 w 83952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529" h="622">
                <a:moveTo>
                  <a:pt x="26" y="10"/>
                </a:moveTo>
                <a:lnTo>
                  <a:pt x="17" y="10"/>
                </a:lnTo>
                <a:lnTo>
                  <a:pt x="17" y="0"/>
                </a:lnTo>
                <a:lnTo>
                  <a:pt x="9" y="0"/>
                </a:lnTo>
                <a:lnTo>
                  <a:pt x="9" y="1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17" y="20"/>
                </a:lnTo>
                <a:lnTo>
                  <a:pt x="17" y="2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9"/>
                </a:lnTo>
                <a:lnTo>
                  <a:pt x="43" y="5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43" y="126"/>
                </a:lnTo>
                <a:lnTo>
                  <a:pt x="43" y="136"/>
                </a:lnTo>
                <a:lnTo>
                  <a:pt x="51" y="136"/>
                </a:lnTo>
                <a:lnTo>
                  <a:pt x="51" y="146"/>
                </a:lnTo>
                <a:lnTo>
                  <a:pt x="51" y="155"/>
                </a:lnTo>
                <a:lnTo>
                  <a:pt x="51" y="165"/>
                </a:lnTo>
                <a:lnTo>
                  <a:pt x="51" y="175"/>
                </a:lnTo>
                <a:lnTo>
                  <a:pt x="60" y="175"/>
                </a:lnTo>
                <a:lnTo>
                  <a:pt x="51" y="184"/>
                </a:lnTo>
                <a:lnTo>
                  <a:pt x="60" y="184"/>
                </a:lnTo>
                <a:lnTo>
                  <a:pt x="60" y="194"/>
                </a:lnTo>
                <a:lnTo>
                  <a:pt x="60" y="204"/>
                </a:lnTo>
                <a:lnTo>
                  <a:pt x="60" y="214"/>
                </a:lnTo>
                <a:lnTo>
                  <a:pt x="60" y="223"/>
                </a:lnTo>
                <a:lnTo>
                  <a:pt x="51" y="223"/>
                </a:lnTo>
                <a:lnTo>
                  <a:pt x="51" y="233"/>
                </a:lnTo>
                <a:lnTo>
                  <a:pt x="51" y="243"/>
                </a:lnTo>
                <a:lnTo>
                  <a:pt x="60" y="243"/>
                </a:lnTo>
                <a:lnTo>
                  <a:pt x="60" y="252"/>
                </a:lnTo>
                <a:lnTo>
                  <a:pt x="68" y="252"/>
                </a:lnTo>
                <a:lnTo>
                  <a:pt x="68" y="262"/>
                </a:lnTo>
                <a:lnTo>
                  <a:pt x="77" y="262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02" y="281"/>
                </a:lnTo>
                <a:lnTo>
                  <a:pt x="102" y="291"/>
                </a:lnTo>
                <a:lnTo>
                  <a:pt x="102" y="301"/>
                </a:lnTo>
                <a:lnTo>
                  <a:pt x="111" y="301"/>
                </a:lnTo>
                <a:lnTo>
                  <a:pt x="119" y="311"/>
                </a:lnTo>
                <a:lnTo>
                  <a:pt x="128" y="301"/>
                </a:lnTo>
                <a:lnTo>
                  <a:pt x="119" y="301"/>
                </a:lnTo>
                <a:lnTo>
                  <a:pt x="128" y="301"/>
                </a:lnTo>
                <a:lnTo>
                  <a:pt x="128" y="291"/>
                </a:lnTo>
                <a:lnTo>
                  <a:pt x="137" y="291"/>
                </a:lnTo>
                <a:lnTo>
                  <a:pt x="137" y="301"/>
                </a:lnTo>
                <a:lnTo>
                  <a:pt x="137" y="291"/>
                </a:lnTo>
                <a:lnTo>
                  <a:pt x="145" y="291"/>
                </a:lnTo>
                <a:lnTo>
                  <a:pt x="154" y="291"/>
                </a:lnTo>
                <a:lnTo>
                  <a:pt x="154" y="281"/>
                </a:lnTo>
                <a:lnTo>
                  <a:pt x="162" y="281"/>
                </a:lnTo>
                <a:lnTo>
                  <a:pt x="171" y="281"/>
                </a:lnTo>
                <a:lnTo>
                  <a:pt x="179" y="281"/>
                </a:lnTo>
                <a:lnTo>
                  <a:pt x="179" y="272"/>
                </a:lnTo>
                <a:lnTo>
                  <a:pt x="188" y="272"/>
                </a:lnTo>
                <a:lnTo>
                  <a:pt x="196" y="272"/>
                </a:lnTo>
                <a:lnTo>
                  <a:pt x="205" y="272"/>
                </a:lnTo>
                <a:lnTo>
                  <a:pt x="213" y="272"/>
                </a:lnTo>
                <a:lnTo>
                  <a:pt x="213" y="281"/>
                </a:lnTo>
                <a:lnTo>
                  <a:pt x="222" y="281"/>
                </a:lnTo>
                <a:lnTo>
                  <a:pt x="230" y="281"/>
                </a:lnTo>
                <a:lnTo>
                  <a:pt x="239" y="281"/>
                </a:lnTo>
                <a:lnTo>
                  <a:pt x="247" y="281"/>
                </a:lnTo>
                <a:lnTo>
                  <a:pt x="256" y="281"/>
                </a:lnTo>
                <a:lnTo>
                  <a:pt x="264" y="281"/>
                </a:lnTo>
                <a:lnTo>
                  <a:pt x="264" y="272"/>
                </a:lnTo>
                <a:lnTo>
                  <a:pt x="273" y="262"/>
                </a:lnTo>
                <a:lnTo>
                  <a:pt x="273" y="272"/>
                </a:lnTo>
                <a:lnTo>
                  <a:pt x="264" y="281"/>
                </a:lnTo>
                <a:lnTo>
                  <a:pt x="264" y="291"/>
                </a:lnTo>
                <a:lnTo>
                  <a:pt x="264" y="301"/>
                </a:lnTo>
                <a:lnTo>
                  <a:pt x="256" y="301"/>
                </a:lnTo>
                <a:lnTo>
                  <a:pt x="256" y="311"/>
                </a:lnTo>
                <a:lnTo>
                  <a:pt x="264" y="311"/>
                </a:lnTo>
                <a:lnTo>
                  <a:pt x="264" y="320"/>
                </a:lnTo>
                <a:lnTo>
                  <a:pt x="273" y="320"/>
                </a:lnTo>
                <a:lnTo>
                  <a:pt x="273" y="330"/>
                </a:lnTo>
                <a:lnTo>
                  <a:pt x="273" y="340"/>
                </a:lnTo>
                <a:lnTo>
                  <a:pt x="273" y="349"/>
                </a:lnTo>
                <a:lnTo>
                  <a:pt x="273" y="359"/>
                </a:lnTo>
                <a:lnTo>
                  <a:pt x="273" y="369"/>
                </a:lnTo>
                <a:lnTo>
                  <a:pt x="273" y="378"/>
                </a:lnTo>
                <a:lnTo>
                  <a:pt x="281" y="378"/>
                </a:lnTo>
                <a:lnTo>
                  <a:pt x="273" y="378"/>
                </a:lnTo>
                <a:lnTo>
                  <a:pt x="273" y="388"/>
                </a:lnTo>
                <a:lnTo>
                  <a:pt x="273" y="398"/>
                </a:lnTo>
                <a:lnTo>
                  <a:pt x="264" y="398"/>
                </a:lnTo>
                <a:lnTo>
                  <a:pt x="264" y="408"/>
                </a:lnTo>
                <a:lnTo>
                  <a:pt x="264" y="417"/>
                </a:lnTo>
                <a:lnTo>
                  <a:pt x="256" y="417"/>
                </a:lnTo>
                <a:lnTo>
                  <a:pt x="247" y="417"/>
                </a:lnTo>
                <a:lnTo>
                  <a:pt x="247" y="427"/>
                </a:lnTo>
                <a:lnTo>
                  <a:pt x="239" y="427"/>
                </a:lnTo>
                <a:lnTo>
                  <a:pt x="230" y="427"/>
                </a:lnTo>
                <a:lnTo>
                  <a:pt x="230" y="437"/>
                </a:lnTo>
                <a:lnTo>
                  <a:pt x="222" y="437"/>
                </a:lnTo>
                <a:lnTo>
                  <a:pt x="230" y="437"/>
                </a:lnTo>
                <a:lnTo>
                  <a:pt x="239" y="437"/>
                </a:lnTo>
                <a:lnTo>
                  <a:pt x="247" y="437"/>
                </a:lnTo>
                <a:lnTo>
                  <a:pt x="247" y="427"/>
                </a:lnTo>
                <a:lnTo>
                  <a:pt x="247" y="437"/>
                </a:lnTo>
                <a:lnTo>
                  <a:pt x="256" y="437"/>
                </a:lnTo>
                <a:lnTo>
                  <a:pt x="256" y="446"/>
                </a:lnTo>
                <a:lnTo>
                  <a:pt x="256" y="456"/>
                </a:lnTo>
                <a:lnTo>
                  <a:pt x="264" y="456"/>
                </a:lnTo>
                <a:lnTo>
                  <a:pt x="264" y="466"/>
                </a:lnTo>
                <a:lnTo>
                  <a:pt x="273" y="466"/>
                </a:lnTo>
                <a:lnTo>
                  <a:pt x="281" y="466"/>
                </a:lnTo>
                <a:lnTo>
                  <a:pt x="290" y="466"/>
                </a:lnTo>
                <a:lnTo>
                  <a:pt x="298" y="475"/>
                </a:lnTo>
                <a:lnTo>
                  <a:pt x="307" y="475"/>
                </a:lnTo>
                <a:lnTo>
                  <a:pt x="307" y="485"/>
                </a:lnTo>
                <a:lnTo>
                  <a:pt x="315" y="485"/>
                </a:lnTo>
                <a:lnTo>
                  <a:pt x="315" y="495"/>
                </a:lnTo>
                <a:lnTo>
                  <a:pt x="324" y="495"/>
                </a:lnTo>
                <a:lnTo>
                  <a:pt x="324" y="505"/>
                </a:lnTo>
                <a:lnTo>
                  <a:pt x="332" y="505"/>
                </a:lnTo>
                <a:lnTo>
                  <a:pt x="332" y="514"/>
                </a:lnTo>
                <a:lnTo>
                  <a:pt x="341" y="514"/>
                </a:lnTo>
                <a:lnTo>
                  <a:pt x="341" y="524"/>
                </a:lnTo>
                <a:lnTo>
                  <a:pt x="349" y="524"/>
                </a:lnTo>
                <a:lnTo>
                  <a:pt x="349" y="534"/>
                </a:lnTo>
                <a:lnTo>
                  <a:pt x="358" y="534"/>
                </a:lnTo>
                <a:lnTo>
                  <a:pt x="366" y="534"/>
                </a:lnTo>
                <a:lnTo>
                  <a:pt x="366" y="543"/>
                </a:lnTo>
                <a:lnTo>
                  <a:pt x="375" y="543"/>
                </a:lnTo>
                <a:lnTo>
                  <a:pt x="383" y="543"/>
                </a:lnTo>
                <a:lnTo>
                  <a:pt x="383" y="553"/>
                </a:lnTo>
                <a:lnTo>
                  <a:pt x="392" y="553"/>
                </a:lnTo>
                <a:lnTo>
                  <a:pt x="392" y="563"/>
                </a:lnTo>
                <a:lnTo>
                  <a:pt x="400" y="563"/>
                </a:lnTo>
                <a:lnTo>
                  <a:pt x="400" y="572"/>
                </a:lnTo>
                <a:lnTo>
                  <a:pt x="409" y="572"/>
                </a:lnTo>
                <a:lnTo>
                  <a:pt x="409" y="582"/>
                </a:lnTo>
                <a:lnTo>
                  <a:pt x="417" y="582"/>
                </a:lnTo>
                <a:lnTo>
                  <a:pt x="426" y="582"/>
                </a:lnTo>
                <a:lnTo>
                  <a:pt x="434" y="582"/>
                </a:lnTo>
                <a:lnTo>
                  <a:pt x="443" y="582"/>
                </a:lnTo>
                <a:lnTo>
                  <a:pt x="443" y="592"/>
                </a:lnTo>
                <a:lnTo>
                  <a:pt x="451" y="592"/>
                </a:lnTo>
                <a:lnTo>
                  <a:pt x="460" y="592"/>
                </a:lnTo>
                <a:lnTo>
                  <a:pt x="460" y="602"/>
                </a:lnTo>
                <a:lnTo>
                  <a:pt x="468" y="602"/>
                </a:lnTo>
                <a:lnTo>
                  <a:pt x="477" y="602"/>
                </a:lnTo>
                <a:lnTo>
                  <a:pt x="477" y="611"/>
                </a:lnTo>
                <a:lnTo>
                  <a:pt x="485" y="611"/>
                </a:lnTo>
                <a:lnTo>
                  <a:pt x="494" y="611"/>
                </a:lnTo>
                <a:lnTo>
                  <a:pt x="502" y="611"/>
                </a:lnTo>
                <a:lnTo>
                  <a:pt x="502" y="621"/>
                </a:lnTo>
                <a:lnTo>
                  <a:pt x="511" y="621"/>
                </a:lnTo>
                <a:lnTo>
                  <a:pt x="511" y="611"/>
                </a:lnTo>
                <a:lnTo>
                  <a:pt x="502" y="611"/>
                </a:lnTo>
                <a:lnTo>
                  <a:pt x="502" y="602"/>
                </a:lnTo>
                <a:lnTo>
                  <a:pt x="511" y="602"/>
                </a:lnTo>
                <a:lnTo>
                  <a:pt x="519" y="602"/>
                </a:lnTo>
                <a:lnTo>
                  <a:pt x="519" y="592"/>
                </a:lnTo>
                <a:lnTo>
                  <a:pt x="511" y="592"/>
                </a:lnTo>
                <a:lnTo>
                  <a:pt x="511" y="582"/>
                </a:lnTo>
                <a:lnTo>
                  <a:pt x="511" y="572"/>
                </a:lnTo>
                <a:lnTo>
                  <a:pt x="519" y="572"/>
                </a:lnTo>
                <a:lnTo>
                  <a:pt x="528" y="572"/>
                </a:lnTo>
                <a:lnTo>
                  <a:pt x="528" y="563"/>
                </a:lnTo>
                <a:lnTo>
                  <a:pt x="528" y="524"/>
                </a:lnTo>
                <a:lnTo>
                  <a:pt x="528" y="495"/>
                </a:lnTo>
                <a:lnTo>
                  <a:pt x="528" y="475"/>
                </a:lnTo>
                <a:lnTo>
                  <a:pt x="528" y="456"/>
                </a:lnTo>
                <a:lnTo>
                  <a:pt x="528" y="126"/>
                </a:lnTo>
                <a:lnTo>
                  <a:pt x="528" y="117"/>
                </a:lnTo>
                <a:lnTo>
                  <a:pt x="519" y="117"/>
                </a:lnTo>
                <a:lnTo>
                  <a:pt x="511" y="117"/>
                </a:lnTo>
                <a:lnTo>
                  <a:pt x="502" y="117"/>
                </a:lnTo>
                <a:lnTo>
                  <a:pt x="502" y="126"/>
                </a:lnTo>
                <a:lnTo>
                  <a:pt x="494" y="126"/>
                </a:lnTo>
                <a:lnTo>
                  <a:pt x="485" y="126"/>
                </a:lnTo>
                <a:lnTo>
                  <a:pt x="485" y="117"/>
                </a:lnTo>
                <a:lnTo>
                  <a:pt x="477" y="117"/>
                </a:lnTo>
                <a:lnTo>
                  <a:pt x="468" y="117"/>
                </a:lnTo>
                <a:lnTo>
                  <a:pt x="468" y="107"/>
                </a:lnTo>
                <a:lnTo>
                  <a:pt x="460" y="97"/>
                </a:lnTo>
                <a:lnTo>
                  <a:pt x="451" y="87"/>
                </a:lnTo>
                <a:lnTo>
                  <a:pt x="451" y="78"/>
                </a:lnTo>
                <a:lnTo>
                  <a:pt x="443" y="78"/>
                </a:lnTo>
                <a:lnTo>
                  <a:pt x="434" y="68"/>
                </a:lnTo>
                <a:lnTo>
                  <a:pt x="426" y="68"/>
                </a:lnTo>
                <a:lnTo>
                  <a:pt x="426" y="58"/>
                </a:lnTo>
                <a:lnTo>
                  <a:pt x="417" y="58"/>
                </a:lnTo>
                <a:lnTo>
                  <a:pt x="417" y="49"/>
                </a:lnTo>
                <a:lnTo>
                  <a:pt x="409" y="49"/>
                </a:lnTo>
                <a:lnTo>
                  <a:pt x="400" y="49"/>
                </a:lnTo>
                <a:lnTo>
                  <a:pt x="400" y="39"/>
                </a:lnTo>
                <a:lnTo>
                  <a:pt x="392" y="39"/>
                </a:lnTo>
                <a:lnTo>
                  <a:pt x="392" y="29"/>
                </a:lnTo>
                <a:lnTo>
                  <a:pt x="383" y="29"/>
                </a:lnTo>
                <a:lnTo>
                  <a:pt x="383" y="20"/>
                </a:lnTo>
                <a:lnTo>
                  <a:pt x="375" y="20"/>
                </a:lnTo>
                <a:lnTo>
                  <a:pt x="366" y="20"/>
                </a:lnTo>
                <a:lnTo>
                  <a:pt x="358" y="20"/>
                </a:lnTo>
                <a:lnTo>
                  <a:pt x="349" y="20"/>
                </a:lnTo>
                <a:lnTo>
                  <a:pt x="341" y="20"/>
                </a:lnTo>
                <a:lnTo>
                  <a:pt x="332" y="20"/>
                </a:lnTo>
                <a:lnTo>
                  <a:pt x="332" y="10"/>
                </a:lnTo>
                <a:lnTo>
                  <a:pt x="324" y="10"/>
                </a:lnTo>
                <a:lnTo>
                  <a:pt x="315" y="10"/>
                </a:lnTo>
                <a:lnTo>
                  <a:pt x="307" y="10"/>
                </a:lnTo>
                <a:lnTo>
                  <a:pt x="307" y="20"/>
                </a:lnTo>
                <a:lnTo>
                  <a:pt x="307" y="29"/>
                </a:lnTo>
                <a:lnTo>
                  <a:pt x="298" y="29"/>
                </a:lnTo>
                <a:lnTo>
                  <a:pt x="290" y="29"/>
                </a:lnTo>
                <a:lnTo>
                  <a:pt x="290" y="20"/>
                </a:lnTo>
                <a:lnTo>
                  <a:pt x="290" y="29"/>
                </a:lnTo>
                <a:lnTo>
                  <a:pt x="281" y="29"/>
                </a:lnTo>
                <a:lnTo>
                  <a:pt x="273" y="29"/>
                </a:lnTo>
                <a:lnTo>
                  <a:pt x="264" y="29"/>
                </a:lnTo>
                <a:lnTo>
                  <a:pt x="256" y="2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49"/>
                </a:lnTo>
                <a:lnTo>
                  <a:pt x="230" y="49"/>
                </a:lnTo>
                <a:lnTo>
                  <a:pt x="230" y="58"/>
                </a:lnTo>
                <a:lnTo>
                  <a:pt x="222" y="58"/>
                </a:lnTo>
                <a:lnTo>
                  <a:pt x="213" y="58"/>
                </a:lnTo>
                <a:lnTo>
                  <a:pt x="205" y="58"/>
                </a:lnTo>
                <a:lnTo>
                  <a:pt x="205" y="49"/>
                </a:lnTo>
                <a:lnTo>
                  <a:pt x="196" y="49"/>
                </a:lnTo>
                <a:lnTo>
                  <a:pt x="196" y="58"/>
                </a:lnTo>
                <a:lnTo>
                  <a:pt x="188" y="58"/>
                </a:lnTo>
                <a:lnTo>
                  <a:pt x="179" y="58"/>
                </a:lnTo>
                <a:lnTo>
                  <a:pt x="171" y="58"/>
                </a:lnTo>
                <a:lnTo>
                  <a:pt x="162" y="58"/>
                </a:lnTo>
                <a:lnTo>
                  <a:pt x="154" y="49"/>
                </a:lnTo>
                <a:lnTo>
                  <a:pt x="145" y="49"/>
                </a:lnTo>
                <a:lnTo>
                  <a:pt x="145" y="58"/>
                </a:lnTo>
                <a:lnTo>
                  <a:pt x="137" y="58"/>
                </a:lnTo>
                <a:lnTo>
                  <a:pt x="128" y="58"/>
                </a:lnTo>
                <a:lnTo>
                  <a:pt x="128" y="68"/>
                </a:lnTo>
                <a:lnTo>
                  <a:pt x="119" y="68"/>
                </a:lnTo>
                <a:lnTo>
                  <a:pt x="111" y="78"/>
                </a:lnTo>
                <a:lnTo>
                  <a:pt x="102" y="7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85" y="58"/>
                </a:lnTo>
                <a:lnTo>
                  <a:pt x="85" y="49"/>
                </a:lnTo>
                <a:lnTo>
                  <a:pt x="94" y="49"/>
                </a:lnTo>
                <a:lnTo>
                  <a:pt x="94" y="39"/>
                </a:lnTo>
                <a:lnTo>
                  <a:pt x="85" y="39"/>
                </a:lnTo>
                <a:lnTo>
                  <a:pt x="77" y="39"/>
                </a:lnTo>
                <a:lnTo>
                  <a:pt x="68" y="29"/>
                </a:lnTo>
                <a:lnTo>
                  <a:pt x="68" y="20"/>
                </a:lnTo>
                <a:lnTo>
                  <a:pt x="77" y="20"/>
                </a:lnTo>
                <a:lnTo>
                  <a:pt x="77" y="10"/>
                </a:lnTo>
                <a:lnTo>
                  <a:pt x="68" y="10"/>
                </a:lnTo>
                <a:lnTo>
                  <a:pt x="68" y="0"/>
                </a:lnTo>
                <a:lnTo>
                  <a:pt x="68" y="10"/>
                </a:lnTo>
                <a:lnTo>
                  <a:pt x="60" y="10"/>
                </a:lnTo>
                <a:lnTo>
                  <a:pt x="51" y="10"/>
                </a:lnTo>
                <a:lnTo>
                  <a:pt x="43" y="10"/>
                </a:lnTo>
                <a:lnTo>
                  <a:pt x="34" y="10"/>
                </a:lnTo>
                <a:lnTo>
                  <a:pt x="26" y="1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Line 42"/>
          <p:cNvSpPr/>
          <p:nvPr/>
        </p:nvSpPr>
        <p:spPr>
          <a:xfrm flipH="1">
            <a:off x="5148360" y="1276200"/>
            <a:ext cx="231912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43"/>
          <p:cNvSpPr/>
          <p:nvPr/>
        </p:nvSpPr>
        <p:spPr>
          <a:xfrm flipH="1">
            <a:off x="5866920" y="1986120"/>
            <a:ext cx="199260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44"/>
          <p:cNvSpPr/>
          <p:nvPr/>
        </p:nvSpPr>
        <p:spPr>
          <a:xfrm flipH="1">
            <a:off x="2228400" y="3448080"/>
            <a:ext cx="244332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45"/>
          <p:cNvSpPr/>
          <p:nvPr/>
        </p:nvSpPr>
        <p:spPr>
          <a:xfrm flipH="1">
            <a:off x="2741400" y="4141800"/>
            <a:ext cx="212076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46"/>
          <p:cNvSpPr/>
          <p:nvPr/>
        </p:nvSpPr>
        <p:spPr>
          <a:xfrm flipH="1">
            <a:off x="525240" y="4711680"/>
            <a:ext cx="1539720" cy="9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47"/>
          <p:cNvSpPr/>
          <p:nvPr/>
        </p:nvSpPr>
        <p:spPr>
          <a:xfrm flipH="1">
            <a:off x="1309680" y="5697360"/>
            <a:ext cx="1295280" cy="9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Rectangle 48"/>
          <p:cNvSpPr/>
          <p:nvPr/>
        </p:nvSpPr>
        <p:spPr>
          <a:xfrm>
            <a:off x="8324280" y="2035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49"/>
          <p:cNvSpPr/>
          <p:nvPr/>
        </p:nvSpPr>
        <p:spPr>
          <a:xfrm>
            <a:off x="6116400" y="3559320"/>
            <a:ext cx="90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Rectangle 50"/>
          <p:cNvSpPr/>
          <p:nvPr/>
        </p:nvSpPr>
        <p:spPr>
          <a:xfrm>
            <a:off x="3295800" y="53118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51"/>
          <p:cNvSpPr/>
          <p:nvPr/>
        </p:nvSpPr>
        <p:spPr>
          <a:xfrm>
            <a:off x="1467000" y="6454800"/>
            <a:ext cx="84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Rectangle 52"/>
          <p:cNvSpPr/>
          <p:nvPr/>
        </p:nvSpPr>
        <p:spPr>
          <a:xfrm>
            <a:off x="829800" y="3645000"/>
            <a:ext cx="249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o de Ap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53"/>
          <p:cNvSpPr/>
          <p:nvPr/>
        </p:nvSpPr>
        <p:spPr>
          <a:xfrm>
            <a:off x="1868400" y="4121280"/>
            <a:ext cx="615960" cy="820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Oval 54"/>
          <p:cNvSpPr/>
          <p:nvPr/>
        </p:nvSpPr>
        <p:spPr>
          <a:xfrm>
            <a:off x="950760" y="587700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Rectangle 55"/>
          <p:cNvSpPr/>
          <p:nvPr/>
        </p:nvSpPr>
        <p:spPr>
          <a:xfrm>
            <a:off x="19080" y="5014800"/>
            <a:ext cx="107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B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56"/>
          <p:cNvSpPr/>
          <p:nvPr/>
        </p:nvSpPr>
        <p:spPr>
          <a:xfrm>
            <a:off x="649440" y="5416560"/>
            <a:ext cx="291960" cy="444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Rectangle 57"/>
          <p:cNvSpPr/>
          <p:nvPr/>
        </p:nvSpPr>
        <p:spPr>
          <a:xfrm>
            <a:off x="457200" y="228600"/>
            <a:ext cx="4762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Organización de la At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Oval 58"/>
          <p:cNvSpPr/>
          <p:nvPr/>
        </p:nvSpPr>
        <p:spPr>
          <a:xfrm>
            <a:off x="2556000" y="494172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Oval 59"/>
          <p:cNvSpPr/>
          <p:nvPr/>
        </p:nvSpPr>
        <p:spPr>
          <a:xfrm>
            <a:off x="4788000" y="278136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Oval 60"/>
          <p:cNvSpPr/>
          <p:nvPr/>
        </p:nvSpPr>
        <p:spPr>
          <a:xfrm>
            <a:off x="7502400" y="155736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Rectangle 61"/>
          <p:cNvSpPr/>
          <p:nvPr/>
        </p:nvSpPr>
        <p:spPr>
          <a:xfrm>
            <a:off x="1694160" y="2430360"/>
            <a:ext cx="131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62"/>
          <p:cNvSpPr/>
          <p:nvPr/>
        </p:nvSpPr>
        <p:spPr>
          <a:xfrm>
            <a:off x="2987640" y="2781360"/>
            <a:ext cx="1655640" cy="71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Rectangle 63"/>
          <p:cNvSpPr/>
          <p:nvPr/>
        </p:nvSpPr>
        <p:spPr>
          <a:xfrm>
            <a:off x="3565800" y="1628640"/>
            <a:ext cx="1307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64"/>
          <p:cNvSpPr/>
          <p:nvPr/>
        </p:nvSpPr>
        <p:spPr>
          <a:xfrm flipV="1">
            <a:off x="4859280" y="1628280"/>
            <a:ext cx="2449440" cy="2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Text Box 65"/>
          <p:cNvSpPr/>
          <p:nvPr/>
        </p:nvSpPr>
        <p:spPr>
          <a:xfrm>
            <a:off x="2789280" y="6264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ferencia: CCSS, Propuesta de Readecuación del Modelo de Atención,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Financiamiento de la Seguridad Social de Costa Rica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2" name="Group 3" descr=""/>
          <p:cNvPicPr/>
          <p:nvPr/>
        </p:nvPicPr>
        <p:blipFill>
          <a:blip r:embed="rId1"/>
          <a:stretch/>
        </p:blipFill>
        <p:spPr>
          <a:xfrm>
            <a:off x="19080" y="1755720"/>
            <a:ext cx="904572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3" name="Picture 3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5614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CRISIS CAJA COSTARRICENSE DE SEGURO SOC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CAUSAS Y RE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Costa Rica debe actuar en varios frentes en poco tiempo, ya no solo para avanzar hacia niveles más altos de desarrollo, sino para mantener los logros alcanzados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s-CR" sz="1600" spc="-1" strike="noStrike">
                <a:solidFill>
                  <a:srgbClr val="000000"/>
                </a:solidFill>
                <a:latin typeface="Corbel"/>
              </a:rPr>
              <a:t>12 Informe Estado de la Nación, 2005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8" name="Picture 2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024840" cy="5327640"/>
          </a:xfrm>
          <a:prstGeom prst="rect">
            <a:avLst/>
          </a:prstGeom>
          <a:ln w="0">
            <a:noFill/>
          </a:ln>
        </p:spPr>
      </p:pic>
      <p:sp>
        <p:nvSpPr>
          <p:cNvPr id="3909" name="1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0" name="Picture 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391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2" name="Picture 3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25120" cy="5514840"/>
          </a:xfrm>
          <a:prstGeom prst="rect">
            <a:avLst/>
          </a:prstGeom>
          <a:ln w="0">
            <a:noFill/>
          </a:ln>
        </p:spPr>
      </p:pic>
      <p:sp>
        <p:nvSpPr>
          <p:cNvPr id="3913" name="3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4" name="Picture 2" descr=""/>
          <p:cNvPicPr/>
          <p:nvPr/>
        </p:nvPicPr>
        <p:blipFill>
          <a:blip r:embed="rId1"/>
          <a:stretch/>
        </p:blipFill>
        <p:spPr>
          <a:xfrm>
            <a:off x="49320" y="620640"/>
            <a:ext cx="9059760" cy="5407200"/>
          </a:xfrm>
          <a:prstGeom prst="rect">
            <a:avLst/>
          </a:prstGeom>
          <a:ln w="0">
            <a:noFill/>
          </a:ln>
        </p:spPr>
      </p:pic>
      <p:sp>
        <p:nvSpPr>
          <p:cNvPr id="3915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6" name="Picture 2" descr=""/>
          <p:cNvPicPr/>
          <p:nvPr/>
        </p:nvPicPr>
        <p:blipFill>
          <a:blip r:embed="rId1"/>
          <a:stretch/>
        </p:blipFill>
        <p:spPr>
          <a:xfrm>
            <a:off x="50760" y="476280"/>
            <a:ext cx="8985240" cy="5724360"/>
          </a:xfrm>
          <a:prstGeom prst="rect">
            <a:avLst/>
          </a:prstGeom>
          <a:ln w="0">
            <a:noFill/>
          </a:ln>
        </p:spPr>
      </p:pic>
      <p:sp>
        <p:nvSpPr>
          <p:cNvPr id="3917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8" name="Picture 2" descr=""/>
          <p:cNvPicPr/>
          <p:nvPr/>
        </p:nvPicPr>
        <p:blipFill>
          <a:blip r:embed="rId1"/>
          <a:stretch/>
        </p:blipFill>
        <p:spPr>
          <a:xfrm>
            <a:off x="71280" y="723960"/>
            <a:ext cx="8964720" cy="5303880"/>
          </a:xfrm>
          <a:prstGeom prst="rect">
            <a:avLst/>
          </a:prstGeom>
          <a:ln w="0">
            <a:noFill/>
          </a:ln>
        </p:spPr>
      </p:pic>
      <p:sp>
        <p:nvSpPr>
          <p:cNvPr id="3919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0" name="Picture 2" descr=""/>
          <p:cNvPicPr/>
          <p:nvPr/>
        </p:nvPicPr>
        <p:blipFill>
          <a:blip r:embed="rId1"/>
          <a:stretch/>
        </p:blipFill>
        <p:spPr>
          <a:xfrm>
            <a:off x="28440" y="549360"/>
            <a:ext cx="9087120" cy="5543640"/>
          </a:xfrm>
          <a:prstGeom prst="rect">
            <a:avLst/>
          </a:prstGeom>
          <a:ln w="0">
            <a:noFill/>
          </a:ln>
        </p:spPr>
      </p:pic>
      <p:sp>
        <p:nvSpPr>
          <p:cNvPr id="392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0:41:42Z</dcterms:created>
  <dc:creator>Dr. Ortiz</dc:creator>
  <dc:description/>
  <dc:language>en-US</dc:language>
  <cp:lastModifiedBy>Rita</cp:lastModifiedBy>
  <dcterms:modified xsi:type="dcterms:W3CDTF">2013-01-12T16:23:20Z</dcterms:modified>
  <cp:revision>17</cp:revision>
  <dc:subject/>
  <dc:title>Equidad en el acceso a los servicios de salud en Centroamérica: La experiencia de Costa Rica</dc:title>
</cp:coreProperties>
</file>