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dt" idx="10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ftr" idx="10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 type="sldNum" idx="10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D677-7A7A-4049-B6A3-7A3A9AFA6F5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BD1E-5D45-4B22-BF7A-DE39C4A7951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4E55-71F4-49C3-8192-F83EF09D906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4D6D-CBDC-4B66-B154-BB58DDBCD1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CF2C-563C-4C94-9A2F-87777F96AE9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B920-99C6-4783-8B60-167BB901F1C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0F63-A3EC-4F83-B5ED-6AA7F3F8A13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EFA-1640-4252-ADA0-1000D367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DD1-0376-44E0-B5B0-574E7FE8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3FFCE-E4E3-4B12-BFAA-E5C0C5A9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2C57F-8DB0-4CC2-903B-4201924F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9C20C-22DF-439D-A8F8-16745C7B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656AD-C7E3-4D1F-BE79-DF82D6C8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3C2A2-1C1F-4B2F-A6C5-66460C1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8B434-696F-4DA6-9B63-E8AF17C6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13A5F-868F-4D60-AC93-197C3C27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11830-171A-4DDB-954C-15260443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AE5C3-473D-48F4-9A70-D0F5DD5C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62C5B-EE16-447D-8635-697D1CB9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C24-FCB0-41A5-B7AE-8D896AAB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70AE5-E230-4B37-8EC0-D6A1679B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8A860-1BE0-46FC-8C07-04AE6A01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F139D-848E-44C3-831E-0C2C551E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14274-0CF4-4C3E-8BAD-E874BA93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363BB-C8CC-4A68-88FB-0DE6E55D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1E7CB-D497-4C27-B2C1-0F76151B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3C91F-E74F-447F-9AA2-7F6FA7D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9FC7C-87A3-4480-8C71-13FD8B0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78BA5-55E4-4CCF-A34A-BF8A1CC9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558A4-8650-4E8C-8A6E-2FFEF0DA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682-4097-4A04-BA26-7F95F948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586BB-C120-4392-AF4A-81A5AAF3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92AC1-2029-4921-BD0F-AB303604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286E8-B326-4DC2-88CD-AFD28261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C26BB-C5B3-4E21-825D-41C3D606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6A6B0-41AF-4445-93E0-32234520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BD7DD-EC58-422C-924B-D7306CBD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3BAA4-C458-496D-BD80-CC9BFCFC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8D08C-AA12-42C9-A486-AE46465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8DC3A-AD5A-4E6A-BC9A-1A55645F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7D877-86CE-4DAD-ACF9-3DB0B605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2CC8-9465-4F05-A6F3-41C48ED3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AF48E-381E-459C-96F5-CE039D9B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539E4-AC96-4B1B-84BF-82CCDE8A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932A6-7206-4D2E-BBA6-5D8F1618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0F769-F38C-403E-991F-81AA39E2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B14F3-B961-4A82-AAF1-33E03EEF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131EA-AE06-49CB-B4B8-E0DDA446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B51D7-F247-4550-98F3-8251580D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07D41-ADF0-4E6F-B0C0-0060532E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B9381-7823-4125-B02A-A2274F16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047A8-F91E-464E-9CD8-8BD5A4A7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FAD0-DFB1-4ADD-9511-34C7333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E039A-CDE3-41F6-B46F-13CC365F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B28B7-76FC-4B9A-93D8-D9504CBC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8FB47-084C-4616-880D-1E260A0B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F70AE-AEEC-4CC1-8413-41BD8340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0948B-EAC8-491B-ADBE-EEE08E4B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7111C-A63D-4378-904E-88EAEE4C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83024-8170-4CCC-BA5A-5DDE91F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8D5D3-F4F4-4058-B899-B8A9F276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3E7EF-C069-41DE-8A6C-713D76B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F77C3-2382-480F-87B5-C6E91CF1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4121-0FCC-4FBB-A4E6-159D0D7E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99A9A-A693-48A7-ABB1-B5233009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80AB5-CF46-4003-A2AB-9831953B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A2B42-6463-4DD7-BDD8-B93A9F8B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855DF-FE1C-4C7F-B63F-7F3376DE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882D6-B1CC-4CA2-A7D0-9D9BAA5E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CBF4F-2002-4C62-A120-672E6334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0DC0C-B434-41DB-916B-9F41DAEC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62347-AADD-48EB-B80A-4D4D832E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303CB-013A-493E-9303-ABFCA36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7656F-4CC8-4428-AADA-0203210E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3A9D-EF8C-4420-8144-417E316A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BE987-4C43-44A0-9E5C-A94A7E18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F585B-3BA9-4BFB-9938-886B54AE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DAF2B-6457-4386-8A2D-CBEFF53B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FAC41-401F-48D1-9F5B-0A9FA7B4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57DA0-5DF2-4949-A8E1-1B8EE03B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8C34A-25DC-4506-9B16-4018C63F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087B9-18B4-4C32-8294-416D4038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DDA0F-AFE8-474E-9784-AA91BA5B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7C1AA-5A4F-40E8-80D7-0A05AAEF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58B6F-BB7A-4BF2-A203-5586452D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2EA6-E866-47D6-AB1C-BAF1B445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4BE3F-F210-4359-BCD3-396468B3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C5C50-7D0D-4FF8-9ABC-15D7647F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F7904-993B-4FBB-9775-5F2E9E7E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423E7-1410-4EE6-AF75-D76AEE84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295BA-234B-4A92-9953-BE695E54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09458-F43D-48F7-8F20-805C0B0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37FD3-7673-4077-B784-343164E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ACEED-4140-4062-91A3-09B04543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2956A-1990-4BEB-811E-91F79A2E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CD996-D1D8-4720-A3ED-77ADA2DF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924B-93F9-4F96-8412-04ED8F63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6B3C7-8CEA-4CD3-A611-9529EEBA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C8A37-72D1-4BD5-85B1-E71B1970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43915-7E35-4CAB-B590-3BDC25AB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D5559-5DEF-4B46-9F3E-B4AB4F36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CA393-DFF6-480B-B9DF-0721744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380F4-243F-4E0D-B8A4-B7C823A2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1D73C-1FE4-4E8D-A49D-AE917E3A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5E87C-289D-41C0-8B75-94EE9D7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B8F3C-719B-47B7-A9D3-1991DDA7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DA734-57BC-4A08-98C5-02EEB487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9375-A58D-4968-BFB8-E2581B6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C7B7C-DA3A-421A-869A-BBF9B76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43667-F8E4-49D4-A2BE-27B39889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A9FB1-56C4-43E9-8391-3C9895FE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07278-C395-4AE5-9D45-CDCC9EDC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7A664-56C9-47D0-A661-2BF25695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72684-2343-4DFE-B669-1DF95450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A11B2-141A-4BCA-A80D-1CF6B26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506EB2-4761-4BEE-9005-481D58C1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B993C-B960-48A6-9F1A-47F898D7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1427F-F9EB-401E-BEF2-670E6F1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F07-6061-4A59-9958-66A8D980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D375-D769-47EF-A84D-0982A74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4FB09-2116-4E0C-89D9-233F987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0D25F-A23A-43A7-9EFE-96C653B6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663FF-B77F-4C30-B4B8-6F91980F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F35EE-AD9A-44D7-9058-08726F08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6CB92-6BE0-4DD0-8724-4DA865D9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A12465-6243-4776-93E3-C201583A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BB78A-55BE-4E5B-83B2-F35EE68F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DE489-E290-489E-B044-5713A5A5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DF2B1-1084-4BE7-B12B-AB88FA34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BCDB5-564F-4D9C-8D35-E1F63886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4C06-1772-43BA-A4D3-B87B27F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CE60E-1341-4B75-9432-CA421A8E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883E5-6FB3-4AB2-AF3B-9144D57A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0AFC3-BBBE-4940-ACBC-AE02B6A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DED5F-0D64-4E81-9F67-92522C4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357E3-0B0E-46DE-ACD8-DC7353BA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702056-A6F0-4CC0-BDFE-0EC646AB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AE369-5C26-4806-AF83-A54BFD89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7E4DE-3FA4-4585-B0B2-BF5B8FBC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EF171-F5D7-47B3-9887-9094B982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52060-4676-46E3-BB68-1D47BB00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2153-26AC-43A6-AAF5-11FD5D02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D04F1-2648-4EE8-B0B0-CAF1FF59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5A994-0759-40AC-BA60-1128E04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F4577-45C6-43C6-99A4-75C71192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58FD84-7517-40A9-8C6F-AB3611DB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485342-4E5F-4856-B68F-ADF2B6A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B2641-F531-43B5-B528-07D1A3C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37772-8939-4D8B-BCAB-5BFBCF72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BD16F-4ACE-4C74-8923-97589930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656D5-7C86-45EC-8B55-96ACAD6B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30034B-FC0F-4434-80A6-6B2D945D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73BC-5AAF-4988-AD05-06A6FE62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2E7B4-8F5E-4F2A-84E0-5047BB12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287D6-B5C6-44EA-AD20-E87DCD6C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C133B-A9CD-4E81-86B2-1D2FEEF6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BF05D8-EB0A-4E30-B1EC-8AF5EF41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63922-54CC-4B9F-A43E-5D456098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E18F2-29C1-4466-858A-6B87A0A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81C19C-6F5F-4B9F-A7DC-F51506A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535ED-F4DF-450E-929B-6BEC30DC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62B1BF-A98C-422A-BA42-0F7A4CB2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B1F2DB-884F-445E-AB9F-36B4712E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EE43-C53C-4A0A-82A1-44E0B07D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85A9B-8D90-48CC-A984-439DCF07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FA6018-F07F-4BE5-A72F-93EB3945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5388C-65E3-46D9-858C-143A4EC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8A6CF-2272-4BB5-8958-F49946E6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6C411-B75B-4CE0-A92E-092EEEBC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397FC-8128-4F42-8312-79F33551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C2827E-D49F-4FEC-B761-356AB38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DD069C-FBC8-45AE-B068-14A1330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8638B-EA58-4F01-8768-42E441EC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86AAB1-D17C-41D1-999A-B6ED883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C8A34-34F2-4B40-8558-74EFD470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DD7AE9-CFCA-473E-94AD-D48F0049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F0375D-C4AC-428C-8B48-F1ED3FB5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B23BE2-F993-4DAD-AE91-3F0E6920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128459-3303-497F-BB11-17389D1F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C52505-E056-4666-8BDF-58B82717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406993-ECDE-4D1C-8271-02DC1179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5BE8FE-E9EF-4A1D-A6C3-7A21AE30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164B6-674D-4177-BA70-F9EEF144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9FD468-2AA7-4461-9C18-167BC4B3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7820C9-80AA-426B-B530-9F4B796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4A90-B2DA-4263-9C59-4560053E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C7DD83-B80D-468E-8DD0-1DF1ED49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5223C3-BDC3-4176-9B5E-77B8DBB6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3C4EF9-BCE6-4942-9B76-9E6E6FF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379062-1F78-4E07-9F0F-B7895463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583456-D024-4622-8E81-AC68924C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FDFD79-1B59-4101-94DD-3395E09D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DD2993-DA25-42FF-AD4E-2F900154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D03949-93F1-4541-87FD-53C0239E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586636-6C2C-4C2A-A08C-85B5BB04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EE723C-14DB-4241-AEE4-04E794AC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2401-FB78-48AB-A9EF-C1C8163E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06702A-9760-42E9-9AA4-AEFD9393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0C80E9-532F-4C25-AE9E-48D376F5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B98DBF-0921-481F-A933-98AFAEF5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D61B31-EA99-4489-94A2-B30236A0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D97EF8-129D-4D12-9FD9-DADEA500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44AC60-F0C1-48C4-9A42-3F621CED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3E17BF-0173-46C7-A0BC-B4E24344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DFC653-1257-4A14-8FAB-DB04AB4D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26D4CA-B382-4924-A5D6-FDD192FA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2CF812-827A-4617-B44B-4978BF2A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BC77-E66C-4191-822C-5F0C344E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577813-1A65-4760-82F3-26BF1B6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F06BE9-D920-4024-BF81-604BDD6B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D68F68-602B-4E5B-9679-BCA841B4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EBBFB1-638C-4755-BD4B-27F6610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146444-D0CC-426D-9915-C1AC6EF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E7A8D6-3496-4427-B239-1E7831C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426954-570D-4BA3-8BD9-4AE13455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1051B1-64DB-4A61-9E4E-CDE0B871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39ED67-C858-4A63-91AD-CF36F712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77292E-D565-4CA8-AC7A-9FD8BDD3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99EA-D146-4E4F-944B-049FB9CE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CB5B04-A892-4C2F-8944-A6E417D9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7C77E6-9378-4085-B015-42F45AC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148D23-0C89-4CBC-A16C-8568A3E6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88B4FE-4188-4D6F-A743-91B36E32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AA67E7-50FC-4EF6-8587-993B8655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F819F6-4754-49A3-87D5-8B10CD69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4A96E4-14CE-4D57-B346-EC3E831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89F306-ECF9-4D4B-A777-C688B4A3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8A1846-5DC1-4BD3-9C10-EBED357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986188-198A-46B4-B7C4-174FC6C8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313-02BA-418A-B99F-F19F6A78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85AB-519F-4036-8189-8B695F24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282073-84B0-4ECB-A7C9-DA6DC17A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388823-4A7E-44FB-97DF-3216F6FD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38288F-0C95-4A49-A1C9-B4C6436F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E5464D-FE8C-4BCA-9FF6-BCF5EE1E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22F3BC-B1B7-4172-A2E4-9F363DF2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8D3A15-A164-41F7-8A87-D137B987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E31ECB-B83A-45C9-BBEB-C9E99052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885DD7-5322-4600-B89C-E6F672B3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4A1E9C-945B-4D34-B948-F9FF9C90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97C5FB-FF7D-4CD1-AFED-AB8784C9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CC1B-A371-4579-93BB-10ACC495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CAE783-AF28-40E6-89FF-BEBC395B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BFE1BE-12B2-4F8B-A8BF-666DE4E6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8EB7D5-7626-4A4D-9F94-AF734010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E65326-2C8E-4EE4-A7CF-0BC85F98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176799-0E4B-4918-B905-E122979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125CEA-8801-40F8-84C0-B246E1EC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E00C06-9ABB-47BF-93E7-FE1463C1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A74379-EC87-4AD6-A1FE-F58413DB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B47254-1EC7-4455-9B4A-9330A5A9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0E4006-1874-4F8F-8C9C-13512647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0FD4-53B1-4813-8C2E-C12C585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4B97C6-190A-41FE-8EF8-4FFFB18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8CC75C-76F6-4884-9D17-3CE7C1D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310660-C661-4D3F-88D4-761D4597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75EA19-D159-4695-B38F-C0A48C04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3DA0EE-BCA7-449C-8437-61347016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E7FACE-58CD-4A60-9EF3-1EB34CF2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24920C-18D6-44A5-A391-BF479026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B3C039-7FAB-4747-8038-10C8CE3B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66AC06-426E-4C5D-B641-C9D96FF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09F88E-98F4-4CA1-970C-9248D955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E722-F2E5-49E1-B61D-5B34FCC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EF70B2-DE25-47F1-84B4-6CC09A51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3C88FF-EC0C-4168-9EEC-BED011E9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9A69FA-F3EA-462C-867F-EB3AF48A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08D53E-DA4D-46AB-98BC-FE6750D1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D99155-7226-4915-955D-47C764CD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07912D-C5AD-41B7-8895-E272A9E9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D712DE-588E-4CBC-8389-9E382372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66709B-7FAB-4241-94BE-6E07B195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591360-BFCF-4A98-B9A5-A5AA9328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C546A0-63B7-4A45-BCDD-0C9870EF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29B3-194D-4CC4-B11A-42210E7C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0C347F-42EF-4CB8-A5D9-855095EC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0F1265-1DDE-4122-B740-A41B8D8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871794-9E42-43FE-AD53-B7287E5A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DB2829-3328-4A26-B566-254DCE4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01CA20-E64C-4331-A95E-4B323E81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ABA137-5B29-4C54-A3B7-D96EE72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A90848-8B45-4058-A0C1-D9391239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C33ACB-DCA1-46ED-A7A2-AC23E561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C29139-3672-43FF-8C4C-68A82A71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E7835C-2B3D-4AE6-897E-7E046B39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BF40-39D6-43D3-92F7-A8A49205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C469D9-AE18-47C7-8F21-6B489005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6414FF-0726-4903-AFAF-3AA24A84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B7A354-5892-4640-8631-B37C4F9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48293A-4F54-4B1F-B339-DFB85D6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BE6570-1C8D-42F1-AF79-8007344B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5C0B5E-6AE0-4D8D-9C8A-9ACABE89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8F6483-3D24-442F-A199-92063B01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3C7365-3972-4AA9-B098-55C62F3C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7EF4C3-C233-4FB5-9CBD-A19EEB8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A42D9F-87DF-4F5A-BE56-225CE222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CC41-EACA-444F-B42A-E5E3D380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94D0FA-5B81-43DA-9EAE-8E473919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E371ED-E04D-4134-A2EC-191D1F14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526DAD-E460-4E27-8E4C-A119EB9A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52D380-7DC7-428C-953C-21764F47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5F3514-380E-488B-99A1-FD1D4B8A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EDC4AD-B104-4309-BDD3-88B63EC7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2DB9FC-7F7A-4A94-8C52-76C19931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2994E6-FD56-473B-B497-634614A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0182DC-D842-4FBE-BC01-329A9DB1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274898-44E1-4088-92C7-4CA55618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F495-446B-4EBA-8166-01B0D222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1797BA-F885-4FAD-943B-2B5EE44C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39B2CD-EE34-4B4B-9CB4-FB5130E4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FAF110-F2AA-4B59-A39D-59022B8F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11E324-D989-4B41-ADEA-4936B6C4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143084-A976-4856-A81B-76225B1F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F3239E-6DA3-42B5-A96C-93A2D5ED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5A967A-92ED-4AAB-AAF8-FF23980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BB0F0F-226B-44D0-B4ED-08507B79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3B755D-0E46-4CAE-9E9D-47E6D809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314422-7592-4D1F-A8DA-8D788438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322C-9FCE-4D81-B3B0-573679D0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761158-1047-497A-9CD4-DB8BF77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DC54E4-D235-45DA-9695-3A3033A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8EED12-6A24-4EBF-9940-C6E870C6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A3294F-9F54-4E61-865B-4C54752B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29211C-9651-4566-850E-24AC4BA1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F5D9A8-579D-4E42-938A-A1F30B63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E7DF55-01AF-42D9-AFF0-4B226ABE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2A3584-7B21-46A7-A249-80BBF9A5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5C7874-F4C2-4A9B-9776-74C65704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7A4A9F-2BAB-4769-B5B7-F80E78A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7B61D-C1FF-4EC2-B355-E21749D6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096CEA-52B9-45E1-B664-60C3D6FF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9F4037-C3B0-4A57-A639-F4EF53A5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F27821-46B6-4BC6-9373-BCDA314E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E0C797-3215-4C6E-8F79-8C7D0737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302A73-DDED-4E5B-80EB-53134AC9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CDE77C-A83F-4D5E-B78A-40897C45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E1ECA9-4E07-42B4-9382-7668A455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BC4-FDDB-47B4-BB12-34E8C589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4454-3EE7-4598-A27A-F493DEE3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D70BD-72B3-4E92-8471-163CF4BF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141E7-70A3-4C8F-BA75-A78E69A7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24B0B-5458-40BD-880B-C820DE1A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C230B-4D76-4B86-B243-9ADD81E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5BAC-9416-4306-A523-ED7F3A70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9717B-171C-4A41-A757-FBA3EFCE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B284-C81D-4815-B959-711DDFC3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2CC30-B1A4-4326-B866-CDF57990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0A59C-12E3-451C-BAD4-37B2DB65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4C5-F754-4067-9132-77D8C465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AF76E-D771-4D01-B0A5-56577A87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41F0-425A-4445-9BCA-7353F9ED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EE1B-FD07-4FC0-91F7-9C4FFC9A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1E2B-E6D5-425E-A550-90F85F93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B311-F3B1-4E90-AE46-96A38A0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635D-E06D-4827-8431-8D36B143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9883-F9FA-4BCB-8887-A7FDDC5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841E2-94F3-4737-939F-848478D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CE452-81BA-4D8D-831D-48AE83DA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5F472-6075-404F-91FE-0A148783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23E-B6B1-4B44-9C58-7175366F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D99A8-9ED8-4DC6-B5D8-E485A76D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7FA8B-4653-4931-90BD-DABB339F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24D16-F5A1-4CE6-B649-FFD4B9D5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E80D-490E-4037-9E29-E86F95A0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5009E-1E5B-4758-8ACA-A1960FCB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E67FD-4EEA-442B-8B35-BEF3D98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7130E-7691-461A-9344-7CA4C525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601EA-88FA-4199-B51A-45D6CE6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4C27-4FD5-43D6-80E7-0419BC61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55DA6-12C9-439C-A2A4-CB9F6FA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990-4A02-40D0-81B9-19D959F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46FC-865D-4558-8BF4-AF198454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95A2-11D8-49F5-B9D8-E566B1C0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6BADD-067A-4A1E-938D-DA373775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4C1BF-D738-47E6-BAA1-D327801F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21991-09A0-439E-A568-069B7971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37C36-41B8-4D0E-8BD4-C02C6964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6277C-19C3-4DE9-8791-D5A7FC60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F5711-B0F3-480E-AB5C-7A366DB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33A9-A7E2-4426-A5E0-1EF9A0F4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8FAC-FB1C-475B-8880-EB5CEB1D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FD0-BE4D-479B-B406-C0612E30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81E88-E2CB-4D2D-8474-1C58AFF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80FB-6DB5-45FD-9693-B0A05AE8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AA36-71E4-4FEA-952B-B5332E0B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AF4EA-6250-4621-A628-4595B75E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A54D6-1CC2-41B8-A54E-A919021D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F5241-C0AC-499B-BE4F-D23201A8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22441-6B5A-47B9-80F0-736D852D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7F0D5-A593-4F0C-A852-D90F0B66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09AA5-3274-4035-AB00-9FDD86D0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68ECE-159F-4223-B2E4-B917D1F5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5F6-4E24-48A7-AE48-86530F17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1DD8C-239D-4E6C-B4A4-08E7BC21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3F90-1143-4BD9-BD87-241CD6F5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EF3EB-CFDF-4D4F-B197-C93409E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D04A5-2A34-4582-8F1E-DF5C8555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B812-719A-480C-9B70-FD8AA872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EB04C-132C-4454-8072-69F01636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67A60-F691-44EC-9830-2D40F403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6A574-6E26-463C-993F-1346CB4C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F7157-8039-43F3-828E-14DE45AA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7E393-FC3E-4657-B442-826DC4C1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DFC-0532-4753-BF55-B27E93EFCC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08EB-8288-4CE3-BEB3-E553860A4D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C6A6-015A-43F4-A7EC-E806B64230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76AF-69E0-4583-BDBE-C2B53AEB07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C3BC-8796-4C85-923E-8479260595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48E1-6B1C-4404-9E38-ECAB882C1A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9607-2C2C-42B7-8EAD-7E4054F72E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B396-CA62-44A0-817C-0C3E1E1043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F048-21E7-43DF-91BC-AAE4C58094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09DE-D2A7-4009-B9A6-8ED3EA0988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7689-80E5-46A0-8C71-8522196B64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3707-71B9-418A-85CC-E700793F54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A117-736F-42AF-AEB1-92B48B6856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F491-9396-48BB-B5A9-D2B55C17A9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DA23-2FBA-4917-888C-10E0FC61D0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BDE2-AFE0-494F-BCFB-9139F0BB23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2DE4-579D-4128-8F07-6F7122C3D4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2D6A-8611-4C8C-BD64-890D357E84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1371-C167-4F60-B900-46F0C89C63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4D6B-2EF9-47B6-B876-845A3127AF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D4C5-38BF-4D1B-9DF4-307F090938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3D6B-52FA-432D-AAD7-306680AC28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403E-6EB9-4AD4-A9D6-2C4F44A9ED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58EE-2C5D-40B2-8071-8F2EB59B87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0E5E-45A0-4992-82C9-7370DE4FC1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CD17-1AEE-4C9D-8BFD-92E5B9A2D4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C389-F01B-4681-A6CC-8E99EE6162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F979-199C-447D-879D-F16A8578BC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0C02-4A4C-4A03-8055-D3EF370496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9E81-118B-48A0-8F71-C274A720DF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2FB3-C9A6-4025-AFB4-CBA45F37D6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A903-2289-483C-BC94-5DA0ACC937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5BD4-D116-4E5D-B5C3-BD96864C9D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4" descr="Logo mso"/>
          <p:cNvPicPr/>
          <p:nvPr/>
        </p:nvPicPr>
        <p:blipFill>
          <a:blip r:embed="rId1"/>
          <a:stretch/>
        </p:blipFill>
        <p:spPr>
          <a:xfrm>
            <a:off x="6842160" y="3373560"/>
            <a:ext cx="2286000" cy="127476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5"/>
          <p:cNvSpPr/>
          <p:nvPr/>
        </p:nvSpPr>
        <p:spPr>
          <a:xfrm>
            <a:off x="0" y="0"/>
            <a:ext cx="678168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Black"/>
              </a:rPr>
              <a:t>Hacia la construcción de un Sistema de Vigilancia de la Equidad en Salud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62" name="Rectangle 6"/>
          <p:cNvSpPr/>
          <p:nvPr/>
        </p:nvSpPr>
        <p:spPr>
          <a:xfrm>
            <a:off x="515880" y="4191120"/>
            <a:ext cx="5853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00"/>
                </a:solidFill>
                <a:latin typeface="Arial Black"/>
              </a:rPr>
              <a:t>DIRECCIÓN GENERAL DEL SISTEMA NACIONAL INTEGRADO DE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363" name="Picture 8" descr="Flag_of_Uruguay_svg"/>
          <p:cNvPicPr/>
          <p:nvPr/>
        </p:nvPicPr>
        <p:blipFill>
          <a:blip r:embed="rId2"/>
          <a:stretch/>
        </p:blipFill>
        <p:spPr>
          <a:xfrm>
            <a:off x="7012080" y="1789200"/>
            <a:ext cx="19191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Text Box 4"/>
          <p:cNvSpPr/>
          <p:nvPr/>
        </p:nvSpPr>
        <p:spPr>
          <a:xfrm>
            <a:off x="380880" y="1925640"/>
            <a:ext cx="7543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Rounded MT Bold"/>
              </a:rPr>
              <a:t>EN TÉRMINOS OPERATIVOS…</a:t>
            </a:r>
            <a:endParaRPr b="0" lang="en-US" sz="2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2" name="Rectangle 9"/>
          <p:cNvSpPr/>
          <p:nvPr/>
        </p:nvSpPr>
        <p:spPr>
          <a:xfrm>
            <a:off x="498600" y="2607480"/>
            <a:ext cx="80359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161645"/>
                </a:solidFill>
                <a:latin typeface="Arial Rounded MT Bold"/>
              </a:rPr>
              <a:t>Consolidar una matriz de indicadores y datos que permitan identificar las inequidades en salud de la población uruguaya y sus factores determinantes.</a:t>
            </a: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161645"/>
                </a:solidFill>
                <a:latin typeface="Arial Rounded MT Bold"/>
              </a:rPr>
              <a:t>A partir de dicha matriz se realizan Informes Temáticos que ofrecen de forma oportuna y clara elementos para la toma de decisiones.</a:t>
            </a:r>
            <a:r>
              <a:rPr b="0" lang="es-UY" sz="3000" spc="-1" strike="noStrike">
                <a:solidFill>
                  <a:srgbClr val="161645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3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SISTEMA DE VIGILANCIA DE                               LA EQUIDAD EN SALUD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2"/>
          <p:cNvSpPr/>
          <p:nvPr/>
        </p:nvSpPr>
        <p:spPr>
          <a:xfrm>
            <a:off x="303120" y="3144960"/>
            <a:ext cx="854892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I) DETERMINANTES SOCIALES DE LA SALUD.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ye indicadores sobre l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structura demográf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 población y sus componentes dinámicos. Por otro lado, se incorpora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dicadores sociales y económico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ducación, Empleo, Informalidad, entre otros.   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II) DETERMINANTES AMBIENTALES DE LA SALUD.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capítulo contiene indicadores sobr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ondiciones de Habita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Vivienda, Saneamiento, etc.) y otros factores determinantes del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5" name="Rectangle 12"/>
          <p:cNvSpPr/>
          <p:nvPr/>
        </p:nvSpPr>
        <p:spPr>
          <a:xfrm>
            <a:off x="304920" y="1801800"/>
            <a:ext cx="8439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I) ESTADO DE SALUD DE LA POBLACIÓN.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luye indicadores sobr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r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iscapac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n caso de disponer de ellos, se incluirán indicadores referidos 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alud Percib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6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ESTRUCTURA DE LA MATRIZ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"/>
          <p:cNvSpPr/>
          <p:nvPr/>
        </p:nvSpPr>
        <p:spPr>
          <a:xfrm>
            <a:off x="324000" y="4861080"/>
            <a:ext cx="8475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V) DETERMINANTES COMPORTAMENTALES DE LA SALUD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e capítulo incluye Indicadores sobre Hábitos y Estilos de Vida en tanto elementos protectores y/o factores de riesgo para la salud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38" name="Group 7"/>
          <p:cNvGrpSpPr/>
          <p:nvPr/>
        </p:nvGrpSpPr>
        <p:grpSpPr>
          <a:xfrm>
            <a:off x="325440" y="1790640"/>
            <a:ext cx="8427960" cy="3163320"/>
            <a:chOff x="325440" y="1790640"/>
            <a:chExt cx="8427960" cy="3163320"/>
          </a:xfrm>
        </p:grpSpPr>
        <p:pic>
          <p:nvPicPr>
            <p:cNvPr id="1439" name="Picture 4" descr=""/>
            <p:cNvPicPr/>
            <p:nvPr/>
          </p:nvPicPr>
          <p:blipFill>
            <a:blip r:embed="rId1"/>
            <a:srcRect l="0" t="0" r="3080" b="2527"/>
            <a:stretch/>
          </p:blipFill>
          <p:spPr>
            <a:xfrm>
              <a:off x="325440" y="1790640"/>
              <a:ext cx="187632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Rectangle 6"/>
            <p:cNvSpPr/>
            <p:nvPr/>
          </p:nvSpPr>
          <p:spPr>
            <a:xfrm>
              <a:off x="2489400" y="1812960"/>
              <a:ext cx="626400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3300"/>
                  </a:solidFill>
                  <a:latin typeface="Arial"/>
                </a:rPr>
                <a:t>IV) DETERMINANTES DEL SISTEMA DE SALUD.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 Este capítulo incluye indicadores: 1) Disponibilidad de Recursos: humanos, financieros y físicos. 2) Cobertura de aseguramiento, prestaciones y servicios de salud. 3) Accesibilidad a los Servicios de Salud en su dimensión económica, geográfica y organizativo- funcional. 4) Utilización de los Servicios de Salud.</a:t>
              </a:r>
              <a:endParaRPr b="0" lang="en-US" sz="20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41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ESTRUCTURA DE LA MATRIZ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13"/>
          <p:cNvSpPr/>
          <p:nvPr/>
        </p:nvSpPr>
        <p:spPr>
          <a:xfrm>
            <a:off x="291960" y="2193840"/>
            <a:ext cx="8502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pertinencia y factibilidad, se desagregan los indicadores incluidos en cada capítulo a partir de las siguientes variables: </a:t>
            </a: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43" name="Rectangle 14"/>
          <p:cNvSpPr/>
          <p:nvPr/>
        </p:nvSpPr>
        <p:spPr>
          <a:xfrm>
            <a:off x="1552680" y="3328920"/>
            <a:ext cx="6151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) ESTADO DE SALUD DE LA POBLACIÓN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) DETERMINANTES SOCIALES DE LA SALUD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II) DETERMINANTES AMBIENTALES DE LA SALUD   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IV) DETERMINANTES DEL SISTEMA DE SALUD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V) DETERMINANTES COMPORTAMENTALES DE LA SALUD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44" name="Group 19"/>
          <p:cNvGrpSpPr/>
          <p:nvPr/>
        </p:nvGrpSpPr>
        <p:grpSpPr>
          <a:xfrm>
            <a:off x="1295280" y="3240000"/>
            <a:ext cx="6629400" cy="3314880"/>
            <a:chOff x="1295280" y="3240000"/>
            <a:chExt cx="6629400" cy="3314880"/>
          </a:xfrm>
        </p:grpSpPr>
        <p:sp>
          <p:nvSpPr>
            <p:cNvPr id="1445" name="8 CuadroTexto"/>
            <p:cNvSpPr/>
            <p:nvPr/>
          </p:nvSpPr>
          <p:spPr>
            <a:xfrm>
              <a:off x="1295280" y="589284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SEXO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6" name="9 CuadroTexto"/>
            <p:cNvSpPr/>
            <p:nvPr/>
          </p:nvSpPr>
          <p:spPr>
            <a:xfrm>
              <a:off x="2562120" y="591336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7" name="10 CuadroTexto"/>
            <p:cNvSpPr/>
            <p:nvPr/>
          </p:nvSpPr>
          <p:spPr>
            <a:xfrm>
              <a:off x="3778200" y="5789520"/>
              <a:ext cx="13222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cc33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ASCENDENCIA ÉTNICA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8" name="11 CuadroTexto"/>
            <p:cNvSpPr/>
            <p:nvPr/>
          </p:nvSpPr>
          <p:spPr>
            <a:xfrm>
              <a:off x="5068800" y="5913360"/>
              <a:ext cx="152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ÁREA GEOGRÁFICA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49" name="AutoShape 37"/>
            <p:cNvSpPr/>
            <p:nvPr/>
          </p:nvSpPr>
          <p:spPr>
            <a:xfrm>
              <a:off x="543708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FOQUE RESIDENCI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0" name="AutoShape 38"/>
            <p:cNvSpPr/>
            <p:nvPr/>
          </p:nvSpPr>
          <p:spPr>
            <a:xfrm>
              <a:off x="403560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OQUE ÉTNICO-RACI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1" name="AutoShape 39"/>
            <p:cNvSpPr/>
            <p:nvPr/>
          </p:nvSpPr>
          <p:spPr>
            <a:xfrm>
              <a:off x="279072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FOQUE GENERACION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2" name="AutoShape 40"/>
            <p:cNvSpPr/>
            <p:nvPr/>
          </p:nvSpPr>
          <p:spPr>
            <a:xfrm>
              <a:off x="152568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NOQUE GÉNERO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3" name="11 CuadroTexto"/>
            <p:cNvSpPr/>
            <p:nvPr/>
          </p:nvSpPr>
          <p:spPr>
            <a:xfrm>
              <a:off x="6249960" y="5913360"/>
              <a:ext cx="167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c3300"/>
                  </a:solidFill>
                  <a:latin typeface="Arial"/>
                </a:rPr>
                <a:t>OCUPACIÓN, NIVEL EDUCATIVO, INGRESOS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54" name="AutoShape 37"/>
            <p:cNvSpPr/>
            <p:nvPr/>
          </p:nvSpPr>
          <p:spPr>
            <a:xfrm>
              <a:off x="6618240" y="3240000"/>
              <a:ext cx="790560" cy="2590920"/>
            </a:xfrm>
            <a:prstGeom prst="downArrow">
              <a:avLst>
                <a:gd name="adj1" fmla="val 49796"/>
                <a:gd name="adj2" fmla="val 3356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CLASE SOCIAL</a:t>
              </a:r>
              <a:endParaRPr b="0" lang="en-US" sz="1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55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ESTRATIFICACIÓN DE LA INFORMACIÓN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56" name="Text Box 4"/>
          <p:cNvSpPr/>
          <p:nvPr/>
        </p:nvSpPr>
        <p:spPr>
          <a:xfrm>
            <a:off x="304920" y="1712880"/>
            <a:ext cx="80010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 Rounded MT Bold"/>
              </a:rPr>
              <a:t>DETERMINANTES DE LAS INEQUIDADES EN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9"/>
          <p:cNvSpPr/>
          <p:nvPr/>
        </p:nvSpPr>
        <p:spPr>
          <a:xfrm>
            <a:off x="249120" y="1393560"/>
            <a:ext cx="866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2060"/>
                </a:solidFill>
                <a:latin typeface="Arial Rounded MT Bold"/>
              </a:rPr>
              <a:t>1. Establecer un vínculo fluido con los administradores de los sistemas de información cuyos datos integrarán la matriz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2060"/>
                </a:solidFill>
                <a:latin typeface="Arial Rounded MT Bold"/>
              </a:rPr>
              <a:t>2. Promover la integración de sistemas de información y la incorporación de variables estratificadoras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2060"/>
                </a:solidFill>
                <a:latin typeface="Arial Rounded MT Bold"/>
              </a:rPr>
              <a:t>3. Propiciar una mejora continua de la calidad de los datos con los que se elabore la matriz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c00000"/>
                </a:solidFill>
                <a:latin typeface="Arial Rounded MT Bold"/>
              </a:rPr>
              <a:t>4. Definir metodológicamente los Indicadores a incluir en la matriz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c00000"/>
                </a:solidFill>
                <a:latin typeface="Arial Rounded MT Bold"/>
              </a:rPr>
              <a:t>5. Producir informes a partir de los insumos generados por la matriz de indicadores y datos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c00000"/>
                </a:solidFill>
                <a:latin typeface="Arial Rounded MT Bold"/>
              </a:rPr>
              <a:t>6. Dar una amplia difusión interna y externa a los Informes que sean definidos como de acceso público.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58" name="Text Box 6"/>
          <p:cNvSpPr/>
          <p:nvPr/>
        </p:nvSpPr>
        <p:spPr>
          <a:xfrm>
            <a:off x="304920" y="457200"/>
            <a:ext cx="24382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 Black"/>
              </a:rPr>
              <a:t>ACCIONES</a:t>
            </a:r>
            <a:endParaRPr b="0" lang="en-US" sz="25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459" name="Picture 1" descr=""/>
          <p:cNvPicPr/>
          <p:nvPr/>
        </p:nvPicPr>
        <p:blipFill>
          <a:blip r:embed="rId1"/>
          <a:stretch/>
        </p:blipFill>
        <p:spPr>
          <a:xfrm>
            <a:off x="7885080" y="90360"/>
            <a:ext cx="936720" cy="559080"/>
          </a:xfrm>
          <a:prstGeom prst="rect">
            <a:avLst/>
          </a:prstGeom>
          <a:ln w="0">
            <a:noFill/>
          </a:ln>
        </p:spPr>
      </p:pic>
      <p:grpSp>
        <p:nvGrpSpPr>
          <p:cNvPr id="1460" name="Group 9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461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2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3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4" name="Group 2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465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6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67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pic>
        <p:nvPicPr>
          <p:cNvPr id="1468" name="Picture 9" descr="Logo mso"/>
          <p:cNvPicPr/>
          <p:nvPr/>
        </p:nvPicPr>
        <p:blipFill>
          <a:blip r:embed="rId1"/>
          <a:stretch/>
        </p:blipFill>
        <p:spPr>
          <a:xfrm>
            <a:off x="2971800" y="533520"/>
            <a:ext cx="3114720" cy="1736640"/>
          </a:xfrm>
          <a:prstGeom prst="rect">
            <a:avLst/>
          </a:prstGeom>
          <a:ln w="0">
            <a:noFill/>
          </a:ln>
        </p:spPr>
      </p:pic>
      <p:sp>
        <p:nvSpPr>
          <p:cNvPr id="1469" name="12 CuadroTexto"/>
          <p:cNvSpPr/>
          <p:nvPr/>
        </p:nvSpPr>
        <p:spPr>
          <a:xfrm>
            <a:off x="228600" y="2590920"/>
            <a:ext cx="868680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99"/>
                </a:solidFill>
                <a:latin typeface="Arial Black"/>
              </a:rPr>
              <a:t>MUCHAS GRACIAS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6600"/>
                </a:solidFill>
                <a:latin typeface="Arial Black"/>
              </a:rPr>
              <a:t>SOC. ALEJANDRA TOLEDO VIERA</a:t>
            </a: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500" spc="-1" strike="noStrike">
                <a:solidFill>
                  <a:srgbClr val="006600"/>
                </a:solidFill>
                <a:latin typeface="Arial Black"/>
              </a:rPr>
              <a:t>      </a:t>
            </a:r>
            <a:endParaRPr b="0" lang="en-US" sz="15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6600"/>
                </a:solidFill>
                <a:latin typeface="Arial Black"/>
              </a:rPr>
              <a:t>atoledo@msp.gub.uy</a:t>
            </a: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470" name="Picture 10" descr="http://upload.wikimedia.org/wikipedia/commons/thumb/a/a6/Mate_en_calabaza.jpg/251px-Mate_en_calabaza.jpg"/>
          <p:cNvPicPr/>
          <p:nvPr/>
        </p:nvPicPr>
        <p:blipFill>
          <a:blip r:embed="rId2"/>
          <a:stretch/>
        </p:blipFill>
        <p:spPr>
          <a:xfrm>
            <a:off x="509760" y="4070520"/>
            <a:ext cx="18525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Group 2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365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66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67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pic>
        <p:nvPicPr>
          <p:cNvPr id="1368" name="Picture 1" descr=""/>
          <p:cNvPicPr/>
          <p:nvPr/>
        </p:nvPicPr>
        <p:blipFill>
          <a:blip r:embed="rId1"/>
          <a:stretch/>
        </p:blipFill>
        <p:spPr>
          <a:xfrm>
            <a:off x="7885080" y="90360"/>
            <a:ext cx="936720" cy="559080"/>
          </a:xfrm>
          <a:prstGeom prst="rect">
            <a:avLst/>
          </a:prstGeom>
          <a:ln w="0">
            <a:noFill/>
          </a:ln>
        </p:spPr>
      </p:pic>
      <p:sp>
        <p:nvSpPr>
          <p:cNvPr id="1369" name="Rectangle 7"/>
          <p:cNvSpPr/>
          <p:nvPr/>
        </p:nvSpPr>
        <p:spPr>
          <a:xfrm>
            <a:off x="298080" y="406800"/>
            <a:ext cx="3277440" cy="4291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NTEXTO NACIONAL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5667480" y="4622760"/>
            <a:ext cx="28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eguro Nacional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 Salud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71" name="Rectangle 12"/>
          <p:cNvSpPr/>
          <p:nvPr/>
        </p:nvSpPr>
        <p:spPr>
          <a:xfrm>
            <a:off x="5637240" y="4498920"/>
            <a:ext cx="2908440" cy="97812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372" name="Group 30"/>
          <p:cNvGrpSpPr/>
          <p:nvPr/>
        </p:nvGrpSpPr>
        <p:grpSpPr>
          <a:xfrm>
            <a:off x="108000" y="2004840"/>
            <a:ext cx="8496360" cy="3872160"/>
            <a:chOff x="108000" y="2004840"/>
            <a:chExt cx="8496360" cy="3872160"/>
          </a:xfrm>
        </p:grpSpPr>
        <p:sp>
          <p:nvSpPr>
            <p:cNvPr id="1373" name="Text Box 7"/>
            <p:cNvSpPr/>
            <p:nvPr/>
          </p:nvSpPr>
          <p:spPr>
            <a:xfrm>
              <a:off x="5388120" y="2558880"/>
              <a:ext cx="320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Arial"/>
                </a:rPr>
                <a:t>SISTEMA NACIONAL INTEGRADO DE SALUD</a:t>
              </a:r>
              <a:endParaRPr b="0" lang="en-US" sz="20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74" name="Rectangle 13"/>
            <p:cNvSpPr/>
            <p:nvPr/>
          </p:nvSpPr>
          <p:spPr>
            <a:xfrm>
              <a:off x="5367240" y="2463840"/>
              <a:ext cx="3237120" cy="919080"/>
            </a:xfrm>
            <a:prstGeom prst="rect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75" name="Line 14"/>
            <p:cNvSpPr/>
            <p:nvPr/>
          </p:nvSpPr>
          <p:spPr>
            <a:xfrm flipV="1">
              <a:off x="6850080" y="3449160"/>
              <a:ext cx="1440" cy="9176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76" name="Line 15"/>
            <p:cNvSpPr/>
            <p:nvPr/>
          </p:nvSpPr>
          <p:spPr>
            <a:xfrm flipV="1">
              <a:off x="7107120" y="3514320"/>
              <a:ext cx="1800" cy="9176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grpSp>
          <p:nvGrpSpPr>
            <p:cNvPr id="1377" name="Group 29"/>
            <p:cNvGrpSpPr/>
            <p:nvPr/>
          </p:nvGrpSpPr>
          <p:grpSpPr>
            <a:xfrm>
              <a:off x="108000" y="2004840"/>
              <a:ext cx="5405400" cy="3872160"/>
              <a:chOff x="108000" y="2004840"/>
              <a:chExt cx="5405400" cy="3872160"/>
            </a:xfrm>
          </p:grpSpPr>
          <p:sp>
            <p:nvSpPr>
              <p:cNvPr id="1378" name="Text Box 4"/>
              <p:cNvSpPr/>
              <p:nvPr/>
            </p:nvSpPr>
            <p:spPr>
              <a:xfrm>
                <a:off x="108000" y="2190600"/>
                <a:ext cx="445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Cambio en el modelo 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de atención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79" name="Text Box 5"/>
              <p:cNvSpPr/>
              <p:nvPr/>
            </p:nvSpPr>
            <p:spPr>
              <a:xfrm>
                <a:off x="108000" y="3530520"/>
                <a:ext cx="445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Cambio en el modelo 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de gestión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0" name="Line 2"/>
              <p:cNvSpPr/>
              <p:nvPr/>
            </p:nvSpPr>
            <p:spPr>
              <a:xfrm>
                <a:off x="3882960" y="2752560"/>
                <a:ext cx="1416240" cy="9082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1" name="Text Box 6"/>
              <p:cNvSpPr/>
              <p:nvPr/>
            </p:nvSpPr>
            <p:spPr>
              <a:xfrm>
                <a:off x="174600" y="4889520"/>
                <a:ext cx="445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Cambio en el modelo 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66"/>
                    </a:solidFill>
                    <a:latin typeface="Arial"/>
                  </a:rPr>
                  <a:t>de financiamiento</a:t>
                </a:r>
                <a:endParaRPr b="0" lang="en-US" sz="20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2" name="Oval 9"/>
              <p:cNvSpPr/>
              <p:nvPr/>
            </p:nvSpPr>
            <p:spPr>
              <a:xfrm>
                <a:off x="579600" y="4629240"/>
                <a:ext cx="3639960" cy="124776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3" name="Oval 10"/>
              <p:cNvSpPr/>
              <p:nvPr/>
            </p:nvSpPr>
            <p:spPr>
              <a:xfrm>
                <a:off x="579600" y="3317760"/>
                <a:ext cx="3439800" cy="104940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4" name="Oval 11"/>
              <p:cNvSpPr/>
              <p:nvPr/>
            </p:nvSpPr>
            <p:spPr>
              <a:xfrm>
                <a:off x="646200" y="2004840"/>
                <a:ext cx="3371760" cy="104940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5" name="Line 16"/>
              <p:cNvSpPr/>
              <p:nvPr/>
            </p:nvSpPr>
            <p:spPr>
              <a:xfrm>
                <a:off x="4030560" y="3822840"/>
                <a:ext cx="1482840" cy="270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  <p:sp>
            <p:nvSpPr>
              <p:cNvPr id="1386" name="Line 17"/>
              <p:cNvSpPr/>
              <p:nvPr/>
            </p:nvSpPr>
            <p:spPr>
              <a:xfrm flipV="1">
                <a:off x="4192560" y="4054320"/>
                <a:ext cx="1039680" cy="10764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cc3300"/>
                  </a:solidFill>
                  <a:latin typeface="Arial Black"/>
                </a:endParaRPr>
              </a:p>
            </p:txBody>
          </p:sp>
        </p:grpSp>
      </p:grpSp>
      <p:sp>
        <p:nvSpPr>
          <p:cNvPr id="1387" name="Rectangle 8"/>
          <p:cNvSpPr/>
          <p:nvPr/>
        </p:nvSpPr>
        <p:spPr>
          <a:xfrm>
            <a:off x="250920" y="1094040"/>
            <a:ext cx="77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9933"/>
                </a:solidFill>
                <a:latin typeface="Arial"/>
              </a:rPr>
              <a:t>Estrategia de la Reforma de la Salud (2005):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1" descr=""/>
          <p:cNvPicPr/>
          <p:nvPr/>
        </p:nvPicPr>
        <p:blipFill>
          <a:blip r:embed="rId1"/>
          <a:stretch/>
        </p:blipFill>
        <p:spPr>
          <a:xfrm>
            <a:off x="7885080" y="90360"/>
            <a:ext cx="936720" cy="55908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7"/>
          <p:cNvSpPr/>
          <p:nvPr/>
        </p:nvSpPr>
        <p:spPr>
          <a:xfrm>
            <a:off x="284400" y="424440"/>
            <a:ext cx="4563720" cy="4291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DERECHOS SOCIALES Y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0" name="Rectangle 8"/>
          <p:cNvSpPr/>
          <p:nvPr/>
        </p:nvSpPr>
        <p:spPr>
          <a:xfrm>
            <a:off x="283680" y="97380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Principios y valores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1" name="Rectangle 9"/>
          <p:cNvSpPr/>
          <p:nvPr/>
        </p:nvSpPr>
        <p:spPr>
          <a:xfrm>
            <a:off x="324000" y="1509480"/>
            <a:ext cx="85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La Constitución de la República (1966) establece en su artículo Nº 44:  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2" name="Rectangle 10"/>
          <p:cNvSpPr/>
          <p:nvPr/>
        </p:nvSpPr>
        <p:spPr>
          <a:xfrm>
            <a:off x="928800" y="2076480"/>
            <a:ext cx="7272360" cy="15541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El Estado legislará en todas las cuestiones relacionadas con la salud e higiene públicas, procurando el perfeccionamiento físico, moral y social de todos los habitantes del país. Todos los habitantes tienen el </a:t>
            </a:r>
            <a:r>
              <a:rPr b="1" i="1" lang="es-ES" sz="1600" spc="-1" strike="noStrike">
                <a:solidFill>
                  <a:srgbClr val="c00000"/>
                </a:solidFill>
                <a:latin typeface="Arial"/>
              </a:rPr>
              <a:t>deber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 de cuidar su salud, así como el de asistirse en caso de enfermedad. El Estado proporcionará gratuitamente los medios de prevención y de asistencia tan sólo a los indigentes o carentes de recursos suficientes”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3" name="Rectangle 13"/>
          <p:cNvSpPr/>
          <p:nvPr/>
        </p:nvSpPr>
        <p:spPr>
          <a:xfrm>
            <a:off x="279360" y="3960000"/>
            <a:ext cx="839628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Los principios que rigen en la actualidad al Sistema de Salud se encuentran plasmados en la </a:t>
            </a:r>
            <a:r>
              <a:rPr b="1" i="1" lang="es-ES" sz="1600" spc="-1" strike="noStrike">
                <a:solidFill>
                  <a:srgbClr val="000066"/>
                </a:solidFill>
                <a:latin typeface="Arial"/>
              </a:rPr>
              <a:t>Ley 18.211 de Creación del Sistema Nacional Integrado de Salud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(2008)</a:t>
            </a:r>
            <a:r>
              <a:rPr b="1" i="1" lang="es-ES" sz="1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Su artículo Nº 1 establece: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94" name="Rectangle 15"/>
          <p:cNvSpPr/>
          <p:nvPr/>
        </p:nvSpPr>
        <p:spPr>
          <a:xfrm>
            <a:off x="928800" y="5054760"/>
            <a:ext cx="7272360" cy="10674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La presente ley reglamenta el </a:t>
            </a:r>
            <a:r>
              <a:rPr b="1" i="1" lang="es-ES" sz="1600" spc="-1" strike="noStrike">
                <a:solidFill>
                  <a:srgbClr val="c00000"/>
                </a:solidFill>
                <a:latin typeface="Arial"/>
              </a:rPr>
              <a:t>DERECHO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000066"/>
                </a:solidFill>
                <a:latin typeface="Arial"/>
              </a:rPr>
              <a:t>a la protección de la salud que tienen todos los habitantes residentes en el país y establece las modalidades para su acceso a servicios integrales de salud. Sus disposiciones son de orden público e interés social.”</a:t>
            </a:r>
            <a:endParaRPr b="0" lang="en-US" sz="16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395" name="Group 9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396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97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398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Text Box 1"/>
          <p:cNvSpPr/>
          <p:nvPr/>
        </p:nvSpPr>
        <p:spPr>
          <a:xfrm>
            <a:off x="469800" y="35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00" name="Text Box 5"/>
          <p:cNvSpPr/>
          <p:nvPr/>
        </p:nvSpPr>
        <p:spPr>
          <a:xfrm>
            <a:off x="333360" y="2057400"/>
            <a:ext cx="84297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c3300"/>
                </a:solidFill>
                <a:uFillTx/>
                <a:latin typeface="Berlin Sans FB"/>
              </a:rPr>
              <a:t>Garantizar las condiciones</a:t>
            </a:r>
            <a:r>
              <a:rPr b="0" lang="es-ES" sz="4000" spc="-1" strike="noStrike">
                <a:solidFill>
                  <a:srgbClr val="cc3300"/>
                </a:solidFill>
                <a:latin typeface="Berlin Sans FB"/>
              </a:rPr>
              <a:t> para que las personas alcancen el más alto nivel posible de bienestar físico, mental y social, sin distinción de raza, religión, ideología política o condición económica o social.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01" name="Text Box 6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ALUD COMO DERECHO HUMANO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Group 11"/>
          <p:cNvGrpSpPr/>
          <p:nvPr/>
        </p:nvGrpSpPr>
        <p:grpSpPr>
          <a:xfrm>
            <a:off x="2085840" y="838080"/>
            <a:ext cx="4952880" cy="1371600"/>
            <a:chOff x="2085840" y="838080"/>
            <a:chExt cx="4952880" cy="1371600"/>
          </a:xfrm>
        </p:grpSpPr>
        <p:sp>
          <p:nvSpPr>
            <p:cNvPr id="1403" name="AutoShape 7"/>
            <p:cNvSpPr/>
            <p:nvPr/>
          </p:nvSpPr>
          <p:spPr>
            <a:xfrm>
              <a:off x="6124320" y="838080"/>
              <a:ext cx="914400" cy="1371600"/>
            </a:xfrm>
            <a:prstGeom prst="downArrow">
              <a:avLst>
                <a:gd name="adj1" fmla="val 50000"/>
                <a:gd name="adj2" fmla="val 37500"/>
              </a:avLst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04" name="AutoShape 8"/>
            <p:cNvSpPr/>
            <p:nvPr/>
          </p:nvSpPr>
          <p:spPr>
            <a:xfrm>
              <a:off x="2085840" y="838080"/>
              <a:ext cx="914400" cy="1371600"/>
            </a:xfrm>
            <a:prstGeom prst="downArrow">
              <a:avLst>
                <a:gd name="adj1" fmla="val 50000"/>
                <a:gd name="adj2" fmla="val 37500"/>
              </a:avLst>
            </a:prstGeom>
            <a:solidFill>
              <a:srgbClr val="00cc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05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¿QUÉ CONDICIONES?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06" name="Group 24"/>
          <p:cNvGrpSpPr/>
          <p:nvPr/>
        </p:nvGrpSpPr>
        <p:grpSpPr>
          <a:xfrm>
            <a:off x="428760" y="2500200"/>
            <a:ext cx="4190760" cy="4091040"/>
            <a:chOff x="428760" y="2500200"/>
            <a:chExt cx="4190760" cy="4091040"/>
          </a:xfrm>
        </p:grpSpPr>
        <p:sp>
          <p:nvSpPr>
            <p:cNvPr id="1407" name="Text Box 5"/>
            <p:cNvSpPr/>
            <p:nvPr/>
          </p:nvSpPr>
          <p:spPr>
            <a:xfrm>
              <a:off x="428760" y="2500200"/>
              <a:ext cx="419076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cc00"/>
                  </a:solidFill>
                  <a:latin typeface="Arial Black"/>
                </a:rPr>
                <a:t>DETERMINANTES SOCIALES</a:t>
              </a: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pic>
          <p:nvPicPr>
            <p:cNvPr id="1408" name="Picture 23" descr="ANd9GcRzsQDDApUeeVaTuDb-dZNL0wYA7DQBjnnXv9GKtNlyE3mBpDN4uliKfDAJ1A"/>
            <p:cNvPicPr/>
            <p:nvPr/>
          </p:nvPicPr>
          <p:blipFill>
            <a:blip r:embed="rId1"/>
            <a:stretch/>
          </p:blipFill>
          <p:spPr>
            <a:xfrm>
              <a:off x="900000" y="3581280"/>
              <a:ext cx="3276720" cy="300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9" name="Group 27"/>
          <p:cNvGrpSpPr/>
          <p:nvPr/>
        </p:nvGrpSpPr>
        <p:grpSpPr>
          <a:xfrm>
            <a:off x="4624560" y="2514600"/>
            <a:ext cx="4343400" cy="4253040"/>
            <a:chOff x="4624560" y="2514600"/>
            <a:chExt cx="4343400" cy="4253040"/>
          </a:xfrm>
        </p:grpSpPr>
        <p:sp>
          <p:nvSpPr>
            <p:cNvPr id="1410" name="Text Box 5"/>
            <p:cNvSpPr/>
            <p:nvPr/>
          </p:nvSpPr>
          <p:spPr>
            <a:xfrm>
              <a:off x="5091120" y="2514600"/>
              <a:ext cx="297180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cc00"/>
                  </a:solidFill>
                  <a:latin typeface="Arial Black"/>
                </a:rPr>
                <a:t>ATENCIÓN A LA SALUD</a:t>
              </a: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pic>
          <p:nvPicPr>
            <p:cNvPr id="1411" name="Picture 26" descr="ANd9GcR5Tgue6OlRb6qwuHkXUNNXxMGI4NwKM5FfdEvmX6PXYrFfoHSieUMCeUIPXg"/>
            <p:cNvPicPr/>
            <p:nvPr/>
          </p:nvPicPr>
          <p:blipFill>
            <a:blip r:embed="rId2"/>
            <a:stretch/>
          </p:blipFill>
          <p:spPr>
            <a:xfrm>
              <a:off x="4624560" y="3514680"/>
              <a:ext cx="4343400" cy="325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Text Box 1"/>
          <p:cNvSpPr/>
          <p:nvPr/>
        </p:nvSpPr>
        <p:spPr>
          <a:xfrm>
            <a:off x="469800" y="35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13" name="Text Box 5"/>
          <p:cNvSpPr/>
          <p:nvPr/>
        </p:nvSpPr>
        <p:spPr>
          <a:xfrm>
            <a:off x="333360" y="2057400"/>
            <a:ext cx="84297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3300"/>
                </a:solidFill>
                <a:latin typeface="Berlin Sans FB"/>
              </a:rPr>
              <a:t>Garantizar las condiciones para que las personas alcancen el más alto nivel posible de bienestar físico, mental y social, </a:t>
            </a:r>
            <a:r>
              <a:rPr b="0" lang="es-ES" sz="4000" spc="-1" strike="noStrike" u="sng">
                <a:solidFill>
                  <a:srgbClr val="cc3300"/>
                </a:solidFill>
                <a:uFillTx/>
                <a:latin typeface="Berlin Sans FB"/>
              </a:rPr>
              <a:t>sin distinción de raza, religión, ideología política o condición económica o social</a:t>
            </a:r>
            <a:r>
              <a:rPr b="0" lang="es-ES" sz="4000" spc="-1" strike="noStrike">
                <a:solidFill>
                  <a:srgbClr val="cc3300"/>
                </a:solidFill>
                <a:latin typeface="Berlin Sans FB"/>
              </a:rPr>
              <a:t>.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14" name="Text Box 6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ALUD COMO DERECHO HUMANO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32"/>
          <p:cNvSpPr/>
          <p:nvPr/>
        </p:nvSpPr>
        <p:spPr>
          <a:xfrm>
            <a:off x="5319720" y="2251800"/>
            <a:ext cx="3733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6600"/>
                </a:solidFill>
                <a:latin typeface="Berlin Sans FB Demi"/>
                <a:ea typeface="Times New Roman"/>
              </a:rPr>
              <a:t>“</a:t>
            </a:r>
            <a:r>
              <a:rPr b="1" lang="es-ES" sz="2600" spc="-1" strike="noStrike">
                <a:solidFill>
                  <a:srgbClr val="ff6600"/>
                </a:solidFill>
                <a:latin typeface="Berlin Sans FB Demi"/>
                <a:ea typeface="Times New Roman"/>
              </a:rPr>
              <a:t>...(evitar las) diferencias injustas o remediables en salud entre grupos de población definidos social, económica, demográfica o geográficamente”*</a:t>
            </a:r>
            <a:endParaRPr b="0" lang="en-US" sz="2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16" name="Rectangle 34"/>
          <p:cNvSpPr/>
          <p:nvPr/>
        </p:nvSpPr>
        <p:spPr>
          <a:xfrm>
            <a:off x="2160000" y="6461640"/>
            <a:ext cx="70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baseline="30000">
                <a:solidFill>
                  <a:srgbClr val="ff6600"/>
                </a:solidFill>
                <a:latin typeface="Berlin Sans FB Demi"/>
                <a:ea typeface="Times New Roman"/>
              </a:rPr>
              <a:t>*</a:t>
            </a:r>
            <a:r>
              <a:rPr b="1" lang="es-ES" sz="1400" spc="-1" strike="noStrike">
                <a:solidFill>
                  <a:srgbClr val="ff6600"/>
                </a:solidFill>
                <a:latin typeface="Berlin Sans FB Demi"/>
                <a:ea typeface="Times New Roman"/>
              </a:rPr>
              <a:t> Departamento de Ética, Equidad, Comercio y Derechos Humanos de la OMS. </a:t>
            </a:r>
            <a:endParaRPr b="0" lang="en-US" sz="1400" spc="-1" strike="noStrike">
              <a:solidFill>
                <a:srgbClr val="cc3300"/>
              </a:solidFill>
              <a:latin typeface="Arial Black"/>
            </a:endParaRPr>
          </a:p>
        </p:txBody>
      </p:sp>
      <p:pic>
        <p:nvPicPr>
          <p:cNvPr id="1417" name="Picture 9" descr=""/>
          <p:cNvPicPr/>
          <p:nvPr/>
        </p:nvPicPr>
        <p:blipFill>
          <a:blip r:embed="rId1"/>
          <a:srcRect l="5498" t="0" r="4695" b="2374"/>
          <a:stretch/>
        </p:blipFill>
        <p:spPr>
          <a:xfrm rot="20370000">
            <a:off x="-228240" y="1904760"/>
            <a:ext cx="5257800" cy="3862440"/>
          </a:xfrm>
          <a:prstGeom prst="rect">
            <a:avLst/>
          </a:prstGeom>
          <a:ln w="0">
            <a:noFill/>
          </a:ln>
        </p:spPr>
      </p:pic>
      <p:sp>
        <p:nvSpPr>
          <p:cNvPr id="1418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EQUIDAD EN SALUD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Text Box 1"/>
          <p:cNvSpPr/>
          <p:nvPr/>
        </p:nvSpPr>
        <p:spPr>
          <a:xfrm>
            <a:off x="434880" y="3519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grpSp>
        <p:nvGrpSpPr>
          <p:cNvPr id="1420" name="Group 2"/>
          <p:cNvGrpSpPr/>
          <p:nvPr/>
        </p:nvGrpSpPr>
        <p:grpSpPr>
          <a:xfrm>
            <a:off x="0" y="142920"/>
            <a:ext cx="9144000" cy="6715080"/>
            <a:chOff x="0" y="142920"/>
            <a:chExt cx="9144000" cy="6715080"/>
          </a:xfrm>
        </p:grpSpPr>
        <p:sp>
          <p:nvSpPr>
            <p:cNvPr id="1421" name="Rectangle 2"/>
            <p:cNvSpPr/>
            <p:nvPr/>
          </p:nvSpPr>
          <p:spPr>
            <a:xfrm rot="5400000">
              <a:off x="6320160" y="3399480"/>
              <a:ext cx="5256000" cy="73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22" name="Rectangle 4"/>
            <p:cNvSpPr/>
            <p:nvPr/>
          </p:nvSpPr>
          <p:spPr>
            <a:xfrm flipV="1">
              <a:off x="250920" y="142560"/>
              <a:ext cx="7273800" cy="460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  <p:sp>
          <p:nvSpPr>
            <p:cNvPr id="1423" name="Rectangle 11"/>
            <p:cNvSpPr/>
            <p:nvPr/>
          </p:nvSpPr>
          <p:spPr>
            <a:xfrm>
              <a:off x="0" y="6692760"/>
              <a:ext cx="9144000" cy="1652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cc3300"/>
                </a:solidFill>
                <a:latin typeface="Arial Black"/>
              </a:endParaRPr>
            </a:p>
          </p:txBody>
        </p:sp>
      </p:grpSp>
      <p:sp>
        <p:nvSpPr>
          <p:cNvPr id="1424" name="Rectangle 7"/>
          <p:cNvSpPr/>
          <p:nvPr/>
        </p:nvSpPr>
        <p:spPr>
          <a:xfrm>
            <a:off x="396720" y="460080"/>
            <a:ext cx="8255160" cy="764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 Rounded MT Bold"/>
              </a:rPr>
              <a:t>AVANZAR HACIA UNA POLÍTICA DE SALUD PÚBLICA ORIENTADA A LA EQUIDAD Y LA ACCIÓN  SOBRE LOS DSS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5" name="Rectangle 9"/>
          <p:cNvSpPr/>
          <p:nvPr/>
        </p:nvSpPr>
        <p:spPr>
          <a:xfrm>
            <a:off x="345960" y="1452600"/>
            <a:ext cx="822960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INCORPORAR LA EQUIDAD Y LOS DSS EN LA PRODUCCIÓN DE INFORMACIÓN DEL MSP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REORIENTACIÓN DE LOS PROGRAMAS DE SALUD PÚBLICA HACIA LA REDUCCIÓN DE LAS INEQUIDADES EN SALUD Y LA ACCIÓN SOBRE LOS DSS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REORIENTACIÓN DE LOS PRESTADORES DE SALUD DEL SNIS HACIA LA REDUCCIÓN DE LAS INEQUIDADES EN SALUD Y LA ACCIÓN SOBRE LOS DSS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  <a:p>
            <a:pPr marL="457200" indent="-457200" algn="just">
              <a:lnSpc>
                <a:spcPct val="100000"/>
              </a:lnSpc>
              <a:buClr>
                <a:srgbClr val="161645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1645"/>
                </a:solidFill>
                <a:latin typeface="Arial Rounded MT Bold"/>
              </a:rPr>
              <a:t>INCORPORAR LA EQUIDAD EN SALUD EN LA DEFINICIÓN DE OBJETIVOS SANITARIOS Y DE SALUD. </a:t>
            </a:r>
            <a:endParaRPr b="0" lang="en-US" sz="2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6" name="Rectangle 34"/>
          <p:cNvSpPr/>
          <p:nvPr/>
        </p:nvSpPr>
        <p:spPr>
          <a:xfrm>
            <a:off x="469800" y="2240640"/>
            <a:ext cx="82170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3300"/>
                </a:solidFill>
                <a:latin typeface="Berlin Sans FB Demi"/>
                <a:ea typeface="Times New Roman"/>
              </a:rPr>
              <a:t>Construcción de un Sistema de Vigilancia de la Equidad en Salud</a:t>
            </a:r>
            <a:endParaRPr b="0" lang="en-US" sz="22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1"/>
          <p:cNvSpPr/>
          <p:nvPr/>
        </p:nvSpPr>
        <p:spPr>
          <a:xfrm>
            <a:off x="469800" y="3595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8" name="Text Box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SISTEMA DE VIGILANCIA DE                               LA EQUIDAD EN SALUD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380880" y="1752480"/>
            <a:ext cx="7543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Rounded MT Bold"/>
              </a:rPr>
              <a:t>OBJETIVO:</a:t>
            </a:r>
            <a:endParaRPr b="0" lang="en-US" sz="2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430" name="Rectangle 9"/>
          <p:cNvSpPr/>
          <p:nvPr/>
        </p:nvSpPr>
        <p:spPr>
          <a:xfrm>
            <a:off x="560520" y="2590920"/>
            <a:ext cx="8034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000" spc="-1" strike="noStrike">
                <a:solidFill>
                  <a:srgbClr val="161645"/>
                </a:solidFill>
                <a:latin typeface="Arial Rounded MT Bold"/>
              </a:rPr>
              <a:t>Dar visibilidad a las desigualdades en salud producidas socialmente- por ende, injustas y evitables- y a su contexto de producción, es decir, la forma de estratificación vigente, las brechas de poder, recursos y prestigio en la que se sustenta.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13-01-11T01:23:34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