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dt" idx="10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 type="ftr" idx="10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 type="sldNum" idx="10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A9B1-E4AE-42D1-9F16-61C23F02D1E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73B9-96F3-45F1-9B3A-34F9E03C8F9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083D-E531-4990-B2D2-D7FA95E658B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6CC8-CE87-484D-B9AC-E9C5DB0AFDE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C718-6F4B-4EFB-B580-670B2491409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6A43-1FAD-4C6B-931C-DF5B4871FBF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47C6-659F-43DC-87A4-8C8927AEED1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D36D-C6D1-4B26-8C9D-739551A6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C3A9-2152-4A96-9294-66DEA9D5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22609-94AA-4269-BEFA-A8B4CD14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4C5D2-9F57-4C50-B66A-537FB1DA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009F6-DE1D-42AF-A668-DC3660D4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6306E-F7A2-4FB6-B892-46BA7BB6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C262C-A9CA-4302-8A33-C62375B3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955B1-2B6B-4E50-9D5D-B1178E45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6A15E-1B89-40BF-9C44-8CE061A8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84EC9-941C-45A9-8D67-12578330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767E9-C487-4541-A135-0656A560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3AF9E-5CC6-4658-A44E-1D9F390B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FB7-D1B1-4127-8DAF-66D53F05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D97E4-7250-4088-813E-52774050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6D34B-B8CE-43C7-93DE-EF6A677F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2921B-2170-4D80-BA7D-3295771D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8053E-684A-45FC-986A-D3536649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FFD3F-B2C8-45F3-84B1-D4614BAE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9E53C-E9AF-446D-B162-0103BFD7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0913E-C3B3-4F85-9B64-9EE74197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833A3-5686-4B2B-BE83-166D84F9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129E1-29B4-415D-A21A-D54B72A5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E36C8-688B-4BC1-AD4F-DCAE6AA1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EC1A-1160-44E5-B9DF-22A9F42B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D7A93-40B6-47EE-847F-C49A1AB3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E22AA-955C-41EE-8DBB-4A91C7AF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5F31E-B02A-4BE5-B3D1-0C3BF3E1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9FAA2-C205-48B7-8BA4-2A61F5BF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27728-EC82-4F08-8875-1C7E96B9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C0882-7EFD-4539-8E96-95C9CC56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301AF-8A56-4467-835C-0F61046D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B8330-CB9E-4A38-93F9-B26545B3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07898-0526-404A-A0E1-DDB243AF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309BF-6A6E-43EB-A4B0-8454770A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8998-A0AB-481C-9159-0A7EC6A2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A7C30-1478-4AD8-9A3C-1D5A17EE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7ED48-7D8B-45C5-BB86-D6299A2D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50128-37B0-4918-808D-6E029057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90728-2559-4D01-B24B-CA2DCFDB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5BA81-6231-41D8-ADD9-365FAD56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20A62-CBA8-40C5-A8D7-B5D3D8DF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D7C8A-33DB-4222-8C9A-ACFEF6A4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8F7E4-3712-4085-8BA4-5C5E3895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38CF3-E80E-455D-A14A-2F27C90D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E4D74-5551-4C27-911D-35481BF6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6260-952B-4BDB-B451-17175A42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53906-F541-40D6-9080-43C1FC6F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58DFF-1ED8-416C-9171-E4D86D01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0D803-6B44-41BB-A77D-38A8D03D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41891-103F-43E3-9F43-0A53CE50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790AF-C76B-4945-A246-8A81EEA3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608BB-45C0-4D3F-8CEC-3DE7893F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6D4C8-E7EC-4DE9-A4F1-6E1ED61B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2EA5EA-E7B1-4CB0-9BC1-01D4CAE8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77956E-C6E9-433C-A0A8-39CAC503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694EE0-3002-4425-86D5-70780E1F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A658-5AA4-417B-BABD-BBBB5940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97617-716F-435A-B2F8-DAEDE899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06048D-CEB3-491D-A2BC-19467F9E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258AA-6217-41B3-9357-61E55480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34D0B-A239-4273-B153-FEF35ADA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3A31B7-71E0-4166-B72F-E7E59262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61F6A-CDE7-40A3-AAFE-58D7A6F4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AF5B6-A53A-4B5F-A5B6-59C7E7EF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C6BEF8-92B2-4A37-9BB4-0F519AD0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9490C0-4A3E-46BF-9043-86ADE4DD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CEB61A-3D05-47DE-9FC8-7BE1FF14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391C-3D0B-4063-A376-E14E8329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308515-4840-4746-9DB4-9A87CAB4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A7FCBA-7CAC-4820-9F61-2501B9DC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B7D4BD-5AC3-4EBE-8DA1-65D958A5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F02F2-145E-4620-A821-F146960A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62304B-CF4F-461C-ACDE-F0DAB333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A866B9-0894-4B34-AEC3-A91F04C5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ED77A-9592-4A01-AF8A-A6B3F2B6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5CE5D9-1F96-4CCC-BF36-F300F479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AD934-0F71-448D-9C9F-BD373F17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4DDE83-3DE2-4A98-9113-CD993DCA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809B-1190-46F7-A817-7CE91EC5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285593-AD27-469A-9218-D6B2C4DC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647658-A794-4682-BAE6-FE57589C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ADA6D0-6561-4BDA-8FE0-96FB718E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6003FA-FA91-486F-B344-0717555B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0B7666-1898-4600-AD6D-DBE5616B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F672F9-CF43-4666-A8B1-BE9D5DEA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C9A890-40C7-4D4D-A88B-D96E68BD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2B6B90-69CA-4F16-9839-201A4370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84E26E-9A28-4412-8EA4-217B3224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1FE702-5F54-4D37-A850-5D9B15AE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A85B-4077-46FE-970E-27923126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EA0788-A16C-44DC-89C9-348FDA91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888505-E04F-42D1-80C9-305E4C98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2A01BF-4AF8-47CB-B28E-E6B18C5B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945BD8-C13F-413B-BA61-DAD2773C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8EE8CE-E8C5-4176-8572-830BE0D2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BB0938-8602-4206-89A8-8E3D74EA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4B8592-6B19-4F1A-A6E4-D11DEFFF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898FE-D905-4BA2-A644-67F4A183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4F8564-1CAD-4486-9CFE-DBBEF406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856AEC-EAC7-445A-BCA3-32C07403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DD9E-8DE4-49B9-86B2-0861E4A1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6F2C35-9D2B-484D-A246-48167AD0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AF3813-4D47-4D01-9CF9-9B076ABA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A43083-6F00-45D1-8BFA-1C993786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8F9EFA-BE77-4C91-BC51-9FC7DA1A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F688B0-5967-4D84-B068-635CEB7D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6F9225-ED1A-40B3-8545-BDC6A81D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B3A18E-32D6-48E7-9A6E-3388CC75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946DB4-7986-4BEE-922B-D8EC1E12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CACD34-00B8-4BB7-B5EC-2CAD2E2D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5178A2-6AE4-41C8-8410-3BA99F87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C2A-24D2-4CB9-90C9-7E050E0A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D0E4-C3C7-4137-8AAA-0AFFDF22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D40342-0F40-4019-98FD-33BE9248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599BA0-E1C2-4243-8725-72BFF042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600921-EF5A-4C95-B978-118C5702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9CA7D1-4B20-4E1C-9C26-5459DD64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0D9240-50C2-42BF-922F-CC6CF37F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3D4683-DFF5-41FA-A3D8-327FE7CA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A21EC9-7574-4E93-B61B-A9FC826E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0203C8-A75A-4C98-8715-AAD8799A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19BBB3-EBD1-4943-8AEE-C5BEF3AD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50BB66-3B2D-43B3-A46E-ABE23790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8532-2EB6-4043-B449-3395B9F5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A5E3A5-31D1-4853-A8D2-7E6AE669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8BCE83-3AF6-4EA0-86CD-0554AAC0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52D158-0969-42F9-A349-1D40628D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EE973C-300D-407E-A438-C01E63C0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00308C-4B5B-497A-97DD-DA6C7782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1AF2AE-1E83-446F-910E-C97A9ED8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7614BD-9CFD-491D-8EB8-882FA28A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8B1681-34B4-413E-9C62-8158BBB6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8C10DC-D762-4020-9DBA-8975611D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D30307-F053-4304-8EB6-1D99A0D1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1C16-3C86-4520-827D-5CFB22DE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2BC155-6734-445D-8685-A5676417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ECBD9E-2A54-4B66-B675-14709E0D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03FA0B-6528-4143-A144-9D4FB0EC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125E37-78BC-4E84-B7FC-EC65C7BD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249997-08C4-4BAF-BA29-CC007509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368032-5907-4620-8A66-927C14FE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4F5334-9EF0-4BE8-AA9E-86CD5270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832E32-2B5B-48CB-B779-1ACE87E4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B3A816-938B-4505-97DB-B0AC1306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FD6715-0094-49AF-9C80-21320A79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781B-7186-436F-A94E-05914EB7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9B3D2D-8BB6-4C85-8DCA-D5F90813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982A8B-BF59-4DBF-82D0-8B26976F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8C25FC-F617-4D04-9258-7AD11963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E8DDE4-E398-4B8B-BAC6-91A223B4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056881-B7B6-4A28-99C5-DE4D7E44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4FF522-EAE4-4569-89CC-3EA52FE1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CD9367-5B10-4E82-B965-9D49A3C9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DEF8EE-2E02-4FC7-9198-B6A36054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AD6C0C-671B-4F0D-ABD2-80C2A017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FDD366-B001-4CC3-8083-999CC961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4632-DF25-4225-9E20-BD9151D4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3561D1-E014-4584-9E16-16637B97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7F127A-C4B5-4A09-96F1-412B0C02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3314F4-8856-4D94-877F-CD007F6E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26DF42-1674-4A95-A5D5-1592A766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C45318-F632-4108-B1E8-3FE514B3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4CC8CB-D903-44C2-B10D-810E902A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CB9E62-0372-45B5-9757-0809B77E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DBA3D9-4299-4676-BEB0-8EBA5C21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0CCA08-69C4-464E-B362-1DDC90A5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710B01-D839-43FF-A033-BA3D85F4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53FFC-5858-42F5-9E76-B7190F0C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348C38-8516-4191-A976-6A24C72A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7A0788-AD52-4B49-BC8B-E3C5B8F3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862A3E-5188-40B5-8C73-1FBA3896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2E62DC-0A61-45F3-9FF6-B39F204F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49003C-63CC-4FC7-AB71-7C1C424E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6A31EC-6B93-41B1-A1D1-B69B86D5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C5709C-A2C3-4739-A119-89BD0073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9FBF1C-D288-4D0C-B103-09B5EE30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05A4E1-E7BA-4FB8-991C-27A1F278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B6C386-FDB3-4C2F-9BDF-C1827244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F1FA1-1934-4CF2-BC55-5CEDCFEF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63F6D3-2DD1-46D9-ABFE-E9103FDB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F3C467-BD2D-4E5A-B1E2-DDB5A3FD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C67B57-1B31-46CD-90DF-39E7FA0B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585F98-A5D6-4FE4-9CF5-46F12C64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095DE8-C7A1-4381-B311-1EE0C891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8A7281-AC58-443D-A9CB-A1CF5F68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1E5D4B-5E13-4AA5-A648-27E7C079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C8B527-A5E8-4105-AD75-DE9D7A6F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7A5F25-7698-49BC-A2D0-D4BE4CCE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84C143-69D4-46E8-956C-14D084C8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BBF77-727B-44DB-B4C6-5F75ACAC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69865A-B716-4D96-BCC5-9BA94437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CB30FA-02B0-41C8-A600-BFF5E57A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A12214-4B38-4C1D-8DB4-0B639A6E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BDEE01-3602-45C0-8A6E-BD6507B8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0E539F-933E-43C9-B677-D326EBD8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2F7E25-B25B-419C-BDE6-0DD8FD08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A82E13-466E-42B5-802F-9D9951D3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7A4878-7384-449A-8ED9-AFE47021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278D13-741D-4DC1-9655-F8FAC6C8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278A23-ED9F-41AE-B83A-F57AC425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69541-93FC-4109-B796-53744617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92365E-266B-475A-BDBF-C6428594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475440-D32E-435E-9598-C0A6695C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E4805D-D7E4-4D43-A289-1A05192F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31372F-C71B-4AFE-BE62-7103BE86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D56A41-942D-4C06-9671-F32DE306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8E655D-B651-4C5E-B67C-3DDAE52D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EAE0A6-4A92-4BA2-BB18-F814C4C7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4E7EE4-6B04-4E42-A4EC-15B8F076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815435-65C6-46B4-8C54-34A18DB3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F3D8C4-5257-445C-9DA1-A6F0F024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27F83-BD6B-4D20-A45A-26509034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BADC92-DEFE-44BD-BDED-82AA21EF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319A83-8C91-4E00-AE95-65CB98D7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665B5C-F4D7-4292-8E0A-2786B7AC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C73D29-24EC-4BE1-AD52-C01D2B60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ED5615-14CF-4948-BE66-6DE23EA3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D3BB8B-24D8-47BA-A869-DB2CF941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1F15FC-EF78-4A9B-8BFA-13CCC41E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794336-69CA-4967-834D-307DB5EB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362B54-C00C-4F69-9EFD-54FBB346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1CB79B-94EB-456C-9078-9728961B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A43E-1F68-45F4-846E-81B683F4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E3AFB-5BFA-4AED-8A49-A2CB94F8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B8A3A7-12C5-4A01-86DD-F7F047EF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7B196B-698E-4954-9FAC-1D2B5E41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FE52AE-3F31-49A7-B133-B3C184BF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E5806C-F25D-455F-90F6-E668542F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A63343-51B4-4CC4-B73C-45E3CBDA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360101-BC97-440D-BA9E-D6E0A9D8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3FACBD-CCA3-4A6B-9165-49A3ABA5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A25060-2629-4768-854D-239C9D51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F95855-2FF0-4A37-AEC8-298FBB7B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AABD57-5741-4AB9-929C-1D87C1DE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8EC41-FA05-4641-A051-BE82AEA3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FA8DE8-06B2-4BD0-A78B-F06D1D4C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9E8F35-B5CF-4A0C-9F8F-AD70F354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94948E-EEFC-471C-A82C-2705BAF3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141039-06FF-45CA-8371-F04B4492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CE1550-987F-4E68-A7A8-A011CE1D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E144EB-B4C9-49F2-813A-155F4922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091C9C-1A61-4632-9869-E0733959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AB7F08-B8C3-4A0E-BBC2-D7A55606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B52C4A-AD30-4DB1-B2E3-CD59801F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2BADDF-A42F-4EA6-A073-51F7A7D0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FA545-2705-471C-BD48-AFD762F5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CCDB55-AAE4-4A64-A9E5-EDC49CE3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9D3203-E045-48D3-81F0-7CDDE188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B3B8E1-32DE-4CD7-A31F-EA709FC1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6B8596-141B-4569-B1F6-EAAAF444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CCE419-D191-4848-A065-0928DF7C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AD786D-FF5D-4FB3-988A-C32FF857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A61A5E-72AD-49A9-ACA4-238E6D4A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8CF6CB-8D0E-46A9-81C1-A2B3FC11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E6F0EB-2DB5-419C-AE30-D26204FE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B7C6C7-387A-4BA2-A6D9-1FFBDDE8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2677F-5CE7-4750-8335-EF5CAD3D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5DD3D1-3866-4737-A79C-AB47ACF3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E40F4A-BF33-4D0D-990C-0B2C48A7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B5516C-EABC-4160-A8F3-B378F4E7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E1E834-BE4B-4927-841C-67FCE134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1429F9-CE8D-4A9E-90A3-38B5B309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44EACF-A4E5-485D-9E34-B83C68B6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1BD212-8DC3-4984-A9C3-6135E04E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47E955-FDEE-4FE1-A812-6AB4CEB2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3158CA-841D-4C95-B4D9-121306BE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FC7894-0687-4F4F-B33B-467036B0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BE6A2-703C-45CE-8811-7554BF4E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D335A5-4A56-4E1F-AA15-4ACB9815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4E5D61-E8EB-43BB-9281-0B9C8F02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CD3E1F-B7E8-499F-B8B6-CD51ED7E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78AD47-CAE9-45AC-AAB5-FBF3E393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07B5F5-F123-4667-A007-6C6146EB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383166-51A1-4E8A-A68E-506F34F6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3DF02B-B013-4487-95D9-161C221D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E89BB1-6376-4EF6-8C7A-AA6E6720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732624-341C-40C1-BA06-257700B5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5A2F80-0961-48DF-830C-3B510AA6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BC5DD-6868-41E5-8695-AFCF06F3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F574D20-11BB-4196-A390-2BB6AC19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88DDE4-C348-4C94-BD0E-314A0BAD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535332-357F-469E-AA31-281CE77D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B2567C-551E-4BD2-A7C6-6D8B9348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223707-2A0A-4CAF-8B26-C832C774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C21514-6A63-4964-A446-F80F4BF8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4F88C8-7051-44DA-B3AE-C38CFAE5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3B7CD6-4CB3-44D1-85B7-24EA9224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0DCA45-FE60-46FD-8C96-9F781EFD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E0C7DD-7EC3-4CC9-9D22-20EA14A5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D27B7-E633-4B5B-8496-9427CA23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2177DC-F1DD-4B7B-8AF3-D8B813C1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244C84-2F13-44E6-8DB7-028AC97F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E6C8DB-E485-41E8-BEC2-BFF9B979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4E8150-92FD-46C8-B91C-0DF74CFA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357CBA-D80B-4618-9E46-B250ABD9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F09BE8-51C3-44B3-BA19-6CB81EFC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221AE7-AF79-4938-97C5-4C263077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A0BFD2-4160-4348-B8D5-10E0C1CD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18F48C-06BC-4B2E-9DDC-01BCC610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7F3CFE-1C19-477D-A7E7-EAC2F31B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B9D8D-2CE7-44E3-AC10-AA965E66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49E937-1CBA-4F4B-A088-8A96484E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51F586-C453-4D24-BCCE-0A7318AC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36817D-7AA4-4727-A2D4-987BD2F8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E5EAB42-6D45-4210-AEF2-3956F43F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48AAAC4-C68A-4E5D-833B-F64C0E4B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A6F82E-427D-4D4F-B474-52B583ED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95100B-E3D4-484D-A988-5624A7FC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5F665D-4FFA-4D2D-B5BF-8BF63D57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52DD04-B0BE-4BE8-A821-480F1E78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265523-B7B0-44DD-81C8-A4355D3E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C0380-BFB7-4CA1-99DF-EAC8726E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9497CF-D091-4D53-BE2A-F3AE34E8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3B85FE-2B32-4A35-A056-AA44ED60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2DA9AB5-FC37-4D61-AD14-FDBF0CD5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9871B59-3B5F-41FB-A05D-962DEAEC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0C9D6C-E930-4986-BAAC-E7AC918A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F0A161-6D2A-44A0-A367-8923C9AD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71E4427-4A47-42C6-A00B-EF6B4BA5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82DC632-13AF-4218-8444-C22A3C21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15041B-AF3E-4A24-8604-0F1C7A90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366946-95DF-4E28-9DBB-EE205387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45D3C-336A-4696-85F4-36FF5AB7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FA6D2C-1CFF-43CD-B306-8669E64C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E9F966-5897-4E42-B0CD-5960676E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ED2A1A-E8B2-4404-BBDB-2BD1A323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3EC89D6-305C-4BB5-A66B-A25F6E80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A9111A-369D-4642-9119-071E60BD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5EEEF88-D7D7-4456-8DAB-2323E5B1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78D92B-1D27-4530-9728-D285C5F4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5697-35BB-4F32-A5FA-427D747B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BE829-6A8D-47CA-8005-93EB496C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BDA6F-B4EB-4100-93BF-5D7E3787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7607C-3E96-4F0B-841D-E648F59A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9EF21-87AF-476B-9FEA-87413DC2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9B269-CA6F-48A2-96D1-E946B1B4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CAD87-7EC6-47CD-8489-B3B60608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2BA7D-9E0E-44E7-8CB1-72D82898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FF2DB-9D9D-4FE8-B077-FA640CF2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8D8D8-45C8-46BF-BC0B-2156EEF5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D5879-3D26-4FA4-A0DD-F7830A07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3882-9C38-4A0E-B155-2D21BE25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1DD76-D9E7-4303-ABA2-EEA682B0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5D47C-ADDB-4559-9736-D3A66C6E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2D405-4F68-4B18-AC9A-FABBB20C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9CD9B-CD89-4A78-9FE4-5A8C283F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19D6E-3807-4EDE-8AFD-AE109445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A4401-195F-4448-AC6D-9A0ADF15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3E149-D6AA-4808-9AA1-0A226864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C936A-E51B-4BAC-86E4-3DB1AB09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F47F6-3327-4B02-8E68-61116F85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B2C96-C8B3-4749-BF29-12E6C023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F154-653E-412F-8FBF-2913A812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FB26C-6B9B-44F3-8AF7-CC4962FC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96572-F388-4575-AB7F-AC3F5676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87F73-4FA1-4DC3-92B3-BBABDFB4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44D41-8C6A-4D31-ABFD-8C1D69BF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27113-9310-4661-B866-CBF67FC9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27DB9-4D9A-44A3-B78A-AC302BBD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5B4E2-7903-4C52-8C2C-E83587E0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FB4B2-A02D-49C1-890B-9BD807AD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43AEF-0E41-4CB0-BC12-F4184A02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9517A-507C-4D61-A244-ABA2259E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6991-6DCD-4DC9-8333-02CADF8E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FAD89-E7BA-49CE-8FBA-BB5880C2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0E199-C6B7-4500-9139-174F90E2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BEF13-2068-4B7D-9B30-9E426AA1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034A8-7500-4541-8BE6-33D62250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F5E22-5B2D-457E-8B46-5D91FEF2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B2C26-54B0-4FFE-A40E-B770A3D1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D7256-6638-42EC-95B5-362D1BB5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91A09-5391-4007-86DD-B71668E3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DA4DC-9FE1-4785-B528-B2103B03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9D547-4BF5-452D-808C-1D7983FB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983C-7047-4F1F-A14C-C6D5C9A0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9E5AD-B98E-413E-998A-2256D35B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EDB13-0473-4E56-B526-68CCE446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5DB0C-4BB4-402E-970E-150DA019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DAC89-52B8-4E78-A741-D400361E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1C3E1-3091-48DF-8749-E088B353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7F23C-22B4-4F3A-A16F-D6EFC6C5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C1E69-CD78-445E-8ACF-B37CBAD1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F57AF-BA33-4431-945A-2E64A290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D9F83-C67C-4368-B14D-6A8156B9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1299A-7C22-4C8A-B395-CAAE745F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17B1-5A64-4EEE-A4DE-29D2F59F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BF5C7-67E5-4241-87B8-309FB451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55650-79D2-4D9C-BD32-C3FB709F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6C295-81E2-4542-812A-26253296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88307-C19F-447F-881E-C46103AB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1E6AB-2568-444F-9AB2-D30AEED3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E363B-79E9-4578-B229-4345CEF2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18345-D946-4683-8A01-CAA75701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BFB56-9831-482E-AC45-604E0D5B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C74FE-8B00-4498-A369-BCB501D4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0C749-1023-4670-B136-DCA8BA03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2BC0-FA31-45AB-A39A-671E79929B1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4EF0-4FD2-4B1E-820A-0A1D2C7D047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612C-C63D-4E9D-90FF-C1A1F273072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D333-5DAC-44C8-B871-1AF4AF27A08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AFB6-30EC-4AD3-885B-F487F01BAC8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0F3C-ADC6-45A4-B250-8CADB61D77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ECF9-C40F-44BC-A3B9-DBCDE9DE61D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65B4-5178-420D-893B-CB7D59AEF6C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5202-385D-4D20-880C-7A45163D04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8739-69C2-4101-86B7-D4927D51A3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E072-1ACB-46AA-B3CA-DE367D978C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73E6-9FE5-4C27-909F-D4F3027AA8B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2D66-70ED-446E-A1D3-6517BB7C0F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E5BC-36D7-49DB-8AE0-9F2A8F9DF36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93CD-2C25-499F-82E1-C4FB1E9F9E5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A078-6C77-4C7E-8FBB-8792C18D97E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2CEF-AC6E-4117-99D7-32D68CAEC25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0436-D060-4464-B70C-A70BDD1278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6732-0C62-4DDE-811B-F4B43F7DA74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A43A-B279-489F-BBEF-6A0148BDFD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40DF-9506-4F2A-BD27-1A95DE3003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0016-5B70-4637-98B3-C23F5E9BFF9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F3C0-8EE7-4ED1-9AEE-B3C8D5A1E2B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EC5B-1002-4353-96DC-E0631F182D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E6F5-ACEC-4D62-97FC-D72D45E3F0F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4333-2203-4E1C-94E9-D35ACBCE59A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ABCF-2EBD-4666-B603-F6E35BC681D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E81B-3A5D-4E88-957C-4B12741F764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05BD-EBC3-4421-A28D-9A1DD6575D4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CEF9-E62E-408B-A29F-D9EBAACBEC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F5EB-477F-46F0-9351-2C773F48DD0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54D1-A7C4-45EE-96D7-226AB66238E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26E3-7D9F-4D21-AA95-DB443EF5788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Picture 4" descr="Logo mso"/>
          <p:cNvPicPr/>
          <p:nvPr/>
        </p:nvPicPr>
        <p:blipFill>
          <a:blip r:embed="rId1"/>
          <a:stretch/>
        </p:blipFill>
        <p:spPr>
          <a:xfrm>
            <a:off x="6842160" y="3373560"/>
            <a:ext cx="2286000" cy="1274760"/>
          </a:xfrm>
          <a:prstGeom prst="rect">
            <a:avLst/>
          </a:prstGeom>
          <a:ln w="0">
            <a:noFill/>
          </a:ln>
        </p:spPr>
      </p:pic>
      <p:sp>
        <p:nvSpPr>
          <p:cNvPr id="1361" name="Rectangle 5"/>
          <p:cNvSpPr/>
          <p:nvPr/>
        </p:nvSpPr>
        <p:spPr>
          <a:xfrm>
            <a:off x="0" y="0"/>
            <a:ext cx="6781680" cy="685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Black"/>
              </a:rPr>
              <a:t>Hacia la construcción de un Sistema de Vigilancia de la Equidad en Salud</a:t>
            </a: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62" name="Rectangle 6"/>
          <p:cNvSpPr/>
          <p:nvPr/>
        </p:nvSpPr>
        <p:spPr>
          <a:xfrm>
            <a:off x="515880" y="4191120"/>
            <a:ext cx="58532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c00"/>
                </a:solidFill>
                <a:latin typeface="Arial Black"/>
              </a:rPr>
              <a:t>DIRECCIÓN GENERAL DEL SISTEMA NACIONAL INTEGRADO DE SALUD</a:t>
            </a:r>
            <a:endParaRPr b="0" lang="en-US" sz="2200" spc="-1" strike="noStrike">
              <a:solidFill>
                <a:srgbClr val="cc3300"/>
              </a:solidFill>
              <a:latin typeface="Arial Black"/>
            </a:endParaRPr>
          </a:p>
        </p:txBody>
      </p:sp>
      <p:pic>
        <p:nvPicPr>
          <p:cNvPr id="1363" name="Picture 8" descr="Flag_of_Uruguay_svg"/>
          <p:cNvPicPr/>
          <p:nvPr/>
        </p:nvPicPr>
        <p:blipFill>
          <a:blip r:embed="rId2"/>
          <a:stretch/>
        </p:blipFill>
        <p:spPr>
          <a:xfrm>
            <a:off x="7012080" y="1789200"/>
            <a:ext cx="191916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Text Box 4"/>
          <p:cNvSpPr/>
          <p:nvPr/>
        </p:nvSpPr>
        <p:spPr>
          <a:xfrm>
            <a:off x="380880" y="1925640"/>
            <a:ext cx="7543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Rounded MT Bold"/>
              </a:rPr>
              <a:t>EN TÉRMINOS OPERATIVOS…</a:t>
            </a:r>
            <a:endParaRPr b="0" lang="en-US" sz="2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32" name="Rectangle 9"/>
          <p:cNvSpPr/>
          <p:nvPr/>
        </p:nvSpPr>
        <p:spPr>
          <a:xfrm>
            <a:off x="498600" y="2607480"/>
            <a:ext cx="803592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161645"/>
                </a:solidFill>
                <a:latin typeface="Arial Rounded MT Bold"/>
              </a:rPr>
              <a:t>Consolidar una matriz de indicadores y datos que permitan identificar las inequidades en salud de la población uruguaya y sus factores determinantes.</a:t>
            </a:r>
            <a:endParaRPr b="0" lang="en-US" sz="28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161645"/>
                </a:solidFill>
                <a:latin typeface="Arial Rounded MT Bold"/>
              </a:rPr>
              <a:t>A partir de dicha matriz se realizan Informes Temáticos que ofrecen de forma oportuna y clara elementos para la toma de decisiones.</a:t>
            </a:r>
            <a:r>
              <a:rPr b="0" lang="es-UY" sz="3000" spc="-1" strike="noStrike">
                <a:solidFill>
                  <a:srgbClr val="161645"/>
                </a:solidFill>
                <a:latin typeface="Arial Rounded MT Bold"/>
              </a:rPr>
              <a:t>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33" name="Text Box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 Black"/>
              </a:rPr>
              <a:t>SISTEMA DE VIGILANCIA DE                               LA EQUIDAD EN SALUD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2"/>
          <p:cNvSpPr/>
          <p:nvPr/>
        </p:nvSpPr>
        <p:spPr>
          <a:xfrm>
            <a:off x="303120" y="3144960"/>
            <a:ext cx="854892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II) DETERMINANTES SOCIALES DE LA SALUD.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luye indicadores sobre la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estructura demográfic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 población y sus componentes dinámicos. Por otro lado, se incorpora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indicadores sociales y económico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ducación, Empleo, Informalidad, entre otros.    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III) DETERMINANTES AMBIENTALES DE LA SALUD.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e capítulo contiene indicadores sobre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Condiciones de Habitabi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Vivienda, Saneamiento, etc.) y otros factores determinantes del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mbiente Físic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35" name="Rectangle 12"/>
          <p:cNvSpPr/>
          <p:nvPr/>
        </p:nvSpPr>
        <p:spPr>
          <a:xfrm>
            <a:off x="304920" y="1801800"/>
            <a:ext cx="84391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I) ESTADO DE SALUD DE LA POBLACIÓN.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luye indicadores sobre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Mort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Morbi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Discapac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En caso de disponer de ellos, se incluirán indicadores referidos a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Salud Percib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36" name="Text Box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 Black"/>
              </a:rPr>
              <a:t>ESTRUCTURA DE LA MATRIZ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2"/>
          <p:cNvSpPr/>
          <p:nvPr/>
        </p:nvSpPr>
        <p:spPr>
          <a:xfrm>
            <a:off x="324000" y="4861080"/>
            <a:ext cx="84754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V) DETERMINANTES COMPORTAMENTALES DE LA SALUD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te capítulo incluye Indicadores sobre Hábitos y Estilos de Vida en tanto elementos protectores y/o factores de riesgo para la salud. 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</p:txBody>
      </p:sp>
      <p:grpSp>
        <p:nvGrpSpPr>
          <p:cNvPr id="1438" name="Group 7"/>
          <p:cNvGrpSpPr/>
          <p:nvPr/>
        </p:nvGrpSpPr>
        <p:grpSpPr>
          <a:xfrm>
            <a:off x="325440" y="1790640"/>
            <a:ext cx="8427960" cy="3163320"/>
            <a:chOff x="325440" y="1790640"/>
            <a:chExt cx="8427960" cy="3163320"/>
          </a:xfrm>
        </p:grpSpPr>
        <p:pic>
          <p:nvPicPr>
            <p:cNvPr id="1439" name="Picture 4" descr=""/>
            <p:cNvPicPr/>
            <p:nvPr/>
          </p:nvPicPr>
          <p:blipFill>
            <a:blip r:embed="rId1"/>
            <a:srcRect l="0" t="0" r="3080" b="2527"/>
            <a:stretch/>
          </p:blipFill>
          <p:spPr>
            <a:xfrm>
              <a:off x="325440" y="1790640"/>
              <a:ext cx="187632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0" name="Rectangle 6"/>
            <p:cNvSpPr/>
            <p:nvPr/>
          </p:nvSpPr>
          <p:spPr>
            <a:xfrm>
              <a:off x="2489400" y="1812960"/>
              <a:ext cx="6264000" cy="31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3300"/>
                  </a:solidFill>
                  <a:latin typeface="Arial"/>
                </a:rPr>
                <a:t>IV) DETERMINANTES DEL SISTEMA DE SALUD.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 Este capítulo incluye indicadores: 1) Disponibilidad de Recursos: humanos, financieros y físicos. 2) Cobertura de aseguramiento, prestaciones y servicios de salud. 3) Accesibilidad a los Servicios de Salud en su dimensión económica, geográfica y organizativo- funcional. 4) Utilización de los Servicios de Salud.</a:t>
              </a:r>
              <a:endParaRPr b="0" lang="en-US" sz="20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  <p:sp>
        <p:nvSpPr>
          <p:cNvPr id="1441" name="Text Box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 Black"/>
              </a:rPr>
              <a:t>ESTRUCTURA DE LA MATRIZ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Text Box 13"/>
          <p:cNvSpPr/>
          <p:nvPr/>
        </p:nvSpPr>
        <p:spPr>
          <a:xfrm>
            <a:off x="291960" y="2193840"/>
            <a:ext cx="8502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ún pertinencia y factibilidad, se desagregan los indicadores incluidos en cada capítulo a partir de las siguientes variables: </a:t>
            </a: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43" name="Rectangle 14"/>
          <p:cNvSpPr/>
          <p:nvPr/>
        </p:nvSpPr>
        <p:spPr>
          <a:xfrm>
            <a:off x="1552680" y="3328920"/>
            <a:ext cx="6151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I) ESTADO DE SALUD DE LA POBLACIÓN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II) DETERMINANTES SOCIALES DE LA SALUD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III) DETERMINANTES AMBIENTALES DE LA SALUD   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IV) DETERMINANTES DEL SISTEMA DE SALUD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V) DETERMINANTES COMPORTAMENTALES DE LA SALUD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</p:txBody>
      </p:sp>
      <p:grpSp>
        <p:nvGrpSpPr>
          <p:cNvPr id="1444" name="Group 19"/>
          <p:cNvGrpSpPr/>
          <p:nvPr/>
        </p:nvGrpSpPr>
        <p:grpSpPr>
          <a:xfrm>
            <a:off x="1295280" y="3240000"/>
            <a:ext cx="6629400" cy="3314880"/>
            <a:chOff x="1295280" y="3240000"/>
            <a:chExt cx="6629400" cy="3314880"/>
          </a:xfrm>
        </p:grpSpPr>
        <p:sp>
          <p:nvSpPr>
            <p:cNvPr id="1445" name="8 CuadroTexto"/>
            <p:cNvSpPr/>
            <p:nvPr/>
          </p:nvSpPr>
          <p:spPr>
            <a:xfrm>
              <a:off x="1295280" y="5892840"/>
              <a:ext cx="12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c3300"/>
                  </a:solidFill>
                  <a:latin typeface="Arial"/>
                </a:rPr>
                <a:t>SEXO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46" name="9 CuadroTexto"/>
            <p:cNvSpPr/>
            <p:nvPr/>
          </p:nvSpPr>
          <p:spPr>
            <a:xfrm>
              <a:off x="2562120" y="5913360"/>
              <a:ext cx="12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c3300"/>
                  </a:solidFill>
                  <a:latin typeface="Arial"/>
                </a:rPr>
                <a:t>EDAD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47" name="10 CuadroTexto"/>
            <p:cNvSpPr/>
            <p:nvPr/>
          </p:nvSpPr>
          <p:spPr>
            <a:xfrm>
              <a:off x="3778200" y="5789520"/>
              <a:ext cx="13222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cc33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c3300"/>
                  </a:solidFill>
                  <a:latin typeface="Arial"/>
                </a:rPr>
                <a:t>ASCENDENCIA ÉTNICA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48" name="11 CuadroTexto"/>
            <p:cNvSpPr/>
            <p:nvPr/>
          </p:nvSpPr>
          <p:spPr>
            <a:xfrm>
              <a:off x="5068800" y="5913360"/>
              <a:ext cx="152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c3300"/>
                  </a:solidFill>
                  <a:latin typeface="Arial"/>
                </a:rPr>
                <a:t>ÁREA GEOGRÁFICA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49" name="AutoShape 37"/>
            <p:cNvSpPr/>
            <p:nvPr/>
          </p:nvSpPr>
          <p:spPr>
            <a:xfrm>
              <a:off x="5437080" y="3240000"/>
              <a:ext cx="790560" cy="2590920"/>
            </a:xfrm>
            <a:prstGeom prst="downArrow">
              <a:avLst>
                <a:gd name="adj1" fmla="val 49796"/>
                <a:gd name="adj2" fmla="val 3356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ENFOQUE RESIDENCIAL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50" name="AutoShape 38"/>
            <p:cNvSpPr/>
            <p:nvPr/>
          </p:nvSpPr>
          <p:spPr>
            <a:xfrm>
              <a:off x="4035600" y="3240000"/>
              <a:ext cx="790560" cy="2590920"/>
            </a:xfrm>
            <a:prstGeom prst="downArrow">
              <a:avLst>
                <a:gd name="adj1" fmla="val 49796"/>
                <a:gd name="adj2" fmla="val 3356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ENOQUE ÉTNICO-RACIAL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51" name="AutoShape 39"/>
            <p:cNvSpPr/>
            <p:nvPr/>
          </p:nvSpPr>
          <p:spPr>
            <a:xfrm>
              <a:off x="2790720" y="3240000"/>
              <a:ext cx="790560" cy="2590920"/>
            </a:xfrm>
            <a:prstGeom prst="downArrow">
              <a:avLst>
                <a:gd name="adj1" fmla="val 49796"/>
                <a:gd name="adj2" fmla="val 3356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ENFOQUE GENERACIONAL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52" name="AutoShape 40"/>
            <p:cNvSpPr/>
            <p:nvPr/>
          </p:nvSpPr>
          <p:spPr>
            <a:xfrm>
              <a:off x="1525680" y="3240000"/>
              <a:ext cx="790560" cy="2590920"/>
            </a:xfrm>
            <a:prstGeom prst="downArrow">
              <a:avLst>
                <a:gd name="adj1" fmla="val 49796"/>
                <a:gd name="adj2" fmla="val 3356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ENOQUE GÉNERO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53" name="11 CuadroTexto"/>
            <p:cNvSpPr/>
            <p:nvPr/>
          </p:nvSpPr>
          <p:spPr>
            <a:xfrm>
              <a:off x="6249960" y="5913360"/>
              <a:ext cx="1674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c3300"/>
                  </a:solidFill>
                  <a:latin typeface="Arial"/>
                </a:rPr>
                <a:t>OCUPACIÓN, NIVEL EDUCATIVO, INGRESOS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54" name="AutoShape 37"/>
            <p:cNvSpPr/>
            <p:nvPr/>
          </p:nvSpPr>
          <p:spPr>
            <a:xfrm>
              <a:off x="6618240" y="3240000"/>
              <a:ext cx="790560" cy="2590920"/>
            </a:xfrm>
            <a:prstGeom prst="downArrow">
              <a:avLst>
                <a:gd name="adj1" fmla="val 49796"/>
                <a:gd name="adj2" fmla="val 3356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CLASE SOCIAL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  <p:sp>
        <p:nvSpPr>
          <p:cNvPr id="1455" name="Text Box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 Black"/>
              </a:rPr>
              <a:t>ESTRATIFICACIÓN DE LA INFORMACIÓN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56" name="Text Box 4"/>
          <p:cNvSpPr/>
          <p:nvPr/>
        </p:nvSpPr>
        <p:spPr>
          <a:xfrm>
            <a:off x="304920" y="1712880"/>
            <a:ext cx="800100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6600"/>
                </a:solidFill>
                <a:latin typeface="Arial Rounded MT Bold"/>
              </a:rPr>
              <a:t>DETERMINANTES DE LAS INEQUIDADES EN SALUD</a:t>
            </a:r>
            <a:endParaRPr b="0" lang="en-US" sz="22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Rectangle 9"/>
          <p:cNvSpPr/>
          <p:nvPr/>
        </p:nvSpPr>
        <p:spPr>
          <a:xfrm>
            <a:off x="249120" y="1393560"/>
            <a:ext cx="866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2060"/>
                </a:solidFill>
                <a:latin typeface="Arial Rounded MT Bold"/>
              </a:rPr>
              <a:t>1. Establecer un vínculo fluido con los administradores de los sistemas de información cuyos datos integrarán la matriz.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2060"/>
                </a:solidFill>
                <a:latin typeface="Arial Rounded MT Bold"/>
              </a:rPr>
              <a:t>2. Promover la integración de sistemas de información y la incorporación de variables estratificadoras. 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2060"/>
                </a:solidFill>
                <a:latin typeface="Arial Rounded MT Bold"/>
              </a:rPr>
              <a:t>3. Propiciar una mejora continua de la calidad de los datos con los que se elabore la matriz.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c00000"/>
                </a:solidFill>
                <a:latin typeface="Arial Rounded MT Bold"/>
              </a:rPr>
              <a:t>4. Definir metodológicamente los Indicadores a incluir en la matriz.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c00000"/>
                </a:solidFill>
                <a:latin typeface="Arial Rounded MT Bold"/>
              </a:rPr>
              <a:t>5. Producir informes a partir de los insumos generados por la matriz de indicadores y datos.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c00000"/>
                </a:solidFill>
                <a:latin typeface="Arial Rounded MT Bold"/>
              </a:rPr>
              <a:t>6. Dar una amplia difusión interna y externa a los Informes que sean definidos como de acceso público.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58" name="Text Box 6"/>
          <p:cNvSpPr/>
          <p:nvPr/>
        </p:nvSpPr>
        <p:spPr>
          <a:xfrm>
            <a:off x="304920" y="457200"/>
            <a:ext cx="24382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 Black"/>
              </a:rPr>
              <a:t>ACCIONES</a:t>
            </a:r>
            <a:endParaRPr b="0" lang="en-US" sz="2500" spc="-1" strike="noStrike">
              <a:solidFill>
                <a:srgbClr val="cc3300"/>
              </a:solidFill>
              <a:latin typeface="Arial Black"/>
            </a:endParaRPr>
          </a:p>
        </p:txBody>
      </p:sp>
      <p:pic>
        <p:nvPicPr>
          <p:cNvPr id="1459" name="Picture 1" descr=""/>
          <p:cNvPicPr/>
          <p:nvPr/>
        </p:nvPicPr>
        <p:blipFill>
          <a:blip r:embed="rId1"/>
          <a:stretch/>
        </p:blipFill>
        <p:spPr>
          <a:xfrm>
            <a:off x="7885080" y="90360"/>
            <a:ext cx="936720" cy="559080"/>
          </a:xfrm>
          <a:prstGeom prst="rect">
            <a:avLst/>
          </a:prstGeom>
          <a:ln w="0">
            <a:noFill/>
          </a:ln>
        </p:spPr>
      </p:pic>
      <p:grpSp>
        <p:nvGrpSpPr>
          <p:cNvPr id="1460" name="Group 9"/>
          <p:cNvGrpSpPr/>
          <p:nvPr/>
        </p:nvGrpSpPr>
        <p:grpSpPr>
          <a:xfrm>
            <a:off x="0" y="142920"/>
            <a:ext cx="9144000" cy="6715080"/>
            <a:chOff x="0" y="142920"/>
            <a:chExt cx="9144000" cy="6715080"/>
          </a:xfrm>
        </p:grpSpPr>
        <p:sp>
          <p:nvSpPr>
            <p:cNvPr id="1461" name="Rectangle 2"/>
            <p:cNvSpPr/>
            <p:nvPr/>
          </p:nvSpPr>
          <p:spPr>
            <a:xfrm rot="5400000">
              <a:off x="6320160" y="3399480"/>
              <a:ext cx="5256000" cy="730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t" anchorCtr="1" vert="eaVert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62" name="Rectangle 4"/>
            <p:cNvSpPr/>
            <p:nvPr/>
          </p:nvSpPr>
          <p:spPr>
            <a:xfrm flipV="1">
              <a:off x="250920" y="142560"/>
              <a:ext cx="7273800" cy="460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63" name="Rectangle 11"/>
            <p:cNvSpPr/>
            <p:nvPr/>
          </p:nvSpPr>
          <p:spPr>
            <a:xfrm>
              <a:off x="0" y="6692760"/>
              <a:ext cx="9144000" cy="16524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4" name="Group 2"/>
          <p:cNvGrpSpPr/>
          <p:nvPr/>
        </p:nvGrpSpPr>
        <p:grpSpPr>
          <a:xfrm>
            <a:off x="0" y="142920"/>
            <a:ext cx="9144000" cy="6715080"/>
            <a:chOff x="0" y="142920"/>
            <a:chExt cx="9144000" cy="6715080"/>
          </a:xfrm>
        </p:grpSpPr>
        <p:sp>
          <p:nvSpPr>
            <p:cNvPr id="1465" name="Rectangle 2"/>
            <p:cNvSpPr/>
            <p:nvPr/>
          </p:nvSpPr>
          <p:spPr>
            <a:xfrm rot="5400000">
              <a:off x="6320160" y="3399480"/>
              <a:ext cx="5256000" cy="730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66" name="Rectangle 4"/>
            <p:cNvSpPr/>
            <p:nvPr/>
          </p:nvSpPr>
          <p:spPr>
            <a:xfrm flipV="1">
              <a:off x="250920" y="142560"/>
              <a:ext cx="7273800" cy="460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67" name="Rectangle 11"/>
            <p:cNvSpPr/>
            <p:nvPr/>
          </p:nvSpPr>
          <p:spPr>
            <a:xfrm>
              <a:off x="0" y="6692760"/>
              <a:ext cx="9144000" cy="1652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  <p:pic>
        <p:nvPicPr>
          <p:cNvPr id="1468" name="Picture 9" descr="Logo mso"/>
          <p:cNvPicPr/>
          <p:nvPr/>
        </p:nvPicPr>
        <p:blipFill>
          <a:blip r:embed="rId1"/>
          <a:stretch/>
        </p:blipFill>
        <p:spPr>
          <a:xfrm>
            <a:off x="2971800" y="533520"/>
            <a:ext cx="3114720" cy="1736640"/>
          </a:xfrm>
          <a:prstGeom prst="rect">
            <a:avLst/>
          </a:prstGeom>
          <a:ln w="0">
            <a:noFill/>
          </a:ln>
        </p:spPr>
      </p:pic>
      <p:sp>
        <p:nvSpPr>
          <p:cNvPr id="1469" name="12 CuadroTexto"/>
          <p:cNvSpPr/>
          <p:nvPr/>
        </p:nvSpPr>
        <p:spPr>
          <a:xfrm>
            <a:off x="228600" y="2590920"/>
            <a:ext cx="8686800" cy="24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99"/>
                </a:solidFill>
                <a:latin typeface="Arial Black"/>
              </a:rPr>
              <a:t>MUCHAS GRACIAS</a:t>
            </a: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6600"/>
                </a:solidFill>
                <a:latin typeface="Arial Black"/>
              </a:rPr>
              <a:t>SOC. ALEJANDRA TOLEDO VIERA</a:t>
            </a:r>
            <a:endParaRPr b="0" lang="en-US" sz="28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500" spc="-1" strike="noStrike">
                <a:solidFill>
                  <a:srgbClr val="006600"/>
                </a:solidFill>
                <a:latin typeface="Arial Black"/>
              </a:rPr>
              <a:t>      </a:t>
            </a:r>
            <a:endParaRPr b="0" lang="en-US" sz="15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6600"/>
                </a:solidFill>
                <a:latin typeface="Arial Black"/>
              </a:rPr>
              <a:t>atoledo@msp.gub.uy</a:t>
            </a:r>
            <a:endParaRPr b="0" lang="en-US" sz="28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Black"/>
            </a:endParaRPr>
          </a:p>
        </p:txBody>
      </p:sp>
      <p:pic>
        <p:nvPicPr>
          <p:cNvPr id="1470" name="Picture 10" descr="http://upload.wikimedia.org/wikipedia/commons/thumb/a/a6/Mate_en_calabaza.jpg/251px-Mate_en_calabaza.jpg"/>
          <p:cNvPicPr/>
          <p:nvPr/>
        </p:nvPicPr>
        <p:blipFill>
          <a:blip r:embed="rId2"/>
          <a:stretch/>
        </p:blipFill>
        <p:spPr>
          <a:xfrm>
            <a:off x="509760" y="4070520"/>
            <a:ext cx="185256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4" name="Group 2"/>
          <p:cNvGrpSpPr/>
          <p:nvPr/>
        </p:nvGrpSpPr>
        <p:grpSpPr>
          <a:xfrm>
            <a:off x="0" y="142920"/>
            <a:ext cx="9144000" cy="6715080"/>
            <a:chOff x="0" y="142920"/>
            <a:chExt cx="9144000" cy="6715080"/>
          </a:xfrm>
        </p:grpSpPr>
        <p:sp>
          <p:nvSpPr>
            <p:cNvPr id="1365" name="Rectangle 2"/>
            <p:cNvSpPr/>
            <p:nvPr/>
          </p:nvSpPr>
          <p:spPr>
            <a:xfrm rot="5400000">
              <a:off x="6320160" y="3399480"/>
              <a:ext cx="5256000" cy="730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t" anchorCtr="1" vert="eaVert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366" name="Rectangle 4"/>
            <p:cNvSpPr/>
            <p:nvPr/>
          </p:nvSpPr>
          <p:spPr>
            <a:xfrm flipV="1">
              <a:off x="250920" y="142560"/>
              <a:ext cx="7273800" cy="460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367" name="Rectangle 11"/>
            <p:cNvSpPr/>
            <p:nvPr/>
          </p:nvSpPr>
          <p:spPr>
            <a:xfrm>
              <a:off x="0" y="6692760"/>
              <a:ext cx="9144000" cy="1652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  <p:pic>
        <p:nvPicPr>
          <p:cNvPr id="1368" name="Picture 1" descr=""/>
          <p:cNvPicPr/>
          <p:nvPr/>
        </p:nvPicPr>
        <p:blipFill>
          <a:blip r:embed="rId1"/>
          <a:stretch/>
        </p:blipFill>
        <p:spPr>
          <a:xfrm>
            <a:off x="7885080" y="90360"/>
            <a:ext cx="936720" cy="559080"/>
          </a:xfrm>
          <a:prstGeom prst="rect">
            <a:avLst/>
          </a:prstGeom>
          <a:ln w="0">
            <a:noFill/>
          </a:ln>
        </p:spPr>
      </p:pic>
      <p:sp>
        <p:nvSpPr>
          <p:cNvPr id="1369" name="Rectangle 7"/>
          <p:cNvSpPr/>
          <p:nvPr/>
        </p:nvSpPr>
        <p:spPr>
          <a:xfrm>
            <a:off x="298080" y="406800"/>
            <a:ext cx="3277440" cy="4291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CONTEXTO NACIONAL</a:t>
            </a:r>
            <a:endParaRPr b="0" lang="en-US" sz="2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70" name="Text Box 8"/>
          <p:cNvSpPr/>
          <p:nvPr/>
        </p:nvSpPr>
        <p:spPr>
          <a:xfrm>
            <a:off x="5667480" y="4622760"/>
            <a:ext cx="28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Seguro Nacional 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de Salud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71" name="Rectangle 12"/>
          <p:cNvSpPr/>
          <p:nvPr/>
        </p:nvSpPr>
        <p:spPr>
          <a:xfrm>
            <a:off x="5637240" y="4498920"/>
            <a:ext cx="2908440" cy="97812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grpSp>
        <p:nvGrpSpPr>
          <p:cNvPr id="1372" name="Group 30"/>
          <p:cNvGrpSpPr/>
          <p:nvPr/>
        </p:nvGrpSpPr>
        <p:grpSpPr>
          <a:xfrm>
            <a:off x="108000" y="2004840"/>
            <a:ext cx="8496360" cy="3872160"/>
            <a:chOff x="108000" y="2004840"/>
            <a:chExt cx="8496360" cy="3872160"/>
          </a:xfrm>
        </p:grpSpPr>
        <p:sp>
          <p:nvSpPr>
            <p:cNvPr id="1373" name="Text Box 7"/>
            <p:cNvSpPr/>
            <p:nvPr/>
          </p:nvSpPr>
          <p:spPr>
            <a:xfrm>
              <a:off x="5388120" y="2558880"/>
              <a:ext cx="320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</a:rPr>
                <a:t>SISTEMA NACIONAL INTEGRADO DE SALUD</a:t>
              </a:r>
              <a:endParaRPr b="0" lang="en-US" sz="20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374" name="Rectangle 13"/>
            <p:cNvSpPr/>
            <p:nvPr/>
          </p:nvSpPr>
          <p:spPr>
            <a:xfrm>
              <a:off x="5367240" y="2463840"/>
              <a:ext cx="3237120" cy="919080"/>
            </a:xfrm>
            <a:prstGeom prst="rect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375" name="Line 14"/>
            <p:cNvSpPr/>
            <p:nvPr/>
          </p:nvSpPr>
          <p:spPr>
            <a:xfrm flipV="1">
              <a:off x="6850080" y="3449160"/>
              <a:ext cx="1440" cy="9176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376" name="Line 15"/>
            <p:cNvSpPr/>
            <p:nvPr/>
          </p:nvSpPr>
          <p:spPr>
            <a:xfrm flipV="1">
              <a:off x="7107120" y="3514320"/>
              <a:ext cx="1800" cy="9176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grpSp>
          <p:nvGrpSpPr>
            <p:cNvPr id="1377" name="Group 29"/>
            <p:cNvGrpSpPr/>
            <p:nvPr/>
          </p:nvGrpSpPr>
          <p:grpSpPr>
            <a:xfrm>
              <a:off x="108000" y="2004840"/>
              <a:ext cx="5405400" cy="3872160"/>
              <a:chOff x="108000" y="2004840"/>
              <a:chExt cx="5405400" cy="3872160"/>
            </a:xfrm>
          </p:grpSpPr>
          <p:sp>
            <p:nvSpPr>
              <p:cNvPr id="1378" name="Text Box 4"/>
              <p:cNvSpPr/>
              <p:nvPr/>
            </p:nvSpPr>
            <p:spPr>
              <a:xfrm>
                <a:off x="108000" y="2190600"/>
                <a:ext cx="4451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66"/>
                    </a:solidFill>
                    <a:latin typeface="Arial"/>
                  </a:rPr>
                  <a:t>Cambio en el modelo </a:t>
                </a:r>
                <a:endParaRPr b="0" lang="en-US" sz="2000" spc="-1" strike="noStrike">
                  <a:solidFill>
                    <a:srgbClr val="cc3300"/>
                  </a:solidFill>
                  <a:latin typeface="Arial Blac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66"/>
                    </a:solidFill>
                    <a:latin typeface="Arial"/>
                  </a:rPr>
                  <a:t>de atención</a:t>
                </a:r>
                <a:endParaRPr b="0" lang="en-US" sz="20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79" name="Text Box 5"/>
              <p:cNvSpPr/>
              <p:nvPr/>
            </p:nvSpPr>
            <p:spPr>
              <a:xfrm>
                <a:off x="108000" y="3530520"/>
                <a:ext cx="4451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66"/>
                    </a:solidFill>
                    <a:latin typeface="Arial"/>
                  </a:rPr>
                  <a:t>Cambio en el modelo </a:t>
                </a:r>
                <a:endParaRPr b="0" lang="en-US" sz="2000" spc="-1" strike="noStrike">
                  <a:solidFill>
                    <a:srgbClr val="cc3300"/>
                  </a:solidFill>
                  <a:latin typeface="Arial Blac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66"/>
                    </a:solidFill>
                    <a:latin typeface="Arial"/>
                  </a:rPr>
                  <a:t>de gestión</a:t>
                </a:r>
                <a:endParaRPr b="0" lang="en-US" sz="20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80" name="Line 2"/>
              <p:cNvSpPr/>
              <p:nvPr/>
            </p:nvSpPr>
            <p:spPr>
              <a:xfrm>
                <a:off x="3882960" y="2752560"/>
                <a:ext cx="1416240" cy="90828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81" name="Text Box 6"/>
              <p:cNvSpPr/>
              <p:nvPr/>
            </p:nvSpPr>
            <p:spPr>
              <a:xfrm>
                <a:off x="174600" y="4889520"/>
                <a:ext cx="4451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66"/>
                    </a:solidFill>
                    <a:latin typeface="Arial"/>
                  </a:rPr>
                  <a:t>Cambio en el modelo </a:t>
                </a:r>
                <a:endParaRPr b="0" lang="en-US" sz="2000" spc="-1" strike="noStrike">
                  <a:solidFill>
                    <a:srgbClr val="cc3300"/>
                  </a:solidFill>
                  <a:latin typeface="Arial Blac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66"/>
                    </a:solidFill>
                    <a:latin typeface="Arial"/>
                  </a:rPr>
                  <a:t>de financiamiento</a:t>
                </a:r>
                <a:endParaRPr b="0" lang="en-US" sz="20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82" name="Oval 9"/>
              <p:cNvSpPr/>
              <p:nvPr/>
            </p:nvSpPr>
            <p:spPr>
              <a:xfrm>
                <a:off x="579600" y="4629240"/>
                <a:ext cx="3639960" cy="1247760"/>
              </a:xfrm>
              <a:prstGeom prst="ellipse">
                <a:avLst/>
              </a:prstGeom>
              <a:noFill/>
              <a:ln w="572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83" name="Oval 10"/>
              <p:cNvSpPr/>
              <p:nvPr/>
            </p:nvSpPr>
            <p:spPr>
              <a:xfrm>
                <a:off x="579600" y="3317760"/>
                <a:ext cx="3439800" cy="1049400"/>
              </a:xfrm>
              <a:prstGeom prst="ellipse">
                <a:avLst/>
              </a:prstGeom>
              <a:noFill/>
              <a:ln w="572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84" name="Oval 11"/>
              <p:cNvSpPr/>
              <p:nvPr/>
            </p:nvSpPr>
            <p:spPr>
              <a:xfrm>
                <a:off x="646200" y="2004840"/>
                <a:ext cx="3371760" cy="1049400"/>
              </a:xfrm>
              <a:prstGeom prst="ellipse">
                <a:avLst/>
              </a:prstGeom>
              <a:noFill/>
              <a:ln w="572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85" name="Line 16"/>
              <p:cNvSpPr/>
              <p:nvPr/>
            </p:nvSpPr>
            <p:spPr>
              <a:xfrm>
                <a:off x="4030560" y="3822840"/>
                <a:ext cx="1482840" cy="270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86" name="Line 17"/>
              <p:cNvSpPr/>
              <p:nvPr/>
            </p:nvSpPr>
            <p:spPr>
              <a:xfrm flipV="1">
                <a:off x="4192560" y="4054320"/>
                <a:ext cx="1039680" cy="10764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</p:grpSp>
      </p:grpSp>
      <p:sp>
        <p:nvSpPr>
          <p:cNvPr id="1387" name="Rectangle 8"/>
          <p:cNvSpPr/>
          <p:nvPr/>
        </p:nvSpPr>
        <p:spPr>
          <a:xfrm>
            <a:off x="250920" y="1094040"/>
            <a:ext cx="770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9933"/>
                </a:solidFill>
                <a:latin typeface="Arial"/>
              </a:rPr>
              <a:t>Estrategia de la Reforma de la Salud (2005):</a:t>
            </a:r>
            <a:endParaRPr b="0" lang="en-US" sz="22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8" name="Picture 1" descr=""/>
          <p:cNvPicPr/>
          <p:nvPr/>
        </p:nvPicPr>
        <p:blipFill>
          <a:blip r:embed="rId1"/>
          <a:stretch/>
        </p:blipFill>
        <p:spPr>
          <a:xfrm>
            <a:off x="7885080" y="90360"/>
            <a:ext cx="936720" cy="559080"/>
          </a:xfrm>
          <a:prstGeom prst="rect">
            <a:avLst/>
          </a:prstGeom>
          <a:ln w="0">
            <a:noFill/>
          </a:ln>
        </p:spPr>
      </p:pic>
      <p:sp>
        <p:nvSpPr>
          <p:cNvPr id="1389" name="Rectangle 7"/>
          <p:cNvSpPr/>
          <p:nvPr/>
        </p:nvSpPr>
        <p:spPr>
          <a:xfrm>
            <a:off x="284400" y="424440"/>
            <a:ext cx="4563720" cy="4291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DERECHOS SOCIALES Y SALUD</a:t>
            </a:r>
            <a:endParaRPr b="0" lang="en-US" sz="2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90" name="Rectangle 8"/>
          <p:cNvSpPr/>
          <p:nvPr/>
        </p:nvSpPr>
        <p:spPr>
          <a:xfrm>
            <a:off x="283680" y="97380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33"/>
                </a:solidFill>
                <a:latin typeface="Arial"/>
              </a:rPr>
              <a:t>Principios y valores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91" name="Rectangle 9"/>
          <p:cNvSpPr/>
          <p:nvPr/>
        </p:nvSpPr>
        <p:spPr>
          <a:xfrm>
            <a:off x="324000" y="1509480"/>
            <a:ext cx="858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La Constitución de la República (1966) establece en su artículo Nº 44:  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92" name="Rectangle 10"/>
          <p:cNvSpPr/>
          <p:nvPr/>
        </p:nvSpPr>
        <p:spPr>
          <a:xfrm>
            <a:off x="928800" y="2076480"/>
            <a:ext cx="7272360" cy="155412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i="1" lang="es-ES" sz="1600" spc="-1" strike="noStrike">
                <a:solidFill>
                  <a:srgbClr val="000066"/>
                </a:solidFill>
                <a:latin typeface="Arial"/>
              </a:rPr>
              <a:t>El Estado legislará en todas las cuestiones relacionadas con la salud e higiene públicas, procurando el perfeccionamiento físico, moral y social de todos los habitantes del país. Todos los habitantes tienen el </a:t>
            </a:r>
            <a:r>
              <a:rPr b="1" i="1" lang="es-ES" sz="1600" spc="-1" strike="noStrike">
                <a:solidFill>
                  <a:srgbClr val="c00000"/>
                </a:solidFill>
                <a:latin typeface="Arial"/>
              </a:rPr>
              <a:t>deber</a:t>
            </a:r>
            <a:r>
              <a:rPr b="0" i="1" lang="es-ES" sz="1600" spc="-1" strike="noStrike">
                <a:solidFill>
                  <a:srgbClr val="000066"/>
                </a:solidFill>
                <a:latin typeface="Arial"/>
              </a:rPr>
              <a:t> de cuidar su salud, así como el de asistirse en caso de enfermedad. El Estado proporcionará gratuitamente los medios de prevención y de asistencia tan sólo a los indigentes o carentes de recursos suficientes”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93" name="Rectangle 13"/>
          <p:cNvSpPr/>
          <p:nvPr/>
        </p:nvSpPr>
        <p:spPr>
          <a:xfrm>
            <a:off x="279360" y="3960000"/>
            <a:ext cx="839628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Los principios que rigen en la actualidad al Sistema de Salud se encuentran plasmados en la </a:t>
            </a:r>
            <a:r>
              <a:rPr b="1" i="1" lang="es-ES" sz="1600" spc="-1" strike="noStrike">
                <a:solidFill>
                  <a:srgbClr val="000066"/>
                </a:solidFill>
                <a:latin typeface="Arial"/>
              </a:rPr>
              <a:t>Ley 18.211 de Creación del Sistema Nacional Integrado de Salud </a:t>
            </a: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(2008)</a:t>
            </a:r>
            <a:r>
              <a:rPr b="1" i="1" lang="es-ES" sz="16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Su artículo Nº 1 establece: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94" name="Rectangle 15"/>
          <p:cNvSpPr/>
          <p:nvPr/>
        </p:nvSpPr>
        <p:spPr>
          <a:xfrm>
            <a:off x="928800" y="5054760"/>
            <a:ext cx="7272360" cy="10674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i="1" lang="es-ES" sz="1600" spc="-1" strike="noStrike">
                <a:solidFill>
                  <a:srgbClr val="000066"/>
                </a:solidFill>
                <a:latin typeface="Arial"/>
              </a:rPr>
              <a:t>La presente ley reglamenta el </a:t>
            </a:r>
            <a:r>
              <a:rPr b="1" i="1" lang="es-ES" sz="1600" spc="-1" strike="noStrike">
                <a:solidFill>
                  <a:srgbClr val="c00000"/>
                </a:solidFill>
                <a:latin typeface="Arial"/>
              </a:rPr>
              <a:t>DERECHO</a:t>
            </a:r>
            <a:r>
              <a:rPr b="0" i="1" lang="es-E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s-ES" sz="1600" spc="-1" strike="noStrike">
                <a:solidFill>
                  <a:srgbClr val="000066"/>
                </a:solidFill>
                <a:latin typeface="Arial"/>
              </a:rPr>
              <a:t>a la protección de la salud que tienen todos los habitantes residentes en el país y establece las modalidades para su acceso a servicios integrales de salud. Sus disposiciones son de orden público e interés social.”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</p:txBody>
      </p:sp>
      <p:grpSp>
        <p:nvGrpSpPr>
          <p:cNvPr id="1395" name="Group 9"/>
          <p:cNvGrpSpPr/>
          <p:nvPr/>
        </p:nvGrpSpPr>
        <p:grpSpPr>
          <a:xfrm>
            <a:off x="0" y="142920"/>
            <a:ext cx="9144000" cy="6715080"/>
            <a:chOff x="0" y="142920"/>
            <a:chExt cx="9144000" cy="6715080"/>
          </a:xfrm>
        </p:grpSpPr>
        <p:sp>
          <p:nvSpPr>
            <p:cNvPr id="1396" name="Rectangle 2"/>
            <p:cNvSpPr/>
            <p:nvPr/>
          </p:nvSpPr>
          <p:spPr>
            <a:xfrm rot="5400000">
              <a:off x="6320160" y="3399480"/>
              <a:ext cx="5256000" cy="730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t" anchorCtr="1" vert="eaVert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397" name="Rectangle 4"/>
            <p:cNvSpPr/>
            <p:nvPr/>
          </p:nvSpPr>
          <p:spPr>
            <a:xfrm flipV="1">
              <a:off x="250920" y="142560"/>
              <a:ext cx="7273800" cy="460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398" name="Rectangle 11"/>
            <p:cNvSpPr/>
            <p:nvPr/>
          </p:nvSpPr>
          <p:spPr>
            <a:xfrm>
              <a:off x="0" y="6692760"/>
              <a:ext cx="9144000" cy="16524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Text Box 1"/>
          <p:cNvSpPr/>
          <p:nvPr/>
        </p:nvSpPr>
        <p:spPr>
          <a:xfrm>
            <a:off x="469800" y="3595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00" name="Text Box 5"/>
          <p:cNvSpPr/>
          <p:nvPr/>
        </p:nvSpPr>
        <p:spPr>
          <a:xfrm>
            <a:off x="333360" y="2057400"/>
            <a:ext cx="84297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c3300"/>
                </a:solidFill>
                <a:uFillTx/>
                <a:latin typeface="Berlin Sans FB"/>
              </a:rPr>
              <a:t>Garantizar las condiciones</a:t>
            </a:r>
            <a:r>
              <a:rPr b="0" lang="es-ES" sz="4000" spc="-1" strike="noStrike">
                <a:solidFill>
                  <a:srgbClr val="cc3300"/>
                </a:solidFill>
                <a:latin typeface="Berlin Sans FB"/>
              </a:rPr>
              <a:t> para que las personas alcancen el más alto nivel posible de bienestar físico, mental y social, sin distinción de raza, religión, ideología política o condición económica o social.</a:t>
            </a: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01" name="Text Box 6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SALUD COMO DERECHO HUMANO</a:t>
            </a:r>
            <a:endParaRPr b="0" lang="en-US" sz="36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2" name="Group 11"/>
          <p:cNvGrpSpPr/>
          <p:nvPr/>
        </p:nvGrpSpPr>
        <p:grpSpPr>
          <a:xfrm>
            <a:off x="2085840" y="838080"/>
            <a:ext cx="4952880" cy="1371600"/>
            <a:chOff x="2085840" y="838080"/>
            <a:chExt cx="4952880" cy="1371600"/>
          </a:xfrm>
        </p:grpSpPr>
        <p:sp>
          <p:nvSpPr>
            <p:cNvPr id="1403" name="AutoShape 7"/>
            <p:cNvSpPr/>
            <p:nvPr/>
          </p:nvSpPr>
          <p:spPr>
            <a:xfrm>
              <a:off x="6124320" y="838080"/>
              <a:ext cx="914400" cy="1371600"/>
            </a:xfrm>
            <a:prstGeom prst="downArrow">
              <a:avLst>
                <a:gd name="adj1" fmla="val 50000"/>
                <a:gd name="adj2" fmla="val 37500"/>
              </a:avLst>
            </a:prstGeom>
            <a:solidFill>
              <a:srgbClr val="00cc00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04" name="AutoShape 8"/>
            <p:cNvSpPr/>
            <p:nvPr/>
          </p:nvSpPr>
          <p:spPr>
            <a:xfrm>
              <a:off x="2085840" y="838080"/>
              <a:ext cx="914400" cy="1371600"/>
            </a:xfrm>
            <a:prstGeom prst="downArrow">
              <a:avLst>
                <a:gd name="adj1" fmla="val 50000"/>
                <a:gd name="adj2" fmla="val 37500"/>
              </a:avLst>
            </a:prstGeom>
            <a:solidFill>
              <a:srgbClr val="00cc00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  <p:sp>
        <p:nvSpPr>
          <p:cNvPr id="1405" name="Text Box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¿QUÉ CONDICIONES?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grpSp>
        <p:nvGrpSpPr>
          <p:cNvPr id="1406" name="Group 24"/>
          <p:cNvGrpSpPr/>
          <p:nvPr/>
        </p:nvGrpSpPr>
        <p:grpSpPr>
          <a:xfrm>
            <a:off x="428760" y="2500200"/>
            <a:ext cx="4190760" cy="4091040"/>
            <a:chOff x="428760" y="2500200"/>
            <a:chExt cx="4190760" cy="4091040"/>
          </a:xfrm>
        </p:grpSpPr>
        <p:sp>
          <p:nvSpPr>
            <p:cNvPr id="1407" name="Text Box 5"/>
            <p:cNvSpPr/>
            <p:nvPr/>
          </p:nvSpPr>
          <p:spPr>
            <a:xfrm>
              <a:off x="428760" y="2500200"/>
              <a:ext cx="419076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cc00"/>
                  </a:solidFill>
                  <a:latin typeface="Arial Black"/>
                </a:rPr>
                <a:t>DETERMINANTES SOCIALES</a:t>
              </a: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pic>
          <p:nvPicPr>
            <p:cNvPr id="1408" name="Picture 23" descr="ANd9GcRzsQDDApUeeVaTuDb-dZNL0wYA7DQBjnnXv9GKtNlyE3mBpDN4uliKfDAJ1A"/>
            <p:cNvPicPr/>
            <p:nvPr/>
          </p:nvPicPr>
          <p:blipFill>
            <a:blip r:embed="rId1"/>
            <a:stretch/>
          </p:blipFill>
          <p:spPr>
            <a:xfrm>
              <a:off x="900000" y="3581280"/>
              <a:ext cx="3276720" cy="300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9" name="Group 27"/>
          <p:cNvGrpSpPr/>
          <p:nvPr/>
        </p:nvGrpSpPr>
        <p:grpSpPr>
          <a:xfrm>
            <a:off x="4624560" y="2514600"/>
            <a:ext cx="4343400" cy="4253040"/>
            <a:chOff x="4624560" y="2514600"/>
            <a:chExt cx="4343400" cy="4253040"/>
          </a:xfrm>
        </p:grpSpPr>
        <p:sp>
          <p:nvSpPr>
            <p:cNvPr id="1410" name="Text Box 5"/>
            <p:cNvSpPr/>
            <p:nvPr/>
          </p:nvSpPr>
          <p:spPr>
            <a:xfrm>
              <a:off x="5091120" y="2514600"/>
              <a:ext cx="297180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cc00"/>
                  </a:solidFill>
                  <a:latin typeface="Arial Black"/>
                </a:rPr>
                <a:t>ATENCIÓN A LA SALUD</a:t>
              </a: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pic>
          <p:nvPicPr>
            <p:cNvPr id="1411" name="Picture 26" descr="ANd9GcR5Tgue6OlRb6qwuHkXUNNXxMGI4NwKM5FfdEvmX6PXYrFfoHSieUMCeUIPXg"/>
            <p:cNvPicPr/>
            <p:nvPr/>
          </p:nvPicPr>
          <p:blipFill>
            <a:blip r:embed="rId2"/>
            <a:stretch/>
          </p:blipFill>
          <p:spPr>
            <a:xfrm>
              <a:off x="4624560" y="3514680"/>
              <a:ext cx="4343400" cy="325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Text Box 1"/>
          <p:cNvSpPr/>
          <p:nvPr/>
        </p:nvSpPr>
        <p:spPr>
          <a:xfrm>
            <a:off x="469800" y="3595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13" name="Text Box 5"/>
          <p:cNvSpPr/>
          <p:nvPr/>
        </p:nvSpPr>
        <p:spPr>
          <a:xfrm>
            <a:off x="333360" y="2057400"/>
            <a:ext cx="84297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3300"/>
                </a:solidFill>
                <a:latin typeface="Berlin Sans FB"/>
              </a:rPr>
              <a:t>Garantizar las condiciones para que las personas alcancen el más alto nivel posible de bienestar físico, mental y social, </a:t>
            </a:r>
            <a:r>
              <a:rPr b="0" lang="es-ES" sz="4000" spc="-1" strike="noStrike" u="sng">
                <a:solidFill>
                  <a:srgbClr val="cc3300"/>
                </a:solidFill>
                <a:uFillTx/>
                <a:latin typeface="Berlin Sans FB"/>
              </a:rPr>
              <a:t>sin distinción de raza, religión, ideología política o condición económica o social</a:t>
            </a:r>
            <a:r>
              <a:rPr b="0" lang="es-ES" sz="4000" spc="-1" strike="noStrike">
                <a:solidFill>
                  <a:srgbClr val="cc3300"/>
                </a:solidFill>
                <a:latin typeface="Berlin Sans FB"/>
              </a:rPr>
              <a:t>.</a:t>
            </a: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14" name="Text Box 6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SALUD COMO DERECHO HUMANO</a:t>
            </a:r>
            <a:endParaRPr b="0" lang="en-US" sz="36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Rectangle 32"/>
          <p:cNvSpPr/>
          <p:nvPr/>
        </p:nvSpPr>
        <p:spPr>
          <a:xfrm>
            <a:off x="5319720" y="2251800"/>
            <a:ext cx="37339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6600"/>
                </a:solidFill>
                <a:latin typeface="Berlin Sans FB Demi"/>
                <a:ea typeface="Times New Roman"/>
              </a:rPr>
              <a:t>“</a:t>
            </a:r>
            <a:r>
              <a:rPr b="1" lang="es-ES" sz="2600" spc="-1" strike="noStrike">
                <a:solidFill>
                  <a:srgbClr val="ff6600"/>
                </a:solidFill>
                <a:latin typeface="Berlin Sans FB Demi"/>
                <a:ea typeface="Times New Roman"/>
              </a:rPr>
              <a:t>...(evitar las) diferencias injustas o remediables en salud entre grupos de población definidos social, económica, demográfica o geográficamente”*</a:t>
            </a:r>
            <a:endParaRPr b="0" lang="en-US" sz="26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16" name="Rectangle 34"/>
          <p:cNvSpPr/>
          <p:nvPr/>
        </p:nvSpPr>
        <p:spPr>
          <a:xfrm>
            <a:off x="2160000" y="6461640"/>
            <a:ext cx="70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baseline="30000">
                <a:solidFill>
                  <a:srgbClr val="ff6600"/>
                </a:solidFill>
                <a:latin typeface="Berlin Sans FB Demi"/>
                <a:ea typeface="Times New Roman"/>
              </a:rPr>
              <a:t>*</a:t>
            </a:r>
            <a:r>
              <a:rPr b="1" lang="es-ES" sz="1400" spc="-1" strike="noStrike">
                <a:solidFill>
                  <a:srgbClr val="ff6600"/>
                </a:solidFill>
                <a:latin typeface="Berlin Sans FB Demi"/>
                <a:ea typeface="Times New Roman"/>
              </a:rPr>
              <a:t> Departamento de Ética, Equidad, Comercio y Derechos Humanos de la OMS. </a:t>
            </a:r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  <p:pic>
        <p:nvPicPr>
          <p:cNvPr id="1417" name="Picture 9" descr=""/>
          <p:cNvPicPr/>
          <p:nvPr/>
        </p:nvPicPr>
        <p:blipFill>
          <a:blip r:embed="rId1"/>
          <a:srcRect l="5498" t="0" r="4695" b="2374"/>
          <a:stretch/>
        </p:blipFill>
        <p:spPr>
          <a:xfrm rot="20370000">
            <a:off x="-228240" y="1904760"/>
            <a:ext cx="5257800" cy="3862440"/>
          </a:xfrm>
          <a:prstGeom prst="rect">
            <a:avLst/>
          </a:prstGeom>
          <a:ln w="0">
            <a:noFill/>
          </a:ln>
        </p:spPr>
      </p:pic>
      <p:sp>
        <p:nvSpPr>
          <p:cNvPr id="1418" name="Text Box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EQUIDAD EN SALUD</a:t>
            </a:r>
            <a:endParaRPr b="0" lang="en-US" sz="36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Text Box 1"/>
          <p:cNvSpPr/>
          <p:nvPr/>
        </p:nvSpPr>
        <p:spPr>
          <a:xfrm>
            <a:off x="434880" y="35193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</p:txBody>
      </p:sp>
      <p:grpSp>
        <p:nvGrpSpPr>
          <p:cNvPr id="1420" name="Group 2"/>
          <p:cNvGrpSpPr/>
          <p:nvPr/>
        </p:nvGrpSpPr>
        <p:grpSpPr>
          <a:xfrm>
            <a:off x="0" y="142920"/>
            <a:ext cx="9144000" cy="6715080"/>
            <a:chOff x="0" y="142920"/>
            <a:chExt cx="9144000" cy="6715080"/>
          </a:xfrm>
        </p:grpSpPr>
        <p:sp>
          <p:nvSpPr>
            <p:cNvPr id="1421" name="Rectangle 2"/>
            <p:cNvSpPr/>
            <p:nvPr/>
          </p:nvSpPr>
          <p:spPr>
            <a:xfrm rot="5400000">
              <a:off x="6320160" y="3399480"/>
              <a:ext cx="5256000" cy="730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t" anchorCtr="1" vert="eaVert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22" name="Rectangle 4"/>
            <p:cNvSpPr/>
            <p:nvPr/>
          </p:nvSpPr>
          <p:spPr>
            <a:xfrm flipV="1">
              <a:off x="250920" y="142560"/>
              <a:ext cx="7273800" cy="460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23" name="Rectangle 11"/>
            <p:cNvSpPr/>
            <p:nvPr/>
          </p:nvSpPr>
          <p:spPr>
            <a:xfrm>
              <a:off x="0" y="6692760"/>
              <a:ext cx="9144000" cy="1652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  <p:sp>
        <p:nvSpPr>
          <p:cNvPr id="1424" name="Rectangle 7"/>
          <p:cNvSpPr/>
          <p:nvPr/>
        </p:nvSpPr>
        <p:spPr>
          <a:xfrm>
            <a:off x="396720" y="460080"/>
            <a:ext cx="8255160" cy="7642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 Rounded MT Bold"/>
              </a:rPr>
              <a:t>AVANZAR HACIA UNA POLÍTICA DE SALUD PÚBLICA ORIENTADA A LA EQUIDAD Y LA ACCIÓN  SOBRE LOS DSS</a:t>
            </a:r>
            <a:endParaRPr b="0" lang="en-US" sz="2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25" name="Rectangle 9"/>
          <p:cNvSpPr/>
          <p:nvPr/>
        </p:nvSpPr>
        <p:spPr>
          <a:xfrm>
            <a:off x="345960" y="1452600"/>
            <a:ext cx="822960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1645"/>
                </a:solidFill>
                <a:latin typeface="Arial Rounded MT Bold"/>
              </a:rPr>
              <a:t>INCORPORAR LA EQUIDAD Y LOS DSS EN LA PRODUCCIÓN DE INFORMACIÓN DEL MSP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1645"/>
                </a:solidFill>
                <a:latin typeface="Arial Rounded MT Bold"/>
              </a:rPr>
              <a:t>REORIENTACIÓN DE LOS PROGRAMAS DE SALUD PÚBLICA HACIA LA REDUCCIÓN DE LAS INEQUIDADES EN SALUD Y LA ACCIÓN SOBRE LOS DSS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1645"/>
                </a:solidFill>
                <a:latin typeface="Arial Rounded MT Bold"/>
              </a:rPr>
              <a:t>REORIENTACIÓN DE LOS PRESTADORES DE SALUD DEL SNIS HACIA LA REDUCCIÓN DE LAS INEQUIDADES EN SALUD Y LA ACCIÓN SOBRE LOS DSS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1645"/>
                </a:solidFill>
                <a:latin typeface="Arial Rounded MT Bold"/>
              </a:rPr>
              <a:t>INCORPORAR LA EQUIDAD EN SALUD EN LA DEFINICIÓN DE OBJETIVOS SANITARIOS Y DE SALUD. 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26" name="Rectangle 34"/>
          <p:cNvSpPr/>
          <p:nvPr/>
        </p:nvSpPr>
        <p:spPr>
          <a:xfrm>
            <a:off x="469800" y="2240640"/>
            <a:ext cx="821700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3300"/>
                </a:solidFill>
                <a:latin typeface="Berlin Sans FB Demi"/>
                <a:ea typeface="Times New Roman"/>
              </a:rPr>
              <a:t>Construcción de un Sistema de Vigilancia de la Equidad en Salud</a:t>
            </a:r>
            <a:endParaRPr b="0" lang="en-US" sz="22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1"/>
          <p:cNvSpPr/>
          <p:nvPr/>
        </p:nvSpPr>
        <p:spPr>
          <a:xfrm>
            <a:off x="469800" y="3595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28" name="Text Box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 Black"/>
              </a:rPr>
              <a:t>SISTEMA DE VIGILANCIA DE                               LA EQUIDAD EN SALUD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29" name="Text Box 4"/>
          <p:cNvSpPr/>
          <p:nvPr/>
        </p:nvSpPr>
        <p:spPr>
          <a:xfrm>
            <a:off x="380880" y="1752480"/>
            <a:ext cx="7543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Rounded MT Bold"/>
              </a:rPr>
              <a:t>OBJETIVO:</a:t>
            </a:r>
            <a:endParaRPr b="0" lang="en-US" sz="2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30" name="Rectangle 9"/>
          <p:cNvSpPr/>
          <p:nvPr/>
        </p:nvSpPr>
        <p:spPr>
          <a:xfrm>
            <a:off x="560520" y="2590920"/>
            <a:ext cx="8034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000" spc="-1" strike="noStrike">
                <a:solidFill>
                  <a:srgbClr val="161645"/>
                </a:solidFill>
                <a:latin typeface="Arial Rounded MT Bold"/>
              </a:rPr>
              <a:t>Dar visibilidad a las desigualdades en salud producidas socialmente- por ende, injustas y evitables- y a su contexto de producción, es decir, la forma de estratificación vigente, las brechas de poder, recursos y prestigio en la que se sustenta.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uario</cp:lastModifiedBy>
  <dcterms:modified xsi:type="dcterms:W3CDTF">2013-01-11T01:23:34Z</dcterms:modified>
  <cp:revision>1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