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23.jpeg" ContentType="image/jpeg"/>
  <Override PartName="/ppt/media/image2.jpeg" ContentType="image/jpeg"/>
  <Override PartName="/ppt/media/image4.jpeg" ContentType="image/jpeg"/>
  <Override PartName="/ppt/media/image25.jpeg" ContentType="image/jpeg"/>
  <Override PartName="/ppt/media/image24.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544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543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rebuchet MS"/>
            </a:endParaRPr>
          </a:p>
        </p:txBody>
      </p:sp>
      <p:sp>
        <p:nvSpPr>
          <p:cNvPr id="42" name="PlaceHolder 1"/>
          <p:cNvSpPr>
            <a:spLocks noGrp="1"/>
          </p:cNvSpPr>
          <p:nvPr>
            <p:ph type="hdr"/>
          </p:nvPr>
        </p:nvSpPr>
        <p:spPr>
          <a:xfrm>
            <a:off x="-360" y="-360"/>
            <a:ext cx="2971800" cy="4777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3" name="PlaceHolder 2"/>
          <p:cNvSpPr>
            <a:spLocks noGrp="1"/>
          </p:cNvSpPr>
          <p:nvPr>
            <p:ph type="dt" idx="4"/>
          </p:nvPr>
        </p:nvSpPr>
        <p:spPr>
          <a:xfrm>
            <a:off x="3885840" y="-360"/>
            <a:ext cx="2971800" cy="4777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4" name="PlaceHolder 3"/>
          <p:cNvSpPr>
            <a:spLocks noGrp="1"/>
          </p:cNvSpPr>
          <p:nvPr>
            <p:ph type="sldImg"/>
          </p:nvPr>
        </p:nvSpPr>
        <p:spPr>
          <a:xfrm>
            <a:off x="1050840" y="721800"/>
            <a:ext cx="4756320" cy="3567240"/>
          </a:xfrm>
          <a:prstGeom prst="rect">
            <a:avLst/>
          </a:prstGeom>
          <a:noFill/>
          <a:ln w="12600">
            <a:solidFill>
              <a:srgbClr val="000000"/>
            </a:solidFill>
            <a:miter/>
          </a:ln>
        </p:spPr>
        <p:txBody>
          <a:bodyPr lIns="90000" rIns="90000" tIns="46800" bIns="468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532400"/>
            <a:ext cx="5029200" cy="42955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065880"/>
            <a:ext cx="2971800" cy="47772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7" name="PlaceHolder 6"/>
          <p:cNvSpPr>
            <a:spLocks noGrp="1"/>
          </p:cNvSpPr>
          <p:nvPr>
            <p:ph type="sldNum" idx="6"/>
          </p:nvPr>
        </p:nvSpPr>
        <p:spPr>
          <a:xfrm>
            <a:off x="3885840" y="9065880"/>
            <a:ext cx="2971800" cy="477720"/>
          </a:xfrm>
          <a:prstGeom prst="rect">
            <a:avLst/>
          </a:prstGeom>
          <a:noFill/>
          <a:ln w="0">
            <a:noFill/>
          </a:ln>
        </p:spPr>
        <p:txBody>
          <a:bodyPr lIns="19080" rIns="19080" tIns="0" bIns="0" anchor="b">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s-ES_tradnl" sz="1000" spc="-1" strike="noStrike">
                <a:solidFill>
                  <a:srgbClr val="000000"/>
                </a:solidFill>
                <a:latin typeface="Times New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49C97BE-4645-4A6A-B6E3-D5D1AB2DA652}"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16.xml"/><Relationship Id="rId4"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9066240"/>
            <a:ext cx="2971800" cy="477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478E096-3F1C-4AAE-AE71-9E4F90315EFA}"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
        <p:nvSpPr>
          <p:cNvPr id="170" name="PlaceHolder 1"/>
          <p:cNvSpPr>
            <a:spLocks noGrp="1"/>
          </p:cNvSpPr>
          <p:nvPr>
            <p:ph type="sldImg"/>
          </p:nvPr>
        </p:nvSpPr>
        <p:spPr>
          <a:xfrm>
            <a:off x="1050840" y="722160"/>
            <a:ext cx="4756320" cy="3567240"/>
          </a:xfrm>
          <a:prstGeom prst="rect">
            <a:avLst/>
          </a:prstGeom>
          <a:ln w="0">
            <a:noFill/>
          </a:ln>
        </p:spPr>
      </p:sp>
      <p:sp>
        <p:nvSpPr>
          <p:cNvPr id="171" name="PlaceHolder 2"/>
          <p:cNvSpPr>
            <a:spLocks noGrp="1"/>
          </p:cNvSpPr>
          <p:nvPr>
            <p:ph type="body"/>
          </p:nvPr>
        </p:nvSpPr>
        <p:spPr>
          <a:xfrm>
            <a:off x="914400" y="4532400"/>
            <a:ext cx="5029200" cy="429552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9066240"/>
            <a:ext cx="2971800" cy="477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90D6A69-C615-4EF2-A9A9-6FB22A2757E9}"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
        <p:nvSpPr>
          <p:cNvPr id="197" name="PlaceHolder 1"/>
          <p:cNvSpPr>
            <a:spLocks noGrp="1"/>
          </p:cNvSpPr>
          <p:nvPr>
            <p:ph type="sldImg"/>
          </p:nvPr>
        </p:nvSpPr>
        <p:spPr>
          <a:xfrm>
            <a:off x="1044720" y="716040"/>
            <a:ext cx="4770360" cy="3578040"/>
          </a:xfrm>
          <a:prstGeom prst="rect">
            <a:avLst/>
          </a:prstGeom>
          <a:ln w="0">
            <a:noFill/>
          </a:ln>
        </p:spPr>
      </p:sp>
      <p:sp>
        <p:nvSpPr>
          <p:cNvPr id="198" name="PlaceHolder 2"/>
          <p:cNvSpPr>
            <a:spLocks noGrp="1"/>
          </p:cNvSpPr>
          <p:nvPr>
            <p:ph type="body"/>
          </p:nvPr>
        </p:nvSpPr>
        <p:spPr>
          <a:xfrm>
            <a:off x="685800" y="4533480"/>
            <a:ext cx="5486400" cy="239868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Seguridad Ciudada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Río Negr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l Instituto para la Gestión -IPG- asumió el rol de asistencia técnica y formación con énfasis en los procesos de gestión participativos y el desarrollo en relación a los derechos humanos, seguridad humana, prevención de la inseguridad, problematización de la violencia doméstic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Fortalecimiento familiar, de beneficiarios a protagonista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Plat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onsiste en generar agentes de cambio que sean garantes de la elaboración, puesta en marcha, continuidad de acciones de promoción a la familia y así, influir en las políticas pública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prioridad es evitar la institucionalización de niñ@s y adolescentes y promover la participación activa de la comunidad. Las acciones de promoción y prevención posibilitaron que los niños y sus familias, asumiendo un protagonismo real, puedan defender y ejercer sus derecho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Funcionarios han incorporado el modelo de acogimiento en familia en contraposición a la internación y penalización de los niños por ser pobr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ograma Itinerante de Recreacion “A Marcha Camión” Construcción de espacios de protagonismo  y participación  ciudadana a partir del juego, el arte y la recreación.</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ontevideo - Uru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Durante los meses de  verano, los barrios marginales se involucran en propuestas recreativas, deportivas y expresivas para contener a niños y jóvenes, promoviendo la participación ciudadana y la apropiación de espacios y de usos creativos del tiempo libre en ámbitos esencialmente comunitarios.  Promoviendo, en un marco de convivencia, respeto y diversidad para que puedan incorporar valores a través del juego, recreación y el uso creativo del tiempo libre.</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ImaginArte: Fortalecimiento Nutricional y Desarrollo de Proyectos de Vid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ontevide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Difunden y promueven la defensa de los Derechos de niños, adolescentes y jóvene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 través del fortalecimiento nutricional: promoción de la lactancia materna, la inclusión de frutas y verduras en la dieta, incorporación adecuada de alimentos en los niños, alimentación durante el embarazo.  La promoción de proyectos de vida apoyando a las mujeres en el desarrollo de competencias y habilidades que mejoren su inserción social.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xtensionismo Jurídic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antiago – Chile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punta a elevar el nivel de la calidad de vida de la población mediante el ejercicio y exigibilidad de todos los derechos – entendiendo así  el acceso a la justici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mpodera a los actores sociales en el ejercicio de la resolución amigable de los conflictos comunitarios de diversa índole.  Para ello se preconiza permanentemente la formación y fortalecimiento de redes de colaboración entre organizaciones de la sociedad civil y la institucionalidad responsable de las políticas públicas y los programas social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Control ciudadano de la gestión públic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sunción - Para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l primer propósito de la Contraloría Ciudadana es hacer tomar conciencia a la ciudadanía que se deben exigir a los mandatarios que deben rendir cuenta y a consultar a los ciudadanos sobre sus actividades. Otro de los propósitos es hacer comprender a la ciudadanía que su participación debe ser efectiv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Ñemby – Desafiando a la crisi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Ñemby - Para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crisis política se superó evitando el revanchismo y acercando a los actores a una mesa de diálogo que consensuó una paz política, casi inédita en el paí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l mejoramiento integral de la municipalidad se enfocó en el incremento de las recaudaciones y tasas, a fin de invertirlos en obras y servicios e impulsar la transparencia y la participación ciudadana, La reorganización administrativa del municipio con una ágil estructura basada en direcciones; tributaria y financiera y social, incluyendo una coordinación de comisiones vecinales. Audiencias públicas de presupuesto, numerosas obras de infraestructura.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Junta Comunitaria de Seguridad Urba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habá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nte el incremento de robos en zona urbana y rural, tráfico de drogas e inseguridad en su conjunto, la comunidad se organiza a través de este órgano que se integra con un representante por cada institución local. De esta forma, Escuelas, Cooperadoras Escolares, Clubes, Asociación Centro Económico, Sindicatos, Cooperativas, Medios de Comunicación, etc.- realizan reuniones periódicamente con la Comuna y la Policía para resolver los problemas que aquejan a la comunidad</a:t>
            </a:r>
            <a:r>
              <a:rPr b="1" lang="es-ES" sz="800" spc="-1" strike="noStrike" u="sng">
                <a:solidFill>
                  <a:srgbClr val="000000"/>
                </a:solidFill>
                <a:uFillTx/>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l Municipio como inductor del Desarrollo Económic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Río Grande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odelo de gestión participativo, descentralizado y flexible, donde todos los actores que la componen, a nivel local, entes públicos, privados y técnicos, mas los actores asociados que representan a las diferentes esferas del estado nacional, tienen el mismo peso, a la hora de tomar decision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l espíritu de equipo sostiene la interdependencia de los poderes para el desarrollo económico loca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Concertación público-privada para el desarrollo económico loca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Pamp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Búsqueda de alternativas de financiamiento que privilegien lo endógeno del rol de los organismos público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dio inicio a un trabajo conjunto público-privado con características inéditas en la región y en el que el sector público local se comprometió al aporte de fondos para que el destino de los mismos sea decidido en forma conjunta con instituciones de la ciudad.</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esupuesto Municipal Participativ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Distrito de Fram – Para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Promueve la potenciación de la capacidad de trabajo en conjunto de la ciudadanía con las autoridades locales, así como la autogestión de la comunidad a través de mecanismos permanentes de consultas e intercambio de informaciones, en los que la corresponsabilidad es el eje común.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s un medio eficaz para transparentar la gestión municipal del Distrito en la toma de decisiones y la ejecución presupuestari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esupuesto Participativo Joven</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Rosari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Jóvenes entre 13 y 18 años que se incorporan en los asuntos públicos, formando parte de la discusión de prioridades en las que se invertirá el presupuesto municipal. Fortalece la participación juvenil dentro de un espacio formal de toma de decisiones, ampliando el acceso de oportunidades para los jóvenes en el ejercicio de sus derechos ciudadanos; incorporando una mirada joven a la hora de decidir.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ograma de Orientación a la Comunidad</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Buenos Aire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s un recurso formación de la Red Solidaria pensado para personas que buscan mejorar su capacidad de orientar a sus comunidades en situaciones de necesidad. Busca contribuir a activar el potencial de la comunidad para transformar su capacidad de dar respuestas simples y efectivas a problemas que sufren sus miembro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Organización de las trabajadoras sexuales para el mejoramiento de la calidad de vida, promoción de la salud, empoderamiento, autogestión y gestión de políticas públicas con enfoque de género en el sector</a:t>
            </a:r>
            <a:r>
              <a:rPr b="0" lang="es-ES" sz="800" spc="-1" strike="noStrike">
                <a:solidFill>
                  <a:srgbClr val="000000"/>
                </a:solidFill>
                <a:latin typeface="Times New Roman"/>
              </a:rPr>
              <a:t>”</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Buenos Aire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ujeres excluidas, discriminadas y marginadas, sometidas malos tratos que se fortalecen, recuperan su dignidad, defienden su libertad de trabajo, conocen sus derechos, se hacen cargo del cuidado de su salud, promueven proyectos reproductivos y se reconocen como mujeres con identidad de géner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rticulación con organismos de salud y organizaciones de derechos humano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ligiendo la Vida y la Salud, las Trabajadoras Sexuales prevenimos el VIH/Sid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órdob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Trabajadoras sexuales que comienzan a formarse en torno a derechos fundamentales como la salud y la prevención de ITS y VIH/Sida, la problemática de género, los derechos humanos, como personas, como mujeres y como trabajadora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ejora de las condiciones de salud (y por lo tanto de vida) de muchas de las trabajadoras sexuales a las que se llega con la iniciativ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Ciudades sin violencia para las mujeres. Ciudades sin violencia para todo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Rosari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capacita a funcionarios/as públicos/as y organizaciones sociales sobre la violencia de género en las ciudades, y diseñan estrategias consensuadas entre ciudadanía y autoridades locales para lograr ciudades más seguras. Se involucró a las autoridades locales, con el objetivo de sensibilizar sobre los efectos diferenciados de la violencia en varones y mujeres y su responsabilidad de garantizar espacios de participación ciudadana para la formulación de las políticas pública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scuchándono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Plat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difunden las dificultades de comunicación y sociales que encuentra en su vida de relación quien padece una hipoacusia, a través de actividades como títeres en espacios verdes, juegos en escuelas, grabaciones con voces infantiles donde se habla de la problemática para difundir en el espacio radiofónico, encuestas y charlas a estudiantes universitarios y terciarios y a profesionales de salud y educación en contacto con niños y adolescent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Juntos Construyendo una Vida Mejor</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Valparaíso - Chile</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 través de niños y jóvenes protagonistas voluntarios se convocan a actores que no se vinculaban entre sí, construyendo espacios de encuentro. Construyendo una red de actores que mantienen su compromiso.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punta a responsabilizar en la práctica a mejorar el entorno. Espacios recuperados para uso público: plaza, anfiteatro, murales, sentidos colectivos revitalizados, rescate de memoria colectiva de transformaciones. </a:t>
            </a:r>
            <a:endParaRPr b="0" lang="en-US" sz="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9066240"/>
            <a:ext cx="2971800" cy="477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CFF877D-B52B-4E62-8420-0AC312D613D7}"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
        <p:nvSpPr>
          <p:cNvPr id="200" name="PlaceHolder 1"/>
          <p:cNvSpPr>
            <a:spLocks noGrp="1"/>
          </p:cNvSpPr>
          <p:nvPr>
            <p:ph type="sldImg"/>
          </p:nvPr>
        </p:nvSpPr>
        <p:spPr>
          <a:xfrm>
            <a:off x="1044720" y="716040"/>
            <a:ext cx="4770360" cy="3578040"/>
          </a:xfrm>
          <a:prstGeom prst="rect">
            <a:avLst/>
          </a:prstGeom>
          <a:ln w="0">
            <a:noFill/>
          </a:ln>
        </p:spPr>
      </p:sp>
      <p:sp>
        <p:nvSpPr>
          <p:cNvPr id="201" name="PlaceHolder 2"/>
          <p:cNvSpPr>
            <a:spLocks noGrp="1"/>
          </p:cNvSpPr>
          <p:nvPr>
            <p:ph type="body"/>
          </p:nvPr>
        </p:nvSpPr>
        <p:spPr>
          <a:xfrm>
            <a:off x="685800" y="4533480"/>
            <a:ext cx="5486400" cy="239868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Asociación Mutual El Colmenar. Un Modelo de gestión social para el acceso a los servicios públicos y el desarrollo loca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Buenos Aire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rvicio transporte comunitario que comunica 40 barrios entre sí y con el centro del Partido. Con un traslado diario de 12.000 personas, se redujo en un 40% el costo del servicio de trasporte público municipal a más de 20.000 usuarios. Se crearon y sostuvieron 120 puestos de trabaj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logró un crecimiento y desarrollo de barrios aislados al contar con el servicio; instalación definitiva de un registro civil para la localidad. Se instaló el trasporte como un derecho de los pobladores. Se generaron micro-emprendimientos asociados a la actividad, y se logró un mejoramiento de la red de comunicación de las organizaciones de la región.</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FESPAL – Feria y seminarios de producciones alternativa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habá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Feria que promociona producciones agrícolas alternativas a las tradicionales, impulsando la recuperación de la cultura del trabajo, logrando la radicación de las familias jóvenes en las localidades de origen, evitando las migraciones a las grandes ciudades donde engrosan cordones de pobreza. Se obtiene la apertura de mercados para productos no tradicionales en las grandes ciudades (cadenas de supermercados) y la exportación.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Taller de Reparación y encuadernación de libro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órdob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icroemprendimiento laboral llevado adelante por un acuerdo con los encuadernadores y las encuadernadoras. Es una fuente de sostenimiento económico importantísimo de la Institución bibliotecaria y de 6 familias. Los trabajos son de gran calidad, se ofrecen al público en general y a otras biblioteca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ongamos al Trabajo de Moda para Siempre</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Matanz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Proyecto en el que actores se conectan para defender sus derechos cívicos y formar un taller textil en la Cooperativa “La Juanita” del Movimiento de Trabajadores de Desocupados (MDT) de La Matanza, Provincia de Buenos Air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os integrantes de esta cooperativa son 50 desocupados, mujeres y hombres. Además del taller textil la Cooperativa cuenta con otro emprendimientos como una panadería, un jardín de infantes, un taller de serigrafía, una imprenta y una huerta orgánic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Centro de Desarrollo Integral de la Famili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antiago - Chile</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Personas de escasos recursos que necesitan una instancia de atención profesional y gratuita a sus problemas familiares, que buscan canalizar sus actividades e inquietudes a través de capacitaciones en un oficio y así mejorar sus ingresos; y acoger a aquellos que deseen recibir asesoría en gestión de microempresa y/o necesiten un microcrédit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1. Programa de Atención Familiar y de Atención a la Violencia Intrafamiliar (VIF)</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2. Programa de Atención por el Buen Trato Infanti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3. Programa de Capacitación Laboral y Gestión Empresaria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ograma Integrado de Cultivos Andino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aimará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Productores que se organizan para mejorar los procesos de producción, comercialización y ubicación en mercados específicos, implementando nuevas posibilidades de financiación, certificación, capacitación y generando nuevos canales de comercialización, promoción y desarrollo de los productos y la apropiación, por parte de los mismos; apuntando al crecimiento local y regional.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cuida el medio ambiente y la preservación de la agrobiodiversidad de la región y la puesta en valor de conocimientos ancestral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ograma de Agricultura Urba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Rosario –Argentina. Ganadora de Dubai 2004</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as de 10.000 familias de escasos recursos cultivan y comercializan productos naturales, a través de estrategias participativas y formas solidarias de producción, transformación, comercialización y consumo de alimentos sanos. Generando fuentes de ingreso y espacios de inclusión, a través de una actividad que mejora el paisaje barrial urbano y las condiciones de vida de sus habitantes. Se ha constituido en una política públic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oyecto Actividades Productivas – Programa Crecer</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Rosari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 partir de la autoproducción de alimentos se pretende generar una actividad productiva que además de mejorar la calidad nutricional de la dieta mediante la obtención de alimentos frescos y sanos, se produzca una mejora en el ingreso familiar a través de la comercialización de los productos de las distintas actividades, ofreciendo progresiva independencia de acciones asistencial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Utilizando como herramientas la educación, la participación y la organización comunitari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strategias Socioproductivas para el Desarrollo Agroecológico de localidades del noroeste cordobé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órdob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ctores sociales capaces de mejorar su calidad de vida y de participar y negociar a nivel local y regional, creando nuevas expresiones organizativas que tengan injerencia en los asuntos del gobierno municipal para diseñar políticas que potencien las posibilidades de la región y redunden en mejores oportunidades para la población. Se contribuyó al ahorro familiar con el autoabastecimiento de frutas, hortalizas y verduras. Se mejoró el ingreso de las familias con la comercialización de productos artesanales y la venta de excedentes en mercados locales. Se logró valorar culturalmente a la mujer como fuente de saberes y estrategias de producción.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Fortalecimiento Comunitari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Para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20 mujeres, amas de casa que desarrollan eventos educativos, en viviendas particulares, salones comunitarios, parroquias, escuelas y otros a fin de lograr obtener la confianza de la comunidad. Ganada la confiabilidad de la comunidad se ha llevado a cabo capacitaciones en diversos rubros para posteriormente realizar ferias con mujeres emprendedoras en las áreas de artesanía, productos de limpieza a fin de lograr acrecentar el ingreso familiar. Se planifican obras comunitarias y se influye en el Presupuesto municipa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Fábrica Cielo Abiert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apilla del Monte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ujeres sin alternativas de empleo conforman la “Cadena de Valor Textil Artesanal en el corredor Punilla–Traslasierra (Córdoba)” que tiene como objetivo transformar una cadena de unidades productivas familiares, en una cadena de valor para la producción de textiles artesanales (hilados, tejidos), recuperando conductas de organización basadas en la solidaridad y la ayuda mutua. Se establecieron protocolos de calidad y productividad, manteniendo la diversidad. Se formuló un pacto social basado en valores (la palabr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trabaja partir de una justa distribución de la renta general y precio justo. El Gobierno participa en la fijación de precio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Capacitar para competir en igualdad de condicion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scobar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Trabajan para que la sociedad minusválida, cultural, social y económicamente, tenga la posibilidad de capacitarse y estar en igualdad de condiciones a la hora de competir por un puesto de trabajo. Se formaría un recorrido por las distintas localidades de mayor exclusión social y cada siete días pasaría el convoy con los profesores, estarían dos horas en el lugar capacitando a los grupos de persona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l futuro es hoy, son nuestros niño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órdob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entro Materno Infantil que intenta paliar necesidades básicas de alimentación, vestimenta, salud, vivienda, ocupación laboral a través de emprendimientos productivo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trabaja para mejorar la calidad de vida de los niños con la higiene diaria y el aprendizaje de hábitos primario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n alimentación se trabaja en paliar desnutrición. También se constituyó en Centro educativo para combatir la deserción escolar.</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Inclusión e integración social de los jóven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endoz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trabaja con jóvenes para la construcción de un proyecto de vida, que incluya el ejercicio responsable de sus derechos: educación, participación, salud, recreación, expresiones culturales. El consenso de diversos actores sociales en las acciones que se realizan, la participación de los mismos en las demandas y la apertura de espacios comunitarios e institucionales a los adolescentes y jóvenes. Se observa la movilización de los padres en torno a temas que eran de su preocupación y el encuentro de un espacio donde plantearlos. </a:t>
            </a:r>
            <a:endParaRPr b="0" lang="en-US" sz="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9066240"/>
            <a:ext cx="2971800" cy="477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5F4303D-69FB-400C-B4FF-D66F883D3748}"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
        <p:nvSpPr>
          <p:cNvPr id="203" name="PlaceHolder 1"/>
          <p:cNvSpPr>
            <a:spLocks noGrp="1"/>
          </p:cNvSpPr>
          <p:nvPr>
            <p:ph type="sldImg"/>
          </p:nvPr>
        </p:nvSpPr>
        <p:spPr>
          <a:xfrm>
            <a:off x="1044720" y="716040"/>
            <a:ext cx="4770360" cy="3578040"/>
          </a:xfrm>
          <a:prstGeom prst="rect">
            <a:avLst/>
          </a:prstGeom>
          <a:ln w="0">
            <a:noFill/>
          </a:ln>
        </p:spPr>
      </p:sp>
      <p:sp>
        <p:nvSpPr>
          <p:cNvPr id="204" name="PlaceHolder 2"/>
          <p:cNvSpPr>
            <a:spLocks noGrp="1"/>
          </p:cNvSpPr>
          <p:nvPr>
            <p:ph type="body"/>
          </p:nvPr>
        </p:nvSpPr>
        <p:spPr>
          <a:xfrm>
            <a:off x="685800" y="4533480"/>
            <a:ext cx="5486400" cy="239868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Asociación Mutual El Colmenar. Un Modelo de gestión social para el acceso a los servicios públicos y el desarrollo loca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Buenos Aire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rvicio transporte comunitario que comunica 40 barrios entre sí y con el centro del Partido. Con un traslado diario de 12.000 personas, se redujo en un 40% el costo del servicio de trasporte público municipal a más de 20.000 usuarios. Se crearon y sostuvieron 120 puestos de trabaj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logró un crecimiento y desarrollo de barrios aislados al contar con el servicio; instalación definitiva de un registro civil para la localidad. Se instaló el trasporte como un derecho de los pobladores. Se generaron micro-emprendimientos asociados a la actividad, y se logró un mejoramiento de la red de comunicación de las organizaciones de la región.</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FESPAL – Feria y seminarios de producciones alternativa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habá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Feria que promociona producciones agrícolas alternativas a las tradicionales, impulsando la recuperación de la cultura del trabajo, logrando la radicación de las familias jóvenes en las localidades de origen, evitando las migraciones a las grandes ciudades donde engrosan cordones de pobreza. Se obtiene la apertura de mercados para productos no tradicionales en las grandes ciudades (cadenas de supermercados) y la exportación.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Taller de Reparación y encuadernación de libro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órdob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icroemprendimiento laboral llevado adelante por un acuerdo con los encuadernadores y las encuadernadoras. Es una fuente de sostenimiento económico importantísimo de la Institución bibliotecaria y de 6 familias. Los trabajos son de gran calidad, se ofrecen al público en general y a otras biblioteca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ongamos al Trabajo de Moda para Siempre</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Matanz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Proyecto en el que actores se conectan para defender sus derechos cívicos y formar un taller textil en la Cooperativa “La Juanita” del Movimiento de Trabajadores de Desocupados (MDT) de La Matanza, Provincia de Buenos Air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os integrantes de esta cooperativa son 50 desocupados, mujeres y hombres. Además del taller textil la Cooperativa cuenta con otro emprendimientos como una panadería, un jardín de infantes, un taller de serigrafía, una imprenta y una huerta orgánic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Centro de Desarrollo Integral de la Famili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antiago - Chile</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Personas de escasos recursos que necesitan una instancia de atención profesional y gratuita a sus problemas familiares, que buscan canalizar sus actividades e inquietudes a través de capacitaciones en un oficio y así mejorar sus ingresos; y acoger a aquellos que deseen recibir asesoría en gestión de microempresa y/o necesiten un microcrédit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1. Programa de Atención Familiar y de Atención a la Violencia Intrafamiliar (VIF)</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2. Programa de Atención por el Buen Trato Infanti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3. Programa de Capacitación Laboral y Gestión Empresaria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ograma Integrado de Cultivos Andino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aimará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Productores que se organizan para mejorar los procesos de producción, comercialización y ubicación en mercados específicos, implementando nuevas posibilidades de financiación, certificación, capacitación y generando nuevos canales de comercialización, promoción y desarrollo de los productos y la apropiación, por parte de los mismos; apuntando al crecimiento local y regional.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cuida el medio ambiente y la preservación de la agrobiodiversidad de la región y la puesta en valor de conocimientos ancestral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ograma de Agricultura Urba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Rosario –Argentina. Ganadora de Dubai 2004</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as de 10.000 familias de escasos recursos cultivan y comercializan productos naturales, a través de estrategias participativas y formas solidarias de producción, transformación, comercialización y consumo de alimentos sanos. Generando fuentes de ingreso y espacios de inclusión, a través de una actividad que mejora el paisaje barrial urbano y las condiciones de vida de sus habitantes. Se ha constituido en una política públic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oyecto Actividades Productivas – Programa Crecer</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Rosari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 partir de la autoproducción de alimentos se pretende generar una actividad productiva que además de mejorar la calidad nutricional de la dieta mediante la obtención de alimentos frescos y sanos, se produzca una mejora en el ingreso familiar a través de la comercialización de los productos de las distintas actividades, ofreciendo progresiva independencia de acciones asistencial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Utilizando como herramientas la educación, la participación y la organización comunitari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strategias Socioproductivas para el Desarrollo Agroecológico de localidades del noroeste cordobé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órdob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ctores sociales capaces de mejorar su calidad de vida y de participar y negociar a nivel local y regional, creando nuevas expresiones organizativas que tengan injerencia en los asuntos del gobierno municipal para diseñar políticas que potencien las posibilidades de la región y redunden en mejores oportunidades para la población. Se contribuyó al ahorro familiar con el autoabastecimiento de frutas, hortalizas y verduras. Se mejoró el ingreso de las familias con la comercialización de productos artesanales y la venta de excedentes en mercados locales. Se logró valorar culturalmente a la mujer como fuente de saberes y estrategias de producción.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Fortalecimiento Comunitari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Para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20 mujeres, amas de casa que desarrollan eventos educativos, en viviendas particulares, salones comunitarios, parroquias, escuelas y otros a fin de lograr obtener la confianza de la comunidad. Ganada la confiabilidad de la comunidad se ha llevado a cabo capacitaciones en diversos rubros para posteriormente realizar ferias con mujeres emprendedoras en las áreas de artesanía, productos de limpieza a fin de lograr acrecentar el ingreso familiar. Se planifican obras comunitarias y se influye en el Presupuesto municipa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Fábrica Cielo Abiert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apilla del Monte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ujeres sin alternativas de empleo conforman la “Cadena de Valor Textil Artesanal en el corredor Punilla–Traslasierra (Córdoba)” que tiene como objetivo transformar una cadena de unidades productivas familiares, en una cadena de valor para la producción de textiles artesanales (hilados, tejidos), recuperando conductas de organización basadas en la solidaridad y la ayuda mutua. Se establecieron protocolos de calidad y productividad, manteniendo la diversidad. Se formuló un pacto social basado en valores (la palabr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trabaja partir de una justa distribución de la renta general y precio justo. El Gobierno participa en la fijación de precio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Capacitar para competir en igualdad de condicion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scobar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Trabajan para que la sociedad minusválida, cultural, social y económicamente, tenga la posibilidad de capacitarse y estar en igualdad de condiciones a la hora de competir por un puesto de trabajo. Se formaría un recorrido por las distintas localidades de mayor exclusión social y cada siete días pasaría el convoy con los profesores, estarían dos horas en el lugar capacitando a los grupos de persona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l futuro es hoy, son nuestros niño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órdob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entro Materno Infantil que intenta paliar necesidades básicas de alimentación, vestimenta, salud, vivienda, ocupación laboral a través de emprendimientos productivo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trabaja para mejorar la calidad de vida de los niños con la higiene diaria y el aprendizaje de hábitos primario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n alimentación se trabaja en paliar desnutrición. También se constituyó en Centro educativo para combatir la deserción escolar.</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Inclusión e integración social de los jóven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endoz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trabaja con jóvenes para la construcción de un proyecto de vida, que incluya el ejercicio responsable de sus derechos: educación, participación, salud, recreación, expresiones culturales. El consenso de diversos actores sociales en las acciones que se realizan, la participación de los mismos en las demandas y la apertura de espacios comunitarios e institucionales a los adolescentes y jóvenes. Se observa la movilización de los padres en torno a temas que eran de su preocupación y el encuentro de un espacio donde plantearlos. </a:t>
            </a:r>
            <a:endParaRPr b="0" lang="en-US" sz="8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9066240"/>
            <a:ext cx="2971800" cy="477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FD7F559-01D1-47A0-B810-133F2488CAC8}"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
        <p:nvSpPr>
          <p:cNvPr id="206" name="PlaceHolder 1"/>
          <p:cNvSpPr>
            <a:spLocks noGrp="1"/>
          </p:cNvSpPr>
          <p:nvPr>
            <p:ph type="sldImg"/>
          </p:nvPr>
        </p:nvSpPr>
        <p:spPr>
          <a:xfrm>
            <a:off x="1044720" y="716040"/>
            <a:ext cx="4770360" cy="3578040"/>
          </a:xfrm>
          <a:prstGeom prst="rect">
            <a:avLst/>
          </a:prstGeom>
          <a:ln w="0">
            <a:noFill/>
          </a:ln>
        </p:spPr>
      </p:sp>
      <p:sp>
        <p:nvSpPr>
          <p:cNvPr id="207" name="PlaceHolder 2"/>
          <p:cNvSpPr>
            <a:spLocks noGrp="1"/>
          </p:cNvSpPr>
          <p:nvPr>
            <p:ph type="body"/>
          </p:nvPr>
        </p:nvSpPr>
        <p:spPr>
          <a:xfrm>
            <a:off x="685800" y="4533480"/>
            <a:ext cx="5486400" cy="239868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scuelas por el cambi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Buenos Aire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compaña el fortalecimiento de la gestión de las escuelas públicas argentinas para mejorar la calidad de los servicios de educación que brindan. Brinda asistencia técnica en la elaboración de un plan de acción con metas, objetivos, acciones, presupuesto y responsables para lograr resolver los problemas que se presentan en la institución, como la deserción, la falta de recursos económicos, la desactualización de los contenidos curriculares, la no participación de la comunidad de padres y la falta de motivación de los docente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Generación 21</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Rosari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l programa busca favorecer la reinserción del niño y del adolescente con problemas en el sistema educativo formal a partir de una Tarea Tutorial brindada por el "Programa de Inclusión Educativa: AULA SOLIDARIA". Se lleva a cabo con niños y adolescentes que han abandonado la educación formal o que no realizan una escolaridad continuada. Se parte de Contenidos Básicos Comunes donde los niños son promovidos de un nivel a otro, según los contenidos alcanzados, sin observar la sistematización en años, acorde a los instrumentos que le permitirán crecer en el espacio socia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Fortaleciéndonos en el aprendizaje</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Río Grande, Tierra del Fueg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Talleres de Apoyo Escolar a cargo de un grupo de docentes, mujeres fundamentalmente que notaron en el transcurso del último año un incremento en la matrícula de niños y adolescentes los cuales necesitaban optimizar su calidad educativa y tener posibilidades de un mejor desarrollo persona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n un lugar mejor</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endoz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trata de capacitar a niños y jóvenes entre 13 y 25 años de edad, que realizan actividades en la calle: cuidar coches, limpiar vidrios y venta ambulante.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capacitaron como promotores de turismo, entregando de folletería de la ciudad.</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realizaron talleres intensivos de habilidades sociales y la incorporación de hábitos, incremento de la oralidad y  pautas a tener en cuenta al momento de realizar emprendimientos o desempeñarse en distintos trabajo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uego se apuntó a la capacitación de distintos oficios (carpintería, mecánica, tornería, cocina, herrería, panadería, etc). Se llevaron a cabo pasantías donde pusieron en práctica todo lo aprendido en las primeras etapas incorporándose al mercado formal de trabajo.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Un espacio para ser uno mism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Puerto Madryn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Fundación Ceferino Namuncurá, trabaja con una población de niños y jóvenes en extremo riesgo social, sosteniendo que el proceso educativo debe transformarse en una herramienta apta para contribuir al desarrollo de actitudes y aptitudes, que faciliten el acceso y permanencia en el trabajo. Se plantean una serie de actividades educativas-laborales tendientes a alcanzar una formación para el trabajo y una formación ocupacional para los participant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Centro Educativo Complementari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l Socorr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práctica consiste en un espacio al cual asisten niños que sus madres tenían dificultades para trabajar ya que no contaban con un lugar donde dejar a sus niños, donde se encuentren contenidos a nivel educativo, alimentario y de salud.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l Centro se encuentra a cargo de profesionales ligados a la educación, la salud, etc., que realizan un trabajo interdisciplinario y en red, donde se realizan talleres culturales, recreativos, trámites de documentación, etc. Por lo que las familias no tienen necesidad de movilizarse por la ciudad.</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Red latinoamericana de 20 LUDOTECAS en barrios urbano-marginal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antiago – Chile</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Permite a cada niño de escasos recursos acceder a juegos de calidad, independientemente de su entorno social o de su grado de integración en la sociedad. El juego como actividad comunitaria genera interacciones y contribuye a desarrollar relaciones de convivencia pacífica entre los individuos. Las LUDOTECAS de la red están administradas por padres y madres de familia provenientes de los mismos barrios beneficiados, debidamente capacitados y remunerado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RESCATALIBROS. Banco Solidario de Libros de Uru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trata de cubrir la demanda lectora de los sectores más necesitados acercándoles los mejores y más diversos títulos de la literatura universal tanto didáctica, científica, como de ficción, con especial énfasis en la literatura infantil y juvenil.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creó un Banco Solidario por el aporte de ciudadanos que está dotado de una infraestructura de cajas y microbibliotecas</a:t>
            </a:r>
            <a:r>
              <a:rPr b="1" lang="es-ES" sz="800" spc="-1" strike="noStrike">
                <a:solidFill>
                  <a:srgbClr val="000000"/>
                </a:solidFill>
                <a:latin typeface="Times New Roman"/>
              </a:rPr>
              <a:t> </a:t>
            </a:r>
            <a:r>
              <a:rPr b="0" lang="es-ES" sz="800" spc="-1" strike="noStrike">
                <a:solidFill>
                  <a:srgbClr val="000000"/>
                </a:solidFill>
                <a:latin typeface="Times New Roman"/>
              </a:rPr>
              <a:t>renovables, llegando en forma permanente a los lugares mas alejados del sistema cultural y de las bibliotecas tradicional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Taller de Construcción de Hardware libre para personas con discapacidad motora.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Tierra del Fueg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sisten al mismo niños y jóvenes a partir de los 6 años con diferentes disCAPACIDADES, (motoras, intelectuales, sensoriales, emocionales, etc.) en dos sesiones semanales de treinta minutos, con atención individualizada y gratuita. La mayoría no recibe estimulación a través del campo de la informática terapéutico-educativa en otras instituciones. Desde el Taller se diseño y construyó un dispositivo creado con material informático obsoleto para ser utilizado por personas con discapacidades motoras severa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n este último año se generó este taller con el fin de que jóvenes de escolaridad secundaria puedan construir estos dispositivos para que más personas con disCAPACIDAD de la ciudad puedan tener su dispositivo a medid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Red Socio-educativa en zona de las Tortuga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Godoy Cruz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práctica se orienta a la problemática socioeducativa en los sectores vulnerables, abordando particularmente la relación educación formal y la articulación de ésta con los niños, sus familias y la comunidad.</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incluyó un abordaje socio educativo, el fortalecimiento de la red comunitaria, al mismo tiempo que el desarrollo de competencias expresivas, deportivas e intelectuales en talleres para niños y adolescente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Yo sí puedo... Volver a Soñar</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Jujuy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s organizaciones de la comunidad se constituyeron en nodos de redes solidarias desde las cuales se potenció el voluntariado alfabetizador principalmente femenino para atender a las comunidades donde el sistema educativo formal e informal no tiene alcance. Se utiliza el método cubano adoptado y contextualizado en la cultura local, el cual se ha visto favorecido especialmente en los sectores rurales (con población indígena), donde el lenguaje escrito básico se torna significativo para el proceso de comercialización en la producción de lana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scuelas Deportiva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Paz – Uru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 través de la recreación y el deporte se promueve el desarrollo integral de niños y niña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Un equipo interdisciplinario realiza clases de Educación Física y Deportes. Actividades especiales: culturales, artísticas, de salud, combate a la drogadicción, cuidado del medio ambiente y  campamento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También hay una biblioteca que intenta promover la lectura y complementar el desarrollo escolar. </a:t>
            </a:r>
            <a:endParaRPr b="0" lang="en-US" sz="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9066240"/>
            <a:ext cx="2971800" cy="477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CC2C511-BEA2-4164-A805-5A290E88B9A8}"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
        <p:nvSpPr>
          <p:cNvPr id="209" name="PlaceHolder 1"/>
          <p:cNvSpPr>
            <a:spLocks noGrp="1"/>
          </p:cNvSpPr>
          <p:nvPr>
            <p:ph type="sldImg"/>
          </p:nvPr>
        </p:nvSpPr>
        <p:spPr>
          <a:xfrm>
            <a:off x="1044720" y="716040"/>
            <a:ext cx="4770360" cy="3578040"/>
          </a:xfrm>
          <a:prstGeom prst="rect">
            <a:avLst/>
          </a:prstGeom>
          <a:ln w="0">
            <a:noFill/>
          </a:ln>
        </p:spPr>
      </p:sp>
      <p:sp>
        <p:nvSpPr>
          <p:cNvPr id="210" name="PlaceHolder 2"/>
          <p:cNvSpPr>
            <a:spLocks noGrp="1"/>
          </p:cNvSpPr>
          <p:nvPr>
            <p:ph type="body"/>
          </p:nvPr>
        </p:nvSpPr>
        <p:spPr>
          <a:xfrm>
            <a:off x="685800" y="4533480"/>
            <a:ext cx="5486400" cy="239868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Un lugar para Crecer</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Villa Mercede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30 jóvenes y madres adolescentes entre 12 y 20 años participan de este lugar que brinda servicios gratuitos de prevención primaria, secundaria y terciaria en embarazo adolescente y HIV/SIDA. También son futuras socias activas de Microemprendimiento productivo de fábrica de pastas artesanales, con proyección a organizarse legalmente en forma de cooperativa de trabajo. También hay una guardería donde pueden dejar a sus hijos mientras trabajan.</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capacita en educación sexual-reproductiva, planificación familiar, maternidad-paternidad responsable,  HIV/SIDA, E.T.S. a alumnos en escuelas y docent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ograma Comunitario de Salud. “Salud, responsabilidad de todo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Fram – Para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iniciativa tiene como propósito mejorar las condiciones sanitarias de toda la población del Distrito de Fram con énfasis en mujeres y niños a través de una gestión descentralizada y participativa de la administración de salud del Distrito, potenciando la participación ciudadana en todos los niveles de decisión, la capacitación de la población y el empoderamiento de la misma en la identificación y solución de los problemas que lo aquejan.</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Acceso a Servicios Sociales Básicos de Salud: Farmacias Sociales y Programa de Vacuna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sunción – Para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Farmacias Sociales para la provisión de medicamentos básicos a las comunidades carenciadas y aisladas, con un precio accesible, previa consulta y con receta médica expedida por establecimientos públicos de salud. Mientras que del Programa Vacunas es la identificación geográfica, el registro y la vacunación de todos/as los/as niños/as menores de 5 años de edad.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Antenas de Prevención</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Plat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l programa “Antenas de Prevención” impulsa un conjunto de acciones colectivas en distintos barrios, formando educadores de pares, de mujeres a mujeres, jóvenes a jóvenes partiendo de la construcción de un entramado de pertenencia a la red preventivo/comunitaria, basada en la solidaridad y tomando como ejes convocantes: equidad en salud y prevención de adicciones, violencia y VIH/SIDA/ITS. Se construyen grupalmente estrategias comunicacionales y se desarrolla un proceso educativo.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strategias de promoción y prevención entre pares con población juveni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Buenos Aire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onsiste en que jóvenes accedan a la promoción, prevención y cuidado de la salud a través de espacios de expresión cultural que les permiten abordar la problemática del SIDA y temas asociados a la salud sexual y reproductiva. También se trabaja sobre: violencia, derechos, cuestiones de género, etc.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lto involucramiento de los jóvenes en los procesos organizativos vinculados a la capacitación y multiplicación entre pare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imer encuentro nacional de personas que viven con el VIH/SID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sunción – Para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ncuentro que apunta a que Personas que Viven con el VIH/SIDA puedan participar en espacios de decisión y concertación social y política, sobre aquellas cuestiones que contribuyan a garantizar su calidad de vida.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Grupos organizados de Personas que Viven con el VIH/SIDA, familiares y trabajadores de la Salud implicados trabajan diariamente por mejorar su Calidad de Vida. Se realizó una consejería conjunta para PVVS, en el máximo órgano de representación estatal de lucha contra la epidemia.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Feria de Salud – NOE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Buenos Aires – Argentina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tletas de Olimpiadas Especiales son asistidos con el objeto de mejorar su salud y condición física, logrando una mejor experiencia deportiva y mayor bienestar.</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os atletas reciben servicios de salud por medio de clínicas conducidas en ambientes agradables adaptadas a las necesidades del lugar y context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on esta iniciativa niños y jóvenes con discapacidad intelectual pueden acceder a la salud y tanto las familias como las instituciones contar con una historia clínica acorde a cada patologí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Instituto Argentino de Trastornos de la alimentación</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Buenos Aire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sistencia directa a personas con trastornos de la alimentación, se implementan dispositivos para la puesta en marcha de programas preventivos y asistencial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l objetivo de reducir las patologías alimentarias y la  prevención en la sociedad en general a aquellos con una clara predisposición  a adquirir este tipo de patologías y asistiendo a quienes las padecen. Rol protagónicos de las mujeres profesionales de la salud quienes promueven comunitariamente la capacitación y prevención de los trastornos de la alimentación.</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Agua mas Trabaj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Matanz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10 Cooperativas que trabajaron para la expansión del servicio de agua potable por red.</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 través de las capacitaciones para la construcción de redes de agua potable, manipuleo y ensayos de materiales, pruebas hidráulicas, conexiones a enchufes y bridadas.</a:t>
            </a: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9066240"/>
            <a:ext cx="2971800" cy="477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7CB21E6-1C48-4942-B1E8-C7E99CCB32C5}"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
        <p:nvSpPr>
          <p:cNvPr id="212" name="PlaceHolder 1"/>
          <p:cNvSpPr>
            <a:spLocks noGrp="1"/>
          </p:cNvSpPr>
          <p:nvPr>
            <p:ph type="sldImg"/>
          </p:nvPr>
        </p:nvSpPr>
        <p:spPr>
          <a:xfrm>
            <a:off x="1044720" y="716040"/>
            <a:ext cx="4770360" cy="3578040"/>
          </a:xfrm>
          <a:prstGeom prst="rect">
            <a:avLst/>
          </a:prstGeom>
          <a:ln w="0">
            <a:noFill/>
          </a:ln>
        </p:spPr>
      </p:sp>
      <p:sp>
        <p:nvSpPr>
          <p:cNvPr id="213" name="PlaceHolder 2"/>
          <p:cNvSpPr>
            <a:spLocks noGrp="1"/>
          </p:cNvSpPr>
          <p:nvPr>
            <p:ph type="body"/>
          </p:nvPr>
        </p:nvSpPr>
        <p:spPr>
          <a:xfrm>
            <a:off x="685800" y="4533480"/>
            <a:ext cx="5486400" cy="239868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Arquitectos de la Comunidad</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ontevideo - Uru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rquitectos que se ubican en los barrios para facilitar el acceso al servicio profesional de sectores de la población que no acceden a este tipo de servicios por dificultades económicas. A través de consultorios vecinales de arquitectura  para la prestación de servicios profesional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Difunde las ventajas de la contratación de un arquitecto vinculadas al enriquecimiento del entorno construido y al mejoramiento de las condiciones de habitabilidad mejorando la calidad de vida de la comunidad.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Generación técnica de Viviend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antiago - Chile</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punta a lograr soluciones habitacionales para quienes no poseen vivienda propia, a través de gestión integrada entre actores del rubro de vivienda: entes públicos como el Ministerio de Vivienda del Gobierno Central, el Municipio como el gobierno local, los privados como lo son las constructoras e inmobiliarias, las universidades, los beneficiarios organizados y organizaciones solidarias de la sociedad civil.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Mujeres Coordinadoras de obr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Gral. Roc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apacitación a mujeres para ser promotoras y coordinadoras de obra para la toma de conciencia que están en alta situación de riesgo por no tener una vivienda adecuad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iniciativa tiene como eje la capacitación de mujeres que ya pasaron por la experiencia de construir sus viviendas por ayuda mutua y con seguimiento, para que sean ellas las que transmitan, organicen y acompañen las tareas de construcción de otras mujeres que tengan problemas de hábitat.</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ograma de Protección Contra las Inundaciones (PPI) Sub Programa de Vivienda – SUPCE Chac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Resistenci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SUPCE (Sub Unidad Provincial de Coordinación para la Emergencia) trabaja en Programas por Autoconstrucción y Ayuda Mutua desde el año 1992. Totalizando este grupo de trabajo a la fecha 2151 soluciones habitacionales beneficiando a 11.800 personas, en 34 municipios de todo el territorio de la Provincia del Chac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rticulados con Programas Nacionales, Provinciales y Municipales para completar la Infraestructura básica y la contención de las familias Participant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Cooperativa Ufama al Sur</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ontevideo – Uru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pretende generar vivienda accesible para familias de bajos ingresos y jefatura femenina, a través del reciclado de un edificio industrial abandonado de 36 apartamentos para una cooperativa de ayuda mutua de mujeres afro jefas de familia, lo que permitirá alojar diversidad de familias y actividades, contribuyendo a la mejora de las condiciones de vida de la población afro-uruguaya de Montevideo y a la recuperación de un barrio significativo para la colectividad, con una perspectiva de género.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Articulación “Técnicos - Organización de Base – Estad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40 Viviendas. Programa Federal de Emergencia Habitaciona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organización de base que conforma las cooperativas apunta a generar el fortalecimiento comunitario y su respectivo empoderamiento relacionado a la gestión de la ciudad y a la práctica, la capacitación, la transmisión de conocimientos técnicos, el estudio de la problemática del hábitat para superar la demanda específica de vivienda y acercarse a mejores niveles de vida en comunidad; contribuyendo al desarrollo y mejoramiento de las condiciones del Hábitat, vivienda e infraestructura básica de hogares con ingresos por debajo del nivel de pobreza. Genera la inserción laboral de personas desocupadas.</a:t>
            </a:r>
            <a:endParaRPr b="0" lang="en-US" sz="8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9066240"/>
            <a:ext cx="2971800" cy="477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3D5278A-A055-4AB8-9240-C7B2EA0C4F1C}"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
        <p:nvSpPr>
          <p:cNvPr id="215" name="PlaceHolder 1"/>
          <p:cNvSpPr>
            <a:spLocks noGrp="1"/>
          </p:cNvSpPr>
          <p:nvPr>
            <p:ph type="sldImg"/>
          </p:nvPr>
        </p:nvSpPr>
        <p:spPr>
          <a:xfrm>
            <a:off x="1042920" y="716040"/>
            <a:ext cx="4773600" cy="3579840"/>
          </a:xfrm>
          <a:prstGeom prst="rect">
            <a:avLst/>
          </a:prstGeom>
          <a:ln w="0">
            <a:noFill/>
          </a:ln>
        </p:spPr>
      </p:sp>
      <p:sp>
        <p:nvSpPr>
          <p:cNvPr id="216" name="PlaceHolder 2"/>
          <p:cNvSpPr>
            <a:spLocks noGrp="1"/>
          </p:cNvSpPr>
          <p:nvPr>
            <p:ph type="body"/>
          </p:nvPr>
        </p:nvSpPr>
        <p:spPr>
          <a:xfrm>
            <a:off x="685800" y="4533840"/>
            <a:ext cx="5486400" cy="4294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quí vemos imágenes increíblemente bellas, que complementadas con los informes o formularios, nos dan una visión más acabada de la práctica. Un cortometraje que cuente una historia, es el medio más importante para el contagio y el aprendizaje. Nos a sucedido de conocer una practica mediante el formulario, ir a visitarlos y sorprendernos de todo lo que hacen y que en el formulario no se veía reflejado…por falta de una persona. Tambien ha sucedido lo contrario pero en menor med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imagen tanto visual como sonora, es la presencia viva de lo que sucede y sucedió, es esa manera directa y perceptible de encontrarse con otros territorios, otras personas, otras ideas. Es un camino que lleva a mirar lo que las estructuras de la cotidianidad nos han enseñado a eludir: </a:t>
            </a:r>
            <a:r>
              <a:rPr b="0" i="1" lang="es-ES" sz="1200" spc="-1" strike="noStrike">
                <a:solidFill>
                  <a:srgbClr val="000000"/>
                </a:solidFill>
                <a:latin typeface="Times New Roman"/>
              </a:rPr>
              <a:t>“la hazaña diaria es retirar la mirada</a:t>
            </a:r>
            <a:r>
              <a:rPr b="0" lang="es-ES" sz="1200" spc="-1" strike="noStrike">
                <a:solidFill>
                  <a:srgbClr val="000000"/>
                </a:solidFill>
                <a:latin typeface="Times New Roman"/>
              </a:rPr>
              <a:t>”</a:t>
            </a:r>
            <a:r>
              <a:rPr b="0" lang="es-ES" sz="1200" spc="-1" strike="noStrike" u="sng">
                <a:solidFill>
                  <a:srgbClr val="ccccff"/>
                </a:solidFill>
                <a:uFillTx/>
                <a:latin typeface="Times New Roman"/>
                <a:hlinkClick r:id="rId1" action="ppaction://hlinksldjump"/>
              </a:rPr>
              <a:t>[1]</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hace necesario estimular el conocimiento de los </a:t>
            </a:r>
            <a:r>
              <a:rPr b="0" i="1" lang="es-ES" sz="1200" spc="-1" strike="noStrike">
                <a:solidFill>
                  <a:srgbClr val="000000"/>
                </a:solidFill>
                <a:latin typeface="Times New Roman"/>
              </a:rPr>
              <a:t>otros, </a:t>
            </a:r>
            <a:r>
              <a:rPr b="0" lang="es-ES" sz="1200" spc="-1" strike="noStrike">
                <a:solidFill>
                  <a:srgbClr val="000000"/>
                </a:solidFill>
                <a:latin typeface="Times New Roman"/>
              </a:rPr>
              <a:t>de lo contrario convivimos entre anónimos. Una de las formas de intervenir en esta cuestión es familiarizar lo que es extraño y hacer extraño lo que es familiar. Esa también es la fuerza de esta iniciativa, motivar al reconocimiento de quienes comparten nuestro país, nuestra región, para así empezar a relacionarnos y beneficiarnos más los unos de los otr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u="sng">
                <a:solidFill>
                  <a:srgbClr val="ccccff"/>
                </a:solidFill>
                <a:uFillTx/>
                <a:latin typeface="Times New Roman"/>
                <a:hlinkClick r:id="rId2" action="ppaction://hlinksldjump"/>
              </a:rPr>
              <a:t>[1]</a:t>
            </a:r>
            <a:r>
              <a:rPr b="0" lang="es-ES" sz="1200" spc="-1" strike="noStrike">
                <a:solidFill>
                  <a:srgbClr val="000000"/>
                </a:solidFill>
                <a:latin typeface="Times New Roman"/>
              </a:rPr>
              <a:t> SKLIAR, Carlos. XXX. Seminario Internacional Educar la Mirada. </a:t>
            </a:r>
            <a:r>
              <a:rPr b="0" lang="en-US" sz="1200" spc="-1" strike="noStrike">
                <a:solidFill>
                  <a:srgbClr val="000000"/>
                </a:solidFill>
                <a:latin typeface="Times New Roman"/>
              </a:rPr>
              <a:t>Buenos Aires,  junio 8, 9, 10.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9066240"/>
            <a:ext cx="2971800" cy="477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20B379C-B7E5-464C-B1B1-F77AAF983C91}"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
        <p:nvSpPr>
          <p:cNvPr id="218" name="PlaceHolder 1"/>
          <p:cNvSpPr>
            <a:spLocks noGrp="1"/>
          </p:cNvSpPr>
          <p:nvPr>
            <p:ph type="sldImg"/>
          </p:nvPr>
        </p:nvSpPr>
        <p:spPr>
          <a:xfrm>
            <a:off x="1050840" y="722160"/>
            <a:ext cx="4756320" cy="3567240"/>
          </a:xfrm>
          <a:prstGeom prst="rect">
            <a:avLst/>
          </a:prstGeom>
          <a:ln w="0">
            <a:noFill/>
          </a:ln>
        </p:spPr>
      </p:sp>
      <p:sp>
        <p:nvSpPr>
          <p:cNvPr id="219" name="PlaceHolder 2"/>
          <p:cNvSpPr>
            <a:spLocks noGrp="1"/>
          </p:cNvSpPr>
          <p:nvPr>
            <p:ph type="body"/>
          </p:nvPr>
        </p:nvSpPr>
        <p:spPr>
          <a:xfrm>
            <a:off x="914400" y="4532400"/>
            <a:ext cx="5029200" cy="429552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9066240"/>
            <a:ext cx="2971800" cy="477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61E5705-C866-478C-809E-CE85C29FE4C5}"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
        <p:nvSpPr>
          <p:cNvPr id="173" name="PlaceHolder 1"/>
          <p:cNvSpPr>
            <a:spLocks noGrp="1"/>
          </p:cNvSpPr>
          <p:nvPr>
            <p:ph type="sldImg"/>
          </p:nvPr>
        </p:nvSpPr>
        <p:spPr>
          <a:xfrm>
            <a:off x="1042920" y="716040"/>
            <a:ext cx="4773600" cy="3579840"/>
          </a:xfrm>
          <a:prstGeom prst="rect">
            <a:avLst/>
          </a:prstGeom>
          <a:ln w="0">
            <a:noFill/>
          </a:ln>
        </p:spPr>
      </p:sp>
      <p:sp>
        <p:nvSpPr>
          <p:cNvPr id="174" name="PlaceHolder 2"/>
          <p:cNvSpPr>
            <a:spLocks noGrp="1"/>
          </p:cNvSpPr>
          <p:nvPr>
            <p:ph type="body"/>
          </p:nvPr>
        </p:nvSpPr>
        <p:spPr>
          <a:xfrm>
            <a:off x="685800" y="4533840"/>
            <a:ext cx="5486400" cy="4294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a:t>
            </a:r>
            <a:r>
              <a:rPr b="1" lang="es-ES" sz="1200" spc="-1" strike="noStrike">
                <a:solidFill>
                  <a:srgbClr val="000000"/>
                </a:solidFill>
                <a:latin typeface="Times New Roman"/>
              </a:rPr>
              <a:t>Foro Iberoamericano y del Caribe de Mejores Prácticas</a:t>
            </a:r>
            <a:r>
              <a:rPr b="0" lang="es-ES" sz="1200" spc="-1" strike="noStrike">
                <a:solidFill>
                  <a:srgbClr val="000000"/>
                </a:solidFill>
                <a:latin typeface="Times New Roman"/>
              </a:rPr>
              <a:t> fue establecido con el apoyo del </a:t>
            </a:r>
            <a:r>
              <a:rPr b="1" lang="es-ES" sz="1200" spc="-1" strike="noStrike">
                <a:solidFill>
                  <a:srgbClr val="000000"/>
                </a:solidFill>
                <a:latin typeface="Times New Roman"/>
              </a:rPr>
              <a:t>Gobierno de España</a:t>
            </a:r>
            <a:r>
              <a:rPr b="0" lang="es-ES" sz="1200" spc="-1" strike="noStrike">
                <a:solidFill>
                  <a:srgbClr val="000000"/>
                </a:solidFill>
                <a:latin typeface="Times New Roman"/>
              </a:rPr>
              <a:t> para servir como brazo regional del </a:t>
            </a:r>
            <a:r>
              <a:rPr b="1" lang="es-ES" sz="1200" spc="-1" strike="noStrike">
                <a:solidFill>
                  <a:srgbClr val="000000"/>
                </a:solidFill>
                <a:latin typeface="Times New Roman"/>
              </a:rPr>
              <a:t>Programa de Mejores Prácticas y Liderazgo Local</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a:t>
            </a:r>
            <a:r>
              <a:rPr b="1" lang="es-ES" sz="1200" spc="-1" strike="noStrike">
                <a:solidFill>
                  <a:srgbClr val="000000"/>
                </a:solidFill>
                <a:latin typeface="Times New Roman"/>
              </a:rPr>
              <a:t>Foro Iberoamericano y del Caribe de Mejores Prácticas</a:t>
            </a:r>
            <a:r>
              <a:rPr b="0" lang="es-ES" sz="1200" spc="-1" strike="noStrike">
                <a:solidFill>
                  <a:srgbClr val="000000"/>
                </a:solidFill>
                <a:latin typeface="Times New Roman"/>
              </a:rPr>
              <a:t> fue establecido en 1997 por el </a:t>
            </a:r>
            <a:r>
              <a:rPr b="1" lang="es-ES" sz="1200" spc="-1" strike="noStrike">
                <a:solidFill>
                  <a:srgbClr val="000000"/>
                </a:solidFill>
                <a:latin typeface="Times New Roman"/>
              </a:rPr>
              <a:t>Programa de las Naciones Unidas para los Asentamientos Humanos</a:t>
            </a:r>
            <a:r>
              <a:rPr b="0" lang="es-ES" sz="1200" spc="-1" strike="noStrike">
                <a:solidFill>
                  <a:srgbClr val="000000"/>
                </a:solidFill>
                <a:latin typeface="Times New Roman"/>
              </a:rPr>
              <a:t> (UN-HABITAT), con el patrocinio del Gobierno de España. Actualmente es una red regional liderada por cinco instituciones o Nodos subregionales, dedicadas a la identificación e intercambio de lecciones aprendidas de las Buenas Práctic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Dentro de este ultimo eje. </a:t>
            </a:r>
            <a:r>
              <a:rPr b="1" lang="es-ES" sz="1400" spc="-1" strike="noStrike">
                <a:solidFill>
                  <a:srgbClr val="000000"/>
                </a:solidFill>
                <a:latin typeface="Times New Roman"/>
              </a:rPr>
              <a:t>El Agora</a:t>
            </a:r>
            <a:r>
              <a:rPr b="0" lang="es-ES" sz="1400" spc="-1" strike="noStrike">
                <a:solidFill>
                  <a:srgbClr val="000000"/>
                </a:solidFill>
                <a:latin typeface="Times New Roman"/>
              </a:rPr>
              <a:t> como representante del Nodo del Cono Sur del Foro Iberoamericano y del Caribe de Buenas Prácticas se encarga de seleccionar, difundir y validar las Practicas ha ser presentadas en el Premio </a:t>
            </a:r>
            <a:r>
              <a:rPr b="0" lang="es-ES" sz="1200" spc="-1" strike="noStrike">
                <a:solidFill>
                  <a:srgbClr val="000000"/>
                </a:solidFill>
                <a:latin typeface="Times New Roman"/>
              </a:rPr>
              <a:t>tiene entre sus responsabilidades el intercambio de información sobre las acciones colectivas que resuelven problemáticas sociales. La forma estipulada para hacerlo es por medio de la identificación, divulgación y transferencia de </a:t>
            </a:r>
            <a:r>
              <a:rPr b="0" i="1" lang="es-ES" sz="1200" spc="-1" strike="noStrike">
                <a:solidFill>
                  <a:srgbClr val="000000"/>
                </a:solidFill>
                <a:latin typeface="Times New Roman"/>
              </a:rPr>
              <a:t>Buenas Práctica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9066240"/>
            <a:ext cx="2971800" cy="477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C2F5608-241C-44F7-AE9A-011B366CA4CF}"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
        <p:nvSpPr>
          <p:cNvPr id="176" name="PlaceHolder 1"/>
          <p:cNvSpPr>
            <a:spLocks noGrp="1"/>
          </p:cNvSpPr>
          <p:nvPr>
            <p:ph type="sldImg"/>
          </p:nvPr>
        </p:nvSpPr>
        <p:spPr>
          <a:xfrm>
            <a:off x="1050840" y="722160"/>
            <a:ext cx="4756320" cy="3567240"/>
          </a:xfrm>
          <a:prstGeom prst="rect">
            <a:avLst/>
          </a:prstGeom>
          <a:ln w="0">
            <a:noFill/>
          </a:ln>
        </p:spPr>
      </p:sp>
      <p:sp>
        <p:nvSpPr>
          <p:cNvPr id="177" name="PlaceHolder 2"/>
          <p:cNvSpPr>
            <a:spLocks noGrp="1"/>
          </p:cNvSpPr>
          <p:nvPr>
            <p:ph type="body"/>
          </p:nvPr>
        </p:nvSpPr>
        <p:spPr>
          <a:xfrm>
            <a:off x="914400" y="4532400"/>
            <a:ext cx="5029200" cy="429552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9066240"/>
            <a:ext cx="2971800" cy="477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549CAF0-FFAF-4DF1-A78F-04A58F646BA9}"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
        <p:nvSpPr>
          <p:cNvPr id="179" name="PlaceHolder 1"/>
          <p:cNvSpPr>
            <a:spLocks noGrp="1"/>
          </p:cNvSpPr>
          <p:nvPr>
            <p:ph type="sldImg"/>
          </p:nvPr>
        </p:nvSpPr>
        <p:spPr>
          <a:xfrm>
            <a:off x="1044720" y="716040"/>
            <a:ext cx="4770360" cy="3578040"/>
          </a:xfrm>
          <a:prstGeom prst="rect">
            <a:avLst/>
          </a:prstGeom>
          <a:ln w="0">
            <a:noFill/>
          </a:ln>
        </p:spPr>
      </p:sp>
      <p:sp>
        <p:nvSpPr>
          <p:cNvPr id="180" name="PlaceHolder 2"/>
          <p:cNvSpPr>
            <a:spLocks noGrp="1"/>
          </p:cNvSpPr>
          <p:nvPr>
            <p:ph type="body"/>
          </p:nvPr>
        </p:nvSpPr>
        <p:spPr>
          <a:xfrm>
            <a:off x="685800" y="4533840"/>
            <a:ext cx="5486400" cy="429408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000000"/>
                </a:solidFill>
                <a:latin typeface="Times New Roman"/>
              </a:rPr>
              <a:t>Por ejemplo la Práctica de la “</a:t>
            </a:r>
            <a:r>
              <a:rPr b="1" lang="es-ES" sz="1200" spc="-1" strike="noStrike">
                <a:solidFill>
                  <a:srgbClr val="000000"/>
                </a:solidFill>
                <a:latin typeface="Times New Roman"/>
              </a:rPr>
              <a:t>Extensionismo Jurídico”</a:t>
            </a:r>
            <a:r>
              <a:rPr b="0" lang="es-ES" sz="1200" spc="-1" strike="noStrike">
                <a:solidFill>
                  <a:srgbClr val="000000"/>
                </a:solidFill>
                <a:latin typeface="Times New Roman"/>
              </a:rPr>
              <a:t>, fue transferido desde la Organización Chilena </a:t>
            </a:r>
            <a:r>
              <a:rPr b="1" lang="es-ES" sz="1200" spc="-1" strike="noStrike">
                <a:solidFill>
                  <a:srgbClr val="000000"/>
                </a:solidFill>
                <a:latin typeface="Times New Roman"/>
              </a:rPr>
              <a:t>FORJA</a:t>
            </a:r>
            <a:r>
              <a:rPr b="0" lang="es-ES" sz="1200" spc="-1" strike="noStrike">
                <a:solidFill>
                  <a:srgbClr val="000000"/>
                </a:solidFill>
                <a:latin typeface="Times New Roman"/>
              </a:rPr>
              <a:t> a </a:t>
            </a:r>
            <a:r>
              <a:rPr b="1" lang="es-ES" sz="1200" spc="-1" strike="noStrike">
                <a:solidFill>
                  <a:srgbClr val="000000"/>
                </a:solidFill>
                <a:latin typeface="Times New Roman"/>
              </a:rPr>
              <a:t>FAVIM</a:t>
            </a:r>
            <a:r>
              <a:rPr b="0" lang="es-ES" sz="1200" spc="-1" strike="noStrike">
                <a:solidFill>
                  <a:srgbClr val="000000"/>
                </a:solidFill>
                <a:latin typeface="Times New Roman"/>
              </a:rPr>
              <a:t> que luego la transmitió a </a:t>
            </a:r>
            <a:r>
              <a:rPr b="1" lang="es-ES" sz="1200" spc="-1" strike="noStrike">
                <a:solidFill>
                  <a:srgbClr val="000000"/>
                </a:solidFill>
                <a:latin typeface="Times New Roman"/>
              </a:rPr>
              <a:t>El Agora</a:t>
            </a:r>
            <a:r>
              <a:rPr b="0" lang="es-E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000000"/>
                </a:solidFill>
                <a:latin typeface="Times New Roman"/>
              </a:rPr>
              <a:t>Extensionismo Jurídico es un programa concebido desde la constatación empírica de que la mayoría de los problemas que afectan a las personas de menores recursos son “solucionables mediante una adecuada, oportuna y certera información, orientación y asesoría prejudiciales”. Se Capacitan extensionistas Jurídicos, vecinos (no abogados) luego transmiten a su comunidad y desde su comunidad sus derechos y modos de ejercerlos. </a:t>
            </a:r>
            <a:br>
              <a:rPr sz="1200"/>
            </a:b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000000"/>
                </a:solidFill>
                <a:latin typeface="Times New Roman"/>
              </a:rPr>
              <a:t>La transferencia de buenas prácticas es un proceso de intercambio de conocimientos y experiencias entre comunidades que enfrentan problemas similares y/o organizaciones que asumen las mismas responsabilidade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000000"/>
                </a:solidFill>
                <a:latin typeface="Times New Roman"/>
              </a:rPr>
              <a:t>Se plantea como un proceso estructurado y sistematizado de aprendizaje que es posible cuando una comunidad o una organización reconoce que otra ha logrado dar soluciones acertadas y apropiadas a un problema, expresa su voluntad de compartir los resultados sobre la base de “lecciones aprendidas” y solicita su colaboración y asesoría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9066240"/>
            <a:ext cx="2971800" cy="477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8E75AD5-BF60-47BF-BED1-664948283CC9}"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
        <p:nvSpPr>
          <p:cNvPr id="182" name="PlaceHolder 1"/>
          <p:cNvSpPr>
            <a:spLocks noGrp="1"/>
          </p:cNvSpPr>
          <p:nvPr>
            <p:ph type="sldImg"/>
          </p:nvPr>
        </p:nvSpPr>
        <p:spPr>
          <a:xfrm>
            <a:off x="1044720" y="716040"/>
            <a:ext cx="4770360" cy="3578040"/>
          </a:xfrm>
          <a:prstGeom prst="rect">
            <a:avLst/>
          </a:prstGeom>
          <a:ln w="0">
            <a:noFill/>
          </a:ln>
        </p:spPr>
      </p:sp>
      <p:sp>
        <p:nvSpPr>
          <p:cNvPr id="183" name="PlaceHolder 2"/>
          <p:cNvSpPr>
            <a:spLocks noGrp="1"/>
          </p:cNvSpPr>
          <p:nvPr>
            <p:ph type="body"/>
          </p:nvPr>
        </p:nvSpPr>
        <p:spPr>
          <a:xfrm>
            <a:off x="685800" y="4533480"/>
            <a:ext cx="5486400" cy="2398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9066240"/>
            <a:ext cx="2971800" cy="477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03A371A-CADC-4E01-9D4D-ADCF37DD6705}"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
        <p:nvSpPr>
          <p:cNvPr id="185" name="PlaceHolder 1"/>
          <p:cNvSpPr>
            <a:spLocks noGrp="1"/>
          </p:cNvSpPr>
          <p:nvPr>
            <p:ph type="sldImg"/>
          </p:nvPr>
        </p:nvSpPr>
        <p:spPr>
          <a:xfrm>
            <a:off x="1044720" y="716040"/>
            <a:ext cx="4770360" cy="3578040"/>
          </a:xfrm>
          <a:prstGeom prst="rect">
            <a:avLst/>
          </a:prstGeom>
          <a:ln w="0">
            <a:noFill/>
          </a:ln>
        </p:spPr>
      </p:sp>
      <p:sp>
        <p:nvSpPr>
          <p:cNvPr id="186" name="PlaceHolder 2"/>
          <p:cNvSpPr>
            <a:spLocks noGrp="1"/>
          </p:cNvSpPr>
          <p:nvPr>
            <p:ph type="body"/>
          </p:nvPr>
        </p:nvSpPr>
        <p:spPr>
          <a:xfrm>
            <a:off x="685800" y="4533480"/>
            <a:ext cx="5486400" cy="239868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Abuelas Cuenta Cuento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hac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buelas y Abuelos voluntarios que leen cuentos para niños de zonas urbano – marginales. Se intenta fomentar la lectura desde la primera infancia. Espacio de encuentro entre generaciones. Dan cuenta de su gratitud por haber encontrado un nuevo sentido para su tiempo y su capacidad de dar afecto.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Conjunto Balcarce – Chile</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Buenos Aire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spacio urbano de gran valor patrimonial que se encontraba abandonado y deteriorado.  Se realizan obras de rehabilitación urbana realizadas por el Gobierno de la Ciudad, el sector recibió un fuerte impulso, atrayendo capitales privados que realizaron importantes inversiones, dinamizando y poniendo en valor el sector.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Teatro Activ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sunción – Para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Jornadas de teatro y reflexión para fomentar la participación de personas de distintos ámbitos, y promover el desarrollo individual y  el compromiso personal en la construcción de una sociedad fundamentada en la justicia, el respeto a la dignidad  humana, y la democracia.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Teatro comunitario “Patricios unido de pie”</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Patricios, 9 de Juli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Un grupo de más de 50 personas, la mayoría mujeres y niños, que realizan obras de teatro para recuperar la memoria de los orígenes del pueblo y atraer al pueblo visitantes de otras localidades; logrando un crecimiento en relación a las actividades turísticas y de recreación.</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ograma Arte + Organización Socia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Buenos Aire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Jóvenes que participan en espacios de aprendizaje artístico y se transforman en multiplicadores socioculturales de la propuesta entre sus pares, familias, comunidades y otras organizaciones, favoreciendo la inclusión social y el desarrollo artístico. A través de Centros Culturales Comunitarios. </a:t>
            </a:r>
            <a:endParaRPr b="0" lang="en-US" sz="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9066240"/>
            <a:ext cx="2971800" cy="477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763829C-0D2E-4ED1-8387-8C6A0BBB411B}"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
        <p:nvSpPr>
          <p:cNvPr id="188" name="PlaceHolder 1"/>
          <p:cNvSpPr>
            <a:spLocks noGrp="1"/>
          </p:cNvSpPr>
          <p:nvPr>
            <p:ph type="sldImg"/>
          </p:nvPr>
        </p:nvSpPr>
        <p:spPr>
          <a:xfrm>
            <a:off x="1044720" y="716040"/>
            <a:ext cx="4770360" cy="3578040"/>
          </a:xfrm>
          <a:prstGeom prst="rect">
            <a:avLst/>
          </a:prstGeom>
          <a:ln w="0">
            <a:noFill/>
          </a:ln>
        </p:spPr>
      </p:sp>
      <p:sp>
        <p:nvSpPr>
          <p:cNvPr id="189" name="PlaceHolder 2"/>
          <p:cNvSpPr>
            <a:spLocks noGrp="1"/>
          </p:cNvSpPr>
          <p:nvPr>
            <p:ph type="body"/>
          </p:nvPr>
        </p:nvSpPr>
        <p:spPr>
          <a:xfrm>
            <a:off x="685800" y="4533480"/>
            <a:ext cx="5486400" cy="239868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nredando Jóvenes para el Desarrollo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Buenos Aire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Jóvenes de organizaciones de diferentes ciudades que planifican y gestionan proyectos de desarrollo social. A partir de un proceso pedagógico no formal que se organiza a partir de encuentros de capacitación presencial y procesos de producción a distancia.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Promueven la formación de redes de jóvenes para resolver diferentes problemática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oyecto Animadores Juvenil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Rosari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Jóvenes que participan en actividades de voluntariado, recreativas, comunitarias y sociales; promoviendo la participación e inclusión de jóvenes solidarios, comprometidos con la realidad.</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coclub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órdob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Niños y jóvenes que articulan acciones con otras instituciones, que desarrollan actividades en torno a la protección y cuidado del ambiente, capacitando y formando de dirigentes juveniles. En cada ciudad en torno a un problema,  se evalúan las posibilidades de motivar a la población en el cambio de conducta.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Tercer Campaña de vacunación contra el maltrato hacia niños, niñas y adolescentes “Un trato por el buen trat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ontevideo – Uru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Niños y Jóvenes entregan a quienes participan - en forma simbólica-, un certificado de vacunación contra el maltrato y un caramelo como vacuna simbolizando el buen trato; acompañado de un sticker con el logo de la campaña “Un trato por el buentrato” haciendo pública la realidad de los niños y jóvenes que sufren maltrato.</a:t>
            </a: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9066240"/>
            <a:ext cx="2971800" cy="477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A75F27D-D10C-473F-A4A6-9CA5A34A5399}"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
        <p:nvSpPr>
          <p:cNvPr id="191" name="PlaceHolder 1"/>
          <p:cNvSpPr>
            <a:spLocks noGrp="1"/>
          </p:cNvSpPr>
          <p:nvPr>
            <p:ph type="sldImg"/>
          </p:nvPr>
        </p:nvSpPr>
        <p:spPr>
          <a:xfrm>
            <a:off x="1044720" y="716040"/>
            <a:ext cx="4770360" cy="3578040"/>
          </a:xfrm>
          <a:prstGeom prst="rect">
            <a:avLst/>
          </a:prstGeom>
          <a:ln w="0">
            <a:noFill/>
          </a:ln>
        </p:spPr>
      </p:sp>
      <p:sp>
        <p:nvSpPr>
          <p:cNvPr id="192" name="PlaceHolder 2"/>
          <p:cNvSpPr>
            <a:spLocks noGrp="1"/>
          </p:cNvSpPr>
          <p:nvPr>
            <p:ph type="body"/>
          </p:nvPr>
        </p:nvSpPr>
        <p:spPr>
          <a:xfrm>
            <a:off x="685800" y="4533480"/>
            <a:ext cx="5486400" cy="239868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ograma de Reciclado de Papel de la Fundación Hospital J.P. Garrahan</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Buenos Aire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l fin es introducir en la comunidad la práctica habitual de juntar y donar el papel en desuso, con el cual el Hospital Garrahan cubre algunas necesidades del Hospital y la Casa Garrahan, hogar de niños de bajos recursos que esperan tratamiento o transplantes. Genera un vínculo más humano con el hospital a través del desarrollo de una perspectiva incluyente de la comunidad.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ontribuye a la protección del medio ambiente alentando los hábitos adecuados para su defensa permanente.</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REPAPEL: Reciclaje de papel en escuelas de bajos recurso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ontevideo – Uru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Proyecto de educación ambiental para escuelas de bajos recursos. Desarrolla la conciencia ambiental de los niños en su aprendizaje inicial con actividades prácticas y participativas de recolección y reciclaje de papel, distribuyendo materiales escolares fabricados con papel reciclado obtenido a partir de la recolección de diarios viejos y otros papeles en las mismas escuelas o en empresas patrocinant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oyecto Socio-Ambienta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Buenos Aire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40 personas (adolescentes- mujeres y hombres) que realizan actividades de recolección de materiales reciclables, comúnmente llamado “cirujeo”. Se transforman las condiciones de trabajo actual del “ciruja” (ilegal, inseguro, marginal, paupérrimo) en un emprendimiento cooperativo, legal, digno, en condiciones sanitarias y de seguridad controlada y con una participación en los beneficios equitativa para todos los integrante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volución de la concepción ambiental de una comunidad</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Pico Truncad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 partir de un relevamiento realizado por un proyecto de Fortalecimiento Institucional para promover la participación comunitaria en la Gestión Ambiental Municipal (IDF), Banco Mundial, el Municipio de Pico Truncado dispuso el Re-uso de aguas para riego forestal; creación de una planta de tratamiento de residuos sólidos urbanos; creación de viveros en los que crecen plantas que luego son aprovechadas en la ciudad; tareas de educación ambienta. Se reactivó el Parque Eólico y surgió la posibilidad de la instalación de una planta piloto de hidrógeno, una de las únicas plantas de su tipo en Latinoamérica. </a:t>
            </a: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9066240"/>
            <a:ext cx="2971800" cy="477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7E11795-08CE-41B8-8FEB-D86176C3E970}" type="slidenum">
              <a:rPr b="0" i="1" lang="es-ES_tradnl" sz="1000" spc="-1" strike="noStrike">
                <a:solidFill>
                  <a:srgbClr val="000000"/>
                </a:solidFill>
                <a:latin typeface="Times New Roman"/>
              </a:rPr>
              <a:t>&lt;number&gt;</a:t>
            </a:fld>
            <a:endParaRPr b="0" lang="en-US" sz="1000" spc="-1" strike="noStrike">
              <a:solidFill>
                <a:srgbClr val="000000"/>
              </a:solidFill>
              <a:latin typeface="Trebuchet MS"/>
            </a:endParaRPr>
          </a:p>
        </p:txBody>
      </p:sp>
      <p:sp>
        <p:nvSpPr>
          <p:cNvPr id="194" name="PlaceHolder 1"/>
          <p:cNvSpPr>
            <a:spLocks noGrp="1"/>
          </p:cNvSpPr>
          <p:nvPr>
            <p:ph type="sldImg"/>
          </p:nvPr>
        </p:nvSpPr>
        <p:spPr>
          <a:xfrm>
            <a:off x="1044720" y="716040"/>
            <a:ext cx="4770360" cy="3578040"/>
          </a:xfrm>
          <a:prstGeom prst="rect">
            <a:avLst/>
          </a:prstGeom>
          <a:ln w="0">
            <a:noFill/>
          </a:ln>
        </p:spPr>
      </p:sp>
      <p:sp>
        <p:nvSpPr>
          <p:cNvPr id="195" name="PlaceHolder 2"/>
          <p:cNvSpPr>
            <a:spLocks noGrp="1"/>
          </p:cNvSpPr>
          <p:nvPr>
            <p:ph type="body"/>
          </p:nvPr>
        </p:nvSpPr>
        <p:spPr>
          <a:xfrm>
            <a:off x="685800" y="4533480"/>
            <a:ext cx="5486400" cy="239868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Seguridad Ciudada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Río Negr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l Instituto para la Gestión -IPG- asumió el rol de asistencia técnica y formación con énfasis en los procesos de gestión participativos y el desarrollo en relación a los derechos humanos, seguridad humana, prevención de la inseguridad, problematización de la violencia doméstic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Fortalecimiento familiar, de beneficiarios a protagonista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Plat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onsiste en generar agentes de cambio que sean garantes de la elaboración, puesta en marcha, continuidad de acciones de promoción a la familia y así, influir en las políticas pública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prioridad es evitar la institucionalización de niñ@s y adolescentes y promover la participación activa de la comunidad. Las acciones de promoción y prevención posibilitaron que los niños y sus familias, asumiendo un protagonismo real, puedan defender y ejercer sus derecho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Funcionarios han incorporado el modelo de acogimiento en familia en contraposición a la internación y penalización de los niños por ser pobr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ograma Itinerante de Recreacion “A Marcha Camión” Construcción de espacios de protagonismo  y participación  ciudadana a partir del juego, el arte y la recreación.</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ontevideo - Uru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Durante los meses de  verano, los barrios marginales se involucran en propuestas recreativas, deportivas y expresivas para contener a niños y jóvenes, promoviendo la participación ciudadana y la apropiación de espacios y de usos creativos del tiempo libre en ámbitos esencialmente comunitarios.  Promoviendo, en un marco de convivencia, respeto y diversidad para que puedan incorporar valores a través del juego, recreación y el uso creativo del tiempo libre.</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ImaginArte: Fortalecimiento Nutricional y Desarrollo de Proyectos de Vid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ontevide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Difunden y promueven la defensa de los Derechos de niños, adolescentes y jóvene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 través del fortalecimiento nutricional: promoción de la lactancia materna, la inclusión de frutas y verduras en la dieta, incorporación adecuada de alimentos en los niños, alimentación durante el embarazo.  La promoción de proyectos de vida apoyando a las mujeres en el desarrollo de competencias y habilidades que mejoren su inserción social.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xtensionismo Jurídic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antiago – Chile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punta a elevar el nivel de la calidad de vida de la población mediante el ejercicio y exigibilidad de todos los derechos – entendiendo así  el acceso a la justici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mpodera a los actores sociales en el ejercicio de la resolución amigable de los conflictos comunitarios de diversa índole.  Para ello se preconiza permanentemente la formación y fortalecimiento de redes de colaboración entre organizaciones de la sociedad civil y la institucionalidad responsable de las políticas públicas y los programas social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Control ciudadano de la gestión públic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sunción - Para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l primer propósito de la Contraloría Ciudadana es hacer tomar conciencia a la ciudadanía que se deben exigir a los mandatarios que deben rendir cuenta y a consultar a los ciudadanos sobre sus actividades. Otro de los propósitos es hacer comprender a la ciudadanía que su participación debe ser efectiv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Ñemby – Desafiando a la crisi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Ñemby - Para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crisis política se superó evitando el revanchismo y acercando a los actores a una mesa de diálogo que consensuó una paz política, casi inédita en el paí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l mejoramiento integral de la municipalidad se enfocó en el incremento de las recaudaciones y tasas, a fin de invertirlos en obras y servicios e impulsar la transparencia y la participación ciudadana, La reorganización administrativa del municipio con una ágil estructura basada en direcciones; tributaria y financiera y social, incluyendo una coordinación de comisiones vecinales. Audiencias públicas de presupuesto, numerosas obras de infraestructura.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Junta Comunitaria de Seguridad Urba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habá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nte el incremento de robos en zona urbana y rural, tráfico de drogas e inseguridad en su conjunto, la comunidad se organiza a través de este órgano que se integra con un representante por cada institución local. De esta forma, Escuelas, Cooperadoras Escolares, Clubes, Asociación Centro Económico, Sindicatos, Cooperativas, Medios de Comunicación, etc.- realizan reuniones periódicamente con la Comuna y la Policía para resolver los problemas que aquejan a la comunidad</a:t>
            </a:r>
            <a:r>
              <a:rPr b="1" lang="es-ES" sz="800" spc="-1" strike="noStrike" u="sng">
                <a:solidFill>
                  <a:srgbClr val="000000"/>
                </a:solidFill>
                <a:uFillTx/>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l Municipio como inductor del Desarrollo Económic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Río Grande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odelo de gestión participativo, descentralizado y flexible, donde todos los actores que la componen, a nivel local, entes públicos, privados y técnicos, mas los actores asociados que representan a las diferentes esferas del estado nacional, tienen el mismo peso, a la hora de tomar decision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l espíritu de equipo sostiene la interdependencia de los poderes para el desarrollo económico loca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Concertación público-privada para el desarrollo económico local</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Pamp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Búsqueda de alternativas de financiamiento que privilegien lo endógeno del rol de los organismos público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dio inicio a un trabajo conjunto público-privado con características inéditas en la región y en el que el sector público local se comprometió al aporte de fondos para que el destino de los mismos sea decidido en forma conjunta con instituciones de la ciudad.</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esupuesto Municipal Participativ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Distrito de Fram – Paraguay</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Promueve la potenciación de la capacidad de trabajo en conjunto de la ciudadanía con las autoridades locales, así como la autogestión de la comunidad a través de mecanismos permanentes de consultas e intercambio de informaciones, en los que la corresponsabilidad es el eje común.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s un medio eficaz para transparentar la gestión municipal del Distrito en la toma de decisiones y la ejecución presupuestari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esupuesto Participativo Joven</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Rosari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Jóvenes entre 13 y 18 años que se incorporan en los asuntos públicos, formando parte de la discusión de prioridades en las que se invertirá el presupuesto municipal. Fortalece la participación juvenil dentro de un espacio formal de toma de decisiones, ampliando el acceso de oportunidades para los jóvenes en el ejercicio de sus derechos ciudadanos; incorporando una mirada joven a la hora de decidir.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Programa de Orientación a la Comunidad</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Buenos Aire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Es un recurso formación de la Red Solidaria pensado para personas que buscan mejorar su capacidad de orientar a sus comunidades en situaciones de necesidad. Busca contribuir a activar el potencial de la comunidad para transformar su capacidad de dar respuestas simples y efectivas a problemas que sufren sus miembro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Organización de las trabajadoras sexuales para el mejoramiento de la calidad de vida, promoción de la salud, empoderamiento, autogestión y gestión de políticas públicas con enfoque de género en el sector</a:t>
            </a:r>
            <a:r>
              <a:rPr b="0" lang="es-ES" sz="800" spc="-1" strike="noStrike">
                <a:solidFill>
                  <a:srgbClr val="000000"/>
                </a:solidFill>
                <a:latin typeface="Times New Roman"/>
              </a:rPr>
              <a:t>”</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Buenos Aires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ujeres excluidas, discriminadas y marginadas, sometidas malos tratos que se fortalecen, recuperan su dignidad, defienden su libertad de trabajo, conocen sus derechos, se hacen cargo del cuidado de su salud, promueven proyectos reproductivos y se reconocen como mujeres con identidad de género.</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rticulación con organismos de salud y organizaciones de derechos humanos.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ligiendo la Vida y la Salud, las Trabajadoras Sexuales prevenimos el VIH/Sid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Córdob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Trabajadoras sexuales que comienzan a formarse en torno a derechos fundamentales como la salud y la prevención de ITS y VIH/Sida, la problemática de género, los derechos humanos, como personas, como mujeres y como trabajadora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Mejora de las condiciones de salud (y por lo tanto de vida) de muchas de las trabajadoras sexuales a las que se llega con la iniciativ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Ciudades sin violencia para las mujeres. Ciudades sin violencia para todo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Rosario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capacita a funcionarios/as públicos/as y organizaciones sociales sobre la violencia de género en las ciudades, y diseñan estrategias consensuadas entre ciudadanía y autoridades locales para lograr ciudades más seguras. Se involucró a las autoridades locales, con el objetivo de sensibilizar sobre los efectos diferenciados de la violencia en varones y mujeres y su responsabilidad de garantizar espacios de participación ciudadana para la formulación de las políticas pública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Escuchándono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La Plata - Argentina</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Se difunden las dificultades de comunicación y sociales que encuentra en su vida de relación quien padece una hipoacusia, a través de actividades como títeres en espacios verdes, juegos en escuelas, grabaciones con voces infantiles donde se habla de la problemática para difundir en el espacio radiofónico, encuestas y charlas a estudiantes universitarios y terciarios y a profesionales de salud y educación en contacto con niños y adolescentes.</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u="sng">
                <a:solidFill>
                  <a:srgbClr val="000000"/>
                </a:solidFill>
                <a:uFillTx/>
                <a:latin typeface="Times New Roman"/>
              </a:rPr>
              <a:t>Juntos Construyendo una Vida Mejor</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Valparaíso - Chile</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 través de niños y jóvenes protagonistas voluntarios se convocan a actores que no se vinculaban entre sí, construyendo espacios de encuentro. Construyendo una red de actores que mantienen su compromiso. </a:t>
            </a:r>
            <a:endParaRPr b="0" lang="en-US" sz="800" spc="-1" strike="noStrike">
              <a:solidFill>
                <a:srgbClr val="000000"/>
              </a:solidFill>
              <a:latin typeface="Times New Roman"/>
            </a:endParaRPr>
          </a:p>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Times New Roman"/>
              </a:rPr>
              <a:t>Apunta a responsabilizar en la práctica a mejorar el entorno. Espacios recuperados para uso público: plaza, anfiteatro, murales, sentidos colectivos revitalizados, rescate de memoria colectiva de transformaciones. </a:t>
            </a: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30F4A1-509E-4A61-B71C-CD4CC6EF5D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9D6B7-0F2C-4948-8500-3619ADA58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6DEA01-C384-48DF-B8B8-6CC1916557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450AC4-9BF8-4E88-8F99-DDFB208AC1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5CE41-BFB9-43C9-BB80-EF576D472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55EC7-D43F-4DA6-B4B9-3E3E14AC0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4D52C-72C7-4A15-B651-70AFD4277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049AD-E57B-4E26-90F8-89AE37286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6104E-9897-44EA-B418-8828C8773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CA7FE-250E-4C28-B04B-9FF2F71B7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15E96-DE26-4C31-B0B7-055B1C20E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2C778-3B34-457E-B2FA-18C06CEE0F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6F8B4-7730-4770-8F39-12F70A849B3E}" type="slidenum">
              <a:rPr b="0" lang="es-ES_tradnl" sz="1400" spc="-1" strike="noStrike">
                <a:solidFill>
                  <a:srgbClr val="000000"/>
                </a:solidFill>
                <a:latin typeface="Times New Roman"/>
              </a:rPr>
              <a:t>&lt;number&gt;</a:t>
            </a:fld>
            <a:endParaRPr b="0" lang="en-US" sz="1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elagora.org.ar/"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6"/>
          <p:cNvSpPr/>
          <p:nvPr/>
        </p:nvSpPr>
        <p:spPr>
          <a:xfrm>
            <a:off x="984240" y="5732640"/>
            <a:ext cx="7108920" cy="941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FuturaTEE"/>
              </a:rPr>
              <a:t>En esta hora, reunidos para la acción pública</a:t>
            </a:r>
            <a:endParaRPr b="0" lang="en-US" sz="26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u="sng">
                <a:solidFill>
                  <a:srgbClr val="ccccff"/>
                </a:solidFill>
                <a:uFillTx/>
                <a:latin typeface="FuturaTEE"/>
                <a:hlinkClick r:id="rId1"/>
              </a:rPr>
              <a:t>www.elagora.org.ar</a:t>
            </a:r>
            <a:r>
              <a:rPr b="0" lang="es-ES_tradnl" sz="2600" spc="-1" strike="noStrike">
                <a:solidFill>
                  <a:srgbClr val="000000"/>
                </a:solidFill>
                <a:latin typeface="FuturaTEE"/>
              </a:rPr>
              <a:t> </a:t>
            </a:r>
            <a:endParaRPr b="0" lang="en-US" sz="2600" spc="-1" strike="noStrike">
              <a:solidFill>
                <a:srgbClr val="000000"/>
              </a:solidFill>
              <a:latin typeface="Trebuchet MS"/>
            </a:endParaRPr>
          </a:p>
        </p:txBody>
      </p:sp>
      <p:pic>
        <p:nvPicPr>
          <p:cNvPr id="49" name="Picture 13" descr="Elagoralogo2"/>
          <p:cNvPicPr/>
          <p:nvPr/>
        </p:nvPicPr>
        <p:blipFill>
          <a:blip r:embed="rId2"/>
          <a:stretch/>
        </p:blipFill>
        <p:spPr>
          <a:xfrm>
            <a:off x="3132000" y="2924280"/>
            <a:ext cx="2737080" cy="2448000"/>
          </a:xfrm>
          <a:prstGeom prst="rect">
            <a:avLst/>
          </a:prstGeom>
          <a:ln w="0">
            <a:noFill/>
          </a:ln>
        </p:spPr>
      </p:pic>
      <p:sp>
        <p:nvSpPr>
          <p:cNvPr id="50" name="Rectangle 17"/>
          <p:cNvSpPr/>
          <p:nvPr/>
        </p:nvSpPr>
        <p:spPr>
          <a:xfrm>
            <a:off x="216000" y="549360"/>
            <a:ext cx="8820000" cy="116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000000"/>
                </a:solidFill>
                <a:latin typeface="Trebuchet MS"/>
              </a:rPr>
              <a:t>La Ciudad, los ciudadan@s y su Seguridad</a:t>
            </a:r>
            <a:endParaRPr b="0" lang="en-US" sz="35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703"/>
        </a:solidFill>
      </p:bgPr>
    </p:bg>
    <p:spTree>
      <p:nvGrpSpPr>
        <p:cNvPr id="1" name=""/>
        <p:cNvGrpSpPr/>
        <p:nvPr/>
      </p:nvGrpSpPr>
      <p:grpSpPr>
        <a:xfrm>
          <a:off x="0" y="0"/>
          <a:ext cx="0" cy="0"/>
          <a:chOff x="0" y="0"/>
          <a:chExt cx="0" cy="0"/>
        </a:xfrm>
      </p:grpSpPr>
      <p:sp>
        <p:nvSpPr>
          <p:cNvPr id="95" name="Text Box 2"/>
          <p:cNvSpPr/>
          <p:nvPr/>
        </p:nvSpPr>
        <p:spPr>
          <a:xfrm>
            <a:off x="324000" y="115920"/>
            <a:ext cx="849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CONSTRUCCIÓN DE CIUDADANÍA (2)</a:t>
            </a:r>
            <a:endParaRPr b="0" lang="en-US" sz="3200" spc="-1" strike="noStrike">
              <a:solidFill>
                <a:srgbClr val="000000"/>
              </a:solidFill>
              <a:latin typeface="Trebuchet MS"/>
            </a:endParaRPr>
          </a:p>
        </p:txBody>
      </p:sp>
      <p:sp>
        <p:nvSpPr>
          <p:cNvPr id="96" name="Rectangle 3"/>
          <p:cNvSpPr/>
          <p:nvPr/>
        </p:nvSpPr>
        <p:spPr>
          <a:xfrm>
            <a:off x="0" y="5877000"/>
            <a:ext cx="9144000" cy="981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rebuchet MS"/>
            </a:endParaRPr>
          </a:p>
        </p:txBody>
      </p:sp>
      <p:pic>
        <p:nvPicPr>
          <p:cNvPr id="97" name="Picture 4" descr="agoralogoByN"/>
          <p:cNvPicPr/>
          <p:nvPr/>
        </p:nvPicPr>
        <p:blipFill>
          <a:blip r:embed="rId1"/>
          <a:stretch/>
        </p:blipFill>
        <p:spPr>
          <a:xfrm>
            <a:off x="395280" y="6046920"/>
            <a:ext cx="934920" cy="766800"/>
          </a:xfrm>
          <a:prstGeom prst="rect">
            <a:avLst/>
          </a:prstGeom>
          <a:ln w="0">
            <a:noFill/>
          </a:ln>
        </p:spPr>
      </p:pic>
      <p:pic>
        <p:nvPicPr>
          <p:cNvPr id="98" name="Picture 5" descr="treslogos"/>
          <p:cNvPicPr/>
          <p:nvPr/>
        </p:nvPicPr>
        <p:blipFill>
          <a:blip r:embed="rId2"/>
          <a:stretch/>
        </p:blipFill>
        <p:spPr>
          <a:xfrm>
            <a:off x="6877080" y="6021360"/>
            <a:ext cx="2038320" cy="666720"/>
          </a:xfrm>
          <a:prstGeom prst="rect">
            <a:avLst/>
          </a:prstGeom>
          <a:ln w="0">
            <a:noFill/>
          </a:ln>
        </p:spPr>
      </p:pic>
      <p:sp>
        <p:nvSpPr>
          <p:cNvPr id="99" name="Text Box 6"/>
          <p:cNvSpPr/>
          <p:nvPr/>
        </p:nvSpPr>
        <p:spPr>
          <a:xfrm>
            <a:off x="395280" y="836640"/>
            <a:ext cx="345600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Presupuesto Municipal Participativo</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Distrito de Fram – Paraguay</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Presupuesto Participativo Joven</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Rosario – Argenti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Programa de Orientación a la Comunidad</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Buenos Aires – Argenti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Organización de las trabajadoras sexuales para el mejoramiento de la calidad de vida, promoción de la salud, empoderamiento, autogestión y gestión de políticas públicas con enfoque de género en el sector</a:t>
            </a:r>
            <a:r>
              <a:rPr b="0" lang="es-ES" sz="1600" spc="-1" strike="noStrike">
                <a:solidFill>
                  <a:srgbClr val="ffffff"/>
                </a:solidFill>
                <a:latin typeface="Trebuchet MS"/>
              </a:rPr>
              <a:t>”</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Buenos Aires – Argentina</a:t>
            </a:r>
            <a:endParaRPr b="0" lang="en-US" sz="1600" spc="-1" strike="noStrike">
              <a:solidFill>
                <a:srgbClr val="000000"/>
              </a:solidFill>
              <a:latin typeface="Trebuchet MS"/>
            </a:endParaRPr>
          </a:p>
        </p:txBody>
      </p:sp>
      <p:sp>
        <p:nvSpPr>
          <p:cNvPr id="100" name="Text Box 7"/>
          <p:cNvSpPr/>
          <p:nvPr/>
        </p:nvSpPr>
        <p:spPr>
          <a:xfrm>
            <a:off x="4643280" y="808200"/>
            <a:ext cx="410544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Concertación público-privada para el desarrollo económico local</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La Pampa – Argenti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Eligiendo la Vida y la Salud, las Trabajadoras Sexuales prevenimos el VIH/Sid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Córdoba – Argenti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Ciudades sin violencia para las mujeres. Ciudades sin violencia para todos</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Rosario – Argenti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rebuchet MS"/>
              </a:rPr>
              <a:t>Escuchándonos</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La Plata – Argenti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Juntos Construyendo una Vida Mejor</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Valparaíso - Chile</a:t>
            </a:r>
            <a:endParaRPr b="0" lang="en-US" sz="1600" spc="-1" strike="noStrike">
              <a:solidFill>
                <a:srgbClr val="000000"/>
              </a:solidFill>
              <a:latin typeface="Trebuchet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703"/>
        </a:solidFill>
      </p:bgPr>
    </p:bg>
    <p:spTree>
      <p:nvGrpSpPr>
        <p:cNvPr id="1" name=""/>
        <p:cNvGrpSpPr/>
        <p:nvPr/>
      </p:nvGrpSpPr>
      <p:grpSpPr>
        <a:xfrm>
          <a:off x="0" y="0"/>
          <a:ext cx="0" cy="0"/>
          <a:chOff x="0" y="0"/>
          <a:chExt cx="0" cy="0"/>
        </a:xfrm>
      </p:grpSpPr>
      <p:sp>
        <p:nvSpPr>
          <p:cNvPr id="101" name="Text Box 2"/>
          <p:cNvSpPr/>
          <p:nvPr/>
        </p:nvSpPr>
        <p:spPr>
          <a:xfrm>
            <a:off x="468360" y="189000"/>
            <a:ext cx="8496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GENERACIÓN DE RECURSOS, INCLUSIÓN SOCIAL (1)</a:t>
            </a:r>
            <a:endParaRPr b="0" lang="en-US" sz="2800" spc="-1" strike="noStrike">
              <a:solidFill>
                <a:srgbClr val="000000"/>
              </a:solidFill>
              <a:latin typeface="Trebuchet MS"/>
            </a:endParaRPr>
          </a:p>
        </p:txBody>
      </p:sp>
      <p:sp>
        <p:nvSpPr>
          <p:cNvPr id="102" name="Rectangle 3"/>
          <p:cNvSpPr/>
          <p:nvPr/>
        </p:nvSpPr>
        <p:spPr>
          <a:xfrm>
            <a:off x="0" y="5877000"/>
            <a:ext cx="9144000" cy="981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rebuchet MS"/>
            </a:endParaRPr>
          </a:p>
        </p:txBody>
      </p:sp>
      <p:pic>
        <p:nvPicPr>
          <p:cNvPr id="103" name="Picture 4" descr="agoralogoByN"/>
          <p:cNvPicPr/>
          <p:nvPr/>
        </p:nvPicPr>
        <p:blipFill>
          <a:blip r:embed="rId1"/>
          <a:stretch/>
        </p:blipFill>
        <p:spPr>
          <a:xfrm>
            <a:off x="395280" y="6046920"/>
            <a:ext cx="934920" cy="766800"/>
          </a:xfrm>
          <a:prstGeom prst="rect">
            <a:avLst/>
          </a:prstGeom>
          <a:ln w="0">
            <a:noFill/>
          </a:ln>
        </p:spPr>
      </p:pic>
      <p:pic>
        <p:nvPicPr>
          <p:cNvPr id="104" name="Picture 5" descr="treslogos"/>
          <p:cNvPicPr/>
          <p:nvPr/>
        </p:nvPicPr>
        <p:blipFill>
          <a:blip r:embed="rId2"/>
          <a:stretch/>
        </p:blipFill>
        <p:spPr>
          <a:xfrm>
            <a:off x="6877080" y="6021360"/>
            <a:ext cx="2038320" cy="666720"/>
          </a:xfrm>
          <a:prstGeom prst="rect">
            <a:avLst/>
          </a:prstGeom>
          <a:ln w="0">
            <a:noFill/>
          </a:ln>
        </p:spPr>
      </p:pic>
      <p:sp>
        <p:nvSpPr>
          <p:cNvPr id="105" name="Text Box 6"/>
          <p:cNvSpPr/>
          <p:nvPr/>
        </p:nvSpPr>
        <p:spPr>
          <a:xfrm>
            <a:off x="468360" y="925560"/>
            <a:ext cx="35989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rebuchet MS"/>
              </a:rPr>
              <a:t>Asociación Mutual El Colmenar. Un Modelo de gestión social para el acceso a los servicios públicos y el desarrollo local.</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rebuchet MS"/>
              </a:rPr>
              <a:t>Buenos Aires – Argentina</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rebuchet MS"/>
              </a:rPr>
              <a:t>FESPAL – Feria y seminarios de producciones alternativas</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rebuchet MS"/>
              </a:rPr>
              <a:t>Chabás – Argentina</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rebuchet MS"/>
              </a:rPr>
              <a:t>Taller de Reparación y encuadernación de libros</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rebuchet MS"/>
              </a:rPr>
              <a:t>Córdoba – Argentina</a:t>
            </a:r>
            <a:endParaRPr b="0" lang="en-US" sz="2000" spc="-1" strike="noStrike">
              <a:solidFill>
                <a:srgbClr val="000000"/>
              </a:solidFill>
              <a:latin typeface="Trebuchet MS"/>
            </a:endParaRPr>
          </a:p>
        </p:txBody>
      </p:sp>
      <p:sp>
        <p:nvSpPr>
          <p:cNvPr id="106" name="Text Box 7"/>
          <p:cNvSpPr/>
          <p:nvPr/>
        </p:nvSpPr>
        <p:spPr>
          <a:xfrm>
            <a:off x="4788000" y="907920"/>
            <a:ext cx="41767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rebuchet MS"/>
              </a:rPr>
              <a:t>Pongamos al Trabajo de Moda para Siempre</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rebuchet MS"/>
              </a:rPr>
              <a:t>La Matanza – Argentina</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rebuchet MS"/>
              </a:rPr>
              <a:t>Centro de Desarrollo Integral de la Familia</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rebuchet MS"/>
              </a:rPr>
              <a:t>Santiago – Chile</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rebuchet MS"/>
              </a:rPr>
              <a:t>Programa Integrado de Cultivos Andinos</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rebuchet MS"/>
              </a:rPr>
              <a:t>Maimará – Argentina</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rebuchet MS"/>
              </a:rPr>
              <a:t>Programa de Agricultura Urbana</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rebuchet MS"/>
              </a:rPr>
              <a:t>Rosario –Argentina. Ganadora de Dubai 2004</a:t>
            </a:r>
            <a:endParaRPr b="0" lang="en-US" sz="2000" spc="-1" strike="noStrike">
              <a:solidFill>
                <a:srgbClr val="000000"/>
              </a:solidFill>
              <a:latin typeface="Trebuchet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703"/>
        </a:solidFill>
      </p:bgPr>
    </p:bg>
    <p:spTree>
      <p:nvGrpSpPr>
        <p:cNvPr id="1" name=""/>
        <p:cNvGrpSpPr/>
        <p:nvPr/>
      </p:nvGrpSpPr>
      <p:grpSpPr>
        <a:xfrm>
          <a:off x="0" y="0"/>
          <a:ext cx="0" cy="0"/>
          <a:chOff x="0" y="0"/>
          <a:chExt cx="0" cy="0"/>
        </a:xfrm>
      </p:grpSpPr>
      <p:sp>
        <p:nvSpPr>
          <p:cNvPr id="107" name="Text Box 2"/>
          <p:cNvSpPr/>
          <p:nvPr/>
        </p:nvSpPr>
        <p:spPr>
          <a:xfrm>
            <a:off x="468360" y="189000"/>
            <a:ext cx="8496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GENERACIÓN DE RECURSOS, INCLUSIÓN SOCIAL (2)</a:t>
            </a:r>
            <a:endParaRPr b="0" lang="en-US" sz="2800" spc="-1" strike="noStrike">
              <a:solidFill>
                <a:srgbClr val="000000"/>
              </a:solidFill>
              <a:latin typeface="Trebuchet MS"/>
            </a:endParaRPr>
          </a:p>
        </p:txBody>
      </p:sp>
      <p:sp>
        <p:nvSpPr>
          <p:cNvPr id="108" name="Rectangle 3"/>
          <p:cNvSpPr/>
          <p:nvPr/>
        </p:nvSpPr>
        <p:spPr>
          <a:xfrm>
            <a:off x="0" y="5877000"/>
            <a:ext cx="9144000" cy="981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rebuchet MS"/>
            </a:endParaRPr>
          </a:p>
        </p:txBody>
      </p:sp>
      <p:pic>
        <p:nvPicPr>
          <p:cNvPr id="109" name="Picture 4" descr="agoralogoByN"/>
          <p:cNvPicPr/>
          <p:nvPr/>
        </p:nvPicPr>
        <p:blipFill>
          <a:blip r:embed="rId1"/>
          <a:stretch/>
        </p:blipFill>
        <p:spPr>
          <a:xfrm>
            <a:off x="395280" y="6046920"/>
            <a:ext cx="934920" cy="766800"/>
          </a:xfrm>
          <a:prstGeom prst="rect">
            <a:avLst/>
          </a:prstGeom>
          <a:ln w="0">
            <a:noFill/>
          </a:ln>
        </p:spPr>
      </p:pic>
      <p:pic>
        <p:nvPicPr>
          <p:cNvPr id="110" name="Picture 5" descr="treslogos"/>
          <p:cNvPicPr/>
          <p:nvPr/>
        </p:nvPicPr>
        <p:blipFill>
          <a:blip r:embed="rId2"/>
          <a:stretch/>
        </p:blipFill>
        <p:spPr>
          <a:xfrm>
            <a:off x="6877080" y="6021360"/>
            <a:ext cx="2038320" cy="666720"/>
          </a:xfrm>
          <a:prstGeom prst="rect">
            <a:avLst/>
          </a:prstGeom>
          <a:ln w="0">
            <a:noFill/>
          </a:ln>
        </p:spPr>
      </p:pic>
      <p:sp>
        <p:nvSpPr>
          <p:cNvPr id="111" name="Text Box 6"/>
          <p:cNvSpPr/>
          <p:nvPr/>
        </p:nvSpPr>
        <p:spPr>
          <a:xfrm>
            <a:off x="468360" y="958680"/>
            <a:ext cx="367200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rebuchet MS"/>
              </a:rPr>
              <a:t>Proyecto Actividades Productivas – Programa Crecer</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rebuchet MS"/>
              </a:rPr>
              <a:t>Rosario – Argentina</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rebuchet MS"/>
              </a:rPr>
              <a:t>Estrategias Socioproductivas para el Desarrollo Agroecológico de localidades del noroeste cordobés</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rebuchet MS"/>
              </a:rPr>
              <a:t>Córdoba – Argentina</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rebuchet MS"/>
              </a:rPr>
              <a:t>Fortalecimiento Comunitario</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rebuchet MS"/>
              </a:rPr>
              <a:t>Paraguay</a:t>
            </a:r>
            <a:endParaRPr b="0" lang="en-US" sz="2000" spc="-1" strike="noStrike">
              <a:solidFill>
                <a:srgbClr val="000000"/>
              </a:solidFill>
              <a:latin typeface="Trebuchet MS"/>
            </a:endParaRPr>
          </a:p>
        </p:txBody>
      </p:sp>
      <p:sp>
        <p:nvSpPr>
          <p:cNvPr id="112" name="Text Box 7"/>
          <p:cNvSpPr/>
          <p:nvPr/>
        </p:nvSpPr>
        <p:spPr>
          <a:xfrm>
            <a:off x="5003640" y="907920"/>
            <a:ext cx="352908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rebuchet MS"/>
              </a:rPr>
              <a:t>Fábrica Cielo Abierto</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rebuchet MS"/>
              </a:rPr>
              <a:t>Capilla del Monte – Argentina</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rebuchet MS"/>
              </a:rPr>
              <a:t>Capacitar para competir en igualdad de condiciones</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rebuchet MS"/>
              </a:rPr>
              <a:t>Escobar – Argentina</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rebuchet MS"/>
              </a:rPr>
              <a:t>El futuro es hoy, son nuestros niños</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rebuchet MS"/>
              </a:rPr>
              <a:t>Córdoba – Argentina</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rebuchet MS"/>
              </a:rPr>
              <a:t>Inclusión e integración social de los jóvenes</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rebuchet MS"/>
              </a:rPr>
              <a:t>Mendoza – Argentina</a:t>
            </a:r>
            <a:endParaRPr b="0" lang="en-US" sz="2000" spc="-1" strike="noStrike">
              <a:solidFill>
                <a:srgbClr val="000000"/>
              </a:solidFill>
              <a:latin typeface="Trebuchet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703"/>
        </a:solidFill>
      </p:bgPr>
    </p:bg>
    <p:spTree>
      <p:nvGrpSpPr>
        <p:cNvPr id="1" name=""/>
        <p:cNvGrpSpPr/>
        <p:nvPr/>
      </p:nvGrpSpPr>
      <p:grpSpPr>
        <a:xfrm>
          <a:off x="0" y="0"/>
          <a:ext cx="0" cy="0"/>
          <a:chOff x="0" y="0"/>
          <a:chExt cx="0" cy="0"/>
        </a:xfrm>
      </p:grpSpPr>
      <p:sp>
        <p:nvSpPr>
          <p:cNvPr id="113" name="Text Box 2"/>
          <p:cNvSpPr/>
          <p:nvPr/>
        </p:nvSpPr>
        <p:spPr>
          <a:xfrm>
            <a:off x="468360" y="189000"/>
            <a:ext cx="849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EDUCACIÓN E INCLUSIÓN</a:t>
            </a:r>
            <a:endParaRPr b="0" lang="en-US" sz="3200" spc="-1" strike="noStrike">
              <a:solidFill>
                <a:srgbClr val="000000"/>
              </a:solidFill>
              <a:latin typeface="Trebuchet MS"/>
            </a:endParaRPr>
          </a:p>
        </p:txBody>
      </p:sp>
      <p:sp>
        <p:nvSpPr>
          <p:cNvPr id="114" name="Rectangle 3"/>
          <p:cNvSpPr/>
          <p:nvPr/>
        </p:nvSpPr>
        <p:spPr>
          <a:xfrm>
            <a:off x="0" y="5877000"/>
            <a:ext cx="9144000" cy="981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rebuchet MS"/>
            </a:endParaRPr>
          </a:p>
        </p:txBody>
      </p:sp>
      <p:pic>
        <p:nvPicPr>
          <p:cNvPr id="115" name="Picture 4" descr="agoralogoByN"/>
          <p:cNvPicPr/>
          <p:nvPr/>
        </p:nvPicPr>
        <p:blipFill>
          <a:blip r:embed="rId1"/>
          <a:stretch/>
        </p:blipFill>
        <p:spPr>
          <a:xfrm>
            <a:off x="395280" y="6046920"/>
            <a:ext cx="934920" cy="766800"/>
          </a:xfrm>
          <a:prstGeom prst="rect">
            <a:avLst/>
          </a:prstGeom>
          <a:ln w="0">
            <a:noFill/>
          </a:ln>
        </p:spPr>
      </p:pic>
      <p:pic>
        <p:nvPicPr>
          <p:cNvPr id="116" name="Picture 5" descr="treslogos"/>
          <p:cNvPicPr/>
          <p:nvPr/>
        </p:nvPicPr>
        <p:blipFill>
          <a:blip r:embed="rId2"/>
          <a:stretch/>
        </p:blipFill>
        <p:spPr>
          <a:xfrm>
            <a:off x="6877080" y="6021360"/>
            <a:ext cx="2038320" cy="666720"/>
          </a:xfrm>
          <a:prstGeom prst="rect">
            <a:avLst/>
          </a:prstGeom>
          <a:ln w="0">
            <a:noFill/>
          </a:ln>
        </p:spPr>
      </p:pic>
      <p:sp>
        <p:nvSpPr>
          <p:cNvPr id="117" name="Text Box 6"/>
          <p:cNvSpPr/>
          <p:nvPr/>
        </p:nvSpPr>
        <p:spPr>
          <a:xfrm>
            <a:off x="468360" y="981000"/>
            <a:ext cx="359892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Escuelas por el cambio</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Buenos Aires – Argenti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Generación 21</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Rosario – Argenti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Fortaleciéndonos en el aprendizaje</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Río Grande, Tierra del Fuego – Argenti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En un lugar mejor</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Mendoza  - Argenti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Un espacio para ser uno mismo</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Puerto Madryn – Argenti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Centro Educativo Complementario</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El Socorro – Argentina</a:t>
            </a:r>
            <a:endParaRPr b="0" lang="en-US" sz="1600" spc="-1" strike="noStrike">
              <a:solidFill>
                <a:srgbClr val="000000"/>
              </a:solidFill>
              <a:latin typeface="Trebuchet MS"/>
            </a:endParaRPr>
          </a:p>
        </p:txBody>
      </p:sp>
      <p:sp>
        <p:nvSpPr>
          <p:cNvPr id="118" name="Text Box 7"/>
          <p:cNvSpPr/>
          <p:nvPr/>
        </p:nvSpPr>
        <p:spPr>
          <a:xfrm>
            <a:off x="4356000" y="907920"/>
            <a:ext cx="460872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Red latinoamericana de 20 LUDOTECAS en barrios urbano-marginales</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Santiago – Chile</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RESCATALIBROS. Banco Solidario de Libros de Uruguay</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Taller de Construcción de Hardware libre para personas con discapacidad motora. </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Tierra del Fuego – Argenti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Red Socio-educativa en zona de las Tortugas</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Godoy Cruz – Argenti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Yo sí puedo... Volver a Soñar</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Jujuy – Argenti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Escuelas Deportivas</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La Paz – Uruguay</a:t>
            </a:r>
            <a:endParaRPr b="0" lang="en-US" sz="1600" spc="-1" strike="noStrike">
              <a:solidFill>
                <a:srgbClr val="000000"/>
              </a:solidFill>
              <a:latin typeface="Trebuchet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703"/>
        </a:solidFill>
      </p:bgPr>
    </p:bg>
    <p:spTree>
      <p:nvGrpSpPr>
        <p:cNvPr id="1" name=""/>
        <p:cNvGrpSpPr/>
        <p:nvPr/>
      </p:nvGrpSpPr>
      <p:grpSpPr>
        <a:xfrm>
          <a:off x="0" y="0"/>
          <a:ext cx="0" cy="0"/>
          <a:chOff x="0" y="0"/>
          <a:chExt cx="0" cy="0"/>
        </a:xfrm>
      </p:grpSpPr>
      <p:sp>
        <p:nvSpPr>
          <p:cNvPr id="119" name="Text Box 2"/>
          <p:cNvSpPr/>
          <p:nvPr/>
        </p:nvSpPr>
        <p:spPr>
          <a:xfrm>
            <a:off x="468360" y="189000"/>
            <a:ext cx="849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SALUD COMUNITARIA</a:t>
            </a:r>
            <a:endParaRPr b="0" lang="en-US" sz="3200" spc="-1" strike="noStrike">
              <a:solidFill>
                <a:srgbClr val="000000"/>
              </a:solidFill>
              <a:latin typeface="Trebuchet MS"/>
            </a:endParaRPr>
          </a:p>
        </p:txBody>
      </p:sp>
      <p:sp>
        <p:nvSpPr>
          <p:cNvPr id="120" name="Rectangle 3"/>
          <p:cNvSpPr/>
          <p:nvPr/>
        </p:nvSpPr>
        <p:spPr>
          <a:xfrm>
            <a:off x="0" y="5877000"/>
            <a:ext cx="9144000" cy="981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rebuchet MS"/>
            </a:endParaRPr>
          </a:p>
        </p:txBody>
      </p:sp>
      <p:pic>
        <p:nvPicPr>
          <p:cNvPr id="121" name="Picture 4" descr="agoralogoByN"/>
          <p:cNvPicPr/>
          <p:nvPr/>
        </p:nvPicPr>
        <p:blipFill>
          <a:blip r:embed="rId1"/>
          <a:stretch/>
        </p:blipFill>
        <p:spPr>
          <a:xfrm>
            <a:off x="395280" y="6046920"/>
            <a:ext cx="934920" cy="766800"/>
          </a:xfrm>
          <a:prstGeom prst="rect">
            <a:avLst/>
          </a:prstGeom>
          <a:ln w="0">
            <a:noFill/>
          </a:ln>
        </p:spPr>
      </p:pic>
      <p:pic>
        <p:nvPicPr>
          <p:cNvPr id="122" name="Picture 5" descr="treslogos"/>
          <p:cNvPicPr/>
          <p:nvPr/>
        </p:nvPicPr>
        <p:blipFill>
          <a:blip r:embed="rId2"/>
          <a:stretch/>
        </p:blipFill>
        <p:spPr>
          <a:xfrm>
            <a:off x="6877080" y="6021360"/>
            <a:ext cx="2038320" cy="666720"/>
          </a:xfrm>
          <a:prstGeom prst="rect">
            <a:avLst/>
          </a:prstGeom>
          <a:ln w="0">
            <a:noFill/>
          </a:ln>
        </p:spPr>
      </p:pic>
      <p:sp>
        <p:nvSpPr>
          <p:cNvPr id="123" name="Text Box 6"/>
          <p:cNvSpPr/>
          <p:nvPr/>
        </p:nvSpPr>
        <p:spPr>
          <a:xfrm>
            <a:off x="468360" y="934920"/>
            <a:ext cx="3456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Trebuchet MS"/>
              </a:rPr>
              <a:t>Un lugar para Crecer</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rebuchet MS"/>
              </a:rPr>
              <a:t>Villa Mercedes - Argentina</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Trebuchet MS"/>
              </a:rPr>
              <a:t>Programa Comunitario de Salud. “Salud, responsabilidad de todos”.</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rebuchet MS"/>
              </a:rPr>
              <a:t>Fram – Paraguay</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Trebuchet MS"/>
              </a:rPr>
              <a:t>Acceso a Servicios Sociales Básicos de Salud: Farmacias Sociales y Programa de Vacunas</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rebuchet MS"/>
              </a:rPr>
              <a:t>Asunción – Paraguay</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Trebuchet MS"/>
              </a:rPr>
              <a:t>Antenas de Prevención</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rebuchet MS"/>
              </a:rPr>
              <a:t>La Plata – Argentina</a:t>
            </a:r>
            <a:endParaRPr b="0" lang="en-US" sz="1800" spc="-1" strike="noStrike">
              <a:solidFill>
                <a:srgbClr val="000000"/>
              </a:solidFill>
              <a:latin typeface="Trebuchet MS"/>
            </a:endParaRPr>
          </a:p>
        </p:txBody>
      </p:sp>
      <p:sp>
        <p:nvSpPr>
          <p:cNvPr id="124" name="Text Box 7"/>
          <p:cNvSpPr/>
          <p:nvPr/>
        </p:nvSpPr>
        <p:spPr>
          <a:xfrm>
            <a:off x="4500720" y="981000"/>
            <a:ext cx="46432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Trebuchet MS"/>
              </a:rPr>
              <a:t>Estrategias de promoción y prevención entre pares con población juvenil</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rebuchet MS"/>
              </a:rPr>
              <a:t>Buenos Aires – Argentina</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Trebuchet MS"/>
              </a:rPr>
              <a:t>Primer encuentro nacional de personas que viven con el VIH/SIDA</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rebuchet MS"/>
              </a:rPr>
              <a:t>Asunción – Paraguay</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Trebuchet MS"/>
              </a:rPr>
              <a:t>Feria de Salud – NOEA-</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rebuchet MS"/>
              </a:rPr>
              <a:t>Buenos Aires – Argentina </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Trebuchet MS"/>
              </a:rPr>
              <a:t>Instituto Argentino de Trastornos de la alimentación</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rebuchet MS"/>
              </a:rPr>
              <a:t>Buenos Aires – Argentina</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Trebuchet MS"/>
              </a:rPr>
              <a:t>Agua mas Trabajo</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rebuchet MS"/>
              </a:rPr>
              <a:t>La Matanza - Argentina</a:t>
            </a:r>
            <a:endParaRPr b="0" lang="en-US" sz="1800" spc="-1" strike="noStrike">
              <a:solidFill>
                <a:srgbClr val="000000"/>
              </a:solidFill>
              <a:latin typeface="Trebuchet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703"/>
        </a:solidFill>
      </p:bgPr>
    </p:bg>
    <p:spTree>
      <p:nvGrpSpPr>
        <p:cNvPr id="1" name=""/>
        <p:cNvGrpSpPr/>
        <p:nvPr/>
      </p:nvGrpSpPr>
      <p:grpSpPr>
        <a:xfrm>
          <a:off x="0" y="0"/>
          <a:ext cx="0" cy="0"/>
          <a:chOff x="0" y="0"/>
          <a:chExt cx="0" cy="0"/>
        </a:xfrm>
      </p:grpSpPr>
      <p:sp>
        <p:nvSpPr>
          <p:cNvPr id="125" name="Text Box 2"/>
          <p:cNvSpPr/>
          <p:nvPr/>
        </p:nvSpPr>
        <p:spPr>
          <a:xfrm>
            <a:off x="468360" y="185760"/>
            <a:ext cx="849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VIVIENDA PARA TODOS</a:t>
            </a:r>
            <a:endParaRPr b="0" lang="en-US" sz="3200" spc="-1" strike="noStrike">
              <a:solidFill>
                <a:srgbClr val="000000"/>
              </a:solidFill>
              <a:latin typeface="Trebuchet MS"/>
            </a:endParaRPr>
          </a:p>
        </p:txBody>
      </p:sp>
      <p:sp>
        <p:nvSpPr>
          <p:cNvPr id="126" name="Rectangle 3"/>
          <p:cNvSpPr/>
          <p:nvPr/>
        </p:nvSpPr>
        <p:spPr>
          <a:xfrm>
            <a:off x="0" y="5877000"/>
            <a:ext cx="9144000" cy="981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rebuchet MS"/>
            </a:endParaRPr>
          </a:p>
        </p:txBody>
      </p:sp>
      <p:pic>
        <p:nvPicPr>
          <p:cNvPr id="127" name="Picture 4" descr="agoralogoByN"/>
          <p:cNvPicPr/>
          <p:nvPr/>
        </p:nvPicPr>
        <p:blipFill>
          <a:blip r:embed="rId1"/>
          <a:stretch/>
        </p:blipFill>
        <p:spPr>
          <a:xfrm>
            <a:off x="395280" y="6046920"/>
            <a:ext cx="934920" cy="766800"/>
          </a:xfrm>
          <a:prstGeom prst="rect">
            <a:avLst/>
          </a:prstGeom>
          <a:ln w="0">
            <a:noFill/>
          </a:ln>
        </p:spPr>
      </p:pic>
      <p:pic>
        <p:nvPicPr>
          <p:cNvPr id="128" name="Picture 5" descr="treslogos"/>
          <p:cNvPicPr/>
          <p:nvPr/>
        </p:nvPicPr>
        <p:blipFill>
          <a:blip r:embed="rId2"/>
          <a:stretch/>
        </p:blipFill>
        <p:spPr>
          <a:xfrm>
            <a:off x="6877080" y="6021360"/>
            <a:ext cx="2038320" cy="666720"/>
          </a:xfrm>
          <a:prstGeom prst="rect">
            <a:avLst/>
          </a:prstGeom>
          <a:ln w="0">
            <a:noFill/>
          </a:ln>
        </p:spPr>
      </p:pic>
      <p:sp>
        <p:nvSpPr>
          <p:cNvPr id="129" name="Text Box 6"/>
          <p:cNvSpPr/>
          <p:nvPr/>
        </p:nvSpPr>
        <p:spPr>
          <a:xfrm>
            <a:off x="504720" y="797040"/>
            <a:ext cx="7667640" cy="501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u="sng">
                <a:solidFill>
                  <a:srgbClr val="ffffff"/>
                </a:solidFill>
                <a:uFillTx/>
                <a:latin typeface="Trebuchet MS"/>
              </a:rPr>
              <a:t>Arquitectos de la Comunidad</a:t>
            </a:r>
            <a:endParaRPr b="0" lang="en-US" sz="17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rebuchet MS"/>
              </a:rPr>
              <a:t>Montevideo – Uruguay</a:t>
            </a:r>
            <a:endParaRPr b="0" lang="en-US" sz="17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u="sng">
                <a:solidFill>
                  <a:srgbClr val="ffffff"/>
                </a:solidFill>
                <a:uFillTx/>
                <a:latin typeface="Trebuchet MS"/>
              </a:rPr>
              <a:t>Generación técnica de Vivienda</a:t>
            </a:r>
            <a:endParaRPr b="0" lang="en-US" sz="17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rebuchet MS"/>
              </a:rPr>
              <a:t>Santiago – Chile</a:t>
            </a:r>
            <a:endParaRPr b="0" lang="en-US" sz="17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u="sng">
                <a:solidFill>
                  <a:srgbClr val="ffffff"/>
                </a:solidFill>
                <a:uFillTx/>
                <a:latin typeface="Trebuchet MS"/>
              </a:rPr>
              <a:t>Mujeres Coordinadoras de obra</a:t>
            </a:r>
            <a:endParaRPr b="0" lang="en-US" sz="17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rebuchet MS"/>
              </a:rPr>
              <a:t>Gral. Roca – Argentina</a:t>
            </a:r>
            <a:endParaRPr b="0" lang="en-US" sz="17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u="sng">
                <a:solidFill>
                  <a:srgbClr val="ffffff"/>
                </a:solidFill>
                <a:uFillTx/>
                <a:latin typeface="Trebuchet MS"/>
              </a:rPr>
              <a:t>Programa de Protección Contra las Inundaciones (PPI) Sub Programa de Vivienda – SUPCE Chaco</a:t>
            </a:r>
            <a:endParaRPr b="0" lang="en-US" sz="17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rebuchet MS"/>
              </a:rPr>
              <a:t>Resistencia – Argentina</a:t>
            </a:r>
            <a:endParaRPr b="0" lang="en-US" sz="17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u="sng">
                <a:solidFill>
                  <a:srgbClr val="ffffff"/>
                </a:solidFill>
                <a:uFillTx/>
                <a:latin typeface="Trebuchet MS"/>
              </a:rPr>
              <a:t>Cooperativa Ufama al Sur</a:t>
            </a:r>
            <a:endParaRPr b="0" lang="en-US" sz="17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rebuchet MS"/>
              </a:rPr>
              <a:t>Montevideo – Uruguay</a:t>
            </a:r>
            <a:endParaRPr b="0" lang="en-US" sz="17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u="sng">
                <a:solidFill>
                  <a:srgbClr val="ffffff"/>
                </a:solidFill>
                <a:uFillTx/>
                <a:latin typeface="Trebuchet MS"/>
              </a:rPr>
              <a:t>Articulación “Técnicos - Organización de Base – Estado”</a:t>
            </a:r>
            <a:endParaRPr b="0" lang="en-US" sz="17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u="sng">
                <a:solidFill>
                  <a:srgbClr val="ffffff"/>
                </a:solidFill>
                <a:uFillTx/>
                <a:latin typeface="Trebuchet MS"/>
              </a:rPr>
              <a:t>40 Viviendas. Programa Federal de Emergencia Habitacional</a:t>
            </a:r>
            <a:endParaRPr b="0" lang="en-US" sz="17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rebuchet MS"/>
              </a:rPr>
              <a:t>Argentina</a:t>
            </a:r>
            <a:endParaRPr b="0" lang="en-US" sz="1700" spc="-1" strike="noStrike">
              <a:solidFill>
                <a:srgbClr val="000000"/>
              </a:solidFill>
              <a:latin typeface="Trebuchet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5"/>
          <p:cNvSpPr/>
          <p:nvPr/>
        </p:nvSpPr>
        <p:spPr>
          <a:xfrm>
            <a:off x="0" y="0"/>
            <a:ext cx="9144000" cy="836640"/>
          </a:xfrm>
          <a:prstGeom prst="rect">
            <a:avLst/>
          </a:prstGeom>
          <a:solidFill>
            <a:srgbClr val="ff5703"/>
          </a:solidFill>
          <a:ln cap="sq" w="25560">
            <a:solidFill>
              <a:srgbClr val="ff7835"/>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rebuchet MS"/>
            </a:endParaRPr>
          </a:p>
        </p:txBody>
      </p:sp>
      <p:pic>
        <p:nvPicPr>
          <p:cNvPr id="131" name="Picture 2" descr="tejedoraZoom"/>
          <p:cNvPicPr/>
          <p:nvPr/>
        </p:nvPicPr>
        <p:blipFill>
          <a:blip r:embed="rId1"/>
          <a:stretch/>
        </p:blipFill>
        <p:spPr>
          <a:xfrm>
            <a:off x="0" y="735120"/>
            <a:ext cx="9144000" cy="6122880"/>
          </a:xfrm>
          <a:prstGeom prst="rect">
            <a:avLst/>
          </a:prstGeom>
          <a:ln w="0">
            <a:noFill/>
          </a:ln>
        </p:spPr>
      </p:pic>
      <p:sp>
        <p:nvSpPr>
          <p:cNvPr id="132" name="Text Box 4"/>
          <p:cNvSpPr/>
          <p:nvPr/>
        </p:nvSpPr>
        <p:spPr>
          <a:xfrm>
            <a:off x="179280" y="189000"/>
            <a:ext cx="8964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Los seres humanos aprenden mejor de las historias"</a:t>
            </a:r>
            <a:endParaRPr b="0" lang="en-US" sz="2800" spc="-1" strike="noStrike">
              <a:solidFill>
                <a:srgbClr val="000000"/>
              </a:solidFill>
              <a:latin typeface="Trebuchet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4"/>
          <p:cNvSpPr/>
          <p:nvPr/>
        </p:nvSpPr>
        <p:spPr>
          <a:xfrm>
            <a:off x="0" y="0"/>
            <a:ext cx="9144000" cy="7034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4000" spc="-1" strike="noStrike">
                <a:solidFill>
                  <a:srgbClr val="ffffff"/>
                </a:solidFill>
                <a:latin typeface="Trebuchet MS"/>
              </a:rPr>
              <a:t>Seguridad Ciudadana</a:t>
            </a:r>
            <a:endParaRPr b="0" lang="en-US" sz="4000" spc="-1" strike="noStrike">
              <a:solidFill>
                <a:srgbClr val="000000"/>
              </a:solidFill>
              <a:latin typeface="Trebuchet MS"/>
            </a:endParaRPr>
          </a:p>
        </p:txBody>
      </p:sp>
      <p:pic>
        <p:nvPicPr>
          <p:cNvPr id="134" name="Picture 5" descr="chiste"/>
          <p:cNvPicPr/>
          <p:nvPr/>
        </p:nvPicPr>
        <p:blipFill>
          <a:blip r:embed="rId1"/>
          <a:stretch/>
        </p:blipFill>
        <p:spPr>
          <a:xfrm>
            <a:off x="900000" y="1125360"/>
            <a:ext cx="7274160" cy="5262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7" descr="redes de personas 1"/>
          <p:cNvPicPr/>
          <p:nvPr/>
        </p:nvPicPr>
        <p:blipFill>
          <a:blip r:embed="rId1"/>
          <a:stretch/>
        </p:blipFill>
        <p:spPr>
          <a:xfrm>
            <a:off x="0" y="0"/>
            <a:ext cx="9144000" cy="6099120"/>
          </a:xfrm>
          <a:prstGeom prst="rect">
            <a:avLst/>
          </a:prstGeom>
          <a:ln w="0">
            <a:noFill/>
          </a:ln>
        </p:spPr>
      </p:pic>
      <p:sp>
        <p:nvSpPr>
          <p:cNvPr id="136" name="Rectangle 5"/>
          <p:cNvSpPr/>
          <p:nvPr/>
        </p:nvSpPr>
        <p:spPr>
          <a:xfrm>
            <a:off x="0" y="60357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rebuchet MS"/>
                <a:ea typeface="Times New Roman"/>
              </a:rPr>
              <a:t>El </a:t>
            </a:r>
            <a:r>
              <a:rPr b="1" lang="es-ES" sz="2400" spc="-1" strike="noStrike">
                <a:solidFill>
                  <a:srgbClr val="000000"/>
                </a:solidFill>
                <a:latin typeface="Trebuchet MS"/>
                <a:ea typeface="Times New Roman"/>
              </a:rPr>
              <a:t>espacio público</a:t>
            </a:r>
            <a:r>
              <a:rPr b="0" lang="es-ES" sz="2400" spc="-1" strike="noStrike">
                <a:solidFill>
                  <a:srgbClr val="000000"/>
                </a:solidFill>
                <a:latin typeface="Trebuchet MS"/>
                <a:ea typeface="Times New Roman"/>
              </a:rPr>
              <a:t> es ámbito de la contención de la conflictividad social, básicamente el espacio del encuentro...</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5"/>
          <p:cNvSpPr/>
          <p:nvPr/>
        </p:nvSpPr>
        <p:spPr>
          <a:xfrm>
            <a:off x="0" y="0"/>
            <a:ext cx="9144000" cy="54936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800" spc="-1" strike="noStrike">
              <a:solidFill>
                <a:srgbClr val="000000"/>
              </a:solidFill>
              <a:latin typeface="Trebuchet MS"/>
            </a:endParaRPr>
          </a:p>
        </p:txBody>
      </p:sp>
      <p:sp>
        <p:nvSpPr>
          <p:cNvPr id="138" name="Text Box 5"/>
          <p:cNvSpPr/>
          <p:nvPr/>
        </p:nvSpPr>
        <p:spPr>
          <a:xfrm>
            <a:off x="6588000" y="3789360"/>
            <a:ext cx="2556000" cy="184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Trebuchet MS"/>
              </a:rPr>
              <a:t>-Hay </a:t>
            </a:r>
            <a:r>
              <a:rPr b="1" lang="es-ES" sz="2300" spc="-1" strike="noStrike">
                <a:solidFill>
                  <a:srgbClr val="000000"/>
                </a:solidFill>
                <a:latin typeface="Trebuchet MS"/>
              </a:rPr>
              <a:t>similitudes</a:t>
            </a:r>
            <a:r>
              <a:rPr b="0" lang="es-ES" sz="2300" spc="-1" strike="noStrike">
                <a:solidFill>
                  <a:srgbClr val="000000"/>
                </a:solidFill>
                <a:latin typeface="Trebuchet MS"/>
              </a:rPr>
              <a:t> entre el acceder a la </a:t>
            </a:r>
            <a:r>
              <a:rPr b="1" lang="es-ES" sz="2300" spc="-1" strike="noStrike">
                <a:solidFill>
                  <a:srgbClr val="000000"/>
                </a:solidFill>
                <a:latin typeface="Trebuchet MS"/>
              </a:rPr>
              <a:t>ciudad</a:t>
            </a:r>
            <a:r>
              <a:rPr b="0" lang="es-ES" sz="2300" spc="-1" strike="noStrike">
                <a:solidFill>
                  <a:srgbClr val="000000"/>
                </a:solidFill>
                <a:latin typeface="Trebuchet MS"/>
              </a:rPr>
              <a:t> y acceder a la </a:t>
            </a:r>
            <a:r>
              <a:rPr b="1" lang="es-ES" sz="2300" spc="-1" strike="noStrike">
                <a:solidFill>
                  <a:srgbClr val="000000"/>
                </a:solidFill>
                <a:latin typeface="Trebuchet MS"/>
              </a:rPr>
              <a:t>política.</a:t>
            </a:r>
            <a:endParaRPr b="0" lang="en-US" sz="2300" spc="-1" strike="noStrike">
              <a:solidFill>
                <a:srgbClr val="000000"/>
              </a:solidFill>
              <a:latin typeface="Trebuchet MS"/>
            </a:endParaRPr>
          </a:p>
        </p:txBody>
      </p:sp>
      <p:pic>
        <p:nvPicPr>
          <p:cNvPr id="139" name="Picture 10" descr="web2"/>
          <p:cNvPicPr/>
          <p:nvPr/>
        </p:nvPicPr>
        <p:blipFill>
          <a:blip r:embed="rId1"/>
          <a:stretch/>
        </p:blipFill>
        <p:spPr>
          <a:xfrm>
            <a:off x="5724360" y="668160"/>
            <a:ext cx="3048120" cy="3048120"/>
          </a:xfrm>
          <a:prstGeom prst="rect">
            <a:avLst/>
          </a:prstGeom>
          <a:ln w="0">
            <a:noFill/>
          </a:ln>
        </p:spPr>
      </p:pic>
      <p:pic>
        <p:nvPicPr>
          <p:cNvPr id="140" name="Picture 11" descr="pablo copy"/>
          <p:cNvPicPr/>
          <p:nvPr/>
        </p:nvPicPr>
        <p:blipFill>
          <a:blip r:embed="rId2"/>
          <a:stretch/>
        </p:blipFill>
        <p:spPr>
          <a:xfrm>
            <a:off x="176040" y="546120"/>
            <a:ext cx="6124680" cy="5114880"/>
          </a:xfrm>
          <a:prstGeom prst="rect">
            <a:avLst/>
          </a:prstGeom>
          <a:ln w="0">
            <a:noFill/>
          </a:ln>
        </p:spPr>
      </p:pic>
      <p:sp>
        <p:nvSpPr>
          <p:cNvPr id="141" name="Text Box 12"/>
          <p:cNvSpPr/>
          <p:nvPr/>
        </p:nvSpPr>
        <p:spPr>
          <a:xfrm>
            <a:off x="0" y="5661000"/>
            <a:ext cx="9072720" cy="114480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300" spc="-1" strike="noStrike">
                <a:solidFill>
                  <a:srgbClr val="000000"/>
                </a:solidFill>
                <a:latin typeface="Trebuchet MS"/>
                <a:ea typeface="Times New Roman"/>
              </a:rPr>
              <a:t>-</a:t>
            </a:r>
            <a:r>
              <a:rPr b="1" lang="es-ES" sz="2300" spc="-1" strike="noStrike">
                <a:solidFill>
                  <a:srgbClr val="000000"/>
                </a:solidFill>
                <a:latin typeface="Trebuchet MS"/>
                <a:ea typeface="Times New Roman"/>
              </a:rPr>
              <a:t>La ciudad</a:t>
            </a:r>
            <a:r>
              <a:rPr b="0" lang="es-ES" sz="2300" spc="-1" strike="noStrike">
                <a:solidFill>
                  <a:srgbClr val="000000"/>
                </a:solidFill>
                <a:latin typeface="Trebuchet MS"/>
                <a:ea typeface="Times New Roman"/>
              </a:rPr>
              <a:t> es un </a:t>
            </a:r>
            <a:r>
              <a:rPr b="1" lang="es-ES" sz="2300" spc="-1" strike="noStrike">
                <a:solidFill>
                  <a:srgbClr val="000000"/>
                </a:solidFill>
                <a:latin typeface="Trebuchet MS"/>
                <a:ea typeface="Times New Roman"/>
              </a:rPr>
              <a:t>espacio complejo</a:t>
            </a:r>
            <a:r>
              <a:rPr b="0" lang="es-ES" sz="2300" spc="-1" strike="noStrike">
                <a:solidFill>
                  <a:srgbClr val="000000"/>
                </a:solidFill>
                <a:latin typeface="Trebuchet MS"/>
                <a:ea typeface="Times New Roman"/>
              </a:rPr>
              <a:t>, lugar de encuentro, caracterizado por la alteridad, la diversidad , la competencia y la negociación.</a:t>
            </a:r>
            <a:endParaRPr b="0" lang="en-US" sz="2300" spc="-1" strike="noStrike">
              <a:solidFill>
                <a:srgbClr val="000000"/>
              </a:solidFill>
              <a:latin typeface="Trebuchet MS"/>
            </a:endParaRPr>
          </a:p>
        </p:txBody>
      </p:sp>
      <p:sp>
        <p:nvSpPr>
          <p:cNvPr id="142" name="Rectangle 13"/>
          <p:cNvSpPr/>
          <p:nvPr/>
        </p:nvSpPr>
        <p:spPr>
          <a:xfrm>
            <a:off x="179280" y="-240840"/>
            <a:ext cx="6099120" cy="947160"/>
          </a:xfrm>
          <a:prstGeom prst="rect">
            <a:avLst/>
          </a:prstGeom>
          <a:solidFill>
            <a:srgbClr val="000000"/>
          </a:solidFill>
          <a:ln w="0">
            <a:noFill/>
          </a:ln>
        </p:spPr>
        <p:style>
          <a:lnRef idx="0"/>
          <a:fillRef idx="0"/>
          <a:effectRef idx="0"/>
          <a:fontRef idx="minor"/>
        </p:style>
        <p:txBody>
          <a:bodyPr lIns="90000" rIns="90000" tIns="46800" bIns="46800" anchor="ctr">
            <a:spAutoFit/>
          </a:bodyPr>
          <a:p>
            <a:pPr algn="ct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ffffff"/>
                </a:solidFill>
                <a:latin typeface="Trebuchet MS"/>
                <a:ea typeface="Times New Roman"/>
              </a:rPr>
              <a:t>Como promover una ciudad segura?</a:t>
            </a:r>
            <a:endParaRPr b="0" lang="en-US" sz="2800" spc="-1" strike="noStrike">
              <a:solidFill>
                <a:srgbClr val="000000"/>
              </a:solidFill>
              <a:latin typeface="Trebuchet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interna_top"/>
          <p:cNvPicPr/>
          <p:nvPr/>
        </p:nvPicPr>
        <p:blipFill>
          <a:blip r:embed="rId1"/>
          <a:stretch/>
        </p:blipFill>
        <p:spPr>
          <a:xfrm>
            <a:off x="4498920" y="4581360"/>
            <a:ext cx="4645080" cy="733680"/>
          </a:xfrm>
          <a:prstGeom prst="rect">
            <a:avLst/>
          </a:prstGeom>
          <a:ln w="0">
            <a:noFill/>
          </a:ln>
        </p:spPr>
      </p:pic>
      <p:sp>
        <p:nvSpPr>
          <p:cNvPr id="52" name="Text Box 3"/>
          <p:cNvSpPr/>
          <p:nvPr/>
        </p:nvSpPr>
        <p:spPr>
          <a:xfrm>
            <a:off x="4643280" y="887400"/>
            <a:ext cx="4500720" cy="27802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El Agora</a:t>
            </a:r>
            <a:r>
              <a:rPr b="0" lang="es-ES" sz="2400" spc="-1" strike="noStrike">
                <a:solidFill>
                  <a:srgbClr val="000000"/>
                </a:solidFill>
                <a:latin typeface="Verdana"/>
              </a:rPr>
              <a:t> está habilitado y es el responsable de recibir los Formularios de Presentación de Candidaturas de </a:t>
            </a:r>
            <a:r>
              <a:rPr b="1" lang="es-ES" sz="2400" spc="-1" strike="noStrike">
                <a:solidFill>
                  <a:srgbClr val="000000"/>
                </a:solidFill>
                <a:latin typeface="Verdana"/>
              </a:rPr>
              <a:t>Argentina</a:t>
            </a:r>
            <a:r>
              <a:rPr b="0" lang="es-ES" sz="2400" spc="-1" strike="noStrike">
                <a:solidFill>
                  <a:srgbClr val="000000"/>
                </a:solidFill>
                <a:latin typeface="Verdana"/>
              </a:rPr>
              <a:t>, </a:t>
            </a:r>
            <a:r>
              <a:rPr b="1" lang="es-ES" sz="2400" spc="-1" strike="noStrike">
                <a:solidFill>
                  <a:srgbClr val="000000"/>
                </a:solidFill>
                <a:latin typeface="Verdana"/>
              </a:rPr>
              <a:t>Chile</a:t>
            </a:r>
            <a:r>
              <a:rPr b="0" lang="es-ES" sz="2400" spc="-1" strike="noStrike">
                <a:solidFill>
                  <a:srgbClr val="000000"/>
                </a:solidFill>
                <a:latin typeface="Verdana"/>
              </a:rPr>
              <a:t>, </a:t>
            </a:r>
            <a:r>
              <a:rPr b="1" lang="es-ES" sz="2400" spc="-1" strike="noStrike">
                <a:solidFill>
                  <a:srgbClr val="000000"/>
                </a:solidFill>
                <a:latin typeface="Verdana"/>
              </a:rPr>
              <a:t>Paraguay</a:t>
            </a:r>
            <a:r>
              <a:rPr b="0" lang="es-ES" sz="2400" spc="-1" strike="noStrike">
                <a:solidFill>
                  <a:srgbClr val="000000"/>
                </a:solidFill>
                <a:latin typeface="Verdana"/>
              </a:rPr>
              <a:t> y </a:t>
            </a:r>
            <a:r>
              <a:rPr b="1" lang="es-ES" sz="2400" spc="-1" strike="noStrike">
                <a:solidFill>
                  <a:srgbClr val="000000"/>
                </a:solidFill>
                <a:latin typeface="Verdana"/>
              </a:rPr>
              <a:t>Uruguay</a:t>
            </a:r>
            <a:r>
              <a:rPr b="0" lang="es-ES" sz="2400" spc="-1" strike="noStrike">
                <a:solidFill>
                  <a:srgbClr val="000000"/>
                </a:solidFill>
                <a:latin typeface="Verdana"/>
              </a:rPr>
              <a:t>, para proceder a su valoración</a:t>
            </a:r>
            <a:endParaRPr b="0" lang="en-US" sz="2400" spc="-1" strike="noStrike">
              <a:solidFill>
                <a:srgbClr val="000000"/>
              </a:solidFill>
              <a:latin typeface="Trebuchet MS"/>
            </a:endParaRPr>
          </a:p>
        </p:txBody>
      </p:sp>
      <p:pic>
        <p:nvPicPr>
          <p:cNvPr id="53" name="Picture 4" descr="latinoamierica"/>
          <p:cNvPicPr/>
          <p:nvPr/>
        </p:nvPicPr>
        <p:blipFill>
          <a:blip r:embed="rId2"/>
          <a:stretch/>
        </p:blipFill>
        <p:spPr>
          <a:xfrm>
            <a:off x="0" y="0"/>
            <a:ext cx="4603680" cy="6858000"/>
          </a:xfrm>
          <a:prstGeom prst="rect">
            <a:avLst/>
          </a:prstGeom>
          <a:ln w="9360">
            <a:solidFill>
              <a:srgbClr val="000000"/>
            </a:solidFill>
            <a:miter/>
          </a:ln>
        </p:spPr>
      </p:pic>
      <p:sp>
        <p:nvSpPr>
          <p:cNvPr id="54" name="Text Box 5"/>
          <p:cNvSpPr/>
          <p:nvPr/>
        </p:nvSpPr>
        <p:spPr>
          <a:xfrm>
            <a:off x="4643280" y="5516640"/>
            <a:ext cx="442764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Verdana"/>
              </a:rPr>
              <a:t>El Agora</a:t>
            </a:r>
            <a:r>
              <a:rPr b="0" lang="es-ES" sz="2200" spc="-1" strike="noStrike">
                <a:solidFill>
                  <a:srgbClr val="000000"/>
                </a:solidFill>
                <a:latin typeface="Verdana"/>
              </a:rPr>
              <a:t>, es miembro del </a:t>
            </a:r>
            <a:r>
              <a:rPr b="1" lang="es-ES" sz="2200" spc="-1" strike="noStrike">
                <a:solidFill>
                  <a:srgbClr val="000000"/>
                </a:solidFill>
                <a:latin typeface="Verdana"/>
              </a:rPr>
              <a:t>Foro Iberoamericano y del Caribe de Mejores</a:t>
            </a:r>
            <a:r>
              <a:rPr b="0" lang="es-ES" sz="2200" spc="-1" strike="noStrike">
                <a:solidFill>
                  <a:srgbClr val="000000"/>
                </a:solidFill>
                <a:latin typeface="Verdana"/>
              </a:rPr>
              <a:t> Prácticas </a:t>
            </a:r>
            <a:endParaRPr b="0" lang="en-US" sz="2200" spc="-1" strike="noStrike">
              <a:solidFill>
                <a:srgbClr val="000000"/>
              </a:solidFill>
              <a:latin typeface="Trebuchet MS"/>
            </a:endParaRPr>
          </a:p>
        </p:txBody>
      </p:sp>
      <p:sp>
        <p:nvSpPr>
          <p:cNvPr id="55" name="Rectangle 6"/>
          <p:cNvSpPr/>
          <p:nvPr/>
        </p:nvSpPr>
        <p:spPr>
          <a:xfrm>
            <a:off x="0" y="0"/>
            <a:ext cx="9144000" cy="836640"/>
          </a:xfrm>
          <a:prstGeom prst="rect">
            <a:avLst/>
          </a:prstGeom>
          <a:solidFill>
            <a:srgbClr val="ff5703"/>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rebuchet MS"/>
            </a:endParaRPr>
          </a:p>
        </p:txBody>
      </p:sp>
      <p:sp>
        <p:nvSpPr>
          <p:cNvPr id="56" name="Text Box 7"/>
          <p:cNvSpPr/>
          <p:nvPr/>
        </p:nvSpPr>
        <p:spPr>
          <a:xfrm>
            <a:off x="252360" y="12384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Nodo Cono Sur</a:t>
            </a:r>
            <a:endParaRPr b="0" lang="en-US" sz="3600" spc="-1" strike="noStrike">
              <a:solidFill>
                <a:srgbClr val="000000"/>
              </a:solidFill>
              <a:latin typeface="Trebuchet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4"/>
          <p:cNvSpPr/>
          <p:nvPr/>
        </p:nvSpPr>
        <p:spPr>
          <a:xfrm>
            <a:off x="0" y="5484960"/>
            <a:ext cx="9144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800" spc="-1" strike="noStrike">
                <a:solidFill>
                  <a:srgbClr val="000000"/>
                </a:solidFill>
                <a:latin typeface="Trebuchet MS"/>
                <a:ea typeface="Times New Roman"/>
              </a:rPr>
              <a:t>-</a:t>
            </a:r>
            <a:r>
              <a:rPr b="0" lang="es-ES_tradnl" sz="2800" spc="-1" strike="noStrike">
                <a:solidFill>
                  <a:srgbClr val="000000"/>
                </a:solidFill>
                <a:latin typeface="Trebuchet MS"/>
                <a:ea typeface="Times New Roman"/>
              </a:rPr>
              <a:t>En </a:t>
            </a:r>
            <a:r>
              <a:rPr b="0" i="1" lang="es-ES_tradnl" sz="2800" spc="-1" strike="noStrike">
                <a:solidFill>
                  <a:srgbClr val="000000"/>
                </a:solidFill>
                <a:latin typeface="Trebuchet MS"/>
                <a:ea typeface="Times New Roman"/>
              </a:rPr>
              <a:t>la </a:t>
            </a:r>
            <a:r>
              <a:rPr b="1" i="1" lang="es-ES_tradnl" sz="2800" spc="-1" strike="noStrike">
                <a:solidFill>
                  <a:srgbClr val="000000"/>
                </a:solidFill>
                <a:latin typeface="Trebuchet MS"/>
                <a:ea typeface="Times New Roman"/>
              </a:rPr>
              <a:t>Ciudad</a:t>
            </a:r>
            <a:r>
              <a:rPr b="0" i="1" lang="es-ES_tradnl" sz="2800" spc="-1" strike="noStrike">
                <a:solidFill>
                  <a:srgbClr val="000000"/>
                </a:solidFill>
                <a:latin typeface="Trebuchet MS"/>
                <a:ea typeface="Times New Roman"/>
              </a:rPr>
              <a:t>, distintas </a:t>
            </a:r>
            <a:r>
              <a:rPr b="1" lang="es-ES_tradnl" sz="2800" spc="-1" strike="noStrike">
                <a:solidFill>
                  <a:srgbClr val="000000"/>
                </a:solidFill>
                <a:latin typeface="Trebuchet MS"/>
                <a:ea typeface="Times New Roman"/>
              </a:rPr>
              <a:t>personas</a:t>
            </a:r>
            <a:r>
              <a:rPr b="0" lang="es-ES_tradnl" sz="2800" spc="-1" strike="noStrike">
                <a:solidFill>
                  <a:srgbClr val="000000"/>
                </a:solidFill>
                <a:latin typeface="Trebuchet MS"/>
                <a:ea typeface="Times New Roman"/>
              </a:rPr>
              <a:t> en </a:t>
            </a:r>
            <a:r>
              <a:rPr b="0" i="1" lang="es-ES_tradnl" sz="2800" spc="-1" strike="noStrike">
                <a:solidFill>
                  <a:srgbClr val="000000"/>
                </a:solidFill>
                <a:latin typeface="Trebuchet MS"/>
                <a:ea typeface="Times New Roman"/>
              </a:rPr>
              <a:t>distintos</a:t>
            </a:r>
            <a:r>
              <a:rPr b="0" lang="es-ES_tradnl" sz="2800" spc="-1" strike="noStrike">
                <a:solidFill>
                  <a:srgbClr val="000000"/>
                </a:solidFill>
                <a:latin typeface="Trebuchet MS"/>
                <a:ea typeface="Times New Roman"/>
              </a:rPr>
              <a:t> </a:t>
            </a:r>
            <a:r>
              <a:rPr b="1" lang="es-ES_tradnl" sz="2800" spc="-1" strike="noStrike">
                <a:solidFill>
                  <a:srgbClr val="000000"/>
                </a:solidFill>
                <a:latin typeface="Trebuchet MS"/>
                <a:ea typeface="Times New Roman"/>
              </a:rPr>
              <a:t>lugares</a:t>
            </a:r>
            <a:r>
              <a:rPr b="0" lang="es-ES_tradnl" sz="2800" spc="-1" strike="noStrike">
                <a:solidFill>
                  <a:srgbClr val="000000"/>
                </a:solidFill>
                <a:latin typeface="Trebuchet MS"/>
                <a:ea typeface="Times New Roman"/>
              </a:rPr>
              <a:t> son víctimas de </a:t>
            </a:r>
            <a:r>
              <a:rPr b="0" i="1" lang="es-ES_tradnl" sz="2800" spc="-1" strike="noStrike">
                <a:solidFill>
                  <a:srgbClr val="000000"/>
                </a:solidFill>
                <a:latin typeface="Trebuchet MS"/>
                <a:ea typeface="Times New Roman"/>
              </a:rPr>
              <a:t>distintos</a:t>
            </a:r>
            <a:r>
              <a:rPr b="0" lang="es-ES_tradnl" sz="2800" spc="-1" strike="noStrike">
                <a:solidFill>
                  <a:srgbClr val="000000"/>
                </a:solidFill>
                <a:latin typeface="Trebuchet MS"/>
                <a:ea typeface="Times New Roman"/>
              </a:rPr>
              <a:t> tipos de </a:t>
            </a:r>
            <a:r>
              <a:rPr b="1" lang="es-ES_tradnl" sz="2800" spc="-1" strike="noStrike">
                <a:solidFill>
                  <a:srgbClr val="000000"/>
                </a:solidFill>
                <a:latin typeface="Trebuchet MS"/>
                <a:ea typeface="Times New Roman"/>
              </a:rPr>
              <a:t>violencia</a:t>
            </a:r>
            <a:r>
              <a:rPr b="0" lang="es-ES_tradnl" sz="2800" spc="-1" strike="noStrike">
                <a:solidFill>
                  <a:srgbClr val="000000"/>
                </a:solidFill>
                <a:latin typeface="Trebuchet MS"/>
                <a:ea typeface="Times New Roman"/>
              </a:rPr>
              <a:t> (abuso de poder)</a:t>
            </a:r>
            <a:endParaRPr b="0" lang="en-US" sz="2800" spc="-1" strike="noStrike">
              <a:solidFill>
                <a:srgbClr val="000000"/>
              </a:solidFill>
              <a:latin typeface="Trebuchet MS"/>
            </a:endParaRPr>
          </a:p>
        </p:txBody>
      </p:sp>
      <p:pic>
        <p:nvPicPr>
          <p:cNvPr id="144" name="Picture 5" descr="- policia"/>
          <p:cNvPicPr/>
          <p:nvPr/>
        </p:nvPicPr>
        <p:blipFill>
          <a:blip r:embed="rId1"/>
          <a:stretch/>
        </p:blipFill>
        <p:spPr>
          <a:xfrm>
            <a:off x="0" y="0"/>
            <a:ext cx="7236000" cy="5427720"/>
          </a:xfrm>
          <a:prstGeom prst="rect">
            <a:avLst/>
          </a:prstGeom>
          <a:ln w="0">
            <a:noFill/>
          </a:ln>
        </p:spPr>
      </p:pic>
      <p:sp>
        <p:nvSpPr>
          <p:cNvPr id="145" name="Rectangle 6"/>
          <p:cNvSpPr/>
          <p:nvPr/>
        </p:nvSpPr>
        <p:spPr>
          <a:xfrm>
            <a:off x="4591800" y="4797360"/>
            <a:ext cx="253080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ffffff"/>
                </a:solidFill>
                <a:latin typeface="Trebuchet MS"/>
                <a:ea typeface="Times New Roman"/>
              </a:rPr>
              <a:t>Problematizar</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018_6"/>
          <p:cNvPicPr/>
          <p:nvPr/>
        </p:nvPicPr>
        <p:blipFill>
          <a:blip r:embed="rId1"/>
          <a:stretch/>
        </p:blipFill>
        <p:spPr>
          <a:xfrm>
            <a:off x="0" y="0"/>
            <a:ext cx="4716360" cy="3284640"/>
          </a:xfrm>
          <a:prstGeom prst="rect">
            <a:avLst/>
          </a:prstGeom>
          <a:ln w="0">
            <a:noFill/>
          </a:ln>
        </p:spPr>
      </p:pic>
      <p:pic>
        <p:nvPicPr>
          <p:cNvPr id="147" name="Picture 5" descr="seguridad"/>
          <p:cNvPicPr/>
          <p:nvPr/>
        </p:nvPicPr>
        <p:blipFill>
          <a:blip r:embed="rId2"/>
          <a:stretch/>
        </p:blipFill>
        <p:spPr>
          <a:xfrm>
            <a:off x="4330800" y="0"/>
            <a:ext cx="4813200" cy="3284640"/>
          </a:xfrm>
          <a:prstGeom prst="rect">
            <a:avLst/>
          </a:prstGeom>
          <a:ln w="0">
            <a:noFill/>
          </a:ln>
        </p:spPr>
      </p:pic>
      <p:sp>
        <p:nvSpPr>
          <p:cNvPr id="148" name="Text Box 6"/>
          <p:cNvSpPr/>
          <p:nvPr/>
        </p:nvSpPr>
        <p:spPr>
          <a:xfrm>
            <a:off x="108000" y="3727440"/>
            <a:ext cx="41036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000000"/>
                </a:solidFill>
                <a:latin typeface="Trebuchet MS"/>
                <a:ea typeface="Times New Roman"/>
              </a:rPr>
              <a:t>Para mujeres y varones, niños, jóvenes, ancianos</a:t>
            </a:r>
            <a:endParaRPr b="0" lang="en-US" sz="2800" spc="-1" strike="noStrike">
              <a:solidFill>
                <a:srgbClr val="000000"/>
              </a:solidFill>
              <a:latin typeface="Trebuchet MS"/>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000000"/>
                </a:solidFill>
                <a:latin typeface="Trebuchet MS"/>
                <a:ea typeface="Times New Roman"/>
              </a:rPr>
              <a:t>Los sectores medios, pobres y altos.</a:t>
            </a:r>
            <a:r>
              <a:rPr b="0" lang="es-ES_tradnl" sz="2800" spc="-1" strike="noStrike">
                <a:solidFill>
                  <a:srgbClr val="000000"/>
                </a:solidFill>
                <a:latin typeface="Trebuchet MS"/>
                <a:ea typeface="Times New Roman"/>
              </a:rPr>
              <a:t> Lo que es seguro para algunos, no es seguro para otros</a:t>
            </a:r>
            <a:endParaRPr b="0" lang="en-US" sz="2800" spc="-1" strike="noStrike">
              <a:solidFill>
                <a:srgbClr val="000000"/>
              </a:solidFill>
              <a:latin typeface="Trebuchet MS"/>
            </a:endParaRPr>
          </a:p>
        </p:txBody>
      </p:sp>
      <p:pic>
        <p:nvPicPr>
          <p:cNvPr id="149" name="Picture 7" descr="P1000748"/>
          <p:cNvPicPr/>
          <p:nvPr/>
        </p:nvPicPr>
        <p:blipFill>
          <a:blip r:embed="rId3"/>
          <a:stretch/>
        </p:blipFill>
        <p:spPr>
          <a:xfrm>
            <a:off x="4356000" y="3257640"/>
            <a:ext cx="4788000" cy="360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FINALSHOT_JEUDInight2"/>
          <p:cNvPicPr/>
          <p:nvPr/>
        </p:nvPicPr>
        <p:blipFill>
          <a:blip r:embed="rId1"/>
          <a:stretch/>
        </p:blipFill>
        <p:spPr>
          <a:xfrm>
            <a:off x="755640" y="0"/>
            <a:ext cx="7740720" cy="5168880"/>
          </a:xfrm>
          <a:prstGeom prst="rect">
            <a:avLst/>
          </a:prstGeom>
          <a:ln w="0">
            <a:noFill/>
          </a:ln>
        </p:spPr>
      </p:pic>
      <p:sp>
        <p:nvSpPr>
          <p:cNvPr id="151" name="Text Box 5"/>
          <p:cNvSpPr/>
          <p:nvPr/>
        </p:nvSpPr>
        <p:spPr>
          <a:xfrm>
            <a:off x="755640" y="5189400"/>
            <a:ext cx="7920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rebuchet MS"/>
                <a:ea typeface="Times New Roman"/>
              </a:rPr>
              <a:t>Cuando los </a:t>
            </a:r>
            <a:r>
              <a:rPr b="1" lang="es-ES" sz="2400" spc="-1" strike="noStrike">
                <a:solidFill>
                  <a:srgbClr val="000000"/>
                </a:solidFill>
                <a:latin typeface="Trebuchet MS"/>
                <a:ea typeface="Times New Roman"/>
              </a:rPr>
              <a:t>diferentes componentes</a:t>
            </a:r>
            <a:r>
              <a:rPr b="0" lang="es-ES" sz="2400" spc="-1" strike="noStrike">
                <a:solidFill>
                  <a:srgbClr val="000000"/>
                </a:solidFill>
                <a:latin typeface="Trebuchet MS"/>
                <a:ea typeface="Times New Roman"/>
              </a:rPr>
              <a:t> de la seguridad son estudiados por separado </a:t>
            </a:r>
            <a:r>
              <a:rPr b="1" lang="es-ES" sz="2400" spc="-1" strike="noStrike">
                <a:solidFill>
                  <a:srgbClr val="000000"/>
                </a:solidFill>
                <a:latin typeface="Trebuchet MS"/>
                <a:ea typeface="Times New Roman"/>
              </a:rPr>
              <a:t>desarticulados </a:t>
            </a:r>
            <a:r>
              <a:rPr b="0" lang="es-ES" sz="2400" spc="-1" strike="noStrike">
                <a:solidFill>
                  <a:srgbClr val="000000"/>
                </a:solidFill>
                <a:latin typeface="Trebuchet MS"/>
                <a:ea typeface="Times New Roman"/>
              </a:rPr>
              <a:t>y desprovistos de una perspectiva que los integre dificulta tanto la comprensión como la politicidad.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son_4845009b86bbc"/>
          <p:cNvPicPr/>
          <p:nvPr/>
        </p:nvPicPr>
        <p:blipFill>
          <a:blip r:embed="rId1"/>
          <a:stretch/>
        </p:blipFill>
        <p:spPr>
          <a:xfrm>
            <a:off x="0" y="0"/>
            <a:ext cx="6424560" cy="6858000"/>
          </a:xfrm>
          <a:prstGeom prst="rect">
            <a:avLst/>
          </a:prstGeom>
          <a:ln w="0">
            <a:noFill/>
          </a:ln>
        </p:spPr>
      </p:pic>
      <p:sp>
        <p:nvSpPr>
          <p:cNvPr id="153" name="Text Box 3"/>
          <p:cNvSpPr/>
          <p:nvPr/>
        </p:nvSpPr>
        <p:spPr>
          <a:xfrm>
            <a:off x="6516720" y="333360"/>
            <a:ext cx="2627280" cy="634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000000"/>
                </a:solidFill>
                <a:latin typeface="Trebuchet MS"/>
                <a:ea typeface="Times New Roman"/>
              </a:rPr>
              <a:t>La realidad tiene problemas, el estado tiene sectores y la universidad facultades y departamentos</a:t>
            </a:r>
            <a:endParaRPr b="0" lang="en-US" sz="2800" spc="-1" strike="noStrike">
              <a:solidFill>
                <a:srgbClr val="000000"/>
              </a:solidFill>
              <a:latin typeface="Trebuchet MS"/>
            </a:endParaRPr>
          </a:p>
          <a:p>
            <a:pPr>
              <a:lnSpc>
                <a:spcPct val="9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rebuchet MS"/>
            </a:endParaRPr>
          </a:p>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000000"/>
                </a:solidFill>
                <a:latin typeface="Trebuchet MS"/>
                <a:ea typeface="Times New Roman"/>
              </a:rPr>
              <a:t>¿Quien se ocupa, entonces, de los problemas? </a:t>
            </a:r>
            <a:r>
              <a:rPr b="0" lang="es-ES" sz="2400" spc="-1" strike="noStrike">
                <a:solidFill>
                  <a:srgbClr val="000000"/>
                </a:solidFill>
                <a:latin typeface="Trebuchet MS"/>
                <a:ea typeface="Times New Roman"/>
              </a:rPr>
              <a:t>C. Matu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3" descr="escalier_Favela_JR_usure"/>
          <p:cNvPicPr/>
          <p:nvPr/>
        </p:nvPicPr>
        <p:blipFill>
          <a:blip r:embed="rId1"/>
          <a:stretch/>
        </p:blipFill>
        <p:spPr>
          <a:xfrm>
            <a:off x="0" y="0"/>
            <a:ext cx="9144000" cy="6093000"/>
          </a:xfrm>
          <a:prstGeom prst="rect">
            <a:avLst/>
          </a:prstGeom>
          <a:ln w="0">
            <a:noFill/>
          </a:ln>
        </p:spPr>
      </p:pic>
      <p:sp>
        <p:nvSpPr>
          <p:cNvPr id="155" name="Text Box 4"/>
          <p:cNvSpPr/>
          <p:nvPr/>
        </p:nvSpPr>
        <p:spPr>
          <a:xfrm>
            <a:off x="0" y="603576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rebuchet MS"/>
                <a:ea typeface="Times New Roman"/>
              </a:rPr>
              <a:t>Resulta </a:t>
            </a:r>
            <a:r>
              <a:rPr b="1" lang="es-ES" sz="2400" spc="-1" strike="noStrike">
                <a:solidFill>
                  <a:srgbClr val="000000"/>
                </a:solidFill>
                <a:latin typeface="Trebuchet MS"/>
                <a:ea typeface="Times New Roman"/>
              </a:rPr>
              <a:t>estratégico</a:t>
            </a:r>
            <a:r>
              <a:rPr b="0" lang="es-ES" sz="2400" spc="-1" strike="noStrike">
                <a:solidFill>
                  <a:srgbClr val="000000"/>
                </a:solidFill>
                <a:latin typeface="Trebuchet MS"/>
                <a:ea typeface="Times New Roman"/>
              </a:rPr>
              <a:t> contar con escenarios de aprendizaje que interpelen desde </a:t>
            </a:r>
            <a:r>
              <a:rPr b="1" lang="es-ES" sz="2400" spc="-1" strike="noStrike">
                <a:solidFill>
                  <a:srgbClr val="000000"/>
                </a:solidFill>
                <a:latin typeface="Trebuchet MS"/>
                <a:ea typeface="Times New Roman"/>
              </a:rPr>
              <a:t>problemas concretos</a:t>
            </a:r>
            <a:r>
              <a:rPr b="0" lang="es-ES" sz="2400" spc="-1" strike="noStrike">
                <a:solidFill>
                  <a:srgbClr val="000000"/>
                </a:solidFill>
                <a:latin typeface="Trebuchet MS"/>
                <a:ea typeface="Times New Roman"/>
              </a:rPr>
              <a:t> de la realidad.</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324000" y="549360"/>
            <a:ext cx="82087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rebuchet MS"/>
            </a:endParaRPr>
          </a:p>
        </p:txBody>
      </p:sp>
      <p:sp>
        <p:nvSpPr>
          <p:cNvPr id="157" name="PlaceHolder 1"/>
          <p:cNvSpPr>
            <a:spLocks noGrp="1"/>
          </p:cNvSpPr>
          <p:nvPr>
            <p:ph/>
          </p:nvPr>
        </p:nvSpPr>
        <p:spPr>
          <a:xfrm>
            <a:off x="0" y="691920"/>
            <a:ext cx="9144000" cy="2592360"/>
          </a:xfrm>
          <a:prstGeom prst="rect">
            <a:avLst/>
          </a:prstGeom>
          <a:noFill/>
          <a:ln w="0">
            <a:noFill/>
          </a:ln>
        </p:spPr>
        <p:txBody>
          <a:bodyPr lIns="92160" rIns="92160" tIns="46080" bIns="46080" anchor="t">
            <a:normAutofit fontScale="94000"/>
          </a:bodyPr>
          <a:p>
            <a:pPr marL="322200" indent="-322200">
              <a:lnSpc>
                <a:spcPct val="100000"/>
              </a:lnSpc>
              <a:spcBef>
                <a:spcPts val="601"/>
              </a:spcBef>
              <a:buClr>
                <a:srgbClr val="000000"/>
              </a:buClr>
              <a:buFont typeface="Trebuchet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2400" spc="-1" strike="noStrike">
                <a:solidFill>
                  <a:srgbClr val="000000"/>
                </a:solidFill>
                <a:latin typeface="Trebuchet MS"/>
              </a:rPr>
              <a:t>Planificación</a:t>
            </a:r>
            <a:r>
              <a:rPr b="0" lang="es-AR" sz="2400" spc="-1" strike="noStrike">
                <a:solidFill>
                  <a:srgbClr val="000000"/>
                </a:solidFill>
                <a:latin typeface="Trebuchet MS"/>
              </a:rPr>
              <a:t> como un ejercicio interactivo de actores y fuerzas sociales que disputan en determinados espacios.</a:t>
            </a:r>
            <a:endParaRPr b="0" lang="en-US" sz="2400" spc="-1" strike="noStrike">
              <a:solidFill>
                <a:srgbClr val="000000"/>
              </a:solidFill>
              <a:latin typeface="Times New Roman"/>
            </a:endParaRPr>
          </a:p>
          <a:p>
            <a:pPr marL="322200" indent="-322200">
              <a:lnSpc>
                <a:spcPct val="100000"/>
              </a:lnSpc>
              <a:spcBef>
                <a:spcPts val="601"/>
              </a:spcBef>
              <a:buClr>
                <a:srgbClr val="000000"/>
              </a:buClr>
              <a:buFont typeface="Trebuchet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rebuchet MS"/>
              </a:rPr>
              <a:t>El diseño de  acciones que mejoren la producción y la  gestión asociada entre el </a:t>
            </a:r>
            <a:r>
              <a:rPr b="1" lang="es-ES_tradnl" sz="2400" spc="-1" strike="noStrike">
                <a:solidFill>
                  <a:srgbClr val="000000"/>
                </a:solidFill>
                <a:latin typeface="Trebuchet MS"/>
              </a:rPr>
              <a:t>Estado</a:t>
            </a:r>
            <a:r>
              <a:rPr b="0" lang="es-ES_tradnl" sz="2400" spc="-1" strike="noStrike">
                <a:solidFill>
                  <a:srgbClr val="000000"/>
                </a:solidFill>
                <a:latin typeface="Trebuchet MS"/>
              </a:rPr>
              <a:t>, las </a:t>
            </a:r>
            <a:r>
              <a:rPr b="1" lang="es-ES_tradnl" sz="2400" spc="-1" strike="noStrike">
                <a:solidFill>
                  <a:srgbClr val="000000"/>
                </a:solidFill>
                <a:latin typeface="Trebuchet MS"/>
              </a:rPr>
              <a:t>empresas</a:t>
            </a:r>
            <a:r>
              <a:rPr b="0" lang="es-ES_tradnl" sz="2400" spc="-1" strike="noStrike">
                <a:solidFill>
                  <a:srgbClr val="000000"/>
                </a:solidFill>
                <a:latin typeface="Trebuchet MS"/>
              </a:rPr>
              <a:t> y las </a:t>
            </a:r>
            <a:r>
              <a:rPr b="1" lang="es-ES_tradnl" sz="2400" spc="-1" strike="noStrike">
                <a:solidFill>
                  <a:srgbClr val="000000"/>
                </a:solidFill>
                <a:latin typeface="Trebuchet MS"/>
              </a:rPr>
              <a:t>organizaciones</a:t>
            </a:r>
            <a:r>
              <a:rPr b="0" lang="es-ES_tradnl" sz="2400" spc="-1" strike="noStrike">
                <a:solidFill>
                  <a:srgbClr val="000000"/>
                </a:solidFill>
                <a:latin typeface="Trebuchet MS"/>
              </a:rPr>
              <a:t> de la sociedad civil para lograr acuerdos que permitan el fortalecimiento de  los espacios públicos como escenario cotidiano.</a:t>
            </a:r>
            <a:endParaRPr b="0" lang="en-US" sz="2400" spc="-1" strike="noStrike">
              <a:solidFill>
                <a:srgbClr val="000000"/>
              </a:solidFill>
              <a:latin typeface="Times New Roman"/>
            </a:endParaRPr>
          </a:p>
        </p:txBody>
      </p:sp>
      <p:sp>
        <p:nvSpPr>
          <p:cNvPr id="158" name="Text Box 4"/>
          <p:cNvSpPr/>
          <p:nvPr/>
        </p:nvSpPr>
        <p:spPr>
          <a:xfrm>
            <a:off x="0" y="0"/>
            <a:ext cx="9144000" cy="52056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2800" spc="-1" strike="noStrike">
                <a:solidFill>
                  <a:srgbClr val="ffffff"/>
                </a:solidFill>
                <a:latin typeface="Trebuchet MS"/>
                <a:ea typeface="Times New Roman"/>
              </a:rPr>
              <a:t>  </a:t>
            </a:r>
            <a:r>
              <a:rPr b="1" lang="es-AR" sz="2800" spc="-1" strike="noStrike">
                <a:solidFill>
                  <a:srgbClr val="ffffff"/>
                </a:solidFill>
                <a:latin typeface="Trebuchet MS"/>
                <a:ea typeface="Times New Roman"/>
              </a:rPr>
              <a:t>Consideraciones y aprendizajes</a:t>
            </a:r>
            <a:endParaRPr b="0" lang="en-US" sz="2800" spc="-1" strike="noStrike">
              <a:solidFill>
                <a:srgbClr val="000000"/>
              </a:solidFill>
              <a:latin typeface="Trebuchet MS"/>
            </a:endParaRPr>
          </a:p>
        </p:txBody>
      </p:sp>
      <p:pic>
        <p:nvPicPr>
          <p:cNvPr id="159" name="Picture 5" descr="0209jrkenya"/>
          <p:cNvPicPr/>
          <p:nvPr/>
        </p:nvPicPr>
        <p:blipFill>
          <a:blip r:embed="rId1"/>
          <a:stretch/>
        </p:blipFill>
        <p:spPr>
          <a:xfrm>
            <a:off x="0" y="3581280"/>
            <a:ext cx="4546440" cy="3038760"/>
          </a:xfrm>
          <a:prstGeom prst="rect">
            <a:avLst/>
          </a:prstGeom>
          <a:ln w="0">
            <a:noFill/>
          </a:ln>
        </p:spPr>
      </p:pic>
      <p:pic>
        <p:nvPicPr>
          <p:cNvPr id="160" name="Picture 6" descr="manifestacion_berni1"/>
          <p:cNvPicPr/>
          <p:nvPr/>
        </p:nvPicPr>
        <p:blipFill>
          <a:blip r:embed="rId2"/>
          <a:stretch/>
        </p:blipFill>
        <p:spPr>
          <a:xfrm>
            <a:off x="4930920" y="3578400"/>
            <a:ext cx="4213080" cy="3006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CALLE4"/>
          <p:cNvPicPr/>
          <p:nvPr/>
        </p:nvPicPr>
        <p:blipFill>
          <a:blip r:embed="rId1"/>
          <a:stretch/>
        </p:blipFill>
        <p:spPr>
          <a:xfrm>
            <a:off x="900000" y="692280"/>
            <a:ext cx="7199280" cy="4760640"/>
          </a:xfrm>
          <a:prstGeom prst="rect">
            <a:avLst/>
          </a:prstGeom>
          <a:ln w="0">
            <a:noFill/>
          </a:ln>
        </p:spPr>
      </p:pic>
      <p:sp>
        <p:nvSpPr>
          <p:cNvPr id="162" name="Text Box 3"/>
          <p:cNvSpPr/>
          <p:nvPr/>
        </p:nvSpPr>
        <p:spPr>
          <a:xfrm>
            <a:off x="0" y="0"/>
            <a:ext cx="9144000" cy="52056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2800" spc="-1" strike="noStrike">
                <a:solidFill>
                  <a:srgbClr val="ffffff"/>
                </a:solidFill>
                <a:latin typeface="Trebuchet MS"/>
                <a:ea typeface="Times New Roman"/>
              </a:rPr>
              <a:t>  </a:t>
            </a:r>
            <a:r>
              <a:rPr b="1" lang="es-AR" sz="2800" spc="-1" strike="noStrike">
                <a:solidFill>
                  <a:srgbClr val="ffffff"/>
                </a:solidFill>
                <a:latin typeface="Trebuchet MS"/>
                <a:ea typeface="Times New Roman"/>
              </a:rPr>
              <a:t>Consideraciones y aprendizajes</a:t>
            </a:r>
            <a:endParaRPr b="0" lang="en-US" sz="2800" spc="-1" strike="noStrike">
              <a:solidFill>
                <a:srgbClr val="000000"/>
              </a:solidFill>
              <a:latin typeface="Trebuchet MS"/>
            </a:endParaRPr>
          </a:p>
        </p:txBody>
      </p:sp>
      <p:sp>
        <p:nvSpPr>
          <p:cNvPr id="163" name="Text Box 4"/>
          <p:cNvSpPr/>
          <p:nvPr/>
        </p:nvSpPr>
        <p:spPr>
          <a:xfrm>
            <a:off x="395280" y="5629320"/>
            <a:ext cx="8497800" cy="1191240"/>
          </a:xfrm>
          <a:prstGeom prst="rect">
            <a:avLst/>
          </a:prstGeom>
          <a:noFill/>
          <a:ln w="0">
            <a:noFill/>
          </a:ln>
        </p:spPr>
        <p:style>
          <a:lnRef idx="0"/>
          <a:fillRef idx="0"/>
          <a:effectRef idx="0"/>
          <a:fontRef idx="minor"/>
        </p:style>
        <p:txBody>
          <a:bodyPr lIns="90000" rIns="90000" tIns="46800" bIns="46800" anchor="t">
            <a:spAutoFit/>
          </a:bodyPr>
          <a:p>
            <a:pPr>
              <a:spcBef>
                <a:spcPts val="1049"/>
              </a:spcBef>
              <a:buClr>
                <a:srgbClr val="000000"/>
              </a:buClr>
              <a:buFont typeface="Trebuchet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400" spc="-1" strike="noStrike">
                <a:solidFill>
                  <a:srgbClr val="000000"/>
                </a:solidFill>
                <a:latin typeface="Trebuchet MS"/>
                <a:ea typeface="Times New Roman"/>
              </a:rPr>
              <a:t> </a:t>
            </a:r>
            <a:r>
              <a:rPr b="0" lang="es-AR" sz="2400" spc="-1" strike="noStrike">
                <a:solidFill>
                  <a:srgbClr val="000000"/>
                </a:solidFill>
                <a:latin typeface="Trebuchet MS"/>
                <a:ea typeface="Times New Roman"/>
              </a:rPr>
              <a:t>El alerta frente a los riesgos de etnocentrismo, de la diferencia entre hacer planes para los otros y </a:t>
            </a:r>
            <a:r>
              <a:rPr b="1" lang="es-AR" sz="2400" spc="-1" strike="noStrike">
                <a:solidFill>
                  <a:srgbClr val="000000"/>
                </a:solidFill>
                <a:latin typeface="Trebuchet MS"/>
                <a:ea typeface="Times New Roman"/>
              </a:rPr>
              <a:t>planificar con otros</a:t>
            </a:r>
            <a:r>
              <a:rPr b="0" lang="es-AR" sz="2400" spc="-1" strike="noStrike">
                <a:solidFill>
                  <a:srgbClr val="000000"/>
                </a:solidFill>
                <a:latin typeface="Trebuchet MS"/>
                <a:ea typeface="Times New Roman"/>
              </a:rPr>
              <a:t>.</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MANIF2"/>
          <p:cNvPicPr/>
          <p:nvPr/>
        </p:nvPicPr>
        <p:blipFill>
          <a:blip r:embed="rId1"/>
          <a:stretch/>
        </p:blipFill>
        <p:spPr>
          <a:xfrm>
            <a:off x="971640" y="155520"/>
            <a:ext cx="7297560" cy="4786200"/>
          </a:xfrm>
          <a:prstGeom prst="rect">
            <a:avLst/>
          </a:prstGeom>
          <a:ln w="0">
            <a:noFill/>
          </a:ln>
        </p:spPr>
      </p:pic>
      <p:sp>
        <p:nvSpPr>
          <p:cNvPr id="165" name="Text Box 5"/>
          <p:cNvSpPr/>
          <p:nvPr/>
        </p:nvSpPr>
        <p:spPr>
          <a:xfrm>
            <a:off x="900000" y="4911840"/>
            <a:ext cx="8244000" cy="234576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Trebuchet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400" spc="-1" strike="noStrike">
                <a:solidFill>
                  <a:srgbClr val="000000"/>
                </a:solidFill>
                <a:latin typeface="Trebuchet MS"/>
                <a:ea typeface="Times New Roman"/>
              </a:rPr>
              <a:t>La </a:t>
            </a:r>
            <a:r>
              <a:rPr b="1" lang="es-AR" sz="2400" spc="-1" strike="noStrike">
                <a:solidFill>
                  <a:srgbClr val="000000"/>
                </a:solidFill>
                <a:latin typeface="Trebuchet MS"/>
                <a:ea typeface="Times New Roman"/>
              </a:rPr>
              <a:t>recuperación de los debates sobre el futuro</a:t>
            </a:r>
            <a:r>
              <a:rPr b="0" lang="es-AR" sz="2400" spc="-1" strike="noStrike">
                <a:solidFill>
                  <a:srgbClr val="000000"/>
                </a:solidFill>
                <a:latin typeface="Trebuchet MS"/>
                <a:ea typeface="Times New Roman"/>
              </a:rPr>
              <a:t> no como objeto de predicción sino como espacio de construcción y proveedor de sentido para la práctica cotidiana.</a:t>
            </a:r>
            <a:endParaRPr b="0" lang="en-US" sz="2400" spc="-1" strike="noStrike">
              <a:solidFill>
                <a:srgbClr val="000000"/>
              </a:solidFill>
              <a:latin typeface="Trebuchet MS"/>
            </a:endParaRPr>
          </a:p>
          <a:p>
            <a:pPr>
              <a:spcBef>
                <a:spcPts val="451"/>
              </a:spcBef>
              <a:buClr>
                <a:srgbClr val="000000"/>
              </a:buClr>
              <a:buFont typeface="Trebuchet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400" spc="-1" strike="noStrike">
                <a:solidFill>
                  <a:srgbClr val="000000"/>
                </a:solidFill>
                <a:latin typeface="Trebuchet MS"/>
                <a:ea typeface="Times New Roman"/>
              </a:rPr>
              <a:t>El reconocimiento de la </a:t>
            </a:r>
            <a:r>
              <a:rPr b="1" lang="es-AR" sz="2400" spc="-1" strike="noStrike">
                <a:solidFill>
                  <a:srgbClr val="000000"/>
                </a:solidFill>
                <a:latin typeface="Trebuchet MS"/>
                <a:ea typeface="Times New Roman"/>
              </a:rPr>
              <a:t>historicidad de los procesos sociale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6" descr="DISCUTE"/>
          <p:cNvPicPr/>
          <p:nvPr/>
        </p:nvPicPr>
        <p:blipFill>
          <a:blip r:embed="rId1"/>
          <a:stretch/>
        </p:blipFill>
        <p:spPr>
          <a:xfrm>
            <a:off x="684360" y="260280"/>
            <a:ext cx="8086680" cy="5305320"/>
          </a:xfrm>
          <a:prstGeom prst="rect">
            <a:avLst/>
          </a:prstGeom>
          <a:ln w="0">
            <a:noFill/>
          </a:ln>
        </p:spPr>
      </p:pic>
      <p:sp>
        <p:nvSpPr>
          <p:cNvPr id="167" name="Text Box 7"/>
          <p:cNvSpPr/>
          <p:nvPr/>
        </p:nvSpPr>
        <p:spPr>
          <a:xfrm>
            <a:off x="684360" y="5734080"/>
            <a:ext cx="8064360" cy="825480"/>
          </a:xfrm>
          <a:prstGeom prst="rect">
            <a:avLst/>
          </a:prstGeom>
          <a:noFill/>
          <a:ln w="0">
            <a:noFill/>
          </a:ln>
        </p:spPr>
        <p:style>
          <a:lnRef idx="0"/>
          <a:fillRef idx="0"/>
          <a:effectRef idx="0"/>
          <a:fontRef idx="minor"/>
        </p:style>
        <p:txBody>
          <a:bodyPr lIns="90000" rIns="90000" tIns="46800" bIns="46800" anchor="t">
            <a:spAutoFit/>
          </a:bodyPr>
          <a:p>
            <a:pPr>
              <a:spcBef>
                <a:spcPts val="1049"/>
              </a:spcBef>
              <a:spcAft>
                <a:spcPts val="300"/>
              </a:spcAft>
              <a:buClr>
                <a:srgbClr val="000000"/>
              </a:buClr>
              <a:buFont typeface="Trebuchet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400" spc="-1" strike="noStrike">
                <a:solidFill>
                  <a:srgbClr val="000000"/>
                </a:solidFill>
                <a:latin typeface="Trebuchet MS"/>
                <a:ea typeface="Times New Roman"/>
              </a:rPr>
              <a:t>La </a:t>
            </a:r>
            <a:r>
              <a:rPr b="1" lang="es-AR" sz="2400" spc="-1" strike="noStrike">
                <a:solidFill>
                  <a:srgbClr val="000000"/>
                </a:solidFill>
                <a:latin typeface="Trebuchet MS"/>
                <a:ea typeface="Times New Roman"/>
              </a:rPr>
              <a:t>percepción del poder</a:t>
            </a:r>
            <a:r>
              <a:rPr b="0" lang="es-AR" sz="2400" spc="-1" strike="noStrike">
                <a:solidFill>
                  <a:srgbClr val="000000"/>
                </a:solidFill>
                <a:latin typeface="Trebuchet MS"/>
                <a:ea typeface="Times New Roman"/>
              </a:rPr>
              <a:t> como una categoría circular en la vida cotidiana, en las organizaciones y grupo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4" descr="implementacion_de_sistemas"/>
          <p:cNvPicPr/>
          <p:nvPr/>
        </p:nvPicPr>
        <p:blipFill>
          <a:blip r:embed="rId1"/>
          <a:stretch/>
        </p:blipFill>
        <p:spPr>
          <a:xfrm>
            <a:off x="611280" y="333360"/>
            <a:ext cx="8028000" cy="6026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0" y="0"/>
            <a:ext cx="9144000" cy="8366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rebuchet MS"/>
            </a:endParaRPr>
          </a:p>
        </p:txBody>
      </p:sp>
      <p:sp>
        <p:nvSpPr>
          <p:cNvPr id="58" name="PlaceHolder 1"/>
          <p:cNvSpPr>
            <a:spLocks noGrp="1"/>
          </p:cNvSpPr>
          <p:nvPr>
            <p:ph type="title"/>
          </p:nvPr>
        </p:nvSpPr>
        <p:spPr>
          <a:xfrm>
            <a:off x="250560" y="1628280"/>
            <a:ext cx="8893080" cy="4791240"/>
          </a:xfrm>
          <a:prstGeom prst="rect">
            <a:avLst/>
          </a:prstGeom>
          <a:noFill/>
          <a:ln w="0">
            <a:noFill/>
          </a:ln>
        </p:spPr>
        <p:txBody>
          <a:bodyPr lIns="92160" rIns="92160" tIns="46080" bIns="46080" anchor="t">
            <a:noAutofit/>
          </a:bodyPr>
          <a:p>
            <a:pPr indent="0">
              <a:lnSpc>
                <a:spcPct val="110000"/>
              </a:lnSpc>
              <a:spcBef>
                <a:spcPts val="2100"/>
              </a:spcBef>
              <a:spcAft>
                <a:spcPts val="140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rebuchet MS"/>
              </a:rPr>
              <a:t>Cada buena práctica </a:t>
            </a:r>
            <a:r>
              <a:rPr b="1" lang="es-ES_tradnl" sz="2800" spc="-1" strike="noStrike">
                <a:solidFill>
                  <a:srgbClr val="000000"/>
                </a:solidFill>
                <a:latin typeface="Trebuchet MS"/>
              </a:rPr>
              <a:t>resuelve </a:t>
            </a:r>
            <a:r>
              <a:rPr b="0" lang="es-ES_tradnl" sz="2800" spc="-1" strike="noStrike">
                <a:solidFill>
                  <a:srgbClr val="000000"/>
                </a:solidFill>
                <a:latin typeface="Trebuchet MS"/>
              </a:rPr>
              <a:t>de un modo singular el tratamiento de uno o varios ejes que al accionarse, proyectan condiciones de mayor seguridad en algún aspecto de la vida ciudadana</a:t>
            </a:r>
            <a:r>
              <a:rPr b="0" lang="es-ES" sz="2800" spc="-1" strike="noStrike">
                <a:solidFill>
                  <a:srgbClr val="000000"/>
                </a:solidFill>
                <a:latin typeface="Trebuchet MS"/>
              </a:rPr>
              <a:t>. </a:t>
            </a:r>
            <a:br>
              <a:rPr sz="2800"/>
            </a:br>
            <a:br>
              <a:rPr sz="2800"/>
            </a:br>
            <a:r>
              <a:rPr b="0" lang="es-ES" sz="2800" spc="-1" strike="noStrike">
                <a:solidFill>
                  <a:srgbClr val="000000"/>
                </a:solidFill>
                <a:latin typeface="Trebuchet MS"/>
              </a:rPr>
              <a:t>Las Prácticas </a:t>
            </a:r>
            <a:r>
              <a:rPr b="0" lang="es-ES" sz="2800" spc="-1" strike="noStrike">
                <a:solidFill>
                  <a:srgbClr val="000000"/>
                </a:solidFill>
                <a:latin typeface="Trebuchet MS"/>
              </a:rPr>
              <a:t>son </a:t>
            </a:r>
            <a:r>
              <a:rPr b="1" lang="es-ES" sz="2800" spc="-1" strike="noStrike">
                <a:solidFill>
                  <a:srgbClr val="ff3300"/>
                </a:solidFill>
                <a:latin typeface="Trebuchet MS"/>
              </a:rPr>
              <a:t>creativas, experimentales, flexibles </a:t>
            </a:r>
            <a:r>
              <a:rPr b="0" lang="es-ES" sz="2800" spc="-1" strike="noStrike">
                <a:solidFill>
                  <a:srgbClr val="000000"/>
                </a:solidFill>
                <a:latin typeface="Trebuchet MS"/>
              </a:rPr>
              <a:t>surgidas del contacto directo con las </a:t>
            </a:r>
            <a:r>
              <a:rPr b="1" lang="es-ES" sz="2800" spc="-1" strike="noStrike">
                <a:solidFill>
                  <a:srgbClr val="ff3300"/>
                </a:solidFill>
                <a:latin typeface="Trebuchet MS"/>
              </a:rPr>
              <a:t>demandas y necesidades </a:t>
            </a:r>
            <a:r>
              <a:rPr b="0" lang="es-ES" sz="2800" spc="-1" strike="noStrike">
                <a:solidFill>
                  <a:srgbClr val="000000"/>
                </a:solidFill>
                <a:latin typeface="Trebuchet MS"/>
              </a:rPr>
              <a:t>acotadas al </a:t>
            </a:r>
            <a:r>
              <a:rPr b="1" lang="es-ES" sz="2800" spc="-1" strike="noStrike">
                <a:solidFill>
                  <a:srgbClr val="ff3300"/>
                </a:solidFill>
                <a:latin typeface="Trebuchet MS"/>
              </a:rPr>
              <a:t>ámbito local, </a:t>
            </a:r>
            <a:r>
              <a:rPr b="0" lang="es-ES" sz="2800" spc="-1" strike="noStrike">
                <a:solidFill>
                  <a:srgbClr val="000000"/>
                </a:solidFill>
                <a:latin typeface="Trebuchet MS"/>
              </a:rPr>
              <a:t>implementadas por </a:t>
            </a:r>
            <a:r>
              <a:rPr b="1" lang="es-ES" sz="2800" spc="-1" strike="noStrike">
                <a:solidFill>
                  <a:srgbClr val="ff3300"/>
                </a:solidFill>
                <a:latin typeface="Trebuchet MS"/>
              </a:rPr>
              <a:t>diversos actores</a:t>
            </a:r>
            <a:r>
              <a:rPr b="0" lang="es-ES" sz="2800" spc="-1" strike="noStrike">
                <a:solidFill>
                  <a:srgbClr val="000000"/>
                </a:solidFill>
                <a:latin typeface="Trebuchet MS"/>
              </a:rPr>
              <a:t> que articulan conocimientos, experiencia y recursos</a:t>
            </a:r>
            <a:endParaRPr b="0" lang="en-US" sz="2800" spc="-1" strike="noStrike">
              <a:solidFill>
                <a:srgbClr val="000000"/>
              </a:solidFill>
              <a:latin typeface="Times New Roman"/>
            </a:endParaRPr>
          </a:p>
        </p:txBody>
      </p:sp>
      <p:sp>
        <p:nvSpPr>
          <p:cNvPr id="59" name="Text Box 4"/>
          <p:cNvSpPr/>
          <p:nvPr/>
        </p:nvSpPr>
        <p:spPr>
          <a:xfrm>
            <a:off x="179280" y="101520"/>
            <a:ext cx="86425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rebuchet MS"/>
              </a:rPr>
              <a:t>Teoría y Practicas  -  Conocimiento y Acción</a:t>
            </a:r>
            <a:endParaRPr b="0" lang="en-US" sz="3200" spc="-1" strike="noStrike">
              <a:solidFill>
                <a:srgbClr val="000000"/>
              </a:solidFill>
              <a:latin typeface="Trebuchet MS"/>
            </a:endParaRPr>
          </a:p>
        </p:txBody>
      </p:sp>
      <p:sp>
        <p:nvSpPr>
          <p:cNvPr id="60" name="Text Box 5"/>
          <p:cNvSpPr/>
          <p:nvPr/>
        </p:nvSpPr>
        <p:spPr>
          <a:xfrm>
            <a:off x="7236000" y="6610320"/>
            <a:ext cx="190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rebuchet MS"/>
              </a:rPr>
              <a:t>Claudia Laub -El Agora</a:t>
            </a:r>
            <a:endParaRPr b="0" lang="en-US" sz="1200" spc="-1" strike="noStrike">
              <a:solidFill>
                <a:srgbClr val="000000"/>
              </a:solidFill>
              <a:latin typeface="Trebuchet MS"/>
            </a:endParaRPr>
          </a:p>
        </p:txBody>
      </p:sp>
      <p:sp>
        <p:nvSpPr>
          <p:cNvPr id="61" name="Text Box 6"/>
          <p:cNvSpPr/>
          <p:nvPr/>
        </p:nvSpPr>
        <p:spPr>
          <a:xfrm>
            <a:off x="250920" y="893880"/>
            <a:ext cx="874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Como transformar ideas en practicas concretas</a:t>
            </a:r>
            <a:endParaRPr b="0" lang="en-US" sz="2800" spc="-1" strike="noStrike">
              <a:solidFill>
                <a:srgbClr val="000000"/>
              </a:solidFill>
              <a:latin typeface="Trebuchet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TransferenciaTronco1"/>
          <p:cNvPicPr/>
          <p:nvPr/>
        </p:nvPicPr>
        <p:blipFill>
          <a:blip r:embed="rId1"/>
          <a:stretch/>
        </p:blipFill>
        <p:spPr>
          <a:xfrm>
            <a:off x="5867280" y="4581360"/>
            <a:ext cx="2916360" cy="2043360"/>
          </a:xfrm>
          <a:prstGeom prst="rect">
            <a:avLst/>
          </a:prstGeom>
          <a:ln w="9360">
            <a:solidFill>
              <a:srgbClr val="000000"/>
            </a:solidFill>
            <a:miter/>
          </a:ln>
        </p:spPr>
      </p:pic>
      <p:sp>
        <p:nvSpPr>
          <p:cNvPr id="63" name="Rectangle 3"/>
          <p:cNvSpPr/>
          <p:nvPr/>
        </p:nvSpPr>
        <p:spPr>
          <a:xfrm>
            <a:off x="0" y="0"/>
            <a:ext cx="9144000" cy="8366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rebuchet MS"/>
            </a:endParaRPr>
          </a:p>
        </p:txBody>
      </p:sp>
      <p:sp>
        <p:nvSpPr>
          <p:cNvPr id="64" name="Text Box 4"/>
          <p:cNvSpPr/>
          <p:nvPr/>
        </p:nvSpPr>
        <p:spPr>
          <a:xfrm>
            <a:off x="324000" y="63360"/>
            <a:ext cx="7704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Trebuchet MS"/>
              </a:rPr>
              <a:t>Transferencia </a:t>
            </a:r>
            <a:endParaRPr b="0" lang="en-US" sz="4000" spc="-1" strike="noStrike">
              <a:solidFill>
                <a:srgbClr val="000000"/>
              </a:solidFill>
              <a:latin typeface="Trebuchet MS"/>
            </a:endParaRPr>
          </a:p>
        </p:txBody>
      </p:sp>
      <p:sp>
        <p:nvSpPr>
          <p:cNvPr id="65" name="Text Box 5"/>
          <p:cNvSpPr/>
          <p:nvPr/>
        </p:nvSpPr>
        <p:spPr>
          <a:xfrm>
            <a:off x="250920" y="4508640"/>
            <a:ext cx="5545080" cy="21963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rebuchet MS"/>
              </a:rPr>
              <a:t>La transferencia como </a:t>
            </a:r>
            <a:r>
              <a:rPr b="1" lang="es-AR" sz="2400" spc="-1" strike="noStrike">
                <a:solidFill>
                  <a:srgbClr val="000000"/>
                </a:solidFill>
                <a:latin typeface="Trebuchet MS"/>
              </a:rPr>
              <a:t>política</a:t>
            </a:r>
            <a:r>
              <a:rPr b="0" lang="es-AR" sz="2400" spc="-1" strike="noStrike">
                <a:solidFill>
                  <a:srgbClr val="000000"/>
                </a:solidFill>
                <a:latin typeface="Trebuchet MS"/>
              </a:rPr>
              <a:t> de una organización está presente en la medida que medie la voluntad de aumentar el poder social en torno a una cuestión problematizada.</a:t>
            </a:r>
            <a:endParaRPr b="0" lang="en-US" sz="2400" spc="-1" strike="noStrike">
              <a:solidFill>
                <a:srgbClr val="000000"/>
              </a:solidFill>
              <a:latin typeface="Trebuchet MS"/>
            </a:endParaRPr>
          </a:p>
        </p:txBody>
      </p:sp>
      <p:pic>
        <p:nvPicPr>
          <p:cNvPr id="66" name="Picture 6" descr="transferencia"/>
          <p:cNvPicPr/>
          <p:nvPr/>
        </p:nvPicPr>
        <p:blipFill>
          <a:blip r:embed="rId2"/>
          <a:stretch/>
        </p:blipFill>
        <p:spPr>
          <a:xfrm>
            <a:off x="4140360" y="2565360"/>
            <a:ext cx="4752720" cy="1419120"/>
          </a:xfrm>
          <a:prstGeom prst="rect">
            <a:avLst/>
          </a:prstGeom>
          <a:ln w="9360">
            <a:solidFill>
              <a:srgbClr val="000000"/>
            </a:solidFill>
            <a:miter/>
          </a:ln>
        </p:spPr>
      </p:pic>
      <p:sp>
        <p:nvSpPr>
          <p:cNvPr id="67" name="Text Box 7"/>
          <p:cNvSpPr/>
          <p:nvPr/>
        </p:nvSpPr>
        <p:spPr>
          <a:xfrm>
            <a:off x="4030560" y="907920"/>
            <a:ext cx="5113440" cy="14072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rebuchet MS"/>
              </a:rPr>
              <a:t>La posibilidad de transferir prácticas está necesariamente referido a la </a:t>
            </a:r>
            <a:r>
              <a:rPr b="1" lang="es-ES" sz="2500" spc="-1" strike="noStrike">
                <a:solidFill>
                  <a:srgbClr val="000000"/>
                </a:solidFill>
                <a:latin typeface="Trebuchet MS"/>
              </a:rPr>
              <a:t>transformación</a:t>
            </a:r>
            <a:endParaRPr b="0" lang="en-US" sz="2500" spc="-1" strike="noStrike">
              <a:solidFill>
                <a:srgbClr val="000000"/>
              </a:solidFill>
              <a:latin typeface="Trebuchet MS"/>
            </a:endParaRPr>
          </a:p>
        </p:txBody>
      </p:sp>
      <p:sp>
        <p:nvSpPr>
          <p:cNvPr id="68" name="Text Box 8"/>
          <p:cNvSpPr/>
          <p:nvPr/>
        </p:nvSpPr>
        <p:spPr>
          <a:xfrm>
            <a:off x="324000" y="907920"/>
            <a:ext cx="3671640" cy="3878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rebuchet MS"/>
              </a:rPr>
              <a:t>Transferir requiere que los </a:t>
            </a:r>
            <a:r>
              <a:rPr b="1" lang="es-AR" sz="2400" spc="-1" strike="noStrike">
                <a:solidFill>
                  <a:srgbClr val="000000"/>
                </a:solidFill>
                <a:latin typeface="Trebuchet MS"/>
              </a:rPr>
              <a:t>contextos</a:t>
            </a:r>
            <a:r>
              <a:rPr b="0" lang="es-AR" sz="2400" spc="-1" strike="noStrike">
                <a:solidFill>
                  <a:srgbClr val="000000"/>
                </a:solidFill>
                <a:latin typeface="Trebuchet MS"/>
              </a:rPr>
              <a:t>, sean hechos concientes, sólo de esta manera es posible “</a:t>
            </a:r>
            <a:r>
              <a:rPr b="1" lang="es-AR" sz="2400" spc="-1" strike="noStrike">
                <a:solidFill>
                  <a:srgbClr val="000000"/>
                </a:solidFill>
                <a:latin typeface="Trebuchet MS"/>
              </a:rPr>
              <a:t>visualizar</a:t>
            </a:r>
            <a:r>
              <a:rPr b="0" lang="es-AR" sz="2400" spc="-1" strike="noStrike">
                <a:solidFill>
                  <a:srgbClr val="000000"/>
                </a:solidFill>
                <a:latin typeface="Trebuchet MS"/>
              </a:rPr>
              <a:t>” en que condiciones es posible implementarlas, </a:t>
            </a:r>
            <a:r>
              <a:rPr b="1" lang="es-AR" sz="2400" spc="-1" strike="noStrike">
                <a:solidFill>
                  <a:srgbClr val="000000"/>
                </a:solidFill>
                <a:latin typeface="Trebuchet MS"/>
              </a:rPr>
              <a:t>adaptarlas</a:t>
            </a:r>
            <a:r>
              <a:rPr b="0" lang="es-AR" sz="2400" spc="-1" strike="noStrike">
                <a:solidFill>
                  <a:srgbClr val="000000"/>
                </a:solidFill>
                <a:latin typeface="Trebuchet MS"/>
              </a:rPr>
              <a:t> o </a:t>
            </a:r>
            <a:r>
              <a:rPr b="1" lang="es-AR" sz="2400" spc="-1" strike="noStrike">
                <a:solidFill>
                  <a:srgbClr val="000000"/>
                </a:solidFill>
                <a:latin typeface="Trebuchet MS"/>
              </a:rPr>
              <a:t>recrearlas</a:t>
            </a:r>
            <a:r>
              <a:rPr b="0" lang="es-AR" sz="2400" spc="-1" strike="noStrike">
                <a:solidFill>
                  <a:srgbClr val="000000"/>
                </a:solidFill>
                <a:latin typeface="Trebuchet MS"/>
              </a:rPr>
              <a:t>.</a:t>
            </a:r>
            <a:endParaRPr b="0" lang="en-US" sz="2400" spc="-1" strike="noStrike">
              <a:solidFill>
                <a:srgbClr val="000000"/>
              </a:solidFill>
              <a:latin typeface="Trebuchet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703"/>
        </a:solidFill>
      </p:bgPr>
    </p:bg>
    <p:spTree>
      <p:nvGrpSpPr>
        <p:cNvPr id="1" name=""/>
        <p:cNvGrpSpPr/>
        <p:nvPr/>
      </p:nvGrpSpPr>
      <p:grpSpPr>
        <a:xfrm>
          <a:off x="0" y="0"/>
          <a:ext cx="0" cy="0"/>
          <a:chOff x="0" y="0"/>
          <a:chExt cx="0" cy="0"/>
        </a:xfrm>
      </p:grpSpPr>
      <p:sp>
        <p:nvSpPr>
          <p:cNvPr id="69" name="Rectangle 2"/>
          <p:cNvSpPr/>
          <p:nvPr/>
        </p:nvSpPr>
        <p:spPr>
          <a:xfrm>
            <a:off x="0" y="5877000"/>
            <a:ext cx="9144000" cy="981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rebuchet MS"/>
            </a:endParaRPr>
          </a:p>
        </p:txBody>
      </p:sp>
      <p:sp>
        <p:nvSpPr>
          <p:cNvPr id="70" name="Text Box 3"/>
          <p:cNvSpPr/>
          <p:nvPr/>
        </p:nvSpPr>
        <p:spPr>
          <a:xfrm>
            <a:off x="1835280" y="0"/>
            <a:ext cx="849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rebuchet MS"/>
              </a:rPr>
              <a:t>Buenas Prácticas Cono Sur</a:t>
            </a:r>
            <a:endParaRPr b="0" lang="en-US" sz="3600" spc="-1" strike="noStrike">
              <a:solidFill>
                <a:srgbClr val="000000"/>
              </a:solidFill>
              <a:latin typeface="Trebuchet MS"/>
            </a:endParaRPr>
          </a:p>
        </p:txBody>
      </p:sp>
      <p:sp>
        <p:nvSpPr>
          <p:cNvPr id="71" name="Text Box 4"/>
          <p:cNvSpPr/>
          <p:nvPr/>
        </p:nvSpPr>
        <p:spPr>
          <a:xfrm>
            <a:off x="395280" y="836640"/>
            <a:ext cx="8424720" cy="4718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CULTURA Y SOCIEDAD</a:t>
            </a:r>
            <a:endParaRPr b="0" lang="en-US" sz="2400" spc="-1" strike="noStrike">
              <a:solidFill>
                <a:srgbClr val="000000"/>
              </a:solidFill>
              <a:latin typeface="Trebuchet MS"/>
            </a:endParaRPr>
          </a:p>
          <a:p>
            <a:pPr algn="just">
              <a:spcBef>
                <a:spcPts val="15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JÓVENES CAMBIANDO EL MUNDO</a:t>
            </a:r>
            <a:endParaRPr b="0" lang="en-US" sz="2400" spc="-1" strike="noStrike">
              <a:solidFill>
                <a:srgbClr val="000000"/>
              </a:solidFill>
              <a:latin typeface="Trebuchet MS"/>
            </a:endParaRPr>
          </a:p>
          <a:p>
            <a:pPr>
              <a:spcBef>
                <a:spcPts val="15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CUIDADO Y PROTECCIÓN DEL AMBIENTE Y LAS PERSONAS QUE VIVEN EN ÉL</a:t>
            </a:r>
            <a:endParaRPr b="0" lang="en-US" sz="2400" spc="-1" strike="noStrike">
              <a:solidFill>
                <a:srgbClr val="000000"/>
              </a:solidFill>
              <a:latin typeface="Trebuchet MS"/>
            </a:endParaRPr>
          </a:p>
          <a:p>
            <a:pPr>
              <a:spcBef>
                <a:spcPts val="15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CONSTRUCCIÓN DE CIUDADANÍA</a:t>
            </a:r>
            <a:endParaRPr b="0" lang="en-US" sz="2400" spc="-1" strike="noStrike">
              <a:solidFill>
                <a:srgbClr val="000000"/>
              </a:solidFill>
              <a:latin typeface="Trebuchet MS"/>
            </a:endParaRPr>
          </a:p>
          <a:p>
            <a:pPr>
              <a:spcBef>
                <a:spcPts val="15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GENERACIÓN DE RECURSOS, INCLUSIÓN SOCIAL</a:t>
            </a:r>
            <a:endParaRPr b="0" lang="en-US" sz="2400" spc="-1" strike="noStrike">
              <a:solidFill>
                <a:srgbClr val="000000"/>
              </a:solidFill>
              <a:latin typeface="Trebuchet MS"/>
            </a:endParaRPr>
          </a:p>
          <a:p>
            <a:pPr algn="just">
              <a:spcBef>
                <a:spcPts val="15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EDUCACIÓN E INCLUSIÓN</a:t>
            </a:r>
            <a:endParaRPr b="0" lang="en-US" sz="2400" spc="-1" strike="noStrike">
              <a:solidFill>
                <a:srgbClr val="000000"/>
              </a:solidFill>
              <a:latin typeface="Trebuchet MS"/>
            </a:endParaRPr>
          </a:p>
          <a:p>
            <a:pPr algn="just">
              <a:spcBef>
                <a:spcPts val="15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SALUD COMUNITARIA</a:t>
            </a:r>
            <a:endParaRPr b="0" lang="en-US" sz="2400" spc="-1" strike="noStrike">
              <a:solidFill>
                <a:srgbClr val="000000"/>
              </a:solidFill>
              <a:latin typeface="Trebuchet MS"/>
            </a:endParaRPr>
          </a:p>
          <a:p>
            <a:pPr algn="just">
              <a:spcBef>
                <a:spcPts val="15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VIVIENDA PARA TODOS</a:t>
            </a:r>
            <a:endParaRPr b="0" lang="en-US" sz="2400" spc="-1" strike="noStrike">
              <a:solidFill>
                <a:srgbClr val="000000"/>
              </a:solidFill>
              <a:latin typeface="Trebuchet MS"/>
            </a:endParaRPr>
          </a:p>
        </p:txBody>
      </p:sp>
      <p:pic>
        <p:nvPicPr>
          <p:cNvPr id="72" name="Picture 5" descr="agoralogoByN"/>
          <p:cNvPicPr/>
          <p:nvPr/>
        </p:nvPicPr>
        <p:blipFill>
          <a:blip r:embed="rId1"/>
          <a:stretch/>
        </p:blipFill>
        <p:spPr>
          <a:xfrm>
            <a:off x="395280" y="6046920"/>
            <a:ext cx="934920" cy="766800"/>
          </a:xfrm>
          <a:prstGeom prst="rect">
            <a:avLst/>
          </a:prstGeom>
          <a:ln w="0">
            <a:noFill/>
          </a:ln>
        </p:spPr>
      </p:pic>
      <p:pic>
        <p:nvPicPr>
          <p:cNvPr id="73" name="Picture 6" descr="treslogos"/>
          <p:cNvPicPr/>
          <p:nvPr/>
        </p:nvPicPr>
        <p:blipFill>
          <a:blip r:embed="rId2"/>
          <a:stretch/>
        </p:blipFill>
        <p:spPr>
          <a:xfrm>
            <a:off x="6948360" y="6093000"/>
            <a:ext cx="2038320" cy="666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703"/>
        </a:solidFill>
      </p:bgPr>
    </p:bg>
    <p:spTree>
      <p:nvGrpSpPr>
        <p:cNvPr id="1" name=""/>
        <p:cNvGrpSpPr/>
        <p:nvPr/>
      </p:nvGrpSpPr>
      <p:grpSpPr>
        <a:xfrm>
          <a:off x="0" y="0"/>
          <a:ext cx="0" cy="0"/>
          <a:chOff x="0" y="0"/>
          <a:chExt cx="0" cy="0"/>
        </a:xfrm>
      </p:grpSpPr>
      <p:sp>
        <p:nvSpPr>
          <p:cNvPr id="74" name="Text Box 2"/>
          <p:cNvSpPr/>
          <p:nvPr/>
        </p:nvSpPr>
        <p:spPr>
          <a:xfrm>
            <a:off x="468360" y="189000"/>
            <a:ext cx="849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CULTURA Y SOCIEDAD</a:t>
            </a:r>
            <a:endParaRPr b="0" lang="en-US" sz="3200" spc="-1" strike="noStrike">
              <a:solidFill>
                <a:srgbClr val="000000"/>
              </a:solidFill>
              <a:latin typeface="Trebuchet MS"/>
            </a:endParaRPr>
          </a:p>
        </p:txBody>
      </p:sp>
      <p:sp>
        <p:nvSpPr>
          <p:cNvPr id="75" name="Rectangle 3"/>
          <p:cNvSpPr/>
          <p:nvPr/>
        </p:nvSpPr>
        <p:spPr>
          <a:xfrm>
            <a:off x="0" y="5877000"/>
            <a:ext cx="9144000" cy="981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rebuchet MS"/>
            </a:endParaRPr>
          </a:p>
        </p:txBody>
      </p:sp>
      <p:pic>
        <p:nvPicPr>
          <p:cNvPr id="76" name="Picture 4" descr="agoralogoByN"/>
          <p:cNvPicPr/>
          <p:nvPr/>
        </p:nvPicPr>
        <p:blipFill>
          <a:blip r:embed="rId1"/>
          <a:stretch/>
        </p:blipFill>
        <p:spPr>
          <a:xfrm>
            <a:off x="395280" y="6046920"/>
            <a:ext cx="934920" cy="766800"/>
          </a:xfrm>
          <a:prstGeom prst="rect">
            <a:avLst/>
          </a:prstGeom>
          <a:ln w="0">
            <a:noFill/>
          </a:ln>
        </p:spPr>
      </p:pic>
      <p:pic>
        <p:nvPicPr>
          <p:cNvPr id="77" name="Picture 5" descr="treslogos"/>
          <p:cNvPicPr/>
          <p:nvPr/>
        </p:nvPicPr>
        <p:blipFill>
          <a:blip r:embed="rId2"/>
          <a:stretch/>
        </p:blipFill>
        <p:spPr>
          <a:xfrm>
            <a:off x="6877080" y="6021360"/>
            <a:ext cx="2038320" cy="666720"/>
          </a:xfrm>
          <a:prstGeom prst="rect">
            <a:avLst/>
          </a:prstGeom>
          <a:ln w="0">
            <a:noFill/>
          </a:ln>
        </p:spPr>
      </p:pic>
      <p:sp>
        <p:nvSpPr>
          <p:cNvPr id="78" name="Text Box 6"/>
          <p:cNvSpPr/>
          <p:nvPr/>
        </p:nvSpPr>
        <p:spPr>
          <a:xfrm>
            <a:off x="539640" y="934920"/>
            <a:ext cx="8064720" cy="47700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rebuchet MS"/>
              </a:rPr>
              <a:t>Abuelas Cuenta Cuentos </a:t>
            </a:r>
            <a:endParaRPr b="0" lang="en-US" sz="2400" spc="-1" strike="noStrike">
              <a:solidFill>
                <a:srgbClr val="000000"/>
              </a:solidFill>
              <a:latin typeface="Trebuchet MS"/>
            </a:endParaRPr>
          </a:p>
          <a:p>
            <a:pPr>
              <a:lnSpc>
                <a:spcPct val="95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Chaco – Argentina</a:t>
            </a:r>
            <a:endParaRPr b="0" lang="en-US" sz="2400" spc="-1" strike="noStrike">
              <a:solidFill>
                <a:srgbClr val="000000"/>
              </a:solidFill>
              <a:latin typeface="Trebuchet MS"/>
            </a:endParaRPr>
          </a:p>
          <a:p>
            <a:pPr>
              <a:lnSpc>
                <a:spcPct val="95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rebuchet MS"/>
              </a:rPr>
              <a:t>Conjunto Balcarce – Chile</a:t>
            </a:r>
            <a:endParaRPr b="0" lang="en-US" sz="2400" spc="-1" strike="noStrike">
              <a:solidFill>
                <a:srgbClr val="000000"/>
              </a:solidFill>
              <a:latin typeface="Trebuchet MS"/>
            </a:endParaRPr>
          </a:p>
          <a:p>
            <a:pPr>
              <a:lnSpc>
                <a:spcPct val="95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Buenos Aires – Argentina</a:t>
            </a:r>
            <a:endParaRPr b="0" lang="en-US" sz="2400" spc="-1" strike="noStrike">
              <a:solidFill>
                <a:srgbClr val="000000"/>
              </a:solidFill>
              <a:latin typeface="Trebuchet MS"/>
            </a:endParaRPr>
          </a:p>
          <a:p>
            <a:pPr>
              <a:lnSpc>
                <a:spcPct val="95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rebuchet MS"/>
              </a:rPr>
              <a:t>Teatro Activo</a:t>
            </a:r>
            <a:endParaRPr b="0" lang="en-US" sz="2400" spc="-1" strike="noStrike">
              <a:solidFill>
                <a:srgbClr val="000000"/>
              </a:solidFill>
              <a:latin typeface="Trebuchet MS"/>
            </a:endParaRPr>
          </a:p>
          <a:p>
            <a:pPr>
              <a:lnSpc>
                <a:spcPct val="95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Asunción – Paraguay</a:t>
            </a:r>
            <a:endParaRPr b="0" lang="en-US" sz="2400" spc="-1" strike="noStrike">
              <a:solidFill>
                <a:srgbClr val="000000"/>
              </a:solidFill>
              <a:latin typeface="Trebuchet MS"/>
            </a:endParaRPr>
          </a:p>
          <a:p>
            <a:pPr>
              <a:lnSpc>
                <a:spcPct val="95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rebuchet MS"/>
              </a:rPr>
              <a:t>Teatro comunitario “Patricios unido de pie”</a:t>
            </a:r>
            <a:endParaRPr b="0" lang="en-US" sz="2400" spc="-1" strike="noStrike">
              <a:solidFill>
                <a:srgbClr val="000000"/>
              </a:solidFill>
              <a:latin typeface="Trebuchet MS"/>
            </a:endParaRPr>
          </a:p>
          <a:p>
            <a:pPr>
              <a:lnSpc>
                <a:spcPct val="95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Patricios, 9 de Julio -  Argentina</a:t>
            </a:r>
            <a:endParaRPr b="0" lang="en-US" sz="2400" spc="-1" strike="noStrike">
              <a:solidFill>
                <a:srgbClr val="000000"/>
              </a:solidFill>
              <a:latin typeface="Trebuchet MS"/>
            </a:endParaRPr>
          </a:p>
          <a:p>
            <a:pPr>
              <a:lnSpc>
                <a:spcPct val="95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rebuchet MS"/>
              </a:rPr>
              <a:t>Programa Arte + Organización Social</a:t>
            </a:r>
            <a:endParaRPr b="0" lang="en-US" sz="2400" spc="-1" strike="noStrike">
              <a:solidFill>
                <a:srgbClr val="000000"/>
              </a:solidFill>
              <a:latin typeface="Trebuchet MS"/>
            </a:endParaRPr>
          </a:p>
          <a:p>
            <a:pPr>
              <a:lnSpc>
                <a:spcPct val="95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Buenos Aires – Argentina</a:t>
            </a:r>
            <a:endParaRPr b="0" lang="en-US" sz="2400" spc="-1" strike="noStrike">
              <a:solidFill>
                <a:srgbClr val="000000"/>
              </a:solidFill>
              <a:latin typeface="Trebuchet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703"/>
        </a:solidFill>
      </p:bgPr>
    </p:bg>
    <p:spTree>
      <p:nvGrpSpPr>
        <p:cNvPr id="1" name=""/>
        <p:cNvGrpSpPr/>
        <p:nvPr/>
      </p:nvGrpSpPr>
      <p:grpSpPr>
        <a:xfrm>
          <a:off x="0" y="0"/>
          <a:ext cx="0" cy="0"/>
          <a:chOff x="0" y="0"/>
          <a:chExt cx="0" cy="0"/>
        </a:xfrm>
      </p:grpSpPr>
      <p:sp>
        <p:nvSpPr>
          <p:cNvPr id="79" name="Text Box 2"/>
          <p:cNvSpPr/>
          <p:nvPr/>
        </p:nvSpPr>
        <p:spPr>
          <a:xfrm>
            <a:off x="468360" y="189000"/>
            <a:ext cx="8496360" cy="5814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JÓVENES CAMBIANDO EL MUNDO</a:t>
            </a:r>
            <a:endParaRPr b="0" lang="en-US" sz="3200" spc="-1" strike="noStrike">
              <a:solidFill>
                <a:srgbClr val="000000"/>
              </a:solidFill>
              <a:latin typeface="Trebuchet MS"/>
            </a:endParaRPr>
          </a:p>
        </p:txBody>
      </p:sp>
      <p:sp>
        <p:nvSpPr>
          <p:cNvPr id="80" name="Rectangle 3"/>
          <p:cNvSpPr/>
          <p:nvPr/>
        </p:nvSpPr>
        <p:spPr>
          <a:xfrm>
            <a:off x="0" y="5877000"/>
            <a:ext cx="9144000" cy="981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rebuchet MS"/>
            </a:endParaRPr>
          </a:p>
        </p:txBody>
      </p:sp>
      <p:pic>
        <p:nvPicPr>
          <p:cNvPr id="81" name="Picture 4" descr="agoralogoByN"/>
          <p:cNvPicPr/>
          <p:nvPr/>
        </p:nvPicPr>
        <p:blipFill>
          <a:blip r:embed="rId1"/>
          <a:stretch/>
        </p:blipFill>
        <p:spPr>
          <a:xfrm>
            <a:off x="395280" y="6046920"/>
            <a:ext cx="934920" cy="766800"/>
          </a:xfrm>
          <a:prstGeom prst="rect">
            <a:avLst/>
          </a:prstGeom>
          <a:ln w="0">
            <a:noFill/>
          </a:ln>
        </p:spPr>
      </p:pic>
      <p:pic>
        <p:nvPicPr>
          <p:cNvPr id="82" name="Picture 5" descr="treslogos"/>
          <p:cNvPicPr/>
          <p:nvPr/>
        </p:nvPicPr>
        <p:blipFill>
          <a:blip r:embed="rId2"/>
          <a:stretch/>
        </p:blipFill>
        <p:spPr>
          <a:xfrm>
            <a:off x="6877080" y="6021360"/>
            <a:ext cx="2038320" cy="666720"/>
          </a:xfrm>
          <a:prstGeom prst="rect">
            <a:avLst/>
          </a:prstGeom>
          <a:ln w="0">
            <a:noFill/>
          </a:ln>
        </p:spPr>
      </p:pic>
      <p:sp>
        <p:nvSpPr>
          <p:cNvPr id="83" name="Text Box 6"/>
          <p:cNvSpPr/>
          <p:nvPr/>
        </p:nvSpPr>
        <p:spPr>
          <a:xfrm>
            <a:off x="468360" y="1006560"/>
            <a:ext cx="8675640" cy="488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rebuchet MS"/>
              </a:rPr>
              <a:t>Enredando Jóvenes para el Desarrollo </a:t>
            </a: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Buenos Aires - Argentina</a:t>
            </a: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rebuchet MS"/>
              </a:rPr>
              <a:t>Proyecto Animadores Juveniles</a:t>
            </a: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Rosario – Argentina</a:t>
            </a:r>
            <a:endParaRPr b="0" lang="en-US" sz="2400" spc="-1" strike="noStrike">
              <a:solidFill>
                <a:srgbClr val="000000"/>
              </a:solidFill>
              <a:latin typeface="Trebuchet MS"/>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rebuchet MS"/>
              </a:rPr>
              <a:t>Ecoclubes</a:t>
            </a: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Córdoba – Argentina</a:t>
            </a: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rebuchet MS"/>
              </a:rPr>
              <a:t>Tercer Campaña de vacunación contra el maltrato hacia niños, niñas y adolescentes “Un trato por el buen trato”</a:t>
            </a: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Montevideo – Uruguay</a:t>
            </a:r>
            <a:endParaRPr b="0" lang="en-US" sz="2400" spc="-1" strike="noStrike">
              <a:solidFill>
                <a:srgbClr val="000000"/>
              </a:solidFill>
              <a:latin typeface="Trebuchet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703"/>
        </a:solidFill>
      </p:bgPr>
    </p:bg>
    <p:spTree>
      <p:nvGrpSpPr>
        <p:cNvPr id="1" name=""/>
        <p:cNvGrpSpPr/>
        <p:nvPr/>
      </p:nvGrpSpPr>
      <p:grpSpPr>
        <a:xfrm>
          <a:off x="0" y="0"/>
          <a:ext cx="0" cy="0"/>
          <a:chOff x="0" y="0"/>
          <a:chExt cx="0" cy="0"/>
        </a:xfrm>
      </p:grpSpPr>
      <p:sp>
        <p:nvSpPr>
          <p:cNvPr id="84" name="Text Box 2"/>
          <p:cNvSpPr/>
          <p:nvPr/>
        </p:nvSpPr>
        <p:spPr>
          <a:xfrm>
            <a:off x="468360" y="115920"/>
            <a:ext cx="8496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UIDADO Y PROTECCIÓN DEL AMBIENTE Y LAS PERSONAS QUE VIVEN EN ÉL</a:t>
            </a:r>
            <a:endParaRPr b="0" lang="en-US" sz="2800" spc="-1" strike="noStrike">
              <a:solidFill>
                <a:srgbClr val="000000"/>
              </a:solidFill>
              <a:latin typeface="Trebuchet MS"/>
            </a:endParaRPr>
          </a:p>
        </p:txBody>
      </p:sp>
      <p:sp>
        <p:nvSpPr>
          <p:cNvPr id="85" name="Rectangle 3"/>
          <p:cNvSpPr/>
          <p:nvPr/>
        </p:nvSpPr>
        <p:spPr>
          <a:xfrm>
            <a:off x="0" y="5877000"/>
            <a:ext cx="9144000" cy="981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rebuchet MS"/>
            </a:endParaRPr>
          </a:p>
        </p:txBody>
      </p:sp>
      <p:pic>
        <p:nvPicPr>
          <p:cNvPr id="86" name="Picture 4" descr="agoralogoByN"/>
          <p:cNvPicPr/>
          <p:nvPr/>
        </p:nvPicPr>
        <p:blipFill>
          <a:blip r:embed="rId1"/>
          <a:stretch/>
        </p:blipFill>
        <p:spPr>
          <a:xfrm>
            <a:off x="395280" y="6046920"/>
            <a:ext cx="934920" cy="766800"/>
          </a:xfrm>
          <a:prstGeom prst="rect">
            <a:avLst/>
          </a:prstGeom>
          <a:ln w="0">
            <a:noFill/>
          </a:ln>
        </p:spPr>
      </p:pic>
      <p:pic>
        <p:nvPicPr>
          <p:cNvPr id="87" name="Picture 5" descr="treslogos"/>
          <p:cNvPicPr/>
          <p:nvPr/>
        </p:nvPicPr>
        <p:blipFill>
          <a:blip r:embed="rId2"/>
          <a:stretch/>
        </p:blipFill>
        <p:spPr>
          <a:xfrm>
            <a:off x="6877080" y="6021360"/>
            <a:ext cx="2038320" cy="666720"/>
          </a:xfrm>
          <a:prstGeom prst="rect">
            <a:avLst/>
          </a:prstGeom>
          <a:ln w="0">
            <a:noFill/>
          </a:ln>
        </p:spPr>
      </p:pic>
      <p:sp>
        <p:nvSpPr>
          <p:cNvPr id="88" name="Text Box 6"/>
          <p:cNvSpPr/>
          <p:nvPr/>
        </p:nvSpPr>
        <p:spPr>
          <a:xfrm>
            <a:off x="468360" y="1214280"/>
            <a:ext cx="8496360" cy="464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ff"/>
                </a:solidFill>
                <a:uFillTx/>
                <a:latin typeface="Trebuchet MS"/>
              </a:rPr>
              <a:t>Programa de Reciclado de Papel de la Fundación Hospital J.P. Garrahan</a:t>
            </a:r>
            <a:endParaRPr b="0" lang="en-US" sz="23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Trebuchet MS"/>
              </a:rPr>
              <a:t>Buenos Aires – Argentina</a:t>
            </a:r>
            <a:endParaRPr b="0" lang="en-US" sz="23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ff"/>
                </a:solidFill>
                <a:uFillTx/>
                <a:latin typeface="Trebuchet MS"/>
              </a:rPr>
              <a:t>REPAPEL: Reciclaje de papel en escuelas de bajos recursos</a:t>
            </a:r>
            <a:endParaRPr b="0" lang="en-US" sz="23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Trebuchet MS"/>
              </a:rPr>
              <a:t>Montevideo – Uruguay</a:t>
            </a:r>
            <a:endParaRPr b="0" lang="en-US" sz="23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ff"/>
                </a:solidFill>
                <a:uFillTx/>
                <a:latin typeface="Trebuchet MS"/>
              </a:rPr>
              <a:t>Proyecto Socio-Ambiental</a:t>
            </a:r>
            <a:endParaRPr b="0" lang="en-US" sz="23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Trebuchet MS"/>
              </a:rPr>
              <a:t>Buenos Aires – Argentina</a:t>
            </a:r>
            <a:endParaRPr b="0" lang="en-US" sz="23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ff"/>
                </a:solidFill>
                <a:uFillTx/>
                <a:latin typeface="Trebuchet MS"/>
              </a:rPr>
              <a:t>Evolución de la concepción ambiental de una comunidad</a:t>
            </a:r>
            <a:endParaRPr b="0" lang="en-US" sz="23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Trebuchet MS"/>
              </a:rPr>
              <a:t>Pico Truncado – Argentina</a:t>
            </a:r>
            <a:endParaRPr b="0" lang="en-US" sz="2300" spc="-1" strike="noStrike">
              <a:solidFill>
                <a:srgbClr val="000000"/>
              </a:solidFill>
              <a:latin typeface="Trebuchet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703"/>
        </a:solidFill>
      </p:bgPr>
    </p:bg>
    <p:spTree>
      <p:nvGrpSpPr>
        <p:cNvPr id="1" name=""/>
        <p:cNvGrpSpPr/>
        <p:nvPr/>
      </p:nvGrpSpPr>
      <p:grpSpPr>
        <a:xfrm>
          <a:off x="0" y="0"/>
          <a:ext cx="0" cy="0"/>
          <a:chOff x="0" y="0"/>
          <a:chExt cx="0" cy="0"/>
        </a:xfrm>
      </p:grpSpPr>
      <p:sp>
        <p:nvSpPr>
          <p:cNvPr id="89" name="Text Box 2"/>
          <p:cNvSpPr/>
          <p:nvPr/>
        </p:nvSpPr>
        <p:spPr>
          <a:xfrm>
            <a:off x="250920" y="115920"/>
            <a:ext cx="849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CONSTRUCCIÓN DE CIUDADANÍA (1)</a:t>
            </a:r>
            <a:endParaRPr b="0" lang="en-US" sz="3200" spc="-1" strike="noStrike">
              <a:solidFill>
                <a:srgbClr val="000000"/>
              </a:solidFill>
              <a:latin typeface="Trebuchet MS"/>
            </a:endParaRPr>
          </a:p>
        </p:txBody>
      </p:sp>
      <p:sp>
        <p:nvSpPr>
          <p:cNvPr id="90" name="Rectangle 3"/>
          <p:cNvSpPr/>
          <p:nvPr/>
        </p:nvSpPr>
        <p:spPr>
          <a:xfrm>
            <a:off x="0" y="5877000"/>
            <a:ext cx="9144000" cy="981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rebuchet MS"/>
            </a:endParaRPr>
          </a:p>
        </p:txBody>
      </p:sp>
      <p:pic>
        <p:nvPicPr>
          <p:cNvPr id="91" name="Picture 4" descr="agoralogoByN"/>
          <p:cNvPicPr/>
          <p:nvPr/>
        </p:nvPicPr>
        <p:blipFill>
          <a:blip r:embed="rId1"/>
          <a:stretch/>
        </p:blipFill>
        <p:spPr>
          <a:xfrm>
            <a:off x="395280" y="6046920"/>
            <a:ext cx="934920" cy="766800"/>
          </a:xfrm>
          <a:prstGeom prst="rect">
            <a:avLst/>
          </a:prstGeom>
          <a:ln w="0">
            <a:noFill/>
          </a:ln>
        </p:spPr>
      </p:pic>
      <p:pic>
        <p:nvPicPr>
          <p:cNvPr id="92" name="Picture 5" descr="treslogos"/>
          <p:cNvPicPr/>
          <p:nvPr/>
        </p:nvPicPr>
        <p:blipFill>
          <a:blip r:embed="rId2"/>
          <a:stretch/>
        </p:blipFill>
        <p:spPr>
          <a:xfrm>
            <a:off x="6877080" y="6021360"/>
            <a:ext cx="2038320" cy="666720"/>
          </a:xfrm>
          <a:prstGeom prst="rect">
            <a:avLst/>
          </a:prstGeom>
          <a:ln w="0">
            <a:noFill/>
          </a:ln>
        </p:spPr>
      </p:pic>
      <p:sp>
        <p:nvSpPr>
          <p:cNvPr id="93" name="Text Box 6"/>
          <p:cNvSpPr/>
          <p:nvPr/>
        </p:nvSpPr>
        <p:spPr>
          <a:xfrm>
            <a:off x="4897440" y="765000"/>
            <a:ext cx="385128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Seguridad Ciudada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Río Negro – Argenti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Extensionismo Jurídico</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Santiago – Chile</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Control ciudadano de la gestión públic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Asunción – Paraguay</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Ñemby – Desafiando a la crisis</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Ñemby – Paraguay</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Junta Comunitaria de Seguridad Urba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Chabás – Argentin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El Municipio como inductor del Desarrollo Económico</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Río Grande – Argentina</a:t>
            </a:r>
            <a:endParaRPr b="0" lang="en-US" sz="1600" spc="-1" strike="noStrike">
              <a:solidFill>
                <a:srgbClr val="000000"/>
              </a:solidFill>
              <a:latin typeface="Trebuchet MS"/>
            </a:endParaRPr>
          </a:p>
        </p:txBody>
      </p:sp>
      <p:sp>
        <p:nvSpPr>
          <p:cNvPr id="94" name="Text Box 7"/>
          <p:cNvSpPr/>
          <p:nvPr/>
        </p:nvSpPr>
        <p:spPr>
          <a:xfrm>
            <a:off x="324000" y="835200"/>
            <a:ext cx="3671640" cy="4345560"/>
          </a:xfrm>
          <a:prstGeom prst="rect">
            <a:avLst/>
          </a:prstGeom>
          <a:noFill/>
          <a:ln w="0">
            <a:noFill/>
          </a:ln>
        </p:spPr>
        <p:style>
          <a:lnRef idx="0"/>
          <a:fillRef idx="0"/>
          <a:effectRef idx="0"/>
          <a:fontRef idx="minor"/>
        </p:style>
        <p:txBody>
          <a:bodyPr lIns="90000" rIns="90000" tIns="46800" bIns="46800" anchor="t">
            <a:sp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Fortalecimiento familiar, de beneficiarios a protagonistas</a:t>
            </a:r>
            <a:endParaRPr b="0" lang="en-US" sz="1600" spc="-1" strike="noStrike">
              <a:solidFill>
                <a:srgbClr val="000000"/>
              </a:solidFill>
              <a:latin typeface="Trebuchet MS"/>
            </a:endParaRPr>
          </a:p>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La Plata – Argentina</a:t>
            </a:r>
            <a:endParaRPr b="0" lang="en-US" sz="1600" spc="-1" strike="noStrike">
              <a:solidFill>
                <a:srgbClr val="000000"/>
              </a:solidFill>
              <a:latin typeface="Trebuchet MS"/>
            </a:endParaRPr>
          </a:p>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Programa Itinerante de Recreacion “A Marcha Camión” Construcción de espacios de protagonismo  y participación  ciudadana a partir del juego, el arte y la recreación.</a:t>
            </a:r>
            <a:endParaRPr b="0" lang="en-US" sz="1600" spc="-1" strike="noStrike">
              <a:solidFill>
                <a:srgbClr val="000000"/>
              </a:solidFill>
              <a:latin typeface="Trebuchet MS"/>
            </a:endParaRPr>
          </a:p>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Montevideo – Uruguay</a:t>
            </a:r>
            <a:endParaRPr b="0" lang="en-US" sz="1600" spc="-1" strike="noStrike">
              <a:solidFill>
                <a:srgbClr val="000000"/>
              </a:solidFill>
              <a:latin typeface="Trebuchet MS"/>
            </a:endParaRPr>
          </a:p>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rebuchet MS"/>
              </a:rPr>
              <a:t>ImaginArte: Fortalecimiento Nutricional y Desarrollo de Proyectos de Vida</a:t>
            </a:r>
            <a:endParaRPr b="0" lang="en-US" sz="1600" spc="-1" strike="noStrike">
              <a:solidFill>
                <a:srgbClr val="000000"/>
              </a:solidFill>
              <a:latin typeface="Trebuchet MS"/>
            </a:endParaRPr>
          </a:p>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rebuchet MS"/>
              </a:rPr>
              <a:t>Montevideo - Argentina</a:t>
            </a:r>
            <a:endParaRPr b="0" lang="en-US" sz="1600" spc="-1" strike="noStrike">
              <a:solidFill>
                <a:srgbClr val="000000"/>
              </a:solidFill>
              <a:latin typeface="Trebuchet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88-05-02T12:14:18Z</dcterms:created>
  <dc:creator>m</dc:creator>
  <dc:description/>
  <dc:language>en-US</dc:language>
  <cp:lastModifiedBy>Bussines Center</cp:lastModifiedBy>
  <dcterms:modified xsi:type="dcterms:W3CDTF">2011-11-16T23:15:20Z</dcterms:modified>
  <cp:revision>139</cp:revision>
  <dc:subject/>
  <dc:title>Sin título de diapositiva</dc:title>
</cp:coreProperties>
</file>