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move the slide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ADBCAE3D-EE2E-4434-9ED8-EEBAE14E003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A1E820B9-391E-4227-ADF2-CF2A595D0A1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E3911630-EA0E-4ABF-B41D-983C9383CA1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20348C-28CE-49BA-863C-7BC9E83E10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D1C7734C-8398-424D-9B10-AA8D9F4FF2F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CDA5EF1A-9FBA-4B4B-BFB5-7578D1547DB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2690C40A-39D8-4009-9618-2DE51F64255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6E993AB5-C200-46C0-BC67-48BA89646F4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145BF3FE-EF35-4D77-B912-50B7622D23A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D6BD2F3B-E4DB-43EB-A4D3-12804D0EAD1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WPT_01"/>
          <p:cNvPicPr/>
          <p:nvPr/>
        </p:nvPicPr>
        <p:blipFill>
          <a:blip r:embed="rId2"/>
          <a:stretch/>
        </p:blipFill>
        <p:spPr>
          <a:xfrm>
            <a:off x="6418440" y="0"/>
            <a:ext cx="3662280" cy="370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592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4067280"/>
            <a:ext cx="9072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1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2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3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4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5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6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1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2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3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4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pic>
        <p:nvPicPr>
          <p:cNvPr id="41" name="Picture 7" descr="PWPT_03"/>
          <p:cNvPicPr/>
          <p:nvPr/>
        </p:nvPicPr>
        <p:blipFill>
          <a:blip r:embed="rId2"/>
          <a:stretch/>
        </p:blipFill>
        <p:spPr>
          <a:xfrm>
            <a:off x="7845480" y="6251400"/>
            <a:ext cx="2235240" cy="13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547280"/>
            <a:ext cx="90723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a organización no gubernamental fundada en 1987 bajo los auspicios del Consejo de Europa-la primera organización en el camp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 red de Alcaldes, político, no partidista, y de técn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Hoy en día, una red de 300 autoridades locales de 18 país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7 secciones nacional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www.efus.eu</a:t>
            </a:r>
            <a:endParaRPr b="0" lang="en-US" sz="28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Factores Claves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Fresco Pro Normal"/>
              </a:rPr>
              <a:t>* </a:t>
            </a: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Liderazgo político fuerte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* Sólida capacidad técnica</a:t>
            </a: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Basa de </a:t>
            </a:r>
            <a:r>
              <a:rPr b="0" lang="es-HN" sz="4400" spc="-1" strike="noStrike">
                <a:solidFill>
                  <a:srgbClr val="4d4d4d"/>
                </a:solidFill>
                <a:latin typeface="Fresco Pro Normal"/>
              </a:rPr>
              <a:t>evidencia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Involucramiento de la poblacion 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664000" y="2570040"/>
            <a:ext cx="5040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Gracias para su atencion!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782fb"/>
                </a:solidFill>
                <a:latin typeface="Fresco Pro Normal"/>
              </a:rPr>
              <a:t>www.efus.eu </a:t>
            </a:r>
            <a:endParaRPr b="0" lang="en-US" sz="40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1871640" y="1403280"/>
            <a:ext cx="6410520" cy="773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Comitado ejecutivo : 29 municipi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519280" y="2340000"/>
            <a:ext cx="4748400" cy="627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Secretariat en Par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800360" y="3132000"/>
            <a:ext cx="6325920" cy="735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300 municip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 rot="10800000">
            <a:off x="936720" y="1186920"/>
            <a:ext cx="720720" cy="26766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8360 h 2676600"/>
              <a:gd name="textAreaBottom" fmla="*/ 1940760 h 26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424720" y="1474920"/>
            <a:ext cx="719280" cy="2676240"/>
          </a:xfrm>
          <a:custGeom>
            <a:avLst/>
            <a:gdLst>
              <a:gd name="textAreaLeft" fmla="*/ 96120 w 719280"/>
              <a:gd name="textAreaRight" fmla="*/ 623160 w 719280"/>
              <a:gd name="textAreaTop" fmla="*/ 468360 h 2676240"/>
              <a:gd name="textAreaBottom" fmla="*/ 1940400 h 26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19280" y="53964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782fb"/>
                </a:solidFill>
                <a:latin typeface="Fresco Pro SemiBold"/>
              </a:rPr>
              <a:t>Organizacion del E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295280" y="4500720"/>
            <a:ext cx="7345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esco Pro Normal"/>
              </a:rPr>
              <a:t>President</a:t>
            </a:r>
            <a:r>
              <a:rPr b="0" lang="fr-FR" sz="1800" spc="-1" strike="noStrike">
                <a:solidFill>
                  <a:srgbClr val="000000"/>
                </a:solidFill>
                <a:latin typeface="Fresco Pro Normal"/>
              </a:rPr>
              <a:t> : </a:t>
            </a:r>
            <a:r>
              <a:rPr b="1" lang="en-GB" sz="1800" spc="-1" strike="noStrike">
                <a:solidFill>
                  <a:srgbClr val="000000"/>
                </a:solidFill>
                <a:latin typeface="Fresco Pro Normal"/>
              </a:rPr>
              <a:t>Guilherme PINTO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, Mayor of Matosinhos,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Erich MARKS (Treasurer)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</a:t>
            </a:r>
            <a:r>
              <a:rPr b="0" lang="en-GB" sz="1800" spc="-1" strike="noStrike">
                <a:solidFill>
                  <a:srgbClr val="4d4d4d"/>
                </a:solidFill>
                <a:latin typeface="Fresco Pro Normal"/>
              </a:rPr>
              <a:t>LPR Crime Prevention Council of the State of Lower Saxony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Franco CORRADINI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Reggio Emilia (Italy), </a:t>
            </a:r>
            <a:br>
              <a:rPr sz="1800"/>
            </a:b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Gilles NICOLAS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Nantes (Franc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City of Budapest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 (Hungary)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arte-de-leurope-vierge-7464"/>
          <p:cNvPicPr/>
          <p:nvPr/>
        </p:nvPicPr>
        <p:blipFill>
          <a:blip r:embed="rId1"/>
          <a:stretch/>
        </p:blipFill>
        <p:spPr>
          <a:xfrm>
            <a:off x="576360" y="58680"/>
            <a:ext cx="10585440" cy="7500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/>
          <p:cNvSpPr/>
          <p:nvPr/>
        </p:nvSpPr>
        <p:spPr>
          <a:xfrm>
            <a:off x="3095640" y="3563280"/>
            <a:ext cx="1922400" cy="509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Fresco Pro SemiBold"/>
              </a:rPr>
              <a:t>EF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753080" y="5362920"/>
            <a:ext cx="211140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5f5f5f"/>
                </a:solidFill>
                <a:latin typeface="Fresco Pro SemiBold"/>
              </a:rPr>
              <a:t>Ital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77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Presided by Mode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727280" y="5201640"/>
            <a:ext cx="208260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Spanis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4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evil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16000" y="3490920"/>
            <a:ext cx="216036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Portuguese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Lo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589720" y="722880"/>
            <a:ext cx="2286000" cy="2328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328120"/>
              <a:gd name="textAreaBottom" fmla="*/ 2216520 h 2328120"/>
            </a:gdLst>
            <a:ahLst/>
            <a:rect l="textAreaLeft" t="textAreaTop" r="textAreaRight" b="textAreaBottom"/>
            <a:pathLst>
              <a:path w="21600" h="21998">
                <a:moveTo>
                  <a:pt x="3600" y="0"/>
                </a:moveTo>
                <a:arcTo wR="3600" hR="3600" stAng="16200000" swAng="-5400000"/>
                <a:lnTo>
                  <a:pt x="0" y="18398"/>
                </a:lnTo>
                <a:arcTo wR="3600" hR="3600" stAng="10800000" swAng="-5400000"/>
                <a:lnTo>
                  <a:pt x="18000" y="2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Luxemburguese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All municipalities of Luxembou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Dudel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24360" y="173880"/>
            <a:ext cx="2158920" cy="214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Belg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Molenbeek-Saint-J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87280" y="1330560"/>
            <a:ext cx="237672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renc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5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aint-Herbl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 flipV="1">
            <a:off x="2448000" y="2771280"/>
            <a:ext cx="720720" cy="792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103640" y="2266920"/>
            <a:ext cx="0" cy="1297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4968720" y="2700360"/>
            <a:ext cx="719280" cy="8636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3311640" y="4067280"/>
            <a:ext cx="43344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2447640" y="4067280"/>
            <a:ext cx="647640" cy="28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5843520" y="3589560"/>
            <a:ext cx="255276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German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tuttg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5040360" y="3995640"/>
            <a:ext cx="792000" cy="216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 flipH="1" flipV="1">
            <a:off x="4392720" y="4067280"/>
            <a:ext cx="50328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056360" y="6012000"/>
            <a:ext cx="2808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o una federacion de Foros nacionales pero un red europeo de ciu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7280" y="179280"/>
            <a:ext cx="50421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bjetivos del Efu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1763640"/>
            <a:ext cx="950436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Fortalezer las políticas locales de prevención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mediante el intercambio de prácticas y experiencias: «ciudades ayudan a las ciudades»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esarrollar y fomentar un enfoque integrado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, basado en el conocimiento, la prevención basada en enfoque de la seguridad respetuosa de los derechos fundamentales - a través de capacitación, asistencia técnica y el fortalecimiento de la base de prueb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ar una voz al nivel local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y el fomento de su papel a nivel nacional, europeo e internacional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Fresco Pro Normal"/>
                <a:ea typeface="Arial Unicode MS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26840" y="208080"/>
            <a:ext cx="6985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Lo que hacemo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000" y="1042920"/>
            <a:ext cx="988236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«Ciudades ayudan a las ciudades» para intercambiar prácticas y conocimientos, a traves :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programas europeos, 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cursos de capacitación, 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seminarios sobre políticas, conferencias para el personal político y técnico.</a:t>
            </a:r>
            <a:br>
              <a:rPr sz="2400"/>
            </a:b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"Seguridad, Democracia y Ciudades» conferencias internacionales -- la proxima en Diciembre 2012 cerca de Paris.  “El futuro de la Prevencion”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Más de 400 buenas prácticas disponible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30 publicaciones sobre diversos temas en diferentes idiom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Un sitio web multilingüe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-302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Temas principales 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22840" y="1731960"/>
            <a:ext cx="535788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pel de los funcionarios locales el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 de seres 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36680" y="1716120"/>
            <a:ext cx="484164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orías de seguridad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rog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edo del crime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ndes event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ció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grantes, las minorí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licí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ce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133200"/>
            <a:ext cx="90010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n-going and recent</a:t>
            </a: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programme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6320" y="1692000"/>
            <a:ext cx="960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Knowledge gathering on street violence (EU_RECO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Training local stakeholders to the prevention of re-offending (FALPRE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afer Drinking Scenes; on Binge Drinking, with French Forum (SD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Preventing violence in sporting events (GOAL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urveillance technologies and fundamental rights (SURVEILLE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***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Democracy, Cities and Drugs II (DC&amp;D II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European University Masters in Urban Safety (EEMU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Citizens, cities, and Video- surveillance (CCT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6000" y="39528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“</a:t>
            </a: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a” experiencia europea? 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2920" y="1763640"/>
            <a:ext cx="90723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Caracteristicas: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a politica integral y integrada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 papel clave para los municipios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Las structuras para articular socios y varios niveles de gobierno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« partnerships » y coalicione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323640"/>
            <a:ext cx="90727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 proceso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440000" y="1666800"/>
          <a:ext cx="6337080" cy="475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666800"/>
                    <a:ext cx="6337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58:34Z</dcterms:created>
  <dc:creator>Pete Jeffs</dc:creator>
  <dc:description/>
  <dc:language>en-US</dc:language>
  <cp:lastModifiedBy>Elizabeth Johnston</cp:lastModifiedBy>
  <dcterms:modified xsi:type="dcterms:W3CDTF">2011-11-18T02:06:01Z</dcterms:modified>
  <cp:revision>521</cp:revision>
  <dc:subject/>
  <dc:title>Titre Presentation Fresco Semi bold 44pt.</dc:title>
</cp:coreProperties>
</file>