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10080625" cy="7559675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92160" y="777960"/>
            <a:ext cx="5114880" cy="38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94949"/>
                </a:solidFill>
                <a:latin typeface="Fresco Pro SemiBold"/>
              </a:rPr>
              <a:t>Click to move the slide</a:t>
            </a:r>
            <a:endParaRPr b="0" lang="en-US" sz="4400" spc="-1" strike="noStrike">
              <a:solidFill>
                <a:srgbClr val="494949"/>
              </a:solidFill>
              <a:latin typeface="Fresco Pro SemiBol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0798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dt" idx="1"/>
          </p:nvPr>
        </p:nvSpPr>
        <p:spPr>
          <a:xfrm>
            <a:off x="4017600" y="0"/>
            <a:ext cx="30798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9721800"/>
            <a:ext cx="30798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4017600" y="9721800"/>
            <a:ext cx="30798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  <a:tab algn="l" pos="1067580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  <a:tab algn="l" pos="10675800"/>
              </a:tabLst>
            </a:pPr>
            <a:fld id="{072DAB81-1353-46D8-AEDD-8744BE67AD1F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4017960" y="9721800"/>
            <a:ext cx="30798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  <a:tab algn="l" pos="10675800"/>
              </a:tabLst>
            </a:pPr>
            <a:fld id="{DBFE1FC0-0433-41DB-87D8-099633107299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92160" y="777960"/>
            <a:ext cx="5114880" cy="3835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4017960" y="9721800"/>
            <a:ext cx="30798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  <a:tab algn="l" pos="10675800"/>
              </a:tabLst>
            </a:pPr>
            <a:fld id="{97629F5B-3024-45DA-893D-AD3E9B1AAF3C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6103F9E-A7DA-4440-BEED-6F35CA8A74A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4017960" y="9721800"/>
            <a:ext cx="30798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  <a:tab algn="l" pos="10675800"/>
              </a:tabLst>
            </a:pPr>
            <a:fld id="{1EE42C9F-6AAF-4A24-A366-A2CB17D0AF1A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92160" y="777960"/>
            <a:ext cx="5114880" cy="38354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4017960" y="9721800"/>
            <a:ext cx="30798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  <a:tab algn="l" pos="10675800"/>
              </a:tabLst>
            </a:pPr>
            <a:fld id="{FD1179CF-E91B-4E3F-8D65-21B79229670C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92160" y="777960"/>
            <a:ext cx="5114880" cy="3835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4017960" y="9721800"/>
            <a:ext cx="30798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  <a:tab algn="l" pos="10675800"/>
              </a:tabLst>
            </a:pPr>
            <a:fld id="{DCEA075A-D5E6-4DA4-8337-95C9D0261A3E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017960" y="9721800"/>
            <a:ext cx="30798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  <a:tab algn="l" pos="10675800"/>
              </a:tabLst>
            </a:pPr>
            <a:fld id="{F0B766CF-2AD7-4480-9A95-C7EF6AE5FB5B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7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6"/>
          <p:cNvSpPr/>
          <p:nvPr/>
        </p:nvSpPr>
        <p:spPr>
          <a:xfrm>
            <a:off x="4017960" y="9721800"/>
            <a:ext cx="30798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  <a:tab algn="l" pos="10675800"/>
              </a:tabLst>
            </a:pPr>
            <a:fld id="{A2A58BF0-ECCD-4E2D-9C88-805CB5D597E0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7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6"/>
          <p:cNvSpPr/>
          <p:nvPr/>
        </p:nvSpPr>
        <p:spPr>
          <a:xfrm>
            <a:off x="4017960" y="9721800"/>
            <a:ext cx="30798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  <a:tab algn="l" pos="10675800"/>
              </a:tabLst>
            </a:pPr>
            <a:fld id="{CB8A535A-E655-4E48-8931-7F0C87F6C43A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7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2920" y="900000"/>
            <a:ext cx="907236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94949"/>
              </a:solidFill>
              <a:latin typeface="Fresco Pro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2920" y="2195640"/>
            <a:ext cx="90723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2920" y="4463640"/>
            <a:ext cx="90723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2920" y="900000"/>
            <a:ext cx="907236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94949"/>
              </a:solidFill>
              <a:latin typeface="Fresco Pro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2920" y="2195640"/>
            <a:ext cx="4427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1960" y="2195640"/>
            <a:ext cx="4427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2920" y="4463640"/>
            <a:ext cx="4427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51960" y="4463640"/>
            <a:ext cx="4427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2920" y="900000"/>
            <a:ext cx="907236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94949"/>
              </a:solidFill>
              <a:latin typeface="Fresco Pro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2920" y="2195640"/>
            <a:ext cx="292104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70480" y="2195640"/>
            <a:ext cx="292104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38040" y="2195640"/>
            <a:ext cx="292104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2920" y="4463640"/>
            <a:ext cx="292104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70480" y="4463640"/>
            <a:ext cx="292104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38040" y="4463640"/>
            <a:ext cx="292104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900000"/>
            <a:ext cx="907236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94949"/>
              </a:solidFill>
              <a:latin typeface="Fresco Pro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2920" y="2195640"/>
            <a:ext cx="907236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900000"/>
            <a:ext cx="907236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94949"/>
              </a:solidFill>
              <a:latin typeface="Fresco Pro Semi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2920" y="2195640"/>
            <a:ext cx="90723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900000"/>
            <a:ext cx="907236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94949"/>
              </a:solidFill>
              <a:latin typeface="Fresco Pro Semi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2920" y="2195640"/>
            <a:ext cx="442728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1960" y="2195640"/>
            <a:ext cx="442728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900000"/>
            <a:ext cx="907236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94949"/>
              </a:solidFill>
              <a:latin typeface="Fresco Pro Semi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02920" y="900000"/>
            <a:ext cx="9072360" cy="57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900000"/>
            <a:ext cx="907236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94949"/>
              </a:solidFill>
              <a:latin typeface="Fresco Pro Semi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2195640"/>
            <a:ext cx="4427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1960" y="2195640"/>
            <a:ext cx="442728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2920" y="4463640"/>
            <a:ext cx="4427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900000"/>
            <a:ext cx="907236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94949"/>
              </a:solidFill>
              <a:latin typeface="Fresco Pro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2920" y="2195640"/>
            <a:ext cx="907236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900000"/>
            <a:ext cx="907236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94949"/>
              </a:solidFill>
              <a:latin typeface="Fresco Pro Semi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2195640"/>
            <a:ext cx="442728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1960" y="2195640"/>
            <a:ext cx="4427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51960" y="4463640"/>
            <a:ext cx="4427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900000"/>
            <a:ext cx="907236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94949"/>
              </a:solidFill>
              <a:latin typeface="Fresco Pro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2195640"/>
            <a:ext cx="4427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1960" y="2195640"/>
            <a:ext cx="4427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2920" y="4463640"/>
            <a:ext cx="90723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900000"/>
            <a:ext cx="907236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94949"/>
              </a:solidFill>
              <a:latin typeface="Fresco Pro Semi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2195640"/>
            <a:ext cx="90723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2920" y="4463640"/>
            <a:ext cx="90723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900000"/>
            <a:ext cx="907236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94949"/>
              </a:solidFill>
              <a:latin typeface="Fresco Pro Semi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2920" y="2195640"/>
            <a:ext cx="4427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1960" y="2195640"/>
            <a:ext cx="4427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2920" y="4463640"/>
            <a:ext cx="4427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51960" y="4463640"/>
            <a:ext cx="4427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900000"/>
            <a:ext cx="907236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94949"/>
              </a:solidFill>
              <a:latin typeface="Fresco Pro SemiBol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2195640"/>
            <a:ext cx="292104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70480" y="2195640"/>
            <a:ext cx="292104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38040" y="2195640"/>
            <a:ext cx="292104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2920" y="4463640"/>
            <a:ext cx="292104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70480" y="4463640"/>
            <a:ext cx="292104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638040" y="4463640"/>
            <a:ext cx="292104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900000"/>
            <a:ext cx="907236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94949"/>
              </a:solidFill>
              <a:latin typeface="Fresco Pro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2195640"/>
            <a:ext cx="90723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900000"/>
            <a:ext cx="907236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94949"/>
              </a:solidFill>
              <a:latin typeface="Fresco Pro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2195640"/>
            <a:ext cx="442728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51960" y="2195640"/>
            <a:ext cx="442728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900000"/>
            <a:ext cx="907236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94949"/>
              </a:solidFill>
              <a:latin typeface="Fresco Pro Semi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02920" y="900000"/>
            <a:ext cx="9072360" cy="57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900000"/>
            <a:ext cx="907236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94949"/>
              </a:solidFill>
              <a:latin typeface="Fresco Pro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2920" y="2195640"/>
            <a:ext cx="4427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1960" y="2195640"/>
            <a:ext cx="442728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2920" y="4463640"/>
            <a:ext cx="4427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2920" y="900000"/>
            <a:ext cx="907236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94949"/>
              </a:solidFill>
              <a:latin typeface="Fresco Pro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2920" y="2195640"/>
            <a:ext cx="442728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1960" y="2195640"/>
            <a:ext cx="4427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51960" y="4463640"/>
            <a:ext cx="4427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2920" y="900000"/>
            <a:ext cx="907236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94949"/>
              </a:solidFill>
              <a:latin typeface="Fresco Pro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2920" y="2195640"/>
            <a:ext cx="4427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1960" y="2195640"/>
            <a:ext cx="4427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2920" y="4463640"/>
            <a:ext cx="90723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PWPT_01"/>
          <p:cNvPicPr/>
          <p:nvPr/>
        </p:nvPicPr>
        <p:blipFill>
          <a:blip r:embed="rId2"/>
          <a:stretch/>
        </p:blipFill>
        <p:spPr>
          <a:xfrm>
            <a:off x="6418440" y="0"/>
            <a:ext cx="3662280" cy="3708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2592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94949"/>
                </a:solidFill>
                <a:latin typeface="Fresco Pro SemiBold"/>
              </a:rPr>
              <a:t>Click to edit the title text format</a:t>
            </a:r>
            <a:endParaRPr b="0" lang="en-US" sz="4400" spc="-1" strike="noStrike">
              <a:solidFill>
                <a:srgbClr val="494949"/>
              </a:solidFill>
              <a:latin typeface="Fresco Pro Semi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2920" y="4067280"/>
            <a:ext cx="907236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8000"/>
          </a:bodyPr>
          <a:p>
            <a:pPr marL="9576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Fresco Pro Normal"/>
              </a:rPr>
              <a:t>Click to edit the outline text format</a:t>
            </a:r>
            <a:endParaRPr b="0" lang="en-US" sz="3200" spc="-1" strike="noStrike">
              <a:solidFill>
                <a:srgbClr val="969696"/>
              </a:solidFill>
              <a:latin typeface="Fresco Pro Normal"/>
            </a:endParaRPr>
          </a:p>
          <a:p>
            <a:pPr lvl="1" marL="95760" indent="-957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Fresco Pro Normal"/>
              </a:rPr>
              <a:t>Second Outline Level</a:t>
            </a:r>
            <a:endParaRPr b="0" lang="en-US" sz="3200" spc="-1" strike="noStrike">
              <a:solidFill>
                <a:srgbClr val="969696"/>
              </a:solidFill>
              <a:latin typeface="Fresco Pro Normal"/>
            </a:endParaRPr>
          </a:p>
          <a:p>
            <a:pPr lvl="2" marL="95760" indent="-957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Fresco Pro Normal"/>
              </a:rPr>
              <a:t>Third Outline Level</a:t>
            </a:r>
            <a:endParaRPr b="0" lang="en-US" sz="3200" spc="-1" strike="noStrike">
              <a:solidFill>
                <a:srgbClr val="969696"/>
              </a:solidFill>
              <a:latin typeface="Fresco Pro Normal"/>
            </a:endParaRPr>
          </a:p>
          <a:p>
            <a:pPr lvl="3" marL="95760" indent="-957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Fresco Pro Normal"/>
              </a:rPr>
              <a:t>Fourth Outline Level</a:t>
            </a:r>
            <a:endParaRPr b="0" lang="en-US" sz="3200" spc="-1" strike="noStrike">
              <a:solidFill>
                <a:srgbClr val="969696"/>
              </a:solidFill>
              <a:latin typeface="Fresco Pro Normal"/>
            </a:endParaRPr>
          </a:p>
          <a:p>
            <a:pPr lvl="4" marL="95760" indent="-957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Fresco Pro Normal"/>
              </a:rPr>
              <a:t>Fifth Outline Level</a:t>
            </a:r>
            <a:endParaRPr b="0" lang="en-US" sz="3200" spc="-1" strike="noStrike">
              <a:solidFill>
                <a:srgbClr val="969696"/>
              </a:solidFill>
              <a:latin typeface="Fresco Pro Normal"/>
            </a:endParaRPr>
          </a:p>
          <a:p>
            <a:pPr lvl="5" marL="95760" indent="-957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Fresco Pro Normal"/>
              </a:rPr>
              <a:t>Sixth Outline Level</a:t>
            </a:r>
            <a:endParaRPr b="0" lang="en-US" sz="3200" spc="-1" strike="noStrike">
              <a:solidFill>
                <a:srgbClr val="969696"/>
              </a:solidFill>
              <a:latin typeface="Fresco Pro Normal"/>
            </a:endParaRPr>
          </a:p>
          <a:p>
            <a:pPr lvl="6" marL="95760" indent="-957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Fresco Pro Normal"/>
              </a:rPr>
              <a:t>Seventh Outline Level</a:t>
            </a:r>
            <a:endParaRPr b="0" lang="en-US" sz="3200" spc="-1" strike="noStrike">
              <a:solidFill>
                <a:srgbClr val="969696"/>
              </a:solidFill>
              <a:latin typeface="Fresco Pro Norm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02920" y="900000"/>
            <a:ext cx="907236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94949"/>
                </a:solidFill>
                <a:latin typeface="Fresco Pro SemiBold"/>
              </a:rPr>
              <a:t>Click to edit the title text format</a:t>
            </a:r>
            <a:endParaRPr b="0" lang="en-US" sz="4400" spc="-1" strike="noStrike">
              <a:solidFill>
                <a:srgbClr val="494949"/>
              </a:solidFill>
              <a:latin typeface="Fresco Pro SemiBol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02920" y="2195640"/>
            <a:ext cx="90723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Fresco Pro Normal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  <a:p>
            <a:pPr lvl="1" marL="343080" indent="-343080">
              <a:spcBef>
                <a:spcPts val="799"/>
              </a:spcBef>
              <a:buClr>
                <a:srgbClr val="4d4d4d"/>
              </a:buClr>
              <a:buFont typeface="Fresco Pro Norm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Fresco Pro Normal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  <a:p>
            <a:pPr lvl="2" marL="343080" indent="-343080">
              <a:spcBef>
                <a:spcPts val="799"/>
              </a:spcBef>
              <a:buClr>
                <a:srgbClr val="4d4d4d"/>
              </a:buClr>
              <a:buFont typeface="Fresco Pro Norm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Fresco Pro Normal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  <a:p>
            <a:pPr lvl="3" marL="343080" indent="-343080">
              <a:spcBef>
                <a:spcPts val="799"/>
              </a:spcBef>
              <a:buClr>
                <a:srgbClr val="4d4d4d"/>
              </a:buClr>
              <a:buFont typeface="Fresco Pro Norm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Fresco Pro Normal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  <a:p>
            <a:pPr lvl="4" marL="343080" indent="-343080">
              <a:spcBef>
                <a:spcPts val="799"/>
              </a:spcBef>
              <a:buClr>
                <a:srgbClr val="4d4d4d"/>
              </a:buClr>
              <a:buFont typeface="Fresco Pro Norm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Fresco Pro Normal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Fresco Pro Norm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Fresco Pro Normal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Fresco Pro Norm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Fresco Pro Normal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  <p:pic>
        <p:nvPicPr>
          <p:cNvPr id="41" name="Picture 7" descr="PWPT_03"/>
          <p:cNvPicPr/>
          <p:nvPr/>
        </p:nvPicPr>
        <p:blipFill>
          <a:blip r:embed="rId2"/>
          <a:stretch/>
        </p:blipFill>
        <p:spPr>
          <a:xfrm>
            <a:off x="7845480" y="6251400"/>
            <a:ext cx="2235240" cy="130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1547280"/>
            <a:ext cx="9072360" cy="547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s-ES" sz="2800" spc="-1" strike="noStrike">
                <a:solidFill>
                  <a:srgbClr val="494949"/>
                </a:solidFill>
                <a:latin typeface="Fresco Pro SemiBold"/>
              </a:rPr>
              <a:t>Una organización no gubernamental fundada en 1987 bajo los auspicios del Consejo de Europa-la primera organización en el campo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494949"/>
                </a:solidFill>
                <a:latin typeface="Fresco Pro SemiBold"/>
              </a:rPr>
              <a:t>Un red de Alcaldes, político, no partidista, y de técnicos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494949"/>
                </a:solidFill>
                <a:latin typeface="Fresco Pro SemiBold"/>
              </a:rPr>
              <a:t>Hoy en día, una red de 300 autoridades locales de 18 países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494949"/>
                </a:solidFill>
                <a:latin typeface="Fresco Pro SemiBold"/>
              </a:rPr>
              <a:t>7 secciones nacionales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494949"/>
                </a:solidFill>
                <a:latin typeface="Fresco Pro SemiBold"/>
              </a:rPr>
              <a:t>www.efus.eu</a:t>
            </a:r>
            <a:endParaRPr b="0" lang="en-US" sz="2800" spc="-1" strike="noStrike">
              <a:solidFill>
                <a:srgbClr val="494949"/>
              </a:solidFill>
              <a:latin typeface="Fresco Pro Semi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2920" y="466560"/>
            <a:ext cx="9072360" cy="123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2782fb"/>
                </a:solidFill>
                <a:latin typeface="Fresco Pro Normal"/>
                <a:ea typeface="Arial Unicode MS"/>
              </a:rPr>
              <a:t>Factores Claves</a:t>
            </a:r>
            <a:r>
              <a:rPr b="1" lang="fr-FR" sz="4400" spc="-1" strike="noStrike">
                <a:solidFill>
                  <a:srgbClr val="2782fb"/>
                </a:solidFill>
                <a:latin typeface="Fresco Pro Normal"/>
                <a:ea typeface="Arial Unicode MS"/>
              </a:rPr>
              <a:t> </a:t>
            </a:r>
            <a:endParaRPr b="0" lang="en-US" sz="4400" spc="-1" strike="noStrike">
              <a:solidFill>
                <a:srgbClr val="494949"/>
              </a:solidFill>
              <a:latin typeface="Fresco Pro SemiBol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02920" y="2195640"/>
            <a:ext cx="9072360" cy="43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d4d4d"/>
                </a:solidFill>
                <a:latin typeface="Fresco Pro Normal"/>
              </a:rPr>
              <a:t>* </a:t>
            </a:r>
            <a:r>
              <a:rPr b="0" lang="es-ES" sz="4400" spc="-1" strike="noStrike">
                <a:solidFill>
                  <a:srgbClr val="4d4d4d"/>
                </a:solidFill>
                <a:latin typeface="Fresco Pro Normal"/>
              </a:rPr>
              <a:t>Liderazgo político fuerte</a:t>
            </a:r>
            <a:endParaRPr b="0" lang="en-US" sz="4400" spc="-1" strike="noStrike">
              <a:solidFill>
                <a:srgbClr val="4d4d4d"/>
              </a:solidFill>
              <a:latin typeface="Fresco Pro Norm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4d4d4d"/>
                </a:solidFill>
                <a:latin typeface="Fresco Pro Normal"/>
              </a:rPr>
              <a:t>* Sólida capacidad técnica</a:t>
            </a:r>
            <a:r>
              <a:rPr b="0" lang="fr-FR" sz="4400" spc="-1" strike="noStrike">
                <a:solidFill>
                  <a:srgbClr val="4d4d4d"/>
                </a:solidFill>
                <a:latin typeface="Fresco Pro Normal"/>
              </a:rPr>
              <a:t> </a:t>
            </a:r>
            <a:endParaRPr b="0" lang="en-US" sz="4400" spc="-1" strike="noStrike">
              <a:solidFill>
                <a:srgbClr val="4d4d4d"/>
              </a:solidFill>
              <a:latin typeface="Fresco Pro Norm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4d4d4d"/>
                </a:solidFill>
                <a:latin typeface="Fresco Pro Normal"/>
              </a:rPr>
              <a:t>* Basa de </a:t>
            </a:r>
            <a:r>
              <a:rPr b="0" lang="es-HN" sz="4400" spc="-1" strike="noStrike">
                <a:solidFill>
                  <a:srgbClr val="4d4d4d"/>
                </a:solidFill>
                <a:latin typeface="Fresco Pro Normal"/>
              </a:rPr>
              <a:t>evidencia</a:t>
            </a:r>
            <a:endParaRPr b="0" lang="en-US" sz="4400" spc="-1" strike="noStrike">
              <a:solidFill>
                <a:srgbClr val="4d4d4d"/>
              </a:solidFill>
              <a:latin typeface="Fresco Pro Norm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4d4d4d"/>
                </a:solidFill>
                <a:latin typeface="Fresco Pro Normal"/>
              </a:rPr>
              <a:t>* Involucramiento de la poblacion  </a:t>
            </a:r>
            <a:endParaRPr b="0" lang="en-US" sz="4400" spc="-1" strike="noStrike">
              <a:solidFill>
                <a:srgbClr val="4d4d4d"/>
              </a:solidFill>
              <a:latin typeface="Fresco Pro Norm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Fresco Pro Norm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664000" y="2570040"/>
            <a:ext cx="5040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Fresco Pro Norm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Fresco Pro Norm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494949"/>
                </a:solidFill>
                <a:latin typeface="Fresco Pro Normal"/>
              </a:rPr>
              <a:t>Gracias para su atencion! </a:t>
            </a:r>
            <a:endParaRPr b="0" lang="en-US" sz="2600" spc="-1" strike="noStrike">
              <a:solidFill>
                <a:srgbClr val="4d4d4d"/>
              </a:solidFill>
              <a:latin typeface="Fresco Pro Norm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Fresco Pro Norm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494949"/>
                </a:solidFill>
                <a:latin typeface="Fresco Pro Normal"/>
              </a:rPr>
              <a:t> </a:t>
            </a:r>
            <a:endParaRPr b="0" lang="en-US" sz="2600" spc="-1" strike="noStrike">
              <a:solidFill>
                <a:srgbClr val="4d4d4d"/>
              </a:solidFill>
              <a:latin typeface="Fresco Pro Norm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2782fb"/>
                </a:solidFill>
                <a:latin typeface="Fresco Pro Normal"/>
              </a:rPr>
              <a:t>www.efus.eu </a:t>
            </a:r>
            <a:endParaRPr b="0" lang="en-US" sz="4000" spc="-1" strike="noStrike">
              <a:solidFill>
                <a:srgbClr val="4d4d4d"/>
              </a:solidFill>
              <a:latin typeface="Fresco Pro Norm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2"/>
          <p:cNvSpPr/>
          <p:nvPr/>
        </p:nvSpPr>
        <p:spPr>
          <a:xfrm>
            <a:off x="1871640" y="1403280"/>
            <a:ext cx="6410520" cy="773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500" spc="-1" strike="noStrike">
                <a:solidFill>
                  <a:srgbClr val="ffffff"/>
                </a:solidFill>
                <a:latin typeface="Fresco Pro SemiBold"/>
              </a:rPr>
              <a:t>Comitado ejecutivo : 29 municipio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"/>
          <p:cNvSpPr/>
          <p:nvPr/>
        </p:nvSpPr>
        <p:spPr>
          <a:xfrm>
            <a:off x="2519280" y="2340000"/>
            <a:ext cx="4748400" cy="62712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500" spc="-1" strike="noStrike">
                <a:solidFill>
                  <a:srgbClr val="ffffff"/>
                </a:solidFill>
                <a:latin typeface="Fresco Pro SemiBold"/>
              </a:rPr>
              <a:t>Secretariat en Pari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1800360" y="3132000"/>
            <a:ext cx="6325920" cy="73512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500" spc="-1" strike="noStrike">
                <a:solidFill>
                  <a:srgbClr val="ffffff"/>
                </a:solidFill>
                <a:latin typeface="Fresco Pro SemiBold"/>
              </a:rPr>
              <a:t>300 municipio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5"/>
          <p:cNvSpPr/>
          <p:nvPr/>
        </p:nvSpPr>
        <p:spPr>
          <a:xfrm rot="10800000">
            <a:off x="936720" y="1186920"/>
            <a:ext cx="720720" cy="2676600"/>
          </a:xfrm>
          <a:custGeom>
            <a:avLst/>
            <a:gdLst>
              <a:gd name="textAreaLeft" fmla="*/ 96480 w 720720"/>
              <a:gd name="textAreaRight" fmla="*/ 624240 w 720720"/>
              <a:gd name="textAreaTop" fmla="*/ 468360 h 2676600"/>
              <a:gd name="textAreaBottom" fmla="*/ 1940760 h 267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1886710"/>
                <a:lnTo>
                  <a:pt x="10730" y="20601"/>
                </a:lnTo>
                <a:lnTo>
                  <a:pt x="0" y="17280"/>
                </a:lnTo>
                <a:lnTo>
                  <a:pt x="10730" y="11961"/>
                </a:lnTo>
                <a:lnTo>
                  <a:pt x="10730" y="14121"/>
                </a:lnTo>
                <a:arcTo wR="21600" hR="7560" stAng="1886710" swAng="-1529275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8424720" y="1474920"/>
            <a:ext cx="719280" cy="2676240"/>
          </a:xfrm>
          <a:custGeom>
            <a:avLst/>
            <a:gdLst>
              <a:gd name="textAreaLeft" fmla="*/ 96120 w 719280"/>
              <a:gd name="textAreaRight" fmla="*/ 623160 w 719280"/>
              <a:gd name="textAreaTop" fmla="*/ 468360 h 2676240"/>
              <a:gd name="textAreaBottom" fmla="*/ 1940400 h 267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1886710"/>
                <a:lnTo>
                  <a:pt x="10730" y="20601"/>
                </a:lnTo>
                <a:lnTo>
                  <a:pt x="0" y="17280"/>
                </a:lnTo>
                <a:lnTo>
                  <a:pt x="10730" y="11961"/>
                </a:lnTo>
                <a:lnTo>
                  <a:pt x="10730" y="14121"/>
                </a:lnTo>
                <a:arcTo wR="21600" hR="7560" stAng="1886710" swAng="-1529275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19280" y="539640"/>
            <a:ext cx="822960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2782fb"/>
                </a:solidFill>
                <a:latin typeface="Fresco Pro SemiBold"/>
              </a:rPr>
              <a:t>Organizacion del Ef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1295280" y="4500720"/>
            <a:ext cx="7345440" cy="16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Fresco Pro Normal"/>
              </a:rPr>
              <a:t>President</a:t>
            </a:r>
            <a:r>
              <a:rPr b="0" lang="fr-FR" sz="1800" spc="-1" strike="noStrike">
                <a:solidFill>
                  <a:srgbClr val="000000"/>
                </a:solidFill>
                <a:latin typeface="Fresco Pro Normal"/>
              </a:rPr>
              <a:t> : </a:t>
            </a:r>
            <a:r>
              <a:rPr b="1" lang="en-GB" sz="1800" spc="-1" strike="noStrike">
                <a:solidFill>
                  <a:srgbClr val="000000"/>
                </a:solidFill>
                <a:latin typeface="Fresco Pro Normal"/>
              </a:rPr>
              <a:t>Guilherme PINTO</a:t>
            </a:r>
            <a:r>
              <a:rPr b="0" lang="en-GB" sz="1800" spc="-1" strike="noStrike">
                <a:solidFill>
                  <a:srgbClr val="000000"/>
                </a:solidFill>
                <a:latin typeface="Fresco Pro Normal"/>
              </a:rPr>
              <a:t>, Mayor of Matosinhos, Portug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4d4d4d"/>
                </a:solidFill>
                <a:latin typeface="Fresco Pro Normal"/>
              </a:rPr>
              <a:t>Erich MARKS (Treasurer)</a:t>
            </a:r>
            <a:r>
              <a:rPr b="0" lang="fr-FR" sz="1800" spc="-1" strike="noStrike">
                <a:solidFill>
                  <a:srgbClr val="4d4d4d"/>
                </a:solidFill>
                <a:latin typeface="Fresco Pro Normal"/>
              </a:rPr>
              <a:t>, </a:t>
            </a:r>
            <a:r>
              <a:rPr b="0" lang="en-GB" sz="1800" spc="-1" strike="noStrike">
                <a:solidFill>
                  <a:srgbClr val="4d4d4d"/>
                </a:solidFill>
                <a:latin typeface="Fresco Pro Normal"/>
              </a:rPr>
              <a:t>LPR Crime Prevention Council of the State of Lower Saxony (German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4d4d4d"/>
                </a:solidFill>
                <a:latin typeface="Fresco Pro Normal"/>
              </a:rPr>
              <a:t>Franco CORRADINI</a:t>
            </a:r>
            <a:r>
              <a:rPr b="0" lang="fr-FR" sz="1800" spc="-1" strike="noStrike">
                <a:solidFill>
                  <a:srgbClr val="4d4d4d"/>
                </a:solidFill>
                <a:latin typeface="Fresco Pro Normal"/>
              </a:rPr>
              <a:t>, City of Reggio Emilia (Italy), </a:t>
            </a:r>
            <a:br>
              <a:rPr sz="1800"/>
            </a:br>
            <a:r>
              <a:rPr b="1" lang="fr-FR" sz="1800" spc="-1" strike="noStrike">
                <a:solidFill>
                  <a:srgbClr val="4d4d4d"/>
                </a:solidFill>
                <a:latin typeface="Fresco Pro Normal"/>
              </a:rPr>
              <a:t>Gilles NICOLAS</a:t>
            </a:r>
            <a:r>
              <a:rPr b="0" lang="fr-FR" sz="1800" spc="-1" strike="noStrike">
                <a:solidFill>
                  <a:srgbClr val="4d4d4d"/>
                </a:solidFill>
                <a:latin typeface="Fresco Pro Normal"/>
              </a:rPr>
              <a:t>, City of Nantes (France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4d4d4d"/>
                </a:solidFill>
                <a:latin typeface="Fresco Pro Normal"/>
              </a:rPr>
              <a:t>City of Budapest</a:t>
            </a:r>
            <a:r>
              <a:rPr b="0" lang="fr-FR" sz="1800" spc="-1" strike="noStrike">
                <a:solidFill>
                  <a:srgbClr val="4d4d4d"/>
                </a:solidFill>
                <a:latin typeface="Fresco Pro Normal"/>
              </a:rPr>
              <a:t> (Hungary)</a:t>
            </a:r>
            <a:r>
              <a:rPr b="0" lang="en-GB" sz="1800" spc="-1" strike="noStrike">
                <a:solidFill>
                  <a:srgbClr val="000000"/>
                </a:solidFill>
                <a:latin typeface="Fresco Pro Norm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carte-de-leurope-vierge-7464"/>
          <p:cNvPicPr/>
          <p:nvPr/>
        </p:nvPicPr>
        <p:blipFill>
          <a:blip r:embed="rId1"/>
          <a:stretch/>
        </p:blipFill>
        <p:spPr>
          <a:xfrm>
            <a:off x="576360" y="58680"/>
            <a:ext cx="10585440" cy="750096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3"/>
          <p:cNvSpPr/>
          <p:nvPr/>
        </p:nvSpPr>
        <p:spPr>
          <a:xfrm>
            <a:off x="3095640" y="3563280"/>
            <a:ext cx="1922400" cy="5094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Fresco Pro SemiBold"/>
              </a:rPr>
              <a:t>EF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4753080" y="5362920"/>
            <a:ext cx="2111400" cy="138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5f5f5f"/>
                </a:solidFill>
                <a:latin typeface="Fresco Pro SemiBold"/>
              </a:rPr>
              <a:t>Italian Foru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5f5f5f"/>
                </a:solidFill>
                <a:latin typeface="Fresco Pro SemiBold"/>
              </a:rPr>
              <a:t>77 cit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5f5f5f"/>
                </a:solidFill>
                <a:latin typeface="Fresco Pro SemiBold"/>
              </a:rPr>
              <a:t>Presided by Moden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5"/>
          <p:cNvSpPr/>
          <p:nvPr/>
        </p:nvSpPr>
        <p:spPr>
          <a:xfrm>
            <a:off x="1727280" y="5201640"/>
            <a:ext cx="2082600" cy="1707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4d4d4d"/>
                </a:solidFill>
                <a:latin typeface="Fresco Pro SemiBold"/>
              </a:rPr>
              <a:t>Spanish Foru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4d4d4d"/>
                </a:solidFill>
                <a:latin typeface="Fresco Pro SemiBold"/>
              </a:rPr>
              <a:t>40 cit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4d4d4d"/>
                </a:solidFill>
                <a:latin typeface="Fresco Pro SemiBold"/>
              </a:rPr>
              <a:t>Presided by Sevil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6"/>
          <p:cNvSpPr/>
          <p:nvPr/>
        </p:nvSpPr>
        <p:spPr>
          <a:xfrm>
            <a:off x="216000" y="3490920"/>
            <a:ext cx="2160360" cy="1707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4d4d4d"/>
                </a:solidFill>
                <a:latin typeface="Fresco Pro SemiBold"/>
              </a:rPr>
              <a:t>Portuguese Foru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4d4d4d"/>
                </a:solidFill>
                <a:latin typeface="Fresco Pro SemiBold"/>
              </a:rPr>
              <a:t>12 cit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4d4d4d"/>
                </a:solidFill>
                <a:latin typeface="Fresco Pro SemiBold"/>
              </a:rPr>
              <a:t>Presided by Lou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7"/>
          <p:cNvSpPr/>
          <p:nvPr/>
        </p:nvSpPr>
        <p:spPr>
          <a:xfrm>
            <a:off x="5589720" y="722880"/>
            <a:ext cx="2286000" cy="232812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328120"/>
              <a:gd name="textAreaBottom" fmla="*/ 2216520 h 2328120"/>
            </a:gdLst>
            <a:ahLst/>
            <a:rect l="textAreaLeft" t="textAreaTop" r="textAreaRight" b="textAreaBottom"/>
            <a:pathLst>
              <a:path w="21600" h="21998">
                <a:moveTo>
                  <a:pt x="3600" y="0"/>
                </a:moveTo>
                <a:arcTo wR="3600" hR="3600" stAng="16200000" swAng="-5400000"/>
                <a:lnTo>
                  <a:pt x="0" y="18398"/>
                </a:lnTo>
                <a:arcTo wR="3600" hR="3600" stAng="10800000" swAng="-5400000"/>
                <a:lnTo>
                  <a:pt x="18000" y="219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d4d4d"/>
                </a:solidFill>
                <a:latin typeface="Fresco Pro SemiBold"/>
              </a:rPr>
              <a:t>Luxemburguese</a:t>
            </a:r>
            <a:r>
              <a:rPr b="0" lang="fr-FR" sz="1800" spc="-1" strike="noStrike">
                <a:solidFill>
                  <a:srgbClr val="4d4d4d"/>
                </a:solidFill>
                <a:latin typeface="Fresco Pro SemiBold"/>
              </a:rPr>
              <a:t> </a:t>
            </a:r>
            <a:r>
              <a:rPr b="1" lang="fr-FR" sz="1900" spc="-1" strike="noStrike">
                <a:solidFill>
                  <a:srgbClr val="4d4d4d"/>
                </a:solidFill>
                <a:latin typeface="Fresco Pro SemiBold"/>
              </a:rPr>
              <a:t>Foru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4d4d4d"/>
                </a:solidFill>
                <a:latin typeface="Fresco Pro SemiBold"/>
              </a:rPr>
              <a:t>All municipalities of Luxembour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4d4d4d"/>
                </a:solidFill>
                <a:latin typeface="Fresco Pro SemiBold"/>
              </a:rPr>
              <a:t>Presided by Dudelang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3024360" y="173880"/>
            <a:ext cx="2158920" cy="214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4d4d4d"/>
                </a:solidFill>
                <a:latin typeface="Fresco Pro SemiBold"/>
              </a:rPr>
              <a:t>Belgian Foru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4d4d4d"/>
                </a:solidFill>
                <a:latin typeface="Fresco Pro SemiBold"/>
              </a:rPr>
              <a:t>12 cit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4d4d4d"/>
                </a:solidFill>
                <a:latin typeface="Fresco Pro SemiBold"/>
              </a:rPr>
              <a:t>Presided by Molenbeek-Saint-Jea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9"/>
          <p:cNvSpPr/>
          <p:nvPr/>
        </p:nvSpPr>
        <p:spPr>
          <a:xfrm>
            <a:off x="287280" y="1330560"/>
            <a:ext cx="2376720" cy="138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4d4d4d"/>
                </a:solidFill>
                <a:latin typeface="Fresco Pro SemiBold"/>
              </a:rPr>
              <a:t>French Foru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4d4d4d"/>
                </a:solidFill>
                <a:latin typeface="Fresco Pro SemiBold"/>
              </a:rPr>
              <a:t>125 cit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4d4d4d"/>
                </a:solidFill>
                <a:latin typeface="Fresco Pro SemiBold"/>
              </a:rPr>
              <a:t>Presided by Saint-Herblain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0"/>
          <p:cNvSpPr/>
          <p:nvPr/>
        </p:nvSpPr>
        <p:spPr>
          <a:xfrm flipH="1" flipV="1">
            <a:off x="2448000" y="2771280"/>
            <a:ext cx="720720" cy="79236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1"/>
          <p:cNvSpPr/>
          <p:nvPr/>
        </p:nvSpPr>
        <p:spPr>
          <a:xfrm>
            <a:off x="4103640" y="2266920"/>
            <a:ext cx="0" cy="129708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 flipH="1">
            <a:off x="4968720" y="2700360"/>
            <a:ext cx="719280" cy="86364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3"/>
          <p:cNvSpPr/>
          <p:nvPr/>
        </p:nvSpPr>
        <p:spPr>
          <a:xfrm flipH="1">
            <a:off x="3311640" y="4067280"/>
            <a:ext cx="433440" cy="129672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4"/>
          <p:cNvSpPr/>
          <p:nvPr/>
        </p:nvSpPr>
        <p:spPr>
          <a:xfrm flipH="1">
            <a:off x="2447640" y="4067280"/>
            <a:ext cx="647640" cy="28872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5"/>
          <p:cNvSpPr/>
          <p:nvPr/>
        </p:nvSpPr>
        <p:spPr>
          <a:xfrm>
            <a:off x="5843520" y="3589560"/>
            <a:ext cx="2552760" cy="138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d4d4d"/>
                </a:solidFill>
                <a:latin typeface="Fresco Pro SemiBold"/>
              </a:rPr>
              <a:t>German</a:t>
            </a:r>
            <a:r>
              <a:rPr b="0" lang="fr-FR" sz="1800" spc="-1" strike="noStrike">
                <a:solidFill>
                  <a:srgbClr val="4d4d4d"/>
                </a:solidFill>
                <a:latin typeface="Fresco Pro SemiBold"/>
              </a:rPr>
              <a:t> </a:t>
            </a:r>
            <a:r>
              <a:rPr b="1" lang="fr-FR" sz="1900" spc="-1" strike="noStrike">
                <a:solidFill>
                  <a:srgbClr val="4d4d4d"/>
                </a:solidFill>
                <a:latin typeface="Fresco Pro SemiBold"/>
              </a:rPr>
              <a:t>Foru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4d4d4d"/>
                </a:solidFill>
                <a:latin typeface="Fresco Pro SemiBold"/>
              </a:rPr>
              <a:t>10 cit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4d4d4d"/>
                </a:solidFill>
                <a:latin typeface="Fresco Pro SemiBold"/>
              </a:rPr>
              <a:t>Presided by Stuttgar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6"/>
          <p:cNvSpPr/>
          <p:nvPr/>
        </p:nvSpPr>
        <p:spPr>
          <a:xfrm flipH="1" flipV="1">
            <a:off x="5040360" y="3995640"/>
            <a:ext cx="792000" cy="21600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7"/>
          <p:cNvSpPr/>
          <p:nvPr/>
        </p:nvSpPr>
        <p:spPr>
          <a:xfrm flipH="1" flipV="1">
            <a:off x="4392720" y="4067280"/>
            <a:ext cx="503280" cy="129672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7056360" y="6012000"/>
            <a:ext cx="280836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No una federacion de Foros nacionales pero un red europeo de ciuda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527280" y="179280"/>
            <a:ext cx="5042160" cy="12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782fb"/>
                </a:solidFill>
                <a:latin typeface="Fresco Pro Normal"/>
                <a:ea typeface="Arial Unicode MS"/>
              </a:rPr>
              <a:t>Objetivos del Efus</a:t>
            </a:r>
            <a:endParaRPr b="0" lang="en-US" sz="3200" spc="-1" strike="noStrike">
              <a:solidFill>
                <a:srgbClr val="494949"/>
              </a:solidFill>
              <a:latin typeface="Fresco Pro Semi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31280" y="1763640"/>
            <a:ext cx="950436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d4d4d"/>
                </a:solidFill>
                <a:latin typeface="Fresco Pro Normal"/>
              </a:rPr>
              <a:t>Fortalezer las políticas locales de prevención </a:t>
            </a:r>
            <a:r>
              <a:rPr b="0" lang="es-ES" sz="2400" spc="-1" strike="noStrike">
                <a:solidFill>
                  <a:srgbClr val="4d4d4d"/>
                </a:solidFill>
                <a:latin typeface="Fresco Pro Normal"/>
              </a:rPr>
              <a:t>mediante el intercambio de prácticas y experiencias: «ciudades ayudan a las ciudades»</a:t>
            </a:r>
            <a:br>
              <a:rPr sz="2400"/>
            </a:br>
            <a:endParaRPr b="0" lang="en-US" sz="2400" spc="-1" strike="noStrike">
              <a:solidFill>
                <a:srgbClr val="4d4d4d"/>
              </a:solidFill>
              <a:latin typeface="Fresco Pro Norm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d4d4d"/>
                </a:solidFill>
                <a:latin typeface="Fresco Pro Normal"/>
              </a:rPr>
              <a:t>Desarrollar y fomentar un enfoque integrado</a:t>
            </a:r>
            <a:r>
              <a:rPr b="0" lang="es-ES" sz="2400" spc="-1" strike="noStrike">
                <a:solidFill>
                  <a:srgbClr val="4d4d4d"/>
                </a:solidFill>
                <a:latin typeface="Fresco Pro Normal"/>
              </a:rPr>
              <a:t>, basado en el conocimiento, la prevención basada en enfoque de la seguridad respetuosa de los derechos fundamentales - a través de capacitación, asistencia técnica y el fortalecimiento de la base de pruebas</a:t>
            </a:r>
            <a:endParaRPr b="0" lang="en-US" sz="2400" spc="-1" strike="noStrike">
              <a:solidFill>
                <a:srgbClr val="4d4d4d"/>
              </a:solidFill>
              <a:latin typeface="Fresco Pro Norm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Fresco Pro Norm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d4d4d"/>
                </a:solidFill>
                <a:latin typeface="Fresco Pro Normal"/>
              </a:rPr>
              <a:t>Dar una voz al nivel local </a:t>
            </a:r>
            <a:r>
              <a:rPr b="0" lang="es-ES" sz="2400" spc="-1" strike="noStrike">
                <a:solidFill>
                  <a:srgbClr val="4d4d4d"/>
                </a:solidFill>
                <a:latin typeface="Fresco Pro Normal"/>
              </a:rPr>
              <a:t>y el fomento de su papel a nivel nacional, europeo e internacional.</a:t>
            </a:r>
            <a:endParaRPr b="0" lang="en-US" sz="2400" spc="-1" strike="noStrike">
              <a:solidFill>
                <a:srgbClr val="4d4d4d"/>
              </a:solidFill>
              <a:latin typeface="Fresco Pro Norm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GB" sz="2400" spc="-1" strike="noStrike">
                <a:solidFill>
                  <a:srgbClr val="4d4d4d"/>
                </a:solidFill>
                <a:latin typeface="Fresco Pro Normal"/>
                <a:ea typeface="Arial Unicode MS"/>
              </a:rPr>
              <a:t>.</a:t>
            </a:r>
            <a:endParaRPr b="0" lang="en-US" sz="2400" spc="-1" strike="noStrike">
              <a:solidFill>
                <a:srgbClr val="4d4d4d"/>
              </a:solidFill>
              <a:latin typeface="Fresco Pro Norm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26840" y="208080"/>
            <a:ext cx="69850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782fb"/>
                </a:solidFill>
                <a:latin typeface="Fresco Pro Normal"/>
                <a:ea typeface="Arial Unicode MS"/>
              </a:rPr>
              <a:t>Lo que hacemos</a:t>
            </a:r>
            <a:endParaRPr b="0" lang="en-US" sz="3200" spc="-1" strike="noStrike">
              <a:solidFill>
                <a:srgbClr val="494949"/>
              </a:solidFill>
              <a:latin typeface="Fresco Pro SemiBol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98000" y="1042920"/>
            <a:ext cx="9882360" cy="65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Fresco Pro Normal"/>
              </a:rPr>
              <a:t>«Ciudades ayudan a las ciudades» para intercambiar prácticas y conocimientos, a traves :</a:t>
            </a:r>
            <a:br>
              <a:rPr sz="2400"/>
            </a:br>
            <a:endParaRPr b="0" lang="en-US" sz="2400" spc="-1" strike="noStrike">
              <a:solidFill>
                <a:srgbClr val="4d4d4d"/>
              </a:solidFill>
              <a:latin typeface="Fresco Pro Norm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Fresco Pro Normal"/>
              </a:rPr>
              <a:t> </a:t>
            </a:r>
            <a:r>
              <a:rPr b="0" lang="es-ES" sz="2400" spc="-1" strike="noStrike">
                <a:solidFill>
                  <a:srgbClr val="4d4d4d"/>
                </a:solidFill>
                <a:latin typeface="Fresco Pro Normal"/>
              </a:rPr>
              <a:t>- programas europeos, </a:t>
            </a:r>
            <a:endParaRPr b="0" lang="en-US" sz="2400" spc="-1" strike="noStrike">
              <a:solidFill>
                <a:srgbClr val="4d4d4d"/>
              </a:solidFill>
              <a:latin typeface="Fresco Pro Norm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Fresco Pro Normal"/>
              </a:rPr>
              <a:t>- cursos de capacitación, </a:t>
            </a:r>
            <a:endParaRPr b="0" lang="en-US" sz="2400" spc="-1" strike="noStrike">
              <a:solidFill>
                <a:srgbClr val="4d4d4d"/>
              </a:solidFill>
              <a:latin typeface="Fresco Pro Norm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Fresco Pro Normal"/>
              </a:rPr>
              <a:t>- seminarios sobre políticas, conferencias para el personal político y técnico.</a:t>
            </a:r>
            <a:br>
              <a:rPr sz="2400"/>
            </a:br>
            <a:r>
              <a:rPr b="0" lang="es-ES" sz="2400" spc="-1" strike="noStrike">
                <a:solidFill>
                  <a:srgbClr val="4d4d4d"/>
                </a:solidFill>
                <a:latin typeface="Fresco Pro Normal"/>
              </a:rPr>
              <a:t>"Seguridad, Democracia y Ciudades» conferencias internacionales -- la proxima en Diciembre 2012 cerca de Paris.  “El futuro de la Prevencion”</a:t>
            </a:r>
            <a:br>
              <a:rPr sz="2400"/>
            </a:br>
            <a:endParaRPr b="0" lang="en-US" sz="2400" spc="-1" strike="noStrike">
              <a:solidFill>
                <a:srgbClr val="4d4d4d"/>
              </a:solidFill>
              <a:latin typeface="Fresco Pro Norm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Fresco Pro Normal"/>
              </a:rPr>
              <a:t>- Más de 400 buenas prácticas disponibles</a:t>
            </a:r>
            <a:endParaRPr b="0" lang="en-US" sz="2400" spc="-1" strike="noStrike">
              <a:solidFill>
                <a:srgbClr val="4d4d4d"/>
              </a:solidFill>
              <a:latin typeface="Fresco Pro Norm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Fresco Pro Normal"/>
              </a:rPr>
              <a:t>- 30 publicaciones sobre diversos temas en diferentes idiomas</a:t>
            </a:r>
            <a:endParaRPr b="0" lang="en-US" sz="2400" spc="-1" strike="noStrike">
              <a:solidFill>
                <a:srgbClr val="4d4d4d"/>
              </a:solidFill>
              <a:latin typeface="Fresco Pro Norm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Fresco Pro Normal"/>
              </a:rPr>
              <a:t>- Un sitio web multilingüe</a:t>
            </a:r>
            <a:endParaRPr b="0" lang="en-US" sz="2400" spc="-1" strike="noStrike">
              <a:solidFill>
                <a:srgbClr val="4d4d4d"/>
              </a:solidFill>
              <a:latin typeface="Fresco Pro Norm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0880" y="-3024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782fb"/>
                </a:solidFill>
                <a:latin typeface="Fresco Pro Normal"/>
                <a:ea typeface="Arial Unicode MS"/>
              </a:rPr>
              <a:t>Temas principales </a:t>
            </a:r>
            <a:endParaRPr b="0" lang="en-US" sz="3200" spc="-1" strike="noStrike">
              <a:solidFill>
                <a:srgbClr val="494949"/>
              </a:solidFill>
              <a:latin typeface="Fresco Pro SemiBold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4722840" y="1731960"/>
            <a:ext cx="5357880" cy="35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78000" indent="-378000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apel de los funcionarios locales elec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cue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ecnologí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erroris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rata de seres huma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uj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Juvent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436680" y="1716120"/>
            <a:ext cx="4841640" cy="45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uditorías de seguridad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rogas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iedo del crimen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randes eventos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ediación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igrantes, las minorías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licía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arceles 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pacios públ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6000" y="133200"/>
            <a:ext cx="90010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782fb"/>
                </a:solidFill>
                <a:latin typeface="Fresco Pro Normal"/>
                <a:ea typeface="Arial Unicode MS"/>
              </a:rPr>
              <a:t>On-going and recent</a:t>
            </a:r>
            <a:r>
              <a:rPr b="1" lang="fr-FR" sz="3200" spc="-1" strike="noStrike">
                <a:solidFill>
                  <a:srgbClr val="2782fb"/>
                </a:solidFill>
                <a:latin typeface="Fresco Pro Normal"/>
                <a:ea typeface="Arial Unicode MS"/>
              </a:rPr>
              <a:t> programmes</a:t>
            </a:r>
            <a:endParaRPr b="0" lang="en-US" sz="3200" spc="-1" strike="noStrike">
              <a:solidFill>
                <a:srgbClr val="494949"/>
              </a:solidFill>
              <a:latin typeface="Fresco Pro Semi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36320" y="1692000"/>
            <a:ext cx="96058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494949"/>
              </a:buClr>
              <a:buFont typeface="Fresco Pro Norm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494949"/>
                </a:solidFill>
                <a:latin typeface="Fresco Pro Normal"/>
                <a:ea typeface="Arial Unicode MS"/>
              </a:rPr>
              <a:t>Knowledge gathering on street violence (EU_RECO)</a:t>
            </a:r>
            <a:endParaRPr b="0" lang="en-US" sz="2200" spc="-1" strike="noStrike">
              <a:solidFill>
                <a:srgbClr val="4d4d4d"/>
              </a:solidFill>
              <a:latin typeface="Fresco Pro Norm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494949"/>
              </a:buClr>
              <a:buFont typeface="Fresco Pro Norm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494949"/>
                </a:solidFill>
                <a:latin typeface="Fresco Pro Normal"/>
                <a:ea typeface="Arial Unicode MS"/>
              </a:rPr>
              <a:t>Training local stakeholders to the prevention of re-offending (FALPREV)</a:t>
            </a:r>
            <a:endParaRPr b="0" lang="en-US" sz="2200" spc="-1" strike="noStrike">
              <a:solidFill>
                <a:srgbClr val="4d4d4d"/>
              </a:solidFill>
              <a:latin typeface="Fresco Pro Norm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494949"/>
              </a:buClr>
              <a:buFont typeface="Fresco Pro Norm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494949"/>
                </a:solidFill>
                <a:latin typeface="Fresco Pro Normal"/>
                <a:ea typeface="Arial Unicode MS"/>
              </a:rPr>
              <a:t>Safer Drinking Scenes; on Binge Drinking, with French Forum (SDS)</a:t>
            </a:r>
            <a:endParaRPr b="0" lang="en-US" sz="2200" spc="-1" strike="noStrike">
              <a:solidFill>
                <a:srgbClr val="4d4d4d"/>
              </a:solidFill>
              <a:latin typeface="Fresco Pro Norm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494949"/>
              </a:buClr>
              <a:buFont typeface="Fresco Pro Norm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494949"/>
                </a:solidFill>
                <a:latin typeface="Fresco Pro Normal"/>
                <a:ea typeface="Arial Unicode MS"/>
              </a:rPr>
              <a:t>Preventing violence in sporting events (GOAL)</a:t>
            </a:r>
            <a:endParaRPr b="0" lang="en-US" sz="2200" spc="-1" strike="noStrike">
              <a:solidFill>
                <a:srgbClr val="4d4d4d"/>
              </a:solidFill>
              <a:latin typeface="Fresco Pro Norm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494949"/>
              </a:buClr>
              <a:buFont typeface="Fresco Pro Norm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494949"/>
                </a:solidFill>
                <a:latin typeface="Fresco Pro Normal"/>
                <a:ea typeface="Arial Unicode MS"/>
              </a:rPr>
              <a:t>Surveillance technologies and fundamental rights (SURVEILLE)</a:t>
            </a:r>
            <a:endParaRPr b="0" lang="en-US" sz="2200" spc="-1" strike="noStrike">
              <a:solidFill>
                <a:srgbClr val="4d4d4d"/>
              </a:solidFill>
              <a:latin typeface="Fresco Pro Norm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Fresco Pro Norm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494949"/>
                </a:solidFill>
                <a:latin typeface="Fresco Pro Normal"/>
                <a:ea typeface="Arial Unicode MS"/>
              </a:rPr>
              <a:t>	</a:t>
            </a:r>
            <a:r>
              <a:rPr b="0" lang="fr-FR" sz="2200" spc="-1" strike="noStrike">
                <a:solidFill>
                  <a:srgbClr val="494949"/>
                </a:solidFill>
                <a:latin typeface="Fresco Pro Normal"/>
                <a:ea typeface="Arial Unicode MS"/>
              </a:rPr>
              <a:t>	</a:t>
            </a:r>
            <a:r>
              <a:rPr b="0" lang="fr-FR" sz="2200" spc="-1" strike="noStrike">
                <a:solidFill>
                  <a:srgbClr val="494949"/>
                </a:solidFill>
                <a:latin typeface="Fresco Pro Normal"/>
                <a:ea typeface="Arial Unicode MS"/>
              </a:rPr>
              <a:t>	</a:t>
            </a:r>
            <a:r>
              <a:rPr b="0" lang="fr-FR" sz="2200" spc="-1" strike="noStrike">
                <a:solidFill>
                  <a:srgbClr val="494949"/>
                </a:solidFill>
                <a:latin typeface="Fresco Pro Normal"/>
                <a:ea typeface="Arial Unicode MS"/>
              </a:rPr>
              <a:t>	</a:t>
            </a:r>
            <a:r>
              <a:rPr b="0" lang="fr-FR" sz="2200" spc="-1" strike="noStrike">
                <a:solidFill>
                  <a:srgbClr val="494949"/>
                </a:solidFill>
                <a:latin typeface="Fresco Pro Normal"/>
                <a:ea typeface="Arial Unicode MS"/>
              </a:rPr>
              <a:t>	</a:t>
            </a:r>
            <a:r>
              <a:rPr b="0" lang="fr-FR" sz="2200" spc="-1" strike="noStrike">
                <a:solidFill>
                  <a:srgbClr val="494949"/>
                </a:solidFill>
                <a:latin typeface="Fresco Pro Normal"/>
                <a:ea typeface="Arial Unicode MS"/>
              </a:rPr>
              <a:t>	</a:t>
            </a:r>
            <a:r>
              <a:rPr b="0" lang="fr-FR" sz="2200" spc="-1" strike="noStrike">
                <a:solidFill>
                  <a:srgbClr val="494949"/>
                </a:solidFill>
                <a:latin typeface="Fresco Pro Normal"/>
                <a:ea typeface="Arial Unicode MS"/>
              </a:rPr>
              <a:t>***</a:t>
            </a:r>
            <a:endParaRPr b="0" lang="en-US" sz="2200" spc="-1" strike="noStrike">
              <a:solidFill>
                <a:srgbClr val="4d4d4d"/>
              </a:solidFill>
              <a:latin typeface="Fresco Pro Norm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Fresco Pro Norm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494949"/>
              </a:buClr>
              <a:buFont typeface="Fresco Pro Norm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494949"/>
                </a:solidFill>
                <a:latin typeface="Fresco Pro Normal"/>
                <a:ea typeface="Arial Unicode MS"/>
              </a:rPr>
              <a:t>Democracy, Cities and Drugs II (DC&amp;D II)</a:t>
            </a:r>
            <a:endParaRPr b="0" lang="en-US" sz="2200" spc="-1" strike="noStrike">
              <a:solidFill>
                <a:srgbClr val="4d4d4d"/>
              </a:solidFill>
              <a:latin typeface="Fresco Pro Norm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494949"/>
              </a:buClr>
              <a:buFont typeface="Fresco Pro Norm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494949"/>
                </a:solidFill>
                <a:latin typeface="Fresco Pro Normal"/>
                <a:ea typeface="Arial Unicode MS"/>
              </a:rPr>
              <a:t>European University Masters in Urban Safety (EEMUS)</a:t>
            </a:r>
            <a:endParaRPr b="0" lang="en-US" sz="2200" spc="-1" strike="noStrike">
              <a:solidFill>
                <a:srgbClr val="4d4d4d"/>
              </a:solidFill>
              <a:latin typeface="Fresco Pro Norm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494949"/>
              </a:buClr>
              <a:buFont typeface="Fresco Pro Norm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494949"/>
                </a:solidFill>
                <a:latin typeface="Fresco Pro Normal"/>
                <a:ea typeface="Arial Unicode MS"/>
              </a:rPr>
              <a:t>Citizens, cities, and Video- surveillance (CCTV)</a:t>
            </a:r>
            <a:endParaRPr b="0" lang="en-US" sz="2200" spc="-1" strike="noStrike">
              <a:solidFill>
                <a:srgbClr val="4d4d4d"/>
              </a:solidFill>
              <a:latin typeface="Fresco Pro Norm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6000" y="395280"/>
            <a:ext cx="9072360" cy="123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2782fb"/>
                </a:solidFill>
                <a:latin typeface="Fresco Pro Normal"/>
                <a:ea typeface="Arial Unicode MS"/>
              </a:rPr>
              <a:t>“</a:t>
            </a:r>
            <a:r>
              <a:rPr b="1" lang="en-GB" sz="4400" spc="-1" strike="noStrike">
                <a:solidFill>
                  <a:srgbClr val="2782fb"/>
                </a:solidFill>
                <a:latin typeface="Fresco Pro Normal"/>
                <a:ea typeface="Arial Unicode MS"/>
              </a:rPr>
              <a:t>Una” experiencia europea? </a:t>
            </a:r>
            <a:r>
              <a:rPr b="1" lang="fr-FR" sz="4400" spc="-1" strike="noStrike">
                <a:solidFill>
                  <a:srgbClr val="2782fb"/>
                </a:solidFill>
                <a:latin typeface="Fresco Pro Normal"/>
                <a:ea typeface="Arial Unicode MS"/>
              </a:rPr>
              <a:t> </a:t>
            </a:r>
            <a:endParaRPr b="0" lang="en-US" sz="4400" spc="-1" strike="noStrike">
              <a:solidFill>
                <a:srgbClr val="494949"/>
              </a:solidFill>
              <a:latin typeface="Fresco Pro SemiBol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02920" y="1763640"/>
            <a:ext cx="907236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d4d4d"/>
                </a:solidFill>
                <a:latin typeface="Fresco Pro Normal"/>
              </a:rPr>
              <a:t> </a:t>
            </a:r>
            <a:r>
              <a:rPr b="0" lang="fr-FR" sz="3200" spc="-1" strike="noStrike">
                <a:solidFill>
                  <a:srgbClr val="4d4d4d"/>
                </a:solidFill>
                <a:latin typeface="Fresco Pro Normal"/>
              </a:rPr>
              <a:t>Caracteristicas: </a:t>
            </a: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Fresco Pro Norm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d4d4d"/>
                </a:solidFill>
                <a:latin typeface="Fresco Pro Normal"/>
              </a:rPr>
              <a:t>Una politica integral y integrada </a:t>
            </a: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Fresco Pro Norm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d4d4d"/>
                </a:solidFill>
                <a:latin typeface="Fresco Pro Normal"/>
              </a:rPr>
              <a:t>Un papel clave para los municipios</a:t>
            </a: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Fresco Pro Norm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d4d4d"/>
                </a:solidFill>
                <a:latin typeface="Fresco Pro Normal"/>
              </a:rPr>
              <a:t>Las structuras para articular socios y varios niveles de gobiernos </a:t>
            </a: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d4d4d"/>
                </a:solidFill>
                <a:latin typeface="Fresco Pro Normal"/>
              </a:rPr>
              <a:t>« partnerships » y coaliciones </a:t>
            </a:r>
            <a:endParaRPr b="0" lang="en-US" sz="3200" spc="-1" strike="noStrike">
              <a:solidFill>
                <a:srgbClr val="4d4d4d"/>
              </a:solidFill>
              <a:latin typeface="Fresco Pro Norm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60360" y="323640"/>
            <a:ext cx="907272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2782fb"/>
                </a:solidFill>
                <a:latin typeface="Fresco Pro Normal"/>
                <a:ea typeface="Arial Unicode MS"/>
              </a:rPr>
              <a:t>Un proceso</a:t>
            </a:r>
            <a:r>
              <a:rPr b="1" lang="fr-FR" sz="4400" spc="-1" strike="noStrike">
                <a:solidFill>
                  <a:srgbClr val="2782fb"/>
                </a:solidFill>
                <a:latin typeface="Fresco Pro Normal"/>
                <a:ea typeface="Arial Unicode MS"/>
              </a:rPr>
              <a:t> </a:t>
            </a:r>
            <a:endParaRPr b="0" lang="en-US" sz="4400" spc="-1" strike="noStrike">
              <a:solidFill>
                <a:srgbClr val="494949"/>
              </a:solidFill>
              <a:latin typeface="Fresco Pro SemiBold"/>
            </a:endParaRPr>
          </a:p>
        </p:txBody>
      </p:sp>
      <p:graphicFrame>
        <p:nvGraphicFramePr>
          <p:cNvPr id="122" name="Object 2"/>
          <p:cNvGraphicFramePr/>
          <p:nvPr/>
        </p:nvGraphicFramePr>
        <p:xfrm>
          <a:off x="1440000" y="1666800"/>
          <a:ext cx="6337080" cy="4753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000" y="1666800"/>
                    <a:ext cx="633708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15:58:34Z</dcterms:created>
  <dc:creator>Pete Jeffs</dc:creator>
  <dc:description/>
  <dc:language>en-US</dc:language>
  <cp:lastModifiedBy>Elizabeth Johnston</cp:lastModifiedBy>
  <dcterms:modified xsi:type="dcterms:W3CDTF">2011-11-18T02:06:01Z</dcterms:modified>
  <cp:revision>521</cp:revision>
  <dc:subject/>
  <dc:title>Titre Presentation Fresco Semi bold 44pt.</dc:title>
</cp:coreProperties>
</file>