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29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jpeg" ContentType="image/jpeg"/>
  <Override PartName="/ppt/media/image11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AE6-9738-4FB7-9BE7-D893E2258A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761-1098-479B-8CE8-6803BF0D94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B4D-8DBB-47FC-B616-5B59E914651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EA4-4948-41F7-89C9-27ADBA6C4A8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81D-E1CE-4E5D-8CFF-11C955A5BE2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A2D4-E00E-4A0F-A278-1E599520A89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F1D-FCD0-47B0-A702-86170089E02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2D7-1758-4283-9264-41948F3CB2E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3884760" y="8682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65C74E-4314-4D34-812F-A7CA34C7B5D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1757-C671-418C-ACC0-DDE15A4BF5E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C228-20D6-4558-AD5F-ED13A892ED1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917640" y="677880"/>
            <a:ext cx="49752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896760" y="4357440"/>
            <a:ext cx="501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917640" y="676440"/>
            <a:ext cx="49734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896760" y="4357800"/>
            <a:ext cx="50119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D32-0863-417A-8006-BB8DC6CD646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78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EF35-8054-4850-925E-8F6C963631A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39E7-CB43-463E-9196-7F45B96563E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1C75-6157-4ABC-801B-7AC9C175FDB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BB03-3D9B-42F5-9552-5F6A4467789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C7037-8849-4665-A71E-8E11573D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7F387-D9B7-4339-A6C6-85A9D71D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3501-D131-4541-BC49-D4786074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E44F-4FE4-4939-8D20-A7EE89C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3A05-9ED0-41F2-B1D4-969C419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14AE-8E3F-4264-B0D1-EDB0009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19284-23C1-44B4-877A-69F979A1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C0B45-A33A-4D00-90F9-FAAABC1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94A3D-16C4-4C26-B0E1-924876DE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C63B-12E2-4659-A322-A8760AFD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9B64-5043-46CE-BD6E-B6A30507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3465-1CD6-4A0C-9858-910CAA6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5B44-7F2D-416E-BA4E-A398AF3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9449-B292-41E5-8613-B9B8F119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E61A1-B3B7-4C4F-B01E-525870F6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0316C-858F-4F38-BC1E-0DD11B9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437EE-63CC-4037-9728-D08FA01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7CAF-42DF-458E-AD76-F4D78FA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4EE4-BE3D-400D-92A0-BF856A0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BC050-7E4D-42F6-891C-4FA450AE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1D9F-77C6-4CC1-8949-CE3AB0B5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68D6-9F5B-4E1F-82A6-E9960FB0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54F0B-19E8-43B2-96AD-7F78062F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9193-11B6-4666-A46E-7F6F6379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6DE5-1BA5-49B7-B650-286A8DBC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1B40-C608-4E9B-92A8-CE11B01A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26AA-41B5-4E8C-A640-724556A0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1914E-62A0-4921-85C0-AF8EAD0E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B9292-4BCC-4AEC-A983-323CB00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0D979-4079-458F-A36D-C61493E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E3B-CC8C-43A5-B9CF-F155AEB9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805D-98BD-4CAA-ABD1-B6D23B4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4335-0FD8-450E-B7DD-7B7369A0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AB32-2595-4DE5-987E-F94CE63A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9B0AE-547F-463D-8877-D733D25A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4F436-2BB8-493C-8EB9-D30EA16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6FD4C-1894-4B5B-B731-183FC0E0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87546-BEB2-4D8F-A700-B414A04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18DDD-9742-459C-BD9C-11A48A6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543B3-3242-4B5B-AC6A-0D23E22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BEDB5-999B-4508-9E23-FCB46CD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BEE-5DD5-4509-A09D-6C0D0EE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66D6C-7024-4370-8E56-BEB59F6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DFE7F-C9BA-4D8F-9053-749C925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74938-403D-4562-9560-70DB9A35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7BC7F-6977-4017-91F3-C0897636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3EDF-4502-4587-BE5D-2F8F51D2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253A5-5D97-4D24-AF84-C8FCEFC6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D3765-3380-4738-BBA7-601C959A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30D41-BAF8-4C77-AE25-BD8DB2A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742E3-E966-4D54-9110-75C95F86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80B8B-298B-446F-BEFE-3A77161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921-D2BE-40F9-84C8-A044497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D9151-BA74-487A-BB79-1E685F8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D56A7-427F-4F40-9001-386C0AA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6A051-A7C4-46E5-A61D-F23D07A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8ED64-F4D7-45FA-94F1-DCACB98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9AF15-8750-45A5-BA3A-04A4CF51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6AE85-E221-42C0-99DE-E3BFE60E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2C8A8-1A62-4003-ABD8-9E8B6075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97E51-4600-47B3-8AED-68952B4D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1E40E-B2D7-4479-A5A5-2DD7F483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8871A-6A55-447B-8B51-40796A6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09B-1D1C-4B9D-864E-8D8274E2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08795-4070-49D3-9CBE-74FAABC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0E436-3033-4BE7-B305-AB9B319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512A6-BE55-4A43-B547-6B1520C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D8B61-505A-4AE9-BC02-CAF7FA2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A8B3-1F71-40FC-8033-73C5ED1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4FF9-4FDC-46B8-897D-754A16AA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6B9E8-3153-41F1-BE28-FCD506C9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9C05-64D4-44B0-92D7-CD2F389D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71851-8003-418B-9523-6BCAFF58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201-7DB4-4165-B2F9-E384C6C2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1D4-7484-4EEC-BBFC-5E28419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D52-4E41-4E22-AA6A-ABC50E9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77C-BEDF-4744-8591-D4C4668F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349-DC18-48C3-B72F-CCE5013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A13-A3FB-404F-AB32-B3821495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352-8B9D-4551-B800-33A22CD6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CE7-632B-4C2B-9304-B404F9A5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1082-2D64-45ED-94E2-7161D53A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F411-BEAD-469A-8A63-A157BD86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ADB-A097-4243-96B0-954390B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EAB6-6A34-49F3-99C4-DCF5C7C4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2339-A652-414B-AAB8-F918E36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8A3B-C8D2-4996-AC7D-9DA6025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68E-60F3-4933-BD6E-C5BD05F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E91C-2217-48C3-A998-22798EB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DF0-48A0-431F-B873-D14B058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D454-03C9-4E58-9387-4155D338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C59B-79C2-455D-A14F-1498F81E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9C80-3DFC-4DBA-9E22-E5C6420B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ED12-39B3-4AE0-807E-6BE6271E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1273-BE57-4FD9-A014-32064B8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C97C-D427-4B42-8BFC-9D00B6B6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DD24-EA2F-4A91-892D-D67A5D9E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0D95-8A91-425C-9FA8-59418FA2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BE99-DE1C-4491-96A0-3CC2CFD9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7905-A5E9-4E95-B76B-BC703FC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0494-8CF1-496D-97F7-02AAE54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938F-FFDA-40AA-9AE5-6A32770E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1D8F-D9ED-4BAE-B73D-6B90AF4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0569-A330-4550-A19D-FED63A37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1CE9-2A53-492E-AEA3-FF750B10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1598-030B-4DDC-AAFF-7A3B871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5AAE-9A53-40AE-A570-01A8B3F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FAF6-0A16-4F37-A1A0-CF7A211E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314B-A51E-4535-863B-2E6F26B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5552-5EAA-4FE0-B615-381A9CFF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E21B-6206-4A39-8622-EA931E1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E2642-CCF3-4BC1-8CF2-86E5577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3E69-A12F-494B-B0A2-EEBC67C5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9B4D-AF8D-44F1-B101-FE733C73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246F-FD3A-43BA-A677-D0938A9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3B18-0D4C-48C2-8272-5DFBBE0C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D0DA-4ABD-4F75-BFCF-EE43D4F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34A5-FDE8-45A1-A194-D7436AB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E142-2CE8-4C67-BF1F-9D5CD3A0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2B6A-524D-451D-B8D5-6B34A0D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5922-C58F-409F-8F49-0DEAB1E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DE87-9BF9-4890-99DC-3F21180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D518-CBC6-47E7-A0B5-1CA53A98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DD06-AB5C-4032-AB7D-1499CFC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6E56-35FF-4CB9-BF16-27B6F3B9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78DE-118C-4BC1-9D4F-62A1453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EA70-855A-4A3A-9055-1FAB552A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12A2-5E9F-48E4-91DB-336BEC66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65B1-929D-483D-85AD-DD69EBD6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27140-A72F-4E97-B760-AF093179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5EBB7-7604-4F99-A852-4744C246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6E4D-4B7B-4949-8494-A9C45031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1120" y="144360"/>
            <a:ext cx="758880" cy="515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1042920" y="609480"/>
            <a:ext cx="8101080" cy="82800"/>
          </a:xfrm>
          <a:prstGeom prst="rect">
            <a:avLst/>
          </a:prstGeom>
          <a:ln w="0">
            <a:noFill/>
          </a:ln>
        </p:spPr>
      </p:pic>
      <p:sp>
        <p:nvSpPr>
          <p:cNvPr id="2" name="Text Box 3"/>
          <p:cNvSpPr/>
          <p:nvPr/>
        </p:nvSpPr>
        <p:spPr>
          <a:xfrm>
            <a:off x="4067280" y="76320"/>
            <a:ext cx="489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Arial Unicode MS"/>
                <a:ea typeface="Arial"/>
              </a:rPr>
              <a:t>Controloría-General de la Uni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91000" y="21337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3581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81F-D334-4DFB-9572-74B5F9B3493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0B3-FB7D-4CA7-A155-4B288049ACE3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6F2-235F-49D1-82D2-3E0A2E1F10E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A1A-FC86-43A9-A7E3-D57C508B2AA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671-7D63-4770-97DE-D2E968ADA50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457D-851E-44EB-8812-6C348B1AC5A8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335C-D9B9-42A9-885F-E2D080A6EA71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CAA-8617-4410-94F1-65918EECAF6E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ODP_PAREDE_baixa resolução"/>
          <p:cNvPicPr/>
          <p:nvPr/>
        </p:nvPicPr>
        <p:blipFill>
          <a:blip r:embed="rId2"/>
          <a:srcRect l="781" t="1818" r="781" b="1132"/>
          <a:stretch/>
        </p:blipFill>
        <p:spPr>
          <a:xfrm>
            <a:off x="0" y="134136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2D7-F28A-4EBC-8629-D8F24CBC55C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" descr="ODP_PAREDE_baixa resolução"/>
          <p:cNvPicPr/>
          <p:nvPr/>
        </p:nvPicPr>
        <p:blipFill>
          <a:blip r:embed="rId2"/>
          <a:srcRect l="781" t="1818" r="781" b="1132"/>
          <a:stretch/>
        </p:blipFill>
        <p:spPr>
          <a:xfrm>
            <a:off x="0" y="134136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F63-D7F6-44C6-AAF2-4511541F373C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6BDD-E296-40C0-8E62-864B07CE8CE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El papel de la Contraloría-General de la Unión de Brasil (CGU) en la promoción de la transparencia y la lucha contra la corrupció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708360" y="5589720"/>
            <a:ext cx="49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Cambria"/>
              </a:rPr>
              <a:t>Gilson Libório de Oliveira Mendes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Cambria"/>
              </a:rPr>
              <a:t>Director de Informacione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574560" y="4724280"/>
            <a:ext cx="1549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01920" y="976320"/>
            <a:ext cx="2817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pras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340000" y="3886200"/>
            <a:ext cx="63468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ás de R$ 350 bil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ás de 15 millones de it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533520" y="2532240"/>
            <a:ext cx="40892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27280" y="836640"/>
            <a:ext cx="245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onitore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65040" y="2176560"/>
            <a:ext cx="8425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179280" y="5402160"/>
            <a:ext cx="61214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 Fracciona el G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rcRect l="0" t="35996" r="38164" b="5250"/>
          <a:stretch/>
        </p:blipFill>
        <p:spPr>
          <a:xfrm>
            <a:off x="144360" y="1866960"/>
            <a:ext cx="8820360" cy="489096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4427640" y="6922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cciona el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upo 1"/>
          <p:cNvGrpSpPr/>
          <p:nvPr/>
        </p:nvGrpSpPr>
        <p:grpSpPr>
          <a:xfrm>
            <a:off x="3276720" y="5445000"/>
            <a:ext cx="2660040" cy="936720"/>
            <a:chOff x="3276720" y="5445000"/>
            <a:chExt cx="2660040" cy="936720"/>
          </a:xfrm>
        </p:grpSpPr>
        <p:sp>
          <p:nvSpPr>
            <p:cNvPr id="642" name="Retângulo 4"/>
            <p:cNvSpPr/>
            <p:nvPr/>
          </p:nvSpPr>
          <p:spPr>
            <a:xfrm>
              <a:off x="3276720" y="5445000"/>
              <a:ext cx="241308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CaixaDeTexto 5"/>
            <p:cNvSpPr/>
            <p:nvPr/>
          </p:nvSpPr>
          <p:spPr>
            <a:xfrm>
              <a:off x="3343680" y="5743440"/>
              <a:ext cx="259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istribución por Institución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upo 2"/>
          <p:cNvGrpSpPr/>
          <p:nvPr/>
        </p:nvGrpSpPr>
        <p:grpSpPr>
          <a:xfrm>
            <a:off x="6227640" y="5489640"/>
            <a:ext cx="2305080" cy="892080"/>
            <a:chOff x="6227640" y="5489640"/>
            <a:chExt cx="2305080" cy="892080"/>
          </a:xfrm>
        </p:grpSpPr>
        <p:sp>
          <p:nvSpPr>
            <p:cNvPr id="645" name="Retângulo 8"/>
            <p:cNvSpPr/>
            <p:nvPr/>
          </p:nvSpPr>
          <p:spPr>
            <a:xfrm>
              <a:off x="6227640" y="5489640"/>
              <a:ext cx="2305080" cy="89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CaixaDeTexto 6"/>
            <p:cNvSpPr/>
            <p:nvPr/>
          </p:nvSpPr>
          <p:spPr>
            <a:xfrm>
              <a:off x="6408000" y="5745240"/>
              <a:ext cx="197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istribución por Instit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completo"/>
          <p:cNvPicPr/>
          <p:nvPr/>
        </p:nvPicPr>
        <p:blipFill>
          <a:blip r:embed="rId1"/>
          <a:stretch/>
        </p:blipFill>
        <p:spPr>
          <a:xfrm>
            <a:off x="755640" y="1844640"/>
            <a:ext cx="7956720" cy="50133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6553080" y="98100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79280" y="5402160"/>
            <a:ext cx="84250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 Conspiración entre Lici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4859280" y="907920"/>
            <a:ext cx="3959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piración entre Lici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" descr=""/>
          <p:cNvPicPr/>
          <p:nvPr/>
        </p:nvPicPr>
        <p:blipFill>
          <a:blip r:embed="rId1"/>
          <a:srcRect l="746" t="16196" r="4643" b="14144"/>
          <a:stretch/>
        </p:blipFill>
        <p:spPr>
          <a:xfrm>
            <a:off x="250920" y="1784520"/>
            <a:ext cx="86421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227640" y="4221000"/>
            <a:ext cx="24066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724360" y="2276640"/>
            <a:ext cx="2951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5724360" y="6308640"/>
            <a:ext cx="2951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104760" y="1903320"/>
            <a:ext cx="9039240" cy="48387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6"/>
          <p:cNvSpPr/>
          <p:nvPr/>
        </p:nvSpPr>
        <p:spPr>
          <a:xfrm>
            <a:off x="6553080" y="98100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6" descr="Exemplo-T17"/>
          <p:cNvPicPr/>
          <p:nvPr/>
        </p:nvPicPr>
        <p:blipFill>
          <a:blip r:embed="rId1"/>
          <a:stretch/>
        </p:blipFill>
        <p:spPr>
          <a:xfrm>
            <a:off x="250920" y="1368360"/>
            <a:ext cx="8569080" cy="5445360"/>
          </a:xfrm>
          <a:prstGeom prst="rect">
            <a:avLst/>
          </a:prstGeom>
          <a:ln w="0">
            <a:noFill/>
          </a:ln>
        </p:spPr>
      </p:pic>
      <p:grpSp>
        <p:nvGrpSpPr>
          <p:cNvPr id="658" name="Grupo 10"/>
          <p:cNvGrpSpPr/>
          <p:nvPr/>
        </p:nvGrpSpPr>
        <p:grpSpPr>
          <a:xfrm>
            <a:off x="6300720" y="3716280"/>
            <a:ext cx="984240" cy="609480"/>
            <a:chOff x="6300720" y="3716280"/>
            <a:chExt cx="984240" cy="609480"/>
          </a:xfrm>
        </p:grpSpPr>
        <p:sp>
          <p:nvSpPr>
            <p:cNvPr id="659" name="Rounded Rectangular Callout 17"/>
            <p:cNvSpPr/>
            <p:nvPr/>
          </p:nvSpPr>
          <p:spPr>
            <a:xfrm>
              <a:off x="6300720" y="3868560"/>
              <a:ext cx="838440" cy="4572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18" descr=""/>
            <p:cNvPicPr/>
            <p:nvPr/>
          </p:nvPicPr>
          <p:blipFill>
            <a:blip r:embed="rId2"/>
            <a:stretch/>
          </p:blipFill>
          <p:spPr>
            <a:xfrm>
              <a:off x="6834240" y="3716280"/>
              <a:ext cx="45072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1" name="Grupo 11"/>
          <p:cNvGrpSpPr/>
          <p:nvPr/>
        </p:nvGrpSpPr>
        <p:grpSpPr>
          <a:xfrm>
            <a:off x="6804000" y="4187880"/>
            <a:ext cx="984240" cy="609480"/>
            <a:chOff x="6804000" y="4187880"/>
            <a:chExt cx="984240" cy="609480"/>
          </a:xfrm>
        </p:grpSpPr>
        <p:sp>
          <p:nvSpPr>
            <p:cNvPr id="662" name="Rounded Rectangular Callout 19"/>
            <p:cNvSpPr/>
            <p:nvPr/>
          </p:nvSpPr>
          <p:spPr>
            <a:xfrm>
              <a:off x="6804000" y="4340160"/>
              <a:ext cx="838440" cy="4572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20" descr=""/>
            <p:cNvPicPr/>
            <p:nvPr/>
          </p:nvPicPr>
          <p:blipFill>
            <a:blip r:embed="rId3"/>
            <a:stretch/>
          </p:blipFill>
          <p:spPr>
            <a:xfrm>
              <a:off x="7337520" y="4187880"/>
              <a:ext cx="45072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upo 12"/>
          <p:cNvGrpSpPr/>
          <p:nvPr/>
        </p:nvGrpSpPr>
        <p:grpSpPr>
          <a:xfrm>
            <a:off x="7188120" y="4797360"/>
            <a:ext cx="984240" cy="609840"/>
            <a:chOff x="7188120" y="4797360"/>
            <a:chExt cx="984240" cy="609840"/>
          </a:xfrm>
        </p:grpSpPr>
        <p:sp>
          <p:nvSpPr>
            <p:cNvPr id="665" name="Rounded Rectangular Callout 21"/>
            <p:cNvSpPr/>
            <p:nvPr/>
          </p:nvSpPr>
          <p:spPr>
            <a:xfrm>
              <a:off x="7188120" y="4949640"/>
              <a:ext cx="838440" cy="4575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3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22" descr=""/>
            <p:cNvPicPr/>
            <p:nvPr/>
          </p:nvPicPr>
          <p:blipFill>
            <a:blip r:embed="rId4"/>
            <a:stretch/>
          </p:blipFill>
          <p:spPr>
            <a:xfrm>
              <a:off x="7721640" y="4797360"/>
              <a:ext cx="45072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Rounded Rectangular Callout 23"/>
          <p:cNvSpPr/>
          <p:nvPr/>
        </p:nvSpPr>
        <p:spPr>
          <a:xfrm>
            <a:off x="1835280" y="1658880"/>
            <a:ext cx="3124080" cy="762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ado: 4º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s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67280" y="549000"/>
            <a:ext cx="4752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basta Donde el Mejor  Postor No Gan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rcRect l="0" t="35459" r="38083" b="5016"/>
          <a:stretch/>
        </p:blipFill>
        <p:spPr>
          <a:xfrm>
            <a:off x="7920" y="117360"/>
            <a:ext cx="9167760" cy="60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 Box 3"/>
          <p:cNvSpPr/>
          <p:nvPr/>
        </p:nvSpPr>
        <p:spPr>
          <a:xfrm>
            <a:off x="3708360" y="551664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08000" y="476280"/>
            <a:ext cx="28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435640" y="3397320"/>
            <a:ext cx="1728720" cy="83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708360" y="5516640"/>
            <a:ext cx="18003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sé Wywywy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1201201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324000" y="907920"/>
            <a:ext cx="849600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inistro de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l Control y de la Transpar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340000" y="1916280"/>
            <a:ext cx="4495680" cy="576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cretaría Ejec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324000" y="2708280"/>
            <a:ext cx="208728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reta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ederal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rol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556000" y="2708280"/>
            <a:ext cx="2520720" cy="1995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retarí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Corru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 Inform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2556000" y="4919760"/>
            <a:ext cx="934920" cy="863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1800" y="4919760"/>
            <a:ext cx="934920" cy="86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5219640" y="2708280"/>
            <a:ext cx="180036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rregid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U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7164360" y="2708280"/>
            <a:ext cx="165564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id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U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324000" y="6000840"/>
            <a:ext cx="8496000" cy="614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Unidades Regionales en todos los estados brasil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rcRect l="0" t="26335" r="29273" b="4255"/>
          <a:stretch/>
        </p:blipFill>
        <p:spPr>
          <a:xfrm>
            <a:off x="0" y="155736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6"/>
          <p:cNvSpPr/>
          <p:nvPr/>
        </p:nvSpPr>
        <p:spPr>
          <a:xfrm>
            <a:off x="4788000" y="620640"/>
            <a:ext cx="421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inel para Ge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4932360" y="5589720"/>
            <a:ext cx="3384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OORDENAÇÃO G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uperintendência Nac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78920" y="5402160"/>
            <a:ext cx="4537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</a:rPr>
              <a:t> Tercer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219640" y="914400"/>
            <a:ext cx="3479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rceriz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3780000" y="3051000"/>
            <a:ext cx="497988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R$ 3,74 bi/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 pistas an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468360" y="2438280"/>
            <a:ext cx="26668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5280" y="1987200"/>
            <a:ext cx="8362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epo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mpleado en nómina de varias empre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cionario público em calidad de subcontrat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viación de la función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os costos comparativos y los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3" descr=""/>
          <p:cNvPicPr/>
          <p:nvPr/>
        </p:nvPicPr>
        <p:blipFill>
          <a:blip r:embed="rId1"/>
          <a:srcRect l="0" t="0" r="0" b="116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179280" y="5402160"/>
            <a:ext cx="475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000000"/>
                </a:solidFill>
                <a:latin typeface="Calisto MT"/>
                <a:ea typeface="ＭＳ Ｐゴシック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Bolsa Famí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580000" y="914400"/>
            <a:ext cx="3191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olsa Famí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635280" y="3193920"/>
            <a:ext cx="532944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$ 1,2 billón/mê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,9 millones de famil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classes - 33 camin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32338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04840" y="2347920"/>
            <a:ext cx="7354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tos personales (catas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ender las condiciones de ac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ables irregula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ionarios públicos benefi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dad económica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3" descr=""/>
          <p:cNvPicPr/>
          <p:nvPr/>
        </p:nvPicPr>
        <p:blipFill>
          <a:blip r:embed="rId1"/>
          <a:stretch/>
        </p:blipFill>
        <p:spPr>
          <a:xfrm>
            <a:off x="684360" y="3352680"/>
            <a:ext cx="3429000" cy="5223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280" y="2828880"/>
            <a:ext cx="8131320" cy="17524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 millones de persona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6 mil teníam auto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 valores superiores a R$ 50 mil</a:t>
            </a:r>
            <a:r>
              <a:rPr b="1" lang="en-GB" sz="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24" descr=""/>
          <p:cNvPicPr/>
          <p:nvPr/>
        </p:nvPicPr>
        <p:blipFill>
          <a:blip r:embed="rId2"/>
          <a:stretch/>
        </p:blipFill>
        <p:spPr>
          <a:xfrm>
            <a:off x="684360" y="5013360"/>
            <a:ext cx="2950920" cy="10796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5"/>
          <p:cNvSpPr/>
          <p:nvPr/>
        </p:nvSpPr>
        <p:spPr>
          <a:xfrm>
            <a:off x="539640" y="4869000"/>
            <a:ext cx="8136000" cy="143352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 mil personas con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826920" y="19645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 económica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5580000" y="914400"/>
            <a:ext cx="3191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lsa Famí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5"/>
          <p:cNvSpPr/>
          <p:nvPr/>
        </p:nvSpPr>
        <p:spPr>
          <a:xfrm>
            <a:off x="179280" y="5402160"/>
            <a:ext cx="310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000000"/>
                </a:solidFill>
                <a:latin typeface="Calisto MT"/>
                <a:ea typeface="ＭＳ Ｐゴシック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OS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4818240" y="2854440"/>
            <a:ext cx="3859200" cy="23050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4859280" y="1197000"/>
            <a:ext cx="388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Portal de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Transpa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 flipV="1" rot="10800000">
            <a:off x="539280" y="2565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 flipV="1" rot="10800000">
            <a:off x="539280" y="3140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 flipV="1" rot="10800000">
            <a:off x="539280" y="371628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 flipV="1" rot="10800000">
            <a:off x="539280" y="429156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ncciones a Empr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 flipV="1" rot="10800000">
            <a:off x="539280" y="48679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 flipV="1" rot="10800000">
            <a:off x="539280" y="544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ncionar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66040" y="836640"/>
            <a:ext cx="2038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S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240360" cy="25434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4513320" y="2781360"/>
            <a:ext cx="45226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$ 1,5 bil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480 ent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4346640" y="765000"/>
            <a:ext cx="4402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ntos Princip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826920" y="2430360"/>
            <a:ext cx="8066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dirigentes 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s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erdo con objeto prohibido por la le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dirigente de OSCIP y donante de cam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 com la misma dir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 com la fecha de creación cerca a la fecha del acu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7380360" cy="4941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6"/>
          <p:cNvSpPr/>
          <p:nvPr/>
        </p:nvSpPr>
        <p:spPr>
          <a:xfrm>
            <a:off x="8201160" y="2001960"/>
            <a:ext cx="6886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250920" y="1989000"/>
            <a:ext cx="2160360" cy="1721160"/>
          </a:xfrm>
          <a:prstGeom prst="wedgeRectCallout">
            <a:avLst>
              <a:gd name="adj1" fmla="val 176523"/>
              <a:gd name="adj2" fmla="val 7885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Que sea o haya sido presid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 45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427640" y="836640"/>
            <a:ext cx="439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o 3.3 - OSCIPs co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de en la misma ciu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24360" y="764640"/>
            <a:ext cx="4906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V: Venta de OS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EFCGJ_T_1393342_mmp4_WMV V9.wmv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6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859280" cy="1641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selo premio2009"/>
          <p:cNvPicPr/>
          <p:nvPr/>
        </p:nvPicPr>
        <p:blipFill>
          <a:blip r:embed="rId2"/>
          <a:stretch/>
        </p:blipFill>
        <p:spPr>
          <a:xfrm>
            <a:off x="1881360" y="3951360"/>
            <a:ext cx="2474640" cy="2430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image_mini"/>
          <p:cNvPicPr/>
          <p:nvPr/>
        </p:nvPicPr>
        <p:blipFill>
          <a:blip r:embed="rId3"/>
          <a:stretch/>
        </p:blipFill>
        <p:spPr>
          <a:xfrm>
            <a:off x="5435640" y="3033720"/>
            <a:ext cx="2952720" cy="219564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4"/>
          <p:cNvSpPr/>
          <p:nvPr/>
        </p:nvSpPr>
        <p:spPr>
          <a:xfrm>
            <a:off x="4356000" y="6922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ios 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60720" y="2923920"/>
            <a:ext cx="568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United Nations Public Service Awards - UNPSA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394920" y="4438440"/>
            <a:ext cx="62643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tegorí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vanzar en el conocimiento de gestión en el gobiern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Imagem 1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079640" cy="10144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846000" y="2276640"/>
            <a:ext cx="2286000" cy="200016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3"/>
          <p:cNvSpPr>
            <a:spLocks noGrp="1"/>
          </p:cNvSpPr>
          <p:nvPr>
            <p:ph type="title"/>
          </p:nvPr>
        </p:nvSpPr>
        <p:spPr>
          <a:xfrm>
            <a:off x="6759720" y="5516640"/>
            <a:ext cx="1844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ff"/>
                </a:solidFill>
                <a:latin typeface="Verdana"/>
              </a:rPr>
              <a:t>ONU -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5076720" y="907920"/>
            <a:ext cx="3681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95280" y="1699920"/>
            <a:ext cx="666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Arial"/>
                <a:ea typeface="Arial"/>
              </a:rPr>
              <a:t>Muchas Graci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2375640" y="4145040"/>
            <a:ext cx="635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lson Lib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rector de Informaciones 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aloría-General de la Unión (CG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orio@cgu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5 61 2020-7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9012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2195640" y="9381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rtal de la Transparencia en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24000" y="2133720"/>
            <a:ext cx="8712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Media mensual de accesos (hasta Sep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más de 270.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Recurso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más de R$ 8 trillones y 900 millone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, cerca de US$ 5 trill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Registros de ingresos e gasto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cerca de 1.230.000.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Sistema PUSH (Oct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39.803 personas inscrita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para accesar las transferencias para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5.454 municipalidades (98% de todas las ciudades brasileñ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CEI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5.255 sanccione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a 4127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Datos de la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opa del Mundo Fifa 2014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 (inversiones por ciudad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e de los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Juegos Olímpicos de Rio 20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istema de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áginas de Transpa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1204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500720" y="5229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serv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Gast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7"/>
          <p:cNvSpPr/>
          <p:nvPr/>
        </p:nvSpPr>
        <p:spPr>
          <a:xfrm>
            <a:off x="5796000" y="3213000"/>
            <a:ext cx="2808360" cy="17287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ro-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oyo a la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03280" y="909720"/>
            <a:ext cx="5545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odución de Informaciones Estratégica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34"/>
          <p:cNvGrpSpPr/>
          <p:nvPr/>
        </p:nvGrpSpPr>
        <p:grpSpPr>
          <a:xfrm>
            <a:off x="762120" y="2743200"/>
            <a:ext cx="3123360" cy="2809080"/>
            <a:chOff x="762120" y="2743200"/>
            <a:chExt cx="3123360" cy="2809080"/>
          </a:xfrm>
        </p:grpSpPr>
        <p:pic>
          <p:nvPicPr>
            <p:cNvPr id="613" name="Picture 32" descr="ODP MARCA"/>
            <p:cNvPicPr/>
            <p:nvPr/>
          </p:nvPicPr>
          <p:blipFill>
            <a:blip r:embed="rId1"/>
            <a:srcRect l="3971" t="25248" r="56424" b="24384"/>
            <a:stretch/>
          </p:blipFill>
          <p:spPr>
            <a:xfrm>
              <a:off x="762120" y="2743200"/>
              <a:ext cx="2976120" cy="28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Rectangle 33"/>
            <p:cNvSpPr/>
            <p:nvPr/>
          </p:nvSpPr>
          <p:spPr>
            <a:xfrm>
              <a:off x="3291840" y="3679920"/>
              <a:ext cx="593640" cy="155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Box 7"/>
          <p:cNvSpPr/>
          <p:nvPr/>
        </p:nvSpPr>
        <p:spPr>
          <a:xfrm>
            <a:off x="79200" y="54864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365280" y="2666880"/>
            <a:ext cx="18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9"/>
          <p:cNvSpPr/>
          <p:nvPr/>
        </p:nvSpPr>
        <p:spPr>
          <a:xfrm>
            <a:off x="2975040" y="50292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1901880" cy="1751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528720" cy="712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logotiposcdp"/>
          <p:cNvPicPr/>
          <p:nvPr/>
        </p:nvPicPr>
        <p:blipFill>
          <a:blip r:embed="rId3"/>
          <a:stretch/>
        </p:blipFill>
        <p:spPr>
          <a:xfrm>
            <a:off x="5867280" y="2001960"/>
            <a:ext cx="2737080" cy="1282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0" descr=""/>
          <p:cNvPicPr/>
          <p:nvPr/>
        </p:nvPicPr>
        <p:blipFill>
          <a:blip r:embed="rId4"/>
          <a:stretch/>
        </p:blipFill>
        <p:spPr>
          <a:xfrm>
            <a:off x="3995640" y="3500280"/>
            <a:ext cx="2171880" cy="17049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2" descr="logoSegundoP"/>
          <p:cNvPicPr/>
          <p:nvPr/>
        </p:nvPicPr>
        <p:blipFill>
          <a:blip r:embed="rId5"/>
          <a:stretch/>
        </p:blipFill>
        <p:spPr>
          <a:xfrm>
            <a:off x="4859280" y="5321160"/>
            <a:ext cx="2051280" cy="1254240"/>
          </a:xfrm>
          <a:prstGeom prst="rect">
            <a:avLst/>
          </a:prstGeom>
          <a:ln w="0">
            <a:noFill/>
          </a:ln>
        </p:spPr>
      </p:pic>
      <p:sp>
        <p:nvSpPr>
          <p:cNvPr id="623" name="Title 1"/>
          <p:cNvSpPr/>
          <p:nvPr/>
        </p:nvSpPr>
        <p:spPr>
          <a:xfrm>
            <a:off x="4705200" y="905040"/>
            <a:ext cx="4114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upo 1"/>
          <p:cNvGrpSpPr/>
          <p:nvPr/>
        </p:nvGrpSpPr>
        <p:grpSpPr>
          <a:xfrm>
            <a:off x="395280" y="5224320"/>
            <a:ext cx="4210200" cy="1442520"/>
            <a:chOff x="395280" y="5224320"/>
            <a:chExt cx="4210200" cy="1442520"/>
          </a:xfrm>
        </p:grpSpPr>
        <p:pic>
          <p:nvPicPr>
            <p:cNvPr id="625" name="Picture 9" descr=""/>
            <p:cNvPicPr/>
            <p:nvPr/>
          </p:nvPicPr>
          <p:blipFill>
            <a:blip r:embed="rId6"/>
            <a:stretch/>
          </p:blipFill>
          <p:spPr>
            <a:xfrm>
              <a:off x="395280" y="5224320"/>
              <a:ext cx="421020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14"/>
            <p:cNvSpPr/>
            <p:nvPr/>
          </p:nvSpPr>
          <p:spPr>
            <a:xfrm>
              <a:off x="1248120" y="620712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rcer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upo 2"/>
          <p:cNvGrpSpPr/>
          <p:nvPr/>
        </p:nvGrpSpPr>
        <p:grpSpPr>
          <a:xfrm>
            <a:off x="319320" y="2276640"/>
            <a:ext cx="2734920" cy="1708200"/>
            <a:chOff x="319320" y="2276640"/>
            <a:chExt cx="2734920" cy="1708200"/>
          </a:xfrm>
        </p:grpSpPr>
        <p:pic>
          <p:nvPicPr>
            <p:cNvPr id="628" name="Picture 6" descr=""/>
            <p:cNvPicPr/>
            <p:nvPr/>
          </p:nvPicPr>
          <p:blipFill>
            <a:blip r:embed="rId7"/>
            <a:stretch/>
          </p:blipFill>
          <p:spPr>
            <a:xfrm>
              <a:off x="598320" y="2276640"/>
              <a:ext cx="207648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15"/>
            <p:cNvSpPr/>
            <p:nvPr/>
          </p:nvSpPr>
          <p:spPr>
            <a:xfrm>
              <a:off x="319320" y="3404160"/>
              <a:ext cx="273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tão de Pagamentos d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verno Fed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Picture 19" descr=""/>
          <p:cNvPicPr/>
          <p:nvPr/>
        </p:nvPicPr>
        <p:blipFill>
          <a:blip r:embed="rId8"/>
          <a:stretch/>
        </p:blipFill>
        <p:spPr>
          <a:xfrm>
            <a:off x="6729480" y="4870440"/>
            <a:ext cx="2036520" cy="10796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0" descr=""/>
          <p:cNvPicPr/>
          <p:nvPr/>
        </p:nvPicPr>
        <p:blipFill>
          <a:blip r:embed="rId9"/>
          <a:stretch/>
        </p:blipFill>
        <p:spPr>
          <a:xfrm>
            <a:off x="6010200" y="3718080"/>
            <a:ext cx="279900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79280" y="5444640"/>
            <a:ext cx="4897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ff"/>
                </a:solidFill>
                <a:latin typeface="Calisto MT"/>
              </a:rPr>
              <a:t>Qi::</a:t>
            </a:r>
            <a:r>
              <a:rPr b="1" lang="pt-BR" sz="4400" spc="-1" strike="noStrike">
                <a:solidFill>
                  <a:srgbClr val="ffffff"/>
                </a:solidFill>
                <a:latin typeface="Calisto MT"/>
              </a:rPr>
              <a:t> Compras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24:16Z</dcterms:created>
  <dc:creator>gilsonlom</dc:creator>
  <dc:description/>
  <dc:language>en-US</dc:language>
  <cp:lastModifiedBy>Antonio Jose da Silva Barros</cp:lastModifiedBy>
  <dcterms:modified xsi:type="dcterms:W3CDTF">2011-11-22T16:00:44Z</dcterms:modified>
  <cp:revision>69</cp:revision>
  <dc:subject/>
  <dc:title>Apresentação do PowerPoint</dc:title>
</cp:coreProperties>
</file>