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29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9.jpeg" ContentType="image/jpeg"/>
  <Override PartName="/ppt/media/image11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DC03-8F8E-40A2-9715-85AFE99D92D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6C7D-DC83-4C95-8AB8-41981126316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68F9-728E-4388-921A-FF6A8C6C4A2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A950-A820-4F33-8ACA-8EEF9D11AE1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EDC8-7690-4871-A244-DD051CA0844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F3A2-29CA-491B-AF17-10BC71A8648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AACA-FA29-499A-83D4-1E15A780124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52BB-18F1-4137-93C2-D8A2C12A095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3884760" y="8682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D38EA6-55E0-4805-9E81-598FCC5042EE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54A3-7A69-4AAB-A00C-915C8CA51D3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951F-AD7D-4424-BC4A-3DA7F6391B0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917640" y="677880"/>
            <a:ext cx="49752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896760" y="4357440"/>
            <a:ext cx="501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917640" y="676440"/>
            <a:ext cx="49734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896760" y="4357800"/>
            <a:ext cx="50119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4FF6-0974-4FB0-B235-F9A498D27C5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78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1597-85B2-4A07-B466-CB2E70CEE50C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C481-73B2-49C8-9CEA-0303312BED2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5111-777D-4B8C-B87C-33BF9CF1FE7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"/>
          <p:cNvSpPr/>
          <p:nvPr/>
        </p:nvSpPr>
        <p:spPr>
          <a:xfrm>
            <a:off x="2262240" y="684360"/>
            <a:ext cx="2335320" cy="34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F761-8EA6-4811-AFCB-53807EC5AC7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83764-A072-492C-B904-080A4C49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A121-B9EF-40B0-9172-39AE1C62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A351-3DB3-4436-A797-0C6CC75C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90E77-5C09-409A-A3DB-80A581CA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F1C44-9814-469D-801E-8320EF1B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7AB83-8AAC-4959-9FA4-9C50904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391DC-1F0C-40C5-A671-43435043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F8AA-215A-4199-9C94-794ACBD9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F3E6-AA85-4C79-9D3D-24AD2643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689A-B63B-476C-B69B-EC06EF39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7F499-FA05-41C1-972B-E919BC5A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70201-BFAC-49C9-B6DC-32DB9C6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36046-059A-477B-B893-174DE258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08B99-A1A0-4855-9668-FBD5170C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3F85-013E-489B-A1E1-BE39FA69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483C2-5778-404B-A496-B02DA7A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D54DB-42F8-4046-A4EA-ED48F5C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326E1-74B1-4C80-B039-08A205E3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0FEE6-7408-4E06-BB2F-56C55D90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3CDF6-0E61-4965-AE23-68E5E5D0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3444C-D5F2-42C3-837B-83CF6062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A76DA-16FD-4EC6-B36F-DC0732EA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18863-E669-4E0C-9BAD-419B5A1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2DC2C-2316-4B96-B570-53119053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8FA9-E559-494B-9F49-498DF844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B63F-318E-4957-BA9F-2DC58630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B9553-7031-4DFD-A15B-38B2A239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D2C68-6A0C-4AE0-AE14-A79A8565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3EDCC-DCE2-47F8-9645-6DD15942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7AFB6-8B69-4255-AC1E-94146F9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ED9-9226-4568-A235-330631A4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B083A-9406-4816-BE03-5869E163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5C1BD-FED3-40BF-9EB4-A4A7F370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98706-6201-4E93-9F99-B8B41754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3F84E-581B-4198-8D8C-E2B1719B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89954-D17F-4FC1-844B-F2C09E2C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0827A-748F-4205-9C8E-62310ECE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84901-3AAE-45D0-BCCA-036CE625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A5E73-C62C-4D4B-BB3C-C831084D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16157-428F-4CA0-9729-32974EA1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5EFF2-B0FA-4228-8B5E-ACBFC76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5F0-6D2A-4E58-B49E-37A030DF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D064C-A663-4B07-AFA9-BA94FBF1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C9509-07F9-4861-9863-A9B5F102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65B4A-342A-45AC-B77C-82917EBC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1A50B-478D-445B-A62F-25B77742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587D2-1856-48F5-A0B9-99F7BA76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7F738-1BFC-49D4-BDCD-C1164C12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DF8F7-10D7-4560-BB6E-34AAA431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246FE-3CD8-4EE6-AC12-EAAB6A1D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2521E-FB21-43A8-8A83-5D28A0E9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2CE72-4367-4C9A-8BBC-BD2FA0D2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53F-7C9C-4D46-8CAA-1D2EE89C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145F6-C2BA-455F-B13C-E4336E9B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D9F84-FE95-457C-B0A1-A7A2CB3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F6944-BE15-4CE8-914C-9F6E235D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1474D-BE99-4F0C-9746-0EEA7DB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99881-7EBE-4437-A44E-8F8FEA9F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BAAB7-98D1-4947-A412-7784954D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8BF66-2A59-424A-8ABC-BC44B088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05CA9-53A3-4A09-82FE-479CCB9A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21FAC-D6F1-4C19-8ADF-943C13A3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96A47-7FD3-4A6F-9B98-9E4174BB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8AC-4762-4405-BC6E-A0ECACE0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4C407-98B7-4E59-8752-8CBF0CB6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E9F30-D18F-44F9-9254-CB94028D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D27AC-C6C0-4FF9-AA77-27D9A459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23A17-D4BC-4067-B7C9-E747A322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12908-A322-442B-AC7F-20C5AF2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62123-B2BB-4DBF-AB87-C02404CE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D1D26-6883-4B77-81DD-FAAF6B94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06DAF-7A3E-4035-8E3F-523668B8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BC911-A496-49CE-A1CF-1EB9C068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D9F-2956-4578-97A3-AE80D5C8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E2A-DE89-4CDD-B519-74FBD93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F86-BBFE-4211-A70A-A3363BC3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2D1-4FD9-4F2A-B0F0-39098A7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D33-7D4F-43F6-952F-981B94F3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8CD-1FBF-4427-BF02-BE0650B5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CF4-6526-4B49-B9D2-749523D2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D1F-7B8E-44C8-8F38-416902AB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76F2-D5DF-4DFA-83AD-7C923187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43F3-129C-465D-A89D-3E73BC9B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2690-3951-4883-BB91-BC693EA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E8AD-48DE-479E-B4BB-7F2ADFD6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EA4A-2892-4CD2-88F0-FB440F91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2591-CA49-4367-A4EC-0929B3F9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ED2F-AE8C-4EAF-930C-40BA727D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1141-F2DA-4256-9837-2FCC052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532A-3138-4432-86B5-302A614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6B56-12A2-4E36-A6B1-78ED952B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9D87-7045-4043-BD1D-08B60B4D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0CDF-0F94-4FC7-BF1C-7E9A88EC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3872-BDB6-4116-A4D3-420A3B4B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DB5F-0837-418C-A4A3-07E4ABEC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48CF-B3C8-4EBC-96B6-E316D352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943E-6831-47CB-BD97-FE647E4B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9644-7C50-4166-9FF2-F817B889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2A47-D5EC-4904-A288-461861B0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AA2E-7F93-44C4-87C5-4210287A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C6D3-7186-4270-9319-93C41095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4E83-8E94-49BE-98F5-BC00499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88AA-1D43-45B6-ACF5-F484A6C2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7137-0652-4EE8-8E2A-EBF012F1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85F2-FC87-4A91-B1AD-405C020B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81554-0340-4BBD-8F9A-845ABDCE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9F2D2-7119-4A48-92C9-581BD55F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708B-079D-4E70-9D28-5CC56FE5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3F3DD-50AD-4719-A969-E9CF4173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E84E-193D-4CED-A940-9ADCCFE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B0AC-435B-4C8C-BC18-15B5E741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7F07-544B-40A7-88A5-299555B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C4831-66CC-466D-B9F9-FE2A03E5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6696-CDA5-47A1-A897-6D685866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CAD6-2EED-4F31-A0C9-D0B1199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0D0DE-5414-450F-A6E1-861C03D4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8F01-DC97-4F8D-994C-AAFFAAA3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96A4-D655-4266-BD78-5D65ECBF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8747-6567-499C-9208-25BE4096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DFC74-D3F7-4923-83A3-9FFD5A0A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F24FE-157B-435B-A471-930F51A1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4327-B65A-4395-80B7-7A738BCC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9CAA-042E-4202-913E-F01E6F5A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4401-09C8-4D51-A69E-8F5BDCA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19BC-770F-405E-B1DC-9B0CF45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1C5F4-A5C8-4DB8-B5A0-79463605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A6376-ECF4-4EE3-BFE2-A42B99B6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37EF-55ED-4879-BDA8-E7395C25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C46D-9F72-4757-B0F9-CE0B4756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F99CE-DF87-497E-8809-D39924C8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0D0B-6B1D-4841-8B20-59F53CE9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418BB-E305-4AF7-BD03-3EEBE544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1120" y="144360"/>
            <a:ext cx="758880" cy="515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1042920" y="609480"/>
            <a:ext cx="8101080" cy="82800"/>
          </a:xfrm>
          <a:prstGeom prst="rect">
            <a:avLst/>
          </a:prstGeom>
          <a:ln w="0">
            <a:noFill/>
          </a:ln>
        </p:spPr>
      </p:pic>
      <p:sp>
        <p:nvSpPr>
          <p:cNvPr id="2" name="Text Box 3"/>
          <p:cNvSpPr/>
          <p:nvPr/>
        </p:nvSpPr>
        <p:spPr>
          <a:xfrm>
            <a:off x="4067280" y="76320"/>
            <a:ext cx="489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Arial Unicode MS"/>
                <a:ea typeface="Arial"/>
              </a:rPr>
              <a:t>Controloría-General de la Uni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91000" y="21337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3581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31E0-388C-4E7D-8387-37A0780F1F88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0B3B-E88F-4506-B382-E8094FE5C8EC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3ABC-CD75-4BC8-A720-DD9E05210E46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972D-4B1D-47ED-B9ED-96450AFCBC64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B298-B923-4C1A-86FC-5B3425CEE0AA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E357-76B6-4B26-BD49-AA7A688FC0C9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0F79-2DE6-43D8-9534-F391C2825018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9785-022F-4070-A627-775827A56B86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ODP_PAREDE_baixa resolução"/>
          <p:cNvPicPr/>
          <p:nvPr/>
        </p:nvPicPr>
        <p:blipFill>
          <a:blip r:embed="rId2"/>
          <a:srcRect l="781" t="1818" r="781" b="1132"/>
          <a:stretch/>
        </p:blipFill>
        <p:spPr>
          <a:xfrm>
            <a:off x="0" y="1341360"/>
            <a:ext cx="9144000" cy="387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C8F-38ED-4E93-9054-9A80F7AD6952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" descr="ODP_PAREDE_baixa resolução"/>
          <p:cNvPicPr/>
          <p:nvPr/>
        </p:nvPicPr>
        <p:blipFill>
          <a:blip r:embed="rId2"/>
          <a:srcRect l="781" t="1818" r="781" b="1132"/>
          <a:stretch/>
        </p:blipFill>
        <p:spPr>
          <a:xfrm>
            <a:off x="0" y="1341360"/>
            <a:ext cx="9144000" cy="3876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7AFB-1E55-4979-ADD0-9C5B7D461301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cabeça PPT"/>
          <p:cNvPicPr/>
          <p:nvPr/>
        </p:nvPicPr>
        <p:blipFill>
          <a:blip r:embed="rId2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BB3B-7DAB-4DAA-BDEC-6ACC15679646}" type="slidenum"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921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ff"/>
                </a:solidFill>
                <a:latin typeface="Arial"/>
              </a:rPr>
              <a:t>El papel de la Contraloría-General de la Unión de Brasil (CGU) en la promoción de la transparencia y la lucha contra la corrupció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3708360" y="5589720"/>
            <a:ext cx="49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Cambria"/>
              </a:rPr>
              <a:t>Gilson Libório de Oliveira Mendes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Cambria"/>
              </a:rPr>
              <a:t>Director de Informaciones Estraté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7" descr=""/>
          <p:cNvPicPr/>
          <p:nvPr/>
        </p:nvPicPr>
        <p:blipFill>
          <a:blip r:embed="rId1"/>
          <a:stretch/>
        </p:blipFill>
        <p:spPr>
          <a:xfrm>
            <a:off x="574560" y="4724280"/>
            <a:ext cx="1549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01920" y="976320"/>
            <a:ext cx="2817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pras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340000" y="3886200"/>
            <a:ext cx="634680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ás de R$ 350 bill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ás de 15 millones de it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533520" y="2532240"/>
            <a:ext cx="40892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27280" y="836640"/>
            <a:ext cx="2459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onitore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65040" y="2176560"/>
            <a:ext cx="8425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179280" y="5402160"/>
            <a:ext cx="61214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 Fracciona el Ga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rcRect l="0" t="35996" r="38164" b="5250"/>
          <a:stretch/>
        </p:blipFill>
        <p:spPr>
          <a:xfrm>
            <a:off x="144360" y="1866960"/>
            <a:ext cx="8820360" cy="489096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4427640" y="6922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cciona el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upo 1"/>
          <p:cNvGrpSpPr/>
          <p:nvPr/>
        </p:nvGrpSpPr>
        <p:grpSpPr>
          <a:xfrm>
            <a:off x="3276720" y="5445000"/>
            <a:ext cx="2660040" cy="936720"/>
            <a:chOff x="3276720" y="5445000"/>
            <a:chExt cx="2660040" cy="936720"/>
          </a:xfrm>
        </p:grpSpPr>
        <p:sp>
          <p:nvSpPr>
            <p:cNvPr id="642" name="Retângulo 4"/>
            <p:cNvSpPr/>
            <p:nvPr/>
          </p:nvSpPr>
          <p:spPr>
            <a:xfrm>
              <a:off x="3276720" y="5445000"/>
              <a:ext cx="241308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CaixaDeTexto 5"/>
            <p:cNvSpPr/>
            <p:nvPr/>
          </p:nvSpPr>
          <p:spPr>
            <a:xfrm>
              <a:off x="3343680" y="5743440"/>
              <a:ext cx="259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istribución por Institución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upo 2"/>
          <p:cNvGrpSpPr/>
          <p:nvPr/>
        </p:nvGrpSpPr>
        <p:grpSpPr>
          <a:xfrm>
            <a:off x="6227640" y="5489640"/>
            <a:ext cx="2305080" cy="892080"/>
            <a:chOff x="6227640" y="5489640"/>
            <a:chExt cx="2305080" cy="892080"/>
          </a:xfrm>
        </p:grpSpPr>
        <p:sp>
          <p:nvSpPr>
            <p:cNvPr id="645" name="Retângulo 8"/>
            <p:cNvSpPr/>
            <p:nvPr/>
          </p:nvSpPr>
          <p:spPr>
            <a:xfrm>
              <a:off x="6227640" y="5489640"/>
              <a:ext cx="2305080" cy="89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CaixaDeTexto 6"/>
            <p:cNvSpPr/>
            <p:nvPr/>
          </p:nvSpPr>
          <p:spPr>
            <a:xfrm>
              <a:off x="6408000" y="5745240"/>
              <a:ext cx="197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istribución por Institu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completo"/>
          <p:cNvPicPr/>
          <p:nvPr/>
        </p:nvPicPr>
        <p:blipFill>
          <a:blip r:embed="rId1"/>
          <a:stretch/>
        </p:blipFill>
        <p:spPr>
          <a:xfrm>
            <a:off x="755640" y="1844640"/>
            <a:ext cx="7956720" cy="50133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6"/>
          <p:cNvSpPr/>
          <p:nvPr/>
        </p:nvSpPr>
        <p:spPr>
          <a:xfrm>
            <a:off x="6553080" y="98100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179280" y="5402160"/>
            <a:ext cx="84250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 Conspiración entre Lici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3"/>
          <p:cNvSpPr/>
          <p:nvPr/>
        </p:nvSpPr>
        <p:spPr>
          <a:xfrm>
            <a:off x="4859280" y="907920"/>
            <a:ext cx="39592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piración entre Lici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" descr=""/>
          <p:cNvPicPr/>
          <p:nvPr/>
        </p:nvPicPr>
        <p:blipFill>
          <a:blip r:embed="rId1"/>
          <a:srcRect l="746" t="16196" r="4643" b="14144"/>
          <a:stretch/>
        </p:blipFill>
        <p:spPr>
          <a:xfrm>
            <a:off x="250920" y="1784520"/>
            <a:ext cx="86421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6227640" y="4221000"/>
            <a:ext cx="24066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724360" y="2276640"/>
            <a:ext cx="2951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5724360" y="6308640"/>
            <a:ext cx="2951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104760" y="1903320"/>
            <a:ext cx="9039240" cy="483876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6"/>
          <p:cNvSpPr/>
          <p:nvPr/>
        </p:nvSpPr>
        <p:spPr>
          <a:xfrm>
            <a:off x="6553080" y="981000"/>
            <a:ext cx="21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6" descr="Exemplo-T17"/>
          <p:cNvPicPr/>
          <p:nvPr/>
        </p:nvPicPr>
        <p:blipFill>
          <a:blip r:embed="rId1"/>
          <a:stretch/>
        </p:blipFill>
        <p:spPr>
          <a:xfrm>
            <a:off x="250920" y="1368360"/>
            <a:ext cx="8569080" cy="5445360"/>
          </a:xfrm>
          <a:prstGeom prst="rect">
            <a:avLst/>
          </a:prstGeom>
          <a:ln w="0">
            <a:noFill/>
          </a:ln>
        </p:spPr>
      </p:pic>
      <p:grpSp>
        <p:nvGrpSpPr>
          <p:cNvPr id="658" name="Grupo 10"/>
          <p:cNvGrpSpPr/>
          <p:nvPr/>
        </p:nvGrpSpPr>
        <p:grpSpPr>
          <a:xfrm>
            <a:off x="6300720" y="3716280"/>
            <a:ext cx="984240" cy="609480"/>
            <a:chOff x="6300720" y="3716280"/>
            <a:chExt cx="984240" cy="609480"/>
          </a:xfrm>
        </p:grpSpPr>
        <p:sp>
          <p:nvSpPr>
            <p:cNvPr id="659" name="Rounded Rectangular Callout 17"/>
            <p:cNvSpPr/>
            <p:nvPr/>
          </p:nvSpPr>
          <p:spPr>
            <a:xfrm>
              <a:off x="6300720" y="3868560"/>
              <a:ext cx="838440" cy="4572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Picture 18" descr=""/>
            <p:cNvPicPr/>
            <p:nvPr/>
          </p:nvPicPr>
          <p:blipFill>
            <a:blip r:embed="rId2"/>
            <a:stretch/>
          </p:blipFill>
          <p:spPr>
            <a:xfrm>
              <a:off x="6834240" y="3716280"/>
              <a:ext cx="45072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1" name="Grupo 11"/>
          <p:cNvGrpSpPr/>
          <p:nvPr/>
        </p:nvGrpSpPr>
        <p:grpSpPr>
          <a:xfrm>
            <a:off x="6804000" y="4187880"/>
            <a:ext cx="984240" cy="609480"/>
            <a:chOff x="6804000" y="4187880"/>
            <a:chExt cx="984240" cy="609480"/>
          </a:xfrm>
        </p:grpSpPr>
        <p:sp>
          <p:nvSpPr>
            <p:cNvPr id="662" name="Rounded Rectangular Callout 19"/>
            <p:cNvSpPr/>
            <p:nvPr/>
          </p:nvSpPr>
          <p:spPr>
            <a:xfrm>
              <a:off x="6804000" y="4340160"/>
              <a:ext cx="838440" cy="45720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2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20" descr=""/>
            <p:cNvPicPr/>
            <p:nvPr/>
          </p:nvPicPr>
          <p:blipFill>
            <a:blip r:embed="rId3"/>
            <a:stretch/>
          </p:blipFill>
          <p:spPr>
            <a:xfrm>
              <a:off x="7337520" y="4187880"/>
              <a:ext cx="45072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upo 12"/>
          <p:cNvGrpSpPr/>
          <p:nvPr/>
        </p:nvGrpSpPr>
        <p:grpSpPr>
          <a:xfrm>
            <a:off x="7188120" y="4797360"/>
            <a:ext cx="984240" cy="609840"/>
            <a:chOff x="7188120" y="4797360"/>
            <a:chExt cx="984240" cy="609840"/>
          </a:xfrm>
        </p:grpSpPr>
        <p:sp>
          <p:nvSpPr>
            <p:cNvPr id="665" name="Rounded Rectangular Callout 21"/>
            <p:cNvSpPr/>
            <p:nvPr/>
          </p:nvSpPr>
          <p:spPr>
            <a:xfrm>
              <a:off x="7188120" y="4949640"/>
              <a:ext cx="838440" cy="45756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3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22" descr=""/>
            <p:cNvPicPr/>
            <p:nvPr/>
          </p:nvPicPr>
          <p:blipFill>
            <a:blip r:embed="rId4"/>
            <a:stretch/>
          </p:blipFill>
          <p:spPr>
            <a:xfrm>
              <a:off x="7721640" y="4797360"/>
              <a:ext cx="45072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Rounded Rectangular Callout 23"/>
          <p:cNvSpPr/>
          <p:nvPr/>
        </p:nvSpPr>
        <p:spPr>
          <a:xfrm>
            <a:off x="1835280" y="1658880"/>
            <a:ext cx="3124080" cy="762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actado: 4º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as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67280" y="549000"/>
            <a:ext cx="4752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ubasta Donde el Mejor  Postor No Gan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"/>
          <p:cNvPicPr/>
          <p:nvPr/>
        </p:nvPicPr>
        <p:blipFill>
          <a:blip r:embed="rId1"/>
          <a:srcRect l="0" t="35459" r="38083" b="5016"/>
          <a:stretch/>
        </p:blipFill>
        <p:spPr>
          <a:xfrm>
            <a:off x="7920" y="117360"/>
            <a:ext cx="9167760" cy="609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 Box 3"/>
          <p:cNvSpPr/>
          <p:nvPr/>
        </p:nvSpPr>
        <p:spPr>
          <a:xfrm>
            <a:off x="3708360" y="551664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08000" y="476280"/>
            <a:ext cx="2808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5435640" y="3397320"/>
            <a:ext cx="1728720" cy="83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B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C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708360" y="5516640"/>
            <a:ext cx="18003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sé Wywywy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1201201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324000" y="907920"/>
            <a:ext cx="8496000" cy="10083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inistro de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l Control y de la Transpar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2340000" y="1916280"/>
            <a:ext cx="4495680" cy="576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cretaría Ejecu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324000" y="2708280"/>
            <a:ext cx="2087280" cy="199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creta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ederal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trol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556000" y="2708280"/>
            <a:ext cx="2520720" cy="19954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cretarí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la Corru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 Inform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2556000" y="4919760"/>
            <a:ext cx="934920" cy="863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1800" y="4919760"/>
            <a:ext cx="934920" cy="86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5219640" y="2708280"/>
            <a:ext cx="1800360" cy="199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rregid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la Un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7164360" y="2708280"/>
            <a:ext cx="1655640" cy="199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id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la Un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324000" y="6000840"/>
            <a:ext cx="8496000" cy="6141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6 Unidades Regionales en todos los estados brasil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rcRect l="0" t="26335" r="29273" b="4255"/>
          <a:stretch/>
        </p:blipFill>
        <p:spPr>
          <a:xfrm>
            <a:off x="0" y="155736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6"/>
          <p:cNvSpPr/>
          <p:nvPr/>
        </p:nvSpPr>
        <p:spPr>
          <a:xfrm>
            <a:off x="4788000" y="620640"/>
            <a:ext cx="4211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inel para Ge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4932360" y="5589720"/>
            <a:ext cx="3384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OORDENAÇÃO G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Superintendência Nac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78920" y="5402160"/>
            <a:ext cx="45370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</a:rPr>
              <a:t>Qi::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</a:rPr>
              <a:t> Tercer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219640" y="914400"/>
            <a:ext cx="3479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erceriz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3780000" y="3051000"/>
            <a:ext cx="497988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R$ 3,74 bi/a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 pistas analiz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4" descr=""/>
          <p:cNvPicPr/>
          <p:nvPr/>
        </p:nvPicPr>
        <p:blipFill>
          <a:blip r:embed="rId1"/>
          <a:stretch/>
        </p:blipFill>
        <p:spPr>
          <a:xfrm>
            <a:off x="468360" y="2438280"/>
            <a:ext cx="26668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95280" y="1987200"/>
            <a:ext cx="8362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epo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mpleado en nómina de varias empre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cionario público em calidad de subcontrat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viación de la función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os costos comparativos y los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3" descr=""/>
          <p:cNvPicPr/>
          <p:nvPr/>
        </p:nvPicPr>
        <p:blipFill>
          <a:blip r:embed="rId1"/>
          <a:srcRect l="0" t="0" r="0" b="116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5"/>
          <p:cNvSpPr/>
          <p:nvPr/>
        </p:nvSpPr>
        <p:spPr>
          <a:xfrm>
            <a:off x="179280" y="5402160"/>
            <a:ext cx="475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000000"/>
                </a:solidFill>
                <a:latin typeface="Calisto MT"/>
                <a:ea typeface="ＭＳ Ｐゴシック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Bolsa Famí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580000" y="914400"/>
            <a:ext cx="3191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olsa Famí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3635280" y="3193920"/>
            <a:ext cx="5329440" cy="20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$ 1,2 billón/mê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,9 millones de famil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 classes - 33 camin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323388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84720" y="836640"/>
            <a:ext cx="4402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04840" y="2347920"/>
            <a:ext cx="73548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tos personales (catas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ender las condiciones de ac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ables irregula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cionarios públicos benefi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pacidad económica 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3" descr=""/>
          <p:cNvPicPr/>
          <p:nvPr/>
        </p:nvPicPr>
        <p:blipFill>
          <a:blip r:embed="rId1"/>
          <a:stretch/>
        </p:blipFill>
        <p:spPr>
          <a:xfrm>
            <a:off x="684360" y="3352680"/>
            <a:ext cx="3429000" cy="5223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280" y="2828880"/>
            <a:ext cx="8131320" cy="175248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 millones de persona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6 mil teníam auto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 valores superiores a R$ 50 mil</a:t>
            </a:r>
            <a:r>
              <a:rPr b="1" lang="en-GB" sz="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24" descr=""/>
          <p:cNvPicPr/>
          <p:nvPr/>
        </p:nvPicPr>
        <p:blipFill>
          <a:blip r:embed="rId2"/>
          <a:stretch/>
        </p:blipFill>
        <p:spPr>
          <a:xfrm>
            <a:off x="684360" y="5013360"/>
            <a:ext cx="2950920" cy="107964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5"/>
          <p:cNvSpPr/>
          <p:nvPr/>
        </p:nvSpPr>
        <p:spPr>
          <a:xfrm>
            <a:off x="539640" y="4869000"/>
            <a:ext cx="8136000" cy="1433520"/>
          </a:xfrm>
          <a:prstGeom prst="rect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7 mil personas con 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826920" y="19645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 económica 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5580000" y="914400"/>
            <a:ext cx="3191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lsa Famí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5"/>
          <p:cNvSpPr/>
          <p:nvPr/>
        </p:nvSpPr>
        <p:spPr>
          <a:xfrm>
            <a:off x="179280" y="5402160"/>
            <a:ext cx="310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ff"/>
                </a:solidFill>
                <a:latin typeface="Calisto MT"/>
                <a:ea typeface="ＭＳ Ｐゴシック"/>
              </a:rPr>
              <a:t>Qi::</a:t>
            </a:r>
            <a:r>
              <a:rPr b="1" lang="pt-BR" sz="4000" spc="-1" strike="noStrike">
                <a:solidFill>
                  <a:srgbClr val="000000"/>
                </a:solidFill>
                <a:latin typeface="Calisto MT"/>
                <a:ea typeface="ＭＳ Ｐゴシック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Calisto MT"/>
                <a:ea typeface="ＭＳ Ｐゴシック"/>
              </a:rPr>
              <a:t>OSC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" descr=""/>
          <p:cNvPicPr/>
          <p:nvPr/>
        </p:nvPicPr>
        <p:blipFill>
          <a:blip r:embed="rId1"/>
          <a:stretch/>
        </p:blipFill>
        <p:spPr>
          <a:xfrm>
            <a:off x="4818240" y="2854440"/>
            <a:ext cx="3859200" cy="23050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"/>
          <p:cNvSpPr/>
          <p:nvPr/>
        </p:nvSpPr>
        <p:spPr>
          <a:xfrm>
            <a:off x="4859280" y="1197000"/>
            <a:ext cx="388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Portal de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Transpa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 flipV="1" rot="10800000">
            <a:off x="539280" y="2565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 flipV="1" rot="10800000">
            <a:off x="539280" y="3140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"/>
          <p:cNvSpPr/>
          <p:nvPr/>
        </p:nvSpPr>
        <p:spPr>
          <a:xfrm flipV="1" rot="10800000">
            <a:off x="539280" y="3716280"/>
            <a:ext cx="38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 flipV="1" rot="10800000">
            <a:off x="539280" y="429156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ncciones a Empre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 flipV="1" rot="10800000">
            <a:off x="539280" y="48679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 flipV="1" rot="10800000">
            <a:off x="539280" y="544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uncionari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66040" y="836640"/>
            <a:ext cx="2038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SC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240360" cy="254340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"/>
          <p:cNvSpPr/>
          <p:nvPr/>
        </p:nvSpPr>
        <p:spPr>
          <a:xfrm>
            <a:off x="4513320" y="2781360"/>
            <a:ext cx="45226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$ 1,5 bil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480 ent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4346640" y="765000"/>
            <a:ext cx="4402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ntos Princip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826920" y="2430360"/>
            <a:ext cx="80661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dirigentes d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CIPs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uerdo con objeto prohibido por la le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dirigente de OSCIP y donante de cam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CIP com la misma dir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CIP com la fecha de creación cerca a la fecha del acu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5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7380360" cy="49417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6"/>
          <p:cNvSpPr/>
          <p:nvPr/>
        </p:nvSpPr>
        <p:spPr>
          <a:xfrm>
            <a:off x="8201160" y="2001960"/>
            <a:ext cx="6886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7"/>
          <p:cNvSpPr/>
          <p:nvPr/>
        </p:nvSpPr>
        <p:spPr>
          <a:xfrm>
            <a:off x="250920" y="1989000"/>
            <a:ext cx="2160360" cy="1721160"/>
          </a:xfrm>
          <a:prstGeom prst="wedgeRectCallout">
            <a:avLst>
              <a:gd name="adj1" fmla="val 176523"/>
              <a:gd name="adj2" fmla="val 7885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Que sea o haya sido preside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e 45 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427640" y="836640"/>
            <a:ext cx="439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mino 3.3 - OSCIPs con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de en la misma ciu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24360" y="764640"/>
            <a:ext cx="49068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TV: Venta de OSC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EFCGJ_T_1393342_mmp4_WMV V9.wmv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553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6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859280" cy="16412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selo premio2009"/>
          <p:cNvPicPr/>
          <p:nvPr/>
        </p:nvPicPr>
        <p:blipFill>
          <a:blip r:embed="rId2"/>
          <a:stretch/>
        </p:blipFill>
        <p:spPr>
          <a:xfrm>
            <a:off x="1881360" y="3951360"/>
            <a:ext cx="2474640" cy="24303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7" descr="image_mini"/>
          <p:cNvPicPr/>
          <p:nvPr/>
        </p:nvPicPr>
        <p:blipFill>
          <a:blip r:embed="rId3"/>
          <a:stretch/>
        </p:blipFill>
        <p:spPr>
          <a:xfrm>
            <a:off x="5435640" y="3033720"/>
            <a:ext cx="2952720" cy="219564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4"/>
          <p:cNvSpPr/>
          <p:nvPr/>
        </p:nvSpPr>
        <p:spPr>
          <a:xfrm>
            <a:off x="4356000" y="6922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mios 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60720" y="2923920"/>
            <a:ext cx="5688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pt-BR" sz="2800" spc="-1" strike="noStrike">
                <a:solidFill>
                  <a:srgbClr val="000000"/>
                </a:solidFill>
                <a:latin typeface="Verdana"/>
              </a:rPr>
              <a:t>United Nations Public Service Awards - UNPSA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394920" y="4438440"/>
            <a:ext cx="626436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ategorí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vanzar en el conocimiento de gestión en el gobierno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Imagem 1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079640" cy="10144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846000" y="2276640"/>
            <a:ext cx="2286000" cy="200016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3"/>
          <p:cNvSpPr>
            <a:spLocks noGrp="1"/>
          </p:cNvSpPr>
          <p:nvPr>
            <p:ph type="title"/>
          </p:nvPr>
        </p:nvSpPr>
        <p:spPr>
          <a:xfrm>
            <a:off x="6759720" y="5516640"/>
            <a:ext cx="1844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ff"/>
                </a:solidFill>
                <a:latin typeface="Verdana"/>
              </a:rPr>
              <a:t>ONU -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5076720" y="907920"/>
            <a:ext cx="3681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95280" y="1699920"/>
            <a:ext cx="6661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Arial"/>
                <a:ea typeface="Arial"/>
              </a:rPr>
              <a:t>Muchas Gracia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2375640" y="4145040"/>
            <a:ext cx="635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ilson Lib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rector de Informaciones Estraté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aloría-General de la Unión (CG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borio@cgu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5 61 2020-7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9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9012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1"/>
          <p:cNvSpPr/>
          <p:nvPr/>
        </p:nvSpPr>
        <p:spPr>
          <a:xfrm>
            <a:off x="2195640" y="9381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rtal de la Transparencia en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324000" y="2133720"/>
            <a:ext cx="8712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Media mensual de accesos (hasta Sep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más de 270.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Recursos (Nov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más de R$ 8 trillones y 900 millones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, cerca de US$ 5 trill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Registros de ingresos e gastos (Nov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cerca de 1.230.000.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Sistema PUSH (Oct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39.803 personas inscritas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para accesar las transferencias para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5.454 municipalidades (98% de todas las ciudades brasileñ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CEIS (Nov/2011): </a:t>
            </a: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5.255 sancciones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a 4127 empres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Datos de la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Copa del Mundo Fifa 2014</a:t>
            </a: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 (inversiones por ciudad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e de los 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Juegos Olímpicos de Rio 201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istema de 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áginas de Transpar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1204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4500720" y="522936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serv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 Gast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7"/>
          <p:cNvSpPr/>
          <p:nvPr/>
        </p:nvSpPr>
        <p:spPr>
          <a:xfrm>
            <a:off x="5796000" y="3213000"/>
            <a:ext cx="2808360" cy="17287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ro-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oyo a la 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03280" y="909720"/>
            <a:ext cx="5545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odución de Informaciones Estratégica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34"/>
          <p:cNvGrpSpPr/>
          <p:nvPr/>
        </p:nvGrpSpPr>
        <p:grpSpPr>
          <a:xfrm>
            <a:off x="762120" y="2743200"/>
            <a:ext cx="3123360" cy="2809080"/>
            <a:chOff x="762120" y="2743200"/>
            <a:chExt cx="3123360" cy="2809080"/>
          </a:xfrm>
        </p:grpSpPr>
        <p:pic>
          <p:nvPicPr>
            <p:cNvPr id="613" name="Picture 32" descr="ODP MARCA"/>
            <p:cNvPicPr/>
            <p:nvPr/>
          </p:nvPicPr>
          <p:blipFill>
            <a:blip r:embed="rId1"/>
            <a:srcRect l="3971" t="25248" r="56424" b="24384"/>
            <a:stretch/>
          </p:blipFill>
          <p:spPr>
            <a:xfrm>
              <a:off x="762120" y="2743200"/>
              <a:ext cx="2976120" cy="28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Rectangle 33"/>
            <p:cNvSpPr/>
            <p:nvPr/>
          </p:nvSpPr>
          <p:spPr>
            <a:xfrm>
              <a:off x="3291840" y="3679920"/>
              <a:ext cx="593640" cy="155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Box 7"/>
          <p:cNvSpPr/>
          <p:nvPr/>
        </p:nvSpPr>
        <p:spPr>
          <a:xfrm>
            <a:off x="79200" y="54864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365280" y="2666880"/>
            <a:ext cx="18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ital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9"/>
          <p:cNvSpPr/>
          <p:nvPr/>
        </p:nvSpPr>
        <p:spPr>
          <a:xfrm>
            <a:off x="2975040" y="50292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od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1901880" cy="1751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3528720" cy="7128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logotiposcdp"/>
          <p:cNvPicPr/>
          <p:nvPr/>
        </p:nvPicPr>
        <p:blipFill>
          <a:blip r:embed="rId3"/>
          <a:stretch/>
        </p:blipFill>
        <p:spPr>
          <a:xfrm>
            <a:off x="5867280" y="2001960"/>
            <a:ext cx="2737080" cy="12826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0" descr=""/>
          <p:cNvPicPr/>
          <p:nvPr/>
        </p:nvPicPr>
        <p:blipFill>
          <a:blip r:embed="rId4"/>
          <a:stretch/>
        </p:blipFill>
        <p:spPr>
          <a:xfrm>
            <a:off x="3995640" y="3500280"/>
            <a:ext cx="2171880" cy="17049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2" descr="logoSegundoP"/>
          <p:cNvPicPr/>
          <p:nvPr/>
        </p:nvPicPr>
        <p:blipFill>
          <a:blip r:embed="rId5"/>
          <a:stretch/>
        </p:blipFill>
        <p:spPr>
          <a:xfrm>
            <a:off x="4859280" y="5321160"/>
            <a:ext cx="2051280" cy="1254240"/>
          </a:xfrm>
          <a:prstGeom prst="rect">
            <a:avLst/>
          </a:prstGeom>
          <a:ln w="0">
            <a:noFill/>
          </a:ln>
        </p:spPr>
      </p:pic>
      <p:sp>
        <p:nvSpPr>
          <p:cNvPr id="623" name="Title 1"/>
          <p:cNvSpPr/>
          <p:nvPr/>
        </p:nvSpPr>
        <p:spPr>
          <a:xfrm>
            <a:off x="4705200" y="905040"/>
            <a:ext cx="4114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upo 1"/>
          <p:cNvGrpSpPr/>
          <p:nvPr/>
        </p:nvGrpSpPr>
        <p:grpSpPr>
          <a:xfrm>
            <a:off x="395280" y="5224320"/>
            <a:ext cx="4210200" cy="1442520"/>
            <a:chOff x="395280" y="5224320"/>
            <a:chExt cx="4210200" cy="1442520"/>
          </a:xfrm>
        </p:grpSpPr>
        <p:pic>
          <p:nvPicPr>
            <p:cNvPr id="625" name="Picture 9" descr=""/>
            <p:cNvPicPr/>
            <p:nvPr/>
          </p:nvPicPr>
          <p:blipFill>
            <a:blip r:embed="rId6"/>
            <a:stretch/>
          </p:blipFill>
          <p:spPr>
            <a:xfrm>
              <a:off x="395280" y="5224320"/>
              <a:ext cx="4210200" cy="13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14"/>
            <p:cNvSpPr/>
            <p:nvPr/>
          </p:nvSpPr>
          <p:spPr>
            <a:xfrm>
              <a:off x="1248120" y="620712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ercer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upo 2"/>
          <p:cNvGrpSpPr/>
          <p:nvPr/>
        </p:nvGrpSpPr>
        <p:grpSpPr>
          <a:xfrm>
            <a:off x="319320" y="2276640"/>
            <a:ext cx="2734920" cy="1708200"/>
            <a:chOff x="319320" y="2276640"/>
            <a:chExt cx="2734920" cy="1708200"/>
          </a:xfrm>
        </p:grpSpPr>
        <p:pic>
          <p:nvPicPr>
            <p:cNvPr id="628" name="Picture 6" descr=""/>
            <p:cNvPicPr/>
            <p:nvPr/>
          </p:nvPicPr>
          <p:blipFill>
            <a:blip r:embed="rId7"/>
            <a:stretch/>
          </p:blipFill>
          <p:spPr>
            <a:xfrm>
              <a:off x="598320" y="2276640"/>
              <a:ext cx="207648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15"/>
            <p:cNvSpPr/>
            <p:nvPr/>
          </p:nvSpPr>
          <p:spPr>
            <a:xfrm>
              <a:off x="319320" y="3404160"/>
              <a:ext cx="273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tão de Pagamentos d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verno Fed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Picture 19" descr=""/>
          <p:cNvPicPr/>
          <p:nvPr/>
        </p:nvPicPr>
        <p:blipFill>
          <a:blip r:embed="rId8"/>
          <a:stretch/>
        </p:blipFill>
        <p:spPr>
          <a:xfrm>
            <a:off x="6729480" y="4870440"/>
            <a:ext cx="2036520" cy="10796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0" descr=""/>
          <p:cNvPicPr/>
          <p:nvPr/>
        </p:nvPicPr>
        <p:blipFill>
          <a:blip r:embed="rId9"/>
          <a:stretch/>
        </p:blipFill>
        <p:spPr>
          <a:xfrm>
            <a:off x="6010200" y="3718080"/>
            <a:ext cx="2799000" cy="8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79280" y="5444640"/>
            <a:ext cx="4897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ff"/>
                </a:solidFill>
                <a:latin typeface="Calisto MT"/>
              </a:rPr>
              <a:t>Qi::</a:t>
            </a:r>
            <a:r>
              <a:rPr b="1" lang="pt-BR" sz="4400" spc="-1" strike="noStrike">
                <a:solidFill>
                  <a:srgbClr val="ffffff"/>
                </a:solidFill>
                <a:latin typeface="Calisto MT"/>
              </a:rPr>
              <a:t> Compras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24:16Z</dcterms:created>
  <dc:creator>gilsonlom</dc:creator>
  <dc:description/>
  <dc:language>en-US</dc:language>
  <cp:lastModifiedBy>Antonio Jose da Silva Barros</cp:lastModifiedBy>
  <dcterms:modified xsi:type="dcterms:W3CDTF">2011-11-22T16:00:44Z</dcterms:modified>
  <cp:revision>69</cp:revision>
  <dc:subject/>
  <dc:title>Apresentação do PowerPoint</dc:title>
</cp:coreProperties>
</file>