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0FDC-1CB0-4AEB-8FBE-07BB24F9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2348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912120"/>
            <a:ext cx="822348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8A84-A621-4801-A34F-E0805332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43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91212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4320" y="391212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EC34-2B53-4E9B-8854-46FED96E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160" y="144756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800" y="144756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91212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160" y="391212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800" y="391212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FAF3-C6EA-4C3E-BAE5-DF0FB562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0265-8A54-4099-A136-7BE9532F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223480" cy="47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79A4-E663-401A-9D27-860FA070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2348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A542-50EE-48F6-BFFF-CEE269B8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129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4320" y="1447560"/>
            <a:ext cx="40129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2CA7-47A3-48B7-B431-64133087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5568-3831-4736-97D0-552D9018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C9F9-FF71-4378-B3F8-9F3FCE6B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4320" y="1447560"/>
            <a:ext cx="40129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520" y="391212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4330-7407-40E4-87FE-7BEA2A75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223480" cy="47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CF4A-8444-44FE-943D-242FAA94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129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43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94320" y="391212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1C29-5D34-4DD5-8BE2-3797C7C8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43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912120"/>
            <a:ext cx="822348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C84A-3988-4400-8725-71436D52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2348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520" y="3912120"/>
            <a:ext cx="822348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A82B-D60D-4699-8326-CA312103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43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520" y="391212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94320" y="391212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3FE2-6123-4006-80F0-18599CE8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1160" y="144756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800" y="144756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520" y="391212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1160" y="391212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800" y="391212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9BF8-1A05-4982-89F9-F00215C8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2348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8F6C-C082-40C4-88FC-701C06D4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129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4320" y="1447560"/>
            <a:ext cx="40129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6C8C-D92F-48E3-B9FF-3A6A86C1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D980-E5D4-4F62-8D2C-F13CF644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4228-E73A-4C6A-AE63-D4340E1C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4320" y="1447560"/>
            <a:ext cx="40129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91212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9E41-36DD-47B1-B7D7-9F9B940A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129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43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4320" y="391212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58B9-DCAC-41A1-AC4A-AEA39B12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43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912120"/>
            <a:ext cx="822348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65F6-95DC-4D09-A7A1-CE2E9D08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514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22348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8C5E-D4BA-44E9-A4A5-A57B30B3C5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"/>
          <p:cNvGrpSpPr/>
          <p:nvPr/>
        </p:nvGrpSpPr>
        <p:grpSpPr>
          <a:xfrm>
            <a:off x="0" y="5923080"/>
            <a:ext cx="9144000" cy="934920"/>
            <a:chOff x="0" y="5923080"/>
            <a:chExt cx="9144000" cy="934920"/>
          </a:xfrm>
        </p:grpSpPr>
        <p:pic>
          <p:nvPicPr>
            <p:cNvPr id="42" name="Picture 8" descr="http://www.gre.ac.uk/schools/business/images/grriver.jpg"/>
            <p:cNvPicPr/>
            <p:nvPr/>
          </p:nvPicPr>
          <p:blipFill>
            <a:blip r:embed="rId2"/>
            <a:srcRect l="0" t="30669" r="0" b="23946"/>
            <a:stretch/>
          </p:blipFill>
          <p:spPr>
            <a:xfrm>
              <a:off x="0" y="5954760"/>
              <a:ext cx="91440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9"/>
            <p:cNvSpPr/>
            <p:nvPr/>
          </p:nvSpPr>
          <p:spPr>
            <a:xfrm>
              <a:off x="7343640" y="5962680"/>
              <a:ext cx="1800360" cy="89532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" name="Picture 10" descr="UoG Logo"/>
            <p:cNvPicPr/>
            <p:nvPr/>
          </p:nvPicPr>
          <p:blipFill>
            <a:blip r:embed="rId3"/>
            <a:srcRect l="0" t="0" r="0" b="15974"/>
            <a:stretch/>
          </p:blipFill>
          <p:spPr>
            <a:xfrm>
              <a:off x="7308720" y="5923080"/>
              <a:ext cx="1835280" cy="88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514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22348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95B9-2399-4807-B5AE-5814A51049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.lobina@gre.ac.uk" TargetMode="External"/><Relationship Id="rId2" Type="http://schemas.openxmlformats.org/officeDocument/2006/relationships/hyperlink" Target="http://www.psiru.org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7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94540"/>
                </a:solidFill>
                <a:latin typeface="Arial"/>
              </a:rPr>
              <a:t>Encuentro EUROsociAL</a:t>
            </a:r>
            <a:br>
              <a:rPr sz="1800"/>
            </a:br>
            <a:r>
              <a:rPr b="1" lang="es-ES_tradnl" sz="1800" spc="-1" strike="noStrike">
                <a:solidFill>
                  <a:srgbClr val="494540"/>
                </a:solidFill>
                <a:latin typeface="Arial"/>
              </a:rPr>
              <a:t>Lima, Perú, 22 de noviembre 2011</a:t>
            </a:r>
            <a:r>
              <a:rPr b="0" lang="es-ES_tradnl" sz="1800" spc="-1" strike="noStrike">
                <a:solidFill>
                  <a:srgbClr val="494540"/>
                </a:solidFill>
                <a:latin typeface="Arial"/>
              </a:rPr>
              <a:t> </a:t>
            </a:r>
            <a:br>
              <a:rPr sz="1800"/>
            </a:br>
            <a:br>
              <a:rPr sz="1800"/>
            </a:br>
            <a:br>
              <a:rPr sz="4000"/>
            </a:br>
            <a:r>
              <a:rPr b="1" lang="es-ES_tradnl" sz="4400" spc="-1" strike="noStrike">
                <a:solidFill>
                  <a:srgbClr val="494540"/>
                </a:solidFill>
                <a:latin typeface="Arial"/>
              </a:rPr>
              <a:t>Transparencia, </a:t>
            </a:r>
            <a:br>
              <a:rPr sz="4400"/>
            </a:br>
            <a:r>
              <a:rPr b="1" lang="es-ES_tradnl" sz="4400" spc="-1" strike="noStrike">
                <a:solidFill>
                  <a:srgbClr val="494540"/>
                </a:solidFill>
                <a:latin typeface="Arial"/>
              </a:rPr>
              <a:t>lucha contra la corrupción y mecanismos de gestión</a:t>
            </a:r>
            <a:br>
              <a:rPr sz="1800"/>
            </a:br>
            <a:endParaRPr b="1" lang="en-US" sz="4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10920" y="3716280"/>
            <a:ext cx="8064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Emanuele Lobi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e.lobina@gre.ac.uk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Public Services International Research Unit (PSIRU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usiness School,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University of Greenwich, U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psiru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395143"/>
                </a:solidFill>
                <a:latin typeface="Arial"/>
              </a:rPr>
              <a:t>Corrupción privada y impacto de largo plazo</a:t>
            </a:r>
            <a:endParaRPr b="1" lang="en-US" sz="32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stituciones de derecho interior e internacional que apoyan la participación del sector privado protegen los frutos de la corrupción como si fueran lucro legitimo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tradicción entre derecho público y derecho privado/comerci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sos: Grenoble (11 años); Tanzania (IAC); Indonesia (AMGI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395143"/>
                </a:solidFill>
                <a:latin typeface="Arial"/>
              </a:rPr>
              <a:t>Impacto en escala de la corrupción privada</a:t>
            </a:r>
            <a:endParaRPr b="1" lang="en-US" sz="32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ariados sectores en el Norte y Sur (Flyvberg et al., 2003)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expansión del papel del sector privado produce más oportunidades de corrup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anco Mundial: multinacionales con sede al extranjero tienen muchas más probabilidades de corromper que otras empres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395143"/>
                </a:solidFill>
                <a:latin typeface="Arial"/>
              </a:rPr>
              <a:t>Transparencia y participación ciudadana como lucha preventiva contra la corrupción</a:t>
            </a:r>
            <a:endParaRPr b="1" lang="en-US" sz="32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ceso a informaciones; participación en la toma de decisiones; acceso a la justicia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o hay el equivalente de la convención de Aahrus para la cohesión soci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ase jurídica débil de las obligaciones a la transparencia y participación ciudadana en el sector del agua en la Unión Europe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395143"/>
                </a:solidFill>
                <a:latin typeface="Arial"/>
              </a:rPr>
              <a:t>Resistencia del sector privado a la transparencia y participación ciudadana</a:t>
            </a:r>
            <a:endParaRPr b="1" lang="en-US" sz="32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objetivo de maximización del lucro esta en conflicto con la participación ciudadana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secreto comercial esta en conflicto con la  transparen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sos: Berlin; Budapest; Grenoble; Cochabamba; Fort Beauf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it-IT" sz="3000" spc="-1" strike="noStrike">
                <a:solidFill>
                  <a:srgbClr val="395143"/>
                </a:solidFill>
                <a:latin typeface="Arial"/>
              </a:rPr>
              <a:t>Participación ciudadana bajo PPP en Grenoble</a:t>
            </a:r>
            <a:endParaRPr b="1" lang="en-US" sz="30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os representantes de los consumidores admitido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las reuniones del Consejo de Administración (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Cd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), pero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 podían votar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 podían informar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adie sobre datos confidenciales obtenido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las reunion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395143"/>
                </a:solidFill>
                <a:latin typeface="Arial"/>
              </a:rPr>
              <a:t>Transparencia, participación ciudadana y gestión pública</a:t>
            </a:r>
            <a:endParaRPr b="1" lang="en-US" sz="32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usencia del objetivo de maximización del lucro permite formas avanzadas de transparencia y participación ciudadana, a veces como reacción a casos de corrupción privada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sos: Córdoba, España; Grenoble; Porto Aleg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 tema de participación ciudadana los latinoamericanos tienen mucho a enseñar y no solo a apren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395143"/>
                </a:solidFill>
                <a:latin typeface="Arial"/>
              </a:rPr>
              <a:t>Participación ciudadana bajo la nueva </a:t>
            </a:r>
            <a:r>
              <a:rPr b="1" lang="es-ES" sz="3200" spc="-1" strike="noStrike">
                <a:solidFill>
                  <a:srgbClr val="395143"/>
                </a:solidFill>
                <a:latin typeface="Arial"/>
              </a:rPr>
              <a:t>gestión municipal</a:t>
            </a:r>
            <a:r>
              <a:rPr b="1" lang="it-IT" sz="3200" spc="-1" strike="noStrike">
                <a:solidFill>
                  <a:srgbClr val="395143"/>
                </a:solidFill>
                <a:latin typeface="Arial"/>
              </a:rPr>
              <a:t> en Grenoble</a:t>
            </a:r>
            <a:endParaRPr b="1" lang="en-US" sz="32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Cd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nombrado por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yuntamiento: 8 miembros entre los elegidos, 4 miembros entre la ciudadaní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s 4 incluyen abogados, expertos y otros: un representante de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ecinos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y el ex jefe de una organización de consumidore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uniones del 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Cd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cada 3 meses, en priva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dirección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 reúne con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s consumidores cada 2 me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395143"/>
                </a:solidFill>
                <a:latin typeface="Arial"/>
              </a:rPr>
              <a:t>Porto Alegre o </a:t>
            </a:r>
            <a:br>
              <a:rPr sz="3200"/>
            </a:br>
            <a:r>
              <a:rPr b="1" lang="es-ES" sz="3200" spc="-1" strike="noStrike">
                <a:solidFill>
                  <a:srgbClr val="395143"/>
                </a:solidFill>
                <a:latin typeface="Arial"/>
              </a:rPr>
              <a:t>como hacer democrática la gestión del agua</a:t>
            </a:r>
            <a:endParaRPr b="1" lang="en-US" sz="32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reada en 1961: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nanciaci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del BID, DMAE financia todas las inversiones y el mantenimiento a trav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 de las tarifas. No se pueden extraer beneficios de la gesti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del ciclo urbano del agu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arco institucional: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piedad municipal, autonom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de gesti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y operacional; la sociedad civil esta presente en el Consejo de Administraciones; presupuesto participativ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395143"/>
                </a:solidFill>
                <a:latin typeface="Arial"/>
              </a:rPr>
              <a:t>Porto Alegre o </a:t>
            </a:r>
            <a:br>
              <a:rPr sz="3200"/>
            </a:br>
            <a:r>
              <a:rPr b="1" lang="es-ES" sz="3200" spc="-1" strike="noStrike">
                <a:solidFill>
                  <a:srgbClr val="395143"/>
                </a:solidFill>
                <a:latin typeface="Arial"/>
              </a:rPr>
              <a:t>como hacer democrática la gestión del agua</a:t>
            </a:r>
            <a:endParaRPr b="1" lang="en-US" sz="32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ndimiento: cobertura del servicio desde 1990 hasta 2001: del 95% al 99,5% (suministro); d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0% al 84% (depuraci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), del 2% al 25% (tratamiento de aguas residuales); agua no contabilizadas (50% al 34%); gesti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de la demanda; proceso de fijaci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de precios constante a lo largo del tiemp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395143"/>
                </a:solidFill>
                <a:latin typeface="Arial"/>
              </a:rPr>
              <a:t>Coherencia entre mecanismos de gestión, lucha contra la corrupción y cohesión social</a:t>
            </a:r>
            <a:endParaRPr b="1" lang="en-US" sz="32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lta de evidencia empírica sobre la mayor eficiencia y eficacia del sector privado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s operadoras más eficaces y eficientes y con mayor éxito social suelen ser públicas en el Norte como en el Su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gestión pública tiene un alcance más prometedor para el fortalecimiento de la transparencia, la participación ciudadana y la cohesión social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95143"/>
                </a:solidFill>
                <a:latin typeface="Arial"/>
              </a:rPr>
              <a:t>Experiencia de</a:t>
            </a:r>
            <a:r>
              <a:rPr b="1" lang="en-GB" sz="3600" spc="-1" strike="noStrike">
                <a:solidFill>
                  <a:srgbClr val="395143"/>
                </a:solidFill>
                <a:latin typeface="Arial"/>
              </a:rPr>
              <a:t> PSIRU</a:t>
            </a:r>
            <a:r>
              <a:rPr b="1" lang="en-GB" sz="3600" spc="-1" strike="noStrike">
                <a:solidFill>
                  <a:srgbClr val="395143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642600"/>
            <a:ext cx="9144000" cy="60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poyo a reformas de políticas públicas y innovación institucion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hesión soc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ucha contra la corrup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ransparencia y gobernanz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95143"/>
                </a:solidFill>
                <a:latin typeface="Arial"/>
              </a:rPr>
              <a:t>Conclusiones</a:t>
            </a:r>
            <a:endParaRPr b="1" lang="en-US" sz="40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ransparencia y participación ciudadana como formas de lucha preventivas contra la corrupción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herencia entre instituciones y objetivos de lucha contra la corrupción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forma del derecho público y comercial, interno e internac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avorecer la gestión pública bajo transparencia y participación ciudad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alarios decorosos para empleados públ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95143"/>
                </a:solidFill>
                <a:latin typeface="Arial"/>
              </a:rPr>
              <a:t>Porque el sector de agua y alcantarillado</a:t>
            </a:r>
            <a:r>
              <a:rPr b="1" lang="en-GB" sz="3600" spc="-1" strike="noStrike">
                <a:solidFill>
                  <a:srgbClr val="395143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42600"/>
            <a:ext cx="9144000" cy="60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abastecimiento de agua potable es un servicio esencial con un fuerte impacto sobre la cohesión socia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s un monopolio natural con fuertes asimetrías informativ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mo todos los casos extremos ofrece lecciones valiosas que además están respaldadas por la experiencia de otros sect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Definiciones de corrupción</a:t>
            </a:r>
            <a:r>
              <a:rPr b="1" lang="en-GB" sz="3600" spc="-1" strike="noStrike">
                <a:solidFill>
                  <a:srgbClr val="395143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642600"/>
            <a:ext cx="9144000" cy="60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Banco Mundial (1997): “abuso de poder público para el beneficio privado”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ransparency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International (2010): “abuso de poder para el beneficio privado”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La corrupción es siempre ilegal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95143"/>
                </a:solidFill>
                <a:latin typeface="Arial"/>
              </a:rPr>
              <a:t>Marco analítico</a:t>
            </a:r>
            <a:endParaRPr b="1" lang="en-US" sz="48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orruptores y corrupto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ector público – Sector público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ector privado – Sector públic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ector privado – Sector privado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Integración del marco analítico</a:t>
            </a:r>
            <a:endParaRPr b="1" lang="en-US" sz="4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 posible integrar nuestro marco analítico introduciendo la sociedad civil en la ecuación de la corrupción, por ejemplo en el caso de usuarios que corrompen empleados públicos para obtener conexiones a la r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o es importante distinguir entre corrupción por hambre y corrupción por falta de ét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n nivel salarial decoroso es un antídoto contra la “pequeña” corrupción de los empleados públicos (caso de Phnom Penh, Camboya)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Paradigmas de gestión</a:t>
            </a:r>
            <a:endParaRPr b="1" lang="en-US" sz="4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aradigmas definidos por la propiedad de las operadoras, sus objetivos y técnicas de gestión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dministración pública weberiana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estión priva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estión pública mercanti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estión pública flexibl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395143"/>
                </a:solidFill>
                <a:latin typeface="Arial"/>
              </a:rPr>
              <a:t>Corrupción y paradigmas de gestión</a:t>
            </a:r>
            <a:endParaRPr b="1" lang="en-US" sz="36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Williamson (1999): no hay modelos perfectos entonces falta identificar los modelos menos imperfectos y más flexi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os modelos no son aislados, sino que son apoyados por instituciones que influyen en su funcionamiento y también en la lucha contra la corrup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criterio de juicio de los modelos de gestión y de las respectivas instituciones es su coherencia con objetivos de lucha contra la corrup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395143"/>
                </a:solidFill>
                <a:latin typeface="Arial"/>
              </a:rPr>
              <a:t>Gestión privada y corrupción</a:t>
            </a:r>
            <a:endParaRPr b="1" lang="en-US" sz="36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jemplos bajo concesión: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enoble,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Réunion, Milan, Tangará da Serr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jemplos relativos a carteles: Milan, India (Davis, 2004), (Île de France, construcció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jemplos relativos a fraude: Severn Trent en Inglaterra, Lat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 el Norte y al Sur la justicia penal se hace siempre más parte importante de la regulación de la gestión privada bajo diferentes model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08:06:35Z</dcterms:created>
  <dc:creator>Bruce Cronin</dc:creator>
  <dc:description/>
  <dc:language>en-US</dc:language>
  <cp:lastModifiedBy>Maria Eugenia Cebrian</cp:lastModifiedBy>
  <dcterms:modified xsi:type="dcterms:W3CDTF">2011-11-23T09:46:15Z</dcterms:modified>
  <cp:revision>321</cp:revision>
  <dc:subject/>
  <dc:title>The Influence of Directorate Interlocks on NZ Overseas Direct Investment</dc:title>
</cp:coreProperties>
</file>