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9C9-163A-4A8F-A83F-4CE8663B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C54-02D3-438F-BFE7-BD162F76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DAF-C567-4987-9B06-AF322657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073-3A0E-49F0-A8C0-3B9B089D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533-1BD4-48EB-9E29-31991D2B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614-72FC-4F22-B079-05A2EA2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256-2EC5-4535-A5AE-94FE3E8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60C-106C-49A9-B823-59F5BD9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ACC7-EC19-4B24-8B83-2628F700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FE4A-CA63-4D41-B164-37FDC54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F3A-14AC-42BD-9C36-D893FB1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773-AE14-4B36-B21C-A63A891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BB8-BA8E-48A0-8EB7-033F571B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1D77-B028-4156-A8E9-5B0800A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742E-94B7-4FC6-9394-23BFA5B7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8A66-A9E3-4F02-B52D-12BC8A5E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16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800" y="144756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16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800" y="3912120"/>
            <a:ext cx="264780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B9E-15D9-4220-A3A0-AA2D7F92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A17-CA03-443C-AB13-4DC00294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8B-BDBC-4A24-A88B-D21A1E7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952-B4DE-4588-8F8C-91842CE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05C-4F3D-4159-8E4F-EE4C5C5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FB1-5DB8-491A-A4B0-2113451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4320" y="391212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7F7-2571-4AFA-8905-A26A73A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4320" y="1447560"/>
            <a:ext cx="401292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2120"/>
            <a:ext cx="8223480" cy="22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AA7-0EA9-4F99-B12A-A2C09FA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1FA-B78B-45ED-AB5D-84E0D93F3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0" y="5923080"/>
            <a:ext cx="9144000" cy="934920"/>
            <a:chOff x="0" y="5923080"/>
            <a:chExt cx="9144000" cy="934920"/>
          </a:xfrm>
        </p:grpSpPr>
        <p:pic>
          <p:nvPicPr>
            <p:cNvPr id="42" name="Picture 8" descr="http://www.gre.ac.uk/schools/business/images/grriver.jpg"/>
            <p:cNvPicPr/>
            <p:nvPr/>
          </p:nvPicPr>
          <p:blipFill>
            <a:blip r:embed="rId2"/>
            <a:srcRect l="0" t="30669" r="0" b="23946"/>
            <a:stretch/>
          </p:blipFill>
          <p:spPr>
            <a:xfrm>
              <a:off x="0" y="5954760"/>
              <a:ext cx="91440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9"/>
            <p:cNvSpPr/>
            <p:nvPr/>
          </p:nvSpPr>
          <p:spPr>
            <a:xfrm>
              <a:off x="7343640" y="5962680"/>
              <a:ext cx="1800360" cy="89532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Picture 10" descr="UoG Logo"/>
            <p:cNvPicPr/>
            <p:nvPr/>
          </p:nvPicPr>
          <p:blipFill>
            <a:blip r:embed="rId3"/>
            <a:srcRect l="0" t="0" r="0" b="15974"/>
            <a:stretch/>
          </p:blipFill>
          <p:spPr>
            <a:xfrm>
              <a:off x="7308720" y="5923080"/>
              <a:ext cx="183528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223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7AA-2E2A-417B-8B1E-25A70CDCA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lobina@gre.ac.uk" TargetMode="External"/><Relationship Id="rId2" Type="http://schemas.openxmlformats.org/officeDocument/2006/relationships/hyperlink" Target="http://www.psiru.org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Encuentro EUROsociAL</a:t>
            </a:r>
            <a:br>
              <a:rPr sz="1800"/>
            </a:br>
            <a:r>
              <a:rPr b="1" lang="es-ES_tradnl" sz="1800" spc="-1" strike="noStrike">
                <a:solidFill>
                  <a:srgbClr val="494540"/>
                </a:solidFill>
                <a:latin typeface="Arial"/>
              </a:rPr>
              <a:t>Lima, Perú, 22 de noviembre 2011</a:t>
            </a:r>
            <a:r>
              <a:rPr b="0" lang="es-ES_tradnl" sz="1800" spc="-1" strike="noStrike">
                <a:solidFill>
                  <a:srgbClr val="49454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40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Transparencia, </a:t>
            </a:r>
            <a:br>
              <a:rPr sz="4400"/>
            </a:br>
            <a:r>
              <a:rPr b="1" lang="es-ES_tradnl" sz="4400" spc="-1" strike="noStrike">
                <a:solidFill>
                  <a:srgbClr val="494540"/>
                </a:solidFill>
                <a:latin typeface="Arial"/>
              </a:rPr>
              <a:t>lucha contra la corrupción y mecanismos de gestión</a:t>
            </a:r>
            <a:br>
              <a:rPr sz="1800"/>
            </a:b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manuele Lob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lobina@gre.ac.u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ervices International Research Unit (PSIRU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siness School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University of Greenwich, U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psiru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rrupción privada y impacto de largo plazo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stituciones de derecho interior e internacional que apoyan la participación del sector privado protegen los frutos de la corrupción como si fueran lucro legitim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dicción entre derecho público y derecho privado/comer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Grenoble (11 años); Tanzania (IAC); Indonesia (AMGI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Impacto en escala de la corrupción privad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riados sectores en el Norte y Sur (Flyvberg et al., 2003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xpansión del papel del sector privado produce más oportunidades de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nco Mundial: multinacionales con sede al extranjero tienen muchas más probabilidades de corromper que otras empre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 y participación ciudadana como lucha preventiva contra la corrupción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eso a informaciones; participación en la toma de decisiones; acceso a la justicia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hay el equivalente de la convención de Aahrus para la cohesión soc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e jurídica débil de las obligaciones a la transparencia y participación ciudadana en el sector del agua en la Unión Europ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Resistencia del sector privado a la transparencia y participación ciudadan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objetivo de maximización del lucro esta en conflicto con la participación ciudadan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secreto comercial esta en conflicto con la  transpa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Berlin; Budapest; Grenoble; Cochabamba; Fort Beau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395143"/>
                </a:solidFill>
                <a:latin typeface="Arial"/>
              </a:rPr>
              <a:t>Participación ciudadana bajo PPP en Grenoble</a:t>
            </a:r>
            <a:endParaRPr b="1" lang="en-US" sz="3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s representantes de los consumidores admit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 del Consejo de Administración (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, pero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votar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podían inform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ie sobre datos confidenciales obtenid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s reunion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Transparencia, participación ciudadana y gestión públic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sencia del objetivo de maximización del lucro permite formas avanzadas de transparencia y participación ciudadana, a veces como reacción a casos de corrupción privada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sos: Córdoba, España; Grenoble; Porto Aleg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tema de participación ciudadana los latinoamericanos tienen mucho a enseñar y no solo a apre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Participación ciudadana bajo la nueva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gestión municipal</a:t>
            </a:r>
            <a:r>
              <a:rPr b="1" lang="it-IT" sz="3200" spc="-1" strike="noStrike">
                <a:solidFill>
                  <a:srgbClr val="395143"/>
                </a:solidFill>
                <a:latin typeface="Arial"/>
              </a:rPr>
              <a:t> en Grenoble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nombrado po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yuntamiento: 8 miembros entre los elegidos, 4 miembros entre la ciudadaní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4 incluyen abogados, expertos y otros: un representante 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cin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el ex jefe de una organización de consumidor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uniones del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cada 3 meses, en priv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rección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reúne co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onsumidores cada 2 me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reada en 1961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BID, DMAE financia todas las inversiones y el mantenimiento a trav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de las tarifas. No se pueden extraer beneficios de la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ciclo urbano del agu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rco institucional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municipal, autonom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de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y operacional; la sociedad civil esta presente en el Consejo de Administraciones; presupuesto participa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Porto Alegre o </a:t>
            </a:r>
            <a:br>
              <a:rPr sz="3200"/>
            </a:br>
            <a:r>
              <a:rPr b="1" lang="es-ES" sz="3200" spc="-1" strike="noStrike">
                <a:solidFill>
                  <a:srgbClr val="395143"/>
                </a:solidFill>
                <a:latin typeface="Arial"/>
              </a:rPr>
              <a:t>como hacer democrática la gestión del agua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ndimiento: cobertura del servicio desde 1990 hasta 2001: del 95% al 99,5% (suministro); d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% al 84% (depur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), del 2% al 25% (tratamiento de aguas residuales); agua no contabilizadas (50% al 34%); gest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demanda; proceso de fijaci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de precios constante a lo largo del tiem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Coherencia entre mecanismos de gestión, lucha contra la corrupción y cohesión social</a:t>
            </a:r>
            <a:endParaRPr b="1" lang="en-US" sz="32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de evidencia empírica sobre la mayor eficiencia y eficacia del sector privado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operadoras más eficaces y eficientes y con mayor éxito social suelen ser públicas en el Norte como en el Su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gestión pública tiene un alcance más prometedor para el fortalecimiento de la transparencia, la participación ciudadana y la cohesión soci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Experiencia de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 PSIRU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poyo a reformas de políticas públicas y innovación instituc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hesión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ucha contra la corrup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parencia y gobernan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95143"/>
                </a:solidFill>
                <a:latin typeface="Arial"/>
              </a:rPr>
              <a:t>Conclusiones</a:t>
            </a:r>
            <a:endParaRPr b="1" lang="en-US" sz="40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nsparencia y participación ciudadana como formas de lucha preventivas contra la corrupció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herencia entre instituciones y objetivos de lucha contra la corrupció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forma del derecho público y comercial, interno e 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vorecer la gestión pública bajo transparencia y 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alarios decorosos para empleados públ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95143"/>
                </a:solidFill>
                <a:latin typeface="Arial"/>
              </a:rPr>
              <a:t>Porque el sector de agua y alcantarillado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abastecimiento de agua potable es un servicio esencial con un fuerte impacto sobre la cohesión soc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un monopolio natural con fuertes asimetrías informativ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todos los casos extremos ofrece lecciones valiosas que además están respaldadas por la experiencia de otros sect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Definiciones de corrupción</a:t>
            </a:r>
            <a:r>
              <a:rPr b="1" lang="en-GB" sz="3600" spc="-1" strike="noStrike">
                <a:solidFill>
                  <a:srgbClr val="39514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Banco Mundial (1997): “abuso de poder público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International (2010): “abuso de poder para el beneficio privado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orrupción es siempre ileg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95143"/>
                </a:solidFill>
                <a:latin typeface="Arial"/>
              </a:rPr>
              <a:t>Marco analítico</a:t>
            </a:r>
            <a:endParaRPr b="1" lang="en-US" sz="48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rruptores y corrupto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úblico – Sector públic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úblic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ctor privado – Sector privado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Integración del marco analítico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 posible integrar nuestro marco analítico introduciendo la sociedad civil en la ecuación de la corrupción, por ejemplo en el caso de usuarios que corrompen empleados públicos para obtener conexiones a la 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 es importante distinguir entre corrupción por hambre y corrupción por falta de ét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nivel salarial decoroso es un antídoto contra la “pequeña” corrupción de los empleados públicos (caso de Phnom Penh, Camboya)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Paradigmas de gestión</a:t>
            </a:r>
            <a:endParaRPr b="1" lang="en-US" sz="4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digmas definidos por la propiedad de las operadoras, sus objetivos y técnicas de gestió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ministración pública weberiana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riva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mercanti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stión pública flexibl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Corrupción y paradigmas de gest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illiamson (1999): no hay modelos perfectos entonces falta identificar los modelos menos imperfectos y más flexi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modelos no son aislados, sino que son apoyados por instituciones que influyen en su funcionamiento y también en la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riterio de juicio de los modelos de gestión y de las respectivas instituciones es su coherencia con objetivos de lucha contra la corrup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95143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95143"/>
                </a:solidFill>
                <a:latin typeface="Arial"/>
              </a:rPr>
              <a:t>Gestión privada y corrupción</a:t>
            </a:r>
            <a:endParaRPr b="1" lang="en-US" sz="36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bajo concesión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noble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Réunion, Milan, Tangará da Ser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carteles: Milan, India (Davis, 2004), (Île de France, construcció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s relativos a fraude: Severn Trent en Inglaterra, Lat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el Norte y al Sur la justicia penal se hace siempre más parte importante de la regulación de la gestión privada bajo diferentes model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06:35Z</dcterms:created>
  <dc:creator>Bruce Cronin</dc:creator>
  <dc:description/>
  <dc:language>en-US</dc:language>
  <cp:lastModifiedBy>Maria Eugenia Cebrian</cp:lastModifiedBy>
  <dcterms:modified xsi:type="dcterms:W3CDTF">2011-11-23T09:46:15Z</dcterms:modified>
  <cp:revision>321</cp:revision>
  <dc:subject/>
  <dc:title>The Influence of Directorate Interlocks on NZ Overseas Direct Investment</dc:title>
</cp:coreProperties>
</file>