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5.jpeg" ContentType="image/jpeg"/>
  <Override PartName="/ppt/media/image3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72288" cy="9129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6872400" cy="912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8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dt" idx="22"/>
          </p:nvPr>
        </p:nvSpPr>
        <p:spPr>
          <a:xfrm>
            <a:off x="3893760" y="0"/>
            <a:ext cx="2978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Img"/>
          </p:nvPr>
        </p:nvSpPr>
        <p:spPr>
          <a:xfrm>
            <a:off x="1155600" y="684000"/>
            <a:ext cx="456264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body"/>
          </p:nvPr>
        </p:nvSpPr>
        <p:spPr>
          <a:xfrm>
            <a:off x="687240" y="4335480"/>
            <a:ext cx="549936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ftr" idx="23"/>
          </p:nvPr>
        </p:nvSpPr>
        <p:spPr>
          <a:xfrm>
            <a:off x="-360" y="8670600"/>
            <a:ext cx="2978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 type="sldNum" idx="24"/>
          </p:nvPr>
        </p:nvSpPr>
        <p:spPr>
          <a:xfrm>
            <a:off x="3893760" y="8670600"/>
            <a:ext cx="2978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46B6-D5A7-4C87-9BCE-487B285BDE0D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5600" y="68436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7240" y="4335480"/>
            <a:ext cx="54993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3894120" y="8670960"/>
            <a:ext cx="2978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6D58-EF62-496C-ABA8-98FE723D21C2}" type="slidenum">
              <a:rPr b="0" lang="es-A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55600" y="68436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7240" y="4335480"/>
            <a:ext cx="54993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3894120" y="8670960"/>
            <a:ext cx="2978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7355-E63F-466E-9755-9F4FF75489CF}" type="slidenum">
              <a:rPr b="0" lang="es-A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6569-59E3-4DB4-BCC6-0857D48B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0FB3-8A4E-4C5E-AFE2-ECA67755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2797-DEF9-4217-B674-138C316C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D639-21F0-46B7-8418-1402B6A6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83FC-1BF6-453C-B833-9F815863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795F-5608-4D7C-8229-453DF318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FA28-B5B8-4B78-81E8-55BB33E0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A30C-D402-404A-910D-5A2B4C1C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4DB9-145B-4F8D-91DA-DCCA7833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1E01-F43B-4DA6-BE4E-2120D4E4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9E92-19DC-4DA2-B605-594F842E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5113-296E-47EA-9FF7-692CC6DF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028C-C7C7-4E62-8F3E-D38F3532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57AD-29EA-4E25-B07C-6F63A440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F959-FAC1-4A25-A8B9-C96898FA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6BB4-5A87-4040-AE60-E9C502EB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201E-E5AC-4A7B-AED7-7082E160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ECA3A-E07C-4DB6-8626-6651E0567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60342-616F-4B2A-A2B5-22F115FE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66A50-A757-4EAF-B820-91235C92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89E5B-706B-4BA1-A7F4-A32BD598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BC8AB-5FDC-4B3B-8793-41A9F6BC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051F-55F0-47EC-97E4-5BF93DF1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6C922-F5AD-4F6C-99AF-AD931327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16CDB-DFD9-4888-9C77-46974199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67882-F991-4B9C-BBC1-5AE38872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F6FFB-56D2-4654-BB9A-612E179A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647A1-9B1D-4F39-9773-C947CF4D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1C8A8-ADCC-4C7F-BF33-43D8BB8A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9B410-EBB7-4D2A-A2F4-7ACD93A8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6BEB4-DA0C-4305-B69F-3B37E023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A46A2-09EA-48DE-B22F-51AA89D5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2AB5C-769A-4533-9187-03625D5D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3C9E-EE6D-4EC2-B26A-82CDC74C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80CC1-B095-4B3A-9339-EABFF5C3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E314A-40A8-4933-83E4-EDBE4223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7C01F-D004-4BBE-827A-05263AEB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442C1-0231-4F77-B791-2C20761E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2DBF4-5D91-46A3-9918-A3F0112F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C267E-D65C-4436-845F-6C3320AC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A953B-11EF-47C4-AD8D-7EEF7FB5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44A39-9A5E-466F-B922-3FFBF49A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B04DC-D560-4C93-9893-3D0E4C5A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F4847-6A4E-4C90-AC01-74F10A2B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7846-130F-4D4E-846E-B58CCB18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E59DC-E3E1-4FDE-9BC0-A8F1858C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3FC6D-D19E-43D1-82DC-83A1C7AB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47CF2-CD9A-4AE8-9CEA-A2034B00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4E4C3-5373-4EFE-A575-B48031F0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6648C-2F5D-4DDC-9AA6-68C05530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BA644-1B52-4807-BC75-045D629A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772EC-0503-45F9-953D-89C3EF2B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526D2-2FC8-4023-8EFC-034A5937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D69C5-15AB-47C2-8D80-345F0B3D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1DDB0-81E5-4774-ACAD-3FAF427F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A231-B94B-4990-BD37-46BD09EA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8BDD9-FBD6-418A-9FC5-10694C7C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1E2F9-8C31-4CAF-B480-98111C523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78BE6-6DB0-4F57-AC43-8C741939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0DD07-7A7C-44C7-BEF9-E64A1387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3880B-44E7-4AF8-9341-6A9530D8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248C4-FEE3-4DE5-ABD5-59DBB33F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70D4A-259B-4D74-A0B0-16A3AAD5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146CF-7C8D-48F8-95DE-2BFC4B20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FE5B8-B3CC-479A-BBDC-A6BD5130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CFA17-4907-4530-9D87-C0B8520D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92D8-4EA8-43CD-B928-D7859CB3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ADE71-DED9-406D-89F5-975AFF23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86724-F60B-4384-A538-86C61A08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4FCA5-D393-4D59-9F1C-1CE7A844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78009-164B-4DE8-AE21-211C89B0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45C7C-10BF-47FF-AA10-F9AC34E4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7D93C-D3D6-48F2-82E6-2D165E82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AF7DA-D14C-4017-B67E-F5BBA008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0EDE1-6E3E-4649-A2A4-EF39F426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DD216-910A-400A-8581-764C6248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1B69A-9BB4-47F2-A93E-BBBC4B06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42D2-7591-427F-B18F-6B91EC0D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A9442-CE44-42AD-8902-06AC00A5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5A44B-FA13-4632-94BF-0F71CC0B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D6A2D-D99B-4D80-A5F8-2136027B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D4880-EA1E-41C5-ACB1-8B45CF73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EB5DA-FB2E-4731-B43F-C168552C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8D64-1C3F-406A-A2D2-7B558954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8E1C-55AA-4C63-A3DF-CA2518A8954E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E751-BDE1-4D75-98AA-480F732601FD}" type="slidenum">
              <a:rPr b="0" lang="es-A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69BA-47B5-48F8-AD04-5F7AAA0903B6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12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14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FFCA-A7C5-4C41-BDC3-67D1DCCC3304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DD69-1EB1-414B-ADD0-727F206DBC51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E547-6852-4909-B2F0-FB69B3BA7E74}" type="slidenum">
              <a:rPr b="0" lang="es-AR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E65B-15DB-45D9-A608-60B13001BA27}" type="slidenum">
              <a:rPr b="0" lang="es-AR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hyperlink" Target="http://www.jus.gob.ar/" TargetMode="External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jus.gob.ar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2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8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hyperlink" Target="http://www.jus.gob.ar/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image" Target="../media/image31.png"/><Relationship Id="rId13" Type="http://schemas.openxmlformats.org/officeDocument/2006/relationships/image" Target="../media/image31.png"/><Relationship Id="rId14" Type="http://schemas.openxmlformats.org/officeDocument/2006/relationships/image" Target="../media/image7.jpe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0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2.png"/><Relationship Id="rId13" Type="http://schemas.openxmlformats.org/officeDocument/2006/relationships/image" Target="../media/image7.jpe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hyperlink" Target="http://www.jus.gob.ar/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png"/><Relationship Id="rId3" Type="http://schemas.openxmlformats.org/officeDocument/2006/relationships/hyperlink" Target="http://www.jus.gob.ar/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jus.gob.ar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hyperlink" Target="http://www.jus.gob.ar/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jus.gob.ar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jus.gob.ar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jus.gob.ar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321" name="Rectangle 2"/>
          <p:cNvSpPr/>
          <p:nvPr/>
        </p:nvSpPr>
        <p:spPr>
          <a:xfrm>
            <a:off x="0" y="5616720"/>
            <a:ext cx="9144000" cy="1241280"/>
          </a:xfrm>
          <a:prstGeom prst="rect">
            <a:avLst/>
          </a:prstGeom>
          <a:solidFill>
            <a:srgbClr val="ff388c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2" name="Picture 3" descr=""/>
          <p:cNvPicPr/>
          <p:nvPr/>
        </p:nvPicPr>
        <p:blipFill>
          <a:blip r:embed="rId2"/>
          <a:stretch/>
        </p:blipFill>
        <p:spPr>
          <a:xfrm>
            <a:off x="201600" y="5729400"/>
            <a:ext cx="8582040" cy="984240"/>
          </a:xfrm>
          <a:prstGeom prst="rect">
            <a:avLst/>
          </a:prstGeom>
          <a:ln w="0">
            <a:noFill/>
          </a:ln>
        </p:spPr>
      </p:pic>
      <p:sp>
        <p:nvSpPr>
          <p:cNvPr id="323" name="Line 4"/>
          <p:cNvSpPr/>
          <p:nvPr/>
        </p:nvSpPr>
        <p:spPr>
          <a:xfrm flipV="1">
            <a:off x="0" y="5624640"/>
            <a:ext cx="9144000" cy="144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4" name="Rectangle 5" descr=""/>
          <p:cNvPicPr/>
          <p:nvPr/>
        </p:nvPicPr>
        <p:blipFill>
          <a:blip r:embed="rId3"/>
          <a:stretch/>
        </p:blipFill>
        <p:spPr>
          <a:xfrm>
            <a:off x="12600" y="731880"/>
            <a:ext cx="9107640" cy="1004760"/>
          </a:xfrm>
          <a:prstGeom prst="rect">
            <a:avLst/>
          </a:prstGeom>
          <a:ln w="0">
            <a:noFill/>
          </a:ln>
        </p:spPr>
      </p:pic>
      <p:pic>
        <p:nvPicPr>
          <p:cNvPr id="325" name="1 Título" descr=""/>
          <p:cNvPicPr/>
          <p:nvPr/>
        </p:nvPicPr>
        <p:blipFill>
          <a:blip r:embed="rId4"/>
          <a:stretch/>
        </p:blipFill>
        <p:spPr>
          <a:xfrm>
            <a:off x="2925720" y="2603520"/>
            <a:ext cx="3475080" cy="12002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ttp://3.bp.blogspot.com/_Zi-4m-ofhJ0/TBZPPVcNOwI/AAAAAAAAAak/8SlSVeagU2w/s1600/redes.jpg"/>
          <p:cNvPicPr/>
          <p:nvPr/>
        </p:nvPicPr>
        <p:blipFill>
          <a:blip r:embed="rId5"/>
          <a:stretch/>
        </p:blipFill>
        <p:spPr>
          <a:xfrm>
            <a:off x="96840" y="2619360"/>
            <a:ext cx="2778120" cy="1728720"/>
          </a:xfrm>
          <a:prstGeom prst="rect">
            <a:avLst/>
          </a:prstGeom>
          <a:ln w="0">
            <a:noFill/>
          </a:ln>
        </p:spPr>
      </p:pic>
      <p:pic>
        <p:nvPicPr>
          <p:cNvPr id="327" name="6 Imagen" descr="Logo del Ministerio de Justicia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85760" y="98280"/>
            <a:ext cx="2228760" cy="613080"/>
          </a:xfrm>
          <a:prstGeom prst="rect">
            <a:avLst/>
          </a:prstGeom>
          <a:ln w="0">
            <a:noFill/>
          </a:ln>
        </p:spPr>
      </p:pic>
      <p:pic>
        <p:nvPicPr>
          <p:cNvPr id="328" name="7 Imagen" descr="logo_dnmymprc_x_180.jpg"/>
          <p:cNvPicPr/>
          <p:nvPr/>
        </p:nvPicPr>
        <p:blipFill>
          <a:blip r:embed="rId8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http://www.cyldigital.es/sites/default/files/group/logojornada.png"/>
          <p:cNvPicPr/>
          <p:nvPr/>
        </p:nvPicPr>
        <p:blipFill>
          <a:blip r:embed="rId9"/>
          <a:stretch/>
        </p:blipFill>
        <p:spPr>
          <a:xfrm>
            <a:off x="5560920" y="2997360"/>
            <a:ext cx="358308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1 Título" descr=""/>
          <p:cNvPicPr/>
          <p:nvPr/>
        </p:nvPicPr>
        <p:blipFill>
          <a:blip r:embed="rId1"/>
          <a:stretch/>
        </p:blipFill>
        <p:spPr>
          <a:xfrm>
            <a:off x="396720" y="549360"/>
            <a:ext cx="8229600" cy="14018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68360" y="1989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Century Gothic"/>
              </a:rPr>
              <a:t>Consolidar un espacio de intercambio para la promoción y desarrollo de la mediación comunitaria en la Argentina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5" name="6 Imagen" descr="Logo del Ministerio de Justic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76" name="7 Imagen" descr="logo_dnmymprc_x_180.jpg"/>
          <p:cNvPicPr/>
          <p:nvPr/>
        </p:nvPicPr>
        <p:blipFill>
          <a:blip r:embed="rId4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5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1 Título" descr=""/>
          <p:cNvPicPr/>
          <p:nvPr/>
        </p:nvPicPr>
        <p:blipFill>
          <a:blip r:embed="rId1"/>
          <a:stretch/>
        </p:blipFill>
        <p:spPr>
          <a:xfrm>
            <a:off x="249120" y="549360"/>
            <a:ext cx="8229600" cy="14018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324000" y="1916280"/>
            <a:ext cx="8362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Intercambiar experiencias para el crecimiento individual y colectivo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Ampliar los límites físicos, sociales y subjetivos de la producción de conocimiento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Buscar soluciones a problemas comun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Sistematizar la información con fines estadísticos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0" name="6 Imagen" descr="Logo del Ministerio de Justicia"/>
          <p:cNvPicPr/>
          <p:nvPr/>
        </p:nvPicPr>
        <p:blipFill>
          <a:blip r:embed="rId2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81" name="7 Imagen" descr="logo_dnmymprc_x_180.jpg"/>
          <p:cNvPicPr/>
          <p:nvPr/>
        </p:nvPicPr>
        <p:blipFill>
          <a:blip r:embed="rId3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4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1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  <p:pic>
        <p:nvPicPr>
          <p:cNvPr id="384" name="1 Título" descr=""/>
          <p:cNvPicPr/>
          <p:nvPr/>
        </p:nvPicPr>
        <p:blipFill>
          <a:blip r:embed="rId2"/>
          <a:stretch/>
        </p:blipFill>
        <p:spPr>
          <a:xfrm>
            <a:off x="469800" y="476280"/>
            <a:ext cx="8229600" cy="14018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395280" y="1989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Según Lederach la red de relaciones interpersonales que se establece en una sociedad es fundamental para sostener los cambios sociales constructivos y generativo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Como la araña, se trata de cuidar y proteger el espacio, manteniendo vivas las relaciones entre las diversas personas/institucion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6" name="6 Imagen" descr="Logo del Ministerio de Justicia"/>
          <p:cNvPicPr/>
          <p:nvPr/>
        </p:nvPicPr>
        <p:blipFill>
          <a:blip r:embed="rId3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87" name="7 Imagen" descr="logo_dnmymprc_x_180.jpg"/>
          <p:cNvPicPr/>
          <p:nvPr/>
        </p:nvPicPr>
        <p:blipFill>
          <a:blip r:embed="rId4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95280" y="1557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AR" sz="4400" spc="-1" strike="noStrike">
                <a:solidFill>
                  <a:srgbClr val="ffffff"/>
                </a:solidFill>
                <a:latin typeface="Century Gothic"/>
              </a:rPr>
              <a:t>Cada uno alumbra su red al recorrerla y es fecundado por ella en su caminar”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Elina Daba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9" name="6 Imagen" descr="Logo del Ministerio de Justicia"/>
          <p:cNvPicPr/>
          <p:nvPr/>
        </p:nvPicPr>
        <p:blipFill>
          <a:blip r:embed="rId1"/>
          <a:stretch/>
        </p:blipFill>
        <p:spPr>
          <a:xfrm>
            <a:off x="611280" y="9216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90" name="7 Imagen" descr="logo_dnmymprc_x_180.jpg"/>
          <p:cNvPicPr/>
          <p:nvPr/>
        </p:nvPicPr>
        <p:blipFill>
          <a:blip r:embed="rId2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3"/>
          <a:stretch/>
        </p:blipFill>
        <p:spPr>
          <a:xfrm>
            <a:off x="0" y="6165720"/>
            <a:ext cx="91440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1 Título" descr=""/>
          <p:cNvPicPr/>
          <p:nvPr/>
        </p:nvPicPr>
        <p:blipFill>
          <a:blip r:embed="rId1"/>
          <a:stretch/>
        </p:blipFill>
        <p:spPr>
          <a:xfrm>
            <a:off x="755640" y="835200"/>
            <a:ext cx="8229600" cy="18111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684360" y="2781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Qué podría cada nodo aportar a la Red?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Qué podría aportar al instrumento de recolección de dato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4" name="6 Imagen" descr="Logo del Ministerio de Justicia"/>
          <p:cNvPicPr/>
          <p:nvPr/>
        </p:nvPicPr>
        <p:blipFill>
          <a:blip r:embed="rId2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95" name="7 Imagen" descr="logo_dnmymprc_x_180.jpg"/>
          <p:cNvPicPr/>
          <p:nvPr/>
        </p:nvPicPr>
        <p:blipFill>
          <a:blip r:embed="rId3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4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1 Título" descr=""/>
          <p:cNvPicPr/>
          <p:nvPr/>
        </p:nvPicPr>
        <p:blipFill>
          <a:blip r:embed="rId1"/>
          <a:stretch/>
        </p:blipFill>
        <p:spPr>
          <a:xfrm>
            <a:off x="542880" y="762120"/>
            <a:ext cx="8229600" cy="14014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39528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4000" spc="-1" strike="noStrike">
                <a:solidFill>
                  <a:srgbClr val="ffffff"/>
                </a:solidFill>
                <a:latin typeface="Century Gothic"/>
              </a:rPr>
              <a:t>Enumeren características que consideran “buenas prácticas” en mediación comunitaria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9" name="6 Imagen" descr="Logo del Ministerio de Justicia"/>
          <p:cNvPicPr/>
          <p:nvPr/>
        </p:nvPicPr>
        <p:blipFill>
          <a:blip r:embed="rId2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400" name="7 Imagen" descr="logo_dnmymprc_x_180.jpg"/>
          <p:cNvPicPr/>
          <p:nvPr/>
        </p:nvPicPr>
        <p:blipFill>
          <a:blip r:embed="rId3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4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95280" y="1773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Conjunto de principios, medidas, actuaciones y experiencias que, habiendo reportado ventajas de distinto tipo (económicas, sociales, de satisfacción, etc.) para la organización de forma constatada y probada, se puedan plantear como posibles referentes para acercar la mejora a otras organizaciones, para lo cual debe haber completado el ciclo de: planificación, implantación, revisión y mejora, lo que permite considerarla como sostenible y, además, debe estar vigente en el momento de la presentación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ffffff"/>
                </a:solidFill>
                <a:latin typeface="Century Gothic"/>
              </a:rPr>
              <a:t>Fuente: Cátedra Unesco/Unión Politécnica de Catalunya (redtelescopi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04" name="7 Imagen" descr="logo_dnmymprc_x_180.jpg"/>
          <p:cNvPicPr/>
          <p:nvPr/>
        </p:nvPicPr>
        <p:blipFill>
          <a:blip r:embed="rId2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405" name="6 Imagen" descr="Logo del Ministerio de Justicia"/>
          <p:cNvPicPr/>
          <p:nvPr/>
        </p:nvPicPr>
        <p:blipFill>
          <a:blip r:embed="rId3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4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1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  <p:pic>
        <p:nvPicPr>
          <p:cNvPr id="408" name="1 Título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229600" cy="10000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41264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Como ejemplo tomamos estos indicadores de Cruz Roja sobre buenas prácticas en la inclusión social, desarrollado en 2007, que incluye criterios para la detección y selección de Buenas Prácticas; seleccionando los que entendemos más aplicables a la mediación comunitaria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entury Gothic"/>
              </a:rPr>
              <a:t>Produce un </a:t>
            </a:r>
            <a:r>
              <a:rPr b="0" i="1" lang="es-AR" sz="1800" spc="-1" strike="noStrike">
                <a:solidFill>
                  <a:srgbClr val="ffffff"/>
                </a:solidFill>
                <a:latin typeface="Century Gothic"/>
              </a:rPr>
              <a:t>impacto social positivo, medible y prolongado en el tiempo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entury Gothic"/>
              </a:rPr>
              <a:t>Da lugar a la </a:t>
            </a:r>
            <a:r>
              <a:rPr b="0" i="1" lang="es-AR" sz="1800" spc="-1" strike="noStrike">
                <a:solidFill>
                  <a:srgbClr val="ffffff"/>
                </a:solidFill>
                <a:latin typeface="Century Gothic"/>
              </a:rPr>
              <a:t>participación de las propias personas afectada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entury Gothic"/>
              </a:rPr>
              <a:t>Promueve </a:t>
            </a:r>
            <a:r>
              <a:rPr b="0" i="1" lang="es-AR" sz="1800" spc="-1" strike="noStrike">
                <a:solidFill>
                  <a:srgbClr val="ffffff"/>
                </a:solidFill>
                <a:latin typeface="Century Gothic"/>
              </a:rPr>
              <a:t>habilidades y capacidades de los participant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entury Gothic"/>
              </a:rPr>
              <a:t>Fomenta la creación y el fortalecimiento de </a:t>
            </a:r>
            <a:r>
              <a:rPr b="0" i="1" lang="es-AR" sz="1800" spc="-1" strike="noStrike">
                <a:solidFill>
                  <a:srgbClr val="ffffff"/>
                </a:solidFill>
                <a:latin typeface="Century Gothic"/>
              </a:rPr>
              <a:t>vínculos comunitario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entury Gothic"/>
              </a:rPr>
              <a:t>Favorece la participación de </a:t>
            </a:r>
            <a:r>
              <a:rPr b="0" i="1" lang="es-AR" sz="1800" spc="-1" strike="noStrike">
                <a:solidFill>
                  <a:srgbClr val="ffffff"/>
                </a:solidFill>
                <a:latin typeface="Century Gothic"/>
              </a:rPr>
              <a:t>voluntarios en el proyecto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entury Gothic"/>
              </a:rPr>
              <a:t>Se tiene en cuenta la </a:t>
            </a:r>
            <a:r>
              <a:rPr b="0" i="1" lang="es-AR" sz="1800" spc="-1" strike="noStrike">
                <a:solidFill>
                  <a:srgbClr val="ffffff"/>
                </a:solidFill>
                <a:latin typeface="Century Gothic"/>
              </a:rPr>
              <a:t>perspectiva de género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10" name="6 Imagen" descr="Logo del Ministerio de Justicia"/>
          <p:cNvPicPr/>
          <p:nvPr/>
        </p:nvPicPr>
        <p:blipFill>
          <a:blip r:embed="rId3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411" name="7 Imagen" descr="logo_dnmymprc_x_180.jpg"/>
          <p:cNvPicPr/>
          <p:nvPr/>
        </p:nvPicPr>
        <p:blipFill>
          <a:blip r:embed="rId4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1 Título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ffffff"/>
                </a:solidFill>
                <a:latin typeface="Century Gothic"/>
              </a:rPr>
              <a:t>Da lugar al </a:t>
            </a:r>
            <a:r>
              <a:rPr b="0" i="1" lang="es-AR" sz="1900" spc="-1" strike="noStrike">
                <a:solidFill>
                  <a:srgbClr val="ffffff"/>
                </a:solidFill>
                <a:latin typeface="Century Gothic"/>
              </a:rPr>
              <a:t>cuestionamiento de enfoques tradicionales de intervención frente a la exclusión social </a:t>
            </a:r>
            <a:r>
              <a:rPr b="0" lang="es-AR" sz="1900" spc="-1" strike="noStrike">
                <a:solidFill>
                  <a:srgbClr val="ffffff"/>
                </a:solidFill>
                <a:latin typeface="Century Gothic"/>
              </a:rPr>
              <a:t>y las salidas posible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ffffff"/>
                </a:solidFill>
                <a:latin typeface="Century Gothic"/>
              </a:rPr>
              <a:t>Estimula la </a:t>
            </a:r>
            <a:r>
              <a:rPr b="0" i="1" lang="es-AR" sz="1900" spc="-1" strike="noStrike">
                <a:solidFill>
                  <a:srgbClr val="ffffff"/>
                </a:solidFill>
                <a:latin typeface="Century Gothic"/>
              </a:rPr>
              <a:t>Innovación y Optimización en el aprovechamiento de los recurso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ffffff"/>
                </a:solidFill>
                <a:latin typeface="Century Gothic"/>
              </a:rPr>
              <a:t>Hace primar los </a:t>
            </a:r>
            <a:r>
              <a:rPr b="0" i="1" lang="es-AR" sz="1900" spc="-1" strike="noStrike">
                <a:solidFill>
                  <a:srgbClr val="ffffff"/>
                </a:solidFill>
                <a:latin typeface="Century Gothic"/>
              </a:rPr>
              <a:t>objetivos cualitativos sobre los cuantitativo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ffffff"/>
                </a:solidFill>
                <a:latin typeface="Century Gothic"/>
              </a:rPr>
              <a:t>Diseña </a:t>
            </a:r>
            <a:r>
              <a:rPr b="0" i="1" lang="es-AR" sz="1900" spc="-1" strike="noStrike">
                <a:solidFill>
                  <a:srgbClr val="ffffff"/>
                </a:solidFill>
                <a:latin typeface="Century Gothic"/>
              </a:rPr>
              <a:t>respuestas específicas para necesidades particulare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ffffff"/>
                </a:solidFill>
                <a:latin typeface="Century Gothic"/>
              </a:rPr>
              <a:t>Aprovecha </a:t>
            </a:r>
            <a:r>
              <a:rPr b="0" i="1" lang="es-AR" sz="1900" spc="-1" strike="noStrike">
                <a:solidFill>
                  <a:srgbClr val="ffffff"/>
                </a:solidFill>
                <a:latin typeface="Century Gothic"/>
              </a:rPr>
              <a:t>eficazmente los recursos existente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14" name="6 Imagen" descr="Logo del Ministerio de Justicia"/>
          <p:cNvPicPr/>
          <p:nvPr/>
        </p:nvPicPr>
        <p:blipFill>
          <a:blip r:embed="rId2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415" name="7 Imagen" descr="logo_dnmymprc_x_180.jpg"/>
          <p:cNvPicPr/>
          <p:nvPr/>
        </p:nvPicPr>
        <p:blipFill>
          <a:blip r:embed="rId3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4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1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  <p:pic>
        <p:nvPicPr>
          <p:cNvPr id="418" name="1 Título" descr=""/>
          <p:cNvPicPr/>
          <p:nvPr/>
        </p:nvPicPr>
        <p:blipFill>
          <a:blip r:embed="rId2"/>
          <a:stretch/>
        </p:blipFill>
        <p:spPr>
          <a:xfrm>
            <a:off x="457200" y="268200"/>
            <a:ext cx="8229600" cy="14320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Century Gothic"/>
              </a:rPr>
              <a:t>MEDIADORES Y OTRAS PERSONAS QUE PRESTAN EL SERVICIO: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Century Gothic"/>
              </a:rPr>
              <a:t>Selección de las personas que prestarán el servicio orientado a las necesidades y objetivos propuestos, con énfasis en: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Century Gothic"/>
              </a:rPr>
              <a:t>V</a:t>
            </a:r>
            <a:r>
              <a:rPr b="0" i="1" lang="es-AR" sz="1700" spc="-1" strike="noStrike">
                <a:solidFill>
                  <a:srgbClr val="ffffff"/>
                </a:solidFill>
                <a:latin typeface="Century Gothic"/>
              </a:rPr>
              <a:t>ocación social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700" spc="-1" strike="noStrike">
                <a:solidFill>
                  <a:srgbClr val="ffffff"/>
                </a:solidFill>
                <a:latin typeface="Century Gothic"/>
              </a:rPr>
              <a:t>Actitud y perfil requerido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700" spc="-1" strike="noStrike">
                <a:solidFill>
                  <a:srgbClr val="ffffff"/>
                </a:solidFill>
                <a:latin typeface="Century Gothic"/>
              </a:rPr>
              <a:t>Aptitud y capacidades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Century Gothic"/>
              </a:rPr>
              <a:t>Formación de calidad a los mediadores, teniendo en cuenta como fase importante del proceso de formación, la selección de las personas que se formarán como mediadore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Century Gothic"/>
              </a:rPr>
              <a:t>Establecimiento de un programa de formación continua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20" name="6 Imagen" descr="Logo del Ministerio de Justicia"/>
          <p:cNvPicPr/>
          <p:nvPr/>
        </p:nvPicPr>
        <p:blipFill>
          <a:blip r:embed="rId3"/>
          <a:stretch/>
        </p:blipFill>
        <p:spPr>
          <a:xfrm>
            <a:off x="324000" y="90360"/>
            <a:ext cx="2228760" cy="613080"/>
          </a:xfrm>
          <a:prstGeom prst="rect">
            <a:avLst/>
          </a:prstGeom>
          <a:ln w="0">
            <a:noFill/>
          </a:ln>
        </p:spPr>
      </p:pic>
      <p:pic>
        <p:nvPicPr>
          <p:cNvPr id="421" name="7 Imagen" descr="logo_dnmymprc_x_180.jpg"/>
          <p:cNvPicPr/>
          <p:nvPr/>
        </p:nvPicPr>
        <p:blipFill>
          <a:blip r:embed="rId4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1 Título" descr=""/>
          <p:cNvPicPr/>
          <p:nvPr/>
        </p:nvPicPr>
        <p:blipFill>
          <a:blip r:embed="rId1"/>
          <a:stretch/>
        </p:blipFill>
        <p:spPr>
          <a:xfrm>
            <a:off x="609480" y="549360"/>
            <a:ext cx="8229600" cy="1401840"/>
          </a:xfrm>
          <a:prstGeom prst="rect">
            <a:avLst/>
          </a:prstGeom>
          <a:ln w="0">
            <a:noFill/>
          </a:ln>
        </p:spPr>
      </p:pic>
      <p:sp>
        <p:nvSpPr>
          <p:cNvPr id="331" name="3 CuadroTexto"/>
          <p:cNvSpPr/>
          <p:nvPr/>
        </p:nvSpPr>
        <p:spPr>
          <a:xfrm>
            <a:off x="1332000" y="1557360"/>
            <a:ext cx="640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Century Gothic"/>
              </a:rPr>
              <a:t>Es una forma de pensar el mundo</a:t>
            </a: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Que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Somos parte de un todo que nos afecta del mismo modo que nosotros afectamos al todo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Las partes están interrelacionadas y son interdependientes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El todo es más que la suma de las part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2" name="7 Imagen" descr="logo_dnmymprc_x_180.jpg"/>
          <p:cNvPicPr/>
          <p:nvPr/>
        </p:nvPicPr>
        <p:blipFill>
          <a:blip r:embed="rId2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333" name="6 Imagen" descr="Logo del Ministerio de Justici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5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1 Título" descr=""/>
          <p:cNvPicPr/>
          <p:nvPr/>
        </p:nvPicPr>
        <p:blipFill>
          <a:blip r:embed="rId1"/>
          <a:stretch/>
        </p:blipFill>
        <p:spPr>
          <a:xfrm>
            <a:off x="469800" y="554040"/>
            <a:ext cx="8229600" cy="12510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PRESTACIÓN DEL SERVICIO DE MEDIACIÓN COMUNITARIA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Prestación del servicio en forma gratuit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Brindar información adecuada y en forma clara y sencilla, adaptada a las capacidades y necesidades de las personas que requieran el servicio acerca de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ffffff"/>
                </a:solidFill>
                <a:latin typeface="Century Gothic"/>
              </a:rPr>
              <a:t>- </a:t>
            </a:r>
            <a:r>
              <a:rPr b="0" i="1" lang="es-AR" sz="1800" spc="-1" strike="noStrike">
                <a:solidFill>
                  <a:srgbClr val="ffffff"/>
                </a:solidFill>
                <a:latin typeface="Century Gothic"/>
              </a:rPr>
              <a:t>servicios del centro de mediación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ffffff"/>
                </a:solidFill>
                <a:latin typeface="Century Gothic"/>
              </a:rPr>
              <a:t>- características del proceso y el rol del mediado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Prestar el servicio en tiempos necesarios y adecuados </a:t>
            </a:r>
            <a:r>
              <a:rPr b="0" lang="es-AR" sz="1600" spc="-1" strike="noStrike">
                <a:solidFill>
                  <a:srgbClr val="ffffff"/>
                </a:solidFill>
                <a:latin typeface="Century Gothic"/>
              </a:rPr>
              <a:t>(con definición de parámetros temporales y tiempos de espera)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Resguardo de la confidencialidad de los datos proporcionados por consultantes y participantes de una mediación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24" name="6 Imagen" descr="Logo del Ministerio de Justicia"/>
          <p:cNvPicPr/>
          <p:nvPr/>
        </p:nvPicPr>
        <p:blipFill>
          <a:blip r:embed="rId2"/>
          <a:stretch/>
        </p:blipFill>
        <p:spPr>
          <a:xfrm>
            <a:off x="25092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425" name="7 Imagen" descr="logo_dnmymprc_x_180.jpg"/>
          <p:cNvPicPr/>
          <p:nvPr/>
        </p:nvPicPr>
        <p:blipFill>
          <a:blip r:embed="rId3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4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1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  <p:pic>
        <p:nvPicPr>
          <p:cNvPr id="428" name="1 Título" descr=""/>
          <p:cNvPicPr/>
          <p:nvPr/>
        </p:nvPicPr>
        <p:blipFill>
          <a:blip r:embed="rId2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2500" spc="-1" strike="noStrike" u="sng">
                <a:solidFill>
                  <a:srgbClr val="ffffff"/>
                </a:solidFill>
                <a:uFillTx/>
                <a:latin typeface="Century Gothic"/>
              </a:rPr>
              <a:t>DATOS DEL CENTRO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UBICACIÓN: CALLE, LOCALIDAD, PROVINCI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DEPENDENCIA (administrativa / otra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CANTIDAD DE MEDIADOR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SERVICIOS QUE PREST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CANTIDAD DE SALAS DE MEDIACIÓ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CRITERIOS DE ADMISIÓN (sí / no / cuáles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PERFIL DE POBLACIÓN QUE ACCEDE AL SERVICI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ACCESO A INTERNET (sí / no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TIPO DE NOTIFICACION (personal / correo / nota / carta documento / teléfono, otras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DIFICULTADES CON LA ASISTENCIA (sí / no / cuáles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2019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entury Gothic"/>
              </a:rPr>
              <a:t>OBSERVACION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1 Título"/>
          <p:cNvSpPr/>
          <p:nvPr/>
        </p:nvSpPr>
        <p:spPr>
          <a:xfrm>
            <a:off x="2556000" y="115920"/>
            <a:ext cx="3887640" cy="158436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3300"/>
              </a:gs>
              <a:gs pos="100000">
                <a:srgbClr val="764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3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ff00"/>
                </a:solidFill>
                <a:latin typeface="Century Gothic"/>
                <a:ea typeface="Arial"/>
              </a:rPr>
              <a:t>RELEVAMIENTO DE DATOS PARA LA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ff00"/>
                </a:solidFill>
                <a:latin typeface="Century Gothic"/>
                <a:ea typeface="Arial"/>
              </a:rPr>
              <a:t>RED FEDERAL DE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ff00"/>
                </a:solidFill>
                <a:latin typeface="Century Gothic"/>
                <a:ea typeface="Arial"/>
              </a:rPr>
              <a:t>CENTROS DE MEDIACIÓN COMUNITARI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31" name="7 Imagen" descr="logo_dnmymprc_x_180.jpg"/>
          <p:cNvPicPr/>
          <p:nvPr/>
        </p:nvPicPr>
        <p:blipFill>
          <a:blip r:embed="rId14"/>
          <a:stretch/>
        </p:blipFill>
        <p:spPr>
          <a:xfrm>
            <a:off x="6875640" y="393840"/>
            <a:ext cx="1888920" cy="603000"/>
          </a:xfrm>
          <a:prstGeom prst="rect">
            <a:avLst/>
          </a:prstGeom>
          <a:ln w="0">
            <a:noFill/>
          </a:ln>
        </p:spPr>
      </p:pic>
      <p:pic>
        <p:nvPicPr>
          <p:cNvPr id="432" name="6 Imagen" descr="Logo del Ministerio de Justicia"/>
          <p:cNvPicPr/>
          <p:nvPr/>
        </p:nvPicPr>
        <p:blipFill>
          <a:blip r:embed="rId15"/>
          <a:stretch/>
        </p:blipFill>
        <p:spPr>
          <a:xfrm>
            <a:off x="237960" y="260280"/>
            <a:ext cx="222912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1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  <p:pic>
        <p:nvPicPr>
          <p:cNvPr id="434" name="1 Título" descr=""/>
          <p:cNvPicPr/>
          <p:nvPr/>
        </p:nvPicPr>
        <p:blipFill>
          <a:blip r:embed="rId2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Century Gothic"/>
              </a:rPr>
              <a:t>DATOS DE LAS MEDIACION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FICHA: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Verdana"/>
                <a:ea typeface="Verdan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3" marL="1657440" indent="-285840">
              <a:lnSpc>
                <a:spcPct val="80000"/>
              </a:lnSpc>
              <a:spcBef>
                <a:spcPts val="425"/>
              </a:spcBef>
              <a:buSzPct val="115238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CENTRO O INSTITUCIÓN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3" marL="1657440" indent="-285840">
              <a:lnSpc>
                <a:spcPct val="80000"/>
              </a:lnSpc>
              <a:spcBef>
                <a:spcPts val="425"/>
              </a:spcBef>
              <a:buSzPct val="115238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FECHA DE INICIO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3" marL="1657440" indent="-285840">
              <a:lnSpc>
                <a:spcPct val="80000"/>
              </a:lnSpc>
              <a:spcBef>
                <a:spcPts val="425"/>
              </a:spcBef>
              <a:buSzPct val="115238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FECHA DE FINALIZACIÓN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3" marL="1657440" indent="-285840">
              <a:lnSpc>
                <a:spcPct val="80000"/>
              </a:lnSpc>
              <a:spcBef>
                <a:spcPts val="425"/>
              </a:spcBef>
              <a:buSzPct val="115238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NÚMERO DE CASO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3" marL="1657440" indent="-285840">
              <a:lnSpc>
                <a:spcPct val="80000"/>
              </a:lnSpc>
              <a:spcBef>
                <a:spcPts val="425"/>
              </a:spcBef>
              <a:buSzPct val="115238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CANTIDAD  DE AUDIENCIAS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3" marL="1657440" indent="-285840">
              <a:lnSpc>
                <a:spcPct val="80000"/>
              </a:lnSpc>
              <a:spcBef>
                <a:spcPts val="425"/>
              </a:spcBef>
              <a:buSzPct val="115238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DERIVADO POR …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3" marL="1657440" indent="-285840">
              <a:lnSpc>
                <a:spcPct val="80000"/>
              </a:lnSpc>
              <a:spcBef>
                <a:spcPts val="425"/>
              </a:spcBef>
              <a:buSzPct val="115238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DERIVADO A …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3" marL="1657440" indent="-285840">
              <a:lnSpc>
                <a:spcPct val="80000"/>
              </a:lnSpc>
              <a:spcBef>
                <a:spcPts val="425"/>
              </a:spcBef>
              <a:buSzPct val="115238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ATENDIDO POR …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3" marL="1657440" indent="-285840">
              <a:lnSpc>
                <a:spcPct val="80000"/>
              </a:lnSpc>
              <a:spcBef>
                <a:spcPts val="425"/>
              </a:spcBef>
              <a:buSzPct val="115238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CARACTERÍSTICAS DE LAS PARTES (consultante, convocado): género, edad, nivel educativo, trabajo, otra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3" marL="1657440" indent="-285840">
              <a:lnSpc>
                <a:spcPct val="80000"/>
              </a:lnSpc>
              <a:spcBef>
                <a:spcPts val="425"/>
              </a:spcBef>
              <a:buSzPct val="115238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Verdana"/>
                <a:ea typeface="Verdana"/>
              </a:rPr>
              <a:t>LOCALIDAD EN LA QUE VIVEN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6" name="1 Título"/>
          <p:cNvSpPr/>
          <p:nvPr/>
        </p:nvSpPr>
        <p:spPr>
          <a:xfrm>
            <a:off x="2556000" y="115920"/>
            <a:ext cx="3887640" cy="158436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3300"/>
              </a:gs>
              <a:gs pos="100000">
                <a:srgbClr val="764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3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ff00"/>
                </a:solidFill>
                <a:latin typeface="Century Gothic"/>
                <a:ea typeface="Arial"/>
              </a:rPr>
              <a:t>RELEVAMIENTO DE DATOS PARA LA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ff00"/>
                </a:solidFill>
                <a:latin typeface="Century Gothic"/>
                <a:ea typeface="Arial"/>
              </a:rPr>
              <a:t>RED FEDERAL DE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ff00"/>
                </a:solidFill>
                <a:latin typeface="Century Gothic"/>
                <a:ea typeface="Arial"/>
              </a:rPr>
              <a:t>CENTROS DE MEDIACIÓN COMUNITARI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37" name="7 Imagen" descr="logo_dnmymprc_x_180.jpg"/>
          <p:cNvPicPr/>
          <p:nvPr/>
        </p:nvPicPr>
        <p:blipFill>
          <a:blip r:embed="rId13"/>
          <a:stretch/>
        </p:blipFill>
        <p:spPr>
          <a:xfrm>
            <a:off x="6804000" y="476280"/>
            <a:ext cx="1889280" cy="603360"/>
          </a:xfrm>
          <a:prstGeom prst="rect">
            <a:avLst/>
          </a:prstGeom>
          <a:ln w="0">
            <a:noFill/>
          </a:ln>
        </p:spPr>
      </p:pic>
      <p:pic>
        <p:nvPicPr>
          <p:cNvPr id="438" name="6 Imagen" descr="Logo del Ministerio de Justicia"/>
          <p:cNvPicPr/>
          <p:nvPr/>
        </p:nvPicPr>
        <p:blipFill>
          <a:blip r:embed="rId14"/>
          <a:stretch/>
        </p:blipFill>
        <p:spPr>
          <a:xfrm>
            <a:off x="250920" y="312840"/>
            <a:ext cx="222876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1 Título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 u="sng">
                <a:solidFill>
                  <a:srgbClr val="ffffff"/>
                </a:solidFill>
                <a:uFillTx/>
                <a:latin typeface="Century Gothic"/>
              </a:rPr>
              <a:t>DATOS DEL ACTA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Century Gothic"/>
              </a:rPr>
              <a:t>TEMA:</a:t>
            </a: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             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ruidos molestos, medianería, filtraciones, animales domésticos, convivencia,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            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cuestiones de familia, problemas municipales, servicios públicos, sucesiones,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            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cuestiones penales, comerciales, contractuales, laborales, otros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Century Gothic"/>
              </a:rPr>
              <a:t>RESULTADO: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                           </a:t>
            </a: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No se medió por ausencia de Requerido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                           </a:t>
            </a: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No se medió por ausencia de Requirente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                           </a:t>
            </a: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No se medió por ausencia de Requerido y Requirente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                           </a:t>
            </a: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Imposibilidad de notificar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                           </a:t>
            </a: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Se medió con acuerdo parcial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                           </a:t>
            </a: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Se medió con acuerdo total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                           </a:t>
            </a: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Se medió sin acuerdo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                            </a:t>
            </a: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Se medió y continúa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Century Gothic"/>
              </a:rPr>
              <a:t>TIPO DE NOTIFICACION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Century Gothic"/>
              </a:rPr>
              <a:t>REAPERTURA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Century Gothic"/>
              </a:rPr>
              <a:t>MEDIADOR    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1" name="1 Título"/>
          <p:cNvSpPr/>
          <p:nvPr/>
        </p:nvSpPr>
        <p:spPr>
          <a:xfrm>
            <a:off x="2556000" y="115920"/>
            <a:ext cx="3887640" cy="158436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3300"/>
              </a:gs>
              <a:gs pos="100000">
                <a:srgbClr val="764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3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ff00"/>
                </a:solidFill>
                <a:latin typeface="Century Gothic"/>
                <a:ea typeface="Arial"/>
              </a:rPr>
              <a:t>RELEVAMIENTO DE DATOS PARA LA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ff00"/>
                </a:solidFill>
                <a:latin typeface="Century Gothic"/>
                <a:ea typeface="Arial"/>
              </a:rPr>
              <a:t>RED FEDERAL DE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ff00"/>
                </a:solidFill>
                <a:latin typeface="Century Gothic"/>
                <a:ea typeface="Arial"/>
              </a:rPr>
              <a:t>CENTROS DE MEDIACIÓN COMUNITARI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42" name="7 Imagen" descr="logo_dnmymprc_x_180.jpg"/>
          <p:cNvPicPr/>
          <p:nvPr/>
        </p:nvPicPr>
        <p:blipFill>
          <a:blip r:embed="rId2"/>
          <a:stretch/>
        </p:blipFill>
        <p:spPr>
          <a:xfrm>
            <a:off x="6783480" y="37296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443" name="6 Imagen" descr="Logo del Ministerio de Justicia"/>
          <p:cNvPicPr/>
          <p:nvPr/>
        </p:nvPicPr>
        <p:blipFill>
          <a:blip r:embed="rId3"/>
          <a:stretch/>
        </p:blipFill>
        <p:spPr>
          <a:xfrm>
            <a:off x="108000" y="36360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4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7" descr="C:\Users\FATIMA FR\Desktop\BACK UP PEN EUROSOCIAL\MASC para ARG\VISIBILIDAD\Presentaciones\imagenes para PPT\cabecera-logo-eurosocial.jpg"/>
          <p:cNvPicPr/>
          <p:nvPr/>
        </p:nvPicPr>
        <p:blipFill>
          <a:blip r:embed="rId1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  <p:pic>
        <p:nvPicPr>
          <p:cNvPr id="336" name="1 Título" descr=""/>
          <p:cNvPicPr/>
          <p:nvPr/>
        </p:nvPicPr>
        <p:blipFill>
          <a:blip r:embed="rId2"/>
          <a:stretch/>
        </p:blipFill>
        <p:spPr>
          <a:xfrm>
            <a:off x="633240" y="658800"/>
            <a:ext cx="8229600" cy="14558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53640" y="1196640"/>
            <a:ext cx="800244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Conjunto organizado de elementos dinámicamente relacionados (interactúan entre sí), interdependientes,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que forman un todo complejo, identificable y distinto,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que busca alcanzar un objetiv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8" name="Picture 2" descr="C:\Users\mmarkus\Pictures\10042142-sistema-solar.jpg"/>
          <p:cNvPicPr/>
          <p:nvPr/>
        </p:nvPicPr>
        <p:blipFill>
          <a:blip r:embed="rId3"/>
          <a:stretch/>
        </p:blipFill>
        <p:spPr>
          <a:xfrm>
            <a:off x="2050920" y="4653000"/>
            <a:ext cx="3564000" cy="2593800"/>
          </a:xfrm>
          <a:prstGeom prst="rect">
            <a:avLst/>
          </a:prstGeom>
          <a:ln w="0">
            <a:noFill/>
          </a:ln>
        </p:spPr>
      </p:pic>
      <p:pic>
        <p:nvPicPr>
          <p:cNvPr id="339" name="6 Imagen" descr="Logo del Ministerio de Justici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40" name="7 Imagen" descr="logo_dnmymprc_x_180.jpg"/>
          <p:cNvPicPr/>
          <p:nvPr/>
        </p:nvPicPr>
        <p:blipFill>
          <a:blip r:embed="rId6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1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  <p:pic>
        <p:nvPicPr>
          <p:cNvPr id="342" name="1 Título" descr=""/>
          <p:cNvPicPr/>
          <p:nvPr/>
        </p:nvPicPr>
        <p:blipFill>
          <a:blip r:embed="rId2"/>
          <a:stretch/>
        </p:blipFill>
        <p:spPr>
          <a:xfrm>
            <a:off x="469800" y="549360"/>
            <a:ext cx="8229600" cy="14018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La red comienza cuando la araña salva un espacio dado creando puntos de anclaj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La segunda serie de hilos completa el armazón uniendo los puntos de anclaj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Por último van añadiendo espirales auxiliares, más resistentes, rellenando los espacios con hilos de captura concéntrico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4" name="6 Imagen" descr="Logo del Ministerio de Justici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45" name="7 Imagen" descr="logo_dnmymprc_x_180.jpg"/>
          <p:cNvPicPr/>
          <p:nvPr/>
        </p:nvPicPr>
        <p:blipFill>
          <a:blip r:embed="rId5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1 Título" descr=""/>
          <p:cNvPicPr/>
          <p:nvPr/>
        </p:nvPicPr>
        <p:blipFill>
          <a:blip r:embed="rId1"/>
          <a:stretch/>
        </p:blipFill>
        <p:spPr>
          <a:xfrm>
            <a:off x="542880" y="622440"/>
            <a:ext cx="8229600" cy="16761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392040" y="1989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La estructura de la telaraña combina conexiones interdependientes con independencia localizada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La fuerza se construye creando coordinación en el centro sin centralización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J. Paul Ledera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8" name="6 Imagen" descr="Logo del Ministerio de Justic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49" name="7 Imagen" descr="logo_dnmymprc_x_180.jpg"/>
          <p:cNvPicPr/>
          <p:nvPr/>
        </p:nvPicPr>
        <p:blipFill>
          <a:blip r:embed="rId4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5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7" descr="C:\Users\FATIMA FR\Desktop\BACK UP PEN EUROSOCIAL\MASC para ARG\VISIBILIDAD\Presentaciones\imagenes para PPT\cabecera-logo-eurosocial.jpg"/>
          <p:cNvPicPr/>
          <p:nvPr/>
        </p:nvPicPr>
        <p:blipFill>
          <a:blip r:embed="rId1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  <p:pic>
        <p:nvPicPr>
          <p:cNvPr id="352" name="1 Título" descr=""/>
          <p:cNvPicPr/>
          <p:nvPr/>
        </p:nvPicPr>
        <p:blipFill>
          <a:blip r:embed="rId2"/>
          <a:stretch/>
        </p:blipFill>
        <p:spPr>
          <a:xfrm>
            <a:off x="585720" y="476280"/>
            <a:ext cx="8229600" cy="14382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C:\Users\mmarkus\Pictures\nodos red.jpg"/>
          <p:cNvPicPr/>
          <p:nvPr/>
        </p:nvPicPr>
        <p:blipFill>
          <a:blip r:embed="rId3"/>
          <a:stretch/>
        </p:blipFill>
        <p:spPr>
          <a:xfrm>
            <a:off x="4211640" y="5151600"/>
            <a:ext cx="1833480" cy="15397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3240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Los NODOS: son los puntos o lugares de la Red (personas, grupos, instituciones) en los cuales confluyen de manera estable los lazos o hilos de la Red (recursos, relaciones, interacciones)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entury Gothic"/>
              </a:rPr>
              <a:t>Los NODOS contribuyen a la estabilidad y por lo tanto a la permanencia y seguridad de la Red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5" name="6 Imagen" descr="Logo del Ministerio de Justici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56" name="7 Imagen" descr="logo_dnmymprc_x_180.jpg"/>
          <p:cNvPicPr/>
          <p:nvPr/>
        </p:nvPicPr>
        <p:blipFill>
          <a:blip r:embed="rId6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314280" y="407880"/>
            <a:ext cx="8425080" cy="6183360"/>
          </a:xfrm>
          <a:prstGeom prst="rect">
            <a:avLst/>
          </a:prstGeom>
          <a:ln w="0">
            <a:noFill/>
          </a:ln>
        </p:spPr>
      </p:pic>
      <p:pic>
        <p:nvPicPr>
          <p:cNvPr id="360" name="6 Imagen" descr="Logo del Ministerio de Justic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61" name="7 Imagen" descr="logo_dnmymprc_x_180.jpg"/>
          <p:cNvPicPr/>
          <p:nvPr/>
        </p:nvPicPr>
        <p:blipFill>
          <a:blip r:embed="rId4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C:\Users\FATIMA FR\Desktop\BACK UP PEN EUROSOCIAL\MASC para ARG\VISIBILIDAD\Presentaciones\imagenes para PPT\cabecera-logo-eurosocial.jpg"/>
          <p:cNvPicPr/>
          <p:nvPr/>
        </p:nvPicPr>
        <p:blipFill>
          <a:blip r:embed="rId5"/>
          <a:stretch/>
        </p:blipFill>
        <p:spPr>
          <a:xfrm>
            <a:off x="0" y="6165720"/>
            <a:ext cx="91440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1 Título" descr=""/>
          <p:cNvPicPr/>
          <p:nvPr/>
        </p:nvPicPr>
        <p:blipFill>
          <a:blip r:embed="rId1"/>
          <a:stretch/>
        </p:blipFill>
        <p:spPr>
          <a:xfrm>
            <a:off x="542880" y="549360"/>
            <a:ext cx="8229600" cy="14018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Develar  vínculos, dinámicas, valores, normas, mitos, ritos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Identificar idearios compartidos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Identificar a los actores sociales principales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Hacer un inventario de todo tipo de recursos de los que pueda disponer la red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5" name="6 Imagen" descr="Logo del Ministerio de Justic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66" name="7 Imagen" descr="logo_dnmymprc_x_180.jpg"/>
          <p:cNvPicPr/>
          <p:nvPr/>
        </p:nvPicPr>
        <p:blipFill>
          <a:blip r:embed="rId4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5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1 Título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229600" cy="14014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395280" y="220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Establecimiento de objetivos y metas.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Generar estrategias de trabajo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Construir sistemas de informació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Establecer parámetros de medición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Generar procesos de conocimiento y reconocimiento mutuos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0" name="6 Imagen" descr="Logo del Ministerio de Justic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01520"/>
            <a:ext cx="2228760" cy="612720"/>
          </a:xfrm>
          <a:prstGeom prst="rect">
            <a:avLst/>
          </a:prstGeom>
          <a:ln w="0">
            <a:noFill/>
          </a:ln>
        </p:spPr>
      </p:pic>
      <p:pic>
        <p:nvPicPr>
          <p:cNvPr id="371" name="7 Imagen" descr="logo_dnmymprc_x_180.jpg"/>
          <p:cNvPicPr/>
          <p:nvPr/>
        </p:nvPicPr>
        <p:blipFill>
          <a:blip r:embed="rId4"/>
          <a:stretch/>
        </p:blipFill>
        <p:spPr>
          <a:xfrm>
            <a:off x="6732720" y="101520"/>
            <a:ext cx="1888920" cy="603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C:\Users\FATIMA FR\Desktop\BACK UP PEN EUROSOCIAL\MASC para ARG\VISIBILIDAD\Presentaciones\imagenes para PPT\cabecera-logo-eurosocial.jpg"/>
          <p:cNvPicPr/>
          <p:nvPr/>
        </p:nvPicPr>
        <p:blipFill>
          <a:blip r:embed="rId5"/>
          <a:stretch/>
        </p:blipFill>
        <p:spPr>
          <a:xfrm>
            <a:off x="0" y="611676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6:56:56Z</dcterms:created>
  <dc:creator>Miriam E Markus</dc:creator>
  <dc:description/>
  <dc:language>en-US</dc:language>
  <cp:lastModifiedBy>FATIMA FR</cp:lastModifiedBy>
  <cp:lastPrinted>2013-12-17T19:42:04Z</cp:lastPrinted>
  <dcterms:modified xsi:type="dcterms:W3CDTF">2015-01-30T16:32:26Z</dcterms:modified>
  <cp:revision>51</cp:revision>
  <dc:subject/>
  <dc:title>RED SOCIAL</dc:title>
</cp:coreProperties>
</file>