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5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72288" cy="9129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6872400" cy="912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22"/>
          </p:nvPr>
        </p:nvSpPr>
        <p:spPr>
          <a:xfrm>
            <a:off x="3893760" y="0"/>
            <a:ext cx="2978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Img"/>
          </p:nvPr>
        </p:nvSpPr>
        <p:spPr>
          <a:xfrm>
            <a:off x="1155600" y="684000"/>
            <a:ext cx="456264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687240" y="4335480"/>
            <a:ext cx="549936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3"/>
          </p:nvPr>
        </p:nvSpPr>
        <p:spPr>
          <a:xfrm>
            <a:off x="-360" y="8670600"/>
            <a:ext cx="2978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 type="sldNum" idx="24"/>
          </p:nvPr>
        </p:nvSpPr>
        <p:spPr>
          <a:xfrm>
            <a:off x="3893760" y="8670600"/>
            <a:ext cx="2978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9B8E-D358-42F1-9D93-7748024A983A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5600" y="68436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7240" y="4335480"/>
            <a:ext cx="54993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94120" y="8670960"/>
            <a:ext cx="2978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C8E6-2B7B-4466-99F5-EDD660AC0D7A}" type="slidenum">
              <a:rPr b="0" lang="es-A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5600" y="68436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7240" y="4335480"/>
            <a:ext cx="54993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94120" y="8670960"/>
            <a:ext cx="2978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362C-49AB-4C62-9545-EFE53BEBE937}" type="slidenum">
              <a:rPr b="0" lang="es-A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8EE-12E0-47FA-B7E3-F134629F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E43-5FAE-42C5-972A-F9CA90DF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0A7-4718-4BF9-B78B-5A4324FF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5D7-DDC8-4064-A11B-E6E7EF0B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CEF7-C77A-4A01-9C98-9926211C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35AB-1A2F-47B7-8E23-99F4CB72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DBC6-6A7F-4D83-80AA-C6AE09BB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2DAB-6A0B-46C7-A847-CDA940C0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415E-3303-4ED2-99BF-1E612A16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CBF9-24C7-42E2-9072-95D6961B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F76E-1C32-4246-A310-D22D1676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E39-BD47-488D-A22B-DCDD0F33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C4DF-5CEB-4195-9B1B-E8453673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5361-41B7-410A-9137-93837C4D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7F65-C081-4AE3-AED8-F88C0E24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710A-E632-4373-BB7B-3836E707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E779-C7B4-41AF-8AA4-24B30BE9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B46D-3394-44A6-9D96-FC3C71D6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4827-B48B-4C0A-9A97-03C9497B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477C-7B2E-4266-9D2A-98F43451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C494F-20EB-4E0F-BC76-7513C07D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B5986-D960-4E7A-A1D2-04FC81A5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342-308D-4E3F-B820-B3653C5D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E0568-9C06-470D-87F8-4E19CBEB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02100-232E-4EAA-8095-2CFB6163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B11C-1E2C-4CCB-9397-76CC1162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E7A15-379A-49B1-A160-435696BF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BE30F-487B-4082-92A1-1FFF3B4C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2F40F-A0C8-466B-B634-766D111C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EA0AC-F035-4D41-9FB7-D1B12532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10527-0C3C-4BFF-95B2-A8773B86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D17DF-C0BD-4727-BEC7-6C06962C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3704A-D6C7-4C18-B678-A655B27F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2B5-7380-4781-985E-E7C178E9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C0CA0-373D-4DC5-A7EE-978FDEC4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0CC1C-A122-4F71-9EC9-F7D1DA0C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4F4AF-982D-4D5E-8284-B9B70734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84581-FB22-48DD-A362-48FC2F6C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69943-AE68-4ED4-86E6-5E03AA72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652A7-6FF7-407C-BAAC-BAEE2F04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B4D7C-2638-4E52-8637-3C4A15B4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B1C11-E5F3-4BC1-BEDD-D1340464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AB7A4-DE73-4839-B034-681551C8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F37CF-A21A-49BB-A359-70A006B1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B959-71C6-406F-A35F-AB0EDECB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8BEEF-351E-4CAE-9708-9CB0D60E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B77D1-B23D-4B7D-9D1E-302DC9EB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1F560-E848-4286-AA6A-553D3451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28EFB-0999-4326-A4E1-868F8C11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A48A6-BC00-456C-B67E-66385188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169BA-40A4-4AC6-837B-12326547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1EB62-ADC0-44E4-AB71-CC7830E0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D4DB1-1376-4D88-BC4E-6F08E515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4E8BC-7A7F-4081-BB26-32C89FA0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00FD4-34EA-484C-8C63-04A85C59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02C-55F9-462D-82C3-AA214B2C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BB56A-BB76-43B8-81A3-73AC34B4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7E6CB-1C43-4244-AAA1-91DC24FD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3AFB4-DE20-492E-B545-73B250A6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3A5AF-267E-483E-B61D-0E52E9FF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14779-79C5-42AE-81C3-F4C1FF22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AD435-5091-49C5-B334-156E14F7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B84C6-11E9-47A8-A535-3707A2C7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68AA9-232B-490F-AF13-8178E9D5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842AC-491A-4E18-9413-D47BF418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68F62-5768-4491-A885-EB9B77FE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F41-BACD-49FE-8AB1-E6CA3392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CDB41-696E-413A-807B-F121D36C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5AF43-5127-4E7A-858F-A29BEC00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FC0F8-6414-4952-877A-E6E1D7E1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DEF62-A22D-4D0D-B630-7B8F495F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BE760-B9AA-452E-8AE7-4458FB2D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0FAA6-9765-4A09-9CA1-00DA427F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17A6A-D59B-478C-8B8E-4239CE00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A068D-AC84-4988-BE63-7CDA5EB2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97072-B439-4293-8D38-002A2747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A7964-0675-48BB-8BBA-C00927A8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BED-1E89-46E8-8F03-99AD6660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2A109-7528-4BE4-B5F6-4FD660F4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982E1-9FEF-4D94-9582-1B24184D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293B7-D7DC-424A-BA64-4C0A6C6A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3065B-6CDA-4093-B345-0E269176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3D738-6C4D-4F59-93C3-7080A20A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18A-AED6-4F5C-9A9A-F6CFBD90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C14F-2FFE-46BB-96C4-2D9ECEC1EA33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CD4D-CAFF-42D2-AD87-5F51D2849CC6}" type="slidenum">
              <a:rPr b="0" lang="es-A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FA67-7048-4051-8373-88C278592E6F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12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14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A8B3-A3B5-4B00-A87F-0FA53A36007B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6AB0-61D0-4DCE-954B-5A5DAAC47155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2F96-4C73-4C51-B480-9D2AA51A7662}" type="slidenum"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E3C1-FE98-485B-B305-ACECCE988B29}" type="slidenum"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hyperlink" Target="http://www.jus.gob.ar/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jus.gob.ar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hyperlink" Target="http://www.jus.gob.ar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1.png"/><Relationship Id="rId13" Type="http://schemas.openxmlformats.org/officeDocument/2006/relationships/image" Target="../media/image31.png"/><Relationship Id="rId14" Type="http://schemas.openxmlformats.org/officeDocument/2006/relationships/image" Target="../media/image7.jpe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7.jpe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hyperlink" Target="http://www.jus.gob.ar/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hyperlink" Target="http://www.jus.gob.ar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jus.gob.ar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hyperlink" Target="http://www.jus.gob.ar/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jus.gob.ar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jus.gob.ar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jus.gob.ar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321" name="Rectangle 2"/>
          <p:cNvSpPr/>
          <p:nvPr/>
        </p:nvSpPr>
        <p:spPr>
          <a:xfrm>
            <a:off x="0" y="5616720"/>
            <a:ext cx="9144000" cy="1241280"/>
          </a:xfrm>
          <a:prstGeom prst="rect">
            <a:avLst/>
          </a:prstGeom>
          <a:solidFill>
            <a:srgbClr val="ff388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2"/>
          <a:stretch/>
        </p:blipFill>
        <p:spPr>
          <a:xfrm>
            <a:off x="201600" y="5729400"/>
            <a:ext cx="8582040" cy="984240"/>
          </a:xfrm>
          <a:prstGeom prst="rect">
            <a:avLst/>
          </a:prstGeom>
          <a:ln w="0">
            <a:noFill/>
          </a:ln>
        </p:spPr>
      </p:pic>
      <p:sp>
        <p:nvSpPr>
          <p:cNvPr id="323" name="Line 4"/>
          <p:cNvSpPr/>
          <p:nvPr/>
        </p:nvSpPr>
        <p:spPr>
          <a:xfrm flipV="1">
            <a:off x="0" y="5624640"/>
            <a:ext cx="914400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Rectangle 5" descr=""/>
          <p:cNvPicPr/>
          <p:nvPr/>
        </p:nvPicPr>
        <p:blipFill>
          <a:blip r:embed="rId3"/>
          <a:stretch/>
        </p:blipFill>
        <p:spPr>
          <a:xfrm>
            <a:off x="12600" y="731880"/>
            <a:ext cx="9107640" cy="1004760"/>
          </a:xfrm>
          <a:prstGeom prst="rect">
            <a:avLst/>
          </a:prstGeom>
          <a:ln w="0">
            <a:noFill/>
          </a:ln>
        </p:spPr>
      </p:pic>
      <p:pic>
        <p:nvPicPr>
          <p:cNvPr id="325" name="1 Título" descr=""/>
          <p:cNvPicPr/>
          <p:nvPr/>
        </p:nvPicPr>
        <p:blipFill>
          <a:blip r:embed="rId4"/>
          <a:stretch/>
        </p:blipFill>
        <p:spPr>
          <a:xfrm>
            <a:off x="2925720" y="2603520"/>
            <a:ext cx="3475080" cy="12002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ttp://3.bp.blogspot.com/_Zi-4m-ofhJ0/TBZPPVcNOwI/AAAAAAAAAak/8SlSVeagU2w/s1600/redes.jpg"/>
          <p:cNvPicPr/>
          <p:nvPr/>
        </p:nvPicPr>
        <p:blipFill>
          <a:blip r:embed="rId5"/>
          <a:stretch/>
        </p:blipFill>
        <p:spPr>
          <a:xfrm>
            <a:off x="96840" y="2619360"/>
            <a:ext cx="2778120" cy="1728720"/>
          </a:xfrm>
          <a:prstGeom prst="rect">
            <a:avLst/>
          </a:prstGeom>
          <a:ln w="0">
            <a:noFill/>
          </a:ln>
        </p:spPr>
      </p:pic>
      <p:pic>
        <p:nvPicPr>
          <p:cNvPr id="327" name="6 Imagen" descr="Logo del Ministerio de Justici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85760" y="98280"/>
            <a:ext cx="2228760" cy="613080"/>
          </a:xfrm>
          <a:prstGeom prst="rect">
            <a:avLst/>
          </a:prstGeom>
          <a:ln w="0">
            <a:noFill/>
          </a:ln>
        </p:spPr>
      </p:pic>
      <p:pic>
        <p:nvPicPr>
          <p:cNvPr id="328" name="7 Imagen" descr="logo_dnmymprc_x_180.jpg"/>
          <p:cNvPicPr/>
          <p:nvPr/>
        </p:nvPicPr>
        <p:blipFill>
          <a:blip r:embed="rId8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://www.cyldigital.es/sites/default/files/group/logojornada.png"/>
          <p:cNvPicPr/>
          <p:nvPr/>
        </p:nvPicPr>
        <p:blipFill>
          <a:blip r:embed="rId9"/>
          <a:stretch/>
        </p:blipFill>
        <p:spPr>
          <a:xfrm>
            <a:off x="5560920" y="2997360"/>
            <a:ext cx="358308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396720" y="54936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68360" y="1989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entury Gothic"/>
              </a:rPr>
              <a:t>Consolidar un espacio de intercambio para la promoción y desarrollo de la mediación comunitaria en la Argentina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5" name="6 Imagen" descr="Logo del Ministerio de Justic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76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1 Título" descr=""/>
          <p:cNvPicPr/>
          <p:nvPr/>
        </p:nvPicPr>
        <p:blipFill>
          <a:blip r:embed="rId1"/>
          <a:stretch/>
        </p:blipFill>
        <p:spPr>
          <a:xfrm>
            <a:off x="249120" y="54936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324000" y="1916280"/>
            <a:ext cx="83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Intercambiar experiencias para el crecimiento individual y colectivo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Ampliar los límites físicos, sociales y subjetivos de la producción de conocimiento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Buscar soluciones a problemas comun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Sistematizar la información con fines estadístico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0" name="6 Imagen" descr="Logo del Ministerio de Justicia"/>
          <p:cNvPicPr/>
          <p:nvPr/>
        </p:nvPicPr>
        <p:blipFill>
          <a:blip r:embed="rId2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81" name="7 Imagen" descr="logo_dnmymprc_x_180.jpg"/>
          <p:cNvPicPr/>
          <p:nvPr/>
        </p:nvPicPr>
        <p:blipFill>
          <a:blip r:embed="rId3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384" name="1 Título" descr=""/>
          <p:cNvPicPr/>
          <p:nvPr/>
        </p:nvPicPr>
        <p:blipFill>
          <a:blip r:embed="rId2"/>
          <a:stretch/>
        </p:blipFill>
        <p:spPr>
          <a:xfrm>
            <a:off x="469800" y="47628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395280" y="1989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Según Lederach la red de relaciones interpersonales que se establece en una sociedad es fundamental para sostener los cambios sociales constructivos y generativo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Como la araña, se trata de cuidar y proteger el espacio, manteniendo vivas las relaciones entre las diversas personas/institucion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6" name="6 Imagen" descr="Logo del Ministerio de Justicia"/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87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528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AR" sz="4400" spc="-1" strike="noStrike">
                <a:solidFill>
                  <a:srgbClr val="ffffff"/>
                </a:solidFill>
                <a:latin typeface="Century Gothic"/>
              </a:rPr>
              <a:t>Cada uno alumbra su red al recorrerla y es fecundado por ella en su caminar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Elina Daba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9" name="6 Imagen" descr="Logo del Ministerio de Justicia"/>
          <p:cNvPicPr/>
          <p:nvPr/>
        </p:nvPicPr>
        <p:blipFill>
          <a:blip r:embed="rId1"/>
          <a:stretch/>
        </p:blipFill>
        <p:spPr>
          <a:xfrm>
            <a:off x="611280" y="9216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90" name="7 Imagen" descr="logo_dnmymprc_x_180.jpg"/>
          <p:cNvPicPr/>
          <p:nvPr/>
        </p:nvPicPr>
        <p:blipFill>
          <a:blip r:embed="rId2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1 Título" descr=""/>
          <p:cNvPicPr/>
          <p:nvPr/>
        </p:nvPicPr>
        <p:blipFill>
          <a:blip r:embed="rId1"/>
          <a:stretch/>
        </p:blipFill>
        <p:spPr>
          <a:xfrm>
            <a:off x="755640" y="835200"/>
            <a:ext cx="8229600" cy="18111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684360" y="2781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Qué podría cada nodo aportar a la Red?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Qué podría aportar al instrumento de recolección de dato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4" name="6 Imagen" descr="Logo del Ministerio de Justicia"/>
          <p:cNvPicPr/>
          <p:nvPr/>
        </p:nvPicPr>
        <p:blipFill>
          <a:blip r:embed="rId2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95" name="7 Imagen" descr="logo_dnmymprc_x_180.jpg"/>
          <p:cNvPicPr/>
          <p:nvPr/>
        </p:nvPicPr>
        <p:blipFill>
          <a:blip r:embed="rId3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1 Título" descr=""/>
          <p:cNvPicPr/>
          <p:nvPr/>
        </p:nvPicPr>
        <p:blipFill>
          <a:blip r:embed="rId1"/>
          <a:stretch/>
        </p:blipFill>
        <p:spPr>
          <a:xfrm>
            <a:off x="542880" y="762120"/>
            <a:ext cx="8229600" cy="14014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39528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4000" spc="-1" strike="noStrike">
                <a:solidFill>
                  <a:srgbClr val="ffffff"/>
                </a:solidFill>
                <a:latin typeface="Century Gothic"/>
              </a:rPr>
              <a:t>Enumeren características que consideran “buenas prácticas” en mediación comunitaria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9" name="6 Imagen" descr="Logo del Ministerio de Justicia"/>
          <p:cNvPicPr/>
          <p:nvPr/>
        </p:nvPicPr>
        <p:blipFill>
          <a:blip r:embed="rId2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00" name="7 Imagen" descr="logo_dnmymprc_x_180.jpg"/>
          <p:cNvPicPr/>
          <p:nvPr/>
        </p:nvPicPr>
        <p:blipFill>
          <a:blip r:embed="rId3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95280" y="1773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Conjunto de principios, medidas, actuaciones y experiencias que, habiendo reportado ventajas de distinto tipo (económicas, sociales, de satisfacción, etc.) para la organización de forma constatada y probada, se puedan plantear como posibles referentes para acercar la mejora a otras organizaciones, para lo cual debe haber completado el ciclo de: planificación, implantación, revisión y mejora, lo que permite considerarla como sostenible y, además, debe estar vigente en el momento de la presentación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ffffff"/>
                </a:solidFill>
                <a:latin typeface="Century Gothic"/>
              </a:rPr>
              <a:t>Fuente: Cátedra Unesco/Unión Politécnica de Catalunya (redtelescopi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4" name="7 Imagen" descr="logo_dnmymprc_x_180.jpg"/>
          <p:cNvPicPr/>
          <p:nvPr/>
        </p:nvPicPr>
        <p:blipFill>
          <a:blip r:embed="rId2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405" name="6 Imagen" descr="Logo del Ministerio de Justicia"/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408" name="1 Título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1000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1264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Como ejemplo tomamos estos indicadores de Cruz Roja sobre buenas prácticas en la inclusión social, desarrollado en 2007, que incluye criterios para la detección y selección de Buenas Prácticas; seleccionando los que entendemos más aplicables a la mediación comunitaria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Produce un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impacto social positivo, medible y prolongado en el tiempo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Da lugar a la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participación de las propias personas afectada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Promueve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habilidades y capacidades de los participant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Fomenta la creación y el fortalecimiento de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vínculos comunitario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Favorece la participación de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voluntarios en el proyecto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Se tiene en cuenta la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perspectiva de género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0" name="6 Imagen" descr="Logo del Ministerio de Justicia"/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11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Da lugar al </a:t>
            </a:r>
            <a:r>
              <a:rPr b="0" i="1" lang="es-AR" sz="1900" spc="-1" strike="noStrike">
                <a:solidFill>
                  <a:srgbClr val="ffffff"/>
                </a:solidFill>
                <a:latin typeface="Century Gothic"/>
              </a:rPr>
              <a:t>cuestionamiento de enfoques tradicionales de intervención frente a la exclusión social </a:t>
            </a: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y las salidas posible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Estimula la </a:t>
            </a:r>
            <a:r>
              <a:rPr b="0" i="1" lang="es-AR" sz="1900" spc="-1" strike="noStrike">
                <a:solidFill>
                  <a:srgbClr val="ffffff"/>
                </a:solidFill>
                <a:latin typeface="Century Gothic"/>
              </a:rPr>
              <a:t>Innovación y Optimización en el aprovechamiento de los recurso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Hace primar los </a:t>
            </a:r>
            <a:r>
              <a:rPr b="0" i="1" lang="es-AR" sz="1900" spc="-1" strike="noStrike">
                <a:solidFill>
                  <a:srgbClr val="ffffff"/>
                </a:solidFill>
                <a:latin typeface="Century Gothic"/>
              </a:rPr>
              <a:t>objetivos cualitativos sobre los cuantitativo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Diseña </a:t>
            </a:r>
            <a:r>
              <a:rPr b="0" i="1" lang="es-AR" sz="1900" spc="-1" strike="noStrike">
                <a:solidFill>
                  <a:srgbClr val="ffffff"/>
                </a:solidFill>
                <a:latin typeface="Century Gothic"/>
              </a:rPr>
              <a:t>respuestas específicas para necesidades particulare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Aprovecha </a:t>
            </a:r>
            <a:r>
              <a:rPr b="0" i="1" lang="es-AR" sz="1900" spc="-1" strike="noStrike">
                <a:solidFill>
                  <a:srgbClr val="ffffff"/>
                </a:solidFill>
                <a:latin typeface="Century Gothic"/>
              </a:rPr>
              <a:t>eficazmente los recursos existente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4" name="6 Imagen" descr="Logo del Ministerio de Justicia"/>
          <p:cNvPicPr/>
          <p:nvPr/>
        </p:nvPicPr>
        <p:blipFill>
          <a:blip r:embed="rId2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15" name="7 Imagen" descr="logo_dnmymprc_x_180.jpg"/>
          <p:cNvPicPr/>
          <p:nvPr/>
        </p:nvPicPr>
        <p:blipFill>
          <a:blip r:embed="rId3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418" name="1 Título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229600" cy="1432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Century Gothic"/>
              </a:rPr>
              <a:t>MEDIADORES Y OTRAS PERSONAS QUE PRESTAN EL SERVICIO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Century Gothic"/>
              </a:rPr>
              <a:t>Selección de las personas que prestarán el servicio orientado a las necesidades y objetivos propuestos, con énfasis en: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Century Gothic"/>
              </a:rPr>
              <a:t>V</a:t>
            </a:r>
            <a:r>
              <a:rPr b="0" i="1" lang="es-AR" sz="1700" spc="-1" strike="noStrike">
                <a:solidFill>
                  <a:srgbClr val="ffffff"/>
                </a:solidFill>
                <a:latin typeface="Century Gothic"/>
              </a:rPr>
              <a:t>ocación social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ffffff"/>
                </a:solidFill>
                <a:latin typeface="Century Gothic"/>
              </a:rPr>
              <a:t>Actitud y perfil requerid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ffffff"/>
                </a:solidFill>
                <a:latin typeface="Century Gothic"/>
              </a:rPr>
              <a:t>Aptitud y capacidades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Century Gothic"/>
              </a:rPr>
              <a:t>Formación de calidad a los mediadores, teniendo en cuenta como fase importante del proceso de formación, la selección de las personas que se formarán como mediadore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Century Gothic"/>
              </a:rPr>
              <a:t>Establecimiento de un programa de formación continua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20" name="6 Imagen" descr="Logo del Ministerio de Justicia"/>
          <p:cNvPicPr/>
          <p:nvPr/>
        </p:nvPicPr>
        <p:blipFill>
          <a:blip r:embed="rId3"/>
          <a:stretch/>
        </p:blipFill>
        <p:spPr>
          <a:xfrm>
            <a:off x="324000" y="90360"/>
            <a:ext cx="2228760" cy="613080"/>
          </a:xfrm>
          <a:prstGeom prst="rect">
            <a:avLst/>
          </a:prstGeom>
          <a:ln w="0">
            <a:noFill/>
          </a:ln>
        </p:spPr>
      </p:pic>
      <p:pic>
        <p:nvPicPr>
          <p:cNvPr id="421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1 Título" descr=""/>
          <p:cNvPicPr/>
          <p:nvPr/>
        </p:nvPicPr>
        <p:blipFill>
          <a:blip r:embed="rId1"/>
          <a:stretch/>
        </p:blipFill>
        <p:spPr>
          <a:xfrm>
            <a:off x="609480" y="54936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31" name="3 CuadroTexto"/>
          <p:cNvSpPr/>
          <p:nvPr/>
        </p:nvSpPr>
        <p:spPr>
          <a:xfrm>
            <a:off x="1332000" y="1557360"/>
            <a:ext cx="640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Es una forma de pensar el mundo</a:t>
            </a: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Que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Somos parte de un todo que nos afecta del mismo modo que nosotros afectamos al todo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Las partes están interrelacionadas y son interdependiente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El todo es más que la suma de las par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7 Imagen" descr="logo_dnmymprc_x_180.jpg"/>
          <p:cNvPicPr/>
          <p:nvPr/>
        </p:nvPicPr>
        <p:blipFill>
          <a:blip r:embed="rId2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33" name="6 Imagen" descr="Logo del Ministerio de Justic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1 Título" descr=""/>
          <p:cNvPicPr/>
          <p:nvPr/>
        </p:nvPicPr>
        <p:blipFill>
          <a:blip r:embed="rId1"/>
          <a:stretch/>
        </p:blipFill>
        <p:spPr>
          <a:xfrm>
            <a:off x="469800" y="554040"/>
            <a:ext cx="8229600" cy="1251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PRESTACIÓN DEL SERVICIO DE MEDIACIÓN COMUNITARIA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Prestación del servicio en forma gratuit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Brindar información adecuada y en forma clara y sencilla, adaptada a las capacidades y necesidades de las personas que requieran el servicio acerca d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servicios del centro de mediación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- características del proceso y el rol del mediado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Prestar el servicio en tiempos necesarios y adecuados </a:t>
            </a:r>
            <a:r>
              <a:rPr b="0" lang="es-AR" sz="1600" spc="-1" strike="noStrike">
                <a:solidFill>
                  <a:srgbClr val="ffffff"/>
                </a:solidFill>
                <a:latin typeface="Century Gothic"/>
              </a:rPr>
              <a:t>(con definición de parámetros temporales y tiempos de espera)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Resguardo de la confidencialidad de los datos proporcionados por consultantes y participantes de una mediación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24" name="6 Imagen" descr="Logo del Ministerio de Justicia"/>
          <p:cNvPicPr/>
          <p:nvPr/>
        </p:nvPicPr>
        <p:blipFill>
          <a:blip r:embed="rId2"/>
          <a:stretch/>
        </p:blipFill>
        <p:spPr>
          <a:xfrm>
            <a:off x="25092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25" name="7 Imagen" descr="logo_dnmymprc_x_180.jpg"/>
          <p:cNvPicPr/>
          <p:nvPr/>
        </p:nvPicPr>
        <p:blipFill>
          <a:blip r:embed="rId3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428" name="1 Título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2500" spc="-1" strike="noStrike" u="sng">
                <a:solidFill>
                  <a:srgbClr val="ffffff"/>
                </a:solidFill>
                <a:uFillTx/>
                <a:latin typeface="Century Gothic"/>
              </a:rPr>
              <a:t>DATOS DEL CENTRO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UBICACIÓN: CALLE, LOCALIDAD, PROVINCI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DEPENDENCIA (administrativa / otr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CANTIDAD DE MEDIADOR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SERVICIOS QUE PREST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CANTIDAD DE SALAS DE MEDIACIÓ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CRITERIOS DE ADMISIÓN (sí / no / cuáles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PERFIL DE POBLACIÓN QUE ACCEDE AL SERVI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ACCESO A INTERNET (sí / no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TIPO DE NOTIFICACION (personal / correo / nota / carta documento / teléfono, otras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DIFICULTADES CON LA ASISTENCIA (sí / no / cuáles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OBSERVACION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1 Título"/>
          <p:cNvSpPr/>
          <p:nvPr/>
        </p:nvSpPr>
        <p:spPr>
          <a:xfrm>
            <a:off x="2556000" y="115920"/>
            <a:ext cx="3887640" cy="158436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3300"/>
              </a:gs>
              <a:gs pos="100000">
                <a:srgbClr val="76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3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LEVAMIENTO DE DATOS PARA L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D FEDERAL D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CENTROS DE MEDIACIÓN COMUNITAR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1" name="7 Imagen" descr="logo_dnmymprc_x_180.jpg"/>
          <p:cNvPicPr/>
          <p:nvPr/>
        </p:nvPicPr>
        <p:blipFill>
          <a:blip r:embed="rId14"/>
          <a:stretch/>
        </p:blipFill>
        <p:spPr>
          <a:xfrm>
            <a:off x="6875640" y="393840"/>
            <a:ext cx="1888920" cy="603000"/>
          </a:xfrm>
          <a:prstGeom prst="rect">
            <a:avLst/>
          </a:prstGeom>
          <a:ln w="0">
            <a:noFill/>
          </a:ln>
        </p:spPr>
      </p:pic>
      <p:pic>
        <p:nvPicPr>
          <p:cNvPr id="432" name="6 Imagen" descr="Logo del Ministerio de Justicia"/>
          <p:cNvPicPr/>
          <p:nvPr/>
        </p:nvPicPr>
        <p:blipFill>
          <a:blip r:embed="rId15"/>
          <a:stretch/>
        </p:blipFill>
        <p:spPr>
          <a:xfrm>
            <a:off x="237960" y="260280"/>
            <a:ext cx="222912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434" name="1 Título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entury Gothic"/>
              </a:rPr>
              <a:t>DATOS DE LAS MEDIACION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FICHA: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  <a:ea typeface="Verdan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CENTRO O INSTITUCIÓN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FECHA DE INICI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FECHA DE FINALIZACIÓN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NÚMERO DE CAS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CANTIDAD  DE AUDIENCIA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DERIVADO POR …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DERIVADO A …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ATENDIDO POR …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CARACTERÍSTICAS DE LAS PARTES (consultante, convocado): género, edad, nivel educativo, trabajo, otra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LOCALIDAD EN LA QUE VIVEN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6" name="1 Título"/>
          <p:cNvSpPr/>
          <p:nvPr/>
        </p:nvSpPr>
        <p:spPr>
          <a:xfrm>
            <a:off x="2556000" y="115920"/>
            <a:ext cx="3887640" cy="158436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3300"/>
              </a:gs>
              <a:gs pos="100000">
                <a:srgbClr val="76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3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LEVAMIENTO DE DATOS PARA L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D FEDERAL D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CENTROS DE MEDIACIÓN COMUNITAR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7" name="7 Imagen" descr="logo_dnmymprc_x_180.jpg"/>
          <p:cNvPicPr/>
          <p:nvPr/>
        </p:nvPicPr>
        <p:blipFill>
          <a:blip r:embed="rId13"/>
          <a:stretch/>
        </p:blipFill>
        <p:spPr>
          <a:xfrm>
            <a:off x="6804000" y="476280"/>
            <a:ext cx="1889280" cy="603360"/>
          </a:xfrm>
          <a:prstGeom prst="rect">
            <a:avLst/>
          </a:prstGeom>
          <a:ln w="0">
            <a:noFill/>
          </a:ln>
        </p:spPr>
      </p:pic>
      <p:pic>
        <p:nvPicPr>
          <p:cNvPr id="438" name="6 Imagen" descr="Logo del Ministerio de Justicia"/>
          <p:cNvPicPr/>
          <p:nvPr/>
        </p:nvPicPr>
        <p:blipFill>
          <a:blip r:embed="rId14"/>
          <a:stretch/>
        </p:blipFill>
        <p:spPr>
          <a:xfrm>
            <a:off x="250920" y="312840"/>
            <a:ext cx="222876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 u="sng">
                <a:solidFill>
                  <a:srgbClr val="ffffff"/>
                </a:solidFill>
                <a:uFillTx/>
                <a:latin typeface="Century Gothic"/>
              </a:rPr>
              <a:t>DATOS DEL ACTA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Century Gothic"/>
              </a:rPr>
              <a:t>TEMA: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ruidos molestos, medianería, filtraciones, animales domésticos, convivencia,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cuestiones de familia, problemas municipales, servicios públicos, sucesiones,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cuestiones penales, comerciales, contractuales, laborales, otros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Century Gothic"/>
              </a:rPr>
              <a:t>RESULTADO: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No se medió por ausencia de Requerido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No se medió por ausencia de Requirente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No se medió por ausencia de Requerido y Requirente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Imposibilidad de notificar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Se medió con acuerdo parcial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Se medió con acuerdo total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Se medió sin acuerdo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Se medió y continúa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Century Gothic"/>
              </a:rPr>
              <a:t>TIPO DE NOTIFICACION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Century Gothic"/>
              </a:rPr>
              <a:t>REAPERTURA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Century Gothic"/>
              </a:rPr>
              <a:t>MEDIADOR    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1 Título"/>
          <p:cNvSpPr/>
          <p:nvPr/>
        </p:nvSpPr>
        <p:spPr>
          <a:xfrm>
            <a:off x="2556000" y="115920"/>
            <a:ext cx="3887640" cy="158436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3300"/>
              </a:gs>
              <a:gs pos="100000">
                <a:srgbClr val="76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3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LEVAMIENTO DE DATOS PARA L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D FEDERAL D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CENTROS DE MEDIACIÓN COMUNITAR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42" name="7 Imagen" descr="logo_dnmymprc_x_180.jpg"/>
          <p:cNvPicPr/>
          <p:nvPr/>
        </p:nvPicPr>
        <p:blipFill>
          <a:blip r:embed="rId2"/>
          <a:stretch/>
        </p:blipFill>
        <p:spPr>
          <a:xfrm>
            <a:off x="6783480" y="37296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443" name="6 Imagen" descr="Logo del Ministerio de Justicia"/>
          <p:cNvPicPr/>
          <p:nvPr/>
        </p:nvPicPr>
        <p:blipFill>
          <a:blip r:embed="rId3"/>
          <a:stretch/>
        </p:blipFill>
        <p:spPr>
          <a:xfrm>
            <a:off x="108000" y="36360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7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336" name="1 Título" descr=""/>
          <p:cNvPicPr/>
          <p:nvPr/>
        </p:nvPicPr>
        <p:blipFill>
          <a:blip r:embed="rId2"/>
          <a:stretch/>
        </p:blipFill>
        <p:spPr>
          <a:xfrm>
            <a:off x="633240" y="658800"/>
            <a:ext cx="8229600" cy="14558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53640" y="1196640"/>
            <a:ext cx="80024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Conjunto organizado de elementos dinámicamente relacionados (interactúan entre sí), interdependientes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que forman un todo complejo, identificable y distinto,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que busca alcanzar un objetiv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8" name="Picture 2" descr="C:\Users\mmarkus\Pictures\10042142-sistema-solar.jpg"/>
          <p:cNvPicPr/>
          <p:nvPr/>
        </p:nvPicPr>
        <p:blipFill>
          <a:blip r:embed="rId3"/>
          <a:stretch/>
        </p:blipFill>
        <p:spPr>
          <a:xfrm>
            <a:off x="2050920" y="4653000"/>
            <a:ext cx="3564000" cy="2593800"/>
          </a:xfrm>
          <a:prstGeom prst="rect">
            <a:avLst/>
          </a:prstGeom>
          <a:ln w="0">
            <a:noFill/>
          </a:ln>
        </p:spPr>
      </p:pic>
      <p:pic>
        <p:nvPicPr>
          <p:cNvPr id="339" name="6 Imagen" descr="Logo del Ministerio de Justici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40" name="7 Imagen" descr="logo_dnmymprc_x_180.jpg"/>
          <p:cNvPicPr/>
          <p:nvPr/>
        </p:nvPicPr>
        <p:blipFill>
          <a:blip r:embed="rId6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342" name="1 Título" descr=""/>
          <p:cNvPicPr/>
          <p:nvPr/>
        </p:nvPicPr>
        <p:blipFill>
          <a:blip r:embed="rId2"/>
          <a:stretch/>
        </p:blipFill>
        <p:spPr>
          <a:xfrm>
            <a:off x="469800" y="54936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La red comienza cuando la araña salva un espacio dado creando puntos de anclaj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La segunda serie de hilos completa el armazón uniendo los puntos de anclaj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Por último van añadiendo espirales auxiliares, más resistentes, rellenando los espacios con hilos de captura concéntrico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4" name="6 Imagen" descr="Logo del Ministerio de Justic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45" name="7 Imagen" descr="logo_dnmymprc_x_180.jpg"/>
          <p:cNvPicPr/>
          <p:nvPr/>
        </p:nvPicPr>
        <p:blipFill>
          <a:blip r:embed="rId5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1 Título" descr=""/>
          <p:cNvPicPr/>
          <p:nvPr/>
        </p:nvPicPr>
        <p:blipFill>
          <a:blip r:embed="rId1"/>
          <a:stretch/>
        </p:blipFill>
        <p:spPr>
          <a:xfrm>
            <a:off x="542880" y="62244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392040" y="1989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La estructura de la telaraña combina conexiones interdependientes con independencia localizada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La fuerza se construye creando coordinación en el centro sin centralización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J. Paul Ledera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6 Imagen" descr="Logo del Ministerio de Justic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49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7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352" name="1 Título" descr=""/>
          <p:cNvPicPr/>
          <p:nvPr/>
        </p:nvPicPr>
        <p:blipFill>
          <a:blip r:embed="rId2"/>
          <a:stretch/>
        </p:blipFill>
        <p:spPr>
          <a:xfrm>
            <a:off x="585720" y="476280"/>
            <a:ext cx="8229600" cy="1438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C:\Users\mmarkus\Pictures\nodos red.jpg"/>
          <p:cNvPicPr/>
          <p:nvPr/>
        </p:nvPicPr>
        <p:blipFill>
          <a:blip r:embed="rId3"/>
          <a:stretch/>
        </p:blipFill>
        <p:spPr>
          <a:xfrm>
            <a:off x="4211640" y="5151600"/>
            <a:ext cx="1833480" cy="1539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Los NODOS: son los puntos o lugares de la Red (personas, grupos, instituciones) en los cuales confluyen de manera estable los lazos o hilos de la Red (recursos, relaciones, interacciones)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Los NODOS contribuyen a la estabilidad y por lo tanto a la permanencia y seguridad de la Red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6 Imagen" descr="Logo del Ministerio de Justici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56" name="7 Imagen" descr="logo_dnmymprc_x_180.jpg"/>
          <p:cNvPicPr/>
          <p:nvPr/>
        </p:nvPicPr>
        <p:blipFill>
          <a:blip r:embed="rId6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314280" y="407880"/>
            <a:ext cx="8425080" cy="6183360"/>
          </a:xfrm>
          <a:prstGeom prst="rect">
            <a:avLst/>
          </a:prstGeom>
          <a:ln w="0">
            <a:noFill/>
          </a:ln>
        </p:spPr>
      </p:pic>
      <p:pic>
        <p:nvPicPr>
          <p:cNvPr id="360" name="6 Imagen" descr="Logo del Ministerio de Justic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61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65720"/>
            <a:ext cx="91440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1 Título" descr=""/>
          <p:cNvPicPr/>
          <p:nvPr/>
        </p:nvPicPr>
        <p:blipFill>
          <a:blip r:embed="rId1"/>
          <a:stretch/>
        </p:blipFill>
        <p:spPr>
          <a:xfrm>
            <a:off x="542880" y="54936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Develar  vínculos, dinámicas, valores, normas, mitos, rito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Identificar idearios compartido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Identificar a los actores sociales principale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Hacer un inventario de todo tipo de recursos de los que pueda disponer la re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6 Imagen" descr="Logo del Ministerio de Justic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66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229600" cy="14014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395280" y="220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Establecimiento de objetivos y metas.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Generar estrategias de trabaj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Construir sistemas de informació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Establecer parámetros de medición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Generar procesos de conocimiento y reconocimiento mutuo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6 Imagen" descr="Logo del Ministerio de Justic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71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6:56:56Z</dcterms:created>
  <dc:creator>Miriam E Markus</dc:creator>
  <dc:description/>
  <dc:language>en-US</dc:language>
  <cp:lastModifiedBy>FATIMA FR</cp:lastModifiedBy>
  <cp:lastPrinted>2013-12-17T19:42:04Z</cp:lastPrinted>
  <dcterms:modified xsi:type="dcterms:W3CDTF">2015-01-30T16:32:26Z</dcterms:modified>
  <cp:revision>51</cp:revision>
  <dc:subject/>
  <dc:title>RED SOCIAL</dc:title>
</cp:coreProperties>
</file>