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E89-7FD7-45DE-80EA-BA7DACCC7B4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365-46D0-4A57-A3E6-6152CFAB27F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F96-6790-4BAD-9BB4-95B462BEDE0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7D4-4B2B-4645-B2A9-A456A58346F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E1E7-4179-4441-B7BE-D66E094A70E5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9CE-B578-44DA-84B3-58CC7B41EF4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73D7-F43A-4FF4-9570-80BCA7399B0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714D-DF9A-4FCF-91E3-412A454C96E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7B42-47D7-4A1C-976C-38B37D2371C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57C-C9F3-4A94-8F03-394C8D7262F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31B-05D5-4BC5-8C15-DAE999EFD7E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B93-2EF8-4F72-8BFB-EC3791DD2DA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E342-8FFB-47A7-8A28-AAE1F1FAFB5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4A4-B16B-4BAE-8717-51C06A9A328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0F1-B7FF-407F-9617-9BEC8CBBD12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C222-861A-4FC7-AF87-E65EC0CC48F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EA2-3A48-4F81-AF80-E8543879A5B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EDBD-0A6B-4103-AA54-4756D77E0E5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050-B66A-4A07-B51D-42A4EDC5B8E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629-3DD0-47B4-804B-95345C9F9E7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3454-8FD8-4D57-B3E5-69AFAFEE218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9952-A6F8-4CC2-8786-D9F1C94A7FA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9E7-D206-403E-98ED-3BD115A033BB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91F-C065-42D7-BB24-05D07B77A7E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1A6-B194-421B-9B21-DBBB872F91B6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97DC-BF92-40B3-8B87-8CE7B62AF4F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2EC-A512-4259-92FB-8475437CEAFB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101-0CBA-467E-B257-2D78C6274436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08D-40F1-4645-A222-B24634A412D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726-1889-4898-AA22-C8CF76698EF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5127-4864-447B-A7E6-275DF3D7C03A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52F-07BF-4883-8A55-574A1B01349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3016-1DA9-4BF7-A1C6-F4D6ADA69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600B-5A62-4802-B6FB-73A2D47590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E363-7A8A-40D3-84CC-08AA2E1004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9443-5171-4A48-8437-E76332B69B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D138-A4F6-40CF-B57E-0D1F262A04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554D-792D-4C9A-A38D-C8B8D2A2C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8F2E-74E1-45F9-BC98-6D5D9ABB3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B56A-98CB-46A6-96D2-B6B887B7BE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B153-0B9A-4D61-97B9-0F75FD7C92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A9FB-D5EB-4CEC-A62A-D541D2FDE1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3323-0777-41DA-B0A6-DA4581CF8E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52EB-A578-4CFF-992F-1ED27E176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946D-7168-44C9-BF39-5E659804337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Proceso de Creación de Centros de empleo 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e Integración a la Red Nacional</a:t>
            </a:r>
            <a:r>
              <a:rPr b="0" lang="es-AR" sz="4800" spc="-1" strike="noStrike">
                <a:solidFill>
                  <a:srgbClr val="ffffff"/>
                </a:solidFill>
                <a:latin typeface="Gill Sans MT"/>
              </a:rPr>
              <a:t>.</a:t>
            </a:r>
            <a:br>
              <a:rPr sz="4800"/>
            </a:br>
            <a:br>
              <a:rPr sz="4800"/>
            </a:br>
            <a:r>
              <a:rPr b="0" lang="es-AR" sz="6000" spc="-1" strike="noStrike">
                <a:solidFill>
                  <a:srgbClr val="ffffff"/>
                </a:solidFill>
                <a:latin typeface="Gill Sans MT"/>
              </a:rPr>
              <a:t>Taller de Sensibilización</a:t>
            </a:r>
            <a:br>
              <a:rPr sz="7200"/>
            </a:b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859-C7A6-4670-9A5E-0C596AE5EFC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7 Rectángulo"/>
          <p:cNvSpPr/>
          <p:nvPr/>
        </p:nvSpPr>
        <p:spPr>
          <a:xfrm>
            <a:off x="1042920" y="3436920"/>
            <a:ext cx="979344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</a:rPr>
              <a:t>Los operados por las Agencias de Colocación Pública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Los operados por las Agencias de Colocación Privada (Cajas de Compensación Familiar, Cámaras de Comercio, Gremios, Sociedades, y entidades que se conformen en convenios entre estos, entre otros)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7 Rectángulo"/>
          <p:cNvSpPr/>
          <p:nvPr/>
        </p:nvSpPr>
        <p:spPr>
          <a:xfrm>
            <a:off x="1606680" y="2209680"/>
            <a:ext cx="92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Modalidades de los Centros de empleo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133-7157-4673-A2C4-F48D744EA57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4" name="3 Marcador de texto"/>
          <p:cNvGrpSpPr/>
          <p:nvPr/>
        </p:nvGrpSpPr>
        <p:grpSpPr>
          <a:xfrm>
            <a:off x="689040" y="3316320"/>
            <a:ext cx="11350440" cy="3584520"/>
            <a:chOff x="689040" y="3316320"/>
            <a:chExt cx="11350440" cy="3584520"/>
          </a:xfrm>
        </p:grpSpPr>
        <p:pic>
          <p:nvPicPr>
            <p:cNvPr id="135" name="3 Marcador de texto" descr=""/>
            <p:cNvPicPr/>
            <p:nvPr/>
          </p:nvPicPr>
          <p:blipFill>
            <a:blip r:embed="rId1"/>
            <a:stretch/>
          </p:blipFill>
          <p:spPr>
            <a:xfrm>
              <a:off x="689040" y="3316320"/>
              <a:ext cx="1135044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41240" y="3363840"/>
              <a:ext cx="1109052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  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Conformar la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institucionalidad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que permita integrar, articular, coordinar y focalizar las política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act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y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pas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empleo, potenciar el uso de los instrumentos</a:t>
              </a:r>
              <a:r>
                <a:rPr b="1" lang="es-CO" sz="32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política que contribuyan a un encuentro má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racional y eficiente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entre oferta y demanda de trabajo.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CBCE-9F97-48CB-872B-5447B38434F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s especif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9" name="7 Diagrama" descr=""/>
          <p:cNvPicPr/>
          <p:nvPr/>
        </p:nvPicPr>
        <p:blipFill>
          <a:blip r:embed="rId1"/>
          <a:stretch/>
        </p:blipFill>
        <p:spPr>
          <a:xfrm>
            <a:off x="103320" y="841320"/>
            <a:ext cx="12863520" cy="7851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02B-D70A-473D-8FCE-31143FB9811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6 Diagrama" descr=""/>
          <p:cNvPicPr/>
          <p:nvPr/>
        </p:nvPicPr>
        <p:blipFill>
          <a:blip r:embed="rId1"/>
          <a:stretch/>
        </p:blipFill>
        <p:spPr>
          <a:xfrm>
            <a:off x="1646280" y="2560680"/>
            <a:ext cx="114966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6BE-FF6C-4E09-84D3-52E55343FF6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7 Diagrama" descr=""/>
          <p:cNvPicPr/>
          <p:nvPr/>
        </p:nvPicPr>
        <p:blipFill>
          <a:blip r:embed="rId1"/>
          <a:stretch/>
        </p:blipFill>
        <p:spPr>
          <a:xfrm>
            <a:off x="1523880" y="2193840"/>
            <a:ext cx="1110636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E55C-EDF9-42E1-B85C-553444B716E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Glosari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8" name="7 Diagrama" descr=""/>
          <p:cNvPicPr/>
          <p:nvPr/>
        </p:nvPicPr>
        <p:blipFill>
          <a:blip r:embed="rId1"/>
          <a:stretch/>
        </p:blipFill>
        <p:spPr>
          <a:xfrm>
            <a:off x="738360" y="2139840"/>
            <a:ext cx="11386800" cy="6265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E20B-6699-4ACD-BB30-BC320AB5F0C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1749600" y="4013280"/>
            <a:ext cx="95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PROCESO DE CREAC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DE LOS CENTROS DE EMPLEO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Y SU INTEGRACION A LA RED NACIONAL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B17-C6C5-4097-B66E-6DECCCBD20C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de la red de Agencias de Colocación en el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upu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836-7B1B-45C2-B006-82B06ACC7CA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Característica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615-201B-4D42-96AA-7BF902003B8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61D-6251-42C8-B4B5-83529D26BEF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2109960" y="451656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SERVICIO PÚBLICO DE EMPLE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Gill Sans"/>
              </a:rPr>
              <a:t>Decreto 0722/201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844-BA3C-4BBB-B0FE-A2CC9ACA46D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la Creación del Centro de empleo y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 crear e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8 Rectángulo redondeado"/>
          <p:cNvSpPr/>
          <p:nvPr/>
        </p:nvSpPr>
        <p:spPr>
          <a:xfrm>
            <a:off x="0" y="412920"/>
            <a:ext cx="8518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A89E-5A4D-4E68-9C93-14A0ABA2119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o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e proyecto de Creación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ó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Terc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onsiste en el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Seguimiento y Plan de mejora de los Servicios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Creación de los Centros de empleo y su Integración  a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674-E3D6-4D73-9180-A3A07F9E218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2 Rectángulo redondeado"/>
          <p:cNvSpPr/>
          <p:nvPr/>
        </p:nvSpPr>
        <p:spPr>
          <a:xfrm>
            <a:off x="8845560" y="1204920"/>
            <a:ext cx="3745080" cy="6350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8 Rectángulo redondeado"/>
          <p:cNvSpPr/>
          <p:nvPr/>
        </p:nvSpPr>
        <p:spPr>
          <a:xfrm>
            <a:off x="293760" y="993600"/>
            <a:ext cx="8153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tapa previa:  Cumplimiento de requisitos para l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reación de una Agencia de Colocación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Creación de los Centros de empleo.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2" name="2 Grupo"/>
          <p:cNvGrpSpPr/>
          <p:nvPr/>
        </p:nvGrpSpPr>
        <p:grpSpPr>
          <a:xfrm>
            <a:off x="258840" y="1996920"/>
            <a:ext cx="12331800" cy="5481720"/>
            <a:chOff x="258840" y="1996920"/>
            <a:chExt cx="12331800" cy="5481720"/>
          </a:xfrm>
        </p:grpSpPr>
        <p:sp>
          <p:nvSpPr>
            <p:cNvPr id="173" name="36 Rectángulo redondeado"/>
            <p:cNvSpPr/>
            <p:nvPr/>
          </p:nvSpPr>
          <p:spPr>
            <a:xfrm>
              <a:off x="258840" y="5110200"/>
              <a:ext cx="2212920" cy="806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umplimiento de los Pre requisit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creto 0722/2013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" name="36 Rectángulo redondeado"/>
            <p:cNvSpPr/>
            <p:nvPr/>
          </p:nvSpPr>
          <p:spPr>
            <a:xfrm>
              <a:off x="258840" y="2860560"/>
              <a:ext cx="2212920" cy="952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nifestación de intención de Creación de un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5" name="36 Rectángulo redondeado"/>
            <p:cNvSpPr/>
            <p:nvPr/>
          </p:nvSpPr>
          <p:spPr>
            <a:xfrm>
              <a:off x="258840" y="6234120"/>
              <a:ext cx="2212920" cy="1152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Aprobación por parte del Ministerio de la Creación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6" name="1 Grupo"/>
            <p:cNvGrpSpPr/>
            <p:nvPr/>
          </p:nvGrpSpPr>
          <p:grpSpPr>
            <a:xfrm>
              <a:off x="293760" y="1996920"/>
              <a:ext cx="12296880" cy="5481720"/>
              <a:chOff x="293760" y="1996920"/>
              <a:chExt cx="12296880" cy="5481720"/>
            </a:xfrm>
          </p:grpSpPr>
          <p:sp>
            <p:nvSpPr>
              <p:cNvPr id="177" name="28 Rectángulo"/>
              <p:cNvSpPr/>
              <p:nvPr/>
            </p:nvSpPr>
            <p:spPr>
              <a:xfrm>
                <a:off x="2608200" y="200304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36 Rectángulo redondeado"/>
              <p:cNvSpPr/>
              <p:nvPr/>
            </p:nvSpPr>
            <p:spPr>
              <a:xfrm>
                <a:off x="293760" y="1996920"/>
                <a:ext cx="221292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48 Rectángulo"/>
              <p:cNvSpPr/>
              <p:nvPr/>
            </p:nvSpPr>
            <p:spPr>
              <a:xfrm>
                <a:off x="6230880" y="20030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7 Rectángulo"/>
              <p:cNvSpPr/>
              <p:nvPr/>
            </p:nvSpPr>
            <p:spPr>
              <a:xfrm>
                <a:off x="9830160" y="2003040"/>
                <a:ext cx="2760480" cy="60156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Documento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1" name="28 Rectángulo"/>
              <p:cNvSpPr/>
              <p:nvPr/>
            </p:nvSpPr>
            <p:spPr>
              <a:xfrm>
                <a:off x="2593800" y="5124240"/>
                <a:ext cx="3456000" cy="10080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formación del expedient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Presentación formal de la apertura de la Agencia de Colocación conforme al decreto 0722/2013-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2" name="10 Rectángulo"/>
              <p:cNvSpPr/>
              <p:nvPr/>
            </p:nvSpPr>
            <p:spPr>
              <a:xfrm>
                <a:off x="6210360" y="51242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Expediente completo recibido por el Ministerio de Trabaj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3" name="28 Rectángulo"/>
              <p:cNvSpPr/>
              <p:nvPr/>
            </p:nvSpPr>
            <p:spPr>
              <a:xfrm>
                <a:off x="2606760" y="2923920"/>
                <a:ext cx="3456000" cy="7668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tactos preliminares de la insti tución candidata con 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22 Rectángulo"/>
              <p:cNvSpPr/>
              <p:nvPr/>
            </p:nvSpPr>
            <p:spPr>
              <a:xfrm>
                <a:off x="6213600" y="292392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 por parte de la  Institución candidata para constituirse como Agencia de Colocació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10 Rectángulo"/>
              <p:cNvSpPr/>
              <p:nvPr/>
            </p:nvSpPr>
            <p:spPr>
              <a:xfrm>
                <a:off x="6216840" y="6262560"/>
                <a:ext cx="3457440" cy="11239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municación de los resultados: constancia de aprobación e inscrip ción al registro o devolución para su mejor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28 Rectángulo"/>
              <p:cNvSpPr/>
              <p:nvPr/>
            </p:nvSpPr>
            <p:spPr>
              <a:xfrm>
                <a:off x="9811080" y="6288120"/>
                <a:ext cx="277956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stanci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28 Rectángulo"/>
              <p:cNvSpPr/>
              <p:nvPr/>
            </p:nvSpPr>
            <p:spPr>
              <a:xfrm>
                <a:off x="2608200" y="3898800"/>
                <a:ext cx="3456000" cy="1100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Reuniones de sensibilizacion en la Institución candidata o participación de la institución candidata en las  reuniones periódicas organizadas por 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36 Rectángulo redondeado"/>
              <p:cNvSpPr/>
              <p:nvPr/>
            </p:nvSpPr>
            <p:spPr>
              <a:xfrm>
                <a:off x="293760" y="3971880"/>
                <a:ext cx="2212920" cy="95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Respuesta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9" name="22 Rectángulo"/>
              <p:cNvSpPr/>
              <p:nvPr/>
            </p:nvSpPr>
            <p:spPr>
              <a:xfrm>
                <a:off x="6194520" y="405288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  Reuniones de sensibilizacio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0" name="28 Rectángulo"/>
              <p:cNvSpPr/>
              <p:nvPr/>
            </p:nvSpPr>
            <p:spPr>
              <a:xfrm>
                <a:off x="2630520" y="6288120"/>
                <a:ext cx="3456000" cy="11905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nálisis del expediente por parte de un comité de evaluación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probación y/u observación para su mejora por parte d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1" name="24 Rectángulo"/>
              <p:cNvSpPr/>
              <p:nvPr/>
            </p:nvSpPr>
            <p:spPr>
              <a:xfrm>
                <a:off x="9839520" y="3197160"/>
                <a:ext cx="275112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34AE-D994-4407-AE99-37381B8F054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2 Rectángulo redondeado"/>
          <p:cNvSpPr/>
          <p:nvPr/>
        </p:nvSpPr>
        <p:spPr>
          <a:xfrm>
            <a:off x="8845560" y="1204920"/>
            <a:ext cx="374508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8 Rectángulo redondeado"/>
          <p:cNvSpPr/>
          <p:nvPr/>
        </p:nvSpPr>
        <p:spPr>
          <a:xfrm>
            <a:off x="293760" y="993600"/>
            <a:ext cx="721656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: Elaboración y present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e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6" name="1 Grupo"/>
          <p:cNvGrpSpPr/>
          <p:nvPr/>
        </p:nvGrpSpPr>
        <p:grpSpPr>
          <a:xfrm>
            <a:off x="274680" y="1996920"/>
            <a:ext cx="12584160" cy="6993000"/>
            <a:chOff x="274680" y="1996920"/>
            <a:chExt cx="12584160" cy="6993000"/>
          </a:xfrm>
        </p:grpSpPr>
        <p:sp>
          <p:nvSpPr>
            <p:cNvPr id="197" name="28 Rectángulo"/>
            <p:cNvSpPr/>
            <p:nvPr/>
          </p:nvSpPr>
          <p:spPr>
            <a:xfrm>
              <a:off x="2608200" y="200304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36 Rectángulo redondeado"/>
            <p:cNvSpPr/>
            <p:nvPr/>
          </p:nvSpPr>
          <p:spPr>
            <a:xfrm>
              <a:off x="293400" y="199692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48 Rectángulo"/>
            <p:cNvSpPr/>
            <p:nvPr/>
          </p:nvSpPr>
          <p:spPr>
            <a:xfrm>
              <a:off x="6230880" y="200304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7 Rectángulo"/>
            <p:cNvSpPr/>
            <p:nvPr/>
          </p:nvSpPr>
          <p:spPr>
            <a:xfrm>
              <a:off x="9829800" y="200304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36 Rectángulo redondeado"/>
            <p:cNvSpPr/>
            <p:nvPr/>
          </p:nvSpPr>
          <p:spPr>
            <a:xfrm>
              <a:off x="274680" y="2788920"/>
              <a:ext cx="2195280" cy="1439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Inicio de las Actividades de Asistencia Técnica para la Creación del Centro de Empleo y Firma del Conven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2" name="28 Rectángulo"/>
            <p:cNvSpPr/>
            <p:nvPr/>
          </p:nvSpPr>
          <p:spPr>
            <a:xfrm>
              <a:off x="2631960" y="2788920"/>
              <a:ext cx="3456000" cy="38880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por parte de la Agencia de una solicitud para recibir Asisten cia Técnica para la Creación del Centro de Emple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-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onvocatoria por parte del Ministerio de Trabajo a participar de un Taller de sensibilización a la Agencia y los actores del territor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ocatoria por parte de la Agencia a todos los involucrados en la toma de decisión del Convenio final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los representantes de la Agencia y del territorio en un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El Ministerio y la Agencia comparten el contenido del Convenio y se fija fecha para su firma.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3" name="10 Rectángulo"/>
            <p:cNvSpPr/>
            <p:nvPr/>
          </p:nvSpPr>
          <p:spPr>
            <a:xfrm>
              <a:off x="6230880" y="2789280"/>
              <a:ext cx="3457440" cy="763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arta de solicitud de la Agencia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edido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4" name="15 Rectángulo"/>
            <p:cNvSpPr/>
            <p:nvPr/>
          </p:nvSpPr>
          <p:spPr>
            <a:xfrm>
              <a:off x="6178680" y="380808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Taller de sensibilización brindado por el Ministerio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cta de desarrollo d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genda acordad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18 Rectángulo"/>
            <p:cNvSpPr/>
            <p:nvPr/>
          </p:nvSpPr>
          <p:spPr>
            <a:xfrm>
              <a:off x="9829800" y="3808080"/>
              <a:ext cx="2760480" cy="28684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Formulario de pre proyec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 Agencia apor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de invitación a los inte grantes de los Consejos: CD (Alcaldía) o bien CA (Caja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 desarrollo del taller con compromisos contraídos, firmada por los asistent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s partes establecen una agenda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36 Rectángulo redondeado"/>
            <p:cNvSpPr/>
            <p:nvPr/>
          </p:nvSpPr>
          <p:spPr>
            <a:xfrm>
              <a:off x="293400" y="6823080"/>
              <a:ext cx="2212920" cy="830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28 Rectángulo"/>
            <p:cNvSpPr/>
            <p:nvPr/>
          </p:nvSpPr>
          <p:spPr>
            <a:xfrm>
              <a:off x="2631960" y="6823080"/>
              <a:ext cx="3457440" cy="81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expediente por parte de la Agencia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27 Rectángulo"/>
            <p:cNvSpPr/>
            <p:nvPr/>
          </p:nvSpPr>
          <p:spPr>
            <a:xfrm>
              <a:off x="6195960" y="684216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 proyecto: Ficha institucional y justificación de la propues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29 Rectángulo"/>
            <p:cNvSpPr/>
            <p:nvPr/>
          </p:nvSpPr>
          <p:spPr>
            <a:xfrm>
              <a:off x="9799920" y="6856200"/>
              <a:ext cx="3058920" cy="94284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probación como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invitación al CD o 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l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36 Rectángulo redondeado"/>
            <p:cNvSpPr/>
            <p:nvPr/>
          </p:nvSpPr>
          <p:spPr>
            <a:xfrm>
              <a:off x="274680" y="7799400"/>
              <a:ext cx="2212920" cy="1190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on del Pre proyecto por parte del Ministerio y pasaje a la siguiente etapa de Asistencia Te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1" name="28 Rectángulo"/>
            <p:cNvSpPr/>
            <p:nvPr/>
          </p:nvSpPr>
          <p:spPr>
            <a:xfrm>
              <a:off x="2631960" y="7799400"/>
              <a:ext cx="3456000" cy="11905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e proyecto por parte de un comité de evaluación del Ministerio y formulación de eventuales observaciones para su mejora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34 Rectángulo"/>
            <p:cNvSpPr/>
            <p:nvPr/>
          </p:nvSpPr>
          <p:spPr>
            <a:xfrm>
              <a:off x="6195960" y="77994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3" name="35 Rectángulo"/>
            <p:cNvSpPr/>
            <p:nvPr/>
          </p:nvSpPr>
          <p:spPr>
            <a:xfrm>
              <a:off x="9799920" y="8016840"/>
              <a:ext cx="3058920" cy="574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4" name="15 Rectángulo"/>
            <p:cNvSpPr/>
            <p:nvPr/>
          </p:nvSpPr>
          <p:spPr>
            <a:xfrm>
              <a:off x="6195960" y="568476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enio de Asistencia Técnica para la Creación de un Centro de Empleo firmado por el Ministerio y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CD4C-22B5-46F9-91F7-BB38752290E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 Rectángulo redondeado"/>
          <p:cNvSpPr/>
          <p:nvPr/>
        </p:nvSpPr>
        <p:spPr>
          <a:xfrm>
            <a:off x="17640" y="1716120"/>
            <a:ext cx="6089400" cy="7481880"/>
          </a:xfrm>
          <a:custGeom>
            <a:avLst/>
            <a:gdLst>
              <a:gd name="textAreaLeft" fmla="*/ 297000 w 6089400"/>
              <a:gd name="textAreaRight" fmla="*/ 5792400 w 6089400"/>
              <a:gd name="textAreaTop" fmla="*/ 297000 h 7481880"/>
              <a:gd name="textAreaBottom" fmla="*/ 7184880 h 7481880"/>
            </a:gdLst>
            <a:ahLst/>
            <a:rect l="textAreaLeft" t="textAreaTop" r="textAreaRight" b="textAreaBottom"/>
            <a:pathLst>
              <a:path w="21600" h="26539">
                <a:moveTo>
                  <a:pt x="3600" y="0"/>
                </a:moveTo>
                <a:arcTo wR="3600" hR="3600" stAng="16200000" swAng="-5400000"/>
                <a:lnTo>
                  <a:pt x="0" y="22939"/>
                </a:lnTo>
                <a:arcTo wR="3600" hR="3600" stAng="10800000" swAng="-5400000"/>
                <a:lnTo>
                  <a:pt x="18000" y="26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atos de la Institución a la 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ertenece 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8 Rectángulo redondeado"/>
          <p:cNvSpPr/>
          <p:nvPr/>
        </p:nvSpPr>
        <p:spPr>
          <a:xfrm>
            <a:off x="6107040" y="1716120"/>
            <a:ext cx="6897600" cy="7481880"/>
          </a:xfrm>
          <a:custGeom>
            <a:avLst/>
            <a:gdLst>
              <a:gd name="textAreaLeft" fmla="*/ 336600 w 6897600"/>
              <a:gd name="textAreaRight" fmla="*/ 6561000 w 6897600"/>
              <a:gd name="textAreaTop" fmla="*/ 336600 h 7481880"/>
              <a:gd name="textAreaBottom" fmla="*/ 7145280 h 7481880"/>
            </a:gdLst>
            <a:ahLst/>
            <a:rect l="textAreaLeft" t="textAreaTop" r="textAreaRight" b="textAreaBottom"/>
            <a:pathLst>
              <a:path w="21600" h="23430">
                <a:moveTo>
                  <a:pt x="3600" y="0"/>
                </a:moveTo>
                <a:arcTo wR="3600" hR="3600" stAng="16200000" swAng="-5400000"/>
                <a:lnTo>
                  <a:pt x="0" y="19830"/>
                </a:lnTo>
                <a:arcTo wR="3600" hR="3600" stAng="10800000" swAng="-5400000"/>
                <a:lnTo>
                  <a:pt x="18000" y="23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propuesta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Integración a la Red 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iagnostico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productiva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es primarias y secundari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 económic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inámica del territor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bir las dificultades y potencialidad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l mercado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ores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stitucionales que pueden contri -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buir a los objetivos del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Posicionamiento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Fortalezas y debilidades. Problem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empleo. Situación desead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¿Cuál será el Posicionamiento del Centro d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empleo en es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1CA-DA1C-4983-802F-F9696B3C78B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1 Rectángulo redondeado"/>
          <p:cNvSpPr/>
          <p:nvPr/>
        </p:nvSpPr>
        <p:spPr>
          <a:xfrm>
            <a:off x="17640" y="1716120"/>
            <a:ext cx="1298700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 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os recursos necesarios para su funcionamiento. Breve explicación de las categorías de recursos necesarios y su relación con el contenido de la ordenanza municip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77960" y="4516560"/>
            <a:ext cx="11455200" cy="401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C59-AA86-448B-B558-ED33579483E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8 Rectángulo redondeado"/>
          <p:cNvSpPr/>
          <p:nvPr/>
        </p:nvSpPr>
        <p:spPr>
          <a:xfrm>
            <a:off x="0" y="1716120"/>
            <a:ext cx="1300464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puesta de Creacio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Problemas de empleo. Situación deseada. 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Un ejempl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- ¿Cuál será el Posicionamiento del Centro de empleo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85960" y="3724200"/>
          <a:ext cx="7272360" cy="4681440"/>
        </p:xfrm>
        <a:graphic>
          <a:graphicData uri="http://schemas.openxmlformats.org/drawingml/2006/table">
            <a:tbl>
              <a:tblPr/>
              <a:tblGrid>
                <a:gridCol w="3579840"/>
                <a:gridCol w="3692520"/>
              </a:tblGrid>
              <a:tr h="48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ACTU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DEBILIDADES O PROBLEM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DESE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19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Los funcionarios no pueden realizar las hojas de vida a todas las personas que concurren al Centro de empleo por carecer de equipamiento informático adecuado y no disponer de un ambiente cómodo, con privacidad y de fácil acceso para discapa citad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recurso humano asignado a la oficina de empleo desconoce cómo se gestiona un Centro de empleo y cuáles son las competencias necesarias para cada puesto de trabajo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No hay una buena y actualizada información de la oferta, la demanda laboral y las ofertas de capacitación disponibl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no trabaja coordinando acciones con los otros sectores del mercado labo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El Centro de empleo introduce mejoras para el acceso de discapacitados,  reacondiciona los boxes para entrevistas e incorpora el equipamiento necesario,  lo que mejora la calidad de atención a las personas y la confección de las Hojas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Centro de empleo es eficientemente gestionada. Todo su personal tiene asignado roles y se encuentra capacitado para desempeñar funciones y responsabilidades específicas, brindando con eficiencia todos lo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Se dispone de una Guía de Recursos y de óptima  información sobre el mercado laboral que permite brindar mejor los servicios del Centro de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integra una red de actores del mercado laboral, brindando entre todos mejore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CECE-9D04-4486-8633-443E51F0CCA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8 Rectángulo redondeado"/>
          <p:cNvSpPr/>
          <p:nvPr/>
        </p:nvSpPr>
        <p:spPr>
          <a:xfrm>
            <a:off x="293760" y="993600"/>
            <a:ext cx="7361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:  Elaboración y presentación del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7" name="1 Grupo"/>
          <p:cNvGrpSpPr/>
          <p:nvPr/>
        </p:nvGrpSpPr>
        <p:grpSpPr>
          <a:xfrm>
            <a:off x="88920" y="2068560"/>
            <a:ext cx="12769920" cy="7129440"/>
            <a:chOff x="88920" y="2068560"/>
            <a:chExt cx="12769920" cy="7129440"/>
          </a:xfrm>
        </p:grpSpPr>
        <p:sp>
          <p:nvSpPr>
            <p:cNvPr id="238" name="28 Rectángulo"/>
            <p:cNvSpPr/>
            <p:nvPr/>
          </p:nvSpPr>
          <p:spPr>
            <a:xfrm>
              <a:off x="2584440" y="206856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9" name="36 Rectángulo redondeado"/>
            <p:cNvSpPr/>
            <p:nvPr/>
          </p:nvSpPr>
          <p:spPr>
            <a:xfrm>
              <a:off x="234720" y="206856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48 Rectángulo"/>
            <p:cNvSpPr/>
            <p:nvPr/>
          </p:nvSpPr>
          <p:spPr>
            <a:xfrm>
              <a:off x="6215040" y="206856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2" name="36 Rectángulo redondeado"/>
            <p:cNvSpPr/>
            <p:nvPr/>
          </p:nvSpPr>
          <p:spPr>
            <a:xfrm>
              <a:off x="88920" y="2914560"/>
              <a:ext cx="2381040" cy="1038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aboración del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royecto definitiv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3" name="28 Rectángulo"/>
            <p:cNvSpPr/>
            <p:nvPr/>
          </p:nvSpPr>
          <p:spPr>
            <a:xfrm>
              <a:off x="2570040" y="2903400"/>
              <a:ext cx="3456000" cy="13158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 los coordinadores de las Agencias de Colocación en una Reunión técnica organizada men sualmente  para la formulación del Pro yecto definitivo (Taller de gerencia mien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10 Rectángulo"/>
            <p:cNvSpPr/>
            <p:nvPr/>
          </p:nvSpPr>
          <p:spPr>
            <a:xfrm>
              <a:off x="6205680" y="2903400"/>
              <a:ext cx="3457440" cy="10382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Borrador del Proyecto definitivo elaborado en el Taller para ser validado por los responsables a cargo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18 Rectángulo"/>
            <p:cNvSpPr/>
            <p:nvPr/>
          </p:nvSpPr>
          <p:spPr>
            <a:xfrm>
              <a:off x="9799920" y="29192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36 Rectángulo redondeado"/>
            <p:cNvSpPr/>
            <p:nvPr/>
          </p:nvSpPr>
          <p:spPr>
            <a:xfrm>
              <a:off x="88920" y="6712200"/>
              <a:ext cx="2352600" cy="865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28 Rectángulo"/>
            <p:cNvSpPr/>
            <p:nvPr/>
          </p:nvSpPr>
          <p:spPr>
            <a:xfrm>
              <a:off x="2584440" y="4371840"/>
              <a:ext cx="3457440" cy="647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juste del Proyecto definitivo en las Agencias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28 Rectángulo"/>
            <p:cNvSpPr/>
            <p:nvPr/>
          </p:nvSpPr>
          <p:spPr>
            <a:xfrm>
              <a:off x="2560680" y="7753320"/>
              <a:ext cx="3457440" cy="12110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oyecto definitivo por parte de un comité de evaluación del Ministerio y formulación de eventuales observaciones para su mejor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34 Rectángulo"/>
            <p:cNvSpPr/>
            <p:nvPr/>
          </p:nvSpPr>
          <p:spPr>
            <a:xfrm>
              <a:off x="6215040" y="77328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28 Rectángulo"/>
            <p:cNvSpPr/>
            <p:nvPr/>
          </p:nvSpPr>
          <p:spPr>
            <a:xfrm>
              <a:off x="6205680" y="434988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yecto definitivo de Creación de Centros de empleo adoptado por la Agencia y elevado al Conse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28 Rectángulo"/>
            <p:cNvSpPr/>
            <p:nvPr/>
          </p:nvSpPr>
          <p:spPr>
            <a:xfrm>
              <a:off x="2582640" y="6786720"/>
              <a:ext cx="3457440" cy="790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Proyecto de Crea cion de Centros de empleo por parte de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24 Rectángulo"/>
            <p:cNvSpPr/>
            <p:nvPr/>
          </p:nvSpPr>
          <p:spPr>
            <a:xfrm>
              <a:off x="9819000" y="43718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Documento aprobado por la Agencia de Colocacion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36 Rectángulo redondeado"/>
            <p:cNvSpPr/>
            <p:nvPr/>
          </p:nvSpPr>
          <p:spPr>
            <a:xfrm>
              <a:off x="98280" y="5156280"/>
              <a:ext cx="2377800" cy="974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Formalizacion por parte de los Consejos  (Alcaldías / Cajas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28 Rectángulo"/>
            <p:cNvSpPr/>
            <p:nvPr/>
          </p:nvSpPr>
          <p:spPr>
            <a:xfrm>
              <a:off x="2570040" y="5205600"/>
              <a:ext cx="3456000" cy="15066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mulgación por parte de la Alcaldía de la ordenanza de Creación de la Agencia de Colocación y del Centro de Empleo, precisando la institución que lo gestiona y los recursos otorgados para su funcionamien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22 Rectángulo"/>
            <p:cNvSpPr/>
            <p:nvPr/>
          </p:nvSpPr>
          <p:spPr>
            <a:xfrm>
              <a:off x="6188040" y="5246640"/>
              <a:ext cx="3457440" cy="8888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Ordenanza promulgada. Debe con templar el presupuesto relativo a espa cio físico, personal y gastos de funcio namiento y metas por un añ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36 Rectángulo redondeado"/>
            <p:cNvSpPr/>
            <p:nvPr/>
          </p:nvSpPr>
          <p:spPr>
            <a:xfrm>
              <a:off x="88920" y="7782120"/>
              <a:ext cx="2359080" cy="1415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ón del  Proyecto definitivo por parte del Ministerio y pasaje a la siguiente etapa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29 Rectángulo"/>
            <p:cNvSpPr/>
            <p:nvPr/>
          </p:nvSpPr>
          <p:spPr>
            <a:xfrm>
              <a:off x="9799920" y="7732800"/>
              <a:ext cx="3058920" cy="7920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28 Rectángulo"/>
            <p:cNvSpPr/>
            <p:nvPr/>
          </p:nvSpPr>
          <p:spPr>
            <a:xfrm>
              <a:off x="6186600" y="677700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Formulario del Proyecto definitivo de Creació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31 Rectángulo"/>
            <p:cNvSpPr/>
            <p:nvPr/>
          </p:nvSpPr>
          <p:spPr>
            <a:xfrm>
              <a:off x="9799920" y="6461280"/>
              <a:ext cx="3058920" cy="11142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Ordenanza municipal o Acta del Consejo de Administración que autoriza la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5D2-F705-44D0-B46D-9CAABADF05F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7 Rectángulo redondeado"/>
          <p:cNvSpPr/>
          <p:nvPr/>
        </p:nvSpPr>
        <p:spPr>
          <a:xfrm>
            <a:off x="1461960" y="2355840"/>
            <a:ext cx="10153800" cy="662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 corriente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ara el primer año. Metas 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 -  Metas – Acciones – Resultado – Cronograma Responsable - Recurs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1 Rectángulo"/>
          <p:cNvSpPr/>
          <p:nvPr/>
        </p:nvSpPr>
        <p:spPr>
          <a:xfrm>
            <a:off x="1461960" y="6461280"/>
            <a:ext cx="10153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nex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Ordenanza aproband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Espacio físico, infraestructura y mobiliario. Descrip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Recursos humanos y designación del respons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Presupuesto por un año. Gastos corrientes y metas del primer añ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42AD-F6A6-4513-808C-8FA43EA9024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es una herramienta imprescindible para la definición de la estrategia y su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os principales esfuerzos se destinan a los servicios, sin considerar  la importancia de estrategia de la cual depende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a gestión de los Centros de empleo tiene especificidades y es necesario formar a los coordinadores para que conozcan y se apropien de los procesos y herramientas necesarios para la planificación estratég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de la estrategia y gestión va a depender la legitimación del Centro de empleo en el territorio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1 Rectángulo"/>
          <p:cNvSpPr/>
          <p:nvPr/>
        </p:nvSpPr>
        <p:spPr>
          <a:xfrm>
            <a:off x="0" y="1060560"/>
            <a:ext cx="123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¿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qué  un Taller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renciamiento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n los Centros de Empleo...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74F-FADB-4EE6-B964-4CD18CC79B5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1"/>
          <a:stretch/>
        </p:blipFill>
        <p:spPr>
          <a:xfrm>
            <a:off x="231840" y="1189080"/>
            <a:ext cx="12436560" cy="7686720"/>
          </a:xfrm>
          <a:prstGeom prst="rect">
            <a:avLst/>
          </a:prstGeom>
          <a:ln w="0">
            <a:noFill/>
          </a:ln>
        </p:spPr>
      </p:pic>
      <p:sp>
        <p:nvSpPr>
          <p:cNvPr id="95" name="8 Rectángulo redondeado"/>
          <p:cNvSpPr/>
          <p:nvPr/>
        </p:nvSpPr>
        <p:spPr>
          <a:xfrm>
            <a:off x="0" y="412920"/>
            <a:ext cx="8015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undament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4F4-AC4A-4485-9863-A456CAD1F26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7 Rectángulo redondeado"/>
          <p:cNvSpPr/>
          <p:nvPr/>
        </p:nvSpPr>
        <p:spPr>
          <a:xfrm>
            <a:off x="453960" y="1839960"/>
            <a:ext cx="12025440" cy="7140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 Servicio por Servici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1 Rectángulo"/>
          <p:cNvSpPr/>
          <p:nvPr/>
        </p:nvSpPr>
        <p:spPr>
          <a:xfrm>
            <a:off x="1030320" y="2284560"/>
            <a:ext cx="1108872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1. Planificacion estratégica y contextualización de los temas que se van 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bordar: principios y componentes del planeamiento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2. Desarrollo del tal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os insumos de la planificació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oferta de servicios a partir del análisis de insum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El proceso  de planificación . Sus etap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s herramientas necesarias para planific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ejecución del plan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A60-5AB6-493B-A5FC-53BC72C824A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1 Rectángulo"/>
          <p:cNvSpPr/>
          <p:nvPr/>
        </p:nvSpPr>
        <p:spPr>
          <a:xfrm>
            <a:off x="285840" y="1131840"/>
            <a:ext cx="1231416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Principios del plane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El éxito del plan depende en gran medida de la calidad de la información que en él se proces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No hay peor plan que el que no se lleva a cabo o se interrump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Se debe considerar al planeamiento como el arma más eficaz para vencer la incertidumbre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Planificar significa fundamentalmente pensar, evaluar, analizar, pronosticar. No significa actuar solamente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4FE-C36B-4DCD-9E34-1031CB38AFE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1 Rectángulo"/>
          <p:cNvSpPr/>
          <p:nvPr/>
        </p:nvSpPr>
        <p:spPr>
          <a:xfrm>
            <a:off x="598320" y="1276200"/>
            <a:ext cx="1144908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Componentes de la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                    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agnostico del entorno / realidad /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bjetivos / 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cciones / Actividades / Organización de la tare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dios  / Recursos / Presupues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lazos / Tiemp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045E-B883-424F-8D4B-2BDB6D05359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93640" y="271620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920"/>
                <a:gridCol w="498240"/>
                <a:gridCol w="501840"/>
                <a:gridCol w="501480"/>
                <a:gridCol w="495360"/>
                <a:gridCol w="493920"/>
                <a:gridCol w="49356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41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1 Rectángulo"/>
          <p:cNvSpPr/>
          <p:nvPr/>
        </p:nvSpPr>
        <p:spPr>
          <a:xfrm>
            <a:off x="380880" y="1335240"/>
            <a:ext cx="11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2. Planificación anual de 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0785-8946-404C-80FE-8315CFE0A7B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8 Rectángulo redondeado"/>
          <p:cNvSpPr/>
          <p:nvPr/>
        </p:nvSpPr>
        <p:spPr>
          <a:xfrm>
            <a:off x="293760" y="993600"/>
            <a:ext cx="824220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ercera etapa:  Seguimiento y Plan de mejora de l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93" name="2 Grupo"/>
          <p:cNvGrpSpPr/>
          <p:nvPr/>
        </p:nvGrpSpPr>
        <p:grpSpPr>
          <a:xfrm>
            <a:off x="88920" y="2068560"/>
            <a:ext cx="12472920" cy="7200720"/>
            <a:chOff x="88920" y="2068560"/>
            <a:chExt cx="12472920" cy="7200720"/>
          </a:xfrm>
        </p:grpSpPr>
        <p:sp>
          <p:nvSpPr>
            <p:cNvPr id="294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18 Rectángulo"/>
            <p:cNvSpPr/>
            <p:nvPr/>
          </p:nvSpPr>
          <p:spPr>
            <a:xfrm>
              <a:off x="9801360" y="2909880"/>
              <a:ext cx="2760480" cy="13158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Gill San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terial para desarrollar los módul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      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(Ver bibliora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96" name="1 Grupo"/>
            <p:cNvGrpSpPr/>
            <p:nvPr/>
          </p:nvGrpSpPr>
          <p:grpSpPr>
            <a:xfrm>
              <a:off x="88920" y="2068560"/>
              <a:ext cx="9583920" cy="7200720"/>
              <a:chOff x="88920" y="2068560"/>
              <a:chExt cx="9583920" cy="7200720"/>
            </a:xfrm>
          </p:grpSpPr>
          <p:sp>
            <p:nvSpPr>
              <p:cNvPr id="297" name="28 Rectángulo"/>
              <p:cNvSpPr/>
              <p:nvPr/>
            </p:nvSpPr>
            <p:spPr>
              <a:xfrm>
                <a:off x="2584440" y="206856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8" name="36 Rectángulo redondeado"/>
              <p:cNvSpPr/>
              <p:nvPr/>
            </p:nvSpPr>
            <p:spPr>
              <a:xfrm>
                <a:off x="90360" y="2068560"/>
                <a:ext cx="235728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9" name="48 Rectángulo"/>
              <p:cNvSpPr/>
              <p:nvPr/>
            </p:nvSpPr>
            <p:spPr>
              <a:xfrm>
                <a:off x="6215400" y="206856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0" name="36 Rectángulo redondeado"/>
              <p:cNvSpPr/>
              <p:nvPr/>
            </p:nvSpPr>
            <p:spPr>
              <a:xfrm>
                <a:off x="88920" y="2860560"/>
                <a:ext cx="2381040" cy="1038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lan de Entrenamiento Presencial y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ara los Centr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1" name="28 Rectángulo"/>
              <p:cNvSpPr/>
              <p:nvPr/>
            </p:nvSpPr>
            <p:spPr>
              <a:xfrm>
                <a:off x="2560680" y="2908080"/>
                <a:ext cx="3456000" cy="10382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Organización de talleres de capaci tación para el personal del Centro de Empleo, incluyendo lo presencial y lo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2" name="10 Rectángulo"/>
              <p:cNvSpPr/>
              <p:nvPr/>
            </p:nvSpPr>
            <p:spPr>
              <a:xfrm>
                <a:off x="6215400" y="2908080"/>
                <a:ext cx="3457440" cy="10382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Desarrollo de los módulo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marL="285840" indent="-28584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(Ver programa del plan de entrenamiento)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3" name="36 Rectángulo redondeado"/>
              <p:cNvSpPr/>
              <p:nvPr/>
            </p:nvSpPr>
            <p:spPr>
              <a:xfrm>
                <a:off x="102960" y="6748560"/>
                <a:ext cx="2352600" cy="11174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Elaboración del Plan anual de mejora de los Servici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or parte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4" name="28 Rectángulo"/>
              <p:cNvSpPr/>
              <p:nvPr/>
            </p:nvSpPr>
            <p:spPr>
              <a:xfrm>
                <a:off x="6199200" y="4511520"/>
                <a:ext cx="3457440" cy="14000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estructurado de visita co elaborado con el Centro de empleo como insumo para la elaboración del plan de mejoras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de devolución con acuerdos para el plan de mejora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5" name="28 Rectángulo"/>
              <p:cNvSpPr/>
              <p:nvPr/>
            </p:nvSpPr>
            <p:spPr>
              <a:xfrm>
                <a:off x="2558880" y="6748560"/>
                <a:ext cx="3457440" cy="25207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anual de la Asistencia tecnica realizada a los Centros de empleo por parte del Ministerio que incluy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 Un capitulo dedicado a la Asistencia tecnica realizada en el curso del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Un capitulo dedicado a la formu lacion de recomendaciones para la im plementación de un plan de mejoras de la calidad de los servicios para el año próxim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6" name="36 Rectángulo redondeado"/>
              <p:cNvSpPr/>
              <p:nvPr/>
            </p:nvSpPr>
            <p:spPr>
              <a:xfrm>
                <a:off x="90360" y="4378320"/>
                <a:ext cx="2378160" cy="1512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Asistencia Tecnica y Seguimiento de los Centros de Empleo en el marco del Convenio firmado entre las parte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7" name="28 Rectángulo"/>
              <p:cNvSpPr/>
              <p:nvPr/>
            </p:nvSpPr>
            <p:spPr>
              <a:xfrm>
                <a:off x="2570040" y="4443480"/>
                <a:ext cx="3456000" cy="2162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plataforma durante el primer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gestión del Centro de empleo y prestación de los servicios durante el primer añ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mplementación de una mesa de ayuda virtual permanente a partir de la cuarta visit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8" name="28 Rectángulo"/>
              <p:cNvSpPr/>
              <p:nvPr/>
            </p:nvSpPr>
            <p:spPr>
              <a:xfrm>
                <a:off x="6215400" y="6748560"/>
                <a:ext cx="3457440" cy="14407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 realizado a partir del análisis de las actividades del año y las visitas a los Centros de empleo y una propuesta de plan mejora para la prestación de los servicios el año entrante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0C2-5F4C-4242-B15B-EF358CCAFE2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8 Rectángulo redondeado"/>
          <p:cNvSpPr/>
          <p:nvPr/>
        </p:nvSpPr>
        <p:spPr>
          <a:xfrm>
            <a:off x="39600" y="1231920"/>
            <a:ext cx="5526000" cy="5745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íntesis de las Herramientas en cada etap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2 Rectángulo redondeado"/>
          <p:cNvSpPr/>
          <p:nvPr/>
        </p:nvSpPr>
        <p:spPr>
          <a:xfrm>
            <a:off x="8782200" y="114156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3" name="2 Grupo"/>
          <p:cNvGrpSpPr/>
          <p:nvPr/>
        </p:nvGrpSpPr>
        <p:grpSpPr>
          <a:xfrm>
            <a:off x="468360" y="1959120"/>
            <a:ext cx="11660040" cy="7172280"/>
            <a:chOff x="468360" y="1959120"/>
            <a:chExt cx="11660040" cy="7172280"/>
          </a:xfrm>
        </p:grpSpPr>
        <p:sp>
          <p:nvSpPr>
            <p:cNvPr id="314" name="1 Rectángulo"/>
            <p:cNvSpPr/>
            <p:nvPr/>
          </p:nvSpPr>
          <p:spPr>
            <a:xfrm>
              <a:off x="46836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6 Rectángulo"/>
            <p:cNvSpPr/>
            <p:nvPr/>
          </p:nvSpPr>
          <p:spPr>
            <a:xfrm>
              <a:off x="8362800" y="1974960"/>
              <a:ext cx="3765600" cy="714060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6" name="8 Rectángulo redondeado"/>
            <p:cNvSpPr/>
            <p:nvPr/>
          </p:nvSpPr>
          <p:spPr>
            <a:xfrm>
              <a:off x="4870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Prim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7" name="15 Recortar rectángulo de esquina sencilla"/>
            <p:cNvSpPr/>
            <p:nvPr/>
          </p:nvSpPr>
          <p:spPr>
            <a:xfrm>
              <a:off x="669960" y="3324240"/>
              <a:ext cx="3384360" cy="1325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Taller de sensibilización en la Agencia de Colocación destinado a los Actores del Territorio que tienen vinculación directa con el Proyecto de Creacio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16 Elipse"/>
            <p:cNvSpPr/>
            <p:nvPr/>
          </p:nvSpPr>
          <p:spPr>
            <a:xfrm>
              <a:off x="669960" y="4794480"/>
              <a:ext cx="3384360" cy="1090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Guía del facilitador del Taller de Sensibilización para actores del Territorio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9" name="9 Rectángulo redondeado"/>
            <p:cNvSpPr/>
            <p:nvPr/>
          </p:nvSpPr>
          <p:spPr>
            <a:xfrm>
              <a:off x="4449600" y="41767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17 Recortar rectángulo de esquina sencilla"/>
            <p:cNvSpPr/>
            <p:nvPr/>
          </p:nvSpPr>
          <p:spPr>
            <a:xfrm>
              <a:off x="8589960" y="3341880"/>
              <a:ext cx="3313080" cy="1150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Visitas de asistencia técnica y se guimiento para facilitar  la implemen tacion de los servicios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16 Elipse"/>
            <p:cNvSpPr/>
            <p:nvPr/>
          </p:nvSpPr>
          <p:spPr>
            <a:xfrm>
              <a:off x="669960" y="6015240"/>
              <a:ext cx="3384360" cy="106668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PP de apoyo para el facilitador 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del Taller de Sensibilización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29 Rectángulo"/>
            <p:cNvSpPr/>
            <p:nvPr/>
          </p:nvSpPr>
          <p:spPr>
            <a:xfrm>
              <a:off x="441468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16 Elipse"/>
            <p:cNvSpPr/>
            <p:nvPr/>
          </p:nvSpPr>
          <p:spPr>
            <a:xfrm>
              <a:off x="669960" y="7280640"/>
              <a:ext cx="3384360" cy="1083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3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e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8 Rectángulo redondeado"/>
            <p:cNvSpPr/>
            <p:nvPr/>
          </p:nvSpPr>
          <p:spPr>
            <a:xfrm>
              <a:off x="444816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31 Recortar rectángulo de esquina sencilla"/>
            <p:cNvSpPr/>
            <p:nvPr/>
          </p:nvSpPr>
          <p:spPr>
            <a:xfrm>
              <a:off x="4557600" y="3341880"/>
              <a:ext cx="3384360" cy="180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Reunión técnica mensual organizada por el Ministerio de Trabajo, con la participación de referentes de las Agencias de Colocación, con el objeto de comenzar a confeccionar el Proyecto de Creacio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16 Elipse"/>
            <p:cNvSpPr/>
            <p:nvPr/>
          </p:nvSpPr>
          <p:spPr>
            <a:xfrm>
              <a:off x="4557600" y="5324760"/>
              <a:ext cx="3384360" cy="10857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4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8 Rectángulo redondeado"/>
            <p:cNvSpPr/>
            <p:nvPr/>
          </p:nvSpPr>
          <p:spPr>
            <a:xfrm>
              <a:off x="83836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Terc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16 Elipse"/>
            <p:cNvSpPr/>
            <p:nvPr/>
          </p:nvSpPr>
          <p:spPr>
            <a:xfrm>
              <a:off x="8489880" y="4649760"/>
              <a:ext cx="3384360" cy="121752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5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el seguimiento y plan de mejora de los Servicios del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83B-9B20-4182-BE42-03CD5CDB9DD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10 Diagrama" descr=""/>
          <p:cNvPicPr/>
          <p:nvPr/>
        </p:nvPicPr>
        <p:blipFill>
          <a:blip r:embed="rId1"/>
          <a:stretch/>
        </p:blipFill>
        <p:spPr>
          <a:xfrm>
            <a:off x="-219240" y="1011240"/>
            <a:ext cx="13033440" cy="784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04D-C396-4CD2-90DA-71AFF2749F8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ipos de aten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10 Diagrama" descr=""/>
          <p:cNvPicPr/>
          <p:nvPr/>
        </p:nvPicPr>
        <p:blipFill>
          <a:blip r:embed="rId1"/>
          <a:stretch/>
        </p:blipFill>
        <p:spPr>
          <a:xfrm>
            <a:off x="542880" y="1779480"/>
            <a:ext cx="11496600" cy="6267600"/>
          </a:xfrm>
          <a:prstGeom prst="rect">
            <a:avLst/>
          </a:prstGeom>
          <a:ln w="0">
            <a:noFill/>
          </a:ln>
        </p:spPr>
      </p:pic>
      <p:sp>
        <p:nvSpPr>
          <p:cNvPr id="102" name="11 Rectángulo"/>
          <p:cNvSpPr/>
          <p:nvPr/>
        </p:nvSpPr>
        <p:spPr>
          <a:xfrm>
            <a:off x="165240" y="7975440"/>
            <a:ext cx="12530160" cy="93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Gill Sans MT"/>
              </a:rPr>
              <a:t>SERVICIOS COMPLEMENTARIOS con cobro autorizado</a:t>
            </a:r>
            <a:r>
              <a:rPr b="0" lang="es-CO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Estudios de perfiles; aplicación e interpretación de pruebas psicotécnicas; construcción de planes  de capacitación; construcción  y puesta en marcha de planes de inducción; entrevistas estructuradas a cargos especializados;  identificación de perfiles especializados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CO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26 CuadroTexto"/>
          <p:cNvSpPr/>
          <p:nvPr/>
        </p:nvSpPr>
        <p:spPr>
          <a:xfrm>
            <a:off x="1461960" y="1347840"/>
            <a:ext cx="92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Gill Sans"/>
                <a:ea typeface="Arial"/>
              </a:rPr>
              <a:t>Tipos de atención gratuitos del servicio public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3CFD-5CF0-4EA1-9B29-C1D379521D0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ofreci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6 CuadroTexto"/>
          <p:cNvSpPr/>
          <p:nvPr/>
        </p:nvSpPr>
        <p:spPr>
          <a:xfrm>
            <a:off x="1101600" y="3940200"/>
            <a:ext cx="35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SERVICIOS QUE OFRECEN LAS AGENCIAS DE GESTIÓN Y COLOCACIÓN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8 Diagrama" descr=""/>
          <p:cNvPicPr/>
          <p:nvPr/>
        </p:nvPicPr>
        <p:blipFill>
          <a:blip r:embed="rId1"/>
          <a:stretch/>
        </p:blipFill>
        <p:spPr>
          <a:xfrm>
            <a:off x="4979880" y="2571840"/>
            <a:ext cx="662616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623-F103-4B6F-9D13-817090C3BDA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ncipios bás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7 CuadroTexto"/>
          <p:cNvSpPr/>
          <p:nvPr/>
        </p:nvSpPr>
        <p:spPr>
          <a:xfrm>
            <a:off x="460440" y="1276200"/>
            <a:ext cx="11874600" cy="87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fica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La mejor utilización de los recursos , para la adecuada y oportuna prestación del servicio al trabajador es y empleadore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niversal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garantiza a todas las personas la asequibilidad a los servicios independientemente de la condición de ocupacional ( Empleados, desempleados, independientes, cuenta propia ) y de sus condiciones de raza, color , sexo , religión, edad , opinión política  y origen social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tad de Escog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ermitirá a trabajadores y empleadores, la libre selección del prestador de servicio público de empleo, entre los operadores autoriz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iabilidad.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rvicio se prestara con plenas garantías a empleadores y trabajadores acerca de la oportunidad , pertinencia y calidad de los procesos que la integra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El servicio público de empleo se prestara de manera oportuna , personalizada , humanizada , integral y continua , de acuerdo a los estándares de calidad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094-658A-43EF-B027-920EABB52ED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Red de prestador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6 CuadroTexto"/>
          <p:cNvSpPr/>
          <p:nvPr/>
        </p:nvSpPr>
        <p:spPr>
          <a:xfrm>
            <a:off x="1965240" y="4367160"/>
            <a:ext cx="34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RED DE PRESTADORES DEL SERVICIO PÚBLIC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20 Corchetes"/>
          <p:cNvSpPr/>
          <p:nvPr/>
        </p:nvSpPr>
        <p:spPr>
          <a:xfrm>
            <a:off x="7639200" y="5138640"/>
            <a:ext cx="3400200" cy="7146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 PÚBLICA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-SENA-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16 Corchetes"/>
          <p:cNvSpPr/>
          <p:nvPr/>
        </p:nvSpPr>
        <p:spPr>
          <a:xfrm>
            <a:off x="7639200" y="4086360"/>
            <a:ext cx="3816360" cy="79056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JAS DE COMPENSACIÓN FAMILIA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1 Corchetes"/>
          <p:cNvSpPr/>
          <p:nvPr/>
        </p:nvSpPr>
        <p:spPr>
          <a:xfrm>
            <a:off x="7693200" y="3076560"/>
            <a:ext cx="3993840" cy="644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 O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21 Corchetes"/>
          <p:cNvSpPr/>
          <p:nvPr/>
        </p:nvSpPr>
        <p:spPr>
          <a:xfrm>
            <a:off x="7667640" y="6167520"/>
            <a:ext cx="3371760" cy="725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ENTRO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9 Corchetes"/>
          <p:cNvSpPr/>
          <p:nvPr/>
        </p:nvSpPr>
        <p:spPr>
          <a:xfrm>
            <a:off x="7656480" y="7326360"/>
            <a:ext cx="3382920" cy="50328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OLS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119" name="13 Conector recto de flecha"/>
          <p:cNvCxnSpPr/>
          <p:nvPr/>
        </p:nvCxnSpPr>
        <p:spPr>
          <a:xfrm flipV="1">
            <a:off x="5565600" y="3469680"/>
            <a:ext cx="2074320" cy="17974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0" name="14 Conector recto de flecha"/>
          <p:cNvCxnSpPr>
            <a:endCxn id="115" idx="1"/>
          </p:cNvCxnSpPr>
          <p:nvPr/>
        </p:nvCxnSpPr>
        <p:spPr>
          <a:xfrm flipV="1">
            <a:off x="5565600" y="4481280"/>
            <a:ext cx="2074320" cy="786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1" name="16 Conector recto de flecha"/>
          <p:cNvCxnSpPr/>
          <p:nvPr/>
        </p:nvCxnSpPr>
        <p:spPr>
          <a:xfrm>
            <a:off x="5613480" y="5276880"/>
            <a:ext cx="2071800" cy="264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2" name="18 Conector recto de flecha"/>
          <p:cNvCxnSpPr/>
          <p:nvPr/>
        </p:nvCxnSpPr>
        <p:spPr>
          <a:xfrm>
            <a:off x="5565600" y="5267160"/>
            <a:ext cx="2074320" cy="13312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3" name="20 Conector recto de flecha"/>
          <p:cNvCxnSpPr/>
          <p:nvPr/>
        </p:nvCxnSpPr>
        <p:spPr>
          <a:xfrm>
            <a:off x="5565600" y="5266800"/>
            <a:ext cx="2074320" cy="22658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09C-CD6C-40AC-96F4-91AB5E2F128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965160" y="4013280"/>
            <a:ext cx="1130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Es el espacio Físico y/o Virtual</a:t>
            </a: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, donde se desarrollan servicios de colocación, que permite el encuentro entre los trabajadores que buscan emplearse y los empresarios que necesitan mano de obr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Permite además acercar la oferta de servicios complementarios para  contribuir a la competitividad de los trabajador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7 Rectángulo"/>
          <p:cNvSpPr/>
          <p:nvPr/>
        </p:nvSpPr>
        <p:spPr>
          <a:xfrm>
            <a:off x="2181240" y="2735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¿Qué es un Centro de empleo?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Jonathan Eskinazi</cp:lastModifiedBy>
  <dcterms:modified xsi:type="dcterms:W3CDTF">2014-12-18T11:45:59Z</dcterms:modified>
  <cp:revision>532</cp:revision>
  <dc:subject/>
  <dc:title>Titulo de la presentación -Subtítulo de la presentación-</dc:title>
</cp:coreProperties>
</file>