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CEA5-CC4C-4A3D-BC64-D70F66090AEA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641E-37CF-4A7D-90C1-F770205263C2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37F6-2A3E-476A-A01F-3474D0D9787F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A6DC-606B-4E83-88F9-124519FDF706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0B87-B3EC-43A1-AFD9-D4B10644F37C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162B-F99F-4DBC-89DC-BD56A7826BB2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76D6-82CB-43FC-8598-044FC9D3F4FB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CEC5-CE8F-40FA-BDC1-1C9918DE09BC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A74B-2D51-43D4-A522-81DFE55ACDF9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8504-B855-43F1-A3C8-75DDDCCF5733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CE7B-C71A-41EE-86EB-07EC38C7FE02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7A38-1D2F-48A3-90BC-5256D7ECD3B7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4190-9D67-4DBC-BA58-82C3C6DD1351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9B98-1347-44F5-9024-5679C71CC458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D2BF-3E33-48FA-BA89-733E2B99DC72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CF1F-67DF-4A6B-8A7D-C7518ED3954D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D2C1-F72E-42C8-99AA-491128D2BFF1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7887-B7CD-4946-BA5A-F10790303584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661B-DA7B-46B3-B6DA-8402883BB599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0BAA-831E-41EA-BD89-A9D437140F0D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19F9-8293-44A4-93B3-F50AE7AD569D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8ABF-2F85-4ACB-BD9E-8CA4248309B8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C48E-DF09-4F7B-AA1A-ED89723B0F47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F8A4-0E94-415B-BFB2-A88556A93843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9436-1232-4979-B001-1A18C07A25E1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FB83-AF55-4255-B5BF-BA5E55B97A46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99E6-7DE6-44BF-8F71-E7949376E5C0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7E75-4D02-4CB6-B2EE-E62C4881A7B7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4984-8BB7-4E35-A24E-AE0DB5D1293F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0730-D746-41F2-8682-1BF75023C8BA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16F7-6BCC-4BC6-8B72-657D34B1BA8A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68C7-B17F-4CDD-A716-EE7CC48A89D5}" type="slidenum">
              <a:rPr b="0" lang="it-IT" sz="12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E67D-F58C-4029-988C-3FD1B9F3B3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07F8-DC77-4B32-952C-847F66DA85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2F1B-0E6F-43C9-8666-4C35001CCE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5FC0-0122-44C3-9BA7-A84470F7C8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742D-59AF-47E2-89C6-71670E21AA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68F09-085C-4E09-8D62-5D2A351B00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7611-0B11-4838-BBE3-36615CF998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9054-18DE-490D-9B00-2C1E789C52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0314-C488-4291-B8B0-F00BFA5720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8605-AEE5-474E-A09E-52E6E76AB7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1581-00DE-42E7-902E-D8B6568A06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99FE-EBFB-40A2-833E-C9A1547EB8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234E-51A3-47F6-8673-4F88AC94CAA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-11268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0" y="7988400"/>
            <a:ext cx="13004640" cy="17650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287280" y="8148600"/>
            <a:ext cx="12204720" cy="1400040"/>
          </a:xfrm>
          <a:prstGeom prst="rect">
            <a:avLst/>
          </a:prstGeom>
          <a:ln w="0">
            <a:noFill/>
          </a:ln>
        </p:spPr>
      </p:pic>
      <p:sp>
        <p:nvSpPr>
          <p:cNvPr id="89" name="Line 4"/>
          <p:cNvSpPr/>
          <p:nvPr/>
        </p:nvSpPr>
        <p:spPr>
          <a:xfrm flipV="1">
            <a:off x="0" y="7999560"/>
            <a:ext cx="1300464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AR" sz="4000" spc="-1" strike="noStrike">
                <a:solidFill>
                  <a:srgbClr val="ffffff"/>
                </a:solidFill>
                <a:latin typeface="Gill Sans MT"/>
              </a:rPr>
              <a:t>Proceso de Creación de Centros de empleo </a:t>
            </a:r>
            <a:br>
              <a:rPr sz="4000"/>
            </a:br>
            <a:r>
              <a:rPr b="0" lang="es-AR" sz="4000" spc="-1" strike="noStrike">
                <a:solidFill>
                  <a:srgbClr val="ffffff"/>
                </a:solidFill>
                <a:latin typeface="Gill Sans MT"/>
              </a:rPr>
              <a:t>e Integración a la Red Nacional</a:t>
            </a:r>
            <a:r>
              <a:rPr b="0" lang="es-AR" sz="4800" spc="-1" strike="noStrike">
                <a:solidFill>
                  <a:srgbClr val="ffffff"/>
                </a:solidFill>
                <a:latin typeface="Gill Sans MT"/>
              </a:rPr>
              <a:t>.</a:t>
            </a:r>
            <a:br>
              <a:rPr sz="4800"/>
            </a:br>
            <a:br>
              <a:rPr sz="4800"/>
            </a:br>
            <a:r>
              <a:rPr b="0" lang="es-AR" sz="6000" spc="-1" strike="noStrike">
                <a:solidFill>
                  <a:srgbClr val="ffffff"/>
                </a:solidFill>
                <a:latin typeface="Gill Sans MT"/>
              </a:rPr>
              <a:t>Taller de Sensibilización</a:t>
            </a:r>
            <a:br>
              <a:rPr sz="7200"/>
            </a:br>
            <a:br>
              <a:rPr sz="4800"/>
            </a:br>
            <a:endParaRPr b="0" lang="en-US" sz="6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0539-E900-47CA-BE0D-643279E7CDB5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Centros de emple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7 Rectángulo"/>
          <p:cNvSpPr/>
          <p:nvPr/>
        </p:nvSpPr>
        <p:spPr>
          <a:xfrm>
            <a:off x="1042920" y="3436920"/>
            <a:ext cx="9793440" cy="56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3600" spc="-1" strike="noStrike">
                <a:solidFill>
                  <a:srgbClr val="000000"/>
                </a:solidFill>
                <a:latin typeface="Gill Sans MT"/>
              </a:rPr>
              <a:t>Los operados por las Agencias de Colocación Pública.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s-MX" sz="3600" spc="-1" strike="noStrike">
                <a:solidFill>
                  <a:srgbClr val="000000"/>
                </a:solidFill>
                <a:latin typeface="Gill Sans MT"/>
                <a:ea typeface="Arial"/>
              </a:rPr>
              <a:t>Los operados por las Agencias de Colocación Privada (Cajas de Compensación Familiar, Cámaras de Comercio, Gremios, Sociedades, y entidades que se conformen en convenios entre estos, entre otros).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7 Rectángulo"/>
          <p:cNvSpPr/>
          <p:nvPr/>
        </p:nvSpPr>
        <p:spPr>
          <a:xfrm>
            <a:off x="1606680" y="2209680"/>
            <a:ext cx="92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Gill Sans"/>
              </a:rPr>
              <a:t>Modalidades de los Centros de empleo </a:t>
            </a:r>
            <a:r>
              <a:rPr b="1" lang="es-CO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9F31-B96E-4A83-BAAD-C54F21ADEA45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8 Rectángulo redondeado"/>
          <p:cNvSpPr/>
          <p:nvPr/>
        </p:nvSpPr>
        <p:spPr>
          <a:xfrm>
            <a:off x="0" y="412920"/>
            <a:ext cx="7223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entros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34" name="3 Marcador de texto"/>
          <p:cNvGrpSpPr/>
          <p:nvPr/>
        </p:nvGrpSpPr>
        <p:grpSpPr>
          <a:xfrm>
            <a:off x="689040" y="3316320"/>
            <a:ext cx="11350440" cy="3584520"/>
            <a:chOff x="689040" y="3316320"/>
            <a:chExt cx="11350440" cy="3584520"/>
          </a:xfrm>
        </p:grpSpPr>
        <p:pic>
          <p:nvPicPr>
            <p:cNvPr id="135" name="3 Marcador de texto" descr=""/>
            <p:cNvPicPr/>
            <p:nvPr/>
          </p:nvPicPr>
          <p:blipFill>
            <a:blip r:embed="rId1"/>
            <a:stretch/>
          </p:blipFill>
          <p:spPr>
            <a:xfrm>
              <a:off x="689040" y="3316320"/>
              <a:ext cx="1135044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41240" y="3363840"/>
              <a:ext cx="11090520" cy="34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ffffff"/>
                  </a:solidFill>
                  <a:latin typeface="Gill Sans MT"/>
                </a:rPr>
                <a:t>   </a:t>
              </a:r>
              <a:r>
                <a:rPr b="0" lang="es-CO" sz="3200" spc="-1" strike="noStrike">
                  <a:solidFill>
                    <a:srgbClr val="ffffff"/>
                  </a:solidFill>
                  <a:latin typeface="Gill Sans MT"/>
                </a:rPr>
                <a:t>Conformar la </a:t>
              </a:r>
              <a:r>
                <a:rPr b="1" lang="es-CO" sz="3200" spc="-1" strike="noStrike">
                  <a:solidFill>
                    <a:srgbClr val="c00000"/>
                  </a:solidFill>
                  <a:latin typeface="Gill Sans MT"/>
                </a:rPr>
                <a:t>institucionalidad</a:t>
              </a:r>
              <a:r>
                <a:rPr b="0" lang="es-CO" sz="3200" spc="-1" strike="noStrike">
                  <a:solidFill>
                    <a:srgbClr val="c00000"/>
                  </a:solidFill>
                  <a:latin typeface="Gill Sans MT"/>
                </a:rPr>
                <a:t> </a:t>
              </a:r>
              <a:r>
                <a:rPr b="0" lang="es-CO" sz="3200" spc="-1" strike="noStrike">
                  <a:solidFill>
                    <a:srgbClr val="ffffff"/>
                  </a:solidFill>
                  <a:latin typeface="Gill Sans MT"/>
                </a:rPr>
                <a:t>que permita integrar, articular, coordinar y focalizar las políticas </a:t>
              </a:r>
              <a:r>
                <a:rPr b="1" lang="es-CO" sz="3200" spc="-1" strike="noStrike">
                  <a:solidFill>
                    <a:srgbClr val="c00000"/>
                  </a:solidFill>
                  <a:latin typeface="Gill Sans MT"/>
                </a:rPr>
                <a:t>activas</a:t>
              </a:r>
              <a:r>
                <a:rPr b="0" lang="es-CO" sz="3200" spc="-1" strike="noStrike">
                  <a:solidFill>
                    <a:srgbClr val="c00000"/>
                  </a:solidFill>
                  <a:latin typeface="Gill Sans MT"/>
                </a:rPr>
                <a:t> </a:t>
              </a:r>
              <a:r>
                <a:rPr b="0" lang="es-CO" sz="3200" spc="-1" strike="noStrike">
                  <a:solidFill>
                    <a:srgbClr val="ffffff"/>
                  </a:solidFill>
                  <a:latin typeface="Gill Sans MT"/>
                </a:rPr>
                <a:t>y </a:t>
              </a:r>
              <a:r>
                <a:rPr b="1" lang="es-CO" sz="3200" spc="-1" strike="noStrike">
                  <a:solidFill>
                    <a:srgbClr val="c00000"/>
                  </a:solidFill>
                  <a:latin typeface="Gill Sans MT"/>
                </a:rPr>
                <a:t>pasivas</a:t>
              </a:r>
              <a:r>
                <a:rPr b="0" lang="es-CO" sz="3200" spc="-1" strike="noStrike">
                  <a:solidFill>
                    <a:srgbClr val="c00000"/>
                  </a:solidFill>
                  <a:latin typeface="Gill Sans MT"/>
                </a:rPr>
                <a:t> </a:t>
              </a:r>
              <a:r>
                <a:rPr b="0" lang="es-CO" sz="3200" spc="-1" strike="noStrike">
                  <a:solidFill>
                    <a:srgbClr val="ffffff"/>
                  </a:solidFill>
                  <a:latin typeface="Gill Sans MT"/>
                </a:rPr>
                <a:t>de empleo, potenciar el uso de los instrumentos</a:t>
              </a:r>
              <a:r>
                <a:rPr b="1" lang="es-CO" sz="32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r>
                <a:rPr b="0" lang="es-CO" sz="3200" spc="-1" strike="noStrike">
                  <a:solidFill>
                    <a:srgbClr val="ffffff"/>
                  </a:solidFill>
                  <a:latin typeface="Gill Sans MT"/>
                </a:rPr>
                <a:t>de política que contribuyan a un encuentro más </a:t>
              </a:r>
              <a:r>
                <a:rPr b="1" lang="es-CO" sz="3200" spc="-1" strike="noStrike">
                  <a:solidFill>
                    <a:srgbClr val="c00000"/>
                  </a:solidFill>
                  <a:latin typeface="Gill Sans MT"/>
                </a:rPr>
                <a:t>racional y eficiente </a:t>
              </a:r>
              <a:r>
                <a:rPr b="0" lang="es-CO" sz="3200" spc="-1" strike="noStrike">
                  <a:solidFill>
                    <a:srgbClr val="ffffff"/>
                  </a:solidFill>
                  <a:latin typeface="Gill Sans MT"/>
                </a:rPr>
                <a:t>entre oferta y demanda de trabajo. 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58FC-EE86-41C5-B1DF-120916E0E912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8 Rectángulo redondeado"/>
          <p:cNvSpPr/>
          <p:nvPr/>
        </p:nvSpPr>
        <p:spPr>
          <a:xfrm>
            <a:off x="0" y="412920"/>
            <a:ext cx="923940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entros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Objetivos especific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9" name="7 Diagrama" descr=""/>
          <p:cNvPicPr/>
          <p:nvPr/>
        </p:nvPicPr>
        <p:blipFill>
          <a:blip r:embed="rId1"/>
          <a:stretch/>
        </p:blipFill>
        <p:spPr>
          <a:xfrm>
            <a:off x="103320" y="841320"/>
            <a:ext cx="12863520" cy="7851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A4BE-0EE1-4C69-883E-B1A1D30DEA60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entros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Estrategi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2" name="6 Diagrama" descr=""/>
          <p:cNvPicPr/>
          <p:nvPr/>
        </p:nvPicPr>
        <p:blipFill>
          <a:blip r:embed="rId1"/>
          <a:stretch/>
        </p:blipFill>
        <p:spPr>
          <a:xfrm>
            <a:off x="1646280" y="2560680"/>
            <a:ext cx="1149660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044C-F16B-452C-87E8-A24285E2091E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entros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Estrategi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5" name="7 Diagrama" descr=""/>
          <p:cNvPicPr/>
          <p:nvPr/>
        </p:nvPicPr>
        <p:blipFill>
          <a:blip r:embed="rId1"/>
          <a:stretch/>
        </p:blipFill>
        <p:spPr>
          <a:xfrm>
            <a:off x="1523880" y="2193840"/>
            <a:ext cx="11106360" cy="6370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2C3B-3995-49CD-91E7-4A16312AF93E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s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Glosari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8" name="7 Diagrama" descr=""/>
          <p:cNvPicPr/>
          <p:nvPr/>
        </p:nvPicPr>
        <p:blipFill>
          <a:blip r:embed="rId1"/>
          <a:stretch/>
        </p:blipFill>
        <p:spPr>
          <a:xfrm>
            <a:off x="738360" y="2139840"/>
            <a:ext cx="11386800" cy="6265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BBA6-3B55-431D-8645-F72C3CB26A43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5 CuadroTexto"/>
          <p:cNvSpPr/>
          <p:nvPr/>
        </p:nvSpPr>
        <p:spPr>
          <a:xfrm>
            <a:off x="1749600" y="4013280"/>
            <a:ext cx="95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Gill Sans"/>
              </a:rPr>
              <a:t>PROCESO DE CREACION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Gill Sans"/>
              </a:rPr>
              <a:t>DE LOS CENTROS DE EMPLEO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Gill Sans"/>
              </a:rPr>
              <a:t>Y SU INTEGRACION A LA RED NACIONAL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DC5F-B3F8-47C4-94B0-08BEEA871F81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1 Rectángulo"/>
          <p:cNvSpPr/>
          <p:nvPr/>
        </p:nvSpPr>
        <p:spPr>
          <a:xfrm>
            <a:off x="1030320" y="2284560"/>
            <a:ext cx="1015200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"/>
              </a:rPr>
              <a:t>Hay una </a:t>
            </a:r>
            <a:r>
              <a:rPr b="1" i="1" lang="es-ES" sz="3200" spc="-1" strike="noStrike">
                <a:solidFill>
                  <a:srgbClr val="000000"/>
                </a:solidFill>
                <a:latin typeface="Century"/>
              </a:rPr>
              <a:t>estrategia del Ministerio de Trabajo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entury"/>
              </a:rPr>
              <a:t>que define prioridades</a:t>
            </a:r>
            <a:r>
              <a:rPr b="0" i="1" lang="es-ES" sz="32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entury"/>
              </a:rPr>
              <a:t>para el desarrollo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"/>
              </a:rPr>
              <a:t>de la red de Agencias de Colocación en el territorio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1 Rectángulo"/>
          <p:cNvSpPr/>
          <p:nvPr/>
        </p:nvSpPr>
        <p:spPr>
          <a:xfrm>
            <a:off x="4587480" y="1204920"/>
            <a:ext cx="22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«</a:t>
            </a: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Supuesto»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8 Rectángulo redondeado"/>
          <p:cNvSpPr/>
          <p:nvPr/>
        </p:nvSpPr>
        <p:spPr>
          <a:xfrm>
            <a:off x="0" y="412920"/>
            <a:ext cx="923940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ón de los Centros de empleo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Supues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AF76-16C3-437E-BAFC-E5DF4B6ABC9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1 Rectángulo"/>
          <p:cNvSpPr/>
          <p:nvPr/>
        </p:nvSpPr>
        <p:spPr>
          <a:xfrm>
            <a:off x="598320" y="2284560"/>
            <a:ext cx="1216836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Creación de los Centros de empleo  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Incorporación 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Es un proceso que se desarrolla en etap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Contempla una secuencia de pasos previamente identificad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Requiere cumplir con condiciones especificas en cada paso del proces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8 Rectángulo redondeado"/>
          <p:cNvSpPr/>
          <p:nvPr/>
        </p:nvSpPr>
        <p:spPr>
          <a:xfrm>
            <a:off x="0" y="412920"/>
            <a:ext cx="909468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ó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Característica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7670-5923-4F1B-B3B4-D8FBB4CFCC4C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1 Rectángulo"/>
          <p:cNvSpPr/>
          <p:nvPr/>
        </p:nvSpPr>
        <p:spPr>
          <a:xfrm>
            <a:off x="741240" y="1781280"/>
            <a:ext cx="1144908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Creación de los Centros de empleo  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Incorporación 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Este proceso garantiz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                             </a:t>
            </a: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* Para el Ministeri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Una sistematización de las actividades de asistencia técnica dirigidas a las Agenci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Una mayor eficiencia / planificación en la organización de las actividades de asistencia técnic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definición de prioridades de asistencia técnic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El desarrollo de herramientas necesarias para cada intervenció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Un servicio de calidad y homogéneo para cada Centro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ó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Garantiz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5035-C59A-4FAA-938A-9C8EAF48EAF4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5 CuadroTexto"/>
          <p:cNvSpPr/>
          <p:nvPr/>
        </p:nvSpPr>
        <p:spPr>
          <a:xfrm>
            <a:off x="2109960" y="4516560"/>
            <a:ext cx="8496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Gill Sans"/>
              </a:rPr>
              <a:t>SERVICIO PÚBLICO DE EMPLEO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Gill Sans"/>
              </a:rPr>
              <a:t>Decreto 0722/2013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BB8D-795E-43A6-9405-A1C8573EE6B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1 Rectángulo"/>
          <p:cNvSpPr/>
          <p:nvPr/>
        </p:nvSpPr>
        <p:spPr>
          <a:xfrm>
            <a:off x="669960" y="1708200"/>
            <a:ext cx="11520360" cy="68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Creación de los Centros de empleo  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Incorporación 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Este proceso garantiz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                              </a:t>
            </a: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* Para las Agenci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identificación de las pautas y criterios necesarios para la Creación del Centro de empleo y su incorporación 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activación de los recursos que serán necesarios para crear el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Centro de empleo y asegurar su sostenibil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coordinación de las actividades de asistencia técnica con el Ministerio de Trabaj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8 Rectángulo redondeado"/>
          <p:cNvSpPr/>
          <p:nvPr/>
        </p:nvSpPr>
        <p:spPr>
          <a:xfrm>
            <a:off x="0" y="412920"/>
            <a:ext cx="851868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ó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Garantiz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DFED-EC67-486E-AAD6-D0AC6E7A5931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1 Rectángulo"/>
          <p:cNvSpPr/>
          <p:nvPr/>
        </p:nvSpPr>
        <p:spPr>
          <a:xfrm>
            <a:off x="0" y="1852560"/>
            <a:ext cx="13004640" cy="68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Century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Century"/>
              </a:rPr>
              <a:t>Etapa  prev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entury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Tramitación del expediente </a:t>
            </a: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 de autorización como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Century"/>
              </a:rPr>
              <a:t>Agencia de Colocación</a:t>
            </a:r>
            <a:r>
              <a:rPr b="1" i="1" lang="es-ES" sz="2000" spc="-1" strike="noStrike">
                <a:solidFill>
                  <a:srgbClr val="333399"/>
                </a:solidFill>
                <a:latin typeface="Centu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Century"/>
              </a:rPr>
              <a:t> </a:t>
            </a:r>
            <a:r>
              <a:rPr b="1" i="1" lang="es-ES" sz="2400" spc="-1" strike="noStrike">
                <a:solidFill>
                  <a:srgbClr val="333399"/>
                </a:solidFill>
                <a:latin typeface="Century"/>
              </a:rPr>
              <a:t>Primera  etapa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Century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Inicio del proceso de asistencia técnica para la creación del Centro de empleo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que culmina con la elaboración y presentacion del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"/>
              </a:rPr>
              <a:t>Pre proyecto de Creación del Centro de emple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Century"/>
              </a:rPr>
              <a:t>Segunda etap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Continuación del  proceso de asistencia técnica para la creación del Centro de empleo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que culmina con la elaboración y presentación del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"/>
              </a:rPr>
              <a:t>Proyecto de Creacion del  Centro de Empleo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Century"/>
              </a:rPr>
              <a:t>Tercera etap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Continuación del  proceso de asistencia técnica para la creación del Centro de empleo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que consiste en el </a:t>
            </a:r>
            <a:r>
              <a:rPr b="1" lang="es-ES" sz="2000" spc="-1" strike="noStrike">
                <a:solidFill>
                  <a:srgbClr val="000000"/>
                </a:solidFill>
                <a:latin typeface="Century"/>
              </a:rPr>
              <a:t>Seguimiento y Plan de mejora de los Servicios del Centro de Empleo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1 Rectángulo"/>
          <p:cNvSpPr/>
          <p:nvPr/>
        </p:nvSpPr>
        <p:spPr>
          <a:xfrm>
            <a:off x="0" y="1265400"/>
            <a:ext cx="130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entury"/>
              </a:rPr>
              <a:t>Etapas  para la Creación de los Centros de empleo y su Integración  a la Red Naciona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8 Rectángulo redondeado"/>
          <p:cNvSpPr/>
          <p:nvPr/>
        </p:nvSpPr>
        <p:spPr>
          <a:xfrm>
            <a:off x="0" y="41292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ó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Etap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B7FF-2425-4C05-A7B9-9FBBB0DE7974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2 Rectángulo redondeado"/>
          <p:cNvSpPr/>
          <p:nvPr/>
        </p:nvSpPr>
        <p:spPr>
          <a:xfrm>
            <a:off x="8845560" y="1204920"/>
            <a:ext cx="3745080" cy="63504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8 Rectángulo redondeado"/>
          <p:cNvSpPr/>
          <p:nvPr/>
        </p:nvSpPr>
        <p:spPr>
          <a:xfrm>
            <a:off x="293760" y="993600"/>
            <a:ext cx="8153280" cy="854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Etapa previa:  Cumplimiento de requisitos para la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Creación de una Agencia de Colocación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8 Rectángulo redondeado"/>
          <p:cNvSpPr/>
          <p:nvPr/>
        </p:nvSpPr>
        <p:spPr>
          <a:xfrm>
            <a:off x="0" y="32544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de Creación de los Centros de empleo.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 Etap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72" name="2 Grupo"/>
          <p:cNvGrpSpPr/>
          <p:nvPr/>
        </p:nvGrpSpPr>
        <p:grpSpPr>
          <a:xfrm>
            <a:off x="258840" y="1996920"/>
            <a:ext cx="12331800" cy="5481720"/>
            <a:chOff x="258840" y="1996920"/>
            <a:chExt cx="12331800" cy="5481720"/>
          </a:xfrm>
        </p:grpSpPr>
        <p:sp>
          <p:nvSpPr>
            <p:cNvPr id="173" name="36 Rectángulo redondeado"/>
            <p:cNvSpPr/>
            <p:nvPr/>
          </p:nvSpPr>
          <p:spPr>
            <a:xfrm>
              <a:off x="258840" y="5110200"/>
              <a:ext cx="2212920" cy="8064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Cumplimiento de los Pre requisito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Decreto 0722/2013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4" name="36 Rectángulo redondeado"/>
            <p:cNvSpPr/>
            <p:nvPr/>
          </p:nvSpPr>
          <p:spPr>
            <a:xfrm>
              <a:off x="258840" y="2860560"/>
              <a:ext cx="2212920" cy="9525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Manifestación de intención de Creación de una Agencia de Colocación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5" name="36 Rectángulo redondeado"/>
            <p:cNvSpPr/>
            <p:nvPr/>
          </p:nvSpPr>
          <p:spPr>
            <a:xfrm>
              <a:off x="258840" y="6234120"/>
              <a:ext cx="2212920" cy="1152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Aprobación por parte del Ministerio de la Creación de la Agencia de Colocación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76" name="1 Grupo"/>
            <p:cNvGrpSpPr/>
            <p:nvPr/>
          </p:nvGrpSpPr>
          <p:grpSpPr>
            <a:xfrm>
              <a:off x="293760" y="1996920"/>
              <a:ext cx="12296880" cy="5481720"/>
              <a:chOff x="293760" y="1996920"/>
              <a:chExt cx="12296880" cy="5481720"/>
            </a:xfrm>
          </p:grpSpPr>
          <p:sp>
            <p:nvSpPr>
              <p:cNvPr id="177" name="28 Rectángulo"/>
              <p:cNvSpPr/>
              <p:nvPr/>
            </p:nvSpPr>
            <p:spPr>
              <a:xfrm>
                <a:off x="2608200" y="2003040"/>
                <a:ext cx="3456000" cy="60156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Actividades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8" name="36 Rectángulo redondeado"/>
              <p:cNvSpPr/>
              <p:nvPr/>
            </p:nvSpPr>
            <p:spPr>
              <a:xfrm>
                <a:off x="293760" y="1996920"/>
                <a:ext cx="2212920" cy="601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Fases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9" name="48 Rectángulo"/>
              <p:cNvSpPr/>
              <p:nvPr/>
            </p:nvSpPr>
            <p:spPr>
              <a:xfrm>
                <a:off x="6230880" y="2003040"/>
                <a:ext cx="3457440" cy="60156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Productos/Evidencias 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0" name="7 Rectángulo"/>
              <p:cNvSpPr/>
              <p:nvPr/>
            </p:nvSpPr>
            <p:spPr>
              <a:xfrm>
                <a:off x="9830160" y="2003040"/>
                <a:ext cx="2760480" cy="601560"/>
              </a:xfrm>
              <a:prstGeom prst="rect">
                <a:avLst/>
              </a:prstGeom>
              <a:solidFill>
                <a:srgbClr val="9c9cd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Documentos 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1" name="28 Rectángulo"/>
              <p:cNvSpPr/>
              <p:nvPr/>
            </p:nvSpPr>
            <p:spPr>
              <a:xfrm>
                <a:off x="2593800" y="5124240"/>
                <a:ext cx="3456000" cy="100800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Conformación del expediente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Presentación formal de la apertura de la Agencia de Colocación conforme al decreto 0722/2013-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2" name="10 Rectángulo"/>
              <p:cNvSpPr/>
              <p:nvPr/>
            </p:nvSpPr>
            <p:spPr>
              <a:xfrm>
                <a:off x="6210360" y="5124240"/>
                <a:ext cx="3457440" cy="60156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Expediente completo recibido por el Ministerio de Trabaj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3" name="28 Rectángulo"/>
              <p:cNvSpPr/>
              <p:nvPr/>
            </p:nvSpPr>
            <p:spPr>
              <a:xfrm>
                <a:off x="2606760" y="2923920"/>
                <a:ext cx="3456000" cy="76680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Contactos preliminares de la insti tución candidata con el Ministerio 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4" name="22 Rectángulo"/>
              <p:cNvSpPr/>
              <p:nvPr/>
            </p:nvSpPr>
            <p:spPr>
              <a:xfrm>
                <a:off x="6213600" y="2923920"/>
                <a:ext cx="3457440" cy="88884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Nota de solicitud por parte de la  Institución candidata para constituirse como Agencia de Colocación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5" name="10 Rectángulo"/>
              <p:cNvSpPr/>
              <p:nvPr/>
            </p:nvSpPr>
            <p:spPr>
              <a:xfrm>
                <a:off x="6216840" y="6262560"/>
                <a:ext cx="3457440" cy="112392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Comunicación de los resultados: constancia de aprobación e inscrip ción al registro o devolución para su mejora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6" name="28 Rectángulo"/>
              <p:cNvSpPr/>
              <p:nvPr/>
            </p:nvSpPr>
            <p:spPr>
              <a:xfrm>
                <a:off x="9811080" y="6288120"/>
                <a:ext cx="2779560" cy="576000"/>
              </a:xfrm>
              <a:prstGeom prst="rect">
                <a:avLst/>
              </a:prstGeom>
              <a:solidFill>
                <a:srgbClr val="9c9cd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Constancia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7" name="28 Rectángulo"/>
              <p:cNvSpPr/>
              <p:nvPr/>
            </p:nvSpPr>
            <p:spPr>
              <a:xfrm>
                <a:off x="2608200" y="3898800"/>
                <a:ext cx="3456000" cy="110016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Reuniones de sensibilizacion en la Institución candidata o participación de la institución candidata en las  reuniones periódicas organizadas por el Ministeri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8" name="36 Rectángulo redondeado"/>
              <p:cNvSpPr/>
              <p:nvPr/>
            </p:nvSpPr>
            <p:spPr>
              <a:xfrm>
                <a:off x="293760" y="3971880"/>
                <a:ext cx="2212920" cy="952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Respuesta del Ministeri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9" name="22 Rectángulo"/>
              <p:cNvSpPr/>
              <p:nvPr/>
            </p:nvSpPr>
            <p:spPr>
              <a:xfrm>
                <a:off x="6194520" y="4052880"/>
                <a:ext cx="3457440" cy="88884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  Reuniones de sensibilizacion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90" name="28 Rectángulo"/>
              <p:cNvSpPr/>
              <p:nvPr/>
            </p:nvSpPr>
            <p:spPr>
              <a:xfrm>
                <a:off x="2630520" y="6288120"/>
                <a:ext cx="3456000" cy="119052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Análisis del expediente por parte de un comité de evaluación del Ministeri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Aprobación y/u observación para su mejora por parte del Ministerio 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91" name="24 Rectángulo"/>
              <p:cNvSpPr/>
              <p:nvPr/>
            </p:nvSpPr>
            <p:spPr>
              <a:xfrm>
                <a:off x="9839520" y="3197160"/>
                <a:ext cx="2751120" cy="576000"/>
              </a:xfrm>
              <a:prstGeom prst="rect">
                <a:avLst/>
              </a:prstGeom>
              <a:solidFill>
                <a:srgbClr val="9c9cd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Nota de solicitud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D237-7709-4684-9178-1C1E004E8158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2 Rectángulo redondeado"/>
          <p:cNvSpPr/>
          <p:nvPr/>
        </p:nvSpPr>
        <p:spPr>
          <a:xfrm>
            <a:off x="8845560" y="1204920"/>
            <a:ext cx="3745080" cy="64296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8 Rectángulo redondeado"/>
          <p:cNvSpPr/>
          <p:nvPr/>
        </p:nvSpPr>
        <p:spPr>
          <a:xfrm>
            <a:off x="293760" y="993600"/>
            <a:ext cx="7216560" cy="854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imera etapa: Elaboración y presentación de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e proyecto de Creación del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8 Rectángulo redondeado"/>
          <p:cNvSpPr/>
          <p:nvPr/>
        </p:nvSpPr>
        <p:spPr>
          <a:xfrm>
            <a:off x="0" y="32544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Etap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96" name="1 Grupo"/>
          <p:cNvGrpSpPr/>
          <p:nvPr/>
        </p:nvGrpSpPr>
        <p:grpSpPr>
          <a:xfrm>
            <a:off x="274680" y="1996920"/>
            <a:ext cx="12584160" cy="6993000"/>
            <a:chOff x="274680" y="1996920"/>
            <a:chExt cx="12584160" cy="6993000"/>
          </a:xfrm>
        </p:grpSpPr>
        <p:sp>
          <p:nvSpPr>
            <p:cNvPr id="197" name="28 Rectángulo"/>
            <p:cNvSpPr/>
            <p:nvPr/>
          </p:nvSpPr>
          <p:spPr>
            <a:xfrm>
              <a:off x="2608200" y="2003040"/>
              <a:ext cx="3456000" cy="60156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Actividad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8" name="36 Rectángulo redondeado"/>
            <p:cNvSpPr/>
            <p:nvPr/>
          </p:nvSpPr>
          <p:spPr>
            <a:xfrm>
              <a:off x="293400" y="1996920"/>
              <a:ext cx="2212920" cy="6015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Fas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9" name="48 Rectángulo"/>
            <p:cNvSpPr/>
            <p:nvPr/>
          </p:nvSpPr>
          <p:spPr>
            <a:xfrm>
              <a:off x="6230880" y="2003040"/>
              <a:ext cx="3457440" cy="6015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Productos/Evidencias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0" name="7 Rectángulo"/>
            <p:cNvSpPr/>
            <p:nvPr/>
          </p:nvSpPr>
          <p:spPr>
            <a:xfrm>
              <a:off x="9829800" y="2003040"/>
              <a:ext cx="2760480" cy="60156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Documentos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1" name="36 Rectángulo redondeado"/>
            <p:cNvSpPr/>
            <p:nvPr/>
          </p:nvSpPr>
          <p:spPr>
            <a:xfrm>
              <a:off x="274680" y="2788920"/>
              <a:ext cx="2195280" cy="1439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Inicio de las Actividades de Asistencia Técnica para la Creación del Centro de Empleo y Firma del Convenio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2" name="28 Rectángulo"/>
            <p:cNvSpPr/>
            <p:nvPr/>
          </p:nvSpPr>
          <p:spPr>
            <a:xfrm>
              <a:off x="2631960" y="2788920"/>
              <a:ext cx="3456000" cy="388800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resentación por parte de la Agencia de una solicitud para recibir Asisten cia Técnica para la Creación del Centro de Empleo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- </a:t>
              </a: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Convocatoria por parte del Ministerio de Trabajo a participar de un Taller de sensibilización a la Agencia y los actores del territorio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Convocatoria por parte de la Agencia a todos los involucrados en la toma de decisión del Convenio final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articipación de los representantes de la Agencia y del territorio en un Taller de sensibilización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El Ministerio y la Agencia comparten el contenido del Convenio y se fija fecha para su firma.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3" name="10 Rectángulo"/>
            <p:cNvSpPr/>
            <p:nvPr/>
          </p:nvSpPr>
          <p:spPr>
            <a:xfrm>
              <a:off x="6230880" y="2789280"/>
              <a:ext cx="3457440" cy="7635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Carta de solicitud de la Agencia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Pedido de asistencia técnic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4" name="15 Rectángulo"/>
            <p:cNvSpPr/>
            <p:nvPr/>
          </p:nvSpPr>
          <p:spPr>
            <a:xfrm>
              <a:off x="6178680" y="3808080"/>
              <a:ext cx="3457440" cy="9921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Taller de sensibilización brindado por el Ministerio de Trabaj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 Acta de desarrollo del taller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 Agenda acordad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5" name="18 Rectángulo"/>
            <p:cNvSpPr/>
            <p:nvPr/>
          </p:nvSpPr>
          <p:spPr>
            <a:xfrm>
              <a:off x="9829800" y="3808080"/>
              <a:ext cx="2760480" cy="286848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Gill Sans"/>
                </a:rPr>
                <a:t>El Ministerio dispone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Material necesario para con  ducir el taller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 Formulario de pre proyect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Gill Sans"/>
                </a:rPr>
                <a:t>La Agencia aport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Nota de invitación a los inte grantes de los Consejos: CD (Alcaldía) o bien CA (Caja)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Acta de desarrollo del taller con compromisos contraídos, firmada por los asistente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Gill Sans"/>
                </a:rPr>
                <a:t>Las partes establecen una agenda de trabaj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6" name="36 Rectángulo redondeado"/>
            <p:cNvSpPr/>
            <p:nvPr/>
          </p:nvSpPr>
          <p:spPr>
            <a:xfrm>
              <a:off x="293400" y="6823080"/>
              <a:ext cx="2212920" cy="8301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Elevación del Expediente al Ministeri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7" name="28 Rectángulo"/>
            <p:cNvSpPr/>
            <p:nvPr/>
          </p:nvSpPr>
          <p:spPr>
            <a:xfrm>
              <a:off x="2631960" y="6823080"/>
              <a:ext cx="3457440" cy="811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resentación del expediente por parte de la Agencia al Ministeri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8" name="27 Rectángulo"/>
            <p:cNvSpPr/>
            <p:nvPr/>
          </p:nvSpPr>
          <p:spPr>
            <a:xfrm>
              <a:off x="6195960" y="6842160"/>
              <a:ext cx="3457440" cy="79200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re proyecto: Ficha institucional y justificación de la propuest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9" name="29 Rectángulo"/>
            <p:cNvSpPr/>
            <p:nvPr/>
          </p:nvSpPr>
          <p:spPr>
            <a:xfrm>
              <a:off x="9799920" y="6856200"/>
              <a:ext cx="3058920" cy="94284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Documentación adjunt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 Aprobación como Agenci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Nota invitación al CD o C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Acta del taller de sensibilización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0" name="36 Rectángulo redondeado"/>
            <p:cNvSpPr/>
            <p:nvPr/>
          </p:nvSpPr>
          <p:spPr>
            <a:xfrm>
              <a:off x="274680" y="7799400"/>
              <a:ext cx="2212920" cy="1190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Devolucion del Pre proyecto por parte del Ministerio y pasaje a la siguiente etapa de Asistencia Tecnic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1" name="28 Rectángulo"/>
            <p:cNvSpPr/>
            <p:nvPr/>
          </p:nvSpPr>
          <p:spPr>
            <a:xfrm>
              <a:off x="2631960" y="7799400"/>
              <a:ext cx="3456000" cy="119052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Análisis del pre proyecto por parte de un comité de evaluación del Ministerio y formulación de eventuales observaciones para su mejora.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2" name="34 Rectángulo"/>
            <p:cNvSpPr/>
            <p:nvPr/>
          </p:nvSpPr>
          <p:spPr>
            <a:xfrm>
              <a:off x="6195960" y="7799400"/>
              <a:ext cx="3457440" cy="79200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Comunicación de los resultado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3" name="35 Rectángulo"/>
            <p:cNvSpPr/>
            <p:nvPr/>
          </p:nvSpPr>
          <p:spPr>
            <a:xfrm>
              <a:off x="9799920" y="8016840"/>
              <a:ext cx="3058920" cy="57456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Restitución del pre proyecto con o sin observacione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4" name="15 Rectángulo"/>
            <p:cNvSpPr/>
            <p:nvPr/>
          </p:nvSpPr>
          <p:spPr>
            <a:xfrm>
              <a:off x="6195960" y="5684760"/>
              <a:ext cx="3457440" cy="9921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Convenio de Asistencia Técnica para la Creación de un Centro de Empleo firmado por el Ministerio y la Agenci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55EF-C5A8-4D29-87E2-674D059235C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1 Rectángulo redondeado"/>
          <p:cNvSpPr/>
          <p:nvPr/>
        </p:nvSpPr>
        <p:spPr>
          <a:xfrm>
            <a:off x="17640" y="1716120"/>
            <a:ext cx="6089400" cy="7481880"/>
          </a:xfrm>
          <a:custGeom>
            <a:avLst/>
            <a:gdLst>
              <a:gd name="textAreaLeft" fmla="*/ 297000 w 6089400"/>
              <a:gd name="textAreaRight" fmla="*/ 5792400 w 6089400"/>
              <a:gd name="textAreaTop" fmla="*/ 297000 h 7481880"/>
              <a:gd name="textAreaBottom" fmla="*/ 7184880 h 7481880"/>
            </a:gdLst>
            <a:ahLst/>
            <a:rect l="textAreaLeft" t="textAreaTop" r="textAreaRight" b="textAreaBottom"/>
            <a:pathLst>
              <a:path w="21600" h="26539">
                <a:moveTo>
                  <a:pt x="3600" y="0"/>
                </a:moveTo>
                <a:arcTo wR="3600" hR="3600" stAng="16200000" swAng="-5400000"/>
                <a:lnTo>
                  <a:pt x="0" y="22939"/>
                </a:lnTo>
                <a:arcTo wR="3600" hR="3600" stAng="10800000" swAng="-5400000"/>
                <a:lnTo>
                  <a:pt x="18000" y="265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A.-  Datos del Centro de empleo y d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la institución a la que pertene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1. Datos de la Institución a la qu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ertenece el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2. Datos del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8 Rectángulo redondeado"/>
          <p:cNvSpPr/>
          <p:nvPr/>
        </p:nvSpPr>
        <p:spPr>
          <a:xfrm>
            <a:off x="6107040" y="1716120"/>
            <a:ext cx="6897600" cy="7481880"/>
          </a:xfrm>
          <a:custGeom>
            <a:avLst/>
            <a:gdLst>
              <a:gd name="textAreaLeft" fmla="*/ 336600 w 6897600"/>
              <a:gd name="textAreaRight" fmla="*/ 6561000 w 6897600"/>
              <a:gd name="textAreaTop" fmla="*/ 336600 h 7481880"/>
              <a:gd name="textAreaBottom" fmla="*/ 7145280 h 7481880"/>
            </a:gdLst>
            <a:ahLst/>
            <a:rect l="textAreaLeft" t="textAreaTop" r="textAreaRight" b="textAreaBottom"/>
            <a:pathLst>
              <a:path w="21600" h="23430">
                <a:moveTo>
                  <a:pt x="3600" y="0"/>
                </a:moveTo>
                <a:arcTo wR="3600" hR="3600" stAng="16200000" swAng="-5400000"/>
                <a:lnTo>
                  <a:pt x="0" y="19830"/>
                </a:lnTo>
                <a:arcTo wR="3600" hR="3600" stAng="10800000" swAng="-5400000"/>
                <a:lnTo>
                  <a:pt x="18000" y="23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B.-  Justificación de la propuesta d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   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Integración a la Red Nacion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1. Diagnostico del territor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Características socio labora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Características productivas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ctividades primarias y secundaria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ctividad económica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Dinámica del territori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Describir las dificultades y potencialidad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del mercado labor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ctores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institucionales que pueden contri -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buir a los objetivos del proyec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Posicionamiento del Centro de emple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2. Fortalezas y debilidades. Problem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de empleo. Situación desead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Cuál es la Situación deseada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¿Cuál será el Posicionamiento del Centro d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empleo en esa Situación deseada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5 Rectángulo"/>
          <p:cNvSpPr/>
          <p:nvPr/>
        </p:nvSpPr>
        <p:spPr>
          <a:xfrm>
            <a:off x="5337360" y="11318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ill Sans"/>
              </a:rPr>
              <a:t>Pre proyec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8 Rectángulo redondeado"/>
          <p:cNvSpPr/>
          <p:nvPr/>
        </p:nvSpPr>
        <p:spPr>
          <a:xfrm>
            <a:off x="0" y="412920"/>
            <a:ext cx="9166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701E-9FBE-4E8E-85A5-2B2A0F821A5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1 Rectángulo redondeado"/>
          <p:cNvSpPr/>
          <p:nvPr/>
        </p:nvSpPr>
        <p:spPr>
          <a:xfrm>
            <a:off x="17640" y="1716120"/>
            <a:ext cx="12987000" cy="7481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A.-  Datos del Centro de empleo y de la institución a la que pertene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Gill San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2. Datos del Centro de emple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Los recursos necesarios para su funcionamiento. Breve explicación de las categorías de recursos necesarios y su relación con el contenido de la ordenanza municip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5 Rectángulo"/>
          <p:cNvSpPr/>
          <p:nvPr/>
        </p:nvSpPr>
        <p:spPr>
          <a:xfrm>
            <a:off x="5337360" y="11318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ill Sans"/>
              </a:rPr>
              <a:t>Pre proyec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8 Rectángulo redondeado"/>
          <p:cNvSpPr/>
          <p:nvPr/>
        </p:nvSpPr>
        <p:spPr>
          <a:xfrm>
            <a:off x="0" y="41292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l Centro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777960" y="4516560"/>
            <a:ext cx="11455200" cy="4017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ADBC-7196-444F-89FF-B24CF2C97105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8 Rectángulo redondeado"/>
          <p:cNvSpPr/>
          <p:nvPr/>
        </p:nvSpPr>
        <p:spPr>
          <a:xfrm>
            <a:off x="0" y="1716120"/>
            <a:ext cx="13004640" cy="7481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B.-  Justificación de la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puesta de Creacion del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2. Problemas de empleo. Situación deseada. </a:t>
            </a:r>
            <a:r>
              <a:rPr b="1" i="1" lang="es-ES" sz="2400" spc="-1" strike="noStrike">
                <a:solidFill>
                  <a:srgbClr val="000000"/>
                </a:solidFill>
                <a:latin typeface="Gill Sans"/>
              </a:rPr>
              <a:t>Un ejempl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Cuál es la Situación deseada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- ¿Cuál será el Posicionamiento del Centro de empleo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5 Rectángulo"/>
          <p:cNvSpPr/>
          <p:nvPr/>
        </p:nvSpPr>
        <p:spPr>
          <a:xfrm>
            <a:off x="5337360" y="11318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ill Sans"/>
              </a:rPr>
              <a:t>Pre proyec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8 Rectángulo redondeado"/>
          <p:cNvSpPr/>
          <p:nvPr/>
        </p:nvSpPr>
        <p:spPr>
          <a:xfrm>
            <a:off x="0" y="412920"/>
            <a:ext cx="902340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685960" y="3724200"/>
          <a:ext cx="7272360" cy="4681440"/>
        </p:xfrm>
        <a:graphic>
          <a:graphicData uri="http://schemas.openxmlformats.org/drawingml/2006/table">
            <a:tbl>
              <a:tblPr/>
              <a:tblGrid>
                <a:gridCol w="3579840"/>
                <a:gridCol w="3692520"/>
              </a:tblGrid>
              <a:tr h="483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TUACIÓN ACTU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DEBILIDADES O PROBLEMA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TUACIÓN DESEA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4198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.- Los funcionarios no pueden realizar las hojas de vida a todas las personas que concurren al Centro de empleo por carecer de equipamiento informático adecuado y no disponer de un ambiente cómodo, con privacidad y de fácil acceso para discapa citado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2.- El recurso humano asignado a la oficina de empleo desconoce cómo se gestiona un Centro de empleo y cuáles son las competencias necesarias para cada puesto de trabajo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3.- No hay una buena y actualizada información de la oferta, la demanda laboral y las ofertas de capacitación disponibl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4.- El Centro de empleo no trabaja coordinando acciones con los otros sectores del mercado labor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.- El Centro de empleo introduce mejoras para el acceso de discapacitados,  reacondiciona los boxes para entrevistas e incorpora el equipamiento necesario,  lo que mejora la calidad de atención a las personas y la confección de las Hojas de Vi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2.- El Centro de empleo es eficientemente gestionada. Todo su personal tiene asignado roles y se encuentra capacitado para desempeñar funciones y responsabilidades específicas, brindando con eficiencia todos los servici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3.- Se dispone de una Guía de Recursos y de óptima  información sobre el mercado laboral que permite brindar mejor los servicios del Centro de emp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4.- El Centro de empleo integra una red de actores del mercado laboral, brindando entre todos mejores servici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5D74-8A6E-470E-858D-9DC9F642F638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2 Rectángulo redondeado"/>
          <p:cNvSpPr/>
          <p:nvPr/>
        </p:nvSpPr>
        <p:spPr>
          <a:xfrm>
            <a:off x="8767800" y="1204920"/>
            <a:ext cx="3744720" cy="64296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8 Rectángulo redondeado"/>
          <p:cNvSpPr/>
          <p:nvPr/>
        </p:nvSpPr>
        <p:spPr>
          <a:xfrm>
            <a:off x="293760" y="993600"/>
            <a:ext cx="7361280" cy="854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Segunda etapa:  Elaboración y presentación del Proyecto de Creación del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8 Rectángulo redondeado"/>
          <p:cNvSpPr/>
          <p:nvPr/>
        </p:nvSpPr>
        <p:spPr>
          <a:xfrm>
            <a:off x="88920" y="34452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Etap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37" name="1 Grupo"/>
          <p:cNvGrpSpPr/>
          <p:nvPr/>
        </p:nvGrpSpPr>
        <p:grpSpPr>
          <a:xfrm>
            <a:off x="88920" y="2068560"/>
            <a:ext cx="12769920" cy="7129440"/>
            <a:chOff x="88920" y="2068560"/>
            <a:chExt cx="12769920" cy="7129440"/>
          </a:xfrm>
        </p:grpSpPr>
        <p:sp>
          <p:nvSpPr>
            <p:cNvPr id="238" name="28 Rectángulo"/>
            <p:cNvSpPr/>
            <p:nvPr/>
          </p:nvSpPr>
          <p:spPr>
            <a:xfrm>
              <a:off x="2584440" y="2068560"/>
              <a:ext cx="3456000" cy="60156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Actividad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39" name="36 Rectángulo redondeado"/>
            <p:cNvSpPr/>
            <p:nvPr/>
          </p:nvSpPr>
          <p:spPr>
            <a:xfrm>
              <a:off x="234720" y="2068560"/>
              <a:ext cx="2212920" cy="6015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Fas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0" name="48 Rectángulo"/>
            <p:cNvSpPr/>
            <p:nvPr/>
          </p:nvSpPr>
          <p:spPr>
            <a:xfrm>
              <a:off x="6215040" y="2068560"/>
              <a:ext cx="3457440" cy="6015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Productos/Evidencias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1" name="7 Rectángulo"/>
            <p:cNvSpPr/>
            <p:nvPr/>
          </p:nvSpPr>
          <p:spPr>
            <a:xfrm>
              <a:off x="9801360" y="2068560"/>
              <a:ext cx="2760480" cy="60156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Documentos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2" name="36 Rectángulo redondeado"/>
            <p:cNvSpPr/>
            <p:nvPr/>
          </p:nvSpPr>
          <p:spPr>
            <a:xfrm>
              <a:off x="88920" y="2914560"/>
              <a:ext cx="2381040" cy="1038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Elaboración del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Proyecto definitiv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de Creación del Centro de emple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3" name="28 Rectángulo"/>
            <p:cNvSpPr/>
            <p:nvPr/>
          </p:nvSpPr>
          <p:spPr>
            <a:xfrm>
              <a:off x="2570040" y="2903400"/>
              <a:ext cx="3456000" cy="131580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articipación de  los coordinadores de las Agencias de Colocación en una Reunión técnica organizada men sualmente  para la formulación del Pro yecto definitivo (Taller de gerencia miento)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4" name="10 Rectángulo"/>
            <p:cNvSpPr/>
            <p:nvPr/>
          </p:nvSpPr>
          <p:spPr>
            <a:xfrm>
              <a:off x="6205680" y="2903400"/>
              <a:ext cx="3457440" cy="103824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Borrador del Proyecto definitivo elaborado en el Taller para ser validado por los responsables a cargo de la Agencia de Colocación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5" name="18 Rectángulo"/>
            <p:cNvSpPr/>
            <p:nvPr/>
          </p:nvSpPr>
          <p:spPr>
            <a:xfrm>
              <a:off x="9799920" y="2919240"/>
              <a:ext cx="2760480" cy="77616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Gill Sans"/>
                </a:rPr>
                <a:t>El Ministerio dispone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Material necesario para con  ducir el taller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6" name="36 Rectángulo redondeado"/>
            <p:cNvSpPr/>
            <p:nvPr/>
          </p:nvSpPr>
          <p:spPr>
            <a:xfrm>
              <a:off x="88920" y="6712200"/>
              <a:ext cx="2352600" cy="865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Elevación del Expediente al Ministeri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7" name="28 Rectángulo"/>
            <p:cNvSpPr/>
            <p:nvPr/>
          </p:nvSpPr>
          <p:spPr>
            <a:xfrm>
              <a:off x="2584440" y="4371840"/>
              <a:ext cx="3457440" cy="64764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Ajuste del Proyecto definitivo en las Agencias de Colocación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8" name="28 Rectángulo"/>
            <p:cNvSpPr/>
            <p:nvPr/>
          </p:nvSpPr>
          <p:spPr>
            <a:xfrm>
              <a:off x="2560680" y="7753320"/>
              <a:ext cx="3457440" cy="121104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Análisis del proyecto definitivo por parte de un comité de evaluación del Ministerio y formulación de eventuales observaciones para su mejor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9" name="34 Rectángulo"/>
            <p:cNvSpPr/>
            <p:nvPr/>
          </p:nvSpPr>
          <p:spPr>
            <a:xfrm>
              <a:off x="6215040" y="7732800"/>
              <a:ext cx="3457440" cy="79200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Comunicación de los resultado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0" name="28 Rectángulo"/>
            <p:cNvSpPr/>
            <p:nvPr/>
          </p:nvSpPr>
          <p:spPr>
            <a:xfrm>
              <a:off x="6205680" y="4349880"/>
              <a:ext cx="3457440" cy="78408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royecto definitivo de Creación de Centros de empleo adoptado por la Agencia y elevado al Consej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1" name="28 Rectángulo"/>
            <p:cNvSpPr/>
            <p:nvPr/>
          </p:nvSpPr>
          <p:spPr>
            <a:xfrm>
              <a:off x="2582640" y="6786720"/>
              <a:ext cx="3457440" cy="79056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resentación del Proyecto de Crea cion de Centros de empleo por parte de la Agenci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24 Rectángulo"/>
            <p:cNvSpPr/>
            <p:nvPr/>
          </p:nvSpPr>
          <p:spPr>
            <a:xfrm>
              <a:off x="9819000" y="4371840"/>
              <a:ext cx="2760480" cy="77616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Documento aprobado por la Agencia de Colocacion.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36 Rectángulo redondeado"/>
            <p:cNvSpPr/>
            <p:nvPr/>
          </p:nvSpPr>
          <p:spPr>
            <a:xfrm>
              <a:off x="98280" y="5156280"/>
              <a:ext cx="2377800" cy="974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Formalizacion por parte de los Consejos  (Alcaldías / Cajas)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28 Rectángulo"/>
            <p:cNvSpPr/>
            <p:nvPr/>
          </p:nvSpPr>
          <p:spPr>
            <a:xfrm>
              <a:off x="2570040" y="5205600"/>
              <a:ext cx="3456000" cy="150660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Promulgación por parte de la Alcaldía de la ordenanza de Creación de la Agencia de Colocación y del Centro de Empleo, precisando la institución que lo gestiona y los recursos otorgados para su funcionamient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22 Rectángulo"/>
            <p:cNvSpPr/>
            <p:nvPr/>
          </p:nvSpPr>
          <p:spPr>
            <a:xfrm>
              <a:off x="6188040" y="5246640"/>
              <a:ext cx="3457440" cy="88884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Ordenanza promulgada. Debe con templar el presupuesto relativo a espa cio físico, personal y gastos de funcio namiento y metas por un añ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36 Rectángulo redondeado"/>
            <p:cNvSpPr/>
            <p:nvPr/>
          </p:nvSpPr>
          <p:spPr>
            <a:xfrm>
              <a:off x="88920" y="7782120"/>
              <a:ext cx="2359080" cy="14158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Devolución del  Proyecto definitivo por parte del Ministerio y pasaje a la siguiente etapa de Asistencia Técnic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29 Rectángulo"/>
            <p:cNvSpPr/>
            <p:nvPr/>
          </p:nvSpPr>
          <p:spPr>
            <a:xfrm>
              <a:off x="9799920" y="7732800"/>
              <a:ext cx="3058920" cy="79200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Restitución del pre proyecto con o sin observacione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28 Rectángulo"/>
            <p:cNvSpPr/>
            <p:nvPr/>
          </p:nvSpPr>
          <p:spPr>
            <a:xfrm>
              <a:off x="6186600" y="6777000"/>
              <a:ext cx="3457440" cy="78408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Formulario del Proyecto definitivo de Creación de Centros de emple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31 Rectángulo"/>
            <p:cNvSpPr/>
            <p:nvPr/>
          </p:nvSpPr>
          <p:spPr>
            <a:xfrm>
              <a:off x="9799920" y="6461280"/>
              <a:ext cx="3058920" cy="111420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Documentación adjunta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-  Ordenanza municipal o Acta del Consejo de Administración que autoriza la Creación del Centro de emple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3456-9392-43E7-86CA-EF71BD0201BE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7 Rectángulo redondeado"/>
          <p:cNvSpPr/>
          <p:nvPr/>
        </p:nvSpPr>
        <p:spPr>
          <a:xfrm>
            <a:off x="1461960" y="2355840"/>
            <a:ext cx="10153800" cy="662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1.-  Presupuesto de funcionamiento corriente para un añ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2.-  Posicionamiento de la estrateg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3.-  Planificación para el primer año. Metas Servicio por Servic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Taller de Gerenciamien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roducto -  Metas – Acciones – Resultado – Cronograma Responsable - Recurs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4 Rectángulo"/>
          <p:cNvSpPr/>
          <p:nvPr/>
        </p:nvSpPr>
        <p:spPr>
          <a:xfrm>
            <a:off x="5508720" y="1131840"/>
            <a:ext cx="24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Gill Sans"/>
              </a:rPr>
              <a:t>Proyecto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8 Rectángulo redondeado"/>
          <p:cNvSpPr/>
          <p:nvPr/>
        </p:nvSpPr>
        <p:spPr>
          <a:xfrm>
            <a:off x="0" y="412920"/>
            <a:ext cx="902340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1 Rectángulo"/>
          <p:cNvSpPr/>
          <p:nvPr/>
        </p:nvSpPr>
        <p:spPr>
          <a:xfrm>
            <a:off x="1461960" y="6461280"/>
            <a:ext cx="101538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Anex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Gill Sans"/>
              </a:rPr>
              <a:t>Ordenanza aproband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- Espacio físico, infraestructura y mobiliario. Descripció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- Recursos humanos y designación del responsabl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- Presupuesto por un año. Gastos corrientes y metas del primer añ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AF43-7C31-4968-98B5-2359C2BAC8DC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1 Rectángulo"/>
          <p:cNvSpPr/>
          <p:nvPr/>
        </p:nvSpPr>
        <p:spPr>
          <a:xfrm>
            <a:off x="1030320" y="2284560"/>
            <a:ext cx="1015200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buClr>
                <a:srgbClr val="000000"/>
              </a:buClr>
              <a:buFont typeface="Gill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or que es una herramienta imprescindible para la definición de la estrategia y su planific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buClr>
                <a:srgbClr val="000000"/>
              </a:buClr>
              <a:buFont typeface="Gill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or que los principales esfuerzos se destinan a los servicios, sin considerar  la importancia de estrategia de la cual dependen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buClr>
                <a:srgbClr val="000000"/>
              </a:buClr>
              <a:buFont typeface="Gill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or que la gestión de los Centros de empleo tiene especificidades y es necesario formar a los coordinadores para que conozcan y se apropien de los procesos y herramientas necesarios para la planificación estratégica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buClr>
                <a:srgbClr val="000000"/>
              </a:buClr>
              <a:buFont typeface="Gill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or que de la estrategia y gestión va a depender la legitimación del Centro de empleo en el territorio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1 Rectángulo"/>
          <p:cNvSpPr/>
          <p:nvPr/>
        </p:nvSpPr>
        <p:spPr>
          <a:xfrm>
            <a:off x="0" y="1060560"/>
            <a:ext cx="1233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¿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Por qué  un Taller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Gerenciamiento 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en los Centros de Empleo...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8 Rectángulo redondeado"/>
          <p:cNvSpPr/>
          <p:nvPr/>
        </p:nvSpPr>
        <p:spPr>
          <a:xfrm>
            <a:off x="0" y="412920"/>
            <a:ext cx="909468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D2DF-BDBD-48BE-93A0-A5AD58436A4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" name="4 Diagrama" descr=""/>
          <p:cNvPicPr/>
          <p:nvPr/>
        </p:nvPicPr>
        <p:blipFill>
          <a:blip r:embed="rId1"/>
          <a:stretch/>
        </p:blipFill>
        <p:spPr>
          <a:xfrm>
            <a:off x="231840" y="1189080"/>
            <a:ext cx="12436560" cy="7686720"/>
          </a:xfrm>
          <a:prstGeom prst="rect">
            <a:avLst/>
          </a:prstGeom>
          <a:ln w="0">
            <a:noFill/>
          </a:ln>
        </p:spPr>
      </p:pic>
      <p:sp>
        <p:nvSpPr>
          <p:cNvPr id="95" name="8 Rectángulo redondeado"/>
          <p:cNvSpPr/>
          <p:nvPr/>
        </p:nvSpPr>
        <p:spPr>
          <a:xfrm>
            <a:off x="0" y="412920"/>
            <a:ext cx="801540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Fundament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B09F-81CD-46D8-B965-445EB28075D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7 Rectángulo redondeado"/>
          <p:cNvSpPr/>
          <p:nvPr/>
        </p:nvSpPr>
        <p:spPr>
          <a:xfrm>
            <a:off x="453960" y="1839960"/>
            <a:ext cx="12025440" cy="7140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3.-  Planificación primer año. Metas Servicio por Servici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Taller de gerenciamient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4 Rectángulo"/>
          <p:cNvSpPr/>
          <p:nvPr/>
        </p:nvSpPr>
        <p:spPr>
          <a:xfrm>
            <a:off x="5508720" y="1131840"/>
            <a:ext cx="24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ill Sans"/>
              </a:rPr>
              <a:t>Proyecto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8 Rectángulo redondeado"/>
          <p:cNvSpPr/>
          <p:nvPr/>
        </p:nvSpPr>
        <p:spPr>
          <a:xfrm>
            <a:off x="0" y="412920"/>
            <a:ext cx="9166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1 Rectángulo"/>
          <p:cNvSpPr/>
          <p:nvPr/>
        </p:nvSpPr>
        <p:spPr>
          <a:xfrm>
            <a:off x="1030320" y="2284560"/>
            <a:ext cx="1108872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ill San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3.1. Planificacion estratégica y contextualización de los temas que se van 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abordar: principios y componentes del planeamiento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3.2. Desarrollo del tall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Los insumos de la planificación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La oferta de servicios a partir del análisis de insum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El proceso  de planificación . Sus etapa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Las herramientas necesarias para planificar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La ejecución del plan 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897B-EDD5-4744-BE39-DF781DC93DE7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1 Rectángulo"/>
          <p:cNvSpPr/>
          <p:nvPr/>
        </p:nvSpPr>
        <p:spPr>
          <a:xfrm>
            <a:off x="285840" y="1131840"/>
            <a:ext cx="12314160" cy="78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3.1. Principios del planeamien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*El éxito del plan depende en gran medida de la calidad de la información que en él se proces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*No hay peor plan que el que no se lleva a cabo o se interrump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*Se debe considerar al planeamiento como el arma más eficaz para vencer la incertidumbre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*Planificar significa fundamentalmente pensar, evaluar, analizar, pronosticar. No significa actuar solamente.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8 Rectángulo redondeado"/>
          <p:cNvSpPr/>
          <p:nvPr/>
        </p:nvSpPr>
        <p:spPr>
          <a:xfrm>
            <a:off x="0" y="412920"/>
            <a:ext cx="9166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883C-9D67-43C4-855E-84E9C1EF458C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1 Rectángulo"/>
          <p:cNvSpPr/>
          <p:nvPr/>
        </p:nvSpPr>
        <p:spPr>
          <a:xfrm>
            <a:off x="598320" y="1276200"/>
            <a:ext cx="11449080" cy="77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3.1. Componentes de la planific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                                                    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iagnostico del entorno / realidad / territor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Objetivos / Estrategi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Met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roducto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Acciones / Actividades / Organización de la tare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Medios  / Recursos / Presupues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lazos / Tiemp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Responsab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8 Rectángulo redondeado"/>
          <p:cNvSpPr/>
          <p:nvPr/>
        </p:nvSpPr>
        <p:spPr>
          <a:xfrm>
            <a:off x="0" y="412920"/>
            <a:ext cx="9166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los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9BA1-FFDD-42F6-A8B9-DD414C9D3BE5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1 Rectángulo"/>
          <p:cNvSpPr/>
          <p:nvPr/>
        </p:nvSpPr>
        <p:spPr>
          <a:xfrm>
            <a:off x="1030320" y="1996920"/>
            <a:ext cx="101520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93640" y="2716200"/>
          <a:ext cx="11952360" cy="5905440"/>
        </p:xfrm>
        <a:graphic>
          <a:graphicData uri="http://schemas.openxmlformats.org/drawingml/2006/table">
            <a:tbl>
              <a:tblPr/>
              <a:tblGrid>
                <a:gridCol w="1441440"/>
                <a:gridCol w="1890720"/>
                <a:gridCol w="1785960"/>
                <a:gridCol w="1682640"/>
                <a:gridCol w="495360"/>
                <a:gridCol w="493920"/>
                <a:gridCol w="498240"/>
                <a:gridCol w="501840"/>
                <a:gridCol w="501480"/>
                <a:gridCol w="495360"/>
                <a:gridCol w="493920"/>
                <a:gridCol w="493560"/>
                <a:gridCol w="1177920"/>
              </a:tblGrid>
              <a:tr h="860400"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g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ru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c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em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jecución Presupuesto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sp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600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4636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1416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4636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4600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85" name="Rectangle 1"/>
          <p:cNvSpPr/>
          <p:nvPr/>
        </p:nvSpPr>
        <p:spPr>
          <a:xfrm>
            <a:off x="650880" y="4889520"/>
            <a:ext cx="1300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650880" y="4802040"/>
            <a:ext cx="1300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8 Rectángulo redondeado"/>
          <p:cNvSpPr/>
          <p:nvPr/>
        </p:nvSpPr>
        <p:spPr>
          <a:xfrm>
            <a:off x="0" y="41292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l Centro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1 Rectángulo"/>
          <p:cNvSpPr/>
          <p:nvPr/>
        </p:nvSpPr>
        <p:spPr>
          <a:xfrm>
            <a:off x="380880" y="1335240"/>
            <a:ext cx="11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3.2. Planificación anual de actividad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C317-39CA-4C80-8349-FBDBAB9C16D3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2 Rectángulo redondeado"/>
          <p:cNvSpPr/>
          <p:nvPr/>
        </p:nvSpPr>
        <p:spPr>
          <a:xfrm>
            <a:off x="8767800" y="1204920"/>
            <a:ext cx="3744720" cy="64296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8 Rectángulo redondeado"/>
          <p:cNvSpPr/>
          <p:nvPr/>
        </p:nvSpPr>
        <p:spPr>
          <a:xfrm>
            <a:off x="293760" y="993600"/>
            <a:ext cx="8242200" cy="854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Tercera etapa:  Seguimiento y Plan de mejora de l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Servicios del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8 Rectángulo redondeado"/>
          <p:cNvSpPr/>
          <p:nvPr/>
        </p:nvSpPr>
        <p:spPr>
          <a:xfrm>
            <a:off x="88920" y="34452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Etap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93" name="2 Grupo"/>
          <p:cNvGrpSpPr/>
          <p:nvPr/>
        </p:nvGrpSpPr>
        <p:grpSpPr>
          <a:xfrm>
            <a:off x="88920" y="2068560"/>
            <a:ext cx="12472920" cy="7200720"/>
            <a:chOff x="88920" y="2068560"/>
            <a:chExt cx="12472920" cy="7200720"/>
          </a:xfrm>
        </p:grpSpPr>
        <p:sp>
          <p:nvSpPr>
            <p:cNvPr id="294" name="7 Rectángulo"/>
            <p:cNvSpPr/>
            <p:nvPr/>
          </p:nvSpPr>
          <p:spPr>
            <a:xfrm>
              <a:off x="9801360" y="2068560"/>
              <a:ext cx="2760480" cy="60156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Gill Sans"/>
                </a:rPr>
                <a:t>Documentos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18 Rectángulo"/>
            <p:cNvSpPr/>
            <p:nvPr/>
          </p:nvSpPr>
          <p:spPr>
            <a:xfrm>
              <a:off x="9801360" y="2909880"/>
              <a:ext cx="2760480" cy="1315800"/>
            </a:xfrm>
            <a:prstGeom prst="rect">
              <a:avLst/>
            </a:prstGeom>
            <a:solidFill>
              <a:srgbClr val="9c9cd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Gill Sans"/>
                </a:rPr>
                <a:t>El Ministerio dispone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buClr>
                  <a:srgbClr val="000000"/>
                </a:buClr>
                <a:buFont typeface="Gill San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Material para desarrollar los módulos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       </a:t>
              </a:r>
              <a:r>
                <a:rPr b="1" lang="es-ES" sz="1400" spc="-1" strike="noStrike">
                  <a:solidFill>
                    <a:srgbClr val="000000"/>
                  </a:solidFill>
                  <a:latin typeface="Gill Sans"/>
                </a:rPr>
                <a:t>(Ver bibliorato)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285840" indent="-28584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296" name="1 Grupo"/>
            <p:cNvGrpSpPr/>
            <p:nvPr/>
          </p:nvGrpSpPr>
          <p:grpSpPr>
            <a:xfrm>
              <a:off x="88920" y="2068560"/>
              <a:ext cx="9583920" cy="7200720"/>
              <a:chOff x="88920" y="2068560"/>
              <a:chExt cx="9583920" cy="7200720"/>
            </a:xfrm>
          </p:grpSpPr>
          <p:sp>
            <p:nvSpPr>
              <p:cNvPr id="297" name="28 Rectángulo"/>
              <p:cNvSpPr/>
              <p:nvPr/>
            </p:nvSpPr>
            <p:spPr>
              <a:xfrm>
                <a:off x="2584440" y="2068560"/>
                <a:ext cx="3456000" cy="60156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Actividades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8" name="36 Rectángulo redondeado"/>
              <p:cNvSpPr/>
              <p:nvPr/>
            </p:nvSpPr>
            <p:spPr>
              <a:xfrm>
                <a:off x="90360" y="2068560"/>
                <a:ext cx="2357280" cy="60156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Fases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9" name="48 Rectángulo"/>
              <p:cNvSpPr/>
              <p:nvPr/>
            </p:nvSpPr>
            <p:spPr>
              <a:xfrm>
                <a:off x="6215400" y="2068560"/>
                <a:ext cx="3457440" cy="60156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Gill Sans"/>
                  </a:rPr>
                  <a:t>Productos/Evidencias 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0" name="36 Rectángulo redondeado"/>
              <p:cNvSpPr/>
              <p:nvPr/>
            </p:nvSpPr>
            <p:spPr>
              <a:xfrm>
                <a:off x="88920" y="2860560"/>
                <a:ext cx="2381040" cy="1038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Plan de Entrenamiento Presencial y Virtual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para los Centros de emple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1" name="28 Rectángulo"/>
              <p:cNvSpPr/>
              <p:nvPr/>
            </p:nvSpPr>
            <p:spPr>
              <a:xfrm>
                <a:off x="2560680" y="2908080"/>
                <a:ext cx="3456000" cy="103824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Organización de talleres de capaci tación para el personal del Centro de Empleo, incluyendo lo presencial y lo virtual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2" name="10 Rectángulo"/>
              <p:cNvSpPr/>
              <p:nvPr/>
            </p:nvSpPr>
            <p:spPr>
              <a:xfrm>
                <a:off x="6215400" y="2908080"/>
                <a:ext cx="3457440" cy="103824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Desarrollo de los módulos 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marL="285840" indent="-285840"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(Ver programa del plan de entrenamiento)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3" name="36 Rectángulo redondeado"/>
              <p:cNvSpPr/>
              <p:nvPr/>
            </p:nvSpPr>
            <p:spPr>
              <a:xfrm>
                <a:off x="102960" y="6748560"/>
                <a:ext cx="2352600" cy="11174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Elaboración del Plan anual de mejora de los Servicios de emple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por parte del Ministeri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4" name="28 Rectángulo"/>
              <p:cNvSpPr/>
              <p:nvPr/>
            </p:nvSpPr>
            <p:spPr>
              <a:xfrm>
                <a:off x="6199200" y="4511520"/>
                <a:ext cx="3457440" cy="140004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Informe estructurado de visita co elaborado con el Centro de empleo como insumo para la elaboración del plan de mejoras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Informe de devolución con acuerdos para el plan de mejoras 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5" name="28 Rectángulo"/>
              <p:cNvSpPr/>
              <p:nvPr/>
            </p:nvSpPr>
            <p:spPr>
              <a:xfrm>
                <a:off x="2558880" y="6748560"/>
                <a:ext cx="3457440" cy="252072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Informe anual de la Asistencia tecnica realizada a los Centros de empleo por parte del Ministerio que incluye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.  Un capitulo dedicado a la Asistencia tecnica realizada en el curso del añ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. Un capitulo dedicado a la formu lacion de recomendaciones para la im plementación de un plan de mejoras de la calidad de los servicios para el año próximo.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buClr>
                    <a:srgbClr val="000000"/>
                  </a:buClr>
                  <a:buFont typeface="Gill San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6" name="36 Rectángulo redondeado"/>
              <p:cNvSpPr/>
              <p:nvPr/>
            </p:nvSpPr>
            <p:spPr>
              <a:xfrm>
                <a:off x="90360" y="4378320"/>
                <a:ext cx="2378160" cy="15127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Asistencia Tecnica y Seguimiento de los Centros de Empleo en el marco del Convenio firmado entre las partes 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7" name="28 Rectángulo"/>
              <p:cNvSpPr/>
              <p:nvPr/>
            </p:nvSpPr>
            <p:spPr>
              <a:xfrm>
                <a:off x="2570040" y="4443480"/>
                <a:ext cx="3456000" cy="216216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Visitas trimestrales de asistencia técnica en plataforma durante el primer año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Visitas trimestrales de asistencia técnica en gestión del Centro de empleo y prestación de los servicios durante el primer año.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Implementación de una mesa de ayuda virtual permanente a partir de la cuarta visita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8" name="28 Rectángulo"/>
              <p:cNvSpPr/>
              <p:nvPr/>
            </p:nvSpPr>
            <p:spPr>
              <a:xfrm>
                <a:off x="6215400" y="6748560"/>
                <a:ext cx="3457440" cy="144072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Gill Sans"/>
                  </a:rPr>
                  <a:t>- Informe  realizado a partir del análisis de las actividades del año y las visitas a los Centros de empleo y una propuesta de plan mejora para la prestación de los servicios el año entrante.</a:t>
                </a:r>
                <a:endParaRPr b="0" lang="en-US" sz="1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E0A8-73B4-493A-89EB-BA3A7A88B12C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8 Rectángulo redondeado"/>
          <p:cNvSpPr/>
          <p:nvPr/>
        </p:nvSpPr>
        <p:spPr>
          <a:xfrm>
            <a:off x="0" y="412920"/>
            <a:ext cx="8447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ceso de Creacion de Centros de empleo. 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Herramient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8 Rectángulo redondeado"/>
          <p:cNvSpPr/>
          <p:nvPr/>
        </p:nvSpPr>
        <p:spPr>
          <a:xfrm>
            <a:off x="39600" y="1231920"/>
            <a:ext cx="5526000" cy="57456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Síntesis de las Herramientas en cada etap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2 Rectángulo redondeado"/>
          <p:cNvSpPr/>
          <p:nvPr/>
        </p:nvSpPr>
        <p:spPr>
          <a:xfrm>
            <a:off x="8782200" y="1141560"/>
            <a:ext cx="3744720" cy="64296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3" name="2 Grupo"/>
          <p:cNvGrpSpPr/>
          <p:nvPr/>
        </p:nvGrpSpPr>
        <p:grpSpPr>
          <a:xfrm>
            <a:off x="468360" y="1959120"/>
            <a:ext cx="11660040" cy="7172280"/>
            <a:chOff x="468360" y="1959120"/>
            <a:chExt cx="11660040" cy="7172280"/>
          </a:xfrm>
        </p:grpSpPr>
        <p:sp>
          <p:nvSpPr>
            <p:cNvPr id="314" name="1 Rectángulo"/>
            <p:cNvSpPr/>
            <p:nvPr/>
          </p:nvSpPr>
          <p:spPr>
            <a:xfrm>
              <a:off x="468360" y="1959120"/>
              <a:ext cx="3778200" cy="7172280"/>
            </a:xfrm>
            <a:prstGeom prst="rect">
              <a:avLst/>
            </a:prstGeom>
            <a:solidFill>
              <a:srgbClr val="daede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6 Rectángulo"/>
            <p:cNvSpPr/>
            <p:nvPr/>
          </p:nvSpPr>
          <p:spPr>
            <a:xfrm>
              <a:off x="8362800" y="1974960"/>
              <a:ext cx="3765600" cy="7140600"/>
            </a:xfrm>
            <a:prstGeom prst="rect">
              <a:avLst/>
            </a:prstGeom>
            <a:solidFill>
              <a:srgbClr val="daede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6" name="8 Rectángulo redondeado"/>
            <p:cNvSpPr/>
            <p:nvPr/>
          </p:nvSpPr>
          <p:spPr>
            <a:xfrm>
              <a:off x="487080" y="2428920"/>
              <a:ext cx="3744720" cy="6476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Gill Sans"/>
                </a:rPr>
                <a:t>Primera Etapa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7" name="15 Recortar rectángulo de esquina sencilla"/>
            <p:cNvSpPr/>
            <p:nvPr/>
          </p:nvSpPr>
          <p:spPr>
            <a:xfrm>
              <a:off x="669960" y="3324240"/>
              <a:ext cx="3384360" cy="13255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Gill Sans"/>
                </a:rPr>
                <a:t>Taller de sensibilización en la Agencia de Colocación destinado a los Actores del Territorio que tienen vinculación directa con el Proyecto de Creacion del Centro de emple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Gill Sans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Gill Sans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Gill Sans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8" name="16 Elipse"/>
            <p:cNvSpPr/>
            <p:nvPr/>
          </p:nvSpPr>
          <p:spPr>
            <a:xfrm>
              <a:off x="669960" y="4794480"/>
              <a:ext cx="3384360" cy="10904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H1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Guía del facilitador del Taller de Sensibilización para actores del Territorio 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9" name="9 Rectángulo redondeado"/>
            <p:cNvSpPr/>
            <p:nvPr/>
          </p:nvSpPr>
          <p:spPr>
            <a:xfrm>
              <a:off x="4449600" y="4176720"/>
              <a:ext cx="3744720" cy="6476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Gill Sans"/>
                </a:rPr>
                <a:t>Segunda Etapa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0" name="17 Recortar rectángulo de esquina sencilla"/>
            <p:cNvSpPr/>
            <p:nvPr/>
          </p:nvSpPr>
          <p:spPr>
            <a:xfrm>
              <a:off x="8589960" y="3341880"/>
              <a:ext cx="3313080" cy="11509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Gill Sans"/>
                </a:rPr>
                <a:t>Visitas de asistencia técnica y se guimiento para facilitar  la implemen tacion de los servicios del Centro de emple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16 Elipse"/>
            <p:cNvSpPr/>
            <p:nvPr/>
          </p:nvSpPr>
          <p:spPr>
            <a:xfrm>
              <a:off x="669960" y="6015240"/>
              <a:ext cx="3384360" cy="106668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H2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PP de apoyo para el facilitador  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del Taller de Sensibilización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29 Rectángulo"/>
            <p:cNvSpPr/>
            <p:nvPr/>
          </p:nvSpPr>
          <p:spPr>
            <a:xfrm>
              <a:off x="4414680" y="1959120"/>
              <a:ext cx="3778200" cy="7172280"/>
            </a:xfrm>
            <a:prstGeom prst="rect">
              <a:avLst/>
            </a:prstGeom>
            <a:solidFill>
              <a:srgbClr val="daede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16 Elipse"/>
            <p:cNvSpPr/>
            <p:nvPr/>
          </p:nvSpPr>
          <p:spPr>
            <a:xfrm>
              <a:off x="669960" y="7280640"/>
              <a:ext cx="3384360" cy="1083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H3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Formulario para la confección del Pre proyecto de Creacion del Centro de empleo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8 Rectángulo redondeado"/>
            <p:cNvSpPr/>
            <p:nvPr/>
          </p:nvSpPr>
          <p:spPr>
            <a:xfrm>
              <a:off x="4448160" y="2428920"/>
              <a:ext cx="3744720" cy="6476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Gill Sans"/>
                </a:rPr>
                <a:t>Segunda Etapa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31 Recortar rectángulo de esquina sencilla"/>
            <p:cNvSpPr/>
            <p:nvPr/>
          </p:nvSpPr>
          <p:spPr>
            <a:xfrm>
              <a:off x="4557600" y="3341880"/>
              <a:ext cx="3384360" cy="18097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Gill Sans"/>
                </a:rPr>
                <a:t>Reunión técnica mensual organizada por el Ministerio de Trabajo, con la participación de referentes de las Agencias de Colocación, con el objeto de comenzar a confeccionar el Proyecto de Creacion de Centros de empleo</a:t>
              </a:r>
              <a:endParaRPr b="0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16 Elipse"/>
            <p:cNvSpPr/>
            <p:nvPr/>
          </p:nvSpPr>
          <p:spPr>
            <a:xfrm>
              <a:off x="4557600" y="5324760"/>
              <a:ext cx="3384360" cy="10857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H4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Formulario para la confección del Proyecto de Creacion del Centro de empleo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8 Rectángulo redondeado"/>
            <p:cNvSpPr/>
            <p:nvPr/>
          </p:nvSpPr>
          <p:spPr>
            <a:xfrm>
              <a:off x="8383680" y="2428920"/>
              <a:ext cx="3744720" cy="6476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Gill Sans"/>
                </a:rPr>
                <a:t>Tercera Etapa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16 Elipse"/>
            <p:cNvSpPr/>
            <p:nvPr/>
          </p:nvSpPr>
          <p:spPr>
            <a:xfrm>
              <a:off x="8489880" y="4649760"/>
              <a:ext cx="3384360" cy="121752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H5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Formulario para el seguimiento y plan de mejora de los Servicios del 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Gill Sans"/>
                </a:rPr>
                <a:t>Centro de empleo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BFA2-4D22-4984-878F-99B4F00DDD11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8 Rectángulo redondeado"/>
          <p:cNvSpPr/>
          <p:nvPr/>
        </p:nvSpPr>
        <p:spPr>
          <a:xfrm>
            <a:off x="0" y="412920"/>
            <a:ext cx="722304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Defini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8" name="10 Diagrama" descr=""/>
          <p:cNvPicPr/>
          <p:nvPr/>
        </p:nvPicPr>
        <p:blipFill>
          <a:blip r:embed="rId1"/>
          <a:stretch/>
        </p:blipFill>
        <p:spPr>
          <a:xfrm>
            <a:off x="-219240" y="1011240"/>
            <a:ext cx="13033440" cy="7846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770A-C1F7-4560-BF1A-062EF6E7545F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Tipos de aten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1" name="10 Diagrama" descr=""/>
          <p:cNvPicPr/>
          <p:nvPr/>
        </p:nvPicPr>
        <p:blipFill>
          <a:blip r:embed="rId1"/>
          <a:stretch/>
        </p:blipFill>
        <p:spPr>
          <a:xfrm>
            <a:off x="542880" y="1779480"/>
            <a:ext cx="11496600" cy="6267600"/>
          </a:xfrm>
          <a:prstGeom prst="rect">
            <a:avLst/>
          </a:prstGeom>
          <a:ln w="0">
            <a:noFill/>
          </a:ln>
        </p:spPr>
      </p:pic>
      <p:sp>
        <p:nvSpPr>
          <p:cNvPr id="102" name="11 Rectángulo"/>
          <p:cNvSpPr/>
          <p:nvPr/>
        </p:nvSpPr>
        <p:spPr>
          <a:xfrm>
            <a:off x="165240" y="7975440"/>
            <a:ext cx="12530160" cy="93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Gill Sans MT"/>
              </a:rPr>
              <a:t>SERVICIOS COMPLEMENTARIOS con cobro autorizado</a:t>
            </a:r>
            <a:r>
              <a:rPr b="0" lang="es-CO" sz="16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Estudios de perfiles; aplicación e interpretación de pruebas psicotécnicas; construcción de planes  de capacitación; construcción  y puesta en marcha de planes de inducción; entrevistas estructuradas a cargos especializados;  identificación de perfiles especializados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s-CO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26 CuadroTexto"/>
          <p:cNvSpPr/>
          <p:nvPr/>
        </p:nvSpPr>
        <p:spPr>
          <a:xfrm>
            <a:off x="1461960" y="1347840"/>
            <a:ext cx="92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Gill Sans"/>
                <a:ea typeface="Arial"/>
              </a:rPr>
              <a:t>Tipos de atención gratuitos del servicio publico de emple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CD4E-5210-4966-82F5-7117E8BCF96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Servicios ofrecid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6 CuadroTexto"/>
          <p:cNvSpPr/>
          <p:nvPr/>
        </p:nvSpPr>
        <p:spPr>
          <a:xfrm>
            <a:off x="1101600" y="3940200"/>
            <a:ext cx="352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Gill Sans MT"/>
              </a:rPr>
              <a:t>SERVICIOS QUE OFRECEN LAS AGENCIAS DE GESTIÓN Y COLOCACIÓN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7" name="8 Diagrama" descr=""/>
          <p:cNvPicPr/>
          <p:nvPr/>
        </p:nvPicPr>
        <p:blipFill>
          <a:blip r:embed="rId1"/>
          <a:stretch/>
        </p:blipFill>
        <p:spPr>
          <a:xfrm>
            <a:off x="4979880" y="2571840"/>
            <a:ext cx="6626160" cy="504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2EB2-687D-409F-8893-7115B174B8E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incipios básic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7 CuadroTexto"/>
          <p:cNvSpPr/>
          <p:nvPr/>
        </p:nvSpPr>
        <p:spPr>
          <a:xfrm>
            <a:off x="460440" y="1276200"/>
            <a:ext cx="11874600" cy="87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fica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 La mejor utilización de los recursos , para la adecuada y oportuna prestación del servicio al trabajador es y empleadores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Universalidad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garantiza a todas las personas la asequibilidad a los servicios independientemente de la condición de ocupacional ( Empleados, desempleados, independientes, cuenta propia ) y de sus condiciones de raza, color , sexo , religión, edad , opinión política  y origen social 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ibertad de Escogenci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permitirá a trabajadores y empleadores, la libre selección del prestador de servicio público de empleo, entre los operadores autorizado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fiabilidad.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ervicio se prestara con plenas garantías a empleadores y trabajadores acerca de la oportunidad , pertinencia y calidad de los procesos que la integra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ali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 El servicio público de empleo se prestara de manera oportuna , personalizada , humanizada , integral y continua , de acuerdo a los estándares de calidad 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27E4-38C8-448B-9EFD-4DB18C3E7F9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Red de prestadore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6 CuadroTexto"/>
          <p:cNvSpPr/>
          <p:nvPr/>
        </p:nvSpPr>
        <p:spPr>
          <a:xfrm>
            <a:off x="1965240" y="4367160"/>
            <a:ext cx="345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Gill Sans MT"/>
              </a:rPr>
              <a:t>RED DE PRESTADORES DEL SERVICIO PÚBLICO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20 Corchetes"/>
          <p:cNvSpPr/>
          <p:nvPr/>
        </p:nvSpPr>
        <p:spPr>
          <a:xfrm>
            <a:off x="7639200" y="5138640"/>
            <a:ext cx="3400200" cy="714600"/>
          </a:xfrm>
          <a:prstGeom prst="bracketPair">
            <a:avLst>
              <a:gd name="adj" fmla="val 17129"/>
            </a:avLst>
          </a:prstGeom>
          <a:solidFill>
            <a:srgbClr val="fde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GENCIA PÚBLICA DE EMPLE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-SENA-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16 Corchetes"/>
          <p:cNvSpPr/>
          <p:nvPr/>
        </p:nvSpPr>
        <p:spPr>
          <a:xfrm>
            <a:off x="7639200" y="4086360"/>
            <a:ext cx="3816360" cy="790560"/>
          </a:xfrm>
          <a:prstGeom prst="bracketPair">
            <a:avLst>
              <a:gd name="adj" fmla="val 17129"/>
            </a:avLst>
          </a:prstGeom>
          <a:solidFill>
            <a:srgbClr val="fde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GENCIAS PRIVADA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AJAS DE COMPENSACIÓN FAMILIAR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21 Corchetes"/>
          <p:cNvSpPr/>
          <p:nvPr/>
        </p:nvSpPr>
        <p:spPr>
          <a:xfrm>
            <a:off x="7693200" y="3076560"/>
            <a:ext cx="3993840" cy="644400"/>
          </a:xfrm>
          <a:prstGeom prst="bracketPair">
            <a:avLst>
              <a:gd name="adj" fmla="val 17129"/>
            </a:avLst>
          </a:prstGeom>
          <a:solidFill>
            <a:srgbClr val="fde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GENCIAS PÚBLICAS O PRIVADA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21 Corchetes"/>
          <p:cNvSpPr/>
          <p:nvPr/>
        </p:nvSpPr>
        <p:spPr>
          <a:xfrm>
            <a:off x="7667640" y="6167520"/>
            <a:ext cx="3371760" cy="725400"/>
          </a:xfrm>
          <a:prstGeom prst="bracketPair">
            <a:avLst>
              <a:gd name="adj" fmla="val 17129"/>
            </a:avLst>
          </a:prstGeom>
          <a:solidFill>
            <a:srgbClr val="fde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GENCIAS PÚBLICA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ENTROS DE EMPLE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19 Corchetes"/>
          <p:cNvSpPr/>
          <p:nvPr/>
        </p:nvSpPr>
        <p:spPr>
          <a:xfrm>
            <a:off x="7656480" y="7326360"/>
            <a:ext cx="3382920" cy="503280"/>
          </a:xfrm>
          <a:prstGeom prst="bracketPair">
            <a:avLst>
              <a:gd name="adj" fmla="val 17129"/>
            </a:avLst>
          </a:prstGeom>
          <a:solidFill>
            <a:srgbClr val="fde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BOLSAS DE EMPLE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119" name="13 Conector recto de flecha"/>
          <p:cNvCxnSpPr/>
          <p:nvPr/>
        </p:nvCxnSpPr>
        <p:spPr>
          <a:xfrm flipV="1">
            <a:off x="5565600" y="3469680"/>
            <a:ext cx="2074320" cy="17974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cxnSp>
        <p:nvCxnSpPr>
          <p:cNvPr id="120" name="14 Conector recto de flecha"/>
          <p:cNvCxnSpPr>
            <a:endCxn id="115" idx="1"/>
          </p:cNvCxnSpPr>
          <p:nvPr/>
        </p:nvCxnSpPr>
        <p:spPr>
          <a:xfrm flipV="1">
            <a:off x="5565600" y="4481280"/>
            <a:ext cx="2074320" cy="78624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cxnSp>
        <p:nvCxnSpPr>
          <p:cNvPr id="121" name="16 Conector recto de flecha"/>
          <p:cNvCxnSpPr/>
          <p:nvPr/>
        </p:nvCxnSpPr>
        <p:spPr>
          <a:xfrm>
            <a:off x="5613480" y="5276880"/>
            <a:ext cx="2071800" cy="26424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cxnSp>
        <p:nvCxnSpPr>
          <p:cNvPr id="122" name="18 Conector recto de flecha"/>
          <p:cNvCxnSpPr/>
          <p:nvPr/>
        </p:nvCxnSpPr>
        <p:spPr>
          <a:xfrm>
            <a:off x="5565600" y="5267160"/>
            <a:ext cx="2074320" cy="13312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cxnSp>
        <p:nvCxnSpPr>
          <p:cNvPr id="123" name="20 Conector recto de flecha"/>
          <p:cNvCxnSpPr/>
          <p:nvPr/>
        </p:nvCxnSpPr>
        <p:spPr>
          <a:xfrm>
            <a:off x="5565600" y="5266800"/>
            <a:ext cx="2074320" cy="226584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1275-A736-41BD-A0BD-DD944B77FF4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8 Rectángulo redondeado"/>
          <p:cNvSpPr/>
          <p:nvPr/>
        </p:nvSpPr>
        <p:spPr>
          <a:xfrm>
            <a:off x="0" y="412920"/>
            <a:ext cx="8950320" cy="60480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rvicios Publico de empleo.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Centros de emple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4 Rectángulo"/>
          <p:cNvSpPr/>
          <p:nvPr/>
        </p:nvSpPr>
        <p:spPr>
          <a:xfrm>
            <a:off x="965160" y="4013280"/>
            <a:ext cx="11306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ill Sans"/>
                <a:ea typeface="Arial"/>
              </a:rPr>
              <a:t>Es el espacio Físico y/o Virtual</a:t>
            </a:r>
            <a:r>
              <a:rPr b="0" i="1" lang="es-MX" sz="3200" spc="-1" strike="noStrike">
                <a:solidFill>
                  <a:srgbClr val="000000"/>
                </a:solidFill>
                <a:latin typeface="Gill Sans"/>
                <a:ea typeface="Arial"/>
              </a:rPr>
              <a:t>, donde se desarrollan servicios de colocación, que permite el encuentro entre los trabajadores que buscan emplearse y los empresarios que necesitan mano de obra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Gill Sans"/>
                <a:ea typeface="Arial"/>
              </a:rPr>
              <a:t>Permite además acercar la oferta de servicios complementarios para  contribuir a la competitividad de los trabajadores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7 Rectángulo"/>
          <p:cNvSpPr/>
          <p:nvPr/>
        </p:nvSpPr>
        <p:spPr>
          <a:xfrm>
            <a:off x="2181240" y="2735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1" lang="es-CO" sz="3600" spc="-1" strike="noStrike">
                <a:solidFill>
                  <a:srgbClr val="000000"/>
                </a:solidFill>
                <a:latin typeface="Gill Sans MT"/>
              </a:rPr>
              <a:t>¿Qué es un Centro de empleo?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athan Eskinazi</dc:creator>
  <dc:description/>
  <dc:language>en-US</dc:language>
  <cp:lastModifiedBy>Jonathan Eskinazi</cp:lastModifiedBy>
  <dcterms:modified xsi:type="dcterms:W3CDTF">2014-12-18T11:45:59Z</dcterms:modified>
  <cp:revision>532</cp:revision>
  <dc:subject/>
  <dc:title>Titulo de la presentación -Subtítulo de la presentación-</dc:title>
</cp:coreProperties>
</file>