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Gill Sans MT"/>
              </a:rPr>
              <a:t>Click to move the slide</a:t>
            </a:r>
            <a:endParaRPr b="0" lang="en-US" sz="6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29F9-BEE2-413F-9A7A-3CA0C9D4CC46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EDFC-FF91-4EB5-AAAE-4B5F4D200111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9D5C-8B4D-46FD-87F5-6B7893ED5C34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2249-7AC6-4173-A276-84F1E765D047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209D-6CC9-4A98-A6E2-B62A4A3CF60C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9E23-9BDC-4F5F-B7A4-73CC661D8B35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E06D-53C5-4B81-B148-E384FD58ADFB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9CEA-8188-4E59-8C04-0F7FB274C0EF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7259-BC16-4548-864B-7411AED03B06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7C10-1D52-4357-AA43-5C5B50F8A9E2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DDCA-747F-4D34-BB35-60DE6ED07F61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2AD7-163B-4D90-A35C-F3E2692488F1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544DA-FFFC-4B1E-8886-73F6EFF784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77C7F-C299-40F8-A138-6484434BFD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DA2C2-7375-462F-906D-4A528930D8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70AC2-3769-425A-92E2-F8ABE1DA61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37430-EE12-414C-902F-869E53D66E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44D77-AFC8-49CC-AEA1-D0533E316B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34CCB-9E01-44C3-AA89-E953EECFE9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DC0A7-8EF8-442D-A2DB-248FA0C227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71672-E420-4332-B308-F7C7731338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81802-3F35-4620-8E63-325CC74A72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027EA-293E-46F0-B896-60D8188D12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B54ED-D67B-4FDE-ABD9-6750C04F1B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4216320"/>
            <a:ext cx="1300464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6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" descr=""/>
          <p:cNvPicPr/>
          <p:nvPr/>
        </p:nvPicPr>
        <p:blipFill>
          <a:blip r:embed="rId2"/>
          <a:stretch/>
        </p:blipFill>
        <p:spPr>
          <a:xfrm>
            <a:off x="0" y="9277200"/>
            <a:ext cx="13004640" cy="533520"/>
          </a:xfrm>
          <a:prstGeom prst="rect">
            <a:avLst/>
          </a:prstGeom>
          <a:ln w="0">
            <a:noFill/>
          </a:ln>
        </p:spPr>
      </p:pic>
      <p:sp>
        <p:nvSpPr>
          <p:cNvPr id="38" name="Line 2"/>
          <p:cNvSpPr/>
          <p:nvPr/>
        </p:nvSpPr>
        <p:spPr>
          <a:xfrm flipV="1">
            <a:off x="634320" y="1839960"/>
            <a:ext cx="11734920" cy="144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Num" idx="1"/>
          </p:nvPr>
        </p:nvSpPr>
        <p:spPr>
          <a:xfrm>
            <a:off x="6343560" y="9326160"/>
            <a:ext cx="317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d4c92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331F-AB8D-431E-A2A0-602F7146600D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10922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800" spc="-1" strike="noStrike">
                <a:solidFill>
                  <a:srgbClr val="707272"/>
                </a:solidFill>
                <a:latin typeface="Gill Sans"/>
              </a:rPr>
              <a:t>Click to edit the title text format</a:t>
            </a: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2" marL="1143000" indent="-228600">
              <a:buClr>
                <a:srgbClr val="a7aaab"/>
              </a:buClr>
              <a:buFont typeface="Gill Sans M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3" marL="1600200" indent="-228600">
              <a:buClr>
                <a:srgbClr val="a7aaab"/>
              </a:buClr>
              <a:buFont typeface="Gill Sans M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4" marL="2057400" indent="-228600">
              <a:buClr>
                <a:srgbClr val="a7aaab"/>
              </a:buClr>
              <a:buFont typeface="Gill Sans M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-11268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"/>
          <p:cNvSpPr/>
          <p:nvPr/>
        </p:nvSpPr>
        <p:spPr>
          <a:xfrm>
            <a:off x="0" y="7988400"/>
            <a:ext cx="13004640" cy="176508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287280" y="8148600"/>
            <a:ext cx="12204720" cy="1400040"/>
          </a:xfrm>
          <a:prstGeom prst="rect">
            <a:avLst/>
          </a:prstGeom>
          <a:ln w="0">
            <a:noFill/>
          </a:ln>
        </p:spPr>
      </p:pic>
      <p:sp>
        <p:nvSpPr>
          <p:cNvPr id="89" name="Line 4"/>
          <p:cNvSpPr/>
          <p:nvPr/>
        </p:nvSpPr>
        <p:spPr>
          <a:xfrm flipV="1">
            <a:off x="0" y="7999560"/>
            <a:ext cx="13004640" cy="1440"/>
          </a:xfrm>
          <a:prstGeom prst="line">
            <a:avLst/>
          </a:prstGeom>
          <a:ln w="25560">
            <a:solidFill>
              <a:srgbClr val="0d4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4216320"/>
            <a:ext cx="1300464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6800" spc="-1" strike="noStrike">
                <a:solidFill>
                  <a:srgbClr val="ffffff"/>
                </a:solidFill>
                <a:latin typeface="Gill Sans MT"/>
              </a:rPr>
              <a:t>Proceso de Integración </a:t>
            </a:r>
            <a:br>
              <a:rPr sz="6800"/>
            </a:br>
            <a:r>
              <a:rPr b="0" lang="es-AR" sz="6800" spc="-1" strike="noStrike">
                <a:solidFill>
                  <a:srgbClr val="ffffff"/>
                </a:solidFill>
                <a:latin typeface="Gill Sans MT"/>
              </a:rPr>
              <a:t>de los Centros de Empleo</a:t>
            </a:r>
            <a:br>
              <a:rPr sz="6800"/>
            </a:br>
            <a:r>
              <a:rPr b="0" lang="es-AR" sz="6800" spc="-1" strike="noStrike">
                <a:solidFill>
                  <a:srgbClr val="ffffff"/>
                </a:solidFill>
                <a:latin typeface="Gill Sans MT"/>
              </a:rPr>
              <a:t>a la Red Nacional</a:t>
            </a:r>
            <a:br>
              <a:rPr sz="6800"/>
            </a:br>
            <a:endParaRPr b="0" lang="en-US" sz="6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2DD1-EA6A-4205-BB18-AB12D34D2BEE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28 Rectángulo"/>
          <p:cNvSpPr/>
          <p:nvPr/>
        </p:nvSpPr>
        <p:spPr>
          <a:xfrm>
            <a:off x="2584440" y="2068560"/>
            <a:ext cx="3456000" cy="601560"/>
          </a:xfrm>
          <a:prstGeom prst="rect">
            <a:avLst/>
          </a:prstGeom>
          <a:solidFill>
            <a:srgbClr val="ffc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Actividad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36 Rectángulo redondeado"/>
          <p:cNvSpPr/>
          <p:nvPr/>
        </p:nvSpPr>
        <p:spPr>
          <a:xfrm>
            <a:off x="235080" y="2068560"/>
            <a:ext cx="2212920" cy="6015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Fas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48 Rectángulo"/>
          <p:cNvSpPr/>
          <p:nvPr/>
        </p:nvSpPr>
        <p:spPr>
          <a:xfrm>
            <a:off x="6215040" y="2068560"/>
            <a:ext cx="3457440" cy="60156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ductos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2 Rectángulo redondeado"/>
          <p:cNvSpPr/>
          <p:nvPr/>
        </p:nvSpPr>
        <p:spPr>
          <a:xfrm>
            <a:off x="4560840" y="985680"/>
            <a:ext cx="3745080" cy="85428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Circuito Operativ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Fas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8 Rectángulo redondeado"/>
          <p:cNvSpPr/>
          <p:nvPr/>
        </p:nvSpPr>
        <p:spPr>
          <a:xfrm>
            <a:off x="598320" y="1204920"/>
            <a:ext cx="3745080" cy="43164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Segunda etap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7 Rectángulo"/>
          <p:cNvSpPr/>
          <p:nvPr/>
        </p:nvSpPr>
        <p:spPr>
          <a:xfrm>
            <a:off x="9801360" y="2068560"/>
            <a:ext cx="2760480" cy="601560"/>
          </a:xfrm>
          <a:prstGeom prst="rect">
            <a:avLst/>
          </a:prstGeom>
          <a:solidFill>
            <a:srgbClr val="9c9cd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Documentos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36 Rectángulo redondeado"/>
          <p:cNvSpPr/>
          <p:nvPr/>
        </p:nvSpPr>
        <p:spPr>
          <a:xfrm>
            <a:off x="257040" y="3046320"/>
            <a:ext cx="2213280" cy="809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Elaboración del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Proyecto definitivo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28 Rectángulo"/>
          <p:cNvSpPr/>
          <p:nvPr/>
        </p:nvSpPr>
        <p:spPr>
          <a:xfrm>
            <a:off x="2584440" y="3046320"/>
            <a:ext cx="3456000" cy="1316160"/>
          </a:xfrm>
          <a:prstGeom prst="rect">
            <a:avLst/>
          </a:prstGeom>
          <a:solidFill>
            <a:srgbClr val="ffc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Reunion técnica mensual para la formulación del Proyecto definitivo y Taller de gerenciamiento.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 Participan  los coordinadores de los Centros de empleo con pre proyecto aprobado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10 Rectángulo"/>
          <p:cNvSpPr/>
          <p:nvPr/>
        </p:nvSpPr>
        <p:spPr>
          <a:xfrm>
            <a:off x="6215040" y="3046320"/>
            <a:ext cx="3457440" cy="60192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Borrador del Proyecto definitivo para ser validado en la alcaldi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18 Rectángulo"/>
          <p:cNvSpPr/>
          <p:nvPr/>
        </p:nvSpPr>
        <p:spPr>
          <a:xfrm>
            <a:off x="9815400" y="3046320"/>
            <a:ext cx="2760840" cy="776520"/>
          </a:xfrm>
          <a:prstGeom prst="rect">
            <a:avLst/>
          </a:prstGeom>
          <a:solidFill>
            <a:srgbClr val="9c9cd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Gill Sans"/>
              </a:rPr>
              <a:t>El Ministerio dispone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Material necesario para con  ducir el taller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36 Rectángulo redondeado"/>
          <p:cNvSpPr/>
          <p:nvPr/>
        </p:nvSpPr>
        <p:spPr>
          <a:xfrm>
            <a:off x="264960" y="5381640"/>
            <a:ext cx="2213280" cy="973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Elevación al Ministerio del Proyecto definitivo adoptado por la Alcaldi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28 Rectángulo"/>
          <p:cNvSpPr/>
          <p:nvPr/>
        </p:nvSpPr>
        <p:spPr>
          <a:xfrm>
            <a:off x="2614680" y="4491000"/>
            <a:ext cx="3457440" cy="647640"/>
          </a:xfrm>
          <a:prstGeom prst="rect">
            <a:avLst/>
          </a:prstGeom>
          <a:solidFill>
            <a:srgbClr val="ffc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Ajuste del Proyecto definitivo en las alcaldías.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36 Rectángulo redondeado"/>
          <p:cNvSpPr/>
          <p:nvPr/>
        </p:nvSpPr>
        <p:spPr>
          <a:xfrm>
            <a:off x="264960" y="6680160"/>
            <a:ext cx="2213280" cy="830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Validacion  del Proyecto de Creacion de Centros de empleo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28 Rectángulo"/>
          <p:cNvSpPr/>
          <p:nvPr/>
        </p:nvSpPr>
        <p:spPr>
          <a:xfrm>
            <a:off x="2614680" y="6673680"/>
            <a:ext cx="3457440" cy="1211400"/>
          </a:xfrm>
          <a:prstGeom prst="rect">
            <a:avLst/>
          </a:prstGeom>
          <a:solidFill>
            <a:srgbClr val="ffc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Análisis del proyecto definitivo por parte de un comité de evaluacion del Ministerio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Validacion y/u observación para su mejor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34 Rectángulo"/>
          <p:cNvSpPr/>
          <p:nvPr/>
        </p:nvSpPr>
        <p:spPr>
          <a:xfrm>
            <a:off x="6243480" y="6705720"/>
            <a:ext cx="3457800" cy="79200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Comunicación de los resultado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35 Rectángulo"/>
          <p:cNvSpPr/>
          <p:nvPr/>
        </p:nvSpPr>
        <p:spPr>
          <a:xfrm>
            <a:off x="9821880" y="6680160"/>
            <a:ext cx="3058920" cy="817560"/>
          </a:xfrm>
          <a:prstGeom prst="rect">
            <a:avLst/>
          </a:prstGeom>
          <a:solidFill>
            <a:srgbClr val="9c9cd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Restitución del proyecto validado o con observacione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28 Rectángulo"/>
          <p:cNvSpPr/>
          <p:nvPr/>
        </p:nvSpPr>
        <p:spPr>
          <a:xfrm>
            <a:off x="6215040" y="4486320"/>
            <a:ext cx="3457440" cy="78408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Proyecto definitivo de Creacion de Centros de empleo adoptado por la Alcaldi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28 Rectángulo"/>
          <p:cNvSpPr/>
          <p:nvPr/>
        </p:nvSpPr>
        <p:spPr>
          <a:xfrm>
            <a:off x="2627280" y="5381640"/>
            <a:ext cx="3457440" cy="790560"/>
          </a:xfrm>
          <a:prstGeom prst="rect">
            <a:avLst/>
          </a:prstGeom>
          <a:solidFill>
            <a:srgbClr val="ffc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Presentación del Proyecto de Crea cion de Centros de empleo por parte de la Alcaldia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36 Rectángulo redondeado"/>
          <p:cNvSpPr/>
          <p:nvPr/>
        </p:nvSpPr>
        <p:spPr>
          <a:xfrm>
            <a:off x="274680" y="8043840"/>
            <a:ext cx="2212920" cy="830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Firma del Convenio entre el Ministerio de Trabajo y la Alcaldia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28 Rectángulo"/>
          <p:cNvSpPr/>
          <p:nvPr/>
        </p:nvSpPr>
        <p:spPr>
          <a:xfrm>
            <a:off x="2602080" y="8048520"/>
            <a:ext cx="3456000" cy="825480"/>
          </a:xfrm>
          <a:prstGeom prst="rect">
            <a:avLst/>
          </a:prstGeom>
          <a:solidFill>
            <a:srgbClr val="ffc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Firma del Convenio entre partes al cual se adjunta el proyecto de Creacion del Centros de empleo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37 Rectángulo"/>
          <p:cNvSpPr/>
          <p:nvPr/>
        </p:nvSpPr>
        <p:spPr>
          <a:xfrm>
            <a:off x="6234120" y="8043840"/>
            <a:ext cx="3457440" cy="79056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Convenio de Asistencia Tecnica para la Creacion de Centros de empleo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38 Rectángulo"/>
          <p:cNvSpPr/>
          <p:nvPr/>
        </p:nvSpPr>
        <p:spPr>
          <a:xfrm>
            <a:off x="9833040" y="8048520"/>
            <a:ext cx="3058920" cy="576360"/>
          </a:xfrm>
          <a:prstGeom prst="rect">
            <a:avLst/>
          </a:prstGeom>
          <a:solidFill>
            <a:srgbClr val="9c9cd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Convenio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24 Rectángulo"/>
          <p:cNvSpPr/>
          <p:nvPr/>
        </p:nvSpPr>
        <p:spPr>
          <a:xfrm>
            <a:off x="9833040" y="4486320"/>
            <a:ext cx="2760480" cy="776160"/>
          </a:xfrm>
          <a:prstGeom prst="rect">
            <a:avLst/>
          </a:prstGeom>
          <a:solidFill>
            <a:srgbClr val="9c9cd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Documento aprobado por la Alcaldia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5D53-32B3-48ED-B337-B02BC650ACC3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1 Rectángulo"/>
          <p:cNvSpPr/>
          <p:nvPr/>
        </p:nvSpPr>
        <p:spPr>
          <a:xfrm>
            <a:off x="1030320" y="2068560"/>
            <a:ext cx="10152000" cy="69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entury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7 Rectángulo redondeado"/>
          <p:cNvSpPr/>
          <p:nvPr/>
        </p:nvSpPr>
        <p:spPr>
          <a:xfrm>
            <a:off x="3333600" y="2355840"/>
            <a:ext cx="6337440" cy="6624720"/>
          </a:xfrm>
          <a:custGeom>
            <a:avLst/>
            <a:gdLst>
              <a:gd name="textAreaLeft" fmla="*/ 309240 w 6337440"/>
              <a:gd name="textAreaRight" fmla="*/ 6028200 w 6337440"/>
              <a:gd name="textAreaTop" fmla="*/ 309240 h 6624720"/>
              <a:gd name="textAreaBottom" fmla="*/ 6315480 h 6624720"/>
            </a:gdLst>
            <a:ahLst/>
            <a:rect l="textAreaLeft" t="textAreaTop" r="textAreaRight" b="textAreaBottom"/>
            <a:pathLst>
              <a:path w="21600" h="22579">
                <a:moveTo>
                  <a:pt x="3600" y="0"/>
                </a:moveTo>
                <a:arcTo wR="3600" hR="3600" stAng="16200000" swAng="-5400000"/>
                <a:lnTo>
                  <a:pt x="0" y="18979"/>
                </a:lnTo>
                <a:arcTo wR="3600" hR="3600" stAng="10800000" swAng="-5400000"/>
                <a:lnTo>
                  <a:pt x="18000" y="225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1.-  Presupuesto de funcionamient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corriente para un año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2.-  Posicionamiento de la estrategi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3.-  Planificación primer año. Met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Servicio por servici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- Met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- Accion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- Resultad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- Cronogram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- Responsabl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- Recursos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4 Rectángulo"/>
          <p:cNvSpPr/>
          <p:nvPr/>
        </p:nvSpPr>
        <p:spPr>
          <a:xfrm>
            <a:off x="5508720" y="1131840"/>
            <a:ext cx="242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Gill Sans"/>
              </a:rPr>
              <a:t>Proyecto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4EB7-106A-4E2A-AE22-89F867C576D2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1 Rectángulo"/>
          <p:cNvSpPr/>
          <p:nvPr/>
        </p:nvSpPr>
        <p:spPr>
          <a:xfrm>
            <a:off x="1030320" y="1996920"/>
            <a:ext cx="1015200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09600" y="3292560"/>
          <a:ext cx="11952360" cy="5905440"/>
        </p:xfrm>
        <a:graphic>
          <a:graphicData uri="http://schemas.openxmlformats.org/drawingml/2006/table">
            <a:tbl>
              <a:tblPr/>
              <a:tblGrid>
                <a:gridCol w="1441440"/>
                <a:gridCol w="1890720"/>
                <a:gridCol w="1785960"/>
                <a:gridCol w="1682640"/>
                <a:gridCol w="495360"/>
                <a:gridCol w="493560"/>
                <a:gridCol w="498600"/>
                <a:gridCol w="501840"/>
                <a:gridCol w="501480"/>
                <a:gridCol w="495360"/>
                <a:gridCol w="495360"/>
                <a:gridCol w="492120"/>
                <a:gridCol w="1177920"/>
              </a:tblGrid>
              <a:tr h="860400">
                <a:tc rowSpan="2"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egme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rup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odu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e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c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4"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iem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jecución Presupuesto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sp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4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6000"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44560"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15960"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46360"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46000"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650880" y="4889520"/>
            <a:ext cx="1300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650880" y="4802040"/>
            <a:ext cx="1300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1 Rectángulo"/>
          <p:cNvSpPr/>
          <p:nvPr/>
        </p:nvSpPr>
        <p:spPr>
          <a:xfrm>
            <a:off x="1389240" y="1835280"/>
            <a:ext cx="10729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333399"/>
                </a:solidFill>
                <a:latin typeface="Century"/>
              </a:rPr>
              <a:t> </a:t>
            </a:r>
            <a:r>
              <a:rPr b="1" i="1" lang="es-ES" sz="2800" spc="-1" strike="noStrike">
                <a:solidFill>
                  <a:srgbClr val="333399"/>
                </a:solidFill>
                <a:latin typeface="Century"/>
              </a:rPr>
              <a:t>Proyecto de Creacion de Centro de emple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Century"/>
              </a:rPr>
              <a:t>         </a:t>
            </a:r>
            <a:r>
              <a:rPr b="1" i="1" lang="es-ES" sz="2800" spc="-1" strike="noStrike">
                <a:solidFill>
                  <a:srgbClr val="333399"/>
                </a:solidFill>
                <a:latin typeface="Century"/>
              </a:rPr>
              <a:t>Planificación  del primer año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C654-7789-487A-B0F1-ABEFC0288989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1 Rectángulo"/>
          <p:cNvSpPr/>
          <p:nvPr/>
        </p:nvSpPr>
        <p:spPr>
          <a:xfrm>
            <a:off x="453960" y="2068560"/>
            <a:ext cx="5977080" cy="6985080"/>
          </a:xfrm>
          <a:prstGeom prst="rect">
            <a:avLst/>
          </a:prstGeom>
          <a:solidFill>
            <a:srgbClr val="daede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6 Rectángulo"/>
          <p:cNvSpPr/>
          <p:nvPr/>
        </p:nvSpPr>
        <p:spPr>
          <a:xfrm>
            <a:off x="6532560" y="2114640"/>
            <a:ext cx="5977080" cy="6985080"/>
          </a:xfrm>
          <a:prstGeom prst="rect">
            <a:avLst/>
          </a:prstGeom>
          <a:solidFill>
            <a:srgbClr val="daede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2 Rectángulo redondeado"/>
          <p:cNvSpPr/>
          <p:nvPr/>
        </p:nvSpPr>
        <p:spPr>
          <a:xfrm>
            <a:off x="4559400" y="915840"/>
            <a:ext cx="3744720" cy="865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Circuito Operativ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Herramient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8 Rectángulo redondeado"/>
          <p:cNvSpPr/>
          <p:nvPr/>
        </p:nvSpPr>
        <p:spPr>
          <a:xfrm>
            <a:off x="1389240" y="2174760"/>
            <a:ext cx="3744720" cy="6476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Primera Etap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9 Rectángulo redondeado"/>
          <p:cNvSpPr/>
          <p:nvPr/>
        </p:nvSpPr>
        <p:spPr>
          <a:xfrm>
            <a:off x="7581960" y="2174760"/>
            <a:ext cx="3744720" cy="6476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Segunda Etap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7 Recortar rectángulo de esquina sencilla"/>
          <p:cNvSpPr/>
          <p:nvPr/>
        </p:nvSpPr>
        <p:spPr>
          <a:xfrm>
            <a:off x="453960" y="3243240"/>
            <a:ext cx="3311640" cy="86508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1.- Solicitud por parte de la Alcaldí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para integrarse  a la Red Nacional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de Agencias de Colocacion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11 Elipse"/>
          <p:cNvSpPr/>
          <p:nvPr/>
        </p:nvSpPr>
        <p:spPr>
          <a:xfrm>
            <a:off x="3981600" y="3267000"/>
            <a:ext cx="2305080" cy="8175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Gill Sans"/>
              </a:rPr>
              <a:t>H1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Gill Sans"/>
              </a:rPr>
              <a:t>Modelo de carta de la  alcaldía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15 Recortar rectángulo de esquina sencilla"/>
          <p:cNvSpPr/>
          <p:nvPr/>
        </p:nvSpPr>
        <p:spPr>
          <a:xfrm>
            <a:off x="453960" y="4427640"/>
            <a:ext cx="3311640" cy="113328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2.- Planificación de un Taller de sen-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sibilización en la alcaldia para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actores  responsables de la firm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del acuerdo final 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16 Elipse"/>
          <p:cNvSpPr/>
          <p:nvPr/>
        </p:nvSpPr>
        <p:spPr>
          <a:xfrm>
            <a:off x="3943440" y="4338720"/>
            <a:ext cx="2319120" cy="131292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Gill Sans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Gill Sans"/>
              </a:rPr>
              <a:t>Taller de sensibilizació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Gill Sans"/>
              </a:rPr>
              <a:t>H3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Gill Sans"/>
              </a:rPr>
              <a:t>Fichas de soport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17 Recortar rectángulo de esquina sencilla"/>
          <p:cNvSpPr/>
          <p:nvPr/>
        </p:nvSpPr>
        <p:spPr>
          <a:xfrm>
            <a:off x="453960" y="5921280"/>
            <a:ext cx="3311640" cy="115092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3.- Presentación del Pre proyecto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de Creacion de Centro de empleo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18 Elipse"/>
          <p:cNvSpPr/>
          <p:nvPr/>
        </p:nvSpPr>
        <p:spPr>
          <a:xfrm>
            <a:off x="3959280" y="5921280"/>
            <a:ext cx="2303280" cy="115092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Gill Sans"/>
              </a:rPr>
              <a:t>H4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Gill Sans"/>
              </a:rPr>
              <a:t>Modelo de Pre Proyecto de Creacion de Centro de empleo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19 Recortar rectángulo de esquina sencilla"/>
          <p:cNvSpPr/>
          <p:nvPr/>
        </p:nvSpPr>
        <p:spPr>
          <a:xfrm>
            <a:off x="453960" y="7613640"/>
            <a:ext cx="3322800" cy="107964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4.- Aprobación por parte del Ministerio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del Pre proyecto  de Creacion de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Centros de empleo y AT para la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      </a:t>
            </a: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elaboración del Proyecto final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20 Elipse"/>
          <p:cNvSpPr/>
          <p:nvPr/>
        </p:nvSpPr>
        <p:spPr>
          <a:xfrm>
            <a:off x="3973680" y="7548480"/>
            <a:ext cx="2304720" cy="12240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Gill Sans"/>
              </a:rPr>
              <a:t>H5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Gill Sans"/>
              </a:rPr>
              <a:t>Modelo de Solicitud de AT para la elaboración del proyecto final 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21 Recortar rectángulo de esquina sencilla"/>
          <p:cNvSpPr/>
          <p:nvPr/>
        </p:nvSpPr>
        <p:spPr>
          <a:xfrm>
            <a:off x="6532560" y="3267000"/>
            <a:ext cx="3498840" cy="86544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5.- Reunion tecnica con coordinado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   </a:t>
            </a: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res para completar el Proyecto de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   </a:t>
            </a: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Creacion de Centros de Empleo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22 Elipse"/>
          <p:cNvSpPr/>
          <p:nvPr/>
        </p:nvSpPr>
        <p:spPr>
          <a:xfrm>
            <a:off x="10191600" y="3219480"/>
            <a:ext cx="2303640" cy="10335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Gill Sans"/>
              </a:rPr>
              <a:t>H6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Gill Sans"/>
              </a:rPr>
              <a:t>Proyecto de Creacion de Centros de Empleo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23 Recortar rectángulo de esquina sencilla"/>
          <p:cNvSpPr/>
          <p:nvPr/>
        </p:nvSpPr>
        <p:spPr>
          <a:xfrm>
            <a:off x="6532560" y="4427640"/>
            <a:ext cx="3498840" cy="86508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6.- Finalizacion y presentacion del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Proyecto de Creacion de Centro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de Empleo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25 Recortar rectángulo de esquina sencilla"/>
          <p:cNvSpPr/>
          <p:nvPr/>
        </p:nvSpPr>
        <p:spPr>
          <a:xfrm>
            <a:off x="6532560" y="5891040"/>
            <a:ext cx="3498840" cy="85752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7.- Aprobación por parte del Ministerio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del Proyecto de Creacion de Centros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de empleo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26 Recortar rectángulo de esquina sencilla"/>
          <p:cNvSpPr/>
          <p:nvPr/>
        </p:nvSpPr>
        <p:spPr>
          <a:xfrm>
            <a:off x="6532560" y="7116840"/>
            <a:ext cx="3498840" cy="86364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8.- Firma del Convenio entre la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parte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27 Elipse"/>
          <p:cNvSpPr/>
          <p:nvPr/>
        </p:nvSpPr>
        <p:spPr>
          <a:xfrm>
            <a:off x="10174320" y="7072200"/>
            <a:ext cx="2305080" cy="10810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Gill Sans"/>
              </a:rPr>
              <a:t>H7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Gill Sans"/>
              </a:rPr>
              <a:t>Modelo de Convenio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E9AA-6B83-44BA-AE7A-D29C0E9B4A8B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1 Rectángulo"/>
          <p:cNvSpPr/>
          <p:nvPr/>
        </p:nvSpPr>
        <p:spPr>
          <a:xfrm>
            <a:off x="1030320" y="2284560"/>
            <a:ext cx="10152000" cy="62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Hay una </a:t>
            </a:r>
            <a:r>
              <a:rPr b="1" i="1" lang="es-ES" sz="2800" spc="-1" strike="noStrike">
                <a:solidFill>
                  <a:srgbClr val="000000"/>
                </a:solidFill>
                <a:latin typeface="Century"/>
              </a:rPr>
              <a:t>estrategia del Ministerio de Trabajo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entury"/>
              </a:rPr>
              <a:t>que define prioridades</a:t>
            </a:r>
            <a:r>
              <a:rPr b="0" i="1" lang="es-ES" sz="28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para el desarrollo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de la red de Agencias de Colocacion en el territorio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1 Rectángulo"/>
          <p:cNvSpPr/>
          <p:nvPr/>
        </p:nvSpPr>
        <p:spPr>
          <a:xfrm>
            <a:off x="4587480" y="1204920"/>
            <a:ext cx="22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«</a:t>
            </a:r>
            <a:r>
              <a:rPr b="1" i="1" lang="es-ES" sz="2800" spc="-1" strike="noStrike">
                <a:solidFill>
                  <a:srgbClr val="000000"/>
                </a:solidFill>
                <a:latin typeface="Century"/>
              </a:rPr>
              <a:t>Supuesto»</a:t>
            </a: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F087-54AF-4A27-9FDF-D379EC9FA1C3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1 Rectángulo"/>
          <p:cNvSpPr/>
          <p:nvPr/>
        </p:nvSpPr>
        <p:spPr>
          <a:xfrm>
            <a:off x="598320" y="2284560"/>
            <a:ext cx="12168360" cy="62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entury"/>
              </a:rPr>
              <a:t>Incorporación de los Centros de emple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entury"/>
              </a:rPr>
              <a:t>a la Red Naciona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Es un proceso que se desarrolla en etap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Contempla una secuencia de pasos previamente identificado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Requiere cumplir con condiciones especificas en cada paso del proceso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1568-C82B-4C6C-8466-89D8C5324F24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1 Rectángulo"/>
          <p:cNvSpPr/>
          <p:nvPr/>
        </p:nvSpPr>
        <p:spPr>
          <a:xfrm>
            <a:off x="741240" y="1781280"/>
            <a:ext cx="11449080" cy="67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entury"/>
              </a:rPr>
              <a:t>Incorporación de los Centros de emple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entury"/>
              </a:rPr>
              <a:t>a la Red Naciona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"/>
              </a:rPr>
              <a:t>Este proceso garantiz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                                  </a:t>
            </a:r>
            <a:r>
              <a:rPr b="1" i="1" lang="es-ES" sz="2800" spc="-1" strike="noStrike">
                <a:solidFill>
                  <a:srgbClr val="000000"/>
                </a:solidFill>
                <a:latin typeface="Century"/>
              </a:rPr>
              <a:t>* Para el Ministerio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Una sistematización de las actividades de asistencia técnica dirigidas a las alcaldí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Una mayor eficiencia / planificación en la organización de las actividades de asistencia técnic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La definición de prioridades de asistencia técnic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El desarrollo de herramientas necesarias para cada intervención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Un servicio de calidad y homogéneo para cada Centr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2B24-087A-4935-9134-A023911E1B92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1 Rectángulo"/>
          <p:cNvSpPr/>
          <p:nvPr/>
        </p:nvSpPr>
        <p:spPr>
          <a:xfrm>
            <a:off x="669960" y="1708200"/>
            <a:ext cx="11520360" cy="68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entury"/>
              </a:rPr>
              <a:t>Incorporación de los Centros de emple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entury"/>
              </a:rPr>
              <a:t>a la Red Naciona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"/>
              </a:rPr>
              <a:t>Este proceso garantiz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entury"/>
              </a:rPr>
              <a:t>                                   </a:t>
            </a:r>
            <a:r>
              <a:rPr b="1" i="1" lang="es-ES" sz="2800" spc="-1" strike="noStrike">
                <a:solidFill>
                  <a:srgbClr val="000000"/>
                </a:solidFill>
                <a:latin typeface="Century"/>
              </a:rPr>
              <a:t>* Para las Alcaldí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La identificación de las pautas y criterios necesarios para su incorporación a la Red Naciona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La activación de los recursos que serán necesarios par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     </a:t>
            </a: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crear el Centro de empleo y asegurar su sostenibilida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La coordinación de las actividades de asistencia técnica con el Ministerio de Trabajo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25F3-4238-4EFC-964E-4A26FBF7D3DB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1 Rectángulo"/>
          <p:cNvSpPr/>
          <p:nvPr/>
        </p:nvSpPr>
        <p:spPr>
          <a:xfrm>
            <a:off x="0" y="1852560"/>
            <a:ext cx="13004640" cy="68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Century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Century"/>
              </a:rPr>
              <a:t>Etapa  previ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entury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entury"/>
              </a:rPr>
              <a:t>Tramitación del expediente </a:t>
            </a:r>
            <a:r>
              <a:rPr b="0" lang="es-ES" sz="2400" spc="-1" strike="noStrike">
                <a:solidFill>
                  <a:srgbClr val="000000"/>
                </a:solidFill>
                <a:latin typeface="Century"/>
              </a:rPr>
              <a:t> de autorización como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"/>
              </a:rPr>
              <a:t>       </a:t>
            </a:r>
            <a:r>
              <a:rPr b="1" lang="es-ES" sz="2400" spc="-1" strike="noStrike">
                <a:solidFill>
                  <a:srgbClr val="000000"/>
                </a:solidFill>
                <a:latin typeface="Century"/>
              </a:rPr>
              <a:t>Agencia de Colocación</a:t>
            </a:r>
            <a:r>
              <a:rPr b="1" i="1" lang="es-ES" sz="2400" spc="-1" strike="noStrike">
                <a:solidFill>
                  <a:srgbClr val="333399"/>
                </a:solidFill>
                <a:latin typeface="Centu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Century"/>
              </a:rPr>
              <a:t>     </a:t>
            </a:r>
            <a:r>
              <a:rPr b="1" i="1" lang="es-ES" sz="2800" spc="-1" strike="noStrike">
                <a:solidFill>
                  <a:srgbClr val="333399"/>
                </a:solidFill>
                <a:latin typeface="Century"/>
              </a:rPr>
              <a:t>Primera  etapa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333399"/>
                </a:solidFill>
                <a:latin typeface="Century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entury"/>
              </a:rPr>
              <a:t>Inicio del proceso de asistencia técnica para la Creacion del Centro de empleo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"/>
              </a:rPr>
              <a:t>que culmina con la elaboracion y validación del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"/>
              </a:rPr>
              <a:t>Pre proyecto de Centro de emple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Century"/>
              </a:rPr>
              <a:t>Segunda etap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Century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entury"/>
              </a:rPr>
              <a:t>Continuación del  proceso de asistencia técnica para la Creacion del Centro de empleo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"/>
              </a:rPr>
              <a:t>que culmina con la validación del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"/>
              </a:rPr>
              <a:t>Proyecto de Creacion del  Centro de Empleo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1 Rectángulo"/>
          <p:cNvSpPr/>
          <p:nvPr/>
        </p:nvSpPr>
        <p:spPr>
          <a:xfrm>
            <a:off x="0" y="1265400"/>
            <a:ext cx="130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entury"/>
              </a:rPr>
              <a:t>Etapas  para la Integración  de  los  Centros de empleo en la Red Nacional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9D67-9961-43EC-ABC2-AC7A2649B429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1 Rectángulo"/>
          <p:cNvSpPr/>
          <p:nvPr/>
        </p:nvSpPr>
        <p:spPr>
          <a:xfrm>
            <a:off x="1030320" y="2068560"/>
            <a:ext cx="10152000" cy="69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entury"/>
              </a:rPr>
              <a:t>Tramitación del expediente de autorización como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entury"/>
              </a:rPr>
              <a:t>Agencia de Colocacion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Century"/>
              </a:rPr>
              <a:t>                                                                             </a:t>
            </a:r>
            <a:r>
              <a:rPr b="1" i="1" lang="es-ES" sz="2800" spc="-1" strike="noStrike">
                <a:solidFill>
                  <a:srgbClr val="333399"/>
                </a:solidFill>
                <a:latin typeface="Century"/>
              </a:rPr>
              <a:t>Etapa previ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"/>
              </a:rPr>
              <a:t>     </a:t>
            </a:r>
            <a:r>
              <a:rPr b="0" lang="es-ES" sz="3200" spc="-1" strike="noStrike">
                <a:solidFill>
                  <a:srgbClr val="000000"/>
                </a:solidFill>
                <a:latin typeface="Century"/>
              </a:rPr>
              <a:t>- </a:t>
            </a: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Contactos preliminares con las Alcaldí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      </a:t>
            </a: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- Reuniones de sensibilización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      </a:t>
            </a: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- Asistencia técnica para presentar el expediente de apr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        </a:t>
            </a: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bacion como Centro de Colocacion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      </a:t>
            </a: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- Presentación del Expedient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      </a:t>
            </a: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- Aprobación del Expediente. Numero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entury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C4D4-8760-44B9-8EFD-FC598927F0C4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28 Rectángulo"/>
          <p:cNvSpPr/>
          <p:nvPr/>
        </p:nvSpPr>
        <p:spPr>
          <a:xfrm>
            <a:off x="2608200" y="2003400"/>
            <a:ext cx="3456000" cy="601560"/>
          </a:xfrm>
          <a:prstGeom prst="rect">
            <a:avLst/>
          </a:prstGeom>
          <a:solidFill>
            <a:srgbClr val="ffc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Actividad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36 Rectángulo redondeado"/>
          <p:cNvSpPr/>
          <p:nvPr/>
        </p:nvSpPr>
        <p:spPr>
          <a:xfrm>
            <a:off x="293760" y="1996920"/>
            <a:ext cx="2212920" cy="601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Fas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48 Rectángulo"/>
          <p:cNvSpPr/>
          <p:nvPr/>
        </p:nvSpPr>
        <p:spPr>
          <a:xfrm>
            <a:off x="6230880" y="2003400"/>
            <a:ext cx="3457800" cy="60156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ductos/Evidencias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2 Rectángulo redondeado"/>
          <p:cNvSpPr/>
          <p:nvPr/>
        </p:nvSpPr>
        <p:spPr>
          <a:xfrm>
            <a:off x="4560840" y="985680"/>
            <a:ext cx="3745080" cy="85428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Circuito Operativ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Fas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8 Rectángulo redondeado"/>
          <p:cNvSpPr/>
          <p:nvPr/>
        </p:nvSpPr>
        <p:spPr>
          <a:xfrm>
            <a:off x="598320" y="1204920"/>
            <a:ext cx="3745080" cy="43164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imera etap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7 Rectángulo"/>
          <p:cNvSpPr/>
          <p:nvPr/>
        </p:nvSpPr>
        <p:spPr>
          <a:xfrm>
            <a:off x="9829800" y="2003400"/>
            <a:ext cx="2760840" cy="601560"/>
          </a:xfrm>
          <a:prstGeom prst="rect">
            <a:avLst/>
          </a:prstGeom>
          <a:solidFill>
            <a:srgbClr val="9c9cd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Documentos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36 Rectángulo redondeado"/>
          <p:cNvSpPr/>
          <p:nvPr/>
        </p:nvSpPr>
        <p:spPr>
          <a:xfrm>
            <a:off x="257040" y="2936880"/>
            <a:ext cx="2213280" cy="806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Solicitud de asistencia tecnica para integrar la Red Nacional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28 Rectángulo"/>
          <p:cNvSpPr/>
          <p:nvPr/>
        </p:nvSpPr>
        <p:spPr>
          <a:xfrm>
            <a:off x="2631960" y="2951280"/>
            <a:ext cx="3456000" cy="792000"/>
          </a:xfrm>
          <a:prstGeom prst="rect">
            <a:avLst/>
          </a:prstGeom>
          <a:solidFill>
            <a:srgbClr val="ffc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Presentación por parte de la alcaldía de una solicitud para integrar la red de empleo nacional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10 Rectángulo"/>
          <p:cNvSpPr/>
          <p:nvPr/>
        </p:nvSpPr>
        <p:spPr>
          <a:xfrm>
            <a:off x="6230880" y="2951280"/>
            <a:ext cx="3457800" cy="60156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Carta de solicitud del alcalde.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Pedido de asistencia técnic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36 Rectángulo redondeado"/>
          <p:cNvSpPr/>
          <p:nvPr/>
        </p:nvSpPr>
        <p:spPr>
          <a:xfrm>
            <a:off x="257040" y="3868560"/>
            <a:ext cx="2213280" cy="830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Sensibilización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Elaboración del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Pre proyecto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28 Rectángulo"/>
          <p:cNvSpPr/>
          <p:nvPr/>
        </p:nvSpPr>
        <p:spPr>
          <a:xfrm>
            <a:off x="2631960" y="3868560"/>
            <a:ext cx="3456000" cy="1982880"/>
          </a:xfrm>
          <a:prstGeom prst="rect">
            <a:avLst/>
          </a:prstGeom>
          <a:solidFill>
            <a:srgbClr val="ffc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Convocatoria por parte del Ministerio de Trabajo a participar de un taller de sensibilización para la firma acuerdo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Convocatoria por parte de la alcaldía a todos los involucrados en la toma de decisión del acuerdo final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Participación de los representantes de la alcaldía en un taller de sensi bilizacion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15 Rectángulo"/>
          <p:cNvSpPr/>
          <p:nvPr/>
        </p:nvSpPr>
        <p:spPr>
          <a:xfrm>
            <a:off x="6230880" y="3873600"/>
            <a:ext cx="3457800" cy="99216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Taller de sensibilización brindado por el Ministerio de Trabajo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 Acta de desarrollo del taller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 Agenda acordad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18 Rectángulo"/>
          <p:cNvSpPr/>
          <p:nvPr/>
        </p:nvSpPr>
        <p:spPr>
          <a:xfrm>
            <a:off x="9829800" y="3868560"/>
            <a:ext cx="2760840" cy="2900520"/>
          </a:xfrm>
          <a:prstGeom prst="rect">
            <a:avLst/>
          </a:prstGeom>
          <a:solidFill>
            <a:srgbClr val="9c9cd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Gill Sans"/>
              </a:rPr>
              <a:t>El Ministerio dispone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Material necesario para con  ducir el taller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 Guia para cumplir con los re quisito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Gill Sans"/>
              </a:rPr>
              <a:t>La alcaldía aport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Nota de invitación a los inte grantes del CD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Acta de desarrollo del taller con compromisos contraídos firmada por los asistente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Gill Sans"/>
              </a:rPr>
              <a:t>Las partes establecen una agenda de trabajo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36 Rectángulo redondeado"/>
          <p:cNvSpPr/>
          <p:nvPr/>
        </p:nvSpPr>
        <p:spPr>
          <a:xfrm>
            <a:off x="258840" y="6029280"/>
            <a:ext cx="2212920" cy="830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Promulgación de la Ordenanza Municipal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28 Rectángulo"/>
          <p:cNvSpPr/>
          <p:nvPr/>
        </p:nvSpPr>
        <p:spPr>
          <a:xfrm>
            <a:off x="2620800" y="6060960"/>
            <a:ext cx="3456000" cy="766800"/>
          </a:xfrm>
          <a:prstGeom prst="rect">
            <a:avLst/>
          </a:prstGeom>
          <a:solidFill>
            <a:srgbClr val="ffc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Aprobación de la ordenanza de Crea cion de la Agencia de Colocación  por parte del Ministerio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22 Rectángulo"/>
          <p:cNvSpPr/>
          <p:nvPr/>
        </p:nvSpPr>
        <p:spPr>
          <a:xfrm>
            <a:off x="6213600" y="6060960"/>
            <a:ext cx="3457440" cy="88920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Ordenanza promulgada. Debe con templar el presupuesto relativo a espa cio físico, personal y gastos de funcio namiento y metas por un año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36 Rectángulo redondeado"/>
          <p:cNvSpPr/>
          <p:nvPr/>
        </p:nvSpPr>
        <p:spPr>
          <a:xfrm>
            <a:off x="257040" y="7053120"/>
            <a:ext cx="2213280" cy="830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Finalización y Presentación del Pre proyecto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28 Rectángulo"/>
          <p:cNvSpPr/>
          <p:nvPr/>
        </p:nvSpPr>
        <p:spPr>
          <a:xfrm>
            <a:off x="2608200" y="7058160"/>
            <a:ext cx="3456000" cy="766800"/>
          </a:xfrm>
          <a:prstGeom prst="rect">
            <a:avLst/>
          </a:prstGeom>
          <a:solidFill>
            <a:srgbClr val="ffc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Presentación del pre proyectó por parte de la Alcaldia para iniciar el proceso de asistencia técnica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27 Rectángulo"/>
          <p:cNvSpPr/>
          <p:nvPr/>
        </p:nvSpPr>
        <p:spPr>
          <a:xfrm>
            <a:off x="6208560" y="7058160"/>
            <a:ext cx="3457800" cy="79200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Pre proyecto: Ficha institucional y justificación de la propuest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29 Rectángulo"/>
          <p:cNvSpPr/>
          <p:nvPr/>
        </p:nvSpPr>
        <p:spPr>
          <a:xfrm>
            <a:off x="9780480" y="7053120"/>
            <a:ext cx="3059280" cy="1152720"/>
          </a:xfrm>
          <a:prstGeom prst="rect">
            <a:avLst/>
          </a:prstGeom>
          <a:solidFill>
            <a:srgbClr val="9c9cd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Aprobación como Agenci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Ordenanza promulgad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Nota invitación al CD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Acta del taller de sensibilización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Nota de solicitud de AT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36 Rectángulo redondeado"/>
          <p:cNvSpPr/>
          <p:nvPr/>
        </p:nvSpPr>
        <p:spPr>
          <a:xfrm>
            <a:off x="274680" y="8078760"/>
            <a:ext cx="2212920" cy="830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Validación del Pre proyecto y pasaje a la siguiente fase de AT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28 Rectángulo"/>
          <p:cNvSpPr/>
          <p:nvPr/>
        </p:nvSpPr>
        <p:spPr>
          <a:xfrm>
            <a:off x="2631960" y="8078760"/>
            <a:ext cx="3456000" cy="1190520"/>
          </a:xfrm>
          <a:prstGeom prst="rect">
            <a:avLst/>
          </a:prstGeom>
          <a:solidFill>
            <a:srgbClr val="ffc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Análisis del pre proyecto por parte de un comité de evaluacion del Ministerio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 Validacion y/u observación para su mejora por parte del Ministerio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34 Rectángulo"/>
          <p:cNvSpPr/>
          <p:nvPr/>
        </p:nvSpPr>
        <p:spPr>
          <a:xfrm>
            <a:off x="6213600" y="8078760"/>
            <a:ext cx="3457440" cy="79236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Comunicación de los resultado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35 Rectángulo"/>
          <p:cNvSpPr/>
          <p:nvPr/>
        </p:nvSpPr>
        <p:spPr>
          <a:xfrm>
            <a:off x="9863280" y="8494560"/>
            <a:ext cx="3058920" cy="574920"/>
          </a:xfrm>
          <a:prstGeom prst="rect">
            <a:avLst/>
          </a:prstGeom>
          <a:solidFill>
            <a:srgbClr val="9c9cd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Restitución del pre proyecto validado o con observacione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2E59-BE02-4648-B1A8-30C94D7828D3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1 Rectángulo"/>
          <p:cNvSpPr/>
          <p:nvPr/>
        </p:nvSpPr>
        <p:spPr>
          <a:xfrm>
            <a:off x="1030320" y="2068560"/>
            <a:ext cx="10152000" cy="69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entury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1 Rectángulo redondeado"/>
          <p:cNvSpPr/>
          <p:nvPr/>
        </p:nvSpPr>
        <p:spPr>
          <a:xfrm>
            <a:off x="0" y="2214720"/>
            <a:ext cx="6502320" cy="6624360"/>
          </a:xfrm>
          <a:custGeom>
            <a:avLst/>
            <a:gdLst>
              <a:gd name="textAreaLeft" fmla="*/ 317160 w 6502320"/>
              <a:gd name="textAreaRight" fmla="*/ 6185160 w 6502320"/>
              <a:gd name="textAreaTop" fmla="*/ 317160 h 6624360"/>
              <a:gd name="textAreaBottom" fmla="*/ 6307200 h 6624360"/>
            </a:gdLst>
            <a:ahLst/>
            <a:rect l="textAreaLeft" t="textAreaTop" r="textAreaRight" b="textAreaBottom"/>
            <a:pathLst>
              <a:path w="21600" h="22005">
                <a:moveTo>
                  <a:pt x="3600" y="0"/>
                </a:moveTo>
                <a:arcTo wR="3600" hR="3600" stAng="16200000" swAng="-5400000"/>
                <a:lnTo>
                  <a:pt x="0" y="18405"/>
                </a:lnTo>
                <a:arcTo wR="3600" hR="3600" stAng="10800000" swAng="-5400000"/>
                <a:lnTo>
                  <a:pt x="18000" y="220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1.-  Ficha institucional de la alcaldi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y/o del operador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1.1. Generalidades de la alcaldi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1.2. Centro de emple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 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- Condiciones materiales y físic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 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- Recursos Humano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 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- Presupuesto para un añ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8 Rectángulo redondeado"/>
          <p:cNvSpPr/>
          <p:nvPr/>
        </p:nvSpPr>
        <p:spPr>
          <a:xfrm>
            <a:off x="6667560" y="2201760"/>
            <a:ext cx="6337080" cy="6623280"/>
          </a:xfrm>
          <a:custGeom>
            <a:avLst/>
            <a:gdLst>
              <a:gd name="textAreaLeft" fmla="*/ 309240 w 6337080"/>
              <a:gd name="textAreaRight" fmla="*/ 6027840 w 6337080"/>
              <a:gd name="textAreaTop" fmla="*/ 309240 h 6623280"/>
              <a:gd name="textAreaBottom" fmla="*/ 6314040 h 6623280"/>
            </a:gdLst>
            <a:ahLst/>
            <a:rect l="textAreaLeft" t="textAreaTop" r="textAreaRight" b="textAreaBottom"/>
            <a:pathLst>
              <a:path w="21600" h="22575">
                <a:moveTo>
                  <a:pt x="3600" y="0"/>
                </a:moveTo>
                <a:arcTo wR="3600" hR="3600" stAng="16200000" swAng="-5400000"/>
                <a:lnTo>
                  <a:pt x="0" y="18975"/>
                </a:lnTo>
                <a:arcTo wR="3600" hR="3600" stAng="10800000" swAng="-5400000"/>
                <a:lnTo>
                  <a:pt x="18000" y="22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2.-  Fundamentación del proyect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* Descripción del territori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.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Características socio laboral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.Caracteristicas producti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.Dinámica del territori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.Actividades primarias y secundari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.Actividad Económic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.Actores institucionales que pu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den  contribuir a los objetivos del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proyecto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*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blemas de empleo detectado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*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Caus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* Posicionamiento del Centro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5 Rectángulo"/>
          <p:cNvSpPr/>
          <p:nvPr/>
        </p:nvSpPr>
        <p:spPr>
          <a:xfrm>
            <a:off x="5016600" y="1131840"/>
            <a:ext cx="341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Gill Sans"/>
              </a:rPr>
              <a:t>Pre proyecto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nathan Eskinazi</dc:creator>
  <dc:description/>
  <dc:language>en-US</dc:language>
  <cp:lastModifiedBy>Luffi</cp:lastModifiedBy>
  <dcterms:modified xsi:type="dcterms:W3CDTF">2013-09-11T23:24:00Z</dcterms:modified>
  <cp:revision>329</cp:revision>
  <dc:subject/>
  <dc:title>Titulo de la presentación -Subtítulo de la presentación-</dc:title>
</cp:coreProperties>
</file>