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640-8EEF-4B72-840F-591B2E54D221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05F4-5A26-4E70-93A0-8C2F8BC64A2B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440-8127-4964-888B-41D82EA8745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EA25-ED11-43CB-9686-2FE0A2047C7F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DD8-4649-4396-9FA1-06914031A33D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7362-B60B-4D65-A949-CB98A794B919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5955-BA95-4AE1-9F94-08A8A7A12783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D6B-81BA-448D-BD99-DBEA140BAE33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C4E3-0DEC-44DD-87DD-633187677346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4D2-05EA-47D7-9F16-EF95959D7CC5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DFE-677B-4CFD-BE65-EB74D9CD7A5E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0369-B576-473C-AC11-B778A9D9D122}" type="slidenum">
              <a:rPr b="0" lang="it-IT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C8B7-113C-4043-B058-91AA5130D2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40B7-1957-46DD-8785-E9B3093A25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69DE-37B3-4F0C-B4EA-DBD892708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6B31-9422-4F1B-A8CF-37FDEF96FC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8C5C-0F25-4770-B29A-B0EB81C1F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754B-F5E3-48A6-9176-E037707BA9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49F1-F3A2-4C5B-8386-A6F5773B1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289D-2467-4FDF-8741-E857F1F83D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89D1-70F9-403C-9614-5E9D780AB6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803F9-9997-4FAA-A14B-CF304F44E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6ECA-C9B9-45DD-8F70-15EDE77258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CA02-348F-4CCD-9E52-676BA4E91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42F-81AF-454C-97AB-0A4132B1E90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-11268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87280" y="8148600"/>
            <a:ext cx="12204720" cy="140004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Proceso de Integración 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de los Centros de Empleo</a:t>
            </a:r>
            <a:br>
              <a:rPr sz="6800"/>
            </a:br>
            <a:r>
              <a:rPr b="0" lang="es-AR" sz="6800" spc="-1" strike="noStrike">
                <a:solidFill>
                  <a:srgbClr val="ffffff"/>
                </a:solidFill>
                <a:latin typeface="Gill Sans MT"/>
              </a:rPr>
              <a:t>a la Red Nacional</a:t>
            </a:r>
            <a:br>
              <a:rPr sz="6800"/>
            </a:b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17E-4B9C-461E-9C6E-82EF0D2C996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28 Rectángulo"/>
          <p:cNvSpPr/>
          <p:nvPr/>
        </p:nvSpPr>
        <p:spPr>
          <a:xfrm>
            <a:off x="2584440" y="206856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36 Rectángulo redondeado"/>
          <p:cNvSpPr/>
          <p:nvPr/>
        </p:nvSpPr>
        <p:spPr>
          <a:xfrm>
            <a:off x="235080" y="2068560"/>
            <a:ext cx="2212920" cy="601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48 Rectángulo"/>
          <p:cNvSpPr/>
          <p:nvPr/>
        </p:nvSpPr>
        <p:spPr>
          <a:xfrm>
            <a:off x="6215040" y="2068560"/>
            <a:ext cx="345744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9801360" y="2068560"/>
            <a:ext cx="276048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36 Rectángulo redondeado"/>
          <p:cNvSpPr/>
          <p:nvPr/>
        </p:nvSpPr>
        <p:spPr>
          <a:xfrm>
            <a:off x="257040" y="3046320"/>
            <a:ext cx="2213280" cy="80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yecto definitiv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28 Rectángulo"/>
          <p:cNvSpPr/>
          <p:nvPr/>
        </p:nvSpPr>
        <p:spPr>
          <a:xfrm>
            <a:off x="2584440" y="3046320"/>
            <a:ext cx="3456000" cy="13161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union técnica mensual para la formulación del Proyecto definitivo y Taller de gerenciamiento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Participan  los coordinadores de los Centros de empleo con pre proyecto aprob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10 Rectángulo"/>
          <p:cNvSpPr/>
          <p:nvPr/>
        </p:nvSpPr>
        <p:spPr>
          <a:xfrm>
            <a:off x="6215040" y="3046320"/>
            <a:ext cx="3457440" cy="60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Borrador del Proyecto definitivo para ser validado en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18 Rectángulo"/>
          <p:cNvSpPr/>
          <p:nvPr/>
        </p:nvSpPr>
        <p:spPr>
          <a:xfrm>
            <a:off x="9815400" y="3046320"/>
            <a:ext cx="2760840" cy="776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36 Rectángulo redondeado"/>
          <p:cNvSpPr/>
          <p:nvPr/>
        </p:nvSpPr>
        <p:spPr>
          <a:xfrm>
            <a:off x="264960" y="5381640"/>
            <a:ext cx="2213280" cy="97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evación al Ministerio del Proyecto definitiv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28 Rectángulo"/>
          <p:cNvSpPr/>
          <p:nvPr/>
        </p:nvSpPr>
        <p:spPr>
          <a:xfrm>
            <a:off x="2614680" y="4491000"/>
            <a:ext cx="3457440" cy="64764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juste del Proyecto definitivo en las alcaldías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36 Rectángulo redondeado"/>
          <p:cNvSpPr/>
          <p:nvPr/>
        </p:nvSpPr>
        <p:spPr>
          <a:xfrm>
            <a:off x="264960" y="6680160"/>
            <a:ext cx="221328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on  del Proyecto de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28 Rectángulo"/>
          <p:cNvSpPr/>
          <p:nvPr/>
        </p:nvSpPr>
        <p:spPr>
          <a:xfrm>
            <a:off x="2614680" y="6673680"/>
            <a:ext cx="3457440" cy="121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oyecto definitiv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Validacion y/u observación para su mejor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34 Rectángulo"/>
          <p:cNvSpPr/>
          <p:nvPr/>
        </p:nvSpPr>
        <p:spPr>
          <a:xfrm>
            <a:off x="6243480" y="670572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35 Rectángulo"/>
          <p:cNvSpPr/>
          <p:nvPr/>
        </p:nvSpPr>
        <p:spPr>
          <a:xfrm>
            <a:off x="9821880" y="6680160"/>
            <a:ext cx="3058920" cy="817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Restitución del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28 Rectángulo"/>
          <p:cNvSpPr/>
          <p:nvPr/>
        </p:nvSpPr>
        <p:spPr>
          <a:xfrm>
            <a:off x="6215040" y="4486320"/>
            <a:ext cx="3457440" cy="78408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oyecto definitivo de Creacion de Centros de empleo adoptado por la Alcald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28 Rectángulo"/>
          <p:cNvSpPr/>
          <p:nvPr/>
        </p:nvSpPr>
        <p:spPr>
          <a:xfrm>
            <a:off x="2627280" y="5381640"/>
            <a:ext cx="3457440" cy="790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oyecto de Crea cion de Centros de empleo por parte de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36 Rectángulo redondeado"/>
          <p:cNvSpPr/>
          <p:nvPr/>
        </p:nvSpPr>
        <p:spPr>
          <a:xfrm>
            <a:off x="274680" y="804384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rma del Convenio entre el Ministerio de Trabajo y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28 Rectángulo"/>
          <p:cNvSpPr/>
          <p:nvPr/>
        </p:nvSpPr>
        <p:spPr>
          <a:xfrm>
            <a:off x="2602080" y="8048520"/>
            <a:ext cx="3456000" cy="8254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Firma del Convenio entre partes al cual se adjunta el proyecto de Creacion del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37 Rectángulo"/>
          <p:cNvSpPr/>
          <p:nvPr/>
        </p:nvSpPr>
        <p:spPr>
          <a:xfrm>
            <a:off x="6234120" y="8043840"/>
            <a:ext cx="3457440" cy="790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 de Asistencia Tecnica para la Creacion de Centros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38 Rectángulo"/>
          <p:cNvSpPr/>
          <p:nvPr/>
        </p:nvSpPr>
        <p:spPr>
          <a:xfrm>
            <a:off x="9833040" y="8048520"/>
            <a:ext cx="3058920" cy="5763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enio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24 Rectángulo"/>
          <p:cNvSpPr/>
          <p:nvPr/>
        </p:nvSpPr>
        <p:spPr>
          <a:xfrm>
            <a:off x="9833040" y="4486320"/>
            <a:ext cx="2760480" cy="7761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Documento aprobado por la Alcaldi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BA8-3B27-4874-93F2-7530D62E5B6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7 Rectángulo redondeado"/>
          <p:cNvSpPr/>
          <p:nvPr/>
        </p:nvSpPr>
        <p:spPr>
          <a:xfrm>
            <a:off x="3333600" y="2355840"/>
            <a:ext cx="6337440" cy="6624720"/>
          </a:xfrm>
          <a:custGeom>
            <a:avLst/>
            <a:gdLst>
              <a:gd name="textAreaLeft" fmla="*/ 309240 w 6337440"/>
              <a:gd name="textAreaRight" fmla="*/ 6028200 w 6337440"/>
              <a:gd name="textAreaTop" fmla="*/ 309240 h 6624720"/>
              <a:gd name="textAreaBottom" fmla="*/ 6315480 h 6624720"/>
            </a:gdLst>
            <a:ahLst/>
            <a:rect l="textAreaLeft" t="textAreaTop" r="textAreaRight" b="textAreaBottom"/>
            <a:pathLst>
              <a:path w="21600" h="22579">
                <a:moveTo>
                  <a:pt x="3600" y="0"/>
                </a:moveTo>
                <a:arcTo wR="3600" hR="3600" stAng="16200000" swAng="-5400000"/>
                <a:lnTo>
                  <a:pt x="0" y="18979"/>
                </a:lnTo>
                <a:arcTo wR="3600" hR="3600" stAng="10800000" swAng="-5400000"/>
                <a:lnTo>
                  <a:pt x="18000" y="225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Presupuesto de funcion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orriente para un añ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Posicionamiento de la estrateg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3.-  Planificación primer año.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Servicio por servic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Me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Ac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ult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ron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spons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5508720" y="113184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217-C3CD-4389-B05E-2AD335327D8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1 Rectángulo"/>
          <p:cNvSpPr/>
          <p:nvPr/>
        </p:nvSpPr>
        <p:spPr>
          <a:xfrm>
            <a:off x="1030320" y="1996920"/>
            <a:ext cx="10152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9600" y="3292560"/>
          <a:ext cx="11952360" cy="5905440"/>
        </p:xfrm>
        <a:graphic>
          <a:graphicData uri="http://schemas.openxmlformats.org/drawingml/2006/table">
            <a:tbl>
              <a:tblPr/>
              <a:tblGrid>
                <a:gridCol w="1441440"/>
                <a:gridCol w="1890720"/>
                <a:gridCol w="1785960"/>
                <a:gridCol w="1682640"/>
                <a:gridCol w="495360"/>
                <a:gridCol w="493560"/>
                <a:gridCol w="498600"/>
                <a:gridCol w="501840"/>
                <a:gridCol w="501480"/>
                <a:gridCol w="495360"/>
                <a:gridCol w="495360"/>
                <a:gridCol w="492120"/>
                <a:gridCol w="1177920"/>
              </a:tblGrid>
              <a:tr h="860400"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g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u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em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cución Presupuesto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45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59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636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600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650880" y="488952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50880" y="4802040"/>
            <a:ext cx="130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1 Rectángulo"/>
          <p:cNvSpPr/>
          <p:nvPr/>
        </p:nvSpPr>
        <p:spPr>
          <a:xfrm>
            <a:off x="1389240" y="1835280"/>
            <a:ext cx="10729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oyecto de Creacion de Centro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lanificación  del primer añ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CE7-DB7D-439A-B0C1-D194CC6AB99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1 Rectángulo"/>
          <p:cNvSpPr/>
          <p:nvPr/>
        </p:nvSpPr>
        <p:spPr>
          <a:xfrm>
            <a:off x="453960" y="206856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6532560" y="2114640"/>
            <a:ext cx="5977080" cy="6985080"/>
          </a:xfrm>
          <a:prstGeom prst="rect">
            <a:avLst/>
          </a:prstGeom>
          <a:solidFill>
            <a:srgbClr val="daede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2 Rectángulo redondeado"/>
          <p:cNvSpPr/>
          <p:nvPr/>
        </p:nvSpPr>
        <p:spPr>
          <a:xfrm>
            <a:off x="4559400" y="915840"/>
            <a:ext cx="3744720" cy="86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8 Rectángulo redondeado"/>
          <p:cNvSpPr/>
          <p:nvPr/>
        </p:nvSpPr>
        <p:spPr>
          <a:xfrm>
            <a:off x="138924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9 Rectángulo redondeado"/>
          <p:cNvSpPr/>
          <p:nvPr/>
        </p:nvSpPr>
        <p:spPr>
          <a:xfrm>
            <a:off x="7581960" y="2174760"/>
            <a:ext cx="3744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7 Recortar rectángulo de esquina sencilla"/>
          <p:cNvSpPr/>
          <p:nvPr/>
        </p:nvSpPr>
        <p:spPr>
          <a:xfrm>
            <a:off x="453960" y="3243240"/>
            <a:ext cx="33116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1.- Solicitud por parte de la Alcaldí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a integrarse  a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Agencias de Colocacion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11 Elipse"/>
          <p:cNvSpPr/>
          <p:nvPr/>
        </p:nvSpPr>
        <p:spPr>
          <a:xfrm>
            <a:off x="3981600" y="3267000"/>
            <a:ext cx="2305080" cy="817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arta de la  alcaldí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15 Recortar rectángulo de esquina sencilla"/>
          <p:cNvSpPr/>
          <p:nvPr/>
        </p:nvSpPr>
        <p:spPr>
          <a:xfrm>
            <a:off x="453960" y="4427640"/>
            <a:ext cx="3311640" cy="1133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2.- Planificación de un Taller de sen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sibilización en la alcaldia par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actores  responsables de la firm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acuerdo final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16 Elipse"/>
          <p:cNvSpPr/>
          <p:nvPr/>
        </p:nvSpPr>
        <p:spPr>
          <a:xfrm>
            <a:off x="3943440" y="4338720"/>
            <a:ext cx="2319120" cy="1312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Taller de sensibilizació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Fichas de sopor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17 Recortar rectángulo de esquina sencilla"/>
          <p:cNvSpPr/>
          <p:nvPr/>
        </p:nvSpPr>
        <p:spPr>
          <a:xfrm>
            <a:off x="453960" y="5921280"/>
            <a:ext cx="3311640" cy="11509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3.-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Creacion de Centro de empl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18 Elipse"/>
          <p:cNvSpPr/>
          <p:nvPr/>
        </p:nvSpPr>
        <p:spPr>
          <a:xfrm>
            <a:off x="3959280" y="5921280"/>
            <a:ext cx="2303280" cy="11509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4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Pre Proyecto de Creacion de Centro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19 Recortar rectángulo de esquina sencilla"/>
          <p:cNvSpPr/>
          <p:nvPr/>
        </p:nvSpPr>
        <p:spPr>
          <a:xfrm>
            <a:off x="453960" y="7613640"/>
            <a:ext cx="332280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4.- Aprobación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e proyecto  de Creacion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entros de empleo y AT para l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elaboración del Proyecto fina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20 Elipse"/>
          <p:cNvSpPr/>
          <p:nvPr/>
        </p:nvSpPr>
        <p:spPr>
          <a:xfrm>
            <a:off x="3973680" y="7548480"/>
            <a:ext cx="2304720" cy="1224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5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Solicitud de AT para la elaboración del proyecto final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21 Recortar rectángulo de esquina sencilla"/>
          <p:cNvSpPr/>
          <p:nvPr/>
        </p:nvSpPr>
        <p:spPr>
          <a:xfrm>
            <a:off x="6532560" y="3267000"/>
            <a:ext cx="3498840" cy="8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5.- Reunion tecnica con coordinad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res para completar el Proyecto d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Creacion de Centros 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22 Elipse"/>
          <p:cNvSpPr/>
          <p:nvPr/>
        </p:nvSpPr>
        <p:spPr>
          <a:xfrm>
            <a:off x="10191600" y="3219480"/>
            <a:ext cx="2303640" cy="1033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6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Proyecto de Creacion de Centros de Emple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23 Recortar rectángulo de esquina sencilla"/>
          <p:cNvSpPr/>
          <p:nvPr/>
        </p:nvSpPr>
        <p:spPr>
          <a:xfrm>
            <a:off x="6532560" y="4427640"/>
            <a:ext cx="3498840" cy="86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6.- Finalizacion y presentacio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royecto de Creacion de Centr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25 Recortar rectángulo de esquina sencilla"/>
          <p:cNvSpPr/>
          <p:nvPr/>
        </p:nvSpPr>
        <p:spPr>
          <a:xfrm>
            <a:off x="6532560" y="5891040"/>
            <a:ext cx="3498840" cy="857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7.- Aprobación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l Proyecto de Creacion de Centros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de emple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26 Recortar rectángulo de esquina sencilla"/>
          <p:cNvSpPr/>
          <p:nvPr/>
        </p:nvSpPr>
        <p:spPr>
          <a:xfrm>
            <a:off x="6532560" y="7116840"/>
            <a:ext cx="3498840" cy="863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8.- Firma del Convenio entre la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Gill Sans"/>
              </a:rPr>
              <a:t>par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27 Elipse"/>
          <p:cNvSpPr/>
          <p:nvPr/>
        </p:nvSpPr>
        <p:spPr>
          <a:xfrm>
            <a:off x="10174320" y="7072200"/>
            <a:ext cx="230508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H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Gill Sans"/>
              </a:rPr>
              <a:t>Modelo de Conveni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89E-5149-4F7B-A9C1-18C44B6BB36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1 Rectángulo"/>
          <p:cNvSpPr/>
          <p:nvPr/>
        </p:nvSpPr>
        <p:spPr>
          <a:xfrm>
            <a:off x="1030320" y="2284560"/>
            <a:ext cx="1015200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Hay una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estrategia d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que define prioridades</a:t>
            </a:r>
            <a:r>
              <a:rPr b="0" i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para el desarroll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de la red de Agencias de Colocacion en el territo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1 Rectángulo"/>
          <p:cNvSpPr/>
          <p:nvPr/>
        </p:nvSpPr>
        <p:spPr>
          <a:xfrm>
            <a:off x="4587480" y="12049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«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Supuesto»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F610-303A-488D-8367-C42D4C79B52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1 Rectángulo"/>
          <p:cNvSpPr/>
          <p:nvPr/>
        </p:nvSpPr>
        <p:spPr>
          <a:xfrm>
            <a:off x="598320" y="2284560"/>
            <a:ext cx="1216836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s un proceso que se desarrolla en etap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empla una secuencia de pasos previamente identific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Requiere cumplir con condiciones especificas en cada paso del proces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2AC-41CB-4DE8-82D5-CA1188F39FC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1 Rectángulo"/>
          <p:cNvSpPr/>
          <p:nvPr/>
        </p:nvSpPr>
        <p:spPr>
          <a:xfrm>
            <a:off x="741240" y="1781280"/>
            <a:ext cx="114490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el Ministeri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sistematización de las actividades de asistencia técnica dirigidas 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a mayor eficiencia / planificación en la organización de las activ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definición de prioridades de asistencia técnic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El desarrollo de herramientas necesarias para cada interven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Un servicio de calidad y homogéneo para cada Cent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4EC-5BC0-481E-A567-DE364A3161D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1 Rectángulo"/>
          <p:cNvSpPr/>
          <p:nvPr/>
        </p:nvSpPr>
        <p:spPr>
          <a:xfrm>
            <a:off x="669960" y="1708200"/>
            <a:ext cx="1152036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Incorporación de los Centros de emple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Este proceso garantiz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 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* Para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identificación de las pautas y criterios necesarios para su incorporación a la Red Nac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activación de los recursos que serán necesarios par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rear el Centro de empleo y asegurar su sosten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La coordinación de las actividades de asistencia técnica con el Ministerio de Trabaj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A34-B0DB-4078-9E9F-D3686BC4AF1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1 Rectángulo"/>
          <p:cNvSpPr/>
          <p:nvPr/>
        </p:nvSpPr>
        <p:spPr>
          <a:xfrm>
            <a:off x="0" y="1852560"/>
            <a:ext cx="1300464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Tramitación del expediente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de autorización com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Agencia de Colocación</a:t>
            </a:r>
            <a:r>
              <a:rPr b="1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Primera  etapa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Inicio del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elaboracion y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e proyecto de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Segunda et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Continuación del  proceso de asistencia técnica para la Creacion del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"/>
              </a:rPr>
              <a:t>que culmina con la validación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"/>
              </a:rPr>
              <a:t>Proyecto de Creacion del  Centro de Emple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1 Rectángulo"/>
          <p:cNvSpPr/>
          <p:nvPr/>
        </p:nvSpPr>
        <p:spPr>
          <a:xfrm>
            <a:off x="0" y="1265400"/>
            <a:ext cx="13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entury"/>
              </a:rPr>
              <a:t>Etapas  para la Integración  de  los  Centros de empleo en la Red Naciona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02A-807B-4020-9A13-DCD274369ED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Tramitación del expediente de autorización com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"/>
              </a:rPr>
              <a:t>Agencia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                                                                             </a:t>
            </a:r>
            <a:r>
              <a:rPr b="1" i="1" lang="es-ES" sz="2800" spc="-1" strike="noStrike">
                <a:solidFill>
                  <a:srgbClr val="333399"/>
                </a:solidFill>
                <a:latin typeface="Century"/>
              </a:rPr>
              <a:t>Etapa prev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Century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Contactos preliminares con las Alcaldí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Reuniones de sensibiliz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sistencia técnica para presentar el expediente de ap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bacion como Centro de Colocacio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Presentación del Expedien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entury"/>
              </a:rPr>
              <a:t>- Aprobación del Expediente. Numero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6BFE-43FA-4C3E-9F39-8B0E93E43F4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28 Rectángulo"/>
          <p:cNvSpPr/>
          <p:nvPr/>
        </p:nvSpPr>
        <p:spPr>
          <a:xfrm>
            <a:off x="2608200" y="2003400"/>
            <a:ext cx="3456000" cy="601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36 Rectángulo redondeado"/>
          <p:cNvSpPr/>
          <p:nvPr/>
        </p:nvSpPr>
        <p:spPr>
          <a:xfrm>
            <a:off x="293760" y="1996920"/>
            <a:ext cx="2212920" cy="601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48 Rectángulo"/>
          <p:cNvSpPr/>
          <p:nvPr/>
        </p:nvSpPr>
        <p:spPr>
          <a:xfrm>
            <a:off x="6230880" y="200340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ductos/Evidencia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2 Rectángulo redondeado"/>
          <p:cNvSpPr/>
          <p:nvPr/>
        </p:nvSpPr>
        <p:spPr>
          <a:xfrm>
            <a:off x="4560840" y="985680"/>
            <a:ext cx="3745080" cy="854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Circuito 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8 Rectángulo redondeado"/>
          <p:cNvSpPr/>
          <p:nvPr/>
        </p:nvSpPr>
        <p:spPr>
          <a:xfrm>
            <a:off x="598320" y="1204920"/>
            <a:ext cx="3745080" cy="43164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7 Rectángulo"/>
          <p:cNvSpPr/>
          <p:nvPr/>
        </p:nvSpPr>
        <p:spPr>
          <a:xfrm>
            <a:off x="9829800" y="2003400"/>
            <a:ext cx="2760840" cy="6015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Document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36 Rectángulo redondeado"/>
          <p:cNvSpPr/>
          <p:nvPr/>
        </p:nvSpPr>
        <p:spPr>
          <a:xfrm>
            <a:off x="257040" y="2936880"/>
            <a:ext cx="2213280" cy="806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olicitud de asistencia tecnica para integrar la Red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28 Rectángulo"/>
          <p:cNvSpPr/>
          <p:nvPr/>
        </p:nvSpPr>
        <p:spPr>
          <a:xfrm>
            <a:off x="2631960" y="2951280"/>
            <a:ext cx="3456000" cy="792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sentación por parte de la alcaldía de una solicitud para integrar la red de empleo nacio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10 Rectángulo"/>
          <p:cNvSpPr/>
          <p:nvPr/>
        </p:nvSpPr>
        <p:spPr>
          <a:xfrm>
            <a:off x="6230880" y="2951280"/>
            <a:ext cx="3457800" cy="6015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Carta de solicitud del alcalde.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edido de asistencia técnic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36 Rectángulo redondeado"/>
          <p:cNvSpPr/>
          <p:nvPr/>
        </p:nvSpPr>
        <p:spPr>
          <a:xfrm>
            <a:off x="257040" y="386856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Elaboración del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28 Rectángulo"/>
          <p:cNvSpPr/>
          <p:nvPr/>
        </p:nvSpPr>
        <p:spPr>
          <a:xfrm>
            <a:off x="2631960" y="3868560"/>
            <a:ext cx="3456000" cy="198288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l Ministerio de Trabajo a participar de un taller de sensibilización para la firma acuerd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nvocatoria por parte de la alcaldía a todos los involucrados en la toma de decisión del acuerdo fin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articipación de los representantes de la alcaldía en un taller de sensi bilizacio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15 Rectángulo"/>
          <p:cNvSpPr/>
          <p:nvPr/>
        </p:nvSpPr>
        <p:spPr>
          <a:xfrm>
            <a:off x="6230880" y="3873600"/>
            <a:ext cx="3457800" cy="9921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Taller de sensibilización brindado por el Ministerio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cta de desarrollo d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Agenda acord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18 Rectángulo"/>
          <p:cNvSpPr/>
          <p:nvPr/>
        </p:nvSpPr>
        <p:spPr>
          <a:xfrm>
            <a:off x="9829800" y="3868560"/>
            <a:ext cx="2760840" cy="2900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El Ministerio dispone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Material necesario para con  ducir el ta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Guia para cumplir con los re quisit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 alcaldía apor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invitación a los inte grantes de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 desarrollo del taller con compromisos contraídos firmada por los asistent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Gill Sans"/>
              </a:rPr>
              <a:t>Las partes establecen una agenda de trabaj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36 Rectángulo redondeado"/>
          <p:cNvSpPr/>
          <p:nvPr/>
        </p:nvSpPr>
        <p:spPr>
          <a:xfrm>
            <a:off x="258840" y="602928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Promulgación de la Ordenanza Municip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28 Rectángulo"/>
          <p:cNvSpPr/>
          <p:nvPr/>
        </p:nvSpPr>
        <p:spPr>
          <a:xfrm>
            <a:off x="2620800" y="60609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de la ordenanza de Crea cion de la Agencia de Colocación  por parte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22 Rectángulo"/>
          <p:cNvSpPr/>
          <p:nvPr/>
        </p:nvSpPr>
        <p:spPr>
          <a:xfrm>
            <a:off x="6213600" y="6060960"/>
            <a:ext cx="3457440" cy="8892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. Debe con templar el presupuesto relativo a espa cio físico, personal y gastos de funcio namiento y metas por un añ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36 Rectángulo redondeado"/>
          <p:cNvSpPr/>
          <p:nvPr/>
        </p:nvSpPr>
        <p:spPr>
          <a:xfrm>
            <a:off x="257040" y="7053120"/>
            <a:ext cx="2213280" cy="830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Finalización y Presentación del Pre proyect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28 Rectángulo"/>
          <p:cNvSpPr/>
          <p:nvPr/>
        </p:nvSpPr>
        <p:spPr>
          <a:xfrm>
            <a:off x="2608200" y="7058160"/>
            <a:ext cx="3456000" cy="7668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sentación del pre proyectó por parte de la Alcaldia para iniciar el proceso de asistencia técnica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27 Rectángulo"/>
          <p:cNvSpPr/>
          <p:nvPr/>
        </p:nvSpPr>
        <p:spPr>
          <a:xfrm>
            <a:off x="6208560" y="7058160"/>
            <a:ext cx="3457800" cy="79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Pre proyecto: Ficha institucional y justificación de la propuest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29 Rectángulo"/>
          <p:cNvSpPr/>
          <p:nvPr/>
        </p:nvSpPr>
        <p:spPr>
          <a:xfrm>
            <a:off x="9780480" y="7053120"/>
            <a:ext cx="3059280" cy="115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probación como Agenci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Ordenanza promulgad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invitación al C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cta del taller de sensibilizació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Nota de solicitud de A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36 Rectángulo redondeado"/>
          <p:cNvSpPr/>
          <p:nvPr/>
        </p:nvSpPr>
        <p:spPr>
          <a:xfrm>
            <a:off x="274680" y="8078760"/>
            <a:ext cx="2212920" cy="83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Validación del Pre proyecto y pasaje a la siguiente fase de AT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28 Rectángulo"/>
          <p:cNvSpPr/>
          <p:nvPr/>
        </p:nvSpPr>
        <p:spPr>
          <a:xfrm>
            <a:off x="2631960" y="8078760"/>
            <a:ext cx="3456000" cy="119052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Análisis del pre proyecto por parte de un comité de evaluacion del Ministeri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 Validacion y/u observación para su mejora por parte del Ministerio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34 Rectángulo"/>
          <p:cNvSpPr/>
          <p:nvPr/>
        </p:nvSpPr>
        <p:spPr>
          <a:xfrm>
            <a:off x="6213600" y="8078760"/>
            <a:ext cx="3457440" cy="7923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Comunicación de los resultad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35 Rectángulo"/>
          <p:cNvSpPr/>
          <p:nvPr/>
        </p:nvSpPr>
        <p:spPr>
          <a:xfrm>
            <a:off x="9863280" y="8494560"/>
            <a:ext cx="3058920" cy="5749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ill Sans"/>
              </a:rPr>
              <a:t>- Restitución del pre proyecto validado o con observacion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D36-B4FD-4D55-A541-93FCA56FDB9F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1 Rectángulo"/>
          <p:cNvSpPr/>
          <p:nvPr/>
        </p:nvSpPr>
        <p:spPr>
          <a:xfrm>
            <a:off x="1030320" y="2068560"/>
            <a:ext cx="1015200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entury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1 Rectángulo redondeado"/>
          <p:cNvSpPr/>
          <p:nvPr/>
        </p:nvSpPr>
        <p:spPr>
          <a:xfrm>
            <a:off x="0" y="2214720"/>
            <a:ext cx="6502320" cy="6624360"/>
          </a:xfrm>
          <a:custGeom>
            <a:avLst/>
            <a:gdLst>
              <a:gd name="textAreaLeft" fmla="*/ 317160 w 6502320"/>
              <a:gd name="textAreaRight" fmla="*/ 6185160 w 6502320"/>
              <a:gd name="textAreaTop" fmla="*/ 317160 h 6624360"/>
              <a:gd name="textAreaBottom" fmla="*/ 6307200 h 6624360"/>
            </a:gdLst>
            <a:ahLst/>
            <a:rect l="textAreaLeft" t="textAreaTop" r="textAreaRight" b="textAreaBottom"/>
            <a:pathLst>
              <a:path w="21600" h="22005">
                <a:moveTo>
                  <a:pt x="3600" y="0"/>
                </a:moveTo>
                <a:arcTo wR="3600" hR="3600" stAng="16200000" swAng="-5400000"/>
                <a:lnTo>
                  <a:pt x="0" y="18405"/>
                </a:lnTo>
                <a:arcTo wR="3600" hR="3600" stAng="10800000" swAng="-5400000"/>
                <a:lnTo>
                  <a:pt x="18000" y="22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-  Ficha institucional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y/o del operado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1. Generalidades de la alcald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1.2. Centro de emple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Condiciones materiales y físic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Recursos Human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- Presupuesto para un a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8 Rectángulo redondeado"/>
          <p:cNvSpPr/>
          <p:nvPr/>
        </p:nvSpPr>
        <p:spPr>
          <a:xfrm>
            <a:off x="6667560" y="2201760"/>
            <a:ext cx="6337080" cy="6623280"/>
          </a:xfrm>
          <a:custGeom>
            <a:avLst/>
            <a:gdLst>
              <a:gd name="textAreaLeft" fmla="*/ 309240 w 6337080"/>
              <a:gd name="textAreaRight" fmla="*/ 6027840 w 6337080"/>
              <a:gd name="textAreaTop" fmla="*/ 309240 h 6623280"/>
              <a:gd name="textAreaBottom" fmla="*/ 6314040 h 6623280"/>
            </a:gdLst>
            <a:ahLst/>
            <a:rect l="textAreaLeft" t="textAreaTop" r="textAreaRight" b="textAreaBottom"/>
            <a:pathLst>
              <a:path w="21600" h="22575">
                <a:moveTo>
                  <a:pt x="3600" y="0"/>
                </a:moveTo>
                <a:arcTo wR="3600" hR="3600" stAng="16200000" swAng="-5400000"/>
                <a:lnTo>
                  <a:pt x="0" y="18975"/>
                </a:lnTo>
                <a:arcTo wR="3600" hR="3600" stAng="10800000" swAng="-5400000"/>
                <a:lnTo>
                  <a:pt x="18000" y="22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2.-  Fundamentación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Descripción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racterísticas socio labor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Caracteristicas producti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Dinámica del territor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es primarias y secundar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ividad Económ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Actores institucionales que p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n  contribuir a los objetivos d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yect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Problemas de empleo detecta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*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Gill Sans"/>
              </a:rPr>
              <a:t>* Posicionamiento del Centr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5 Rectángulo"/>
          <p:cNvSpPr/>
          <p:nvPr/>
        </p:nvSpPr>
        <p:spPr>
          <a:xfrm>
            <a:off x="5016600" y="1131840"/>
            <a:ext cx="34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ill Sans"/>
              </a:rPr>
              <a:t>Pre proyect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Eskinazi</dc:creator>
  <dc:description/>
  <dc:language>en-US</dc:language>
  <cp:lastModifiedBy>Luffi</cp:lastModifiedBy>
  <dcterms:modified xsi:type="dcterms:W3CDTF">2013-09-11T23:24:00Z</dcterms:modified>
  <cp:revision>329</cp:revision>
  <dc:subject/>
  <dc:title>Titulo de la presentación -Subtítulo de la presentación-</dc:title>
</cp:coreProperties>
</file>