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5DC1-5BEE-4A99-9D55-A50291847FB0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FCCF-96D2-42D7-8970-4980B3064EB9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CC50-48B7-426F-9541-70A5C134D336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2981-4D88-443B-A3A4-DDA8FAC7B0D4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82D8-035C-4D57-9150-473F244BA2CB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4CDF-E8F3-42A1-9A6E-51AF0C5F6CEB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6A36-4F94-4DB5-8319-13CD72951DD1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4875-AC69-4479-9BDA-AC91E1845FD5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6B23-E438-4389-861F-F5BF59951FCD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F6D6-8BBC-42B3-B613-8DD4B15551DD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ECB7-B735-4754-A4CF-BB85B2FF095F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57D2B-A6D0-4C60-BA20-275726C7B4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43C99-83C7-414A-BAAD-32AA2A2583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4F70D-3ACF-4CCE-8801-3FFA293816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67D90-76F3-4162-8395-13A7535B3D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6C90F-2803-4404-A492-A498819AF6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B45BA-59E7-454B-860E-08A20FB85C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8A4AC-C83F-4691-9CDA-24BF142E55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AB3A7-DE9E-4468-876F-CAEC6E49E5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84566-7971-4315-A639-DE0FE05B60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D843-778A-4C7E-8492-D5F115BF7A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76285-8AC4-4C71-B2F2-708FBDBA11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D1527-E3B8-4DA9-818B-B218888AFF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38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6D22-C014-4AA6-965B-3E3B9C842D14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2" marL="1143000" indent="-228600">
              <a:buClr>
                <a:srgbClr val="a7aaab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3" marL="1600200" indent="-228600">
              <a:buClr>
                <a:srgbClr val="a7aaab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4" marL="2057400" indent="-228600">
              <a:buClr>
                <a:srgbClr val="a7aaab"/>
              </a:buClr>
              <a:buFont typeface="Gill Sans M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-45252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0" y="7988400"/>
            <a:ext cx="13004640" cy="17650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399960" y="8067600"/>
            <a:ext cx="12204720" cy="1400400"/>
          </a:xfrm>
          <a:prstGeom prst="rect">
            <a:avLst/>
          </a:prstGeom>
          <a:ln w="0">
            <a:noFill/>
          </a:ln>
        </p:spPr>
      </p:pic>
      <p:sp>
        <p:nvSpPr>
          <p:cNvPr id="89" name="Line 4"/>
          <p:cNvSpPr/>
          <p:nvPr/>
        </p:nvSpPr>
        <p:spPr>
          <a:xfrm flipV="1">
            <a:off x="0" y="7999560"/>
            <a:ext cx="13004640" cy="144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CasellaDiTesto 2"/>
          <p:cNvSpPr/>
          <p:nvPr/>
        </p:nvSpPr>
        <p:spPr>
          <a:xfrm>
            <a:off x="1533600" y="3940200"/>
            <a:ext cx="10801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ffffff"/>
                </a:solidFill>
                <a:latin typeface="Gill Sans"/>
              </a:rPr>
              <a:t>Ámbitos de intervención y asistencia técnica de Euro social en Honduras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ffffff"/>
                </a:solidFill>
                <a:latin typeface="Gill Sans"/>
              </a:rPr>
              <a:t>OCTUBRE 2014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CasellaDiTesto 1"/>
          <p:cNvSpPr/>
          <p:nvPr/>
        </p:nvSpPr>
        <p:spPr>
          <a:xfrm>
            <a:off x="7000920" y="2281320"/>
            <a:ext cx="5648400" cy="61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Centros de Emple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Gestión del direccionamient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Gestión de las citas / pacto de servici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Gestión de los programas de políticas (incluye identificación de los potenciales beneficiario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Catalogo de la oferta de formación profesional (opcional. Gestión de la formación profesiona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Monitore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Planificacion desarrollo loc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STS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Monitoreo/Evaluació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Toma de decisió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Registro beneficiarios (Personas/Empresa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arentesi graffa aperta 2"/>
          <p:cNvSpPr/>
          <p:nvPr/>
        </p:nvSpPr>
        <p:spPr>
          <a:xfrm>
            <a:off x="6269040" y="2082960"/>
            <a:ext cx="663480" cy="7041960"/>
          </a:xfrm>
          <a:custGeom>
            <a:avLst/>
            <a:gdLst>
              <a:gd name="textAreaLeft" fmla="*/ 424080 w 663480"/>
              <a:gd name="textAreaRight" fmla="*/ 663840 w 663480"/>
              <a:gd name="textAreaTop" fmla="*/ 25200 h 7041960"/>
              <a:gd name="textAreaBottom" fmla="*/ 7016760 h 704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481"/>
                </a:lnTo>
                <a:cubicBezTo>
                  <a:pt x="10800" y="10606"/>
                  <a:pt x="5400" y="10730"/>
                  <a:pt x="0" y="10730"/>
                </a:cubicBezTo>
                <a:cubicBezTo>
                  <a:pt x="5400" y="10730"/>
                  <a:pt x="10800" y="10855"/>
                  <a:pt x="10800" y="10979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CasellaDiTesto 8"/>
          <p:cNvSpPr/>
          <p:nvPr/>
        </p:nvSpPr>
        <p:spPr>
          <a:xfrm>
            <a:off x="669960" y="1198440"/>
            <a:ext cx="119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Verdana"/>
                <a:ea typeface="Verdana"/>
              </a:rPr>
              <a:t>Herramienta de gestión de los servicios f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unciones mínim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4" name="Immagine 2" descr=""/>
          <p:cNvPicPr/>
          <p:nvPr/>
        </p:nvPicPr>
        <p:blipFill>
          <a:blip r:embed="rId2"/>
          <a:stretch/>
        </p:blipFill>
        <p:spPr>
          <a:xfrm>
            <a:off x="744480" y="2789280"/>
            <a:ext cx="5524560" cy="5111640"/>
          </a:xfrm>
          <a:prstGeom prst="rect">
            <a:avLst/>
          </a:prstGeom>
          <a:ln w="0">
            <a:noFill/>
          </a:ln>
        </p:spPr>
      </p:pic>
      <p:sp>
        <p:nvSpPr>
          <p:cNvPr id="135" name="CasellaDiTesto 1"/>
          <p:cNvSpPr/>
          <p:nvPr/>
        </p:nvSpPr>
        <p:spPr>
          <a:xfrm>
            <a:off x="744480" y="7775640"/>
            <a:ext cx="52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70c0"/>
                </a:solidFill>
                <a:latin typeface="Gill Sans"/>
              </a:rPr>
              <a:t>sistema de información y gestión integrad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CasellaDiTesto 1"/>
          <p:cNvSpPr/>
          <p:nvPr/>
        </p:nvSpPr>
        <p:spPr>
          <a:xfrm>
            <a:off x="6993000" y="3147840"/>
            <a:ext cx="5648400" cy="46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uales s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Bajo cuales normas/Obligacion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mo la realizamo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arentesi graffa aperta 2"/>
          <p:cNvSpPr/>
          <p:nvPr/>
        </p:nvSpPr>
        <p:spPr>
          <a:xfrm>
            <a:off x="6269040" y="2082960"/>
            <a:ext cx="663480" cy="7041960"/>
          </a:xfrm>
          <a:custGeom>
            <a:avLst/>
            <a:gdLst>
              <a:gd name="textAreaLeft" fmla="*/ 424080 w 663480"/>
              <a:gd name="textAreaRight" fmla="*/ 663840 w 663480"/>
              <a:gd name="textAreaTop" fmla="*/ 25200 h 7041960"/>
              <a:gd name="textAreaBottom" fmla="*/ 7016760 h 704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481"/>
                </a:lnTo>
                <a:cubicBezTo>
                  <a:pt x="10800" y="10606"/>
                  <a:pt x="5400" y="10730"/>
                  <a:pt x="0" y="10730"/>
                </a:cubicBezTo>
                <a:cubicBezTo>
                  <a:pt x="5400" y="10730"/>
                  <a:pt x="10800" y="10855"/>
                  <a:pt x="10800" y="10979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CasellaDiTesto 8"/>
          <p:cNvSpPr/>
          <p:nvPr/>
        </p:nvSpPr>
        <p:spPr>
          <a:xfrm>
            <a:off x="669960" y="1198440"/>
            <a:ext cx="1195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ntegración de los sistema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CasellaDiTesto 1"/>
          <p:cNvSpPr/>
          <p:nvPr/>
        </p:nvSpPr>
        <p:spPr>
          <a:xfrm>
            <a:off x="744480" y="7775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70c0"/>
                </a:solidFill>
                <a:latin typeface="Gill Sans"/>
              </a:rPr>
              <a:t>sistemas integrad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2"/>
          <a:stretch/>
        </p:blipFill>
        <p:spPr>
          <a:xfrm>
            <a:off x="550800" y="2889360"/>
            <a:ext cx="57387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627120" y="2297160"/>
            <a:ext cx="5029200" cy="655308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1"/>
          <p:cNvSpPr/>
          <p:nvPr/>
        </p:nvSpPr>
        <p:spPr>
          <a:xfrm>
            <a:off x="6367320" y="2700360"/>
            <a:ext cx="6278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Integración de las oficinas territoria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Articulación con los program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Elaboración del modelo de Servicio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arentesi graffa aperta 2"/>
          <p:cNvSpPr/>
          <p:nvPr/>
        </p:nvSpPr>
        <p:spPr>
          <a:xfrm>
            <a:off x="5680080" y="2716200"/>
            <a:ext cx="663480" cy="5916600"/>
          </a:xfrm>
          <a:custGeom>
            <a:avLst/>
            <a:gdLst>
              <a:gd name="textAreaLeft" fmla="*/ 424080 w 663480"/>
              <a:gd name="textAreaRight" fmla="*/ 663840 w 663480"/>
              <a:gd name="textAreaTop" fmla="*/ 25200 h 5916600"/>
              <a:gd name="textAreaBottom" fmla="*/ 5891400 h 591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8"/>
                  <a:pt x="10800" y="296"/>
                </a:cubicBezTo>
                <a:lnTo>
                  <a:pt x="10800" y="10434"/>
                </a:lnTo>
                <a:cubicBezTo>
                  <a:pt x="10800" y="10582"/>
                  <a:pt x="5400" y="10730"/>
                  <a:pt x="0" y="10730"/>
                </a:cubicBezTo>
                <a:cubicBezTo>
                  <a:pt x="5400" y="10730"/>
                  <a:pt x="10800" y="10878"/>
                  <a:pt x="10800" y="11026"/>
                </a:cubicBezTo>
                <a:lnTo>
                  <a:pt x="10800" y="21304"/>
                </a:lnTo>
                <a:cubicBezTo>
                  <a:pt x="10800" y="21452"/>
                  <a:pt x="16200" y="21600"/>
                  <a:pt x="21600" y="21600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CasellaDiTesto 8"/>
          <p:cNvSpPr/>
          <p:nvPr/>
        </p:nvSpPr>
        <p:spPr>
          <a:xfrm>
            <a:off x="366840" y="1087560"/>
            <a:ext cx="119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Verdana"/>
                <a:ea typeface="Verdana"/>
              </a:rPr>
              <a:t>Diseño del nuevo modelo funcional del SPE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CasellaDiTesto 1"/>
          <p:cNvSpPr/>
          <p:nvPr/>
        </p:nvSpPr>
        <p:spPr>
          <a:xfrm>
            <a:off x="741240" y="5796000"/>
            <a:ext cx="481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Gill Sans"/>
              </a:rPr>
              <a:t>Requisitos básicos para la puesta en marcha de la R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CasellaDiTesto 1"/>
          <p:cNvSpPr/>
          <p:nvPr/>
        </p:nvSpPr>
        <p:spPr>
          <a:xfrm>
            <a:off x="6954840" y="2082960"/>
            <a:ext cx="56484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</a:rPr>
              <a:t>Gestión (diferentes y nuevo actore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</a:rPr>
              <a:t>operativos: Monitore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Operativida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Eficiencia y eficac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Análisis del contesto territori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</a:rPr>
              <a:t>Decisionales: evalu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Operativida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Eficiencia y eficac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Análisis del contesto territori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</a:rPr>
              <a:t>………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</a:rPr>
              <a:t>Mesa/servicio de Asistencia y seguimien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</a:rPr>
              <a:t>Todos: Otros sistemas (capacitación a distancia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arentesi graffa aperta 2"/>
          <p:cNvSpPr/>
          <p:nvPr/>
        </p:nvSpPr>
        <p:spPr>
          <a:xfrm>
            <a:off x="6269040" y="2082960"/>
            <a:ext cx="663480" cy="7041960"/>
          </a:xfrm>
          <a:custGeom>
            <a:avLst/>
            <a:gdLst>
              <a:gd name="textAreaLeft" fmla="*/ 424080 w 663480"/>
              <a:gd name="textAreaRight" fmla="*/ 663840 w 663480"/>
              <a:gd name="textAreaTop" fmla="*/ 25200 h 7041960"/>
              <a:gd name="textAreaBottom" fmla="*/ 7016760 h 704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481"/>
                </a:lnTo>
                <a:cubicBezTo>
                  <a:pt x="10800" y="10606"/>
                  <a:pt x="5400" y="10730"/>
                  <a:pt x="0" y="10730"/>
                </a:cubicBezTo>
                <a:cubicBezTo>
                  <a:pt x="5400" y="10730"/>
                  <a:pt x="10800" y="10855"/>
                  <a:pt x="10800" y="10979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CasellaDiTesto 8"/>
          <p:cNvSpPr/>
          <p:nvPr/>
        </p:nvSpPr>
        <p:spPr>
          <a:xfrm>
            <a:off x="669960" y="1198440"/>
            <a:ext cx="119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Verdana"/>
                <a:ea typeface="Verdana"/>
              </a:rPr>
              <a:t>Herramienta de gestión de los servicios (Actor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CasellaDiTesto 1"/>
          <p:cNvSpPr/>
          <p:nvPr/>
        </p:nvSpPr>
        <p:spPr>
          <a:xfrm>
            <a:off x="744480" y="7775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70c0"/>
                </a:solidFill>
                <a:latin typeface="Gill Sans"/>
              </a:rPr>
              <a:t>Herramienta de ges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293760" y="3654360"/>
            <a:ext cx="593388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CasellaDiTesto 1"/>
          <p:cNvSpPr/>
          <p:nvPr/>
        </p:nvSpPr>
        <p:spPr>
          <a:xfrm>
            <a:off x="6975360" y="2428920"/>
            <a:ext cx="564840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Difusión en el territori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Edificio/escritorios etc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Computad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Capacitación básic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Capacitación en el sistem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Mesa de ayud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Asistencia Hw/Sw/conectivida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arentesi graffa aperta 2"/>
          <p:cNvSpPr/>
          <p:nvPr/>
        </p:nvSpPr>
        <p:spPr>
          <a:xfrm>
            <a:off x="6269040" y="2082960"/>
            <a:ext cx="663480" cy="7041960"/>
          </a:xfrm>
          <a:custGeom>
            <a:avLst/>
            <a:gdLst>
              <a:gd name="textAreaLeft" fmla="*/ 424080 w 663480"/>
              <a:gd name="textAreaRight" fmla="*/ 663840 w 663480"/>
              <a:gd name="textAreaTop" fmla="*/ 25200 h 7041960"/>
              <a:gd name="textAreaBottom" fmla="*/ 7016760 h 704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481"/>
                </a:lnTo>
                <a:cubicBezTo>
                  <a:pt x="10800" y="10606"/>
                  <a:pt x="5400" y="10730"/>
                  <a:pt x="0" y="10730"/>
                </a:cubicBezTo>
                <a:cubicBezTo>
                  <a:pt x="5400" y="10730"/>
                  <a:pt x="10800" y="10855"/>
                  <a:pt x="10800" y="10979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CasellaDiTesto 8"/>
          <p:cNvSpPr/>
          <p:nvPr/>
        </p:nvSpPr>
        <p:spPr>
          <a:xfrm>
            <a:off x="669960" y="1198440"/>
            <a:ext cx="119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Verdana"/>
                <a:ea typeface="Verdana"/>
              </a:rPr>
              <a:t>Herramienta de gestión de los servicios (Disponibilidad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CasellaDiTesto 1"/>
          <p:cNvSpPr/>
          <p:nvPr/>
        </p:nvSpPr>
        <p:spPr>
          <a:xfrm>
            <a:off x="744480" y="7775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70c0"/>
                </a:solidFill>
                <a:latin typeface="Gill Sans"/>
              </a:rPr>
              <a:t>Herramienta de ges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2"/>
          <a:stretch/>
        </p:blipFill>
        <p:spPr>
          <a:xfrm>
            <a:off x="293760" y="3654360"/>
            <a:ext cx="593388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CasellaDiTesto 1"/>
          <p:cNvSpPr/>
          <p:nvPr/>
        </p:nvSpPr>
        <p:spPr>
          <a:xfrm>
            <a:off x="6975360" y="2428920"/>
            <a:ext cx="5648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Equipo de Mantenimiento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Adecuación continua (nueva exigencia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Actualización continua (cambios organizativos/normativo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arentesi graffa aperta 2"/>
          <p:cNvSpPr/>
          <p:nvPr/>
        </p:nvSpPr>
        <p:spPr>
          <a:xfrm>
            <a:off x="6269040" y="2082960"/>
            <a:ext cx="663480" cy="7041960"/>
          </a:xfrm>
          <a:custGeom>
            <a:avLst/>
            <a:gdLst>
              <a:gd name="textAreaLeft" fmla="*/ 424080 w 663480"/>
              <a:gd name="textAreaRight" fmla="*/ 663840 w 663480"/>
              <a:gd name="textAreaTop" fmla="*/ 25200 h 7041960"/>
              <a:gd name="textAreaBottom" fmla="*/ 7016760 h 704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481"/>
                </a:lnTo>
                <a:cubicBezTo>
                  <a:pt x="10800" y="10606"/>
                  <a:pt x="5400" y="10730"/>
                  <a:pt x="0" y="10730"/>
                </a:cubicBezTo>
                <a:cubicBezTo>
                  <a:pt x="5400" y="10730"/>
                  <a:pt x="10800" y="10855"/>
                  <a:pt x="10800" y="10979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CasellaDiTesto 8"/>
          <p:cNvSpPr/>
          <p:nvPr/>
        </p:nvSpPr>
        <p:spPr>
          <a:xfrm>
            <a:off x="669960" y="1198440"/>
            <a:ext cx="119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Verdana"/>
                <a:ea typeface="Verdana"/>
              </a:rPr>
              <a:t>Herramienta de gestión de los servicios (Gestión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CasellaDiTesto 1"/>
          <p:cNvSpPr/>
          <p:nvPr/>
        </p:nvSpPr>
        <p:spPr>
          <a:xfrm>
            <a:off x="744480" y="7775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70c0"/>
                </a:solidFill>
                <a:latin typeface="Gill Sans"/>
              </a:rPr>
              <a:t>Herramienta de ges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293760" y="3654360"/>
            <a:ext cx="593388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CasellaDiTesto 1"/>
          <p:cNvSpPr/>
          <p:nvPr/>
        </p:nvSpPr>
        <p:spPr>
          <a:xfrm>
            <a:off x="6975360" y="2428920"/>
            <a:ext cx="564840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Gestión de los usuari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Actualización continua (codificación, normas/directiva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Uso y acceso (roles - quien hace qu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Normas de respaldo al transito/interconexión de las informaciones necesarias en la re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arentesi graffa aperta 2"/>
          <p:cNvSpPr/>
          <p:nvPr/>
        </p:nvSpPr>
        <p:spPr>
          <a:xfrm>
            <a:off x="6269040" y="2082960"/>
            <a:ext cx="663480" cy="7041960"/>
          </a:xfrm>
          <a:custGeom>
            <a:avLst/>
            <a:gdLst>
              <a:gd name="textAreaLeft" fmla="*/ 424080 w 663480"/>
              <a:gd name="textAreaRight" fmla="*/ 663840 w 663480"/>
              <a:gd name="textAreaTop" fmla="*/ 25200 h 7041960"/>
              <a:gd name="textAreaBottom" fmla="*/ 7016760 h 704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481"/>
                </a:lnTo>
                <a:cubicBezTo>
                  <a:pt x="10800" y="10606"/>
                  <a:pt x="5400" y="10730"/>
                  <a:pt x="0" y="10730"/>
                </a:cubicBezTo>
                <a:cubicBezTo>
                  <a:pt x="5400" y="10730"/>
                  <a:pt x="10800" y="10855"/>
                  <a:pt x="10800" y="10979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CasellaDiTesto 8"/>
          <p:cNvSpPr/>
          <p:nvPr/>
        </p:nvSpPr>
        <p:spPr>
          <a:xfrm>
            <a:off x="669960" y="1198440"/>
            <a:ext cx="119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Verdana"/>
                <a:ea typeface="Verdana"/>
              </a:rPr>
              <a:t>Herramienta de gestión de los servicios (Regla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CasellaDiTesto 1"/>
          <p:cNvSpPr/>
          <p:nvPr/>
        </p:nvSpPr>
        <p:spPr>
          <a:xfrm>
            <a:off x="744480" y="7775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70c0"/>
                </a:solidFill>
                <a:latin typeface="Gill Sans"/>
              </a:rPr>
              <a:t>Herramienta de ges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2"/>
          <a:stretch/>
        </p:blipFill>
        <p:spPr>
          <a:xfrm>
            <a:off x="293760" y="3654360"/>
            <a:ext cx="593388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CasellaDiTesto 1"/>
          <p:cNvSpPr/>
          <p:nvPr/>
        </p:nvSpPr>
        <p:spPr>
          <a:xfrm>
            <a:off x="6975360" y="2082960"/>
            <a:ext cx="5648400" cy="88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Adecuar el equipo de gestión del sistema informátic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Adecuar la conectividad y asegurar su funcionamiento (proveedor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Adecuar la capacidad de intervención técnica territori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Asegurar apoyo a la capacit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arentesi graffa aperta 2"/>
          <p:cNvSpPr/>
          <p:nvPr/>
        </p:nvSpPr>
        <p:spPr>
          <a:xfrm>
            <a:off x="6269040" y="2082960"/>
            <a:ext cx="663480" cy="7041960"/>
          </a:xfrm>
          <a:custGeom>
            <a:avLst/>
            <a:gdLst>
              <a:gd name="textAreaLeft" fmla="*/ 424080 w 663480"/>
              <a:gd name="textAreaRight" fmla="*/ 663840 w 663480"/>
              <a:gd name="textAreaTop" fmla="*/ 25200 h 7041960"/>
              <a:gd name="textAreaBottom" fmla="*/ 7016760 h 704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481"/>
                </a:lnTo>
                <a:cubicBezTo>
                  <a:pt x="10800" y="10606"/>
                  <a:pt x="5400" y="10730"/>
                  <a:pt x="0" y="10730"/>
                </a:cubicBezTo>
                <a:cubicBezTo>
                  <a:pt x="5400" y="10730"/>
                  <a:pt x="10800" y="10855"/>
                  <a:pt x="10800" y="10979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CasellaDiTesto 8"/>
          <p:cNvSpPr/>
          <p:nvPr/>
        </p:nvSpPr>
        <p:spPr>
          <a:xfrm>
            <a:off x="669960" y="1198440"/>
            <a:ext cx="119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Verdana"/>
                <a:ea typeface="Verdana"/>
              </a:rPr>
              <a:t>Herramienta de gestión de los servicios (Equipo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CasellaDiTesto 1"/>
          <p:cNvSpPr/>
          <p:nvPr/>
        </p:nvSpPr>
        <p:spPr>
          <a:xfrm>
            <a:off x="744480" y="7775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70c0"/>
                </a:solidFill>
                <a:latin typeface="Gill Sans"/>
              </a:rPr>
              <a:t>Herramienta de ges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2"/>
          <a:stretch/>
        </p:blipFill>
        <p:spPr>
          <a:xfrm>
            <a:off x="293760" y="3654360"/>
            <a:ext cx="593388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CasellaDiTesto 1"/>
          <p:cNvSpPr/>
          <p:nvPr/>
        </p:nvSpPr>
        <p:spPr>
          <a:xfrm>
            <a:off x="6975360" y="2082960"/>
            <a:ext cx="5648400" cy="83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Asegurar una análisis adecuad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Implementar los cambios necesari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capacita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Realizar el piloto (hw/sw/internet/equipos etc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Puesta en marcha definitiv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arentesi graffa aperta 2"/>
          <p:cNvSpPr/>
          <p:nvPr/>
        </p:nvSpPr>
        <p:spPr>
          <a:xfrm>
            <a:off x="6269040" y="2082960"/>
            <a:ext cx="663480" cy="7041960"/>
          </a:xfrm>
          <a:custGeom>
            <a:avLst/>
            <a:gdLst>
              <a:gd name="textAreaLeft" fmla="*/ 424080 w 663480"/>
              <a:gd name="textAreaRight" fmla="*/ 663840 w 663480"/>
              <a:gd name="textAreaTop" fmla="*/ 25200 h 7041960"/>
              <a:gd name="textAreaBottom" fmla="*/ 7016760 h 704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481"/>
                </a:lnTo>
                <a:cubicBezTo>
                  <a:pt x="10800" y="10606"/>
                  <a:pt x="5400" y="10730"/>
                  <a:pt x="0" y="10730"/>
                </a:cubicBezTo>
                <a:cubicBezTo>
                  <a:pt x="5400" y="10730"/>
                  <a:pt x="10800" y="10855"/>
                  <a:pt x="10800" y="10979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CasellaDiTesto 8"/>
          <p:cNvSpPr/>
          <p:nvPr/>
        </p:nvSpPr>
        <p:spPr>
          <a:xfrm>
            <a:off x="669960" y="1198440"/>
            <a:ext cx="119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Verdana"/>
                <a:ea typeface="Verdana"/>
              </a:rPr>
              <a:t>Herramienta de gestión de los servicios (nuevo SENAEH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CasellaDiTesto 1"/>
          <p:cNvSpPr/>
          <p:nvPr/>
        </p:nvSpPr>
        <p:spPr>
          <a:xfrm>
            <a:off x="744480" y="7775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70c0"/>
                </a:solidFill>
                <a:latin typeface="Gill Sans"/>
              </a:rPr>
              <a:t>Herramienta de ges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304920" y="2860560"/>
            <a:ext cx="6172200" cy="45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CasellaDiTesto 1"/>
          <p:cNvSpPr/>
          <p:nvPr/>
        </p:nvSpPr>
        <p:spPr>
          <a:xfrm>
            <a:off x="6975360" y="2171880"/>
            <a:ext cx="5648400" cy="68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uscadores de emple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Datos personales (ej. contacto, residencia…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Perfil laboral (títulos de estudios, cursos de capacitaciones, experiencias laborales, idioma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Dificultades psicofísica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Caracterización del núcleo familiar (ej. composición, ingresos etc.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Disponibilidad / limitacione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Áreas de interé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Curriculum Vita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Historia labora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Direccionamient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mpresa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Definición de la empresa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Definición de las sedes territoria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Gestión de la vacant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arentesi graffa aperta 2"/>
          <p:cNvSpPr/>
          <p:nvPr/>
        </p:nvSpPr>
        <p:spPr>
          <a:xfrm>
            <a:off x="6269040" y="2082960"/>
            <a:ext cx="663480" cy="7041960"/>
          </a:xfrm>
          <a:custGeom>
            <a:avLst/>
            <a:gdLst>
              <a:gd name="textAreaLeft" fmla="*/ 424080 w 663480"/>
              <a:gd name="textAreaRight" fmla="*/ 663840 w 663480"/>
              <a:gd name="textAreaTop" fmla="*/ 25200 h 7041960"/>
              <a:gd name="textAreaBottom" fmla="*/ 7016760 h 704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481"/>
                </a:lnTo>
                <a:cubicBezTo>
                  <a:pt x="10800" y="10606"/>
                  <a:pt x="5400" y="10730"/>
                  <a:pt x="0" y="10730"/>
                </a:cubicBezTo>
                <a:cubicBezTo>
                  <a:pt x="5400" y="10730"/>
                  <a:pt x="10800" y="10855"/>
                  <a:pt x="10800" y="10979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CasellaDiTesto 8"/>
          <p:cNvSpPr/>
          <p:nvPr/>
        </p:nvSpPr>
        <p:spPr>
          <a:xfrm>
            <a:off x="669960" y="1198440"/>
            <a:ext cx="119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Verdana"/>
                <a:ea typeface="Verdana"/>
              </a:rPr>
              <a:t>Herramienta de gestión de los servicios f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unciones mínim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9" name="Immagine 2" descr=""/>
          <p:cNvPicPr/>
          <p:nvPr/>
        </p:nvPicPr>
        <p:blipFill>
          <a:blip r:embed="rId2"/>
          <a:stretch/>
        </p:blipFill>
        <p:spPr>
          <a:xfrm>
            <a:off x="744480" y="2789280"/>
            <a:ext cx="5524560" cy="5111640"/>
          </a:xfrm>
          <a:prstGeom prst="rect">
            <a:avLst/>
          </a:prstGeom>
          <a:ln w="0">
            <a:noFill/>
          </a:ln>
        </p:spPr>
      </p:pic>
      <p:sp>
        <p:nvSpPr>
          <p:cNvPr id="130" name="CasellaDiTesto 1"/>
          <p:cNvSpPr/>
          <p:nvPr/>
        </p:nvSpPr>
        <p:spPr>
          <a:xfrm>
            <a:off x="744480" y="7775640"/>
            <a:ext cx="52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70c0"/>
                </a:solidFill>
                <a:latin typeface="Gill Sans"/>
              </a:rPr>
              <a:t>sistema de información y gestión integrad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athan Eskinazi</dc:creator>
  <dc:description/>
  <dc:language>en-US</dc:language>
  <cp:lastModifiedBy>bgrp</cp:lastModifiedBy>
  <dcterms:modified xsi:type="dcterms:W3CDTF">2014-10-09T19:18:31Z</dcterms:modified>
  <cp:revision>364</cp:revision>
  <dc:subject/>
  <dc:title>Titulo de la presentación -Subtítulo de la presentación-</dc:title>
</cp:coreProperties>
</file>