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E142-6E54-4489-9872-FDBE9882A41A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26CC-F7F2-413B-8D16-9C782662F68A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D36B-6F20-4FAA-997D-DFDC8182E4BB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07FD-25C9-41BA-A1D3-64BCC6460F05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E7B5-96C2-4765-9747-2B02DE5ED27E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22D4-BEFF-4C4C-A0A6-143AFB0A93E5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DD75-EC72-4206-8975-702A5E7A8676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86B6-32B4-4C57-86B2-8AE5DE25F6C5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9FAB-309E-454C-B819-164E544D9DC3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0769-0530-4C5F-94E9-42BDA4C86DDE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572B-3060-4965-9733-094325B0835C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D952-CDE5-4CB9-AD21-68578F7091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6EA4-9C52-4688-A5FE-1ACEAC7A31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B4F3-E4B7-436B-86BD-D89B4616BA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7688-8C65-4E76-81FF-81098B1D6D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A858-08CC-414E-90B5-B8F457EB03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8781-7917-4EA6-AE25-22252D731B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11DD-0733-4054-83B0-6B8CE58B35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035E-6D0D-45EB-B002-3415FC3F9C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0793-6A5E-4E5F-B216-5F155D4735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55AB-D40A-4B9E-97FE-2130F2A26E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F350-1B3F-4161-A55C-B12B70FDB4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03DE-6543-49B1-B74C-8C3867C6B3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7C9B-2C6E-40E3-B11C-B2D35AA8307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-45252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399960" y="8067600"/>
            <a:ext cx="12204720" cy="140040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CasellaDiTesto 2"/>
          <p:cNvSpPr/>
          <p:nvPr/>
        </p:nvSpPr>
        <p:spPr>
          <a:xfrm>
            <a:off x="1533600" y="3940200"/>
            <a:ext cx="10801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ffffff"/>
                </a:solidFill>
                <a:latin typeface="Gill Sans"/>
              </a:rPr>
              <a:t>Ámbitos de intervención y asistencia técnica de Euro social en Hondura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ffffff"/>
                </a:solidFill>
                <a:latin typeface="Gill Sans"/>
              </a:rPr>
              <a:t>OCTUBRE 2014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CasellaDiTesto 1"/>
          <p:cNvSpPr/>
          <p:nvPr/>
        </p:nvSpPr>
        <p:spPr>
          <a:xfrm>
            <a:off x="7000920" y="2281320"/>
            <a:ext cx="5648400" cy="61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Centros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Gestión del direccionamien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Gestión de las citas / pacto de servici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Gestión de los programas de políticas (incluye identificación de los potenciales beneficiario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Catalogo de la oferta de formación profesional (opcional. Gestión de la formación profesiona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Monitore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Planificacion desarrollo loc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STS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Monitoreo/Evaluac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Toma de decis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Registro beneficiarios (Personas/Empresa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f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unciones mínim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4" name="Immagine 2" descr=""/>
          <p:cNvPicPr/>
          <p:nvPr/>
        </p:nvPicPr>
        <p:blipFill>
          <a:blip r:embed="rId2"/>
          <a:stretch/>
        </p:blipFill>
        <p:spPr>
          <a:xfrm>
            <a:off x="744480" y="2789280"/>
            <a:ext cx="5524560" cy="5111640"/>
          </a:xfrm>
          <a:prstGeom prst="rect">
            <a:avLst/>
          </a:prstGeom>
          <a:ln w="0">
            <a:noFill/>
          </a:ln>
        </p:spPr>
      </p:pic>
      <p:sp>
        <p:nvSpPr>
          <p:cNvPr id="135" name="CasellaDiTesto 1"/>
          <p:cNvSpPr/>
          <p:nvPr/>
        </p:nvSpPr>
        <p:spPr>
          <a:xfrm>
            <a:off x="744480" y="777564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sistema de información y gestión integr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asellaDiTesto 1"/>
          <p:cNvSpPr/>
          <p:nvPr/>
        </p:nvSpPr>
        <p:spPr>
          <a:xfrm>
            <a:off x="6993000" y="3147840"/>
            <a:ext cx="5648400" cy="46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les s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ajo cuales normas/Obligacion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o la realizamo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CasellaDiTesto 8"/>
          <p:cNvSpPr/>
          <p:nvPr/>
        </p:nvSpPr>
        <p:spPr>
          <a:xfrm>
            <a:off x="669960" y="1198440"/>
            <a:ext cx="1195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ntegración de los sistema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sistemas integr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2"/>
          <a:stretch/>
        </p:blipFill>
        <p:spPr>
          <a:xfrm>
            <a:off x="550800" y="2889360"/>
            <a:ext cx="57387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27120" y="2297160"/>
            <a:ext cx="5029200" cy="6553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1"/>
          <p:cNvSpPr/>
          <p:nvPr/>
        </p:nvSpPr>
        <p:spPr>
          <a:xfrm>
            <a:off x="6367320" y="2700360"/>
            <a:ext cx="6278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Integración de las oficinas territoria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Articulación con los program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Elaboración del modelo de Servicio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arentesi graffa aperta 2"/>
          <p:cNvSpPr/>
          <p:nvPr/>
        </p:nvSpPr>
        <p:spPr>
          <a:xfrm>
            <a:off x="5680080" y="2716200"/>
            <a:ext cx="663480" cy="591660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5916600"/>
              <a:gd name="textAreaBottom" fmla="*/ 5891400 h 591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8"/>
                  <a:pt x="10800" y="296"/>
                </a:cubicBezTo>
                <a:lnTo>
                  <a:pt x="10800" y="10434"/>
                </a:lnTo>
                <a:cubicBezTo>
                  <a:pt x="10800" y="10582"/>
                  <a:pt x="5400" y="10730"/>
                  <a:pt x="0" y="10730"/>
                </a:cubicBezTo>
                <a:cubicBezTo>
                  <a:pt x="5400" y="10730"/>
                  <a:pt x="10800" y="10878"/>
                  <a:pt x="10800" y="11026"/>
                </a:cubicBezTo>
                <a:lnTo>
                  <a:pt x="10800" y="21304"/>
                </a:lnTo>
                <a:cubicBezTo>
                  <a:pt x="10800" y="21452"/>
                  <a:pt x="16200" y="21600"/>
                  <a:pt x="21600" y="2160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CasellaDiTesto 8"/>
          <p:cNvSpPr/>
          <p:nvPr/>
        </p:nvSpPr>
        <p:spPr>
          <a:xfrm>
            <a:off x="366840" y="108756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Diseño del nuevo modelo funcional del SPE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CasellaDiTesto 1"/>
          <p:cNvSpPr/>
          <p:nvPr/>
        </p:nvSpPr>
        <p:spPr>
          <a:xfrm>
            <a:off x="741240" y="5796000"/>
            <a:ext cx="481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Gill Sans"/>
              </a:rPr>
              <a:t>Requisitos básicos para la puesta en marcha de la R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asellaDiTesto 1"/>
          <p:cNvSpPr/>
          <p:nvPr/>
        </p:nvSpPr>
        <p:spPr>
          <a:xfrm>
            <a:off x="6954840" y="2082960"/>
            <a:ext cx="56484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Gestión (diferentes y nuevo actor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operativos: Monitor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Operativid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Eficiencia y efica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Análisis del contesto territori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Decisionales: 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Operativid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Eficiencia y efica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Análisis del contesto territori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……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Mesa/servicio de Asistencia y segui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"/>
              </a:rPr>
              <a:t>Todos: Otros sistemas (capacitación a distancia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Actor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293760" y="365436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CasellaDiTesto 1"/>
          <p:cNvSpPr/>
          <p:nvPr/>
        </p:nvSpPr>
        <p:spPr>
          <a:xfrm>
            <a:off x="6975360" y="2428920"/>
            <a:ext cx="56484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Difusión en el territor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Edificio/escritorios etc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Computad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Capacitación bási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Capacitación en el sistem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Mesa de ayud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sistencia Hw/Sw/conectivida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Disponibilidad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293760" y="365436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asellaDiTesto 1"/>
          <p:cNvSpPr/>
          <p:nvPr/>
        </p:nvSpPr>
        <p:spPr>
          <a:xfrm>
            <a:off x="6975360" y="2428920"/>
            <a:ext cx="5648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Equipo de Mantenimient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decuación continua (nueva exigencia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ctualización continua (cambios organizativos/normativo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Gestión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293760" y="365436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asellaDiTesto 1"/>
          <p:cNvSpPr/>
          <p:nvPr/>
        </p:nvSpPr>
        <p:spPr>
          <a:xfrm>
            <a:off x="6975360" y="2428920"/>
            <a:ext cx="56484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Gestión de los usuari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ctualización continua (codificación, normas/directiva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Uso y acceso (roles - quien hace qu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Normas de respaldo al transito/interconexión de las informaciones necesarias en la r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Regla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2"/>
          <a:stretch/>
        </p:blipFill>
        <p:spPr>
          <a:xfrm>
            <a:off x="293760" y="365436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asellaDiTesto 1"/>
          <p:cNvSpPr/>
          <p:nvPr/>
        </p:nvSpPr>
        <p:spPr>
          <a:xfrm>
            <a:off x="6975360" y="2082960"/>
            <a:ext cx="564840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decuar el equipo de gestión del sistema informáti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decuar la conectividad y asegurar su funcionamiento (proveedor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decuar la capacidad de intervención técnica territori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segurar apoyo a la capacit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Equipo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2"/>
          <a:stretch/>
        </p:blipFill>
        <p:spPr>
          <a:xfrm>
            <a:off x="293760" y="365436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asellaDiTesto 1"/>
          <p:cNvSpPr/>
          <p:nvPr/>
        </p:nvSpPr>
        <p:spPr>
          <a:xfrm>
            <a:off x="6975360" y="2082960"/>
            <a:ext cx="564840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Asegurar una análisis adecuad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Implementar los cambios necesari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capacita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Realizar el piloto (hw/sw/internet/equipos etc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Puesta en marcha definitiv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(nuevo SENAEH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CasellaDiTesto 1"/>
          <p:cNvSpPr/>
          <p:nvPr/>
        </p:nvSpPr>
        <p:spPr>
          <a:xfrm>
            <a:off x="744480" y="7775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Herramienta de ges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304920" y="2860560"/>
            <a:ext cx="617220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asellaDiTesto 1"/>
          <p:cNvSpPr/>
          <p:nvPr/>
        </p:nvSpPr>
        <p:spPr>
          <a:xfrm>
            <a:off x="6975360" y="2171880"/>
            <a:ext cx="5648400" cy="68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uscadores de emple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atos personales (ej. contacto, residencia…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Perfil laboral (títulos de estudios, cursos de capacitaciones, experiencias laborales, idioma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ificultades psicofísic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Caracterización del núcleo familiar (ej. composición, ingresos etc.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isponibilidad / limitacione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Áreas de interé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Curriculum Vita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Historia labor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ireccionamien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mpres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efinición de la empres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Definición de las sedes territoria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小塚ゴシック Pr6N EL"/>
              </a:rPr>
              <a:t>Gestión de la vacant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arentesi graffa aperta 2"/>
          <p:cNvSpPr/>
          <p:nvPr/>
        </p:nvSpPr>
        <p:spPr>
          <a:xfrm>
            <a:off x="6269040" y="2082960"/>
            <a:ext cx="663480" cy="7041960"/>
          </a:xfrm>
          <a:custGeom>
            <a:avLst/>
            <a:gdLst>
              <a:gd name="textAreaLeft" fmla="*/ 424080 w 663480"/>
              <a:gd name="textAreaRight" fmla="*/ 663840 w 663480"/>
              <a:gd name="textAreaTop" fmla="*/ 25200 h 7041960"/>
              <a:gd name="textAreaBottom" fmla="*/ 7016760 h 704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481"/>
                </a:lnTo>
                <a:cubicBezTo>
                  <a:pt x="10800" y="10606"/>
                  <a:pt x="5400" y="10730"/>
                  <a:pt x="0" y="10730"/>
                </a:cubicBezTo>
                <a:cubicBezTo>
                  <a:pt x="5400" y="10730"/>
                  <a:pt x="10800" y="10855"/>
                  <a:pt x="10800" y="1097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CasellaDiTesto 8"/>
          <p:cNvSpPr/>
          <p:nvPr/>
        </p:nvSpPr>
        <p:spPr>
          <a:xfrm>
            <a:off x="669960" y="119844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Verdana"/>
                <a:ea typeface="Verdana"/>
              </a:rPr>
              <a:t>Herramienta de gestión de los servicios f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unciones mínim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9" name="Immagine 2" descr=""/>
          <p:cNvPicPr/>
          <p:nvPr/>
        </p:nvPicPr>
        <p:blipFill>
          <a:blip r:embed="rId2"/>
          <a:stretch/>
        </p:blipFill>
        <p:spPr>
          <a:xfrm>
            <a:off x="744480" y="2789280"/>
            <a:ext cx="5524560" cy="5111640"/>
          </a:xfrm>
          <a:prstGeom prst="rect">
            <a:avLst/>
          </a:prstGeom>
          <a:ln w="0">
            <a:noFill/>
          </a:ln>
        </p:spPr>
      </p:pic>
      <p:sp>
        <p:nvSpPr>
          <p:cNvPr id="130" name="CasellaDiTesto 1"/>
          <p:cNvSpPr/>
          <p:nvPr/>
        </p:nvSpPr>
        <p:spPr>
          <a:xfrm>
            <a:off x="744480" y="777564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Gill Sans"/>
              </a:rPr>
              <a:t>sistema de información y gestión integr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than Eskinazi</dc:creator>
  <dc:description/>
  <dc:language>en-US</dc:language>
  <cp:lastModifiedBy>bgrp</cp:lastModifiedBy>
  <dcterms:modified xsi:type="dcterms:W3CDTF">2014-10-09T19:18:31Z</dcterms:modified>
  <cp:revision>364</cp:revision>
  <dc:subject/>
  <dc:title>Titulo de la presentación -Subtítulo de la presentación-</dc:title>
</cp:coreProperties>
</file>