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BA8E9-EA8E-4798-9502-861AE117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5C417-33A8-4D01-B0E2-F55ABA80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83C5E-99C5-4973-B988-58C4BEB2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641EF-D283-4C9E-9F46-BEFAE065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9514-A573-4BB2-88EC-0539266E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EB1D-E6D2-47DD-9C11-C5B9AF69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BF12-5A1A-4D62-B7B3-F572F9FD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D675-EA15-4D9A-A0FF-40F8C424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5197-5C45-41A2-8E4A-54B0E4AF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D128-D4FF-476A-BD01-625B8371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2154-2BE9-4594-B9D2-65D94F80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FEF8F-0297-40D9-AC02-9A18CA01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1028-E222-4B75-99B8-341699F6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BDCB-8349-4A0D-A2CF-15F283FC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AD8A-0EB0-456B-AF96-F85B01DE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4221-66FF-48BC-A6C8-BF633BA9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F0D9-8904-4E1C-BA37-39F86B88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DB411-43B0-44BA-A0BB-A114C799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4D840-D938-4944-BE94-C975D0DA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003DD-249D-4724-91FD-A73938E1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2DEA2-E363-479C-BB9D-8830B934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DE957-C44A-4FA7-9E47-0A151049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9BBA5-40AF-41B0-93D1-973862BF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12FD3-AEA3-44D3-AF49-E8E35690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BF53-64F7-4AE0-9C83-2616922A6B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26BC-3931-40B0-BAD9-8D393D4A1E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VOLUCION DE LA</a:t>
            </a:r>
            <a:br>
              <a:rPr sz="4400"/>
            </a:b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PRESION TRIBUTARIA</a:t>
            </a:r>
            <a:br>
              <a:rPr sz="4400"/>
            </a:b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N ARGENTINA </a:t>
            </a:r>
            <a:br>
              <a:rPr sz="4400"/>
            </a:b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2004-2013</a:t>
            </a:r>
            <a:br>
              <a:rPr sz="4400"/>
            </a:br>
            <a:br>
              <a:rPr sz="4400"/>
            </a:br>
            <a:r>
              <a:rPr b="1" i="1" lang="es-AR" sz="4400" spc="-1" strike="noStrike" u="sng">
                <a:solidFill>
                  <a:srgbClr val="000000"/>
                </a:solidFill>
                <a:uFillTx/>
                <a:latin typeface="Arial"/>
              </a:rPr>
              <a:t>Hechos y di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884720" y="5866920"/>
            <a:ext cx="80172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ARGENTINA. 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PRESION TRIBUT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79214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503280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6840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530028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559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-495432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604000" y="5867280"/>
            <a:ext cx="82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7058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as causas del crecimiento 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e la presión tributaria en Argen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Decisiones de política tribu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No actualización escala Imp. a la R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Ausencia de ajuste por inf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Estatización sistema privado de p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Aumento alícuota Aportes Pers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Continuidad impuestos de la crisis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Crecimiento económico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PIB creció 5,5% anual durante 9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Consumo creció 6,9% anual durante 9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Empleo registrado creció 5,4% anual durante 9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Mejora administración tribu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Aumento productividad del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Medidas anti B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 u="sng">
                <a:solidFill>
                  <a:srgbClr val="000000"/>
                </a:solidFill>
                <a:uFillTx/>
                <a:latin typeface="Arial"/>
              </a:rPr>
              <a:t>Los dilemas de la política fis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ficacia / neutralidad / Equ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rto plazo /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Impuestos ortodoxos / impuestos “distorsiv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rnando Martin</cp:lastModifiedBy>
  <dcterms:modified xsi:type="dcterms:W3CDTF">2014-09-26T19:00:51Z</dcterms:modified>
  <cp:revision>15</cp:revision>
  <dc:subject/>
  <dc:title>  EVOLUCION DE LA PRESION TRIBUTARIA EN ARGENTINA  2004-2013 </dc:title>
</cp:coreProperties>
</file>