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301A-6197-4A58-AECE-BBB826C5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72CB-4964-4462-8405-382AB1D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586F-6BAB-41CB-B10E-BB2D416B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6AA1-8549-4F5B-B087-962EC29D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07C-8FD4-43D0-890D-32CBD298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E26C-6091-44DA-9899-C1C9893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EFFE-4BD3-434D-AB5B-73A35852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E4D9-2FBA-46DF-9D48-B4AEDD5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8ED7-9A40-4027-A74A-14EDD6D8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57C-0B40-44C7-90B7-2392D95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E5A-1034-4CB7-BF4C-325AB66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AC4F-4829-454F-A04D-61FB618D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D9B4-A53D-4AF6-B13F-5AE834B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4BF3-71BD-405E-8706-D608109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AE92-A113-43CE-9EB7-8C7F4FB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9D35-3935-42A2-B5E7-EC5A68AB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DBE-4E6B-40A0-87D4-CF50A87E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0B4E-E73A-447D-BEAE-CF3F3C2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E627-7750-4BC1-AFE3-83DF370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22CA-D39B-4ACB-8C30-608C5459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102C-BA79-40D8-9526-A05A613B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D2A1-F84A-44F5-B5F9-2EE4FE2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4CA7-E485-4D40-947A-B85A07E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5C17-6F68-4116-9861-ACF97F7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2E73-13AE-4715-B494-8F1A70B5F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AFF-42E4-4DF0-9EA0-F0AE17EDB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VOLUCION DE L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ARGENTINA 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2004-2013</a:t>
            </a:r>
            <a:br>
              <a:rPr sz="4400"/>
            </a:br>
            <a:br>
              <a:rPr sz="4400"/>
            </a:br>
            <a:r>
              <a:rPr b="1" i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Hechos y di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84720" y="5866920"/>
            <a:ext cx="801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RGENTINA.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21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503280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5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49543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604000" y="5867280"/>
            <a:ext cx="82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ausas del crecimiento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la presión tributaria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ecisiones de política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No actualización escala Imp.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sencia de ajuste por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statización sistema privado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alícuota Aport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tinuidad impuestos de la crisis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recimiento económic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PIB creció 5,5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sumo creció 6,9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mpleo registrado creció 5,4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jora administr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productividad del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Medidas anti B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Los dilemas de la política fi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ficacia / neutralidad /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rto plazo /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mpuestos ortodoxos / impuestos “distorsiv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Martin</cp:lastModifiedBy>
  <dcterms:modified xsi:type="dcterms:W3CDTF">2014-09-26T19:00:51Z</dcterms:modified>
  <cp:revision>15</cp:revision>
  <dc:subject/>
  <dc:title>  EVOLUCION DE LA PRESION TRIBUTARIA EN ARGENTINA  2004-2013 </dc:title>
</cp:coreProperties>
</file>