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B64-4871-4A33-91E8-E0E4B487B1DC}" type="slidenum">
              <a:rPr b="0" lang="es-EC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necesita vincularla con la planificación a través de los OEI´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necesita depurar los programas existentes (errores ortográficos y de bajo o nulo nivel de ejecució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debe depurar proyectos y actividades que tiene igual descrip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iste un porcentaje reducido de programas que representa monto importante del gas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 debe contar con información mejor organiz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D77F-0F07-4226-A821-42705E7241F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980-CC49-40DD-9158-2B06E5A0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E14-5F69-4D5F-B7A8-6A530CFB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4E8-FBDE-45EC-8E63-8C90FAC5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3BE-2145-40B3-B530-145C73FA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7182F4-7795-4D2C-88F1-EB6D78EF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A768A6-9F77-4C72-B060-8E946F7F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31EE75-8DD9-4DD7-A73B-2895BFB8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DA990C-C345-4EC0-9041-26B380DD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D58002-66CD-4486-9621-C60895C7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9618B4-DC66-46B6-AD03-DFC1AA86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408E81-2BFD-4F4E-A858-8D6B54D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6F2C03-1372-47F8-B389-14DFB6F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FB68B2-7AC6-4CA0-8E98-79C3959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15F18C-B69E-47D9-95A3-A7D86C7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1549A8-EABD-49FE-B2DD-29373408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A1BBD2-F61D-468C-BE48-427B895B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F1C-533E-45F4-BC2C-8B8A9BE8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AEE-4CD0-4C00-A3E4-9976AE9A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F03-E44E-40D3-BDB9-9BA6728F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CD9-5FCE-4864-B536-F7490DC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D7B-2ED1-44BA-B316-F0F202A1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04C-6E29-4C87-A436-6EDC62DA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10B-E019-487C-BCE1-1442AC2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9E86-B96A-466B-A5A3-AB47642F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16B8-7C5F-46AA-B326-E2D159D4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5CC1-60C6-4CFE-A9E0-EBD2D98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CD88-4326-46A7-AE03-EB94C1F4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CBE3-18B8-4267-8E0D-99E99DD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294-1504-41E7-BE0F-7BDD7C4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A944C-3AEC-4A12-BC2B-A4E4BC6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47352-2B83-454C-ABA8-EEDE377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D1F4-619D-4AEE-BE3B-5C05B12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F33C8-9BF5-41C5-B58A-6FFFB5E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9CA9F-08E5-45FE-A3A2-E7A076F2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4452-BBB5-49AB-8D2A-C1F0E5A1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A357E-1482-4313-A1B9-2D0C8DD8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51AC-990C-4332-B1E3-57F66C71E92C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5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466" name="Conector recto 6"/>
          <p:cNvSpPr/>
          <p:nvPr/>
        </p:nvSpPr>
        <p:spPr>
          <a:xfrm>
            <a:off x="2289240" y="398628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7FC3-B5DC-4030-9599-9E610400DCD5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2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508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518" name="Conector recto 7"/>
          <p:cNvSpPr/>
          <p:nvPr/>
        </p:nvSpPr>
        <p:spPr>
          <a:xfrm>
            <a:off x="2289240" y="187812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3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431-E34B-4ED5-A072-2EC161426C52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4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560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570" name="Conector recto 7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E5DD-866B-44FD-B3C2-9A6CC3374268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612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622" name="Conector recto 6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27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3D2-E911-4D67-8A7D-9E09582E764F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28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66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29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30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31"/>
          </p:nvPr>
        </p:nvSpPr>
        <p:spPr>
          <a:xfrm>
            <a:off x="6450120" y="216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DE73B-3AE3-4617-8B01-9FD537B0C941}" type="slidenum">
              <a:rPr b="0" lang="es-EC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71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https://encrypted-tbn2.gstatic.com/images?q=tbn:ANd9GcRW7ZGaZl-odwVGEqwBWtkRZso6Qx0WE61J8fkqaIlHRKRJIQDk8A"/>
          <p:cNvPicPr/>
          <p:nvPr/>
        </p:nvPicPr>
        <p:blipFill>
          <a:blip r:embed="rId4"/>
          <a:stretch/>
        </p:blipFill>
        <p:spPr>
          <a:xfrm>
            <a:off x="7207200" y="90360"/>
            <a:ext cx="1936800" cy="6908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2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3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2A1D1-601F-4309-9DF6-29AA15E77F42}" type="datetime">
              <a:rPr b="0" lang="es-EC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A9237-CE47-47CA-951D-49F9239D313D}" type="datetime">
              <a:rPr b="0" lang="es-EC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97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14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2289240" y="398628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8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102-4ABA-493D-BE30-D290464FD7AD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9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196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206" name="Conector recto 7"/>
          <p:cNvSpPr/>
          <p:nvPr/>
        </p:nvSpPr>
        <p:spPr>
          <a:xfrm>
            <a:off x="2289240" y="1878120"/>
            <a:ext cx="6854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BC4A-1238-4D01-9731-3A642E4EF4CE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248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258" name="Conector recto 7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2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D869-774D-41A1-95C1-99705E9E8B26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300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310" name="Conector recto 6"/>
          <p:cNvSpPr/>
          <p:nvPr/>
        </p:nvSpPr>
        <p:spPr>
          <a:xfrm>
            <a:off x="0" y="1878120"/>
            <a:ext cx="346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4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59D-5BB5-431A-90CA-7F04CC29215F}" type="datetime">
              <a:rPr b="0" lang="es-EC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5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352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450120" y="2160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C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15287-9643-49D9-989A-B3182DB5E1B4}" type="slidenum">
              <a:rPr b="0" lang="es-EC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Agrupar 17"/>
          <p:cNvGrpSpPr/>
          <p:nvPr/>
        </p:nvGrpSpPr>
        <p:grpSpPr>
          <a:xfrm>
            <a:off x="8686800" y="274320"/>
            <a:ext cx="457200" cy="230040"/>
            <a:chOff x="8686800" y="274320"/>
            <a:chExt cx="457200" cy="230040"/>
          </a:xfrm>
        </p:grpSpPr>
        <p:sp>
          <p:nvSpPr>
            <p:cNvPr id="404" name="Rectángulo 14"/>
            <p:cNvSpPr/>
            <p:nvPr/>
          </p:nvSpPr>
          <p:spPr>
            <a:xfrm rot="10800000">
              <a:off x="8816760" y="274320"/>
              <a:ext cx="98640" cy="230040"/>
            </a:xfrm>
            <a:prstGeom prst="rect">
              <a:avLst/>
            </a:prstGeom>
            <a:solidFill>
              <a:srgbClr val="014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ángulo 15"/>
            <p:cNvSpPr/>
            <p:nvPr/>
          </p:nvSpPr>
          <p:spPr>
            <a:xfrm rot="10800000">
              <a:off x="8686800" y="274320"/>
              <a:ext cx="98640" cy="230040"/>
            </a:xfrm>
            <a:prstGeom prst="rect">
              <a:avLst/>
            </a:prstGeom>
            <a:solidFill>
              <a:srgbClr val="eb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ángulo 16"/>
            <p:cNvSpPr/>
            <p:nvPr/>
          </p:nvSpPr>
          <p:spPr>
            <a:xfrm rot="10800000">
              <a:off x="8946360" y="274320"/>
              <a:ext cx="197640" cy="230040"/>
            </a:xfrm>
            <a:prstGeom prst="rect">
              <a:avLst/>
            </a:pr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Conector recto 13"/>
          <p:cNvSpPr/>
          <p:nvPr/>
        </p:nvSpPr>
        <p:spPr>
          <a:xfrm>
            <a:off x="2332080" y="442800"/>
            <a:ext cx="5607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21"/>
          <p:cNvSpPr/>
          <p:nvPr/>
        </p:nvSpPr>
        <p:spPr>
          <a:xfrm>
            <a:off x="1039680" y="6375240"/>
            <a:ext cx="4399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22"/>
          <p:cNvSpPr/>
          <p:nvPr/>
        </p:nvSpPr>
        <p:spPr>
          <a:xfrm>
            <a:off x="1638360" y="6375240"/>
            <a:ext cx="441360" cy="101880"/>
          </a:xfrm>
          <a:prstGeom prst="rect">
            <a:avLst/>
          </a:prstGeom>
          <a:solidFill>
            <a:srgbClr val="eb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23"/>
          <p:cNvSpPr/>
          <p:nvPr/>
        </p:nvSpPr>
        <p:spPr>
          <a:xfrm>
            <a:off x="0" y="6375240"/>
            <a:ext cx="880920" cy="10188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ángulo 24"/>
          <p:cNvSpPr/>
          <p:nvPr/>
        </p:nvSpPr>
        <p:spPr>
          <a:xfrm>
            <a:off x="2238480" y="6375240"/>
            <a:ext cx="6905520" cy="101880"/>
          </a:xfrm>
          <a:prstGeom prst="rect">
            <a:avLst/>
          </a:prstGeom>
          <a:solidFill>
            <a:srgbClr val="014d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agen 12" descr="logo color-04.png"/>
          <p:cNvPicPr/>
          <p:nvPr/>
        </p:nvPicPr>
        <p:blipFill>
          <a:blip r:embed="rId2"/>
          <a:stretch/>
        </p:blipFill>
        <p:spPr>
          <a:xfrm>
            <a:off x="157320" y="81000"/>
            <a:ext cx="1968480" cy="673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7209000" y="76320"/>
            <a:ext cx="1935000" cy="742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s://encrypted-tbn2.gstatic.com/images?q=tbn:ANd9GcRW7ZGaZl-odwVGEqwBWtkRZso6Qx0WE61J8fkqaIlHRKRJIQDk8A"/>
          <p:cNvPicPr/>
          <p:nvPr/>
        </p:nvPicPr>
        <p:blipFill>
          <a:blip r:embed="rId4"/>
          <a:stretch/>
        </p:blipFill>
        <p:spPr>
          <a:xfrm>
            <a:off x="7207200" y="90360"/>
            <a:ext cx="1936800" cy="690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9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22636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9"/>
          </p:nvPr>
        </p:nvSpPr>
        <p:spPr>
          <a:xfrm>
            <a:off x="75960" y="6111360"/>
            <a:ext cx="80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0"/>
          </p:nvPr>
        </p:nvSpPr>
        <p:spPr>
          <a:xfrm>
            <a:off x="22381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1 Imagen" descr="a2e15C8.t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2 CuadroTexto"/>
          <p:cNvSpPr/>
          <p:nvPr/>
        </p:nvSpPr>
        <p:spPr>
          <a:xfrm>
            <a:off x="2237040" y="1335240"/>
            <a:ext cx="514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II REUNIÓN DE LA RED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3 CuadroTexto"/>
          <p:cNvSpPr/>
          <p:nvPr/>
        </p:nvSpPr>
        <p:spPr>
          <a:xfrm>
            <a:off x="1035360" y="1822320"/>
            <a:ext cx="74545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IBEROAMERICANA DE RESPONS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Arial Unicode MS"/>
              </a:rPr>
              <a:t>DE POLITICA F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5 CuadroTexto"/>
          <p:cNvSpPr/>
          <p:nvPr/>
        </p:nvSpPr>
        <p:spPr>
          <a:xfrm>
            <a:off x="3750480" y="3645000"/>
            <a:ext cx="1882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MADRID 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6 CuadroTexto"/>
          <p:cNvSpPr/>
          <p:nvPr/>
        </p:nvSpPr>
        <p:spPr>
          <a:xfrm>
            <a:off x="2412360" y="4581360"/>
            <a:ext cx="466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Calibri Bold"/>
              </a:rPr>
              <a:t>Fernando Soria Balse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7 CuadroTexto"/>
          <p:cNvSpPr/>
          <p:nvPr/>
        </p:nvSpPr>
        <p:spPr>
          <a:xfrm>
            <a:off x="4655880" y="5556240"/>
            <a:ext cx="19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0000"/>
                </a:solidFill>
                <a:latin typeface="Calibri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CuadroTexto 3"/>
          <p:cNvSpPr/>
          <p:nvPr/>
        </p:nvSpPr>
        <p:spPr>
          <a:xfrm>
            <a:off x="1022400" y="77868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1f497d"/>
                </a:solidFill>
                <a:latin typeface="Century Gothic"/>
                <a:ea typeface="Calibri"/>
              </a:rPr>
              <a:t>Proforma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ángulo 26"/>
          <p:cNvSpPr/>
          <p:nvPr/>
        </p:nvSpPr>
        <p:spPr>
          <a:xfrm>
            <a:off x="603360" y="743040"/>
            <a:ext cx="215640" cy="617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2 Conector recto"/>
          <p:cNvSpPr/>
          <p:nvPr/>
        </p:nvSpPr>
        <p:spPr>
          <a:xfrm>
            <a:off x="604800" y="1360440"/>
            <a:ext cx="7710480" cy="79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501120" y="1945800"/>
            <a:ext cx="3784680" cy="343080"/>
          </a:xfrm>
          <a:prstGeom prst="rect">
            <a:avLst/>
          </a:prstGeom>
          <a:noFill/>
          <a:ln w="648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8 Rectángulo"/>
          <p:cNvSpPr/>
          <p:nvPr/>
        </p:nvSpPr>
        <p:spPr>
          <a:xfrm>
            <a:off x="501480" y="2463840"/>
            <a:ext cx="3784680" cy="3873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9 Rectángulo"/>
          <p:cNvSpPr/>
          <p:nvPr/>
        </p:nvSpPr>
        <p:spPr>
          <a:xfrm>
            <a:off x="4459320" y="2463840"/>
            <a:ext cx="3855960" cy="3873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2 Subtítulo"/>
          <p:cNvSpPr/>
          <p:nvPr/>
        </p:nvSpPr>
        <p:spPr>
          <a:xfrm>
            <a:off x="711360" y="2584440"/>
            <a:ext cx="3435120" cy="3649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. 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Se evaluó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Aspectos positiv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Debilidad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Elementos del Marco Conceptual Plant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2. A qué Resp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Objetivos y Políticas Nac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Agendas de Política Intersectorial, - Planificación Institucional (OEI´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Arial"/>
                <a:ea typeface="Arial"/>
              </a:rPr>
              <a:t>- Estructura Progra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2 Subtítulo"/>
          <p:cNvSpPr/>
          <p:nvPr/>
        </p:nvSpPr>
        <p:spPr>
          <a:xfrm>
            <a:off x="4676760" y="2584440"/>
            <a:ext cx="3375000" cy="36496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3. Marco Conceptual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OE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yec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Activida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Product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Insu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Resul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Efecto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- Impacto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2 Subtítulo"/>
          <p:cNvSpPr/>
          <p:nvPr/>
        </p:nvSpPr>
        <p:spPr>
          <a:xfrm>
            <a:off x="4459320" y="1946160"/>
            <a:ext cx="3876480" cy="343080"/>
          </a:xfrm>
          <a:prstGeom prst="rect">
            <a:avLst/>
          </a:prstGeom>
          <a:noFill/>
          <a:ln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  <a:ea typeface="Arial"/>
              </a:rPr>
              <a:t>Marco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18 Imagen" descr="http://actualicese.com/_ig/img/fotos/reunionsocios.jpg"/>
          <p:cNvPicPr/>
          <p:nvPr/>
        </p:nvPicPr>
        <p:blipFill>
          <a:blip r:embed="rId1"/>
          <a:stretch/>
        </p:blipFill>
        <p:spPr>
          <a:xfrm>
            <a:off x="5950080" y="3274920"/>
            <a:ext cx="2385720" cy="2211480"/>
          </a:xfrm>
          <a:prstGeom prst="rect">
            <a:avLst/>
          </a:prstGeom>
          <a:ln w="0">
            <a:noFill/>
          </a:ln>
        </p:spPr>
      </p:pic>
      <p:sp>
        <p:nvSpPr>
          <p:cNvPr id="879" name="2 Subtítulo"/>
          <p:cNvSpPr/>
          <p:nvPr/>
        </p:nvSpPr>
        <p:spPr>
          <a:xfrm>
            <a:off x="603360" y="1473120"/>
            <a:ext cx="7711920" cy="343080"/>
          </a:xfrm>
          <a:prstGeom prst="rect">
            <a:avLst/>
          </a:prstGeom>
          <a:noFill/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  <a:ea typeface="Arial"/>
              </a:rPr>
              <a:t>Por que revisar la Estructura Program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1 Imagen" descr="a2e32E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1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4 CuadroTexto"/>
          <p:cNvSpPr/>
          <p:nvPr/>
        </p:nvSpPr>
        <p:spPr>
          <a:xfrm>
            <a:off x="2509200" y="1704960"/>
            <a:ext cx="197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visión de insu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5 CuadroTexto"/>
          <p:cNvSpPr/>
          <p:nvPr/>
        </p:nvSpPr>
        <p:spPr>
          <a:xfrm>
            <a:off x="1283760" y="167328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6 CuadroTexto"/>
          <p:cNvSpPr/>
          <p:nvPr/>
        </p:nvSpPr>
        <p:spPr>
          <a:xfrm>
            <a:off x="2666880" y="1900080"/>
            <a:ext cx="14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(SIPeIP - Esige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7 CuadroTexto"/>
          <p:cNvSpPr/>
          <p:nvPr/>
        </p:nvSpPr>
        <p:spPr>
          <a:xfrm>
            <a:off x="3298680" y="2441520"/>
            <a:ext cx="184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Enfrentar OEI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8 CuadroTexto"/>
          <p:cNvSpPr/>
          <p:nvPr/>
        </p:nvSpPr>
        <p:spPr>
          <a:xfrm>
            <a:off x="2373480" y="242100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9 CuadroTexto"/>
          <p:cNvSpPr/>
          <p:nvPr/>
        </p:nvSpPr>
        <p:spPr>
          <a:xfrm>
            <a:off x="3398400" y="2637000"/>
            <a:ext cx="1063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rogra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10 CuadroTexto"/>
          <p:cNvSpPr/>
          <p:nvPr/>
        </p:nvSpPr>
        <p:spPr>
          <a:xfrm>
            <a:off x="4683240" y="3067200"/>
            <a:ext cx="1457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14480" indent="-114480" algn="just">
              <a:lnSpc>
                <a:spcPts val="14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Identificación de productos 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11 CuadroTexto"/>
          <p:cNvSpPr/>
          <p:nvPr/>
        </p:nvSpPr>
        <p:spPr>
          <a:xfrm>
            <a:off x="3464280" y="317016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12 CuadroTexto"/>
          <p:cNvSpPr/>
          <p:nvPr/>
        </p:nvSpPr>
        <p:spPr>
          <a:xfrm>
            <a:off x="4762800" y="3456000"/>
            <a:ext cx="97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rogra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13 CuadroTexto"/>
          <p:cNvSpPr/>
          <p:nvPr/>
        </p:nvSpPr>
        <p:spPr>
          <a:xfrm>
            <a:off x="5433120" y="3925800"/>
            <a:ext cx="202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lacionar proyec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14 CuadroTexto"/>
          <p:cNvSpPr/>
          <p:nvPr/>
        </p:nvSpPr>
        <p:spPr>
          <a:xfrm>
            <a:off x="4554000" y="391788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15 CuadroTexto"/>
          <p:cNvSpPr/>
          <p:nvPr/>
        </p:nvSpPr>
        <p:spPr>
          <a:xfrm>
            <a:off x="5539320" y="4119480"/>
            <a:ext cx="141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con progra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16 CuadroTexto"/>
          <p:cNvSpPr/>
          <p:nvPr/>
        </p:nvSpPr>
        <p:spPr>
          <a:xfrm>
            <a:off x="6604200" y="4587840"/>
            <a:ext cx="2162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Revisar actividades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17 CuadroTexto"/>
          <p:cNvSpPr/>
          <p:nvPr/>
        </p:nvSpPr>
        <p:spPr>
          <a:xfrm>
            <a:off x="517320" y="4689360"/>
            <a:ext cx="3091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ara la elabor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18 CuadroTexto"/>
          <p:cNvSpPr/>
          <p:nvPr/>
        </p:nvSpPr>
        <p:spPr>
          <a:xfrm>
            <a:off x="6681240" y="4782960"/>
            <a:ext cx="208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gasto permanente y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19 CuadroTexto"/>
          <p:cNvSpPr/>
          <p:nvPr/>
        </p:nvSpPr>
        <p:spPr>
          <a:xfrm>
            <a:off x="5643720" y="4665600"/>
            <a:ext cx="342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ffffff"/>
                </a:solidFill>
                <a:latin typeface="Calibri"/>
                <a:ea typeface="Arial"/>
              </a:rPr>
              <a:t>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20 CuadroTexto"/>
          <p:cNvSpPr/>
          <p:nvPr/>
        </p:nvSpPr>
        <p:spPr>
          <a:xfrm>
            <a:off x="6701040" y="4978440"/>
            <a:ext cx="117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perman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21 CuadroTexto"/>
          <p:cNvSpPr/>
          <p:nvPr/>
        </p:nvSpPr>
        <p:spPr>
          <a:xfrm>
            <a:off x="503280" y="4994280"/>
            <a:ext cx="2646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roforma 2015 se 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22 CuadroTexto"/>
          <p:cNvSpPr/>
          <p:nvPr/>
        </p:nvSpPr>
        <p:spPr>
          <a:xfrm>
            <a:off x="501480" y="5299200"/>
            <a:ext cx="252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lanteado revisa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23 CuadroTexto"/>
          <p:cNvSpPr/>
          <p:nvPr/>
        </p:nvSpPr>
        <p:spPr>
          <a:xfrm>
            <a:off x="7400880" y="5357880"/>
            <a:ext cx="150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"/>
              </a:rPr>
              <a:t>•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 </a:t>
            </a: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termin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24 CuadroTexto"/>
          <p:cNvSpPr/>
          <p:nvPr/>
        </p:nvSpPr>
        <p:spPr>
          <a:xfrm>
            <a:off x="6744600" y="5440320"/>
            <a:ext cx="34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Calibri Bold"/>
                <a:ea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25 CuadroTexto"/>
          <p:cNvSpPr/>
          <p:nvPr/>
        </p:nvSpPr>
        <p:spPr>
          <a:xfrm>
            <a:off x="7522560" y="5553000"/>
            <a:ext cx="127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 resul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26 CuadroTexto"/>
          <p:cNvSpPr/>
          <p:nvPr/>
        </p:nvSpPr>
        <p:spPr>
          <a:xfrm>
            <a:off x="489240" y="5603760"/>
            <a:ext cx="2617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categoría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27 CuadroTexto"/>
          <p:cNvSpPr/>
          <p:nvPr/>
        </p:nvSpPr>
        <p:spPr>
          <a:xfrm>
            <a:off x="7510680" y="5748480"/>
            <a:ext cx="127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1f487c"/>
                </a:solidFill>
                <a:latin typeface="Calibri Bold Italic"/>
              </a:rPr>
              <a:t>del progra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1 Imagen" descr="a2e37C5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5 CuadroTexto"/>
          <p:cNvSpPr/>
          <p:nvPr/>
        </p:nvSpPr>
        <p:spPr>
          <a:xfrm>
            <a:off x="1207800" y="2641680"/>
            <a:ext cx="758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"/>
              </a:rPr>
              <a:t>Descripción pasos para actualización de programas exist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6 CuadroTexto"/>
          <p:cNvSpPr/>
          <p:nvPr/>
        </p:nvSpPr>
        <p:spPr>
          <a:xfrm>
            <a:off x="4029840" y="3268800"/>
            <a:ext cx="318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lanificación (Senplades - SIPeI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7 CuadroTexto"/>
          <p:cNvSpPr/>
          <p:nvPr/>
        </p:nvSpPr>
        <p:spPr>
          <a:xfrm>
            <a:off x="4013280" y="3728880"/>
            <a:ext cx="4273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Objetivos Estratégicos Institucionales Presupuesto (Ministerio de Finanzas - Esige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8 CuadroTexto"/>
          <p:cNvSpPr/>
          <p:nvPr/>
        </p:nvSpPr>
        <p:spPr>
          <a:xfrm>
            <a:off x="1050120" y="4184640"/>
            <a:ext cx="310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visión de insu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9 CuadroTexto"/>
          <p:cNvSpPr/>
          <p:nvPr/>
        </p:nvSpPr>
        <p:spPr>
          <a:xfrm>
            <a:off x="1394640" y="4549680"/>
            <a:ext cx="2384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 Bold Italic"/>
                <a:ea typeface="Arial"/>
              </a:rPr>
              <a:t>(SIPeIP - Esige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10 CuadroTexto"/>
          <p:cNvSpPr/>
          <p:nvPr/>
        </p:nvSpPr>
        <p:spPr>
          <a:xfrm>
            <a:off x="4014000" y="4646520"/>
            <a:ext cx="1139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11 CuadroTexto"/>
          <p:cNvSpPr/>
          <p:nvPr/>
        </p:nvSpPr>
        <p:spPr>
          <a:xfrm>
            <a:off x="4014000" y="5105520"/>
            <a:ext cx="14241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yectos y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12 CuadroTexto"/>
          <p:cNvSpPr/>
          <p:nvPr/>
        </p:nvSpPr>
        <p:spPr>
          <a:xfrm>
            <a:off x="4019760" y="5564160"/>
            <a:ext cx="1209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Arial"/>
              </a:rPr>
              <a:t>Activ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1 Imagen" descr="a2e39E8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0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5 CuadroTexto"/>
          <p:cNvSpPr/>
          <p:nvPr/>
        </p:nvSpPr>
        <p:spPr>
          <a:xfrm>
            <a:off x="1479240" y="237168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  <a:ea typeface="Arial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6 CuadroTexto"/>
          <p:cNvSpPr/>
          <p:nvPr/>
        </p:nvSpPr>
        <p:spPr>
          <a:xfrm>
            <a:off x="2959200" y="2776680"/>
            <a:ext cx="543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Analizar si existe relación entre los OEIs y los programas actuales de la entida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7 CuadroTexto"/>
          <p:cNvSpPr/>
          <p:nvPr/>
        </p:nvSpPr>
        <p:spPr>
          <a:xfrm>
            <a:off x="2959200" y="3321000"/>
            <a:ext cx="5529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Ver qué programas pueden modificarse, suprimirse e incluso crearse como fusión de dos o más programas de acuerdo siempre a los OEI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8 CuadroTexto"/>
          <p:cNvSpPr/>
          <p:nvPr/>
        </p:nvSpPr>
        <p:spPr>
          <a:xfrm>
            <a:off x="796680" y="3979800"/>
            <a:ext cx="239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Enfrentar OEIs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9 CuadroTexto"/>
          <p:cNvSpPr/>
          <p:nvPr/>
        </p:nvSpPr>
        <p:spPr>
          <a:xfrm>
            <a:off x="3131280" y="4189320"/>
            <a:ext cx="5165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as duplicados, programas sin ejecución y programas qu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10 CuadroTexto"/>
          <p:cNvSpPr/>
          <p:nvPr/>
        </p:nvSpPr>
        <p:spPr>
          <a:xfrm>
            <a:off x="1166400" y="4284720"/>
            <a:ext cx="1480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progr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11 CuadroTexto"/>
          <p:cNvSpPr/>
          <p:nvPr/>
        </p:nvSpPr>
        <p:spPr>
          <a:xfrm>
            <a:off x="3126600" y="4433760"/>
            <a:ext cx="4905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ben ser incluidos en otros programas (porque la asignació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12 CuadroTexto"/>
          <p:cNvSpPr/>
          <p:nvPr/>
        </p:nvSpPr>
        <p:spPr>
          <a:xfrm>
            <a:off x="3058200" y="4676760"/>
            <a:ext cx="298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esupuestaria no es representativ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13 CuadroTexto"/>
          <p:cNvSpPr/>
          <p:nvPr/>
        </p:nvSpPr>
        <p:spPr>
          <a:xfrm>
            <a:off x="3113280" y="5057640"/>
            <a:ext cx="4536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as cuya denominación no nos dice nada sobre 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14 CuadroTexto"/>
          <p:cNvSpPr/>
          <p:nvPr/>
        </p:nvSpPr>
        <p:spPr>
          <a:xfrm>
            <a:off x="3114720" y="5302080"/>
            <a:ext cx="4714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ntenido del programa. Si un programa absorbe a otro, 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15 CuadroTexto"/>
          <p:cNvSpPr/>
          <p:nvPr/>
        </p:nvSpPr>
        <p:spPr>
          <a:xfrm>
            <a:off x="3065760" y="5546880"/>
            <a:ext cx="3120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necesario replantear la denominació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1 Imagen" descr="a2e3CC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5 CuadroTexto"/>
          <p:cNvSpPr/>
          <p:nvPr/>
        </p:nvSpPr>
        <p:spPr>
          <a:xfrm>
            <a:off x="1493640" y="238752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  <a:ea typeface="Arial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6 CuadroTexto"/>
          <p:cNvSpPr/>
          <p:nvPr/>
        </p:nvSpPr>
        <p:spPr>
          <a:xfrm>
            <a:off x="3316320" y="3338640"/>
            <a:ext cx="5076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n la vinculación Programa - OEI, determinar los productos (bienes y/o servicios) que el programa proporcionará así como la respectiva unidad de medida del product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7 CuadroTexto"/>
          <p:cNvSpPr/>
          <p:nvPr/>
        </p:nvSpPr>
        <p:spPr>
          <a:xfrm>
            <a:off x="1065600" y="3983040"/>
            <a:ext cx="2140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Identific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8 CuadroTexto"/>
          <p:cNvSpPr/>
          <p:nvPr/>
        </p:nvSpPr>
        <p:spPr>
          <a:xfrm>
            <a:off x="600840" y="4287960"/>
            <a:ext cx="3140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Calibri Bold Italic"/>
              </a:rPr>
              <a:t>productos  del pro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9 CuadroTexto"/>
          <p:cNvSpPr/>
          <p:nvPr/>
        </p:nvSpPr>
        <p:spPr>
          <a:xfrm>
            <a:off x="3479400" y="4826160"/>
            <a:ext cx="4773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l programa que respondan al OEI de Fortalecimiento de l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10 CuadroTexto"/>
          <p:cNvSpPr/>
          <p:nvPr/>
        </p:nvSpPr>
        <p:spPr>
          <a:xfrm>
            <a:off x="3479040" y="5070600"/>
            <a:ext cx="4793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apacidades institucionales no deberá identificar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1 Imagen" descr="a2e3EAB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2 CuadroTexto"/>
          <p:cNvSpPr/>
          <p:nvPr/>
        </p:nvSpPr>
        <p:spPr>
          <a:xfrm>
            <a:off x="4224240" y="-68400"/>
            <a:ext cx="481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Qué pasos hemos da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3 CuadroTexto"/>
          <p:cNvSpPr/>
          <p:nvPr/>
        </p:nvSpPr>
        <p:spPr>
          <a:xfrm>
            <a:off x="3584160" y="419040"/>
            <a:ext cx="548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en el diseño de program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4 CuadroTexto"/>
          <p:cNvSpPr/>
          <p:nvPr/>
        </p:nvSpPr>
        <p:spPr>
          <a:xfrm>
            <a:off x="2217960" y="1295280"/>
            <a:ext cx="52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1f487c"/>
                </a:solidFill>
                <a:latin typeface="Calibri Bold"/>
                <a:ea typeface="Arial"/>
              </a:rPr>
              <a:t>Revisión de la categoría “Program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5 CuadroTexto"/>
          <p:cNvSpPr/>
          <p:nvPr/>
        </p:nvSpPr>
        <p:spPr>
          <a:xfrm>
            <a:off x="1564920" y="2220840"/>
            <a:ext cx="6829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"/>
              </a:rPr>
              <a:t>Descripción pasos para actualización de programa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6 CuadroTexto"/>
          <p:cNvSpPr/>
          <p:nvPr/>
        </p:nvSpPr>
        <p:spPr>
          <a:xfrm>
            <a:off x="3205080" y="2736720"/>
            <a:ext cx="52437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Relacionar el/ los proyectos con el programa. En la mayoría de casos los proyectos deben redistribuirse en los programas, e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7 CuadroTexto"/>
          <p:cNvSpPr/>
          <p:nvPr/>
        </p:nvSpPr>
        <p:spPr>
          <a:xfrm>
            <a:off x="741600" y="3216240"/>
            <a:ext cx="28508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lacionar proyectos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8 CuadroTexto"/>
          <p:cNvSpPr/>
          <p:nvPr/>
        </p:nvSpPr>
        <p:spPr>
          <a:xfrm>
            <a:off x="3373200" y="3225960"/>
            <a:ext cx="4924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función a lo que persigue el Objetivo Estratégico Instituciona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9 CuadroTexto"/>
          <p:cNvSpPr/>
          <p:nvPr/>
        </p:nvSpPr>
        <p:spPr>
          <a:xfrm>
            <a:off x="1414800" y="3490920"/>
            <a:ext cx="1337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10 CuadroTexto"/>
          <p:cNvSpPr/>
          <p:nvPr/>
        </p:nvSpPr>
        <p:spPr>
          <a:xfrm>
            <a:off x="3205080" y="3635280"/>
            <a:ext cx="4883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8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i los proyectos no se adecúan a los productos que se han definido para el programa, es necesario definir nuevos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11 CuadroTexto"/>
          <p:cNvSpPr/>
          <p:nvPr/>
        </p:nvSpPr>
        <p:spPr>
          <a:xfrm>
            <a:off x="3205080" y="4410000"/>
            <a:ext cx="475956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actividades deberán describir las operaciones que se efectúen.  No deben reflejar la estructura orgánica n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12 CuadroTexto"/>
          <p:cNvSpPr/>
          <p:nvPr/>
        </p:nvSpPr>
        <p:spPr>
          <a:xfrm>
            <a:off x="863640" y="4716360"/>
            <a:ext cx="2579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Revisar actividad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13 CuadroTexto"/>
          <p:cNvSpPr/>
          <p:nvPr/>
        </p:nvSpPr>
        <p:spPr>
          <a:xfrm>
            <a:off x="3378600" y="4898880"/>
            <a:ext cx="5074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geográfica. Deben resultar de la combinación de varios insum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14 CuadroTexto"/>
          <p:cNvSpPr/>
          <p:nvPr/>
        </p:nvSpPr>
        <p:spPr>
          <a:xfrm>
            <a:off x="806760" y="4991040"/>
            <a:ext cx="2655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</a:rPr>
              <a:t>gasto permanente y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15 CuadroTexto"/>
          <p:cNvSpPr/>
          <p:nvPr/>
        </p:nvSpPr>
        <p:spPr>
          <a:xfrm>
            <a:off x="3254760" y="5141880"/>
            <a:ext cx="1457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y no sólo de un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16 CuadroTexto"/>
          <p:cNvSpPr/>
          <p:nvPr/>
        </p:nvSpPr>
        <p:spPr>
          <a:xfrm>
            <a:off x="1344240" y="5265720"/>
            <a:ext cx="14806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 Bold Italic"/>
                <a:ea typeface="Arial"/>
              </a:rPr>
              <a:t>perman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17 CuadroTexto"/>
          <p:cNvSpPr/>
          <p:nvPr/>
        </p:nvSpPr>
        <p:spPr>
          <a:xfrm>
            <a:off x="3368880" y="5518080"/>
            <a:ext cx="4990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ara el caso de proyectos estarán dadas por sus component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CuadroTexto 3"/>
          <p:cNvSpPr/>
          <p:nvPr/>
        </p:nvSpPr>
        <p:spPr>
          <a:xfrm>
            <a:off x="1022400" y="976320"/>
            <a:ext cx="560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1f497d"/>
                </a:solidFill>
                <a:latin typeface="Century Gothic"/>
                <a:ea typeface="Calibri"/>
              </a:rPr>
              <a:t>Proforma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ángulo 26"/>
          <p:cNvSpPr/>
          <p:nvPr/>
        </p:nvSpPr>
        <p:spPr>
          <a:xfrm>
            <a:off x="603360" y="873000"/>
            <a:ext cx="215640" cy="6177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2 Conector recto"/>
          <p:cNvSpPr/>
          <p:nvPr/>
        </p:nvSpPr>
        <p:spPr>
          <a:xfrm>
            <a:off x="604800" y="1490760"/>
            <a:ext cx="7710480" cy="792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3360" y="1709280"/>
            <a:ext cx="7711920" cy="343080"/>
          </a:xfrm>
          <a:prstGeom prst="rect">
            <a:avLst/>
          </a:prstGeom>
          <a:noFill/>
          <a:ln w="6480">
            <a:solidFill>
              <a:srgbClr val="1f497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2000" spc="-1" strike="noStrike">
                <a:solidFill>
                  <a:srgbClr val="1f497d"/>
                </a:solidFill>
                <a:latin typeface="Arial"/>
              </a:rPr>
              <a:t>Registro de la Información en e-SIG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3 Diagrama" descr=""/>
          <p:cNvPicPr/>
          <p:nvPr/>
        </p:nvPicPr>
        <p:blipFill>
          <a:blip r:embed="rId1"/>
          <a:stretch/>
        </p:blipFill>
        <p:spPr>
          <a:xfrm>
            <a:off x="334800" y="2279520"/>
            <a:ext cx="8510760" cy="3030840"/>
          </a:xfrm>
          <a:prstGeom prst="rect">
            <a:avLst/>
          </a:prstGeom>
          <a:ln w="0">
            <a:noFill/>
          </a:ln>
        </p:spPr>
      </p:pic>
      <p:sp>
        <p:nvSpPr>
          <p:cNvPr id="966" name="4 CuadroTexto"/>
          <p:cNvSpPr/>
          <p:nvPr/>
        </p:nvSpPr>
        <p:spPr>
          <a:xfrm>
            <a:off x="568440" y="2552760"/>
            <a:ext cx="45396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8 CuadroTexto"/>
          <p:cNvSpPr/>
          <p:nvPr/>
        </p:nvSpPr>
        <p:spPr>
          <a:xfrm>
            <a:off x="4829040" y="2552760"/>
            <a:ext cx="45432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9 CuadroTexto"/>
          <p:cNvSpPr/>
          <p:nvPr/>
        </p:nvSpPr>
        <p:spPr>
          <a:xfrm>
            <a:off x="568440" y="4130640"/>
            <a:ext cx="45396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10 CuadroTexto"/>
          <p:cNvSpPr/>
          <p:nvPr/>
        </p:nvSpPr>
        <p:spPr>
          <a:xfrm>
            <a:off x="4829040" y="4130640"/>
            <a:ext cx="454320" cy="764280"/>
          </a:xfrm>
          <a:prstGeom prst="rect">
            <a:avLst/>
          </a:prstGeom>
          <a:gradFill rotWithShape="0">
            <a:gsLst>
              <a:gs pos="0">
                <a:srgbClr val="ff932b"/>
              </a:gs>
              <a:gs pos="100000">
                <a:srgbClr val="ffb977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1 Imagen" descr="a2e465A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2 CuadroTexto"/>
          <p:cNvSpPr/>
          <p:nvPr/>
        </p:nvSpPr>
        <p:spPr>
          <a:xfrm>
            <a:off x="4622760" y="174600"/>
            <a:ext cx="439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Resultados esper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3 CuadroTexto"/>
          <p:cNvSpPr/>
          <p:nvPr/>
        </p:nvSpPr>
        <p:spPr>
          <a:xfrm>
            <a:off x="847800" y="1521000"/>
            <a:ext cx="7323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Para la elaboración de la Proforma 2015, se tendrá un listado de programa presupuestarios revisados y validados con la SENPLA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4 CuadroTexto"/>
          <p:cNvSpPr/>
          <p:nvPr/>
        </p:nvSpPr>
        <p:spPr>
          <a:xfrm>
            <a:off x="847800" y="2738520"/>
            <a:ext cx="62132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Se contará con información depurada en el sistema presupues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5 CuadroTexto"/>
          <p:cNvSpPr/>
          <p:nvPr/>
        </p:nvSpPr>
        <p:spPr>
          <a:xfrm>
            <a:off x="741240" y="3654360"/>
            <a:ext cx="5866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Se mejorará la vinculación plan - presupue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6 CuadroTexto"/>
          <p:cNvSpPr/>
          <p:nvPr/>
        </p:nvSpPr>
        <p:spPr>
          <a:xfrm>
            <a:off x="847800" y="4264200"/>
            <a:ext cx="71276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 algn="just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C" sz="2000" spc="-1" strike="noStrike">
                <a:solidFill>
                  <a:srgbClr val="000000"/>
                </a:solidFill>
                <a:latin typeface="Arial Unicode MS"/>
              </a:rPr>
              <a:t>Las entidades podrán tener información presupuestaria que responde a la planific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1 Imagen" descr="a2e480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2 CuadroTexto"/>
          <p:cNvSpPr/>
          <p:nvPr/>
        </p:nvSpPr>
        <p:spPr>
          <a:xfrm>
            <a:off x="5097240" y="111240"/>
            <a:ext cx="3903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1f487c"/>
                </a:solidFill>
                <a:latin typeface="Arial Unicode MS"/>
              </a:rPr>
              <a:t>Próximos paso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3 CuadroTexto"/>
          <p:cNvSpPr/>
          <p:nvPr/>
        </p:nvSpPr>
        <p:spPr>
          <a:xfrm>
            <a:off x="703440" y="1655640"/>
            <a:ext cx="755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Trabajar con la SENPLADES en la metodología para definir programas, productos y resultado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4 CuadroTexto"/>
          <p:cNvSpPr/>
          <p:nvPr/>
        </p:nvSpPr>
        <p:spPr>
          <a:xfrm>
            <a:off x="703440" y="2752560"/>
            <a:ext cx="7805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Realizar evaluación y seguimiento para evaluar impactos de políticas públ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5 CuadroTexto"/>
          <p:cNvSpPr/>
          <p:nvPr/>
        </p:nvSpPr>
        <p:spPr>
          <a:xfrm>
            <a:off x="703440" y="3849840"/>
            <a:ext cx="7181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Desarrollar herramientas informáticas que permitan la vinculación dese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6 CuadroTexto"/>
          <p:cNvSpPr/>
          <p:nvPr/>
        </p:nvSpPr>
        <p:spPr>
          <a:xfrm>
            <a:off x="703440" y="4952880"/>
            <a:ext cx="6538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C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C" sz="2400" spc="-1" strike="noStrike">
                <a:solidFill>
                  <a:srgbClr val="000000"/>
                </a:solidFill>
                <a:latin typeface="Arial Unicode MS"/>
              </a:rPr>
              <a:t>Contar con una base para la programación y formulación de los presupuestos del 2016 en adel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1 Imagen" descr="a2e1903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2 CuadroTexto"/>
          <p:cNvSpPr/>
          <p:nvPr/>
        </p:nvSpPr>
        <p:spPr>
          <a:xfrm>
            <a:off x="6377400" y="111240"/>
            <a:ext cx="263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900" spc="-1" strike="noStrike">
                <a:solidFill>
                  <a:srgbClr val="1f487c"/>
                </a:solidFill>
                <a:latin typeface="Arial Unicode MS"/>
              </a:rPr>
              <a:t>Contenid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4 CuadroTexto"/>
          <p:cNvSpPr/>
          <p:nvPr/>
        </p:nvSpPr>
        <p:spPr>
          <a:xfrm>
            <a:off x="912960" y="1889280"/>
            <a:ext cx="7378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12760" indent="-212760"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seño y evaluación de Programas Presupuest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6 CuadroTexto"/>
          <p:cNvSpPr/>
          <p:nvPr/>
        </p:nvSpPr>
        <p:spPr>
          <a:xfrm>
            <a:off x="1074960" y="3473280"/>
            <a:ext cx="73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1. Presupuesto con base a Programas en el Ecuad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7 CuadroTexto"/>
          <p:cNvSpPr/>
          <p:nvPr/>
        </p:nvSpPr>
        <p:spPr>
          <a:xfrm>
            <a:off x="962280" y="3900600"/>
            <a:ext cx="2134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2. Diagnóstic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8 CuadroTexto"/>
          <p:cNvSpPr/>
          <p:nvPr/>
        </p:nvSpPr>
        <p:spPr>
          <a:xfrm>
            <a:off x="917640" y="4327560"/>
            <a:ext cx="6423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3. Que pasos hemos dado para el Diseño de Program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9 CuadroTexto"/>
          <p:cNvSpPr/>
          <p:nvPr/>
        </p:nvSpPr>
        <p:spPr>
          <a:xfrm>
            <a:off x="917640" y="5181480"/>
            <a:ext cx="3598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4. Resultados esperados 5. Próximos pas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1 Imagen" descr="a2e1AC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3 CuadroTexto"/>
          <p:cNvSpPr/>
          <p:nvPr/>
        </p:nvSpPr>
        <p:spPr>
          <a:xfrm>
            <a:off x="693720" y="1494000"/>
            <a:ext cx="77407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Algunas definiciones de Presupuesto por Resultados, coinciden en indicar que los presupuestos públicos se programarán y ejecutarán con la metodología técnica de presupuestación en base de -</a:t>
            </a:r>
            <a:r>
              <a:rPr b="0" lang="es-EC" sz="2400" spc="-1" strike="noStrike">
                <a:solidFill>
                  <a:srgbClr val="000000"/>
                </a:solidFill>
                <a:latin typeface="Calibri Bold"/>
              </a:rPr>
              <a:t>Programas-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, que serán identificados en estrecha vinculación a la planificación y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4 CuadroTexto"/>
          <p:cNvSpPr/>
          <p:nvPr/>
        </p:nvSpPr>
        <p:spPr>
          <a:xfrm>
            <a:off x="1036800" y="3322800"/>
            <a:ext cx="668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un horizonte plurianual, con el objetivo de mejorar la eficiencia asignativa y productiva del gasto pú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5 CuadroTexto"/>
          <p:cNvSpPr/>
          <p:nvPr/>
        </p:nvSpPr>
        <p:spPr>
          <a:xfrm>
            <a:off x="693720" y="4419720"/>
            <a:ext cx="773892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De ahí que la relación con la planificación se articulará sobre la base de una estructura programática adecuada para cada institución. Para el efecto se utilizarán categorías programáticas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6 CuadroTexto"/>
          <p:cNvSpPr/>
          <p:nvPr/>
        </p:nvSpPr>
        <p:spPr>
          <a:xfrm>
            <a:off x="2603160" y="6091200"/>
            <a:ext cx="396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Programa, Proyecto, Actividad</a:t>
            </a:r>
            <a:r>
              <a:rPr b="0" lang="es-EC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CuadroTexto 3"/>
          <p:cNvSpPr/>
          <p:nvPr/>
        </p:nvSpPr>
        <p:spPr>
          <a:xfrm>
            <a:off x="1022400" y="876600"/>
            <a:ext cx="56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bacc6"/>
                </a:solidFill>
                <a:latin typeface="Century Gothic"/>
                <a:ea typeface="Calibri"/>
              </a:rPr>
              <a:t>Proforma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ángulo 26"/>
          <p:cNvSpPr/>
          <p:nvPr/>
        </p:nvSpPr>
        <p:spPr>
          <a:xfrm>
            <a:off x="603360" y="743040"/>
            <a:ext cx="215640" cy="617400"/>
          </a:xfrm>
          <a:prstGeom prst="rect">
            <a:avLst/>
          </a:prstGeom>
          <a:solidFill>
            <a:srgbClr val="4bacc6"/>
          </a:solidFill>
          <a:ln w="38160">
            <a:solidFill>
              <a:srgbClr val="4bacc6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2 Conector recto"/>
          <p:cNvSpPr/>
          <p:nvPr/>
        </p:nvSpPr>
        <p:spPr>
          <a:xfrm>
            <a:off x="604800" y="1360440"/>
            <a:ext cx="7710480" cy="792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3360" y="1423800"/>
            <a:ext cx="7711920" cy="571320"/>
          </a:xfrm>
          <a:prstGeom prst="rect">
            <a:avLst/>
          </a:prstGeom>
          <a:solidFill>
            <a:srgbClr val="ffffff"/>
          </a:solidFill>
          <a:ln w="6480">
            <a:solidFill>
              <a:srgbClr val="4bacc6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4bacc6"/>
                </a:solidFill>
                <a:latin typeface="Arial"/>
              </a:rPr>
              <a:t>Registro de información de programas y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600" spc="-1" strike="noStrike">
                <a:solidFill>
                  <a:srgbClr val="4bacc6"/>
                </a:solidFill>
                <a:latin typeface="Arial"/>
              </a:rPr>
              <a:t>vinculación en las herramientas infor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https://encrypted-tbn0.gstatic.com/images?q=tbn:ANd9GcSihgXXhuWNovyc8zGBdZHhOYLU3OcXasGfCTZ0ZrO7PTDKq-6G"/>
          <p:cNvPicPr/>
          <p:nvPr/>
        </p:nvPicPr>
        <p:blipFill>
          <a:blip r:embed="rId1"/>
          <a:stretch/>
        </p:blipFill>
        <p:spPr>
          <a:xfrm>
            <a:off x="1530360" y="2090880"/>
            <a:ext cx="2127240" cy="1347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" descr=""/>
          <p:cNvPicPr/>
          <p:nvPr/>
        </p:nvPicPr>
        <p:blipFill>
          <a:blip r:embed="rId2"/>
          <a:stretch/>
        </p:blipFill>
        <p:spPr>
          <a:xfrm>
            <a:off x="5797440" y="2073240"/>
            <a:ext cx="2200320" cy="1438200"/>
          </a:xfrm>
          <a:prstGeom prst="rect">
            <a:avLst/>
          </a:prstGeom>
          <a:ln w="0">
            <a:noFill/>
          </a:ln>
        </p:spPr>
      </p:pic>
      <p:sp>
        <p:nvSpPr>
          <p:cNvPr id="799" name="9 Rectángulo"/>
          <p:cNvSpPr/>
          <p:nvPr/>
        </p:nvSpPr>
        <p:spPr>
          <a:xfrm>
            <a:off x="527040" y="2870280"/>
            <a:ext cx="2430360" cy="554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NBV 2013-2017 y demás instrumentos de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10 Rectángulo"/>
          <p:cNvSpPr/>
          <p:nvPr/>
        </p:nvSpPr>
        <p:spPr>
          <a:xfrm>
            <a:off x="700200" y="3503520"/>
            <a:ext cx="1987560" cy="5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 Estratégi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11 CuadroTexto"/>
          <p:cNvSpPr/>
          <p:nvPr/>
        </p:nvSpPr>
        <p:spPr>
          <a:xfrm>
            <a:off x="2957400" y="361476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Indicadore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C" sz="1400" spc="-1" strike="noStrike">
                <a:solidFill>
                  <a:srgbClr val="1f497d"/>
                </a:solidFill>
                <a:latin typeface="Calibri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12 CuadroTexto"/>
          <p:cNvSpPr/>
          <p:nvPr/>
        </p:nvSpPr>
        <p:spPr>
          <a:xfrm>
            <a:off x="2957400" y="4384800"/>
            <a:ext cx="104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Resulta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Produc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C" sz="1400" spc="-1" strike="noStrike">
                <a:solidFill>
                  <a:srgbClr val="953735"/>
                </a:solidFill>
                <a:latin typeface="Calibri"/>
              </a:rPr>
              <a:t>(opc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13 Rectángulo"/>
          <p:cNvSpPr/>
          <p:nvPr/>
        </p:nvSpPr>
        <p:spPr>
          <a:xfrm>
            <a:off x="2527200" y="5326200"/>
            <a:ext cx="1428840" cy="46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15 Elipse"/>
          <p:cNvSpPr/>
          <p:nvPr/>
        </p:nvSpPr>
        <p:spPr>
          <a:xfrm>
            <a:off x="587520" y="4270320"/>
            <a:ext cx="3879720" cy="1003320"/>
          </a:xfrm>
          <a:prstGeom prst="ellipse">
            <a:avLst/>
          </a:prstGeom>
          <a:noFill/>
          <a:ln w="9360">
            <a:solidFill>
              <a:srgbClr val="c00000"/>
            </a:solidFill>
            <a:prstDash val="lg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16 Flecha doblada hacia arriba"/>
          <p:cNvSpPr/>
          <p:nvPr/>
        </p:nvSpPr>
        <p:spPr>
          <a:xfrm flipH="1">
            <a:off x="2241000" y="4923000"/>
            <a:ext cx="298440" cy="701640"/>
          </a:xfrm>
          <a:custGeom>
            <a:avLst/>
            <a:gdLst/>
            <a:ahLst/>
            <a:rect l="l" t="t" r="r" b="b"/>
            <a:pathLst>
              <a:path w="298284" h="700659">
                <a:moveTo>
                  <a:pt x="0" y="626088"/>
                </a:moveTo>
                <a:lnTo>
                  <a:pt x="186428" y="626088"/>
                </a:lnTo>
                <a:lnTo>
                  <a:pt x="186428" y="74571"/>
                </a:lnTo>
                <a:lnTo>
                  <a:pt x="149142" y="74571"/>
                </a:lnTo>
                <a:lnTo>
                  <a:pt x="223713" y="0"/>
                </a:lnTo>
                <a:lnTo>
                  <a:pt x="298284" y="74571"/>
                </a:lnTo>
                <a:lnTo>
                  <a:pt x="260999" y="74571"/>
                </a:lnTo>
                <a:lnTo>
                  <a:pt x="260999" y="700659"/>
                </a:lnTo>
                <a:lnTo>
                  <a:pt x="0" y="700659"/>
                </a:lnTo>
                <a:lnTo>
                  <a:pt x="0" y="626088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17 Flecha doblada hacia arriba"/>
          <p:cNvSpPr/>
          <p:nvPr/>
        </p:nvSpPr>
        <p:spPr>
          <a:xfrm flipH="1">
            <a:off x="1212120" y="4251240"/>
            <a:ext cx="320760" cy="587520"/>
          </a:xfrm>
          <a:custGeom>
            <a:avLst/>
            <a:gdLst/>
            <a:ahLst/>
            <a:rect l="l" t="t" r="r" b="b"/>
            <a:pathLst>
              <a:path w="321666" h="587453">
                <a:moveTo>
                  <a:pt x="0" y="507037"/>
                </a:moveTo>
                <a:lnTo>
                  <a:pt x="201041" y="507037"/>
                </a:lnTo>
                <a:lnTo>
                  <a:pt x="201041" y="80417"/>
                </a:lnTo>
                <a:lnTo>
                  <a:pt x="160833" y="80417"/>
                </a:lnTo>
                <a:lnTo>
                  <a:pt x="241250" y="0"/>
                </a:lnTo>
                <a:lnTo>
                  <a:pt x="321666" y="80417"/>
                </a:lnTo>
                <a:lnTo>
                  <a:pt x="281458" y="80417"/>
                </a:lnTo>
                <a:lnTo>
                  <a:pt x="281458" y="587453"/>
                </a:lnTo>
                <a:lnTo>
                  <a:pt x="0" y="587453"/>
                </a:lnTo>
                <a:lnTo>
                  <a:pt x="0" y="507037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19 Conector recto"/>
          <p:cNvSpPr/>
          <p:nvPr/>
        </p:nvSpPr>
        <p:spPr>
          <a:xfrm>
            <a:off x="4842000" y="2146320"/>
            <a:ext cx="0" cy="4248000"/>
          </a:xfrm>
          <a:prstGeom prst="line">
            <a:avLst/>
          </a:prstGeom>
          <a:ln w="25560">
            <a:solidFill>
              <a:srgbClr val="4f81b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20 Rectángulo"/>
          <p:cNvSpPr/>
          <p:nvPr/>
        </p:nvSpPr>
        <p:spPr>
          <a:xfrm>
            <a:off x="5391000" y="3519360"/>
            <a:ext cx="2176560" cy="51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 Estratégic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21 Rectángulo"/>
          <p:cNvSpPr/>
          <p:nvPr/>
        </p:nvSpPr>
        <p:spPr>
          <a:xfrm>
            <a:off x="6278400" y="4702320"/>
            <a:ext cx="1330560" cy="3999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rograma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22 Rectángulo"/>
          <p:cNvSpPr/>
          <p:nvPr/>
        </p:nvSpPr>
        <p:spPr>
          <a:xfrm>
            <a:off x="6732720" y="5245200"/>
            <a:ext cx="1087200" cy="379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23 Flecha doblada hacia arriba"/>
          <p:cNvSpPr/>
          <p:nvPr/>
        </p:nvSpPr>
        <p:spPr>
          <a:xfrm flipH="1">
            <a:off x="6349320" y="5173560"/>
            <a:ext cx="276120" cy="270000"/>
          </a:xfrm>
          <a:custGeom>
            <a:avLst/>
            <a:gdLst/>
            <a:ahLst/>
            <a:rect l="l" t="t" r="r" b="b"/>
            <a:pathLst>
              <a:path w="275555" h="269522">
                <a:moveTo>
                  <a:pt x="0" y="202142"/>
                </a:moveTo>
                <a:lnTo>
                  <a:pt x="174484" y="202142"/>
                </a:lnTo>
                <a:lnTo>
                  <a:pt x="174484" y="67381"/>
                </a:lnTo>
                <a:lnTo>
                  <a:pt x="140794" y="67381"/>
                </a:lnTo>
                <a:lnTo>
                  <a:pt x="208175" y="0"/>
                </a:lnTo>
                <a:lnTo>
                  <a:pt x="275555" y="67381"/>
                </a:lnTo>
                <a:lnTo>
                  <a:pt x="241865" y="67381"/>
                </a:lnTo>
                <a:lnTo>
                  <a:pt x="241865" y="269522"/>
                </a:lnTo>
                <a:lnTo>
                  <a:pt x="0" y="269522"/>
                </a:lnTo>
                <a:lnTo>
                  <a:pt x="0" y="20214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24 Flecha doblada hacia arriba"/>
          <p:cNvSpPr/>
          <p:nvPr/>
        </p:nvSpPr>
        <p:spPr>
          <a:xfrm flipH="1">
            <a:off x="5877000" y="4651200"/>
            <a:ext cx="296640" cy="271800"/>
          </a:xfrm>
          <a:custGeom>
            <a:avLst/>
            <a:gdLst/>
            <a:ahLst/>
            <a:rect l="l" t="t" r="r" b="b"/>
            <a:pathLst>
              <a:path w="297454" h="271871">
                <a:moveTo>
                  <a:pt x="0" y="203903"/>
                </a:moveTo>
                <a:lnTo>
                  <a:pt x="195502" y="203903"/>
                </a:lnTo>
                <a:lnTo>
                  <a:pt x="195502" y="67968"/>
                </a:lnTo>
                <a:lnTo>
                  <a:pt x="161519" y="67968"/>
                </a:lnTo>
                <a:lnTo>
                  <a:pt x="229486" y="0"/>
                </a:lnTo>
                <a:lnTo>
                  <a:pt x="297454" y="67968"/>
                </a:lnTo>
                <a:lnTo>
                  <a:pt x="263470" y="67968"/>
                </a:lnTo>
                <a:lnTo>
                  <a:pt x="263470" y="271871"/>
                </a:lnTo>
                <a:lnTo>
                  <a:pt x="0" y="271871"/>
                </a:lnTo>
                <a:lnTo>
                  <a:pt x="0" y="203903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28 Rectángulo"/>
          <p:cNvSpPr/>
          <p:nvPr/>
        </p:nvSpPr>
        <p:spPr>
          <a:xfrm>
            <a:off x="1552680" y="4545000"/>
            <a:ext cx="1330200" cy="378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Programa “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29 Conector recto de flecha"/>
          <p:cNvCxnSpPr>
            <a:stCxn id="800" idx="3"/>
            <a:endCxn id="801" idx="1"/>
          </p:cNvCxnSpPr>
          <p:nvPr/>
        </p:nvCxnSpPr>
        <p:spPr>
          <a:xfrm>
            <a:off x="2687400" y="3768840"/>
            <a:ext cx="2703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5" name="25 Rectángulo"/>
          <p:cNvSpPr/>
          <p:nvPr/>
        </p:nvSpPr>
        <p:spPr>
          <a:xfrm>
            <a:off x="5086440" y="2911320"/>
            <a:ext cx="2174760" cy="51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Misión, 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30 Rectángulo"/>
          <p:cNvSpPr/>
          <p:nvPr/>
        </p:nvSpPr>
        <p:spPr>
          <a:xfrm>
            <a:off x="5643720" y="4138560"/>
            <a:ext cx="2176200" cy="512640"/>
          </a:xfrm>
          <a:prstGeom prst="rect">
            <a:avLst/>
          </a:prstGeom>
          <a:solidFill>
            <a:srgbClr val="948a54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Calibri"/>
              </a:rPr>
              <a:t>Objetivos Ope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31 Rectángulo"/>
          <p:cNvSpPr/>
          <p:nvPr/>
        </p:nvSpPr>
        <p:spPr>
          <a:xfrm>
            <a:off x="7881840" y="5262480"/>
            <a:ext cx="1138320" cy="362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1 Imagen" descr="a2e1CE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3 CuadroTexto"/>
          <p:cNvSpPr/>
          <p:nvPr/>
        </p:nvSpPr>
        <p:spPr>
          <a:xfrm>
            <a:off x="710640" y="1488960"/>
            <a:ext cx="780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Las categorías programáticas tienen los siguientes propósi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4 CuadroTexto"/>
          <p:cNvSpPr/>
          <p:nvPr/>
        </p:nvSpPr>
        <p:spPr>
          <a:xfrm>
            <a:off x="1386000" y="2624040"/>
            <a:ext cx="1849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Organizar las acc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5 CuadroTexto"/>
          <p:cNvSpPr/>
          <p:nvPr/>
        </p:nvSpPr>
        <p:spPr>
          <a:xfrm>
            <a:off x="5780160" y="2624040"/>
            <a:ext cx="2808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Asignación de recursos financier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6 CuadroTexto"/>
          <p:cNvSpPr/>
          <p:nvPr/>
        </p:nvSpPr>
        <p:spPr>
          <a:xfrm>
            <a:off x="1415880" y="2847960"/>
            <a:ext cx="2605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stitucionales de forma que l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7 CuadroTexto"/>
          <p:cNvSpPr/>
          <p:nvPr/>
        </p:nvSpPr>
        <p:spPr>
          <a:xfrm>
            <a:off x="5768280" y="2847960"/>
            <a:ext cx="23950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ara la ejecución de acc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8 CuadroTexto"/>
          <p:cNvSpPr/>
          <p:nvPr/>
        </p:nvSpPr>
        <p:spPr>
          <a:xfrm>
            <a:off x="1419840" y="3071880"/>
            <a:ext cx="2910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recursos utilizados tengan una cla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9 CuadroTexto"/>
          <p:cNvSpPr/>
          <p:nvPr/>
        </p:nvSpPr>
        <p:spPr>
          <a:xfrm>
            <a:off x="5778720" y="3071880"/>
            <a:ext cx="2774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esupuestarias de adquisición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10 CuadroTexto"/>
          <p:cNvSpPr/>
          <p:nvPr/>
        </p:nvSpPr>
        <p:spPr>
          <a:xfrm>
            <a:off x="1390680" y="3294000"/>
            <a:ext cx="196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xpresión en product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11 CuadroTexto"/>
          <p:cNvSpPr/>
          <p:nvPr/>
        </p:nvSpPr>
        <p:spPr>
          <a:xfrm>
            <a:off x="5782680" y="3294000"/>
            <a:ext cx="2972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sumos que luego se transformará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12 CuadroTexto"/>
          <p:cNvSpPr/>
          <p:nvPr/>
        </p:nvSpPr>
        <p:spPr>
          <a:xfrm>
            <a:off x="1366920" y="3517920"/>
            <a:ext cx="1200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uantificab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13 CuadroTexto"/>
          <p:cNvSpPr/>
          <p:nvPr/>
        </p:nvSpPr>
        <p:spPr>
          <a:xfrm>
            <a:off x="5724000" y="3517920"/>
            <a:ext cx="1209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 product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14 CuadroTexto"/>
          <p:cNvSpPr/>
          <p:nvPr/>
        </p:nvSpPr>
        <p:spPr>
          <a:xfrm>
            <a:off x="5778000" y="4176720"/>
            <a:ext cx="2777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Facilitar la adopción de decision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15 CuadroTexto"/>
          <p:cNvSpPr/>
          <p:nvPr/>
        </p:nvSpPr>
        <p:spPr>
          <a:xfrm>
            <a:off x="5775480" y="4400640"/>
            <a:ext cx="263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 asignación de financiamien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16 CuadroTexto"/>
          <p:cNvSpPr/>
          <p:nvPr/>
        </p:nvSpPr>
        <p:spPr>
          <a:xfrm>
            <a:off x="1420200" y="4511520"/>
            <a:ext cx="28065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Ordenamiento y direccionalidad 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17 CuadroTexto"/>
          <p:cNvSpPr/>
          <p:nvPr/>
        </p:nvSpPr>
        <p:spPr>
          <a:xfrm>
            <a:off x="5762520" y="4624560"/>
            <a:ext cx="2268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tre objetivos alternativ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18 CuadroTexto"/>
          <p:cNvSpPr/>
          <p:nvPr/>
        </p:nvSpPr>
        <p:spPr>
          <a:xfrm>
            <a:off x="1417320" y="4735440"/>
            <a:ext cx="2750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gasto en su clasificación funcio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19 CuadroTexto"/>
          <p:cNvSpPr/>
          <p:nvPr/>
        </p:nvSpPr>
        <p:spPr>
          <a:xfrm>
            <a:off x="5759280" y="4846680"/>
            <a:ext cx="2294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mplícitos en cada categorí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20 CuadroTexto"/>
          <p:cNvSpPr/>
          <p:nvPr/>
        </p:nvSpPr>
        <p:spPr>
          <a:xfrm>
            <a:off x="5720760" y="5070600"/>
            <a:ext cx="1221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rogramátic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1 Imagen" descr="a2e230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9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3 CuadroTexto"/>
          <p:cNvSpPr/>
          <p:nvPr/>
        </p:nvSpPr>
        <p:spPr>
          <a:xfrm>
            <a:off x="797040" y="1219320"/>
            <a:ext cx="7643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L Ministerio de Finanzas del Ecuador y la SENPL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4 CuadroTexto"/>
          <p:cNvSpPr/>
          <p:nvPr/>
        </p:nvSpPr>
        <p:spPr>
          <a:xfrm>
            <a:off x="631800" y="1646280"/>
            <a:ext cx="79376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hemos reflexionado acerca de que ir hacia un Presupuesto por Resultados y sabemos que esto es u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5 CuadroTexto"/>
          <p:cNvSpPr/>
          <p:nvPr/>
        </p:nvSpPr>
        <p:spPr>
          <a:xfrm>
            <a:off x="659880" y="2500200"/>
            <a:ext cx="1370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proceso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6 CuadroTexto"/>
          <p:cNvSpPr/>
          <p:nvPr/>
        </p:nvSpPr>
        <p:spPr>
          <a:xfrm>
            <a:off x="685080" y="3354480"/>
            <a:ext cx="3044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mediano plazo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7 CuadroTexto"/>
          <p:cNvSpPr/>
          <p:nvPr/>
        </p:nvSpPr>
        <p:spPr>
          <a:xfrm>
            <a:off x="717120" y="3781440"/>
            <a:ext cx="4394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implementación gradual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8 CuadroTexto"/>
          <p:cNvSpPr/>
          <p:nvPr/>
        </p:nvSpPr>
        <p:spPr>
          <a:xfrm>
            <a:off x="631800" y="4208400"/>
            <a:ext cx="70628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requiere la reflexión de varios expertos e implica una multiplicidad de enfoques sin una técnica específica, y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9 CuadroTexto"/>
          <p:cNvSpPr/>
          <p:nvPr/>
        </p:nvSpPr>
        <p:spPr>
          <a:xfrm>
            <a:off x="631800" y="5487840"/>
            <a:ext cx="73328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es un proceso que debe adaptarse a las capacidades, cultura y prioridades de cada paí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1 Imagen" descr="a2e251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3 CuadroTexto"/>
          <p:cNvSpPr/>
          <p:nvPr/>
        </p:nvSpPr>
        <p:spPr>
          <a:xfrm>
            <a:off x="457560" y="1459080"/>
            <a:ext cx="3147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f81bc"/>
                </a:solidFill>
                <a:latin typeface="Calibri Bold"/>
              </a:rPr>
              <a:t>La Planif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4 CuadroTexto"/>
          <p:cNvSpPr/>
          <p:nvPr/>
        </p:nvSpPr>
        <p:spPr>
          <a:xfrm>
            <a:off x="524520" y="2316240"/>
            <a:ext cx="1835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Cuenta co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5 CuadroTexto"/>
          <p:cNvSpPr/>
          <p:nvPr/>
        </p:nvSpPr>
        <p:spPr>
          <a:xfrm>
            <a:off x="632520" y="3170160"/>
            <a:ext cx="668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Una  metodología  para  la  construcción  de  l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6 CuadroTexto"/>
          <p:cNvSpPr/>
          <p:nvPr/>
        </p:nvSpPr>
        <p:spPr>
          <a:xfrm>
            <a:off x="649800" y="3595680"/>
            <a:ext cx="7698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planificación nacional y de la planificación estratégica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7 CuadroTexto"/>
          <p:cNvSpPr/>
          <p:nvPr/>
        </p:nvSpPr>
        <p:spPr>
          <a:xfrm>
            <a:off x="487440" y="4022640"/>
            <a:ext cx="806292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2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que va de los grandes objetivos nacionales para el Buen Vivir, con políticas, indicadores y metas hasta los Objetivos  Estratégicos  Institucionales  que  de  igual manera llegan a identificar indicadores y metas para los próximos 4 años de gobiern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1 Imagen" descr="a2e26B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2 CuadroTexto"/>
          <p:cNvSpPr/>
          <p:nvPr/>
        </p:nvSpPr>
        <p:spPr>
          <a:xfrm>
            <a:off x="2127240" y="174600"/>
            <a:ext cx="696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Presupuesto con base 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3 CuadroTexto"/>
          <p:cNvSpPr/>
          <p:nvPr/>
        </p:nvSpPr>
        <p:spPr>
          <a:xfrm>
            <a:off x="464040" y="1459080"/>
            <a:ext cx="304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f81bc"/>
                </a:solidFill>
                <a:latin typeface="Calibri Bold"/>
              </a:rPr>
              <a:t>El Presupues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4 CuadroTexto"/>
          <p:cNvSpPr/>
          <p:nvPr/>
        </p:nvSpPr>
        <p:spPr>
          <a:xfrm>
            <a:off x="487440" y="2316240"/>
            <a:ext cx="8062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La asignación presupuestaria se realiza a través de la denominada “estructura programática” que no es más que el encadenamiento de varias categorías a travé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5 CuadroTexto"/>
          <p:cNvSpPr/>
          <p:nvPr/>
        </p:nvSpPr>
        <p:spPr>
          <a:xfrm>
            <a:off x="649080" y="3595680"/>
            <a:ext cx="7623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de las cuales se asigna el presupuesto, categorías q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6 CuadroTexto"/>
          <p:cNvSpPr/>
          <p:nvPr/>
        </p:nvSpPr>
        <p:spPr>
          <a:xfrm>
            <a:off x="487440" y="4022640"/>
            <a:ext cx="80611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1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stán  relacionadas  con  el  modelo  de  planificación institucional y que - deberían estar - alineadas a la planificación estratégica instituciona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7 CuadroTexto"/>
          <p:cNvSpPr/>
          <p:nvPr/>
        </p:nvSpPr>
        <p:spPr>
          <a:xfrm>
            <a:off x="487440" y="5730840"/>
            <a:ext cx="80611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700" spc="-1" strike="noStrike">
                <a:solidFill>
                  <a:srgbClr val="000000"/>
                </a:solidFill>
                <a:latin typeface="Calibri"/>
              </a:rPr>
              <a:t>Esta   estructura   contiene   programas,   proyectos, actividades, ítem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1 Imagen" descr="a2e286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2" name="2 CuadroTexto"/>
          <p:cNvSpPr/>
          <p:nvPr/>
        </p:nvSpPr>
        <p:spPr>
          <a:xfrm>
            <a:off x="1648440" y="-68400"/>
            <a:ext cx="7477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Diagnóstico del Presupuesto con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3 CuadroTexto"/>
          <p:cNvSpPr/>
          <p:nvPr/>
        </p:nvSpPr>
        <p:spPr>
          <a:xfrm>
            <a:off x="6353640" y="419040"/>
            <a:ext cx="264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1f487c"/>
                </a:solidFill>
                <a:latin typeface="Arial Unicode MS"/>
              </a:rPr>
              <a:t>a 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4 CuadroTexto"/>
          <p:cNvSpPr/>
          <p:nvPr/>
        </p:nvSpPr>
        <p:spPr>
          <a:xfrm>
            <a:off x="487440" y="1225440"/>
            <a:ext cx="8356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Ecuador, lleva 8 años presupuestando en función del Plan Nacional de Desarr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5 CuadroTexto"/>
          <p:cNvSpPr/>
          <p:nvPr/>
        </p:nvSpPr>
        <p:spPr>
          <a:xfrm>
            <a:off x="487440" y="2324160"/>
            <a:ext cx="8262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En la etapa de programación y formulación existe una articulación total de la planificación con el presupuesto, sin embargo, por la dinámica existente, esta vinculación se disminuye en la ejec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6 CuadroTexto"/>
          <p:cNvSpPr/>
          <p:nvPr/>
        </p:nvSpPr>
        <p:spPr>
          <a:xfrm>
            <a:off x="492480" y="3421080"/>
            <a:ext cx="209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7 CuadroTexto"/>
          <p:cNvSpPr/>
          <p:nvPr/>
        </p:nvSpPr>
        <p:spPr>
          <a:xfrm>
            <a:off x="487440" y="4152960"/>
            <a:ext cx="74134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Con el fin de avanzar hacia el PpP, se ha identificado que es necesario revisar la categoría de </a:t>
            </a:r>
            <a:r>
              <a:rPr b="0" lang="es-EC" sz="2400" spc="-1" strike="noStrike">
                <a:solidFill>
                  <a:srgbClr val="000000"/>
                </a:solidFill>
                <a:latin typeface="Calibri Bold"/>
              </a:rPr>
              <a:t>Programa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, buscando una vinculación durante todo el ciclo presupuestario co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8 CuadroTexto"/>
          <p:cNvSpPr/>
          <p:nvPr/>
        </p:nvSpPr>
        <p:spPr>
          <a:xfrm>
            <a:off x="487440" y="5249880"/>
            <a:ext cx="7522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0000"/>
                </a:solidFill>
                <a:latin typeface="Calibri"/>
                <a:ea typeface="Arial"/>
              </a:rPr>
              <a:t>planificación y definir los productos (bienes y servicios ) que generarían y los resultados a alcanz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23:47:07Z</dcterms:created>
  <dc:creator>mcondor</dc:creator>
  <dc:description/>
  <dc:language>en-US</dc:language>
  <cp:lastModifiedBy>Soria Fernando</cp:lastModifiedBy>
  <dcterms:modified xsi:type="dcterms:W3CDTF">2014-09-27T00:11:32Z</dcterms:modified>
  <cp:revision>3</cp:revision>
  <dc:subject/>
  <dc:title>Diapositiva 1</dc:title>
</cp:coreProperties>
</file>