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E1DF-E896-4E1B-A90E-4F468EFE99F6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vincularla con la planificación a través de los OEI´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depurar los programas existentes (errores ortográficos y de bajo o nulo nivel de ejecució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depurar proyectos y actividades que tiene igual descrip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iste un porcentaje reducido de programas que representa monto importante del gas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contar con información mejor organiz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E47-57EE-48E7-B831-C15C0D31BC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FA2-6C4F-4007-91F1-62C987CA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64B-C2DD-4009-B3DB-6F486919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E12-4D82-4519-BE32-BB1AB13D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935-871B-48CB-A1EC-D3CA2C7C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DCE83F-C4BC-43FD-BB2E-BCE5AB8E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350168-76D9-4B5C-B9F2-B493E47E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FEF78-D10F-44F7-AE0B-9E76EAF3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9D3DD1-E54B-4A9B-B50D-77680D2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AF1045-92AB-466C-B6B8-D575F43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369287-A5DD-4464-8981-9FA3244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BA542D-5653-4D2A-9EE3-057155A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6FAA56-2C05-442F-BDB5-032E6AE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9F1857-F8B3-4857-8A5A-81CC90C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DB2BE4-9B29-4C5B-A546-87E4F368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EE75D1-7017-4578-B73F-BFFCE411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8C48B8-7BAA-46A4-8B76-1E1C80E9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16D-BE1A-4647-90B4-C717F03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13F-A7E3-410E-8549-25051B73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08C-3D01-45AB-83E1-E127EC7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E18-3A7A-4FCF-8223-45A7FCD0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C29-8AC3-4531-AB42-B76B4ABE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95A-17F3-4EAD-B652-1C89927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4FC-E791-4DF7-B6B0-B1B054A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D3F9-AB7A-4D0E-9DF8-E1AAE4F2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5509-2BD8-4803-8CE9-89B6B8B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247B-C5B7-48EA-9421-0FF06FAA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4AC3-4032-4F4A-AE2A-5F81342B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EE7B-2D21-42F9-85F0-6E9E6F29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1E7-A833-408C-9E2E-6DFCCFF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189F-FBA8-46A9-8701-1456AE0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FC09-4AE9-420E-8A56-1219334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2AD4-E4AC-41C6-BE38-1FE09F2F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412C-BF1A-4367-A3E2-C6E47096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0856-9924-4BD5-9AF1-7A617748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4FF5-0004-4FF3-AAB5-756D4E1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6768-C752-4522-8FCE-8F192AC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8DC-7B52-4005-B073-32ACEB1E804C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5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466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9F0-0C35-45E6-9EBF-AD47E87D5A2F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2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0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18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3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41C-D058-465C-9F33-6AF0E1691C11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4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6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70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2E18-C22D-4DFB-B37F-55C7D009A08E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1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22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27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8E7-181A-48F3-8F52-9B0C02DD7765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28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6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2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3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31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B997C-5CF7-4967-8B8E-F6744F2353C9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71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B1C4B-6E86-4945-AA27-30C93C13FC94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3B5C7-26BA-43E4-86ED-04BBE0786D8E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97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4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8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AE2-0827-4852-A8E6-36379569EF04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9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9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06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136B-D6D1-4B7E-B6C3-5971F8560F23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24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58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594-46D6-4EC0-A13E-6B93DD7CDBDD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0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10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2B1-C604-4953-89E1-45CA17EE4A49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5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0B84E-64F6-405B-99CC-E513B5473B01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0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1 Imagen" descr="a2e15C8.t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2 CuadroTexto"/>
          <p:cNvSpPr/>
          <p:nvPr/>
        </p:nvSpPr>
        <p:spPr>
          <a:xfrm>
            <a:off x="2237040" y="1335240"/>
            <a:ext cx="514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I REUNIÓN DE LA RED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3 CuadroTexto"/>
          <p:cNvSpPr/>
          <p:nvPr/>
        </p:nvSpPr>
        <p:spPr>
          <a:xfrm>
            <a:off x="1035360" y="1822320"/>
            <a:ext cx="74545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BEROAMERICANA DE RESPONS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DE POLITICA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5 CuadroTexto"/>
          <p:cNvSpPr/>
          <p:nvPr/>
        </p:nvSpPr>
        <p:spPr>
          <a:xfrm>
            <a:off x="3750480" y="3645000"/>
            <a:ext cx="1882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MADRID 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6 CuadroTexto"/>
          <p:cNvSpPr/>
          <p:nvPr/>
        </p:nvSpPr>
        <p:spPr>
          <a:xfrm>
            <a:off x="2412360" y="4581360"/>
            <a:ext cx="466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Fernando Soria Balse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7 CuadroTexto"/>
          <p:cNvSpPr/>
          <p:nvPr/>
        </p:nvSpPr>
        <p:spPr>
          <a:xfrm>
            <a:off x="4655880" y="5556240"/>
            <a:ext cx="19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CuadroTexto 3"/>
          <p:cNvSpPr/>
          <p:nvPr/>
        </p:nvSpPr>
        <p:spPr>
          <a:xfrm>
            <a:off x="1022400" y="77868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501120" y="1945800"/>
            <a:ext cx="37846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8 Rectángulo"/>
          <p:cNvSpPr/>
          <p:nvPr/>
        </p:nvSpPr>
        <p:spPr>
          <a:xfrm>
            <a:off x="501480" y="2463840"/>
            <a:ext cx="378468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9 Rectángulo"/>
          <p:cNvSpPr/>
          <p:nvPr/>
        </p:nvSpPr>
        <p:spPr>
          <a:xfrm>
            <a:off x="4459320" y="2463840"/>
            <a:ext cx="385596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2 Subtítulo"/>
          <p:cNvSpPr/>
          <p:nvPr/>
        </p:nvSpPr>
        <p:spPr>
          <a:xfrm>
            <a:off x="711360" y="2584440"/>
            <a:ext cx="3435120" cy="3649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. 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Se evaluó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spectos positiv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Debilidad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lementos del Marco Conceptual Plant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2. A qué Resp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Objetivos y Políticas Nac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gendas de Política Intersectorial, - Planificación Institucional (OEI´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structura Progra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2 Subtítulo"/>
          <p:cNvSpPr/>
          <p:nvPr/>
        </p:nvSpPr>
        <p:spPr>
          <a:xfrm>
            <a:off x="4676760" y="2584440"/>
            <a:ext cx="3375000" cy="36496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3. Marco Conceptual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OE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yec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Activida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duct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nsu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Resul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Efecto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mpacto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2 Subtítulo"/>
          <p:cNvSpPr/>
          <p:nvPr/>
        </p:nvSpPr>
        <p:spPr>
          <a:xfrm>
            <a:off x="4459320" y="1946160"/>
            <a:ext cx="38764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Marco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18 Imagen" descr="http://actualicese.com/_ig/img/fotos/reunionsocios.jpg"/>
          <p:cNvPicPr/>
          <p:nvPr/>
        </p:nvPicPr>
        <p:blipFill>
          <a:blip r:embed="rId1"/>
          <a:stretch/>
        </p:blipFill>
        <p:spPr>
          <a:xfrm>
            <a:off x="5950080" y="3274920"/>
            <a:ext cx="2385720" cy="2211480"/>
          </a:xfrm>
          <a:prstGeom prst="rect">
            <a:avLst/>
          </a:prstGeom>
          <a:ln w="0">
            <a:noFill/>
          </a:ln>
        </p:spPr>
      </p:pic>
      <p:sp>
        <p:nvSpPr>
          <p:cNvPr id="879" name="2 Subtítulo"/>
          <p:cNvSpPr/>
          <p:nvPr/>
        </p:nvSpPr>
        <p:spPr>
          <a:xfrm>
            <a:off x="603360" y="147312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Por que revisar la Estructura Progra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1 Imagen" descr="a2e32E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4 CuadroTexto"/>
          <p:cNvSpPr/>
          <p:nvPr/>
        </p:nvSpPr>
        <p:spPr>
          <a:xfrm>
            <a:off x="2509200" y="1704960"/>
            <a:ext cx="197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ión de insu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5 CuadroTexto"/>
          <p:cNvSpPr/>
          <p:nvPr/>
        </p:nvSpPr>
        <p:spPr>
          <a:xfrm>
            <a:off x="1283760" y="16732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6 CuadroTexto"/>
          <p:cNvSpPr/>
          <p:nvPr/>
        </p:nvSpPr>
        <p:spPr>
          <a:xfrm>
            <a:off x="2666880" y="1900080"/>
            <a:ext cx="14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(SIPeIP - Esige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7 CuadroTexto"/>
          <p:cNvSpPr/>
          <p:nvPr/>
        </p:nvSpPr>
        <p:spPr>
          <a:xfrm>
            <a:off x="3298680" y="2441520"/>
            <a:ext cx="184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Enfrentar OEI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8 CuadroTexto"/>
          <p:cNvSpPr/>
          <p:nvPr/>
        </p:nvSpPr>
        <p:spPr>
          <a:xfrm>
            <a:off x="2373480" y="24210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9 CuadroTexto"/>
          <p:cNvSpPr/>
          <p:nvPr/>
        </p:nvSpPr>
        <p:spPr>
          <a:xfrm>
            <a:off x="3398400" y="2637000"/>
            <a:ext cx="1063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10 CuadroTexto"/>
          <p:cNvSpPr/>
          <p:nvPr/>
        </p:nvSpPr>
        <p:spPr>
          <a:xfrm>
            <a:off x="4683240" y="3067200"/>
            <a:ext cx="1457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14480" indent="-114480" algn="just"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Identificación de productos 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11 CuadroTexto"/>
          <p:cNvSpPr/>
          <p:nvPr/>
        </p:nvSpPr>
        <p:spPr>
          <a:xfrm>
            <a:off x="3464280" y="317016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12 CuadroTexto"/>
          <p:cNvSpPr/>
          <p:nvPr/>
        </p:nvSpPr>
        <p:spPr>
          <a:xfrm>
            <a:off x="4762800" y="3456000"/>
            <a:ext cx="97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13 CuadroTexto"/>
          <p:cNvSpPr/>
          <p:nvPr/>
        </p:nvSpPr>
        <p:spPr>
          <a:xfrm>
            <a:off x="5433120" y="3925800"/>
            <a:ext cx="202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lacionar proye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14 CuadroTexto"/>
          <p:cNvSpPr/>
          <p:nvPr/>
        </p:nvSpPr>
        <p:spPr>
          <a:xfrm>
            <a:off x="4554000" y="39178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15 CuadroTexto"/>
          <p:cNvSpPr/>
          <p:nvPr/>
        </p:nvSpPr>
        <p:spPr>
          <a:xfrm>
            <a:off x="5539320" y="4119480"/>
            <a:ext cx="141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con 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16 CuadroTexto"/>
          <p:cNvSpPr/>
          <p:nvPr/>
        </p:nvSpPr>
        <p:spPr>
          <a:xfrm>
            <a:off x="6604200" y="4587840"/>
            <a:ext cx="2162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ar actividades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17 CuadroTexto"/>
          <p:cNvSpPr/>
          <p:nvPr/>
        </p:nvSpPr>
        <p:spPr>
          <a:xfrm>
            <a:off x="517320" y="4689360"/>
            <a:ext cx="3091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18 CuadroTexto"/>
          <p:cNvSpPr/>
          <p:nvPr/>
        </p:nvSpPr>
        <p:spPr>
          <a:xfrm>
            <a:off x="6681240" y="4782960"/>
            <a:ext cx="208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gasto permanente y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19 CuadroTexto"/>
          <p:cNvSpPr/>
          <p:nvPr/>
        </p:nvSpPr>
        <p:spPr>
          <a:xfrm>
            <a:off x="5643720" y="46656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20 CuadroTexto"/>
          <p:cNvSpPr/>
          <p:nvPr/>
        </p:nvSpPr>
        <p:spPr>
          <a:xfrm>
            <a:off x="6701040" y="4978440"/>
            <a:ext cx="117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erman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21 CuadroTexto"/>
          <p:cNvSpPr/>
          <p:nvPr/>
        </p:nvSpPr>
        <p:spPr>
          <a:xfrm>
            <a:off x="503280" y="4994280"/>
            <a:ext cx="2646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roforma 2015 se 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22 CuadroTexto"/>
          <p:cNvSpPr/>
          <p:nvPr/>
        </p:nvSpPr>
        <p:spPr>
          <a:xfrm>
            <a:off x="501480" y="5299200"/>
            <a:ext cx="252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lanteado revisa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23 CuadroTexto"/>
          <p:cNvSpPr/>
          <p:nvPr/>
        </p:nvSpPr>
        <p:spPr>
          <a:xfrm>
            <a:off x="7400880" y="5357880"/>
            <a:ext cx="150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termin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24 CuadroTexto"/>
          <p:cNvSpPr/>
          <p:nvPr/>
        </p:nvSpPr>
        <p:spPr>
          <a:xfrm>
            <a:off x="6744600" y="5440320"/>
            <a:ext cx="34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Calibri Bold"/>
                <a:ea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25 CuadroTexto"/>
          <p:cNvSpPr/>
          <p:nvPr/>
        </p:nvSpPr>
        <p:spPr>
          <a:xfrm>
            <a:off x="7522560" y="5553000"/>
            <a:ext cx="127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 resul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6 CuadroTexto"/>
          <p:cNvSpPr/>
          <p:nvPr/>
        </p:nvSpPr>
        <p:spPr>
          <a:xfrm>
            <a:off x="489240" y="5603760"/>
            <a:ext cx="2617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categoría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27 CuadroTexto"/>
          <p:cNvSpPr/>
          <p:nvPr/>
        </p:nvSpPr>
        <p:spPr>
          <a:xfrm>
            <a:off x="7510680" y="5748480"/>
            <a:ext cx="127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l 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1 Imagen" descr="a2e37C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5 CuadroTexto"/>
          <p:cNvSpPr/>
          <p:nvPr/>
        </p:nvSpPr>
        <p:spPr>
          <a:xfrm>
            <a:off x="1207800" y="2641680"/>
            <a:ext cx="758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6 CuadroTexto"/>
          <p:cNvSpPr/>
          <p:nvPr/>
        </p:nvSpPr>
        <p:spPr>
          <a:xfrm>
            <a:off x="4029840" y="3268800"/>
            <a:ext cx="318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lanificación (Senplades - SIPe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7 CuadroTexto"/>
          <p:cNvSpPr/>
          <p:nvPr/>
        </p:nvSpPr>
        <p:spPr>
          <a:xfrm>
            <a:off x="4013280" y="3728880"/>
            <a:ext cx="4273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Objetivos Estratégicos Institucionales Presupuesto (Ministerio de Finanzas - Esige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8 CuadroTexto"/>
          <p:cNvSpPr/>
          <p:nvPr/>
        </p:nvSpPr>
        <p:spPr>
          <a:xfrm>
            <a:off x="1050120" y="4184640"/>
            <a:ext cx="310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ión de insu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9 CuadroTexto"/>
          <p:cNvSpPr/>
          <p:nvPr/>
        </p:nvSpPr>
        <p:spPr>
          <a:xfrm>
            <a:off x="1394640" y="4549680"/>
            <a:ext cx="238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(SIPeIP - Esige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10 CuadroTexto"/>
          <p:cNvSpPr/>
          <p:nvPr/>
        </p:nvSpPr>
        <p:spPr>
          <a:xfrm>
            <a:off x="4014000" y="4646520"/>
            <a:ext cx="113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11 CuadroTexto"/>
          <p:cNvSpPr/>
          <p:nvPr/>
        </p:nvSpPr>
        <p:spPr>
          <a:xfrm>
            <a:off x="4014000" y="5105520"/>
            <a:ext cx="14241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yectos y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12 CuadroTexto"/>
          <p:cNvSpPr/>
          <p:nvPr/>
        </p:nvSpPr>
        <p:spPr>
          <a:xfrm>
            <a:off x="4019760" y="5564160"/>
            <a:ext cx="1209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Activ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1 Imagen" descr="a2e39E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0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5 CuadroTexto"/>
          <p:cNvSpPr/>
          <p:nvPr/>
        </p:nvSpPr>
        <p:spPr>
          <a:xfrm>
            <a:off x="1479240" y="237168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6 CuadroTexto"/>
          <p:cNvSpPr/>
          <p:nvPr/>
        </p:nvSpPr>
        <p:spPr>
          <a:xfrm>
            <a:off x="2959200" y="2776680"/>
            <a:ext cx="543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nalizar si existe relación entre los OEIs y los programas actuales de la entid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7 CuadroTexto"/>
          <p:cNvSpPr/>
          <p:nvPr/>
        </p:nvSpPr>
        <p:spPr>
          <a:xfrm>
            <a:off x="2959200" y="3321000"/>
            <a:ext cx="5529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Ver qué programas pueden modificarse, suprimirse e incluso crearse como fusión de dos o más programas de acuerdo siempre a los OE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8 CuadroTexto"/>
          <p:cNvSpPr/>
          <p:nvPr/>
        </p:nvSpPr>
        <p:spPr>
          <a:xfrm>
            <a:off x="796680" y="3979800"/>
            <a:ext cx="239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Enfrentar OEIs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9 CuadroTexto"/>
          <p:cNvSpPr/>
          <p:nvPr/>
        </p:nvSpPr>
        <p:spPr>
          <a:xfrm>
            <a:off x="3131280" y="4189320"/>
            <a:ext cx="5165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duplicados, programas sin ejecución y programas qu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10 CuadroTexto"/>
          <p:cNvSpPr/>
          <p:nvPr/>
        </p:nvSpPr>
        <p:spPr>
          <a:xfrm>
            <a:off x="1166400" y="4284720"/>
            <a:ext cx="1480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gr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11 CuadroTexto"/>
          <p:cNvSpPr/>
          <p:nvPr/>
        </p:nvSpPr>
        <p:spPr>
          <a:xfrm>
            <a:off x="3126600" y="4433760"/>
            <a:ext cx="4905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ben ser incluidos en otros programas (porque la asignació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12 CuadroTexto"/>
          <p:cNvSpPr/>
          <p:nvPr/>
        </p:nvSpPr>
        <p:spPr>
          <a:xfrm>
            <a:off x="3058200" y="4676760"/>
            <a:ext cx="29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 no es representativ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13 CuadroTexto"/>
          <p:cNvSpPr/>
          <p:nvPr/>
        </p:nvSpPr>
        <p:spPr>
          <a:xfrm>
            <a:off x="3113280" y="5057640"/>
            <a:ext cx="4536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cuya denominación no nos dice nada sobre 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14 CuadroTexto"/>
          <p:cNvSpPr/>
          <p:nvPr/>
        </p:nvSpPr>
        <p:spPr>
          <a:xfrm>
            <a:off x="3114720" y="5302080"/>
            <a:ext cx="471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tenido del programa. Si un programa absorbe a otro, 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15 CuadroTexto"/>
          <p:cNvSpPr/>
          <p:nvPr/>
        </p:nvSpPr>
        <p:spPr>
          <a:xfrm>
            <a:off x="3065760" y="5546880"/>
            <a:ext cx="3120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necesario replantear la denominació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1 Imagen" descr="a2e3CC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5 CuadroTexto"/>
          <p:cNvSpPr/>
          <p:nvPr/>
        </p:nvSpPr>
        <p:spPr>
          <a:xfrm>
            <a:off x="1493640" y="238752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6 CuadroTexto"/>
          <p:cNvSpPr/>
          <p:nvPr/>
        </p:nvSpPr>
        <p:spPr>
          <a:xfrm>
            <a:off x="3316320" y="3338640"/>
            <a:ext cx="5076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 la vinculación Programa - OEI, determinar los productos (bienes y/o servicios) que el programa proporcionará así como la respectiva unidad de medida del product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7 CuadroTexto"/>
          <p:cNvSpPr/>
          <p:nvPr/>
        </p:nvSpPr>
        <p:spPr>
          <a:xfrm>
            <a:off x="1065600" y="3983040"/>
            <a:ext cx="2140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Identif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8 CuadroTexto"/>
          <p:cNvSpPr/>
          <p:nvPr/>
        </p:nvSpPr>
        <p:spPr>
          <a:xfrm>
            <a:off x="600840" y="4287960"/>
            <a:ext cx="3140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ductos  del 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9 CuadroTexto"/>
          <p:cNvSpPr/>
          <p:nvPr/>
        </p:nvSpPr>
        <p:spPr>
          <a:xfrm>
            <a:off x="3479400" y="4826160"/>
            <a:ext cx="4773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l programa que respondan al OEI de Fortalecimiento de l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10 CuadroTexto"/>
          <p:cNvSpPr/>
          <p:nvPr/>
        </p:nvSpPr>
        <p:spPr>
          <a:xfrm>
            <a:off x="3479040" y="5070600"/>
            <a:ext cx="4793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apacidades institucionales no deberá identificar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1 Imagen" descr="a2e3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5 CuadroTexto"/>
          <p:cNvSpPr/>
          <p:nvPr/>
        </p:nvSpPr>
        <p:spPr>
          <a:xfrm>
            <a:off x="1564920" y="222084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6 CuadroTexto"/>
          <p:cNvSpPr/>
          <p:nvPr/>
        </p:nvSpPr>
        <p:spPr>
          <a:xfrm>
            <a:off x="3205080" y="2736720"/>
            <a:ext cx="5243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lacionar el/ los proyectos con el programa. En la mayoría de casos los proyectos deben redistribuirse en los programas, e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7 CuadroTexto"/>
          <p:cNvSpPr/>
          <p:nvPr/>
        </p:nvSpPr>
        <p:spPr>
          <a:xfrm>
            <a:off x="741600" y="3216240"/>
            <a:ext cx="28508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lacionar proyectos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8 CuadroTexto"/>
          <p:cNvSpPr/>
          <p:nvPr/>
        </p:nvSpPr>
        <p:spPr>
          <a:xfrm>
            <a:off x="3373200" y="3225960"/>
            <a:ext cx="4924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unción a lo que persigue el Objetivo Estratégico Instituciona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9 CuadroTexto"/>
          <p:cNvSpPr/>
          <p:nvPr/>
        </p:nvSpPr>
        <p:spPr>
          <a:xfrm>
            <a:off x="1414800" y="3490920"/>
            <a:ext cx="1337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10 CuadroTexto"/>
          <p:cNvSpPr/>
          <p:nvPr/>
        </p:nvSpPr>
        <p:spPr>
          <a:xfrm>
            <a:off x="3205080" y="3635280"/>
            <a:ext cx="4883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i los proyectos no se adecúan a los productos que se han definido para el programa, es necesario definir nuevos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11 CuadroTexto"/>
          <p:cNvSpPr/>
          <p:nvPr/>
        </p:nvSpPr>
        <p:spPr>
          <a:xfrm>
            <a:off x="3205080" y="4410000"/>
            <a:ext cx="47595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actividades deberán describir las operaciones que se efectúen.  No deben reflejar la estructura orgánica n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12 CuadroTexto"/>
          <p:cNvSpPr/>
          <p:nvPr/>
        </p:nvSpPr>
        <p:spPr>
          <a:xfrm>
            <a:off x="863640" y="4716360"/>
            <a:ext cx="257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ar actividad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13 CuadroTexto"/>
          <p:cNvSpPr/>
          <p:nvPr/>
        </p:nvSpPr>
        <p:spPr>
          <a:xfrm>
            <a:off x="3378600" y="4898880"/>
            <a:ext cx="5074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eográfica. Deben resultar de la combinación de varios insum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14 CuadroTexto"/>
          <p:cNvSpPr/>
          <p:nvPr/>
        </p:nvSpPr>
        <p:spPr>
          <a:xfrm>
            <a:off x="806760" y="4991040"/>
            <a:ext cx="2655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</a:rPr>
              <a:t>gasto permanente y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15 CuadroTexto"/>
          <p:cNvSpPr/>
          <p:nvPr/>
        </p:nvSpPr>
        <p:spPr>
          <a:xfrm>
            <a:off x="3254760" y="5141880"/>
            <a:ext cx="1457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y no sólo de un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16 CuadroTexto"/>
          <p:cNvSpPr/>
          <p:nvPr/>
        </p:nvSpPr>
        <p:spPr>
          <a:xfrm>
            <a:off x="1344240" y="5265720"/>
            <a:ext cx="14806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erman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17 CuadroTexto"/>
          <p:cNvSpPr/>
          <p:nvPr/>
        </p:nvSpPr>
        <p:spPr>
          <a:xfrm>
            <a:off x="3368880" y="5518080"/>
            <a:ext cx="4990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el caso de proyectos estarán dadas por sus component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CuadroTexto 3"/>
          <p:cNvSpPr/>
          <p:nvPr/>
        </p:nvSpPr>
        <p:spPr>
          <a:xfrm>
            <a:off x="1022400" y="97632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ángulo 26"/>
          <p:cNvSpPr/>
          <p:nvPr/>
        </p:nvSpPr>
        <p:spPr>
          <a:xfrm>
            <a:off x="603360" y="873000"/>
            <a:ext cx="215640" cy="6177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2 Conector recto"/>
          <p:cNvSpPr/>
          <p:nvPr/>
        </p:nvSpPr>
        <p:spPr>
          <a:xfrm>
            <a:off x="604800" y="149076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3360" y="170928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2000" spc="-1" strike="noStrike">
                <a:solidFill>
                  <a:srgbClr val="1f497d"/>
                </a:solidFill>
                <a:latin typeface="Arial"/>
              </a:rPr>
              <a:t>Registro de la Información en e-SIG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3 Diagrama" descr=""/>
          <p:cNvPicPr/>
          <p:nvPr/>
        </p:nvPicPr>
        <p:blipFill>
          <a:blip r:embed="rId1"/>
          <a:stretch/>
        </p:blipFill>
        <p:spPr>
          <a:xfrm>
            <a:off x="334800" y="2279520"/>
            <a:ext cx="8510760" cy="3030840"/>
          </a:xfrm>
          <a:prstGeom prst="rect">
            <a:avLst/>
          </a:prstGeom>
          <a:ln w="0">
            <a:noFill/>
          </a:ln>
        </p:spPr>
      </p:pic>
      <p:sp>
        <p:nvSpPr>
          <p:cNvPr id="966" name="4 CuadroTexto"/>
          <p:cNvSpPr/>
          <p:nvPr/>
        </p:nvSpPr>
        <p:spPr>
          <a:xfrm>
            <a:off x="568440" y="255276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8 CuadroTexto"/>
          <p:cNvSpPr/>
          <p:nvPr/>
        </p:nvSpPr>
        <p:spPr>
          <a:xfrm>
            <a:off x="4829040" y="255276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9 CuadroTexto"/>
          <p:cNvSpPr/>
          <p:nvPr/>
        </p:nvSpPr>
        <p:spPr>
          <a:xfrm>
            <a:off x="568440" y="413064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10 CuadroTexto"/>
          <p:cNvSpPr/>
          <p:nvPr/>
        </p:nvSpPr>
        <p:spPr>
          <a:xfrm>
            <a:off x="4829040" y="413064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1 Imagen" descr="a2e465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2 CuadroTexto"/>
          <p:cNvSpPr/>
          <p:nvPr/>
        </p:nvSpPr>
        <p:spPr>
          <a:xfrm>
            <a:off x="4622760" y="174600"/>
            <a:ext cx="439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Resultados espe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3 CuadroTexto"/>
          <p:cNvSpPr/>
          <p:nvPr/>
        </p:nvSpPr>
        <p:spPr>
          <a:xfrm>
            <a:off x="847800" y="1521000"/>
            <a:ext cx="7323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Proforma 2015, se tendrá un listado de programa presupuestarios revisados y validados con la SENPL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4 CuadroTexto"/>
          <p:cNvSpPr/>
          <p:nvPr/>
        </p:nvSpPr>
        <p:spPr>
          <a:xfrm>
            <a:off x="847800" y="2738520"/>
            <a:ext cx="6213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contará con información depurada en el sistema presupues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5 CuadroTexto"/>
          <p:cNvSpPr/>
          <p:nvPr/>
        </p:nvSpPr>
        <p:spPr>
          <a:xfrm>
            <a:off x="741240" y="3654360"/>
            <a:ext cx="5866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mejorará la vinculación plan - presupu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6 CuadroTexto"/>
          <p:cNvSpPr/>
          <p:nvPr/>
        </p:nvSpPr>
        <p:spPr>
          <a:xfrm>
            <a:off x="847800" y="4264200"/>
            <a:ext cx="71276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Las entidades podrán tener información presupuestaria que responde a la planif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1 Imagen" descr="a2e480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2 CuadroTexto"/>
          <p:cNvSpPr/>
          <p:nvPr/>
        </p:nvSpPr>
        <p:spPr>
          <a:xfrm>
            <a:off x="5097240" y="111240"/>
            <a:ext cx="390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Próximos paso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3 CuadroTexto"/>
          <p:cNvSpPr/>
          <p:nvPr/>
        </p:nvSpPr>
        <p:spPr>
          <a:xfrm>
            <a:off x="703440" y="1655640"/>
            <a:ext cx="755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Trabajar con la SENPLADES en la metodología para definir programas, productos y resultado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4 CuadroTexto"/>
          <p:cNvSpPr/>
          <p:nvPr/>
        </p:nvSpPr>
        <p:spPr>
          <a:xfrm>
            <a:off x="703440" y="2752560"/>
            <a:ext cx="7805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Realizar evaluación y seguimiento para evaluar impactos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5 CuadroTexto"/>
          <p:cNvSpPr/>
          <p:nvPr/>
        </p:nvSpPr>
        <p:spPr>
          <a:xfrm>
            <a:off x="703440" y="3849840"/>
            <a:ext cx="7181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ar herramientas informáticas que permitan la vinculación dese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6 CuadroTexto"/>
          <p:cNvSpPr/>
          <p:nvPr/>
        </p:nvSpPr>
        <p:spPr>
          <a:xfrm>
            <a:off x="703440" y="4952880"/>
            <a:ext cx="6538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Contar con una base para la programación y formulación de los presupuestos del 2016 en adel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1 Imagen" descr="a2e190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2 CuadroTexto"/>
          <p:cNvSpPr/>
          <p:nvPr/>
        </p:nvSpPr>
        <p:spPr>
          <a:xfrm>
            <a:off x="6377400" y="111240"/>
            <a:ext cx="263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Contenid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4 CuadroTexto"/>
          <p:cNvSpPr/>
          <p:nvPr/>
        </p:nvSpPr>
        <p:spPr>
          <a:xfrm>
            <a:off x="912960" y="1889280"/>
            <a:ext cx="7378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12760" indent="-21276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o y evaluación de Programas Presupuest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6 CuadroTexto"/>
          <p:cNvSpPr/>
          <p:nvPr/>
        </p:nvSpPr>
        <p:spPr>
          <a:xfrm>
            <a:off x="1074960" y="3473280"/>
            <a:ext cx="73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1. Presupuesto con base a Programas en el Ecuad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7 CuadroTexto"/>
          <p:cNvSpPr/>
          <p:nvPr/>
        </p:nvSpPr>
        <p:spPr>
          <a:xfrm>
            <a:off x="962280" y="3900600"/>
            <a:ext cx="2134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2. Diagnóstic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8 CuadroTexto"/>
          <p:cNvSpPr/>
          <p:nvPr/>
        </p:nvSpPr>
        <p:spPr>
          <a:xfrm>
            <a:off x="917640" y="4327560"/>
            <a:ext cx="6423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3. Que pasos hemos dado para el Diseño de Program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9 CuadroTexto"/>
          <p:cNvSpPr/>
          <p:nvPr/>
        </p:nvSpPr>
        <p:spPr>
          <a:xfrm>
            <a:off x="917640" y="5181480"/>
            <a:ext cx="3598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4. Resultados esperados 5. Próximos pas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1 Imagen" descr="a2e1AC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3 CuadroTexto"/>
          <p:cNvSpPr/>
          <p:nvPr/>
        </p:nvSpPr>
        <p:spPr>
          <a:xfrm>
            <a:off x="693720" y="1494000"/>
            <a:ext cx="77407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Algunas definiciones de Presupuesto por Resultados, coinciden en indicar que los presupuestos públicos se programarán y ejecutarán con la metodología técnica de presupuestación en base de -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s-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que serán identificados en estrecha vinculación a la planificación y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4 CuadroTexto"/>
          <p:cNvSpPr/>
          <p:nvPr/>
        </p:nvSpPr>
        <p:spPr>
          <a:xfrm>
            <a:off x="1036800" y="3322800"/>
            <a:ext cx="668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un horizonte plurianual, con el objetivo de mejorar la eficiencia asignativa y productiva del gasto pú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5 CuadroTexto"/>
          <p:cNvSpPr/>
          <p:nvPr/>
        </p:nvSpPr>
        <p:spPr>
          <a:xfrm>
            <a:off x="693720" y="4419720"/>
            <a:ext cx="77389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De ahí que la relación con la planificación se articulará sobre la base de una estructura programática adecuada para cada institución. Para el efecto se utilizarán categorías programáticas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6 CuadroTexto"/>
          <p:cNvSpPr/>
          <p:nvPr/>
        </p:nvSpPr>
        <p:spPr>
          <a:xfrm>
            <a:off x="2603160" y="6091200"/>
            <a:ext cx="396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ograma, Proyecto, Actividad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CuadroTexto 3"/>
          <p:cNvSpPr/>
          <p:nvPr/>
        </p:nvSpPr>
        <p:spPr>
          <a:xfrm>
            <a:off x="1022400" y="876600"/>
            <a:ext cx="56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Century Gothic"/>
                <a:ea typeface="Calibri"/>
              </a:rPr>
              <a:t>Proforma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4bacc6"/>
          </a:solidFill>
          <a:ln w="38160">
            <a:solidFill>
              <a:srgbClr val="4bacc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3360" y="1423800"/>
            <a:ext cx="7711920" cy="571320"/>
          </a:xfrm>
          <a:prstGeom prst="rect">
            <a:avLst/>
          </a:prstGeom>
          <a:solidFill>
            <a:srgbClr val="ffffff"/>
          </a:solidFill>
          <a:ln w="6480">
            <a:solidFill>
              <a:srgbClr val="4bacc6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Registro de información de programas y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vinculación en las herramientas infor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https://encrypted-tbn0.gstatic.com/images?q=tbn:ANd9GcSihgXXhuWNovyc8zGBdZHhOYLU3OcXasGfCTZ0ZrO7PTDKq-6G"/>
          <p:cNvPicPr/>
          <p:nvPr/>
        </p:nvPicPr>
        <p:blipFill>
          <a:blip r:embed="rId1"/>
          <a:stretch/>
        </p:blipFill>
        <p:spPr>
          <a:xfrm>
            <a:off x="1530360" y="2090880"/>
            <a:ext cx="2127240" cy="1347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"/>
          <p:cNvPicPr/>
          <p:nvPr/>
        </p:nvPicPr>
        <p:blipFill>
          <a:blip r:embed="rId2"/>
          <a:stretch/>
        </p:blipFill>
        <p:spPr>
          <a:xfrm>
            <a:off x="5797440" y="2073240"/>
            <a:ext cx="2200320" cy="1438200"/>
          </a:xfrm>
          <a:prstGeom prst="rect">
            <a:avLst/>
          </a:prstGeom>
          <a:ln w="0">
            <a:noFill/>
          </a:ln>
        </p:spPr>
      </p:pic>
      <p:sp>
        <p:nvSpPr>
          <p:cNvPr id="799" name="9 Rectángulo"/>
          <p:cNvSpPr/>
          <p:nvPr/>
        </p:nvSpPr>
        <p:spPr>
          <a:xfrm>
            <a:off x="527040" y="2870280"/>
            <a:ext cx="2430360" cy="55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NBV 2013-2017 y demás instrumentos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10 Rectángulo"/>
          <p:cNvSpPr/>
          <p:nvPr/>
        </p:nvSpPr>
        <p:spPr>
          <a:xfrm>
            <a:off x="700200" y="3503520"/>
            <a:ext cx="1987560" cy="5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11 CuadroTexto"/>
          <p:cNvSpPr/>
          <p:nvPr/>
        </p:nvSpPr>
        <p:spPr>
          <a:xfrm>
            <a:off x="2957400" y="361476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Indicador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12 CuadroTexto"/>
          <p:cNvSpPr/>
          <p:nvPr/>
        </p:nvSpPr>
        <p:spPr>
          <a:xfrm>
            <a:off x="2957400" y="4384800"/>
            <a:ext cx="104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Resulta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Produ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(opc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13 Rectángulo"/>
          <p:cNvSpPr/>
          <p:nvPr/>
        </p:nvSpPr>
        <p:spPr>
          <a:xfrm>
            <a:off x="2527200" y="5326200"/>
            <a:ext cx="1428840" cy="46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15 Elipse"/>
          <p:cNvSpPr/>
          <p:nvPr/>
        </p:nvSpPr>
        <p:spPr>
          <a:xfrm>
            <a:off x="587520" y="4270320"/>
            <a:ext cx="3879720" cy="1003320"/>
          </a:xfrm>
          <a:prstGeom prst="ellipse">
            <a:avLst/>
          </a:prstGeom>
          <a:noFill/>
          <a:ln w="9360">
            <a:solidFill>
              <a:srgbClr val="c00000"/>
            </a:solidFill>
            <a:prstDash val="lg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16 Flecha doblada hacia arriba"/>
          <p:cNvSpPr/>
          <p:nvPr/>
        </p:nvSpPr>
        <p:spPr>
          <a:xfrm flipH="1">
            <a:off x="2241000" y="4923000"/>
            <a:ext cx="298440" cy="701640"/>
          </a:xfrm>
          <a:custGeom>
            <a:avLst/>
            <a:gdLst/>
            <a:ahLst/>
            <a:rect l="l" t="t" r="r" b="b"/>
            <a:pathLst>
              <a:path w="298284" h="700659">
                <a:moveTo>
                  <a:pt x="0" y="626088"/>
                </a:moveTo>
                <a:lnTo>
                  <a:pt x="186428" y="626088"/>
                </a:lnTo>
                <a:lnTo>
                  <a:pt x="186428" y="74571"/>
                </a:lnTo>
                <a:lnTo>
                  <a:pt x="149142" y="74571"/>
                </a:lnTo>
                <a:lnTo>
                  <a:pt x="223713" y="0"/>
                </a:lnTo>
                <a:lnTo>
                  <a:pt x="298284" y="74571"/>
                </a:lnTo>
                <a:lnTo>
                  <a:pt x="260999" y="74571"/>
                </a:lnTo>
                <a:lnTo>
                  <a:pt x="260999" y="700659"/>
                </a:lnTo>
                <a:lnTo>
                  <a:pt x="0" y="700659"/>
                </a:lnTo>
                <a:lnTo>
                  <a:pt x="0" y="626088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17 Flecha doblada hacia arriba"/>
          <p:cNvSpPr/>
          <p:nvPr/>
        </p:nvSpPr>
        <p:spPr>
          <a:xfrm flipH="1">
            <a:off x="1212120" y="4251240"/>
            <a:ext cx="320760" cy="587520"/>
          </a:xfrm>
          <a:custGeom>
            <a:avLst/>
            <a:gdLst/>
            <a:ahLst/>
            <a:rect l="l" t="t" r="r" b="b"/>
            <a:pathLst>
              <a:path w="321666" h="587453">
                <a:moveTo>
                  <a:pt x="0" y="507037"/>
                </a:moveTo>
                <a:lnTo>
                  <a:pt x="201041" y="507037"/>
                </a:lnTo>
                <a:lnTo>
                  <a:pt x="201041" y="80417"/>
                </a:lnTo>
                <a:lnTo>
                  <a:pt x="160833" y="80417"/>
                </a:lnTo>
                <a:lnTo>
                  <a:pt x="241250" y="0"/>
                </a:lnTo>
                <a:lnTo>
                  <a:pt x="321666" y="80417"/>
                </a:lnTo>
                <a:lnTo>
                  <a:pt x="281458" y="80417"/>
                </a:lnTo>
                <a:lnTo>
                  <a:pt x="281458" y="587453"/>
                </a:lnTo>
                <a:lnTo>
                  <a:pt x="0" y="587453"/>
                </a:lnTo>
                <a:lnTo>
                  <a:pt x="0" y="507037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19 Conector recto"/>
          <p:cNvSpPr/>
          <p:nvPr/>
        </p:nvSpPr>
        <p:spPr>
          <a:xfrm>
            <a:off x="4842000" y="2146320"/>
            <a:ext cx="0" cy="4248000"/>
          </a:xfrm>
          <a:prstGeom prst="line">
            <a:avLst/>
          </a:prstGeom>
          <a:ln w="255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20 Rectángulo"/>
          <p:cNvSpPr/>
          <p:nvPr/>
        </p:nvSpPr>
        <p:spPr>
          <a:xfrm>
            <a:off x="5391000" y="3519360"/>
            <a:ext cx="2176560" cy="51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21 Rectángulo"/>
          <p:cNvSpPr/>
          <p:nvPr/>
        </p:nvSpPr>
        <p:spPr>
          <a:xfrm>
            <a:off x="6278400" y="4702320"/>
            <a:ext cx="1330560" cy="3999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22 Rectángulo"/>
          <p:cNvSpPr/>
          <p:nvPr/>
        </p:nvSpPr>
        <p:spPr>
          <a:xfrm>
            <a:off x="6732720" y="5245200"/>
            <a:ext cx="1087200" cy="379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23 Flecha doblada hacia arriba"/>
          <p:cNvSpPr/>
          <p:nvPr/>
        </p:nvSpPr>
        <p:spPr>
          <a:xfrm flipH="1">
            <a:off x="6349320" y="5173560"/>
            <a:ext cx="276120" cy="270000"/>
          </a:xfrm>
          <a:custGeom>
            <a:avLst/>
            <a:gdLst/>
            <a:ahLst/>
            <a:rect l="l" t="t" r="r" b="b"/>
            <a:pathLst>
              <a:path w="275555" h="269522">
                <a:moveTo>
                  <a:pt x="0" y="202142"/>
                </a:moveTo>
                <a:lnTo>
                  <a:pt x="174484" y="202142"/>
                </a:lnTo>
                <a:lnTo>
                  <a:pt x="174484" y="67381"/>
                </a:lnTo>
                <a:lnTo>
                  <a:pt x="140794" y="67381"/>
                </a:lnTo>
                <a:lnTo>
                  <a:pt x="208175" y="0"/>
                </a:lnTo>
                <a:lnTo>
                  <a:pt x="275555" y="67381"/>
                </a:lnTo>
                <a:lnTo>
                  <a:pt x="241865" y="67381"/>
                </a:lnTo>
                <a:lnTo>
                  <a:pt x="241865" y="269522"/>
                </a:lnTo>
                <a:lnTo>
                  <a:pt x="0" y="269522"/>
                </a:lnTo>
                <a:lnTo>
                  <a:pt x="0" y="20214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24 Flecha doblada hacia arriba"/>
          <p:cNvSpPr/>
          <p:nvPr/>
        </p:nvSpPr>
        <p:spPr>
          <a:xfrm flipH="1">
            <a:off x="5877000" y="4651200"/>
            <a:ext cx="296640" cy="271800"/>
          </a:xfrm>
          <a:custGeom>
            <a:avLst/>
            <a:gdLst/>
            <a:ahLst/>
            <a:rect l="l" t="t" r="r" b="b"/>
            <a:pathLst>
              <a:path w="297454" h="271871">
                <a:moveTo>
                  <a:pt x="0" y="203903"/>
                </a:moveTo>
                <a:lnTo>
                  <a:pt x="195502" y="203903"/>
                </a:lnTo>
                <a:lnTo>
                  <a:pt x="195502" y="67968"/>
                </a:lnTo>
                <a:lnTo>
                  <a:pt x="161519" y="67968"/>
                </a:lnTo>
                <a:lnTo>
                  <a:pt x="229486" y="0"/>
                </a:lnTo>
                <a:lnTo>
                  <a:pt x="297454" y="67968"/>
                </a:lnTo>
                <a:lnTo>
                  <a:pt x="263470" y="67968"/>
                </a:lnTo>
                <a:lnTo>
                  <a:pt x="263470" y="271871"/>
                </a:lnTo>
                <a:lnTo>
                  <a:pt x="0" y="271871"/>
                </a:lnTo>
                <a:lnTo>
                  <a:pt x="0" y="203903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28 Rectángulo"/>
          <p:cNvSpPr/>
          <p:nvPr/>
        </p:nvSpPr>
        <p:spPr>
          <a:xfrm>
            <a:off x="1552680" y="4545000"/>
            <a:ext cx="1330200" cy="37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29 Conector recto de flecha"/>
          <p:cNvCxnSpPr>
            <a:stCxn id="800" idx="3"/>
            <a:endCxn id="801" idx="1"/>
          </p:cNvCxnSpPr>
          <p:nvPr/>
        </p:nvCxnSpPr>
        <p:spPr>
          <a:xfrm>
            <a:off x="2687400" y="3768840"/>
            <a:ext cx="2703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5" name="25 Rectángulo"/>
          <p:cNvSpPr/>
          <p:nvPr/>
        </p:nvSpPr>
        <p:spPr>
          <a:xfrm>
            <a:off x="5086440" y="2911320"/>
            <a:ext cx="2174760" cy="51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Misión, 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30 Rectángulo"/>
          <p:cNvSpPr/>
          <p:nvPr/>
        </p:nvSpPr>
        <p:spPr>
          <a:xfrm>
            <a:off x="5643720" y="4138560"/>
            <a:ext cx="2176200" cy="512640"/>
          </a:xfrm>
          <a:prstGeom prst="rect">
            <a:avLst/>
          </a:prstGeom>
          <a:solidFill>
            <a:srgbClr val="948a54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s Ope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31 Rectángulo"/>
          <p:cNvSpPr/>
          <p:nvPr/>
        </p:nvSpPr>
        <p:spPr>
          <a:xfrm>
            <a:off x="7881840" y="5262480"/>
            <a:ext cx="1138320" cy="362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1 Imagen" descr="a2e1CE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 CuadroTexto"/>
          <p:cNvSpPr/>
          <p:nvPr/>
        </p:nvSpPr>
        <p:spPr>
          <a:xfrm>
            <a:off x="710640" y="1488960"/>
            <a:ext cx="78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Las categorías programáticas tienen los siguientes propósi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 CuadroTexto"/>
          <p:cNvSpPr/>
          <p:nvPr/>
        </p:nvSpPr>
        <p:spPr>
          <a:xfrm>
            <a:off x="1386000" y="2624040"/>
            <a:ext cx="184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ganizar las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 CuadroTexto"/>
          <p:cNvSpPr/>
          <p:nvPr/>
        </p:nvSpPr>
        <p:spPr>
          <a:xfrm>
            <a:off x="5780160" y="2624040"/>
            <a:ext cx="280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signación de recursos financier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 CuadroTexto"/>
          <p:cNvSpPr/>
          <p:nvPr/>
        </p:nvSpPr>
        <p:spPr>
          <a:xfrm>
            <a:off x="1415880" y="2847960"/>
            <a:ext cx="2605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titucionales de forma que l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7 CuadroTexto"/>
          <p:cNvSpPr/>
          <p:nvPr/>
        </p:nvSpPr>
        <p:spPr>
          <a:xfrm>
            <a:off x="5768280" y="2847960"/>
            <a:ext cx="239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la ejecución de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8 CuadroTexto"/>
          <p:cNvSpPr/>
          <p:nvPr/>
        </p:nvSpPr>
        <p:spPr>
          <a:xfrm>
            <a:off x="1419840" y="3071880"/>
            <a:ext cx="291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cursos utilizados tengan una cla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9 CuadroTexto"/>
          <p:cNvSpPr/>
          <p:nvPr/>
        </p:nvSpPr>
        <p:spPr>
          <a:xfrm>
            <a:off x="5778720" y="3071880"/>
            <a:ext cx="2774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s de adquisición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10 CuadroTexto"/>
          <p:cNvSpPr/>
          <p:nvPr/>
        </p:nvSpPr>
        <p:spPr>
          <a:xfrm>
            <a:off x="1390680" y="3294000"/>
            <a:ext cx="196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xpresión en product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11 CuadroTexto"/>
          <p:cNvSpPr/>
          <p:nvPr/>
        </p:nvSpPr>
        <p:spPr>
          <a:xfrm>
            <a:off x="5782680" y="3294000"/>
            <a:ext cx="2972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umos que luego se transformará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2 CuadroTexto"/>
          <p:cNvSpPr/>
          <p:nvPr/>
        </p:nvSpPr>
        <p:spPr>
          <a:xfrm>
            <a:off x="1366920" y="3517920"/>
            <a:ext cx="120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uantificab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13 CuadroTexto"/>
          <p:cNvSpPr/>
          <p:nvPr/>
        </p:nvSpPr>
        <p:spPr>
          <a:xfrm>
            <a:off x="5724000" y="3517920"/>
            <a:ext cx="1209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14 CuadroTexto"/>
          <p:cNvSpPr/>
          <p:nvPr/>
        </p:nvSpPr>
        <p:spPr>
          <a:xfrm>
            <a:off x="5778000" y="4176720"/>
            <a:ext cx="2777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acilitar la adopción de decis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15 CuadroTexto"/>
          <p:cNvSpPr/>
          <p:nvPr/>
        </p:nvSpPr>
        <p:spPr>
          <a:xfrm>
            <a:off x="5775480" y="4400640"/>
            <a:ext cx="263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 asignación de financia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16 CuadroTexto"/>
          <p:cNvSpPr/>
          <p:nvPr/>
        </p:nvSpPr>
        <p:spPr>
          <a:xfrm>
            <a:off x="1420200" y="4511520"/>
            <a:ext cx="2806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denamiento y direccionalidad 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17 CuadroTexto"/>
          <p:cNvSpPr/>
          <p:nvPr/>
        </p:nvSpPr>
        <p:spPr>
          <a:xfrm>
            <a:off x="5762520" y="4624560"/>
            <a:ext cx="2268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tre objetivos alternativ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18 CuadroTexto"/>
          <p:cNvSpPr/>
          <p:nvPr/>
        </p:nvSpPr>
        <p:spPr>
          <a:xfrm>
            <a:off x="1417320" y="4735440"/>
            <a:ext cx="2750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asto en su clasificación funcio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19 CuadroTexto"/>
          <p:cNvSpPr/>
          <p:nvPr/>
        </p:nvSpPr>
        <p:spPr>
          <a:xfrm>
            <a:off x="5759280" y="4846680"/>
            <a:ext cx="2294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mplícitos en cada categorí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20 CuadroTexto"/>
          <p:cNvSpPr/>
          <p:nvPr/>
        </p:nvSpPr>
        <p:spPr>
          <a:xfrm>
            <a:off x="5720760" y="5070600"/>
            <a:ext cx="1221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átic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1 Imagen" descr="a2e230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3 CuadroTexto"/>
          <p:cNvSpPr/>
          <p:nvPr/>
        </p:nvSpPr>
        <p:spPr>
          <a:xfrm>
            <a:off x="797040" y="1219320"/>
            <a:ext cx="7643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L Ministerio de Finanzas del Ecuador y la SENPL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4 CuadroTexto"/>
          <p:cNvSpPr/>
          <p:nvPr/>
        </p:nvSpPr>
        <p:spPr>
          <a:xfrm>
            <a:off x="631800" y="1646280"/>
            <a:ext cx="79376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hemos reflexionado acerca de que ir hacia un Presupuesto por Resultados y sabemos que esto es u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5 CuadroTexto"/>
          <p:cNvSpPr/>
          <p:nvPr/>
        </p:nvSpPr>
        <p:spPr>
          <a:xfrm>
            <a:off x="659880" y="2500200"/>
            <a:ext cx="137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roceso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6 CuadroTexto"/>
          <p:cNvSpPr/>
          <p:nvPr/>
        </p:nvSpPr>
        <p:spPr>
          <a:xfrm>
            <a:off x="685080" y="3354480"/>
            <a:ext cx="3044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mediano plazo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7 CuadroTexto"/>
          <p:cNvSpPr/>
          <p:nvPr/>
        </p:nvSpPr>
        <p:spPr>
          <a:xfrm>
            <a:off x="717120" y="3781440"/>
            <a:ext cx="4394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implementación gradual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8 CuadroTexto"/>
          <p:cNvSpPr/>
          <p:nvPr/>
        </p:nvSpPr>
        <p:spPr>
          <a:xfrm>
            <a:off x="631800" y="4208400"/>
            <a:ext cx="70628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requiere la reflexión de varios expertos e implica una multiplicidad de enfoques sin una técnica específica, y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9 CuadroTexto"/>
          <p:cNvSpPr/>
          <p:nvPr/>
        </p:nvSpPr>
        <p:spPr>
          <a:xfrm>
            <a:off x="631800" y="5487840"/>
            <a:ext cx="73328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es un proceso que debe adaptarse a las capacidades, cultura y prioridades de cada paí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1 Imagen" descr="a2e251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3 CuadroTexto"/>
          <p:cNvSpPr/>
          <p:nvPr/>
        </p:nvSpPr>
        <p:spPr>
          <a:xfrm>
            <a:off x="457560" y="1459080"/>
            <a:ext cx="314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La Plan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4 CuadroTexto"/>
          <p:cNvSpPr/>
          <p:nvPr/>
        </p:nvSpPr>
        <p:spPr>
          <a:xfrm>
            <a:off x="524520" y="2316240"/>
            <a:ext cx="1835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Cuenta c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5 CuadroTexto"/>
          <p:cNvSpPr/>
          <p:nvPr/>
        </p:nvSpPr>
        <p:spPr>
          <a:xfrm>
            <a:off x="632520" y="3170160"/>
            <a:ext cx="668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Una  metodología  para  la  construcción  de  l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6 CuadroTexto"/>
          <p:cNvSpPr/>
          <p:nvPr/>
        </p:nvSpPr>
        <p:spPr>
          <a:xfrm>
            <a:off x="649800" y="3595680"/>
            <a:ext cx="7698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lanificación nacional y de la planificación estratégica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7 CuadroTexto"/>
          <p:cNvSpPr/>
          <p:nvPr/>
        </p:nvSpPr>
        <p:spPr>
          <a:xfrm>
            <a:off x="487440" y="4022640"/>
            <a:ext cx="806292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2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va de los grandes objetivos nacionales para el Buen Vivir, con políticas, indicadores y metas hasta los Objetivos  Estratégicos  Institucionales  que  de  igual manera llegan a identificar indicadores y metas para los próximos 4 años de gobiern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1 Imagen" descr="a2e26B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3 CuadroTexto"/>
          <p:cNvSpPr/>
          <p:nvPr/>
        </p:nvSpPr>
        <p:spPr>
          <a:xfrm>
            <a:off x="464040" y="1459080"/>
            <a:ext cx="304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El Presupues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4 CuadroTexto"/>
          <p:cNvSpPr/>
          <p:nvPr/>
        </p:nvSpPr>
        <p:spPr>
          <a:xfrm>
            <a:off x="487440" y="2316240"/>
            <a:ext cx="8062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La asignación presupuestaria se realiza a través de la denominada “estructura programática” que no es más que el encadenamiento de varias categorías a travé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5 CuadroTexto"/>
          <p:cNvSpPr/>
          <p:nvPr/>
        </p:nvSpPr>
        <p:spPr>
          <a:xfrm>
            <a:off x="649080" y="3595680"/>
            <a:ext cx="7623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las cuales se asigna el presupuesto, categorías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6 CuadroTexto"/>
          <p:cNvSpPr/>
          <p:nvPr/>
        </p:nvSpPr>
        <p:spPr>
          <a:xfrm>
            <a:off x="487440" y="4022640"/>
            <a:ext cx="80611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án  relacionadas  con  el  modelo  de  planificación institucional y que - deberían estar - alineadas a la planificación estratégica instituciona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7 CuadroTexto"/>
          <p:cNvSpPr/>
          <p:nvPr/>
        </p:nvSpPr>
        <p:spPr>
          <a:xfrm>
            <a:off x="487440" y="5730840"/>
            <a:ext cx="8061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a   estructura   contiene   programas,   proyectos, actividades, ítem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1 Imagen" descr="a2e286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2" name="2 CuadroTexto"/>
          <p:cNvSpPr/>
          <p:nvPr/>
        </p:nvSpPr>
        <p:spPr>
          <a:xfrm>
            <a:off x="1648440" y="-68400"/>
            <a:ext cx="747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Diagnóstico del Presupuesto con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3 CuadroTexto"/>
          <p:cNvSpPr/>
          <p:nvPr/>
        </p:nvSpPr>
        <p:spPr>
          <a:xfrm>
            <a:off x="6353640" y="419040"/>
            <a:ext cx="264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4 CuadroTexto"/>
          <p:cNvSpPr/>
          <p:nvPr/>
        </p:nvSpPr>
        <p:spPr>
          <a:xfrm>
            <a:off x="487440" y="1225440"/>
            <a:ext cx="8356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cuador, lleva 8 años presupuestando en función del Plan Nacional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5 CuadroTexto"/>
          <p:cNvSpPr/>
          <p:nvPr/>
        </p:nvSpPr>
        <p:spPr>
          <a:xfrm>
            <a:off x="487440" y="2324160"/>
            <a:ext cx="8262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n la etapa de programación y formulación existe una articulación total de la planificación con el presupuesto, sin embargo, por la dinámica existente, esta vinculación se disminuye en la ejec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6 CuadroTexto"/>
          <p:cNvSpPr/>
          <p:nvPr/>
        </p:nvSpPr>
        <p:spPr>
          <a:xfrm>
            <a:off x="492480" y="3421080"/>
            <a:ext cx="209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7 CuadroTexto"/>
          <p:cNvSpPr/>
          <p:nvPr/>
        </p:nvSpPr>
        <p:spPr>
          <a:xfrm>
            <a:off x="487440" y="4152960"/>
            <a:ext cx="74134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Con el fin de avanzar hacia el PpP, se ha identificado que es necesario revisar la categoría de 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buscando una vinculación durante todo el ciclo presupuestario co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8 CuadroTexto"/>
          <p:cNvSpPr/>
          <p:nvPr/>
        </p:nvSpPr>
        <p:spPr>
          <a:xfrm>
            <a:off x="487440" y="5249880"/>
            <a:ext cx="752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planificación y definir los productos (bienes y servicios ) que generarían y los resultados a alcanz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23:47:07Z</dcterms:created>
  <dc:creator>mcondor</dc:creator>
  <dc:description/>
  <dc:language>en-US</dc:language>
  <cp:lastModifiedBy>Soria Fernando</cp:lastModifiedBy>
  <dcterms:modified xsi:type="dcterms:W3CDTF">2014-09-27T00:11:32Z</dcterms:modified>
  <cp:revision>3</cp:revision>
  <dc:subject/>
  <dc:title>Diapositiva 1</dc:title>
</cp:coreProperties>
</file>